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0B7-78CF-4B81-A8CB-72F3CE24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BD6-80C2-405C-AD8B-1C4B422B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5B1-AA20-4AF8-B50E-0FB42F8F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312-1BFC-4EE1-A2E9-2A2B9EEA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402-CFDB-49B7-85A8-DA0AB2D1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889-7815-4D8F-8381-7CAD6FCA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65E-735B-4C5F-8883-46BC00FE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0AF-7864-4521-89A2-6EA7861A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DE1-3130-4770-ADC4-1AF555D8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DBA-9A01-493E-9D0F-81352A9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BF4-EAD1-4F94-948F-77FB36F0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451-7B50-4E6D-BE00-33136CB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8272-25C6-4409-906D-6FC51212B2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22096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6:52:19Z</dcterms:created>
  <dc:creator>wanglifeng</dc:creator>
  <dc:description/>
  <dc:language>en-US</dc:language>
  <cp:lastModifiedBy>wanglifeng</cp:lastModifiedBy>
  <dcterms:modified xsi:type="dcterms:W3CDTF">2012-06-05T06:52:26Z</dcterms:modified>
  <cp:revision>1</cp:revision>
  <dc:subject/>
  <dc:title>Slide 1</dc:title>
</cp:coreProperties>
</file>