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FA1-4A96-4EC6-B1A7-A733C4E0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528-F42C-4A58-9C66-4A1C3EBD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93E-2D49-41C3-AB79-B4CCCCA2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F96-11E8-42B6-9FE8-393EDF80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9DCB-0CA4-48F9-B6DE-54B727DD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4571-99D7-454F-AF28-C94475FA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091-783E-4687-AF1C-968F0494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78CC-45D6-4858-8C8E-963CC35D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973C-C705-49B1-800F-6DA15264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140-16D6-405E-BB35-647C3AFB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C36-A90A-4292-ADF6-3DAFAC9B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4583-B888-43CE-A29D-DE127A1C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9DF5-C10E-48D1-925D-B69D54356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90720" y="1219320"/>
          <a:ext cx="7138800" cy="493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19320"/>
                    <a:ext cx="713880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5852160" y="148428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1.7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04:25:03Z</dcterms:created>
  <dc:creator>ee192-bb</dc:creator>
  <dc:description/>
  <dc:language>en-US</dc:language>
  <cp:lastModifiedBy>ee192-bb</cp:lastModifiedBy>
  <dcterms:modified xsi:type="dcterms:W3CDTF">2007-05-07T23:06:22Z</dcterms:modified>
  <cp:revision>12</cp:revision>
  <dc:subject/>
  <dc:title>EE192 Spring 07</dc:title>
</cp:coreProperties>
</file>