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82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37FC63-F655-4267-A615-2FB213C6677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551C-F070-42E2-BFE1-93D11BCD7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A150-8A38-409B-AD2E-FB070BA27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F448-7287-4901-9317-FC5BDE75C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B6A9-26B0-4BA9-879D-ECE15CE7D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62A0-B4CA-467B-915B-CB74E76A1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FDBD-312B-4349-B59C-3ED61814E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7EE5-6845-4012-AED8-CCD313F79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7A6C-5C66-4036-A46F-DD01AB338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A75E-2DD3-400B-913F-15B145029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6C45-B64E-4C21-BAA0-5E32E830F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D9B1-EBD7-475D-9B02-76D505097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CBB0-7DB8-4A90-879A-9224CD228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45A4C0-8464-46B2-A6B1-39BF794590B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90240"/>
            <a:ext cx="9072360" cy="11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apierów Wartościowych i Gieł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Uprawnienia nadzorcze i administracyjne 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Komisji Papierów Wartościowych i Gieł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