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8BD-6C05-4574-AAD6-A8F6B176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4A9-754D-4E09-9322-8B3B3AF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007-308E-482F-B85C-6D9C3081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4B5-EA44-4C0D-9B4B-81C75864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92F-DC2A-4FE5-901B-F25B5D55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0B0-6A98-4628-AB98-C76CBD7F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0ED-233E-4019-BE9A-ED3F139B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C8A-4C70-4051-B598-80E33A60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078-A1B1-42ED-B306-08214CE4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A72-7688-4788-A633-49AFAA6D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320-5363-45D6-98F0-1508DF64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989-A95C-42BF-B559-37A696B4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055B-5916-4A37-BB35-96BFA97F6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3:42:27Z</dcterms:created>
  <dc:creator>张芳向 Netboy</dc:creator>
  <dc:description/>
  <dc:language>en-US</dc:language>
  <cp:lastModifiedBy>张芳向 Netboy</cp:lastModifiedBy>
  <dcterms:modified xsi:type="dcterms:W3CDTF">2004-04-26T03:42:32Z</dcterms:modified>
  <cp:revision>1</cp:revision>
  <dc:subject/>
  <dc:title>幻灯片 1</dc:title>
</cp:coreProperties>
</file>