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E5B-3E4E-4E36-8605-8B542592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61D-C8DF-4EAB-A0DE-EACA718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DEE-1712-413E-9071-987407D1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0D4-07FC-4D81-8AD3-D33974B0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15C-2AC1-4FBF-AA35-18C2E263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957-2AC3-4680-B577-21F4F67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91E-4FBB-4FB2-A34B-58B25D5A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4CE-4375-49E0-9CD0-CFFB338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B89-010E-42B8-A839-FA65436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823-1896-464E-9E2A-5FCF535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02C-8C03-4816-A010-7E0A8BD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934-BBA5-42D5-AB9B-750AB4A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DBC2-E8C6-4656-836B-5868357FD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635040"/>
            <a:ext cx="88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Case: FFC261FFCSD_TextAnimation_PlaceHolder_Split_All at Once_0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 Point: All Paragraph in Rever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2349360"/>
            <a:ext cx="698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firs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firs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3:35:58Z</dcterms:created>
  <dc:creator>Jason Zhu</dc:creator>
  <dc:description/>
  <dc:language>en-US</dc:language>
  <cp:lastModifiedBy>Jason Zhu</cp:lastModifiedBy>
  <dcterms:modified xsi:type="dcterms:W3CDTF">2006-04-29T05:12:41Z</dcterms:modified>
  <cp:revision>2</cp:revision>
  <dc:subject/>
  <dc:title>Slide 1</dc:title>
</cp:coreProperties>
</file>