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291-613A-47A2-AC6A-C3EB3945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E74-EE75-4C51-A00D-940A1DCC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6D6-9C53-4640-9466-F954FFE4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C65-4092-4A1F-87B5-CE9887A2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51C-4827-4A76-ABA4-92C03E5F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F8B-18A6-46A8-BE45-F96B2178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D8D-8900-475C-8541-1A29DDCA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F09-43C5-474C-B9E9-78B7D32D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231-1571-422E-A56C-55AADDAE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326-94E2-476F-A2DF-AD2499B2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54E3-EF8F-4E2C-BEB3-1DCB3872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3E2-72CB-4B10-A3EF-98ADC376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6F63-BBA3-48ED-A2B6-B3B1712A5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werPlusWaterMarkObject3"/>
          <p:cNvSpPr txBox="1"/>
          <p:nvPr/>
        </p:nvSpPr>
        <p:spPr>
          <a:xfrm rot="18900000">
            <a:off x="1042920" y="3068280"/>
            <a:ext cx="782496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ln w="0">
                  <a:noFill/>
                </a:ln>
                <a:solidFill>
                  <a:srgbClr val="c0c0c0">
                    <a:alpha val="50000"/>
                  </a:srgbClr>
                </a:solidFill>
                <a:latin typeface="Arial"/>
              </a:rPr>
              <a:t>Uncontrolled Copy if Printed</a:t>
            </a:r>
            <a:endParaRPr b="0" lang="en-US" sz="100" spc="-1" strike="noStrike">
              <a:ln w="0">
                <a:noFill/>
              </a:ln>
              <a:solidFill>
                <a:srgbClr val="c0c0c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16:29:18Z</dcterms:created>
  <dc:creator>SJ</dc:creator>
  <dc:description/>
  <dc:language>en-US</dc:language>
  <cp:lastModifiedBy>SJ</cp:lastModifiedBy>
  <dcterms:modified xsi:type="dcterms:W3CDTF">2005-11-25T16:29:23Z</dcterms:modified>
  <cp:revision>1</cp:revision>
  <dc:subject/>
  <dc:title>Folie 1</dc:title>
</cp:coreProperties>
</file>