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B0F-ABE8-49DB-A221-CC832DEB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4B9-D5BD-4E8F-A594-D68BE337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893-8B5B-4067-8FD0-8C66C750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57E-9439-447A-9B71-6A849817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3986-9C9D-49FB-B53E-8A599331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B39B-4D28-46B1-AF22-4846CA68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5431-4ADC-47FB-844B-2868FD62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B459-F34D-47D2-A6E1-9CAC5BF4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68D6-8ECA-4A50-A34C-EC2F1FA8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025C-931A-4784-BCA1-D133F04B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5400-40AA-4896-8707-416915FC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E493-3452-4367-A05B-0272788A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F8B2-ADB3-42CA-9277-148B237F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85FB-7446-4BF6-8F24-AC3B9DA3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6D85-2AA1-401C-85D0-4A3D767C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19E2-DF78-45D2-8924-8B112216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5F75-7BD4-4194-A761-16D16EF0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032-2AAA-43C0-AFA6-95FBCDF3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50F-D340-43A0-A91C-FFA347A9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60E-FB05-41BC-83E0-E16483BB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7EE-42CA-48B0-A367-CE2C9D53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5BC-1FC7-4526-8E89-B0138135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255-3445-4B92-84C0-F6879E68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429-1875-4923-ADD0-42E2DA0A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5ED7-F85A-4EA0-B448-515D193BAE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07E3-AB9E-4CA0-84DA-6074C532C2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cc.gov/Bureaus/Common_Carrier/Reports/FCC-State_Link/comp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Arial Unicode MS"/>
              </a:rPr>
              <a:t>⑫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# of Broadband Telecom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rvice Provid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:  F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le at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fcc.gov/Bureaus/Common_Carrier/Reports/FCC-State_Link/comp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recent: 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ving target with the pending merg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kay, so this is not exactly “old economy” data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15:12:07Z</dcterms:created>
  <dc:creator>Tery Clower</dc:creator>
  <dc:description/>
  <dc:language>en-US</dc:language>
  <cp:lastModifiedBy>crystal</cp:lastModifiedBy>
  <dcterms:modified xsi:type="dcterms:W3CDTF">2012-05-28T09:26:57Z</dcterms:modified>
  <cp:revision>17</cp:revision>
  <dc:subject/>
  <dc:title>Measuring the New Economy With Old Economy Data OR Making Do With What We’ve Got!</dc:title>
</cp:coreProperties>
</file>