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7ADAF-05E0-4277-9067-61D07072D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A96-4A93-47CA-AEA8-89379F0A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7E4-8884-4664-B04F-C5715EE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ECF-AF21-4B76-AA14-513F314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3DC-B784-4489-A040-9A82065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D7B9-A750-43AF-873D-ABADA49A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80C-D344-4D12-9934-28D6D7F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4E6-D54B-4263-866D-722F303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E7E-5430-4210-8F20-CC6BD476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2D4B-89AA-4758-88C8-12A7CEB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56B-AC9D-4B22-9239-562D0808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4FAA-BA34-4D77-AB0C-CFD18C7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3C4-7D1D-42B7-A167-0787923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60CA-1B08-409F-85EA-960AC02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D2C-399B-4E61-868F-C7C1D95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C74-7426-48E7-93BD-3B6BDA2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544-DA2E-4D12-BB3A-2F0C3F1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E2C2-EF34-4144-A203-A7A3AA22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493-E0D3-4AD4-B17D-DC1C422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125-8053-4BCE-9DE8-3A9B27E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715-162F-47D8-9F14-F4891C1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920"/>
            <a:ext cx="7769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B8C-831C-4B4B-846A-E9324952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BA1-19E8-470B-A32F-EBD795D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24D-65AB-44EB-97FE-54B3A9A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689-960E-40B5-80CB-869FF2D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8170920" y="0"/>
            <a:ext cx="969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6F3C9-81DD-4982-817C-F24D67650E3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8B4902-E41E-4079-AAE7-4EF25ACE961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Modyfikatory - przykł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ackage zpp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mport jakies.klasy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kolejność definicji klas jest nieistot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Zpp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ikatory modyf = new Modyfikator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a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b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yf.c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modyf.d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klasy mogą mieć jedynie dostęp pakietowy lub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 Modyfika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in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otected 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vate 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ek Sro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250-85AA-491C-8D0A-22C60F4BCB3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