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42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54360"/>
            <a:ext cx="8542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812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5436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8120" y="455436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160" y="210168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17440" y="210168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5436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160" y="455436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17440" y="4554360"/>
            <a:ext cx="275040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542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542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68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8120" y="2101680"/>
            <a:ext cx="4168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627120"/>
            <a:ext cx="8542440" cy="55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8120" y="2101680"/>
            <a:ext cx="4168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5436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68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812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8120" y="455436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8120" y="2101680"/>
            <a:ext cx="4168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54360"/>
            <a:ext cx="8542440" cy="22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75"/>
              </a:lnSpc>
              <a:spcAft>
                <a:spcPts val="9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9160" y="7211880"/>
            <a:ext cx="2696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pyrigh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2003-2004 Normand Ri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52800" y="7184880"/>
            <a:ext cx="99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54244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54244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5560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18432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15876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19368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19368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193680">
              <a:lnSpc>
                <a:spcPts val="2475"/>
              </a:lnSpc>
              <a:spcAft>
                <a:spcPts val="9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6b4794"/>
                </a:solidFill>
                <a:latin typeface="Arial"/>
                <a:ea typeface="ms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Helvetica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ts val="0"/>
              </a:lnSpc>
              <a:spcAft>
                <a:spcPts val="901"/>
              </a:spcAft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graph with multiple line. Paragraph with multiple line. Paragraph with multiple line. Paragraph with multiple line. Paragraph with multipl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90520">
              <a:lnSpc>
                <a:spcPts val="0"/>
              </a:lnSpc>
              <a:spcAft>
                <a:spcPts val="901"/>
              </a:spcAft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graph with multiple line. Paragraph with multiple line. Paragraph with multiple line. Paragraph with multiple line. Paragraph with multiple line. Paragraph with multiple line. Paragraph with multipl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1566720"/>
            <a:ext cx="9910800" cy="23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