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C26-EC0D-4405-B0AE-A7565C3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685-71D5-4095-9D0E-CB767DFF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446-038B-46F7-B2C2-AFC2962C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2BA-B519-4EBB-A3F3-5BB9058B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C472-4900-417F-88BA-71E855F8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3090-4D9A-47A6-AB55-32BA30C5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F2D-340D-458C-ABCF-8ECE05E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7778-9069-4821-BFE1-400CF8A9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2CAA-9238-43D0-A1B7-FED1EF60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D2A-D625-4284-AD6F-DED5A16E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5A2-3D16-43A9-8264-F7C2E9D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D65-52D7-434D-A1D0-C63F20E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2CD8-89FF-4A79-9C5D-97D84CC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E07A-D359-464E-907A-C6988A75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2B6-F45A-4DA4-9105-2908FB8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E0B0-8716-437C-8036-9B6FF068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401B-7EC4-44A2-B2FA-F096C770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1A4-F12E-4D39-97CE-420A7FE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DDE-2384-4443-94C8-3887A68E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520-B0B0-4479-9E6F-B1DFE4E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323-2D38-4A37-B75C-A148F140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6C1-3A1E-482F-8C43-C358FC7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B05-2CEC-4415-8936-328977D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716-D8C0-4278-A0A2-D7658A4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B72-D944-4FAE-8B8C-BAA2A33BC7DB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88CC5E8-E8BB-4355-A6FD-BF46CE2C2848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16:12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EDC-56B2-4A71-8289-949EE746A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DDE8-E509-4D78-B754-E2D999C5D63C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72178DC-34CA-452C-A660-8C47D4433ECE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16:12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7DD4-74F9-45DE-9051-75C8CAC94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886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he-IL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השלבים</a:t>
            </a:r>
            <a:r>
              <a:rPr b="0" lang="he-IL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Times New Roman"/>
              </a:rPr>
              <a:t>בהלבנת הו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057400"/>
            <a:ext cx="6705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4568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Garamond"/>
              </a:rPr>
              <a:t>מיקו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4568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Garamond"/>
              </a:rPr>
              <a:t>ריבו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y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4568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א</a:t>
            </a:r>
            <a:r>
              <a:rPr b="0" lang="he-IL" sz="3200" spc="-1" strike="noStrike">
                <a:solidFill>
                  <a:srgbClr val="ffffff"/>
                </a:solidFill>
                <a:latin typeface="Garamond"/>
              </a:rPr>
              <a:t>ינטגרציה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9527-679B-4019-AA65-254C5B460B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1857E93-93E5-4286-8ED2-343FEB14D387}" type="datetime8">
              <a:rPr lang="en-US"/>
              <a:t>07/29/26 16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oo</cp:lastModifiedBy>
  <dcterms:modified xsi:type="dcterms:W3CDTF">2007-08-30T11:56:17Z</dcterms:modified>
  <cp:revision>36</cp:revision>
  <dc:subject/>
  <dc:title>מצגת של PowerPoint</dc:title>
</cp:coreProperties>
</file>