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B9D-1DF9-4680-A9C0-404E8C3F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7D0-A95E-475B-85C4-699F68E6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062-B505-4A17-9348-82F436E2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E6D-99EB-4DAC-898E-EF4ED614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6A0-FF26-4929-BFD9-C9803AF7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6A0-0237-4054-A3BB-C381288A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CB4-5B82-48AB-AA3E-393969B7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BA00-B413-4D70-80A9-E825517A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3EB-86DB-4235-AD1D-9CDA18D1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512-C7A9-4583-8CBA-5B7DA83F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CD5-5B02-4594-9729-36E84863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18B-BBA3-41DA-936A-A0E14E4E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85DE-00C4-4683-867A-D72FE4371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d Square"/>
          <p:cNvSpPr/>
          <p:nvPr/>
        </p:nvSpPr>
        <p:spPr>
          <a:xfrm>
            <a:off x="1828800" y="1828800"/>
            <a:ext cx="2540160" cy="2540160"/>
          </a:xfrm>
          <a:prstGeom prst="flowChartProcess">
            <a:avLst/>
          </a:prstGeom>
          <a:solidFill>
            <a:srgbClr val="646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23:19:38Z</dcterms:created>
  <dc:creator>ibm</dc:creator>
  <dc:description/>
  <dc:language>en-US</dc:language>
  <cp:lastModifiedBy>Yan Ji</cp:lastModifiedBy>
  <dcterms:modified xsi:type="dcterms:W3CDTF">2012-06-04T02:27:04Z</dcterms:modified>
  <cp:revision>2</cp:revision>
  <dc:subject/>
  <dc:title>SubFunction: Animation\Combination\AutoShape File Name: FFC261FFCSD_Animation_Combination_AutoShape_0160.ppt Check Point: Timing\Trigger\On Click Please check object: AutoShape Animations on object: Emphasis_Spin, Entrance_Appear</dc:title>
</cp:coreProperties>
</file>