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972C-C1B7-4BB8-B6C9-FA7714FA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C163-C47B-469B-9F25-BD8AD442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957E-ACCA-4461-815A-E825439E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EA4-7AB0-483B-8AC7-6D8FF2FB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45AA-55C7-4D61-BCAD-B7F89164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38A-0A08-4820-B312-4D381B5A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576-FEF8-4498-82BE-BE25B465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49E7-FFFE-475C-AC98-0FD6752C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DC04-9CE4-4030-84B6-20B3231E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E39B-4612-48F9-9926-01905CC8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E82-FC40-4B09-9AED-A3BA9314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2AD2-4B9E-420F-9728-40C6924E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61F7-F03D-4291-9D04-5DC8863BA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440" y="635040"/>
            <a:ext cx="88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Case: FFC261FFCSD_TextAnimation_TextBox_Spin_All at Once_0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 Point: All Paragraph in Rever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905120"/>
            <a:ext cx="698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a animation test. This is a animation test. This is a animation test. This is a animation test. This is a animation test. This is a animation test. This is a animation test. This is a animation te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second level. This is the second level. This is the second level. This is the second le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third level. This is the third le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the first level. This is the first level. This is the first level. This is the first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second level. This is the second level. This is the second level. This is the second le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03:36:39Z</dcterms:created>
  <dc:creator>Jason Zhu</dc:creator>
  <dc:description/>
  <dc:language>en-US</dc:language>
  <cp:lastModifiedBy>Jason Zhu</cp:lastModifiedBy>
  <dcterms:modified xsi:type="dcterms:W3CDTF">2006-04-29T03:45:46Z</dcterms:modified>
  <cp:revision>2</cp:revision>
  <dc:subject/>
  <dc:title>Slide 1</dc:title>
</cp:coreProperties>
</file>