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DA32C-D373-4B6C-AEAD-09FDD1922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25F-4FD1-4FC0-9FE9-C90D864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B30-2BAE-406B-A952-AF0982C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0DA-9491-4F74-9372-8C5B1BF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B9E-FEBB-4798-AE59-BE6F1E04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97C-8240-4CAE-8948-1860864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F67-689B-4212-A003-579357E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716-DDA3-4DD3-B472-39193235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831-8234-463F-A5F5-7B0E981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8C8-D1A5-427E-8BB6-19583518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786-709A-4B28-9FBA-6A01B58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71D-2360-4293-B226-11E323EC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B4D-ED59-45D6-8F09-E87B8AB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4D3D-7F8E-483D-97BC-ED3E89844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80000" y="179280"/>
            <a:ext cx="180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900000"/>
            <a:ext cx="18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720" y="2073240"/>
            <a:ext cx="143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9640" y="2160720"/>
            <a:ext cx="14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900000"/>
            <a:ext cx="143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360" y="2879640"/>
            <a:ext cx="14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4140360"/>
            <a:ext cx="144000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60720" y="3419640"/>
            <a:ext cx="126036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5219640"/>
            <a:ext cx="180036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40360" y="5219640"/>
            <a:ext cx="1800000" cy="90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9640" y="3240000"/>
            <a:ext cx="14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9640" y="4319640"/>
            <a:ext cx="14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5400720"/>
            <a:ext cx="14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0" idx="2"/>
            <a:endCxn id="51" idx="0"/>
          </p:cNvCxnSpPr>
          <p:nvPr/>
        </p:nvCxnSpPr>
        <p:spPr>
          <a:xfrm rot="16200000">
            <a:off x="4589640" y="809640"/>
            <a:ext cx="18108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4" name=""/>
          <p:cNvCxnSpPr>
            <a:stCxn id="57" idx="0"/>
            <a:endCxn id="52" idx="2"/>
          </p:cNvCxnSpPr>
          <p:nvPr/>
        </p:nvCxnSpPr>
        <p:spPr>
          <a:xfrm flipV="1" rot="16200000">
            <a:off x="2792520" y="2521080"/>
            <a:ext cx="986400" cy="810720"/>
          </a:xfrm>
          <a:prstGeom prst="bentConnector3">
            <a:avLst>
              <a:gd name="adj1" fmla="val 5001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5" name=""/>
          <p:cNvCxnSpPr>
            <a:stCxn id="55" idx="0"/>
            <a:endCxn id="52" idx="2"/>
          </p:cNvCxnSpPr>
          <p:nvPr/>
        </p:nvCxnSpPr>
        <p:spPr>
          <a:xfrm flipH="1" flipV="1" rot="5400000">
            <a:off x="2207160" y="2206440"/>
            <a:ext cx="446400" cy="900360"/>
          </a:xfrm>
          <a:prstGeom prst="bentConnector3">
            <a:avLst>
              <a:gd name="adj1" fmla="val 5004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6" name=""/>
          <p:cNvCxnSpPr>
            <a:stCxn id="52" idx="3"/>
            <a:endCxn id="60" idx="1"/>
          </p:cNvCxnSpPr>
          <p:nvPr/>
        </p:nvCxnSpPr>
        <p:spPr>
          <a:xfrm>
            <a:off x="3600360" y="2253240"/>
            <a:ext cx="3959640" cy="125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7" name=""/>
          <p:cNvCxnSpPr>
            <a:stCxn id="60" idx="2"/>
            <a:endCxn id="61" idx="0"/>
          </p:cNvCxnSpPr>
          <p:nvPr/>
        </p:nvCxnSpPr>
        <p:spPr>
          <a:xfrm rot="16200000">
            <a:off x="8010000" y="4049640"/>
            <a:ext cx="5400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8" name=""/>
          <p:cNvCxnSpPr>
            <a:stCxn id="61" idx="2"/>
            <a:endCxn id="62" idx="0"/>
          </p:cNvCxnSpPr>
          <p:nvPr/>
        </p:nvCxnSpPr>
        <p:spPr>
          <a:xfrm rot="16200000">
            <a:off x="8008920" y="5130000"/>
            <a:ext cx="5418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69" name=""/>
          <p:cNvCxnSpPr>
            <a:stCxn id="61" idx="1"/>
            <a:endCxn id="58" idx="0"/>
          </p:cNvCxnSpPr>
          <p:nvPr/>
        </p:nvCxnSpPr>
        <p:spPr>
          <a:xfrm flipV="1" rot="10800000">
            <a:off x="3961080" y="4588920"/>
            <a:ext cx="3598920" cy="6307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0" name=""/>
          <p:cNvCxnSpPr>
            <a:stCxn id="59" idx="6"/>
            <a:endCxn id="62" idx="1"/>
          </p:cNvCxnSpPr>
          <p:nvPr/>
        </p:nvCxnSpPr>
        <p:spPr>
          <a:xfrm>
            <a:off x="6840360" y="5669640"/>
            <a:ext cx="719640" cy="1080"/>
          </a:xfrm>
          <a:prstGeom prst="bentConnector3">
            <a:avLst>
              <a:gd name="adj1" fmla="val 5005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5219640" y="1728720"/>
            <a:ext cx="1620720" cy="1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71" idx="3"/>
            <a:endCxn id="53" idx="0"/>
          </p:cNvCxnSpPr>
          <p:nvPr/>
        </p:nvCxnSpPr>
        <p:spPr>
          <a:xfrm>
            <a:off x="6840360" y="1819080"/>
            <a:ext cx="1439640" cy="34200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3" name=""/>
          <p:cNvCxnSpPr>
            <a:stCxn id="71" idx="1"/>
            <a:endCxn id="52" idx="0"/>
          </p:cNvCxnSpPr>
          <p:nvPr/>
        </p:nvCxnSpPr>
        <p:spPr>
          <a:xfrm flipV="1" rot="10800000">
            <a:off x="2880360" y="1819080"/>
            <a:ext cx="2339640" cy="2545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4" name=""/>
          <p:cNvCxnSpPr>
            <a:stCxn id="56" idx="3"/>
            <a:endCxn id="57" idx="1"/>
          </p:cNvCxnSpPr>
          <p:nvPr/>
        </p:nvCxnSpPr>
        <p:spPr>
          <a:xfrm flipV="1">
            <a:off x="2700360" y="3869640"/>
            <a:ext cx="360720" cy="63144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5" name=""/>
          <p:cNvCxnSpPr>
            <a:stCxn id="55" idx="3"/>
            <a:endCxn id="57" idx="1"/>
          </p:cNvCxnSpPr>
          <p:nvPr/>
        </p:nvCxnSpPr>
        <p:spPr>
          <a:xfrm>
            <a:off x="2700360" y="3240000"/>
            <a:ext cx="360720" cy="6300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6" name=""/>
          <p:cNvCxnSpPr>
            <a:stCxn id="52" idx="1"/>
            <a:endCxn id="58" idx="2"/>
          </p:cNvCxnSpPr>
          <p:nvPr/>
        </p:nvCxnSpPr>
        <p:spPr>
          <a:xfrm flipH="1" flipV="1" rot="10800000">
            <a:off x="2160720" y="2253240"/>
            <a:ext cx="900360" cy="3416760"/>
          </a:xfrm>
          <a:prstGeom prst="bentConnector3">
            <a:avLst>
              <a:gd name="adj1" fmla="val -2576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7" name=""/>
          <p:cNvCxnSpPr>
            <a:stCxn id="51" idx="2"/>
            <a:endCxn id="71" idx="0"/>
          </p:cNvCxnSpPr>
          <p:nvPr/>
        </p:nvCxnSpPr>
        <p:spPr>
          <a:xfrm flipH="1" rot="16200000">
            <a:off x="5121000" y="819360"/>
            <a:ext cx="468720" cy="1350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78" name=""/>
          <p:cNvCxnSpPr>
            <a:stCxn id="54" idx="2"/>
            <a:endCxn id="71" idx="0"/>
          </p:cNvCxnSpPr>
          <p:nvPr/>
        </p:nvCxnSpPr>
        <p:spPr>
          <a:xfrm rot="5400000">
            <a:off x="6470280" y="819720"/>
            <a:ext cx="468720" cy="13496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