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61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3774600" y="-360"/>
            <a:ext cx="28861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3280" cy="368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34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5"/>
          </p:nvPr>
        </p:nvSpPr>
        <p:spPr>
          <a:xfrm>
            <a:off x="-360" y="9340920"/>
            <a:ext cx="28861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6"/>
          </p:nvPr>
        </p:nvSpPr>
        <p:spPr>
          <a:xfrm>
            <a:off x="3774600" y="9340920"/>
            <a:ext cx="28861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76958-43A3-406B-BE54-ADF105D7570E}" type="slidenum">
              <a:rPr b="1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774960" y="9556560"/>
            <a:ext cx="288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3DA2-0B71-4DD8-9311-2AE623144DBA}" type="slidenum">
              <a:rPr b="1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9556560"/>
            <a:ext cx="288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288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774960" y="0"/>
            <a:ext cx="288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74800" y="73836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58406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6440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58406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4724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58406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2200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8644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2200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8644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58406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58406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58406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58406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584064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118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58406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58406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58406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4724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58406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58406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06440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58406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4724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58406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2200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86440" y="188604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2200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86440" y="4064400"/>
            <a:ext cx="26326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58406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58406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58406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584064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118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58406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58406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47240" y="406440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58406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47240" y="1886040"/>
            <a:ext cx="39902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64400"/>
            <a:ext cx="8177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58406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86040"/>
            <a:ext cx="817704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-531720">
              <a:lnSpc>
                <a:spcPct val="101000"/>
              </a:lnSpc>
              <a:spcBef>
                <a:spcPts val="700"/>
              </a:spcBef>
              <a:buClr>
                <a:srgbClr val="ff3300"/>
              </a:buClr>
              <a:buSzPct val="125000"/>
              <a:buFont typeface="Wingdings" charset="2"/>
              <a:buChar char="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247760" indent="-457200">
              <a:lnSpc>
                <a:spcPct val="101000"/>
              </a:lnSpc>
              <a:spcBef>
                <a:spcPts val="700"/>
              </a:spcBef>
              <a:buClr>
                <a:srgbClr val="ffcc00"/>
              </a:buClr>
              <a:buFont typeface="Webdings" charset="2"/>
              <a:buChar char="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881360" indent="-452520">
              <a:lnSpc>
                <a:spcPct val="101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2608200" indent="-360360">
              <a:lnSpc>
                <a:spcPct val="101000"/>
              </a:lnSpc>
              <a:spcBef>
                <a:spcPts val="700"/>
              </a:spcBef>
              <a:buClr>
                <a:srgbClr val="99cc00"/>
              </a:buClr>
              <a:buFont typeface="Tahoma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3244680" indent="-368280">
              <a:lnSpc>
                <a:spcPct val="101000"/>
              </a:lnSpc>
              <a:spcBef>
                <a:spcPts val="700"/>
              </a:spcBef>
              <a:buClr>
                <a:srgbClr val="99cc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3244680" indent="-368280">
              <a:lnSpc>
                <a:spcPct val="10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3244680" indent="-368280">
              <a:lnSpc>
                <a:spcPct val="10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3720" y="622908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381880" y="228600"/>
            <a:ext cx="541440" cy="541440"/>
          </a:xfrm>
          <a:prstGeom prst="ellipse">
            <a:avLst/>
          </a:prstGeom>
          <a:solidFill>
            <a:srgbClr val="7cba00"/>
          </a:solidFill>
          <a:ln w="25560">
            <a:solidFill>
              <a:srgbClr val="7c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324480" y="228600"/>
            <a:ext cx="541440" cy="541440"/>
          </a:xfrm>
          <a:prstGeom prst="ellipse">
            <a:avLst/>
          </a:prstGeom>
          <a:solidFill>
            <a:srgbClr val="fb1503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010280" y="228600"/>
            <a:ext cx="541440" cy="54144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96080" y="228600"/>
            <a:ext cx="541440" cy="541440"/>
          </a:xfrm>
          <a:prstGeom prst="ellipse">
            <a:avLst/>
          </a:prstGeom>
          <a:solidFill>
            <a:srgbClr val="00cc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153280" y="6172200"/>
            <a:ext cx="482760" cy="361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C2DB6-3563-48C3-B015-A683E306B7E8}" type="slidenum">
              <a:rPr b="1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1523880"/>
            <a:ext cx="845640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3886200" y="6095520"/>
            <a:ext cx="2284560" cy="5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e574e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3"/>
          </p:nvPr>
        </p:nvSpPr>
        <p:spPr>
          <a:xfrm>
            <a:off x="3149640" y="6229440"/>
            <a:ext cx="284328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57200" y="304812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381880" y="228600"/>
            <a:ext cx="541440" cy="541440"/>
          </a:xfrm>
          <a:prstGeom prst="ellipse">
            <a:avLst/>
          </a:prstGeom>
          <a:solidFill>
            <a:srgbClr val="7cba00"/>
          </a:solidFill>
          <a:ln w="25560">
            <a:solidFill>
              <a:srgbClr val="7c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324480" y="228600"/>
            <a:ext cx="541440" cy="541440"/>
          </a:xfrm>
          <a:prstGeom prst="ellipse">
            <a:avLst/>
          </a:prstGeom>
          <a:solidFill>
            <a:srgbClr val="fb1503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010280" y="228600"/>
            <a:ext cx="541440" cy="54144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96080" y="228600"/>
            <a:ext cx="541440" cy="541440"/>
          </a:xfrm>
          <a:prstGeom prst="ellipse">
            <a:avLst/>
          </a:prstGeom>
          <a:solidFill>
            <a:srgbClr val="00cc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5943600"/>
            <a:ext cx="28954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Mission schéma directeur national des systèmes d ’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DGA - SDSI - MSDN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153280" y="6172200"/>
            <a:ext cx="482760" cy="361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C7DE0-0090-4115-9466-AFADD077C243}" type="slidenum">
              <a:rPr b="1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31720" indent="-531720">
              <a:lnSpc>
                <a:spcPct val="101000"/>
              </a:lnSpc>
              <a:spcBef>
                <a:spcPts val="700"/>
              </a:spcBef>
              <a:buClr>
                <a:srgbClr val="ff3300"/>
              </a:buClr>
              <a:buFont typeface="Monotype Sorts" charset="2"/>
              <a:buChar char="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247760" indent="-457200">
              <a:lnSpc>
                <a:spcPct val="101000"/>
              </a:lnSpc>
              <a:spcBef>
                <a:spcPts val="700"/>
              </a:spcBef>
              <a:buClr>
                <a:srgbClr val="ffcc00"/>
              </a:buClr>
              <a:buFont typeface="Webdings" charset="2"/>
              <a:buChar char="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881360" indent="-452520">
              <a:lnSpc>
                <a:spcPct val="101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2608200" indent="-360360">
              <a:lnSpc>
                <a:spcPct val="101000"/>
              </a:lnSpc>
              <a:spcBef>
                <a:spcPts val="700"/>
              </a:spcBef>
              <a:buClr>
                <a:srgbClr val="99cc00"/>
              </a:buClr>
              <a:buFont typeface="Tahoma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3244680" indent="-368280">
              <a:lnSpc>
                <a:spcPct val="101000"/>
              </a:lnSpc>
              <a:spcBef>
                <a:spcPts val="700"/>
              </a:spcBef>
              <a:buClr>
                <a:srgbClr val="99cc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3244680" indent="-368280">
              <a:lnSpc>
                <a:spcPct val="10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3244680" indent="-368280">
              <a:lnSpc>
                <a:spcPct val="10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05488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a suite bureautique du …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133720" y="3886200"/>
            <a:ext cx="6400800" cy="155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  <a:ea typeface="Lucida Sans Unicode"/>
              </a:rPr>
              <a:t>L’utilisation d’Open Offi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  <a:ea typeface="Lucida Sans Unicode"/>
              </a:rPr>
              <a:t>au …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  <a:ea typeface="Lucida Sans Unicode"/>
              </a:rPr>
              <a:t>et à …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7" dur="1" nodeType="clickEffect" fill="hold">
                              <p:stCondLst>
                                <p:cond evt="end">
                                  <p:tn val="4"/>
                                </p:cond>
                              </p:stCondLst>
                            </p:cTn>
                            <p:tgtEl>
                              <p:spTgt spid="101"/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11" dur="1" nodeType="afterEffect" fill="hold">
                              <p:stCondLst>
                                <p:cond evt="end">
                                  <p:tn val="8"/>
                                </p:cond>
                              </p:stCondLst>
                            </p:cTn>
                            <p:tgtEl>
                              <p:spTgt spid="101">
                                <p:txEl>
                                  <p:pRg st="0" end="0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15" dur="1" nodeType="afterEffect" fill="hold">
                              <p:stCondLst>
                                <p:cond evt="end">
                                  <p:tn val="12"/>
                                </p:cond>
                              </p:stCondLst>
                            </p:cTn>
                            <p:tgtEl>
                              <p:spTgt spid="101">
                                <p:txEl>
                                  <p:pRg st="1" end="1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16" fill="hold">
                            <p:stCondLst>
                              <p:cond delay="6001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19" dur="1" nodeType="afterEffect" fill="hold">
                              <p:stCondLst>
                                <p:cond evt="end">
                                  <p:tn val="16"/>
                                </p:cond>
                              </p:stCondLst>
                            </p:cTn>
                            <p:tgtEl>
                              <p:spTgt spid="101"/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790200"/>
            <a:ext cx="5842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Openoffice.or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230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5000"/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e déploi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247760" indent="-4572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Le cercl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881360" indent="-452520">
              <a:lnSpc>
                <a:spcPct val="10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stallation sur les postes des autres agents de la su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881360" indent="-452520">
              <a:lnSpc>
                <a:spcPct val="10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as d’obligation d’utilisation mais incitation à la curiosité de chac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338" dur="1" nodeType="clickEffect" fill="hold">
                              <p:stCondLst>
                                <p:cond evt="end">
                                  <p:tn val="335"/>
                                </p:cond>
                              </p:stCondLst>
                            </p:cTn>
                            <p:tgtEl>
                              <p:spTgt spid="121"/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339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4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342" dur="1" nodeType="afterEffect" fill="hold">
                              <p:stCondLst>
                                <p:cond evt="end">
                                  <p:tn val="339"/>
                                </p:cond>
                              </p:stCondLst>
                            </p:cTn>
                            <p:tgtEl>
                              <p:spTgt spid="121">
                                <p:txEl>
                                  <p:pRg st="0" end="0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34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4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346" dur="1" nodeType="afterEffect" fill="hold">
                              <p:stCondLst>
                                <p:cond evt="end">
                                  <p:tn val="343"/>
                                </p:cond>
                              </p:stCondLst>
                            </p:cTn>
                            <p:tgtEl>
                              <p:spTgt spid="121">
                                <p:txEl>
                                  <p:pRg st="1" end="1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347" fill="hold">
                            <p:stCondLst>
                              <p:cond delay="6001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4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350" dur="1" nodeType="afterEffect" fill="hold">
                              <p:stCondLst>
                                <p:cond evt="end">
                                  <p:tn val="347"/>
                                </p:cond>
                              </p:stCondLst>
                            </p:cTn>
                            <p:tgtEl>
                              <p:spTgt spid="121">
                                <p:txEl>
                                  <p:pRg st="2" end="2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351" fill="hold">
                            <p:stCondLst>
                              <p:cond delay="8002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5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354" dur="1" nodeType="afterEffect" fill="hold">
                              <p:stCondLst>
                                <p:cond evt="end">
                                  <p:tn val="351"/>
                                </p:cond>
                              </p:stCondLst>
                            </p:cTn>
                            <p:tgtEl>
                              <p:spTgt spid="121">
                                <p:txEl>
                                  <p:pRg st="3" end="3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790200"/>
            <a:ext cx="5842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Openoffice.or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310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6320" indent="-52632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5000"/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e déploi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235160" indent="-452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ccompagnement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862280" indent="-447840">
              <a:lnSpc>
                <a:spcPct val="10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n personne ressource Ooo par entité de bureau formé en formation de formateur (C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862280" indent="-447840">
              <a:lnSpc>
                <a:spcPct val="10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upport SOS-DGA (C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862280" indent="-447840">
              <a:lnSpc>
                <a:spcPct val="10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emise d’un CD/ROM à chaque agent (C1 &amp; C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862280" indent="-447840">
              <a:lnSpc>
                <a:spcPct val="10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emise d’un guide de prise en main Ooo (C1 &amp; C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862280" indent="-447840">
              <a:lnSpc>
                <a:spcPct val="10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formation CSI – Avril 200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361" dur="1" nodeType="clickEffect" fill="hold">
                              <p:stCondLst>
                                <p:cond evt="end">
                                  <p:tn val="358"/>
                                </p:cond>
                              </p:stCondLst>
                            </p:cTn>
                            <p:tgtEl>
                              <p:spTgt spid="123"/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6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365" dur="1" nodeType="afterEffect" fill="hold">
                              <p:stCondLst>
                                <p:cond evt="end">
                                  <p:tn val="362"/>
                                </p:cond>
                              </p:stCondLst>
                            </p:cTn>
                            <p:tgtEl>
                              <p:spTgt spid="123">
                                <p:txEl>
                                  <p:pRg st="0" end="0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366" fill="hold">
                            <p:stCondLst>
                              <p:cond delay="4000"/>
                            </p:stCondLst>
                            <p:childTnLst>
                              <p:par>
                                <p:cTn id="367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6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369" dur="1" nodeType="afterEffect" fill="hold">
                              <p:stCondLst>
                                <p:cond evt="end">
                                  <p:tn val="366"/>
                                </p:cond>
                              </p:stCondLst>
                            </p:cTn>
                            <p:tgtEl>
                              <p:spTgt spid="123">
                                <p:txEl>
                                  <p:pRg st="1" end="1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370" fill="hold">
                            <p:stCondLst>
                              <p:cond delay="6001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7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373" dur="1" nodeType="afterEffect" fill="hold">
                              <p:stCondLst>
                                <p:cond evt="end">
                                  <p:tn val="370"/>
                                </p:cond>
                              </p:stCondLst>
                            </p:cTn>
                            <p:tgtEl>
                              <p:spTgt spid="123">
                                <p:txEl>
                                  <p:pRg st="2" end="2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374" fill="hold">
                            <p:stCondLst>
                              <p:cond delay="8002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7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377" dur="1" nodeType="afterEffect" fill="hold">
                              <p:stCondLst>
                                <p:cond evt="end">
                                  <p:tn val="374"/>
                                </p:cond>
                              </p:stCondLst>
                            </p:cTn>
                            <p:tgtEl>
                              <p:spTgt spid="123">
                                <p:txEl>
                                  <p:pRg st="3" end="3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378" fill="hold">
                            <p:stCondLst>
                              <p:cond delay="10003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8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381" dur="1" nodeType="afterEffect" fill="hold">
                              <p:stCondLst>
                                <p:cond evt="end">
                                  <p:tn val="378"/>
                                </p:cond>
                              </p:stCondLst>
                            </p:cTn>
                            <p:tgtEl>
                              <p:spTgt spid="123">
                                <p:txEl>
                                  <p:pRg st="4" end="4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382" fill="hold">
                            <p:stCondLst>
                              <p:cond delay="12004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8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385" dur="1" nodeType="afterEffect" fill="hold">
                              <p:stCondLst>
                                <p:cond evt="end">
                                  <p:tn val="382"/>
                                </p:cond>
                              </p:stCondLst>
                            </p:cTn>
                            <p:tgtEl>
                              <p:spTgt spid="123">
                                <p:txEl>
                                  <p:pRg st="5" end="5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386" fill="hold">
                            <p:stCondLst>
                              <p:cond delay="14005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8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389" dur="1" nodeType="afterEffect" fill="hold">
                              <p:stCondLst>
                                <p:cond evt="end">
                                  <p:tn val="386"/>
                                </p:cond>
                              </p:stCondLst>
                            </p:cTn>
                            <p:tgtEl>
                              <p:spTgt spid="123">
                                <p:txEl>
                                  <p:pRg st="6" end="6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790200"/>
            <a:ext cx="5842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Openoffice.or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-53172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5000"/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 déploiement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247760" indent="-4572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vrables fin 2005 – début 200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881360" indent="-45252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Éléments pour construire une aide au basculement des autres service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2608200" indent="-360360">
              <a:lnSpc>
                <a:spcPct val="90000"/>
              </a:lnSpc>
              <a:spcBef>
                <a:spcPts val="400"/>
              </a:spcBef>
              <a:buClr>
                <a:srgbClr val="99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Méthodes,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2608200" indent="-360360">
              <a:lnSpc>
                <a:spcPct val="90000"/>
              </a:lnSpc>
              <a:spcBef>
                <a:spcPts val="400"/>
              </a:spcBef>
              <a:buClr>
                <a:srgbClr val="99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Information &amp; formation des RSI-RMSI,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2608200" indent="-360360">
              <a:lnSpc>
                <a:spcPct val="90000"/>
              </a:lnSpc>
              <a:spcBef>
                <a:spcPts val="400"/>
              </a:spcBef>
              <a:buClr>
                <a:srgbClr val="99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Programme de formation nationaux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2608200" indent="-360360">
              <a:lnSpc>
                <a:spcPct val="90000"/>
              </a:lnSpc>
              <a:spcBef>
                <a:spcPts val="400"/>
              </a:spcBef>
              <a:buClr>
                <a:srgbClr val="99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Suppor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2608200" indent="-360360">
              <a:lnSpc>
                <a:spcPct val="90000"/>
              </a:lnSpc>
              <a:spcBef>
                <a:spcPts val="400"/>
              </a:spcBef>
              <a:buClr>
                <a:srgbClr val="99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Format de documen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2608200" indent="-360360">
              <a:lnSpc>
                <a:spcPct val="90000"/>
              </a:lnSpc>
              <a:spcBef>
                <a:spcPts val="400"/>
              </a:spcBef>
              <a:buClr>
                <a:srgbClr val="99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Distribution personnalisée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881360" indent="-45252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Dans un cadre politique MAAPR clarifié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2608200" indent="-360360">
              <a:lnSpc>
                <a:spcPct val="90000"/>
              </a:lnSpc>
              <a:spcBef>
                <a:spcPts val="400"/>
              </a:spcBef>
              <a:buClr>
                <a:srgbClr val="99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Contexte de l’Accord entreprise actu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2608200" indent="-360360">
              <a:lnSpc>
                <a:spcPct val="90000"/>
              </a:lnSpc>
              <a:spcBef>
                <a:spcPts val="400"/>
              </a:spcBef>
              <a:buClr>
                <a:srgbClr val="99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ORION et serveur Open Offic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2608200" indent="-360360">
              <a:lnSpc>
                <a:spcPct val="90000"/>
              </a:lnSpc>
              <a:spcBef>
                <a:spcPts val="400"/>
              </a:spcBef>
              <a:buClr>
                <a:srgbClr val="99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interministéri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31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396" dur="1" nodeType="clickEffect" fill="hold">
                              <p:stCondLst>
                                <p:cond evt="end">
                                  <p:tn val="393"/>
                                </p:cond>
                              </p:stCondLst>
                            </p:cTn>
                            <p:tgtEl>
                              <p:spTgt spid="125"/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397" fill="hold">
                            <p:stCondLst>
                              <p:cond delay="20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9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400" dur="1" nodeType="afterEffect" fill="hold">
                              <p:stCondLst>
                                <p:cond evt="end">
                                  <p:tn val="397"/>
                                </p:cond>
                              </p:stCondLst>
                            </p:cTn>
                            <p:tgtEl>
                              <p:spTgt spid="125">
                                <p:txEl>
                                  <p:pRg st="0" end="0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401" fill="hold">
                            <p:stCondLst>
                              <p:cond delay="4000"/>
                            </p:stCondLst>
                            <p:childTnLst>
                              <p:par>
                                <p:cTn id="402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0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404" dur="1" nodeType="afterEffect" fill="hold">
                              <p:stCondLst>
                                <p:cond evt="end">
                                  <p:tn val="401"/>
                                </p:cond>
                              </p:stCondLst>
                            </p:cTn>
                            <p:tgtEl>
                              <p:spTgt spid="125">
                                <p:txEl>
                                  <p:pRg st="1" end="1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405" fill="hold">
                            <p:stCondLst>
                              <p:cond delay="6001"/>
                            </p:stCondLst>
                            <p:childTnLst>
                              <p:par>
                                <p:cTn id="406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0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408" dur="1" nodeType="afterEffect" fill="hold">
                              <p:stCondLst>
                                <p:cond evt="end">
                                  <p:tn val="405"/>
                                </p:cond>
                              </p:stCondLst>
                            </p:cTn>
                            <p:tgtEl>
                              <p:spTgt spid="125">
                                <p:txEl>
                                  <p:pRg st="2" end="2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409" fill="hold">
                            <p:stCondLst>
                              <p:cond delay="8002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1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412" dur="1" nodeType="afterEffect" fill="hold">
                              <p:stCondLst>
                                <p:cond evt="end">
                                  <p:tn val="409"/>
                                </p:cond>
                              </p:stCondLst>
                            </p:cTn>
                            <p:tgtEl>
                              <p:spTgt spid="125">
                                <p:txEl>
                                  <p:pRg st="3" end="3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413" fill="hold">
                            <p:stCondLst>
                              <p:cond delay="10003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1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416" dur="1" nodeType="afterEffect" fill="hold">
                              <p:stCondLst>
                                <p:cond evt="end">
                                  <p:tn val="413"/>
                                </p:cond>
                              </p:stCondLst>
                            </p:cTn>
                            <p:tgtEl>
                              <p:spTgt spid="125">
                                <p:txEl>
                                  <p:pRg st="4" end="4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417" fill="hold">
                            <p:stCondLst>
                              <p:cond delay="12004"/>
                            </p:stCondLst>
                            <p:childTnLst>
                              <p:par>
                                <p:cTn id="41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1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420" dur="1" nodeType="afterEffect" fill="hold">
                              <p:stCondLst>
                                <p:cond evt="end">
                                  <p:tn val="417"/>
                                </p:cond>
                              </p:stCondLst>
                            </p:cTn>
                            <p:tgtEl>
                              <p:spTgt spid="125">
                                <p:txEl>
                                  <p:pRg st="5" end="5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421" fill="hold">
                            <p:stCondLst>
                              <p:cond delay="14005"/>
                            </p:stCondLst>
                            <p:childTnLst>
                              <p:par>
                                <p:cTn id="422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2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424" dur="1" nodeType="afterEffect" fill="hold">
                              <p:stCondLst>
                                <p:cond evt="end">
                                  <p:tn val="421"/>
                                </p:cond>
                              </p:stCondLst>
                            </p:cTn>
                            <p:tgtEl>
                              <p:spTgt spid="125">
                                <p:txEl>
                                  <p:pRg st="6" end="6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425" fill="hold">
                            <p:stCondLst>
                              <p:cond delay="16006"/>
                            </p:stCondLst>
                            <p:childTnLst>
                              <p:par>
                                <p:cTn id="426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2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428" dur="1" nodeType="afterEffect" fill="hold">
                              <p:stCondLst>
                                <p:cond evt="end">
                                  <p:tn val="425"/>
                                </p:cond>
                              </p:stCondLst>
                            </p:cTn>
                            <p:tgtEl>
                              <p:spTgt spid="125">
                                <p:txEl>
                                  <p:pRg st="7" end="7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429" fill="hold">
                            <p:stCondLst>
                              <p:cond delay="18008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3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432" dur="1" nodeType="afterEffect" fill="hold">
                              <p:stCondLst>
                                <p:cond evt="end">
                                  <p:tn val="429"/>
                                </p:cond>
                              </p:stCondLst>
                            </p:cTn>
                            <p:tgtEl>
                              <p:spTgt spid="125">
                                <p:txEl>
                                  <p:pRg st="8" end="8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433" fill="hold">
                            <p:stCondLst>
                              <p:cond delay="20009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3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436" dur="1" nodeType="afterEffect" fill="hold">
                              <p:stCondLst>
                                <p:cond evt="end">
                                  <p:tn val="433"/>
                                </p:cond>
                              </p:stCondLst>
                            </p:cTn>
                            <p:tgtEl>
                              <p:spTgt spid="125">
                                <p:txEl>
                                  <p:pRg st="9" end="9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437" fill="hold">
                            <p:stCondLst>
                              <p:cond delay="22010"/>
                            </p:stCondLst>
                            <p:childTnLst>
                              <p:par>
                                <p:cTn id="43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3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440" dur="1" nodeType="afterEffect" fill="hold">
                              <p:stCondLst>
                                <p:cond evt="end">
                                  <p:tn val="437"/>
                                </p:cond>
                              </p:stCondLst>
                            </p:cTn>
                            <p:tgtEl>
                              <p:spTgt spid="125">
                                <p:txEl>
                                  <p:pRg st="10" end="10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441" fill="hold">
                            <p:stCondLst>
                              <p:cond delay="24011"/>
                            </p:stCondLst>
                            <p:childTnLst>
                              <p:par>
                                <p:cTn id="442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4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444" dur="1" nodeType="afterEffect" fill="hold">
                              <p:stCondLst>
                                <p:cond evt="end">
                                  <p:tn val="441"/>
                                </p:cond>
                              </p:stCondLst>
                            </p:cTn>
                            <p:tgtEl>
                              <p:spTgt spid="125">
                                <p:txEl>
                                  <p:pRg st="11" end="11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445" fill="hold">
                            <p:stCondLst>
                              <p:cond delay="26012"/>
                            </p:stCondLst>
                            <p:childTnLst>
                              <p:par>
                                <p:cTn id="446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4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448" dur="1" nodeType="afterEffect" fill="hold">
                              <p:stCondLst>
                                <p:cond evt="end">
                                  <p:tn val="445"/>
                                </p:cond>
                              </p:stCondLst>
                            </p:cTn>
                            <p:tgtEl>
                              <p:spTgt spid="125">
                                <p:txEl>
                                  <p:pRg st="12" end="12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449" fill="hold">
                            <p:stCondLst>
                              <p:cond delay="28013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5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452" dur="1" nodeType="afterEffect" fill="hold">
                              <p:stCondLst>
                                <p:cond evt="end">
                                  <p:tn val="449"/>
                                </p:cond>
                              </p:stCondLst>
                            </p:cTn>
                            <p:tgtEl>
                              <p:spTgt spid="125">
                                <p:txEl>
                                  <p:pRg st="13" end="13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0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1720" indent="-53172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5000"/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éparation du projet : Jusqu’à Ju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1720" indent="-53172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5000"/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ormation du C1 : Septemb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1720" indent="-53172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5000"/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ilan C1 &amp; C2 : Décembre 20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1720" indent="-53172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5000"/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écision &amp; Communication : Janvier 200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1720" indent="-53172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5000"/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ise en œuvre d’un basculement : Mars 2006 – Décembre 200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1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459" dur="1" nodeType="clickEffect" fill="hold">
                              <p:stCondLst>
                                <p:cond evt="end">
                                  <p:tn val="456"/>
                                </p:cond>
                              </p:stCondLst>
                            </p:cTn>
                            <p:tgtEl>
                              <p:spTgt spid="127"/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460" fill="hold">
                            <p:stCondLst>
                              <p:cond delay="2000"/>
                            </p:stCondLst>
                            <p:childTnLst>
                              <p:par>
                                <p:cTn id="46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6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463" dur="1" nodeType="afterEffect" fill="hold">
                              <p:stCondLst>
                                <p:cond evt="end">
                                  <p:tn val="460"/>
                                </p:cond>
                              </p:stCondLst>
                            </p:cTn>
                            <p:tgtEl>
                              <p:spTgt spid="127">
                                <p:txEl>
                                  <p:pRg st="0" end="0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464" fill="hold">
                            <p:stCondLst>
                              <p:cond delay="4000"/>
                            </p:stCondLst>
                            <p:childTnLst>
                              <p:par>
                                <p:cTn id="465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6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467" dur="1" nodeType="afterEffect" fill="hold">
                              <p:stCondLst>
                                <p:cond evt="end">
                                  <p:tn val="464"/>
                                </p:cond>
                              </p:stCondLst>
                            </p:cTn>
                            <p:tgtEl>
                              <p:spTgt spid="127">
                                <p:txEl>
                                  <p:pRg st="1" end="1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468" fill="hold">
                            <p:stCondLst>
                              <p:cond delay="6001"/>
                            </p:stCondLst>
                            <p:childTnLst>
                              <p:par>
                                <p:cTn id="469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7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471" dur="1" nodeType="afterEffect" fill="hold">
                              <p:stCondLst>
                                <p:cond evt="end">
                                  <p:tn val="468"/>
                                </p:cond>
                              </p:stCondLst>
                            </p:cTn>
                            <p:tgtEl>
                              <p:spTgt spid="127">
                                <p:txEl>
                                  <p:pRg st="2" end="2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472" fill="hold">
                            <p:stCondLst>
                              <p:cond delay="8002"/>
                            </p:stCondLst>
                            <p:childTnLst>
                              <p:par>
                                <p:cTn id="473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7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475" dur="1" nodeType="afterEffect" fill="hold">
                              <p:stCondLst>
                                <p:cond evt="end">
                                  <p:tn val="472"/>
                                </p:cond>
                              </p:stCondLst>
                            </p:cTn>
                            <p:tgtEl>
                              <p:spTgt spid="127">
                                <p:txEl>
                                  <p:pRg st="3" end="3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476" fill="hold">
                            <p:stCondLst>
                              <p:cond delay="10003"/>
                            </p:stCondLst>
                            <p:childTnLst>
                              <p:par>
                                <p:cTn id="477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7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479" dur="1" nodeType="afterEffect" fill="hold">
                              <p:stCondLst>
                                <p:cond evt="end">
                                  <p:tn val="476"/>
                                </p:cond>
                              </p:stCondLst>
                            </p:cTn>
                            <p:tgtEl>
                              <p:spTgt spid="127">
                                <p:txEl>
                                  <p:pRg st="4" end="4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480" fill="hold">
                            <p:stCondLst>
                              <p:cond delay="12004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8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483" dur="1" nodeType="afterEffect" fill="hold">
                              <p:stCondLst>
                                <p:cond evt="end">
                                  <p:tn val="480"/>
                                </p:cond>
                              </p:stCondLst>
                            </p:cTn>
                            <p:tgtEl>
                              <p:spTgt spid="127">
                                <p:txEl>
                                  <p:pRg st="5" end="5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484" fill="hold">
                            <p:stCondLst>
                              <p:cond delay="14005"/>
                            </p:stCondLst>
                            <p:childTnLst>
                              <p:par>
                                <p:cTn id="485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8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487" dur="1" nodeType="afterEffect" fill="hold">
                              <p:stCondLst>
                                <p:cond evt="end">
                                  <p:tn val="484"/>
                                </p:cond>
                              </p:stCondLst>
                            </p:cTn>
                            <p:tgtEl>
                              <p:spTgt spid="127">
                                <p:txEl>
                                  <p:pRg st="6" end="6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790200"/>
            <a:ext cx="5842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Openoffice.or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26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5000"/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ible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247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247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247760" indent="-457200" algn="ctr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ous les postes équipés de la suite Open Office le 31 / 12 / 200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247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494" dur="1" nodeType="clickEffect" fill="hold">
                              <p:stCondLst>
                                <p:cond evt="end">
                                  <p:tn val="491"/>
                                </p:cond>
                              </p:stCondLst>
                            </p:cTn>
                            <p:tgtEl>
                              <p:spTgt spid="129"/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495" fill="hold">
                            <p:stCondLst>
                              <p:cond delay="2000"/>
                            </p:stCondLst>
                            <p:childTnLst>
                              <p:par>
                                <p:cTn id="496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9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498" dur="1" nodeType="afterEffect" fill="hold">
                              <p:stCondLst>
                                <p:cond evt="end">
                                  <p:tn val="495"/>
                                </p:cond>
                              </p:stCondLst>
                            </p:cTn>
                            <p:tgtEl>
                              <p:spTgt spid="129">
                                <p:txEl>
                                  <p:pRg st="0" end="0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499" fill="hold">
                            <p:stCondLst>
                              <p:cond delay="4000"/>
                            </p:stCondLst>
                            <p:childTnLst>
                              <p:par>
                                <p:cTn id="500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50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502" dur="1" nodeType="afterEffect" fill="hold">
                              <p:stCondLst>
                                <p:cond evt="end">
                                  <p:tn val="499"/>
                                </p:cond>
                              </p:stCondLst>
                            </p:cTn>
                            <p:tgtEl>
                              <p:spTgt spid="129">
                                <p:txEl>
                                  <p:pRg st="1" end="1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503" fill="hold">
                            <p:stCondLst>
                              <p:cond delay="6001"/>
                            </p:stCondLst>
                            <p:childTnLst>
                              <p:par>
                                <p:cTn id="504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50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506" dur="1" nodeType="afterEffect" fill="hold">
                              <p:stCondLst>
                                <p:cond evt="end">
                                  <p:tn val="503"/>
                                </p:cond>
                              </p:stCondLst>
                            </p:cTn>
                            <p:tgtEl>
                              <p:spTgt spid="129">
                                <p:txEl>
                                  <p:pRg st="2" end="2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507" fill="hold">
                            <p:stCondLst>
                              <p:cond delay="8002"/>
                            </p:stCondLst>
                            <p:childTnLst>
                              <p:par>
                                <p:cTn id="50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50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510" dur="1" nodeType="afterEffect" fill="hold">
                              <p:stCondLst>
                                <p:cond evt="end">
                                  <p:tn val="507"/>
                                </p:cond>
                              </p:stCondLst>
                            </p:cTn>
                            <p:tgtEl>
                              <p:spTgt spid="129">
                                <p:txEl>
                                  <p:pRg st="3" end="3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511" fill="hold">
                            <p:stCondLst>
                              <p:cond delay="10003"/>
                            </p:stCondLst>
                            <p:childTnLst>
                              <p:par>
                                <p:cTn id="512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51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514" dur="1" nodeType="afterEffect" fill="hold">
                              <p:stCondLst>
                                <p:cond evt="end">
                                  <p:tn val="511"/>
                                </p:cond>
                              </p:stCondLst>
                            </p:cTn>
                            <p:tgtEl>
                              <p:spTgt spid="129"/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penOffice.or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6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1720" indent="-53172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5000"/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ancement d’une expérimentation grandeur réell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1720" indent="-53172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5000"/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40 utilisateurs concerné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1720" indent="-53172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5000"/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bjectif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247760" indent="-4572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esurer les conséquences d’un déploiement généralis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247760" indent="-4572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ettre en situation réelle un service déconcentr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1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380360" y="1052640"/>
            <a:ext cx="1380960" cy="10382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354720" y="955800"/>
            <a:ext cx="946080" cy="116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26" dur="1" nodeType="clickEffect" fill="hold">
                              <p:stCondLst>
                                <p:cond evt="end">
                                  <p:tn val="23"/>
                                </p:cond>
                              </p:stCondLst>
                            </p:cTn>
                            <p:tgtEl>
                              <p:spTgt spid="103"/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30" dur="1" nodeType="afterEffect" fill="hold">
                              <p:stCondLst>
                                <p:cond evt="end">
                                  <p:tn val="27"/>
                                </p:cond>
                              </p:stCondLst>
                            </p:cTn>
                            <p:tgtEl>
                              <p:spTgt spid="103">
                                <p:txEl>
                                  <p:pRg st="0" end="0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34" dur="1" nodeType="afterEffect" fill="hold">
                              <p:stCondLst>
                                <p:cond evt="end">
                                  <p:tn val="31"/>
                                </p:cond>
                              </p:stCondLst>
                            </p:cTn>
                            <p:tgtEl>
                              <p:spTgt spid="103">
                                <p:txEl>
                                  <p:pRg st="1" end="1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35" fill="hold">
                            <p:stCondLst>
                              <p:cond delay="6001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38" dur="1" nodeType="afterEffect" fill="hold">
                              <p:stCondLst>
                                <p:cond evt="end">
                                  <p:tn val="35"/>
                                </p:cond>
                              </p:stCondLst>
                            </p:cTn>
                            <p:tgtEl>
                              <p:spTgt spid="103">
                                <p:txEl>
                                  <p:pRg st="3" end="3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39" fill="hold">
                            <p:stCondLst>
                              <p:cond delay="8002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42" dur="1" nodeType="afterEffect" fill="hold">
                              <p:stCondLst>
                                <p:cond evt="end">
                                  <p:tn val="39"/>
                                </p:cond>
                              </p:stCondLst>
                            </p:cTn>
                            <p:tgtEl>
                              <p:spTgt spid="103">
                                <p:txEl>
                                  <p:pRg st="4" end="4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43" fill="hold">
                            <p:stCondLst>
                              <p:cond delay="10003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46" dur="1" nodeType="afterEffect" fill="hold">
                              <p:stCondLst>
                                <p:cond evt="end">
                                  <p:tn val="43"/>
                                </p:cond>
                              </p:stCondLst>
                            </p:cTn>
                            <p:tgtEl>
                              <p:spTgt spid="103">
                                <p:txEl>
                                  <p:pRg st="5" end="5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47" fill="hold">
                            <p:stCondLst>
                              <p:cond delay="12004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50" dur="1" nodeType="afterEffect" fill="hold">
                              <p:stCondLst>
                                <p:cond evt="end">
                                  <p:tn val="47"/>
                                </p:cond>
                              </p:stCondLst>
                            </p:cTn>
                            <p:tgtEl>
                              <p:spTgt spid="103">
                                <p:txEl>
                                  <p:pRg st="6" end="6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51" fill="hold">
                            <p:stCondLst>
                              <p:cond delay="14005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5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54" dur="1" nodeType="afterEffect" fill="hold">
                              <p:stCondLst>
                                <p:cond evt="end">
                                  <p:tn val="51"/>
                                </p:cond>
                              </p:stCondLst>
                            </p:cTn>
                            <p:tgtEl>
                              <p:spTgt spid="103"/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90200"/>
            <a:ext cx="5842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Openoffice.or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4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5000"/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ntexte de l’expéri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247760" indent="-4572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eptembre 2003 -&gt; Avril 2004 : 8 mo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247760" indent="-4572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écédents tests peu concluant sur Star Off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247760" indent="-4572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ccompagnement financier de l’AC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881360" indent="-452520">
              <a:lnSpc>
                <a:spcPct val="10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mation (Société Eikonex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881360" indent="-452520">
              <a:lnSpc>
                <a:spcPct val="10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enouvellement parc informatiq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881360" indent="-452520">
              <a:lnSpc>
                <a:spcPct val="10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ise en œuvre d’un serveur bureautiq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247760" indent="-4572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nforcement de l’équipe informatiq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881360" indent="-452520">
              <a:lnSpc>
                <a:spcPct val="10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éploiement matéri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881360" indent="-452520">
              <a:lnSpc>
                <a:spcPct val="10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outien aux utilisateu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881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61" dur="1" nodeType="clickEffect" fill="hold">
                              <p:stCondLst>
                                <p:cond evt="end">
                                  <p:tn val="58"/>
                                </p:cond>
                              </p:stCondLst>
                            </p:cTn>
                            <p:tgtEl>
                              <p:spTgt spid="107"/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6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65" dur="1" nodeType="afterEffect" fill="hold">
                              <p:stCondLst>
                                <p:cond evt="end">
                                  <p:tn val="62"/>
                                </p:cond>
                              </p:stCondLst>
                            </p:cTn>
                            <p:tgtEl>
                              <p:spTgt spid="107">
                                <p:txEl>
                                  <p:pRg st="0" end="0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66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6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69" dur="1" nodeType="afterEffect" fill="hold">
                              <p:stCondLst>
                                <p:cond evt="end">
                                  <p:tn val="66"/>
                                </p:cond>
                              </p:stCondLst>
                            </p:cTn>
                            <p:tgtEl>
                              <p:spTgt spid="107">
                                <p:txEl>
                                  <p:pRg st="1" end="1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70" fill="hold">
                            <p:stCondLst>
                              <p:cond delay="6001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7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73" dur="1" nodeType="afterEffect" fill="hold">
                              <p:stCondLst>
                                <p:cond evt="end">
                                  <p:tn val="70"/>
                                </p:cond>
                              </p:stCondLst>
                            </p:cTn>
                            <p:tgtEl>
                              <p:spTgt spid="107">
                                <p:txEl>
                                  <p:pRg st="2" end="2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74" fill="hold">
                            <p:stCondLst>
                              <p:cond delay="8002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7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77" dur="1" nodeType="afterEffect" fill="hold">
                              <p:stCondLst>
                                <p:cond evt="end">
                                  <p:tn val="74"/>
                                </p:cond>
                              </p:stCondLst>
                            </p:cTn>
                            <p:tgtEl>
                              <p:spTgt spid="107">
                                <p:txEl>
                                  <p:pRg st="3" end="3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78" fill="hold">
                            <p:stCondLst>
                              <p:cond delay="10003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8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81" dur="1" nodeType="afterEffect" fill="hold">
                              <p:stCondLst>
                                <p:cond evt="end">
                                  <p:tn val="78"/>
                                </p:cond>
                              </p:stCondLst>
                            </p:cTn>
                            <p:tgtEl>
                              <p:spTgt spid="107">
                                <p:txEl>
                                  <p:pRg st="4" end="4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82" fill="hold">
                            <p:stCondLst>
                              <p:cond delay="12004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8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85" dur="1" nodeType="afterEffect" fill="hold">
                              <p:stCondLst>
                                <p:cond evt="end">
                                  <p:tn val="82"/>
                                </p:cond>
                              </p:stCondLst>
                            </p:cTn>
                            <p:tgtEl>
                              <p:spTgt spid="107">
                                <p:txEl>
                                  <p:pRg st="5" end="5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86" fill="hold">
                            <p:stCondLst>
                              <p:cond delay="14005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8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89" dur="1" nodeType="afterEffect" fill="hold">
                              <p:stCondLst>
                                <p:cond evt="end">
                                  <p:tn val="86"/>
                                </p:cond>
                              </p:stCondLst>
                            </p:cTn>
                            <p:tgtEl>
                              <p:spTgt spid="107">
                                <p:txEl>
                                  <p:pRg st="6" end="6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90" fill="hold">
                            <p:stCondLst>
                              <p:cond delay="16006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9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93" dur="1" nodeType="afterEffect" fill="hold">
                              <p:stCondLst>
                                <p:cond evt="end">
                                  <p:tn val="90"/>
                                </p:cond>
                              </p:stCondLst>
                            </p:cTn>
                            <p:tgtEl>
                              <p:spTgt spid="107">
                                <p:txEl>
                                  <p:pRg st="7" end="7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94" fill="hold">
                            <p:stCondLst>
                              <p:cond delay="18008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9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97" dur="1" nodeType="afterEffect" fill="hold">
                              <p:stCondLst>
                                <p:cond evt="end">
                                  <p:tn val="94"/>
                                </p:cond>
                              </p:stCondLst>
                            </p:cTn>
                            <p:tgtEl>
                              <p:spTgt spid="107">
                                <p:txEl>
                                  <p:pRg st="8" end="8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98" fill="hold">
                            <p:stCondLst>
                              <p:cond delay="20009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0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101" dur="1" nodeType="afterEffect" fill="hold">
                              <p:stCondLst>
                                <p:cond evt="end">
                                  <p:tn val="98"/>
                                </p:cond>
                              </p:stCondLst>
                            </p:cTn>
                            <p:tgtEl>
                              <p:spTgt spid="107">
                                <p:txEl>
                                  <p:pRg st="9" end="9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102" fill="hold">
                            <p:stCondLst>
                              <p:cond delay="2201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0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105" dur="1" nodeType="afterEffect" fill="hold">
                              <p:stCondLst>
                                <p:cond evt="end">
                                  <p:tn val="102"/>
                                </p:cond>
                              </p:stCondLst>
                            </p:cTn>
                            <p:tgtEl>
                              <p:spTgt spid="107">
                                <p:txEl>
                                  <p:pRg st="10" end="10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790200"/>
            <a:ext cx="5842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Openoffice.or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71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5000"/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e proj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247760" indent="-4572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nquête sur le niveau de formation initial des utilisate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247760" indent="-4572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ormation de formateurs et des expérimentate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247760" indent="-4572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ise en œuvre d’une assistance (Appui, FAQ, et soutien physiqu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247760" indent="-4572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s deux suites sont laissées sur le pos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247760" indent="-4572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ravail sur les formats de doc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247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247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112" dur="1" nodeType="clickEffect" fill="hold">
                              <p:stCondLst>
                                <p:cond evt="end">
                                  <p:tn val="109"/>
                                </p:cond>
                              </p:stCondLst>
                            </p:cTn>
                            <p:tgtEl>
                              <p:spTgt spid="109"/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1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116" dur="1" nodeType="afterEffect" fill="hold">
                              <p:stCondLst>
                                <p:cond evt="end">
                                  <p:tn val="113"/>
                                </p:cond>
                              </p:stCondLst>
                            </p:cTn>
                            <p:tgtEl>
                              <p:spTgt spid="109">
                                <p:txEl>
                                  <p:pRg st="0" end="0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1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1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120" dur="1" nodeType="afterEffect" fill="hold">
                              <p:stCondLst>
                                <p:cond evt="end">
                                  <p:tn val="117"/>
                                </p:cond>
                              </p:stCondLst>
                            </p:cTn>
                            <p:tgtEl>
                              <p:spTgt spid="109">
                                <p:txEl>
                                  <p:pRg st="1" end="1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121" fill="hold">
                            <p:stCondLst>
                              <p:cond delay="6001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2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124" dur="1" nodeType="afterEffect" fill="hold">
                              <p:stCondLst>
                                <p:cond evt="end">
                                  <p:tn val="121"/>
                                </p:cond>
                              </p:stCondLst>
                            </p:cTn>
                            <p:tgtEl>
                              <p:spTgt spid="109">
                                <p:txEl>
                                  <p:pRg st="2" end="2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125" fill="hold">
                            <p:stCondLst>
                              <p:cond delay="8002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2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128" dur="1" nodeType="afterEffect" fill="hold">
                              <p:stCondLst>
                                <p:cond evt="end">
                                  <p:tn val="125"/>
                                </p:cond>
                              </p:stCondLst>
                            </p:cTn>
                            <p:tgtEl>
                              <p:spTgt spid="109">
                                <p:txEl>
                                  <p:pRg st="3" end="3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129" fill="hold">
                            <p:stCondLst>
                              <p:cond delay="10003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3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132" dur="1" nodeType="afterEffect" fill="hold">
                              <p:stCondLst>
                                <p:cond evt="end">
                                  <p:tn val="129"/>
                                </p:cond>
                              </p:stCondLst>
                            </p:cTn>
                            <p:tgtEl>
                              <p:spTgt spid="109">
                                <p:txEl>
                                  <p:pRg st="4" end="4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133" fill="hold">
                            <p:stCondLst>
                              <p:cond delay="12004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3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136" dur="1" nodeType="afterEffect" fill="hold">
                              <p:stCondLst>
                                <p:cond evt="end">
                                  <p:tn val="133"/>
                                </p:cond>
                              </p:stCondLst>
                            </p:cTn>
                            <p:tgtEl>
                              <p:spTgt spid="109">
                                <p:txEl>
                                  <p:pRg st="5" end="5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137" fill="hold">
                            <p:stCondLst>
                              <p:cond delay="14005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3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140" dur="1" nodeType="afterEffect" fill="hold">
                              <p:stCondLst>
                                <p:cond evt="end">
                                  <p:tn val="137"/>
                                </p:cond>
                              </p:stCondLst>
                            </p:cTn>
                            <p:tgtEl>
                              <p:spTgt spid="109">
                                <p:txEl>
                                  <p:pRg st="6" end="6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141" fill="hold">
                            <p:stCondLst>
                              <p:cond delay="16006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4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144" dur="1" nodeType="afterEffect" fill="hold">
                              <p:stCondLst>
                                <p:cond evt="end">
                                  <p:tn val="141"/>
                                </p:cond>
                              </p:stCondLst>
                            </p:cTn>
                            <p:tgtEl>
                              <p:spTgt spid="109">
                                <p:txEl>
                                  <p:pRg st="7" end="7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790200"/>
            <a:ext cx="5842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Openoffice.or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4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6320" indent="-52632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5000"/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nst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235160" indent="-45252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s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applications nationales sont liées à Ms Office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(62% de postes équipés de MS Office comme outil d’éditiqu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235160" indent="-45252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Quelques applications spécifiques nécessitant MS Excel (domaine statistique p. ex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235160" indent="-45252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entiments utilisateu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862280" indent="-447840">
              <a:lnSpc>
                <a:spcPct val="10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ès légère dégradation / Office 97 (n’empêche pas le fonctionnemen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862280" indent="-447840">
              <a:lnSpc>
                <a:spcPct val="10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Accepter d’avoir un parc hétérogène (et OO et Offic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862280" indent="-447840">
              <a:lnSpc>
                <a:spcPct val="10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nt eu l’occasion à nouveau de se form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235160" indent="-45252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mplication importante du comité de direction dans la démarch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151" dur="1" nodeType="clickEffect" fill="hold">
                              <p:stCondLst>
                                <p:cond evt="end">
                                  <p:tn val="148"/>
                                </p:cond>
                              </p:stCondLst>
                            </p:cTn>
                            <p:tgtEl>
                              <p:spTgt spid="111"/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5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155" dur="1" nodeType="afterEffect" fill="hold">
                              <p:stCondLst>
                                <p:cond evt="end">
                                  <p:tn val="152"/>
                                </p:cond>
                              </p:stCondLst>
                            </p:cTn>
                            <p:tgtEl>
                              <p:spTgt spid="111">
                                <p:txEl>
                                  <p:pRg st="0" end="0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156" fill="hold">
                            <p:stCondLst>
                              <p:cond delay="40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5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159" dur="1" nodeType="afterEffect" fill="hold">
                              <p:stCondLst>
                                <p:cond evt="end">
                                  <p:tn val="156"/>
                                </p:cond>
                              </p:stCondLst>
                            </p:cTn>
                            <p:tgtEl>
                              <p:spTgt spid="111">
                                <p:txEl>
                                  <p:pRg st="1" end="1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160" fill="hold">
                            <p:stCondLst>
                              <p:cond delay="6001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6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163" dur="1" nodeType="afterEffect" fill="hold">
                              <p:stCondLst>
                                <p:cond evt="end">
                                  <p:tn val="160"/>
                                </p:cond>
                              </p:stCondLst>
                            </p:cTn>
                            <p:tgtEl>
                              <p:spTgt spid="111">
                                <p:txEl>
                                  <p:pRg st="2" end="2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164" fill="hold">
                            <p:stCondLst>
                              <p:cond delay="8002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6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167" dur="1" nodeType="afterEffect" fill="hold">
                              <p:stCondLst>
                                <p:cond evt="end">
                                  <p:tn val="164"/>
                                </p:cond>
                              </p:stCondLst>
                            </p:cTn>
                            <p:tgtEl>
                              <p:spTgt spid="111">
                                <p:txEl>
                                  <p:pRg st="3" end="3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168" fill="hold">
                            <p:stCondLst>
                              <p:cond delay="10003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7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171" dur="1" nodeType="afterEffect" fill="hold">
                              <p:stCondLst>
                                <p:cond evt="end">
                                  <p:tn val="168"/>
                                </p:cond>
                              </p:stCondLst>
                            </p:cTn>
                            <p:tgtEl>
                              <p:spTgt spid="111">
                                <p:txEl>
                                  <p:pRg st="4" end="4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172" fill="hold">
                            <p:stCondLst>
                              <p:cond delay="12004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7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175" dur="1" nodeType="afterEffect" fill="hold">
                              <p:stCondLst>
                                <p:cond evt="end">
                                  <p:tn val="172"/>
                                </p:cond>
                              </p:stCondLst>
                            </p:cTn>
                            <p:tgtEl>
                              <p:spTgt spid="111">
                                <p:txEl>
                                  <p:pRg st="5" end="5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176" fill="hold">
                            <p:stCondLst>
                              <p:cond delay="14005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7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179" dur="1" nodeType="afterEffect" fill="hold">
                              <p:stCondLst>
                                <p:cond evt="end">
                                  <p:tn val="176"/>
                                </p:cond>
                              </p:stCondLst>
                            </p:cTn>
                            <p:tgtEl>
                              <p:spTgt spid="111">
                                <p:txEl>
                                  <p:pRg st="6" end="6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180" fill="hold">
                            <p:stCondLst>
                              <p:cond delay="16006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8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183" dur="1" nodeType="afterEffect" fill="hold">
                              <p:stCondLst>
                                <p:cond evt="end">
                                  <p:tn val="180"/>
                                </p:cond>
                              </p:stCondLst>
                            </p:cTn>
                            <p:tgtEl>
                              <p:spTgt spid="111">
                                <p:txEl>
                                  <p:pRg st="7" end="7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790200"/>
            <a:ext cx="5842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Openoffice.or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384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5000"/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nst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247760" indent="-4572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Format de fich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881360" indent="-452520">
              <a:lnSpc>
                <a:spcPct val="10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tilisation du PDF dès que poss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881360" indent="-452520">
              <a:lnSpc>
                <a:spcPct val="10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tilisation du format .doc en pivot des échan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247760" indent="-4572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tégrité des échang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881360" indent="-452520">
              <a:lnSpc>
                <a:spcPct val="10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Quelques soucis (graphiques, modèle de docume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1720" indent="-53172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5000"/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Constat global positi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1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190" dur="1" nodeType="clickEffect" fill="hold">
                              <p:stCondLst>
                                <p:cond evt="end">
                                  <p:tn val="187"/>
                                </p:cond>
                              </p:stCondLst>
                            </p:cTn>
                            <p:tgtEl>
                              <p:spTgt spid="113"/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9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194" dur="1" nodeType="afterEffect" fill="hold">
                              <p:stCondLst>
                                <p:cond evt="end">
                                  <p:tn val="191"/>
                                </p:cond>
                              </p:stCondLst>
                            </p:cTn>
                            <p:tgtEl>
                              <p:spTgt spid="113">
                                <p:txEl>
                                  <p:pRg st="0" end="0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195" fill="hold">
                            <p:stCondLst>
                              <p:cond delay="40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9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198" dur="1" nodeType="afterEffect" fill="hold">
                              <p:stCondLst>
                                <p:cond evt="end">
                                  <p:tn val="195"/>
                                </p:cond>
                              </p:stCondLst>
                            </p:cTn>
                            <p:tgtEl>
                              <p:spTgt spid="113">
                                <p:txEl>
                                  <p:pRg st="1" end="1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199" fill="hold">
                            <p:stCondLst>
                              <p:cond delay="6001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0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202" dur="1" nodeType="afterEffect" fill="hold">
                              <p:stCondLst>
                                <p:cond evt="end">
                                  <p:tn val="199"/>
                                </p:cond>
                              </p:stCondLst>
                            </p:cTn>
                            <p:tgtEl>
                              <p:spTgt spid="113">
                                <p:txEl>
                                  <p:pRg st="2" end="2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203" fill="hold">
                            <p:stCondLst>
                              <p:cond delay="8002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0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206" dur="1" nodeType="afterEffect" fill="hold">
                              <p:stCondLst>
                                <p:cond evt="end">
                                  <p:tn val="203"/>
                                </p:cond>
                              </p:stCondLst>
                            </p:cTn>
                            <p:tgtEl>
                              <p:spTgt spid="113">
                                <p:txEl>
                                  <p:pRg st="3" end="3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207" fill="hold">
                            <p:stCondLst>
                              <p:cond delay="10003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0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210" dur="1" nodeType="afterEffect" fill="hold">
                              <p:stCondLst>
                                <p:cond evt="end">
                                  <p:tn val="207"/>
                                </p:cond>
                              </p:stCondLst>
                            </p:cTn>
                            <p:tgtEl>
                              <p:spTgt spid="113">
                                <p:txEl>
                                  <p:pRg st="4" end="4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211" fill="hold">
                            <p:stCondLst>
                              <p:cond delay="12004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1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214" dur="1" nodeType="afterEffect" fill="hold">
                              <p:stCondLst>
                                <p:cond evt="end">
                                  <p:tn val="211"/>
                                </p:cond>
                              </p:stCondLst>
                            </p:cTn>
                            <p:tgtEl>
                              <p:spTgt spid="113">
                                <p:txEl>
                                  <p:pRg st="5" end="5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215" fill="hold">
                            <p:stCondLst>
                              <p:cond delay="14005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1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218" dur="1" nodeType="afterEffect" fill="hold">
                              <p:stCondLst>
                                <p:cond evt="end">
                                  <p:tn val="215"/>
                                </p:cond>
                              </p:stCondLst>
                            </p:cTn>
                            <p:tgtEl>
                              <p:spTgt spid="113">
                                <p:txEl>
                                  <p:pRg st="6" end="6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219" fill="hold">
                            <p:stCondLst>
                              <p:cond delay="16006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2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222" dur="1" nodeType="afterEffect" fill="hold">
                              <p:stCondLst>
                                <p:cond evt="end">
                                  <p:tn val="219"/>
                                </p:cond>
                              </p:stCondLst>
                            </p:cTn>
                            <p:tgtEl>
                              <p:spTgt spid="113">
                                <p:txEl>
                                  <p:pRg st="7" end="7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790200"/>
            <a:ext cx="5842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Openoffice.or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5000"/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a suite des travau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247760" indent="-4572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Validation d’une extension de l’expérimentation à la DGA : Accord du Directeur général de l’administ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247760" indent="-4572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aison du choix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881360" indent="-452520">
              <a:lnSpc>
                <a:spcPct val="10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eu d’applications nationales impactant le poste de travai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881360" indent="-452520">
              <a:lnSpc>
                <a:spcPct val="10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nvoi de documents aux services =  opportunité de travailler sur les formats de documents à utilis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247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1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229" dur="1" nodeType="clickEffect" fill="hold">
                              <p:stCondLst>
                                <p:cond evt="end">
                                  <p:tn val="226"/>
                                </p:cond>
                              </p:stCondLst>
                            </p:cTn>
                            <p:tgtEl>
                              <p:spTgt spid="115"/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3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233" dur="1" nodeType="afterEffect" fill="hold">
                              <p:stCondLst>
                                <p:cond evt="end">
                                  <p:tn val="230"/>
                                </p:cond>
                              </p:stCondLst>
                            </p:cTn>
                            <p:tgtEl>
                              <p:spTgt spid="115">
                                <p:txEl>
                                  <p:pRg st="0" end="0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234" fill="hold">
                            <p:stCondLst>
                              <p:cond delay="400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3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237" dur="1" nodeType="afterEffect" fill="hold">
                              <p:stCondLst>
                                <p:cond evt="end">
                                  <p:tn val="234"/>
                                </p:cond>
                              </p:stCondLst>
                            </p:cTn>
                            <p:tgtEl>
                              <p:spTgt spid="115">
                                <p:txEl>
                                  <p:pRg st="1" end="1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238" fill="hold">
                            <p:stCondLst>
                              <p:cond delay="6001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4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241" dur="1" nodeType="afterEffect" fill="hold">
                              <p:stCondLst>
                                <p:cond evt="end">
                                  <p:tn val="238"/>
                                </p:cond>
                              </p:stCondLst>
                            </p:cTn>
                            <p:tgtEl>
                              <p:spTgt spid="115">
                                <p:txEl>
                                  <p:pRg st="2" end="2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242" fill="hold">
                            <p:stCondLst>
                              <p:cond delay="8002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4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245" dur="1" nodeType="afterEffect" fill="hold">
                              <p:stCondLst>
                                <p:cond evt="end">
                                  <p:tn val="242"/>
                                </p:cond>
                              </p:stCondLst>
                            </p:cTn>
                            <p:tgtEl>
                              <p:spTgt spid="115">
                                <p:txEl>
                                  <p:pRg st="3" end="3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246" fill="hold">
                            <p:stCondLst>
                              <p:cond delay="10003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4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249" dur="1" nodeType="afterEffect" fill="hold">
                              <p:stCondLst>
                                <p:cond evt="end">
                                  <p:tn val="246"/>
                                </p:cond>
                              </p:stCondLst>
                            </p:cTn>
                            <p:tgtEl>
                              <p:spTgt spid="115">
                                <p:txEl>
                                  <p:pRg st="4" end="4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250" fill="hold">
                            <p:stCondLst>
                              <p:cond delay="12004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5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253" dur="1" nodeType="afterEffect" fill="hold">
                              <p:stCondLst>
                                <p:cond evt="end">
                                  <p:tn val="250"/>
                                </p:cond>
                              </p:stCondLst>
                            </p:cTn>
                            <p:tgtEl>
                              <p:spTgt spid="115">
                                <p:txEl>
                                  <p:pRg st="5" end="5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254" fill="hold">
                            <p:stCondLst>
                              <p:cond delay="14005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5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257" dur="1" nodeType="afterEffect" fill="hold">
                              <p:stCondLst>
                                <p:cond evt="end">
                                  <p:tn val="254"/>
                                </p:cond>
                              </p:stCondLst>
                            </p:cTn>
                            <p:tgtEl>
                              <p:spTgt spid="115">
                                <p:txEl>
                                  <p:pRg st="6" end="6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penOffice.or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-53172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125000"/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bjectifs poursuivis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24776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nvaincre les membres du comité de direction en associant leurs utilisateurs 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24776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ofiter de cette extension pour consolider les méthodes d’accompagnement du changement  qui seront fournies aux autres services 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24776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Être exemplaire par rapport aux autres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24776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pécifier les formats de documents précis à utili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24776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éduction de la charge « licences » à service équival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247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247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264" dur="1" nodeType="clickEffect" fill="hold">
                              <p:stCondLst>
                                <p:cond evt="end">
                                  <p:tn val="261"/>
                                </p:cond>
                              </p:stCondLst>
                            </p:cTn>
                            <p:tgtEl>
                              <p:spTgt spid="117"/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6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268" dur="1" nodeType="afterEffect" fill="hold">
                              <p:stCondLst>
                                <p:cond evt="end">
                                  <p:tn val="265"/>
                                </p:cond>
                              </p:stCondLst>
                            </p:cTn>
                            <p:tgtEl>
                              <p:spTgt spid="117">
                                <p:txEl>
                                  <p:pRg st="0" end="0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7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272" dur="1" nodeType="afterEffect" fill="hold">
                              <p:stCondLst>
                                <p:cond evt="end">
                                  <p:tn val="269"/>
                                </p:cond>
                              </p:stCondLst>
                            </p:cTn>
                            <p:tgtEl>
                              <p:spTgt spid="117">
                                <p:txEl>
                                  <p:pRg st="1" end="1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273" fill="hold">
                            <p:stCondLst>
                              <p:cond delay="6001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7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276" dur="1" nodeType="afterEffect" fill="hold">
                              <p:stCondLst>
                                <p:cond evt="end">
                                  <p:tn val="273"/>
                                </p:cond>
                              </p:stCondLst>
                            </p:cTn>
                            <p:tgtEl>
                              <p:spTgt spid="117">
                                <p:txEl>
                                  <p:pRg st="2" end="2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277" fill="hold">
                            <p:stCondLst>
                              <p:cond delay="8002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7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280" dur="1" nodeType="afterEffect" fill="hold">
                              <p:stCondLst>
                                <p:cond evt="end">
                                  <p:tn val="277"/>
                                </p:cond>
                              </p:stCondLst>
                            </p:cTn>
                            <p:tgtEl>
                              <p:spTgt spid="117">
                                <p:txEl>
                                  <p:pRg st="3" end="3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281" fill="hold">
                            <p:stCondLst>
                              <p:cond delay="10003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8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284" dur="1" nodeType="afterEffect" fill="hold">
                              <p:stCondLst>
                                <p:cond evt="end">
                                  <p:tn val="281"/>
                                </p:cond>
                              </p:stCondLst>
                            </p:cTn>
                            <p:tgtEl>
                              <p:spTgt spid="117">
                                <p:txEl>
                                  <p:pRg st="4" end="4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285" fill="hold">
                            <p:stCondLst>
                              <p:cond delay="12004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8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288" dur="1" nodeType="afterEffect" fill="hold">
                              <p:stCondLst>
                                <p:cond evt="end">
                                  <p:tn val="285"/>
                                </p:cond>
                              </p:stCondLst>
                            </p:cTn>
                            <p:tgtEl>
                              <p:spTgt spid="117">
                                <p:txEl>
                                  <p:pRg st="5" end="5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289" fill="hold">
                            <p:stCondLst>
                              <p:cond delay="14005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9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292" dur="1" nodeType="afterEffect" fill="hold">
                              <p:stCondLst>
                                <p:cond evt="end">
                                  <p:tn val="289"/>
                                </p:cond>
                              </p:stCondLst>
                            </p:cTn>
                            <p:tgtEl>
                              <p:spTgt spid="117">
                                <p:txEl>
                                  <p:pRg st="6" end="6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293" fill="hold">
                            <p:stCondLst>
                              <p:cond delay="16006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9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296" dur="1" nodeType="afterEffect" fill="hold">
                              <p:stCondLst>
                                <p:cond evt="end">
                                  <p:tn val="293"/>
                                </p:cond>
                              </p:stCondLst>
                            </p:cTn>
                            <p:tgtEl>
                              <p:spTgt spid="117">
                                <p:txEl>
                                  <p:pRg st="7" end="7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penOffice.or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310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5000"/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e déploi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247760" indent="-4572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ebdings" charset="2"/>
              <a:buChar char="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Cercle :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881360" indent="-452520">
              <a:lnSpc>
                <a:spcPct val="10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(SDDPRS / FORMCO) + (SDLP-BML) + (SDSI / CISI + Dire. &amp; MSDNSI 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881360" indent="-452520">
              <a:lnSpc>
                <a:spcPct val="10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Jusqu’à 100 utilisateurs potentie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881360" indent="-452520">
              <a:lnSpc>
                <a:spcPct val="10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pen office constitue l’outil bureautique quotidi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881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881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303" dur="1" nodeType="clickEffect" fill="hold">
                              <p:stCondLst>
                                <p:cond evt="end">
                                  <p:tn val="300"/>
                                </p:cond>
                              </p:stCondLst>
                            </p:cTn>
                            <p:tgtEl>
                              <p:spTgt spid="119"/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0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307" dur="1" nodeType="afterEffect" fill="hold">
                              <p:stCondLst>
                                <p:cond evt="end">
                                  <p:tn val="304"/>
                                </p:cond>
                              </p:stCondLst>
                            </p:cTn>
                            <p:tgtEl>
                              <p:spTgt spid="119">
                                <p:txEl>
                                  <p:pRg st="0" end="0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308" fill="hold">
                            <p:stCondLst>
                              <p:cond delay="40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1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311" dur="1" nodeType="afterEffect" fill="hold">
                              <p:stCondLst>
                                <p:cond evt="end">
                                  <p:tn val="308"/>
                                </p:cond>
                              </p:stCondLst>
                            </p:cTn>
                            <p:tgtEl>
                              <p:spTgt spid="119">
                                <p:txEl>
                                  <p:pRg st="1" end="1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312" fill="hold">
                            <p:stCondLst>
                              <p:cond delay="6001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1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315" dur="1" nodeType="afterEffect" fill="hold">
                              <p:stCondLst>
                                <p:cond evt="end">
                                  <p:tn val="312"/>
                                </p:cond>
                              </p:stCondLst>
                            </p:cTn>
                            <p:tgtEl>
                              <p:spTgt spid="119">
                                <p:txEl>
                                  <p:pRg st="2" end="2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316" fill="hold">
                            <p:stCondLst>
                              <p:cond delay="8002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1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319" dur="1" nodeType="afterEffect" fill="hold">
                              <p:stCondLst>
                                <p:cond evt="end">
                                  <p:tn val="316"/>
                                </p:cond>
                              </p:stCondLst>
                            </p:cTn>
                            <p:tgtEl>
                              <p:spTgt spid="119">
                                <p:txEl>
                                  <p:pRg st="3" end="3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320" fill="hold">
                            <p:stCondLst>
                              <p:cond delay="10003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2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323" dur="1" nodeType="afterEffect" fill="hold">
                              <p:stCondLst>
                                <p:cond evt="end">
                                  <p:tn val="320"/>
                                </p:cond>
                              </p:stCondLst>
                            </p:cTn>
                            <p:tgtEl>
                              <p:spTgt spid="119">
                                <p:txEl>
                                  <p:pRg st="4" end="4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324" fill="hold">
                            <p:stCondLst>
                              <p:cond delay="12004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2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327" dur="1" nodeType="afterEffect" fill="hold">
                              <p:stCondLst>
                                <p:cond evt="end">
                                  <p:tn val="324"/>
                                </p:cond>
                              </p:stCondLst>
                            </p:cTn>
                            <p:tgtEl>
                              <p:spTgt spid="119">
                                <p:txEl>
                                  <p:pRg st="5" end="5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  <p:par>
                          <p:cTn id="328" fill="hold">
                            <p:stCondLst>
                              <p:cond delay="14005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3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nimClr clrSpc="rgb">
                          <p:cBhvr>
                            <p:cTn id="331" dur="1" nodeType="afterEffect" fill="hold">
                              <p:stCondLst>
                                <p:cond evt="end">
                                  <p:tn val="328"/>
                                </p:cond>
                              </p:stCondLst>
                            </p:cTn>
                            <p:tgtEl>
                              <p:spTgt spid="119">
                                <p:txEl>
                                  <p:pRg st="6" end="6"/>
                                </p:txEl>
                              </p:spTgt>
                            </p:tgtEl>
                            <p:attrNameLst>
                              <p:attrName>ppt_c</p:attrName>
                            </p:attrNameLst>
                          </p:cBhvr>
                          <p:to>
                            <a:srgbClr val="00ffff"/>
                          </p:to>
                        </p:animCl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chel MEYER</cp:lastModifiedBy>
  <dcterms:modified xsi:type="dcterms:W3CDTF">2005-03-09T21:12:41Z</dcterms:modified>
  <cp:revision>4</cp:revision>
  <dc:subject/>
  <dc:title>La suite bureautique du MAAPR</dc:title>
</cp:coreProperties>
</file>