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6A4-A605-40CF-AF1A-A0DD70E9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DE-DA75-4F7E-B147-04474AFE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233-0F24-4F1A-A1EB-148F687C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49E-C846-4C9B-A22F-B56C19EB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409-9296-46C6-9EFB-8F3547B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F7F-EADE-417E-A941-49A91AA3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DF8-BEF4-4DC8-9D02-B852E67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81C-CD4B-4946-9134-70A4DA14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503-0381-4407-99BF-E09E30EA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EEF-B8B5-44F6-B09D-8B160CA4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BAE-46D3-497C-BBA5-A4CC3C0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C1D-41ED-4307-8BB0-CED34AD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CCC5-C776-4025-9E1F-EB2EF8B45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5834160" y="2427120"/>
            <a:ext cx="533160" cy="812880"/>
          </a:xfrm>
          <a:prstGeom prst="pie">
            <a:avLst/>
          </a:prstGeom>
          <a:gradFill rotWithShape="0">
            <a:gsLst>
              <a:gs pos="0">
                <a:srgbClr val="c247ff"/>
              </a:gs>
              <a:gs pos="100000">
                <a:srgbClr val="9a38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987800" y="2427120"/>
            <a:ext cx="936720" cy="122400"/>
          </a:xfrm>
          <a:prstGeom prst="pie">
            <a:avLst/>
          </a:prstGeom>
          <a:gradFill rotWithShape="0">
            <a:gsLst>
              <a:gs pos="0">
                <a:srgbClr val="632482"/>
              </a:gs>
              <a:gs pos="100000">
                <a:srgbClr val="c24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4619520" y="2548080"/>
            <a:ext cx="1581120" cy="691920"/>
          </a:xfrm>
          <a:prstGeom prst="pie">
            <a:avLst/>
          </a:prstGeom>
          <a:gradFill rotWithShape="0">
            <a:gsLst>
              <a:gs pos="0">
                <a:srgbClr val="c247ff"/>
              </a:gs>
              <a:gs pos="100000">
                <a:srgbClr val="e0a3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4"/>
          <p:cNvSpPr/>
          <p:nvPr/>
        </p:nvSpPr>
        <p:spPr>
          <a:xfrm>
            <a:off x="1866960" y="2322360"/>
            <a:ext cx="2706480" cy="118296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1866960" y="3541680"/>
            <a:ext cx="2706480" cy="118260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3124080" y="3192480"/>
            <a:ext cx="1449360" cy="42084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3124080" y="3657600"/>
            <a:ext cx="1449360" cy="420840"/>
          </a:xfrm>
          <a:prstGeom prst="pie">
            <a:avLst/>
          </a:pr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1676520" y="4226040"/>
            <a:ext cx="2984400" cy="16412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2057400" y="1523880"/>
            <a:ext cx="2603520" cy="20034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1:46Z</dcterms:created>
  <dc:creator>Automation</dc:creator>
  <dc:description/>
  <dc:language>en-US</dc:language>
  <cp:lastModifiedBy>Harles Paesüld</cp:lastModifiedBy>
  <dcterms:modified xsi:type="dcterms:W3CDTF">2012-06-09T21:28:01Z</dcterms:modified>
  <cp:revision>4</cp:revision>
  <dc:subject/>
  <dc:title>Slide 1</dc:title>
</cp:coreProperties>
</file>