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8EF-30C8-4844-9C1E-F8D61569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419400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918-F384-44BB-A35F-949176C5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492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B7D-94DE-4460-830F-6FA873E9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96920" y="14475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50840" y="14475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419400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96920" y="419400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50840" y="419400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261-069F-41F5-8389-2E13F403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DCA-AC45-4488-B730-CC25311A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E66-22DB-4BB1-9B3A-5BC7F917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7FC-84AA-4722-80C9-EFFDE08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2D6-7910-4E16-A6A1-7E18A7EE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D77-1099-4FAC-83A4-C542DED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0A8-1275-4034-B38A-56BAD43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4920" y="419400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451-F2D3-4F07-81AF-4CD2225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4920" y="14475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9400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9F5-747B-4D83-95BA-5A30A16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96B9-6345-46C2-A141-2CD86DB0FF01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0"/>
            <a:ext cx="76320" cy="6781680"/>
          </a:xfrm>
          <a:prstGeom prst="rect">
            <a:avLst/>
          </a:prstGeom>
          <a:solidFill>
            <a:srgbClr val="8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1430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2" marL="1085760" indent="-228600"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3" marL="1428840" indent="-228600"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4" marL="1771560" indent="-228600"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5" marL="1771560" indent="-228600">
              <a:spcBef>
                <a:spcPts val="1749"/>
              </a:spcBef>
              <a:buClr>
                <a:srgbClr val="ffff99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  <a:p>
            <a:pPr lvl="6" marL="1771560" indent="-228600">
              <a:spcBef>
                <a:spcPts val="1749"/>
              </a:spcBef>
              <a:buClr>
                <a:srgbClr val="ffff99"/>
              </a:buClr>
              <a:buSzPct val="65000"/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a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31400" cy="95400"/>
          </a:xfrm>
          <a:prstGeom prst="rect">
            <a:avLst/>
          </a:prstGeom>
          <a:solidFill>
            <a:srgbClr val="002ff8"/>
          </a:solidFill>
          <a:ln w="9360">
            <a:solidFill>
              <a:srgbClr val="002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62080"/>
            <a:ext cx="9131400" cy="95400"/>
          </a:xfrm>
          <a:prstGeom prst="rect">
            <a:avLst/>
          </a:prstGeom>
          <a:solidFill>
            <a:srgbClr val="8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0"/>
            <a:ext cx="75960" cy="6781680"/>
          </a:xfrm>
          <a:prstGeom prst="rect">
            <a:avLst/>
          </a:prstGeom>
          <a:solidFill>
            <a:srgbClr val="002ff8"/>
          </a:solidFill>
          <a:ln w="9360">
            <a:solidFill>
              <a:srgbClr val="002f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39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1720" y="228240"/>
            <a:ext cx="7843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60280" y="2028960"/>
            <a:ext cx="7453080" cy="792000"/>
          </a:xfrm>
          <a:prstGeom prst="rect">
            <a:avLst/>
          </a:prstGeom>
          <a:solidFill>
            <a:srgbClr val="ffffa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26000"/>
          </a:bodyPr>
          <a:p>
            <a:pPr marL="8892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Usable Design Tools &amp; Skills</a:t>
            </a:r>
            <a:endParaRPr b="1" lang="en-US" sz="40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f"/>
                </a:solidFill>
                <a:latin typeface="Arial"/>
              </a:rPr>
              <a:t>H. Séquin</a:t>
            </a:r>
            <a:endParaRPr b="1" lang="en-US" sz="2400" spc="-1" strike="noStrike">
              <a:solidFill>
                <a:srgbClr val="ffffaf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f"/>
                </a:solidFill>
                <a:latin typeface="Arial"/>
              </a:rPr>
              <a:t>University of, </a:t>
            </a:r>
            <a:br>
              <a:rPr sz="2400"/>
            </a:br>
            <a:endParaRPr b="1" lang="en-US" sz="2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20:29:09Z</dcterms:created>
  <dc:creator>Carlo Sequin</dc:creator>
  <dc:description/>
  <cp:keywords>t</cp:keywords>
  <dc:language>en-US</dc:language>
  <cp:lastModifiedBy>crystal</cp:lastModifiedBy>
  <cp:lastPrinted>2001-02-24T22:56:08Z</cp:lastPrinted>
  <dcterms:modified xsi:type="dcterms:W3CDTF">2012-06-07T09:37:57Z</dcterms:modified>
  <cp:revision>120</cp:revision>
  <dc:subject>Teaching and Research Program </dc:subject>
  <dc:title>BID Kick-off Meeting</dc:title>
</cp:coreProperties>
</file>