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BB2-0E04-48FC-9E45-32804F69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0C7-F9B6-4AC3-84C1-9BD65883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556-1A52-4312-BB69-93AE6C14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B2E-1180-4F09-91D6-81A11D11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B2E-8179-4955-B641-9F5A1B42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DC6-4B43-486F-AAE6-EC07B80A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72A-126C-4306-BA68-EA688B52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B5E-46E2-4C59-83FC-4D2E41A7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571-9EFA-455E-964A-61E21105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C84-79D4-4B52-9114-CA8112F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E47-504F-4E90-93D8-71D58B0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F00-E4F4-4F6D-BF19-EE3FE1B9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FC76-40EE-47B1-B232-26CBB8B83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401400">
            <a:off x="2895120" y="3504960"/>
            <a:ext cx="3429000" cy="1828800"/>
          </a:xfrm>
          <a:custGeom>
            <a:avLst/>
            <a:gdLst>
              <a:gd name="textAreaLeft" fmla="*/ 1285200 w 3429000"/>
              <a:gd name="textAreaRight" fmla="*/ 2143800 w 3429000"/>
              <a:gd name="textAreaTop" fmla="*/ 33120 h 1828800"/>
              <a:gd name="textAreaBottom" fmla="*/ 94824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400"/>
                </a:moveTo>
                <a:arcTo wR="21600" hR="49763" stAng="-6244122" swAng="656031"/>
                <a:lnTo>
                  <a:pt x="8096" y="391"/>
                </a:lnTo>
                <a:arcTo wR="21600" hR="49763" stAng="-5588091" swAng="376182"/>
                <a:lnTo>
                  <a:pt x="13504" y="4124"/>
                </a:lnTo>
                <a:arcTo wR="21600" hR="49763" stAng="-5211909" swAng="656031"/>
                <a:lnTo>
                  <a:pt x="18900" y="12964"/>
                </a:lnTo>
                <a:lnTo>
                  <a:pt x="21600" y="21600"/>
                </a:lnTo>
                <a:lnTo>
                  <a:pt x="21600" y="21600"/>
                </a:lnTo>
                <a:arcTo wR="21600" hR="49763" stAng="-4555878" swAng="-843846"/>
                <a:lnTo>
                  <a:pt x="10804" y="11200"/>
                </a:lnTo>
                <a:arcTo wR="21600" hR="49763" stAng="-5399724" swAng="-553"/>
                <a:lnTo>
                  <a:pt x="10796" y="14933"/>
                </a:lnTo>
                <a:arcTo wR="21600" hR="49763" stAng="-5400276" swAng="-843846"/>
                <a:lnTo>
                  <a:pt x="2700" y="12964"/>
                </a:lnTo>
                <a:close/>
              </a:path>
              <a:path fill="none" w="21600" h="21600">
                <a:moveTo>
                  <a:pt x="10796" y="11200"/>
                </a:moveTo>
                <a:arcTo wR="21600" hR="49763" stAng="-5400276" swAng="-187815"/>
                <a:lnTo>
                  <a:pt x="10796" y="14933"/>
                </a:lnTo>
              </a:path>
              <a:path fill="none" w="21600" h="21600">
                <a:moveTo>
                  <a:pt x="10804" y="11200"/>
                </a:moveTo>
                <a:arcTo wR="21600" hR="49763" stAng="-5399724" swAng="187815"/>
                <a:lnTo>
                  <a:pt x="10804" y="14933"/>
                </a:lnTo>
              </a:path>
              <a:path fill="none" w="21600" h="21600">
                <a:moveTo>
                  <a:pt x="8096" y="4124"/>
                </a:moveTo>
                <a:lnTo>
                  <a:pt x="8096" y="11591"/>
                </a:lnTo>
              </a:path>
              <a:path fill="none" w="21600" h="21600">
                <a:moveTo>
                  <a:pt x="13504" y="4124"/>
                </a:moveTo>
                <a:lnTo>
                  <a:pt x="13504" y="11591"/>
                </a:lnTo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380880"/>
            <a:ext cx="4496040" cy="2514600"/>
          </a:xfrm>
          <a:custGeom>
            <a:avLst/>
            <a:gdLst>
              <a:gd name="textAreaLeft" fmla="*/ 1685160 w 4496040"/>
              <a:gd name="textAreaRight" fmla="*/ 2810880 w 4496040"/>
              <a:gd name="textAreaTop" fmla="*/ 1047600 h 2514600"/>
              <a:gd name="textAreaBottom" fmla="*/ 24818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2600"/>
                </a:moveTo>
                <a:arcTo wR="21600" hR="35828" stAng="6551506" swAng="-890497"/>
                <a:lnTo>
                  <a:pt x="8096" y="21318"/>
                </a:lnTo>
                <a:arcTo wR="21600" hR="35828" stAng="5661009" swAng="-522018"/>
                <a:lnTo>
                  <a:pt x="13504" y="17118"/>
                </a:lnTo>
                <a:arcTo wR="21600" hR="35828" stAng="5138991" swAng="-890497"/>
                <a:lnTo>
                  <a:pt x="18900" y="8486"/>
                </a:lnTo>
                <a:lnTo>
                  <a:pt x="21600" y="0"/>
                </a:lnTo>
                <a:lnTo>
                  <a:pt x="21600" y="0"/>
                </a:lnTo>
                <a:arcTo wR="21600" hR="35828" stAng="4248494" swAng="1151122"/>
                <a:lnTo>
                  <a:pt x="10804" y="9000"/>
                </a:lnTo>
                <a:arcTo wR="21600" hR="35828" stAng="5399616" swAng="768"/>
                <a:lnTo>
                  <a:pt x="10796" y="4800"/>
                </a:lnTo>
                <a:arcTo wR="21600" hR="35828" stAng="5400384" swAng="1151122"/>
                <a:lnTo>
                  <a:pt x="2700" y="8486"/>
                </a:lnTo>
                <a:close/>
              </a:path>
              <a:path fill="none" w="21600" h="21600">
                <a:moveTo>
                  <a:pt x="10796" y="9000"/>
                </a:moveTo>
                <a:arcTo wR="21600" hR="35828" stAng="5400384" swAng="260625"/>
                <a:lnTo>
                  <a:pt x="10796" y="4800"/>
                </a:lnTo>
              </a:path>
              <a:path fill="none" w="21600" h="21600">
                <a:moveTo>
                  <a:pt x="10804" y="9000"/>
                </a:moveTo>
                <a:arcTo wR="21600" hR="35828" stAng="5399616" swAng="-260625"/>
                <a:lnTo>
                  <a:pt x="10804" y="4800"/>
                </a:lnTo>
              </a:path>
              <a:path fill="none" w="21600" h="21600">
                <a:moveTo>
                  <a:pt x="8096" y="17118"/>
                </a:moveTo>
                <a:lnTo>
                  <a:pt x="8096" y="8718"/>
                </a:lnTo>
              </a:path>
              <a:path fill="none" w="21600" h="21600">
                <a:moveTo>
                  <a:pt x="13504" y="17118"/>
                </a:moveTo>
                <a:lnTo>
                  <a:pt x="13504" y="8718"/>
                </a:lnTo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8:07:35Z</dcterms:created>
  <dc:creator>tester</dc:creator>
  <dc:description/>
  <dc:language>en-US</dc:language>
  <cp:lastModifiedBy>lijiany</cp:lastModifiedBy>
  <dcterms:modified xsi:type="dcterms:W3CDTF">2012-07-30T07:05:26Z</dcterms:modified>
  <cp:revision>7</cp:revision>
  <dc:subject/>
  <dc:title>Slide 1</dc:title>
</cp:coreProperties>
</file>