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753264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22240" y="4003920"/>
            <a:ext cx="753264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224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16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9240" y="145224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6240" y="145224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22240" y="400392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9240" y="400392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6240" y="400392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2240" y="1452240"/>
            <a:ext cx="75326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75326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22240" y="255240"/>
            <a:ext cx="75326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2224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22240" y="1452240"/>
            <a:ext cx="75326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216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22240" y="4003920"/>
            <a:ext cx="753264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753264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22240" y="4003920"/>
            <a:ext cx="753264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2224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216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69240" y="145224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6240" y="145224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22240" y="400392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69240" y="400392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6240" y="400392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145-28FC-42AF-A03F-7747E15E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452240"/>
            <a:ext cx="75326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56B-C478-4B3E-8BE2-A5EF4446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75326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7A5-BDBD-4304-A800-7FF52B80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A57-388E-4A37-902E-7D3E696C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C3F-4F6E-4C7F-8D9D-6D6FC95C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75326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255240"/>
            <a:ext cx="75326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C0C2-37C7-45FB-B78A-D3C4CA6C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794-3422-4107-9944-ECA44EEC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216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6176-3859-4D77-AA9A-E8D6F14E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4003920"/>
            <a:ext cx="753264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ECF-8A99-49C4-A4E4-7EBFF528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753264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4003920"/>
            <a:ext cx="753264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A00B-87A3-44CB-8694-92CFAE9E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216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6FDF-E91F-4A11-90C8-285173BA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9240" y="145224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16240" y="145224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400392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9240" y="400392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16240" y="4003920"/>
            <a:ext cx="242532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10B-60F2-415F-9B69-8C0CC644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22240" y="255240"/>
            <a:ext cx="75326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224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160" y="400392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224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160" y="1452240"/>
            <a:ext cx="36756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22240" y="4003920"/>
            <a:ext cx="753264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061480" y="6113520"/>
            <a:ext cx="787320" cy="36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"/>
          <p:cNvPicPr/>
          <p:nvPr/>
        </p:nvPicPr>
        <p:blipFill>
          <a:blip r:embed="rId3"/>
          <a:stretch/>
        </p:blipFill>
        <p:spPr>
          <a:xfrm>
            <a:off x="272880" y="6568920"/>
            <a:ext cx="8598240" cy="28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452240"/>
            <a:ext cx="75326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spcAft>
                <a:spcPts val="1199"/>
              </a:spcAft>
              <a:buClr>
                <a:srgbClr val="232628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spcAft>
                <a:spcPts val="1199"/>
              </a:spcAft>
              <a:buClr>
                <a:srgbClr val="232628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7840">
              <a:spcAft>
                <a:spcPts val="1199"/>
              </a:spcAft>
              <a:buClr>
                <a:srgbClr val="232628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7560" indent="-168480">
              <a:spcAft>
                <a:spcPts val="1199"/>
              </a:spcAft>
              <a:buClr>
                <a:srgbClr val="232628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16160" indent="-114480">
              <a:spcAft>
                <a:spcPts val="1199"/>
              </a:spcAft>
              <a:buClr>
                <a:srgbClr val="232628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16160" indent="-114480">
              <a:spcAft>
                <a:spcPts val="1199"/>
              </a:spcAft>
              <a:buClr>
                <a:srgbClr val="454c51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16160" indent="-114480">
              <a:spcAft>
                <a:spcPts val="1199"/>
              </a:spcAft>
              <a:buClr>
                <a:srgbClr val="454c51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287280" y="658980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7261A0-CC3C-46FB-8F54-8F9C5CDEA7A5}" type="slidenum">
              <a:rPr b="1" lang="en-US" sz="1200" spc="-1" strike="noStrike" baseline="1000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657440" y="6591240"/>
            <a:ext cx="582912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USE Confidential. Communicated Under ND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"/>
          <p:cNvPicPr/>
          <p:nvPr/>
        </p:nvPicPr>
        <p:blipFill>
          <a:blip r:embed="rId2"/>
          <a:stretch/>
        </p:blipFill>
        <p:spPr>
          <a:xfrm>
            <a:off x="6246720" y="4937040"/>
            <a:ext cx="1755720" cy="976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3"/>
          <a:stretch/>
        </p:blipFill>
        <p:spPr>
          <a:xfrm>
            <a:off x="272880" y="6568920"/>
            <a:ext cx="8598240" cy="2890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87280" y="658980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C40EED-9F71-47A6-BD5D-50EADC6F4AB9}" type="slidenum">
              <a:rPr b="1" lang="en-US" sz="1200" spc="-1" strike="noStrike" baseline="1000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104840" y="990720"/>
            <a:ext cx="6927840" cy="2495520"/>
          </a:xfrm>
          <a:prstGeom prst="rect">
            <a:avLst/>
          </a:prstGeom>
          <a:solidFill>
            <a:srgbClr val="e4e5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ight Triangle 10"/>
          <p:cNvSpPr/>
          <p:nvPr/>
        </p:nvSpPr>
        <p:spPr>
          <a:xfrm flipV="1">
            <a:off x="1682640" y="3448080"/>
            <a:ext cx="606600" cy="660240"/>
          </a:xfrm>
          <a:prstGeom prst="rtTriangle">
            <a:avLst/>
          </a:prstGeom>
          <a:solidFill>
            <a:srgbClr val="e4e5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1103400" y="4311720"/>
            <a:ext cx="65484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8061480" y="6113520"/>
            <a:ext cx="787320" cy="365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272880" y="6568920"/>
            <a:ext cx="8598240" cy="289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287280" y="658980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DDCFB8-A1FE-40EA-B59F-00D6A816AB5E}" type="slidenum">
              <a:rPr b="1" lang="en-US" sz="1200" spc="-1" strike="noStrike" baseline="1000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657440" y="6591240"/>
            <a:ext cx="582912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USE Confidential. Communicated Under ND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255240"/>
            <a:ext cx="75326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452240"/>
            <a:ext cx="75326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spcAft>
                <a:spcPts val="1199"/>
              </a:spcAft>
              <a:buClr>
                <a:srgbClr val="232628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9560">
              <a:spcAft>
                <a:spcPts val="1199"/>
              </a:spcAft>
              <a:buClr>
                <a:srgbClr val="232628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7840">
              <a:spcAft>
                <a:spcPts val="1199"/>
              </a:spcAft>
              <a:buClr>
                <a:srgbClr val="232628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7560" indent="-168480">
              <a:spcAft>
                <a:spcPts val="1199"/>
              </a:spcAft>
              <a:buClr>
                <a:srgbClr val="232628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16160" indent="-114480">
              <a:spcAft>
                <a:spcPts val="1199"/>
              </a:spcAft>
              <a:buClr>
                <a:srgbClr val="232628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16160" indent="-114480">
              <a:spcAft>
                <a:spcPts val="1199"/>
              </a:spcAft>
              <a:buClr>
                <a:srgbClr val="454c51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16160" indent="-114480">
              <a:spcAft>
                <a:spcPts val="1199"/>
              </a:spcAft>
              <a:buClr>
                <a:srgbClr val="454c51"/>
              </a:buClr>
              <a:buSzPct val="6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80132-22F1-4E4B-BAE7-D31F84C1CA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595080"/>
            <a:ext cx="719928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500"/>
            </a:b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Expanded Value</a:t>
            </a:r>
            <a:br>
              <a:rPr sz="45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me claims here are forward-looking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3000" y="1757520"/>
            <a:ext cx="71992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spcAft>
                <a:spcPts val="1199"/>
              </a:spcAft>
              <a:buClr>
                <a:srgbClr val="232628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1T20:23:09Z</dcterms:created>
  <dc:creator>Karlin Stokes</dc:creator>
  <dc:description>SUSE2013 Version 1:  3/29/13</dc:description>
  <dc:language>en-US</dc:language>
  <cp:lastModifiedBy>test</cp:lastModifiedBy>
  <dcterms:modified xsi:type="dcterms:W3CDTF">2015-07-31T10:21:16Z</dcterms:modified>
  <cp:revision>222</cp:revision>
  <dc:subject/>
  <dc:title>SUSE Corporate Presentation Template 2011</dc:title>
</cp:coreProperties>
</file>