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33480"/>
            <a:ext cx="432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1  You and your genes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 IB1.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199360" y="81000"/>
            <a:ext cx="704880" cy="1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6360" indent="-306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538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30280" indent="-204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672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3672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3672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2529000"/>
            <a:ext cx="8640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mbryonic stem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436000"/>
            <a:ext cx="2881080" cy="873720"/>
          </a:xfrm>
          <a:prstGeom prst="roundRect">
            <a:avLst>
              <a:gd name="adj" fmla="val 7273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your view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your argu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78280" y="552600"/>
            <a:ext cx="4113360" cy="57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657400"/>
            <a:ext cx="2882880" cy="657720"/>
          </a:xfrm>
          <a:prstGeom prst="roundRect">
            <a:avLst>
              <a:gd name="adj" fmla="val 10537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 marL="266760" indent="-26676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m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76840" y="547200"/>
            <a:ext cx="411480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0280" y="3959280"/>
            <a:ext cx="2871720" cy="2315880"/>
          </a:xfrm>
          <a:prstGeom prst="roundRect">
            <a:avLst>
              <a:gd name="adj" fmla="val 2880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stem cells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84400" y="547200"/>
            <a:ext cx="411300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9120" y="5317920"/>
            <a:ext cx="2882880" cy="992520"/>
          </a:xfrm>
          <a:prstGeom prst="roundRect">
            <a:avLst>
              <a:gd name="adj" fmla="val 8037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special ab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ryonic stem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78280" y="539280"/>
            <a:ext cx="4113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990320"/>
            <a:ext cx="2881080" cy="1310760"/>
          </a:xfrm>
          <a:prstGeom prst="roundRect">
            <a:avLst>
              <a:gd name="adj" fmla="val 4671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embryonic stem cells help people with some disea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78280" y="547200"/>
            <a:ext cx="4113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988520"/>
            <a:ext cx="2881080" cy="1316520"/>
          </a:xfrm>
          <a:prstGeom prst="roundRect">
            <a:avLst>
              <a:gd name="adj" fmla="val 5370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would embryos need to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pati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78280" y="547200"/>
            <a:ext cx="4113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323680"/>
            <a:ext cx="2881080" cy="983880"/>
          </a:xfrm>
          <a:prstGeom prst="roundRect">
            <a:avLst>
              <a:gd name="adj" fmla="val 6593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the same as cloning an adult hum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78280" y="547200"/>
            <a:ext cx="4113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822200"/>
            <a:ext cx="2881080" cy="1305720"/>
          </a:xfrm>
          <a:prstGeom prst="roundRect">
            <a:avLst>
              <a:gd name="adj" fmla="val 4005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people who are for research on embryonic stem cells sa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78280" y="547200"/>
            <a:ext cx="4113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36560" y="3809880"/>
            <a:ext cx="7873920" cy="120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6560" y="3137040"/>
            <a:ext cx="7873920" cy="13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137040"/>
            <a:ext cx="2666880" cy="672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4653720"/>
            <a:ext cx="2881080" cy="1642680"/>
          </a:xfrm>
          <a:prstGeom prst="roundRect">
            <a:avLst>
              <a:gd name="adj" fmla="val 4005"/>
            </a:avLst>
          </a:prstGeom>
          <a:solidFill>
            <a:srgbClr val="ffffff">
              <a:alpha val="8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144000" anchor="ctr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people who are against research on embryonic stem cells sa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78280" y="544680"/>
            <a:ext cx="4113360" cy="57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cp:keywords/>
  <dc:language>en-US</dc:language>
  <cp:lastModifiedBy/>
  <cp:lastPrinted>1900-12-31T23:00:00Z</cp:lastPrinted>
  <dcterms:modified xsi:type="dcterms:W3CDTF">2006-04-27T08:28:39Z</dcterms:modified>
  <cp:revision>1</cp:revision>
  <dc:subject/>
  <dc:title>Slide 1</dc:title>
</cp:coreProperties>
</file>