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4DC7-1E43-441B-97A2-97A00E325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6536-C2B9-4D75-A183-54F3E3D5F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BE81-C0AC-46F6-8B79-36578F775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467F-E318-491D-A3C2-4A55683FF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1D7B-4BDD-4A38-8947-A8E03601A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C63E-B935-4FAC-B233-A3233AE0E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4330-996C-4E92-B918-F3703546E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2C1F-8252-4AC5-84E1-2DA546EE7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E793-0C3F-4FE7-943E-7888DEF30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F761-5332-4DB0-B697-09A30DD4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9B44-7301-48D1-9A6C-C2FA03BB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CD34-AFD3-475B-AAFC-C035AE85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F1389-3D6C-4CE2-809A-FCFB6AF737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2T06:30:14Z</dcterms:created>
  <dc:creator>virtusa</dc:creator>
  <dc:description/>
  <dc:language>en-US</dc:language>
  <cp:lastModifiedBy>virtusa</cp:lastModifiedBy>
  <dcterms:modified xsi:type="dcterms:W3CDTF">2004-12-02T06:30:28Z</dcterms:modified>
  <cp:revision>1</cp:revision>
  <dc:subject/>
  <dc:title>Slide 1</dc:title>
</cp:coreProperties>
</file>