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3EE1-A40C-4D13-B97D-1270FA61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84A6-736D-41F7-B48A-8799C027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42BC-E185-4BA3-8B8E-343B7F48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0E22-9E9A-48C7-878E-3708225C0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2BD0-B4AA-4A77-9570-AEBA0D47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1BB9-9231-4D11-AF60-5D1E4249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6107-CD2A-4B29-AF1F-800E1A22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B200-7937-440F-8197-EDB12278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4F7D-44F7-4F10-B6CA-FBE2C468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B1AB-2005-4BDB-8A2B-1F84B367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7AFA-018E-412C-BA00-77A7D612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42E3-DB64-4034-8F33-F1A2CD83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7314-EFCF-4136-BB52-22AA47AD5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990720"/>
            <a:ext cx="640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name: Alternative text for group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 points (MS): Format Object…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lternative text: ” Group Object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 points (AOO): Description…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scription : ” Group Object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523880" y="3048120"/>
            <a:ext cx="5334120" cy="2361960"/>
            <a:chOff x="1523880" y="3048120"/>
            <a:chExt cx="5334120" cy="2361960"/>
          </a:xfrm>
        </p:grpSpPr>
        <p:sp>
          <p:nvSpPr>
            <p:cNvPr id="43" name=""/>
            <p:cNvSpPr/>
            <p:nvPr/>
          </p:nvSpPr>
          <p:spPr>
            <a:xfrm>
              <a:off x="1523880" y="4343400"/>
              <a:ext cx="2057400" cy="1066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572000" y="3048120"/>
              <a:ext cx="2286000" cy="1371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6T01:58:01Z</dcterms:created>
  <dc:creator>wctsvt</dc:creator>
  <dc:description/>
  <dc:language>en-US</dc:language>
  <cp:lastModifiedBy>crystal</cp:lastModifiedBy>
  <dcterms:modified xsi:type="dcterms:W3CDTF">2012-09-12T08:14:58Z</dcterms:modified>
  <cp:revision>12</cp:revision>
  <dc:subject/>
  <dc:title>Slide 1</dc:title>
</cp:coreProperties>
</file>