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26B-5303-4A2A-9114-1FD49F9E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BB8-7621-45F2-8FA4-71D91126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CDE-0146-40F6-B99F-E3220468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87A-6D46-46E9-BB9A-7AB47E85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E97-F678-42CB-B5A7-CF74747F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47F-8628-4372-9A68-7E69D230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7A8-ADD6-4EC1-8FEF-85530F1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1CA-C5DC-4706-A7FF-65D72115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7E9-EEC9-47EE-A9C8-9A5E6EAC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1A5-CE6C-4AFE-AF98-F9CB2A5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320-EFC4-4516-8F64-98BC14A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9A4-A49B-49D4-95FF-A69EC82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0720" y="6244920"/>
            <a:ext cx="619200" cy="476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 vert="eaVer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07080"/>
          </a:xfrm>
          <a:prstGeom prst="rect">
            <a:avLst/>
          </a:prstGeom>
          <a:solidFill>
            <a:srgbClr val="0000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A2C9-F828-4403-B4F2-6957F7A302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e is 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85E-71D2-43B7-93EC-72EEAB8CE9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-11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e is 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540-A4B7-4D17-BAFB-4E140B31BB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4-11-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4:21:03Z</dcterms:created>
  <dc:creator>wangxiul</dc:creator>
  <dc:description/>
  <dc:language>en-US</dc:language>
  <cp:lastModifiedBy>wangxiul</cp:lastModifiedBy>
  <dcterms:modified xsi:type="dcterms:W3CDTF">2005-11-17T04:24:14Z</dcterms:modified>
  <cp:revision>2</cp:revision>
  <dc:subject/>
  <dc:title>Slide 1</dc:title>
</cp:coreProperties>
</file>