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33521-C7FB-4080-8103-E797420E4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6B5-C970-40F3-B490-68B5478D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816-7747-4022-903F-5A2E429B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F11-298E-4180-BB83-5B65F498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EE8-9B81-4153-9149-743A400A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79B-6244-42FF-9601-4D5AE628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F0D-2D69-4CDC-A985-0C13F39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F19-BC9E-488B-97AA-704ED25A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A17-0678-4ACD-B62C-6F5DDC3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880-A546-479A-9E12-DD8B350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886-3A21-4404-92A2-85DE9CD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AEB-4344-4746-BD94-4D3841A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887-82C6-4D72-9D68-0933B9E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C1E26-36FB-436F-8C26-241CB8101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2200"/>
            <a:ext cx="77724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gure 5.2 Determinants of Customer-Delivered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743200"/>
            <a:ext cx="1752840" cy="1752480"/>
          </a:xfrm>
          <a:prstGeom prst="rect">
            <a:avLst/>
          </a:prstGeom>
          <a:solidFill>
            <a:srgbClr val="ffff5b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676520"/>
            <a:ext cx="182880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1911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6765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191120"/>
            <a:ext cx="190476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1676520"/>
            <a:ext cx="190512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191120"/>
            <a:ext cx="1904760" cy="1295280"/>
          </a:xfrm>
          <a:prstGeom prst="rect">
            <a:avLst/>
          </a:prstGeom>
          <a:solidFill>
            <a:srgbClr val="99ff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1"/>
            <a:endCxn id="49" idx="3"/>
          </p:cNvCxnSpPr>
          <p:nvPr/>
        </p:nvCxnSpPr>
        <p:spPr>
          <a:xfrm flipV="1" rot="10800000">
            <a:off x="2133720" y="2324160"/>
            <a:ext cx="304920" cy="1295640"/>
          </a:xfrm>
          <a:prstGeom prst="bentConnector5">
            <a:avLst>
              <a:gd name="adj1" fmla="val 76004"/>
              <a:gd name="adj2" fmla="val -67871"/>
              <a:gd name="adj3" fmla="val -6764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1"/>
            <a:endCxn id="49" idx="3"/>
          </p:cNvCxnSpPr>
          <p:nvPr/>
        </p:nvCxnSpPr>
        <p:spPr>
          <a:xfrm rot="10800000">
            <a:off x="2133720" y="3619080"/>
            <a:ext cx="304920" cy="1219680"/>
          </a:xfrm>
          <a:prstGeom prst="bentConnector5">
            <a:avLst>
              <a:gd name="adj1" fmla="val 76004"/>
              <a:gd name="adj2" fmla="val -72099"/>
              <a:gd name="adj3" fmla="val -7015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51" idx="3"/>
          </p:cNvCxnSpPr>
          <p:nvPr/>
        </p:nvCxnSpPr>
        <p:spPr>
          <a:xfrm flipH="1">
            <a:off x="4343400" y="483876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1"/>
            <a:endCxn id="50" idx="3"/>
          </p:cNvCxnSpPr>
          <p:nvPr/>
        </p:nvCxnSpPr>
        <p:spPr>
          <a:xfrm flipH="1">
            <a:off x="4267080" y="232416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1"/>
            <a:endCxn id="53" idx="3"/>
          </p:cNvCxnSpPr>
          <p:nvPr/>
        </p:nvCxnSpPr>
        <p:spPr>
          <a:xfrm flipH="1">
            <a:off x="6553080" y="4838760"/>
            <a:ext cx="153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4" idx="1"/>
            <a:endCxn id="52" idx="3"/>
          </p:cNvCxnSpPr>
          <p:nvPr/>
        </p:nvCxnSpPr>
        <p:spPr>
          <a:xfrm flipH="1">
            <a:off x="6477120" y="2324160"/>
            <a:ext cx="152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AA0-A9F2-40F0-8C16-CA7F7BDC31B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Wardell</dc:creator>
  <dc:description/>
  <dc:language>en-US</dc:language>
  <cp:lastModifiedBy/>
  <cp:revision>0</cp:revision>
  <dc:subject/>
  <dc:title/>
</cp:coreProperties>
</file>