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FC7-85E3-46CB-BECE-62B95809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3F4-852D-4E0F-9724-588D1CE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302-A861-4BDE-B372-4D81BC25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680-E59A-4FCB-ABC3-A5A076F2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F15-EB56-4BAE-8841-EC37F4B1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2CD-E81E-45AE-AF6D-D0BDEEB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F0B-0290-4DC5-8413-C670E06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B4E-9453-476C-BBC0-3FD5517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77B-3273-48E5-A731-DC3F4CF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C6E-E93E-4F1A-AFD8-2CA4B79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C4D-B97A-461D-842D-06FE5E2B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5BB-9254-4637-914A-320987E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5FD-6880-4606-9E67-5E12186EE4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55Z</dcterms:created>
  <dc:creator>FtpDown</dc:creator>
  <dc:description/>
  <dc:language>en-US</dc:language>
  <cp:lastModifiedBy>FtpDown</cp:lastModifiedBy>
  <dcterms:modified xsi:type="dcterms:W3CDTF">2006-03-03T23:42:55Z</dcterms:modified>
  <cp:revision>1</cp:revision>
  <dc:subject/>
  <dc:title>Hi!  Page </dc:title>
</cp:coreProperties>
</file>