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02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-1440"/>
            <a:ext cx="9144000" cy="685944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1440"/>
            <a:ext cx="9144000" cy="685944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562040" y="520200"/>
            <a:ext cx="6012000" cy="25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3257280"/>
            <a:ext cx="7307280" cy="30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96072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7"/>
          </p:nvPr>
        </p:nvSpPr>
        <p:spPr>
          <a:xfrm>
            <a:off x="5175360" y="-360"/>
            <a:ext cx="396072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6514920"/>
            <a:ext cx="396072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5175360" y="6514920"/>
            <a:ext cx="396072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AA9E-036F-4980-9C01-A6582739A9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-4219560"/>
            <a:ext cx="1440" cy="981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914400" y="3257280"/>
            <a:ext cx="7308720" cy="30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73E0-BC7D-412F-B818-E70EA1F9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5984-41B8-48BB-A4A4-3E69F16A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69B0-B745-4642-B2EE-923C5652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8DB1-2715-45B6-A757-BF3C482E0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BAA0-4218-4343-B29C-500E78B80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6CBC-3722-4989-9AEF-C17FC847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C033-DFF1-46AB-AAE2-D1CC7F09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97D6-5FC0-496D-89AE-F88BAFB8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A98C-62A7-4CF5-A6E4-7E2C2F1D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AAEB-F845-4A89-88A8-BD973B6F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1AE8-360E-4451-A3DB-6F8F94C6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2ECE-120F-49B1-945C-EF4ED3A1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8B7C-425E-49AB-B2D5-33D9BF25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5DE5-6C90-45E0-83D0-C89716EB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E5AC-A817-4795-B252-0FC56521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46D6-6DCD-429D-BA4C-F09A85152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70FA-6BB3-4A15-855B-C88752410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8277-EE5A-4843-A4B1-691FE0D0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193B-0E6B-431C-BAC6-4A5FA6C4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11FF-8FEA-4456-B93F-82B42B5E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E466-CB5F-47F2-8FAD-6EBB598C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130F-0E37-4626-9042-C0637BC7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45D2-FB9F-4417-9DAA-CCD85FE9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6ABB-B501-4797-8C84-6375CBE4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6360"/>
            <a:ext cx="2892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6550-1A99-4BED-A6E1-2F08C7B393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6960" y="6246360"/>
            <a:ext cx="2892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48C5-B208-4AEC-BCAE-CF78515805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685800"/>
            <a:ext cx="48006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9000"/>
              </a:lnSpc>
              <a:spcBef>
                <a:spcPts val="17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rowth i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9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Quality-sensitive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pplications (VoIP pho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9000"/>
              </a:lnSpc>
              <a:spcBef>
                <a:spcPts val="2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9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ich-media download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9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ulti-tiered a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9000"/>
              </a:lnSpc>
              <a:spcBef>
                <a:spcPts val="2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9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duct/service tie-in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multi-player games and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pda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9000"/>
              </a:lnSpc>
              <a:spcBef>
                <a:spcPts val="2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9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urbo button behavi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529920" y="290520"/>
            <a:ext cx="8232840" cy="5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rket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67080" y="1143000"/>
            <a:ext cx="4572000" cy="57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9920" indent="-169920" algn="just">
              <a:lnSpc>
                <a:spcPct val="99000"/>
              </a:lnSpc>
              <a:spcBef>
                <a:spcPts val="1701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Network nee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440" indent="-162000">
              <a:lnSpc>
                <a:spcPct val="99000"/>
              </a:lnSpc>
              <a:spcBef>
                <a:spcPts val="2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Packet queuing and prioritization at network entry point (A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440" indent="-162000">
              <a:lnSpc>
                <a:spcPct val="99000"/>
              </a:lnSpc>
              <a:spcBef>
                <a:spcPts val="201"/>
              </a:spcBef>
              <a:tabLst>
                <a:tab algn="l" pos="0"/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440" indent="-162000">
              <a:lnSpc>
                <a:spcPct val="99000"/>
              </a:lnSpc>
              <a:spcBef>
                <a:spcPts val="2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Dynamic bandwidth man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440" indent="-162000">
              <a:lnSpc>
                <a:spcPct val="99000"/>
              </a:lnSpc>
              <a:spcBef>
                <a:spcPts val="201"/>
              </a:spcBef>
              <a:tabLst>
                <a:tab algn="l" pos="0"/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440" indent="-162000">
              <a:lnSpc>
                <a:spcPct val="99000"/>
              </a:lnSpc>
              <a:spcBef>
                <a:spcPts val="2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Advanced rules creation &amp; mg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440" indent="-162000">
              <a:lnSpc>
                <a:spcPct val="99000"/>
              </a:lnSpc>
              <a:spcBef>
                <a:spcPts val="201"/>
              </a:spcBef>
              <a:tabLst>
                <a:tab algn="l" pos="0"/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440" indent="-162000">
              <a:lnSpc>
                <a:spcPct val="99000"/>
              </a:lnSpc>
              <a:spcBef>
                <a:spcPts val="2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Unlimited profile capabilities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(combinatory effects incapacitate  standard profile-based syste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440" indent="-162000">
              <a:lnSpc>
                <a:spcPct val="99000"/>
              </a:lnSpc>
              <a:spcBef>
                <a:spcPts val="201"/>
              </a:spcBef>
              <a:tabLst>
                <a:tab algn="l" pos="0"/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440" indent="-162000">
              <a:lnSpc>
                <a:spcPct val="99000"/>
              </a:lnSpc>
              <a:spcBef>
                <a:spcPts val="2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Instant service activation </a:t>
            </a:r>
            <a:br>
              <a:rPr sz="2200"/>
            </a:b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(need for real-time retrieval &amp; propagation of ru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nf</cp:lastModifiedBy>
  <cp:revision>0</cp:revision>
  <dc:subject/>
  <dc:title> Growth in: Quality-sensitive  applications (VoIP phones)  Rich</dc:title>
</cp:coreProperties>
</file>