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5AB-464F-4BAC-A56D-BE4A4F29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CB7-C02A-44D3-84BB-475CD87C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AB3-0ABA-42A2-BCAE-51088043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96F-313B-413C-A229-D6B525B6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C2AE-47BE-4C95-8B37-7F6ABFAD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B078-9862-402D-B895-642FB513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CFC7-4282-4FF2-BB2B-6881C615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4F32-8FE9-47DC-B1F7-EFABA122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C675-5187-4526-BF45-FEFBE18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459E-6750-4043-8791-32B44E82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8F9A-0A8A-4CE7-8CA1-0B02A44F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55F-7CA2-4A3B-B951-716F793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9F9-2637-4631-875D-8DFBA50F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30F-DE48-4EDB-971E-B55ADFD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A0A0-41AA-4088-B714-D6FD25D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BF2-65F8-4F9E-B71E-823A9C02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466D-41C2-43A5-8FF0-0E0B3964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FD6-E48D-402C-9F3E-973D17FF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E8F-AB48-47D6-889B-8039EE7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299-B070-4E25-BC72-C577FCB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8D0-5EC2-4019-9319-8F264FE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0AC-50DA-49C8-BFA7-DF4ABF6C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76C-A829-4F7D-AAE0-EA004C9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BDD-8891-4F1E-919D-6BC6524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956720" y="1483920"/>
            <a:ext cx="11872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DBD7-69FE-446A-8DB2-0CC7C147AD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7308720" y="5229360"/>
            <a:ext cx="183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801E-49CB-4416-988F-4C4164C2AB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Theme 1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459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quest for Comments (RF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ETF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Internet Engineering Task Force)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ISO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Internet Socie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73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unctional Requirements for Uniform Resource Nam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738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form Resource Locators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старел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3986 “Uniform Resource Identifier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: Generic Syntax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дентифика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R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— (англ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form Resource Nam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определяет глобальное имя ресурса независимо от его распол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urn:ISBN:0-395-3634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— (англ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определяет расположение ресурс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ru.wikipedia.org/w/index.php?title=URI&amp;stable=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#.D0.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p://ftp.dlink.ru/pub/ADS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токол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TTP</a:t>
            </a:r>
            <a:br>
              <a:rPr sz="3500"/>
            </a:b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RFC 2616 - Hypertext Transfer Protocol -</a:t>
            </a:r>
            <a:r>
              <a:rPr b="1" lang="ru-RU" sz="23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HTTP/1.1.</a:t>
            </a:r>
            <a:br>
              <a:rPr sz="2300"/>
            </a:b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 запро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"OPTIONS"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запросить требования для отобра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"GET"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учить ресур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"HEAD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лучить только описание рес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"POST"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отправить данные на обрабо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"PUT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азместить без обработки сервер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 "DELETE"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удалить ресур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| "TRACE"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запросить запрос в качестве от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| "CONNECT"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установить тунн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писи: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.09.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6:53:04Z</dcterms:created>
  <dc:creator>Самарев Роман Станиславович</dc:creator>
  <dc:description/>
  <dc:language>en-US</dc:language>
  <cp:lastModifiedBy>rss</cp:lastModifiedBy>
  <dcterms:modified xsi:type="dcterms:W3CDTF">2013-11-30T11:54:05Z</dcterms:modified>
  <cp:revision>416</cp:revision>
  <dc:subject/>
  <dc:title>Языки Интернет-программирования </dc:title>
</cp:coreProperties>
</file>