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9B6-F5D7-4F70-AFE2-1D3C9371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39A-64CC-4F78-AAFD-88BBFE5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088-9800-4109-BE1A-E921B869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CAC-11BE-4B73-A538-9C507E4F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B7E-431F-4685-9D67-EC3A34B1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391-CEB3-40E2-8C47-A9107BC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116-7134-4137-ACCC-49635953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8A4-5E71-40C2-A435-2464ECA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893-1117-4F55-B662-08AF7C1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1E1-0FCB-4318-88B7-06622588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A54-C07E-4979-AC74-1CDE6B1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12B-5F10-4FCF-A59C-1D3F46F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DF1-9DC2-491D-B0CF-C681291AA2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105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1:55:12Z</dcterms:created>
  <dc:creator>Christian Günther</dc:creator>
  <dc:description/>
  <dc:language>en-US</dc:language>
  <cp:lastModifiedBy>Christian Günther</cp:lastModifiedBy>
  <dcterms:modified xsi:type="dcterms:W3CDTF">2005-05-17T11:56:47Z</dcterms:modified>
  <cp:revision>1</cp:revision>
  <dc:subject/>
  <dc:title>Slide 1</dc:title>
</cp:coreProperties>
</file>