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593-8F4E-4F29-B040-A9D72FF7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7CE-0601-4664-B68C-B00DC285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13C0-42D2-4BC5-BFA5-7669313B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A70-6427-44C0-BD10-DFC5AA7E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83F3-BEDD-40AC-BC21-997AA6A7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8B8C-4A75-4869-B120-AC922BA6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1A59-C21D-4638-A0BF-9DCED84A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71B7-0FF8-48B3-B04B-A12E462A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0ADE-A401-4C00-AEBD-C581C1DA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5FA9-7440-4DB5-8CCD-3D5C8547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B829-3BA3-40DC-9938-6296E517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C76-C31B-4291-8D1C-2ECC9347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CA2B-513A-4945-AE83-BB380EF1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52D9-153C-4220-9967-C8E40E9D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A077-7FF9-44E3-A3DB-BE64CED7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A1A2-DEE1-4EC9-9BD1-7BED3FF3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2BD9-CE81-48E8-8392-BCF991CB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AE4-EDAB-4D3E-82E6-A9946D39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BA31-3BF8-484C-9FB3-6146EC18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A52-0723-4890-8313-51357B65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DB6-2FFA-4321-B5BC-61A44A74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DEE-5B5C-4DD2-A54E-92DEEDEB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B330-24A8-4CA4-A7BA-BE167E09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F79D-025C-4F84-B16E-1F989791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B4D1-9460-42BB-A082-5DA01BFCEB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97D4-FB60-4E7B-AE74-1EABCE7E75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NewVoiceMale.wav" TargetMode="External"/><Relationship Id="rId3" Type="http://schemas.microsoft.com/office/2007/relationships/media" Target="file:///tmp/home/.config/libreoffice/4/user/gallery/NewVoiceMale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mbedded Sounds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lide 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n example of an embedded .wav fil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22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6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3:10:33Z</dcterms:created>
  <dc:creator>Joanne Hudson</dc:creator>
  <dc:description/>
  <dc:language>en-US</dc:language>
  <cp:lastModifiedBy>Joanne Hudson</cp:lastModifiedBy>
  <dcterms:modified xsi:type="dcterms:W3CDTF">2007-12-04T21:30:37Z</dcterms:modified>
  <cp:revision>4</cp:revision>
  <dc:subject/>
  <dc:title>Embedded Sounds Example</dc:title>
</cp:coreProperties>
</file>