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605-5160-4C1D-AFDF-6FC60A7E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54-D63D-48EF-8B88-81F24D6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257-C023-4C68-827B-B378099A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377-67ED-45CE-817C-B11BABF7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6DC-88DE-4A8D-B57B-B9C66D09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129-B49E-4ED4-87C4-24B8143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642-665F-4D46-873C-48C83EC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067-BCA4-471A-B42D-F7DB780C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8A8-3EA9-4F63-8B2B-2F44BDD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87F-BAEC-4524-B024-CC18F45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4BB-CC68-44E9-80D4-9823AC2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F4A-1F57-4B45-8490-5DA3F87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4F5-DA19-4D6E-AB1E-CEC0AA1DD7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graph Test 1: „Numbering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 u="sng">
                <a:solidFill>
                  <a:srgbClr val="000000"/>
                </a:solidFill>
                <a:uFillTx/>
                <a:latin typeface="Calibri"/>
              </a:rPr>
              <a:t>Level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evel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Paragraph Test 2: „Spacing and Indentation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-343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indented (3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spcBef>
                <a:spcPts val="28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has spacing before (1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spcBef>
                <a:spcPts val="451"/>
              </a:spcBef>
              <a:spcAft>
                <a:spcPts val="28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has spacing after (1c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line has double line spa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5cm tab charac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79640" indent="-343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graph Test 3: „Text Alignmen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his text is aligned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85880" y="3500280"/>
            <a:ext cx="2643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aligned bot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786120" y="3429000"/>
            <a:ext cx="2286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aligned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500880" y="3071880"/>
            <a:ext cx="2500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his text is rotated 9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37Z</dcterms:modified>
  <cp:revision>4</cp:revision>
  <dc:subject/>
  <dc:title>Paragraph Test 1: „Numbering“</dc:title>
</cp:coreProperties>
</file>