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F2A-3FF4-4687-9657-806CC6A0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ED0-559E-4C6E-B975-5B847BD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646-FC5B-457E-B59A-3DA7A905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0CE-ADD7-483D-886C-79AC94F3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DA8-0C01-46F8-A785-7B9BC9B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4D6-6BD8-48E2-8E3E-919F70F9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E8C-6E25-4F2A-A145-2D83F3D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E14-66B7-49F0-8163-A34EBB28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3EF-CE00-4DBA-A0F9-B67A826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049-2859-4EBA-AED6-2B17706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0A3-AD1D-4A61-B715-CD35B4F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6DA-D5E0-4D0F-A287-6B5C073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72E7-CC3F-4A02-892B-A0D9164111A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סמינריון במסגרת הקור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“ניהול משאבי אנוש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28958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נתוני עמד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                   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חויבות:       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.8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טייה לעזוב:  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.9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6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שיאה באחריות: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.9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תנהגות לא נאותה: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.9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5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רפות חברתית: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.6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14040" y="3809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38080" y="44197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37720" y="4952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7720" y="55627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3352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Miriam"/>
                <a:cs typeface="Miriam"/>
              </a:rPr>
              <a:t>סה"כ ימי היעדרות חודשי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=1.45;  SD=2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נבדקים (מתוך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3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) נעדרו לפחות פעם אחת בחודש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=2.83; SD=3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ובתדירות ממוצע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0.41; M=1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Miriam"/>
                <a:cs typeface="Miriam"/>
              </a:rPr>
              <a:t>סיבו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  מחל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מחלת ילד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הריון/ ליד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מילוא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סיבות אישיות אחרות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סיבות בית”ס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שלישי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- בניית מודל מחקר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לדוגמא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86000"/>
            <a:ext cx="16002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419720"/>
            <a:ext cx="14479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6386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429000"/>
            <a:ext cx="16761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4290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362320" y="464796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5028840"/>
            <a:ext cx="2210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5" name=""/>
          <p:cNvSpPr/>
          <p:nvPr/>
        </p:nvSpPr>
        <p:spPr>
          <a:xfrm>
            <a:off x="807840" y="247968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נתונים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אישיים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6" name=""/>
          <p:cNvSpPr/>
          <p:nvPr/>
        </p:nvSpPr>
        <p:spPr>
          <a:xfrm>
            <a:off x="1062360" y="4384800"/>
            <a:ext cx="7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נתוני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מוסד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7" name=""/>
          <p:cNvSpPr/>
          <p:nvPr/>
        </p:nvSpPr>
        <p:spPr>
          <a:xfrm>
            <a:off x="1031040" y="5756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עמדות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88" name=""/>
          <p:cNvSpPr/>
          <p:nvPr/>
        </p:nvSpPr>
        <p:spPr>
          <a:xfrm>
            <a:off x="4772880" y="3470400"/>
            <a:ext cx="116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ימי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היעדרות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תדירות 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 (Hebrew)"/>
              </a:rPr>
              <a:t>היעדרות</a:t>
            </a:r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רביעי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- מציאת מתאמים (קורלציות) בין המשתנה התלוי (היעדרות) ובין המשתנים הבלתי תלויים שבמוד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חמישי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- מציאת קשרים מובהקים בין המשתנה התלוי ובין המשתנים הבלתי תלויים.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-test, ANOV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או ניתוח רגרסיה - תלוי בסוג וברמות המשתנה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09680" y="3124080"/>
            <a:ext cx="43149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Arial"/>
              </a:rPr>
              <a:t>בהצלחה!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פעולות שנעשו בשלב הראשון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ניי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עמודות נוספות בקובץ - שהן ממוצע חמשת הסקלות (מחויבות, אחריות, נטייה לעזוב, התנהגות לא נאותה ונרפות חברתית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ניית עמודה לממוצע ימי ההיעדרות החודש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ניית עמודה לממוצע תדירות ההיעדרות החודש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דיקת מהימנות לחמשת הסקל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נתוני מהימנות (</a:t>
            </a:r>
            <a:r>
              <a:rPr b="1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קרונבאך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חויבות: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9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-9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טייה לעזוב: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917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0-1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שיאה באחריות: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7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5-2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תנהגות לא נאותה: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96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2-37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נרפות חברתית: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0.88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(שאלות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8-47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Times New Roman"/>
              </a:rPr>
              <a:t>שלב שני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- ניתוח סטטיסטיקה תיאורי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Miriam"/>
                <a:cs typeface="Miriam"/>
              </a:rPr>
              <a:t>נתוני רק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ין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נש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1.4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גבר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גי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9.03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=37.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צב משפחת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נשוי ללא ילדים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נשוי עם ילדים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77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רווק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2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אחר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3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ס' ילדים עד </a:t>
            </a: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ea typeface="Miriam"/>
              </a:rPr>
              <a:t>18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1.45; M=1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השכל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מוסמך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BED  26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BA    41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MA   17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אחר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ס' שנות לימוד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6.6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Sd=2.12 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ורה למקצוע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הומנ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9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מד"ח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מדע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31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שפות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ספורט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אחר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יעדרויות מורים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כן              ל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מחנך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47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52.2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יכוז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31.3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68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יכוז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7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92.2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סגן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3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9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מנהל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3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96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352680" y="2971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526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276360" y="3886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4343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צב בריאות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תקין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99.1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לא תקין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0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קביעו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קבוע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90.3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לא קבוע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7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חוזה מיוחד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היקף משר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יותר ממשר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7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משרה מלא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61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פחות ממשר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היעדרויות מורים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מרחק מהעבוד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 הליכ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31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עד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0.5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שעה נסיע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5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עד שעה נסיעה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0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                   יותר משע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0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Miriam"/>
              </a:rPr>
              <a:t>סוג מוסד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יסוד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53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 חטיבה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6.8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חט”ב+חט”ע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29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ממלכת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89.6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  ממלכתי דתי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0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רגיל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92.4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 מיוחד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5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ייחוד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3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Miriam"/>
              </a:rPr>
              <a:t>יהודי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77.7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ערב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18.2%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  דרוזי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Miriam"/>
              </a:rPr>
              <a:t>4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00:06:44Z</dcterms:created>
  <dc:creator>הלה פרץ</dc:creator>
  <dc:description/>
  <dc:language>en-US</dc:language>
  <cp:lastModifiedBy>הלה פרץ</cp:lastModifiedBy>
  <dcterms:modified xsi:type="dcterms:W3CDTF">2003-01-10T23:04:38Z</dcterms:modified>
  <cp:revision>25</cp:revision>
  <dc:subject/>
  <dc:title>“היעדרויות מורים”</dc:title>
</cp:coreProperties>
</file>