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7DC-7BD8-40A3-95A3-CF60DCA4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1DE-F193-41B2-B841-7F3FA182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6A3-D651-4D30-94EC-F280B98D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F87-7C00-4CF7-9F67-6BF47B54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0CE-7C92-4B37-8449-E65C34A1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798-FFD3-4830-AFA5-E25B3366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511-A7AA-4828-86BD-8F47FA0C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FAC-EDAF-4714-A213-A595B8C0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C6C-4C25-4BB6-B2FB-7A6C782C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696-25F3-4B8F-BBB1-D54EC16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7BD-A500-4C63-AB1A-02945B11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DA9-0BAF-4BE9-9F23-913A74A4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DABB-4C6D-4091-A86C-B942B663B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89000"/>
          <a:ext cx="8569080" cy="1276200"/>
        </p:xfrm>
        <a:graphic>
          <a:graphicData uri="http://schemas.openxmlformats.org/drawingml/2006/table">
            <a:tbl>
              <a:tblPr/>
              <a:tblGrid>
                <a:gridCol w="1066680"/>
                <a:gridCol w="750240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-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 Enhancement Phase I\Graphic Chart\Chart Properties\Format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0" y="39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47640" y="141300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5:47:19Z</dcterms:created>
  <dc:creator>Jason</dc:creator>
  <dc:description/>
  <dc:language>en-US</dc:language>
  <cp:lastModifiedBy>robin</cp:lastModifiedBy>
  <dcterms:modified xsi:type="dcterms:W3CDTF">2012-09-12T08:52:05Z</dcterms:modified>
  <cp:revision>56</cp:revision>
  <dc:subject/>
  <dc:title>幻灯片 1</dc:title>
</cp:coreProperties>
</file>