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6.wmf" ContentType="image/x-wmf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2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1916280" y="179280"/>
            <a:ext cx="3187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169560" y="153720"/>
            <a:ext cx="1601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78228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259920" y="4343040"/>
            <a:ext cx="63356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3641760" y="845964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240840" y="845964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81F8-0511-4A49-8858-BA34258FF8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920" y="108000"/>
            <a:ext cx="6626160" cy="8928000"/>
          </a:xfrm>
          <a:prstGeom prst="rect">
            <a:avLst/>
          </a:prstGeom>
          <a:noFill/>
          <a:ln w="76320">
            <a:solidFill>
              <a:srgbClr val="b9d2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0" t="12430" r="0" b="0"/>
          <a:stretch/>
        </p:blipFill>
        <p:spPr>
          <a:xfrm>
            <a:off x="5222880" y="142920"/>
            <a:ext cx="1484280" cy="93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782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260280" y="4343400"/>
            <a:ext cx="63374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EAF-5CE7-4852-801B-ED6BA4B1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042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678-54E8-4D93-BD73-4B1C44E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352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CC7-D01A-4100-864E-750879EA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28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28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78F-83B9-400D-ABC4-B70B526C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25B4-6AD7-4521-90BC-98A515A8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AA01-92B8-407E-8FC6-F78F9BFF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6E57-27AF-4C69-82E3-F8F51DA2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5D99-340D-4DC0-B354-6880F614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E3D5-CC4E-48BD-A906-10698F7D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74760" y="-71640"/>
            <a:ext cx="67168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rtl="1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7BA5-517B-49B2-93C1-41AF895D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B3D-3E0E-4D49-9112-52822A34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1A1-5E90-484A-978F-A4A21C23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352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AB5D-79DC-46AB-B9F7-7C43B8F5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E530-8DD9-4EAE-AADB-4082B84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042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6F79-6393-4F61-B707-86BF1AB0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352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FB07-7F10-4A86-8241-7B734243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28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1360" y="11970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28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1360" y="3904200"/>
            <a:ext cx="2649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4F8E-53BD-4FE2-AF1A-FC1358D0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3C2-DD92-43E6-9A2A-5B448D77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F14-6BB8-4074-B3DA-3A3B4F48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73E-713C-4228-8E92-1723214B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174760" y="-71640"/>
            <a:ext cx="67168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rtl="1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A0F-0213-44C4-80FB-65BFF653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CFF-FB8F-4814-B587-524B5BCB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9042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CCA-0195-4DD0-8E2F-89A08F1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197000"/>
            <a:ext cx="40150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4200"/>
            <a:ext cx="8228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B00-5D5A-4F43-A913-53F78AC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42920" y="792000"/>
            <a:ext cx="453708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rcRect l="13567" t="0" r="7182" b="51938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-3240" y="0"/>
            <a:ext cx="9147240" cy="97632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47880"/>
            <a:ext cx="9140760" cy="28440"/>
          </a:xfrm>
          <a:prstGeom prst="rect">
            <a:avLst/>
          </a:prstGeom>
          <a:gradFill rotWithShape="0">
            <a:gsLst>
              <a:gs pos="0">
                <a:srgbClr val="003466"/>
              </a:gs>
              <a:gs pos="100000">
                <a:srgbClr val="d4e3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15840" y="6642000"/>
            <a:ext cx="9169200" cy="21600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1160" y="6642000"/>
            <a:ext cx="9177480" cy="28800"/>
          </a:xfrm>
          <a:prstGeom prst="rect">
            <a:avLst/>
          </a:prstGeom>
          <a:gradFill rotWithShape="0">
            <a:gsLst>
              <a:gs pos="0">
                <a:srgbClr val="d4e3f0"/>
              </a:gs>
              <a:gs pos="100000">
                <a:srgbClr val="0034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68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בלמ"ס</a:t>
            </a: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-61920" y="6611400"/>
            <a:ext cx="11145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|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&lt;date/time&gt;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02:25:01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763280" y="6611400"/>
            <a:ext cx="7378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סיכום שנ"ע 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9720" y="6611400"/>
            <a:ext cx="1103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|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שקף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fld id="{57EAEBAF-C763-48D1-B7FC-77C96313D73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rcRect l="10083" t="0" r="0" b="0"/>
          <a:stretch/>
        </p:blipFill>
        <p:spPr>
          <a:xfrm>
            <a:off x="0" y="149400"/>
            <a:ext cx="2251080" cy="165708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8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12"/>
          <a:stretch/>
        </p:blipFill>
        <p:spPr>
          <a:xfrm>
            <a:off x="826920" y="863640"/>
            <a:ext cx="1152720" cy="3715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3"/>
          <a:stretch/>
        </p:blipFill>
        <p:spPr>
          <a:xfrm>
            <a:off x="93600" y="476280"/>
            <a:ext cx="765360" cy="8650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0" t="0" r="48794" b="27191"/>
          <a:stretch/>
        </p:blipFill>
        <p:spPr>
          <a:xfrm>
            <a:off x="7308720" y="515772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30141" t="0" r="0" b="0"/>
          <a:stretch/>
        </p:blipFill>
        <p:spPr>
          <a:xfrm>
            <a:off x="7426440" y="4941720"/>
            <a:ext cx="1717560" cy="1751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63960" y="6094440"/>
            <a:ext cx="304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cs typeface="Guttman Haim-Condensed"/>
              </a:rPr>
              <a:t>הטכנולוגיה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Guttman Haim-Condense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cs typeface="Guttman Haim-Condensed"/>
              </a:rPr>
              <a:t>בחזי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-61920" y="6611400"/>
            <a:ext cx="11145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|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&lt;date/time&gt;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02:25:01 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1763280" y="6611400"/>
            <a:ext cx="4822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  <a:cs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cs typeface="tahoma"/>
              </a:rPr>
              <a:t>סיכום שנ"ע 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29720" y="6611400"/>
            <a:ext cx="1103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|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cs typeface="tahoma"/>
              </a:rPr>
              <a:t>שקף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  </a:t>
            </a:r>
            <a:fld id="{4EF43CDF-5D1F-4089-A266-8E0125EB8A9D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96320" y="5516640"/>
            <a:ext cx="1012680" cy="1146240"/>
            <a:chOff x="7996320" y="5516640"/>
            <a:chExt cx="1012680" cy="1146240"/>
          </a:xfrm>
        </p:grpSpPr>
        <p:sp>
          <p:nvSpPr>
            <p:cNvPr id="60" name=""/>
            <p:cNvSpPr/>
            <p:nvPr/>
          </p:nvSpPr>
          <p:spPr>
            <a:xfrm>
              <a:off x="8172360" y="5964120"/>
              <a:ext cx="115920" cy="130320"/>
            </a:xfrm>
            <a:custGeom>
              <a:avLst/>
              <a:gdLst/>
              <a:ahLst/>
              <a:rect l="l" t="t" r="r" b="b"/>
              <a:pathLst>
                <a:path w="722" h="809">
                  <a:moveTo>
                    <a:pt x="722" y="0"/>
                  </a:moveTo>
                  <a:lnTo>
                    <a:pt x="688" y="29"/>
                  </a:lnTo>
                  <a:lnTo>
                    <a:pt x="652" y="62"/>
                  </a:lnTo>
                  <a:lnTo>
                    <a:pt x="615" y="95"/>
                  </a:lnTo>
                  <a:lnTo>
                    <a:pt x="578" y="132"/>
                  </a:lnTo>
                  <a:lnTo>
                    <a:pt x="537" y="170"/>
                  </a:lnTo>
                  <a:lnTo>
                    <a:pt x="496" y="211"/>
                  </a:lnTo>
                  <a:lnTo>
                    <a:pt x="453" y="252"/>
                  </a:lnTo>
                  <a:lnTo>
                    <a:pt x="409" y="298"/>
                  </a:lnTo>
                  <a:lnTo>
                    <a:pt x="363" y="343"/>
                  </a:lnTo>
                  <a:lnTo>
                    <a:pt x="315" y="392"/>
                  </a:lnTo>
                  <a:lnTo>
                    <a:pt x="266" y="442"/>
                  </a:lnTo>
                  <a:lnTo>
                    <a:pt x="216" y="497"/>
                  </a:lnTo>
                  <a:lnTo>
                    <a:pt x="163" y="550"/>
                  </a:lnTo>
                  <a:lnTo>
                    <a:pt x="110" y="607"/>
                  </a:lnTo>
                  <a:lnTo>
                    <a:pt x="56" y="665"/>
                  </a:lnTo>
                  <a:lnTo>
                    <a:pt x="0" y="727"/>
                  </a:lnTo>
                  <a:lnTo>
                    <a:pt x="191" y="809"/>
                  </a:lnTo>
                  <a:lnTo>
                    <a:pt x="233" y="762"/>
                  </a:lnTo>
                  <a:lnTo>
                    <a:pt x="274" y="718"/>
                  </a:lnTo>
                  <a:lnTo>
                    <a:pt x="314" y="676"/>
                  </a:lnTo>
                  <a:lnTo>
                    <a:pt x="353" y="637"/>
                  </a:lnTo>
                  <a:lnTo>
                    <a:pt x="388" y="598"/>
                  </a:lnTo>
                  <a:lnTo>
                    <a:pt x="423" y="562"/>
                  </a:lnTo>
                  <a:lnTo>
                    <a:pt x="456" y="527"/>
                  </a:lnTo>
                  <a:lnTo>
                    <a:pt x="488" y="495"/>
                  </a:lnTo>
                  <a:lnTo>
                    <a:pt x="517" y="464"/>
                  </a:lnTo>
                  <a:lnTo>
                    <a:pt x="545" y="435"/>
                  </a:lnTo>
                  <a:lnTo>
                    <a:pt x="571" y="407"/>
                  </a:lnTo>
                  <a:lnTo>
                    <a:pt x="596" y="383"/>
                  </a:lnTo>
                  <a:lnTo>
                    <a:pt x="619" y="359"/>
                  </a:lnTo>
                  <a:lnTo>
                    <a:pt x="640" y="338"/>
                  </a:lnTo>
                  <a:lnTo>
                    <a:pt x="660" y="318"/>
                  </a:lnTo>
                  <a:lnTo>
                    <a:pt x="680" y="302"/>
                  </a:lnTo>
                  <a:lnTo>
                    <a:pt x="7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8028000" y="5964120"/>
              <a:ext cx="981000" cy="698760"/>
              <a:chOff x="8028000" y="5964120"/>
              <a:chExt cx="981000" cy="698760"/>
            </a:xfrm>
          </p:grpSpPr>
          <p:sp>
            <p:nvSpPr>
              <p:cNvPr id="62" name=""/>
              <p:cNvSpPr/>
              <p:nvPr/>
            </p:nvSpPr>
            <p:spPr>
              <a:xfrm>
                <a:off x="8170920" y="5964120"/>
                <a:ext cx="115920" cy="130320"/>
              </a:xfrm>
              <a:custGeom>
                <a:avLst/>
                <a:gdLst/>
                <a:ahLst/>
                <a:rect l="l" t="t" r="r" b="b"/>
                <a:pathLst>
                  <a:path w="722" h="809">
                    <a:moveTo>
                      <a:pt x="680" y="302"/>
                    </a:moveTo>
                    <a:lnTo>
                      <a:pt x="722" y="0"/>
                    </a:lnTo>
                    <a:lnTo>
                      <a:pt x="688" y="29"/>
                    </a:lnTo>
                    <a:lnTo>
                      <a:pt x="652" y="62"/>
                    </a:lnTo>
                    <a:lnTo>
                      <a:pt x="615" y="95"/>
                    </a:lnTo>
                    <a:lnTo>
                      <a:pt x="578" y="132"/>
                    </a:lnTo>
                    <a:lnTo>
                      <a:pt x="537" y="170"/>
                    </a:lnTo>
                    <a:lnTo>
                      <a:pt x="496" y="211"/>
                    </a:lnTo>
                    <a:lnTo>
                      <a:pt x="453" y="252"/>
                    </a:lnTo>
                    <a:lnTo>
                      <a:pt x="409" y="298"/>
                    </a:lnTo>
                    <a:lnTo>
                      <a:pt x="363" y="343"/>
                    </a:lnTo>
                    <a:lnTo>
                      <a:pt x="315" y="392"/>
                    </a:lnTo>
                    <a:lnTo>
                      <a:pt x="266" y="442"/>
                    </a:lnTo>
                    <a:lnTo>
                      <a:pt x="216" y="497"/>
                    </a:lnTo>
                    <a:lnTo>
                      <a:pt x="163" y="550"/>
                    </a:lnTo>
                    <a:lnTo>
                      <a:pt x="110" y="607"/>
                    </a:lnTo>
                    <a:lnTo>
                      <a:pt x="56" y="665"/>
                    </a:lnTo>
                    <a:lnTo>
                      <a:pt x="0" y="727"/>
                    </a:lnTo>
                    <a:lnTo>
                      <a:pt x="191" y="809"/>
                    </a:lnTo>
                    <a:lnTo>
                      <a:pt x="233" y="762"/>
                    </a:lnTo>
                    <a:lnTo>
                      <a:pt x="274" y="718"/>
                    </a:lnTo>
                    <a:lnTo>
                      <a:pt x="314" y="676"/>
                    </a:lnTo>
                    <a:lnTo>
                      <a:pt x="353" y="637"/>
                    </a:lnTo>
                    <a:lnTo>
                      <a:pt x="388" y="598"/>
                    </a:lnTo>
                    <a:lnTo>
                      <a:pt x="423" y="562"/>
                    </a:lnTo>
                    <a:lnTo>
                      <a:pt x="456" y="527"/>
                    </a:lnTo>
                    <a:lnTo>
                      <a:pt x="488" y="495"/>
                    </a:lnTo>
                    <a:lnTo>
                      <a:pt x="517" y="464"/>
                    </a:lnTo>
                    <a:lnTo>
                      <a:pt x="545" y="435"/>
                    </a:lnTo>
                    <a:lnTo>
                      <a:pt x="571" y="407"/>
                    </a:lnTo>
                    <a:lnTo>
                      <a:pt x="596" y="383"/>
                    </a:lnTo>
                    <a:lnTo>
                      <a:pt x="619" y="359"/>
                    </a:lnTo>
                    <a:lnTo>
                      <a:pt x="640" y="338"/>
                    </a:lnTo>
                    <a:lnTo>
                      <a:pt x="660" y="318"/>
                    </a:lnTo>
                    <a:lnTo>
                      <a:pt x="680" y="3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28000" y="6149880"/>
                <a:ext cx="696960" cy="513000"/>
              </a:xfrm>
              <a:custGeom>
                <a:avLst/>
                <a:gdLst/>
                <a:ahLst/>
                <a:rect l="l" t="t" r="r" b="b"/>
                <a:pathLst>
                  <a:path w="4334" h="3186">
                    <a:moveTo>
                      <a:pt x="4334" y="699"/>
                    </a:moveTo>
                    <a:lnTo>
                      <a:pt x="4106" y="854"/>
                    </a:lnTo>
                    <a:lnTo>
                      <a:pt x="4095" y="927"/>
                    </a:lnTo>
                    <a:lnTo>
                      <a:pt x="4085" y="1001"/>
                    </a:lnTo>
                    <a:lnTo>
                      <a:pt x="4082" y="1009"/>
                    </a:lnTo>
                    <a:lnTo>
                      <a:pt x="4081" y="1013"/>
                    </a:lnTo>
                    <a:lnTo>
                      <a:pt x="4081" y="1018"/>
                    </a:lnTo>
                    <a:lnTo>
                      <a:pt x="4078" y="1037"/>
                    </a:lnTo>
                    <a:lnTo>
                      <a:pt x="4073" y="1074"/>
                    </a:lnTo>
                    <a:lnTo>
                      <a:pt x="4062" y="1147"/>
                    </a:lnTo>
                    <a:lnTo>
                      <a:pt x="4049" y="1217"/>
                    </a:lnTo>
                    <a:lnTo>
                      <a:pt x="4037" y="1289"/>
                    </a:lnTo>
                    <a:lnTo>
                      <a:pt x="4023" y="1358"/>
                    </a:lnTo>
                    <a:lnTo>
                      <a:pt x="4009" y="1428"/>
                    </a:lnTo>
                    <a:lnTo>
                      <a:pt x="3987" y="1526"/>
                    </a:lnTo>
                    <a:lnTo>
                      <a:pt x="3963" y="1624"/>
                    </a:lnTo>
                    <a:lnTo>
                      <a:pt x="3934" y="1729"/>
                    </a:lnTo>
                    <a:lnTo>
                      <a:pt x="3905" y="1832"/>
                    </a:lnTo>
                    <a:lnTo>
                      <a:pt x="3873" y="1933"/>
                    </a:lnTo>
                    <a:lnTo>
                      <a:pt x="3840" y="2033"/>
                    </a:lnTo>
                    <a:lnTo>
                      <a:pt x="3814" y="2102"/>
                    </a:lnTo>
                    <a:lnTo>
                      <a:pt x="3781" y="2108"/>
                    </a:lnTo>
                    <a:lnTo>
                      <a:pt x="3751" y="2119"/>
                    </a:lnTo>
                    <a:lnTo>
                      <a:pt x="3723" y="2138"/>
                    </a:lnTo>
                    <a:lnTo>
                      <a:pt x="3698" y="2163"/>
                    </a:lnTo>
                    <a:lnTo>
                      <a:pt x="3674" y="2194"/>
                    </a:lnTo>
                    <a:lnTo>
                      <a:pt x="3665" y="2210"/>
                    </a:lnTo>
                    <a:lnTo>
                      <a:pt x="3658" y="2228"/>
                    </a:lnTo>
                    <a:lnTo>
                      <a:pt x="3648" y="2267"/>
                    </a:lnTo>
                    <a:lnTo>
                      <a:pt x="3645" y="2308"/>
                    </a:lnTo>
                    <a:lnTo>
                      <a:pt x="3646" y="2339"/>
                    </a:lnTo>
                    <a:lnTo>
                      <a:pt x="3653" y="2370"/>
                    </a:lnTo>
                    <a:lnTo>
                      <a:pt x="3662" y="2398"/>
                    </a:lnTo>
                    <a:lnTo>
                      <a:pt x="3677" y="2426"/>
                    </a:lnTo>
                    <a:lnTo>
                      <a:pt x="3640" y="2492"/>
                    </a:lnTo>
                    <a:lnTo>
                      <a:pt x="3605" y="2554"/>
                    </a:lnTo>
                    <a:lnTo>
                      <a:pt x="3568" y="2612"/>
                    </a:lnTo>
                    <a:lnTo>
                      <a:pt x="3550" y="2639"/>
                    </a:lnTo>
                    <a:lnTo>
                      <a:pt x="3540" y="2652"/>
                    </a:lnTo>
                    <a:lnTo>
                      <a:pt x="3532" y="2667"/>
                    </a:lnTo>
                    <a:lnTo>
                      <a:pt x="3512" y="2690"/>
                    </a:lnTo>
                    <a:lnTo>
                      <a:pt x="3494" y="2716"/>
                    </a:lnTo>
                    <a:lnTo>
                      <a:pt x="3457" y="2761"/>
                    </a:lnTo>
                    <a:lnTo>
                      <a:pt x="3417" y="2802"/>
                    </a:lnTo>
                    <a:lnTo>
                      <a:pt x="3380" y="2839"/>
                    </a:lnTo>
                    <a:lnTo>
                      <a:pt x="3359" y="2855"/>
                    </a:lnTo>
                    <a:lnTo>
                      <a:pt x="3339" y="2871"/>
                    </a:lnTo>
                    <a:lnTo>
                      <a:pt x="3299" y="2898"/>
                    </a:lnTo>
                    <a:lnTo>
                      <a:pt x="3257" y="2922"/>
                    </a:lnTo>
                    <a:lnTo>
                      <a:pt x="3217" y="2942"/>
                    </a:lnTo>
                    <a:lnTo>
                      <a:pt x="3205" y="2945"/>
                    </a:lnTo>
                    <a:lnTo>
                      <a:pt x="3194" y="2949"/>
                    </a:lnTo>
                    <a:lnTo>
                      <a:pt x="3173" y="2957"/>
                    </a:lnTo>
                    <a:lnTo>
                      <a:pt x="3131" y="2969"/>
                    </a:lnTo>
                    <a:lnTo>
                      <a:pt x="3108" y="2971"/>
                    </a:lnTo>
                    <a:lnTo>
                      <a:pt x="3087" y="2975"/>
                    </a:lnTo>
                    <a:lnTo>
                      <a:pt x="3045" y="2979"/>
                    </a:lnTo>
                    <a:lnTo>
                      <a:pt x="2986" y="2974"/>
                    </a:lnTo>
                    <a:lnTo>
                      <a:pt x="2957" y="2969"/>
                    </a:lnTo>
                    <a:lnTo>
                      <a:pt x="2929" y="2962"/>
                    </a:lnTo>
                    <a:lnTo>
                      <a:pt x="2874" y="2944"/>
                    </a:lnTo>
                    <a:lnTo>
                      <a:pt x="2846" y="2932"/>
                    </a:lnTo>
                    <a:lnTo>
                      <a:pt x="2819" y="2918"/>
                    </a:lnTo>
                    <a:lnTo>
                      <a:pt x="2765" y="2884"/>
                    </a:lnTo>
                    <a:lnTo>
                      <a:pt x="2739" y="2864"/>
                    </a:lnTo>
                    <a:lnTo>
                      <a:pt x="2712" y="2843"/>
                    </a:lnTo>
                    <a:lnTo>
                      <a:pt x="2660" y="2795"/>
                    </a:lnTo>
                    <a:lnTo>
                      <a:pt x="2635" y="2769"/>
                    </a:lnTo>
                    <a:lnTo>
                      <a:pt x="2611" y="2741"/>
                    </a:lnTo>
                    <a:lnTo>
                      <a:pt x="2561" y="2677"/>
                    </a:lnTo>
                    <a:lnTo>
                      <a:pt x="2537" y="2643"/>
                    </a:lnTo>
                    <a:lnTo>
                      <a:pt x="2513" y="2607"/>
                    </a:lnTo>
                    <a:lnTo>
                      <a:pt x="2490" y="2569"/>
                    </a:lnTo>
                    <a:lnTo>
                      <a:pt x="2466" y="2529"/>
                    </a:lnTo>
                    <a:lnTo>
                      <a:pt x="2442" y="2488"/>
                    </a:lnTo>
                    <a:lnTo>
                      <a:pt x="2421" y="2445"/>
                    </a:lnTo>
                    <a:lnTo>
                      <a:pt x="2376" y="2353"/>
                    </a:lnTo>
                    <a:lnTo>
                      <a:pt x="2353" y="2304"/>
                    </a:lnTo>
                    <a:lnTo>
                      <a:pt x="2332" y="2253"/>
                    </a:lnTo>
                    <a:lnTo>
                      <a:pt x="2311" y="2200"/>
                    </a:lnTo>
                    <a:lnTo>
                      <a:pt x="2290" y="2146"/>
                    </a:lnTo>
                    <a:lnTo>
                      <a:pt x="2268" y="2090"/>
                    </a:lnTo>
                    <a:lnTo>
                      <a:pt x="2248" y="2033"/>
                    </a:lnTo>
                    <a:lnTo>
                      <a:pt x="2214" y="1934"/>
                    </a:lnTo>
                    <a:lnTo>
                      <a:pt x="2182" y="1832"/>
                    </a:lnTo>
                    <a:lnTo>
                      <a:pt x="2152" y="1729"/>
                    </a:lnTo>
                    <a:lnTo>
                      <a:pt x="2125" y="1624"/>
                    </a:lnTo>
                    <a:lnTo>
                      <a:pt x="2218" y="1593"/>
                    </a:lnTo>
                    <a:lnTo>
                      <a:pt x="2312" y="1562"/>
                    </a:lnTo>
                    <a:lnTo>
                      <a:pt x="2405" y="1529"/>
                    </a:lnTo>
                    <a:lnTo>
                      <a:pt x="2498" y="1494"/>
                    </a:lnTo>
                    <a:lnTo>
                      <a:pt x="2588" y="1457"/>
                    </a:lnTo>
                    <a:lnTo>
                      <a:pt x="2678" y="1420"/>
                    </a:lnTo>
                    <a:lnTo>
                      <a:pt x="2766" y="1380"/>
                    </a:lnTo>
                    <a:lnTo>
                      <a:pt x="2857" y="1340"/>
                    </a:lnTo>
                    <a:lnTo>
                      <a:pt x="2626" y="1228"/>
                    </a:lnTo>
                    <a:lnTo>
                      <a:pt x="2585" y="1244"/>
                    </a:lnTo>
                    <a:lnTo>
                      <a:pt x="2543" y="1260"/>
                    </a:lnTo>
                    <a:lnTo>
                      <a:pt x="2455" y="1294"/>
                    </a:lnTo>
                    <a:lnTo>
                      <a:pt x="2409" y="1310"/>
                    </a:lnTo>
                    <a:lnTo>
                      <a:pt x="2361" y="1328"/>
                    </a:lnTo>
                    <a:lnTo>
                      <a:pt x="2312" y="1347"/>
                    </a:lnTo>
                    <a:lnTo>
                      <a:pt x="2262" y="1366"/>
                    </a:lnTo>
                    <a:lnTo>
                      <a:pt x="2169" y="1397"/>
                    </a:lnTo>
                    <a:lnTo>
                      <a:pt x="2079" y="1428"/>
                    </a:lnTo>
                    <a:lnTo>
                      <a:pt x="2059" y="1335"/>
                    </a:lnTo>
                    <a:lnTo>
                      <a:pt x="2042" y="1242"/>
                    </a:lnTo>
                    <a:lnTo>
                      <a:pt x="2025" y="1148"/>
                    </a:lnTo>
                    <a:lnTo>
                      <a:pt x="2010" y="1054"/>
                    </a:lnTo>
                    <a:lnTo>
                      <a:pt x="1982" y="858"/>
                    </a:lnTo>
                    <a:lnTo>
                      <a:pt x="1970" y="759"/>
                    </a:lnTo>
                    <a:lnTo>
                      <a:pt x="1961" y="659"/>
                    </a:lnTo>
                    <a:lnTo>
                      <a:pt x="1958" y="638"/>
                    </a:lnTo>
                    <a:lnTo>
                      <a:pt x="1956" y="616"/>
                    </a:lnTo>
                    <a:lnTo>
                      <a:pt x="1953" y="591"/>
                    </a:lnTo>
                    <a:lnTo>
                      <a:pt x="1952" y="564"/>
                    </a:lnTo>
                    <a:lnTo>
                      <a:pt x="1949" y="548"/>
                    </a:lnTo>
                    <a:lnTo>
                      <a:pt x="1948" y="540"/>
                    </a:lnTo>
                    <a:lnTo>
                      <a:pt x="1948" y="534"/>
                    </a:lnTo>
                    <a:lnTo>
                      <a:pt x="1945" y="502"/>
                    </a:lnTo>
                    <a:lnTo>
                      <a:pt x="1942" y="467"/>
                    </a:lnTo>
                    <a:lnTo>
                      <a:pt x="1940" y="432"/>
                    </a:lnTo>
                    <a:lnTo>
                      <a:pt x="1754" y="402"/>
                    </a:lnTo>
                    <a:lnTo>
                      <a:pt x="1757" y="451"/>
                    </a:lnTo>
                    <a:lnTo>
                      <a:pt x="1758" y="475"/>
                    </a:lnTo>
                    <a:lnTo>
                      <a:pt x="1761" y="499"/>
                    </a:lnTo>
                    <a:lnTo>
                      <a:pt x="1764" y="541"/>
                    </a:lnTo>
                    <a:lnTo>
                      <a:pt x="1769" y="583"/>
                    </a:lnTo>
                    <a:lnTo>
                      <a:pt x="1771" y="618"/>
                    </a:lnTo>
                    <a:lnTo>
                      <a:pt x="1774" y="653"/>
                    </a:lnTo>
                    <a:lnTo>
                      <a:pt x="1777" y="683"/>
                    </a:lnTo>
                    <a:lnTo>
                      <a:pt x="1777" y="690"/>
                    </a:lnTo>
                    <a:lnTo>
                      <a:pt x="1778" y="698"/>
                    </a:lnTo>
                    <a:lnTo>
                      <a:pt x="1781" y="712"/>
                    </a:lnTo>
                    <a:lnTo>
                      <a:pt x="1790" y="812"/>
                    </a:lnTo>
                    <a:lnTo>
                      <a:pt x="1802" y="911"/>
                    </a:lnTo>
                    <a:lnTo>
                      <a:pt x="1830" y="1107"/>
                    </a:lnTo>
                    <a:lnTo>
                      <a:pt x="1844" y="1203"/>
                    </a:lnTo>
                    <a:lnTo>
                      <a:pt x="1862" y="1297"/>
                    </a:lnTo>
                    <a:lnTo>
                      <a:pt x="1900" y="1482"/>
                    </a:lnTo>
                    <a:lnTo>
                      <a:pt x="1885" y="1486"/>
                    </a:lnTo>
                    <a:lnTo>
                      <a:pt x="1778" y="1514"/>
                    </a:lnTo>
                    <a:lnTo>
                      <a:pt x="1672" y="1542"/>
                    </a:lnTo>
                    <a:lnTo>
                      <a:pt x="1567" y="1564"/>
                    </a:lnTo>
                    <a:lnTo>
                      <a:pt x="1464" y="1587"/>
                    </a:lnTo>
                    <a:lnTo>
                      <a:pt x="1402" y="1596"/>
                    </a:lnTo>
                    <a:lnTo>
                      <a:pt x="1344" y="1607"/>
                    </a:lnTo>
                    <a:lnTo>
                      <a:pt x="1285" y="1615"/>
                    </a:lnTo>
                    <a:lnTo>
                      <a:pt x="1230" y="1623"/>
                    </a:lnTo>
                    <a:lnTo>
                      <a:pt x="1174" y="1628"/>
                    </a:lnTo>
                    <a:lnTo>
                      <a:pt x="1121" y="1635"/>
                    </a:lnTo>
                    <a:lnTo>
                      <a:pt x="1068" y="1639"/>
                    </a:lnTo>
                    <a:lnTo>
                      <a:pt x="1019" y="1642"/>
                    </a:lnTo>
                    <a:lnTo>
                      <a:pt x="969" y="1642"/>
                    </a:lnTo>
                    <a:lnTo>
                      <a:pt x="921" y="1644"/>
                    </a:lnTo>
                    <a:lnTo>
                      <a:pt x="875" y="1642"/>
                    </a:lnTo>
                    <a:lnTo>
                      <a:pt x="831" y="1641"/>
                    </a:lnTo>
                    <a:lnTo>
                      <a:pt x="787" y="1637"/>
                    </a:lnTo>
                    <a:lnTo>
                      <a:pt x="746" y="1635"/>
                    </a:lnTo>
                    <a:lnTo>
                      <a:pt x="705" y="1629"/>
                    </a:lnTo>
                    <a:lnTo>
                      <a:pt x="668" y="1624"/>
                    </a:lnTo>
                    <a:lnTo>
                      <a:pt x="629" y="1615"/>
                    </a:lnTo>
                    <a:lnTo>
                      <a:pt x="594" y="1607"/>
                    </a:lnTo>
                    <a:lnTo>
                      <a:pt x="558" y="1596"/>
                    </a:lnTo>
                    <a:lnTo>
                      <a:pt x="526" y="1587"/>
                    </a:lnTo>
                    <a:lnTo>
                      <a:pt x="494" y="1574"/>
                    </a:lnTo>
                    <a:lnTo>
                      <a:pt x="465" y="1562"/>
                    </a:lnTo>
                    <a:lnTo>
                      <a:pt x="436" y="1547"/>
                    </a:lnTo>
                    <a:lnTo>
                      <a:pt x="411" y="1533"/>
                    </a:lnTo>
                    <a:lnTo>
                      <a:pt x="384" y="1515"/>
                    </a:lnTo>
                    <a:lnTo>
                      <a:pt x="360" y="1498"/>
                    </a:lnTo>
                    <a:lnTo>
                      <a:pt x="337" y="1478"/>
                    </a:lnTo>
                    <a:lnTo>
                      <a:pt x="317" y="1460"/>
                    </a:lnTo>
                    <a:lnTo>
                      <a:pt x="297" y="1437"/>
                    </a:lnTo>
                    <a:lnTo>
                      <a:pt x="280" y="1416"/>
                    </a:lnTo>
                    <a:lnTo>
                      <a:pt x="262" y="1392"/>
                    </a:lnTo>
                    <a:lnTo>
                      <a:pt x="248" y="1368"/>
                    </a:lnTo>
                    <a:lnTo>
                      <a:pt x="233" y="1342"/>
                    </a:lnTo>
                    <a:lnTo>
                      <a:pt x="221" y="1315"/>
                    </a:lnTo>
                    <a:lnTo>
                      <a:pt x="211" y="1287"/>
                    </a:lnTo>
                    <a:lnTo>
                      <a:pt x="204" y="1261"/>
                    </a:lnTo>
                    <a:lnTo>
                      <a:pt x="196" y="1230"/>
                    </a:lnTo>
                    <a:lnTo>
                      <a:pt x="192" y="1201"/>
                    </a:lnTo>
                    <a:lnTo>
                      <a:pt x="190" y="1170"/>
                    </a:lnTo>
                    <a:lnTo>
                      <a:pt x="191" y="1139"/>
                    </a:lnTo>
                    <a:lnTo>
                      <a:pt x="191" y="1105"/>
                    </a:lnTo>
                    <a:lnTo>
                      <a:pt x="195" y="1071"/>
                    </a:lnTo>
                    <a:lnTo>
                      <a:pt x="200" y="1036"/>
                    </a:lnTo>
                    <a:lnTo>
                      <a:pt x="208" y="1001"/>
                    </a:lnTo>
                    <a:lnTo>
                      <a:pt x="216" y="964"/>
                    </a:lnTo>
                    <a:lnTo>
                      <a:pt x="228" y="927"/>
                    </a:lnTo>
                    <a:lnTo>
                      <a:pt x="240" y="889"/>
                    </a:lnTo>
                    <a:lnTo>
                      <a:pt x="256" y="850"/>
                    </a:lnTo>
                    <a:lnTo>
                      <a:pt x="270" y="808"/>
                    </a:lnTo>
                    <a:lnTo>
                      <a:pt x="289" y="767"/>
                    </a:lnTo>
                    <a:lnTo>
                      <a:pt x="309" y="724"/>
                    </a:lnTo>
                    <a:lnTo>
                      <a:pt x="331" y="682"/>
                    </a:lnTo>
                    <a:lnTo>
                      <a:pt x="354" y="637"/>
                    </a:lnTo>
                    <a:lnTo>
                      <a:pt x="380" y="592"/>
                    </a:lnTo>
                    <a:lnTo>
                      <a:pt x="407" y="545"/>
                    </a:lnTo>
                    <a:lnTo>
                      <a:pt x="437" y="500"/>
                    </a:lnTo>
                    <a:lnTo>
                      <a:pt x="468" y="451"/>
                    </a:lnTo>
                    <a:lnTo>
                      <a:pt x="501" y="402"/>
                    </a:lnTo>
                    <a:lnTo>
                      <a:pt x="535" y="352"/>
                    </a:lnTo>
                    <a:lnTo>
                      <a:pt x="574" y="303"/>
                    </a:lnTo>
                    <a:lnTo>
                      <a:pt x="611" y="250"/>
                    </a:lnTo>
                    <a:lnTo>
                      <a:pt x="652" y="198"/>
                    </a:lnTo>
                    <a:lnTo>
                      <a:pt x="694" y="145"/>
                    </a:lnTo>
                    <a:lnTo>
                      <a:pt x="739" y="92"/>
                    </a:lnTo>
                    <a:lnTo>
                      <a:pt x="543" y="0"/>
                    </a:lnTo>
                    <a:lnTo>
                      <a:pt x="497" y="61"/>
                    </a:lnTo>
                    <a:lnTo>
                      <a:pt x="455" y="123"/>
                    </a:lnTo>
                    <a:lnTo>
                      <a:pt x="412" y="182"/>
                    </a:lnTo>
                    <a:lnTo>
                      <a:pt x="374" y="243"/>
                    </a:lnTo>
                    <a:lnTo>
                      <a:pt x="335" y="300"/>
                    </a:lnTo>
                    <a:lnTo>
                      <a:pt x="301" y="359"/>
                    </a:lnTo>
                    <a:lnTo>
                      <a:pt x="268" y="414"/>
                    </a:lnTo>
                    <a:lnTo>
                      <a:pt x="237" y="471"/>
                    </a:lnTo>
                    <a:lnTo>
                      <a:pt x="207" y="524"/>
                    </a:lnTo>
                    <a:lnTo>
                      <a:pt x="180" y="577"/>
                    </a:lnTo>
                    <a:lnTo>
                      <a:pt x="154" y="629"/>
                    </a:lnTo>
                    <a:lnTo>
                      <a:pt x="131" y="681"/>
                    </a:lnTo>
                    <a:lnTo>
                      <a:pt x="109" y="730"/>
                    </a:lnTo>
                    <a:lnTo>
                      <a:pt x="90" y="779"/>
                    </a:lnTo>
                    <a:lnTo>
                      <a:pt x="72" y="826"/>
                    </a:lnTo>
                    <a:lnTo>
                      <a:pt x="57" y="874"/>
                    </a:lnTo>
                    <a:lnTo>
                      <a:pt x="41" y="918"/>
                    </a:lnTo>
                    <a:lnTo>
                      <a:pt x="29" y="963"/>
                    </a:lnTo>
                    <a:lnTo>
                      <a:pt x="19" y="1005"/>
                    </a:lnTo>
                    <a:lnTo>
                      <a:pt x="12" y="1049"/>
                    </a:lnTo>
                    <a:lnTo>
                      <a:pt x="5" y="1089"/>
                    </a:lnTo>
                    <a:lnTo>
                      <a:pt x="3" y="1130"/>
                    </a:lnTo>
                    <a:lnTo>
                      <a:pt x="0" y="1168"/>
                    </a:lnTo>
                    <a:lnTo>
                      <a:pt x="1" y="1207"/>
                    </a:lnTo>
                    <a:lnTo>
                      <a:pt x="1" y="1242"/>
                    </a:lnTo>
                    <a:lnTo>
                      <a:pt x="5" y="1278"/>
                    </a:lnTo>
                    <a:lnTo>
                      <a:pt x="11" y="1313"/>
                    </a:lnTo>
                    <a:lnTo>
                      <a:pt x="20" y="1347"/>
                    </a:lnTo>
                    <a:lnTo>
                      <a:pt x="29" y="1379"/>
                    </a:lnTo>
                    <a:lnTo>
                      <a:pt x="41" y="1411"/>
                    </a:lnTo>
                    <a:lnTo>
                      <a:pt x="54" y="1441"/>
                    </a:lnTo>
                    <a:lnTo>
                      <a:pt x="72" y="1472"/>
                    </a:lnTo>
                    <a:lnTo>
                      <a:pt x="89" y="1499"/>
                    </a:lnTo>
                    <a:lnTo>
                      <a:pt x="109" y="1527"/>
                    </a:lnTo>
                    <a:lnTo>
                      <a:pt x="129" y="1554"/>
                    </a:lnTo>
                    <a:lnTo>
                      <a:pt x="152" y="1580"/>
                    </a:lnTo>
                    <a:lnTo>
                      <a:pt x="175" y="1604"/>
                    </a:lnTo>
                    <a:lnTo>
                      <a:pt x="201" y="1628"/>
                    </a:lnTo>
                    <a:lnTo>
                      <a:pt x="228" y="1649"/>
                    </a:lnTo>
                    <a:lnTo>
                      <a:pt x="258" y="1670"/>
                    </a:lnTo>
                    <a:lnTo>
                      <a:pt x="288" y="1689"/>
                    </a:lnTo>
                    <a:lnTo>
                      <a:pt x="319" y="1707"/>
                    </a:lnTo>
                    <a:lnTo>
                      <a:pt x="352" y="1723"/>
                    </a:lnTo>
                    <a:lnTo>
                      <a:pt x="388" y="1739"/>
                    </a:lnTo>
                    <a:lnTo>
                      <a:pt x="424" y="1752"/>
                    </a:lnTo>
                    <a:lnTo>
                      <a:pt x="462" y="1766"/>
                    </a:lnTo>
                    <a:lnTo>
                      <a:pt x="502" y="1778"/>
                    </a:lnTo>
                    <a:lnTo>
                      <a:pt x="545" y="1790"/>
                    </a:lnTo>
                    <a:lnTo>
                      <a:pt x="586" y="1798"/>
                    </a:lnTo>
                    <a:lnTo>
                      <a:pt x="631" y="1805"/>
                    </a:lnTo>
                    <a:lnTo>
                      <a:pt x="676" y="1812"/>
                    </a:lnTo>
                    <a:lnTo>
                      <a:pt x="725" y="1819"/>
                    </a:lnTo>
                    <a:lnTo>
                      <a:pt x="772" y="1821"/>
                    </a:lnTo>
                    <a:lnTo>
                      <a:pt x="824" y="1825"/>
                    </a:lnTo>
                    <a:lnTo>
                      <a:pt x="876" y="1827"/>
                    </a:lnTo>
                    <a:lnTo>
                      <a:pt x="930" y="1828"/>
                    </a:lnTo>
                    <a:lnTo>
                      <a:pt x="984" y="1827"/>
                    </a:lnTo>
                    <a:lnTo>
                      <a:pt x="1041" y="1825"/>
                    </a:lnTo>
                    <a:lnTo>
                      <a:pt x="1098" y="1821"/>
                    </a:lnTo>
                    <a:lnTo>
                      <a:pt x="1159" y="1817"/>
                    </a:lnTo>
                    <a:lnTo>
                      <a:pt x="1220" y="1811"/>
                    </a:lnTo>
                    <a:lnTo>
                      <a:pt x="1284" y="1804"/>
                    </a:lnTo>
                    <a:lnTo>
                      <a:pt x="1348" y="1796"/>
                    </a:lnTo>
                    <a:lnTo>
                      <a:pt x="1415" y="1788"/>
                    </a:lnTo>
                    <a:lnTo>
                      <a:pt x="1542" y="1766"/>
                    </a:lnTo>
                    <a:lnTo>
                      <a:pt x="1671" y="1741"/>
                    </a:lnTo>
                    <a:lnTo>
                      <a:pt x="1801" y="1710"/>
                    </a:lnTo>
                    <a:lnTo>
                      <a:pt x="1933" y="1678"/>
                    </a:lnTo>
                    <a:lnTo>
                      <a:pt x="1969" y="1807"/>
                    </a:lnTo>
                    <a:lnTo>
                      <a:pt x="2010" y="1935"/>
                    </a:lnTo>
                    <a:lnTo>
                      <a:pt x="2051" y="2059"/>
                    </a:lnTo>
                    <a:lnTo>
                      <a:pt x="2097" y="2180"/>
                    </a:lnTo>
                    <a:lnTo>
                      <a:pt x="2121" y="2241"/>
                    </a:lnTo>
                    <a:lnTo>
                      <a:pt x="2146" y="2301"/>
                    </a:lnTo>
                    <a:lnTo>
                      <a:pt x="2197" y="2415"/>
                    </a:lnTo>
                    <a:lnTo>
                      <a:pt x="2222" y="2468"/>
                    </a:lnTo>
                    <a:lnTo>
                      <a:pt x="2248" y="2520"/>
                    </a:lnTo>
                    <a:lnTo>
                      <a:pt x="2275" y="2570"/>
                    </a:lnTo>
                    <a:lnTo>
                      <a:pt x="2303" y="2619"/>
                    </a:lnTo>
                    <a:lnTo>
                      <a:pt x="2329" y="2664"/>
                    </a:lnTo>
                    <a:lnTo>
                      <a:pt x="2357" y="2708"/>
                    </a:lnTo>
                    <a:lnTo>
                      <a:pt x="2384" y="2750"/>
                    </a:lnTo>
                    <a:lnTo>
                      <a:pt x="2413" y="2791"/>
                    </a:lnTo>
                    <a:lnTo>
                      <a:pt x="2441" y="2830"/>
                    </a:lnTo>
                    <a:lnTo>
                      <a:pt x="2470" y="2867"/>
                    </a:lnTo>
                    <a:lnTo>
                      <a:pt x="2499" y="2901"/>
                    </a:lnTo>
                    <a:lnTo>
                      <a:pt x="2529" y="2934"/>
                    </a:lnTo>
                    <a:lnTo>
                      <a:pt x="2558" y="2963"/>
                    </a:lnTo>
                    <a:lnTo>
                      <a:pt x="2588" y="2991"/>
                    </a:lnTo>
                    <a:lnTo>
                      <a:pt x="2617" y="3018"/>
                    </a:lnTo>
                    <a:lnTo>
                      <a:pt x="2649" y="3043"/>
                    </a:lnTo>
                    <a:lnTo>
                      <a:pt x="2679" y="3065"/>
                    </a:lnTo>
                    <a:lnTo>
                      <a:pt x="2711" y="3087"/>
                    </a:lnTo>
                    <a:lnTo>
                      <a:pt x="2743" y="3105"/>
                    </a:lnTo>
                    <a:lnTo>
                      <a:pt x="2776" y="3122"/>
                    </a:lnTo>
                    <a:lnTo>
                      <a:pt x="2808" y="3137"/>
                    </a:lnTo>
                    <a:lnTo>
                      <a:pt x="2839" y="3150"/>
                    </a:lnTo>
                    <a:lnTo>
                      <a:pt x="2871" y="3161"/>
                    </a:lnTo>
                    <a:lnTo>
                      <a:pt x="2906" y="3170"/>
                    </a:lnTo>
                    <a:lnTo>
                      <a:pt x="2939" y="3177"/>
                    </a:lnTo>
                    <a:lnTo>
                      <a:pt x="2973" y="3182"/>
                    </a:lnTo>
                    <a:lnTo>
                      <a:pt x="3008" y="3185"/>
                    </a:lnTo>
                    <a:lnTo>
                      <a:pt x="3043" y="3186"/>
                    </a:lnTo>
                    <a:lnTo>
                      <a:pt x="3070" y="3185"/>
                    </a:lnTo>
                    <a:lnTo>
                      <a:pt x="3083" y="3183"/>
                    </a:lnTo>
                    <a:lnTo>
                      <a:pt x="3098" y="3183"/>
                    </a:lnTo>
                    <a:lnTo>
                      <a:pt x="3153" y="3175"/>
                    </a:lnTo>
                    <a:lnTo>
                      <a:pt x="3180" y="3169"/>
                    </a:lnTo>
                    <a:lnTo>
                      <a:pt x="3193" y="3165"/>
                    </a:lnTo>
                    <a:lnTo>
                      <a:pt x="3208" y="3162"/>
                    </a:lnTo>
                    <a:lnTo>
                      <a:pt x="3234" y="3153"/>
                    </a:lnTo>
                    <a:lnTo>
                      <a:pt x="3247" y="3148"/>
                    </a:lnTo>
                    <a:lnTo>
                      <a:pt x="3254" y="3145"/>
                    </a:lnTo>
                    <a:lnTo>
                      <a:pt x="3262" y="3144"/>
                    </a:lnTo>
                    <a:lnTo>
                      <a:pt x="3267" y="3140"/>
                    </a:lnTo>
                    <a:lnTo>
                      <a:pt x="3274" y="3137"/>
                    </a:lnTo>
                    <a:lnTo>
                      <a:pt x="3287" y="3132"/>
                    </a:lnTo>
                    <a:lnTo>
                      <a:pt x="3314" y="3120"/>
                    </a:lnTo>
                    <a:lnTo>
                      <a:pt x="3367" y="3091"/>
                    </a:lnTo>
                    <a:lnTo>
                      <a:pt x="3417" y="3056"/>
                    </a:lnTo>
                    <a:lnTo>
                      <a:pt x="3429" y="3046"/>
                    </a:lnTo>
                    <a:lnTo>
                      <a:pt x="3442" y="3036"/>
                    </a:lnTo>
                    <a:lnTo>
                      <a:pt x="3469" y="3018"/>
                    </a:lnTo>
                    <a:lnTo>
                      <a:pt x="3516" y="2973"/>
                    </a:lnTo>
                    <a:lnTo>
                      <a:pt x="3540" y="2948"/>
                    </a:lnTo>
                    <a:lnTo>
                      <a:pt x="3552" y="2934"/>
                    </a:lnTo>
                    <a:lnTo>
                      <a:pt x="3565" y="2922"/>
                    </a:lnTo>
                    <a:lnTo>
                      <a:pt x="3613" y="2867"/>
                    </a:lnTo>
                    <a:lnTo>
                      <a:pt x="3661" y="2807"/>
                    </a:lnTo>
                    <a:lnTo>
                      <a:pt x="3706" y="2741"/>
                    </a:lnTo>
                    <a:lnTo>
                      <a:pt x="3716" y="2722"/>
                    </a:lnTo>
                    <a:lnTo>
                      <a:pt x="3722" y="2713"/>
                    </a:lnTo>
                    <a:lnTo>
                      <a:pt x="3728" y="2705"/>
                    </a:lnTo>
                    <a:lnTo>
                      <a:pt x="3752" y="2669"/>
                    </a:lnTo>
                    <a:lnTo>
                      <a:pt x="3773" y="2631"/>
                    </a:lnTo>
                    <a:lnTo>
                      <a:pt x="3784" y="2611"/>
                    </a:lnTo>
                    <a:lnTo>
                      <a:pt x="3796" y="2592"/>
                    </a:lnTo>
                    <a:lnTo>
                      <a:pt x="3841" y="2513"/>
                    </a:lnTo>
                    <a:lnTo>
                      <a:pt x="3857" y="2510"/>
                    </a:lnTo>
                    <a:lnTo>
                      <a:pt x="3865" y="2508"/>
                    </a:lnTo>
                    <a:lnTo>
                      <a:pt x="3865" y="2506"/>
                    </a:lnTo>
                    <a:lnTo>
                      <a:pt x="3866" y="2506"/>
                    </a:lnTo>
                    <a:lnTo>
                      <a:pt x="3869" y="2506"/>
                    </a:lnTo>
                    <a:lnTo>
                      <a:pt x="3874" y="2506"/>
                    </a:lnTo>
                    <a:lnTo>
                      <a:pt x="3889" y="2501"/>
                    </a:lnTo>
                    <a:lnTo>
                      <a:pt x="3905" y="2496"/>
                    </a:lnTo>
                    <a:lnTo>
                      <a:pt x="3918" y="2486"/>
                    </a:lnTo>
                    <a:lnTo>
                      <a:pt x="3924" y="2481"/>
                    </a:lnTo>
                    <a:lnTo>
                      <a:pt x="3932" y="2477"/>
                    </a:lnTo>
                    <a:lnTo>
                      <a:pt x="3946" y="2465"/>
                    </a:lnTo>
                    <a:lnTo>
                      <a:pt x="3948" y="2461"/>
                    </a:lnTo>
                    <a:lnTo>
                      <a:pt x="3952" y="2459"/>
                    </a:lnTo>
                    <a:lnTo>
                      <a:pt x="3960" y="2453"/>
                    </a:lnTo>
                    <a:lnTo>
                      <a:pt x="3966" y="2444"/>
                    </a:lnTo>
                    <a:lnTo>
                      <a:pt x="3972" y="2436"/>
                    </a:lnTo>
                    <a:lnTo>
                      <a:pt x="3983" y="2420"/>
                    </a:lnTo>
                    <a:lnTo>
                      <a:pt x="3984" y="2415"/>
                    </a:lnTo>
                    <a:lnTo>
                      <a:pt x="3987" y="2411"/>
                    </a:lnTo>
                    <a:lnTo>
                      <a:pt x="3992" y="2403"/>
                    </a:lnTo>
                    <a:lnTo>
                      <a:pt x="4000" y="2386"/>
                    </a:lnTo>
                    <a:lnTo>
                      <a:pt x="4005" y="2366"/>
                    </a:lnTo>
                    <a:lnTo>
                      <a:pt x="4009" y="2347"/>
                    </a:lnTo>
                    <a:lnTo>
                      <a:pt x="4012" y="2327"/>
                    </a:lnTo>
                    <a:lnTo>
                      <a:pt x="4012" y="2317"/>
                    </a:lnTo>
                    <a:lnTo>
                      <a:pt x="4012" y="2312"/>
                    </a:lnTo>
                    <a:lnTo>
                      <a:pt x="4012" y="2309"/>
                    </a:lnTo>
                    <a:lnTo>
                      <a:pt x="4012" y="2308"/>
                    </a:lnTo>
                    <a:lnTo>
                      <a:pt x="4013" y="2308"/>
                    </a:lnTo>
                    <a:lnTo>
                      <a:pt x="4011" y="2276"/>
                    </a:lnTo>
                    <a:lnTo>
                      <a:pt x="4005" y="2247"/>
                    </a:lnTo>
                    <a:lnTo>
                      <a:pt x="3996" y="2219"/>
                    </a:lnTo>
                    <a:lnTo>
                      <a:pt x="3984" y="2195"/>
                    </a:lnTo>
                    <a:lnTo>
                      <a:pt x="3989" y="2180"/>
                    </a:lnTo>
                    <a:lnTo>
                      <a:pt x="4011" y="2118"/>
                    </a:lnTo>
                    <a:lnTo>
                      <a:pt x="4033" y="2057"/>
                    </a:lnTo>
                    <a:lnTo>
                      <a:pt x="4054" y="1995"/>
                    </a:lnTo>
                    <a:lnTo>
                      <a:pt x="4077" y="1934"/>
                    </a:lnTo>
                    <a:lnTo>
                      <a:pt x="4095" y="1870"/>
                    </a:lnTo>
                    <a:lnTo>
                      <a:pt x="4115" y="1807"/>
                    </a:lnTo>
                    <a:lnTo>
                      <a:pt x="4134" y="1742"/>
                    </a:lnTo>
                    <a:lnTo>
                      <a:pt x="4154" y="1678"/>
                    </a:lnTo>
                    <a:lnTo>
                      <a:pt x="4178" y="1582"/>
                    </a:lnTo>
                    <a:lnTo>
                      <a:pt x="4203" y="1486"/>
                    </a:lnTo>
                    <a:lnTo>
                      <a:pt x="4223" y="1391"/>
                    </a:lnTo>
                    <a:lnTo>
                      <a:pt x="4242" y="1295"/>
                    </a:lnTo>
                    <a:lnTo>
                      <a:pt x="4250" y="1246"/>
                    </a:lnTo>
                    <a:lnTo>
                      <a:pt x="4260" y="1199"/>
                    </a:lnTo>
                    <a:lnTo>
                      <a:pt x="4278" y="1102"/>
                    </a:lnTo>
                    <a:lnTo>
                      <a:pt x="4285" y="1052"/>
                    </a:lnTo>
                    <a:lnTo>
                      <a:pt x="4293" y="1003"/>
                    </a:lnTo>
                    <a:lnTo>
                      <a:pt x="4299" y="952"/>
                    </a:lnTo>
                    <a:lnTo>
                      <a:pt x="4307" y="903"/>
                    </a:lnTo>
                    <a:lnTo>
                      <a:pt x="4321" y="801"/>
                    </a:lnTo>
                    <a:lnTo>
                      <a:pt x="4334" y="6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20280" y="6129360"/>
                <a:ext cx="288720" cy="315720"/>
              </a:xfrm>
              <a:custGeom>
                <a:avLst/>
                <a:gdLst/>
                <a:ahLst/>
                <a:rect l="l" t="t" r="r" b="b"/>
                <a:pathLst>
                  <a:path w="1792" h="1959">
                    <a:moveTo>
                      <a:pt x="1318" y="280"/>
                    </a:moveTo>
                    <a:lnTo>
                      <a:pt x="1258" y="204"/>
                    </a:lnTo>
                    <a:lnTo>
                      <a:pt x="1203" y="134"/>
                    </a:lnTo>
                    <a:lnTo>
                      <a:pt x="1151" y="65"/>
                    </a:lnTo>
                    <a:lnTo>
                      <a:pt x="1103" y="0"/>
                    </a:lnTo>
                    <a:lnTo>
                      <a:pt x="942" y="166"/>
                    </a:lnTo>
                    <a:lnTo>
                      <a:pt x="982" y="199"/>
                    </a:lnTo>
                    <a:lnTo>
                      <a:pt x="1025" y="239"/>
                    </a:lnTo>
                    <a:lnTo>
                      <a:pt x="1070" y="285"/>
                    </a:lnTo>
                    <a:lnTo>
                      <a:pt x="1119" y="340"/>
                    </a:lnTo>
                    <a:lnTo>
                      <a:pt x="1158" y="385"/>
                    </a:lnTo>
                    <a:lnTo>
                      <a:pt x="1176" y="407"/>
                    </a:lnTo>
                    <a:lnTo>
                      <a:pt x="1196" y="431"/>
                    </a:lnTo>
                    <a:lnTo>
                      <a:pt x="1232" y="476"/>
                    </a:lnTo>
                    <a:lnTo>
                      <a:pt x="1240" y="487"/>
                    </a:lnTo>
                    <a:lnTo>
                      <a:pt x="1249" y="499"/>
                    </a:lnTo>
                    <a:lnTo>
                      <a:pt x="1268" y="522"/>
                    </a:lnTo>
                    <a:lnTo>
                      <a:pt x="1299" y="565"/>
                    </a:lnTo>
                    <a:lnTo>
                      <a:pt x="1331" y="609"/>
                    </a:lnTo>
                    <a:lnTo>
                      <a:pt x="1360" y="651"/>
                    </a:lnTo>
                    <a:lnTo>
                      <a:pt x="1390" y="695"/>
                    </a:lnTo>
                    <a:lnTo>
                      <a:pt x="1415" y="734"/>
                    </a:lnTo>
                    <a:lnTo>
                      <a:pt x="1439" y="776"/>
                    </a:lnTo>
                    <a:lnTo>
                      <a:pt x="1461" y="815"/>
                    </a:lnTo>
                    <a:lnTo>
                      <a:pt x="1482" y="856"/>
                    </a:lnTo>
                    <a:lnTo>
                      <a:pt x="1501" y="893"/>
                    </a:lnTo>
                    <a:lnTo>
                      <a:pt x="1519" y="932"/>
                    </a:lnTo>
                    <a:lnTo>
                      <a:pt x="1535" y="969"/>
                    </a:lnTo>
                    <a:lnTo>
                      <a:pt x="1542" y="987"/>
                    </a:lnTo>
                    <a:lnTo>
                      <a:pt x="1550" y="1007"/>
                    </a:lnTo>
                    <a:lnTo>
                      <a:pt x="1560" y="1042"/>
                    </a:lnTo>
                    <a:lnTo>
                      <a:pt x="1571" y="1078"/>
                    </a:lnTo>
                    <a:lnTo>
                      <a:pt x="1579" y="1111"/>
                    </a:lnTo>
                    <a:lnTo>
                      <a:pt x="1587" y="1145"/>
                    </a:lnTo>
                    <a:lnTo>
                      <a:pt x="1592" y="1177"/>
                    </a:lnTo>
                    <a:lnTo>
                      <a:pt x="1594" y="1193"/>
                    </a:lnTo>
                    <a:lnTo>
                      <a:pt x="1596" y="1210"/>
                    </a:lnTo>
                    <a:lnTo>
                      <a:pt x="1598" y="1242"/>
                    </a:lnTo>
                    <a:lnTo>
                      <a:pt x="1598" y="1258"/>
                    </a:lnTo>
                    <a:lnTo>
                      <a:pt x="1598" y="1266"/>
                    </a:lnTo>
                    <a:lnTo>
                      <a:pt x="1599" y="1275"/>
                    </a:lnTo>
                    <a:lnTo>
                      <a:pt x="1596" y="1304"/>
                    </a:lnTo>
                    <a:lnTo>
                      <a:pt x="1594" y="1335"/>
                    </a:lnTo>
                    <a:lnTo>
                      <a:pt x="1588" y="1362"/>
                    </a:lnTo>
                    <a:lnTo>
                      <a:pt x="1582" y="1392"/>
                    </a:lnTo>
                    <a:lnTo>
                      <a:pt x="1572" y="1418"/>
                    </a:lnTo>
                    <a:lnTo>
                      <a:pt x="1567" y="1431"/>
                    </a:lnTo>
                    <a:lnTo>
                      <a:pt x="1564" y="1438"/>
                    </a:lnTo>
                    <a:lnTo>
                      <a:pt x="1563" y="1446"/>
                    </a:lnTo>
                    <a:lnTo>
                      <a:pt x="1551" y="1472"/>
                    </a:lnTo>
                    <a:lnTo>
                      <a:pt x="1538" y="1500"/>
                    </a:lnTo>
                    <a:lnTo>
                      <a:pt x="1522" y="1524"/>
                    </a:lnTo>
                    <a:lnTo>
                      <a:pt x="1505" y="1548"/>
                    </a:lnTo>
                    <a:lnTo>
                      <a:pt x="1486" y="1569"/>
                    </a:lnTo>
                    <a:lnTo>
                      <a:pt x="1468" y="1592"/>
                    </a:lnTo>
                    <a:lnTo>
                      <a:pt x="1445" y="1610"/>
                    </a:lnTo>
                    <a:lnTo>
                      <a:pt x="1439" y="1614"/>
                    </a:lnTo>
                    <a:lnTo>
                      <a:pt x="1433" y="1619"/>
                    </a:lnTo>
                    <a:lnTo>
                      <a:pt x="1423" y="1630"/>
                    </a:lnTo>
                    <a:lnTo>
                      <a:pt x="1399" y="1647"/>
                    </a:lnTo>
                    <a:lnTo>
                      <a:pt x="1386" y="1655"/>
                    </a:lnTo>
                    <a:lnTo>
                      <a:pt x="1379" y="1659"/>
                    </a:lnTo>
                    <a:lnTo>
                      <a:pt x="1374" y="1665"/>
                    </a:lnTo>
                    <a:lnTo>
                      <a:pt x="1366" y="1667"/>
                    </a:lnTo>
                    <a:lnTo>
                      <a:pt x="1359" y="1671"/>
                    </a:lnTo>
                    <a:lnTo>
                      <a:pt x="1346" y="1679"/>
                    </a:lnTo>
                    <a:lnTo>
                      <a:pt x="1317" y="1694"/>
                    </a:lnTo>
                    <a:lnTo>
                      <a:pt x="1301" y="1699"/>
                    </a:lnTo>
                    <a:lnTo>
                      <a:pt x="1293" y="1702"/>
                    </a:lnTo>
                    <a:lnTo>
                      <a:pt x="1286" y="1706"/>
                    </a:lnTo>
                    <a:lnTo>
                      <a:pt x="1256" y="1719"/>
                    </a:lnTo>
                    <a:lnTo>
                      <a:pt x="1246" y="1720"/>
                    </a:lnTo>
                    <a:lnTo>
                      <a:pt x="1239" y="1723"/>
                    </a:lnTo>
                    <a:lnTo>
                      <a:pt x="1223" y="1728"/>
                    </a:lnTo>
                    <a:lnTo>
                      <a:pt x="1188" y="1739"/>
                    </a:lnTo>
                    <a:lnTo>
                      <a:pt x="1152" y="1747"/>
                    </a:lnTo>
                    <a:lnTo>
                      <a:pt x="1134" y="1751"/>
                    </a:lnTo>
                    <a:lnTo>
                      <a:pt x="1117" y="1756"/>
                    </a:lnTo>
                    <a:lnTo>
                      <a:pt x="1077" y="1761"/>
                    </a:lnTo>
                    <a:lnTo>
                      <a:pt x="1037" y="1767"/>
                    </a:lnTo>
                    <a:lnTo>
                      <a:pt x="995" y="1769"/>
                    </a:lnTo>
                    <a:lnTo>
                      <a:pt x="952" y="1773"/>
                    </a:lnTo>
                    <a:lnTo>
                      <a:pt x="907" y="1773"/>
                    </a:lnTo>
                    <a:lnTo>
                      <a:pt x="883" y="1773"/>
                    </a:lnTo>
                    <a:lnTo>
                      <a:pt x="872" y="1773"/>
                    </a:lnTo>
                    <a:lnTo>
                      <a:pt x="861" y="1774"/>
                    </a:lnTo>
                    <a:lnTo>
                      <a:pt x="813" y="1773"/>
                    </a:lnTo>
                    <a:lnTo>
                      <a:pt x="766" y="1773"/>
                    </a:lnTo>
                    <a:lnTo>
                      <a:pt x="739" y="1771"/>
                    </a:lnTo>
                    <a:lnTo>
                      <a:pt x="726" y="1769"/>
                    </a:lnTo>
                    <a:lnTo>
                      <a:pt x="714" y="1769"/>
                    </a:lnTo>
                    <a:lnTo>
                      <a:pt x="687" y="1767"/>
                    </a:lnTo>
                    <a:lnTo>
                      <a:pt x="674" y="1765"/>
                    </a:lnTo>
                    <a:lnTo>
                      <a:pt x="662" y="1765"/>
                    </a:lnTo>
                    <a:lnTo>
                      <a:pt x="609" y="1759"/>
                    </a:lnTo>
                    <a:lnTo>
                      <a:pt x="555" y="1753"/>
                    </a:lnTo>
                    <a:lnTo>
                      <a:pt x="498" y="1745"/>
                    </a:lnTo>
                    <a:lnTo>
                      <a:pt x="441" y="1737"/>
                    </a:lnTo>
                    <a:lnTo>
                      <a:pt x="383" y="1727"/>
                    </a:lnTo>
                    <a:lnTo>
                      <a:pt x="352" y="1721"/>
                    </a:lnTo>
                    <a:lnTo>
                      <a:pt x="323" y="1718"/>
                    </a:lnTo>
                    <a:lnTo>
                      <a:pt x="185" y="1690"/>
                    </a:lnTo>
                    <a:lnTo>
                      <a:pt x="116" y="1674"/>
                    </a:lnTo>
                    <a:lnTo>
                      <a:pt x="49" y="1658"/>
                    </a:lnTo>
                    <a:lnTo>
                      <a:pt x="25" y="1751"/>
                    </a:lnTo>
                    <a:lnTo>
                      <a:pt x="0" y="1847"/>
                    </a:lnTo>
                    <a:lnTo>
                      <a:pt x="92" y="1867"/>
                    </a:lnTo>
                    <a:lnTo>
                      <a:pt x="187" y="1886"/>
                    </a:lnTo>
                    <a:lnTo>
                      <a:pt x="279" y="1903"/>
                    </a:lnTo>
                    <a:lnTo>
                      <a:pt x="372" y="1919"/>
                    </a:lnTo>
                    <a:lnTo>
                      <a:pt x="437" y="1927"/>
                    </a:lnTo>
                    <a:lnTo>
                      <a:pt x="501" y="1935"/>
                    </a:lnTo>
                    <a:lnTo>
                      <a:pt x="531" y="1937"/>
                    </a:lnTo>
                    <a:lnTo>
                      <a:pt x="563" y="1941"/>
                    </a:lnTo>
                    <a:lnTo>
                      <a:pt x="593" y="1944"/>
                    </a:lnTo>
                    <a:lnTo>
                      <a:pt x="625" y="1948"/>
                    </a:lnTo>
                    <a:lnTo>
                      <a:pt x="683" y="1952"/>
                    </a:lnTo>
                    <a:lnTo>
                      <a:pt x="742" y="1956"/>
                    </a:lnTo>
                    <a:lnTo>
                      <a:pt x="770" y="1956"/>
                    </a:lnTo>
                    <a:lnTo>
                      <a:pt x="799" y="1957"/>
                    </a:lnTo>
                    <a:lnTo>
                      <a:pt x="854" y="1959"/>
                    </a:lnTo>
                    <a:lnTo>
                      <a:pt x="907" y="1957"/>
                    </a:lnTo>
                    <a:lnTo>
                      <a:pt x="919" y="1956"/>
                    </a:lnTo>
                    <a:lnTo>
                      <a:pt x="932" y="1956"/>
                    </a:lnTo>
                    <a:lnTo>
                      <a:pt x="959" y="1956"/>
                    </a:lnTo>
                    <a:lnTo>
                      <a:pt x="1009" y="1952"/>
                    </a:lnTo>
                    <a:lnTo>
                      <a:pt x="1058" y="1949"/>
                    </a:lnTo>
                    <a:lnTo>
                      <a:pt x="1069" y="1947"/>
                    </a:lnTo>
                    <a:lnTo>
                      <a:pt x="1081" y="1945"/>
                    </a:lnTo>
                    <a:lnTo>
                      <a:pt x="1105" y="1943"/>
                    </a:lnTo>
                    <a:lnTo>
                      <a:pt x="1115" y="1940"/>
                    </a:lnTo>
                    <a:lnTo>
                      <a:pt x="1127" y="1939"/>
                    </a:lnTo>
                    <a:lnTo>
                      <a:pt x="1151" y="1936"/>
                    </a:lnTo>
                    <a:lnTo>
                      <a:pt x="1196" y="1928"/>
                    </a:lnTo>
                    <a:lnTo>
                      <a:pt x="1240" y="1920"/>
                    </a:lnTo>
                    <a:lnTo>
                      <a:pt x="1280" y="1908"/>
                    </a:lnTo>
                    <a:lnTo>
                      <a:pt x="1319" y="1896"/>
                    </a:lnTo>
                    <a:lnTo>
                      <a:pt x="1356" y="1883"/>
                    </a:lnTo>
                    <a:lnTo>
                      <a:pt x="1394" y="1870"/>
                    </a:lnTo>
                    <a:lnTo>
                      <a:pt x="1428" y="1854"/>
                    </a:lnTo>
                    <a:lnTo>
                      <a:pt x="1461" y="1838"/>
                    </a:lnTo>
                    <a:lnTo>
                      <a:pt x="1493" y="1820"/>
                    </a:lnTo>
                    <a:lnTo>
                      <a:pt x="1525" y="1801"/>
                    </a:lnTo>
                    <a:lnTo>
                      <a:pt x="1553" y="1780"/>
                    </a:lnTo>
                    <a:lnTo>
                      <a:pt x="1580" y="1759"/>
                    </a:lnTo>
                    <a:lnTo>
                      <a:pt x="1606" y="1735"/>
                    </a:lnTo>
                    <a:lnTo>
                      <a:pt x="1631" y="1711"/>
                    </a:lnTo>
                    <a:lnTo>
                      <a:pt x="1653" y="1684"/>
                    </a:lnTo>
                    <a:lnTo>
                      <a:pt x="1674" y="1658"/>
                    </a:lnTo>
                    <a:lnTo>
                      <a:pt x="1678" y="1650"/>
                    </a:lnTo>
                    <a:lnTo>
                      <a:pt x="1684" y="1643"/>
                    </a:lnTo>
                    <a:lnTo>
                      <a:pt x="1694" y="1630"/>
                    </a:lnTo>
                    <a:lnTo>
                      <a:pt x="1698" y="1622"/>
                    </a:lnTo>
                    <a:lnTo>
                      <a:pt x="1704" y="1616"/>
                    </a:lnTo>
                    <a:lnTo>
                      <a:pt x="1714" y="1602"/>
                    </a:lnTo>
                    <a:lnTo>
                      <a:pt x="1730" y="1570"/>
                    </a:lnTo>
                    <a:lnTo>
                      <a:pt x="1737" y="1555"/>
                    </a:lnTo>
                    <a:lnTo>
                      <a:pt x="1745" y="1540"/>
                    </a:lnTo>
                    <a:lnTo>
                      <a:pt x="1750" y="1523"/>
                    </a:lnTo>
                    <a:lnTo>
                      <a:pt x="1757" y="1507"/>
                    </a:lnTo>
                    <a:lnTo>
                      <a:pt x="1767" y="1475"/>
                    </a:lnTo>
                    <a:lnTo>
                      <a:pt x="1775" y="1441"/>
                    </a:lnTo>
                    <a:lnTo>
                      <a:pt x="1783" y="1407"/>
                    </a:lnTo>
                    <a:lnTo>
                      <a:pt x="1788" y="1373"/>
                    </a:lnTo>
                    <a:lnTo>
                      <a:pt x="1792" y="1339"/>
                    </a:lnTo>
                    <a:lnTo>
                      <a:pt x="1792" y="1302"/>
                    </a:lnTo>
                    <a:lnTo>
                      <a:pt x="1792" y="1264"/>
                    </a:lnTo>
                    <a:lnTo>
                      <a:pt x="1790" y="1226"/>
                    </a:lnTo>
                    <a:lnTo>
                      <a:pt x="1786" y="1189"/>
                    </a:lnTo>
                    <a:lnTo>
                      <a:pt x="1779" y="1149"/>
                    </a:lnTo>
                    <a:lnTo>
                      <a:pt x="1776" y="1139"/>
                    </a:lnTo>
                    <a:lnTo>
                      <a:pt x="1775" y="1129"/>
                    </a:lnTo>
                    <a:lnTo>
                      <a:pt x="1772" y="1111"/>
                    </a:lnTo>
                    <a:lnTo>
                      <a:pt x="1767" y="1090"/>
                    </a:lnTo>
                    <a:lnTo>
                      <a:pt x="1765" y="1079"/>
                    </a:lnTo>
                    <a:lnTo>
                      <a:pt x="1763" y="1070"/>
                    </a:lnTo>
                    <a:lnTo>
                      <a:pt x="1753" y="1030"/>
                    </a:lnTo>
                    <a:lnTo>
                      <a:pt x="1745" y="1007"/>
                    </a:lnTo>
                    <a:lnTo>
                      <a:pt x="1738" y="986"/>
                    </a:lnTo>
                    <a:lnTo>
                      <a:pt x="1723" y="944"/>
                    </a:lnTo>
                    <a:lnTo>
                      <a:pt x="1718" y="932"/>
                    </a:lnTo>
                    <a:lnTo>
                      <a:pt x="1714" y="921"/>
                    </a:lnTo>
                    <a:lnTo>
                      <a:pt x="1706" y="900"/>
                    </a:lnTo>
                    <a:lnTo>
                      <a:pt x="1688" y="858"/>
                    </a:lnTo>
                    <a:lnTo>
                      <a:pt x="1666" y="813"/>
                    </a:lnTo>
                    <a:lnTo>
                      <a:pt x="1644" y="768"/>
                    </a:lnTo>
                    <a:lnTo>
                      <a:pt x="1620" y="721"/>
                    </a:lnTo>
                    <a:lnTo>
                      <a:pt x="1595" y="676"/>
                    </a:lnTo>
                    <a:lnTo>
                      <a:pt x="1566" y="627"/>
                    </a:lnTo>
                    <a:lnTo>
                      <a:pt x="1535" y="579"/>
                    </a:lnTo>
                    <a:lnTo>
                      <a:pt x="1504" y="530"/>
                    </a:lnTo>
                    <a:lnTo>
                      <a:pt x="1470" y="483"/>
                    </a:lnTo>
                    <a:lnTo>
                      <a:pt x="1435" y="432"/>
                    </a:lnTo>
                    <a:lnTo>
                      <a:pt x="1398" y="382"/>
                    </a:lnTo>
                    <a:lnTo>
                      <a:pt x="1358" y="330"/>
                    </a:lnTo>
                    <a:lnTo>
                      <a:pt x="1318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56640" y="5985000"/>
                <a:ext cx="82440" cy="104760"/>
              </a:xfrm>
              <a:custGeom>
                <a:avLst/>
                <a:gdLst/>
                <a:ahLst/>
                <a:rect l="l" t="t" r="r" b="b"/>
                <a:pathLst>
                  <a:path w="509" h="646">
                    <a:moveTo>
                      <a:pt x="363" y="646"/>
                    </a:moveTo>
                    <a:lnTo>
                      <a:pt x="274" y="563"/>
                    </a:lnTo>
                    <a:lnTo>
                      <a:pt x="188" y="485"/>
                    </a:lnTo>
                    <a:lnTo>
                      <a:pt x="105" y="409"/>
                    </a:lnTo>
                    <a:lnTo>
                      <a:pt x="26" y="336"/>
                    </a:lnTo>
                    <a:lnTo>
                      <a:pt x="0" y="0"/>
                    </a:lnTo>
                    <a:lnTo>
                      <a:pt x="32" y="33"/>
                    </a:lnTo>
                    <a:lnTo>
                      <a:pt x="65" y="67"/>
                    </a:lnTo>
                    <a:lnTo>
                      <a:pt x="131" y="132"/>
                    </a:lnTo>
                    <a:lnTo>
                      <a:pt x="195" y="195"/>
                    </a:lnTo>
                    <a:lnTo>
                      <a:pt x="227" y="225"/>
                    </a:lnTo>
                    <a:lnTo>
                      <a:pt x="260" y="257"/>
                    </a:lnTo>
                    <a:lnTo>
                      <a:pt x="274" y="270"/>
                    </a:lnTo>
                    <a:lnTo>
                      <a:pt x="290" y="285"/>
                    </a:lnTo>
                    <a:lnTo>
                      <a:pt x="322" y="314"/>
                    </a:lnTo>
                    <a:lnTo>
                      <a:pt x="386" y="371"/>
                    </a:lnTo>
                    <a:lnTo>
                      <a:pt x="446" y="425"/>
                    </a:lnTo>
                    <a:lnTo>
                      <a:pt x="509" y="478"/>
                    </a:lnTo>
                    <a:lnTo>
                      <a:pt x="363" y="64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8593200" y="5516640"/>
              <a:ext cx="144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7996320" y="5516640"/>
              <a:ext cx="1012680" cy="887400"/>
              <a:chOff x="7996320" y="5516640"/>
              <a:chExt cx="1012680" cy="887400"/>
            </a:xfrm>
          </p:grpSpPr>
          <p:sp>
            <p:nvSpPr>
              <p:cNvPr id="68" name=""/>
              <p:cNvSpPr/>
              <p:nvPr/>
            </p:nvSpPr>
            <p:spPr>
              <a:xfrm>
                <a:off x="8678880" y="5859360"/>
                <a:ext cx="36360" cy="47880"/>
              </a:xfrm>
              <a:custGeom>
                <a:avLst/>
                <a:gdLst/>
                <a:ahLst/>
                <a:rect l="l" t="t" r="r" b="b"/>
                <a:pathLst>
                  <a:path w="226" h="291">
                    <a:moveTo>
                      <a:pt x="226" y="238"/>
                    </a:moveTo>
                    <a:lnTo>
                      <a:pt x="223" y="209"/>
                    </a:lnTo>
                    <a:lnTo>
                      <a:pt x="222" y="201"/>
                    </a:lnTo>
                    <a:lnTo>
                      <a:pt x="222" y="195"/>
                    </a:lnTo>
                    <a:lnTo>
                      <a:pt x="222" y="181"/>
                    </a:lnTo>
                    <a:lnTo>
                      <a:pt x="215" y="123"/>
                    </a:lnTo>
                    <a:lnTo>
                      <a:pt x="204" y="62"/>
                    </a:lnTo>
                    <a:lnTo>
                      <a:pt x="198" y="30"/>
                    </a:lnTo>
                    <a:lnTo>
                      <a:pt x="192" y="0"/>
                    </a:lnTo>
                    <a:lnTo>
                      <a:pt x="96" y="28"/>
                    </a:lnTo>
                    <a:lnTo>
                      <a:pt x="0" y="58"/>
                    </a:lnTo>
                    <a:lnTo>
                      <a:pt x="8" y="94"/>
                    </a:lnTo>
                    <a:lnTo>
                      <a:pt x="27" y="191"/>
                    </a:lnTo>
                    <a:lnTo>
                      <a:pt x="45" y="291"/>
                    </a:lnTo>
                    <a:lnTo>
                      <a:pt x="92" y="275"/>
                    </a:lnTo>
                    <a:lnTo>
                      <a:pt x="138" y="262"/>
                    </a:lnTo>
                    <a:lnTo>
                      <a:pt x="182" y="249"/>
                    </a:lnTo>
                    <a:lnTo>
                      <a:pt x="226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690040" y="5929200"/>
                <a:ext cx="44280" cy="320760"/>
              </a:xfrm>
              <a:custGeom>
                <a:avLst/>
                <a:gdLst/>
                <a:ahLst/>
                <a:rect l="l" t="t" r="r" b="b"/>
                <a:pathLst>
                  <a:path w="272" h="1990">
                    <a:moveTo>
                      <a:pt x="203" y="0"/>
                    </a:moveTo>
                    <a:lnTo>
                      <a:pt x="160" y="8"/>
                    </a:lnTo>
                    <a:lnTo>
                      <a:pt x="138" y="13"/>
                    </a:lnTo>
                    <a:lnTo>
                      <a:pt x="114" y="20"/>
                    </a:lnTo>
                    <a:lnTo>
                      <a:pt x="87" y="25"/>
                    </a:lnTo>
                    <a:lnTo>
                      <a:pt x="60" y="32"/>
                    </a:lnTo>
                    <a:lnTo>
                      <a:pt x="30" y="38"/>
                    </a:lnTo>
                    <a:lnTo>
                      <a:pt x="0" y="46"/>
                    </a:lnTo>
                    <a:lnTo>
                      <a:pt x="19" y="219"/>
                    </a:lnTo>
                    <a:lnTo>
                      <a:pt x="30" y="350"/>
                    </a:lnTo>
                    <a:lnTo>
                      <a:pt x="41" y="486"/>
                    </a:lnTo>
                    <a:lnTo>
                      <a:pt x="44" y="562"/>
                    </a:lnTo>
                    <a:lnTo>
                      <a:pt x="48" y="640"/>
                    </a:lnTo>
                    <a:lnTo>
                      <a:pt x="54" y="798"/>
                    </a:lnTo>
                    <a:lnTo>
                      <a:pt x="58" y="958"/>
                    </a:lnTo>
                    <a:lnTo>
                      <a:pt x="61" y="1122"/>
                    </a:lnTo>
                    <a:lnTo>
                      <a:pt x="58" y="1155"/>
                    </a:lnTo>
                    <a:lnTo>
                      <a:pt x="58" y="1191"/>
                    </a:lnTo>
                    <a:lnTo>
                      <a:pt x="57" y="1229"/>
                    </a:lnTo>
                    <a:lnTo>
                      <a:pt x="57" y="1272"/>
                    </a:lnTo>
                    <a:lnTo>
                      <a:pt x="54" y="1361"/>
                    </a:lnTo>
                    <a:lnTo>
                      <a:pt x="52" y="1460"/>
                    </a:lnTo>
                    <a:lnTo>
                      <a:pt x="46" y="1567"/>
                    </a:lnTo>
                    <a:lnTo>
                      <a:pt x="44" y="1624"/>
                    </a:lnTo>
                    <a:lnTo>
                      <a:pt x="42" y="1685"/>
                    </a:lnTo>
                    <a:lnTo>
                      <a:pt x="37" y="1811"/>
                    </a:lnTo>
                    <a:lnTo>
                      <a:pt x="34" y="1879"/>
                    </a:lnTo>
                    <a:lnTo>
                      <a:pt x="32" y="1949"/>
                    </a:lnTo>
                    <a:lnTo>
                      <a:pt x="62" y="1990"/>
                    </a:lnTo>
                    <a:lnTo>
                      <a:pt x="245" y="1856"/>
                    </a:lnTo>
                    <a:lnTo>
                      <a:pt x="253" y="1728"/>
                    </a:lnTo>
                    <a:lnTo>
                      <a:pt x="256" y="1667"/>
                    </a:lnTo>
                    <a:lnTo>
                      <a:pt x="260" y="1610"/>
                    </a:lnTo>
                    <a:lnTo>
                      <a:pt x="261" y="1593"/>
                    </a:lnTo>
                    <a:lnTo>
                      <a:pt x="265" y="1487"/>
                    </a:lnTo>
                    <a:lnTo>
                      <a:pt x="266" y="1396"/>
                    </a:lnTo>
                    <a:lnTo>
                      <a:pt x="269" y="1306"/>
                    </a:lnTo>
                    <a:lnTo>
                      <a:pt x="269" y="1260"/>
                    </a:lnTo>
                    <a:lnTo>
                      <a:pt x="270" y="1215"/>
                    </a:lnTo>
                    <a:lnTo>
                      <a:pt x="270" y="1169"/>
                    </a:lnTo>
                    <a:lnTo>
                      <a:pt x="272" y="1124"/>
                    </a:lnTo>
                    <a:lnTo>
                      <a:pt x="270" y="999"/>
                    </a:lnTo>
                    <a:lnTo>
                      <a:pt x="268" y="877"/>
                    </a:lnTo>
                    <a:lnTo>
                      <a:pt x="264" y="755"/>
                    </a:lnTo>
                    <a:lnTo>
                      <a:pt x="260" y="637"/>
                    </a:lnTo>
                    <a:lnTo>
                      <a:pt x="252" y="501"/>
                    </a:lnTo>
                    <a:lnTo>
                      <a:pt x="242" y="368"/>
                    </a:lnTo>
                    <a:lnTo>
                      <a:pt x="233" y="273"/>
                    </a:lnTo>
                    <a:lnTo>
                      <a:pt x="224" y="180"/>
                    </a:lnTo>
                    <a:lnTo>
                      <a:pt x="213" y="8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96320" y="5775480"/>
                <a:ext cx="376200" cy="414360"/>
              </a:xfrm>
              <a:custGeom>
                <a:avLst/>
                <a:gdLst/>
                <a:ahLst/>
                <a:rect l="l" t="t" r="r" b="b"/>
                <a:pathLst>
                  <a:path w="2329" h="2573">
                    <a:moveTo>
                      <a:pt x="670" y="83"/>
                    </a:moveTo>
                    <a:lnTo>
                      <a:pt x="613" y="106"/>
                    </a:lnTo>
                    <a:lnTo>
                      <a:pt x="559" y="131"/>
                    </a:lnTo>
                    <a:lnTo>
                      <a:pt x="507" y="159"/>
                    </a:lnTo>
                    <a:lnTo>
                      <a:pt x="459" y="191"/>
                    </a:lnTo>
                    <a:lnTo>
                      <a:pt x="412" y="224"/>
                    </a:lnTo>
                    <a:lnTo>
                      <a:pt x="368" y="262"/>
                    </a:lnTo>
                    <a:lnTo>
                      <a:pt x="327" y="302"/>
                    </a:lnTo>
                    <a:lnTo>
                      <a:pt x="289" y="346"/>
                    </a:lnTo>
                    <a:lnTo>
                      <a:pt x="250" y="389"/>
                    </a:lnTo>
                    <a:lnTo>
                      <a:pt x="217" y="438"/>
                    </a:lnTo>
                    <a:lnTo>
                      <a:pt x="185" y="490"/>
                    </a:lnTo>
                    <a:lnTo>
                      <a:pt x="157" y="544"/>
                    </a:lnTo>
                    <a:lnTo>
                      <a:pt x="130" y="601"/>
                    </a:lnTo>
                    <a:lnTo>
                      <a:pt x="107" y="661"/>
                    </a:lnTo>
                    <a:lnTo>
                      <a:pt x="84" y="723"/>
                    </a:lnTo>
                    <a:lnTo>
                      <a:pt x="67" y="789"/>
                    </a:lnTo>
                    <a:lnTo>
                      <a:pt x="46" y="870"/>
                    </a:lnTo>
                    <a:lnTo>
                      <a:pt x="37" y="913"/>
                    </a:lnTo>
                    <a:lnTo>
                      <a:pt x="30" y="958"/>
                    </a:lnTo>
                    <a:lnTo>
                      <a:pt x="22" y="1001"/>
                    </a:lnTo>
                    <a:lnTo>
                      <a:pt x="17" y="1048"/>
                    </a:lnTo>
                    <a:lnTo>
                      <a:pt x="12" y="1094"/>
                    </a:lnTo>
                    <a:lnTo>
                      <a:pt x="9" y="1143"/>
                    </a:lnTo>
                    <a:lnTo>
                      <a:pt x="2" y="1227"/>
                    </a:lnTo>
                    <a:lnTo>
                      <a:pt x="1" y="1313"/>
                    </a:lnTo>
                    <a:lnTo>
                      <a:pt x="0" y="1403"/>
                    </a:lnTo>
                    <a:lnTo>
                      <a:pt x="4" y="1497"/>
                    </a:lnTo>
                    <a:lnTo>
                      <a:pt x="8" y="1592"/>
                    </a:lnTo>
                    <a:lnTo>
                      <a:pt x="17" y="1692"/>
                    </a:lnTo>
                    <a:lnTo>
                      <a:pt x="29" y="1794"/>
                    </a:lnTo>
                    <a:lnTo>
                      <a:pt x="43" y="1900"/>
                    </a:lnTo>
                    <a:lnTo>
                      <a:pt x="57" y="1995"/>
                    </a:lnTo>
                    <a:lnTo>
                      <a:pt x="236" y="1880"/>
                    </a:lnTo>
                    <a:lnTo>
                      <a:pt x="261" y="1896"/>
                    </a:lnTo>
                    <a:lnTo>
                      <a:pt x="387" y="1973"/>
                    </a:lnTo>
                    <a:lnTo>
                      <a:pt x="388" y="1987"/>
                    </a:lnTo>
                    <a:lnTo>
                      <a:pt x="392" y="2004"/>
                    </a:lnTo>
                    <a:lnTo>
                      <a:pt x="396" y="2023"/>
                    </a:lnTo>
                    <a:lnTo>
                      <a:pt x="402" y="2043"/>
                    </a:lnTo>
                    <a:lnTo>
                      <a:pt x="410" y="2060"/>
                    </a:lnTo>
                    <a:lnTo>
                      <a:pt x="421" y="2077"/>
                    </a:lnTo>
                    <a:lnTo>
                      <a:pt x="432" y="2092"/>
                    </a:lnTo>
                    <a:lnTo>
                      <a:pt x="445" y="2108"/>
                    </a:lnTo>
                    <a:lnTo>
                      <a:pt x="458" y="2121"/>
                    </a:lnTo>
                    <a:lnTo>
                      <a:pt x="475" y="2134"/>
                    </a:lnTo>
                    <a:lnTo>
                      <a:pt x="491" y="2143"/>
                    </a:lnTo>
                    <a:lnTo>
                      <a:pt x="507" y="2153"/>
                    </a:lnTo>
                    <a:lnTo>
                      <a:pt x="523" y="2159"/>
                    </a:lnTo>
                    <a:lnTo>
                      <a:pt x="542" y="2165"/>
                    </a:lnTo>
                    <a:lnTo>
                      <a:pt x="559" y="2167"/>
                    </a:lnTo>
                    <a:lnTo>
                      <a:pt x="577" y="2169"/>
                    </a:lnTo>
                    <a:lnTo>
                      <a:pt x="596" y="2167"/>
                    </a:lnTo>
                    <a:lnTo>
                      <a:pt x="616" y="2165"/>
                    </a:lnTo>
                    <a:lnTo>
                      <a:pt x="620" y="2162"/>
                    </a:lnTo>
                    <a:lnTo>
                      <a:pt x="626" y="2161"/>
                    </a:lnTo>
                    <a:lnTo>
                      <a:pt x="642" y="2155"/>
                    </a:lnTo>
                    <a:lnTo>
                      <a:pt x="662" y="2147"/>
                    </a:lnTo>
                    <a:lnTo>
                      <a:pt x="687" y="2138"/>
                    </a:lnTo>
                    <a:lnTo>
                      <a:pt x="777" y="2183"/>
                    </a:lnTo>
                    <a:lnTo>
                      <a:pt x="870" y="2227"/>
                    </a:lnTo>
                    <a:lnTo>
                      <a:pt x="915" y="2247"/>
                    </a:lnTo>
                    <a:lnTo>
                      <a:pt x="962" y="2268"/>
                    </a:lnTo>
                    <a:lnTo>
                      <a:pt x="1054" y="2306"/>
                    </a:lnTo>
                    <a:lnTo>
                      <a:pt x="1144" y="2342"/>
                    </a:lnTo>
                    <a:lnTo>
                      <a:pt x="1189" y="2358"/>
                    </a:lnTo>
                    <a:lnTo>
                      <a:pt x="1212" y="2366"/>
                    </a:lnTo>
                    <a:lnTo>
                      <a:pt x="1236" y="2375"/>
                    </a:lnTo>
                    <a:lnTo>
                      <a:pt x="1326" y="2406"/>
                    </a:lnTo>
                    <a:lnTo>
                      <a:pt x="1417" y="2435"/>
                    </a:lnTo>
                    <a:lnTo>
                      <a:pt x="1439" y="2440"/>
                    </a:lnTo>
                    <a:lnTo>
                      <a:pt x="1449" y="2443"/>
                    </a:lnTo>
                    <a:lnTo>
                      <a:pt x="1461" y="2447"/>
                    </a:lnTo>
                    <a:lnTo>
                      <a:pt x="1506" y="2460"/>
                    </a:lnTo>
                    <a:lnTo>
                      <a:pt x="1596" y="2484"/>
                    </a:lnTo>
                    <a:lnTo>
                      <a:pt x="1686" y="2504"/>
                    </a:lnTo>
                    <a:lnTo>
                      <a:pt x="1776" y="2524"/>
                    </a:lnTo>
                    <a:lnTo>
                      <a:pt x="1864" y="2538"/>
                    </a:lnTo>
                    <a:lnTo>
                      <a:pt x="1954" y="2553"/>
                    </a:lnTo>
                    <a:lnTo>
                      <a:pt x="2041" y="2563"/>
                    </a:lnTo>
                    <a:lnTo>
                      <a:pt x="2131" y="2573"/>
                    </a:lnTo>
                    <a:lnTo>
                      <a:pt x="2125" y="2450"/>
                    </a:lnTo>
                    <a:lnTo>
                      <a:pt x="2122" y="2326"/>
                    </a:lnTo>
                    <a:lnTo>
                      <a:pt x="2121" y="2275"/>
                    </a:lnTo>
                    <a:lnTo>
                      <a:pt x="2120" y="2081"/>
                    </a:lnTo>
                    <a:lnTo>
                      <a:pt x="2118" y="1980"/>
                    </a:lnTo>
                    <a:lnTo>
                      <a:pt x="2120" y="1882"/>
                    </a:lnTo>
                    <a:lnTo>
                      <a:pt x="2126" y="1690"/>
                    </a:lnTo>
                    <a:lnTo>
                      <a:pt x="2126" y="1684"/>
                    </a:lnTo>
                    <a:lnTo>
                      <a:pt x="2134" y="1519"/>
                    </a:lnTo>
                    <a:lnTo>
                      <a:pt x="2139" y="1444"/>
                    </a:lnTo>
                    <a:lnTo>
                      <a:pt x="2149" y="1309"/>
                    </a:lnTo>
                    <a:lnTo>
                      <a:pt x="2161" y="1178"/>
                    </a:lnTo>
                    <a:lnTo>
                      <a:pt x="2165" y="1143"/>
                    </a:lnTo>
                    <a:lnTo>
                      <a:pt x="2179" y="1011"/>
                    </a:lnTo>
                    <a:lnTo>
                      <a:pt x="2179" y="1007"/>
                    </a:lnTo>
                    <a:lnTo>
                      <a:pt x="2199" y="852"/>
                    </a:lnTo>
                    <a:lnTo>
                      <a:pt x="2210" y="775"/>
                    </a:lnTo>
                    <a:lnTo>
                      <a:pt x="2223" y="701"/>
                    </a:lnTo>
                    <a:lnTo>
                      <a:pt x="2248" y="554"/>
                    </a:lnTo>
                    <a:lnTo>
                      <a:pt x="2279" y="410"/>
                    </a:lnTo>
                    <a:lnTo>
                      <a:pt x="2285" y="379"/>
                    </a:lnTo>
                    <a:lnTo>
                      <a:pt x="2294" y="343"/>
                    </a:lnTo>
                    <a:lnTo>
                      <a:pt x="2304" y="303"/>
                    </a:lnTo>
                    <a:lnTo>
                      <a:pt x="2317" y="259"/>
                    </a:lnTo>
                    <a:lnTo>
                      <a:pt x="2318" y="253"/>
                    </a:lnTo>
                    <a:lnTo>
                      <a:pt x="2321" y="245"/>
                    </a:lnTo>
                    <a:lnTo>
                      <a:pt x="2324" y="233"/>
                    </a:lnTo>
                    <a:lnTo>
                      <a:pt x="2329" y="218"/>
                    </a:lnTo>
                    <a:lnTo>
                      <a:pt x="2202" y="177"/>
                    </a:lnTo>
                    <a:lnTo>
                      <a:pt x="2080" y="142"/>
                    </a:lnTo>
                    <a:lnTo>
                      <a:pt x="2019" y="124"/>
                    </a:lnTo>
                    <a:lnTo>
                      <a:pt x="1961" y="110"/>
                    </a:lnTo>
                    <a:lnTo>
                      <a:pt x="1845" y="83"/>
                    </a:lnTo>
                    <a:lnTo>
                      <a:pt x="1754" y="63"/>
                    </a:lnTo>
                    <a:lnTo>
                      <a:pt x="1665" y="46"/>
                    </a:lnTo>
                    <a:lnTo>
                      <a:pt x="1579" y="32"/>
                    </a:lnTo>
                    <a:lnTo>
                      <a:pt x="1496" y="20"/>
                    </a:lnTo>
                    <a:lnTo>
                      <a:pt x="1413" y="10"/>
                    </a:lnTo>
                    <a:lnTo>
                      <a:pt x="1335" y="4"/>
                    </a:lnTo>
                    <a:lnTo>
                      <a:pt x="1257" y="0"/>
                    </a:lnTo>
                    <a:lnTo>
                      <a:pt x="1184" y="0"/>
                    </a:lnTo>
                    <a:lnTo>
                      <a:pt x="1111" y="0"/>
                    </a:lnTo>
                    <a:lnTo>
                      <a:pt x="1041" y="4"/>
                    </a:lnTo>
                    <a:lnTo>
                      <a:pt x="973" y="10"/>
                    </a:lnTo>
                    <a:lnTo>
                      <a:pt x="909" y="20"/>
                    </a:lnTo>
                    <a:lnTo>
                      <a:pt x="844" y="32"/>
                    </a:lnTo>
                    <a:lnTo>
                      <a:pt x="784" y="46"/>
                    </a:lnTo>
                    <a:lnTo>
                      <a:pt x="724" y="63"/>
                    </a:lnTo>
                    <a:lnTo>
                      <a:pt x="670" y="83"/>
                    </a:lnTo>
                    <a:close/>
                    <a:moveTo>
                      <a:pt x="217" y="1143"/>
                    </a:moveTo>
                    <a:lnTo>
                      <a:pt x="224" y="1064"/>
                    </a:lnTo>
                    <a:lnTo>
                      <a:pt x="234" y="988"/>
                    </a:lnTo>
                    <a:lnTo>
                      <a:pt x="249" y="915"/>
                    </a:lnTo>
                    <a:lnTo>
                      <a:pt x="266" y="848"/>
                    </a:lnTo>
                    <a:lnTo>
                      <a:pt x="283" y="788"/>
                    </a:lnTo>
                    <a:lnTo>
                      <a:pt x="303" y="731"/>
                    </a:lnTo>
                    <a:lnTo>
                      <a:pt x="326" y="677"/>
                    </a:lnTo>
                    <a:lnTo>
                      <a:pt x="351" y="628"/>
                    </a:lnTo>
                    <a:lnTo>
                      <a:pt x="377" y="579"/>
                    </a:lnTo>
                    <a:lnTo>
                      <a:pt x="408" y="535"/>
                    </a:lnTo>
                    <a:lnTo>
                      <a:pt x="441" y="493"/>
                    </a:lnTo>
                    <a:lnTo>
                      <a:pt x="477" y="454"/>
                    </a:lnTo>
                    <a:lnTo>
                      <a:pt x="512" y="417"/>
                    </a:lnTo>
                    <a:lnTo>
                      <a:pt x="553" y="384"/>
                    </a:lnTo>
                    <a:lnTo>
                      <a:pt x="597" y="354"/>
                    </a:lnTo>
                    <a:lnTo>
                      <a:pt x="644" y="326"/>
                    </a:lnTo>
                    <a:lnTo>
                      <a:pt x="690" y="301"/>
                    </a:lnTo>
                    <a:lnTo>
                      <a:pt x="742" y="278"/>
                    </a:lnTo>
                    <a:lnTo>
                      <a:pt x="795" y="258"/>
                    </a:lnTo>
                    <a:lnTo>
                      <a:pt x="852" y="244"/>
                    </a:lnTo>
                    <a:lnTo>
                      <a:pt x="909" y="229"/>
                    </a:lnTo>
                    <a:lnTo>
                      <a:pt x="968" y="218"/>
                    </a:lnTo>
                    <a:lnTo>
                      <a:pt x="1030" y="209"/>
                    </a:lnTo>
                    <a:lnTo>
                      <a:pt x="1098" y="205"/>
                    </a:lnTo>
                    <a:lnTo>
                      <a:pt x="1166" y="202"/>
                    </a:lnTo>
                    <a:lnTo>
                      <a:pt x="1236" y="204"/>
                    </a:lnTo>
                    <a:lnTo>
                      <a:pt x="1309" y="208"/>
                    </a:lnTo>
                    <a:lnTo>
                      <a:pt x="1386" y="214"/>
                    </a:lnTo>
                    <a:lnTo>
                      <a:pt x="1464" y="224"/>
                    </a:lnTo>
                    <a:lnTo>
                      <a:pt x="1545" y="236"/>
                    </a:lnTo>
                    <a:lnTo>
                      <a:pt x="1628" y="250"/>
                    </a:lnTo>
                    <a:lnTo>
                      <a:pt x="1714" y="269"/>
                    </a:lnTo>
                    <a:lnTo>
                      <a:pt x="1802" y="289"/>
                    </a:lnTo>
                    <a:lnTo>
                      <a:pt x="1893" y="312"/>
                    </a:lnTo>
                    <a:lnTo>
                      <a:pt x="1987" y="339"/>
                    </a:lnTo>
                    <a:lnTo>
                      <a:pt x="2084" y="369"/>
                    </a:lnTo>
                    <a:lnTo>
                      <a:pt x="2051" y="516"/>
                    </a:lnTo>
                    <a:lnTo>
                      <a:pt x="2021" y="669"/>
                    </a:lnTo>
                    <a:lnTo>
                      <a:pt x="1996" y="824"/>
                    </a:lnTo>
                    <a:lnTo>
                      <a:pt x="1974" y="983"/>
                    </a:lnTo>
                    <a:lnTo>
                      <a:pt x="1955" y="1143"/>
                    </a:lnTo>
                    <a:lnTo>
                      <a:pt x="1937" y="1338"/>
                    </a:lnTo>
                    <a:lnTo>
                      <a:pt x="1930" y="1408"/>
                    </a:lnTo>
                    <a:lnTo>
                      <a:pt x="1925" y="1486"/>
                    </a:lnTo>
                    <a:lnTo>
                      <a:pt x="1922" y="1527"/>
                    </a:lnTo>
                    <a:lnTo>
                      <a:pt x="1919" y="1574"/>
                    </a:lnTo>
                    <a:lnTo>
                      <a:pt x="1917" y="1670"/>
                    </a:lnTo>
                    <a:lnTo>
                      <a:pt x="1914" y="1721"/>
                    </a:lnTo>
                    <a:lnTo>
                      <a:pt x="1913" y="1778"/>
                    </a:lnTo>
                    <a:lnTo>
                      <a:pt x="1913" y="1839"/>
                    </a:lnTo>
                    <a:lnTo>
                      <a:pt x="1913" y="1906"/>
                    </a:lnTo>
                    <a:lnTo>
                      <a:pt x="1913" y="1977"/>
                    </a:lnTo>
                    <a:lnTo>
                      <a:pt x="1914" y="2053"/>
                    </a:lnTo>
                    <a:lnTo>
                      <a:pt x="1917" y="2133"/>
                    </a:lnTo>
                    <a:lnTo>
                      <a:pt x="1919" y="2219"/>
                    </a:lnTo>
                    <a:lnTo>
                      <a:pt x="1919" y="2248"/>
                    </a:lnTo>
                    <a:lnTo>
                      <a:pt x="1921" y="2276"/>
                    </a:lnTo>
                    <a:lnTo>
                      <a:pt x="1921" y="2301"/>
                    </a:lnTo>
                    <a:lnTo>
                      <a:pt x="1923" y="2326"/>
                    </a:lnTo>
                    <a:lnTo>
                      <a:pt x="1852" y="2314"/>
                    </a:lnTo>
                    <a:lnTo>
                      <a:pt x="1780" y="2301"/>
                    </a:lnTo>
                    <a:lnTo>
                      <a:pt x="1637" y="2272"/>
                    </a:lnTo>
                    <a:lnTo>
                      <a:pt x="1494" y="2235"/>
                    </a:lnTo>
                    <a:lnTo>
                      <a:pt x="1423" y="2215"/>
                    </a:lnTo>
                    <a:lnTo>
                      <a:pt x="1351" y="2194"/>
                    </a:lnTo>
                    <a:lnTo>
                      <a:pt x="1205" y="2143"/>
                    </a:lnTo>
                    <a:lnTo>
                      <a:pt x="1134" y="2117"/>
                    </a:lnTo>
                    <a:lnTo>
                      <a:pt x="1062" y="2089"/>
                    </a:lnTo>
                    <a:lnTo>
                      <a:pt x="988" y="2059"/>
                    </a:lnTo>
                    <a:lnTo>
                      <a:pt x="917" y="2027"/>
                    </a:lnTo>
                    <a:lnTo>
                      <a:pt x="879" y="2010"/>
                    </a:lnTo>
                    <a:lnTo>
                      <a:pt x="844" y="1994"/>
                    </a:lnTo>
                    <a:lnTo>
                      <a:pt x="772" y="1959"/>
                    </a:lnTo>
                    <a:lnTo>
                      <a:pt x="756" y="1951"/>
                    </a:lnTo>
                    <a:lnTo>
                      <a:pt x="751" y="1924"/>
                    </a:lnTo>
                    <a:lnTo>
                      <a:pt x="738" y="1882"/>
                    </a:lnTo>
                    <a:lnTo>
                      <a:pt x="730" y="1864"/>
                    </a:lnTo>
                    <a:lnTo>
                      <a:pt x="720" y="1848"/>
                    </a:lnTo>
                    <a:lnTo>
                      <a:pt x="697" y="1818"/>
                    </a:lnTo>
                    <a:lnTo>
                      <a:pt x="682" y="1804"/>
                    </a:lnTo>
                    <a:lnTo>
                      <a:pt x="667" y="1794"/>
                    </a:lnTo>
                    <a:lnTo>
                      <a:pt x="633" y="1774"/>
                    </a:lnTo>
                    <a:lnTo>
                      <a:pt x="599" y="1762"/>
                    </a:lnTo>
                    <a:lnTo>
                      <a:pt x="561" y="1758"/>
                    </a:lnTo>
                    <a:lnTo>
                      <a:pt x="543" y="1759"/>
                    </a:lnTo>
                    <a:lnTo>
                      <a:pt x="526" y="1763"/>
                    </a:lnTo>
                    <a:lnTo>
                      <a:pt x="520" y="1763"/>
                    </a:lnTo>
                    <a:lnTo>
                      <a:pt x="515" y="1766"/>
                    </a:lnTo>
                    <a:lnTo>
                      <a:pt x="502" y="1772"/>
                    </a:lnTo>
                    <a:lnTo>
                      <a:pt x="485" y="1782"/>
                    </a:lnTo>
                    <a:lnTo>
                      <a:pt x="474" y="1787"/>
                    </a:lnTo>
                    <a:lnTo>
                      <a:pt x="465" y="1795"/>
                    </a:lnTo>
                    <a:lnTo>
                      <a:pt x="336" y="1717"/>
                    </a:lnTo>
                    <a:lnTo>
                      <a:pt x="239" y="1657"/>
                    </a:lnTo>
                    <a:lnTo>
                      <a:pt x="233" y="1653"/>
                    </a:lnTo>
                    <a:lnTo>
                      <a:pt x="225" y="1582"/>
                    </a:lnTo>
                    <a:lnTo>
                      <a:pt x="220" y="1514"/>
                    </a:lnTo>
                    <a:lnTo>
                      <a:pt x="214" y="1448"/>
                    </a:lnTo>
                    <a:lnTo>
                      <a:pt x="213" y="1384"/>
                    </a:lnTo>
                    <a:lnTo>
                      <a:pt x="210" y="1321"/>
                    </a:lnTo>
                    <a:lnTo>
                      <a:pt x="212" y="1260"/>
                    </a:lnTo>
                    <a:lnTo>
                      <a:pt x="213" y="1200"/>
                    </a:lnTo>
                    <a:lnTo>
                      <a:pt x="217" y="1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362800" y="5591160"/>
                <a:ext cx="314640" cy="812880"/>
              </a:xfrm>
              <a:custGeom>
                <a:avLst/>
                <a:gdLst/>
                <a:ahLst/>
                <a:rect l="l" t="t" r="r" b="b"/>
                <a:pathLst>
                  <a:path w="1949" h="5043">
                    <a:moveTo>
                      <a:pt x="1804" y="1628"/>
                    </a:moveTo>
                    <a:lnTo>
                      <a:pt x="1788" y="1551"/>
                    </a:lnTo>
                    <a:lnTo>
                      <a:pt x="1770" y="1473"/>
                    </a:lnTo>
                    <a:lnTo>
                      <a:pt x="1752" y="1399"/>
                    </a:lnTo>
                    <a:lnTo>
                      <a:pt x="1646" y="1434"/>
                    </a:lnTo>
                    <a:lnTo>
                      <a:pt x="1542" y="1472"/>
                    </a:lnTo>
                    <a:lnTo>
                      <a:pt x="1470" y="1497"/>
                    </a:lnTo>
                    <a:lnTo>
                      <a:pt x="1400" y="1525"/>
                    </a:lnTo>
                    <a:lnTo>
                      <a:pt x="1328" y="1553"/>
                    </a:lnTo>
                    <a:lnTo>
                      <a:pt x="1258" y="1583"/>
                    </a:lnTo>
                    <a:lnTo>
                      <a:pt x="1114" y="1646"/>
                    </a:lnTo>
                    <a:lnTo>
                      <a:pt x="971" y="1713"/>
                    </a:lnTo>
                    <a:lnTo>
                      <a:pt x="907" y="1744"/>
                    </a:lnTo>
                    <a:lnTo>
                      <a:pt x="727" y="1832"/>
                    </a:lnTo>
                    <a:lnTo>
                      <a:pt x="907" y="1917"/>
                    </a:lnTo>
                    <a:lnTo>
                      <a:pt x="969" y="1948"/>
                    </a:lnTo>
                    <a:lnTo>
                      <a:pt x="1091" y="1888"/>
                    </a:lnTo>
                    <a:lnTo>
                      <a:pt x="1213" y="1832"/>
                    </a:lnTo>
                    <a:lnTo>
                      <a:pt x="1313" y="1786"/>
                    </a:lnTo>
                    <a:lnTo>
                      <a:pt x="1413" y="1745"/>
                    </a:lnTo>
                    <a:lnTo>
                      <a:pt x="1511" y="1704"/>
                    </a:lnTo>
                    <a:lnTo>
                      <a:pt x="1611" y="1667"/>
                    </a:lnTo>
                    <a:lnTo>
                      <a:pt x="1632" y="1785"/>
                    </a:lnTo>
                    <a:lnTo>
                      <a:pt x="1646" y="1873"/>
                    </a:lnTo>
                    <a:lnTo>
                      <a:pt x="1662" y="1966"/>
                    </a:lnTo>
                    <a:lnTo>
                      <a:pt x="1673" y="2051"/>
                    </a:lnTo>
                    <a:lnTo>
                      <a:pt x="1685" y="2138"/>
                    </a:lnTo>
                    <a:lnTo>
                      <a:pt x="1694" y="2227"/>
                    </a:lnTo>
                    <a:lnTo>
                      <a:pt x="1705" y="2319"/>
                    </a:lnTo>
                    <a:lnTo>
                      <a:pt x="1717" y="2450"/>
                    </a:lnTo>
                    <a:lnTo>
                      <a:pt x="1727" y="2586"/>
                    </a:lnTo>
                    <a:lnTo>
                      <a:pt x="1730" y="2662"/>
                    </a:lnTo>
                    <a:lnTo>
                      <a:pt x="1734" y="2740"/>
                    </a:lnTo>
                    <a:lnTo>
                      <a:pt x="1740" y="2898"/>
                    </a:lnTo>
                    <a:lnTo>
                      <a:pt x="1744" y="3058"/>
                    </a:lnTo>
                    <a:lnTo>
                      <a:pt x="1747" y="3222"/>
                    </a:lnTo>
                    <a:lnTo>
                      <a:pt x="1744" y="3385"/>
                    </a:lnTo>
                    <a:lnTo>
                      <a:pt x="1742" y="3466"/>
                    </a:lnTo>
                    <a:lnTo>
                      <a:pt x="1740" y="3506"/>
                    </a:lnTo>
                    <a:lnTo>
                      <a:pt x="1740" y="3547"/>
                    </a:lnTo>
                    <a:lnTo>
                      <a:pt x="1738" y="3585"/>
                    </a:lnTo>
                    <a:lnTo>
                      <a:pt x="1737" y="3625"/>
                    </a:lnTo>
                    <a:lnTo>
                      <a:pt x="1734" y="3704"/>
                    </a:lnTo>
                    <a:lnTo>
                      <a:pt x="1726" y="3861"/>
                    </a:lnTo>
                    <a:lnTo>
                      <a:pt x="1721" y="3926"/>
                    </a:lnTo>
                    <a:lnTo>
                      <a:pt x="1717" y="3992"/>
                    </a:lnTo>
                    <a:lnTo>
                      <a:pt x="1711" y="4061"/>
                    </a:lnTo>
                    <a:lnTo>
                      <a:pt x="1707" y="4095"/>
                    </a:lnTo>
                    <a:lnTo>
                      <a:pt x="1705" y="4130"/>
                    </a:lnTo>
                    <a:lnTo>
                      <a:pt x="1690" y="4258"/>
                    </a:lnTo>
                    <a:lnTo>
                      <a:pt x="1682" y="4327"/>
                    </a:lnTo>
                    <a:lnTo>
                      <a:pt x="1678" y="4360"/>
                    </a:lnTo>
                    <a:lnTo>
                      <a:pt x="1662" y="4468"/>
                    </a:lnTo>
                    <a:lnTo>
                      <a:pt x="1646" y="4574"/>
                    </a:lnTo>
                    <a:lnTo>
                      <a:pt x="1628" y="4678"/>
                    </a:lnTo>
                    <a:lnTo>
                      <a:pt x="1609" y="4783"/>
                    </a:lnTo>
                    <a:lnTo>
                      <a:pt x="1510" y="4743"/>
                    </a:lnTo>
                    <a:lnTo>
                      <a:pt x="1412" y="4702"/>
                    </a:lnTo>
                    <a:lnTo>
                      <a:pt x="1311" y="4660"/>
                    </a:lnTo>
                    <a:lnTo>
                      <a:pt x="1261" y="4637"/>
                    </a:lnTo>
                    <a:lnTo>
                      <a:pt x="1212" y="4616"/>
                    </a:lnTo>
                    <a:lnTo>
                      <a:pt x="1090" y="4559"/>
                    </a:lnTo>
                    <a:lnTo>
                      <a:pt x="969" y="4501"/>
                    </a:lnTo>
                    <a:lnTo>
                      <a:pt x="934" y="4482"/>
                    </a:lnTo>
                    <a:lnTo>
                      <a:pt x="899" y="4465"/>
                    </a:lnTo>
                    <a:lnTo>
                      <a:pt x="830" y="4430"/>
                    </a:lnTo>
                    <a:lnTo>
                      <a:pt x="760" y="4393"/>
                    </a:lnTo>
                    <a:lnTo>
                      <a:pt x="691" y="4358"/>
                    </a:lnTo>
                    <a:lnTo>
                      <a:pt x="620" y="4318"/>
                    </a:lnTo>
                    <a:lnTo>
                      <a:pt x="601" y="4307"/>
                    </a:lnTo>
                    <a:lnTo>
                      <a:pt x="592" y="4302"/>
                    </a:lnTo>
                    <a:lnTo>
                      <a:pt x="584" y="4298"/>
                    </a:lnTo>
                    <a:lnTo>
                      <a:pt x="549" y="4279"/>
                    </a:lnTo>
                    <a:lnTo>
                      <a:pt x="478" y="4240"/>
                    </a:lnTo>
                    <a:lnTo>
                      <a:pt x="408" y="4200"/>
                    </a:lnTo>
                    <a:lnTo>
                      <a:pt x="400" y="4195"/>
                    </a:lnTo>
                    <a:lnTo>
                      <a:pt x="396" y="4192"/>
                    </a:lnTo>
                    <a:lnTo>
                      <a:pt x="393" y="4191"/>
                    </a:lnTo>
                    <a:lnTo>
                      <a:pt x="384" y="4185"/>
                    </a:lnTo>
                    <a:lnTo>
                      <a:pt x="376" y="4181"/>
                    </a:lnTo>
                    <a:lnTo>
                      <a:pt x="357" y="4171"/>
                    </a:lnTo>
                    <a:lnTo>
                      <a:pt x="347" y="4164"/>
                    </a:lnTo>
                    <a:lnTo>
                      <a:pt x="337" y="4159"/>
                    </a:lnTo>
                    <a:lnTo>
                      <a:pt x="314" y="4144"/>
                    </a:lnTo>
                    <a:lnTo>
                      <a:pt x="300" y="4136"/>
                    </a:lnTo>
                    <a:lnTo>
                      <a:pt x="296" y="4134"/>
                    </a:lnTo>
                    <a:lnTo>
                      <a:pt x="294" y="4132"/>
                    </a:lnTo>
                    <a:lnTo>
                      <a:pt x="288" y="4130"/>
                    </a:lnTo>
                    <a:lnTo>
                      <a:pt x="261" y="4114"/>
                    </a:lnTo>
                    <a:lnTo>
                      <a:pt x="253" y="4109"/>
                    </a:lnTo>
                    <a:lnTo>
                      <a:pt x="249" y="4106"/>
                    </a:lnTo>
                    <a:lnTo>
                      <a:pt x="246" y="4105"/>
                    </a:lnTo>
                    <a:lnTo>
                      <a:pt x="233" y="4097"/>
                    </a:lnTo>
                    <a:lnTo>
                      <a:pt x="230" y="4082"/>
                    </a:lnTo>
                    <a:lnTo>
                      <a:pt x="229" y="4077"/>
                    </a:lnTo>
                    <a:lnTo>
                      <a:pt x="229" y="4073"/>
                    </a:lnTo>
                    <a:lnTo>
                      <a:pt x="229" y="4065"/>
                    </a:lnTo>
                    <a:lnTo>
                      <a:pt x="229" y="4063"/>
                    </a:lnTo>
                    <a:lnTo>
                      <a:pt x="230" y="4063"/>
                    </a:lnTo>
                    <a:lnTo>
                      <a:pt x="233" y="4063"/>
                    </a:lnTo>
                    <a:lnTo>
                      <a:pt x="233" y="4062"/>
                    </a:lnTo>
                    <a:lnTo>
                      <a:pt x="234" y="4062"/>
                    </a:lnTo>
                    <a:lnTo>
                      <a:pt x="237" y="4062"/>
                    </a:lnTo>
                    <a:lnTo>
                      <a:pt x="237" y="4061"/>
                    </a:lnTo>
                    <a:lnTo>
                      <a:pt x="234" y="4040"/>
                    </a:lnTo>
                    <a:lnTo>
                      <a:pt x="234" y="4017"/>
                    </a:lnTo>
                    <a:lnTo>
                      <a:pt x="231" y="3992"/>
                    </a:lnTo>
                    <a:lnTo>
                      <a:pt x="231" y="3967"/>
                    </a:lnTo>
                    <a:lnTo>
                      <a:pt x="229" y="3936"/>
                    </a:lnTo>
                    <a:lnTo>
                      <a:pt x="229" y="3906"/>
                    </a:lnTo>
                    <a:lnTo>
                      <a:pt x="226" y="3873"/>
                    </a:lnTo>
                    <a:lnTo>
                      <a:pt x="226" y="3838"/>
                    </a:lnTo>
                    <a:lnTo>
                      <a:pt x="223" y="3800"/>
                    </a:lnTo>
                    <a:lnTo>
                      <a:pt x="223" y="3760"/>
                    </a:lnTo>
                    <a:lnTo>
                      <a:pt x="221" y="3718"/>
                    </a:lnTo>
                    <a:lnTo>
                      <a:pt x="221" y="3674"/>
                    </a:lnTo>
                    <a:lnTo>
                      <a:pt x="218" y="3628"/>
                    </a:lnTo>
                    <a:lnTo>
                      <a:pt x="218" y="3579"/>
                    </a:lnTo>
                    <a:lnTo>
                      <a:pt x="217" y="3552"/>
                    </a:lnTo>
                    <a:lnTo>
                      <a:pt x="217" y="3527"/>
                    </a:lnTo>
                    <a:lnTo>
                      <a:pt x="217" y="3475"/>
                    </a:lnTo>
                    <a:lnTo>
                      <a:pt x="213" y="3367"/>
                    </a:lnTo>
                    <a:lnTo>
                      <a:pt x="212" y="3265"/>
                    </a:lnTo>
                    <a:lnTo>
                      <a:pt x="210" y="3165"/>
                    </a:lnTo>
                    <a:lnTo>
                      <a:pt x="212" y="3071"/>
                    </a:lnTo>
                    <a:lnTo>
                      <a:pt x="213" y="2980"/>
                    </a:lnTo>
                    <a:lnTo>
                      <a:pt x="216" y="2894"/>
                    </a:lnTo>
                    <a:lnTo>
                      <a:pt x="219" y="2810"/>
                    </a:lnTo>
                    <a:lnTo>
                      <a:pt x="225" y="2733"/>
                    </a:lnTo>
                    <a:lnTo>
                      <a:pt x="231" y="2614"/>
                    </a:lnTo>
                    <a:lnTo>
                      <a:pt x="243" y="2499"/>
                    </a:lnTo>
                    <a:lnTo>
                      <a:pt x="246" y="2467"/>
                    </a:lnTo>
                    <a:lnTo>
                      <a:pt x="266" y="2284"/>
                    </a:lnTo>
                    <a:lnTo>
                      <a:pt x="272" y="2232"/>
                    </a:lnTo>
                    <a:lnTo>
                      <a:pt x="287" y="2120"/>
                    </a:lnTo>
                    <a:lnTo>
                      <a:pt x="304" y="2010"/>
                    </a:lnTo>
                    <a:lnTo>
                      <a:pt x="323" y="1901"/>
                    </a:lnTo>
                    <a:lnTo>
                      <a:pt x="344" y="1797"/>
                    </a:lnTo>
                    <a:lnTo>
                      <a:pt x="364" y="1700"/>
                    </a:lnTo>
                    <a:lnTo>
                      <a:pt x="367" y="1688"/>
                    </a:lnTo>
                    <a:lnTo>
                      <a:pt x="386" y="1594"/>
                    </a:lnTo>
                    <a:lnTo>
                      <a:pt x="410" y="1502"/>
                    </a:lnTo>
                    <a:lnTo>
                      <a:pt x="410" y="1500"/>
                    </a:lnTo>
                    <a:lnTo>
                      <a:pt x="413" y="1496"/>
                    </a:lnTo>
                    <a:lnTo>
                      <a:pt x="416" y="1491"/>
                    </a:lnTo>
                    <a:lnTo>
                      <a:pt x="421" y="1484"/>
                    </a:lnTo>
                    <a:lnTo>
                      <a:pt x="422" y="1473"/>
                    </a:lnTo>
                    <a:lnTo>
                      <a:pt x="428" y="1457"/>
                    </a:lnTo>
                    <a:lnTo>
                      <a:pt x="434" y="1434"/>
                    </a:lnTo>
                    <a:lnTo>
                      <a:pt x="439" y="1420"/>
                    </a:lnTo>
                    <a:lnTo>
                      <a:pt x="445" y="1406"/>
                    </a:lnTo>
                    <a:lnTo>
                      <a:pt x="455" y="1369"/>
                    </a:lnTo>
                    <a:lnTo>
                      <a:pt x="462" y="1349"/>
                    </a:lnTo>
                    <a:lnTo>
                      <a:pt x="470" y="1328"/>
                    </a:lnTo>
                    <a:lnTo>
                      <a:pt x="478" y="1304"/>
                    </a:lnTo>
                    <a:lnTo>
                      <a:pt x="486" y="1279"/>
                    </a:lnTo>
                    <a:lnTo>
                      <a:pt x="495" y="1252"/>
                    </a:lnTo>
                    <a:lnTo>
                      <a:pt x="506" y="1224"/>
                    </a:lnTo>
                    <a:lnTo>
                      <a:pt x="516" y="1188"/>
                    </a:lnTo>
                    <a:lnTo>
                      <a:pt x="528" y="1151"/>
                    </a:lnTo>
                    <a:lnTo>
                      <a:pt x="541" y="1113"/>
                    </a:lnTo>
                    <a:lnTo>
                      <a:pt x="556" y="1072"/>
                    </a:lnTo>
                    <a:lnTo>
                      <a:pt x="571" y="1028"/>
                    </a:lnTo>
                    <a:lnTo>
                      <a:pt x="586" y="983"/>
                    </a:lnTo>
                    <a:lnTo>
                      <a:pt x="602" y="935"/>
                    </a:lnTo>
                    <a:lnTo>
                      <a:pt x="620" y="886"/>
                    </a:lnTo>
                    <a:lnTo>
                      <a:pt x="661" y="771"/>
                    </a:lnTo>
                    <a:lnTo>
                      <a:pt x="704" y="662"/>
                    </a:lnTo>
                    <a:lnTo>
                      <a:pt x="751" y="559"/>
                    </a:lnTo>
                    <a:lnTo>
                      <a:pt x="775" y="510"/>
                    </a:lnTo>
                    <a:lnTo>
                      <a:pt x="801" y="464"/>
                    </a:lnTo>
                    <a:lnTo>
                      <a:pt x="853" y="374"/>
                    </a:lnTo>
                    <a:lnTo>
                      <a:pt x="879" y="330"/>
                    </a:lnTo>
                    <a:lnTo>
                      <a:pt x="908" y="290"/>
                    </a:lnTo>
                    <a:lnTo>
                      <a:pt x="936" y="250"/>
                    </a:lnTo>
                    <a:lnTo>
                      <a:pt x="967" y="213"/>
                    </a:lnTo>
                    <a:lnTo>
                      <a:pt x="1029" y="143"/>
                    </a:lnTo>
                    <a:lnTo>
                      <a:pt x="822" y="0"/>
                    </a:lnTo>
                    <a:lnTo>
                      <a:pt x="753" y="106"/>
                    </a:lnTo>
                    <a:lnTo>
                      <a:pt x="691" y="211"/>
                    </a:lnTo>
                    <a:lnTo>
                      <a:pt x="632" y="314"/>
                    </a:lnTo>
                    <a:lnTo>
                      <a:pt x="604" y="364"/>
                    </a:lnTo>
                    <a:lnTo>
                      <a:pt x="579" y="416"/>
                    </a:lnTo>
                    <a:lnTo>
                      <a:pt x="527" y="515"/>
                    </a:lnTo>
                    <a:lnTo>
                      <a:pt x="482" y="613"/>
                    </a:lnTo>
                    <a:lnTo>
                      <a:pt x="441" y="710"/>
                    </a:lnTo>
                    <a:lnTo>
                      <a:pt x="405" y="807"/>
                    </a:lnTo>
                    <a:lnTo>
                      <a:pt x="390" y="848"/>
                    </a:lnTo>
                    <a:lnTo>
                      <a:pt x="369" y="904"/>
                    </a:lnTo>
                    <a:lnTo>
                      <a:pt x="351" y="958"/>
                    </a:lnTo>
                    <a:lnTo>
                      <a:pt x="333" y="1010"/>
                    </a:lnTo>
                    <a:lnTo>
                      <a:pt x="318" y="1059"/>
                    </a:lnTo>
                    <a:lnTo>
                      <a:pt x="302" y="1102"/>
                    </a:lnTo>
                    <a:lnTo>
                      <a:pt x="287" y="1146"/>
                    </a:lnTo>
                    <a:lnTo>
                      <a:pt x="274" y="1186"/>
                    </a:lnTo>
                    <a:lnTo>
                      <a:pt x="263" y="1224"/>
                    </a:lnTo>
                    <a:lnTo>
                      <a:pt x="243" y="1280"/>
                    </a:lnTo>
                    <a:lnTo>
                      <a:pt x="235" y="1305"/>
                    </a:lnTo>
                    <a:lnTo>
                      <a:pt x="229" y="1329"/>
                    </a:lnTo>
                    <a:lnTo>
                      <a:pt x="222" y="1350"/>
                    </a:lnTo>
                    <a:lnTo>
                      <a:pt x="217" y="1370"/>
                    </a:lnTo>
                    <a:lnTo>
                      <a:pt x="212" y="1387"/>
                    </a:lnTo>
                    <a:lnTo>
                      <a:pt x="209" y="1403"/>
                    </a:lnTo>
                    <a:lnTo>
                      <a:pt x="208" y="1408"/>
                    </a:lnTo>
                    <a:lnTo>
                      <a:pt x="204" y="1419"/>
                    </a:lnTo>
                    <a:lnTo>
                      <a:pt x="197" y="1448"/>
                    </a:lnTo>
                    <a:lnTo>
                      <a:pt x="186" y="1491"/>
                    </a:lnTo>
                    <a:lnTo>
                      <a:pt x="173" y="1544"/>
                    </a:lnTo>
                    <a:lnTo>
                      <a:pt x="155" y="1624"/>
                    </a:lnTo>
                    <a:lnTo>
                      <a:pt x="152" y="1636"/>
                    </a:lnTo>
                    <a:lnTo>
                      <a:pt x="151" y="1647"/>
                    </a:lnTo>
                    <a:lnTo>
                      <a:pt x="123" y="1773"/>
                    </a:lnTo>
                    <a:lnTo>
                      <a:pt x="100" y="1901"/>
                    </a:lnTo>
                    <a:lnTo>
                      <a:pt x="78" y="2032"/>
                    </a:lnTo>
                    <a:lnTo>
                      <a:pt x="61" y="2169"/>
                    </a:lnTo>
                    <a:lnTo>
                      <a:pt x="47" y="2284"/>
                    </a:lnTo>
                    <a:lnTo>
                      <a:pt x="39" y="2342"/>
                    </a:lnTo>
                    <a:lnTo>
                      <a:pt x="34" y="2403"/>
                    </a:lnTo>
                    <a:lnTo>
                      <a:pt x="31" y="2435"/>
                    </a:lnTo>
                    <a:lnTo>
                      <a:pt x="27" y="2482"/>
                    </a:lnTo>
                    <a:lnTo>
                      <a:pt x="18" y="2574"/>
                    </a:lnTo>
                    <a:lnTo>
                      <a:pt x="13" y="2670"/>
                    </a:lnTo>
                    <a:lnTo>
                      <a:pt x="8" y="2747"/>
                    </a:lnTo>
                    <a:lnTo>
                      <a:pt x="5" y="2831"/>
                    </a:lnTo>
                    <a:lnTo>
                      <a:pt x="2" y="2894"/>
                    </a:lnTo>
                    <a:lnTo>
                      <a:pt x="1" y="2961"/>
                    </a:lnTo>
                    <a:lnTo>
                      <a:pt x="0" y="3029"/>
                    </a:lnTo>
                    <a:lnTo>
                      <a:pt x="0" y="3102"/>
                    </a:lnTo>
                    <a:lnTo>
                      <a:pt x="1" y="3251"/>
                    </a:lnTo>
                    <a:lnTo>
                      <a:pt x="5" y="3412"/>
                    </a:lnTo>
                    <a:lnTo>
                      <a:pt x="6" y="3475"/>
                    </a:lnTo>
                    <a:lnTo>
                      <a:pt x="11" y="3711"/>
                    </a:lnTo>
                    <a:lnTo>
                      <a:pt x="17" y="3961"/>
                    </a:lnTo>
                    <a:lnTo>
                      <a:pt x="19" y="4087"/>
                    </a:lnTo>
                    <a:lnTo>
                      <a:pt x="23" y="4216"/>
                    </a:lnTo>
                    <a:lnTo>
                      <a:pt x="104" y="4265"/>
                    </a:lnTo>
                    <a:lnTo>
                      <a:pt x="201" y="4323"/>
                    </a:lnTo>
                    <a:lnTo>
                      <a:pt x="300" y="4381"/>
                    </a:lnTo>
                    <a:lnTo>
                      <a:pt x="406" y="4442"/>
                    </a:lnTo>
                    <a:lnTo>
                      <a:pt x="515" y="4502"/>
                    </a:lnTo>
                    <a:lnTo>
                      <a:pt x="621" y="4559"/>
                    </a:lnTo>
                    <a:lnTo>
                      <a:pt x="728" y="4615"/>
                    </a:lnTo>
                    <a:lnTo>
                      <a:pt x="878" y="4689"/>
                    </a:lnTo>
                    <a:lnTo>
                      <a:pt x="971" y="4734"/>
                    </a:lnTo>
                    <a:lnTo>
                      <a:pt x="1114" y="4799"/>
                    </a:lnTo>
                    <a:lnTo>
                      <a:pt x="1257" y="4861"/>
                    </a:lnTo>
                    <a:lnTo>
                      <a:pt x="1327" y="4890"/>
                    </a:lnTo>
                    <a:lnTo>
                      <a:pt x="1399" y="4919"/>
                    </a:lnTo>
                    <a:lnTo>
                      <a:pt x="1433" y="4933"/>
                    </a:lnTo>
                    <a:lnTo>
                      <a:pt x="1441" y="4935"/>
                    </a:lnTo>
                    <a:lnTo>
                      <a:pt x="1445" y="4937"/>
                    </a:lnTo>
                    <a:lnTo>
                      <a:pt x="1450" y="4939"/>
                    </a:lnTo>
                    <a:lnTo>
                      <a:pt x="1469" y="4947"/>
                    </a:lnTo>
                    <a:lnTo>
                      <a:pt x="1540" y="4975"/>
                    </a:lnTo>
                    <a:lnTo>
                      <a:pt x="1571" y="4986"/>
                    </a:lnTo>
                    <a:lnTo>
                      <a:pt x="1652" y="5015"/>
                    </a:lnTo>
                    <a:lnTo>
                      <a:pt x="1734" y="5043"/>
                    </a:lnTo>
                    <a:lnTo>
                      <a:pt x="1787" y="4897"/>
                    </a:lnTo>
                    <a:lnTo>
                      <a:pt x="1803" y="4820"/>
                    </a:lnTo>
                    <a:lnTo>
                      <a:pt x="1809" y="4778"/>
                    </a:lnTo>
                    <a:lnTo>
                      <a:pt x="1817" y="4737"/>
                    </a:lnTo>
                    <a:lnTo>
                      <a:pt x="1833" y="4653"/>
                    </a:lnTo>
                    <a:lnTo>
                      <a:pt x="1846" y="4568"/>
                    </a:lnTo>
                    <a:lnTo>
                      <a:pt x="1861" y="4483"/>
                    </a:lnTo>
                    <a:lnTo>
                      <a:pt x="1873" y="4396"/>
                    </a:lnTo>
                    <a:lnTo>
                      <a:pt x="1885" y="4309"/>
                    </a:lnTo>
                    <a:lnTo>
                      <a:pt x="1896" y="4219"/>
                    </a:lnTo>
                    <a:lnTo>
                      <a:pt x="1906" y="4130"/>
                    </a:lnTo>
                    <a:lnTo>
                      <a:pt x="1917" y="3996"/>
                    </a:lnTo>
                    <a:lnTo>
                      <a:pt x="1927" y="3861"/>
                    </a:lnTo>
                    <a:lnTo>
                      <a:pt x="1935" y="3704"/>
                    </a:lnTo>
                    <a:lnTo>
                      <a:pt x="1938" y="3625"/>
                    </a:lnTo>
                    <a:lnTo>
                      <a:pt x="1939" y="3585"/>
                    </a:lnTo>
                    <a:lnTo>
                      <a:pt x="1942" y="3547"/>
                    </a:lnTo>
                    <a:lnTo>
                      <a:pt x="1942" y="3506"/>
                    </a:lnTo>
                    <a:lnTo>
                      <a:pt x="1943" y="3466"/>
                    </a:lnTo>
                    <a:lnTo>
                      <a:pt x="1946" y="3385"/>
                    </a:lnTo>
                    <a:lnTo>
                      <a:pt x="1949" y="3222"/>
                    </a:lnTo>
                    <a:lnTo>
                      <a:pt x="1946" y="3058"/>
                    </a:lnTo>
                    <a:lnTo>
                      <a:pt x="1942" y="2898"/>
                    </a:lnTo>
                    <a:lnTo>
                      <a:pt x="1935" y="2740"/>
                    </a:lnTo>
                    <a:lnTo>
                      <a:pt x="1931" y="2662"/>
                    </a:lnTo>
                    <a:lnTo>
                      <a:pt x="1929" y="2586"/>
                    </a:lnTo>
                    <a:lnTo>
                      <a:pt x="1918" y="2450"/>
                    </a:lnTo>
                    <a:lnTo>
                      <a:pt x="1906" y="2319"/>
                    </a:lnTo>
                    <a:lnTo>
                      <a:pt x="1905" y="2296"/>
                    </a:lnTo>
                    <a:lnTo>
                      <a:pt x="1889" y="2162"/>
                    </a:lnTo>
                    <a:lnTo>
                      <a:pt x="1876" y="2063"/>
                    </a:lnTo>
                    <a:lnTo>
                      <a:pt x="1864" y="1966"/>
                    </a:lnTo>
                    <a:lnTo>
                      <a:pt x="1848" y="1873"/>
                    </a:lnTo>
                    <a:lnTo>
                      <a:pt x="1833" y="1785"/>
                    </a:lnTo>
                    <a:lnTo>
                      <a:pt x="1827" y="1749"/>
                    </a:lnTo>
                    <a:lnTo>
                      <a:pt x="1804" y="16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437680" y="5516640"/>
                <a:ext cx="571320" cy="701640"/>
              </a:xfrm>
              <a:custGeom>
                <a:avLst/>
                <a:gdLst/>
                <a:ahLst/>
                <a:rect l="l" t="t" r="r" b="b"/>
                <a:pathLst>
                  <a:path w="3553" h="4362">
                    <a:moveTo>
                      <a:pt x="964" y="7"/>
                    </a:moveTo>
                    <a:lnTo>
                      <a:pt x="964" y="4"/>
                    </a:lnTo>
                    <a:lnTo>
                      <a:pt x="892" y="0"/>
                    </a:lnTo>
                    <a:lnTo>
                      <a:pt x="821" y="0"/>
                    </a:lnTo>
                    <a:lnTo>
                      <a:pt x="752" y="0"/>
                    </a:lnTo>
                    <a:lnTo>
                      <a:pt x="686" y="3"/>
                    </a:lnTo>
                    <a:lnTo>
                      <a:pt x="620" y="5"/>
                    </a:lnTo>
                    <a:lnTo>
                      <a:pt x="556" y="12"/>
                    </a:lnTo>
                    <a:lnTo>
                      <a:pt x="493" y="19"/>
                    </a:lnTo>
                    <a:lnTo>
                      <a:pt x="433" y="28"/>
                    </a:lnTo>
                    <a:lnTo>
                      <a:pt x="372" y="37"/>
                    </a:lnTo>
                    <a:lnTo>
                      <a:pt x="315" y="49"/>
                    </a:lnTo>
                    <a:lnTo>
                      <a:pt x="258" y="62"/>
                    </a:lnTo>
                    <a:lnTo>
                      <a:pt x="204" y="78"/>
                    </a:lnTo>
                    <a:lnTo>
                      <a:pt x="150" y="94"/>
                    </a:lnTo>
                    <a:lnTo>
                      <a:pt x="98" y="114"/>
                    </a:lnTo>
                    <a:lnTo>
                      <a:pt x="48" y="134"/>
                    </a:lnTo>
                    <a:lnTo>
                      <a:pt x="0" y="156"/>
                    </a:lnTo>
                    <a:lnTo>
                      <a:pt x="38" y="159"/>
                    </a:lnTo>
                    <a:lnTo>
                      <a:pt x="77" y="164"/>
                    </a:lnTo>
                    <a:lnTo>
                      <a:pt x="114" y="171"/>
                    </a:lnTo>
                    <a:lnTo>
                      <a:pt x="152" y="180"/>
                    </a:lnTo>
                    <a:lnTo>
                      <a:pt x="188" y="189"/>
                    </a:lnTo>
                    <a:lnTo>
                      <a:pt x="225" y="203"/>
                    </a:lnTo>
                    <a:lnTo>
                      <a:pt x="260" y="216"/>
                    </a:lnTo>
                    <a:lnTo>
                      <a:pt x="295" y="232"/>
                    </a:lnTo>
                    <a:lnTo>
                      <a:pt x="329" y="248"/>
                    </a:lnTo>
                    <a:lnTo>
                      <a:pt x="362" y="266"/>
                    </a:lnTo>
                    <a:lnTo>
                      <a:pt x="393" y="285"/>
                    </a:lnTo>
                    <a:lnTo>
                      <a:pt x="427" y="307"/>
                    </a:lnTo>
                    <a:lnTo>
                      <a:pt x="457" y="330"/>
                    </a:lnTo>
                    <a:lnTo>
                      <a:pt x="489" y="355"/>
                    </a:lnTo>
                    <a:lnTo>
                      <a:pt x="518" y="380"/>
                    </a:lnTo>
                    <a:lnTo>
                      <a:pt x="548" y="409"/>
                    </a:lnTo>
                    <a:lnTo>
                      <a:pt x="677" y="286"/>
                    </a:lnTo>
                    <a:lnTo>
                      <a:pt x="730" y="305"/>
                    </a:lnTo>
                    <a:lnTo>
                      <a:pt x="756" y="315"/>
                    </a:lnTo>
                    <a:lnTo>
                      <a:pt x="784" y="330"/>
                    </a:lnTo>
                    <a:lnTo>
                      <a:pt x="837" y="360"/>
                    </a:lnTo>
                    <a:lnTo>
                      <a:pt x="890" y="397"/>
                    </a:lnTo>
                    <a:lnTo>
                      <a:pt x="941" y="439"/>
                    </a:lnTo>
                    <a:lnTo>
                      <a:pt x="991" y="486"/>
                    </a:lnTo>
                    <a:lnTo>
                      <a:pt x="1015" y="511"/>
                    </a:lnTo>
                    <a:lnTo>
                      <a:pt x="1040" y="539"/>
                    </a:lnTo>
                    <a:lnTo>
                      <a:pt x="1090" y="598"/>
                    </a:lnTo>
                    <a:lnTo>
                      <a:pt x="1113" y="628"/>
                    </a:lnTo>
                    <a:lnTo>
                      <a:pt x="1137" y="661"/>
                    </a:lnTo>
                    <a:lnTo>
                      <a:pt x="1184" y="730"/>
                    </a:lnTo>
                    <a:lnTo>
                      <a:pt x="1229" y="804"/>
                    </a:lnTo>
                    <a:lnTo>
                      <a:pt x="1252" y="844"/>
                    </a:lnTo>
                    <a:lnTo>
                      <a:pt x="1276" y="886"/>
                    </a:lnTo>
                    <a:lnTo>
                      <a:pt x="1297" y="927"/>
                    </a:lnTo>
                    <a:lnTo>
                      <a:pt x="1320" y="971"/>
                    </a:lnTo>
                    <a:lnTo>
                      <a:pt x="1341" y="1016"/>
                    </a:lnTo>
                    <a:lnTo>
                      <a:pt x="1363" y="1064"/>
                    </a:lnTo>
                    <a:lnTo>
                      <a:pt x="1406" y="1162"/>
                    </a:lnTo>
                    <a:lnTo>
                      <a:pt x="1427" y="1212"/>
                    </a:lnTo>
                    <a:lnTo>
                      <a:pt x="1449" y="1265"/>
                    </a:lnTo>
                    <a:lnTo>
                      <a:pt x="1493" y="1386"/>
                    </a:lnTo>
                    <a:lnTo>
                      <a:pt x="1514" y="1447"/>
                    </a:lnTo>
                    <a:lnTo>
                      <a:pt x="1537" y="1510"/>
                    </a:lnTo>
                    <a:lnTo>
                      <a:pt x="1577" y="1639"/>
                    </a:lnTo>
                    <a:lnTo>
                      <a:pt x="1615" y="1770"/>
                    </a:lnTo>
                    <a:lnTo>
                      <a:pt x="1639" y="1864"/>
                    </a:lnTo>
                    <a:lnTo>
                      <a:pt x="1663" y="1962"/>
                    </a:lnTo>
                    <a:lnTo>
                      <a:pt x="1767" y="1932"/>
                    </a:lnTo>
                    <a:lnTo>
                      <a:pt x="1872" y="1907"/>
                    </a:lnTo>
                    <a:lnTo>
                      <a:pt x="1975" y="1884"/>
                    </a:lnTo>
                    <a:lnTo>
                      <a:pt x="2079" y="1864"/>
                    </a:lnTo>
                    <a:lnTo>
                      <a:pt x="2150" y="1850"/>
                    </a:lnTo>
                    <a:lnTo>
                      <a:pt x="2220" y="1838"/>
                    </a:lnTo>
                    <a:lnTo>
                      <a:pt x="2288" y="1827"/>
                    </a:lnTo>
                    <a:lnTo>
                      <a:pt x="2356" y="1820"/>
                    </a:lnTo>
                    <a:lnTo>
                      <a:pt x="2419" y="1812"/>
                    </a:lnTo>
                    <a:lnTo>
                      <a:pt x="2481" y="1808"/>
                    </a:lnTo>
                    <a:lnTo>
                      <a:pt x="2541" y="1805"/>
                    </a:lnTo>
                    <a:lnTo>
                      <a:pt x="2601" y="1805"/>
                    </a:lnTo>
                    <a:lnTo>
                      <a:pt x="2655" y="1803"/>
                    </a:lnTo>
                    <a:lnTo>
                      <a:pt x="2709" y="1806"/>
                    </a:lnTo>
                    <a:lnTo>
                      <a:pt x="2761" y="1808"/>
                    </a:lnTo>
                    <a:lnTo>
                      <a:pt x="2811" y="1815"/>
                    </a:lnTo>
                    <a:lnTo>
                      <a:pt x="2858" y="1820"/>
                    </a:lnTo>
                    <a:lnTo>
                      <a:pt x="2903" y="1830"/>
                    </a:lnTo>
                    <a:lnTo>
                      <a:pt x="2947" y="1839"/>
                    </a:lnTo>
                    <a:lnTo>
                      <a:pt x="2989" y="1852"/>
                    </a:lnTo>
                    <a:lnTo>
                      <a:pt x="2990" y="1868"/>
                    </a:lnTo>
                    <a:lnTo>
                      <a:pt x="2994" y="1885"/>
                    </a:lnTo>
                    <a:lnTo>
                      <a:pt x="2998" y="1900"/>
                    </a:lnTo>
                    <a:lnTo>
                      <a:pt x="3005" y="1916"/>
                    </a:lnTo>
                    <a:lnTo>
                      <a:pt x="3019" y="1945"/>
                    </a:lnTo>
                    <a:lnTo>
                      <a:pt x="3029" y="1958"/>
                    </a:lnTo>
                    <a:lnTo>
                      <a:pt x="3041" y="1973"/>
                    </a:lnTo>
                    <a:lnTo>
                      <a:pt x="3054" y="1986"/>
                    </a:lnTo>
                    <a:lnTo>
                      <a:pt x="3068" y="1998"/>
                    </a:lnTo>
                    <a:lnTo>
                      <a:pt x="3083" y="2009"/>
                    </a:lnTo>
                    <a:lnTo>
                      <a:pt x="3099" y="2018"/>
                    </a:lnTo>
                    <a:lnTo>
                      <a:pt x="3115" y="2024"/>
                    </a:lnTo>
                    <a:lnTo>
                      <a:pt x="3133" y="2030"/>
                    </a:lnTo>
                    <a:lnTo>
                      <a:pt x="3152" y="2032"/>
                    </a:lnTo>
                    <a:lnTo>
                      <a:pt x="3172" y="2034"/>
                    </a:lnTo>
                    <a:lnTo>
                      <a:pt x="3172" y="2032"/>
                    </a:lnTo>
                    <a:lnTo>
                      <a:pt x="3173" y="2032"/>
                    </a:lnTo>
                    <a:lnTo>
                      <a:pt x="3176" y="2032"/>
                    </a:lnTo>
                    <a:lnTo>
                      <a:pt x="3181" y="2032"/>
                    </a:lnTo>
                    <a:lnTo>
                      <a:pt x="3192" y="2032"/>
                    </a:lnTo>
                    <a:lnTo>
                      <a:pt x="3201" y="2030"/>
                    </a:lnTo>
                    <a:lnTo>
                      <a:pt x="3212" y="2028"/>
                    </a:lnTo>
                    <a:lnTo>
                      <a:pt x="3230" y="2022"/>
                    </a:lnTo>
                    <a:lnTo>
                      <a:pt x="3234" y="2019"/>
                    </a:lnTo>
                    <a:lnTo>
                      <a:pt x="3239" y="2018"/>
                    </a:lnTo>
                    <a:lnTo>
                      <a:pt x="3250" y="2015"/>
                    </a:lnTo>
                    <a:lnTo>
                      <a:pt x="3274" y="2046"/>
                    </a:lnTo>
                    <a:lnTo>
                      <a:pt x="3296" y="2080"/>
                    </a:lnTo>
                    <a:lnTo>
                      <a:pt x="3320" y="2132"/>
                    </a:lnTo>
                    <a:lnTo>
                      <a:pt x="3339" y="2186"/>
                    </a:lnTo>
                    <a:lnTo>
                      <a:pt x="3345" y="2214"/>
                    </a:lnTo>
                    <a:lnTo>
                      <a:pt x="3351" y="2243"/>
                    </a:lnTo>
                    <a:lnTo>
                      <a:pt x="3356" y="2303"/>
                    </a:lnTo>
                    <a:lnTo>
                      <a:pt x="3353" y="2365"/>
                    </a:lnTo>
                    <a:lnTo>
                      <a:pt x="3349" y="2397"/>
                    </a:lnTo>
                    <a:lnTo>
                      <a:pt x="3344" y="2431"/>
                    </a:lnTo>
                    <a:lnTo>
                      <a:pt x="3328" y="2499"/>
                    </a:lnTo>
                    <a:lnTo>
                      <a:pt x="3318" y="2535"/>
                    </a:lnTo>
                    <a:lnTo>
                      <a:pt x="3306" y="2572"/>
                    </a:lnTo>
                    <a:lnTo>
                      <a:pt x="3291" y="2607"/>
                    </a:lnTo>
                    <a:lnTo>
                      <a:pt x="3275" y="2645"/>
                    </a:lnTo>
                    <a:lnTo>
                      <a:pt x="3238" y="2723"/>
                    </a:lnTo>
                    <a:lnTo>
                      <a:pt x="3217" y="2761"/>
                    </a:lnTo>
                    <a:lnTo>
                      <a:pt x="3194" y="2801"/>
                    </a:lnTo>
                    <a:lnTo>
                      <a:pt x="3170" y="2842"/>
                    </a:lnTo>
                    <a:lnTo>
                      <a:pt x="3145" y="2884"/>
                    </a:lnTo>
                    <a:lnTo>
                      <a:pt x="3116" y="2925"/>
                    </a:lnTo>
                    <a:lnTo>
                      <a:pt x="3087" y="2969"/>
                    </a:lnTo>
                    <a:lnTo>
                      <a:pt x="3023" y="3058"/>
                    </a:lnTo>
                    <a:lnTo>
                      <a:pt x="2952" y="3149"/>
                    </a:lnTo>
                    <a:lnTo>
                      <a:pt x="2875" y="3243"/>
                    </a:lnTo>
                    <a:lnTo>
                      <a:pt x="2805" y="3320"/>
                    </a:lnTo>
                    <a:lnTo>
                      <a:pt x="2733" y="3398"/>
                    </a:lnTo>
                    <a:lnTo>
                      <a:pt x="2658" y="3475"/>
                    </a:lnTo>
                    <a:lnTo>
                      <a:pt x="2638" y="3494"/>
                    </a:lnTo>
                    <a:lnTo>
                      <a:pt x="2619" y="3514"/>
                    </a:lnTo>
                    <a:lnTo>
                      <a:pt x="2582" y="3553"/>
                    </a:lnTo>
                    <a:lnTo>
                      <a:pt x="2509" y="3622"/>
                    </a:lnTo>
                    <a:lnTo>
                      <a:pt x="2435" y="3693"/>
                    </a:lnTo>
                    <a:lnTo>
                      <a:pt x="2377" y="3742"/>
                    </a:lnTo>
                    <a:lnTo>
                      <a:pt x="2348" y="3765"/>
                    </a:lnTo>
                    <a:lnTo>
                      <a:pt x="2340" y="3771"/>
                    </a:lnTo>
                    <a:lnTo>
                      <a:pt x="2336" y="3773"/>
                    </a:lnTo>
                    <a:lnTo>
                      <a:pt x="2333" y="3777"/>
                    </a:lnTo>
                    <a:lnTo>
                      <a:pt x="2320" y="3791"/>
                    </a:lnTo>
                    <a:lnTo>
                      <a:pt x="2262" y="3838"/>
                    </a:lnTo>
                    <a:lnTo>
                      <a:pt x="2205" y="3886"/>
                    </a:lnTo>
                    <a:lnTo>
                      <a:pt x="2145" y="3931"/>
                    </a:lnTo>
                    <a:lnTo>
                      <a:pt x="2087" y="3975"/>
                    </a:lnTo>
                    <a:lnTo>
                      <a:pt x="2027" y="4017"/>
                    </a:lnTo>
                    <a:lnTo>
                      <a:pt x="1969" y="4060"/>
                    </a:lnTo>
                    <a:lnTo>
                      <a:pt x="1958" y="4362"/>
                    </a:lnTo>
                    <a:lnTo>
                      <a:pt x="2038" y="4297"/>
                    </a:lnTo>
                    <a:lnTo>
                      <a:pt x="2118" y="4233"/>
                    </a:lnTo>
                    <a:lnTo>
                      <a:pt x="2198" y="4167"/>
                    </a:lnTo>
                    <a:lnTo>
                      <a:pt x="2277" y="4102"/>
                    </a:lnTo>
                    <a:lnTo>
                      <a:pt x="2354" y="4034"/>
                    </a:lnTo>
                    <a:lnTo>
                      <a:pt x="2431" y="3967"/>
                    </a:lnTo>
                    <a:lnTo>
                      <a:pt x="2507" y="3898"/>
                    </a:lnTo>
                    <a:lnTo>
                      <a:pt x="2584" y="3830"/>
                    </a:lnTo>
                    <a:lnTo>
                      <a:pt x="2655" y="3761"/>
                    </a:lnTo>
                    <a:lnTo>
                      <a:pt x="2725" y="3693"/>
                    </a:lnTo>
                    <a:lnTo>
                      <a:pt x="2818" y="3594"/>
                    </a:lnTo>
                    <a:lnTo>
                      <a:pt x="2908" y="3496"/>
                    </a:lnTo>
                    <a:lnTo>
                      <a:pt x="2951" y="3446"/>
                    </a:lnTo>
                    <a:lnTo>
                      <a:pt x="2972" y="3421"/>
                    </a:lnTo>
                    <a:lnTo>
                      <a:pt x="2994" y="3397"/>
                    </a:lnTo>
                    <a:lnTo>
                      <a:pt x="3078" y="3299"/>
                    </a:lnTo>
                    <a:lnTo>
                      <a:pt x="3157" y="3194"/>
                    </a:lnTo>
                    <a:lnTo>
                      <a:pt x="3194" y="3143"/>
                    </a:lnTo>
                    <a:lnTo>
                      <a:pt x="3230" y="3094"/>
                    </a:lnTo>
                    <a:lnTo>
                      <a:pt x="3263" y="3043"/>
                    </a:lnTo>
                    <a:lnTo>
                      <a:pt x="3295" y="2994"/>
                    </a:lnTo>
                    <a:lnTo>
                      <a:pt x="3325" y="2947"/>
                    </a:lnTo>
                    <a:lnTo>
                      <a:pt x="3355" y="2900"/>
                    </a:lnTo>
                    <a:lnTo>
                      <a:pt x="3405" y="2806"/>
                    </a:lnTo>
                    <a:lnTo>
                      <a:pt x="3427" y="2761"/>
                    </a:lnTo>
                    <a:lnTo>
                      <a:pt x="3449" y="2717"/>
                    </a:lnTo>
                    <a:lnTo>
                      <a:pt x="3467" y="2672"/>
                    </a:lnTo>
                    <a:lnTo>
                      <a:pt x="3484" y="2630"/>
                    </a:lnTo>
                    <a:lnTo>
                      <a:pt x="3514" y="2546"/>
                    </a:lnTo>
                    <a:lnTo>
                      <a:pt x="3524" y="2504"/>
                    </a:lnTo>
                    <a:lnTo>
                      <a:pt x="3533" y="2464"/>
                    </a:lnTo>
                    <a:lnTo>
                      <a:pt x="3547" y="2386"/>
                    </a:lnTo>
                    <a:lnTo>
                      <a:pt x="3551" y="2348"/>
                    </a:lnTo>
                    <a:lnTo>
                      <a:pt x="3553" y="2311"/>
                    </a:lnTo>
                    <a:lnTo>
                      <a:pt x="3553" y="2274"/>
                    </a:lnTo>
                    <a:lnTo>
                      <a:pt x="3553" y="2239"/>
                    </a:lnTo>
                    <a:lnTo>
                      <a:pt x="3549" y="2203"/>
                    </a:lnTo>
                    <a:lnTo>
                      <a:pt x="3544" y="2169"/>
                    </a:lnTo>
                    <a:lnTo>
                      <a:pt x="3536" y="2134"/>
                    </a:lnTo>
                    <a:lnTo>
                      <a:pt x="3528" y="2103"/>
                    </a:lnTo>
                    <a:lnTo>
                      <a:pt x="3518" y="2069"/>
                    </a:lnTo>
                    <a:lnTo>
                      <a:pt x="3506" y="2038"/>
                    </a:lnTo>
                    <a:lnTo>
                      <a:pt x="3491" y="2007"/>
                    </a:lnTo>
                    <a:lnTo>
                      <a:pt x="3475" y="1978"/>
                    </a:lnTo>
                    <a:lnTo>
                      <a:pt x="3449" y="1937"/>
                    </a:lnTo>
                    <a:lnTo>
                      <a:pt x="3421" y="1899"/>
                    </a:lnTo>
                    <a:lnTo>
                      <a:pt x="3389" y="1863"/>
                    </a:lnTo>
                    <a:lnTo>
                      <a:pt x="3356" y="1831"/>
                    </a:lnTo>
                    <a:lnTo>
                      <a:pt x="3356" y="1827"/>
                    </a:lnTo>
                    <a:lnTo>
                      <a:pt x="3355" y="1806"/>
                    </a:lnTo>
                    <a:lnTo>
                      <a:pt x="3352" y="1786"/>
                    </a:lnTo>
                    <a:lnTo>
                      <a:pt x="3348" y="1766"/>
                    </a:lnTo>
                    <a:lnTo>
                      <a:pt x="3343" y="1748"/>
                    </a:lnTo>
                    <a:lnTo>
                      <a:pt x="3335" y="1729"/>
                    </a:lnTo>
                    <a:lnTo>
                      <a:pt x="3325" y="1713"/>
                    </a:lnTo>
                    <a:lnTo>
                      <a:pt x="3315" y="1697"/>
                    </a:lnTo>
                    <a:lnTo>
                      <a:pt x="3303" y="1683"/>
                    </a:lnTo>
                    <a:lnTo>
                      <a:pt x="3287" y="1667"/>
                    </a:lnTo>
                    <a:lnTo>
                      <a:pt x="3272" y="1655"/>
                    </a:lnTo>
                    <a:lnTo>
                      <a:pt x="3257" y="1644"/>
                    </a:lnTo>
                    <a:lnTo>
                      <a:pt x="3242" y="1636"/>
                    </a:lnTo>
                    <a:lnTo>
                      <a:pt x="3225" y="1628"/>
                    </a:lnTo>
                    <a:lnTo>
                      <a:pt x="3208" y="1624"/>
                    </a:lnTo>
                    <a:lnTo>
                      <a:pt x="3189" y="1622"/>
                    </a:lnTo>
                    <a:lnTo>
                      <a:pt x="3172" y="1622"/>
                    </a:lnTo>
                    <a:lnTo>
                      <a:pt x="3136" y="1624"/>
                    </a:lnTo>
                    <a:lnTo>
                      <a:pt x="3106" y="1634"/>
                    </a:lnTo>
                    <a:lnTo>
                      <a:pt x="3076" y="1650"/>
                    </a:lnTo>
                    <a:lnTo>
                      <a:pt x="3051" y="1672"/>
                    </a:lnTo>
                    <a:lnTo>
                      <a:pt x="3006" y="1659"/>
                    </a:lnTo>
                    <a:lnTo>
                      <a:pt x="2960" y="1650"/>
                    </a:lnTo>
                    <a:lnTo>
                      <a:pt x="2912" y="1640"/>
                    </a:lnTo>
                    <a:lnTo>
                      <a:pt x="2863" y="1634"/>
                    </a:lnTo>
                    <a:lnTo>
                      <a:pt x="2811" y="1627"/>
                    </a:lnTo>
                    <a:lnTo>
                      <a:pt x="2758" y="1623"/>
                    </a:lnTo>
                    <a:lnTo>
                      <a:pt x="2703" y="1619"/>
                    </a:lnTo>
                    <a:lnTo>
                      <a:pt x="2647" y="1619"/>
                    </a:lnTo>
                    <a:lnTo>
                      <a:pt x="2587" y="1618"/>
                    </a:lnTo>
                    <a:lnTo>
                      <a:pt x="2528" y="1620"/>
                    </a:lnTo>
                    <a:lnTo>
                      <a:pt x="2466" y="1623"/>
                    </a:lnTo>
                    <a:lnTo>
                      <a:pt x="2403" y="1628"/>
                    </a:lnTo>
                    <a:lnTo>
                      <a:pt x="2337" y="1634"/>
                    </a:lnTo>
                    <a:lnTo>
                      <a:pt x="2271" y="1642"/>
                    </a:lnTo>
                    <a:lnTo>
                      <a:pt x="2202" y="1650"/>
                    </a:lnTo>
                    <a:lnTo>
                      <a:pt x="2132" y="1661"/>
                    </a:lnTo>
                    <a:lnTo>
                      <a:pt x="1975" y="1687"/>
                    </a:lnTo>
                    <a:lnTo>
                      <a:pt x="1896" y="1701"/>
                    </a:lnTo>
                    <a:lnTo>
                      <a:pt x="1818" y="1720"/>
                    </a:lnTo>
                    <a:lnTo>
                      <a:pt x="1791" y="1630"/>
                    </a:lnTo>
                    <a:lnTo>
                      <a:pt x="1765" y="1545"/>
                    </a:lnTo>
                    <a:lnTo>
                      <a:pt x="1738" y="1464"/>
                    </a:lnTo>
                    <a:lnTo>
                      <a:pt x="1714" y="1387"/>
                    </a:lnTo>
                    <a:lnTo>
                      <a:pt x="1689" y="1313"/>
                    </a:lnTo>
                    <a:lnTo>
                      <a:pt x="1665" y="1244"/>
                    </a:lnTo>
                    <a:lnTo>
                      <a:pt x="1641" y="1178"/>
                    </a:lnTo>
                    <a:lnTo>
                      <a:pt x="1619" y="1117"/>
                    </a:lnTo>
                    <a:lnTo>
                      <a:pt x="1596" y="1063"/>
                    </a:lnTo>
                    <a:lnTo>
                      <a:pt x="1575" y="1011"/>
                    </a:lnTo>
                    <a:lnTo>
                      <a:pt x="1533" y="913"/>
                    </a:lnTo>
                    <a:lnTo>
                      <a:pt x="1488" y="820"/>
                    </a:lnTo>
                    <a:lnTo>
                      <a:pt x="1465" y="775"/>
                    </a:lnTo>
                    <a:lnTo>
                      <a:pt x="1444" y="734"/>
                    </a:lnTo>
                    <a:lnTo>
                      <a:pt x="1420" y="692"/>
                    </a:lnTo>
                    <a:lnTo>
                      <a:pt x="1398" y="652"/>
                    </a:lnTo>
                    <a:lnTo>
                      <a:pt x="1374" y="612"/>
                    </a:lnTo>
                    <a:lnTo>
                      <a:pt x="1351" y="576"/>
                    </a:lnTo>
                    <a:lnTo>
                      <a:pt x="1304" y="507"/>
                    </a:lnTo>
                    <a:lnTo>
                      <a:pt x="1256" y="444"/>
                    </a:lnTo>
                    <a:lnTo>
                      <a:pt x="1206" y="384"/>
                    </a:lnTo>
                    <a:lnTo>
                      <a:pt x="1155" y="331"/>
                    </a:lnTo>
                    <a:lnTo>
                      <a:pt x="1129" y="306"/>
                    </a:lnTo>
                    <a:lnTo>
                      <a:pt x="1104" y="284"/>
                    </a:lnTo>
                    <a:lnTo>
                      <a:pt x="1077" y="262"/>
                    </a:lnTo>
                    <a:lnTo>
                      <a:pt x="1052" y="244"/>
                    </a:lnTo>
                    <a:lnTo>
                      <a:pt x="1024" y="224"/>
                    </a:lnTo>
                    <a:lnTo>
                      <a:pt x="998" y="207"/>
                    </a:lnTo>
                    <a:lnTo>
                      <a:pt x="945" y="178"/>
                    </a:lnTo>
                    <a:lnTo>
                      <a:pt x="917" y="164"/>
                    </a:lnTo>
                    <a:lnTo>
                      <a:pt x="890" y="154"/>
                    </a:lnTo>
                    <a:lnTo>
                      <a:pt x="862" y="143"/>
                    </a:lnTo>
                    <a:lnTo>
                      <a:pt x="836" y="135"/>
                    </a:lnTo>
                    <a:lnTo>
                      <a:pt x="96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8362800" y="5591160"/>
              <a:ext cx="314640" cy="812880"/>
            </a:xfrm>
            <a:custGeom>
              <a:avLst/>
              <a:gdLst/>
              <a:ahLst/>
              <a:rect l="l" t="t" r="r" b="b"/>
              <a:pathLst>
                <a:path w="1949" h="5043">
                  <a:moveTo>
                    <a:pt x="1787" y="4897"/>
                  </a:moveTo>
                  <a:lnTo>
                    <a:pt x="1803" y="4820"/>
                  </a:lnTo>
                  <a:lnTo>
                    <a:pt x="1809" y="4778"/>
                  </a:lnTo>
                  <a:lnTo>
                    <a:pt x="1817" y="4737"/>
                  </a:lnTo>
                  <a:lnTo>
                    <a:pt x="1833" y="4653"/>
                  </a:lnTo>
                  <a:lnTo>
                    <a:pt x="1846" y="4568"/>
                  </a:lnTo>
                  <a:lnTo>
                    <a:pt x="1861" y="4483"/>
                  </a:lnTo>
                  <a:lnTo>
                    <a:pt x="1873" y="4396"/>
                  </a:lnTo>
                  <a:lnTo>
                    <a:pt x="1885" y="4309"/>
                  </a:lnTo>
                  <a:lnTo>
                    <a:pt x="1896" y="4219"/>
                  </a:lnTo>
                  <a:lnTo>
                    <a:pt x="1906" y="4130"/>
                  </a:lnTo>
                  <a:lnTo>
                    <a:pt x="1917" y="3996"/>
                  </a:lnTo>
                  <a:lnTo>
                    <a:pt x="1927" y="3861"/>
                  </a:lnTo>
                  <a:lnTo>
                    <a:pt x="1935" y="3704"/>
                  </a:lnTo>
                  <a:lnTo>
                    <a:pt x="1938" y="3625"/>
                  </a:lnTo>
                  <a:lnTo>
                    <a:pt x="1939" y="3585"/>
                  </a:lnTo>
                  <a:lnTo>
                    <a:pt x="1942" y="3547"/>
                  </a:lnTo>
                  <a:lnTo>
                    <a:pt x="1942" y="3506"/>
                  </a:lnTo>
                  <a:lnTo>
                    <a:pt x="1943" y="3466"/>
                  </a:lnTo>
                  <a:lnTo>
                    <a:pt x="1946" y="3385"/>
                  </a:lnTo>
                  <a:lnTo>
                    <a:pt x="1949" y="3222"/>
                  </a:lnTo>
                  <a:lnTo>
                    <a:pt x="1946" y="3058"/>
                  </a:lnTo>
                  <a:lnTo>
                    <a:pt x="1942" y="2898"/>
                  </a:lnTo>
                  <a:lnTo>
                    <a:pt x="1935" y="2740"/>
                  </a:lnTo>
                  <a:lnTo>
                    <a:pt x="1931" y="2662"/>
                  </a:lnTo>
                  <a:lnTo>
                    <a:pt x="1929" y="2586"/>
                  </a:lnTo>
                  <a:lnTo>
                    <a:pt x="1918" y="2450"/>
                  </a:lnTo>
                  <a:lnTo>
                    <a:pt x="1906" y="2319"/>
                  </a:lnTo>
                  <a:lnTo>
                    <a:pt x="1905" y="2296"/>
                  </a:lnTo>
                  <a:lnTo>
                    <a:pt x="1889" y="2162"/>
                  </a:lnTo>
                  <a:lnTo>
                    <a:pt x="1876" y="2063"/>
                  </a:lnTo>
                  <a:lnTo>
                    <a:pt x="1864" y="1966"/>
                  </a:lnTo>
                  <a:lnTo>
                    <a:pt x="1848" y="1873"/>
                  </a:lnTo>
                  <a:lnTo>
                    <a:pt x="1833" y="1785"/>
                  </a:lnTo>
                  <a:lnTo>
                    <a:pt x="1827" y="1749"/>
                  </a:lnTo>
                  <a:lnTo>
                    <a:pt x="1804" y="1628"/>
                  </a:lnTo>
                  <a:lnTo>
                    <a:pt x="1788" y="1551"/>
                  </a:lnTo>
                  <a:lnTo>
                    <a:pt x="1770" y="1473"/>
                  </a:lnTo>
                  <a:lnTo>
                    <a:pt x="1752" y="1399"/>
                  </a:lnTo>
                  <a:lnTo>
                    <a:pt x="1646" y="1434"/>
                  </a:lnTo>
                  <a:lnTo>
                    <a:pt x="1542" y="1472"/>
                  </a:lnTo>
                  <a:lnTo>
                    <a:pt x="1470" y="1497"/>
                  </a:lnTo>
                  <a:lnTo>
                    <a:pt x="1400" y="1525"/>
                  </a:lnTo>
                  <a:lnTo>
                    <a:pt x="1328" y="1553"/>
                  </a:lnTo>
                  <a:lnTo>
                    <a:pt x="1258" y="1583"/>
                  </a:lnTo>
                  <a:lnTo>
                    <a:pt x="1114" y="1646"/>
                  </a:lnTo>
                  <a:lnTo>
                    <a:pt x="971" y="1713"/>
                  </a:lnTo>
                  <a:lnTo>
                    <a:pt x="907" y="1744"/>
                  </a:lnTo>
                  <a:lnTo>
                    <a:pt x="727" y="1832"/>
                  </a:lnTo>
                  <a:lnTo>
                    <a:pt x="907" y="1917"/>
                  </a:lnTo>
                  <a:lnTo>
                    <a:pt x="969" y="1948"/>
                  </a:lnTo>
                  <a:lnTo>
                    <a:pt x="1091" y="1888"/>
                  </a:lnTo>
                  <a:lnTo>
                    <a:pt x="1213" y="1832"/>
                  </a:lnTo>
                  <a:lnTo>
                    <a:pt x="1313" y="1786"/>
                  </a:lnTo>
                  <a:lnTo>
                    <a:pt x="1413" y="1745"/>
                  </a:lnTo>
                  <a:lnTo>
                    <a:pt x="1511" y="1704"/>
                  </a:lnTo>
                  <a:lnTo>
                    <a:pt x="1611" y="1667"/>
                  </a:lnTo>
                  <a:lnTo>
                    <a:pt x="1632" y="1785"/>
                  </a:lnTo>
                  <a:lnTo>
                    <a:pt x="1646" y="1873"/>
                  </a:lnTo>
                  <a:lnTo>
                    <a:pt x="1662" y="1966"/>
                  </a:lnTo>
                  <a:lnTo>
                    <a:pt x="1673" y="2051"/>
                  </a:lnTo>
                  <a:lnTo>
                    <a:pt x="1685" y="2138"/>
                  </a:lnTo>
                  <a:lnTo>
                    <a:pt x="1694" y="2227"/>
                  </a:lnTo>
                  <a:lnTo>
                    <a:pt x="1705" y="2319"/>
                  </a:lnTo>
                  <a:lnTo>
                    <a:pt x="1717" y="2450"/>
                  </a:lnTo>
                  <a:lnTo>
                    <a:pt x="1727" y="2586"/>
                  </a:lnTo>
                  <a:lnTo>
                    <a:pt x="1730" y="2662"/>
                  </a:lnTo>
                  <a:lnTo>
                    <a:pt x="1734" y="2740"/>
                  </a:lnTo>
                  <a:lnTo>
                    <a:pt x="1740" y="2898"/>
                  </a:lnTo>
                  <a:lnTo>
                    <a:pt x="1744" y="3058"/>
                  </a:lnTo>
                  <a:lnTo>
                    <a:pt x="1747" y="3222"/>
                  </a:lnTo>
                  <a:lnTo>
                    <a:pt x="1744" y="3385"/>
                  </a:lnTo>
                  <a:lnTo>
                    <a:pt x="1742" y="3466"/>
                  </a:lnTo>
                  <a:lnTo>
                    <a:pt x="1740" y="3506"/>
                  </a:lnTo>
                  <a:lnTo>
                    <a:pt x="1740" y="3547"/>
                  </a:lnTo>
                  <a:lnTo>
                    <a:pt x="1738" y="3585"/>
                  </a:lnTo>
                  <a:lnTo>
                    <a:pt x="1737" y="3625"/>
                  </a:lnTo>
                  <a:lnTo>
                    <a:pt x="1734" y="3704"/>
                  </a:lnTo>
                  <a:lnTo>
                    <a:pt x="1726" y="3861"/>
                  </a:lnTo>
                  <a:lnTo>
                    <a:pt x="1721" y="3926"/>
                  </a:lnTo>
                  <a:lnTo>
                    <a:pt x="1717" y="3992"/>
                  </a:lnTo>
                  <a:lnTo>
                    <a:pt x="1711" y="4061"/>
                  </a:lnTo>
                  <a:lnTo>
                    <a:pt x="1707" y="4095"/>
                  </a:lnTo>
                  <a:lnTo>
                    <a:pt x="1705" y="4130"/>
                  </a:lnTo>
                  <a:lnTo>
                    <a:pt x="1690" y="4258"/>
                  </a:lnTo>
                  <a:lnTo>
                    <a:pt x="1682" y="4327"/>
                  </a:lnTo>
                  <a:lnTo>
                    <a:pt x="1678" y="4360"/>
                  </a:lnTo>
                  <a:lnTo>
                    <a:pt x="1662" y="4468"/>
                  </a:lnTo>
                  <a:lnTo>
                    <a:pt x="1646" y="4574"/>
                  </a:lnTo>
                  <a:lnTo>
                    <a:pt x="1628" y="4678"/>
                  </a:lnTo>
                  <a:lnTo>
                    <a:pt x="1609" y="4783"/>
                  </a:lnTo>
                  <a:lnTo>
                    <a:pt x="1510" y="4743"/>
                  </a:lnTo>
                  <a:lnTo>
                    <a:pt x="1412" y="4702"/>
                  </a:lnTo>
                  <a:lnTo>
                    <a:pt x="1311" y="4660"/>
                  </a:lnTo>
                  <a:lnTo>
                    <a:pt x="1261" y="4637"/>
                  </a:lnTo>
                  <a:lnTo>
                    <a:pt x="1212" y="4616"/>
                  </a:lnTo>
                  <a:lnTo>
                    <a:pt x="1090" y="4559"/>
                  </a:lnTo>
                  <a:lnTo>
                    <a:pt x="969" y="4501"/>
                  </a:lnTo>
                  <a:lnTo>
                    <a:pt x="934" y="4482"/>
                  </a:lnTo>
                  <a:lnTo>
                    <a:pt x="899" y="4465"/>
                  </a:lnTo>
                  <a:lnTo>
                    <a:pt x="830" y="4430"/>
                  </a:lnTo>
                  <a:lnTo>
                    <a:pt x="760" y="4393"/>
                  </a:lnTo>
                  <a:lnTo>
                    <a:pt x="691" y="4358"/>
                  </a:lnTo>
                  <a:lnTo>
                    <a:pt x="620" y="4318"/>
                  </a:lnTo>
                  <a:lnTo>
                    <a:pt x="601" y="4307"/>
                  </a:lnTo>
                  <a:lnTo>
                    <a:pt x="592" y="4302"/>
                  </a:lnTo>
                  <a:lnTo>
                    <a:pt x="584" y="4298"/>
                  </a:lnTo>
                  <a:lnTo>
                    <a:pt x="549" y="4279"/>
                  </a:lnTo>
                  <a:lnTo>
                    <a:pt x="478" y="4240"/>
                  </a:lnTo>
                  <a:lnTo>
                    <a:pt x="408" y="4200"/>
                  </a:lnTo>
                  <a:lnTo>
                    <a:pt x="400" y="4195"/>
                  </a:lnTo>
                  <a:lnTo>
                    <a:pt x="396" y="4192"/>
                  </a:lnTo>
                  <a:lnTo>
                    <a:pt x="393" y="4191"/>
                  </a:lnTo>
                  <a:lnTo>
                    <a:pt x="384" y="4185"/>
                  </a:lnTo>
                  <a:lnTo>
                    <a:pt x="376" y="4181"/>
                  </a:lnTo>
                  <a:lnTo>
                    <a:pt x="357" y="4171"/>
                  </a:lnTo>
                  <a:lnTo>
                    <a:pt x="347" y="4164"/>
                  </a:lnTo>
                  <a:lnTo>
                    <a:pt x="337" y="4159"/>
                  </a:lnTo>
                  <a:lnTo>
                    <a:pt x="314" y="4144"/>
                  </a:lnTo>
                  <a:lnTo>
                    <a:pt x="300" y="4136"/>
                  </a:lnTo>
                  <a:lnTo>
                    <a:pt x="296" y="4134"/>
                  </a:lnTo>
                  <a:lnTo>
                    <a:pt x="294" y="4132"/>
                  </a:lnTo>
                  <a:lnTo>
                    <a:pt x="288" y="4130"/>
                  </a:lnTo>
                  <a:lnTo>
                    <a:pt x="261" y="4114"/>
                  </a:lnTo>
                  <a:lnTo>
                    <a:pt x="253" y="4109"/>
                  </a:lnTo>
                  <a:lnTo>
                    <a:pt x="249" y="4106"/>
                  </a:lnTo>
                  <a:lnTo>
                    <a:pt x="246" y="4105"/>
                  </a:lnTo>
                  <a:lnTo>
                    <a:pt x="233" y="4097"/>
                  </a:lnTo>
                  <a:lnTo>
                    <a:pt x="230" y="4082"/>
                  </a:lnTo>
                  <a:lnTo>
                    <a:pt x="229" y="4077"/>
                  </a:lnTo>
                  <a:lnTo>
                    <a:pt x="229" y="4073"/>
                  </a:lnTo>
                  <a:lnTo>
                    <a:pt x="229" y="4065"/>
                  </a:lnTo>
                  <a:lnTo>
                    <a:pt x="229" y="4063"/>
                  </a:lnTo>
                  <a:lnTo>
                    <a:pt x="230" y="4063"/>
                  </a:lnTo>
                  <a:lnTo>
                    <a:pt x="233" y="4063"/>
                  </a:lnTo>
                  <a:lnTo>
                    <a:pt x="233" y="4062"/>
                  </a:lnTo>
                  <a:lnTo>
                    <a:pt x="234" y="4062"/>
                  </a:lnTo>
                  <a:lnTo>
                    <a:pt x="237" y="4062"/>
                  </a:lnTo>
                  <a:lnTo>
                    <a:pt x="237" y="4061"/>
                  </a:lnTo>
                  <a:lnTo>
                    <a:pt x="234" y="4040"/>
                  </a:lnTo>
                  <a:lnTo>
                    <a:pt x="234" y="4017"/>
                  </a:lnTo>
                  <a:lnTo>
                    <a:pt x="231" y="3992"/>
                  </a:lnTo>
                  <a:lnTo>
                    <a:pt x="231" y="3967"/>
                  </a:lnTo>
                  <a:lnTo>
                    <a:pt x="229" y="3936"/>
                  </a:lnTo>
                  <a:lnTo>
                    <a:pt x="229" y="3906"/>
                  </a:lnTo>
                  <a:lnTo>
                    <a:pt x="226" y="3873"/>
                  </a:lnTo>
                  <a:lnTo>
                    <a:pt x="226" y="3838"/>
                  </a:lnTo>
                  <a:lnTo>
                    <a:pt x="223" y="3800"/>
                  </a:lnTo>
                  <a:lnTo>
                    <a:pt x="223" y="3760"/>
                  </a:lnTo>
                  <a:lnTo>
                    <a:pt x="221" y="3718"/>
                  </a:lnTo>
                  <a:lnTo>
                    <a:pt x="221" y="3674"/>
                  </a:lnTo>
                  <a:lnTo>
                    <a:pt x="218" y="3628"/>
                  </a:lnTo>
                  <a:lnTo>
                    <a:pt x="218" y="3579"/>
                  </a:lnTo>
                  <a:lnTo>
                    <a:pt x="217" y="3552"/>
                  </a:lnTo>
                  <a:lnTo>
                    <a:pt x="217" y="3527"/>
                  </a:lnTo>
                  <a:lnTo>
                    <a:pt x="217" y="3475"/>
                  </a:lnTo>
                  <a:lnTo>
                    <a:pt x="213" y="3367"/>
                  </a:lnTo>
                  <a:lnTo>
                    <a:pt x="212" y="3265"/>
                  </a:lnTo>
                  <a:lnTo>
                    <a:pt x="210" y="3165"/>
                  </a:lnTo>
                  <a:lnTo>
                    <a:pt x="212" y="3071"/>
                  </a:lnTo>
                  <a:lnTo>
                    <a:pt x="213" y="2980"/>
                  </a:lnTo>
                  <a:lnTo>
                    <a:pt x="216" y="2894"/>
                  </a:lnTo>
                  <a:lnTo>
                    <a:pt x="219" y="2810"/>
                  </a:lnTo>
                  <a:lnTo>
                    <a:pt x="225" y="2733"/>
                  </a:lnTo>
                  <a:lnTo>
                    <a:pt x="231" y="2614"/>
                  </a:lnTo>
                  <a:lnTo>
                    <a:pt x="243" y="2499"/>
                  </a:lnTo>
                  <a:lnTo>
                    <a:pt x="246" y="2467"/>
                  </a:lnTo>
                  <a:lnTo>
                    <a:pt x="266" y="2284"/>
                  </a:lnTo>
                  <a:lnTo>
                    <a:pt x="272" y="2232"/>
                  </a:lnTo>
                  <a:lnTo>
                    <a:pt x="287" y="2120"/>
                  </a:lnTo>
                  <a:lnTo>
                    <a:pt x="304" y="2010"/>
                  </a:lnTo>
                  <a:lnTo>
                    <a:pt x="323" y="1901"/>
                  </a:lnTo>
                  <a:lnTo>
                    <a:pt x="344" y="1797"/>
                  </a:lnTo>
                  <a:lnTo>
                    <a:pt x="364" y="1700"/>
                  </a:lnTo>
                  <a:lnTo>
                    <a:pt x="367" y="1688"/>
                  </a:lnTo>
                  <a:lnTo>
                    <a:pt x="386" y="1594"/>
                  </a:lnTo>
                  <a:lnTo>
                    <a:pt x="410" y="1502"/>
                  </a:lnTo>
                  <a:lnTo>
                    <a:pt x="410" y="1500"/>
                  </a:lnTo>
                  <a:lnTo>
                    <a:pt x="413" y="1496"/>
                  </a:lnTo>
                  <a:lnTo>
                    <a:pt x="416" y="1491"/>
                  </a:lnTo>
                  <a:lnTo>
                    <a:pt x="421" y="1484"/>
                  </a:lnTo>
                  <a:lnTo>
                    <a:pt x="422" y="1473"/>
                  </a:lnTo>
                  <a:lnTo>
                    <a:pt x="428" y="1457"/>
                  </a:lnTo>
                  <a:lnTo>
                    <a:pt x="434" y="1434"/>
                  </a:lnTo>
                  <a:lnTo>
                    <a:pt x="439" y="1420"/>
                  </a:lnTo>
                  <a:lnTo>
                    <a:pt x="445" y="1406"/>
                  </a:lnTo>
                  <a:lnTo>
                    <a:pt x="455" y="1369"/>
                  </a:lnTo>
                  <a:lnTo>
                    <a:pt x="462" y="1349"/>
                  </a:lnTo>
                  <a:lnTo>
                    <a:pt x="470" y="1328"/>
                  </a:lnTo>
                  <a:lnTo>
                    <a:pt x="478" y="1304"/>
                  </a:lnTo>
                  <a:lnTo>
                    <a:pt x="486" y="1279"/>
                  </a:lnTo>
                  <a:lnTo>
                    <a:pt x="495" y="1252"/>
                  </a:lnTo>
                  <a:lnTo>
                    <a:pt x="506" y="1224"/>
                  </a:lnTo>
                  <a:lnTo>
                    <a:pt x="516" y="1188"/>
                  </a:lnTo>
                  <a:lnTo>
                    <a:pt x="528" y="1151"/>
                  </a:lnTo>
                  <a:lnTo>
                    <a:pt x="541" y="1113"/>
                  </a:lnTo>
                  <a:lnTo>
                    <a:pt x="556" y="1072"/>
                  </a:lnTo>
                  <a:lnTo>
                    <a:pt x="571" y="1028"/>
                  </a:lnTo>
                  <a:lnTo>
                    <a:pt x="586" y="983"/>
                  </a:lnTo>
                  <a:lnTo>
                    <a:pt x="602" y="935"/>
                  </a:lnTo>
                  <a:lnTo>
                    <a:pt x="620" y="886"/>
                  </a:lnTo>
                  <a:lnTo>
                    <a:pt x="661" y="771"/>
                  </a:lnTo>
                  <a:lnTo>
                    <a:pt x="704" y="662"/>
                  </a:lnTo>
                  <a:lnTo>
                    <a:pt x="751" y="559"/>
                  </a:lnTo>
                  <a:lnTo>
                    <a:pt x="775" y="510"/>
                  </a:lnTo>
                  <a:lnTo>
                    <a:pt x="801" y="464"/>
                  </a:lnTo>
                  <a:lnTo>
                    <a:pt x="853" y="374"/>
                  </a:lnTo>
                  <a:lnTo>
                    <a:pt x="879" y="330"/>
                  </a:lnTo>
                  <a:lnTo>
                    <a:pt x="908" y="290"/>
                  </a:lnTo>
                  <a:lnTo>
                    <a:pt x="936" y="250"/>
                  </a:lnTo>
                  <a:lnTo>
                    <a:pt x="967" y="213"/>
                  </a:lnTo>
                  <a:lnTo>
                    <a:pt x="1029" y="143"/>
                  </a:lnTo>
                  <a:lnTo>
                    <a:pt x="822" y="0"/>
                  </a:lnTo>
                  <a:lnTo>
                    <a:pt x="753" y="106"/>
                  </a:lnTo>
                  <a:lnTo>
                    <a:pt x="691" y="211"/>
                  </a:lnTo>
                  <a:lnTo>
                    <a:pt x="632" y="314"/>
                  </a:lnTo>
                  <a:lnTo>
                    <a:pt x="604" y="364"/>
                  </a:lnTo>
                  <a:lnTo>
                    <a:pt x="579" y="416"/>
                  </a:lnTo>
                  <a:lnTo>
                    <a:pt x="527" y="515"/>
                  </a:lnTo>
                  <a:lnTo>
                    <a:pt x="482" y="613"/>
                  </a:lnTo>
                  <a:lnTo>
                    <a:pt x="441" y="710"/>
                  </a:lnTo>
                  <a:lnTo>
                    <a:pt x="405" y="807"/>
                  </a:lnTo>
                  <a:lnTo>
                    <a:pt x="390" y="848"/>
                  </a:lnTo>
                  <a:lnTo>
                    <a:pt x="369" y="904"/>
                  </a:lnTo>
                  <a:lnTo>
                    <a:pt x="351" y="958"/>
                  </a:lnTo>
                  <a:lnTo>
                    <a:pt x="333" y="1010"/>
                  </a:lnTo>
                  <a:lnTo>
                    <a:pt x="318" y="1059"/>
                  </a:lnTo>
                  <a:lnTo>
                    <a:pt x="302" y="1102"/>
                  </a:lnTo>
                  <a:lnTo>
                    <a:pt x="287" y="1146"/>
                  </a:lnTo>
                  <a:lnTo>
                    <a:pt x="274" y="1186"/>
                  </a:lnTo>
                  <a:lnTo>
                    <a:pt x="263" y="1224"/>
                  </a:lnTo>
                  <a:lnTo>
                    <a:pt x="243" y="1280"/>
                  </a:lnTo>
                  <a:lnTo>
                    <a:pt x="235" y="1305"/>
                  </a:lnTo>
                  <a:lnTo>
                    <a:pt x="229" y="1329"/>
                  </a:lnTo>
                  <a:lnTo>
                    <a:pt x="222" y="1350"/>
                  </a:lnTo>
                  <a:lnTo>
                    <a:pt x="217" y="1370"/>
                  </a:lnTo>
                  <a:lnTo>
                    <a:pt x="212" y="1387"/>
                  </a:lnTo>
                  <a:lnTo>
                    <a:pt x="209" y="1403"/>
                  </a:lnTo>
                  <a:lnTo>
                    <a:pt x="208" y="1408"/>
                  </a:lnTo>
                  <a:lnTo>
                    <a:pt x="204" y="1419"/>
                  </a:lnTo>
                  <a:lnTo>
                    <a:pt x="197" y="1448"/>
                  </a:lnTo>
                  <a:lnTo>
                    <a:pt x="186" y="1491"/>
                  </a:lnTo>
                  <a:lnTo>
                    <a:pt x="173" y="1544"/>
                  </a:lnTo>
                  <a:lnTo>
                    <a:pt x="155" y="1624"/>
                  </a:lnTo>
                  <a:lnTo>
                    <a:pt x="152" y="1636"/>
                  </a:lnTo>
                  <a:lnTo>
                    <a:pt x="151" y="1647"/>
                  </a:lnTo>
                  <a:lnTo>
                    <a:pt x="123" y="1773"/>
                  </a:lnTo>
                  <a:lnTo>
                    <a:pt x="100" y="1901"/>
                  </a:lnTo>
                  <a:lnTo>
                    <a:pt x="78" y="2032"/>
                  </a:lnTo>
                  <a:lnTo>
                    <a:pt x="61" y="2169"/>
                  </a:lnTo>
                  <a:lnTo>
                    <a:pt x="47" y="2284"/>
                  </a:lnTo>
                  <a:lnTo>
                    <a:pt x="39" y="2342"/>
                  </a:lnTo>
                  <a:lnTo>
                    <a:pt x="34" y="2403"/>
                  </a:lnTo>
                  <a:lnTo>
                    <a:pt x="31" y="2435"/>
                  </a:lnTo>
                  <a:lnTo>
                    <a:pt x="27" y="2482"/>
                  </a:lnTo>
                  <a:lnTo>
                    <a:pt x="18" y="2574"/>
                  </a:lnTo>
                  <a:lnTo>
                    <a:pt x="13" y="2670"/>
                  </a:lnTo>
                  <a:lnTo>
                    <a:pt x="8" y="2747"/>
                  </a:lnTo>
                  <a:lnTo>
                    <a:pt x="5" y="2831"/>
                  </a:lnTo>
                  <a:lnTo>
                    <a:pt x="2" y="2894"/>
                  </a:lnTo>
                  <a:lnTo>
                    <a:pt x="1" y="2961"/>
                  </a:lnTo>
                  <a:lnTo>
                    <a:pt x="0" y="3029"/>
                  </a:lnTo>
                  <a:lnTo>
                    <a:pt x="0" y="3102"/>
                  </a:lnTo>
                  <a:lnTo>
                    <a:pt x="1" y="3251"/>
                  </a:lnTo>
                  <a:lnTo>
                    <a:pt x="5" y="3412"/>
                  </a:lnTo>
                  <a:lnTo>
                    <a:pt x="6" y="3475"/>
                  </a:lnTo>
                  <a:lnTo>
                    <a:pt x="11" y="3711"/>
                  </a:lnTo>
                  <a:lnTo>
                    <a:pt x="17" y="3961"/>
                  </a:lnTo>
                  <a:lnTo>
                    <a:pt x="19" y="4087"/>
                  </a:lnTo>
                  <a:lnTo>
                    <a:pt x="23" y="4216"/>
                  </a:lnTo>
                  <a:lnTo>
                    <a:pt x="104" y="4265"/>
                  </a:lnTo>
                  <a:lnTo>
                    <a:pt x="201" y="4323"/>
                  </a:lnTo>
                  <a:lnTo>
                    <a:pt x="300" y="4381"/>
                  </a:lnTo>
                  <a:lnTo>
                    <a:pt x="406" y="4442"/>
                  </a:lnTo>
                  <a:lnTo>
                    <a:pt x="515" y="4502"/>
                  </a:lnTo>
                  <a:lnTo>
                    <a:pt x="621" y="4559"/>
                  </a:lnTo>
                  <a:lnTo>
                    <a:pt x="728" y="4615"/>
                  </a:lnTo>
                  <a:lnTo>
                    <a:pt x="878" y="4689"/>
                  </a:lnTo>
                  <a:lnTo>
                    <a:pt x="971" y="4734"/>
                  </a:lnTo>
                  <a:lnTo>
                    <a:pt x="1114" y="4799"/>
                  </a:lnTo>
                  <a:lnTo>
                    <a:pt x="1257" y="4861"/>
                  </a:lnTo>
                  <a:lnTo>
                    <a:pt x="1327" y="4890"/>
                  </a:lnTo>
                  <a:lnTo>
                    <a:pt x="1399" y="4919"/>
                  </a:lnTo>
                  <a:lnTo>
                    <a:pt x="1433" y="4933"/>
                  </a:lnTo>
                  <a:lnTo>
                    <a:pt x="1441" y="4935"/>
                  </a:lnTo>
                  <a:lnTo>
                    <a:pt x="1445" y="4937"/>
                  </a:lnTo>
                  <a:lnTo>
                    <a:pt x="1450" y="4939"/>
                  </a:lnTo>
                  <a:lnTo>
                    <a:pt x="1469" y="4947"/>
                  </a:lnTo>
                  <a:lnTo>
                    <a:pt x="1540" y="4975"/>
                  </a:lnTo>
                  <a:lnTo>
                    <a:pt x="1571" y="4986"/>
                  </a:lnTo>
                  <a:lnTo>
                    <a:pt x="1652" y="5015"/>
                  </a:lnTo>
                  <a:lnTo>
                    <a:pt x="1734" y="50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78880" y="5859360"/>
              <a:ext cx="36360" cy="47880"/>
            </a:xfrm>
            <a:custGeom>
              <a:avLst/>
              <a:gdLst/>
              <a:ahLst/>
              <a:rect l="l" t="t" r="r" b="b"/>
              <a:pathLst>
                <a:path w="226" h="291">
                  <a:moveTo>
                    <a:pt x="192" y="0"/>
                  </a:moveTo>
                  <a:lnTo>
                    <a:pt x="96" y="28"/>
                  </a:lnTo>
                  <a:lnTo>
                    <a:pt x="0" y="58"/>
                  </a:lnTo>
                  <a:lnTo>
                    <a:pt x="8" y="94"/>
                  </a:lnTo>
                  <a:lnTo>
                    <a:pt x="27" y="191"/>
                  </a:lnTo>
                  <a:lnTo>
                    <a:pt x="45" y="291"/>
                  </a:lnTo>
                  <a:lnTo>
                    <a:pt x="92" y="275"/>
                  </a:lnTo>
                  <a:lnTo>
                    <a:pt x="138" y="262"/>
                  </a:lnTo>
                  <a:lnTo>
                    <a:pt x="182" y="249"/>
                  </a:lnTo>
                  <a:lnTo>
                    <a:pt x="226" y="238"/>
                  </a:lnTo>
                  <a:lnTo>
                    <a:pt x="223" y="209"/>
                  </a:lnTo>
                  <a:lnTo>
                    <a:pt x="222" y="201"/>
                  </a:lnTo>
                  <a:lnTo>
                    <a:pt x="222" y="195"/>
                  </a:lnTo>
                  <a:lnTo>
                    <a:pt x="222" y="181"/>
                  </a:lnTo>
                  <a:lnTo>
                    <a:pt x="215" y="123"/>
                  </a:lnTo>
                  <a:lnTo>
                    <a:pt x="204" y="62"/>
                  </a:lnTo>
                  <a:lnTo>
                    <a:pt x="198" y="30"/>
                  </a:lnTo>
                  <a:lnTo>
                    <a:pt x="1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90040" y="5929200"/>
              <a:ext cx="44280" cy="325440"/>
            </a:xfrm>
            <a:custGeom>
              <a:avLst/>
              <a:gdLst/>
              <a:ahLst/>
              <a:rect l="l" t="t" r="r" b="b"/>
              <a:pathLst>
                <a:path w="272" h="2015">
                  <a:moveTo>
                    <a:pt x="28" y="2015"/>
                  </a:moveTo>
                  <a:lnTo>
                    <a:pt x="60" y="1991"/>
                  </a:lnTo>
                  <a:lnTo>
                    <a:pt x="62" y="1990"/>
                  </a:lnTo>
                  <a:lnTo>
                    <a:pt x="245" y="1856"/>
                  </a:lnTo>
                  <a:lnTo>
                    <a:pt x="253" y="1728"/>
                  </a:lnTo>
                  <a:lnTo>
                    <a:pt x="256" y="1667"/>
                  </a:lnTo>
                  <a:lnTo>
                    <a:pt x="260" y="1610"/>
                  </a:lnTo>
                  <a:lnTo>
                    <a:pt x="261" y="1593"/>
                  </a:lnTo>
                  <a:lnTo>
                    <a:pt x="265" y="1487"/>
                  </a:lnTo>
                  <a:lnTo>
                    <a:pt x="266" y="1396"/>
                  </a:lnTo>
                  <a:lnTo>
                    <a:pt x="269" y="1306"/>
                  </a:lnTo>
                  <a:lnTo>
                    <a:pt x="269" y="1260"/>
                  </a:lnTo>
                  <a:lnTo>
                    <a:pt x="270" y="1215"/>
                  </a:lnTo>
                  <a:lnTo>
                    <a:pt x="270" y="1169"/>
                  </a:lnTo>
                  <a:lnTo>
                    <a:pt x="272" y="1124"/>
                  </a:lnTo>
                  <a:lnTo>
                    <a:pt x="270" y="999"/>
                  </a:lnTo>
                  <a:lnTo>
                    <a:pt x="268" y="877"/>
                  </a:lnTo>
                  <a:lnTo>
                    <a:pt x="264" y="755"/>
                  </a:lnTo>
                  <a:lnTo>
                    <a:pt x="260" y="637"/>
                  </a:lnTo>
                  <a:lnTo>
                    <a:pt x="252" y="501"/>
                  </a:lnTo>
                  <a:lnTo>
                    <a:pt x="242" y="368"/>
                  </a:lnTo>
                  <a:lnTo>
                    <a:pt x="233" y="273"/>
                  </a:lnTo>
                  <a:lnTo>
                    <a:pt x="224" y="180"/>
                  </a:lnTo>
                  <a:lnTo>
                    <a:pt x="213" y="89"/>
                  </a:lnTo>
                  <a:lnTo>
                    <a:pt x="203" y="0"/>
                  </a:lnTo>
                  <a:lnTo>
                    <a:pt x="160" y="8"/>
                  </a:lnTo>
                  <a:lnTo>
                    <a:pt x="138" y="13"/>
                  </a:lnTo>
                  <a:lnTo>
                    <a:pt x="114" y="20"/>
                  </a:lnTo>
                  <a:lnTo>
                    <a:pt x="87" y="25"/>
                  </a:lnTo>
                  <a:lnTo>
                    <a:pt x="60" y="32"/>
                  </a:lnTo>
                  <a:lnTo>
                    <a:pt x="30" y="38"/>
                  </a:lnTo>
                  <a:lnTo>
                    <a:pt x="0" y="46"/>
                  </a:lnTo>
                  <a:lnTo>
                    <a:pt x="19" y="219"/>
                  </a:lnTo>
                  <a:lnTo>
                    <a:pt x="30" y="350"/>
                  </a:lnTo>
                  <a:lnTo>
                    <a:pt x="41" y="486"/>
                  </a:lnTo>
                  <a:lnTo>
                    <a:pt x="44" y="562"/>
                  </a:lnTo>
                  <a:lnTo>
                    <a:pt x="48" y="640"/>
                  </a:lnTo>
                  <a:lnTo>
                    <a:pt x="54" y="798"/>
                  </a:lnTo>
                  <a:lnTo>
                    <a:pt x="58" y="958"/>
                  </a:lnTo>
                  <a:lnTo>
                    <a:pt x="61" y="1122"/>
                  </a:lnTo>
                  <a:lnTo>
                    <a:pt x="58" y="1155"/>
                  </a:lnTo>
                  <a:lnTo>
                    <a:pt x="58" y="1191"/>
                  </a:lnTo>
                  <a:lnTo>
                    <a:pt x="57" y="1229"/>
                  </a:lnTo>
                  <a:lnTo>
                    <a:pt x="57" y="1272"/>
                  </a:lnTo>
                  <a:lnTo>
                    <a:pt x="54" y="1361"/>
                  </a:lnTo>
                  <a:lnTo>
                    <a:pt x="52" y="1460"/>
                  </a:lnTo>
                  <a:lnTo>
                    <a:pt x="46" y="1567"/>
                  </a:lnTo>
                  <a:lnTo>
                    <a:pt x="44" y="1624"/>
                  </a:lnTo>
                  <a:lnTo>
                    <a:pt x="42" y="1685"/>
                  </a:lnTo>
                  <a:lnTo>
                    <a:pt x="37" y="1811"/>
                  </a:lnTo>
                  <a:lnTo>
                    <a:pt x="34" y="1879"/>
                  </a:lnTo>
                  <a:lnTo>
                    <a:pt x="32" y="1949"/>
                  </a:lnTo>
                  <a:lnTo>
                    <a:pt x="32" y="1952"/>
                  </a:lnTo>
                  <a:lnTo>
                    <a:pt x="32" y="19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95280" y="404640"/>
            <a:ext cx="1009800" cy="927360"/>
            <a:chOff x="395280" y="404640"/>
            <a:chExt cx="1009800" cy="927360"/>
          </a:xfrm>
        </p:grpSpPr>
        <p:sp>
          <p:nvSpPr>
            <p:cNvPr id="77" name=""/>
            <p:cNvSpPr/>
            <p:nvPr/>
          </p:nvSpPr>
          <p:spPr>
            <a:xfrm>
              <a:off x="982800" y="404640"/>
              <a:ext cx="422280" cy="4222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6200" y="571680"/>
              <a:ext cx="588960" cy="588960"/>
            </a:xfrm>
            <a:prstGeom prst="rect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5280" y="992160"/>
              <a:ext cx="339840" cy="339840"/>
            </a:xfrm>
            <a:prstGeom prst="rect">
              <a:avLst/>
            </a:prstGeom>
            <a:solidFill>
              <a:srgbClr val="002346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7580" r="0" b="0"/>
          <a:stretch/>
        </p:blipFill>
        <p:spPr>
          <a:xfrm>
            <a:off x="7191360" y="-12600"/>
            <a:ext cx="1952640" cy="1915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9933"/>
                </a:solidFill>
                <a:latin typeface="Arial"/>
              </a:rPr>
              <a:t>מסמך לדוגמה</a:t>
            </a:r>
            <a:endParaRPr b="1" lang="en-US" sz="8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39640" y="3672000"/>
            <a:ext cx="6337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פלוגת רדיו ריקודים ויוגה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6000840"/>
            <a:ext cx="1538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cs typeface="Times New Roman (Hebrew)"/>
              </a:rPr>
              <a:t>דצמבר-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5950080"/>
            <a:ext cx="5184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cs typeface="Times New Roman (Hebrew)"/>
              </a:rPr>
              <a:t>לורן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376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רדי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6400" y="6021360"/>
            <a:ext cx="1800" cy="289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171440"/>
            <a:ext cx="1538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cs typeface="Guttman Haim-Condensed"/>
              </a:rPr>
              <a:t>היחידה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Guttman Haim-Condense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cs typeface="Guttman Haim-Condensed"/>
              </a:rPr>
              <a:t>בלהבל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466560"/>
            <a:ext cx="1882800" cy="1017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7696080" y="404640"/>
            <a:ext cx="955800" cy="1081440"/>
            <a:chOff x="7696080" y="404640"/>
            <a:chExt cx="955800" cy="1081440"/>
          </a:xfrm>
        </p:grpSpPr>
        <p:sp>
          <p:nvSpPr>
            <p:cNvPr id="136" name=""/>
            <p:cNvSpPr/>
            <p:nvPr/>
          </p:nvSpPr>
          <p:spPr>
            <a:xfrm>
              <a:off x="7861320" y="826920"/>
              <a:ext cx="109440" cy="122400"/>
            </a:xfrm>
            <a:custGeom>
              <a:avLst/>
              <a:gdLst/>
              <a:ahLst/>
              <a:rect l="l" t="t" r="r" b="b"/>
              <a:pathLst>
                <a:path w="722" h="809">
                  <a:moveTo>
                    <a:pt x="722" y="0"/>
                  </a:moveTo>
                  <a:lnTo>
                    <a:pt x="688" y="29"/>
                  </a:lnTo>
                  <a:lnTo>
                    <a:pt x="652" y="62"/>
                  </a:lnTo>
                  <a:lnTo>
                    <a:pt x="615" y="95"/>
                  </a:lnTo>
                  <a:lnTo>
                    <a:pt x="578" y="132"/>
                  </a:lnTo>
                  <a:lnTo>
                    <a:pt x="537" y="170"/>
                  </a:lnTo>
                  <a:lnTo>
                    <a:pt x="496" y="211"/>
                  </a:lnTo>
                  <a:lnTo>
                    <a:pt x="453" y="252"/>
                  </a:lnTo>
                  <a:lnTo>
                    <a:pt x="409" y="298"/>
                  </a:lnTo>
                  <a:lnTo>
                    <a:pt x="363" y="343"/>
                  </a:lnTo>
                  <a:lnTo>
                    <a:pt x="315" y="392"/>
                  </a:lnTo>
                  <a:lnTo>
                    <a:pt x="266" y="442"/>
                  </a:lnTo>
                  <a:lnTo>
                    <a:pt x="216" y="497"/>
                  </a:lnTo>
                  <a:lnTo>
                    <a:pt x="163" y="550"/>
                  </a:lnTo>
                  <a:lnTo>
                    <a:pt x="110" y="607"/>
                  </a:lnTo>
                  <a:lnTo>
                    <a:pt x="56" y="665"/>
                  </a:lnTo>
                  <a:lnTo>
                    <a:pt x="0" y="727"/>
                  </a:lnTo>
                  <a:lnTo>
                    <a:pt x="191" y="809"/>
                  </a:lnTo>
                  <a:lnTo>
                    <a:pt x="233" y="762"/>
                  </a:lnTo>
                  <a:lnTo>
                    <a:pt x="274" y="718"/>
                  </a:lnTo>
                  <a:lnTo>
                    <a:pt x="314" y="676"/>
                  </a:lnTo>
                  <a:lnTo>
                    <a:pt x="353" y="637"/>
                  </a:lnTo>
                  <a:lnTo>
                    <a:pt x="388" y="598"/>
                  </a:lnTo>
                  <a:lnTo>
                    <a:pt x="423" y="562"/>
                  </a:lnTo>
                  <a:lnTo>
                    <a:pt x="456" y="527"/>
                  </a:lnTo>
                  <a:lnTo>
                    <a:pt x="488" y="495"/>
                  </a:lnTo>
                  <a:lnTo>
                    <a:pt x="517" y="464"/>
                  </a:lnTo>
                  <a:lnTo>
                    <a:pt x="545" y="435"/>
                  </a:lnTo>
                  <a:lnTo>
                    <a:pt x="571" y="407"/>
                  </a:lnTo>
                  <a:lnTo>
                    <a:pt x="596" y="383"/>
                  </a:lnTo>
                  <a:lnTo>
                    <a:pt x="619" y="359"/>
                  </a:lnTo>
                  <a:lnTo>
                    <a:pt x="640" y="338"/>
                  </a:lnTo>
                  <a:lnTo>
                    <a:pt x="660" y="318"/>
                  </a:lnTo>
                  <a:lnTo>
                    <a:pt x="680" y="302"/>
                  </a:lnTo>
                  <a:lnTo>
                    <a:pt x="7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726320" y="826920"/>
              <a:ext cx="925560" cy="659160"/>
              <a:chOff x="7726320" y="826920"/>
              <a:chExt cx="925560" cy="659160"/>
            </a:xfrm>
          </p:grpSpPr>
          <p:sp>
            <p:nvSpPr>
              <p:cNvPr id="138" name=""/>
              <p:cNvSpPr/>
              <p:nvPr/>
            </p:nvSpPr>
            <p:spPr>
              <a:xfrm>
                <a:off x="7861320" y="826920"/>
                <a:ext cx="109440" cy="122400"/>
              </a:xfrm>
              <a:custGeom>
                <a:avLst/>
                <a:gdLst/>
                <a:ahLst/>
                <a:rect l="l" t="t" r="r" b="b"/>
                <a:pathLst>
                  <a:path w="722" h="809">
                    <a:moveTo>
                      <a:pt x="680" y="302"/>
                    </a:moveTo>
                    <a:lnTo>
                      <a:pt x="722" y="0"/>
                    </a:lnTo>
                    <a:lnTo>
                      <a:pt x="688" y="29"/>
                    </a:lnTo>
                    <a:lnTo>
                      <a:pt x="652" y="62"/>
                    </a:lnTo>
                    <a:lnTo>
                      <a:pt x="615" y="95"/>
                    </a:lnTo>
                    <a:lnTo>
                      <a:pt x="578" y="132"/>
                    </a:lnTo>
                    <a:lnTo>
                      <a:pt x="537" y="170"/>
                    </a:lnTo>
                    <a:lnTo>
                      <a:pt x="496" y="211"/>
                    </a:lnTo>
                    <a:lnTo>
                      <a:pt x="453" y="252"/>
                    </a:lnTo>
                    <a:lnTo>
                      <a:pt x="409" y="298"/>
                    </a:lnTo>
                    <a:lnTo>
                      <a:pt x="363" y="343"/>
                    </a:lnTo>
                    <a:lnTo>
                      <a:pt x="315" y="392"/>
                    </a:lnTo>
                    <a:lnTo>
                      <a:pt x="266" y="442"/>
                    </a:lnTo>
                    <a:lnTo>
                      <a:pt x="216" y="497"/>
                    </a:lnTo>
                    <a:lnTo>
                      <a:pt x="163" y="550"/>
                    </a:lnTo>
                    <a:lnTo>
                      <a:pt x="110" y="607"/>
                    </a:lnTo>
                    <a:lnTo>
                      <a:pt x="56" y="665"/>
                    </a:lnTo>
                    <a:lnTo>
                      <a:pt x="0" y="727"/>
                    </a:lnTo>
                    <a:lnTo>
                      <a:pt x="191" y="809"/>
                    </a:lnTo>
                    <a:lnTo>
                      <a:pt x="233" y="762"/>
                    </a:lnTo>
                    <a:lnTo>
                      <a:pt x="274" y="718"/>
                    </a:lnTo>
                    <a:lnTo>
                      <a:pt x="314" y="676"/>
                    </a:lnTo>
                    <a:lnTo>
                      <a:pt x="353" y="637"/>
                    </a:lnTo>
                    <a:lnTo>
                      <a:pt x="388" y="598"/>
                    </a:lnTo>
                    <a:lnTo>
                      <a:pt x="423" y="562"/>
                    </a:lnTo>
                    <a:lnTo>
                      <a:pt x="456" y="527"/>
                    </a:lnTo>
                    <a:lnTo>
                      <a:pt x="488" y="495"/>
                    </a:lnTo>
                    <a:lnTo>
                      <a:pt x="517" y="464"/>
                    </a:lnTo>
                    <a:lnTo>
                      <a:pt x="545" y="435"/>
                    </a:lnTo>
                    <a:lnTo>
                      <a:pt x="571" y="407"/>
                    </a:lnTo>
                    <a:lnTo>
                      <a:pt x="596" y="383"/>
                    </a:lnTo>
                    <a:lnTo>
                      <a:pt x="619" y="359"/>
                    </a:lnTo>
                    <a:lnTo>
                      <a:pt x="640" y="338"/>
                    </a:lnTo>
                    <a:lnTo>
                      <a:pt x="660" y="318"/>
                    </a:lnTo>
                    <a:lnTo>
                      <a:pt x="680" y="3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26320" y="1001880"/>
                <a:ext cx="658800" cy="484200"/>
              </a:xfrm>
              <a:custGeom>
                <a:avLst/>
                <a:gdLst/>
                <a:ahLst/>
                <a:rect l="l" t="t" r="r" b="b"/>
                <a:pathLst>
                  <a:path w="4334" h="3186">
                    <a:moveTo>
                      <a:pt x="4334" y="699"/>
                    </a:moveTo>
                    <a:lnTo>
                      <a:pt x="4106" y="854"/>
                    </a:lnTo>
                    <a:lnTo>
                      <a:pt x="4095" y="927"/>
                    </a:lnTo>
                    <a:lnTo>
                      <a:pt x="4085" y="1001"/>
                    </a:lnTo>
                    <a:lnTo>
                      <a:pt x="4082" y="1009"/>
                    </a:lnTo>
                    <a:lnTo>
                      <a:pt x="4081" y="1013"/>
                    </a:lnTo>
                    <a:lnTo>
                      <a:pt x="4081" y="1018"/>
                    </a:lnTo>
                    <a:lnTo>
                      <a:pt x="4078" y="1037"/>
                    </a:lnTo>
                    <a:lnTo>
                      <a:pt x="4073" y="1074"/>
                    </a:lnTo>
                    <a:lnTo>
                      <a:pt x="4062" y="1147"/>
                    </a:lnTo>
                    <a:lnTo>
                      <a:pt x="4049" y="1217"/>
                    </a:lnTo>
                    <a:lnTo>
                      <a:pt x="4037" y="1289"/>
                    </a:lnTo>
                    <a:lnTo>
                      <a:pt x="4023" y="1358"/>
                    </a:lnTo>
                    <a:lnTo>
                      <a:pt x="4009" y="1428"/>
                    </a:lnTo>
                    <a:lnTo>
                      <a:pt x="3987" y="1526"/>
                    </a:lnTo>
                    <a:lnTo>
                      <a:pt x="3963" y="1624"/>
                    </a:lnTo>
                    <a:lnTo>
                      <a:pt x="3934" y="1729"/>
                    </a:lnTo>
                    <a:lnTo>
                      <a:pt x="3905" y="1832"/>
                    </a:lnTo>
                    <a:lnTo>
                      <a:pt x="3873" y="1933"/>
                    </a:lnTo>
                    <a:lnTo>
                      <a:pt x="3840" y="2033"/>
                    </a:lnTo>
                    <a:lnTo>
                      <a:pt x="3814" y="2102"/>
                    </a:lnTo>
                    <a:lnTo>
                      <a:pt x="3781" y="2108"/>
                    </a:lnTo>
                    <a:lnTo>
                      <a:pt x="3751" y="2119"/>
                    </a:lnTo>
                    <a:lnTo>
                      <a:pt x="3723" y="2138"/>
                    </a:lnTo>
                    <a:lnTo>
                      <a:pt x="3698" y="2163"/>
                    </a:lnTo>
                    <a:lnTo>
                      <a:pt x="3674" y="2194"/>
                    </a:lnTo>
                    <a:lnTo>
                      <a:pt x="3665" y="2210"/>
                    </a:lnTo>
                    <a:lnTo>
                      <a:pt x="3658" y="2228"/>
                    </a:lnTo>
                    <a:lnTo>
                      <a:pt x="3648" y="2267"/>
                    </a:lnTo>
                    <a:lnTo>
                      <a:pt x="3645" y="2308"/>
                    </a:lnTo>
                    <a:lnTo>
                      <a:pt x="3646" y="2339"/>
                    </a:lnTo>
                    <a:lnTo>
                      <a:pt x="3653" y="2370"/>
                    </a:lnTo>
                    <a:lnTo>
                      <a:pt x="3662" y="2398"/>
                    </a:lnTo>
                    <a:lnTo>
                      <a:pt x="3677" y="2426"/>
                    </a:lnTo>
                    <a:lnTo>
                      <a:pt x="3640" y="2492"/>
                    </a:lnTo>
                    <a:lnTo>
                      <a:pt x="3605" y="2554"/>
                    </a:lnTo>
                    <a:lnTo>
                      <a:pt x="3568" y="2612"/>
                    </a:lnTo>
                    <a:lnTo>
                      <a:pt x="3550" y="2639"/>
                    </a:lnTo>
                    <a:lnTo>
                      <a:pt x="3540" y="2652"/>
                    </a:lnTo>
                    <a:lnTo>
                      <a:pt x="3532" y="2667"/>
                    </a:lnTo>
                    <a:lnTo>
                      <a:pt x="3512" y="2690"/>
                    </a:lnTo>
                    <a:lnTo>
                      <a:pt x="3494" y="2716"/>
                    </a:lnTo>
                    <a:lnTo>
                      <a:pt x="3457" y="2761"/>
                    </a:lnTo>
                    <a:lnTo>
                      <a:pt x="3417" y="2802"/>
                    </a:lnTo>
                    <a:lnTo>
                      <a:pt x="3380" y="2839"/>
                    </a:lnTo>
                    <a:lnTo>
                      <a:pt x="3359" y="2855"/>
                    </a:lnTo>
                    <a:lnTo>
                      <a:pt x="3339" y="2871"/>
                    </a:lnTo>
                    <a:lnTo>
                      <a:pt x="3299" y="2898"/>
                    </a:lnTo>
                    <a:lnTo>
                      <a:pt x="3257" y="2922"/>
                    </a:lnTo>
                    <a:lnTo>
                      <a:pt x="3217" y="2942"/>
                    </a:lnTo>
                    <a:lnTo>
                      <a:pt x="3205" y="2945"/>
                    </a:lnTo>
                    <a:lnTo>
                      <a:pt x="3194" y="2949"/>
                    </a:lnTo>
                    <a:lnTo>
                      <a:pt x="3173" y="2957"/>
                    </a:lnTo>
                    <a:lnTo>
                      <a:pt x="3131" y="2969"/>
                    </a:lnTo>
                    <a:lnTo>
                      <a:pt x="3108" y="2971"/>
                    </a:lnTo>
                    <a:lnTo>
                      <a:pt x="3087" y="2975"/>
                    </a:lnTo>
                    <a:lnTo>
                      <a:pt x="3045" y="2979"/>
                    </a:lnTo>
                    <a:lnTo>
                      <a:pt x="2986" y="2974"/>
                    </a:lnTo>
                    <a:lnTo>
                      <a:pt x="2957" y="2969"/>
                    </a:lnTo>
                    <a:lnTo>
                      <a:pt x="2929" y="2962"/>
                    </a:lnTo>
                    <a:lnTo>
                      <a:pt x="2874" y="2944"/>
                    </a:lnTo>
                    <a:lnTo>
                      <a:pt x="2846" y="2932"/>
                    </a:lnTo>
                    <a:lnTo>
                      <a:pt x="2819" y="2918"/>
                    </a:lnTo>
                    <a:lnTo>
                      <a:pt x="2765" y="2884"/>
                    </a:lnTo>
                    <a:lnTo>
                      <a:pt x="2739" y="2864"/>
                    </a:lnTo>
                    <a:lnTo>
                      <a:pt x="2712" y="2843"/>
                    </a:lnTo>
                    <a:lnTo>
                      <a:pt x="2660" y="2795"/>
                    </a:lnTo>
                    <a:lnTo>
                      <a:pt x="2635" y="2769"/>
                    </a:lnTo>
                    <a:lnTo>
                      <a:pt x="2611" y="2741"/>
                    </a:lnTo>
                    <a:lnTo>
                      <a:pt x="2561" y="2677"/>
                    </a:lnTo>
                    <a:lnTo>
                      <a:pt x="2537" y="2643"/>
                    </a:lnTo>
                    <a:lnTo>
                      <a:pt x="2513" y="2607"/>
                    </a:lnTo>
                    <a:lnTo>
                      <a:pt x="2490" y="2569"/>
                    </a:lnTo>
                    <a:lnTo>
                      <a:pt x="2466" y="2529"/>
                    </a:lnTo>
                    <a:lnTo>
                      <a:pt x="2442" y="2488"/>
                    </a:lnTo>
                    <a:lnTo>
                      <a:pt x="2421" y="2445"/>
                    </a:lnTo>
                    <a:lnTo>
                      <a:pt x="2376" y="2353"/>
                    </a:lnTo>
                    <a:lnTo>
                      <a:pt x="2353" y="2304"/>
                    </a:lnTo>
                    <a:lnTo>
                      <a:pt x="2332" y="2253"/>
                    </a:lnTo>
                    <a:lnTo>
                      <a:pt x="2311" y="2200"/>
                    </a:lnTo>
                    <a:lnTo>
                      <a:pt x="2290" y="2146"/>
                    </a:lnTo>
                    <a:lnTo>
                      <a:pt x="2268" y="2090"/>
                    </a:lnTo>
                    <a:lnTo>
                      <a:pt x="2248" y="2033"/>
                    </a:lnTo>
                    <a:lnTo>
                      <a:pt x="2214" y="1934"/>
                    </a:lnTo>
                    <a:lnTo>
                      <a:pt x="2182" y="1832"/>
                    </a:lnTo>
                    <a:lnTo>
                      <a:pt x="2152" y="1729"/>
                    </a:lnTo>
                    <a:lnTo>
                      <a:pt x="2125" y="1624"/>
                    </a:lnTo>
                    <a:lnTo>
                      <a:pt x="2218" y="1593"/>
                    </a:lnTo>
                    <a:lnTo>
                      <a:pt x="2312" y="1562"/>
                    </a:lnTo>
                    <a:lnTo>
                      <a:pt x="2405" y="1529"/>
                    </a:lnTo>
                    <a:lnTo>
                      <a:pt x="2498" y="1494"/>
                    </a:lnTo>
                    <a:lnTo>
                      <a:pt x="2588" y="1457"/>
                    </a:lnTo>
                    <a:lnTo>
                      <a:pt x="2678" y="1420"/>
                    </a:lnTo>
                    <a:lnTo>
                      <a:pt x="2766" y="1380"/>
                    </a:lnTo>
                    <a:lnTo>
                      <a:pt x="2857" y="1340"/>
                    </a:lnTo>
                    <a:lnTo>
                      <a:pt x="2626" y="1228"/>
                    </a:lnTo>
                    <a:lnTo>
                      <a:pt x="2585" y="1244"/>
                    </a:lnTo>
                    <a:lnTo>
                      <a:pt x="2543" y="1260"/>
                    </a:lnTo>
                    <a:lnTo>
                      <a:pt x="2455" y="1294"/>
                    </a:lnTo>
                    <a:lnTo>
                      <a:pt x="2409" y="1310"/>
                    </a:lnTo>
                    <a:lnTo>
                      <a:pt x="2361" y="1328"/>
                    </a:lnTo>
                    <a:lnTo>
                      <a:pt x="2312" y="1347"/>
                    </a:lnTo>
                    <a:lnTo>
                      <a:pt x="2262" y="1366"/>
                    </a:lnTo>
                    <a:lnTo>
                      <a:pt x="2169" y="1397"/>
                    </a:lnTo>
                    <a:lnTo>
                      <a:pt x="2079" y="1428"/>
                    </a:lnTo>
                    <a:lnTo>
                      <a:pt x="2059" y="1335"/>
                    </a:lnTo>
                    <a:lnTo>
                      <a:pt x="2042" y="1242"/>
                    </a:lnTo>
                    <a:lnTo>
                      <a:pt x="2025" y="1148"/>
                    </a:lnTo>
                    <a:lnTo>
                      <a:pt x="2010" y="1054"/>
                    </a:lnTo>
                    <a:lnTo>
                      <a:pt x="1982" y="858"/>
                    </a:lnTo>
                    <a:lnTo>
                      <a:pt x="1970" y="759"/>
                    </a:lnTo>
                    <a:lnTo>
                      <a:pt x="1961" y="659"/>
                    </a:lnTo>
                    <a:lnTo>
                      <a:pt x="1958" y="638"/>
                    </a:lnTo>
                    <a:lnTo>
                      <a:pt x="1956" y="616"/>
                    </a:lnTo>
                    <a:lnTo>
                      <a:pt x="1953" y="591"/>
                    </a:lnTo>
                    <a:lnTo>
                      <a:pt x="1952" y="564"/>
                    </a:lnTo>
                    <a:lnTo>
                      <a:pt x="1949" y="548"/>
                    </a:lnTo>
                    <a:lnTo>
                      <a:pt x="1948" y="540"/>
                    </a:lnTo>
                    <a:lnTo>
                      <a:pt x="1948" y="534"/>
                    </a:lnTo>
                    <a:lnTo>
                      <a:pt x="1945" y="502"/>
                    </a:lnTo>
                    <a:lnTo>
                      <a:pt x="1942" y="467"/>
                    </a:lnTo>
                    <a:lnTo>
                      <a:pt x="1940" y="432"/>
                    </a:lnTo>
                    <a:lnTo>
                      <a:pt x="1754" y="402"/>
                    </a:lnTo>
                    <a:lnTo>
                      <a:pt x="1757" y="451"/>
                    </a:lnTo>
                    <a:lnTo>
                      <a:pt x="1758" y="475"/>
                    </a:lnTo>
                    <a:lnTo>
                      <a:pt x="1761" y="499"/>
                    </a:lnTo>
                    <a:lnTo>
                      <a:pt x="1764" y="541"/>
                    </a:lnTo>
                    <a:lnTo>
                      <a:pt x="1769" y="583"/>
                    </a:lnTo>
                    <a:lnTo>
                      <a:pt x="1771" y="618"/>
                    </a:lnTo>
                    <a:lnTo>
                      <a:pt x="1774" y="653"/>
                    </a:lnTo>
                    <a:lnTo>
                      <a:pt x="1777" y="683"/>
                    </a:lnTo>
                    <a:lnTo>
                      <a:pt x="1777" y="690"/>
                    </a:lnTo>
                    <a:lnTo>
                      <a:pt x="1778" y="698"/>
                    </a:lnTo>
                    <a:lnTo>
                      <a:pt x="1781" y="712"/>
                    </a:lnTo>
                    <a:lnTo>
                      <a:pt x="1790" y="812"/>
                    </a:lnTo>
                    <a:lnTo>
                      <a:pt x="1802" y="911"/>
                    </a:lnTo>
                    <a:lnTo>
                      <a:pt x="1830" y="1107"/>
                    </a:lnTo>
                    <a:lnTo>
                      <a:pt x="1844" y="1203"/>
                    </a:lnTo>
                    <a:lnTo>
                      <a:pt x="1862" y="1297"/>
                    </a:lnTo>
                    <a:lnTo>
                      <a:pt x="1900" y="1482"/>
                    </a:lnTo>
                    <a:lnTo>
                      <a:pt x="1885" y="1486"/>
                    </a:lnTo>
                    <a:lnTo>
                      <a:pt x="1778" y="1514"/>
                    </a:lnTo>
                    <a:lnTo>
                      <a:pt x="1672" y="1542"/>
                    </a:lnTo>
                    <a:lnTo>
                      <a:pt x="1567" y="1564"/>
                    </a:lnTo>
                    <a:lnTo>
                      <a:pt x="1464" y="1587"/>
                    </a:lnTo>
                    <a:lnTo>
                      <a:pt x="1402" y="1596"/>
                    </a:lnTo>
                    <a:lnTo>
                      <a:pt x="1344" y="1607"/>
                    </a:lnTo>
                    <a:lnTo>
                      <a:pt x="1285" y="1615"/>
                    </a:lnTo>
                    <a:lnTo>
                      <a:pt x="1230" y="1623"/>
                    </a:lnTo>
                    <a:lnTo>
                      <a:pt x="1174" y="1628"/>
                    </a:lnTo>
                    <a:lnTo>
                      <a:pt x="1121" y="1635"/>
                    </a:lnTo>
                    <a:lnTo>
                      <a:pt x="1068" y="1639"/>
                    </a:lnTo>
                    <a:lnTo>
                      <a:pt x="1019" y="1642"/>
                    </a:lnTo>
                    <a:lnTo>
                      <a:pt x="969" y="1642"/>
                    </a:lnTo>
                    <a:lnTo>
                      <a:pt x="921" y="1644"/>
                    </a:lnTo>
                    <a:lnTo>
                      <a:pt x="875" y="1642"/>
                    </a:lnTo>
                    <a:lnTo>
                      <a:pt x="831" y="1641"/>
                    </a:lnTo>
                    <a:lnTo>
                      <a:pt x="787" y="1637"/>
                    </a:lnTo>
                    <a:lnTo>
                      <a:pt x="746" y="1635"/>
                    </a:lnTo>
                    <a:lnTo>
                      <a:pt x="705" y="1629"/>
                    </a:lnTo>
                    <a:lnTo>
                      <a:pt x="668" y="1624"/>
                    </a:lnTo>
                    <a:lnTo>
                      <a:pt x="629" y="1615"/>
                    </a:lnTo>
                    <a:lnTo>
                      <a:pt x="594" y="1607"/>
                    </a:lnTo>
                    <a:lnTo>
                      <a:pt x="558" y="1596"/>
                    </a:lnTo>
                    <a:lnTo>
                      <a:pt x="526" y="1587"/>
                    </a:lnTo>
                    <a:lnTo>
                      <a:pt x="494" y="1574"/>
                    </a:lnTo>
                    <a:lnTo>
                      <a:pt x="465" y="1562"/>
                    </a:lnTo>
                    <a:lnTo>
                      <a:pt x="436" y="1547"/>
                    </a:lnTo>
                    <a:lnTo>
                      <a:pt x="411" y="1533"/>
                    </a:lnTo>
                    <a:lnTo>
                      <a:pt x="384" y="1515"/>
                    </a:lnTo>
                    <a:lnTo>
                      <a:pt x="360" y="1498"/>
                    </a:lnTo>
                    <a:lnTo>
                      <a:pt x="337" y="1478"/>
                    </a:lnTo>
                    <a:lnTo>
                      <a:pt x="317" y="1460"/>
                    </a:lnTo>
                    <a:lnTo>
                      <a:pt x="297" y="1437"/>
                    </a:lnTo>
                    <a:lnTo>
                      <a:pt x="280" y="1416"/>
                    </a:lnTo>
                    <a:lnTo>
                      <a:pt x="262" y="1392"/>
                    </a:lnTo>
                    <a:lnTo>
                      <a:pt x="248" y="1368"/>
                    </a:lnTo>
                    <a:lnTo>
                      <a:pt x="233" y="1342"/>
                    </a:lnTo>
                    <a:lnTo>
                      <a:pt x="221" y="1315"/>
                    </a:lnTo>
                    <a:lnTo>
                      <a:pt x="211" y="1287"/>
                    </a:lnTo>
                    <a:lnTo>
                      <a:pt x="204" y="1261"/>
                    </a:lnTo>
                    <a:lnTo>
                      <a:pt x="196" y="1230"/>
                    </a:lnTo>
                    <a:lnTo>
                      <a:pt x="192" y="1201"/>
                    </a:lnTo>
                    <a:lnTo>
                      <a:pt x="190" y="1170"/>
                    </a:lnTo>
                    <a:lnTo>
                      <a:pt x="191" y="1139"/>
                    </a:lnTo>
                    <a:lnTo>
                      <a:pt x="191" y="1105"/>
                    </a:lnTo>
                    <a:lnTo>
                      <a:pt x="195" y="1071"/>
                    </a:lnTo>
                    <a:lnTo>
                      <a:pt x="200" y="1036"/>
                    </a:lnTo>
                    <a:lnTo>
                      <a:pt x="208" y="1001"/>
                    </a:lnTo>
                    <a:lnTo>
                      <a:pt x="216" y="964"/>
                    </a:lnTo>
                    <a:lnTo>
                      <a:pt x="228" y="927"/>
                    </a:lnTo>
                    <a:lnTo>
                      <a:pt x="240" y="889"/>
                    </a:lnTo>
                    <a:lnTo>
                      <a:pt x="256" y="850"/>
                    </a:lnTo>
                    <a:lnTo>
                      <a:pt x="270" y="808"/>
                    </a:lnTo>
                    <a:lnTo>
                      <a:pt x="289" y="767"/>
                    </a:lnTo>
                    <a:lnTo>
                      <a:pt x="309" y="724"/>
                    </a:lnTo>
                    <a:lnTo>
                      <a:pt x="331" y="682"/>
                    </a:lnTo>
                    <a:lnTo>
                      <a:pt x="354" y="637"/>
                    </a:lnTo>
                    <a:lnTo>
                      <a:pt x="380" y="592"/>
                    </a:lnTo>
                    <a:lnTo>
                      <a:pt x="407" y="545"/>
                    </a:lnTo>
                    <a:lnTo>
                      <a:pt x="437" y="500"/>
                    </a:lnTo>
                    <a:lnTo>
                      <a:pt x="468" y="451"/>
                    </a:lnTo>
                    <a:lnTo>
                      <a:pt x="501" y="402"/>
                    </a:lnTo>
                    <a:lnTo>
                      <a:pt x="535" y="352"/>
                    </a:lnTo>
                    <a:lnTo>
                      <a:pt x="574" y="303"/>
                    </a:lnTo>
                    <a:lnTo>
                      <a:pt x="611" y="250"/>
                    </a:lnTo>
                    <a:lnTo>
                      <a:pt x="652" y="198"/>
                    </a:lnTo>
                    <a:lnTo>
                      <a:pt x="694" y="145"/>
                    </a:lnTo>
                    <a:lnTo>
                      <a:pt x="739" y="92"/>
                    </a:lnTo>
                    <a:lnTo>
                      <a:pt x="543" y="0"/>
                    </a:lnTo>
                    <a:lnTo>
                      <a:pt x="497" y="61"/>
                    </a:lnTo>
                    <a:lnTo>
                      <a:pt x="455" y="123"/>
                    </a:lnTo>
                    <a:lnTo>
                      <a:pt x="412" y="182"/>
                    </a:lnTo>
                    <a:lnTo>
                      <a:pt x="374" y="243"/>
                    </a:lnTo>
                    <a:lnTo>
                      <a:pt x="335" y="300"/>
                    </a:lnTo>
                    <a:lnTo>
                      <a:pt x="301" y="359"/>
                    </a:lnTo>
                    <a:lnTo>
                      <a:pt x="268" y="414"/>
                    </a:lnTo>
                    <a:lnTo>
                      <a:pt x="237" y="471"/>
                    </a:lnTo>
                    <a:lnTo>
                      <a:pt x="207" y="524"/>
                    </a:lnTo>
                    <a:lnTo>
                      <a:pt x="180" y="577"/>
                    </a:lnTo>
                    <a:lnTo>
                      <a:pt x="154" y="629"/>
                    </a:lnTo>
                    <a:lnTo>
                      <a:pt x="131" y="681"/>
                    </a:lnTo>
                    <a:lnTo>
                      <a:pt x="109" y="730"/>
                    </a:lnTo>
                    <a:lnTo>
                      <a:pt x="90" y="779"/>
                    </a:lnTo>
                    <a:lnTo>
                      <a:pt x="72" y="826"/>
                    </a:lnTo>
                    <a:lnTo>
                      <a:pt x="57" y="874"/>
                    </a:lnTo>
                    <a:lnTo>
                      <a:pt x="41" y="918"/>
                    </a:lnTo>
                    <a:lnTo>
                      <a:pt x="29" y="963"/>
                    </a:lnTo>
                    <a:lnTo>
                      <a:pt x="19" y="1005"/>
                    </a:lnTo>
                    <a:lnTo>
                      <a:pt x="12" y="1049"/>
                    </a:lnTo>
                    <a:lnTo>
                      <a:pt x="5" y="1089"/>
                    </a:lnTo>
                    <a:lnTo>
                      <a:pt x="3" y="1130"/>
                    </a:lnTo>
                    <a:lnTo>
                      <a:pt x="0" y="1168"/>
                    </a:lnTo>
                    <a:lnTo>
                      <a:pt x="1" y="1207"/>
                    </a:lnTo>
                    <a:lnTo>
                      <a:pt x="1" y="1242"/>
                    </a:lnTo>
                    <a:lnTo>
                      <a:pt x="5" y="1278"/>
                    </a:lnTo>
                    <a:lnTo>
                      <a:pt x="11" y="1313"/>
                    </a:lnTo>
                    <a:lnTo>
                      <a:pt x="20" y="1347"/>
                    </a:lnTo>
                    <a:lnTo>
                      <a:pt x="29" y="1379"/>
                    </a:lnTo>
                    <a:lnTo>
                      <a:pt x="41" y="1411"/>
                    </a:lnTo>
                    <a:lnTo>
                      <a:pt x="54" y="1441"/>
                    </a:lnTo>
                    <a:lnTo>
                      <a:pt x="72" y="1472"/>
                    </a:lnTo>
                    <a:lnTo>
                      <a:pt x="89" y="1499"/>
                    </a:lnTo>
                    <a:lnTo>
                      <a:pt x="109" y="1527"/>
                    </a:lnTo>
                    <a:lnTo>
                      <a:pt x="129" y="1554"/>
                    </a:lnTo>
                    <a:lnTo>
                      <a:pt x="152" y="1580"/>
                    </a:lnTo>
                    <a:lnTo>
                      <a:pt x="175" y="1604"/>
                    </a:lnTo>
                    <a:lnTo>
                      <a:pt x="201" y="1628"/>
                    </a:lnTo>
                    <a:lnTo>
                      <a:pt x="228" y="1649"/>
                    </a:lnTo>
                    <a:lnTo>
                      <a:pt x="258" y="1670"/>
                    </a:lnTo>
                    <a:lnTo>
                      <a:pt x="288" y="1689"/>
                    </a:lnTo>
                    <a:lnTo>
                      <a:pt x="319" y="1707"/>
                    </a:lnTo>
                    <a:lnTo>
                      <a:pt x="352" y="1723"/>
                    </a:lnTo>
                    <a:lnTo>
                      <a:pt x="388" y="1739"/>
                    </a:lnTo>
                    <a:lnTo>
                      <a:pt x="424" y="1752"/>
                    </a:lnTo>
                    <a:lnTo>
                      <a:pt x="462" y="1766"/>
                    </a:lnTo>
                    <a:lnTo>
                      <a:pt x="502" y="1778"/>
                    </a:lnTo>
                    <a:lnTo>
                      <a:pt x="545" y="1790"/>
                    </a:lnTo>
                    <a:lnTo>
                      <a:pt x="586" y="1798"/>
                    </a:lnTo>
                    <a:lnTo>
                      <a:pt x="631" y="1805"/>
                    </a:lnTo>
                    <a:lnTo>
                      <a:pt x="676" y="1812"/>
                    </a:lnTo>
                    <a:lnTo>
                      <a:pt x="725" y="1819"/>
                    </a:lnTo>
                    <a:lnTo>
                      <a:pt x="772" y="1821"/>
                    </a:lnTo>
                    <a:lnTo>
                      <a:pt x="824" y="1825"/>
                    </a:lnTo>
                    <a:lnTo>
                      <a:pt x="876" y="1827"/>
                    </a:lnTo>
                    <a:lnTo>
                      <a:pt x="930" y="1828"/>
                    </a:lnTo>
                    <a:lnTo>
                      <a:pt x="984" y="1827"/>
                    </a:lnTo>
                    <a:lnTo>
                      <a:pt x="1041" y="1825"/>
                    </a:lnTo>
                    <a:lnTo>
                      <a:pt x="1098" y="1821"/>
                    </a:lnTo>
                    <a:lnTo>
                      <a:pt x="1159" y="1817"/>
                    </a:lnTo>
                    <a:lnTo>
                      <a:pt x="1220" y="1811"/>
                    </a:lnTo>
                    <a:lnTo>
                      <a:pt x="1284" y="1804"/>
                    </a:lnTo>
                    <a:lnTo>
                      <a:pt x="1348" y="1796"/>
                    </a:lnTo>
                    <a:lnTo>
                      <a:pt x="1415" y="1788"/>
                    </a:lnTo>
                    <a:lnTo>
                      <a:pt x="1542" y="1766"/>
                    </a:lnTo>
                    <a:lnTo>
                      <a:pt x="1671" y="1741"/>
                    </a:lnTo>
                    <a:lnTo>
                      <a:pt x="1801" y="1710"/>
                    </a:lnTo>
                    <a:lnTo>
                      <a:pt x="1933" y="1678"/>
                    </a:lnTo>
                    <a:lnTo>
                      <a:pt x="1969" y="1807"/>
                    </a:lnTo>
                    <a:lnTo>
                      <a:pt x="2010" y="1935"/>
                    </a:lnTo>
                    <a:lnTo>
                      <a:pt x="2051" y="2059"/>
                    </a:lnTo>
                    <a:lnTo>
                      <a:pt x="2097" y="2180"/>
                    </a:lnTo>
                    <a:lnTo>
                      <a:pt x="2121" y="2241"/>
                    </a:lnTo>
                    <a:lnTo>
                      <a:pt x="2146" y="2301"/>
                    </a:lnTo>
                    <a:lnTo>
                      <a:pt x="2197" y="2415"/>
                    </a:lnTo>
                    <a:lnTo>
                      <a:pt x="2222" y="2468"/>
                    </a:lnTo>
                    <a:lnTo>
                      <a:pt x="2248" y="2520"/>
                    </a:lnTo>
                    <a:lnTo>
                      <a:pt x="2275" y="2570"/>
                    </a:lnTo>
                    <a:lnTo>
                      <a:pt x="2303" y="2619"/>
                    </a:lnTo>
                    <a:lnTo>
                      <a:pt x="2329" y="2664"/>
                    </a:lnTo>
                    <a:lnTo>
                      <a:pt x="2357" y="2708"/>
                    </a:lnTo>
                    <a:lnTo>
                      <a:pt x="2384" y="2750"/>
                    </a:lnTo>
                    <a:lnTo>
                      <a:pt x="2413" y="2791"/>
                    </a:lnTo>
                    <a:lnTo>
                      <a:pt x="2441" y="2830"/>
                    </a:lnTo>
                    <a:lnTo>
                      <a:pt x="2470" y="2867"/>
                    </a:lnTo>
                    <a:lnTo>
                      <a:pt x="2499" y="2901"/>
                    </a:lnTo>
                    <a:lnTo>
                      <a:pt x="2529" y="2934"/>
                    </a:lnTo>
                    <a:lnTo>
                      <a:pt x="2558" y="2963"/>
                    </a:lnTo>
                    <a:lnTo>
                      <a:pt x="2588" y="2991"/>
                    </a:lnTo>
                    <a:lnTo>
                      <a:pt x="2617" y="3018"/>
                    </a:lnTo>
                    <a:lnTo>
                      <a:pt x="2649" y="3043"/>
                    </a:lnTo>
                    <a:lnTo>
                      <a:pt x="2679" y="3065"/>
                    </a:lnTo>
                    <a:lnTo>
                      <a:pt x="2711" y="3087"/>
                    </a:lnTo>
                    <a:lnTo>
                      <a:pt x="2743" y="3105"/>
                    </a:lnTo>
                    <a:lnTo>
                      <a:pt x="2776" y="3122"/>
                    </a:lnTo>
                    <a:lnTo>
                      <a:pt x="2808" y="3137"/>
                    </a:lnTo>
                    <a:lnTo>
                      <a:pt x="2839" y="3150"/>
                    </a:lnTo>
                    <a:lnTo>
                      <a:pt x="2871" y="3161"/>
                    </a:lnTo>
                    <a:lnTo>
                      <a:pt x="2906" y="3170"/>
                    </a:lnTo>
                    <a:lnTo>
                      <a:pt x="2939" y="3177"/>
                    </a:lnTo>
                    <a:lnTo>
                      <a:pt x="2973" y="3182"/>
                    </a:lnTo>
                    <a:lnTo>
                      <a:pt x="3008" y="3185"/>
                    </a:lnTo>
                    <a:lnTo>
                      <a:pt x="3043" y="3186"/>
                    </a:lnTo>
                    <a:lnTo>
                      <a:pt x="3070" y="3185"/>
                    </a:lnTo>
                    <a:lnTo>
                      <a:pt x="3083" y="3183"/>
                    </a:lnTo>
                    <a:lnTo>
                      <a:pt x="3098" y="3183"/>
                    </a:lnTo>
                    <a:lnTo>
                      <a:pt x="3153" y="3175"/>
                    </a:lnTo>
                    <a:lnTo>
                      <a:pt x="3180" y="3169"/>
                    </a:lnTo>
                    <a:lnTo>
                      <a:pt x="3193" y="3165"/>
                    </a:lnTo>
                    <a:lnTo>
                      <a:pt x="3208" y="3162"/>
                    </a:lnTo>
                    <a:lnTo>
                      <a:pt x="3234" y="3153"/>
                    </a:lnTo>
                    <a:lnTo>
                      <a:pt x="3247" y="3148"/>
                    </a:lnTo>
                    <a:lnTo>
                      <a:pt x="3254" y="3145"/>
                    </a:lnTo>
                    <a:lnTo>
                      <a:pt x="3262" y="3144"/>
                    </a:lnTo>
                    <a:lnTo>
                      <a:pt x="3267" y="3140"/>
                    </a:lnTo>
                    <a:lnTo>
                      <a:pt x="3274" y="3137"/>
                    </a:lnTo>
                    <a:lnTo>
                      <a:pt x="3287" y="3132"/>
                    </a:lnTo>
                    <a:lnTo>
                      <a:pt x="3314" y="3120"/>
                    </a:lnTo>
                    <a:lnTo>
                      <a:pt x="3367" y="3091"/>
                    </a:lnTo>
                    <a:lnTo>
                      <a:pt x="3417" y="3056"/>
                    </a:lnTo>
                    <a:lnTo>
                      <a:pt x="3429" y="3046"/>
                    </a:lnTo>
                    <a:lnTo>
                      <a:pt x="3442" y="3036"/>
                    </a:lnTo>
                    <a:lnTo>
                      <a:pt x="3469" y="3018"/>
                    </a:lnTo>
                    <a:lnTo>
                      <a:pt x="3516" y="2973"/>
                    </a:lnTo>
                    <a:lnTo>
                      <a:pt x="3540" y="2948"/>
                    </a:lnTo>
                    <a:lnTo>
                      <a:pt x="3552" y="2934"/>
                    </a:lnTo>
                    <a:lnTo>
                      <a:pt x="3565" y="2922"/>
                    </a:lnTo>
                    <a:lnTo>
                      <a:pt x="3613" y="2867"/>
                    </a:lnTo>
                    <a:lnTo>
                      <a:pt x="3661" y="2807"/>
                    </a:lnTo>
                    <a:lnTo>
                      <a:pt x="3706" y="2741"/>
                    </a:lnTo>
                    <a:lnTo>
                      <a:pt x="3716" y="2722"/>
                    </a:lnTo>
                    <a:lnTo>
                      <a:pt x="3722" y="2713"/>
                    </a:lnTo>
                    <a:lnTo>
                      <a:pt x="3728" y="2705"/>
                    </a:lnTo>
                    <a:lnTo>
                      <a:pt x="3752" y="2669"/>
                    </a:lnTo>
                    <a:lnTo>
                      <a:pt x="3773" y="2631"/>
                    </a:lnTo>
                    <a:lnTo>
                      <a:pt x="3784" y="2611"/>
                    </a:lnTo>
                    <a:lnTo>
                      <a:pt x="3796" y="2592"/>
                    </a:lnTo>
                    <a:lnTo>
                      <a:pt x="3841" y="2513"/>
                    </a:lnTo>
                    <a:lnTo>
                      <a:pt x="3857" y="2510"/>
                    </a:lnTo>
                    <a:lnTo>
                      <a:pt x="3865" y="2508"/>
                    </a:lnTo>
                    <a:lnTo>
                      <a:pt x="3865" y="2506"/>
                    </a:lnTo>
                    <a:lnTo>
                      <a:pt x="3866" y="2506"/>
                    </a:lnTo>
                    <a:lnTo>
                      <a:pt x="3869" y="2506"/>
                    </a:lnTo>
                    <a:lnTo>
                      <a:pt x="3874" y="2506"/>
                    </a:lnTo>
                    <a:lnTo>
                      <a:pt x="3889" y="2501"/>
                    </a:lnTo>
                    <a:lnTo>
                      <a:pt x="3905" y="2496"/>
                    </a:lnTo>
                    <a:lnTo>
                      <a:pt x="3918" y="2486"/>
                    </a:lnTo>
                    <a:lnTo>
                      <a:pt x="3924" y="2481"/>
                    </a:lnTo>
                    <a:lnTo>
                      <a:pt x="3932" y="2477"/>
                    </a:lnTo>
                    <a:lnTo>
                      <a:pt x="3946" y="2465"/>
                    </a:lnTo>
                    <a:lnTo>
                      <a:pt x="3948" y="2461"/>
                    </a:lnTo>
                    <a:lnTo>
                      <a:pt x="3952" y="2459"/>
                    </a:lnTo>
                    <a:lnTo>
                      <a:pt x="3960" y="2453"/>
                    </a:lnTo>
                    <a:lnTo>
                      <a:pt x="3966" y="2444"/>
                    </a:lnTo>
                    <a:lnTo>
                      <a:pt x="3972" y="2436"/>
                    </a:lnTo>
                    <a:lnTo>
                      <a:pt x="3983" y="2420"/>
                    </a:lnTo>
                    <a:lnTo>
                      <a:pt x="3984" y="2415"/>
                    </a:lnTo>
                    <a:lnTo>
                      <a:pt x="3987" y="2411"/>
                    </a:lnTo>
                    <a:lnTo>
                      <a:pt x="3992" y="2403"/>
                    </a:lnTo>
                    <a:lnTo>
                      <a:pt x="4000" y="2386"/>
                    </a:lnTo>
                    <a:lnTo>
                      <a:pt x="4005" y="2366"/>
                    </a:lnTo>
                    <a:lnTo>
                      <a:pt x="4009" y="2347"/>
                    </a:lnTo>
                    <a:lnTo>
                      <a:pt x="4012" y="2327"/>
                    </a:lnTo>
                    <a:lnTo>
                      <a:pt x="4012" y="2317"/>
                    </a:lnTo>
                    <a:lnTo>
                      <a:pt x="4012" y="2312"/>
                    </a:lnTo>
                    <a:lnTo>
                      <a:pt x="4012" y="2309"/>
                    </a:lnTo>
                    <a:lnTo>
                      <a:pt x="4012" y="2308"/>
                    </a:lnTo>
                    <a:lnTo>
                      <a:pt x="4013" y="2308"/>
                    </a:lnTo>
                    <a:lnTo>
                      <a:pt x="4011" y="2276"/>
                    </a:lnTo>
                    <a:lnTo>
                      <a:pt x="4005" y="2247"/>
                    </a:lnTo>
                    <a:lnTo>
                      <a:pt x="3996" y="2219"/>
                    </a:lnTo>
                    <a:lnTo>
                      <a:pt x="3984" y="2195"/>
                    </a:lnTo>
                    <a:lnTo>
                      <a:pt x="3989" y="2180"/>
                    </a:lnTo>
                    <a:lnTo>
                      <a:pt x="4011" y="2118"/>
                    </a:lnTo>
                    <a:lnTo>
                      <a:pt x="4033" y="2057"/>
                    </a:lnTo>
                    <a:lnTo>
                      <a:pt x="4054" y="1995"/>
                    </a:lnTo>
                    <a:lnTo>
                      <a:pt x="4077" y="1934"/>
                    </a:lnTo>
                    <a:lnTo>
                      <a:pt x="4095" y="1870"/>
                    </a:lnTo>
                    <a:lnTo>
                      <a:pt x="4115" y="1807"/>
                    </a:lnTo>
                    <a:lnTo>
                      <a:pt x="4134" y="1742"/>
                    </a:lnTo>
                    <a:lnTo>
                      <a:pt x="4154" y="1678"/>
                    </a:lnTo>
                    <a:lnTo>
                      <a:pt x="4178" y="1582"/>
                    </a:lnTo>
                    <a:lnTo>
                      <a:pt x="4203" y="1486"/>
                    </a:lnTo>
                    <a:lnTo>
                      <a:pt x="4223" y="1391"/>
                    </a:lnTo>
                    <a:lnTo>
                      <a:pt x="4242" y="1295"/>
                    </a:lnTo>
                    <a:lnTo>
                      <a:pt x="4250" y="1246"/>
                    </a:lnTo>
                    <a:lnTo>
                      <a:pt x="4260" y="1199"/>
                    </a:lnTo>
                    <a:lnTo>
                      <a:pt x="4278" y="1102"/>
                    </a:lnTo>
                    <a:lnTo>
                      <a:pt x="4285" y="1052"/>
                    </a:lnTo>
                    <a:lnTo>
                      <a:pt x="4293" y="1003"/>
                    </a:lnTo>
                    <a:lnTo>
                      <a:pt x="4299" y="952"/>
                    </a:lnTo>
                    <a:lnTo>
                      <a:pt x="4307" y="903"/>
                    </a:lnTo>
                    <a:lnTo>
                      <a:pt x="4321" y="801"/>
                    </a:lnTo>
                    <a:lnTo>
                      <a:pt x="4334" y="6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0440" y="982800"/>
                <a:ext cx="271440" cy="298440"/>
              </a:xfrm>
              <a:custGeom>
                <a:avLst/>
                <a:gdLst/>
                <a:ahLst/>
                <a:rect l="l" t="t" r="r" b="b"/>
                <a:pathLst>
                  <a:path w="1792" h="1959">
                    <a:moveTo>
                      <a:pt x="1318" y="280"/>
                    </a:moveTo>
                    <a:lnTo>
                      <a:pt x="1258" y="204"/>
                    </a:lnTo>
                    <a:lnTo>
                      <a:pt x="1203" y="134"/>
                    </a:lnTo>
                    <a:lnTo>
                      <a:pt x="1151" y="65"/>
                    </a:lnTo>
                    <a:lnTo>
                      <a:pt x="1103" y="0"/>
                    </a:lnTo>
                    <a:lnTo>
                      <a:pt x="942" y="166"/>
                    </a:lnTo>
                    <a:lnTo>
                      <a:pt x="982" y="199"/>
                    </a:lnTo>
                    <a:lnTo>
                      <a:pt x="1025" y="239"/>
                    </a:lnTo>
                    <a:lnTo>
                      <a:pt x="1070" y="285"/>
                    </a:lnTo>
                    <a:lnTo>
                      <a:pt x="1119" y="340"/>
                    </a:lnTo>
                    <a:lnTo>
                      <a:pt x="1158" y="385"/>
                    </a:lnTo>
                    <a:lnTo>
                      <a:pt x="1176" y="407"/>
                    </a:lnTo>
                    <a:lnTo>
                      <a:pt x="1196" y="431"/>
                    </a:lnTo>
                    <a:lnTo>
                      <a:pt x="1232" y="476"/>
                    </a:lnTo>
                    <a:lnTo>
                      <a:pt x="1240" y="487"/>
                    </a:lnTo>
                    <a:lnTo>
                      <a:pt x="1249" y="499"/>
                    </a:lnTo>
                    <a:lnTo>
                      <a:pt x="1268" y="522"/>
                    </a:lnTo>
                    <a:lnTo>
                      <a:pt x="1299" y="565"/>
                    </a:lnTo>
                    <a:lnTo>
                      <a:pt x="1331" y="609"/>
                    </a:lnTo>
                    <a:lnTo>
                      <a:pt x="1360" y="651"/>
                    </a:lnTo>
                    <a:lnTo>
                      <a:pt x="1390" y="695"/>
                    </a:lnTo>
                    <a:lnTo>
                      <a:pt x="1415" y="734"/>
                    </a:lnTo>
                    <a:lnTo>
                      <a:pt x="1439" y="776"/>
                    </a:lnTo>
                    <a:lnTo>
                      <a:pt x="1461" y="815"/>
                    </a:lnTo>
                    <a:lnTo>
                      <a:pt x="1482" y="856"/>
                    </a:lnTo>
                    <a:lnTo>
                      <a:pt x="1501" y="893"/>
                    </a:lnTo>
                    <a:lnTo>
                      <a:pt x="1519" y="932"/>
                    </a:lnTo>
                    <a:lnTo>
                      <a:pt x="1535" y="969"/>
                    </a:lnTo>
                    <a:lnTo>
                      <a:pt x="1542" y="987"/>
                    </a:lnTo>
                    <a:lnTo>
                      <a:pt x="1550" y="1007"/>
                    </a:lnTo>
                    <a:lnTo>
                      <a:pt x="1560" y="1042"/>
                    </a:lnTo>
                    <a:lnTo>
                      <a:pt x="1571" y="1078"/>
                    </a:lnTo>
                    <a:lnTo>
                      <a:pt x="1579" y="1111"/>
                    </a:lnTo>
                    <a:lnTo>
                      <a:pt x="1587" y="1145"/>
                    </a:lnTo>
                    <a:lnTo>
                      <a:pt x="1592" y="1177"/>
                    </a:lnTo>
                    <a:lnTo>
                      <a:pt x="1594" y="1193"/>
                    </a:lnTo>
                    <a:lnTo>
                      <a:pt x="1596" y="1210"/>
                    </a:lnTo>
                    <a:lnTo>
                      <a:pt x="1598" y="1242"/>
                    </a:lnTo>
                    <a:lnTo>
                      <a:pt x="1598" y="1258"/>
                    </a:lnTo>
                    <a:lnTo>
                      <a:pt x="1598" y="1266"/>
                    </a:lnTo>
                    <a:lnTo>
                      <a:pt x="1599" y="1275"/>
                    </a:lnTo>
                    <a:lnTo>
                      <a:pt x="1596" y="1304"/>
                    </a:lnTo>
                    <a:lnTo>
                      <a:pt x="1594" y="1335"/>
                    </a:lnTo>
                    <a:lnTo>
                      <a:pt x="1588" y="1362"/>
                    </a:lnTo>
                    <a:lnTo>
                      <a:pt x="1582" y="1392"/>
                    </a:lnTo>
                    <a:lnTo>
                      <a:pt x="1572" y="1418"/>
                    </a:lnTo>
                    <a:lnTo>
                      <a:pt x="1567" y="1431"/>
                    </a:lnTo>
                    <a:lnTo>
                      <a:pt x="1564" y="1438"/>
                    </a:lnTo>
                    <a:lnTo>
                      <a:pt x="1563" y="1446"/>
                    </a:lnTo>
                    <a:lnTo>
                      <a:pt x="1551" y="1472"/>
                    </a:lnTo>
                    <a:lnTo>
                      <a:pt x="1538" y="1500"/>
                    </a:lnTo>
                    <a:lnTo>
                      <a:pt x="1522" y="1524"/>
                    </a:lnTo>
                    <a:lnTo>
                      <a:pt x="1505" y="1548"/>
                    </a:lnTo>
                    <a:lnTo>
                      <a:pt x="1486" y="1569"/>
                    </a:lnTo>
                    <a:lnTo>
                      <a:pt x="1468" y="1592"/>
                    </a:lnTo>
                    <a:lnTo>
                      <a:pt x="1445" y="1610"/>
                    </a:lnTo>
                    <a:lnTo>
                      <a:pt x="1439" y="1614"/>
                    </a:lnTo>
                    <a:lnTo>
                      <a:pt x="1433" y="1619"/>
                    </a:lnTo>
                    <a:lnTo>
                      <a:pt x="1423" y="1630"/>
                    </a:lnTo>
                    <a:lnTo>
                      <a:pt x="1399" y="1647"/>
                    </a:lnTo>
                    <a:lnTo>
                      <a:pt x="1386" y="1655"/>
                    </a:lnTo>
                    <a:lnTo>
                      <a:pt x="1379" y="1659"/>
                    </a:lnTo>
                    <a:lnTo>
                      <a:pt x="1374" y="1665"/>
                    </a:lnTo>
                    <a:lnTo>
                      <a:pt x="1366" y="1667"/>
                    </a:lnTo>
                    <a:lnTo>
                      <a:pt x="1359" y="1671"/>
                    </a:lnTo>
                    <a:lnTo>
                      <a:pt x="1346" y="1679"/>
                    </a:lnTo>
                    <a:lnTo>
                      <a:pt x="1317" y="1694"/>
                    </a:lnTo>
                    <a:lnTo>
                      <a:pt x="1301" y="1699"/>
                    </a:lnTo>
                    <a:lnTo>
                      <a:pt x="1293" y="1702"/>
                    </a:lnTo>
                    <a:lnTo>
                      <a:pt x="1286" y="1706"/>
                    </a:lnTo>
                    <a:lnTo>
                      <a:pt x="1256" y="1719"/>
                    </a:lnTo>
                    <a:lnTo>
                      <a:pt x="1246" y="1720"/>
                    </a:lnTo>
                    <a:lnTo>
                      <a:pt x="1239" y="1723"/>
                    </a:lnTo>
                    <a:lnTo>
                      <a:pt x="1223" y="1728"/>
                    </a:lnTo>
                    <a:lnTo>
                      <a:pt x="1188" y="1739"/>
                    </a:lnTo>
                    <a:lnTo>
                      <a:pt x="1152" y="1747"/>
                    </a:lnTo>
                    <a:lnTo>
                      <a:pt x="1134" y="1751"/>
                    </a:lnTo>
                    <a:lnTo>
                      <a:pt x="1117" y="1756"/>
                    </a:lnTo>
                    <a:lnTo>
                      <a:pt x="1077" y="1761"/>
                    </a:lnTo>
                    <a:lnTo>
                      <a:pt x="1037" y="1767"/>
                    </a:lnTo>
                    <a:lnTo>
                      <a:pt x="995" y="1769"/>
                    </a:lnTo>
                    <a:lnTo>
                      <a:pt x="952" y="1773"/>
                    </a:lnTo>
                    <a:lnTo>
                      <a:pt x="907" y="1773"/>
                    </a:lnTo>
                    <a:lnTo>
                      <a:pt x="883" y="1773"/>
                    </a:lnTo>
                    <a:lnTo>
                      <a:pt x="872" y="1773"/>
                    </a:lnTo>
                    <a:lnTo>
                      <a:pt x="861" y="1774"/>
                    </a:lnTo>
                    <a:lnTo>
                      <a:pt x="813" y="1773"/>
                    </a:lnTo>
                    <a:lnTo>
                      <a:pt x="766" y="1773"/>
                    </a:lnTo>
                    <a:lnTo>
                      <a:pt x="739" y="1771"/>
                    </a:lnTo>
                    <a:lnTo>
                      <a:pt x="726" y="1769"/>
                    </a:lnTo>
                    <a:lnTo>
                      <a:pt x="714" y="1769"/>
                    </a:lnTo>
                    <a:lnTo>
                      <a:pt x="687" y="1767"/>
                    </a:lnTo>
                    <a:lnTo>
                      <a:pt x="674" y="1765"/>
                    </a:lnTo>
                    <a:lnTo>
                      <a:pt x="662" y="1765"/>
                    </a:lnTo>
                    <a:lnTo>
                      <a:pt x="609" y="1759"/>
                    </a:lnTo>
                    <a:lnTo>
                      <a:pt x="555" y="1753"/>
                    </a:lnTo>
                    <a:lnTo>
                      <a:pt x="498" y="1745"/>
                    </a:lnTo>
                    <a:lnTo>
                      <a:pt x="441" y="1737"/>
                    </a:lnTo>
                    <a:lnTo>
                      <a:pt x="383" y="1727"/>
                    </a:lnTo>
                    <a:lnTo>
                      <a:pt x="352" y="1721"/>
                    </a:lnTo>
                    <a:lnTo>
                      <a:pt x="323" y="1718"/>
                    </a:lnTo>
                    <a:lnTo>
                      <a:pt x="185" y="1690"/>
                    </a:lnTo>
                    <a:lnTo>
                      <a:pt x="116" y="1674"/>
                    </a:lnTo>
                    <a:lnTo>
                      <a:pt x="49" y="1658"/>
                    </a:lnTo>
                    <a:lnTo>
                      <a:pt x="25" y="1751"/>
                    </a:lnTo>
                    <a:lnTo>
                      <a:pt x="0" y="1847"/>
                    </a:lnTo>
                    <a:lnTo>
                      <a:pt x="92" y="1867"/>
                    </a:lnTo>
                    <a:lnTo>
                      <a:pt x="187" y="1886"/>
                    </a:lnTo>
                    <a:lnTo>
                      <a:pt x="279" y="1903"/>
                    </a:lnTo>
                    <a:lnTo>
                      <a:pt x="372" y="1919"/>
                    </a:lnTo>
                    <a:lnTo>
                      <a:pt x="437" y="1927"/>
                    </a:lnTo>
                    <a:lnTo>
                      <a:pt x="501" y="1935"/>
                    </a:lnTo>
                    <a:lnTo>
                      <a:pt x="531" y="1937"/>
                    </a:lnTo>
                    <a:lnTo>
                      <a:pt x="563" y="1941"/>
                    </a:lnTo>
                    <a:lnTo>
                      <a:pt x="593" y="1944"/>
                    </a:lnTo>
                    <a:lnTo>
                      <a:pt x="625" y="1948"/>
                    </a:lnTo>
                    <a:lnTo>
                      <a:pt x="683" y="1952"/>
                    </a:lnTo>
                    <a:lnTo>
                      <a:pt x="742" y="1956"/>
                    </a:lnTo>
                    <a:lnTo>
                      <a:pt x="770" y="1956"/>
                    </a:lnTo>
                    <a:lnTo>
                      <a:pt x="799" y="1957"/>
                    </a:lnTo>
                    <a:lnTo>
                      <a:pt x="854" y="1959"/>
                    </a:lnTo>
                    <a:lnTo>
                      <a:pt x="907" y="1957"/>
                    </a:lnTo>
                    <a:lnTo>
                      <a:pt x="919" y="1956"/>
                    </a:lnTo>
                    <a:lnTo>
                      <a:pt x="932" y="1956"/>
                    </a:lnTo>
                    <a:lnTo>
                      <a:pt x="959" y="1956"/>
                    </a:lnTo>
                    <a:lnTo>
                      <a:pt x="1009" y="1952"/>
                    </a:lnTo>
                    <a:lnTo>
                      <a:pt x="1058" y="1949"/>
                    </a:lnTo>
                    <a:lnTo>
                      <a:pt x="1069" y="1947"/>
                    </a:lnTo>
                    <a:lnTo>
                      <a:pt x="1081" y="1945"/>
                    </a:lnTo>
                    <a:lnTo>
                      <a:pt x="1105" y="1943"/>
                    </a:lnTo>
                    <a:lnTo>
                      <a:pt x="1115" y="1940"/>
                    </a:lnTo>
                    <a:lnTo>
                      <a:pt x="1127" y="1939"/>
                    </a:lnTo>
                    <a:lnTo>
                      <a:pt x="1151" y="1936"/>
                    </a:lnTo>
                    <a:lnTo>
                      <a:pt x="1196" y="1928"/>
                    </a:lnTo>
                    <a:lnTo>
                      <a:pt x="1240" y="1920"/>
                    </a:lnTo>
                    <a:lnTo>
                      <a:pt x="1280" y="1908"/>
                    </a:lnTo>
                    <a:lnTo>
                      <a:pt x="1319" y="1896"/>
                    </a:lnTo>
                    <a:lnTo>
                      <a:pt x="1356" y="1883"/>
                    </a:lnTo>
                    <a:lnTo>
                      <a:pt x="1394" y="1870"/>
                    </a:lnTo>
                    <a:lnTo>
                      <a:pt x="1428" y="1854"/>
                    </a:lnTo>
                    <a:lnTo>
                      <a:pt x="1461" y="1838"/>
                    </a:lnTo>
                    <a:lnTo>
                      <a:pt x="1493" y="1820"/>
                    </a:lnTo>
                    <a:lnTo>
                      <a:pt x="1525" y="1801"/>
                    </a:lnTo>
                    <a:lnTo>
                      <a:pt x="1553" y="1780"/>
                    </a:lnTo>
                    <a:lnTo>
                      <a:pt x="1580" y="1759"/>
                    </a:lnTo>
                    <a:lnTo>
                      <a:pt x="1606" y="1735"/>
                    </a:lnTo>
                    <a:lnTo>
                      <a:pt x="1631" y="1711"/>
                    </a:lnTo>
                    <a:lnTo>
                      <a:pt x="1653" y="1684"/>
                    </a:lnTo>
                    <a:lnTo>
                      <a:pt x="1674" y="1658"/>
                    </a:lnTo>
                    <a:lnTo>
                      <a:pt x="1678" y="1650"/>
                    </a:lnTo>
                    <a:lnTo>
                      <a:pt x="1684" y="1643"/>
                    </a:lnTo>
                    <a:lnTo>
                      <a:pt x="1694" y="1630"/>
                    </a:lnTo>
                    <a:lnTo>
                      <a:pt x="1698" y="1622"/>
                    </a:lnTo>
                    <a:lnTo>
                      <a:pt x="1704" y="1616"/>
                    </a:lnTo>
                    <a:lnTo>
                      <a:pt x="1714" y="1602"/>
                    </a:lnTo>
                    <a:lnTo>
                      <a:pt x="1730" y="1570"/>
                    </a:lnTo>
                    <a:lnTo>
                      <a:pt x="1737" y="1555"/>
                    </a:lnTo>
                    <a:lnTo>
                      <a:pt x="1745" y="1540"/>
                    </a:lnTo>
                    <a:lnTo>
                      <a:pt x="1750" y="1523"/>
                    </a:lnTo>
                    <a:lnTo>
                      <a:pt x="1757" y="1507"/>
                    </a:lnTo>
                    <a:lnTo>
                      <a:pt x="1767" y="1475"/>
                    </a:lnTo>
                    <a:lnTo>
                      <a:pt x="1775" y="1441"/>
                    </a:lnTo>
                    <a:lnTo>
                      <a:pt x="1783" y="1407"/>
                    </a:lnTo>
                    <a:lnTo>
                      <a:pt x="1788" y="1373"/>
                    </a:lnTo>
                    <a:lnTo>
                      <a:pt x="1792" y="1339"/>
                    </a:lnTo>
                    <a:lnTo>
                      <a:pt x="1792" y="1302"/>
                    </a:lnTo>
                    <a:lnTo>
                      <a:pt x="1792" y="1264"/>
                    </a:lnTo>
                    <a:lnTo>
                      <a:pt x="1790" y="1226"/>
                    </a:lnTo>
                    <a:lnTo>
                      <a:pt x="1786" y="1189"/>
                    </a:lnTo>
                    <a:lnTo>
                      <a:pt x="1779" y="1149"/>
                    </a:lnTo>
                    <a:lnTo>
                      <a:pt x="1776" y="1139"/>
                    </a:lnTo>
                    <a:lnTo>
                      <a:pt x="1775" y="1129"/>
                    </a:lnTo>
                    <a:lnTo>
                      <a:pt x="1772" y="1111"/>
                    </a:lnTo>
                    <a:lnTo>
                      <a:pt x="1767" y="1090"/>
                    </a:lnTo>
                    <a:lnTo>
                      <a:pt x="1765" y="1079"/>
                    </a:lnTo>
                    <a:lnTo>
                      <a:pt x="1763" y="1070"/>
                    </a:lnTo>
                    <a:lnTo>
                      <a:pt x="1753" y="1030"/>
                    </a:lnTo>
                    <a:lnTo>
                      <a:pt x="1745" y="1007"/>
                    </a:lnTo>
                    <a:lnTo>
                      <a:pt x="1738" y="986"/>
                    </a:lnTo>
                    <a:lnTo>
                      <a:pt x="1723" y="944"/>
                    </a:lnTo>
                    <a:lnTo>
                      <a:pt x="1718" y="932"/>
                    </a:lnTo>
                    <a:lnTo>
                      <a:pt x="1714" y="921"/>
                    </a:lnTo>
                    <a:lnTo>
                      <a:pt x="1706" y="900"/>
                    </a:lnTo>
                    <a:lnTo>
                      <a:pt x="1688" y="858"/>
                    </a:lnTo>
                    <a:lnTo>
                      <a:pt x="1666" y="813"/>
                    </a:lnTo>
                    <a:lnTo>
                      <a:pt x="1644" y="768"/>
                    </a:lnTo>
                    <a:lnTo>
                      <a:pt x="1620" y="721"/>
                    </a:lnTo>
                    <a:lnTo>
                      <a:pt x="1595" y="676"/>
                    </a:lnTo>
                    <a:lnTo>
                      <a:pt x="1566" y="627"/>
                    </a:lnTo>
                    <a:lnTo>
                      <a:pt x="1535" y="579"/>
                    </a:lnTo>
                    <a:lnTo>
                      <a:pt x="1504" y="530"/>
                    </a:lnTo>
                    <a:lnTo>
                      <a:pt x="1470" y="483"/>
                    </a:lnTo>
                    <a:lnTo>
                      <a:pt x="1435" y="432"/>
                    </a:lnTo>
                    <a:lnTo>
                      <a:pt x="1398" y="382"/>
                    </a:lnTo>
                    <a:lnTo>
                      <a:pt x="1358" y="330"/>
                    </a:lnTo>
                    <a:lnTo>
                      <a:pt x="1318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13920" y="84600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509" h="646">
                    <a:moveTo>
                      <a:pt x="363" y="646"/>
                    </a:moveTo>
                    <a:lnTo>
                      <a:pt x="274" y="563"/>
                    </a:lnTo>
                    <a:lnTo>
                      <a:pt x="188" y="485"/>
                    </a:lnTo>
                    <a:lnTo>
                      <a:pt x="105" y="409"/>
                    </a:lnTo>
                    <a:lnTo>
                      <a:pt x="26" y="336"/>
                    </a:lnTo>
                    <a:lnTo>
                      <a:pt x="0" y="0"/>
                    </a:lnTo>
                    <a:lnTo>
                      <a:pt x="32" y="33"/>
                    </a:lnTo>
                    <a:lnTo>
                      <a:pt x="65" y="67"/>
                    </a:lnTo>
                    <a:lnTo>
                      <a:pt x="131" y="132"/>
                    </a:lnTo>
                    <a:lnTo>
                      <a:pt x="195" y="195"/>
                    </a:lnTo>
                    <a:lnTo>
                      <a:pt x="227" y="225"/>
                    </a:lnTo>
                    <a:lnTo>
                      <a:pt x="260" y="257"/>
                    </a:lnTo>
                    <a:lnTo>
                      <a:pt x="274" y="270"/>
                    </a:lnTo>
                    <a:lnTo>
                      <a:pt x="290" y="285"/>
                    </a:lnTo>
                    <a:lnTo>
                      <a:pt x="322" y="314"/>
                    </a:lnTo>
                    <a:lnTo>
                      <a:pt x="386" y="371"/>
                    </a:lnTo>
                    <a:lnTo>
                      <a:pt x="446" y="425"/>
                    </a:lnTo>
                    <a:lnTo>
                      <a:pt x="509" y="478"/>
                    </a:lnTo>
                    <a:lnTo>
                      <a:pt x="363" y="64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8258040" y="404640"/>
              <a:ext cx="1800" cy="1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696080" y="404640"/>
              <a:ext cx="955800" cy="838440"/>
              <a:chOff x="7696080" y="404640"/>
              <a:chExt cx="9558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8340840" y="728640"/>
                <a:ext cx="34920" cy="44640"/>
              </a:xfrm>
              <a:custGeom>
                <a:avLst/>
                <a:gdLst/>
                <a:ahLst/>
                <a:rect l="l" t="t" r="r" b="b"/>
                <a:pathLst>
                  <a:path w="226" h="291">
                    <a:moveTo>
                      <a:pt x="226" y="238"/>
                    </a:moveTo>
                    <a:lnTo>
                      <a:pt x="223" y="209"/>
                    </a:lnTo>
                    <a:lnTo>
                      <a:pt x="222" y="201"/>
                    </a:lnTo>
                    <a:lnTo>
                      <a:pt x="222" y="195"/>
                    </a:lnTo>
                    <a:lnTo>
                      <a:pt x="222" y="181"/>
                    </a:lnTo>
                    <a:lnTo>
                      <a:pt x="215" y="123"/>
                    </a:lnTo>
                    <a:lnTo>
                      <a:pt x="204" y="62"/>
                    </a:lnTo>
                    <a:lnTo>
                      <a:pt x="198" y="30"/>
                    </a:lnTo>
                    <a:lnTo>
                      <a:pt x="192" y="0"/>
                    </a:lnTo>
                    <a:lnTo>
                      <a:pt x="96" y="28"/>
                    </a:lnTo>
                    <a:lnTo>
                      <a:pt x="0" y="58"/>
                    </a:lnTo>
                    <a:lnTo>
                      <a:pt x="8" y="94"/>
                    </a:lnTo>
                    <a:lnTo>
                      <a:pt x="27" y="191"/>
                    </a:lnTo>
                    <a:lnTo>
                      <a:pt x="45" y="291"/>
                    </a:lnTo>
                    <a:lnTo>
                      <a:pt x="92" y="275"/>
                    </a:lnTo>
                    <a:lnTo>
                      <a:pt x="138" y="262"/>
                    </a:lnTo>
                    <a:lnTo>
                      <a:pt x="182" y="249"/>
                    </a:lnTo>
                    <a:lnTo>
                      <a:pt x="226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50200" y="793800"/>
                <a:ext cx="41400" cy="301680"/>
              </a:xfrm>
              <a:custGeom>
                <a:avLst/>
                <a:gdLst/>
                <a:ahLst/>
                <a:rect l="l" t="t" r="r" b="b"/>
                <a:pathLst>
                  <a:path w="272" h="1990">
                    <a:moveTo>
                      <a:pt x="203" y="0"/>
                    </a:moveTo>
                    <a:lnTo>
                      <a:pt x="160" y="8"/>
                    </a:lnTo>
                    <a:lnTo>
                      <a:pt x="138" y="13"/>
                    </a:lnTo>
                    <a:lnTo>
                      <a:pt x="114" y="20"/>
                    </a:lnTo>
                    <a:lnTo>
                      <a:pt x="87" y="25"/>
                    </a:lnTo>
                    <a:lnTo>
                      <a:pt x="60" y="32"/>
                    </a:lnTo>
                    <a:lnTo>
                      <a:pt x="30" y="38"/>
                    </a:lnTo>
                    <a:lnTo>
                      <a:pt x="0" y="46"/>
                    </a:lnTo>
                    <a:lnTo>
                      <a:pt x="19" y="219"/>
                    </a:lnTo>
                    <a:lnTo>
                      <a:pt x="30" y="350"/>
                    </a:lnTo>
                    <a:lnTo>
                      <a:pt x="41" y="486"/>
                    </a:lnTo>
                    <a:lnTo>
                      <a:pt x="44" y="562"/>
                    </a:lnTo>
                    <a:lnTo>
                      <a:pt x="48" y="640"/>
                    </a:lnTo>
                    <a:lnTo>
                      <a:pt x="54" y="798"/>
                    </a:lnTo>
                    <a:lnTo>
                      <a:pt x="58" y="958"/>
                    </a:lnTo>
                    <a:lnTo>
                      <a:pt x="61" y="1122"/>
                    </a:lnTo>
                    <a:lnTo>
                      <a:pt x="58" y="1155"/>
                    </a:lnTo>
                    <a:lnTo>
                      <a:pt x="58" y="1191"/>
                    </a:lnTo>
                    <a:lnTo>
                      <a:pt x="57" y="1229"/>
                    </a:lnTo>
                    <a:lnTo>
                      <a:pt x="57" y="1272"/>
                    </a:lnTo>
                    <a:lnTo>
                      <a:pt x="54" y="1361"/>
                    </a:lnTo>
                    <a:lnTo>
                      <a:pt x="52" y="1460"/>
                    </a:lnTo>
                    <a:lnTo>
                      <a:pt x="46" y="1567"/>
                    </a:lnTo>
                    <a:lnTo>
                      <a:pt x="44" y="1624"/>
                    </a:lnTo>
                    <a:lnTo>
                      <a:pt x="42" y="1685"/>
                    </a:lnTo>
                    <a:lnTo>
                      <a:pt x="37" y="1811"/>
                    </a:lnTo>
                    <a:lnTo>
                      <a:pt x="34" y="1879"/>
                    </a:lnTo>
                    <a:lnTo>
                      <a:pt x="32" y="1949"/>
                    </a:lnTo>
                    <a:lnTo>
                      <a:pt x="62" y="1990"/>
                    </a:lnTo>
                    <a:lnTo>
                      <a:pt x="245" y="1856"/>
                    </a:lnTo>
                    <a:lnTo>
                      <a:pt x="253" y="1728"/>
                    </a:lnTo>
                    <a:lnTo>
                      <a:pt x="256" y="1667"/>
                    </a:lnTo>
                    <a:lnTo>
                      <a:pt x="260" y="1610"/>
                    </a:lnTo>
                    <a:lnTo>
                      <a:pt x="261" y="1593"/>
                    </a:lnTo>
                    <a:lnTo>
                      <a:pt x="265" y="1487"/>
                    </a:lnTo>
                    <a:lnTo>
                      <a:pt x="266" y="1396"/>
                    </a:lnTo>
                    <a:lnTo>
                      <a:pt x="269" y="1306"/>
                    </a:lnTo>
                    <a:lnTo>
                      <a:pt x="269" y="1260"/>
                    </a:lnTo>
                    <a:lnTo>
                      <a:pt x="270" y="1215"/>
                    </a:lnTo>
                    <a:lnTo>
                      <a:pt x="270" y="1169"/>
                    </a:lnTo>
                    <a:lnTo>
                      <a:pt x="272" y="1124"/>
                    </a:lnTo>
                    <a:lnTo>
                      <a:pt x="270" y="999"/>
                    </a:lnTo>
                    <a:lnTo>
                      <a:pt x="268" y="877"/>
                    </a:lnTo>
                    <a:lnTo>
                      <a:pt x="264" y="755"/>
                    </a:lnTo>
                    <a:lnTo>
                      <a:pt x="260" y="637"/>
                    </a:lnTo>
                    <a:lnTo>
                      <a:pt x="252" y="501"/>
                    </a:lnTo>
                    <a:lnTo>
                      <a:pt x="242" y="368"/>
                    </a:lnTo>
                    <a:lnTo>
                      <a:pt x="233" y="273"/>
                    </a:lnTo>
                    <a:lnTo>
                      <a:pt x="224" y="180"/>
                    </a:lnTo>
                    <a:lnTo>
                      <a:pt x="213" y="8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96080" y="649440"/>
                <a:ext cx="354240" cy="392040"/>
              </a:xfrm>
              <a:custGeom>
                <a:avLst/>
                <a:gdLst/>
                <a:ahLst/>
                <a:rect l="l" t="t" r="r" b="b"/>
                <a:pathLst>
                  <a:path w="2329" h="2573">
                    <a:moveTo>
                      <a:pt x="670" y="83"/>
                    </a:moveTo>
                    <a:lnTo>
                      <a:pt x="613" y="106"/>
                    </a:lnTo>
                    <a:lnTo>
                      <a:pt x="559" y="131"/>
                    </a:lnTo>
                    <a:lnTo>
                      <a:pt x="507" y="159"/>
                    </a:lnTo>
                    <a:lnTo>
                      <a:pt x="459" y="191"/>
                    </a:lnTo>
                    <a:lnTo>
                      <a:pt x="412" y="224"/>
                    </a:lnTo>
                    <a:lnTo>
                      <a:pt x="368" y="262"/>
                    </a:lnTo>
                    <a:lnTo>
                      <a:pt x="327" y="302"/>
                    </a:lnTo>
                    <a:lnTo>
                      <a:pt x="289" y="346"/>
                    </a:lnTo>
                    <a:lnTo>
                      <a:pt x="250" y="389"/>
                    </a:lnTo>
                    <a:lnTo>
                      <a:pt x="217" y="438"/>
                    </a:lnTo>
                    <a:lnTo>
                      <a:pt x="185" y="490"/>
                    </a:lnTo>
                    <a:lnTo>
                      <a:pt x="157" y="544"/>
                    </a:lnTo>
                    <a:lnTo>
                      <a:pt x="130" y="601"/>
                    </a:lnTo>
                    <a:lnTo>
                      <a:pt x="107" y="661"/>
                    </a:lnTo>
                    <a:lnTo>
                      <a:pt x="84" y="723"/>
                    </a:lnTo>
                    <a:lnTo>
                      <a:pt x="67" y="789"/>
                    </a:lnTo>
                    <a:lnTo>
                      <a:pt x="46" y="870"/>
                    </a:lnTo>
                    <a:lnTo>
                      <a:pt x="37" y="913"/>
                    </a:lnTo>
                    <a:lnTo>
                      <a:pt x="30" y="958"/>
                    </a:lnTo>
                    <a:lnTo>
                      <a:pt x="22" y="1001"/>
                    </a:lnTo>
                    <a:lnTo>
                      <a:pt x="17" y="1048"/>
                    </a:lnTo>
                    <a:lnTo>
                      <a:pt x="12" y="1094"/>
                    </a:lnTo>
                    <a:lnTo>
                      <a:pt x="9" y="1143"/>
                    </a:lnTo>
                    <a:lnTo>
                      <a:pt x="2" y="1227"/>
                    </a:lnTo>
                    <a:lnTo>
                      <a:pt x="1" y="1313"/>
                    </a:lnTo>
                    <a:lnTo>
                      <a:pt x="0" y="1403"/>
                    </a:lnTo>
                    <a:lnTo>
                      <a:pt x="4" y="1497"/>
                    </a:lnTo>
                    <a:lnTo>
                      <a:pt x="8" y="1592"/>
                    </a:lnTo>
                    <a:lnTo>
                      <a:pt x="17" y="1692"/>
                    </a:lnTo>
                    <a:lnTo>
                      <a:pt x="29" y="1794"/>
                    </a:lnTo>
                    <a:lnTo>
                      <a:pt x="43" y="1900"/>
                    </a:lnTo>
                    <a:lnTo>
                      <a:pt x="57" y="1995"/>
                    </a:lnTo>
                    <a:lnTo>
                      <a:pt x="236" y="1880"/>
                    </a:lnTo>
                    <a:lnTo>
                      <a:pt x="261" y="1896"/>
                    </a:lnTo>
                    <a:lnTo>
                      <a:pt x="387" y="1973"/>
                    </a:lnTo>
                    <a:lnTo>
                      <a:pt x="388" y="1987"/>
                    </a:lnTo>
                    <a:lnTo>
                      <a:pt x="392" y="2004"/>
                    </a:lnTo>
                    <a:lnTo>
                      <a:pt x="396" y="2023"/>
                    </a:lnTo>
                    <a:lnTo>
                      <a:pt x="402" y="2043"/>
                    </a:lnTo>
                    <a:lnTo>
                      <a:pt x="410" y="2060"/>
                    </a:lnTo>
                    <a:lnTo>
                      <a:pt x="421" y="2077"/>
                    </a:lnTo>
                    <a:lnTo>
                      <a:pt x="432" y="2092"/>
                    </a:lnTo>
                    <a:lnTo>
                      <a:pt x="445" y="2108"/>
                    </a:lnTo>
                    <a:lnTo>
                      <a:pt x="458" y="2121"/>
                    </a:lnTo>
                    <a:lnTo>
                      <a:pt x="475" y="2134"/>
                    </a:lnTo>
                    <a:lnTo>
                      <a:pt x="491" y="2143"/>
                    </a:lnTo>
                    <a:lnTo>
                      <a:pt x="507" y="2153"/>
                    </a:lnTo>
                    <a:lnTo>
                      <a:pt x="523" y="2159"/>
                    </a:lnTo>
                    <a:lnTo>
                      <a:pt x="542" y="2165"/>
                    </a:lnTo>
                    <a:lnTo>
                      <a:pt x="559" y="2167"/>
                    </a:lnTo>
                    <a:lnTo>
                      <a:pt x="577" y="2169"/>
                    </a:lnTo>
                    <a:lnTo>
                      <a:pt x="596" y="2167"/>
                    </a:lnTo>
                    <a:lnTo>
                      <a:pt x="616" y="2165"/>
                    </a:lnTo>
                    <a:lnTo>
                      <a:pt x="620" y="2162"/>
                    </a:lnTo>
                    <a:lnTo>
                      <a:pt x="626" y="2161"/>
                    </a:lnTo>
                    <a:lnTo>
                      <a:pt x="642" y="2155"/>
                    </a:lnTo>
                    <a:lnTo>
                      <a:pt x="662" y="2147"/>
                    </a:lnTo>
                    <a:lnTo>
                      <a:pt x="687" y="2138"/>
                    </a:lnTo>
                    <a:lnTo>
                      <a:pt x="777" y="2183"/>
                    </a:lnTo>
                    <a:lnTo>
                      <a:pt x="870" y="2227"/>
                    </a:lnTo>
                    <a:lnTo>
                      <a:pt x="915" y="2247"/>
                    </a:lnTo>
                    <a:lnTo>
                      <a:pt x="962" y="2268"/>
                    </a:lnTo>
                    <a:lnTo>
                      <a:pt x="1054" y="2306"/>
                    </a:lnTo>
                    <a:lnTo>
                      <a:pt x="1144" y="2342"/>
                    </a:lnTo>
                    <a:lnTo>
                      <a:pt x="1189" y="2358"/>
                    </a:lnTo>
                    <a:lnTo>
                      <a:pt x="1212" y="2366"/>
                    </a:lnTo>
                    <a:lnTo>
                      <a:pt x="1236" y="2375"/>
                    </a:lnTo>
                    <a:lnTo>
                      <a:pt x="1326" y="2406"/>
                    </a:lnTo>
                    <a:lnTo>
                      <a:pt x="1417" y="2435"/>
                    </a:lnTo>
                    <a:lnTo>
                      <a:pt x="1439" y="2440"/>
                    </a:lnTo>
                    <a:lnTo>
                      <a:pt x="1449" y="2443"/>
                    </a:lnTo>
                    <a:lnTo>
                      <a:pt x="1461" y="2447"/>
                    </a:lnTo>
                    <a:lnTo>
                      <a:pt x="1506" y="2460"/>
                    </a:lnTo>
                    <a:lnTo>
                      <a:pt x="1596" y="2484"/>
                    </a:lnTo>
                    <a:lnTo>
                      <a:pt x="1686" y="2504"/>
                    </a:lnTo>
                    <a:lnTo>
                      <a:pt x="1776" y="2524"/>
                    </a:lnTo>
                    <a:lnTo>
                      <a:pt x="1864" y="2538"/>
                    </a:lnTo>
                    <a:lnTo>
                      <a:pt x="1954" y="2553"/>
                    </a:lnTo>
                    <a:lnTo>
                      <a:pt x="2041" y="2563"/>
                    </a:lnTo>
                    <a:lnTo>
                      <a:pt x="2131" y="2573"/>
                    </a:lnTo>
                    <a:lnTo>
                      <a:pt x="2125" y="2450"/>
                    </a:lnTo>
                    <a:lnTo>
                      <a:pt x="2122" y="2326"/>
                    </a:lnTo>
                    <a:lnTo>
                      <a:pt x="2121" y="2275"/>
                    </a:lnTo>
                    <a:lnTo>
                      <a:pt x="2120" y="2081"/>
                    </a:lnTo>
                    <a:lnTo>
                      <a:pt x="2118" y="1980"/>
                    </a:lnTo>
                    <a:lnTo>
                      <a:pt x="2120" y="1882"/>
                    </a:lnTo>
                    <a:lnTo>
                      <a:pt x="2126" y="1690"/>
                    </a:lnTo>
                    <a:lnTo>
                      <a:pt x="2126" y="1684"/>
                    </a:lnTo>
                    <a:lnTo>
                      <a:pt x="2134" y="1519"/>
                    </a:lnTo>
                    <a:lnTo>
                      <a:pt x="2139" y="1444"/>
                    </a:lnTo>
                    <a:lnTo>
                      <a:pt x="2149" y="1309"/>
                    </a:lnTo>
                    <a:lnTo>
                      <a:pt x="2161" y="1178"/>
                    </a:lnTo>
                    <a:lnTo>
                      <a:pt x="2165" y="1143"/>
                    </a:lnTo>
                    <a:lnTo>
                      <a:pt x="2179" y="1011"/>
                    </a:lnTo>
                    <a:lnTo>
                      <a:pt x="2179" y="1007"/>
                    </a:lnTo>
                    <a:lnTo>
                      <a:pt x="2199" y="852"/>
                    </a:lnTo>
                    <a:lnTo>
                      <a:pt x="2210" y="775"/>
                    </a:lnTo>
                    <a:lnTo>
                      <a:pt x="2223" y="701"/>
                    </a:lnTo>
                    <a:lnTo>
                      <a:pt x="2248" y="554"/>
                    </a:lnTo>
                    <a:lnTo>
                      <a:pt x="2279" y="410"/>
                    </a:lnTo>
                    <a:lnTo>
                      <a:pt x="2285" y="379"/>
                    </a:lnTo>
                    <a:lnTo>
                      <a:pt x="2294" y="343"/>
                    </a:lnTo>
                    <a:lnTo>
                      <a:pt x="2304" y="303"/>
                    </a:lnTo>
                    <a:lnTo>
                      <a:pt x="2317" y="259"/>
                    </a:lnTo>
                    <a:lnTo>
                      <a:pt x="2318" y="253"/>
                    </a:lnTo>
                    <a:lnTo>
                      <a:pt x="2321" y="245"/>
                    </a:lnTo>
                    <a:lnTo>
                      <a:pt x="2324" y="233"/>
                    </a:lnTo>
                    <a:lnTo>
                      <a:pt x="2329" y="218"/>
                    </a:lnTo>
                    <a:lnTo>
                      <a:pt x="2202" y="177"/>
                    </a:lnTo>
                    <a:lnTo>
                      <a:pt x="2080" y="142"/>
                    </a:lnTo>
                    <a:lnTo>
                      <a:pt x="2019" y="124"/>
                    </a:lnTo>
                    <a:lnTo>
                      <a:pt x="1961" y="110"/>
                    </a:lnTo>
                    <a:lnTo>
                      <a:pt x="1845" y="83"/>
                    </a:lnTo>
                    <a:lnTo>
                      <a:pt x="1754" y="63"/>
                    </a:lnTo>
                    <a:lnTo>
                      <a:pt x="1665" y="46"/>
                    </a:lnTo>
                    <a:lnTo>
                      <a:pt x="1579" y="32"/>
                    </a:lnTo>
                    <a:lnTo>
                      <a:pt x="1496" y="20"/>
                    </a:lnTo>
                    <a:lnTo>
                      <a:pt x="1413" y="10"/>
                    </a:lnTo>
                    <a:lnTo>
                      <a:pt x="1335" y="4"/>
                    </a:lnTo>
                    <a:lnTo>
                      <a:pt x="1257" y="0"/>
                    </a:lnTo>
                    <a:lnTo>
                      <a:pt x="1184" y="0"/>
                    </a:lnTo>
                    <a:lnTo>
                      <a:pt x="1111" y="0"/>
                    </a:lnTo>
                    <a:lnTo>
                      <a:pt x="1041" y="4"/>
                    </a:lnTo>
                    <a:lnTo>
                      <a:pt x="973" y="10"/>
                    </a:lnTo>
                    <a:lnTo>
                      <a:pt x="909" y="20"/>
                    </a:lnTo>
                    <a:lnTo>
                      <a:pt x="844" y="32"/>
                    </a:lnTo>
                    <a:lnTo>
                      <a:pt x="784" y="46"/>
                    </a:lnTo>
                    <a:lnTo>
                      <a:pt x="724" y="63"/>
                    </a:lnTo>
                    <a:lnTo>
                      <a:pt x="670" y="83"/>
                    </a:lnTo>
                    <a:close/>
                    <a:moveTo>
                      <a:pt x="217" y="1143"/>
                    </a:moveTo>
                    <a:lnTo>
                      <a:pt x="224" y="1064"/>
                    </a:lnTo>
                    <a:lnTo>
                      <a:pt x="234" y="988"/>
                    </a:lnTo>
                    <a:lnTo>
                      <a:pt x="249" y="915"/>
                    </a:lnTo>
                    <a:lnTo>
                      <a:pt x="266" y="848"/>
                    </a:lnTo>
                    <a:lnTo>
                      <a:pt x="283" y="788"/>
                    </a:lnTo>
                    <a:lnTo>
                      <a:pt x="303" y="731"/>
                    </a:lnTo>
                    <a:lnTo>
                      <a:pt x="326" y="677"/>
                    </a:lnTo>
                    <a:lnTo>
                      <a:pt x="351" y="628"/>
                    </a:lnTo>
                    <a:lnTo>
                      <a:pt x="377" y="579"/>
                    </a:lnTo>
                    <a:lnTo>
                      <a:pt x="408" y="535"/>
                    </a:lnTo>
                    <a:lnTo>
                      <a:pt x="441" y="493"/>
                    </a:lnTo>
                    <a:lnTo>
                      <a:pt x="477" y="454"/>
                    </a:lnTo>
                    <a:lnTo>
                      <a:pt x="512" y="417"/>
                    </a:lnTo>
                    <a:lnTo>
                      <a:pt x="553" y="384"/>
                    </a:lnTo>
                    <a:lnTo>
                      <a:pt x="597" y="354"/>
                    </a:lnTo>
                    <a:lnTo>
                      <a:pt x="644" y="326"/>
                    </a:lnTo>
                    <a:lnTo>
                      <a:pt x="690" y="301"/>
                    </a:lnTo>
                    <a:lnTo>
                      <a:pt x="742" y="278"/>
                    </a:lnTo>
                    <a:lnTo>
                      <a:pt x="795" y="258"/>
                    </a:lnTo>
                    <a:lnTo>
                      <a:pt x="852" y="244"/>
                    </a:lnTo>
                    <a:lnTo>
                      <a:pt x="909" y="229"/>
                    </a:lnTo>
                    <a:lnTo>
                      <a:pt x="968" y="218"/>
                    </a:lnTo>
                    <a:lnTo>
                      <a:pt x="1030" y="209"/>
                    </a:lnTo>
                    <a:lnTo>
                      <a:pt x="1098" y="205"/>
                    </a:lnTo>
                    <a:lnTo>
                      <a:pt x="1166" y="202"/>
                    </a:lnTo>
                    <a:lnTo>
                      <a:pt x="1236" y="204"/>
                    </a:lnTo>
                    <a:lnTo>
                      <a:pt x="1309" y="208"/>
                    </a:lnTo>
                    <a:lnTo>
                      <a:pt x="1386" y="214"/>
                    </a:lnTo>
                    <a:lnTo>
                      <a:pt x="1464" y="224"/>
                    </a:lnTo>
                    <a:lnTo>
                      <a:pt x="1545" y="236"/>
                    </a:lnTo>
                    <a:lnTo>
                      <a:pt x="1628" y="250"/>
                    </a:lnTo>
                    <a:lnTo>
                      <a:pt x="1714" y="269"/>
                    </a:lnTo>
                    <a:lnTo>
                      <a:pt x="1802" y="289"/>
                    </a:lnTo>
                    <a:lnTo>
                      <a:pt x="1893" y="312"/>
                    </a:lnTo>
                    <a:lnTo>
                      <a:pt x="1987" y="339"/>
                    </a:lnTo>
                    <a:lnTo>
                      <a:pt x="2084" y="369"/>
                    </a:lnTo>
                    <a:lnTo>
                      <a:pt x="2051" y="516"/>
                    </a:lnTo>
                    <a:lnTo>
                      <a:pt x="2021" y="669"/>
                    </a:lnTo>
                    <a:lnTo>
                      <a:pt x="1996" y="824"/>
                    </a:lnTo>
                    <a:lnTo>
                      <a:pt x="1974" y="983"/>
                    </a:lnTo>
                    <a:lnTo>
                      <a:pt x="1955" y="1143"/>
                    </a:lnTo>
                    <a:lnTo>
                      <a:pt x="1937" y="1338"/>
                    </a:lnTo>
                    <a:lnTo>
                      <a:pt x="1930" y="1408"/>
                    </a:lnTo>
                    <a:lnTo>
                      <a:pt x="1925" y="1486"/>
                    </a:lnTo>
                    <a:lnTo>
                      <a:pt x="1922" y="1527"/>
                    </a:lnTo>
                    <a:lnTo>
                      <a:pt x="1919" y="1574"/>
                    </a:lnTo>
                    <a:lnTo>
                      <a:pt x="1917" y="1670"/>
                    </a:lnTo>
                    <a:lnTo>
                      <a:pt x="1914" y="1721"/>
                    </a:lnTo>
                    <a:lnTo>
                      <a:pt x="1913" y="1778"/>
                    </a:lnTo>
                    <a:lnTo>
                      <a:pt x="1913" y="1839"/>
                    </a:lnTo>
                    <a:lnTo>
                      <a:pt x="1913" y="1906"/>
                    </a:lnTo>
                    <a:lnTo>
                      <a:pt x="1913" y="1977"/>
                    </a:lnTo>
                    <a:lnTo>
                      <a:pt x="1914" y="2053"/>
                    </a:lnTo>
                    <a:lnTo>
                      <a:pt x="1917" y="2133"/>
                    </a:lnTo>
                    <a:lnTo>
                      <a:pt x="1919" y="2219"/>
                    </a:lnTo>
                    <a:lnTo>
                      <a:pt x="1919" y="2248"/>
                    </a:lnTo>
                    <a:lnTo>
                      <a:pt x="1921" y="2276"/>
                    </a:lnTo>
                    <a:lnTo>
                      <a:pt x="1921" y="2301"/>
                    </a:lnTo>
                    <a:lnTo>
                      <a:pt x="1923" y="2326"/>
                    </a:lnTo>
                    <a:lnTo>
                      <a:pt x="1852" y="2314"/>
                    </a:lnTo>
                    <a:lnTo>
                      <a:pt x="1780" y="2301"/>
                    </a:lnTo>
                    <a:lnTo>
                      <a:pt x="1637" y="2272"/>
                    </a:lnTo>
                    <a:lnTo>
                      <a:pt x="1494" y="2235"/>
                    </a:lnTo>
                    <a:lnTo>
                      <a:pt x="1423" y="2215"/>
                    </a:lnTo>
                    <a:lnTo>
                      <a:pt x="1351" y="2194"/>
                    </a:lnTo>
                    <a:lnTo>
                      <a:pt x="1205" y="2143"/>
                    </a:lnTo>
                    <a:lnTo>
                      <a:pt x="1134" y="2117"/>
                    </a:lnTo>
                    <a:lnTo>
                      <a:pt x="1062" y="2089"/>
                    </a:lnTo>
                    <a:lnTo>
                      <a:pt x="988" y="2059"/>
                    </a:lnTo>
                    <a:lnTo>
                      <a:pt x="917" y="2027"/>
                    </a:lnTo>
                    <a:lnTo>
                      <a:pt x="879" y="2010"/>
                    </a:lnTo>
                    <a:lnTo>
                      <a:pt x="844" y="1994"/>
                    </a:lnTo>
                    <a:lnTo>
                      <a:pt x="772" y="1959"/>
                    </a:lnTo>
                    <a:lnTo>
                      <a:pt x="756" y="1951"/>
                    </a:lnTo>
                    <a:lnTo>
                      <a:pt x="751" y="1924"/>
                    </a:lnTo>
                    <a:lnTo>
                      <a:pt x="738" y="1882"/>
                    </a:lnTo>
                    <a:lnTo>
                      <a:pt x="730" y="1864"/>
                    </a:lnTo>
                    <a:lnTo>
                      <a:pt x="720" y="1848"/>
                    </a:lnTo>
                    <a:lnTo>
                      <a:pt x="697" y="1818"/>
                    </a:lnTo>
                    <a:lnTo>
                      <a:pt x="682" y="1804"/>
                    </a:lnTo>
                    <a:lnTo>
                      <a:pt x="667" y="1794"/>
                    </a:lnTo>
                    <a:lnTo>
                      <a:pt x="633" y="1774"/>
                    </a:lnTo>
                    <a:lnTo>
                      <a:pt x="599" y="1762"/>
                    </a:lnTo>
                    <a:lnTo>
                      <a:pt x="561" y="1758"/>
                    </a:lnTo>
                    <a:lnTo>
                      <a:pt x="543" y="1759"/>
                    </a:lnTo>
                    <a:lnTo>
                      <a:pt x="526" y="1763"/>
                    </a:lnTo>
                    <a:lnTo>
                      <a:pt x="520" y="1763"/>
                    </a:lnTo>
                    <a:lnTo>
                      <a:pt x="515" y="1766"/>
                    </a:lnTo>
                    <a:lnTo>
                      <a:pt x="502" y="1772"/>
                    </a:lnTo>
                    <a:lnTo>
                      <a:pt x="485" y="1782"/>
                    </a:lnTo>
                    <a:lnTo>
                      <a:pt x="474" y="1787"/>
                    </a:lnTo>
                    <a:lnTo>
                      <a:pt x="465" y="1795"/>
                    </a:lnTo>
                    <a:lnTo>
                      <a:pt x="336" y="1717"/>
                    </a:lnTo>
                    <a:lnTo>
                      <a:pt x="239" y="1657"/>
                    </a:lnTo>
                    <a:lnTo>
                      <a:pt x="233" y="1653"/>
                    </a:lnTo>
                    <a:lnTo>
                      <a:pt x="225" y="1582"/>
                    </a:lnTo>
                    <a:lnTo>
                      <a:pt x="220" y="1514"/>
                    </a:lnTo>
                    <a:lnTo>
                      <a:pt x="214" y="1448"/>
                    </a:lnTo>
                    <a:lnTo>
                      <a:pt x="213" y="1384"/>
                    </a:lnTo>
                    <a:lnTo>
                      <a:pt x="210" y="1321"/>
                    </a:lnTo>
                    <a:lnTo>
                      <a:pt x="212" y="1260"/>
                    </a:lnTo>
                    <a:lnTo>
                      <a:pt x="213" y="1200"/>
                    </a:lnTo>
                    <a:lnTo>
                      <a:pt x="217" y="1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42400" y="476280"/>
                <a:ext cx="295200" cy="766800"/>
              </a:xfrm>
              <a:custGeom>
                <a:avLst/>
                <a:gdLst/>
                <a:ahLst/>
                <a:rect l="l" t="t" r="r" b="b"/>
                <a:pathLst>
                  <a:path w="1949" h="5043">
                    <a:moveTo>
                      <a:pt x="1804" y="1628"/>
                    </a:moveTo>
                    <a:lnTo>
                      <a:pt x="1788" y="1551"/>
                    </a:lnTo>
                    <a:lnTo>
                      <a:pt x="1770" y="1473"/>
                    </a:lnTo>
                    <a:lnTo>
                      <a:pt x="1752" y="1399"/>
                    </a:lnTo>
                    <a:lnTo>
                      <a:pt x="1646" y="1434"/>
                    </a:lnTo>
                    <a:lnTo>
                      <a:pt x="1542" y="1472"/>
                    </a:lnTo>
                    <a:lnTo>
                      <a:pt x="1470" y="1497"/>
                    </a:lnTo>
                    <a:lnTo>
                      <a:pt x="1400" y="1525"/>
                    </a:lnTo>
                    <a:lnTo>
                      <a:pt x="1328" y="1553"/>
                    </a:lnTo>
                    <a:lnTo>
                      <a:pt x="1258" y="1583"/>
                    </a:lnTo>
                    <a:lnTo>
                      <a:pt x="1114" y="1646"/>
                    </a:lnTo>
                    <a:lnTo>
                      <a:pt x="971" y="1713"/>
                    </a:lnTo>
                    <a:lnTo>
                      <a:pt x="907" y="1744"/>
                    </a:lnTo>
                    <a:lnTo>
                      <a:pt x="727" y="1832"/>
                    </a:lnTo>
                    <a:lnTo>
                      <a:pt x="907" y="1917"/>
                    </a:lnTo>
                    <a:lnTo>
                      <a:pt x="969" y="1948"/>
                    </a:lnTo>
                    <a:lnTo>
                      <a:pt x="1091" y="1888"/>
                    </a:lnTo>
                    <a:lnTo>
                      <a:pt x="1213" y="1832"/>
                    </a:lnTo>
                    <a:lnTo>
                      <a:pt x="1313" y="1786"/>
                    </a:lnTo>
                    <a:lnTo>
                      <a:pt x="1413" y="1745"/>
                    </a:lnTo>
                    <a:lnTo>
                      <a:pt x="1511" y="1704"/>
                    </a:lnTo>
                    <a:lnTo>
                      <a:pt x="1611" y="1667"/>
                    </a:lnTo>
                    <a:lnTo>
                      <a:pt x="1632" y="1785"/>
                    </a:lnTo>
                    <a:lnTo>
                      <a:pt x="1646" y="1873"/>
                    </a:lnTo>
                    <a:lnTo>
                      <a:pt x="1662" y="1966"/>
                    </a:lnTo>
                    <a:lnTo>
                      <a:pt x="1673" y="2051"/>
                    </a:lnTo>
                    <a:lnTo>
                      <a:pt x="1685" y="2138"/>
                    </a:lnTo>
                    <a:lnTo>
                      <a:pt x="1694" y="2227"/>
                    </a:lnTo>
                    <a:lnTo>
                      <a:pt x="1705" y="2319"/>
                    </a:lnTo>
                    <a:lnTo>
                      <a:pt x="1717" y="2450"/>
                    </a:lnTo>
                    <a:lnTo>
                      <a:pt x="1727" y="2586"/>
                    </a:lnTo>
                    <a:lnTo>
                      <a:pt x="1730" y="2662"/>
                    </a:lnTo>
                    <a:lnTo>
                      <a:pt x="1734" y="2740"/>
                    </a:lnTo>
                    <a:lnTo>
                      <a:pt x="1740" y="2898"/>
                    </a:lnTo>
                    <a:lnTo>
                      <a:pt x="1744" y="3058"/>
                    </a:lnTo>
                    <a:lnTo>
                      <a:pt x="1747" y="3222"/>
                    </a:lnTo>
                    <a:lnTo>
                      <a:pt x="1744" y="3385"/>
                    </a:lnTo>
                    <a:lnTo>
                      <a:pt x="1742" y="3466"/>
                    </a:lnTo>
                    <a:lnTo>
                      <a:pt x="1740" y="3506"/>
                    </a:lnTo>
                    <a:lnTo>
                      <a:pt x="1740" y="3547"/>
                    </a:lnTo>
                    <a:lnTo>
                      <a:pt x="1738" y="3585"/>
                    </a:lnTo>
                    <a:lnTo>
                      <a:pt x="1737" y="3625"/>
                    </a:lnTo>
                    <a:lnTo>
                      <a:pt x="1734" y="3704"/>
                    </a:lnTo>
                    <a:lnTo>
                      <a:pt x="1726" y="3861"/>
                    </a:lnTo>
                    <a:lnTo>
                      <a:pt x="1721" y="3926"/>
                    </a:lnTo>
                    <a:lnTo>
                      <a:pt x="1717" y="3992"/>
                    </a:lnTo>
                    <a:lnTo>
                      <a:pt x="1711" y="4061"/>
                    </a:lnTo>
                    <a:lnTo>
                      <a:pt x="1707" y="4095"/>
                    </a:lnTo>
                    <a:lnTo>
                      <a:pt x="1705" y="4130"/>
                    </a:lnTo>
                    <a:lnTo>
                      <a:pt x="1690" y="4258"/>
                    </a:lnTo>
                    <a:lnTo>
                      <a:pt x="1682" y="4327"/>
                    </a:lnTo>
                    <a:lnTo>
                      <a:pt x="1678" y="4360"/>
                    </a:lnTo>
                    <a:lnTo>
                      <a:pt x="1662" y="4468"/>
                    </a:lnTo>
                    <a:lnTo>
                      <a:pt x="1646" y="4574"/>
                    </a:lnTo>
                    <a:lnTo>
                      <a:pt x="1628" y="4678"/>
                    </a:lnTo>
                    <a:lnTo>
                      <a:pt x="1609" y="4783"/>
                    </a:lnTo>
                    <a:lnTo>
                      <a:pt x="1510" y="4743"/>
                    </a:lnTo>
                    <a:lnTo>
                      <a:pt x="1412" y="4702"/>
                    </a:lnTo>
                    <a:lnTo>
                      <a:pt x="1311" y="4660"/>
                    </a:lnTo>
                    <a:lnTo>
                      <a:pt x="1261" y="4637"/>
                    </a:lnTo>
                    <a:lnTo>
                      <a:pt x="1212" y="4616"/>
                    </a:lnTo>
                    <a:lnTo>
                      <a:pt x="1090" y="4559"/>
                    </a:lnTo>
                    <a:lnTo>
                      <a:pt x="969" y="4501"/>
                    </a:lnTo>
                    <a:lnTo>
                      <a:pt x="934" y="4482"/>
                    </a:lnTo>
                    <a:lnTo>
                      <a:pt x="899" y="4465"/>
                    </a:lnTo>
                    <a:lnTo>
                      <a:pt x="830" y="4430"/>
                    </a:lnTo>
                    <a:lnTo>
                      <a:pt x="760" y="4393"/>
                    </a:lnTo>
                    <a:lnTo>
                      <a:pt x="691" y="4358"/>
                    </a:lnTo>
                    <a:lnTo>
                      <a:pt x="620" y="4318"/>
                    </a:lnTo>
                    <a:lnTo>
                      <a:pt x="601" y="4307"/>
                    </a:lnTo>
                    <a:lnTo>
                      <a:pt x="592" y="4302"/>
                    </a:lnTo>
                    <a:lnTo>
                      <a:pt x="584" y="4298"/>
                    </a:lnTo>
                    <a:lnTo>
                      <a:pt x="549" y="4279"/>
                    </a:lnTo>
                    <a:lnTo>
                      <a:pt x="478" y="4240"/>
                    </a:lnTo>
                    <a:lnTo>
                      <a:pt x="408" y="4200"/>
                    </a:lnTo>
                    <a:lnTo>
                      <a:pt x="400" y="4195"/>
                    </a:lnTo>
                    <a:lnTo>
                      <a:pt x="396" y="4192"/>
                    </a:lnTo>
                    <a:lnTo>
                      <a:pt x="393" y="4191"/>
                    </a:lnTo>
                    <a:lnTo>
                      <a:pt x="384" y="4185"/>
                    </a:lnTo>
                    <a:lnTo>
                      <a:pt x="376" y="4181"/>
                    </a:lnTo>
                    <a:lnTo>
                      <a:pt x="357" y="4171"/>
                    </a:lnTo>
                    <a:lnTo>
                      <a:pt x="347" y="4164"/>
                    </a:lnTo>
                    <a:lnTo>
                      <a:pt x="337" y="4159"/>
                    </a:lnTo>
                    <a:lnTo>
                      <a:pt x="314" y="4144"/>
                    </a:lnTo>
                    <a:lnTo>
                      <a:pt x="300" y="4136"/>
                    </a:lnTo>
                    <a:lnTo>
                      <a:pt x="296" y="4134"/>
                    </a:lnTo>
                    <a:lnTo>
                      <a:pt x="294" y="4132"/>
                    </a:lnTo>
                    <a:lnTo>
                      <a:pt x="288" y="4130"/>
                    </a:lnTo>
                    <a:lnTo>
                      <a:pt x="261" y="4114"/>
                    </a:lnTo>
                    <a:lnTo>
                      <a:pt x="253" y="4109"/>
                    </a:lnTo>
                    <a:lnTo>
                      <a:pt x="249" y="4106"/>
                    </a:lnTo>
                    <a:lnTo>
                      <a:pt x="246" y="4105"/>
                    </a:lnTo>
                    <a:lnTo>
                      <a:pt x="233" y="4097"/>
                    </a:lnTo>
                    <a:lnTo>
                      <a:pt x="230" y="4082"/>
                    </a:lnTo>
                    <a:lnTo>
                      <a:pt x="229" y="4077"/>
                    </a:lnTo>
                    <a:lnTo>
                      <a:pt x="229" y="4073"/>
                    </a:lnTo>
                    <a:lnTo>
                      <a:pt x="229" y="4065"/>
                    </a:lnTo>
                    <a:lnTo>
                      <a:pt x="229" y="4063"/>
                    </a:lnTo>
                    <a:lnTo>
                      <a:pt x="230" y="4063"/>
                    </a:lnTo>
                    <a:lnTo>
                      <a:pt x="233" y="4063"/>
                    </a:lnTo>
                    <a:lnTo>
                      <a:pt x="233" y="4062"/>
                    </a:lnTo>
                    <a:lnTo>
                      <a:pt x="234" y="4062"/>
                    </a:lnTo>
                    <a:lnTo>
                      <a:pt x="237" y="4062"/>
                    </a:lnTo>
                    <a:lnTo>
                      <a:pt x="237" y="4061"/>
                    </a:lnTo>
                    <a:lnTo>
                      <a:pt x="234" y="4040"/>
                    </a:lnTo>
                    <a:lnTo>
                      <a:pt x="234" y="4017"/>
                    </a:lnTo>
                    <a:lnTo>
                      <a:pt x="231" y="3992"/>
                    </a:lnTo>
                    <a:lnTo>
                      <a:pt x="231" y="3967"/>
                    </a:lnTo>
                    <a:lnTo>
                      <a:pt x="229" y="3936"/>
                    </a:lnTo>
                    <a:lnTo>
                      <a:pt x="229" y="3906"/>
                    </a:lnTo>
                    <a:lnTo>
                      <a:pt x="226" y="3873"/>
                    </a:lnTo>
                    <a:lnTo>
                      <a:pt x="226" y="3838"/>
                    </a:lnTo>
                    <a:lnTo>
                      <a:pt x="223" y="3800"/>
                    </a:lnTo>
                    <a:lnTo>
                      <a:pt x="223" y="3760"/>
                    </a:lnTo>
                    <a:lnTo>
                      <a:pt x="221" y="3718"/>
                    </a:lnTo>
                    <a:lnTo>
                      <a:pt x="221" y="3674"/>
                    </a:lnTo>
                    <a:lnTo>
                      <a:pt x="218" y="3628"/>
                    </a:lnTo>
                    <a:lnTo>
                      <a:pt x="218" y="3579"/>
                    </a:lnTo>
                    <a:lnTo>
                      <a:pt x="217" y="3552"/>
                    </a:lnTo>
                    <a:lnTo>
                      <a:pt x="217" y="3527"/>
                    </a:lnTo>
                    <a:lnTo>
                      <a:pt x="217" y="3475"/>
                    </a:lnTo>
                    <a:lnTo>
                      <a:pt x="213" y="3367"/>
                    </a:lnTo>
                    <a:lnTo>
                      <a:pt x="212" y="3265"/>
                    </a:lnTo>
                    <a:lnTo>
                      <a:pt x="210" y="3165"/>
                    </a:lnTo>
                    <a:lnTo>
                      <a:pt x="212" y="3071"/>
                    </a:lnTo>
                    <a:lnTo>
                      <a:pt x="213" y="2980"/>
                    </a:lnTo>
                    <a:lnTo>
                      <a:pt x="216" y="2894"/>
                    </a:lnTo>
                    <a:lnTo>
                      <a:pt x="219" y="2810"/>
                    </a:lnTo>
                    <a:lnTo>
                      <a:pt x="225" y="2733"/>
                    </a:lnTo>
                    <a:lnTo>
                      <a:pt x="231" y="2614"/>
                    </a:lnTo>
                    <a:lnTo>
                      <a:pt x="243" y="2499"/>
                    </a:lnTo>
                    <a:lnTo>
                      <a:pt x="246" y="2467"/>
                    </a:lnTo>
                    <a:lnTo>
                      <a:pt x="266" y="2284"/>
                    </a:lnTo>
                    <a:lnTo>
                      <a:pt x="272" y="2232"/>
                    </a:lnTo>
                    <a:lnTo>
                      <a:pt x="287" y="2120"/>
                    </a:lnTo>
                    <a:lnTo>
                      <a:pt x="304" y="2010"/>
                    </a:lnTo>
                    <a:lnTo>
                      <a:pt x="323" y="1901"/>
                    </a:lnTo>
                    <a:lnTo>
                      <a:pt x="344" y="1797"/>
                    </a:lnTo>
                    <a:lnTo>
                      <a:pt x="364" y="1700"/>
                    </a:lnTo>
                    <a:lnTo>
                      <a:pt x="367" y="1688"/>
                    </a:lnTo>
                    <a:lnTo>
                      <a:pt x="386" y="1594"/>
                    </a:lnTo>
                    <a:lnTo>
                      <a:pt x="410" y="1502"/>
                    </a:lnTo>
                    <a:lnTo>
                      <a:pt x="410" y="1500"/>
                    </a:lnTo>
                    <a:lnTo>
                      <a:pt x="413" y="1496"/>
                    </a:lnTo>
                    <a:lnTo>
                      <a:pt x="416" y="1491"/>
                    </a:lnTo>
                    <a:lnTo>
                      <a:pt x="421" y="1484"/>
                    </a:lnTo>
                    <a:lnTo>
                      <a:pt x="422" y="1473"/>
                    </a:lnTo>
                    <a:lnTo>
                      <a:pt x="428" y="1457"/>
                    </a:lnTo>
                    <a:lnTo>
                      <a:pt x="434" y="1434"/>
                    </a:lnTo>
                    <a:lnTo>
                      <a:pt x="439" y="1420"/>
                    </a:lnTo>
                    <a:lnTo>
                      <a:pt x="445" y="1406"/>
                    </a:lnTo>
                    <a:lnTo>
                      <a:pt x="455" y="1369"/>
                    </a:lnTo>
                    <a:lnTo>
                      <a:pt x="462" y="1349"/>
                    </a:lnTo>
                    <a:lnTo>
                      <a:pt x="470" y="1328"/>
                    </a:lnTo>
                    <a:lnTo>
                      <a:pt x="478" y="1304"/>
                    </a:lnTo>
                    <a:lnTo>
                      <a:pt x="486" y="1279"/>
                    </a:lnTo>
                    <a:lnTo>
                      <a:pt x="495" y="1252"/>
                    </a:lnTo>
                    <a:lnTo>
                      <a:pt x="506" y="1224"/>
                    </a:lnTo>
                    <a:lnTo>
                      <a:pt x="516" y="1188"/>
                    </a:lnTo>
                    <a:lnTo>
                      <a:pt x="528" y="1151"/>
                    </a:lnTo>
                    <a:lnTo>
                      <a:pt x="541" y="1113"/>
                    </a:lnTo>
                    <a:lnTo>
                      <a:pt x="556" y="1072"/>
                    </a:lnTo>
                    <a:lnTo>
                      <a:pt x="571" y="1028"/>
                    </a:lnTo>
                    <a:lnTo>
                      <a:pt x="586" y="983"/>
                    </a:lnTo>
                    <a:lnTo>
                      <a:pt x="602" y="935"/>
                    </a:lnTo>
                    <a:lnTo>
                      <a:pt x="620" y="886"/>
                    </a:lnTo>
                    <a:lnTo>
                      <a:pt x="661" y="771"/>
                    </a:lnTo>
                    <a:lnTo>
                      <a:pt x="704" y="662"/>
                    </a:lnTo>
                    <a:lnTo>
                      <a:pt x="751" y="559"/>
                    </a:lnTo>
                    <a:lnTo>
                      <a:pt x="775" y="510"/>
                    </a:lnTo>
                    <a:lnTo>
                      <a:pt x="801" y="464"/>
                    </a:lnTo>
                    <a:lnTo>
                      <a:pt x="853" y="374"/>
                    </a:lnTo>
                    <a:lnTo>
                      <a:pt x="879" y="330"/>
                    </a:lnTo>
                    <a:lnTo>
                      <a:pt x="908" y="290"/>
                    </a:lnTo>
                    <a:lnTo>
                      <a:pt x="936" y="250"/>
                    </a:lnTo>
                    <a:lnTo>
                      <a:pt x="967" y="213"/>
                    </a:lnTo>
                    <a:lnTo>
                      <a:pt x="1029" y="143"/>
                    </a:lnTo>
                    <a:lnTo>
                      <a:pt x="822" y="0"/>
                    </a:lnTo>
                    <a:lnTo>
                      <a:pt x="753" y="106"/>
                    </a:lnTo>
                    <a:lnTo>
                      <a:pt x="691" y="211"/>
                    </a:lnTo>
                    <a:lnTo>
                      <a:pt x="632" y="314"/>
                    </a:lnTo>
                    <a:lnTo>
                      <a:pt x="604" y="364"/>
                    </a:lnTo>
                    <a:lnTo>
                      <a:pt x="579" y="416"/>
                    </a:lnTo>
                    <a:lnTo>
                      <a:pt x="527" y="515"/>
                    </a:lnTo>
                    <a:lnTo>
                      <a:pt x="482" y="613"/>
                    </a:lnTo>
                    <a:lnTo>
                      <a:pt x="441" y="710"/>
                    </a:lnTo>
                    <a:lnTo>
                      <a:pt x="405" y="807"/>
                    </a:lnTo>
                    <a:lnTo>
                      <a:pt x="390" y="848"/>
                    </a:lnTo>
                    <a:lnTo>
                      <a:pt x="369" y="904"/>
                    </a:lnTo>
                    <a:lnTo>
                      <a:pt x="351" y="958"/>
                    </a:lnTo>
                    <a:lnTo>
                      <a:pt x="333" y="1010"/>
                    </a:lnTo>
                    <a:lnTo>
                      <a:pt x="318" y="1059"/>
                    </a:lnTo>
                    <a:lnTo>
                      <a:pt x="302" y="1102"/>
                    </a:lnTo>
                    <a:lnTo>
                      <a:pt x="287" y="1146"/>
                    </a:lnTo>
                    <a:lnTo>
                      <a:pt x="274" y="1186"/>
                    </a:lnTo>
                    <a:lnTo>
                      <a:pt x="263" y="1224"/>
                    </a:lnTo>
                    <a:lnTo>
                      <a:pt x="243" y="1280"/>
                    </a:lnTo>
                    <a:lnTo>
                      <a:pt x="235" y="1305"/>
                    </a:lnTo>
                    <a:lnTo>
                      <a:pt x="229" y="1329"/>
                    </a:lnTo>
                    <a:lnTo>
                      <a:pt x="222" y="1350"/>
                    </a:lnTo>
                    <a:lnTo>
                      <a:pt x="217" y="1370"/>
                    </a:lnTo>
                    <a:lnTo>
                      <a:pt x="212" y="1387"/>
                    </a:lnTo>
                    <a:lnTo>
                      <a:pt x="209" y="1403"/>
                    </a:lnTo>
                    <a:lnTo>
                      <a:pt x="208" y="1408"/>
                    </a:lnTo>
                    <a:lnTo>
                      <a:pt x="204" y="1419"/>
                    </a:lnTo>
                    <a:lnTo>
                      <a:pt x="197" y="1448"/>
                    </a:lnTo>
                    <a:lnTo>
                      <a:pt x="186" y="1491"/>
                    </a:lnTo>
                    <a:lnTo>
                      <a:pt x="173" y="1544"/>
                    </a:lnTo>
                    <a:lnTo>
                      <a:pt x="155" y="1624"/>
                    </a:lnTo>
                    <a:lnTo>
                      <a:pt x="152" y="1636"/>
                    </a:lnTo>
                    <a:lnTo>
                      <a:pt x="151" y="1647"/>
                    </a:lnTo>
                    <a:lnTo>
                      <a:pt x="123" y="1773"/>
                    </a:lnTo>
                    <a:lnTo>
                      <a:pt x="100" y="1901"/>
                    </a:lnTo>
                    <a:lnTo>
                      <a:pt x="78" y="2032"/>
                    </a:lnTo>
                    <a:lnTo>
                      <a:pt x="61" y="2169"/>
                    </a:lnTo>
                    <a:lnTo>
                      <a:pt x="47" y="2284"/>
                    </a:lnTo>
                    <a:lnTo>
                      <a:pt x="39" y="2342"/>
                    </a:lnTo>
                    <a:lnTo>
                      <a:pt x="34" y="2403"/>
                    </a:lnTo>
                    <a:lnTo>
                      <a:pt x="31" y="2435"/>
                    </a:lnTo>
                    <a:lnTo>
                      <a:pt x="27" y="2482"/>
                    </a:lnTo>
                    <a:lnTo>
                      <a:pt x="18" y="2574"/>
                    </a:lnTo>
                    <a:lnTo>
                      <a:pt x="13" y="2670"/>
                    </a:lnTo>
                    <a:lnTo>
                      <a:pt x="8" y="2747"/>
                    </a:lnTo>
                    <a:lnTo>
                      <a:pt x="5" y="2831"/>
                    </a:lnTo>
                    <a:lnTo>
                      <a:pt x="2" y="2894"/>
                    </a:lnTo>
                    <a:lnTo>
                      <a:pt x="1" y="2961"/>
                    </a:lnTo>
                    <a:lnTo>
                      <a:pt x="0" y="3029"/>
                    </a:lnTo>
                    <a:lnTo>
                      <a:pt x="0" y="3102"/>
                    </a:lnTo>
                    <a:lnTo>
                      <a:pt x="1" y="3251"/>
                    </a:lnTo>
                    <a:lnTo>
                      <a:pt x="5" y="3412"/>
                    </a:lnTo>
                    <a:lnTo>
                      <a:pt x="6" y="3475"/>
                    </a:lnTo>
                    <a:lnTo>
                      <a:pt x="11" y="3711"/>
                    </a:lnTo>
                    <a:lnTo>
                      <a:pt x="17" y="3961"/>
                    </a:lnTo>
                    <a:lnTo>
                      <a:pt x="19" y="4087"/>
                    </a:lnTo>
                    <a:lnTo>
                      <a:pt x="23" y="4216"/>
                    </a:lnTo>
                    <a:lnTo>
                      <a:pt x="104" y="4265"/>
                    </a:lnTo>
                    <a:lnTo>
                      <a:pt x="201" y="4323"/>
                    </a:lnTo>
                    <a:lnTo>
                      <a:pt x="300" y="4381"/>
                    </a:lnTo>
                    <a:lnTo>
                      <a:pt x="406" y="4442"/>
                    </a:lnTo>
                    <a:lnTo>
                      <a:pt x="515" y="4502"/>
                    </a:lnTo>
                    <a:lnTo>
                      <a:pt x="621" y="4559"/>
                    </a:lnTo>
                    <a:lnTo>
                      <a:pt x="728" y="4615"/>
                    </a:lnTo>
                    <a:lnTo>
                      <a:pt x="878" y="4689"/>
                    </a:lnTo>
                    <a:lnTo>
                      <a:pt x="971" y="4734"/>
                    </a:lnTo>
                    <a:lnTo>
                      <a:pt x="1114" y="4799"/>
                    </a:lnTo>
                    <a:lnTo>
                      <a:pt x="1257" y="4861"/>
                    </a:lnTo>
                    <a:lnTo>
                      <a:pt x="1327" y="4890"/>
                    </a:lnTo>
                    <a:lnTo>
                      <a:pt x="1399" y="4919"/>
                    </a:lnTo>
                    <a:lnTo>
                      <a:pt x="1433" y="4933"/>
                    </a:lnTo>
                    <a:lnTo>
                      <a:pt x="1441" y="4935"/>
                    </a:lnTo>
                    <a:lnTo>
                      <a:pt x="1445" y="4937"/>
                    </a:lnTo>
                    <a:lnTo>
                      <a:pt x="1450" y="4939"/>
                    </a:lnTo>
                    <a:lnTo>
                      <a:pt x="1469" y="4947"/>
                    </a:lnTo>
                    <a:lnTo>
                      <a:pt x="1540" y="4975"/>
                    </a:lnTo>
                    <a:lnTo>
                      <a:pt x="1571" y="4986"/>
                    </a:lnTo>
                    <a:lnTo>
                      <a:pt x="1652" y="5015"/>
                    </a:lnTo>
                    <a:lnTo>
                      <a:pt x="1734" y="5043"/>
                    </a:lnTo>
                    <a:lnTo>
                      <a:pt x="1787" y="4897"/>
                    </a:lnTo>
                    <a:lnTo>
                      <a:pt x="1803" y="4820"/>
                    </a:lnTo>
                    <a:lnTo>
                      <a:pt x="1809" y="4778"/>
                    </a:lnTo>
                    <a:lnTo>
                      <a:pt x="1817" y="4737"/>
                    </a:lnTo>
                    <a:lnTo>
                      <a:pt x="1833" y="4653"/>
                    </a:lnTo>
                    <a:lnTo>
                      <a:pt x="1846" y="4568"/>
                    </a:lnTo>
                    <a:lnTo>
                      <a:pt x="1861" y="4483"/>
                    </a:lnTo>
                    <a:lnTo>
                      <a:pt x="1873" y="4396"/>
                    </a:lnTo>
                    <a:lnTo>
                      <a:pt x="1885" y="4309"/>
                    </a:lnTo>
                    <a:lnTo>
                      <a:pt x="1896" y="4219"/>
                    </a:lnTo>
                    <a:lnTo>
                      <a:pt x="1906" y="4130"/>
                    </a:lnTo>
                    <a:lnTo>
                      <a:pt x="1917" y="3996"/>
                    </a:lnTo>
                    <a:lnTo>
                      <a:pt x="1927" y="3861"/>
                    </a:lnTo>
                    <a:lnTo>
                      <a:pt x="1935" y="3704"/>
                    </a:lnTo>
                    <a:lnTo>
                      <a:pt x="1938" y="3625"/>
                    </a:lnTo>
                    <a:lnTo>
                      <a:pt x="1939" y="3585"/>
                    </a:lnTo>
                    <a:lnTo>
                      <a:pt x="1942" y="3547"/>
                    </a:lnTo>
                    <a:lnTo>
                      <a:pt x="1942" y="3506"/>
                    </a:lnTo>
                    <a:lnTo>
                      <a:pt x="1943" y="3466"/>
                    </a:lnTo>
                    <a:lnTo>
                      <a:pt x="1946" y="3385"/>
                    </a:lnTo>
                    <a:lnTo>
                      <a:pt x="1949" y="3222"/>
                    </a:lnTo>
                    <a:lnTo>
                      <a:pt x="1946" y="3058"/>
                    </a:lnTo>
                    <a:lnTo>
                      <a:pt x="1942" y="2898"/>
                    </a:lnTo>
                    <a:lnTo>
                      <a:pt x="1935" y="2740"/>
                    </a:lnTo>
                    <a:lnTo>
                      <a:pt x="1931" y="2662"/>
                    </a:lnTo>
                    <a:lnTo>
                      <a:pt x="1929" y="2586"/>
                    </a:lnTo>
                    <a:lnTo>
                      <a:pt x="1918" y="2450"/>
                    </a:lnTo>
                    <a:lnTo>
                      <a:pt x="1906" y="2319"/>
                    </a:lnTo>
                    <a:lnTo>
                      <a:pt x="1905" y="2296"/>
                    </a:lnTo>
                    <a:lnTo>
                      <a:pt x="1889" y="2162"/>
                    </a:lnTo>
                    <a:lnTo>
                      <a:pt x="1876" y="2063"/>
                    </a:lnTo>
                    <a:lnTo>
                      <a:pt x="1864" y="1966"/>
                    </a:lnTo>
                    <a:lnTo>
                      <a:pt x="1848" y="1873"/>
                    </a:lnTo>
                    <a:lnTo>
                      <a:pt x="1833" y="1785"/>
                    </a:lnTo>
                    <a:lnTo>
                      <a:pt x="1827" y="1749"/>
                    </a:lnTo>
                    <a:lnTo>
                      <a:pt x="1804" y="16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112240" y="404640"/>
                <a:ext cx="539640" cy="662040"/>
              </a:xfrm>
              <a:custGeom>
                <a:avLst/>
                <a:gdLst/>
                <a:ahLst/>
                <a:rect l="l" t="t" r="r" b="b"/>
                <a:pathLst>
                  <a:path w="3553" h="4362">
                    <a:moveTo>
                      <a:pt x="964" y="7"/>
                    </a:moveTo>
                    <a:lnTo>
                      <a:pt x="964" y="4"/>
                    </a:lnTo>
                    <a:lnTo>
                      <a:pt x="892" y="0"/>
                    </a:lnTo>
                    <a:lnTo>
                      <a:pt x="821" y="0"/>
                    </a:lnTo>
                    <a:lnTo>
                      <a:pt x="752" y="0"/>
                    </a:lnTo>
                    <a:lnTo>
                      <a:pt x="686" y="3"/>
                    </a:lnTo>
                    <a:lnTo>
                      <a:pt x="620" y="5"/>
                    </a:lnTo>
                    <a:lnTo>
                      <a:pt x="556" y="12"/>
                    </a:lnTo>
                    <a:lnTo>
                      <a:pt x="493" y="19"/>
                    </a:lnTo>
                    <a:lnTo>
                      <a:pt x="433" y="28"/>
                    </a:lnTo>
                    <a:lnTo>
                      <a:pt x="372" y="37"/>
                    </a:lnTo>
                    <a:lnTo>
                      <a:pt x="315" y="49"/>
                    </a:lnTo>
                    <a:lnTo>
                      <a:pt x="258" y="62"/>
                    </a:lnTo>
                    <a:lnTo>
                      <a:pt x="204" y="78"/>
                    </a:lnTo>
                    <a:lnTo>
                      <a:pt x="150" y="94"/>
                    </a:lnTo>
                    <a:lnTo>
                      <a:pt x="98" y="114"/>
                    </a:lnTo>
                    <a:lnTo>
                      <a:pt x="48" y="134"/>
                    </a:lnTo>
                    <a:lnTo>
                      <a:pt x="0" y="156"/>
                    </a:lnTo>
                    <a:lnTo>
                      <a:pt x="38" y="159"/>
                    </a:lnTo>
                    <a:lnTo>
                      <a:pt x="77" y="164"/>
                    </a:lnTo>
                    <a:lnTo>
                      <a:pt x="114" y="171"/>
                    </a:lnTo>
                    <a:lnTo>
                      <a:pt x="152" y="180"/>
                    </a:lnTo>
                    <a:lnTo>
                      <a:pt x="188" y="189"/>
                    </a:lnTo>
                    <a:lnTo>
                      <a:pt x="225" y="203"/>
                    </a:lnTo>
                    <a:lnTo>
                      <a:pt x="260" y="216"/>
                    </a:lnTo>
                    <a:lnTo>
                      <a:pt x="295" y="232"/>
                    </a:lnTo>
                    <a:lnTo>
                      <a:pt x="329" y="248"/>
                    </a:lnTo>
                    <a:lnTo>
                      <a:pt x="362" y="266"/>
                    </a:lnTo>
                    <a:lnTo>
                      <a:pt x="393" y="285"/>
                    </a:lnTo>
                    <a:lnTo>
                      <a:pt x="427" y="307"/>
                    </a:lnTo>
                    <a:lnTo>
                      <a:pt x="457" y="330"/>
                    </a:lnTo>
                    <a:lnTo>
                      <a:pt x="489" y="355"/>
                    </a:lnTo>
                    <a:lnTo>
                      <a:pt x="518" y="380"/>
                    </a:lnTo>
                    <a:lnTo>
                      <a:pt x="548" y="409"/>
                    </a:lnTo>
                    <a:lnTo>
                      <a:pt x="677" y="286"/>
                    </a:lnTo>
                    <a:lnTo>
                      <a:pt x="730" y="305"/>
                    </a:lnTo>
                    <a:lnTo>
                      <a:pt x="756" y="315"/>
                    </a:lnTo>
                    <a:lnTo>
                      <a:pt x="784" y="330"/>
                    </a:lnTo>
                    <a:lnTo>
                      <a:pt x="837" y="360"/>
                    </a:lnTo>
                    <a:lnTo>
                      <a:pt x="890" y="397"/>
                    </a:lnTo>
                    <a:lnTo>
                      <a:pt x="941" y="439"/>
                    </a:lnTo>
                    <a:lnTo>
                      <a:pt x="991" y="486"/>
                    </a:lnTo>
                    <a:lnTo>
                      <a:pt x="1015" y="511"/>
                    </a:lnTo>
                    <a:lnTo>
                      <a:pt x="1040" y="539"/>
                    </a:lnTo>
                    <a:lnTo>
                      <a:pt x="1090" y="598"/>
                    </a:lnTo>
                    <a:lnTo>
                      <a:pt x="1113" y="628"/>
                    </a:lnTo>
                    <a:lnTo>
                      <a:pt x="1137" y="661"/>
                    </a:lnTo>
                    <a:lnTo>
                      <a:pt x="1184" y="730"/>
                    </a:lnTo>
                    <a:lnTo>
                      <a:pt x="1229" y="804"/>
                    </a:lnTo>
                    <a:lnTo>
                      <a:pt x="1252" y="844"/>
                    </a:lnTo>
                    <a:lnTo>
                      <a:pt x="1276" y="886"/>
                    </a:lnTo>
                    <a:lnTo>
                      <a:pt x="1297" y="927"/>
                    </a:lnTo>
                    <a:lnTo>
                      <a:pt x="1320" y="971"/>
                    </a:lnTo>
                    <a:lnTo>
                      <a:pt x="1341" y="1016"/>
                    </a:lnTo>
                    <a:lnTo>
                      <a:pt x="1363" y="1064"/>
                    </a:lnTo>
                    <a:lnTo>
                      <a:pt x="1406" y="1162"/>
                    </a:lnTo>
                    <a:lnTo>
                      <a:pt x="1427" y="1212"/>
                    </a:lnTo>
                    <a:lnTo>
                      <a:pt x="1449" y="1265"/>
                    </a:lnTo>
                    <a:lnTo>
                      <a:pt x="1493" y="1386"/>
                    </a:lnTo>
                    <a:lnTo>
                      <a:pt x="1514" y="1447"/>
                    </a:lnTo>
                    <a:lnTo>
                      <a:pt x="1537" y="1510"/>
                    </a:lnTo>
                    <a:lnTo>
                      <a:pt x="1577" y="1639"/>
                    </a:lnTo>
                    <a:lnTo>
                      <a:pt x="1615" y="1770"/>
                    </a:lnTo>
                    <a:lnTo>
                      <a:pt x="1639" y="1864"/>
                    </a:lnTo>
                    <a:lnTo>
                      <a:pt x="1663" y="1962"/>
                    </a:lnTo>
                    <a:lnTo>
                      <a:pt x="1767" y="1932"/>
                    </a:lnTo>
                    <a:lnTo>
                      <a:pt x="1872" y="1907"/>
                    </a:lnTo>
                    <a:lnTo>
                      <a:pt x="1975" y="1884"/>
                    </a:lnTo>
                    <a:lnTo>
                      <a:pt x="2079" y="1864"/>
                    </a:lnTo>
                    <a:lnTo>
                      <a:pt x="2150" y="1850"/>
                    </a:lnTo>
                    <a:lnTo>
                      <a:pt x="2220" y="1838"/>
                    </a:lnTo>
                    <a:lnTo>
                      <a:pt x="2288" y="1827"/>
                    </a:lnTo>
                    <a:lnTo>
                      <a:pt x="2356" y="1820"/>
                    </a:lnTo>
                    <a:lnTo>
                      <a:pt x="2419" y="1812"/>
                    </a:lnTo>
                    <a:lnTo>
                      <a:pt x="2481" y="1808"/>
                    </a:lnTo>
                    <a:lnTo>
                      <a:pt x="2541" y="1805"/>
                    </a:lnTo>
                    <a:lnTo>
                      <a:pt x="2601" y="1805"/>
                    </a:lnTo>
                    <a:lnTo>
                      <a:pt x="2655" y="1803"/>
                    </a:lnTo>
                    <a:lnTo>
                      <a:pt x="2709" y="1806"/>
                    </a:lnTo>
                    <a:lnTo>
                      <a:pt x="2761" y="1808"/>
                    </a:lnTo>
                    <a:lnTo>
                      <a:pt x="2811" y="1815"/>
                    </a:lnTo>
                    <a:lnTo>
                      <a:pt x="2858" y="1820"/>
                    </a:lnTo>
                    <a:lnTo>
                      <a:pt x="2903" y="1830"/>
                    </a:lnTo>
                    <a:lnTo>
                      <a:pt x="2947" y="1839"/>
                    </a:lnTo>
                    <a:lnTo>
                      <a:pt x="2989" y="1852"/>
                    </a:lnTo>
                    <a:lnTo>
                      <a:pt x="2990" y="1868"/>
                    </a:lnTo>
                    <a:lnTo>
                      <a:pt x="2994" y="1885"/>
                    </a:lnTo>
                    <a:lnTo>
                      <a:pt x="2998" y="1900"/>
                    </a:lnTo>
                    <a:lnTo>
                      <a:pt x="3005" y="1916"/>
                    </a:lnTo>
                    <a:lnTo>
                      <a:pt x="3019" y="1945"/>
                    </a:lnTo>
                    <a:lnTo>
                      <a:pt x="3029" y="1958"/>
                    </a:lnTo>
                    <a:lnTo>
                      <a:pt x="3041" y="1973"/>
                    </a:lnTo>
                    <a:lnTo>
                      <a:pt x="3054" y="1986"/>
                    </a:lnTo>
                    <a:lnTo>
                      <a:pt x="3068" y="1998"/>
                    </a:lnTo>
                    <a:lnTo>
                      <a:pt x="3083" y="2009"/>
                    </a:lnTo>
                    <a:lnTo>
                      <a:pt x="3099" y="2018"/>
                    </a:lnTo>
                    <a:lnTo>
                      <a:pt x="3115" y="2024"/>
                    </a:lnTo>
                    <a:lnTo>
                      <a:pt x="3133" y="2030"/>
                    </a:lnTo>
                    <a:lnTo>
                      <a:pt x="3152" y="2032"/>
                    </a:lnTo>
                    <a:lnTo>
                      <a:pt x="3172" y="2034"/>
                    </a:lnTo>
                    <a:lnTo>
                      <a:pt x="3172" y="2032"/>
                    </a:lnTo>
                    <a:lnTo>
                      <a:pt x="3173" y="2032"/>
                    </a:lnTo>
                    <a:lnTo>
                      <a:pt x="3176" y="2032"/>
                    </a:lnTo>
                    <a:lnTo>
                      <a:pt x="3181" y="2032"/>
                    </a:lnTo>
                    <a:lnTo>
                      <a:pt x="3192" y="2032"/>
                    </a:lnTo>
                    <a:lnTo>
                      <a:pt x="3201" y="2030"/>
                    </a:lnTo>
                    <a:lnTo>
                      <a:pt x="3212" y="2028"/>
                    </a:lnTo>
                    <a:lnTo>
                      <a:pt x="3230" y="2022"/>
                    </a:lnTo>
                    <a:lnTo>
                      <a:pt x="3234" y="2019"/>
                    </a:lnTo>
                    <a:lnTo>
                      <a:pt x="3239" y="2018"/>
                    </a:lnTo>
                    <a:lnTo>
                      <a:pt x="3250" y="2015"/>
                    </a:lnTo>
                    <a:lnTo>
                      <a:pt x="3274" y="2046"/>
                    </a:lnTo>
                    <a:lnTo>
                      <a:pt x="3296" y="2080"/>
                    </a:lnTo>
                    <a:lnTo>
                      <a:pt x="3320" y="2132"/>
                    </a:lnTo>
                    <a:lnTo>
                      <a:pt x="3339" y="2186"/>
                    </a:lnTo>
                    <a:lnTo>
                      <a:pt x="3345" y="2214"/>
                    </a:lnTo>
                    <a:lnTo>
                      <a:pt x="3351" y="2243"/>
                    </a:lnTo>
                    <a:lnTo>
                      <a:pt x="3356" y="2303"/>
                    </a:lnTo>
                    <a:lnTo>
                      <a:pt x="3353" y="2365"/>
                    </a:lnTo>
                    <a:lnTo>
                      <a:pt x="3349" y="2397"/>
                    </a:lnTo>
                    <a:lnTo>
                      <a:pt x="3344" y="2431"/>
                    </a:lnTo>
                    <a:lnTo>
                      <a:pt x="3328" y="2499"/>
                    </a:lnTo>
                    <a:lnTo>
                      <a:pt x="3318" y="2535"/>
                    </a:lnTo>
                    <a:lnTo>
                      <a:pt x="3306" y="2572"/>
                    </a:lnTo>
                    <a:lnTo>
                      <a:pt x="3291" y="2607"/>
                    </a:lnTo>
                    <a:lnTo>
                      <a:pt x="3275" y="2645"/>
                    </a:lnTo>
                    <a:lnTo>
                      <a:pt x="3238" y="2723"/>
                    </a:lnTo>
                    <a:lnTo>
                      <a:pt x="3217" y="2761"/>
                    </a:lnTo>
                    <a:lnTo>
                      <a:pt x="3194" y="2801"/>
                    </a:lnTo>
                    <a:lnTo>
                      <a:pt x="3170" y="2842"/>
                    </a:lnTo>
                    <a:lnTo>
                      <a:pt x="3145" y="2884"/>
                    </a:lnTo>
                    <a:lnTo>
                      <a:pt x="3116" y="2925"/>
                    </a:lnTo>
                    <a:lnTo>
                      <a:pt x="3087" y="2969"/>
                    </a:lnTo>
                    <a:lnTo>
                      <a:pt x="3023" y="3058"/>
                    </a:lnTo>
                    <a:lnTo>
                      <a:pt x="2952" y="3149"/>
                    </a:lnTo>
                    <a:lnTo>
                      <a:pt x="2875" y="3243"/>
                    </a:lnTo>
                    <a:lnTo>
                      <a:pt x="2805" y="3320"/>
                    </a:lnTo>
                    <a:lnTo>
                      <a:pt x="2733" y="3398"/>
                    </a:lnTo>
                    <a:lnTo>
                      <a:pt x="2658" y="3475"/>
                    </a:lnTo>
                    <a:lnTo>
                      <a:pt x="2638" y="3494"/>
                    </a:lnTo>
                    <a:lnTo>
                      <a:pt x="2619" y="3514"/>
                    </a:lnTo>
                    <a:lnTo>
                      <a:pt x="2582" y="3553"/>
                    </a:lnTo>
                    <a:lnTo>
                      <a:pt x="2509" y="3622"/>
                    </a:lnTo>
                    <a:lnTo>
                      <a:pt x="2435" y="3693"/>
                    </a:lnTo>
                    <a:lnTo>
                      <a:pt x="2377" y="3742"/>
                    </a:lnTo>
                    <a:lnTo>
                      <a:pt x="2348" y="3765"/>
                    </a:lnTo>
                    <a:lnTo>
                      <a:pt x="2340" y="3771"/>
                    </a:lnTo>
                    <a:lnTo>
                      <a:pt x="2336" y="3773"/>
                    </a:lnTo>
                    <a:lnTo>
                      <a:pt x="2333" y="3777"/>
                    </a:lnTo>
                    <a:lnTo>
                      <a:pt x="2320" y="3791"/>
                    </a:lnTo>
                    <a:lnTo>
                      <a:pt x="2262" y="3838"/>
                    </a:lnTo>
                    <a:lnTo>
                      <a:pt x="2205" y="3886"/>
                    </a:lnTo>
                    <a:lnTo>
                      <a:pt x="2145" y="3931"/>
                    </a:lnTo>
                    <a:lnTo>
                      <a:pt x="2087" y="3975"/>
                    </a:lnTo>
                    <a:lnTo>
                      <a:pt x="2027" y="4017"/>
                    </a:lnTo>
                    <a:lnTo>
                      <a:pt x="1969" y="4060"/>
                    </a:lnTo>
                    <a:lnTo>
                      <a:pt x="1958" y="4362"/>
                    </a:lnTo>
                    <a:lnTo>
                      <a:pt x="2038" y="4297"/>
                    </a:lnTo>
                    <a:lnTo>
                      <a:pt x="2118" y="4233"/>
                    </a:lnTo>
                    <a:lnTo>
                      <a:pt x="2198" y="4167"/>
                    </a:lnTo>
                    <a:lnTo>
                      <a:pt x="2277" y="4102"/>
                    </a:lnTo>
                    <a:lnTo>
                      <a:pt x="2354" y="4034"/>
                    </a:lnTo>
                    <a:lnTo>
                      <a:pt x="2431" y="3967"/>
                    </a:lnTo>
                    <a:lnTo>
                      <a:pt x="2507" y="3898"/>
                    </a:lnTo>
                    <a:lnTo>
                      <a:pt x="2584" y="3830"/>
                    </a:lnTo>
                    <a:lnTo>
                      <a:pt x="2655" y="3761"/>
                    </a:lnTo>
                    <a:lnTo>
                      <a:pt x="2725" y="3693"/>
                    </a:lnTo>
                    <a:lnTo>
                      <a:pt x="2818" y="3594"/>
                    </a:lnTo>
                    <a:lnTo>
                      <a:pt x="2908" y="3496"/>
                    </a:lnTo>
                    <a:lnTo>
                      <a:pt x="2951" y="3446"/>
                    </a:lnTo>
                    <a:lnTo>
                      <a:pt x="2972" y="3421"/>
                    </a:lnTo>
                    <a:lnTo>
                      <a:pt x="2994" y="3397"/>
                    </a:lnTo>
                    <a:lnTo>
                      <a:pt x="3078" y="3299"/>
                    </a:lnTo>
                    <a:lnTo>
                      <a:pt x="3157" y="3194"/>
                    </a:lnTo>
                    <a:lnTo>
                      <a:pt x="3194" y="3143"/>
                    </a:lnTo>
                    <a:lnTo>
                      <a:pt x="3230" y="3094"/>
                    </a:lnTo>
                    <a:lnTo>
                      <a:pt x="3263" y="3043"/>
                    </a:lnTo>
                    <a:lnTo>
                      <a:pt x="3295" y="2994"/>
                    </a:lnTo>
                    <a:lnTo>
                      <a:pt x="3325" y="2947"/>
                    </a:lnTo>
                    <a:lnTo>
                      <a:pt x="3355" y="2900"/>
                    </a:lnTo>
                    <a:lnTo>
                      <a:pt x="3405" y="2806"/>
                    </a:lnTo>
                    <a:lnTo>
                      <a:pt x="3427" y="2761"/>
                    </a:lnTo>
                    <a:lnTo>
                      <a:pt x="3449" y="2717"/>
                    </a:lnTo>
                    <a:lnTo>
                      <a:pt x="3467" y="2672"/>
                    </a:lnTo>
                    <a:lnTo>
                      <a:pt x="3484" y="2630"/>
                    </a:lnTo>
                    <a:lnTo>
                      <a:pt x="3514" y="2546"/>
                    </a:lnTo>
                    <a:lnTo>
                      <a:pt x="3524" y="2504"/>
                    </a:lnTo>
                    <a:lnTo>
                      <a:pt x="3533" y="2464"/>
                    </a:lnTo>
                    <a:lnTo>
                      <a:pt x="3547" y="2386"/>
                    </a:lnTo>
                    <a:lnTo>
                      <a:pt x="3551" y="2348"/>
                    </a:lnTo>
                    <a:lnTo>
                      <a:pt x="3553" y="2311"/>
                    </a:lnTo>
                    <a:lnTo>
                      <a:pt x="3553" y="2274"/>
                    </a:lnTo>
                    <a:lnTo>
                      <a:pt x="3553" y="2239"/>
                    </a:lnTo>
                    <a:lnTo>
                      <a:pt x="3549" y="2203"/>
                    </a:lnTo>
                    <a:lnTo>
                      <a:pt x="3544" y="2169"/>
                    </a:lnTo>
                    <a:lnTo>
                      <a:pt x="3536" y="2134"/>
                    </a:lnTo>
                    <a:lnTo>
                      <a:pt x="3528" y="2103"/>
                    </a:lnTo>
                    <a:lnTo>
                      <a:pt x="3518" y="2069"/>
                    </a:lnTo>
                    <a:lnTo>
                      <a:pt x="3506" y="2038"/>
                    </a:lnTo>
                    <a:lnTo>
                      <a:pt x="3491" y="2007"/>
                    </a:lnTo>
                    <a:lnTo>
                      <a:pt x="3475" y="1978"/>
                    </a:lnTo>
                    <a:lnTo>
                      <a:pt x="3449" y="1937"/>
                    </a:lnTo>
                    <a:lnTo>
                      <a:pt x="3421" y="1899"/>
                    </a:lnTo>
                    <a:lnTo>
                      <a:pt x="3389" y="1863"/>
                    </a:lnTo>
                    <a:lnTo>
                      <a:pt x="3356" y="1831"/>
                    </a:lnTo>
                    <a:lnTo>
                      <a:pt x="3356" y="1827"/>
                    </a:lnTo>
                    <a:lnTo>
                      <a:pt x="3355" y="1806"/>
                    </a:lnTo>
                    <a:lnTo>
                      <a:pt x="3352" y="1786"/>
                    </a:lnTo>
                    <a:lnTo>
                      <a:pt x="3348" y="1766"/>
                    </a:lnTo>
                    <a:lnTo>
                      <a:pt x="3343" y="1748"/>
                    </a:lnTo>
                    <a:lnTo>
                      <a:pt x="3335" y="1729"/>
                    </a:lnTo>
                    <a:lnTo>
                      <a:pt x="3325" y="1713"/>
                    </a:lnTo>
                    <a:lnTo>
                      <a:pt x="3315" y="1697"/>
                    </a:lnTo>
                    <a:lnTo>
                      <a:pt x="3303" y="1683"/>
                    </a:lnTo>
                    <a:lnTo>
                      <a:pt x="3287" y="1667"/>
                    </a:lnTo>
                    <a:lnTo>
                      <a:pt x="3272" y="1655"/>
                    </a:lnTo>
                    <a:lnTo>
                      <a:pt x="3257" y="1644"/>
                    </a:lnTo>
                    <a:lnTo>
                      <a:pt x="3242" y="1636"/>
                    </a:lnTo>
                    <a:lnTo>
                      <a:pt x="3225" y="1628"/>
                    </a:lnTo>
                    <a:lnTo>
                      <a:pt x="3208" y="1624"/>
                    </a:lnTo>
                    <a:lnTo>
                      <a:pt x="3189" y="1622"/>
                    </a:lnTo>
                    <a:lnTo>
                      <a:pt x="3172" y="1622"/>
                    </a:lnTo>
                    <a:lnTo>
                      <a:pt x="3136" y="1624"/>
                    </a:lnTo>
                    <a:lnTo>
                      <a:pt x="3106" y="1634"/>
                    </a:lnTo>
                    <a:lnTo>
                      <a:pt x="3076" y="1650"/>
                    </a:lnTo>
                    <a:lnTo>
                      <a:pt x="3051" y="1672"/>
                    </a:lnTo>
                    <a:lnTo>
                      <a:pt x="3006" y="1659"/>
                    </a:lnTo>
                    <a:lnTo>
                      <a:pt x="2960" y="1650"/>
                    </a:lnTo>
                    <a:lnTo>
                      <a:pt x="2912" y="1640"/>
                    </a:lnTo>
                    <a:lnTo>
                      <a:pt x="2863" y="1634"/>
                    </a:lnTo>
                    <a:lnTo>
                      <a:pt x="2811" y="1627"/>
                    </a:lnTo>
                    <a:lnTo>
                      <a:pt x="2758" y="1623"/>
                    </a:lnTo>
                    <a:lnTo>
                      <a:pt x="2703" y="1619"/>
                    </a:lnTo>
                    <a:lnTo>
                      <a:pt x="2647" y="1619"/>
                    </a:lnTo>
                    <a:lnTo>
                      <a:pt x="2587" y="1618"/>
                    </a:lnTo>
                    <a:lnTo>
                      <a:pt x="2528" y="1620"/>
                    </a:lnTo>
                    <a:lnTo>
                      <a:pt x="2466" y="1623"/>
                    </a:lnTo>
                    <a:lnTo>
                      <a:pt x="2403" y="1628"/>
                    </a:lnTo>
                    <a:lnTo>
                      <a:pt x="2337" y="1634"/>
                    </a:lnTo>
                    <a:lnTo>
                      <a:pt x="2271" y="1642"/>
                    </a:lnTo>
                    <a:lnTo>
                      <a:pt x="2202" y="1650"/>
                    </a:lnTo>
                    <a:lnTo>
                      <a:pt x="2132" y="1661"/>
                    </a:lnTo>
                    <a:lnTo>
                      <a:pt x="1975" y="1687"/>
                    </a:lnTo>
                    <a:lnTo>
                      <a:pt x="1896" y="1701"/>
                    </a:lnTo>
                    <a:lnTo>
                      <a:pt x="1818" y="1720"/>
                    </a:lnTo>
                    <a:lnTo>
                      <a:pt x="1791" y="1630"/>
                    </a:lnTo>
                    <a:lnTo>
                      <a:pt x="1765" y="1545"/>
                    </a:lnTo>
                    <a:lnTo>
                      <a:pt x="1738" y="1464"/>
                    </a:lnTo>
                    <a:lnTo>
                      <a:pt x="1714" y="1387"/>
                    </a:lnTo>
                    <a:lnTo>
                      <a:pt x="1689" y="1313"/>
                    </a:lnTo>
                    <a:lnTo>
                      <a:pt x="1665" y="1244"/>
                    </a:lnTo>
                    <a:lnTo>
                      <a:pt x="1641" y="1178"/>
                    </a:lnTo>
                    <a:lnTo>
                      <a:pt x="1619" y="1117"/>
                    </a:lnTo>
                    <a:lnTo>
                      <a:pt x="1596" y="1063"/>
                    </a:lnTo>
                    <a:lnTo>
                      <a:pt x="1575" y="1011"/>
                    </a:lnTo>
                    <a:lnTo>
                      <a:pt x="1533" y="913"/>
                    </a:lnTo>
                    <a:lnTo>
                      <a:pt x="1488" y="820"/>
                    </a:lnTo>
                    <a:lnTo>
                      <a:pt x="1465" y="775"/>
                    </a:lnTo>
                    <a:lnTo>
                      <a:pt x="1444" y="734"/>
                    </a:lnTo>
                    <a:lnTo>
                      <a:pt x="1420" y="692"/>
                    </a:lnTo>
                    <a:lnTo>
                      <a:pt x="1398" y="652"/>
                    </a:lnTo>
                    <a:lnTo>
                      <a:pt x="1374" y="612"/>
                    </a:lnTo>
                    <a:lnTo>
                      <a:pt x="1351" y="576"/>
                    </a:lnTo>
                    <a:lnTo>
                      <a:pt x="1304" y="507"/>
                    </a:lnTo>
                    <a:lnTo>
                      <a:pt x="1256" y="444"/>
                    </a:lnTo>
                    <a:lnTo>
                      <a:pt x="1206" y="384"/>
                    </a:lnTo>
                    <a:lnTo>
                      <a:pt x="1155" y="331"/>
                    </a:lnTo>
                    <a:lnTo>
                      <a:pt x="1129" y="306"/>
                    </a:lnTo>
                    <a:lnTo>
                      <a:pt x="1104" y="284"/>
                    </a:lnTo>
                    <a:lnTo>
                      <a:pt x="1077" y="262"/>
                    </a:lnTo>
                    <a:lnTo>
                      <a:pt x="1052" y="244"/>
                    </a:lnTo>
                    <a:lnTo>
                      <a:pt x="1024" y="224"/>
                    </a:lnTo>
                    <a:lnTo>
                      <a:pt x="998" y="207"/>
                    </a:lnTo>
                    <a:lnTo>
                      <a:pt x="945" y="178"/>
                    </a:lnTo>
                    <a:lnTo>
                      <a:pt x="917" y="164"/>
                    </a:lnTo>
                    <a:lnTo>
                      <a:pt x="890" y="154"/>
                    </a:lnTo>
                    <a:lnTo>
                      <a:pt x="862" y="143"/>
                    </a:lnTo>
                    <a:lnTo>
                      <a:pt x="836" y="135"/>
                    </a:lnTo>
                    <a:lnTo>
                      <a:pt x="96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8042400" y="476280"/>
              <a:ext cx="295200" cy="766800"/>
            </a:xfrm>
            <a:custGeom>
              <a:avLst/>
              <a:gdLst/>
              <a:ahLst/>
              <a:rect l="l" t="t" r="r" b="b"/>
              <a:pathLst>
                <a:path w="1949" h="5043">
                  <a:moveTo>
                    <a:pt x="1787" y="4897"/>
                  </a:moveTo>
                  <a:lnTo>
                    <a:pt x="1803" y="4820"/>
                  </a:lnTo>
                  <a:lnTo>
                    <a:pt x="1809" y="4778"/>
                  </a:lnTo>
                  <a:lnTo>
                    <a:pt x="1817" y="4737"/>
                  </a:lnTo>
                  <a:lnTo>
                    <a:pt x="1833" y="4653"/>
                  </a:lnTo>
                  <a:lnTo>
                    <a:pt x="1846" y="4568"/>
                  </a:lnTo>
                  <a:lnTo>
                    <a:pt x="1861" y="4483"/>
                  </a:lnTo>
                  <a:lnTo>
                    <a:pt x="1873" y="4396"/>
                  </a:lnTo>
                  <a:lnTo>
                    <a:pt x="1885" y="4309"/>
                  </a:lnTo>
                  <a:lnTo>
                    <a:pt x="1896" y="4219"/>
                  </a:lnTo>
                  <a:lnTo>
                    <a:pt x="1906" y="4130"/>
                  </a:lnTo>
                  <a:lnTo>
                    <a:pt x="1917" y="3996"/>
                  </a:lnTo>
                  <a:lnTo>
                    <a:pt x="1927" y="3861"/>
                  </a:lnTo>
                  <a:lnTo>
                    <a:pt x="1935" y="3704"/>
                  </a:lnTo>
                  <a:lnTo>
                    <a:pt x="1938" y="3625"/>
                  </a:lnTo>
                  <a:lnTo>
                    <a:pt x="1939" y="3585"/>
                  </a:lnTo>
                  <a:lnTo>
                    <a:pt x="1942" y="3547"/>
                  </a:lnTo>
                  <a:lnTo>
                    <a:pt x="1942" y="3506"/>
                  </a:lnTo>
                  <a:lnTo>
                    <a:pt x="1943" y="3466"/>
                  </a:lnTo>
                  <a:lnTo>
                    <a:pt x="1946" y="3385"/>
                  </a:lnTo>
                  <a:lnTo>
                    <a:pt x="1949" y="3222"/>
                  </a:lnTo>
                  <a:lnTo>
                    <a:pt x="1946" y="3058"/>
                  </a:lnTo>
                  <a:lnTo>
                    <a:pt x="1942" y="2898"/>
                  </a:lnTo>
                  <a:lnTo>
                    <a:pt x="1935" y="2740"/>
                  </a:lnTo>
                  <a:lnTo>
                    <a:pt x="1931" y="2662"/>
                  </a:lnTo>
                  <a:lnTo>
                    <a:pt x="1929" y="2586"/>
                  </a:lnTo>
                  <a:lnTo>
                    <a:pt x="1918" y="2450"/>
                  </a:lnTo>
                  <a:lnTo>
                    <a:pt x="1906" y="2319"/>
                  </a:lnTo>
                  <a:lnTo>
                    <a:pt x="1905" y="2296"/>
                  </a:lnTo>
                  <a:lnTo>
                    <a:pt x="1889" y="2162"/>
                  </a:lnTo>
                  <a:lnTo>
                    <a:pt x="1876" y="2063"/>
                  </a:lnTo>
                  <a:lnTo>
                    <a:pt x="1864" y="1966"/>
                  </a:lnTo>
                  <a:lnTo>
                    <a:pt x="1848" y="1873"/>
                  </a:lnTo>
                  <a:lnTo>
                    <a:pt x="1833" y="1785"/>
                  </a:lnTo>
                  <a:lnTo>
                    <a:pt x="1827" y="1749"/>
                  </a:lnTo>
                  <a:lnTo>
                    <a:pt x="1804" y="1628"/>
                  </a:lnTo>
                  <a:lnTo>
                    <a:pt x="1788" y="1551"/>
                  </a:lnTo>
                  <a:lnTo>
                    <a:pt x="1770" y="1473"/>
                  </a:lnTo>
                  <a:lnTo>
                    <a:pt x="1752" y="1399"/>
                  </a:lnTo>
                  <a:lnTo>
                    <a:pt x="1646" y="1434"/>
                  </a:lnTo>
                  <a:lnTo>
                    <a:pt x="1542" y="1472"/>
                  </a:lnTo>
                  <a:lnTo>
                    <a:pt x="1470" y="1497"/>
                  </a:lnTo>
                  <a:lnTo>
                    <a:pt x="1400" y="1525"/>
                  </a:lnTo>
                  <a:lnTo>
                    <a:pt x="1328" y="1553"/>
                  </a:lnTo>
                  <a:lnTo>
                    <a:pt x="1258" y="1583"/>
                  </a:lnTo>
                  <a:lnTo>
                    <a:pt x="1114" y="1646"/>
                  </a:lnTo>
                  <a:lnTo>
                    <a:pt x="971" y="1713"/>
                  </a:lnTo>
                  <a:lnTo>
                    <a:pt x="907" y="1744"/>
                  </a:lnTo>
                  <a:lnTo>
                    <a:pt x="727" y="1832"/>
                  </a:lnTo>
                  <a:lnTo>
                    <a:pt x="907" y="1917"/>
                  </a:lnTo>
                  <a:lnTo>
                    <a:pt x="969" y="1948"/>
                  </a:lnTo>
                  <a:lnTo>
                    <a:pt x="1091" y="1888"/>
                  </a:lnTo>
                  <a:lnTo>
                    <a:pt x="1213" y="1832"/>
                  </a:lnTo>
                  <a:lnTo>
                    <a:pt x="1313" y="1786"/>
                  </a:lnTo>
                  <a:lnTo>
                    <a:pt x="1413" y="1745"/>
                  </a:lnTo>
                  <a:lnTo>
                    <a:pt x="1511" y="1704"/>
                  </a:lnTo>
                  <a:lnTo>
                    <a:pt x="1611" y="1667"/>
                  </a:lnTo>
                  <a:lnTo>
                    <a:pt x="1632" y="1785"/>
                  </a:lnTo>
                  <a:lnTo>
                    <a:pt x="1646" y="1873"/>
                  </a:lnTo>
                  <a:lnTo>
                    <a:pt x="1662" y="1966"/>
                  </a:lnTo>
                  <a:lnTo>
                    <a:pt x="1673" y="2051"/>
                  </a:lnTo>
                  <a:lnTo>
                    <a:pt x="1685" y="2138"/>
                  </a:lnTo>
                  <a:lnTo>
                    <a:pt x="1694" y="2227"/>
                  </a:lnTo>
                  <a:lnTo>
                    <a:pt x="1705" y="2319"/>
                  </a:lnTo>
                  <a:lnTo>
                    <a:pt x="1717" y="2450"/>
                  </a:lnTo>
                  <a:lnTo>
                    <a:pt x="1727" y="2586"/>
                  </a:lnTo>
                  <a:lnTo>
                    <a:pt x="1730" y="2662"/>
                  </a:lnTo>
                  <a:lnTo>
                    <a:pt x="1734" y="2740"/>
                  </a:lnTo>
                  <a:lnTo>
                    <a:pt x="1740" y="2898"/>
                  </a:lnTo>
                  <a:lnTo>
                    <a:pt x="1744" y="3058"/>
                  </a:lnTo>
                  <a:lnTo>
                    <a:pt x="1747" y="3222"/>
                  </a:lnTo>
                  <a:lnTo>
                    <a:pt x="1744" y="3385"/>
                  </a:lnTo>
                  <a:lnTo>
                    <a:pt x="1742" y="3466"/>
                  </a:lnTo>
                  <a:lnTo>
                    <a:pt x="1740" y="3506"/>
                  </a:lnTo>
                  <a:lnTo>
                    <a:pt x="1740" y="3547"/>
                  </a:lnTo>
                  <a:lnTo>
                    <a:pt x="1738" y="3585"/>
                  </a:lnTo>
                  <a:lnTo>
                    <a:pt x="1737" y="3625"/>
                  </a:lnTo>
                  <a:lnTo>
                    <a:pt x="1734" y="3704"/>
                  </a:lnTo>
                  <a:lnTo>
                    <a:pt x="1726" y="3861"/>
                  </a:lnTo>
                  <a:lnTo>
                    <a:pt x="1721" y="3926"/>
                  </a:lnTo>
                  <a:lnTo>
                    <a:pt x="1717" y="3992"/>
                  </a:lnTo>
                  <a:lnTo>
                    <a:pt x="1711" y="4061"/>
                  </a:lnTo>
                  <a:lnTo>
                    <a:pt x="1707" y="4095"/>
                  </a:lnTo>
                  <a:lnTo>
                    <a:pt x="1705" y="4130"/>
                  </a:lnTo>
                  <a:lnTo>
                    <a:pt x="1690" y="4258"/>
                  </a:lnTo>
                  <a:lnTo>
                    <a:pt x="1682" y="4327"/>
                  </a:lnTo>
                  <a:lnTo>
                    <a:pt x="1678" y="4360"/>
                  </a:lnTo>
                  <a:lnTo>
                    <a:pt x="1662" y="4468"/>
                  </a:lnTo>
                  <a:lnTo>
                    <a:pt x="1646" y="4574"/>
                  </a:lnTo>
                  <a:lnTo>
                    <a:pt x="1628" y="4678"/>
                  </a:lnTo>
                  <a:lnTo>
                    <a:pt x="1609" y="4783"/>
                  </a:lnTo>
                  <a:lnTo>
                    <a:pt x="1510" y="4743"/>
                  </a:lnTo>
                  <a:lnTo>
                    <a:pt x="1412" y="4702"/>
                  </a:lnTo>
                  <a:lnTo>
                    <a:pt x="1311" y="4660"/>
                  </a:lnTo>
                  <a:lnTo>
                    <a:pt x="1261" y="4637"/>
                  </a:lnTo>
                  <a:lnTo>
                    <a:pt x="1212" y="4616"/>
                  </a:lnTo>
                  <a:lnTo>
                    <a:pt x="1090" y="4559"/>
                  </a:lnTo>
                  <a:lnTo>
                    <a:pt x="969" y="4501"/>
                  </a:lnTo>
                  <a:lnTo>
                    <a:pt x="934" y="4482"/>
                  </a:lnTo>
                  <a:lnTo>
                    <a:pt x="899" y="4465"/>
                  </a:lnTo>
                  <a:lnTo>
                    <a:pt x="830" y="4430"/>
                  </a:lnTo>
                  <a:lnTo>
                    <a:pt x="760" y="4393"/>
                  </a:lnTo>
                  <a:lnTo>
                    <a:pt x="691" y="4358"/>
                  </a:lnTo>
                  <a:lnTo>
                    <a:pt x="620" y="4318"/>
                  </a:lnTo>
                  <a:lnTo>
                    <a:pt x="601" y="4307"/>
                  </a:lnTo>
                  <a:lnTo>
                    <a:pt x="592" y="4302"/>
                  </a:lnTo>
                  <a:lnTo>
                    <a:pt x="584" y="4298"/>
                  </a:lnTo>
                  <a:lnTo>
                    <a:pt x="549" y="4279"/>
                  </a:lnTo>
                  <a:lnTo>
                    <a:pt x="478" y="4240"/>
                  </a:lnTo>
                  <a:lnTo>
                    <a:pt x="408" y="4200"/>
                  </a:lnTo>
                  <a:lnTo>
                    <a:pt x="400" y="4195"/>
                  </a:lnTo>
                  <a:lnTo>
                    <a:pt x="396" y="4192"/>
                  </a:lnTo>
                  <a:lnTo>
                    <a:pt x="393" y="4191"/>
                  </a:lnTo>
                  <a:lnTo>
                    <a:pt x="384" y="4185"/>
                  </a:lnTo>
                  <a:lnTo>
                    <a:pt x="376" y="4181"/>
                  </a:lnTo>
                  <a:lnTo>
                    <a:pt x="357" y="4171"/>
                  </a:lnTo>
                  <a:lnTo>
                    <a:pt x="347" y="4164"/>
                  </a:lnTo>
                  <a:lnTo>
                    <a:pt x="337" y="4159"/>
                  </a:lnTo>
                  <a:lnTo>
                    <a:pt x="314" y="4144"/>
                  </a:lnTo>
                  <a:lnTo>
                    <a:pt x="300" y="4136"/>
                  </a:lnTo>
                  <a:lnTo>
                    <a:pt x="296" y="4134"/>
                  </a:lnTo>
                  <a:lnTo>
                    <a:pt x="294" y="4132"/>
                  </a:lnTo>
                  <a:lnTo>
                    <a:pt x="288" y="4130"/>
                  </a:lnTo>
                  <a:lnTo>
                    <a:pt x="261" y="4114"/>
                  </a:lnTo>
                  <a:lnTo>
                    <a:pt x="253" y="4109"/>
                  </a:lnTo>
                  <a:lnTo>
                    <a:pt x="249" y="4106"/>
                  </a:lnTo>
                  <a:lnTo>
                    <a:pt x="246" y="4105"/>
                  </a:lnTo>
                  <a:lnTo>
                    <a:pt x="233" y="4097"/>
                  </a:lnTo>
                  <a:lnTo>
                    <a:pt x="230" y="4082"/>
                  </a:lnTo>
                  <a:lnTo>
                    <a:pt x="229" y="4077"/>
                  </a:lnTo>
                  <a:lnTo>
                    <a:pt x="229" y="4073"/>
                  </a:lnTo>
                  <a:lnTo>
                    <a:pt x="229" y="4065"/>
                  </a:lnTo>
                  <a:lnTo>
                    <a:pt x="229" y="4063"/>
                  </a:lnTo>
                  <a:lnTo>
                    <a:pt x="230" y="4063"/>
                  </a:lnTo>
                  <a:lnTo>
                    <a:pt x="233" y="4063"/>
                  </a:lnTo>
                  <a:lnTo>
                    <a:pt x="233" y="4062"/>
                  </a:lnTo>
                  <a:lnTo>
                    <a:pt x="234" y="4062"/>
                  </a:lnTo>
                  <a:lnTo>
                    <a:pt x="237" y="4062"/>
                  </a:lnTo>
                  <a:lnTo>
                    <a:pt x="237" y="4061"/>
                  </a:lnTo>
                  <a:lnTo>
                    <a:pt x="234" y="4040"/>
                  </a:lnTo>
                  <a:lnTo>
                    <a:pt x="234" y="4017"/>
                  </a:lnTo>
                  <a:lnTo>
                    <a:pt x="231" y="3992"/>
                  </a:lnTo>
                  <a:lnTo>
                    <a:pt x="231" y="3967"/>
                  </a:lnTo>
                  <a:lnTo>
                    <a:pt x="229" y="3936"/>
                  </a:lnTo>
                  <a:lnTo>
                    <a:pt x="229" y="3906"/>
                  </a:lnTo>
                  <a:lnTo>
                    <a:pt x="226" y="3873"/>
                  </a:lnTo>
                  <a:lnTo>
                    <a:pt x="226" y="3838"/>
                  </a:lnTo>
                  <a:lnTo>
                    <a:pt x="223" y="3800"/>
                  </a:lnTo>
                  <a:lnTo>
                    <a:pt x="223" y="3760"/>
                  </a:lnTo>
                  <a:lnTo>
                    <a:pt x="221" y="3718"/>
                  </a:lnTo>
                  <a:lnTo>
                    <a:pt x="221" y="3674"/>
                  </a:lnTo>
                  <a:lnTo>
                    <a:pt x="218" y="3628"/>
                  </a:lnTo>
                  <a:lnTo>
                    <a:pt x="218" y="3579"/>
                  </a:lnTo>
                  <a:lnTo>
                    <a:pt x="217" y="3552"/>
                  </a:lnTo>
                  <a:lnTo>
                    <a:pt x="217" y="3527"/>
                  </a:lnTo>
                  <a:lnTo>
                    <a:pt x="217" y="3475"/>
                  </a:lnTo>
                  <a:lnTo>
                    <a:pt x="213" y="3367"/>
                  </a:lnTo>
                  <a:lnTo>
                    <a:pt x="212" y="3265"/>
                  </a:lnTo>
                  <a:lnTo>
                    <a:pt x="210" y="3165"/>
                  </a:lnTo>
                  <a:lnTo>
                    <a:pt x="212" y="3071"/>
                  </a:lnTo>
                  <a:lnTo>
                    <a:pt x="213" y="2980"/>
                  </a:lnTo>
                  <a:lnTo>
                    <a:pt x="216" y="2894"/>
                  </a:lnTo>
                  <a:lnTo>
                    <a:pt x="219" y="2810"/>
                  </a:lnTo>
                  <a:lnTo>
                    <a:pt x="225" y="2733"/>
                  </a:lnTo>
                  <a:lnTo>
                    <a:pt x="231" y="2614"/>
                  </a:lnTo>
                  <a:lnTo>
                    <a:pt x="243" y="2499"/>
                  </a:lnTo>
                  <a:lnTo>
                    <a:pt x="246" y="2467"/>
                  </a:lnTo>
                  <a:lnTo>
                    <a:pt x="266" y="2284"/>
                  </a:lnTo>
                  <a:lnTo>
                    <a:pt x="272" y="2232"/>
                  </a:lnTo>
                  <a:lnTo>
                    <a:pt x="287" y="2120"/>
                  </a:lnTo>
                  <a:lnTo>
                    <a:pt x="304" y="2010"/>
                  </a:lnTo>
                  <a:lnTo>
                    <a:pt x="323" y="1901"/>
                  </a:lnTo>
                  <a:lnTo>
                    <a:pt x="344" y="1797"/>
                  </a:lnTo>
                  <a:lnTo>
                    <a:pt x="364" y="1700"/>
                  </a:lnTo>
                  <a:lnTo>
                    <a:pt x="367" y="1688"/>
                  </a:lnTo>
                  <a:lnTo>
                    <a:pt x="386" y="1594"/>
                  </a:lnTo>
                  <a:lnTo>
                    <a:pt x="410" y="1502"/>
                  </a:lnTo>
                  <a:lnTo>
                    <a:pt x="410" y="1500"/>
                  </a:lnTo>
                  <a:lnTo>
                    <a:pt x="413" y="1496"/>
                  </a:lnTo>
                  <a:lnTo>
                    <a:pt x="416" y="1491"/>
                  </a:lnTo>
                  <a:lnTo>
                    <a:pt x="421" y="1484"/>
                  </a:lnTo>
                  <a:lnTo>
                    <a:pt x="422" y="1473"/>
                  </a:lnTo>
                  <a:lnTo>
                    <a:pt x="428" y="1457"/>
                  </a:lnTo>
                  <a:lnTo>
                    <a:pt x="434" y="1434"/>
                  </a:lnTo>
                  <a:lnTo>
                    <a:pt x="439" y="1420"/>
                  </a:lnTo>
                  <a:lnTo>
                    <a:pt x="445" y="1406"/>
                  </a:lnTo>
                  <a:lnTo>
                    <a:pt x="455" y="1369"/>
                  </a:lnTo>
                  <a:lnTo>
                    <a:pt x="462" y="1349"/>
                  </a:lnTo>
                  <a:lnTo>
                    <a:pt x="470" y="1328"/>
                  </a:lnTo>
                  <a:lnTo>
                    <a:pt x="478" y="1304"/>
                  </a:lnTo>
                  <a:lnTo>
                    <a:pt x="486" y="1279"/>
                  </a:lnTo>
                  <a:lnTo>
                    <a:pt x="495" y="1252"/>
                  </a:lnTo>
                  <a:lnTo>
                    <a:pt x="506" y="1224"/>
                  </a:lnTo>
                  <a:lnTo>
                    <a:pt x="516" y="1188"/>
                  </a:lnTo>
                  <a:lnTo>
                    <a:pt x="528" y="1151"/>
                  </a:lnTo>
                  <a:lnTo>
                    <a:pt x="541" y="1113"/>
                  </a:lnTo>
                  <a:lnTo>
                    <a:pt x="556" y="1072"/>
                  </a:lnTo>
                  <a:lnTo>
                    <a:pt x="571" y="1028"/>
                  </a:lnTo>
                  <a:lnTo>
                    <a:pt x="586" y="983"/>
                  </a:lnTo>
                  <a:lnTo>
                    <a:pt x="602" y="935"/>
                  </a:lnTo>
                  <a:lnTo>
                    <a:pt x="620" y="886"/>
                  </a:lnTo>
                  <a:lnTo>
                    <a:pt x="661" y="771"/>
                  </a:lnTo>
                  <a:lnTo>
                    <a:pt x="704" y="662"/>
                  </a:lnTo>
                  <a:lnTo>
                    <a:pt x="751" y="559"/>
                  </a:lnTo>
                  <a:lnTo>
                    <a:pt x="775" y="510"/>
                  </a:lnTo>
                  <a:lnTo>
                    <a:pt x="801" y="464"/>
                  </a:lnTo>
                  <a:lnTo>
                    <a:pt x="853" y="374"/>
                  </a:lnTo>
                  <a:lnTo>
                    <a:pt x="879" y="330"/>
                  </a:lnTo>
                  <a:lnTo>
                    <a:pt x="908" y="290"/>
                  </a:lnTo>
                  <a:lnTo>
                    <a:pt x="936" y="250"/>
                  </a:lnTo>
                  <a:lnTo>
                    <a:pt x="967" y="213"/>
                  </a:lnTo>
                  <a:lnTo>
                    <a:pt x="1029" y="143"/>
                  </a:lnTo>
                  <a:lnTo>
                    <a:pt x="822" y="0"/>
                  </a:lnTo>
                  <a:lnTo>
                    <a:pt x="753" y="106"/>
                  </a:lnTo>
                  <a:lnTo>
                    <a:pt x="691" y="211"/>
                  </a:lnTo>
                  <a:lnTo>
                    <a:pt x="632" y="314"/>
                  </a:lnTo>
                  <a:lnTo>
                    <a:pt x="604" y="364"/>
                  </a:lnTo>
                  <a:lnTo>
                    <a:pt x="579" y="416"/>
                  </a:lnTo>
                  <a:lnTo>
                    <a:pt x="527" y="515"/>
                  </a:lnTo>
                  <a:lnTo>
                    <a:pt x="482" y="613"/>
                  </a:lnTo>
                  <a:lnTo>
                    <a:pt x="441" y="710"/>
                  </a:lnTo>
                  <a:lnTo>
                    <a:pt x="405" y="807"/>
                  </a:lnTo>
                  <a:lnTo>
                    <a:pt x="390" y="848"/>
                  </a:lnTo>
                  <a:lnTo>
                    <a:pt x="369" y="904"/>
                  </a:lnTo>
                  <a:lnTo>
                    <a:pt x="351" y="958"/>
                  </a:lnTo>
                  <a:lnTo>
                    <a:pt x="333" y="1010"/>
                  </a:lnTo>
                  <a:lnTo>
                    <a:pt x="318" y="1059"/>
                  </a:lnTo>
                  <a:lnTo>
                    <a:pt x="302" y="1102"/>
                  </a:lnTo>
                  <a:lnTo>
                    <a:pt x="287" y="1146"/>
                  </a:lnTo>
                  <a:lnTo>
                    <a:pt x="274" y="1186"/>
                  </a:lnTo>
                  <a:lnTo>
                    <a:pt x="263" y="1224"/>
                  </a:lnTo>
                  <a:lnTo>
                    <a:pt x="243" y="1280"/>
                  </a:lnTo>
                  <a:lnTo>
                    <a:pt x="235" y="1305"/>
                  </a:lnTo>
                  <a:lnTo>
                    <a:pt x="229" y="1329"/>
                  </a:lnTo>
                  <a:lnTo>
                    <a:pt x="222" y="1350"/>
                  </a:lnTo>
                  <a:lnTo>
                    <a:pt x="217" y="1370"/>
                  </a:lnTo>
                  <a:lnTo>
                    <a:pt x="212" y="1387"/>
                  </a:lnTo>
                  <a:lnTo>
                    <a:pt x="209" y="1403"/>
                  </a:lnTo>
                  <a:lnTo>
                    <a:pt x="208" y="1408"/>
                  </a:lnTo>
                  <a:lnTo>
                    <a:pt x="204" y="1419"/>
                  </a:lnTo>
                  <a:lnTo>
                    <a:pt x="197" y="1448"/>
                  </a:lnTo>
                  <a:lnTo>
                    <a:pt x="186" y="1491"/>
                  </a:lnTo>
                  <a:lnTo>
                    <a:pt x="173" y="1544"/>
                  </a:lnTo>
                  <a:lnTo>
                    <a:pt x="155" y="1624"/>
                  </a:lnTo>
                  <a:lnTo>
                    <a:pt x="152" y="1636"/>
                  </a:lnTo>
                  <a:lnTo>
                    <a:pt x="151" y="1647"/>
                  </a:lnTo>
                  <a:lnTo>
                    <a:pt x="123" y="1773"/>
                  </a:lnTo>
                  <a:lnTo>
                    <a:pt x="100" y="1901"/>
                  </a:lnTo>
                  <a:lnTo>
                    <a:pt x="78" y="2032"/>
                  </a:lnTo>
                  <a:lnTo>
                    <a:pt x="61" y="2169"/>
                  </a:lnTo>
                  <a:lnTo>
                    <a:pt x="47" y="2284"/>
                  </a:lnTo>
                  <a:lnTo>
                    <a:pt x="39" y="2342"/>
                  </a:lnTo>
                  <a:lnTo>
                    <a:pt x="34" y="2403"/>
                  </a:lnTo>
                  <a:lnTo>
                    <a:pt x="31" y="2435"/>
                  </a:lnTo>
                  <a:lnTo>
                    <a:pt x="27" y="2482"/>
                  </a:lnTo>
                  <a:lnTo>
                    <a:pt x="18" y="2574"/>
                  </a:lnTo>
                  <a:lnTo>
                    <a:pt x="13" y="2670"/>
                  </a:lnTo>
                  <a:lnTo>
                    <a:pt x="8" y="2747"/>
                  </a:lnTo>
                  <a:lnTo>
                    <a:pt x="5" y="2831"/>
                  </a:lnTo>
                  <a:lnTo>
                    <a:pt x="2" y="2894"/>
                  </a:lnTo>
                  <a:lnTo>
                    <a:pt x="1" y="2961"/>
                  </a:lnTo>
                  <a:lnTo>
                    <a:pt x="0" y="3029"/>
                  </a:lnTo>
                  <a:lnTo>
                    <a:pt x="0" y="3102"/>
                  </a:lnTo>
                  <a:lnTo>
                    <a:pt x="1" y="3251"/>
                  </a:lnTo>
                  <a:lnTo>
                    <a:pt x="5" y="3412"/>
                  </a:lnTo>
                  <a:lnTo>
                    <a:pt x="6" y="3475"/>
                  </a:lnTo>
                  <a:lnTo>
                    <a:pt x="11" y="3711"/>
                  </a:lnTo>
                  <a:lnTo>
                    <a:pt x="17" y="3961"/>
                  </a:lnTo>
                  <a:lnTo>
                    <a:pt x="19" y="4087"/>
                  </a:lnTo>
                  <a:lnTo>
                    <a:pt x="23" y="4216"/>
                  </a:lnTo>
                  <a:lnTo>
                    <a:pt x="104" y="4265"/>
                  </a:lnTo>
                  <a:lnTo>
                    <a:pt x="201" y="4323"/>
                  </a:lnTo>
                  <a:lnTo>
                    <a:pt x="300" y="4381"/>
                  </a:lnTo>
                  <a:lnTo>
                    <a:pt x="406" y="4442"/>
                  </a:lnTo>
                  <a:lnTo>
                    <a:pt x="515" y="4502"/>
                  </a:lnTo>
                  <a:lnTo>
                    <a:pt x="621" y="4559"/>
                  </a:lnTo>
                  <a:lnTo>
                    <a:pt x="728" y="4615"/>
                  </a:lnTo>
                  <a:lnTo>
                    <a:pt x="878" y="4689"/>
                  </a:lnTo>
                  <a:lnTo>
                    <a:pt x="971" y="4734"/>
                  </a:lnTo>
                  <a:lnTo>
                    <a:pt x="1114" y="4799"/>
                  </a:lnTo>
                  <a:lnTo>
                    <a:pt x="1257" y="4861"/>
                  </a:lnTo>
                  <a:lnTo>
                    <a:pt x="1327" y="4890"/>
                  </a:lnTo>
                  <a:lnTo>
                    <a:pt x="1399" y="4919"/>
                  </a:lnTo>
                  <a:lnTo>
                    <a:pt x="1433" y="4933"/>
                  </a:lnTo>
                  <a:lnTo>
                    <a:pt x="1441" y="4935"/>
                  </a:lnTo>
                  <a:lnTo>
                    <a:pt x="1445" y="4937"/>
                  </a:lnTo>
                  <a:lnTo>
                    <a:pt x="1450" y="4939"/>
                  </a:lnTo>
                  <a:lnTo>
                    <a:pt x="1469" y="4947"/>
                  </a:lnTo>
                  <a:lnTo>
                    <a:pt x="1540" y="4975"/>
                  </a:lnTo>
                  <a:lnTo>
                    <a:pt x="1571" y="4986"/>
                  </a:lnTo>
                  <a:lnTo>
                    <a:pt x="1652" y="5015"/>
                  </a:lnTo>
                  <a:lnTo>
                    <a:pt x="1734" y="50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40840" y="728640"/>
              <a:ext cx="34920" cy="44640"/>
            </a:xfrm>
            <a:custGeom>
              <a:avLst/>
              <a:gdLst/>
              <a:ahLst/>
              <a:rect l="l" t="t" r="r" b="b"/>
              <a:pathLst>
                <a:path w="226" h="291">
                  <a:moveTo>
                    <a:pt x="192" y="0"/>
                  </a:moveTo>
                  <a:lnTo>
                    <a:pt x="96" y="28"/>
                  </a:lnTo>
                  <a:lnTo>
                    <a:pt x="0" y="58"/>
                  </a:lnTo>
                  <a:lnTo>
                    <a:pt x="8" y="94"/>
                  </a:lnTo>
                  <a:lnTo>
                    <a:pt x="27" y="191"/>
                  </a:lnTo>
                  <a:lnTo>
                    <a:pt x="45" y="291"/>
                  </a:lnTo>
                  <a:lnTo>
                    <a:pt x="92" y="275"/>
                  </a:lnTo>
                  <a:lnTo>
                    <a:pt x="138" y="262"/>
                  </a:lnTo>
                  <a:lnTo>
                    <a:pt x="182" y="249"/>
                  </a:lnTo>
                  <a:lnTo>
                    <a:pt x="226" y="238"/>
                  </a:lnTo>
                  <a:lnTo>
                    <a:pt x="223" y="209"/>
                  </a:lnTo>
                  <a:lnTo>
                    <a:pt x="222" y="201"/>
                  </a:lnTo>
                  <a:lnTo>
                    <a:pt x="222" y="195"/>
                  </a:lnTo>
                  <a:lnTo>
                    <a:pt x="222" y="181"/>
                  </a:lnTo>
                  <a:lnTo>
                    <a:pt x="215" y="123"/>
                  </a:lnTo>
                  <a:lnTo>
                    <a:pt x="204" y="62"/>
                  </a:lnTo>
                  <a:lnTo>
                    <a:pt x="198" y="30"/>
                  </a:lnTo>
                  <a:lnTo>
                    <a:pt x="1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50200" y="793800"/>
              <a:ext cx="41400" cy="306360"/>
            </a:xfrm>
            <a:custGeom>
              <a:avLst/>
              <a:gdLst/>
              <a:ahLst/>
              <a:rect l="l" t="t" r="r" b="b"/>
              <a:pathLst>
                <a:path w="272" h="2015">
                  <a:moveTo>
                    <a:pt x="28" y="2015"/>
                  </a:moveTo>
                  <a:lnTo>
                    <a:pt x="60" y="1991"/>
                  </a:lnTo>
                  <a:lnTo>
                    <a:pt x="62" y="1990"/>
                  </a:lnTo>
                  <a:lnTo>
                    <a:pt x="245" y="1856"/>
                  </a:lnTo>
                  <a:lnTo>
                    <a:pt x="253" y="1728"/>
                  </a:lnTo>
                  <a:lnTo>
                    <a:pt x="256" y="1667"/>
                  </a:lnTo>
                  <a:lnTo>
                    <a:pt x="260" y="1610"/>
                  </a:lnTo>
                  <a:lnTo>
                    <a:pt x="261" y="1593"/>
                  </a:lnTo>
                  <a:lnTo>
                    <a:pt x="265" y="1487"/>
                  </a:lnTo>
                  <a:lnTo>
                    <a:pt x="266" y="1396"/>
                  </a:lnTo>
                  <a:lnTo>
                    <a:pt x="269" y="1306"/>
                  </a:lnTo>
                  <a:lnTo>
                    <a:pt x="269" y="1260"/>
                  </a:lnTo>
                  <a:lnTo>
                    <a:pt x="270" y="1215"/>
                  </a:lnTo>
                  <a:lnTo>
                    <a:pt x="270" y="1169"/>
                  </a:lnTo>
                  <a:lnTo>
                    <a:pt x="272" y="1124"/>
                  </a:lnTo>
                  <a:lnTo>
                    <a:pt x="270" y="999"/>
                  </a:lnTo>
                  <a:lnTo>
                    <a:pt x="268" y="877"/>
                  </a:lnTo>
                  <a:lnTo>
                    <a:pt x="264" y="755"/>
                  </a:lnTo>
                  <a:lnTo>
                    <a:pt x="260" y="637"/>
                  </a:lnTo>
                  <a:lnTo>
                    <a:pt x="252" y="501"/>
                  </a:lnTo>
                  <a:lnTo>
                    <a:pt x="242" y="368"/>
                  </a:lnTo>
                  <a:lnTo>
                    <a:pt x="233" y="273"/>
                  </a:lnTo>
                  <a:lnTo>
                    <a:pt x="224" y="180"/>
                  </a:lnTo>
                  <a:lnTo>
                    <a:pt x="213" y="89"/>
                  </a:lnTo>
                  <a:lnTo>
                    <a:pt x="203" y="0"/>
                  </a:lnTo>
                  <a:lnTo>
                    <a:pt x="160" y="8"/>
                  </a:lnTo>
                  <a:lnTo>
                    <a:pt x="138" y="13"/>
                  </a:lnTo>
                  <a:lnTo>
                    <a:pt x="114" y="20"/>
                  </a:lnTo>
                  <a:lnTo>
                    <a:pt x="87" y="25"/>
                  </a:lnTo>
                  <a:lnTo>
                    <a:pt x="60" y="32"/>
                  </a:lnTo>
                  <a:lnTo>
                    <a:pt x="30" y="38"/>
                  </a:lnTo>
                  <a:lnTo>
                    <a:pt x="0" y="46"/>
                  </a:lnTo>
                  <a:lnTo>
                    <a:pt x="19" y="219"/>
                  </a:lnTo>
                  <a:lnTo>
                    <a:pt x="30" y="350"/>
                  </a:lnTo>
                  <a:lnTo>
                    <a:pt x="41" y="486"/>
                  </a:lnTo>
                  <a:lnTo>
                    <a:pt x="44" y="562"/>
                  </a:lnTo>
                  <a:lnTo>
                    <a:pt x="48" y="640"/>
                  </a:lnTo>
                  <a:lnTo>
                    <a:pt x="54" y="798"/>
                  </a:lnTo>
                  <a:lnTo>
                    <a:pt x="58" y="958"/>
                  </a:lnTo>
                  <a:lnTo>
                    <a:pt x="61" y="1122"/>
                  </a:lnTo>
                  <a:lnTo>
                    <a:pt x="58" y="1155"/>
                  </a:lnTo>
                  <a:lnTo>
                    <a:pt x="58" y="1191"/>
                  </a:lnTo>
                  <a:lnTo>
                    <a:pt x="57" y="1229"/>
                  </a:lnTo>
                  <a:lnTo>
                    <a:pt x="57" y="1272"/>
                  </a:lnTo>
                  <a:lnTo>
                    <a:pt x="54" y="1361"/>
                  </a:lnTo>
                  <a:lnTo>
                    <a:pt x="52" y="1460"/>
                  </a:lnTo>
                  <a:lnTo>
                    <a:pt x="46" y="1567"/>
                  </a:lnTo>
                  <a:lnTo>
                    <a:pt x="44" y="1624"/>
                  </a:lnTo>
                  <a:lnTo>
                    <a:pt x="42" y="1685"/>
                  </a:lnTo>
                  <a:lnTo>
                    <a:pt x="37" y="1811"/>
                  </a:lnTo>
                  <a:lnTo>
                    <a:pt x="34" y="1879"/>
                  </a:lnTo>
                  <a:lnTo>
                    <a:pt x="32" y="1949"/>
                  </a:lnTo>
                  <a:lnTo>
                    <a:pt x="32" y="1952"/>
                  </a:lnTo>
                  <a:lnTo>
                    <a:pt x="32" y="19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4BD3-DCA1-4137-A93C-320CF21D288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0EBE74E-BBAA-46CB-8965-F232BB86856F}" type="datetime13">
              <a:rPr lang="en-US"/>
              <a:t>04:01:22 P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Arial"/>
              </a:rPr>
              <a:t>המטר"ה:</a:t>
            </a:r>
            <a:endParaRPr b="1" lang="en-US" sz="5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349000"/>
            <a:ext cx="6545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ts val="5023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Arial"/>
              </a:rPr>
              <a:t>פלוגת רדיו תתכנן , תקי"ם ותתפע"ל מערכו"ת קשר ודברים אחרים ולא קשורים. בכדי לת"ת מענה מגני"ב וללא, תחרות בכל מצ"ב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83CD-AFB8-44C2-8E0E-5F78FEFB8F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686E44-DA8D-4BF0-9887-699FC409F919}" type="datetime13">
              <a:rPr lang="en-US"/>
              <a:t>04:01:22 PM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67183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$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peak the language\ of the Hebrew men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!!ס  ס</a:t>
            </a:r>
            <a:endParaRPr b="1" lang="en-US" sz="2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לשמור על מצוינות בכל מחיר!! גם במחיר של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$5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בוצע באופן מלא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שיפור המוכנות לחירו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נכתבה פקודה חדש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בוצע ניפוי לא חיוניים עוד כל מיני דברי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ביצוע אימונים לנבחרת הכדורסל –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בוצע חלקי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379440" algn="r" rtl="1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יופי טופי אחלה באחלה!! **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w that is gre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2C1-0A78-4771-A7B2-AABBEF4750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D5137-7515-4F22-9FE2-D4B01EC7031B}" type="datetime13">
              <a:rPr lang="en-US"/>
              <a:t>04:01:22 PM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שיר הפרחה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241720"/>
            <a:ext cx="7344000" cy="2531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אין לי ראש למילים ארוכות ואתה מין מילה ארוכה שכזאת. צ'או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Y FRIEND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ודש לחייך בתקווה שתבין את הפרחה בת ה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ולא יום יותר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CBB-4FDA-46E5-8BC1-12BEC0DEE4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50087-DDE0-4174-8DBA-CD4CC6BAC407}" type="datetime13">
              <a:rPr lang="en-US"/>
              <a:t>04:01:22 PM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ניסיון לוורד 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ART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(ללא תחרות) חבל"ז!!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835280" y="2421000"/>
            <a:ext cx="7056360" cy="37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255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אחת, שתים ... </a:t>
            </a:r>
            <a:endParaRPr b="0" lang="en-US" sz="2400" spc="1" strike="noStrike">
              <a:ln w="255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255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נסיון...</a:t>
            </a:r>
            <a:endParaRPr b="0" lang="en-US" sz="2400" spc="1" strike="noStrike">
              <a:ln w="255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C44-F675-4DEB-AFAC-C8C1351B51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799E3-DF40-4DFD-BFB0-EC8DCAF61294}" type="datetime13">
              <a:rPr lang="en-US"/>
              <a:t>04:01:22 PM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ש%יר נ^חמ\ד!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נשרוף את הזמן רן / מחליט, לכתוב ע"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תני לרגע שיחלוף העבר עוד לפנינ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או או או או או(זה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כמו שבאתי הלכתי, זה הכל חלומ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וזהו מספיק ברי ליום אחד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לילה לילה לילה ליליל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cs typeface="David"/>
              </a:rPr>
              <a:t>ני ננה ני ני ננה ננ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DCC-7B77-4840-A4F4-60A30DF8F9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B7899-0616-4F8E-A681-98FB7F3635C3}" type="datetime13">
              <a:rPr lang="en-US"/>
              <a:t>04:01:22 PM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שילוב אנגלית - עברית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6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הוספת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– </a:t>
            </a:r>
            <a:r>
              <a:rPr b="0" lang="en-GB" sz="2800" spc="-1" strike="noStrike">
                <a:solidFill>
                  <a:srgbClr val="0000ec"/>
                </a:solidFill>
                <a:latin typeface="Arial"/>
              </a:rPr>
              <a:t>(in English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מעניין איפה סימני הפיסוק יצאו הפע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לדוגמה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very st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5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z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הפעילות לבניית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ארכיטקטורת התקשוב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תתבסס על שימוש ב-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oD Architectural Framework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מודל ה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CW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etwork Centric Warfare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ארכיטקטורת ה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G 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Global Information Grid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757-ECA2-4F10-A9EC-47D9CB16BB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D704A-0D39-4B37-9E69-B73AD7117E6F}" type="datetime13">
              <a:rPr lang="en-US"/>
              <a:t>04:01:22 PM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אובייקטים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2046240"/>
            <a:ext cx="4978440" cy="2932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30920" y="1773360"/>
            <a:ext cx="1513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Narkisim"/>
                <a:ea typeface="Narkis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21680" y="1844640"/>
            <a:ext cx="28872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80240" y="2060640"/>
            <a:ext cx="2890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7080" y="2276640"/>
            <a:ext cx="28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80240" y="2347920"/>
            <a:ext cx="2890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1"/>
            <a:endCxn id="169" idx="0"/>
          </p:cNvCxnSpPr>
          <p:nvPr/>
        </p:nvCxnSpPr>
        <p:spPr>
          <a:xfrm flipH="1">
            <a:off x="7021080" y="2028960"/>
            <a:ext cx="34200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3"/>
            <a:endCxn id="168" idx="0"/>
          </p:cNvCxnSpPr>
          <p:nvPr/>
        </p:nvCxnSpPr>
        <p:spPr>
          <a:xfrm>
            <a:off x="7567200" y="2028960"/>
            <a:ext cx="25812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8" idx="2"/>
            <a:endCxn id="170" idx="0"/>
          </p:cNvCxnSpPr>
          <p:nvPr/>
        </p:nvCxnSpPr>
        <p:spPr>
          <a:xfrm>
            <a:off x="7824960" y="2276640"/>
            <a:ext cx="216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588000" y="4869000"/>
            <a:ext cx="1349640" cy="11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1BE-DD92-4D5F-B385-10C1F86CC3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1EFD3-9A74-4CC9-9EC0-5F38AA7F5710}" type="datetime13">
              <a:rPr lang="en-US"/>
              <a:t>04:01:22 PM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4760" y="-71640"/>
            <a:ext cx="67183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ניסיון לטבלה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1560" y="1638360"/>
            <a:ext cx="8220240" cy="4600440"/>
            <a:chOff x="601560" y="1638360"/>
            <a:chExt cx="8220240" cy="4600440"/>
          </a:xfrm>
        </p:grpSpPr>
        <p:sp>
          <p:nvSpPr>
            <p:cNvPr id="177" name=""/>
            <p:cNvSpPr/>
            <p:nvPr/>
          </p:nvSpPr>
          <p:spPr>
            <a:xfrm>
              <a:off x="6765840" y="5842080"/>
              <a:ext cx="2054160" cy="39528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13120" y="5842080"/>
              <a:ext cx="205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5720" y="5842080"/>
              <a:ext cx="2057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560" y="5842080"/>
              <a:ext cx="2054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65840" y="2736720"/>
              <a:ext cx="2054160" cy="70020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13120" y="2736720"/>
              <a:ext cx="2052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36720"/>
              <a:ext cx="20574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  <a:cs typeface="Times New Roman (Hebrew)"/>
                </a:rPr>
                <a:t>אז אני סתם אמלא פה קצת טקס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560" y="2736720"/>
              <a:ext cx="20541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65840" y="4137120"/>
              <a:ext cx="2054160" cy="69984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 (Hebrew)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3120" y="4137120"/>
              <a:ext cx="2052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אני, בודק פה את התוכנה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4137120"/>
              <a:ext cx="20574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1560" y="4137120"/>
              <a:ext cx="20541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65840" y="4836960"/>
              <a:ext cx="2054160" cy="100512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13120" y="4836960"/>
              <a:ext cx="20527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5720" y="4836960"/>
              <a:ext cx="20574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It is not easy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 לבדוק את זה. בכלל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836960"/>
              <a:ext cx="205416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65840" y="2036880"/>
              <a:ext cx="2054160" cy="69984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13120" y="2036880"/>
              <a:ext cx="2052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אין לי רעיון לשיר חד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55720" y="2036880"/>
              <a:ext cx="20574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560" y="2036880"/>
              <a:ext cx="20541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13120" y="3436920"/>
              <a:ext cx="2052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13120" y="1638360"/>
              <a:ext cx="2052720" cy="398520"/>
            </a:xfrm>
            <a:prstGeom prst="rect">
              <a:avLst/>
            </a:prstGeom>
            <a:solidFill>
              <a:srgbClr val="38f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כותרת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560" y="3436920"/>
              <a:ext cx="20541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זה לא מפריע לי בכל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1560" y="1638360"/>
              <a:ext cx="2054160" cy="398520"/>
            </a:xfrm>
            <a:prstGeom prst="rect">
              <a:avLst/>
            </a:prstGeom>
            <a:solidFill>
              <a:srgbClr val="38f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כותרת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65840" y="3436920"/>
              <a:ext cx="2054160" cy="700200"/>
            </a:xfrm>
            <a:prstGeom prst="rect">
              <a:avLst/>
            </a:prstGeom>
            <a:solidFill>
              <a:srgbClr val="370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שורה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3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55720" y="3436920"/>
              <a:ext cx="20574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65840" y="1638360"/>
              <a:ext cx="2054160" cy="398520"/>
            </a:xfrm>
            <a:prstGeom prst="rect">
              <a:avLst/>
            </a:prstGeom>
            <a:solidFill>
              <a:srgbClr val="38f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כותרת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5720" y="1638360"/>
              <a:ext cx="2057400" cy="398520"/>
            </a:xfrm>
            <a:prstGeom prst="rect">
              <a:avLst/>
            </a:prstGeom>
            <a:solidFill>
              <a:srgbClr val="38f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1240" indent="-284040"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311120"/>
                  <a:tab algn="l" pos="2225520"/>
                  <a:tab algn="l" pos="3139920"/>
                  <a:tab algn="l" pos="4054320"/>
                  <a:tab algn="l" pos="4968720"/>
                  <a:tab algn="l" pos="5883120"/>
                  <a:tab algn="l" pos="6797520"/>
                  <a:tab algn="l" pos="7711920"/>
                  <a:tab algn="l" pos="8626320"/>
                  <a:tab algn="l" pos="9540720"/>
                  <a:tab algn="l" pos="1045512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cs typeface="Times New Roman (Hebrew)"/>
                </a:rPr>
                <a:t>כותרת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1560" y="343692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3120" y="1638360"/>
              <a:ext cx="1800" cy="45990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55720" y="1638360"/>
              <a:ext cx="1800" cy="45990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65840" y="1638360"/>
              <a:ext cx="1800" cy="45990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1560" y="203688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560" y="483696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1560" y="413712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560" y="273672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1560" y="584208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560" y="1638360"/>
              <a:ext cx="8218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560" y="1638360"/>
              <a:ext cx="1800" cy="459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820000" y="1638360"/>
              <a:ext cx="1800" cy="459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560" y="6237360"/>
              <a:ext cx="8218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סיכון חציון ב' פלוגת רדיו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5BD-FB03-4019-95F2-A307BDBD68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50340-2FCA-4577-B498-CE318343D607}" type="datetime13">
              <a:rPr lang="en-US"/>
              <a:t>04:01:22 PM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