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71D6-7929-43EA-9F68-6130E8AF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71B3-BAF2-4578-9E5C-35C9E77F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CBDF-5D37-45CA-ABBD-27978D73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BC8B-FB2D-4B0C-B9AD-805DB3C7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9D8C-4BBF-45B4-8420-5E75981A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B7E4-01E4-4010-BBC7-B0C8F256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67F3-F507-426B-B7FF-5702D827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0088-12D8-49FC-9FC7-64196F32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C7F6-BD2B-4FC9-8FAF-4711856A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116E-C900-4903-9990-3C80CCF1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5FB4-DAAC-40DF-A3B5-72910C50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5EE7-808A-4BA3-B031-27698AD6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F930-3030-4953-8506-52039762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39AE-37F9-4A4F-BFD7-D3EEAF21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802D-9CD9-4418-BC89-15CB9C1A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A70A-3FEF-4CC5-AB20-B20B5D3C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500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0964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524280" y="3948480"/>
            <a:ext cx="287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4E68-53AC-4812-A058-3E8FED3C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7DF4-7516-499A-BE66-E87D23FC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C7B2-6E06-4E20-BE9E-EDB4DF81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1874-42D6-4DC3-A77C-E3913B0F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9FF7-D7AB-4C7A-9015-77807CBA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3ADB-FFD3-4C5F-A3BA-FA0492E0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4848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FB3A-7AE9-4F7B-9A04-DCE030B1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48480"/>
            <a:ext cx="8915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D192-D498-4F6D-B745-F90F113E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845120" cy="1981080"/>
            <a:chOff x="0" y="0"/>
            <a:chExt cx="7845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716240" cy="1055520"/>
            </a:xfrm>
            <a:custGeom>
              <a:avLst/>
              <a:gdLst>
                <a:gd name="textAreaLeft" fmla="*/ 0 w 7716240"/>
                <a:gd name="textAreaRight" fmla="*/ 7716600 w 771624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Nokia Sans Wide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845120" cy="1903320"/>
            </a:xfrm>
            <a:custGeom>
              <a:avLst/>
              <a:gdLst>
                <a:gd name="textAreaLeft" fmla="*/ 0 w 7845120"/>
                <a:gd name="textAreaRight" fmla="*/ 7845480 w 7845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Nokia Sans Wide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Nokia Sans Wide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2008  Nokia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V1-Filename.ppt / YYYY-MM-DD / Initi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2BA2-87A6-47D4-8F26-07B7BF3CDC2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62720" cy="5943600"/>
            <a:chOff x="0" y="0"/>
            <a:chExt cx="916272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865360" cy="3657600"/>
            </a:xfrm>
            <a:custGeom>
              <a:avLst/>
              <a:gdLst>
                <a:gd name="textAreaLeft" fmla="*/ 0 w 8865360"/>
                <a:gd name="textAreaRight" fmla="*/ 8865720 w 886536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Nokia Sans Wide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9162720" cy="5856120"/>
            </a:xfrm>
            <a:custGeom>
              <a:avLst/>
              <a:gdLst>
                <a:gd name="textAreaLeft" fmla="*/ 0 w 9162720"/>
                <a:gd name="textAreaRight" fmla="*/ 9163080 w 916272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Nokia Sans Wide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Nokia Sans Wide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2008  Nokia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V1-Filename.ppt / YYYY-MM-DD / Initi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0720-5495-4BCC-A0B0-7AF69BF1C9C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187200" y="4759200"/>
            <a:ext cx="8496360" cy="128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82880" bIns="18288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Nokia Sans Wide"/>
              </a:rPr>
              <a:t>Created by:</a:t>
            </a: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   Phychologist</a:t>
            </a:r>
            <a:endParaRPr b="0" lang="en-US" sz="1200" spc="-1" strike="noStrike">
              <a:solidFill>
                <a:srgbClr val="ffffff"/>
              </a:solidFill>
              <a:latin typeface="Nokia Sans Wide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Nokia Sans Wide"/>
              </a:rPr>
              <a:t>Approver</a:t>
            </a: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: Director, Common Technologies</a:t>
            </a:r>
            <a:endParaRPr b="0" lang="en-US" sz="1200" spc="-1" strike="noStrike">
              <a:solidFill>
                <a:srgbClr val="ffffff"/>
              </a:solidFill>
              <a:latin typeface="Nokia Sans Wide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Nokia Sans Wide"/>
              </a:rPr>
              <a:t>Function:</a:t>
            </a: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 DCC</a:t>
            </a:r>
            <a:endParaRPr b="0" lang="en-US" sz="1200" spc="-1" strike="noStrike">
              <a:solidFill>
                <a:srgbClr val="ffffff"/>
              </a:solidFill>
              <a:latin typeface="Nokia Sans Wide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Nokia Sans Wide"/>
              </a:rPr>
              <a:t>Doc ID: </a:t>
            </a: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HX18</a:t>
            </a:r>
            <a:endParaRPr b="0" lang="en-US" sz="1200" spc="-1" strike="noStrike">
              <a:solidFill>
                <a:srgbClr val="ffffff"/>
              </a:solidFill>
              <a:latin typeface="Nokia Sans Wide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Nokia Sans Wide"/>
              </a:rPr>
              <a:t>Location: </a:t>
            </a: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Sect</a:t>
            </a:r>
            <a:endParaRPr b="0" lang="en-US" sz="1200" spc="-1" strike="noStrike">
              <a:solidFill>
                <a:srgbClr val="ffffff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07:49:49Z</dcterms:created>
  <dc:creator>nandita</dc:creator>
  <dc:description/>
  <cp:keywords/>
  <dc:language>en-US</dc:language>
  <cp:lastModifiedBy>user</cp:lastModifiedBy>
  <cp:lastPrinted>1998-09-04T08:04:32Z</cp:lastPrinted>
  <dcterms:modified xsi:type="dcterms:W3CDTF">2011-09-23T13:21:58Z</dcterms:modified>
  <cp:revision>8</cp:revision>
  <dc:subject/>
  <dc:title>Slide 1</dc:title>
</cp:coreProperties>
</file>