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D3D-B31B-40DD-A3F6-E30C458C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626-099D-43BC-8139-FD2CBC8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A7C-3B66-473D-A478-64C84761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3E8-B446-4FFE-A559-2C9EB685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05F-D1A2-473A-938D-EC45383B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DD9-D1E9-446A-B2E5-EF870F6B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E91-7A3D-43BA-A3B0-B0297D10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758-4DAB-445C-8996-D437A1C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55A-7389-4F64-AA1C-25C2A1B0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6F0-EC77-43DB-AC89-1D2A858D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B57-4E61-4E87-B010-964625FE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41C-9808-46CB-ABAA-05AB665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18A-9B74-4F52-A006-E65CDD40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low are the test focus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osen Effect:      MPath_EqualTriangl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ffect Property:    delay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y Value:     0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1905120"/>
            <a:ext cx="1269720" cy="1269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anc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080" y="635040"/>
            <a:ext cx="1666800" cy="6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Arial Black"/>
              </a:rPr>
              <a:t>word 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unset" descr=""/>
          <p:cNvPicPr/>
          <p:nvPr/>
        </p:nvPicPr>
        <p:blipFill>
          <a:blip r:embed="rId1"/>
          <a:stretch/>
        </p:blipFill>
        <p:spPr>
          <a:xfrm>
            <a:off x="635040" y="63504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352520" y="1368360"/>
            <a:ext cx="2374920" cy="2343240"/>
            <a:chOff x="1352520" y="1368360"/>
            <a:chExt cx="2374920" cy="2343240"/>
          </a:xfrm>
        </p:grpSpPr>
        <p:sp>
          <p:nvSpPr>
            <p:cNvPr id="47" name="_s7172"/>
            <p:cNvSpPr/>
            <p:nvPr/>
          </p:nvSpPr>
          <p:spPr>
            <a:xfrm>
              <a:off x="2063880" y="1701720"/>
              <a:ext cx="952200" cy="9525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7173"/>
            <p:cNvSpPr/>
            <p:nvPr/>
          </p:nvSpPr>
          <p:spPr>
            <a:xfrm>
              <a:off x="2413080" y="1368360"/>
              <a:ext cx="2538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7178"/>
            <p:cNvSpPr/>
            <p:nvPr/>
          </p:nvSpPr>
          <p:spPr>
            <a:xfrm>
              <a:off x="2425680" y="2063880"/>
              <a:ext cx="952560" cy="952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7179"/>
            <p:cNvSpPr/>
            <p:nvPr/>
          </p:nvSpPr>
          <p:spPr>
            <a:xfrm>
              <a:off x="3473280" y="2421000"/>
              <a:ext cx="2541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7176"/>
            <p:cNvSpPr/>
            <p:nvPr/>
          </p:nvSpPr>
          <p:spPr>
            <a:xfrm>
              <a:off x="2063880" y="2425680"/>
              <a:ext cx="952200" cy="9525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413080" y="3473280"/>
              <a:ext cx="2538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7174"/>
            <p:cNvSpPr/>
            <p:nvPr/>
          </p:nvSpPr>
          <p:spPr>
            <a:xfrm>
              <a:off x="1701720" y="2063880"/>
              <a:ext cx="952560" cy="9522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7175"/>
            <p:cNvSpPr/>
            <p:nvPr/>
          </p:nvSpPr>
          <p:spPr>
            <a:xfrm>
              <a:off x="1352520" y="2421000"/>
              <a:ext cx="2541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16 L -0.125 0.216 L 0 0 Z"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7:06:21Z</dcterms:created>
  <dc:creator>Yolanda</dc:creator>
  <dc:description/>
  <dc:language>en-US</dc:language>
  <cp:lastModifiedBy>Yolanda</cp:lastModifiedBy>
  <dcterms:modified xsi:type="dcterms:W3CDTF">2006-04-27T07:06:22Z</dcterms:modified>
  <cp:revision>1</cp:revision>
  <dc:subject/>
  <dc:title>Below are the test focus   Chosen Effect:      MPath_EqualTriangle Effect Property:    delay Property Value:     0 sec</dc:title>
</cp:coreProperties>
</file>