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B586-80AD-4628-9380-975136F8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65D2-5F64-40B5-A47D-4C8E332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1D96-C328-49BF-9B73-28589164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914D-2DA5-4C9D-B5C7-C3A2480E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3406-29FB-4B20-8D91-885C9211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911D-9B83-433D-8803-C8F53FF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9A60-78BB-4E37-96AF-7495B20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92F9-8E94-4EF0-8DFF-3A4D463A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8B28-8F21-4368-B2F0-35A341B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5C5-5EEF-4359-8175-E56621F3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F8F4-FE2E-4333-8980-FA5575A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3E2E-2171-4EA3-AC6F-70339D50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E524-86DE-4728-BB06-1CF5A34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B562-C5B1-4E2A-94BE-26DE7B39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872C-A76C-4692-A950-2424698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C98-DC8F-417B-84F8-CD00A067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5732-DD52-4DD9-86E6-39409FCF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F10A-8826-4CA1-AB5D-CC978F8A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9D2A-F4AC-48C7-8C45-B121E76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430B-9315-4A06-AB12-6B26A34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43C6-47AC-442D-A476-843F7E49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9B5F-2CDA-48E7-A43F-1F19C349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A5C2-E4BC-46C6-A2F5-603C8E4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D57C-7401-49EA-9A1A-6BDAA69C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D26B-C9DC-4AC4-9ED2-7B6725D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6AEC-8F41-4CC6-AA51-99696DA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ECD8-812C-42D2-837A-82F04E92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98CF-74DE-414E-AF81-669EA269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A1D9-E8CE-4C33-BD96-7C09AAE9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1CE0-C91B-4FA0-8F0B-CBEEFAF8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8B94-ADCA-4E37-AEC4-0515855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CF3E-525D-4486-B2FF-C9525F8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B776-344C-4FA2-9728-674C6366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4ECD-F4D0-448E-AC47-04596767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1F2D-3A1C-4EF1-A638-2C41A69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9E74-4AE6-4953-983E-83733672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1240" y="1550880"/>
            <a:ext cx="9574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3120" y="604800"/>
            <a:ext cx="94741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01600" y="7205760"/>
            <a:ext cx="40320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21823A-CD21-4F59-9022-43AF5032E2C9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604800" y="7205760"/>
            <a:ext cx="110664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01240" y="653760"/>
            <a:ext cx="9574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75185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7518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24480" y="7634160"/>
            <a:ext cx="302256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C7942-B813-4EC4-815E-A6BA66244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7360" y="2022120"/>
            <a:ext cx="85834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06600" y="3959280"/>
            <a:ext cx="7066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 fontScale="44000"/>
          </a:bodyPr>
          <a:p>
            <a:pPr marL="1508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3B385-E92F-41C0-A4DD-94933E7C4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4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854600" y="957240"/>
            <a:ext cx="1440" cy="5875200"/>
          </a:xfrm>
          <a:prstGeom prst="line">
            <a:avLst/>
          </a:prstGeom>
          <a:ln w="9360">
            <a:solidFill>
              <a:srgbClr val="666666"/>
            </a:solidFill>
            <a:prstDash val="sys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1251000"/>
            <a:ext cx="6159240" cy="4964040"/>
          </a:xfrm>
          <a:prstGeom prst="ellipse">
            <a:avLst/>
          </a:prstGeom>
          <a:noFill/>
          <a:ln w="6408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18900000">
            <a:off x="3069720" y="1817280"/>
            <a:ext cx="5860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16200000">
            <a:off x="2584440" y="2960280"/>
            <a:ext cx="5842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2700000">
            <a:off x="5952600" y="1814760"/>
            <a:ext cx="584280" cy="1201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245280" y="1174680"/>
            <a:ext cx="1487520" cy="129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8100000">
            <a:off x="6004800" y="4717800"/>
            <a:ext cx="584280" cy="142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338880" y="5450040"/>
            <a:ext cx="1143000" cy="90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 rot="5400000">
            <a:off x="6473520" y="2962080"/>
            <a:ext cx="58392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838080" y="1360440"/>
            <a:ext cx="2389320" cy="966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63600" y="1539720"/>
            <a:ext cx="1523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8400" y="31827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9760" y="336384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3701880" y="2610000"/>
            <a:ext cx="2351160" cy="235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 rot="5400000">
            <a:off x="4698720" y="-793800"/>
            <a:ext cx="335160" cy="338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 rot="13500000">
            <a:off x="3229560" y="4719600"/>
            <a:ext cx="58572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5632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196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  <a:ea typeface="SimSu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1122480" y="53211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06440" y="549900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346880" y="3328920"/>
            <a:ext cx="98100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10:52Z</dcterms:created>
  <dc:creator>lawrencs</dc:creator>
  <dc:description/>
  <dc:language>en-US</dc:language>
  <cp:lastModifiedBy/>
  <cp:lastPrinted>2010-05-13T07:15:02Z</cp:lastPrinted>
  <dcterms:modified xsi:type="dcterms:W3CDTF">2013-05-23T10:45:52Z</dcterms:modified>
  <cp:revision>145</cp:revision>
  <dc:subject/>
  <dc:title/>
</cp:coreProperties>
</file>