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419360" y="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3971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066680" y="48006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52488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419360" y="952488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9356-4D98-487A-9105-56421E504A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EC0-8DFD-439E-9A66-366C7E48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112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5AA-4BFA-450B-8366-22121795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77F-5C0C-4C57-BA38-E44340D9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04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4440" y="4371120"/>
            <a:ext cx="2919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A7A-0292-445A-B00C-7D0000A0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BEA-4531-4B71-A5B3-178E66BB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4B2-04DC-4224-8B54-E9BB1460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0B3-037A-4B39-9BA7-340F1372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939-6259-4BE7-8049-F126AFCB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D7B-2673-43BF-AF6D-54F5358F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56E-B1F9-4954-AA49-AC45AD1E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37112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791-FD65-42D4-AFDF-E512BC4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1120"/>
            <a:ext cx="9066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699-0441-4742-9E21-123A5CA0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14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89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180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7764-6AB3-4BCD-B0F5-9B4A0D3EA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05920" y="6951600"/>
            <a:ext cx="177480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58720" y="1852560"/>
            <a:ext cx="90662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6720" indent="-299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Corporates direct basis +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 +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 integration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76000"/>
              </a:lnSpc>
              <a:spcAft>
                <a:spcPts val="1137"/>
              </a:spcAft>
              <a:buNone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299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own 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ed at mi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integration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299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Mi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- 499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656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l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600" spc="-1" strike="noStrike">
                <a:solidFill>
                  <a:srgbClr val="000080"/>
                </a:solidFill>
                <a:latin typeface="Arial"/>
              </a:rPr>
              <a:t>DSL Market Develop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96800" y="1344600"/>
            <a:ext cx="658152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US Bill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38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99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84.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K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63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431.3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184.3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anad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716.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2.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: OE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000" y="247680"/>
            <a:ext cx="44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GDP G-7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0480" y="1735200"/>
            <a:ext cx="7178760" cy="4894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4920"/>
            <a:ext cx="864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  <a:ea typeface="Arial Unicode MS"/>
              </a:rPr>
              <a:t>Canadian Business Counts by Company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93400" y="1522440"/>
            <a:ext cx="33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,780 large sized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,400 mid sized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0727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600" spc="-1" strike="noStrike">
                <a:solidFill>
                  <a:srgbClr val="000080"/>
                </a:solidFill>
                <a:latin typeface="Arial"/>
              </a:rPr>
              <a:t>DSL Market Develop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rporat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ive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w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Sales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rew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Integratiion in S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eble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t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59200" y="1581120"/>
            <a:ext cx="4500720" cy="4680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11800" y="3227400"/>
            <a:ext cx="1619280" cy="144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99200" y="5181480"/>
            <a:ext cx="3419280" cy="180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64640" y="2473200"/>
            <a:ext cx="1721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Corpo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350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20280" y="4038480"/>
            <a:ext cx="2256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– 350 tec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468760"/>
            <a:ext cx="22611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0 te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25600"/>
            <a:ext cx="90723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SL Market Develop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d Mark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erou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ebel, SAP, Rem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icrosoft scheduling o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36960" y="1601640"/>
            <a:ext cx="4500720" cy="4680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89560" y="3247920"/>
            <a:ext cx="1619280" cy="180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76960" y="5202360"/>
            <a:ext cx="3419280" cy="144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4920" y="2502000"/>
            <a:ext cx="1468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7320" y="4114800"/>
            <a:ext cx="21542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c2300"/>
                </a:solidFill>
                <a:latin typeface="Arial"/>
              </a:rPr>
              <a:t>Mid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c2300"/>
                </a:solidFill>
                <a:latin typeface="Arial"/>
              </a:rPr>
              <a:t>50 – 350 tech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6040" y="5554800"/>
            <a:ext cx="2059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50 te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286000" y="6324480"/>
            <a:ext cx="1440000" cy="758880"/>
            <a:chOff x="2286000" y="6324480"/>
            <a:chExt cx="1440000" cy="758880"/>
          </a:xfrm>
        </p:grpSpPr>
        <p:sp>
          <p:nvSpPr>
            <p:cNvPr id="73" name=""/>
            <p:cNvSpPr/>
            <p:nvPr/>
          </p:nvSpPr>
          <p:spPr>
            <a:xfrm>
              <a:off x="2286000" y="6324480"/>
              <a:ext cx="53928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06000" y="6324480"/>
              <a:ext cx="72000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105520" y="6172200"/>
            <a:ext cx="1439280" cy="758880"/>
            <a:chOff x="5105520" y="6172200"/>
            <a:chExt cx="1439280" cy="758880"/>
          </a:xfrm>
        </p:grpSpPr>
        <p:sp>
          <p:nvSpPr>
            <p:cNvPr id="76" name=""/>
            <p:cNvSpPr/>
            <p:nvPr/>
          </p:nvSpPr>
          <p:spPr>
            <a:xfrm>
              <a:off x="5105520" y="6172200"/>
              <a:ext cx="53892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25160" y="6172200"/>
              <a:ext cx="71964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914400" y="5486400"/>
            <a:ext cx="1440000" cy="758880"/>
            <a:chOff x="914400" y="5486400"/>
            <a:chExt cx="1440000" cy="758880"/>
          </a:xfrm>
        </p:grpSpPr>
        <p:sp>
          <p:nvSpPr>
            <p:cNvPr id="79" name=""/>
            <p:cNvSpPr/>
            <p:nvPr/>
          </p:nvSpPr>
          <p:spPr>
            <a:xfrm>
              <a:off x="914400" y="5486400"/>
              <a:ext cx="53892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34400" y="5486400"/>
              <a:ext cx="72000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733920" y="5334120"/>
            <a:ext cx="1439280" cy="758880"/>
            <a:chOff x="3733920" y="5334120"/>
            <a:chExt cx="1439280" cy="758880"/>
          </a:xfrm>
        </p:grpSpPr>
        <p:sp>
          <p:nvSpPr>
            <p:cNvPr id="82" name=""/>
            <p:cNvSpPr/>
            <p:nvPr/>
          </p:nvSpPr>
          <p:spPr>
            <a:xfrm>
              <a:off x="3733920" y="5334120"/>
              <a:ext cx="53892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53560" y="5334120"/>
              <a:ext cx="71964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319640" y="2698920"/>
            <a:ext cx="5219640" cy="1440"/>
          </a:xfrm>
          <a:prstGeom prst="line">
            <a:avLst/>
          </a:prstGeom>
          <a:ln w="3600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160720"/>
            <a:ext cx="5940360" cy="1440"/>
          </a:xfrm>
          <a:prstGeom prst="line">
            <a:avLst/>
          </a:prstGeom>
          <a:ln w="36000">
            <a:solidFill>
              <a:srgbClr val="dc2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809880"/>
            <a:ext cx="45007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Mid Mark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: Inception to invoice 4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4495680"/>
            <a:ext cx="12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0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539640"/>
            <a:ext cx="3780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orpo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eption to invoice 1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99280" y="1979640"/>
            <a:ext cx="180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$75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209680"/>
            <a:ext cx="1676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879640"/>
            <a:ext cx="1439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19320" y="5040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029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5029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11320" y="6172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7160" y="6172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324480" y="5257800"/>
            <a:ext cx="1440000" cy="758880"/>
            <a:chOff x="6324480" y="5257800"/>
            <a:chExt cx="1440000" cy="758880"/>
          </a:xfrm>
        </p:grpSpPr>
        <p:sp>
          <p:nvSpPr>
            <p:cNvPr id="98" name=""/>
            <p:cNvSpPr/>
            <p:nvPr/>
          </p:nvSpPr>
          <p:spPr>
            <a:xfrm>
              <a:off x="6324480" y="5257800"/>
              <a:ext cx="538920" cy="758880"/>
            </a:xfrm>
            <a:custGeom>
              <a:avLst/>
              <a:gdLst/>
              <a:ahLst/>
              <a:rect l="l" t="t" r="r" b="b"/>
              <a:pathLst>
                <a:path w="1501" h="2501">
                  <a:moveTo>
                    <a:pt x="0" y="0"/>
                  </a:moveTo>
                  <a:cubicBezTo>
                    <a:pt x="0" y="2000"/>
                    <a:pt x="1500" y="2500"/>
                    <a:pt x="1500" y="250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44480" y="5257800"/>
              <a:ext cx="720000" cy="758880"/>
            </a:xfrm>
            <a:custGeom>
              <a:avLst/>
              <a:gdLst/>
              <a:ahLst/>
              <a:rect l="l" t="t" r="r" b="b"/>
              <a:pathLst>
                <a:path w="2001" h="2501">
                  <a:moveTo>
                    <a:pt x="0" y="2500"/>
                  </a:moveTo>
                  <a:cubicBezTo>
                    <a:pt x="1500" y="2500"/>
                    <a:pt x="2000" y="0"/>
                    <a:pt x="2000" y="0"/>
                  </a:cubicBezTo>
                </a:path>
              </a:pathLst>
            </a:custGeom>
            <a:noFill/>
            <a:ln w="36720">
              <a:solidFill>
                <a:srgbClr val="dc2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986600" y="5116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622840" y="1266840"/>
            <a:ext cx="4291200" cy="3521160"/>
          </a:xfrm>
          <a:prstGeom prst="ellipse">
            <a:avLst/>
          </a:prstGeom>
          <a:noFill/>
          <a:ln w="22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9360"/>
            <a:ext cx="90727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Arial Unicode MS"/>
              </a:rPr>
              <a:t>DSL Market Segmenta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2200" y="971640"/>
            <a:ext cx="4136760" cy="62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undel: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 - integrated SMS + S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ndeled with Sun H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ndled Price: $150k - $2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e in 6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ptional add on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ervi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X 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Or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Led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Et 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02200" y="1752480"/>
            <a:ext cx="3733920" cy="3812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SL  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78720" y="217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2200" y="2573280"/>
            <a:ext cx="3733920" cy="38088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11480" y="2990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02200" y="3394080"/>
            <a:ext cx="373392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n Hardware Opt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39000" y="5467320"/>
            <a:ext cx="373356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25960" y="544032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X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pair, Parts, Recalls,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39000" y="6229440"/>
            <a:ext cx="3733560" cy="380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Servi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47920" y="5848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02200" y="4216320"/>
            <a:ext cx="373392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essional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11480" y="3811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525600"/>
            <a:ext cx="90723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SL Market Develop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36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mall Busines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Targ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integrated 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Scope for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ll Cha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en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4600"/>
                <a:tab algn="l" pos="892080"/>
                <a:tab algn="l" pos="1341360"/>
                <a:tab algn="l" pos="1787400"/>
                <a:tab algn="l" pos="2235240"/>
                <a:tab algn="l" pos="2682720"/>
                <a:tab algn="l" pos="3130560"/>
                <a:tab algn="l" pos="3578400"/>
                <a:tab algn="l" pos="4025880"/>
                <a:tab algn="l" pos="4473720"/>
                <a:tab algn="l" pos="4921200"/>
                <a:tab algn="l" pos="5369040"/>
                <a:tab algn="l" pos="5816520"/>
                <a:tab algn="l" pos="6264360"/>
                <a:tab algn="l" pos="6711840"/>
                <a:tab algn="l" pos="7159680"/>
                <a:tab algn="l" pos="7607160"/>
                <a:tab algn="l" pos="8055000"/>
                <a:tab algn="l" pos="8502480"/>
                <a:tab algn="l" pos="89503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re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40120" y="1504800"/>
            <a:ext cx="4500720" cy="4680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92720" y="3151080"/>
            <a:ext cx="1619280" cy="180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0120" y="5105520"/>
            <a:ext cx="3419280" cy="1440"/>
          </a:xfrm>
          <a:prstGeom prst="line">
            <a:avLst/>
          </a:prstGeom>
          <a:ln w="936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1960" y="2438280"/>
            <a:ext cx="1384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68960" y="3962520"/>
            <a:ext cx="1920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– 350 tec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10400" y="5392800"/>
            <a:ext cx="24332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Small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c2300"/>
                </a:solidFill>
                <a:latin typeface="Arial"/>
              </a:rPr>
              <a:t>&lt;50 te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ncent Jacobs</cp:lastModifiedBy>
  <dcterms:modified xsi:type="dcterms:W3CDTF">2005-03-08T22:05:56Z</dcterms:modified>
  <cp:revision>9</cp:revision>
  <dc:subject/>
  <dc:title>DSL Market Segmentation Plan</dc:title>
</cp:coreProperties>
</file>