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BBD-3C88-4FCB-9229-E06107A2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793-00C1-4ECF-B9D4-C88A56C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58C-9A53-4355-8B89-259F8515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13C-35D6-4EDD-8695-8BDD2620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3C4-057C-4D7B-A015-997A4984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7E0-1C6C-4F00-9FAD-526AB144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646-5D68-42C3-929D-29BCBB9D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0DA-1F34-48AA-8601-0CFAADAC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89D-09B6-4D7E-B740-F03AE8A9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92C-063F-415A-A22B-8748F65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E9B-C697-4383-9673-59D69B5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E59-3170-4852-B8BC-B2B3598A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CAB1-E931-4233-941C-BDF281E3D1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瓜熟蒂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具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噶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5:39:59Z</dcterms:created>
  <dc:creator>lenovo</dc:creator>
  <dc:description/>
  <dc:language>en-US</dc:language>
  <cp:lastModifiedBy>lenovo</cp:lastModifiedBy>
  <dcterms:modified xsi:type="dcterms:W3CDTF">2009-08-31T05:45:59Z</dcterms:modified>
  <cp:revision>2</cp:revision>
  <dc:subject/>
  <dc:title>幻灯片 1</dc:title>
</cp:coreProperties>
</file>