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B647E61-9324-4F0C-A1DC-81AD16448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801E4A-A2AF-44EA-A6B6-4B144C5BF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FC2BAA4-5EE5-4BED-9376-AB69170B2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B198A66-4D39-4EC4-AF40-08156E11F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5447E-75A6-45A6-B49F-E7A549051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C3DD9-8C14-4E9E-A29E-2309962CD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35621-DEEB-46E3-A756-C49489BE9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45EDC-54F2-47DB-A43A-3D000B20F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F6E5A-361F-4271-997E-A04C39071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8D9D1-4FAB-41C0-996C-90C02CC1E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CDB3D-936E-4C7F-8E4A-C2C0074D7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990697-8AD3-4449-96FF-82459DD1E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57590-DEA1-4BAD-9326-AF4EED1D4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A2A35-FE56-40EF-9F64-35BD951ED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68F32-1A45-41F5-8C5C-D0A5EE77C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525D0-2EA3-4BBC-8BD0-5C5437C6D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B6513-6849-4936-BF6A-F05CAD94E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E2A0930-9C83-4518-90C5-E1D124639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6FCFD9D-975D-4DDD-82E5-CD2A99963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A81D956-1F0D-491B-BE99-ED24877A6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3CD028D-ED36-4240-B64F-A6A462102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D2F50E-C40F-4068-AA1C-E291C14C1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C41C17-9256-4C46-96B1-E07EB12C9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B53953-4261-4283-9AFA-0E3C0D805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0029-E8DA-4DBE-B07B-984BE89212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3F3A-972C-4CA7-9EC4-59F6E2C594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utdallas.edu/~gupta/courses/apl/lambda.pdf"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ea typeface="SimSun"/>
              </a:rPr>
              <a:t>Introduction to Functional Programming</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art 1 – The Basic Concepts</a:t>
            </a:r>
            <a:endParaRPr b="0" lang="en-US" sz="3200" spc="-1" strike="noStrike">
              <a:solidFill>
                <a:srgbClr val="ffffff"/>
              </a:solidFill>
              <a:latin typeface="Garamond"/>
            </a:endParaRPr>
          </a:p>
        </p:txBody>
      </p:sp>
      <p:sp>
        <p:nvSpPr>
          <p:cNvPr id="102" name=""/>
          <p:cNvSpPr/>
          <p:nvPr/>
        </p:nvSpPr>
        <p:spPr>
          <a:xfrm>
            <a:off x="6485040" y="5684760"/>
            <a:ext cx="170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Winter You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2012-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Currying</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A -&gt; B -&gt; C -&gt; D =&gt; A -&gt; (B -&gt; (C -&gt; D))</a:t>
            </a:r>
            <a:endParaRPr b="0" lang="en-US" sz="20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Scala Example</a:t>
            </a:r>
            <a:endParaRPr b="0" lang="en-US" sz="28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def add(a: Int)(b: Int) = {</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  </a:t>
            </a:r>
            <a:r>
              <a:rPr b="0" lang="en-US" sz="1600" spc="-1" strike="noStrike">
                <a:solidFill>
                  <a:srgbClr val="ffffff"/>
                </a:solidFill>
                <a:latin typeface="Courier New"/>
                <a:ea typeface="SimSun"/>
              </a:rPr>
              <a:t>a + b</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val increment = add(1) _</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println(increment(2)) // 3</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def addN(n: Int) = {</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  </a:t>
            </a:r>
            <a:r>
              <a:rPr b="0" lang="en-US" sz="1600" spc="-1" strike="noStrike">
                <a:solidFill>
                  <a:srgbClr val="ffffff"/>
                </a:solidFill>
                <a:latin typeface="Courier New"/>
                <a:ea typeface="SimSun"/>
              </a:rPr>
              <a:t>m: Int =&gt; add(n)(m)</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def incrementV2 = addN(1)</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println(incrementV2(2))</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SimSun"/>
              </a:rPr>
              <a:t>Higher-order Functions (Functors)</a:t>
            </a:r>
            <a:endParaRPr b="1" lang="en-US" sz="40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unctions that take other functions as input or output func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ypical usage: collection manipul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igher-higher-order func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igher-higher-higher-…-higher-order-func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Common Collection Operation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ake, takeWhile, drop, dropWhi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oreach, map, flatma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oldLeft, foldRight, redu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ilt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artition, sliding/interleav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zip</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Recursion</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Substitution to loo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ail Call Optimization (TC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Natural to divide-conquer-merge paradigm and self reference defini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rampolin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Quicksort</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ef quicksort[T](lst: List[T</a:t>
            </a:r>
            <a:r>
              <a:rPr b="0" lang="en-US" sz="1800" spc="-1" strike="noStrike">
                <a:solidFill>
                  <a:srgbClr val="ffffff"/>
                </a:solidFill>
                <a:latin typeface="Courier New"/>
                <a:ea typeface="SimSun"/>
              </a:rPr>
              <a:t>])</a:t>
            </a:r>
            <a:r>
              <a:rPr b="0" lang="en-US" sz="1800" spc="-1" strike="noStrike">
                <a:solidFill>
                  <a:srgbClr val="ffffff"/>
                </a:solidFill>
                <a:latin typeface="Courier New"/>
              </a:rPr>
              <a:t>: List[T] = {</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st match {</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ase Nil =&gt; Nil</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ase pivot :: rst =&gt;</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val (smaller, bigger) = rst.partition(_ &lt;= pivot)</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quicksort(smaller) ::: pivot :: quicksort(bigger)</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Fibonacci Sequence</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fib(a: Int, b: Int): Stream[Int]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Stream.cons(a, fib(b, a + b))</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rintln(fib(</a:t>
            </a:r>
            <a:r>
              <a:rPr b="0" lang="en-US" sz="2000" spc="-1" strike="noStrike">
                <a:solidFill>
                  <a:srgbClr val="ffffff"/>
                </a:solidFill>
                <a:latin typeface="Courier New"/>
                <a:ea typeface="SimSun"/>
              </a:rPr>
              <a:t>0, 1</a:t>
            </a:r>
            <a:r>
              <a:rPr b="0" lang="en-US" sz="2000" spc="-1" strike="noStrike">
                <a:solidFill>
                  <a:srgbClr val="ffffff"/>
                </a:solidFill>
                <a:latin typeface="Courier New"/>
              </a:rPr>
              <a:t>).take(10).toLis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Example in Clojure</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declare funa funb)</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defn </a:t>
            </a:r>
            <a:r>
              <a:rPr b="0" lang="pt-BR" sz="2000" spc="-1" strike="noStrike">
                <a:solidFill>
                  <a:srgbClr val="ffffff"/>
                </a:solidFill>
                <a:latin typeface="Courier New"/>
                <a:ea typeface="SimSun"/>
              </a:rPr>
              <a:t>is-even</a:t>
            </a:r>
            <a:r>
              <a:rPr b="0" lang="pt-BR" sz="2000" spc="-1" strike="noStrike">
                <a:solidFill>
                  <a:srgbClr val="ffffff"/>
                </a:solidFill>
                <a:latin typeface="Courier New"/>
              </a:rPr>
              <a:t> [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if (= n 0)</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ea typeface="SimSun"/>
              </a:rPr>
              <a:t>tru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a:t>
            </a:r>
            <a:r>
              <a:rPr b="0" lang="pt-BR" sz="2000" spc="-1" strike="noStrike">
                <a:solidFill>
                  <a:srgbClr val="ffffff"/>
                </a:solidFill>
                <a:latin typeface="Courier New"/>
                <a:ea typeface="SimSun"/>
              </a:rPr>
              <a:t>is-odd</a:t>
            </a:r>
            <a:r>
              <a:rPr b="0" lang="pt-BR" sz="2000" spc="-1" strike="noStrike">
                <a:solidFill>
                  <a:srgbClr val="ffffff"/>
                </a:solidFill>
                <a:latin typeface="Courier New"/>
              </a:rPr>
              <a:t> (dec 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defn </a:t>
            </a:r>
            <a:r>
              <a:rPr b="0" lang="pt-BR" sz="2000" spc="-1" strike="noStrike">
                <a:solidFill>
                  <a:srgbClr val="ffffff"/>
                </a:solidFill>
                <a:latin typeface="Courier New"/>
                <a:ea typeface="SimSun"/>
              </a:rPr>
              <a:t>is-odd</a:t>
            </a:r>
            <a:r>
              <a:rPr b="0" lang="pt-BR" sz="2000" spc="-1" strike="noStrike">
                <a:solidFill>
                  <a:srgbClr val="ffffff"/>
                </a:solidFill>
                <a:latin typeface="Courier New"/>
              </a:rPr>
              <a:t> [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if (= n 0)</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ea typeface="SimSun"/>
              </a:rPr>
              <a:t>fals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a:t>
            </a:r>
            <a:r>
              <a:rPr b="0" lang="pt-BR" sz="2000" spc="-1" strike="noStrike">
                <a:solidFill>
                  <a:srgbClr val="ffffff"/>
                </a:solidFill>
                <a:latin typeface="Courier New"/>
                <a:ea typeface="SimSun"/>
              </a:rPr>
              <a:t>is-even</a:t>
            </a:r>
            <a:r>
              <a:rPr b="0" lang="pt-BR" sz="2000" spc="-1" strike="noStrike">
                <a:solidFill>
                  <a:srgbClr val="ffffff"/>
                </a:solidFill>
                <a:latin typeface="Courier New"/>
              </a:rPr>
              <a:t> (dec n))))</a:t>
            </a:r>
            <a:endParaRPr b="0" lang="en-US" sz="2000" spc="-1" strike="noStrike">
              <a:solidFill>
                <a:srgbClr val="ffffff"/>
              </a:solidFill>
              <a:latin typeface="Garamond"/>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trampoline </a:t>
            </a:r>
            <a:r>
              <a:rPr b="0" lang="en-US" sz="2000" spc="-1" strike="noStrike">
                <a:solidFill>
                  <a:srgbClr val="ffffff"/>
                </a:solidFill>
                <a:latin typeface="Courier New"/>
                <a:ea typeface="SimSun"/>
              </a:rPr>
              <a:t>is-even</a:t>
            </a:r>
            <a:r>
              <a:rPr b="0" lang="en-US" sz="2000" spc="-1" strike="noStrike">
                <a:solidFill>
                  <a:srgbClr val="ffffff"/>
                </a:solidFill>
                <a:latin typeface="Courier New"/>
              </a:rPr>
              <a:t> 100000)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Impl. in Clojure</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defn trampolin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f]</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let [ret (f)]</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if (fn? re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recur re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re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f &amp; arg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trampoline #(apply f arg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Example in Scala</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even2(n: Int): Bounce[Boolean] = {</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f (n == 0) Done(true)</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else Call(() =&gt; odd2(n - 1))</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odd2(n: Int): Bounce[Boolean] = {</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f (n == 0) Done(false)</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else Call(() =&gt; even2(n - 1))</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trampoline(even2(9999))</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Impl. in Scala</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ealed trait Bounce[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ase class Done[A](result: A) extends Bounce[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ase class Call[A](thunk: () =&gt; Bounce[A]) extends Bounce[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trampoline[A](bounce: Bounce[A]): A = bounce match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case Call(thunk) =&gt; trampoline(thunk())</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case Done(x) =&gt; x</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Agend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Definit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Popular FP language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First-class function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lambda expression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Higher-order function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Closure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Currying</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ommon collection operation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Immutability</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Recurs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Lazy evaluation</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Lazy Evaluation</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Thunk</a:t>
            </a:r>
            <a:endParaRPr b="0" lang="en-US" sz="28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A thunk </a:t>
            </a:r>
            <a:r>
              <a:rPr b="0" lang="en-US" sz="2400" spc="-1" strike="noStrike">
                <a:solidFill>
                  <a:srgbClr val="ffffff"/>
                </a:solidFill>
                <a:latin typeface="Garamond"/>
              </a:rPr>
              <a:t>is a parameterless closure created to prevent the evaluation of an expression until forced at a later time</a:t>
            </a:r>
            <a:endParaRPr b="0" lang="en-US" sz="2400" spc="-1" strike="noStrike">
              <a:solidFill>
                <a:srgbClr val="ffffff"/>
              </a:solidFill>
              <a:latin typeface="Garamond"/>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ef delay[U](</a:t>
            </a:r>
            <a:r>
              <a:rPr b="0" lang="en-US" sz="1800" spc="-1" strike="noStrike">
                <a:solidFill>
                  <a:srgbClr val="ffffff"/>
                </a:solidFill>
                <a:latin typeface="Courier New"/>
                <a:ea typeface="SimSun"/>
              </a:rPr>
              <a:t>thunk</a:t>
            </a:r>
            <a:r>
              <a:rPr b="0" lang="en-US" sz="1800" spc="-1" strike="noStrike">
                <a:solidFill>
                  <a:srgbClr val="ffffff"/>
                </a:solidFill>
                <a:latin typeface="Courier New"/>
              </a:rPr>
              <a:t>: =&gt; U) = {</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gt; </a:t>
            </a:r>
            <a:r>
              <a:rPr b="0" lang="en-US" sz="1800" spc="-1" strike="noStrike">
                <a:solidFill>
                  <a:srgbClr val="ffffff"/>
                </a:solidFill>
                <a:latin typeface="Courier New"/>
                <a:ea typeface="SimSun"/>
              </a:rPr>
              <a:t>thunk</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val hello = delay {</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rintln("Hello world")</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rintln("God said, there shall be light.")</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ello()</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Natural Numbers</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val N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def buildNatural(from: Int = 1): Stream[Int]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from #:: buildNatural(from + 1)</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buildNatural()</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rintln(N.take(5).toLis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a:off x="533520" y="4038480"/>
            <a:ext cx="3581280" cy="1752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Fibonacci Sequence Revisited</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fib(a: Int</a:t>
            </a:r>
            <a:r>
              <a:rPr b="0" lang="en-US" sz="2000" spc="-1" strike="noStrike">
                <a:solidFill>
                  <a:srgbClr val="ffffff"/>
                </a:solidFill>
                <a:latin typeface="Courier New"/>
                <a:ea typeface="SimSun"/>
              </a:rPr>
              <a:t> = 0</a:t>
            </a:r>
            <a:r>
              <a:rPr b="0" lang="en-US" sz="2000" spc="-1" strike="noStrike">
                <a:solidFill>
                  <a:srgbClr val="ffffff"/>
                </a:solidFill>
                <a:latin typeface="Courier New"/>
              </a:rPr>
              <a:t>, b: Int</a:t>
            </a:r>
            <a:r>
              <a:rPr b="0" lang="en-US" sz="2000" spc="-1" strike="noStrike">
                <a:solidFill>
                  <a:srgbClr val="ffffff"/>
                </a:solidFill>
                <a:latin typeface="Courier New"/>
                <a:ea typeface="SimSun"/>
              </a:rPr>
              <a:t> = 1</a:t>
            </a:r>
            <a:r>
              <a:rPr b="0" lang="en-US" sz="2000" spc="-1" strike="noStrike">
                <a:solidFill>
                  <a:srgbClr val="ffffff"/>
                </a:solidFill>
                <a:latin typeface="Courier New"/>
              </a:rPr>
              <a:t>): Stream[Int]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 #:: fib(b, a + b)</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p:txBody>
      </p:sp>
      <p:sp>
        <p:nvSpPr>
          <p:cNvPr id="146" name=""/>
          <p:cNvSpPr/>
          <p:nvPr/>
        </p:nvSpPr>
        <p:spPr>
          <a:xfrm>
            <a:off x="838080" y="4800600"/>
            <a:ext cx="533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Int</a:t>
            </a:r>
            <a:endParaRPr b="0" lang="en-US" sz="1800" spc="-1" strike="noStrike">
              <a:solidFill>
                <a:srgbClr val="ffffff"/>
              </a:solidFill>
              <a:latin typeface="Arial"/>
            </a:endParaRPr>
          </a:p>
        </p:txBody>
      </p:sp>
      <p:sp>
        <p:nvSpPr>
          <p:cNvPr id="147" name=""/>
          <p:cNvSpPr/>
          <p:nvPr/>
        </p:nvSpPr>
        <p:spPr>
          <a:xfrm>
            <a:off x="1981080" y="4572000"/>
            <a:ext cx="182880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2209680" y="4800600"/>
            <a:ext cx="533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2732040" y="48769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lambda</a:t>
            </a:r>
            <a:endParaRPr b="0" lang="en-US" sz="1800" spc="-1" strike="noStrike">
              <a:solidFill>
                <a:srgbClr val="ffffff"/>
              </a:solidFill>
              <a:latin typeface="Arial"/>
            </a:endParaRPr>
          </a:p>
        </p:txBody>
      </p:sp>
      <p:sp>
        <p:nvSpPr>
          <p:cNvPr id="150" name=""/>
          <p:cNvSpPr/>
          <p:nvPr/>
        </p:nvSpPr>
        <p:spPr>
          <a:xfrm>
            <a:off x="521280" y="4008600"/>
            <a:ext cx="114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Cons cell</a:t>
            </a:r>
            <a:endParaRPr b="0" lang="en-US" sz="1800" spc="-1" strike="noStrike">
              <a:solidFill>
                <a:srgbClr val="ffffff"/>
              </a:solidFill>
              <a:latin typeface="Arial"/>
            </a:endParaRPr>
          </a:p>
        </p:txBody>
      </p:sp>
      <p:sp>
        <p:nvSpPr>
          <p:cNvPr id="151" name=""/>
          <p:cNvSpPr/>
          <p:nvPr/>
        </p:nvSpPr>
        <p:spPr>
          <a:xfrm>
            <a:off x="4343400" y="4038480"/>
            <a:ext cx="3352680" cy="1752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Cons Cell</a:t>
            </a:r>
            <a:endParaRPr b="0" lang="en-US" sz="1800" spc="-1" strike="noStrike">
              <a:solidFill>
                <a:srgbClr val="ffffff"/>
              </a:solidFill>
              <a:latin typeface="Arial"/>
            </a:endParaRPr>
          </a:p>
        </p:txBody>
      </p:sp>
      <p:cxnSp>
        <p:nvCxnSpPr>
          <p:cNvPr id="152" name=""/>
          <p:cNvCxnSpPr>
            <a:stCxn id="148" idx="0"/>
            <a:endCxn id="151" idx="0"/>
          </p:cNvCxnSpPr>
          <p:nvPr/>
        </p:nvCxnSpPr>
        <p:spPr>
          <a:xfrm flipH="1" flipV="1" rot="5400000">
            <a:off x="3866760" y="2647080"/>
            <a:ext cx="762840" cy="3544200"/>
          </a:xfrm>
          <a:prstGeom prst="curvedConnector5">
            <a:avLst>
              <a:gd name="adj1" fmla="val 129981"/>
              <a:gd name="adj2" fmla="val 50000"/>
              <a:gd name="adj3" fmla="val 12998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A Contrived Example</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 </a:t>
            </a:r>
            <a:r>
              <a:rPr b="0" lang="en-US" sz="1600" spc="-1" strike="noStrike">
                <a:solidFill>
                  <a:srgbClr val="ffffff"/>
                </a:solidFill>
                <a:latin typeface="Courier New"/>
                <a:ea typeface="SimSun"/>
              </a:rPr>
              <a:t>nat</a:t>
            </a:r>
            <a:r>
              <a:rPr b="0" lang="en-US" sz="1600" spc="-1" strike="noStrike">
                <a:solidFill>
                  <a:srgbClr val="ffffff"/>
                </a:solidFill>
                <a:latin typeface="Courier New"/>
              </a:rPr>
              <a:t>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def </a:t>
            </a:r>
            <a:r>
              <a:rPr b="0" lang="en-US" sz="1600" spc="-1" strike="noStrike">
                <a:solidFill>
                  <a:srgbClr val="ffffff"/>
                </a:solidFill>
                <a:latin typeface="Courier New"/>
                <a:ea typeface="SimSun"/>
              </a:rPr>
              <a:t>gen</a:t>
            </a:r>
            <a:r>
              <a:rPr b="0" lang="en-US" sz="1600" spc="-1" strike="noStrike">
                <a:solidFill>
                  <a:srgbClr val="ffffff"/>
                </a:solidFill>
                <a:latin typeface="Courier New"/>
              </a:rPr>
              <a:t>Natural(from: Int = 1): Stream[Int]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from #:: </a:t>
            </a:r>
            <a:r>
              <a:rPr b="0" lang="en-US" sz="1600" spc="-1" strike="noStrike">
                <a:solidFill>
                  <a:srgbClr val="ffffff"/>
                </a:solidFill>
                <a:latin typeface="Courier New"/>
                <a:ea typeface="SimSun"/>
              </a:rPr>
              <a:t>gen</a:t>
            </a:r>
            <a:r>
              <a:rPr b="0" lang="en-US" sz="1600" spc="-1" strike="noStrike">
                <a:solidFill>
                  <a:srgbClr val="ffffff"/>
                </a:solidFill>
                <a:latin typeface="Courier New"/>
              </a:rPr>
              <a:t>Natural(from + 1)</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ea typeface="SimSun"/>
              </a:rPr>
              <a:t>gen</a:t>
            </a:r>
            <a:r>
              <a:rPr b="0" lang="en-US" sz="1600" spc="-1" strike="noStrike">
                <a:solidFill>
                  <a:srgbClr val="ffffff"/>
                </a:solidFill>
                <a:latin typeface="Courier New"/>
              </a:rPr>
              <a:t>Natural()</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 fib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def genFib(a: Int, b: Int): Stream[Int]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 #:: genFib(b, a + b)</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enFib(0, 1)</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rintln(</a:t>
            </a:r>
            <a:r>
              <a:rPr b="0" lang="en-US" sz="1600" spc="-1" strike="noStrike">
                <a:solidFill>
                  <a:srgbClr val="ffffff"/>
                </a:solidFill>
                <a:latin typeface="Courier New"/>
                <a:ea typeface="SimSun"/>
              </a:rPr>
              <a:t>nat</a:t>
            </a:r>
            <a:r>
              <a:rPr b="0" lang="en-US" sz="1600" spc="-1" strike="noStrike">
                <a:solidFill>
                  <a:srgbClr val="ffffff"/>
                </a:solidFill>
                <a:latin typeface="Courier New"/>
              </a:rPr>
              <a:t>.zip(fib).map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case (a, b) =&g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 + b</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ilter(_ % 2 == 0).take(5).toLis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Immutability</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Referential Transparency</a:t>
            </a:r>
            <a:endParaRPr b="0" lang="en-US" sz="32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expression is said to be referentially transparent if it can be replaced with its value without changing the behavior of a program</a:t>
            </a:r>
            <a:endParaRPr b="0" lang="en-US" sz="28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an you tell the difference between read only variables and immutable object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What if a language doesn’t allow you to make assignm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Pure and Lazy</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askel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All expressions are lazy</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No assignments are allowe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No side effects are allowed</a:t>
            </a:r>
            <a:endParaRPr b="0" lang="en-US" sz="2800" spc="-1" strike="noStrike">
              <a:solidFill>
                <a:srgbClr val="ffffff"/>
              </a:solidFill>
              <a:latin typeface="Garamond"/>
            </a:endParaRPr>
          </a:p>
          <a:p>
            <a:pPr marL="343080" indent="-343080">
              <a:spcBef>
                <a:spcPts val="799"/>
              </a:spcBef>
              <a:buClr>
                <a:srgbClr val="ff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Dynamic instruction reorder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o achieve side effects: IO Monad, Writer Mona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Advanced Topics</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Mona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List/monad comprehens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ontinuation/Continuation Passing Style (C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Actor mode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o-routin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Reactive mode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What’s in FP for me?</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racticing mind gymnastics, preventing Alzheimer’s dementia</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Basic ideas can improve implementation code</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Advanced ideas can effect design decisions</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redicting trend of language evolvement</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aving more tools when confronting the challenge of parallelism and non-linear computations</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Enriching your pattern repositor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SimSun"/>
              </a:rPr>
              <a:t>Choosing Your Favorite Language</a:t>
            </a:r>
            <a:endParaRPr b="1" lang="en-US" sz="40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Low barri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omprehensive libraries &amp; active commun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Extensible syntax</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Strong typ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Or maybe just 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Recommended Reading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Structure and Interpretation of Computer Program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cepts, Techniques and Models of Computer Programming</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rogramming in Scala, 2nd Editio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nadic Parser Combinator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ementing First-Class Polymorphic Delimited Continuations by a Type-Directed Selective CPS-Transfor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Definition</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computer science, functional programming is a programming paradigm that treats </a:t>
            </a:r>
            <a:r>
              <a:rPr b="0" lang="en-US" sz="2400" spc="-1" strike="noStrike">
                <a:solidFill>
                  <a:srgbClr val="ffffff"/>
                </a:solidFill>
                <a:latin typeface="Garamond"/>
                <a:ea typeface="SimSun"/>
              </a:rPr>
              <a:t>c</a:t>
            </a:r>
            <a:r>
              <a:rPr b="0" lang="en-US" sz="2400" spc="-1" strike="noStrike">
                <a:solidFill>
                  <a:srgbClr val="ffffff"/>
                </a:solidFill>
                <a:latin typeface="Garamond"/>
              </a:rPr>
              <a:t>omputation as the evaluation of mathematical functions and avoids state and mutable data</a:t>
            </a:r>
            <a:r>
              <a:rPr b="0" lang="en-US" sz="2400" spc="-1" strike="noStrike">
                <a:solidFill>
                  <a:srgbClr val="ffffff"/>
                </a:solidFill>
                <a:latin typeface="Garamond"/>
                <a:ea typeface="SimSun"/>
              </a:rPr>
              <a:t>. (Wikiped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functional programming, programs are executed by evaluating expressions, in contrast with imperative programming where programs are composed of statements which change global state when executed. Functional programming typically avoids using mutable state.</a:t>
            </a:r>
            <a:r>
              <a:rPr b="0" lang="en-US" sz="2400" spc="-1" strike="noStrike">
                <a:solidFill>
                  <a:srgbClr val="ffffff"/>
                </a:solidFill>
                <a:latin typeface="Garamond"/>
                <a:ea typeface="SimSun"/>
              </a:rPr>
              <a:t> (Haskell Wiki)</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oadly speaking, functional programming is a style of programming in which the primary method of computation is the application of functions to arguments.</a:t>
            </a:r>
            <a:r>
              <a:rPr b="0" lang="en-US" sz="2400" spc="-1" strike="noStrike">
                <a:solidFill>
                  <a:srgbClr val="ffffff"/>
                </a:solidFill>
                <a:latin typeface="Garamond"/>
                <a:ea typeface="SimSun"/>
              </a:rPr>
              <a:t> (University of Nottingham)</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ea typeface="SimSun"/>
              </a:rPr>
              <a:t>Q/A</a:t>
            </a:r>
            <a:endParaRPr b="1" lang="en-US" sz="6000" spc="-1" strike="noStrike">
              <a:solidFill>
                <a:srgbClr val="e5e5ff"/>
              </a:solidFill>
              <a:latin typeface="Garamond"/>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txBox="1"/>
          <p:nvPr/>
        </p:nvSpPr>
        <p:spPr>
          <a:xfrm>
            <a:off x="3162240" y="3106800"/>
            <a:ext cx="2819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ank You!</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Popular FP Language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Pure Functional:</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LISP</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Scheme, Common LISP, Clojure</a:t>
            </a:r>
            <a:endParaRPr b="0" lang="en-US" sz="18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Haskell</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Erlang</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O’Caml (ML)</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F#</a:t>
            </a:r>
            <a:endParaRPr b="0" lang="en-US" sz="18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OO-FP</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Ruby</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Scala</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C#</a:t>
            </a: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JavaScript</a:t>
            </a: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All have a garbage collecto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First-class Func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Definit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stored as data structures do</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passed to other function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returned from other function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What’s the de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We can model computa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Lambda Expression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Theory originated from Lambda Calculus. </a:t>
            </a:r>
            <a:r>
              <a:rPr b="0" lang="en-US" sz="2800" spc="-1" strike="noStrike" u="sng">
                <a:solidFill>
                  <a:srgbClr val="ffcc00"/>
                </a:solidFill>
                <a:uFillTx/>
                <a:latin typeface="Garamond"/>
                <a:ea typeface="SimSun"/>
                <a:hlinkClick r:id="rId1"/>
              </a:rPr>
              <a:t>http://www.utdallas.edu/~gupta/courses/apl/lambda.pdf</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Anonymous functions that can be assigned to variables</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applied</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Free and bound variables (closures)</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Lexical and runtime scope</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Functions with multiple arguments (curry)</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composed/nested (higher-order func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Lambda in C#</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etupRibbonItem(homeRibbionGroup,</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Home_ViewNew_ViewIssu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homeRibbionResourceManag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cons.ViewIssuer_16,</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cons.ViewIssuer_32,</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new List&lt;PermissionConstraints&g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null,</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p =&g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CoreRibbonHelper.OpenIssuerTransitionScree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Closur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unctions that have free variables bound at some outer scope (lexical closur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haracteristic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losures establish a new variable scop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ode within a closure can access the symbols defined outsid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SimSun"/>
              </a:rPr>
              <a:t>JavaScript Pattern Using Closures</a:t>
            </a: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function(window)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var jQuery = (function()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window);</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4T02:18:47Z</dcterms:created>
  <dc:creator>Yang, dong</dc:creator>
  <dc:description/>
  <dc:language>en-US</dc:language>
  <cp:lastModifiedBy>Yang, dong</cp:lastModifiedBy>
  <dcterms:modified xsi:type="dcterms:W3CDTF">2012-06-13T02:25:39Z</dcterms:modified>
  <cp:revision>60</cp:revision>
  <dc:subject/>
  <dc:title>Introduction to Functional Programming</dc:title>
</cp:coreProperties>
</file>