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127-7E1B-4823-88B6-C41DA13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07D-085F-43F2-8AB8-D5C227E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448-C0EF-43D6-ABE4-0F49AF71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CE2-E47D-478D-A8E4-8146088B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BB3-1595-458E-AE45-D420E1A7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FFE-1361-4FFD-ABFF-6074CB4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AA8-B1F8-481A-A3DF-B4C2460E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E7B-4982-4AD6-B2BA-0586633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DB-4937-4A6B-B9F7-DA669A6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E36-E63F-40F0-8339-EF06260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C2D-2DFC-4BF8-9CE6-59C37DE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5CF-3A7C-4390-8843-E476FA0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DB07-86D0-45EA-9052-BA1E35610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P to 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is export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35:58Z</dcterms:created>
  <dc:creator/>
  <dc:description/>
  <dc:language>en-US</dc:language>
  <cp:lastModifiedBy/>
  <dcterms:modified xsi:type="dcterms:W3CDTF">2011-09-27T19:17:22Z</dcterms:modified>
  <cp:revision>2</cp:revision>
  <dc:subject/>
  <dc:title/>
</cp:coreProperties>
</file>