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8087-0C50-4750-B386-137D18281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351B-0B1A-4275-8409-84E1A77D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1314-4F1B-4FA0-8ABC-5E386411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481F-0DA8-4966-A038-E625F8AF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3EAE-63DA-4D8B-951B-D4290CF0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CEAE-7C6F-4134-A3AE-9609B28E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F073-2A8A-4453-89F2-29E1A724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1F5C-A4A8-4282-B625-0FF04E90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98CD-F34B-496A-AC72-DF867384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512A-1F03-4142-B8D2-77235D4D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6FD8-B2EE-49B9-8326-9459E6AF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F7F1-F696-4EB9-9D9B-CF95EC36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AE69-0D63-4A15-85D4-2474491416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35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01560" y="1392120"/>
          <a:ext cx="7680600" cy="4532400"/>
        </p:xfrm>
        <a:graphic>
          <a:graphicData uri="http://schemas.openxmlformats.org/drawingml/2006/table">
            <a:tbl>
              <a:tblPr/>
              <a:tblGrid>
                <a:gridCol w="7680600"/>
              </a:tblGrid>
              <a:tr h="453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94240">
                        <a:spcBef>
                          <a:spcPts val="700"/>
                        </a:spcBef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tend that the partial and the conditional rank correlations are equa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94240">
                        <a:spcBef>
                          <a:spcPts val="700"/>
                        </a:spcBef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 the entire procedure many tim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94240">
                        <a:spcBef>
                          <a:spcPts val="700"/>
                        </a:spcBef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culate the correlation matrix from thes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</a:t>
                      </a: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les and compare with the original correlation matrix </a:t>
                      </a:r>
                      <a:r>
                        <a:rPr b="1" i="1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20880" y="1670040"/>
            <a:ext cx="2822400" cy="3957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416640" y="0"/>
            <a:ext cx="2995560" cy="1592280"/>
          </a:xfrm>
          <a:prstGeom prst="wedgeRoundRectCallout">
            <a:avLst>
              <a:gd name="adj1" fmla="val -64361"/>
              <a:gd name="adj2" fmla="val 389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 case: FFC252FFCSD_Paragraph_Indent_Table0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: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us:  Paragraph with certain indent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8T23:29:02Z</dcterms:created>
  <dc:creator>renyuxia</dc:creator>
  <dc:description/>
  <dc:language>en-US</dc:language>
  <cp:lastModifiedBy>renyuxia</cp:lastModifiedBy>
  <dcterms:modified xsi:type="dcterms:W3CDTF">2005-05-09T00:06:41Z</dcterms:modified>
  <cp:revision>5</cp:revision>
  <dc:subject/>
  <dc:title>Slide 1</dc:title>
</cp:coreProperties>
</file>