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2120" y="7426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720" y="4716000"/>
            <a:ext cx="53323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7840" y="94294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CB7C9-244F-4D34-A9E4-BA18B3EAA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2480" y="7444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CF9B-AFAB-449D-AC38-5DFF124E4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666D-5CDC-45E8-8ACA-AC9726A4A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180F-8E72-44B2-B1D6-B721B0434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888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1240" y="133488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6652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888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1240" y="3786840"/>
            <a:ext cx="25542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E4B5-FCC6-427D-8ED1-E5A0B9DA3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0935-C607-4513-8367-A18EE0056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3C91-A4F5-4815-B52F-977E4A9A4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5ADA-6924-48A8-824F-C845066F2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12EF-5067-472D-A9A8-3746307C5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115920"/>
            <a:ext cx="805968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41DA-322E-4511-8BE4-5DB696F6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3B7F-F023-4291-99D3-922381EFE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1640" y="378684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72CA-FFDC-4741-AFA3-5AD556317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652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1640" y="1334880"/>
            <a:ext cx="387108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66520" y="3786840"/>
            <a:ext cx="7932600" cy="22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FB3D-7550-4A94-A212-C1BCEDBE3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66520" y="1334880"/>
            <a:ext cx="7932600" cy="469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400"/>
              </a:spcBef>
              <a:buClr>
                <a:srgbClr val="000099"/>
              </a:buClr>
              <a:buSzPct val="9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400"/>
              </a:spcBef>
              <a:buClr>
                <a:srgbClr val="d81e04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39800" y="115920"/>
            <a:ext cx="805968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5080" y="843120"/>
            <a:ext cx="8278920" cy="36360"/>
          </a:xfrm>
          <a:prstGeom prst="rect">
            <a:avLst/>
          </a:prstGeom>
          <a:solidFill>
            <a:srgbClr val="aea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5080" y="779400"/>
            <a:ext cx="8278920" cy="36720"/>
          </a:xfrm>
          <a:prstGeom prst="rect">
            <a:avLst/>
          </a:prstGeom>
          <a:solidFill>
            <a:srgbClr val="d81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84840" y="6578640"/>
            <a:ext cx="655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31D906-38DB-4F2A-B301-FFD0236EEDD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2040" y="77760"/>
            <a:ext cx="831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2585a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800" y="214920"/>
            <a:ext cx="80596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BCDE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052640"/>
            <a:ext cx="4405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39960" bIns="39960" anchor="ctr">
            <a:no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hij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6880" y="1557360"/>
          <a:ext cx="7932600" cy="4397400"/>
        </p:xfrm>
        <a:graphic>
          <a:graphicData uri="http://schemas.openxmlformats.org/drawingml/2006/table">
            <a:tbl>
              <a:tblPr/>
              <a:tblGrid>
                <a:gridCol w="752400"/>
                <a:gridCol w="6357960"/>
                <a:gridCol w="822240"/>
              </a:tblGrid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u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Wymaganie / funkcjonalnoś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Wag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i obsługa klie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pali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asortymentu pozapaliwowe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przedaż usłu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sprzedażo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mocje i raba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kturowani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rządzanie danymi klientó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ne dokumenty związane z asortyment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wspólne dla wszystkich dokumentó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.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je dodatko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Zarządzanie kas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bsługa systemu lojalnościowego VIT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zpoczęcie i zakończenie pra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ne funkc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XX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14D6-8C49-4553-9009-6ABB7C0FF0D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ek Banaśkiewicz</dc:creator>
  <dc:description/>
  <dc:language>en-US</dc:language>
  <cp:lastModifiedBy>Jakub Nadolny</cp:lastModifiedBy>
  <dcterms:modified xsi:type="dcterms:W3CDTF">2006-05-30T12:50:09Z</dcterms:modified>
  <cp:revision>54</cp:revision>
  <dc:subject/>
  <dc:title>Zarząd - listopda 2005</dc:title>
</cp:coreProperties>
</file>