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473D0-E90B-4CD9-AD3E-A694EABEC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C3E1-AE3D-41C9-9761-155F95A96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6E876-F77B-46F2-B7DF-5F8CD573F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01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696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01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696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CDE30-76E9-4A6F-A6F8-75A50D671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B9941-3860-4CA2-ACC6-278B57617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DD670-89CB-40F0-810C-9857BA87B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65977-8099-4448-A544-1C1ED0E04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CC4FB-5AA0-4CBE-ABE0-E86501AAE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70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C09BF-43C3-4D9F-BF27-C93A77C17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065C4-D7AF-44DA-895E-0FFFF1577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F5312-1E96-4B30-BDAA-02858C31E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0FA5-0280-476D-A72E-0B1E0C079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 algn="r" rtl="1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 algn="r" rtl="1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 algn="r" rtl="1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 algn="r" rtl="1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 algn="r" rtl="1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 algn="r" rtl="1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 algn="r" rtl="1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61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39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46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1F9DD-16D8-4BC0-984B-8EC06B37A92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avidMF"/>
              </a:rPr>
              <a:t>מצגת פשוטה בעברי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23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לבדיקת ייצוא למיקרוסופט אופי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236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בדיקת רשימה עברי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863640" indent="-287280" algn="r" rtl="1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טקסט עבר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63640" indent="-287280" algn="r" rtl="1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עוד קצת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63640" indent="-287280" algn="r" rtl="1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וגם מספור עברי (מוזר משהו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63640" indent="-287280" algn="r" rtl="1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מה יקרה בסוף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295280" indent="-215640" algn="r" rtl="1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האם הכל יעבור בסדר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295280" indent="-215640" algn="r" rtl="1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מה זה הפונט הזעיר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63640" indent="-287280" algn="r" rtl="1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אחד אחרון ודי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שושנה פורבס</dc:creator>
  <dc:description/>
  <dc:language>en-US</dc:language>
  <cp:lastModifiedBy>שושנה פורבס</cp:lastModifiedBy>
  <cp:revision>0</cp:revision>
  <dc:subject/>
  <dc:title/>
</cp:coreProperties>
</file>