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D93-2DDE-49A7-A306-D591FAE3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83E-15EE-4E93-AEC2-F8BD6B3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75D-6630-4EBE-8D68-2D3301DB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162-617D-4CD6-99FF-E2A35410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304-AFAE-432D-B722-8DB08D75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D23-76B7-4628-93B7-3E189800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032-D6A2-48B6-A306-50C05D18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609-B6D6-468B-8879-0C60E57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50C-071B-4C24-8967-9A93F76D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7A8-4F64-427B-9E94-F914F5F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3A9-B8CE-4276-B571-9158A48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83C-8F1E-43C6-951F-AE71840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262-5402-47E0-BE70-2627908C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43320" y="17146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6920" y="2838600"/>
            <a:ext cx="1214640" cy="91440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3933720"/>
            <a:ext cx="1214280" cy="914400"/>
          </a:xfrm>
          <a:prstGeom prst="parallelogram">
            <a:avLst>
              <a:gd name="adj" fmla="val 921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495480" y="2809800"/>
            <a:ext cx="1228680" cy="1000080"/>
          </a:xfrm>
          <a:prstGeom prst="parallelogram">
            <a:avLst>
              <a:gd name="adj" fmla="val 307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462000" y="3990960"/>
            <a:ext cx="1343160" cy="1085760"/>
          </a:xfrm>
          <a:prstGeom prst="parallelogram">
            <a:avLst>
              <a:gd name="adj" fmla="val 30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043600" y="4014720"/>
            <a:ext cx="942840" cy="10857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2747880"/>
            <a:ext cx="971640" cy="110016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043080" y="3957480"/>
            <a:ext cx="1128960" cy="914400"/>
          </a:xfrm>
          <a:prstGeom prst="parallelogram">
            <a:avLst>
              <a:gd name="adj" fmla="val 8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4012400">
            <a:off x="5676840" y="1519200"/>
            <a:ext cx="1228680" cy="100008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3:36:03Z</dcterms:created>
  <dc:creator>user</dc:creator>
  <dc:description/>
  <dc:language>en-US</dc:language>
  <cp:lastModifiedBy>user</cp:lastModifiedBy>
  <dcterms:modified xsi:type="dcterms:W3CDTF">2011-05-04T13:36:14Z</dcterms:modified>
  <cp:revision>1</cp:revision>
  <dc:subject/>
  <dc:title>Slide 1</dc:title>
</cp:coreProperties>
</file>