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58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12D-F2D3-4826-A7A3-13DCAE52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F4A-5D3A-43DF-AC6D-DF995CB2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EFB-FBB2-4D24-BFBB-BD647ABA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908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012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0804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908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012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554-DAB4-4848-94CA-0B60F4A8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DA56-BB48-496D-9304-872008CE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064-C1BD-43B0-8CC5-D208C5E1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62EA-4B1E-4642-8251-3AAD5850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BEF-23DA-472D-87AF-D6978A4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2D3-B6A3-4462-8459-5B11930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4200" y="1447560"/>
            <a:ext cx="85500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8279-E289-4498-9995-DA4787AD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A91-21DE-4AD6-A2E2-20FDB73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CD1-AB31-46AC-8AE5-E3B792DB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7CB4-2684-4097-9C31-9F87B76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5E32-40BD-4232-8516-6F7901E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1A5C-6316-4E56-A0AF-650E9456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33D-B531-401F-98AC-643B7C8B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8908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0120" y="373392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0804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8908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0120" y="4649760"/>
            <a:ext cx="2267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4C6-0C5D-440C-A629-C621ACB3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555-7E23-40D5-BD33-2831ABF2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823-E871-4278-9B10-125EBC2F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ACD-B649-4E97-8C87-04941B9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447560"/>
            <a:ext cx="85500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96D-6930-492D-8E50-422A866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63B-311F-4423-BC3F-2541C5D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6680" y="464976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E84-68A4-42C8-94D8-4CDBC4B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0804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680" y="3733920"/>
            <a:ext cx="3436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08040" y="4649760"/>
            <a:ext cx="7042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DA9-0901-4DE5-B1E4-12BC250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3280" y="1708200"/>
            <a:ext cx="870912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38052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420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42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3692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90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D240-20DC-475C-983D-CCB7F18967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42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36920" y="632448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09000" y="6324480"/>
            <a:ext cx="209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E0B-2E5B-4745-BC2E-C7D33DE885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66680" y="2362320"/>
            <a:ext cx="8152920" cy="1599840"/>
            <a:chOff x="1066680" y="236232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3495960" y="236232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21440" y="252756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80760" y="274824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307836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02920" y="1604520"/>
            <a:ext cx="9052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4200" y="14475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Verdana"/>
              </a:rPr>
              <a:t>#1</a:t>
            </a:r>
            <a:br>
              <a:rPr sz="1400"/>
            </a:br>
            <a:br>
              <a:rPr sz="1400"/>
            </a:br>
            <a:r>
              <a:rPr b="1" i="1" lang="en-US" sz="3600" spc="-1" strike="noStrike">
                <a:solidFill>
                  <a:srgbClr val="ffcc66"/>
                </a:solidFill>
                <a:latin typeface="Arial Narrow"/>
              </a:rPr>
              <a:t>WazzupMedia</a:t>
            </a:r>
            <a:r>
              <a:rPr b="1" i="1" lang="en-US" sz="2000" spc="-1" strike="noStrike">
                <a:solidFill>
                  <a:srgbClr val="ffcc66"/>
                </a:solidFill>
                <a:latin typeface="Arial Narrow"/>
              </a:rPr>
              <a:t>.com</a:t>
            </a:r>
            <a:br>
              <a:rPr sz="2000"/>
            </a:b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Executive Presentation</a:t>
            </a:r>
            <a:br>
              <a:rPr sz="2000"/>
            </a:b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08040" y="3733920"/>
            <a:ext cx="7042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cc"/>
                </a:solidFill>
                <a:uFillTx/>
                <a:latin typeface="Verdana"/>
              </a:rPr>
              <a:t>Confidential Information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© 2003, Information Technology Grou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Verdana"/>
              </a:rPr>
              <a:t>www.itgroup.r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41200" y="595800"/>
            <a:ext cx="3128040" cy="1856880"/>
            <a:chOff x="1141200" y="595800"/>
            <a:chExt cx="3128040" cy="1856880"/>
          </a:xfrm>
        </p:grpSpPr>
        <p:sp>
          <p:nvSpPr>
            <p:cNvPr id="91" name=""/>
            <p:cNvSpPr txBox="1"/>
            <p:nvPr/>
          </p:nvSpPr>
          <p:spPr>
            <a:xfrm rot="21202200">
              <a:off x="1218960" y="762120"/>
              <a:ext cx="297180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1225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atin typeface="Times New Roman"/>
                </a:rPr>
                <a:t>Wazzu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931480" y="1873800"/>
              <a:ext cx="122328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6969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medi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2:42:08Z</dcterms:created>
  <dc:creator>.</dc:creator>
  <dc:description/>
  <dc:language>en-US</dc:language>
  <cp:lastModifiedBy>Gil</cp:lastModifiedBy>
  <dcterms:modified xsi:type="dcterms:W3CDTF">2004-09-14T11:12:39Z</dcterms:modified>
  <cp:revision>551</cp:revision>
  <dc:subject/>
  <dc:title>Title</dc:title>
</cp:coreProperties>
</file>