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3F3-69C7-45DD-B5A6-F1E3914C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09B-6FAD-40CB-AB2C-5E7BE255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4FF-3143-4FAD-87F2-61B264ED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C23-04F1-4F05-9BD2-B1B48173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C309-B102-4B01-8003-E794A613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BE97-B518-4086-8416-1DE2E81B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2562-B24B-44D4-892F-6B3BD5B9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F48B-C1B3-4692-A678-2443D460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4571-30F1-454A-B3A6-71BE9030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9C3A-C7E4-4B5F-916A-B8C292C5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B08D-2058-49B0-B6C0-C0CE9D7A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9E0-CBA0-41FF-8F7B-9DF2ED0D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E15D-D734-4EED-9950-CC50949A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0BD8-BB13-481B-87A0-B9A7233D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B80D-0B0B-406D-B598-05C02A81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AFEC-FDA5-43BD-A69A-B5324CD9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B3BF-0F4C-433D-9646-99200407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275-42D8-4FB3-81DE-51625161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979-0A09-4F39-B1BB-62F000DC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B6F-6C2D-4915-910F-45AE3951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D1B-F3DD-4150-974D-8B3B7C35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AB9-D13F-49CB-8874-5FD2305C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D76-4C72-4EA0-91C6-C8D5EF0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768-FF6C-4651-8DE8-1C0089A1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0720"/>
            <a:ext cx="8542080" cy="1052280"/>
            <a:chOff x="457200" y="990720"/>
            <a:chExt cx="8542080" cy="1052280"/>
          </a:xfrm>
        </p:grpSpPr>
        <p:sp>
          <p:nvSpPr>
            <p:cNvPr id="1" name=""/>
            <p:cNvSpPr/>
            <p:nvPr/>
          </p:nvSpPr>
          <p:spPr>
            <a:xfrm flipH="1">
              <a:off x="8270280" y="109872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997760" y="10987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8162280" y="152100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846560" y="152100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8439120" y="144792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33256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456840" y="178128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228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666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095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D149-C0AD-4F7F-9AB7-5F9E69E7A3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4CEC-04F1-47E8-93F5-24ACEB63AE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2452680"/>
            <a:ext cx="8542080" cy="1052280"/>
            <a:chOff x="457200" y="2452680"/>
            <a:chExt cx="8542080" cy="1052280"/>
          </a:xfrm>
        </p:grpSpPr>
        <p:sp>
          <p:nvSpPr>
            <p:cNvPr id="54" name=""/>
            <p:cNvSpPr/>
            <p:nvPr/>
          </p:nvSpPr>
          <p:spPr>
            <a:xfrm flipH="1">
              <a:off x="8270280" y="25606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997760" y="25606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8162280" y="29829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846560" y="29829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8439120" y="29098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8332560" y="24526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56840" y="32432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איומים?</a:t>
            </a:r>
            <a:br>
              <a:rPr sz="4400"/>
            </a:b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על תשתיות?</a:t>
            </a:r>
            <a:br>
              <a:rPr sz="4400"/>
            </a:b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באינטרנט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דורון שקמונ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הכינוס ה-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של איגוד האינטרנט הישראל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ahoma"/>
              </a:rPr>
              <a:t>17 </a:t>
            </a:r>
            <a:r>
              <a:rPr b="0" lang="he-IL" sz="1800" spc="-1" strike="noStrike">
                <a:solidFill>
                  <a:srgbClr val="000000"/>
                </a:solidFill>
                <a:latin typeface="Tahoma"/>
              </a:rPr>
              <a:t>פברואר  </a:t>
            </a:r>
            <a:r>
              <a:rPr b="0" lang="he-IL" sz="18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תשתיות קריטיו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סיכון = איום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×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סיכו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אין ספק כי הנזק, במקרה של פגיעה, עצו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הפגיעוּת, לעומת זאת, נמוכה ממה שמקובל לחשו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האינטרנט מעט פחות רלבנטי כאמצעי גישה לתשתיות קריטיו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דרוש רצף אירועים משמעותי בכדי ליצור תוצאה אפוקליפטי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עם זאת, האיום אמיתי ומחייב התייחסו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מה יכול להיות מותקף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כמעט הכ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חשמ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בתי זיקו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טלקו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מערכות ממשלתי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תשתיות מוניציפאלי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בנקא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תחבורה, תעופ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תקשורת המונ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מערכת הרמזורים של לונדון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התייחסויות בארה"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דו"ח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הבית הלבן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דו"ח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l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ביקורת על עמדת דו"ח הממשל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הטלת כובד המשקל על הסקטור העסקי והפרטי, בלי למצות ריבונ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מגדיר יחס הדדי, דו-כיווני, בין פגיעות פיסיות לבין פגיעות דיגיטלי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דו"ח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תשתיות קריטיות ורשתות מחשב הן ישויות נפרדות ובלתי תלויות; האיום במדיה מוגז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ובינתי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B, NIPC, DHS, NSA, ICANN DNSS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מה נדר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מבט מרכזי על תקשוב מערכות תשתית קריטיו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בניית אסטרטגיה ללימוד(!) וטיפול באיומים אל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תיאום ושיתוף מידע בין ישויות ורשויו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דוגמת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SPP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באירופ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בהחלטת ממשלה, לאחר עיכוב ארוך, מוקם בימים אלה  גוף שתפקידו לעסוק בכ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צעד נכון וחשוב, אם גם מאוח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חסרון עיקרי: משקל גבוה מדי לגופים בטחוני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משפיע על שיקול דעת וכיוון מחשב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עשוי להשפיע על קבלת מרות ושת"פ, בגופים אזרחי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סיכו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איום על מערכות מידע קיים, קרוב ומייד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תשתיות קריטיות הן פגיעות, וחשופות לפגיעה מכוונ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עדיין חסרה מודעות רוחבית, מערכתית, לאיומים מסוג זה, ותקציבים לטיפול בה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כדי להצליח בהתמודדות, חשוב לשמור על גישה מאוזנת, רחבה, בטיפול בתשתיות אזרחיו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תודה רבה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איומים על הרשת ומרכיבי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רשת האינטרנט מהווה גורם משמעותי בזרימת המידע, הכלכלה והמסחר בעולם המערב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פגיעה באתרי מידע מרכזיים (פברואר השחור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פגיעה בשדרת הרשת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ammer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פגיעה בתשתיות הרשת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/TLD DNS, BGP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כיום, "עדרים" של מערכות פרוצות ממתינות לפקודה לבצע התקפות, כדוגמת הצפה מבוזרת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oS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) או אחרו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איומים על תשתיות קריטיו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תקיפה, 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Tahoma"/>
              </a:rPr>
              <a:t>דרך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 רשת האינטרנט, של מערכות תשתית קריטיות, כאלה שהחברה תלויה בה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תשתיות אנרגיה, תקשורת, תחבורה, כלכלה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שימוש בטכניקות פריצה מהאינטרנט, תוך דילוג ממערכות מקושרות לרשת למערכות אחוריות וקריטיות יות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איומים על תשתיות קריטיות (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תקיפה ישירה של מערכות תשתית קריטיות כנ"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גישה בחיו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מערכות שירות חומרה/תוכנה של ספק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סוסים טרויאניים רדומ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סיוע פנימ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איום משול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דוגמא, סוס טרויאני שהושת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OB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, מופעל דרך הרש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אפקטים מסדר שני כתוצאה מהתקיפות לעי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כאוס כלכלי, התערערות שלטונית, ניצול הזדמנוי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איום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כאשר הוא מקושר לאיומי הטרור הגלובאליים, ולתלות העצומה של העולם המתועש המודרני במערכות ורשתות מחשבים – פוטנציאל הפגיעה נראה מחרי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ובאותה עת, מזכיר משהו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שנת 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גישות קוטביות בהתייחסות ציבורי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"התקפה ע"י פורצי מחשב מחו"ל עשויה להיות קשה הרבה יותר מפרל-הרבור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chard Clarke,  Dec 199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תקיפות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oS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 הן "ניסויים" של גורמים עוייני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חורבן, השבתת החיים המודרניים המוכרים לנ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שבתת אספקת חשמל, פריצת סכרים, ניתוק רשתות טלקומוניקציה, קריסת מערכות מונטריות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43800" y="526572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גישות קוטביות בהתייחסות ציבורי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בקונטקסט של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11/9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ואיומי טרור פיזי מאסיבי, איומים על מחשבים הם, בסופו של דבר, רק איומים על מחשבים. מוירוס מחשב לא מת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אלה המהלכים אימים פשוט מבקשים תקציבים או עבודה (יועצי האפוקליפסה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ההתקפות מתבצעות ע"י ילדים, לא מחבל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הטרור הבינלאומי מוכוון להרג מיידי, לא עקי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לפני שנים ספורות היינו בסרט הזה. איומי סוף החיים המודרניים התגלו כמוגזמים קמעה, לא לפני שחלק מהמוכיחים בשער התעשרו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0120" y="5464080"/>
            <a:ext cx="152532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נו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אם איום הטרור הקיברנטי קרוב ומיידי (לנוס להרים ולבנות מקלט אטומי)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או, שכמו בהרבה נושאים דומים, זוהי פוליטיקה של סדרי עדיפויות וכוח, וניתן להתעלם מהאיומים ונבואות החורבן ופשוט להיזהר בכבישים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איומים על רשת האינטרנ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תקיפות על תשתית האינטרנט הן איום מעשי ומייד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(תשתיתית, ופגיעה במידע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תשתיות תקשורת – שדרה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ammer? DD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סיכון כלכלי ועסקי, לעתים מצטב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סיכון הבטחוני – לא ברור, כנראה נמו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ron Shikmoni</dc:creator>
  <dc:description/>
  <dc:language>en-US</dc:language>
  <cp:lastModifiedBy>Doron Shikmoni</cp:lastModifiedBy>
  <dcterms:modified xsi:type="dcterms:W3CDTF">2003-02-16T18:45:07Z</dcterms:modified>
  <cp:revision>10</cp:revision>
  <dc:subject/>
  <dc:title>איומים? על תשתיות? באינטרנט??</dc:title>
</cp:coreProperties>
</file>