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F79A-9ED7-4887-B946-DEFE090C0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87818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4080" y="3043440"/>
            <a:ext cx="87818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EFB3-EDC7-4E3B-A98E-DB3800D7E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4080" y="163332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080" y="304344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4080" y="304344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674F-2D01-40B9-A416-7EF25ADD5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2827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23360" y="1633320"/>
            <a:ext cx="2827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2640" y="1633320"/>
            <a:ext cx="2827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4080" y="3043440"/>
            <a:ext cx="2827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23360" y="3043440"/>
            <a:ext cx="2827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2640" y="3043440"/>
            <a:ext cx="2827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ECB5-07F6-4E86-AD77-6E13860B2C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4080" y="1633320"/>
            <a:ext cx="8781840" cy="26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EF9F-1E7F-40F2-AFD6-FB00C318C4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87818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D268-DB4E-469C-AD49-A6EFD3391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42854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4080" y="1633320"/>
            <a:ext cx="42854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15BB-11E2-4C54-ABA3-7A7D8DA7B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5705-A5E7-4DE5-90E5-664444C0F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4080" y="665280"/>
            <a:ext cx="898992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2C57-8F0E-4F56-BC01-43FD07D29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4080" y="1633320"/>
            <a:ext cx="42854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4080" y="304344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2B5F-8C01-404E-B1E1-480FED46A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42854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4080" y="163332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4080" y="304344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DF3D-FFEC-493C-8EE5-53B469238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163332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4080" y="1633320"/>
            <a:ext cx="42854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4080" y="3043440"/>
            <a:ext cx="87818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AA2C-2BF4-4CA4-9228-128CA9E02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31040"/>
            <a:ext cx="9144000" cy="4269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7889f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"/>
          <p:cNvPicPr/>
          <p:nvPr/>
        </p:nvPicPr>
        <p:blipFill>
          <a:blip r:embed="rId2"/>
          <a:stretch/>
        </p:blipFill>
        <p:spPr>
          <a:xfrm>
            <a:off x="-14400" y="-3240"/>
            <a:ext cx="9158400" cy="4428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4080" y="665280"/>
            <a:ext cx="898992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54080" y="1633320"/>
            <a:ext cx="87818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4000" y="6467400"/>
            <a:ext cx="1856880" cy="365040"/>
            <a:chOff x="54000" y="6467400"/>
            <a:chExt cx="1856880" cy="365040"/>
          </a:xfrm>
        </p:grpSpPr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54000" y="6467400"/>
              <a:ext cx="37440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 txBox="1"/>
            <p:nvPr/>
          </p:nvSpPr>
          <p:spPr>
            <a:xfrm>
              <a:off x="473040" y="6616440"/>
              <a:ext cx="1437840" cy="125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Innovation for a smarter planet</a:t>
              </a:r>
              <a:endPara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327880" y="6592680"/>
            <a:ext cx="673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E167-BEDD-4849-90EC-BA462E470C2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327880" y="6593040"/>
            <a:ext cx="67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EEE3-07D2-41B5-88FA-D81A7A43CF5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080" y="593280"/>
            <a:ext cx="89899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080" y="1914480"/>
            <a:ext cx="87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20:38:27Z</dcterms:created>
  <dc:creator>Kelli Houston</dc:creator>
  <dc:description/>
  <dc:language>en-US</dc:language>
  <cp:lastModifiedBy>crystal</cp:lastModifiedBy>
  <dcterms:modified xsi:type="dcterms:W3CDTF">2012-05-29T06:28:57Z</dcterms:modified>
  <cp:revision>1132</cp:revision>
  <dc:subject/>
  <dc:title>Core MCIF Overview Presentation (customer-facing)</dc:title>
</cp:coreProperties>
</file>