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D305-4EA5-4CBB-ACDF-E0AAE2A42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3EB3-7669-4EC4-946A-40EEB4B08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97A7-13A5-45EE-81D2-5C0168366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8D60-F1C7-46EC-A871-833C47EE5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39AD-3967-4AAC-BDF0-7392B8070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0049-1ACE-4193-8F87-E9BDC24A4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7EF3-373C-4022-9B96-C6B32FE00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86EA-C8CC-4A40-A55C-E0085BD2B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F61F-C6FA-4260-8DD8-2836E2271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9A15-A1D0-427A-9A5A-7C7A673C9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2902-B8D8-4A27-83E3-6C056A41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AC99-DA39-46CA-8479-F93065896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6B49E-E762-4542-A893-06A3C89E16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2613.WAV" TargetMode="External"/><Relationship Id="rId2" Type="http://schemas.microsoft.com/office/2007/relationships/media" Target="file:///tmp/home/.config/libreoffice/4/user/gallery/~PP2613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 notep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wordp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2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27T08:55:28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