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BDC-DD68-422D-882E-6F93CE03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E77-A77F-44A7-967B-902CBC4E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A4D-CB77-47E0-A198-6C330887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557-66EB-4ED0-A121-85457802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7A4-1DB4-41DE-9075-9879E72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4E7-2465-4093-91B7-93096B52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8C0-D22A-4CB5-AEB2-A158466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AD0-8CC9-4154-8E48-7CA835C0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BD7-55C1-4C6C-A184-C94D6ED2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9C7-1F26-48DA-B7C0-AD7CBCD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945-7780-4BAF-9697-7A256641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648-FFE2-4C38-A0EE-28B0D853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285B-43C7-422F-AA99-47B16B4AE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28600" y="4343400"/>
                <a:ext cx="86868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7:58:45Z</dcterms:created>
  <dc:creator>Maurits Haverkort</dc:creator>
  <dc:description/>
  <dc:language>en-US</dc:language>
  <cp:lastModifiedBy>tburnus</cp:lastModifiedBy>
  <dcterms:modified xsi:type="dcterms:W3CDTF">2007-09-10T11:05:43Z</dcterms:modified>
  <cp:revision>18</cp:revision>
  <dc:subject/>
  <dc:title>`Cluster` calculations</dc:title>
</cp:coreProperties>
</file>