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CB6C-1C2F-4DF4-916B-68454C43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29DB-28A9-4E64-977C-A6EAAD00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D636-9C8B-4BC5-B5C3-DF9676E6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5A69-DC74-43B4-83CD-788FF419F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DB43-57ED-4332-A597-7DC094049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4C20-E867-4F49-A57C-81886A25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AED0-00B5-4034-A514-0812D907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F88C-BAC2-4254-97D6-20DC32A8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753D-4DE6-4539-8B5A-9BA1BF16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30F8-6E5D-46E4-B146-685F9086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5E20-C3A0-4C62-8262-9DE5DE68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5A66-BBC1-4115-B055-838E149C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9A30-E995-4A78-8983-C53E7A62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D635-964A-439A-9676-DDE69C8A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3140-BC4C-4CAE-9A35-35E3E2CC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00C6-242A-4FF9-B9C3-5FB0A637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438D-56A9-4723-9378-8AFF29134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2691-9BA5-4EDE-894E-6F37FFFC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7EA2-05CC-4214-96CE-D342B302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FB2A-4771-4AE0-B641-5CD8C668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1953-79A4-49BE-AA3B-337DDBDA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B06F-EAB5-4A69-8B0C-443BEEDF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3AD4-C4E5-404D-B732-632C6F4F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CB81-413F-4D53-9581-BA1C84BE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 algn="r" rtl="1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 algn="r" rtl="1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 algn="r" rtl="1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 algn="r" rtl="1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 algn="r" rtl="1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000" spc="-1" strike="noStrike">
                <a:solidFill>
                  <a:srgbClr val="000000"/>
                </a:solidFill>
                <a:latin typeface="Arial"/>
                <a:ea typeface="Times New Roman (Hebrew)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7299-CCDE-4158-B521-E1478253E7A6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000" spc="-1" strike="noStrike">
                <a:solidFill>
                  <a:srgbClr val="000000"/>
                </a:solidFill>
                <a:latin typeface="Arial"/>
                <a:ea typeface="Times New Roman (Hebrew)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3EA8-80D3-4644-A040-7DDDA8CFEB77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900" spc="-1" strike="noStrike">
                <a:solidFill>
                  <a:srgbClr val="330066"/>
                </a:solidFill>
                <a:latin typeface="Arial"/>
              </a:rPr>
              <a:t>התנהגות היסטורית של צריכת חשמל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8483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900" spc="-1" strike="noStrike">
                <a:solidFill>
                  <a:srgbClr val="330066"/>
                </a:solidFill>
                <a:latin typeface="Arial"/>
              </a:rPr>
              <a:t>צריכת דלקים היסטורית ע”י חח”י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88652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09:55:43Z</dcterms:created>
  <dc:creator/>
  <dc:description/>
  <dc:language>en-US</dc:language>
  <cp:lastModifiedBy>ooo</cp:lastModifiedBy>
  <cp:lastPrinted>2003-04-06T08:59:36Z</cp:lastPrinted>
  <dcterms:modified xsi:type="dcterms:W3CDTF">2007-08-30T13:25:07Z</dcterms:modified>
  <cp:revision>82</cp:revision>
  <dc:subject/>
  <dc:title>אנרגיה - תוכנית האב למשק האנרגיה - מודל חיזוי ביקושים</dc:title>
</cp:coreProperties>
</file>