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959850" cy="6721475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34800" y="1596960"/>
            <a:ext cx="662004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6611400" y="139680"/>
            <a:ext cx="2837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9624600" y="6581160"/>
            <a:ext cx="281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8E35-8A1C-4D6C-84D0-321C832FD4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550-E85B-43DD-AFD2-ED4F933C5E0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29F5-6489-49FE-924E-9CC953C04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8585-55FD-4BF4-9723-94999E811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A2BA-61AD-4A99-B2BB-282B101F8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43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76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43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C627-C37F-4C45-AF1A-65AEE877E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55A8-8E47-4C58-84AC-E7948468E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9DA5-91F6-48C8-B404-44D1E1C9C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1627-DD81-4A4E-A743-5113EA0CA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E27B-3196-4620-A219-34F825870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760" y="228600"/>
            <a:ext cx="869472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47A3-5302-4982-9779-9D0D0A2DD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C135-BA82-49ED-A9DB-7E8453F03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0A32-B41B-437D-8EF0-0015B77F4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B91B-C72E-44D4-859A-907EACBB9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3440" y="75960"/>
            <a:ext cx="36766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A34E-3899-4FFF-8396-477AFD4FF1E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04760" y="746280"/>
            <a:ext cx="8615520" cy="5965560"/>
            <a:chOff x="104760" y="746280"/>
            <a:chExt cx="8615520" cy="5965560"/>
          </a:xfrm>
        </p:grpSpPr>
        <p:sp>
          <p:nvSpPr>
            <p:cNvPr id="5" name="McK Footnote" hidden="1"/>
            <p:cNvSpPr/>
            <p:nvPr/>
          </p:nvSpPr>
          <p:spPr>
            <a:xfrm>
              <a:off x="104760" y="6199200"/>
              <a:ext cx="86155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McK Measure" hidden="1"/>
            <p:cNvSpPr/>
            <p:nvPr/>
          </p:nvSpPr>
          <p:spPr>
            <a:xfrm>
              <a:off x="104760" y="746280"/>
              <a:ext cx="66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033E496-A83C-4A60-B100-25AA6BA23E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 flipH="1" flipV="1">
            <a:off x="203616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 flipH="1" flipV="1">
            <a:off x="524124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201456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19732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4052880" y="3336840"/>
            <a:ext cx="425520" cy="412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075040" y="210888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413320" y="210888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1636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3514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29:34Z</dcterms:created>
  <dc:creator>GCO</dc:creator>
  <dc:description/>
  <dc:language>en-US</dc:language>
  <cp:lastModifiedBy>crystal</cp:lastModifiedBy>
  <cp:lastPrinted>1998-04-10T09:21:54Z</cp:lastPrinted>
  <dcterms:modified xsi:type="dcterms:W3CDTF">2012-05-29T02:35:27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>GBUTtem</vt:lpwstr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1</vt:bool>
  </property>
  <property fmtid="{D5CDD505-2E9C-101B-9397-08002B2CF9AE}" pid="6" name="Universal Objects">
    <vt:bool>1</vt:bool>
  </property>
</Properties>
</file>