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1430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8A24-2253-415F-BA14-9E0E89D4D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2841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120" y="3986280"/>
            <a:ext cx="102841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2522-E1CB-4F6D-BB92-64CFCB44A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78800" y="159984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98628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878800" y="398628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D1E6-54C7-4595-8653-950F8C18D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1128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86360" y="1599840"/>
            <a:ext cx="331128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63600" y="1599840"/>
            <a:ext cx="331128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120" y="3986280"/>
            <a:ext cx="331128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86360" y="3986280"/>
            <a:ext cx="331128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563600" y="3986280"/>
            <a:ext cx="331128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361C-5883-43D5-8662-EC06303D9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1028412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43EE-857C-467C-9AAF-BF922048F3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102841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F6A2-7E4B-4933-AA16-365C05B15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0184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878800" y="1599840"/>
            <a:ext cx="50184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E669-5566-4EB2-A075-AEEA582F6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8139-BE92-4E18-A2FC-ACB5AD467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99840" y="6480"/>
            <a:ext cx="817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5DD2-7386-4FB8-BDD0-53C446C89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878800" y="1599840"/>
            <a:ext cx="50184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120" y="398628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1D32-5C7D-4E80-9CA8-3934DEC0C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0184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78800" y="159984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78800" y="398628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386F-0BE9-4987-8EDB-D850AF185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78800" y="1599840"/>
            <a:ext cx="501840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3986280"/>
            <a:ext cx="102841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6CCE-D0D2-4350-B54D-D29D4ED14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6480"/>
            <a:ext cx="817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102841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8069400" y="9845640"/>
            <a:ext cx="756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66"/>
              </a:solidFill>
              <a:latin typeface="Berlin Sans FB Dem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0287000" y="6400800"/>
            <a:ext cx="7588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2E22C-5DFF-4E48-B31E-6947A6524AD2}" type="slidenum">
              <a:rPr b="1" lang="en-GB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800" spc="-1" strike="noStrike">
              <a:solidFill>
                <a:srgbClr val="ffff66"/>
              </a:solidFill>
              <a:latin typeface="Berlin Sans FB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600200" y="152280"/>
            <a:ext cx="817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Example slide</a:t>
            </a:r>
            <a:endParaRPr b="1" lang="en-US" sz="4000" spc="-1" strike="noStrike">
              <a:solidFill>
                <a:srgbClr val="ffff66"/>
              </a:solidFill>
              <a:latin typeface="Berlin Sans FB Demi"/>
            </a:endParaRPr>
          </a:p>
        </p:txBody>
      </p:sp>
      <p:sp>
        <p:nvSpPr>
          <p:cNvPr id="41" name=""/>
          <p:cNvSpPr/>
          <p:nvPr/>
        </p:nvSpPr>
        <p:spPr>
          <a:xfrm>
            <a:off x="609480" y="1600200"/>
            <a:ext cx="10287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This are the bullets defined in the master slide</a:t>
            </a:r>
            <a:endParaRPr b="1" lang="en-US" sz="2600" spc="-1" strike="noStrike">
              <a:solidFill>
                <a:srgbClr val="ffff66"/>
              </a:solidFill>
              <a:latin typeface="Berlin Sans FB Demi"/>
            </a:endParaRPr>
          </a:p>
          <a:p>
            <a:pPr lvl="1" marL="739800" indent="-282600">
              <a:lnSpc>
                <a:spcPct val="100000"/>
              </a:lnSpc>
              <a:spcBef>
                <a:spcPts val="751"/>
              </a:spcBef>
              <a:buClr>
                <a:srgbClr val="99ccff"/>
              </a:buClr>
              <a:buFont typeface="Comic Sans MS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Blah blah blah</a:t>
            </a:r>
            <a:endParaRPr b="1" lang="en-US" sz="2800" spc="-1" strike="noStrike">
              <a:solidFill>
                <a:srgbClr val="ffff66"/>
              </a:solidFill>
              <a:latin typeface="Berlin Sans FB Demi"/>
            </a:endParaRPr>
          </a:p>
          <a:p>
            <a:pPr lvl="2" marL="1082520" indent="-2253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Blep blep blep</a:t>
            </a:r>
            <a:endParaRPr b="1" lang="en-US" sz="2800" spc="-1" strike="noStrike">
              <a:solidFill>
                <a:srgbClr val="ffff66"/>
              </a:solidFill>
              <a:latin typeface="Berlin Sans FB Dem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endParaRPr b="1" lang="en-US" sz="2800" spc="-1" strike="noStrike">
              <a:solidFill>
                <a:srgbClr val="ffff66"/>
              </a:solidFill>
              <a:latin typeface="Berlin Sans FB Demi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But now it is impossible to use this format anymore...</a:t>
            </a:r>
            <a:endParaRPr b="1" lang="en-US" sz="2800" spc="-1" strike="noStrike">
              <a:solidFill>
                <a:srgbClr val="ffff66"/>
              </a:solidFill>
              <a:latin typeface="Berlin Sans FB Dem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4320"/>
            <a:ext cx="8174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fter saving and reloading...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102855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s are the bullets in use (and the ones set on the master slide) after saving and reloading the fil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134720"/>
                <a:tab algn="l" pos="105156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 know the template is ugly (even if I weren't using comic sans) wasn't my choice ;)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35:44Z</dcterms:created>
  <dc:creator>Ian F. Akyildiz</dc:creator>
  <dc:description/>
  <dc:language>en-US</dc:language>
  <cp:lastModifiedBy>Josep Miquel Jornet Montana</cp:lastModifiedBy>
  <dcterms:modified xsi:type="dcterms:W3CDTF">2009-08-27T19:18:02Z</dcterms:modified>
  <cp:revision>1488</cp:revision>
  <dc:subject/>
  <dc:title>SENSOR NETWORKS</dc:title>
</cp:coreProperties>
</file>