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ftr" idx="7"/>
          </p:nvPr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1440" y="678960"/>
            <a:ext cx="4515120" cy="33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6200" y="328680"/>
            <a:ext cx="432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T 123 IX.  Synta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225360"/>
            <a:ext cx="1828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mework  N 9.</a:t>
            </a:r>
            <a:fld id="{63F5D7F6-DED3-4236-B0B0-D4CA2BFFE2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8080" y="2387520"/>
            <a:ext cx="44424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1219320"/>
            <a:ext cx="533520" cy="533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6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706840"/>
            <a:ext cx="380880" cy="385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15120" cy="3382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82640" y="3073320"/>
            <a:ext cx="44460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73160" y="2387520"/>
            <a:ext cx="44460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3160" y="2997360"/>
            <a:ext cx="444600" cy="444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8c-9.8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124080"/>
            <a:ext cx="44460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8c-9.8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2280" y="1397160"/>
            <a:ext cx="444240" cy="444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2280" y="2006640"/>
            <a:ext cx="444240" cy="4428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2280" y="2538360"/>
            <a:ext cx="444240" cy="4460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2280" y="2997360"/>
            <a:ext cx="444240" cy="444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2280" y="3454560"/>
            <a:ext cx="444240" cy="4428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8c-9.8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1981080"/>
            <a:ext cx="44424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676520"/>
            <a:ext cx="533520" cy="533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2133720"/>
            <a:ext cx="533160" cy="5331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6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706840"/>
            <a:ext cx="380880" cy="385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11440" y="1625760"/>
            <a:ext cx="444600" cy="444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11440" y="2082960"/>
            <a:ext cx="444600" cy="444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5440" y="2692440"/>
            <a:ext cx="44460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45160" y="2616120"/>
            <a:ext cx="44460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3886200"/>
            <a:ext cx="533520" cy="5335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29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9.6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2706840"/>
            <a:ext cx="380880" cy="385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15120" cy="3382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8080" y="2387520"/>
            <a:ext cx="444240" cy="444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8EC-BA55-43DC-AEAE-524DEDAA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564-53E2-40DB-B7D8-AC5B2534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373-0D24-4276-9B28-FEDCABFD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E1B-1295-4420-BD51-777BCD38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3120-4DD0-40AB-BC1A-CECDD593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C3BA-59E6-4C72-BBC3-BAC000CE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EE17-895B-462B-8416-F3A093AC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F638-EE24-4D35-BAC1-11972987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A6C9-2999-44AB-A661-FDD40409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9320" y="209520"/>
            <a:ext cx="777240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62D2-2D2F-445B-A193-D84D9EA4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C9F3-CBA0-4FA4-B61C-BD62A27C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544-805C-44F8-AF15-6A999C5C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A2E9-A96B-4A1D-83A8-1F96183E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4F4F-195F-43FC-8B7F-B16C84E2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D333-3480-4A7A-A797-297C840D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10AE-81B6-496F-9AEC-4A9621CA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B2E7-3AE7-4EBD-BEF0-93C614B4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66C-BCA7-4699-913A-CB48959E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F8A-18BF-4F53-B72C-9CCE5FAE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01F-D03E-4EEA-979F-C1F64483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209520"/>
            <a:ext cx="777240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C39-ECEE-457D-A07A-7423A9F0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5DA-A980-43DF-9E3E-3A661D56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AD0-A8B9-4F2B-8187-9568C948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092-F44C-40F4-937B-0E04AF0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620640"/>
            <a:ext cx="8786880" cy="6237360"/>
            <a:chOff x="380880" y="620640"/>
            <a:chExt cx="8786880" cy="6237360"/>
          </a:xfrm>
        </p:grpSpPr>
        <p:sp>
          <p:nvSpPr>
            <p:cNvPr id="1" name=""/>
            <p:cNvSpPr/>
            <p:nvPr/>
          </p:nvSpPr>
          <p:spPr>
            <a:xfrm>
              <a:off x="380880" y="1701720"/>
              <a:ext cx="8786880" cy="5156280"/>
            </a:xfrm>
            <a:custGeom>
              <a:avLst/>
              <a:gdLst/>
              <a:ahLst/>
              <a:rect l="l" t="t" r="r" b="b"/>
              <a:pathLst>
                <a:path w="5535" h="3248">
                  <a:moveTo>
                    <a:pt x="5534" y="0"/>
                  </a:moveTo>
                  <a:lnTo>
                    <a:pt x="0" y="0"/>
                  </a:lnTo>
                  <a:lnTo>
                    <a:pt x="0" y="3247"/>
                  </a:lnTo>
                </a:path>
              </a:pathLst>
            </a:custGeom>
            <a:noFill/>
            <a:ln cap="rnd" w="101520">
              <a:solidFill>
                <a:srgbClr val="00cccc"/>
              </a:solidFill>
              <a:round/>
            </a:ln>
            <a:effectLst>
              <a:outerShdw dist="17819" dir="2700000" blurRad="0" rotWithShape="0">
                <a:srgbClr val="00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80880" y="620640"/>
              <a:ext cx="8786880" cy="6237360"/>
            </a:xfrm>
            <a:custGeom>
              <a:avLst/>
              <a:gdLst/>
              <a:ahLst/>
              <a:rect l="l" t="t" r="r" b="b"/>
              <a:pathLst>
                <a:path w="5535" h="3929">
                  <a:moveTo>
                    <a:pt x="433" y="3928"/>
                  </a:moveTo>
                  <a:lnTo>
                    <a:pt x="433" y="0"/>
                  </a:lnTo>
                  <a:lnTo>
                    <a:pt x="0" y="0"/>
                  </a:lnTo>
                  <a:lnTo>
                    <a:pt x="0" y="486"/>
                  </a:lnTo>
                  <a:lnTo>
                    <a:pt x="5534" y="486"/>
                  </a:lnTo>
                </a:path>
              </a:pathLst>
            </a:custGeom>
            <a:noFill/>
            <a:ln cap="rnd" w="101520">
              <a:solidFill>
                <a:srgbClr val="00cccc"/>
              </a:solidFill>
              <a:round/>
            </a:ln>
            <a:effectLst>
              <a:outerShdw dist="17819" dir="2700000" blurRad="0" rotWithShape="0">
                <a:srgbClr val="00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58CA-AA89-40B1-A946-56F5A16BB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28680" y="2131920"/>
            <a:ext cx="8839080" cy="4726080"/>
            <a:chOff x="328680" y="2131920"/>
            <a:chExt cx="8839080" cy="4726080"/>
          </a:xfrm>
        </p:grpSpPr>
        <p:sp>
          <p:nvSpPr>
            <p:cNvPr id="45" name=""/>
            <p:cNvSpPr/>
            <p:nvPr/>
          </p:nvSpPr>
          <p:spPr>
            <a:xfrm>
              <a:off x="328680" y="3213000"/>
              <a:ext cx="8823240" cy="3645000"/>
            </a:xfrm>
            <a:custGeom>
              <a:avLst/>
              <a:gdLst/>
              <a:ahLst/>
              <a:rect l="l" t="t" r="r" b="b"/>
              <a:pathLst>
                <a:path w="5558" h="2296">
                  <a:moveTo>
                    <a:pt x="5557" y="0"/>
                  </a:moveTo>
                  <a:lnTo>
                    <a:pt x="0" y="0"/>
                  </a:lnTo>
                  <a:lnTo>
                    <a:pt x="0" y="2295"/>
                  </a:lnTo>
                </a:path>
              </a:pathLst>
            </a:custGeom>
            <a:noFill/>
            <a:ln cap="rnd" w="101520">
              <a:solidFill>
                <a:srgbClr val="00cccc"/>
              </a:solidFill>
              <a:round/>
            </a:ln>
            <a:effectLst>
              <a:outerShdw dist="17819" dir="2700000" blurRad="0" rotWithShape="0">
                <a:srgbClr val="00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8680" y="2131920"/>
              <a:ext cx="8839080" cy="4726080"/>
            </a:xfrm>
            <a:custGeom>
              <a:avLst/>
              <a:gdLst/>
              <a:ahLst/>
              <a:rect l="l" t="t" r="r" b="b"/>
              <a:pathLst>
                <a:path w="5568" h="2977">
                  <a:moveTo>
                    <a:pt x="436" y="2976"/>
                  </a:moveTo>
                  <a:lnTo>
                    <a:pt x="435" y="0"/>
                  </a:lnTo>
                  <a:lnTo>
                    <a:pt x="0" y="0"/>
                  </a:lnTo>
                  <a:lnTo>
                    <a:pt x="0" y="486"/>
                  </a:lnTo>
                  <a:lnTo>
                    <a:pt x="5567" y="486"/>
                  </a:lnTo>
                </a:path>
              </a:pathLst>
            </a:custGeom>
            <a:noFill/>
            <a:ln cap="rnd" w="101520">
              <a:solidFill>
                <a:srgbClr val="00cccc"/>
              </a:solidFill>
              <a:round/>
            </a:ln>
            <a:effectLst>
              <a:outerShdw dist="17819" dir="2700000" blurRad="0" rotWithShape="0">
                <a:srgbClr val="00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FEA0-60CD-4AE9-99EA-3F955B5DE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X.  I.  Homework Exercise with Clause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2.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valuat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Find the Applicable Sub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3885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which subsections apply to your pa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6680" y="5187960"/>
            <a:ext cx="5778360" cy="105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 “Negative Assertions,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§§172, 17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752480"/>
            <a:ext cx="76960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286000"/>
            <a:ext cx="22096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763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urton,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yntax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p. 7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609480"/>
            <a:ext cx="8077320" cy="67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72.  The subjunctive in Negative Assertion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he Aorist Subjunctive is used with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u) mh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sense of an emphatic Future Indicative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32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36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b. 13:5;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u) mh/ se a)nw~ ou)d' ou) mh/ se e)gkatali/pw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 will in no wise fail thee, neither will I in any wise forsake th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See also Matt. 5:18; Mark 13:30; Luke 9:27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t freq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Cf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ild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.J.P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II. 202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7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s emphatically predictive Subjunctive is of frequent occurrence in Hellenistic Greek.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29600" y="1066680"/>
            <a:ext cx="762120" cy="1371600"/>
          </a:xfrm>
          <a:prstGeom prst="leftArrow">
            <a:avLst>
              <a:gd name="adj1" fmla="val 54167"/>
              <a:gd name="adj2" fmla="val 2395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6784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 with Clause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29600" y="76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533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 8: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3048120"/>
            <a:ext cx="8991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1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Try to find the relevant section in the gramm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2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lu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Determine what subheading(s) app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2a.  Are t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ternati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3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ci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Make a final deci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80988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6668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: DETERMINE why </a:t>
            </a:r>
            <a:r>
              <a:rPr b="0" lang="en-US" sz="2800" spc="-1" strike="noStrike">
                <a:solidFill>
                  <a:srgbClr val="ffffff"/>
                </a:solidFill>
                <a:latin typeface="SPIonic"/>
              </a:rPr>
              <a:t>peripath/sh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ubjun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2767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§§160-173, esp. 172-17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724280"/>
            <a:ext cx="990360" cy="838440"/>
          </a:xfrm>
          <a:prstGeom prst="rightArrow">
            <a:avLst>
              <a:gd name="adj1" fmla="val 50000"/>
              <a:gd name="adj2" fmla="val 295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962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§17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8006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ush Script MT"/>
              </a:rPr>
              <a:t>N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990360" cy="838440"/>
          </a:xfrm>
          <a:prstGeom prst="rightArrow">
            <a:avLst>
              <a:gd name="adj1" fmla="val 50000"/>
              <a:gd name="adj2" fmla="val 2953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5791320"/>
            <a:ext cx="990360" cy="838080"/>
          </a:xfrm>
          <a:prstGeom prst="rightArrow">
            <a:avLst>
              <a:gd name="adj1" fmla="val 50000"/>
              <a:gd name="adj2" fmla="val 2954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0988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86728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ush Script MT"/>
              </a:rPr>
              <a:t>Emphatic future: “will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Brush Script MT"/>
              </a:rPr>
              <a:t>not</a:t>
            </a:r>
            <a:r>
              <a:rPr b="1" lang="en-US" sz="4400" spc="-1" strike="noStrike">
                <a:solidFill>
                  <a:srgbClr val="ff0000"/>
                </a:solidFill>
                <a:latin typeface="Brush Script MT"/>
              </a:rPr>
              <a:t> walk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838080"/>
            <a:ext cx="8458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a/lin ou]n au)toi=j e)la/lhsen o(    )Ihsou=j le/gw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)Egw&amp; ei)mi to\ fw~j tou= ko/smou: 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362320"/>
            <a:ext cx="2210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2a.  Alternative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whether there are any alternative explanations, possibly involving other sub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502160"/>
            <a:ext cx="3873240" cy="105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3.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eci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.  Represent the Meaning in Trans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 translation of the clause that brings out the implications of your 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5440" y="3435480"/>
            <a:ext cx="7454880" cy="1434960"/>
          </a:xfrm>
          <a:prstGeom prst="roundRect">
            <a:avLst>
              <a:gd name="adj" fmla="val 1249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ton §172: “The aorist Sub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used with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ou) mh/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sense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mphatic Future Indicativ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25440" y="4959360"/>
            <a:ext cx="7531200" cy="1434960"/>
            <a:chOff x="1225440" y="4959360"/>
            <a:chExt cx="7531200" cy="1434960"/>
          </a:xfrm>
        </p:grpSpPr>
        <p:sp>
          <p:nvSpPr>
            <p:cNvPr id="187" name=""/>
            <p:cNvSpPr/>
            <p:nvPr/>
          </p:nvSpPr>
          <p:spPr>
            <a:xfrm>
              <a:off x="1225440" y="5492880"/>
              <a:ext cx="7531200" cy="90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He will 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no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walk in the darkness …”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6880" y="6172200"/>
              <a:ext cx="21337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8640" y="4959360"/>
              <a:ext cx="978120" cy="444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143000" y="1752480"/>
            <a:ext cx="769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( a)kolouqw~n e)moi\ ou) mh\ peripath/sh|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2286000"/>
            <a:ext cx="22096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Blass-Debrunn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II.  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Subject and Predic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gre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Use of Gender and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Syntax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Syntax of Prepos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Syntax of Ad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Syntax of Nume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The 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Syntax of Pronou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 Syntax of the Ve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 Adverbs and Parti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 Sentence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182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ass-Debrunner, Contents, pp. vi-v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029200"/>
            <a:ext cx="76176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7-425  10. Syntax of the Ver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7-3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Vo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8-3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1-3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as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6-3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id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8-3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9-3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resent Indic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5-3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Imperfect and Aorist Indic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5-3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resent and Aorist Imperativ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Prohibitive and Adhortative Subjunctiv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resent and Aorist Infini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resent and Aorist Partici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0-34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er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luper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8-35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Fu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-3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eriphrastic Conjug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82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ass-Debrunner, Contents, pp. vii-v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6320" y="99036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7-425  (3) The M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8-361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Indicative of Secondary Tenses in Main Clauses 1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2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Future Indicative for Volitive Expression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Clauses (instead of the Imperativ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unctiv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3-366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Subjunctive in Main Clau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7-383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dicative and Subjunctive in Subordinate Clau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4-386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Opt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7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Imper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8-410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1-425  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Partic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182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ass-Debrunner, Contents, p.-v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477120" y="274320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763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ass-Debrunner, p. 184, colum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34316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65. </a:t>
            </a:r>
            <a:r>
              <a:rPr b="1" lang="en-US" sz="3200" spc="-1" strike="noStrike">
                <a:solidFill>
                  <a:srgbClr val="ffffff"/>
                </a:solidFill>
                <a:latin typeface="SPIonic"/>
              </a:rPr>
              <a:t>Ou) mh/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with the aorist subjunctive or future indicative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th of which are classical, 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definite form of negation regarding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.  This mode of expression is more comm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NT and for the most part less emphatic th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classical language, but it is virtually limit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quotations from the LXX and sayings of Jesu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lt. 187-92 [297-303]).  (1) The only certa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819520"/>
            <a:ext cx="2743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3809880"/>
            <a:ext cx="3124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219320"/>
            <a:ext cx="8458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a/lin ou]n au)toi=j e)la/lhsen o(    )Ihsou=j le/gw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)Egw&amp; ei)mi to\ fw~j tou= ko/smou: 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 with Clause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2743200"/>
            <a:ext cx="2210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29600" y="76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914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 8: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2280" y="4057560"/>
            <a:ext cx="8991720" cy="2669400"/>
            <a:chOff x="152280" y="4057560"/>
            <a:chExt cx="8991720" cy="2669400"/>
          </a:xfrm>
        </p:grpSpPr>
        <p:sp>
          <p:nvSpPr>
            <p:cNvPr id="104" name=""/>
            <p:cNvSpPr/>
            <p:nvPr/>
          </p:nvSpPr>
          <p:spPr>
            <a:xfrm>
              <a:off x="152280" y="4057560"/>
              <a:ext cx="899172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ep 1.  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earch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.  Try to find the relevant section in the advanced grammar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ep 2.  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Evaluat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.  Determine what subheading(s) of the relevant section apply to your passag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ep 3.  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Decid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.  Make a final decision as to the type and function of your grammatical construction, after you have weighed alternative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7920" y="4267080"/>
              <a:ext cx="990360" cy="838440"/>
            </a:xfrm>
            <a:prstGeom prst="rightArrow">
              <a:avLst>
                <a:gd name="adj1" fmla="val 50000"/>
                <a:gd name="adj2" fmla="val 295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280" y="3154320"/>
            <a:ext cx="8991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: DETERMINE why </a:t>
            </a:r>
            <a:r>
              <a:rPr b="0" lang="en-US" sz="2800" spc="-1" strike="noStrike">
                <a:solidFill>
                  <a:srgbClr val="ffffff"/>
                </a:solidFill>
                <a:latin typeface="SPIonic"/>
              </a:rPr>
              <a:t>peripath/sh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ubjunctive and what contribution it makes to the whole sent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use Syntax in John 8:1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why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eripath/sh|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subjunctive and how it contributes to the rest of the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768320"/>
            <a:ext cx="76201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a/lin ou]n au)toi=j e)la/lhsen o(    )Ihsou=j le/gwn,    )Egw&amp; ei)mi to\ fw~j tou= ko/smo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)) 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32767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1.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earch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for Information in Grammar or Lexic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760" y="2133720"/>
            <a:ext cx="48006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xi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 of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ble of Contents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ax of affi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ax of gove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ble of Contents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Sen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 of Pas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junc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cal ter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ing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tence as who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l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8080" y="1758960"/>
            <a:ext cx="1511280" cy="444600"/>
          </a:xfrm>
          <a:prstGeom prst="roundRect">
            <a:avLst>
              <a:gd name="adj" fmla="val 1249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9360" y="1758960"/>
            <a:ext cx="1511280" cy="444600"/>
          </a:xfrm>
          <a:prstGeom prst="roundRect">
            <a:avLst>
              <a:gd name="adj" fmla="val 1249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7760" y="1682640"/>
            <a:ext cx="977760" cy="596880"/>
          </a:xfrm>
          <a:prstGeom prst="rightArrow">
            <a:avLst>
              <a:gd name="adj1" fmla="val 75009"/>
              <a:gd name="adj2" fmla="val 81913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1752480"/>
            <a:ext cx="76960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1 for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eripath/sh|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junc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cal ter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ing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1760" y="3359160"/>
            <a:ext cx="1511280" cy="444600"/>
          </a:xfrm>
          <a:prstGeom prst="roundRect">
            <a:avLst>
              <a:gd name="adj" fmla="val 1249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8640" y="3892680"/>
            <a:ext cx="673200" cy="444240"/>
          </a:xfrm>
          <a:prstGeom prst="roundRect">
            <a:avLst>
              <a:gd name="adj" fmla="val 12495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7440" y="3282840"/>
            <a:ext cx="1511280" cy="444600"/>
          </a:xfrm>
          <a:prstGeom prst="roundRect">
            <a:avLst>
              <a:gd name="adj" fmla="val 12495"/>
            </a:avLst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1280" y="3282840"/>
            <a:ext cx="596880" cy="520920"/>
          </a:xfrm>
          <a:prstGeom prst="rightArrow">
            <a:avLst>
              <a:gd name="adj1" fmla="val 75009"/>
              <a:gd name="adj2" fmla="val 57296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7240" y="4425840"/>
            <a:ext cx="673200" cy="444600"/>
          </a:xfrm>
          <a:prstGeom prst="roundRect">
            <a:avLst>
              <a:gd name="adj" fmla="val 12495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0880" y="5568840"/>
            <a:ext cx="2882880" cy="520920"/>
          </a:xfrm>
          <a:prstGeom prst="roundRect">
            <a:avLst>
              <a:gd name="adj" fmla="val 12495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97240" y="5562720"/>
            <a:ext cx="5099040" cy="1067400"/>
            <a:chOff x="4197240" y="5562720"/>
            <a:chExt cx="5099040" cy="1067400"/>
          </a:xfrm>
        </p:grpSpPr>
        <p:sp>
          <p:nvSpPr>
            <p:cNvPr id="127" name=""/>
            <p:cNvSpPr/>
            <p:nvPr/>
          </p:nvSpPr>
          <p:spPr>
            <a:xfrm>
              <a:off x="4197240" y="5568840"/>
              <a:ext cx="596880" cy="520920"/>
            </a:xfrm>
            <a:prstGeom prst="rightArrow">
              <a:avLst>
                <a:gd name="adj1" fmla="val 75009"/>
                <a:gd name="adj2" fmla="val 57296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5562720"/>
              <a:ext cx="4495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99"/>
                </a:spcBef>
                <a:buClr>
                  <a:srgbClr val="ff9933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able of Contents,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Subjunctiv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562720" y="2286000"/>
            <a:ext cx="22096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52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urton,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yntax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Contents, x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685800"/>
            <a:ext cx="8077320" cy="67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O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ODS IN PRINCIPAL CLAU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Indicative M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Force of the Indicative .......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8, 15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ve in Qualified Assertions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Subjunctive Mo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0, 16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tatory Subjunctive ...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2-16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ory Subjunctive ..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8-17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berative Subjunctive 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2, 17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unctive in Negative Asser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609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800240" y="6781680"/>
            <a:ext cx="3429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 with Clause Synt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29600" y="76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 8: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352680"/>
            <a:ext cx="8991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1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Try to find the relevant section in the gramm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2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lu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Determine what subheading(s) app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3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ci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Make a final decision as to the type and function of your grammatical construction, after you have weighed alternati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657600"/>
            <a:ext cx="990720" cy="838080"/>
          </a:xfrm>
          <a:prstGeom prst="rightArrow">
            <a:avLst>
              <a:gd name="adj1" fmla="val 50000"/>
              <a:gd name="adj2" fmla="val 2955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8954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: DETERMINE why </a:t>
            </a:r>
            <a:r>
              <a:rPr b="0" lang="en-US" sz="2800" spc="-1" strike="noStrike">
                <a:solidFill>
                  <a:srgbClr val="ffffff"/>
                </a:solidFill>
                <a:latin typeface="SPIonic"/>
              </a:rPr>
              <a:t>peripath/sh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ubjun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3753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§§160-173, esp. 172-17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657600"/>
            <a:ext cx="990720" cy="838080"/>
          </a:xfrm>
          <a:prstGeom prst="rightArrow">
            <a:avLst>
              <a:gd name="adj1" fmla="val 50000"/>
              <a:gd name="adj2" fmla="val 29553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800600"/>
            <a:ext cx="990720" cy="838080"/>
          </a:xfrm>
          <a:prstGeom prst="rightArrow">
            <a:avLst>
              <a:gd name="adj1" fmla="val 50000"/>
              <a:gd name="adj2" fmla="val 2955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066680"/>
            <a:ext cx="8458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Pa/lin ou]n au)toi=j e)la/lhsen o(    )Ihsou=j le/gw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)Egw&amp; ei)mi to\ fw~j tou= ko/smou: 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2590920"/>
            <a:ext cx="2210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 2.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valuat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Find the Applicable Sub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which subsections apply to your pa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0360" y="3435480"/>
            <a:ext cx="6540480" cy="1358640"/>
          </a:xfrm>
          <a:prstGeom prst="rect">
            <a:avLst/>
          </a:prstGeom>
          <a:solidFill>
            <a:srgbClr val="99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under uses of subjunctive m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§§160-1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 in Burton, Table of Cont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3733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0, 16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tatory Sub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2-16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ory Sub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8-17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berative Sub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2, 17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unctive in Negative Asser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752480"/>
            <a:ext cx="76960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o( a)kolouqw~n e)moi\ ou) mh\ peripath/sh| e)n th|= skoti/a|, a)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SPIonic"/>
              </a:rPr>
              <a:t> e3cei to\ fw~j th=j zwh=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2286000"/>
            <a:ext cx="220968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1T14:48:54Z</dcterms:created>
  <dc:creator>Vern Sheridan Poythress</dc:creator>
  <dc:description/>
  <cp:keywords>hermeneutics syntax structure homework</cp:keywords>
  <dc:language>en-US</dc:language>
  <cp:lastModifiedBy>Vern S. Poythress</cp:lastModifiedBy>
  <cp:lastPrinted>1997-04-02T21:49:20Z</cp:lastPrinted>
  <dcterms:modified xsi:type="dcterms:W3CDTF">2002-04-02T21:12:40Z</dcterms:modified>
  <cp:revision>109</cp:revision>
  <dc:subject>Syntax</dc:subject>
  <dc:title>IX.  Dealing with Syntax: Homework</dc:title>
</cp:coreProperties>
</file>