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46760" cy="9915480"/>
          </a:xfrm>
          <a:custGeom>
            <a:avLst/>
            <a:gdLst>
              <a:gd name="textAreaLeft" fmla="*/ 360 w 6746760"/>
              <a:gd name="textAreaRight" fmla="*/ 6746400 w 6746760"/>
              <a:gd name="textAreaTop" fmla="*/ 360 h 9915480"/>
              <a:gd name="textAreaBottom" fmla="*/ 9915120 h 9915480"/>
            </a:gdLst>
            <a:ahLst/>
            <a:rect l="textAreaLeft" t="textAreaTop" r="textAreaRight" b="textAreaBottom"/>
            <a:pathLst>
              <a:path w="21600" h="31744">
                <a:moveTo>
                  <a:pt x="5" y="0"/>
                </a:moveTo>
                <a:arcTo wR="5" hR="5" stAng="16200000" swAng="-5400000"/>
                <a:lnTo>
                  <a:pt x="0" y="31739"/>
                </a:lnTo>
                <a:arcTo wR="5" hR="5" stAng="10800000" swAng="-5400000"/>
                <a:lnTo>
                  <a:pt x="21595" y="317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96400" y="742680"/>
            <a:ext cx="494676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S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0000" y="4710240"/>
            <a:ext cx="4934160" cy="444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0840" y="514440"/>
            <a:ext cx="6405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9680" y="198360"/>
            <a:ext cx="2160720" cy="24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22840" y="9418680"/>
            <a:ext cx="2724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rpoS"/>
              </a:rPr>
              <a:t>&lt;date/time&gt;</a:t>
            </a:r>
            <a:r>
              <a:rPr b="0" lang="en-GB" sz="1200" spc="-1" strike="noStrike">
                <a:solidFill>
                  <a:srgbClr val="000000"/>
                </a:solidFill>
                <a:latin typeface="CorpoS"/>
              </a:rPr>
              <a:t> - Seite/Page </a:t>
            </a:r>
            <a:fld id="{10819AE6-C8B0-44D4-B191-1420EC9AD23A}" type="slidenum">
              <a:rPr b="0" lang="en-GB" sz="12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680" y="9588600"/>
            <a:ext cx="6443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96760" y="74304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00000" y="4709880"/>
            <a:ext cx="49356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7822-1998-4EE1-81C2-31021F28F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39920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492A-CAA6-46FE-A5B9-F75F5B308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048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6CEC-E4CF-4B26-A853-20EBB2C33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508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508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B63A-8163-4E29-966E-98938232E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141280"/>
            <a:ext cx="821052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821052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80" y="685440"/>
            <a:ext cx="9124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141280"/>
            <a:ext cx="821052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057C-5254-4177-8D81-851025189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048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39920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048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5080" y="214128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5080" y="4399200"/>
            <a:ext cx="264348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821052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EDC4-9597-41F4-B616-C3A3E8635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BDBA-2408-4EEC-96B5-8A6A0937A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1DB0-A4A9-41F6-8589-6A79F88BA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80" y="685440"/>
            <a:ext cx="9124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7B9B-E3E1-4421-9F85-DC059458F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7B8C-D51F-4193-8672-306A78102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0480" y="439920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90B5-3195-438D-B0E1-12139C49D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noFill/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0480" y="2141280"/>
            <a:ext cx="400644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399200"/>
            <a:ext cx="8210520" cy="20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1000"/>
              </a:lnSpc>
              <a:spcAft>
                <a:spcPts val="15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43E0-B3D3-4857-99F7-2757126B4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2141280"/>
            <a:ext cx="821052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9720" indent="-36972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1" marL="652320" indent="-27432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2" marL="941400" indent="-28260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3" marL="1371600" indent="-22860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4" marL="1779480" indent="-22860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5" marL="1779480" indent="-22860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6" marL="1779480" indent="-228600">
              <a:lnSpc>
                <a:spcPct val="61000"/>
              </a:lnSpc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814800" y="6603840"/>
            <a:ext cx="193500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8DD8F-4F99-4E6D-9764-3EE74AB3CD35}" type="slidenum">
              <a:rPr b="0" lang="en-GB" sz="10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880" y="685440"/>
            <a:ext cx="9124920" cy="1141560"/>
          </a:xfrm>
          <a:prstGeom prst="rect">
            <a:avLst/>
          </a:prstGeom>
          <a:solidFill>
            <a:srgbClr val="a0c2dc"/>
          </a:solidFill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-3240"/>
            <a:ext cx="1440" cy="682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81120"/>
            <a:ext cx="9144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295880"/>
            <a:ext cx="914400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4605120"/>
            <a:ext cx="8058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" y="685440"/>
            <a:ext cx="9137520" cy="1143000"/>
          </a:xfrm>
          <a:prstGeom prst="rect">
            <a:avLst/>
          </a:prstGeom>
          <a:solidFill>
            <a:srgbClr val="a0c2dc"/>
          </a:solidFill>
          <a:ln w="0">
            <a:noFill/>
          </a:ln>
        </p:spPr>
        <p:txBody>
          <a:bodyPr lIns="529200" rIns="2736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poS"/>
              </a:rPr>
              <a:t>bla</a:t>
            </a:r>
            <a:endParaRPr b="1" lang="en-US" sz="2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41280"/>
            <a:ext cx="82231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9720" indent="-36972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poS"/>
              </a:rPr>
              <a:t>blubb</a:t>
            </a:r>
            <a:endParaRPr b="0" lang="en-US" sz="2400" spc="-1" strike="noStrike">
              <a:solidFill>
                <a:srgbClr val="000000"/>
              </a:solidFill>
              <a:latin typeface="CorpoS"/>
            </a:endParaRPr>
          </a:p>
          <a:p>
            <a:pPr lvl="1" marL="65232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652320" indent="-2743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poS"/>
              </a:rPr>
              <a:t>bbb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652320" indent="-2743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poS"/>
              </a:rPr>
              <a:t>ccc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652320" indent="-27432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poS"/>
              </a:rPr>
              <a:t>ddd.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57F9-4A4E-49FF-B73F-0267687D59AC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