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EF3-067D-4315-988B-BCC4BB70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FC6-6A03-4E24-B9D6-6DDBB99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A2D-5589-470D-8D7B-79AABB6C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1B2-3C8B-4533-88F4-1C3BFE28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5CF-F801-4DF0-9E24-B1F4EC4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B3A-3675-41CA-9F11-897EEE7A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240-B1FC-4AFC-9777-4DE5AF8E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CFB-CE74-4259-B8D0-E96E041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821-0646-4C7E-8B64-2FE09BF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899-2C8C-406F-AF6A-445F4D8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3F-2CB8-45D1-8339-C5FF446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9F7-3435-44BE-82A7-2B7AA1ED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CE1A-D49E-435D-B03F-57444A1D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42" name="_s208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8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8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b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8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25520" y="1319040"/>
            <a:ext cx="4692960" cy="3378240"/>
            <a:chOff x="2225520" y="1319040"/>
            <a:chExt cx="4692960" cy="3378240"/>
          </a:xfrm>
        </p:grpSpPr>
        <p:sp>
          <p:nvSpPr>
            <p:cNvPr id="49" name="_s5126"/>
            <p:cNvSpPr/>
            <p:nvPr/>
          </p:nvSpPr>
          <p:spPr>
            <a:xfrm>
              <a:off x="3714840" y="1919160"/>
              <a:ext cx="1714320" cy="17146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27"/>
            <p:cNvSpPr/>
            <p:nvPr/>
          </p:nvSpPr>
          <p:spPr>
            <a:xfrm>
              <a:off x="4127400" y="1319040"/>
              <a:ext cx="890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28"/>
            <p:cNvSpPr/>
            <p:nvPr/>
          </p:nvSpPr>
          <p:spPr>
            <a:xfrm>
              <a:off x="4278240" y="2897280"/>
              <a:ext cx="1714680" cy="17143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29"/>
            <p:cNvSpPr/>
            <p:nvPr/>
          </p:nvSpPr>
          <p:spPr>
            <a:xfrm>
              <a:off x="6027840" y="4268880"/>
              <a:ext cx="890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0"/>
            <p:cNvSpPr/>
            <p:nvPr/>
          </p:nvSpPr>
          <p:spPr>
            <a:xfrm>
              <a:off x="3149640" y="2895480"/>
              <a:ext cx="1714320" cy="17146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1"/>
            <p:cNvSpPr/>
            <p:nvPr/>
          </p:nvSpPr>
          <p:spPr>
            <a:xfrm>
              <a:off x="2225520" y="4268880"/>
              <a:ext cx="890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22:19:47Z</dcterms:created>
  <dc:creator>RenYuxia</dc:creator>
  <dc:description/>
  <dc:language>en-US</dc:language>
  <cp:lastModifiedBy>RenYuxia</cp:lastModifiedBy>
  <dcterms:modified xsi:type="dcterms:W3CDTF">2006-02-15T22:23:00Z</dcterms:modified>
  <cp:revision>1</cp:revision>
  <dc:subject/>
  <dc:title>幻灯片 1</dc:title>
</cp:coreProperties>
</file>