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EBC-00CB-4C92-B5AD-358E8976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425-277B-4956-BE28-27DF2BF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5F1-2F25-4DC3-ACE8-C9AC975F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8E5-F5E3-4C32-99E3-DE808973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499-F072-483A-8090-009CE2B0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E5F-C751-4BFF-9DCE-55F2E7E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3AD-B692-45C9-868D-2647D63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309-6738-434B-837C-8246FA39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0DC-D8C9-48E4-914D-EB8850AE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EEB-1BDA-4AE1-A82E-AF10938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419-FD1B-4982-9987-D2257B0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DED-1197-475C-B175-8C2C8F3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94C-A080-45F8-AD56-E06B3929215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916280"/>
            <a:ext cx="26640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3860640"/>
            <a:ext cx="2448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3"/>
            <a:endCxn id="42" idx="1"/>
          </p:cNvCxnSpPr>
          <p:nvPr/>
        </p:nvCxnSpPr>
        <p:spPr>
          <a:xfrm>
            <a:off x="4211640" y="2600280"/>
            <a:ext cx="1726920" cy="150300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1" idx="3"/>
            <a:endCxn id="42" idx="2"/>
          </p:cNvCxnSpPr>
          <p:nvPr/>
        </p:nvCxnSpPr>
        <p:spPr>
          <a:xfrm>
            <a:off x="4211640" y="2600280"/>
            <a:ext cx="1368720" cy="2088720"/>
          </a:xfrm>
          <a:prstGeom prst="curvedConnector3">
            <a:avLst>
              <a:gd name="adj1" fmla="val 250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2" idx="0"/>
          </p:cNvCxnSpPr>
          <p:nvPr/>
        </p:nvCxnSpPr>
        <p:spPr>
          <a:xfrm>
            <a:off x="4211640" y="2600280"/>
            <a:ext cx="2592720" cy="126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116000" y="4005360"/>
            <a:ext cx="165564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7"/>
          </p:cNvCxnSpPr>
          <p:nvPr/>
        </p:nvCxnSpPr>
        <p:spPr>
          <a:xfrm rot="5400000">
            <a:off x="2206800" y="3606840"/>
            <a:ext cx="995040" cy="350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2"/>
            <a:endCxn id="46" idx="6"/>
          </p:cNvCxnSpPr>
          <p:nvPr/>
        </p:nvCxnSpPr>
        <p:spPr>
          <a:xfrm rot="5400000">
            <a:off x="1997280" y="4059000"/>
            <a:ext cx="1657080" cy="10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2"/>
            <a:endCxn id="46" idx="0"/>
          </p:cNvCxnSpPr>
          <p:nvPr/>
        </p:nvCxnSpPr>
        <p:spPr>
          <a:xfrm rot="5400000">
            <a:off x="2051280" y="3177360"/>
            <a:ext cx="721080" cy="93600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332000" y="587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gure is drawn as an “ov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661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gure is drawn as an “ov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1:50:04Z</dcterms:created>
  <dc:creator>tin</dc:creator>
  <dc:description/>
  <dc:language>en-US</dc:language>
  <cp:lastModifiedBy>tin</cp:lastModifiedBy>
  <dcterms:modified xsi:type="dcterms:W3CDTF">2007-04-01T01:57:51Z</dcterms:modified>
  <cp:revision>4</cp:revision>
  <dc:subject/>
  <dc:title>Slide 1</dc:title>
</cp:coreProperties>
</file>