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BF0-0745-460E-8A38-77B22306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41F-1885-4FEC-9A9A-3FF6B3B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B40-48F5-43B2-BE5E-CE589584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482-D96B-44BD-AB1E-6340C946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C0D-68D3-46EB-8CEB-48246F61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1B8-544D-452D-B916-555E5F84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E84-697E-49BF-84C5-1B62BD3F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B73-9626-44B5-9C70-5BDE3363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7FC-6A5D-4881-8C53-C5D00E4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D27-8A7A-4B84-A89B-49AECB7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1B6-504C-4254-B622-6C11DC96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B07-368F-4E8F-BB6B-5F354BF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957-5855-4206-AE55-7A86F4D95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2914560" cy="4334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43640" y="4076640"/>
            <a:ext cx="1511280" cy="100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OK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ほん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J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2087280" y="2744640"/>
            <a:ext cx="1657440" cy="1152360"/>
          </a:xfrm>
          <a:prstGeom prst="wedgeRectCallout">
            <a:avLst>
              <a:gd name="adj1" fmla="val 10601"/>
              <a:gd name="adj2" fmla="val 84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Rotating 2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ほん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JK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6694920" y="1809000"/>
            <a:ext cx="1476360" cy="1258920"/>
          </a:xfrm>
          <a:prstGeom prst="wedgeRectCallout">
            <a:avLst>
              <a:gd name="adj1" fmla="val -44518"/>
              <a:gd name="adj2" fmla="val 7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Rotating 90 °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ほん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JK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1:07:21Z</dcterms:created>
  <dc:creator>jlcheng</dc:creator>
  <dc:description/>
  <dc:language>en-US</dc:language>
  <cp:lastModifiedBy>a</cp:lastModifiedBy>
  <dcterms:modified xsi:type="dcterms:W3CDTF">2006-10-31T02:29:11Z</dcterms:modified>
  <cp:revision>5</cp:revision>
  <dc:subject/>
  <dc:title>幻灯片 1</dc:title>
</cp:coreProperties>
</file>