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F80-D187-4778-B198-B35D518E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864B-0634-4214-A723-BB821D95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45B-EB6A-40A5-9288-82B2310C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852-01ED-4194-B8FF-694EC3AA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F3D-45E9-4638-9486-A823B687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4A5-EBF8-4CA2-B628-54450F72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354-E4AB-476A-8DE3-ED8F90AD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24D3-EE8F-4BCC-88EE-509E98A5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E77A-F725-4A09-A866-1E626C8C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6AE-1CF4-47FA-A65C-E05C3F83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0EF-FBB5-4BBD-984F-F93ECC1A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DB6D-6BBC-4D8F-BEC2-BB0D7B3C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E31B-B855-436D-84F6-0B007F0BE0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qdwdewdwed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wdwdwdwdwdewdewd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wdwedwedewd2d34f345f45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erf45g65g5f4rf4f4tf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5:40:49Z</dcterms:created>
  <dc:creator>zw</dc:creator>
  <dc:description/>
  <dc:language>en-US</dc:language>
  <cp:lastModifiedBy>zw</cp:lastModifiedBy>
  <dcterms:modified xsi:type="dcterms:W3CDTF">2008-04-23T08:25:36Z</dcterms:modified>
  <cp:revision>2</cp:revision>
  <dc:subject/>
  <dc:title>幻灯片 1</dc:title>
</cp:coreProperties>
</file>