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527A-746A-4672-BE3E-A55E16282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C6F8-3C1F-4FA5-BCB9-D7BAEDFE3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2E08-E060-49CA-86CC-7F4CD7A31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0EE0F-6AEB-4B65-AFEF-B8D46395A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02669-6036-47CF-A0FB-4162B4FB20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3F096-EA2A-479C-BD60-75FB348C23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9F1CC-B4FC-475E-94DD-B7BA1C38BD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6C55B-22E1-455C-90D6-63D7394AA7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6F274-4916-4086-86B6-9608E3F4C0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6EDB6-5697-4249-9ECD-4CECBA0F51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A82D5-60FC-43FA-AC66-4695BA5808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321C-A273-40C2-BD2B-81B5DDC05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45C7C-6F49-47F8-93B2-36D2080875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A414D-C394-4007-8349-2E1879ECCF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16854-376A-46A5-8784-2941225166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336FB-3276-405F-AE74-26D8026B2F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C584C-54B1-4C62-93EE-9107579475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93ACB8-04DB-4671-87D5-BB62B909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F5BEB8-1976-480F-B2AF-7420BBE4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AF978E-8EC0-4D10-ABF5-2FB86630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520734-A578-4C09-A593-489E46BD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561DD9-9B62-40AA-95BC-8093C7F9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77DF-5E79-4426-ABC6-74483E1E25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A69C1F-8D9E-4B6D-A024-354D59A6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E6B6AB-1988-4ED1-8925-89FB2A59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FB3D96-FC81-43F0-A29F-70E85E64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826ED-8666-4259-8339-E9C3F4E6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C63C93-2FB2-487D-9383-DC41B6F6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2C4B23-F50E-4908-AD1C-7B9FA4E9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F70EE5-75F1-4CF9-B844-80FD9F2C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3CF8C-8523-4598-BE45-DF8ED4A31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008F-1AB3-4715-8A11-872A14AA3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5B85-5349-4800-87E2-5EE5CEF61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2E9C-0FD3-4C7A-BE81-8311F4EE5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C2EF3-2836-4251-AFF6-0BA8AAD39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7778-9CD5-4B3E-80CA-A1CB0FDDB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6342-BC78-4C49-AFA2-DC6E32549AE0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79F2-5BB9-42A7-AD6F-6C7FF01190AE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9057-DCB9-4DBF-8B2E-45E3A3C36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816200" y="1774800"/>
            <a:ext cx="6273720" cy="3341520"/>
            <a:chOff x="1816200" y="1774800"/>
            <a:chExt cx="6273720" cy="3341520"/>
          </a:xfrm>
        </p:grpSpPr>
        <p:sp>
          <p:nvSpPr>
            <p:cNvPr id="130" name="_s121907"/>
            <p:cNvSpPr/>
            <p:nvPr/>
          </p:nvSpPr>
          <p:spPr>
            <a:xfrm>
              <a:off x="4105440" y="2368440"/>
              <a:ext cx="1697040" cy="169704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121908"/>
            <p:cNvSpPr/>
            <p:nvPr/>
          </p:nvSpPr>
          <p:spPr>
            <a:xfrm>
              <a:off x="4105440" y="1774800"/>
              <a:ext cx="16970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Wide"/>
                </a:rPr>
                <a:t>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_s121909"/>
            <p:cNvSpPr/>
            <p:nvPr/>
          </p:nvSpPr>
          <p:spPr>
            <a:xfrm>
              <a:off x="4664160" y="3336840"/>
              <a:ext cx="1697040" cy="16970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121910"/>
            <p:cNvSpPr/>
            <p:nvPr/>
          </p:nvSpPr>
          <p:spPr>
            <a:xfrm>
              <a:off x="6392880" y="4692600"/>
              <a:ext cx="16970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Wide"/>
                </a:rPr>
                <a:t>T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_s121911"/>
            <p:cNvSpPr/>
            <p:nvPr/>
          </p:nvSpPr>
          <p:spPr>
            <a:xfrm>
              <a:off x="3546360" y="3336840"/>
              <a:ext cx="1697040" cy="16970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121912"/>
            <p:cNvSpPr/>
            <p:nvPr/>
          </p:nvSpPr>
          <p:spPr>
            <a:xfrm>
              <a:off x="1816200" y="4692600"/>
              <a:ext cx="16970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Wide"/>
                </a:rPr>
                <a:t>Th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29:13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2-02T17:30:24Z</dcterms:modified>
  <cp:revision>1</cp:revision>
  <dc:subject/>
  <dc:title>Slide 1</dc:title>
</cp:coreProperties>
</file>