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75B5-71BA-45D2-B48C-12A2A6A7C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1040"/>
            <a:ext cx="822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1B1BC-DA6E-4849-BFC5-DE631ACCE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4568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10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C6ED-C7E8-4A83-B221-65D252B42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264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456840"/>
            <a:ext cx="264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456840"/>
            <a:ext cx="264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1040"/>
            <a:ext cx="264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1040"/>
            <a:ext cx="264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1040"/>
            <a:ext cx="264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797E-DF55-4666-97D6-8C8BABD69E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A1185-AEE0-49A9-9100-6BFE46058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688E-BCF2-43B1-BFEF-1F1334C44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15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456840"/>
            <a:ext cx="4015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744B-7CBD-4FBD-BA27-AD070D8A6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ACD2C-B3A9-4B13-B8FB-6C4043BDF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FC5A-E08C-441F-A241-0171ACFCD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456840"/>
            <a:ext cx="4015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AD46-5BB1-4950-99D5-182EEA0FC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15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4568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10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EA40-70A5-4E6C-A3BB-21137A3F6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456840"/>
            <a:ext cx="40158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82296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10ED-8AEA-4609-BE28-194CCD049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-119160">
              <a:spcBef>
                <a:spcPts val="624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  <a:p>
            <a:pPr lvl="1" marL="276120" indent="-149040">
              <a:spcBef>
                <a:spcPts val="624"/>
              </a:spcBef>
              <a:buClr>
                <a:srgbClr val="6600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  <a:p>
            <a:pPr lvl="2" marL="422280" indent="-136440">
              <a:spcBef>
                <a:spcPts val="624"/>
              </a:spcBef>
              <a:buClr>
                <a:srgbClr val="66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  <a:p>
            <a:pPr lvl="3" marL="576360" indent="-144720">
              <a:spcBef>
                <a:spcPts val="624"/>
              </a:spcBef>
              <a:buClr>
                <a:srgbClr val="6600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  <a:p>
            <a:pPr lvl="4" marL="693720" indent="-109440">
              <a:spcBef>
                <a:spcPts val="624"/>
              </a:spcBef>
              <a:buClr>
                <a:srgbClr val="66003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  <a:p>
            <a:pPr lvl="5" marL="693720" indent="-10944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  <a:p>
            <a:pPr lvl="6" marL="693720" indent="-10944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1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8534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34160" y="662904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9F4F-C0ED-457B-98BA-F27393F787BA}" type="slidenum">
              <a:rPr b="1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ption events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304920" y="609480"/>
          <a:ext cx="8305560" cy="4984920"/>
        </p:xfrm>
        <a:graphic>
          <a:graphicData uri="http://schemas.openxmlformats.org/drawingml/2006/table">
            <a:tbl>
              <a:tblPr/>
              <a:tblGrid>
                <a:gridCol w="4647960"/>
                <a:gridCol w="1828800"/>
                <a:gridCol w="1828800"/>
              </a:tblGrid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events: </a:t>
                      </a:r>
                      <a:r>
                        <a:rPr b="0" lang="en-US" sz="800" spc="-1" strike="noStrike" u="sng">
                          <a:solidFill>
                            <a:srgbClr val="333399"/>
                          </a:solidFill>
                          <a:uFillTx/>
                          <a:latin typeface="Verdana"/>
                        </a:rPr>
                        <a:t>mousedown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on select, move mouse over options, and out </a:t>
                      </a:r>
                      <a:r>
                        <a:rPr b="0" lang="en-US" sz="800" spc="-1" strike="noStrike" u="sng">
                          <a:solidFill>
                            <a:srgbClr val="333399"/>
                          </a:solidFill>
                          <a:uFillTx/>
                          <a:latin typeface="Verdana"/>
                        </a:rPr>
                        <a:t>bottom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of option 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ehavi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anoma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container] related [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container] related [select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container from outsid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container into sel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select] related [container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select] related [opt.0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0 from select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select into option 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0] related [select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0] related [missing!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0 from select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out of option 0 from ??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valid relatedTarget ob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0] related [missing!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0] related [opt.1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into option 0 from ???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0 into option 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valid relatedTarget ob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1] related [opt.0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1] related [opt.2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1 from option 0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1 into option 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2] related [tr.opt.1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2] related [opt.3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2 from option 1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2 into option 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68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3] related [opt.2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3] </a:t>
                      </a: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related [select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3 from option 2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3 into sel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correct relatedTarget el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076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</a:t>
                      </a: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target[select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] related [opt.3]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</a:t>
                      </a: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target[select]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related []</a:t>
                      </a:r>
                      <a:r>
                        <a:rPr b="1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select from option 3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out of select into ??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correct target element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correct target element;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valid relatedTarget.id attribute val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3064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note: one pair of mouseOut/mouseOver events with missing relatedTargets may occur between </a:t>
                      </a:r>
                      <a:r>
                        <a:rPr b="0" i="1" lang="en-US" sz="800" spc="-1" strike="noStrike" u="sng">
                          <a:solidFill>
                            <a:srgbClr val="cc0000"/>
                          </a:solidFill>
                          <a:uFillTx/>
                          <a:latin typeface="Verdana"/>
                        </a:rPr>
                        <a:t>any</a:t>
                      </a:r>
                      <a:r>
                        <a:rPr b="0" i="1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valid mouseOver/mouseOut pair in this sequenc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note: select element is completely contained within divs with non-null i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8648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ption events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914400"/>
          <a:ext cx="8001000" cy="4851360"/>
        </p:xfrm>
        <a:graphic>
          <a:graphicData uri="http://schemas.openxmlformats.org/drawingml/2006/table">
            <a:tbl>
              <a:tblPr/>
              <a:tblGrid>
                <a:gridCol w="4343400"/>
                <a:gridCol w="1828800"/>
                <a:gridCol w="1828800"/>
              </a:tblGrid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events: </a:t>
                      </a:r>
                      <a:r>
                        <a:rPr b="0" lang="en-US" sz="800" spc="-1" strike="noStrike" u="sng">
                          <a:solidFill>
                            <a:srgbClr val="333399"/>
                          </a:solidFill>
                          <a:uFillTx/>
                          <a:latin typeface="Verdana"/>
                        </a:rPr>
                        <a:t>click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on select, move mouse over options and out </a:t>
                      </a:r>
                      <a:r>
                        <a:rPr b="0" lang="en-US" sz="800" spc="-1" strike="noStrike" u="sng">
                          <a:solidFill>
                            <a:srgbClr val="333399"/>
                          </a:solidFill>
                          <a:uFillTx/>
                          <a:latin typeface="Verdana"/>
                        </a:rPr>
                        <a:t>bottom</a:t>
                      </a: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of option 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ehavi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container] related [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container from outsi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container] related [select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container into sel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select] related [container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select from contain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select] related [container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spurio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purious ev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container] related [select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spurio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purious ev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container] related [select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spurio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purious ev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select] related [container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spurio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purious ev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select] related [opt.0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select into option 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0] related [select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0 from sel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0] related [opt.1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0 into option 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1] related [opt.0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1 from option 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1] related [opt.2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1 into option 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2] related [opt.1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2 from option 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2] related [opt.3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option 2 into option 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opt.3] related [opt.2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to option 3 from option 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opt.3] related [missing!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out of option 3 into ??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valid relatedTarget ob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6776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In: container target[container] related [missing!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into container from ??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valid relatedTarget ob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52800"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bubbleMouseOut: container target[container] related [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ut of container into outsi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18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8:45:24Z</dcterms:created>
  <dc:creator>Administrator</dc:creator>
  <dc:description/>
  <dc:language>en-US</dc:language>
  <cp:lastModifiedBy>Administrator</cp:lastModifiedBy>
  <dcterms:modified xsi:type="dcterms:W3CDTF">2007-06-01T01:41:26Z</dcterms:modified>
  <cp:revision>45</cp:revision>
  <dc:subject/>
  <dc:title>Resources: dbApi classes</dc:title>
</cp:coreProperties>
</file>