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D17-00CC-4C55-B9A5-529AB63B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217-96F1-495B-8683-E2E252CF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C91-5857-4BAC-B253-5D420FEA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466-BF9B-43E6-8193-D1F8453D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BE1-DA9D-46D2-80B6-ABC14BBF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A71-BDF2-48BB-B06F-C2EE5E58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114-CD63-49AE-BBDA-2DB36574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5D8-403C-4AB5-B3F4-FBFC346C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4BF-5719-4AA9-A051-479B6D12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011-ABE4-4545-8A45-1988220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38C-3539-4124-9BE3-5256BBE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338-B8E4-44EA-9172-D735417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1BC7-D77C-4AE5-80F6-AACFA01A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stom-type-outdoor b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90480" y="1981080"/>
          <a:ext cx="7763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981080"/>
                    <a:ext cx="7763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7T07:00:57Z</dcterms:modified>
  <cp:revision>33</cp:revision>
  <dc:subject/>
  <dc:title>PowerPoint Presentation</dc:title>
</cp:coreProperties>
</file>