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CD6-BD0A-4934-BACB-F345C3E1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45B-2188-4327-B683-F7E46B0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08D-6C1B-40CB-9B08-19EE826C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144-14D8-4AA8-A3C0-86D1A0E7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05B-49FD-4AB1-BFA2-06F8763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96E-3909-42A9-B6FC-89F8FE7E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A01-C173-4624-BB62-04D286E6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08E-E9E2-417A-9B5B-272F80DA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043-FB77-4B5F-B891-CA0CBC02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CC7-F6BA-4A18-A124-F992EF5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02F-3561-402A-AA53-98821F4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718-73D4-46BD-90E1-B73C8548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7AD-9AC5-4421-9A54-5312AA97C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wanglifeng</cp:lastModifiedBy>
  <dcterms:modified xsi:type="dcterms:W3CDTF">2012-09-11T05:26:00Z</dcterms:modified>
  <cp:revision>6</cp:revision>
  <dc:subject/>
  <dc:title>幻灯片 1</dc:title>
</cp:coreProperties>
</file>