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F84C-21A9-4BED-9818-B47AF01EE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2ADA-461B-445B-81ED-6D0C51CA6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692A-3147-4F61-BE80-DF2A1B682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05E7-6289-49F9-8132-4B36A8BED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1F3F-3E30-4454-90D1-42980600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A726-E011-42B8-85B9-FC4B892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5FC5-3AF2-4696-A3E0-0BA256B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1A70-62B0-4E1E-B335-5358721F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0925-FDF4-4C98-A6B6-D3E294F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295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6D20D-32DE-49A3-B8B7-CC7ECEC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8F020-071D-47FC-817C-A4602E4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12B7-FBB4-4265-BF18-708AFF327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91A5D-7779-4F49-91A1-2CE60E3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A6112-85CD-4E9C-9E12-2AC978D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3E4E3-69FD-4650-8286-CF14412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772A-6DA6-4D4E-8CA7-9754FECD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C53E4-A558-4569-BFC1-E45A091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E210-6111-4905-98A3-62AFB3346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8D96-09A3-4C6E-BDA9-0728D830A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55E3-37A3-4526-9A92-D2F25CC7D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952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4FE9-552F-455D-AD0A-58612F96B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7407-2DAE-4EDC-A77E-4E968815E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6FF7-FE52-4BD4-8D32-099CC3CE3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58AF-6B16-485E-9C03-6FA24E416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006200"/>
            <a:ext cx="780408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95560" y="6361200"/>
            <a:ext cx="57686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60960" y="6327360"/>
            <a:ext cx="19047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</a:t>
            </a:r>
            <a:fld id="{F09C90E2-C1E5-4FC7-9E7D-F06CE69BC54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0280" y="101520"/>
            <a:ext cx="152280" cy="6550200"/>
            <a:chOff x="260280" y="101520"/>
            <a:chExt cx="152280" cy="6550200"/>
          </a:xfrm>
        </p:grpSpPr>
        <p:sp>
          <p:nvSpPr>
            <p:cNvPr id="5" name=""/>
            <p:cNvSpPr/>
            <p:nvPr/>
          </p:nvSpPr>
          <p:spPr>
            <a:xfrm>
              <a:off x="260280" y="169236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0280" y="192240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0280" y="214956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60280" y="237960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0280" y="2610000"/>
              <a:ext cx="152280" cy="1504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0280" y="28368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0280" y="30672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60280" y="3297240"/>
              <a:ext cx="152280" cy="1490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60280" y="352440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60280" y="375444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60280" y="3984480"/>
              <a:ext cx="152280" cy="1494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60280" y="421020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60280" y="44402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60280" y="4667400"/>
              <a:ext cx="152280" cy="15372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60280" y="48974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60280" y="51274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60280" y="535464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0280" y="55846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60280" y="58150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60280" y="60418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60280" y="627228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60280" y="650088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60280" y="101520"/>
              <a:ext cx="152280" cy="14940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60280" y="328680"/>
              <a:ext cx="152280" cy="1522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60280" y="558720"/>
              <a:ext cx="152280" cy="1526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60280" y="78732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60280" y="101448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60280" y="1244520"/>
              <a:ext cx="152280" cy="15408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60280" y="1474920"/>
              <a:ext cx="152280" cy="150840"/>
            </a:xfrm>
            <a:prstGeom prst="rect">
              <a:avLst/>
            </a:prstGeom>
            <a:solidFill>
              <a:srgbClr val="33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" name=""/>
          <p:cNvGraphicFramePr/>
          <p:nvPr/>
        </p:nvGraphicFramePr>
        <p:xfrm>
          <a:off x="0" y="0"/>
          <a:ext cx="860400" cy="91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60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56F-ACC0-4092-89D1-2C971D9D39A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6EF-1B86-4940-9ED3-116D348AC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581280" y="6396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4200" y="2166840"/>
          <a:ext cx="86598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4200" y="2166840"/>
                    <a:ext cx="8659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itle Tex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5T12:25:18Z</dcterms:created>
  <dc:creator>Colin Taylor</dc:creator>
  <dc:description/>
  <dc:language>en-US</dc:language>
  <cp:lastModifiedBy>Alan Quirt</cp:lastModifiedBy>
  <cp:lastPrinted>1999-10-29T01:59:26Z</cp:lastPrinted>
  <dcterms:modified xsi:type="dcterms:W3CDTF">2006-07-17T15:03:44Z</dcterms:modified>
  <cp:revision>188</cp:revision>
  <dc:subject/>
  <dc:title>No Slide Title</dc:title>
</cp:coreProperties>
</file>