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074-0319-4812-8F93-E19B8D0F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6D3-B5C8-4A7D-85D0-BD99646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BE7-3CD6-4719-BBDB-12BB6B9B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DEA-E918-484F-AFE6-CB76B30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8E0E-85EE-4A22-8B8C-D77D5B15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7890-23AE-434E-8BE0-D197607E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4195-38F2-4671-A5D0-B7B3A22A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55E1-BB5F-4D1C-8AB1-500D746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2136-FB50-4F49-BFEE-D906B0A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C8E-A8B3-4FC3-944D-58D0E06C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F75-A2C1-44DA-AA09-CDF2C0BB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E34-E6A7-440A-93DC-DB5E52A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C00B-F000-494B-A26E-E60C92D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677-2B0D-47B7-802B-F709098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02E3-6E46-4BB6-8ACE-A4B5A45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C174-BCD7-49B8-B82C-DE05DB1D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B55-E491-4398-9491-B0D3366F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463-FA1D-4606-A720-F02CFFB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744-2611-450C-B149-A470FD97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721-C320-4A8B-902D-20FA2D72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5B6-BE14-4B02-A6F7-66319617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85C-682C-4B69-A4D6-A3D8009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647-8C58-4714-828A-6E93B40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5F8-349F-4E80-90BD-84B0ACE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6FB-EBBD-4176-A96D-C1FBA7DE25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2CB-933D-4B2B-B0D6-15AD7D856E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5202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s Zitat von Papst Benedikt XVI über den Islam hat bei Moslems auf der ganzen Welt zu heftigsten Protesten gefüh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-9360"/>
            <a:ext cx="6840720" cy="51339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2,3)"/>
                                          </p:val>
                                        </p:tav>
                                        <p:tav tm="50000">
                                          <p:val>
                                            <p:strVal val="rgb(1,2,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halb musste der Papst aus Sicherheitsgründen vorübergehend in der Südsteiermark untertauche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2,3)"/>
                                          </p:val>
                                        </p:tav>
                                        <p:tav tm="50000">
                                          <p:val>
                                            <p:strVal val="rgb(1,2,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7136" r="0" b="8154"/>
          <a:stretch/>
        </p:blipFill>
        <p:spPr>
          <a:xfrm>
            <a:off x="1763640" y="189000"/>
            <a:ext cx="6193080" cy="6669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7:16:26Z</dcterms:created>
  <dc:creator>Karl Martin</dc:creator>
  <dc:description/>
  <dc:language>en-US</dc:language>
  <cp:lastModifiedBy>Karl Martin</cp:lastModifiedBy>
  <dcterms:modified xsi:type="dcterms:W3CDTF">2006-09-28T07:38:15Z</dcterms:modified>
  <cp:revision>2</cp:revision>
  <dc:subject/>
  <dc:title>Folie 1</dc:title>
</cp:coreProperties>
</file>