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AA5-378D-482A-A763-02983D5D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000-2489-49E1-959C-D94B0F3D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52B-8E32-4337-B4F6-FB69C200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6C7-DB54-4DF8-9576-EE02B913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019-10F1-4761-B3F6-51E28920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907-038C-4B4E-8AE1-EDDB547E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363-2620-44EE-A776-3BCB984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909-30AC-48DD-9AD1-5D534E1D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919-9330-4B44-B650-6581EF38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8AA-C38C-4A10-BC16-FDC22A22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BC8-7029-4BA0-BB49-9EB0D14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D2D-605B-4076-9AE0-6BB83207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2CA9-7586-4705-9377-6FB7A72B1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קף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ין ללחוץ ע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יותר מ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שניות רצוף, אחרת יש חשש לשריפת המעגלים החשמליים של מערכת כיוון התד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03:59Z</dcterms:created>
  <dc:creator>ooo</dc:creator>
  <dc:description/>
  <dc:language>en-US</dc:language>
  <cp:lastModifiedBy>ooo</cp:lastModifiedBy>
  <dcterms:modified xsi:type="dcterms:W3CDTF">2004-09-22T08:04:02Z</dcterms:modified>
  <cp:revision>1</cp:revision>
  <dc:subject/>
  <dc:title>שקף 7</dc:title>
</cp:coreProperties>
</file>