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85327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4043520"/>
            <a:ext cx="85327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1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960" y="153684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53684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404352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960" y="404352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043520"/>
            <a:ext cx="27471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536840"/>
            <a:ext cx="8532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8532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90920" y="237960"/>
            <a:ext cx="62467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120" y="404352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120" y="1536840"/>
            <a:ext cx="41637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4043520"/>
            <a:ext cx="853272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19440" y="6527880"/>
            <a:ext cx="1905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3B6D-968E-4125-AA6B-B8C716CB84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8520" y="1420920"/>
            <a:ext cx="8381880" cy="27000"/>
          </a:xfrm>
          <a:prstGeom prst="roundRect">
            <a:avLst>
              <a:gd name="adj" fmla="val 625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536840"/>
            <a:ext cx="853272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buClr>
                <a:srgbClr val="e80000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1" marL="566640" indent="-228600">
              <a:spcBef>
                <a:spcPts val="601"/>
              </a:spcBef>
              <a:buClr>
                <a:srgbClr val="f09c04"/>
              </a:buClr>
              <a:buSzPct val="6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2" marL="906480" indent="-223920">
              <a:spcBef>
                <a:spcPts val="601"/>
              </a:spcBef>
              <a:buClr>
                <a:srgbClr val="35077f"/>
              </a:buClr>
              <a:buSzPct val="8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3" marL="1255680" indent="-223920"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4" marL="1600200" indent="-223920">
              <a:spcBef>
                <a:spcPts val="601"/>
              </a:spcBef>
              <a:buClr>
                <a:srgbClr val="cc33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5" marL="1600200" indent="-22392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  <a:p>
            <a:pPr lvl="6" marL="1600200" indent="-22392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5077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507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0920" y="237960"/>
            <a:ext cx="62467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077f"/>
                </a:solidFill>
                <a:latin typeface="Arial"/>
              </a:rPr>
              <a:t>Title</a:t>
            </a:r>
            <a:endParaRPr b="1" lang="en-US" sz="3200" spc="-1" strike="noStrike">
              <a:solidFill>
                <a:srgbClr val="35077f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600200" y="1600200"/>
          <a:ext cx="6553080" cy="4711680"/>
        </p:xfrm>
        <a:graphic>
          <a:graphicData uri="http://schemas.openxmlformats.org/drawingml/2006/table">
            <a:tbl>
              <a:tblPr/>
              <a:tblGrid>
                <a:gridCol w="2165040"/>
                <a:gridCol w="438804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Column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Column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D. R. Evans</cp:lastModifiedBy>
  <dcterms:modified xsi:type="dcterms:W3CDTF">2004-01-19T21:35:34Z</dcterms:modified>
  <cp:revision>64</cp:revision>
  <dc:subject/>
  <dc:title>PacketCable™ Networks D. R. Evans N7DR@arrisi.com </dc:title>
</cp:coreProperties>
</file>