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985080" cy="927108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71080"/>
              <a:gd name="textAreaBottom" fmla="*/ 9270720 h 9271080"/>
            </a:gdLst>
            <a:ahLst/>
            <a:rect l="textAreaLeft" t="textAreaTop" r="textAreaRight" b="textAreaBottom"/>
            <a:pathLst>
              <a:path w="21600" h="28669">
                <a:moveTo>
                  <a:pt x="4" y="0"/>
                </a:moveTo>
                <a:arcTo wR="4" hR="4" stAng="16200000" swAng="-5400000"/>
                <a:lnTo>
                  <a:pt x="0" y="28665"/>
                </a:lnTo>
                <a:arcTo wR="4" hR="4" stAng="10800000" swAng="-5400000"/>
                <a:lnTo>
                  <a:pt x="21596" y="2866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67040" cy="34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e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0990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30400" y="68580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04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30400" y="68580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04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75517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50480" y="3824280"/>
            <a:ext cx="75517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2012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50480" y="382428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20120" y="382428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03960" y="149976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7440" y="149976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50480" y="382428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03960" y="382428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7440" y="382428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FA58-139E-4C08-AB9E-463AF398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50480" y="1499760"/>
            <a:ext cx="75517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a5a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54AE-732A-43CA-9CDA-30B9BB9B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75517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60E2-F345-4B2B-AB0B-E8081D47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368496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0120" y="1499760"/>
            <a:ext cx="368496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173A-A008-44D8-9F5D-BCEE7B38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55C-CD33-44B8-A85E-A561FACA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55520" y="255600"/>
            <a:ext cx="743904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a5a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600C-3047-488A-A44F-B0FFA1F1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0120" y="1499760"/>
            <a:ext cx="368496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50480" y="382428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E460-B2A6-4554-9E9F-6D86BD77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50480" y="1499760"/>
            <a:ext cx="75517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a5a5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368496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012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20120" y="382428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18D8-1E16-46AE-8827-7BEA3AFA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012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50480" y="3824280"/>
            <a:ext cx="75517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E041-511F-420B-8309-AA6C6718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75517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50480" y="3824280"/>
            <a:ext cx="75517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021-C008-4DBB-B2D5-2A00D25F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012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50480" y="382428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20120" y="382428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8DC-75AA-4E0E-8190-42267385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03960" y="149976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57440" y="149976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50480" y="382428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03960" y="382428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57440" y="3824280"/>
            <a:ext cx="24314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D4B4-39D0-43AD-A7C1-89266C78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75517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368496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0120" y="1499760"/>
            <a:ext cx="368496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55520" y="255600"/>
            <a:ext cx="743904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a5a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0120" y="1499760"/>
            <a:ext cx="368496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50480" y="382428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368496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012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20120" y="382428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048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0120" y="1499760"/>
            <a:ext cx="36849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0480" y="3824280"/>
            <a:ext cx="75517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55520" y="255600"/>
            <a:ext cx="7439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e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0480" y="1499760"/>
            <a:ext cx="75517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c3c4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  <a:p>
            <a:pPr lvl="1" marL="457200" indent="-228600">
              <a:lnSpc>
                <a:spcPct val="95000"/>
              </a:lnSpc>
              <a:buClr>
                <a:srgbClr val="5a5a5f"/>
              </a:buClr>
              <a:buSzPct val="80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c3c4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  <a:p>
            <a:pPr lvl="2" marL="569880" indent="-174600">
              <a:lnSpc>
                <a:spcPct val="95000"/>
              </a:lnSpc>
              <a:buClr>
                <a:srgbClr val="5a5a5f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c3c4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  <a:p>
            <a:pPr lvl="3" marL="852480" indent="-162000">
              <a:lnSpc>
                <a:spcPct val="95000"/>
              </a:lnSpc>
              <a:buClr>
                <a:srgbClr val="5a5a5f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c3c4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  <a:p>
            <a:pPr lvl="4" marL="1081080" indent="-108000">
              <a:lnSpc>
                <a:spcPct val="95000"/>
              </a:lnSpc>
              <a:buClr>
                <a:srgbClr val="5a5a5f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c3c4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  <a:p>
            <a:pPr lvl="5" marL="1081080" indent="-108000">
              <a:lnSpc>
                <a:spcPct val="95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c3c4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  <a:p>
            <a:pPr lvl="6" marL="1081080" indent="-108000">
              <a:lnSpc>
                <a:spcPct val="95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c3c4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63720" y="6365880"/>
            <a:ext cx="576900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900" spc="-1" strike="noStrike">
                <a:solidFill>
                  <a:srgbClr val="6b6b6b"/>
                </a:solidFill>
                <a:latin typeface="Arial"/>
              </a:rPr>
              <a:t>©  Novell Inc, Confidential &amp; Proprie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57240"/>
            <a:ext cx="1017720" cy="223920"/>
            <a:chOff x="0" y="57240"/>
            <a:chExt cx="1017720" cy="223920"/>
          </a:xfrm>
        </p:grpSpPr>
        <p:sp>
          <p:nvSpPr>
            <p:cNvPr id="4" name=""/>
            <p:cNvSpPr/>
            <p:nvPr/>
          </p:nvSpPr>
          <p:spPr>
            <a:xfrm>
              <a:off x="0" y="57240"/>
              <a:ext cx="1017720" cy="223920"/>
            </a:xfrm>
            <a:prstGeom prst="roundRect">
              <a:avLst>
                <a:gd name="adj" fmla="val 713"/>
              </a:avLst>
            </a:prstGeom>
            <a:solidFill>
              <a:srgbClr val="cccc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7240"/>
              <a:ext cx="1017720" cy="223920"/>
            </a:xfrm>
            <a:prstGeom prst="roundRect">
              <a:avLst>
                <a:gd name="adj" fmla="val 713"/>
              </a:avLst>
            </a:prstGeom>
            <a:solidFill>
              <a:srgbClr val="cccc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388800" y="6313320"/>
            <a:ext cx="381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FEA89-B219-42B2-9B08-BC274DDF3809}" type="slidenum">
              <a:rPr b="1" lang="en-GB" sz="1300" spc="-1" strike="noStrike" baseline="1000">
                <a:solidFill>
                  <a:srgbClr val="3d3c3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5240" y="57240"/>
            <a:ext cx="6777000" cy="223920"/>
            <a:chOff x="1065240" y="57240"/>
            <a:chExt cx="6777000" cy="223920"/>
          </a:xfrm>
        </p:grpSpPr>
        <p:sp>
          <p:nvSpPr>
            <p:cNvPr id="8" name=""/>
            <p:cNvSpPr/>
            <p:nvPr/>
          </p:nvSpPr>
          <p:spPr>
            <a:xfrm>
              <a:off x="1065240" y="57240"/>
              <a:ext cx="6777000" cy="223920"/>
            </a:xfrm>
            <a:prstGeom prst="roundRect">
              <a:avLst>
                <a:gd name="adj" fmla="val 713"/>
              </a:avLst>
            </a:prstGeom>
            <a:solidFill>
              <a:srgbClr val="3c3c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065240" y="57240"/>
              <a:ext cx="6777000" cy="223920"/>
            </a:xfrm>
            <a:prstGeom prst="roundRect">
              <a:avLst>
                <a:gd name="adj" fmla="val 713"/>
              </a:avLst>
            </a:prstGeom>
            <a:solidFill>
              <a:srgbClr val="3c3c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DE0E9-EC80-4409-81EE-5E47B91CB3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54080" y="254160"/>
            <a:ext cx="744552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e00000"/>
                </a:solidFill>
                <a:latin typeface="Arial"/>
              </a:rPr>
              <a:t>Cairo canvas backend</a:t>
            </a: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50480" y="1498680"/>
            <a:ext cx="7558200" cy="26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c3c41"/>
                </a:solidFill>
                <a:latin typeface="Arial"/>
              </a:rPr>
              <a:t>New Canvas API in OOo 2.x</a:t>
            </a: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  <a:p>
            <a:pPr lvl="1" marL="457200" indent="-163440">
              <a:lnSpc>
                <a:spcPct val="117000"/>
              </a:lnSpc>
              <a:buClr>
                <a:srgbClr val="5a5a5f"/>
              </a:buClr>
              <a:buSzPct val="80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c3c41"/>
                </a:solidFill>
                <a:latin typeface="Arial"/>
              </a:rPr>
              <a:t>provides missing functionality</a:t>
            </a:r>
            <a:endParaRPr b="0" lang="en-US" sz="2000" spc="-1" strike="noStrike">
              <a:solidFill>
                <a:srgbClr val="3c3c41"/>
              </a:solidFill>
              <a:latin typeface="Arial"/>
            </a:endParaRPr>
          </a:p>
          <a:p>
            <a:pPr lvl="2" marL="569880" indent="-174600">
              <a:lnSpc>
                <a:spcPct val="117000"/>
              </a:lnSpc>
              <a:buClr>
                <a:srgbClr val="5a5a5f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3c3c41"/>
                </a:solidFill>
                <a:latin typeface="Arial"/>
              </a:rPr>
              <a:t>antialiasing</a:t>
            </a:r>
            <a:endParaRPr b="0" lang="en-US" sz="1600" spc="-1" strike="noStrike">
              <a:solidFill>
                <a:srgbClr val="3c3c41"/>
              </a:solidFill>
              <a:latin typeface="Arial"/>
            </a:endParaRPr>
          </a:p>
          <a:p>
            <a:pPr lvl="2" marL="569880" indent="-174600">
              <a:lnSpc>
                <a:spcPct val="117000"/>
              </a:lnSpc>
              <a:buClr>
                <a:srgbClr val="5a5a5f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3c3c41"/>
                </a:solidFill>
                <a:latin typeface="Arial"/>
              </a:rPr>
              <a:t>alpha transparency and compositing</a:t>
            </a:r>
            <a:endParaRPr b="0" lang="en-US" sz="1600" spc="-1" strike="noStrike">
              <a:solidFill>
                <a:srgbClr val="3c3c41"/>
              </a:solidFill>
              <a:latin typeface="Arial"/>
            </a:endParaRPr>
          </a:p>
          <a:p>
            <a:pPr lvl="2" marL="569880" indent="-174600">
              <a:lnSpc>
                <a:spcPct val="117000"/>
              </a:lnSpc>
              <a:buClr>
                <a:srgbClr val="5a5a5f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3c3c41"/>
                </a:solidFill>
                <a:latin typeface="Arial"/>
              </a:rPr>
              <a:t>affine transformations</a:t>
            </a:r>
            <a:endParaRPr b="0" lang="en-US" sz="1600" spc="-1" strike="noStrike">
              <a:solidFill>
                <a:srgbClr val="3c3c41"/>
              </a:solidFill>
              <a:latin typeface="Arial"/>
            </a:endParaRPr>
          </a:p>
          <a:p>
            <a:pPr lvl="2" marL="569880" indent="-174600">
              <a:lnSpc>
                <a:spcPct val="117000"/>
              </a:lnSpc>
              <a:buClr>
                <a:srgbClr val="5a5a5f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3c3c41"/>
                </a:solidFill>
                <a:latin typeface="Arial"/>
              </a:rPr>
              <a:t>color management</a:t>
            </a:r>
            <a:endParaRPr b="0" lang="en-US" sz="1600" spc="-1" strike="noStrike">
              <a:solidFill>
                <a:srgbClr val="3c3c41"/>
              </a:solidFill>
              <a:latin typeface="Arial"/>
            </a:endParaRPr>
          </a:p>
          <a:p>
            <a:pPr lvl="1" marL="457200" indent="-163440">
              <a:lnSpc>
                <a:spcPct val="117000"/>
              </a:lnSpc>
              <a:buClr>
                <a:srgbClr val="5a5a5f"/>
              </a:buClr>
              <a:buSzPct val="80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c3c41"/>
                </a:solidFill>
                <a:latin typeface="Arial"/>
              </a:rPr>
              <a:t>improves speed of rendering</a:t>
            </a:r>
            <a:endParaRPr b="0" lang="en-US" sz="2000" spc="-1" strike="noStrike">
              <a:solidFill>
                <a:srgbClr val="3c3c41"/>
              </a:solidFill>
              <a:latin typeface="Arial"/>
            </a:endParaRPr>
          </a:p>
          <a:p>
            <a:pPr lvl="1" marL="457200" indent="-163440">
              <a:lnSpc>
                <a:spcPct val="117000"/>
              </a:lnSpc>
              <a:buClr>
                <a:srgbClr val="5a5a5f"/>
              </a:buClr>
              <a:buSzPct val="80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c3c41"/>
                </a:solidFill>
                <a:latin typeface="Arial"/>
              </a:rPr>
              <a:t>multiple backends – VCL, DirectX, Java</a:t>
            </a:r>
            <a:endParaRPr b="0" lang="en-US" sz="20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50840" y="4386240"/>
            <a:ext cx="7558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c3c41"/>
                </a:solidFill>
                <a:latin typeface="Arial"/>
              </a:rPr>
              <a:t>Cairo canvas back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3440">
              <a:lnSpc>
                <a:spcPct val="117000"/>
              </a:lnSpc>
              <a:buClr>
                <a:srgbClr val="5a5a5f"/>
              </a:buClr>
              <a:buSzPct val="80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c3c41"/>
                </a:solidFill>
                <a:latin typeface="Arial"/>
                <a:ea typeface="Lucida Sans Unicode"/>
              </a:rPr>
              <a:t>newly developed OOo Canvas bac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3440">
              <a:lnSpc>
                <a:spcPct val="117000"/>
              </a:lnSpc>
              <a:buClr>
                <a:srgbClr val="5a5a5f"/>
              </a:buClr>
              <a:buSzPct val="80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c3c41"/>
                </a:solidFill>
                <a:latin typeface="Arial"/>
                <a:ea typeface="Lucida Sans Unicode"/>
              </a:rPr>
              <a:t>uses Cairo library for high quality re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54080" y="254160"/>
            <a:ext cx="744552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e00000"/>
                </a:solidFill>
                <a:latin typeface="Arial"/>
              </a:rPr>
              <a:t>Cairo canvas improvements</a:t>
            </a:r>
            <a:endParaRPr b="1" lang="en-US" sz="3200" spc="-1" strike="noStrike">
              <a:solidFill>
                <a:srgbClr val="e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50480" y="1498320"/>
            <a:ext cx="75582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c3c41"/>
                </a:solidFill>
                <a:latin typeface="Arial"/>
              </a:rPr>
              <a:t>Antialiasing</a:t>
            </a:r>
            <a:endParaRPr b="0" lang="en-US" sz="2800" spc="-1" strike="noStrike">
              <a:solidFill>
                <a:srgbClr val="3c3c4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01880" y="2136600"/>
            <a:ext cx="4255920" cy="4035600"/>
          </a:xfrm>
          <a:prstGeom prst="roundRect">
            <a:avLst>
              <a:gd name="adj" fmla="val 37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06640" y="2335320"/>
            <a:ext cx="2287440" cy="2143080"/>
          </a:xfrm>
          <a:prstGeom prst="triangle">
            <a:avLst>
              <a:gd name="adj" fmla="val 50000"/>
            </a:avLst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04920" y="3836880"/>
            <a:ext cx="2287440" cy="2143080"/>
          </a:xfrm>
          <a:prstGeom prst="triangle">
            <a:avLst>
              <a:gd name="adj" fmla="val 50000"/>
            </a:avLst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05120" y="3838680"/>
            <a:ext cx="2287440" cy="214308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2286000"/>
            <a:ext cx="2971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mooth looking lines and shape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cKay Brown</dc:creator>
  <dc:description/>
  <dc:language>en-US</dc:language>
  <cp:lastModifiedBy>Radek Doulik</cp:lastModifiedBy>
  <cp:revision>0</cp:revision>
  <dc:subject/>
  <dc:title/>
</cp:coreProperties>
</file>