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5638" cy="9226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D8719-57AD-4BAB-ABA6-415DA89B2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-76680"/>
            <a:ext cx="7542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560" y="1066680"/>
            <a:ext cx="73134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560" y="3414240"/>
            <a:ext cx="73134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D1352-EF7F-4423-8AF6-166AF4340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-76680"/>
            <a:ext cx="7542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560" y="1066680"/>
            <a:ext cx="35686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95160" y="1066680"/>
            <a:ext cx="35686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560" y="3414240"/>
            <a:ext cx="35686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95160" y="3414240"/>
            <a:ext cx="35686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6C03-59B5-4071-8E16-3B08829D3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-76680"/>
            <a:ext cx="7542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560" y="1066680"/>
            <a:ext cx="23547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0400" y="1066680"/>
            <a:ext cx="23547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3240" y="1066680"/>
            <a:ext cx="23547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560" y="3414240"/>
            <a:ext cx="23547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0400" y="3414240"/>
            <a:ext cx="23547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3240" y="3414240"/>
            <a:ext cx="23547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0E8D6-D819-4FE3-ADEE-C41CD7295E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4920" y="-76680"/>
            <a:ext cx="7542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560" y="1066680"/>
            <a:ext cx="731340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9d6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67C19-F1A8-4F7A-B25C-7034985E1B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4920" y="-76680"/>
            <a:ext cx="7542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560" y="1066680"/>
            <a:ext cx="731340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2CB6D-71DA-4CEA-B93D-A712E38EE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4920" y="-76680"/>
            <a:ext cx="7542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560" y="1066680"/>
            <a:ext cx="35686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95160" y="1066680"/>
            <a:ext cx="35686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651E-137B-4789-9932-B9941FB0E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4920" y="-76680"/>
            <a:ext cx="7542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C15C9-D3F5-4D7B-9DD2-6534E07C5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4920" y="-76680"/>
            <a:ext cx="7542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9d6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C37A5-8B9B-4798-94EC-8CAFABECD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4920" y="-76680"/>
            <a:ext cx="7542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560" y="1066680"/>
            <a:ext cx="35686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5160" y="1066680"/>
            <a:ext cx="35686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560" y="3414240"/>
            <a:ext cx="35686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2F5E4-7C42-48FE-86A6-882EBE922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-76680"/>
            <a:ext cx="7542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560" y="1066680"/>
            <a:ext cx="35686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5160" y="1066680"/>
            <a:ext cx="35686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95160" y="3414240"/>
            <a:ext cx="35686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BC7C1-FA5B-4567-8B6B-E7958115C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-76680"/>
            <a:ext cx="7542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560" y="1066680"/>
            <a:ext cx="35686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5160" y="1066680"/>
            <a:ext cx="35686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560" y="3414240"/>
            <a:ext cx="73134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D4E7-E139-4FCA-81E3-532EF8A80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-76680"/>
            <a:ext cx="7542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86ca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560" y="1066680"/>
            <a:ext cx="731340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704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012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012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012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-7920"/>
            <a:ext cx="990720" cy="21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228600"/>
            <a:ext cx="9889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B4C1-F010-42C8-B997-C84FF3817ADC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4920" y="1742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86caf"/>
                </a:solidFill>
                <a:latin typeface="Arial"/>
              </a:rPr>
              <a:t>Findings and Understanding</a:t>
            </a: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60560" y="2637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24200" y="2637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3344" t="0" r="0" b="0"/>
          <a:stretch/>
        </p:blipFill>
        <p:spPr>
          <a:xfrm>
            <a:off x="1258920" y="907920"/>
            <a:ext cx="3024000" cy="2952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92720" y="1125360"/>
            <a:ext cx="1511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64000" y="1916280"/>
            <a:ext cx="33116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993366"/>
                </a:solidFill>
                <a:uFillTx/>
                <a:latin typeface="Times New Roman"/>
              </a:rPr>
              <a:t>SS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uto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7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0.25 Tor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993366"/>
                </a:solidFill>
                <a:uFillTx/>
                <a:latin typeface="Times New Roman"/>
              </a:rPr>
              <a:t>DCS=sccm / NH3=sc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po Time: 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03280" y="4581360"/>
            <a:ext cx="360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J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: 192 (0.16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R: 219 (0.16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TM: 96 (0.16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36000" y="1125360"/>
            <a:ext cx="1223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E9DEB-F840-4459-B4D4-2730FB9E97F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742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86caf"/>
                </a:solidFill>
                <a:latin typeface="Arial"/>
              </a:rPr>
              <a:t>Investigation</a:t>
            </a: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60560" y="2637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24200" y="2637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1125360"/>
            <a:ext cx="151128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1916280"/>
            <a:ext cx="33116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993366"/>
                </a:solidFill>
                <a:uFillTx/>
                <a:latin typeface="Times New Roman"/>
              </a:rPr>
              <a:t>SSV O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uto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7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0. Tor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993366"/>
                </a:solidFill>
                <a:uFillTx/>
                <a:latin typeface="Times New Roman"/>
              </a:rPr>
              <a:t>DCS=sccm / NH3=sc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po Time: 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4581360"/>
            <a:ext cx="360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J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:  2 (0.16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R:  2 (0.16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TM:  1 (0.16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36000" y="1125360"/>
            <a:ext cx="122364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04000" y="2060640"/>
            <a:ext cx="433440" cy="216000"/>
          </a:xfrm>
          <a:prstGeom prst="rightArrow">
            <a:avLst>
              <a:gd name="adj1" fmla="val 50000"/>
              <a:gd name="adj2" fmla="val 50167"/>
            </a:avLst>
          </a:prstGeom>
          <a:solidFill>
            <a:srgbClr val="4bab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80360" y="1989000"/>
            <a:ext cx="129528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66"/>
                </a:solidFill>
                <a:uFillTx/>
                <a:latin typeface="Times New Roman"/>
              </a:rPr>
              <a:t>SSV C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52257" t="0" r="0" b="0"/>
          <a:stretch/>
        </p:blipFill>
        <p:spPr>
          <a:xfrm>
            <a:off x="1258920" y="1125360"/>
            <a:ext cx="3241800" cy="31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FB1DB-B6B8-4941-94E4-839760A3FA1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1742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86caf"/>
                </a:solidFill>
                <a:latin typeface="Arial"/>
              </a:rPr>
              <a:t>New Action Plan</a:t>
            </a: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7199280" cy="424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95686-C48D-43CC-AA7B-7CAE9F0F727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32000" y="765000"/>
            <a:ext cx="74674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arison of process Log 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pike of pressure is appeared on the recipe SIN1200 and SIN750 in SiN0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87280" y="2637000"/>
            <a:ext cx="7345440" cy="311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221E1-0B3E-4EE0-A00C-F4C6A67CE88C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nathan Koh</cp:lastModifiedBy>
  <dcterms:modified xsi:type="dcterms:W3CDTF">2005-03-08T01:59:12Z</dcterms:modified>
  <cp:revision>1</cp:revision>
  <dc:subject/>
  <dc:title>Findings and Understanding</dc:title>
</cp:coreProperties>
</file>