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80B-E55B-470F-B73C-1ED86379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42B-580F-483B-A905-790FEFC6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514-F2D1-4687-B84F-402C742E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9BC-8F3B-4467-A586-58EAE066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9B3-BD08-4D72-BD3B-90A82937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3B2-6CB3-4A1E-9C1D-A69C0831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85C-D655-4D3E-94D5-BDB31953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C54-F679-4D47-A3CD-BE943F89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A70-332B-4F1A-B2BB-1807D2BB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F6C-EE58-4170-8E38-120C4DEC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DEA-8617-469B-BC44-94C7FAE4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4EB-6712-41AB-904C-1F918E5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11EDF-04BC-4801-9961-2556CEB0DCE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4640" y="1976400"/>
            <a:ext cx="3780000" cy="3635280"/>
          </a:xfrm>
          <a:custGeom>
            <a:avLst/>
            <a:gdLst>
              <a:gd name="textAreaLeft" fmla="*/ 0 w 3780000"/>
              <a:gd name="textAreaRight" fmla="*/ 3780360 w 378000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3966" y="10934"/>
                </a:lnTo>
                <a:lnTo>
                  <a:pt x="13600" y="10800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02:41:57Z</dcterms:created>
  <dc:creator>John Floyd</dc:creator>
  <dc:description/>
  <dc:language>en-US</dc:language>
  <cp:lastModifiedBy>John Floyd</cp:lastModifiedBy>
  <dcterms:modified xsi:type="dcterms:W3CDTF">2013-09-26T02:43:47Z</dcterms:modified>
  <cp:revision>1</cp:revision>
  <dc:subject/>
  <dc:title/>
</cp:coreProperties>
</file>