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2D7D-892C-4A05-876D-C8CF5F889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AA61-188B-4E05-80E7-4D1A42CC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5CD9-1166-466B-90E2-623298C02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C375-FE3A-4149-86D2-6867F60B7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7D81-1E9F-4B79-8B24-52477149A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250B-A050-4D45-8735-2CA4BEAA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B7D9-C207-49DD-8969-CA1045C8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C591-E92F-4C55-B134-B3979970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958C-26B4-44FF-B865-B928A0D9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4C72-F7AE-408F-A108-87986730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F41C-F111-440E-8DB5-533F9326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F5E5-E9D3-463E-8DD3-B8740D10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4CBA-079C-46FD-B754-384F8F62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322A-3CAC-4166-A041-FB40948B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494A-3016-4CE0-AE9F-B3052020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B961-B3CE-4048-AE68-C52C8B824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70A9-CCFE-42B7-B2AA-69EA743AA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36B5-F1F0-46A7-8F4C-9E6841CF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351A-3DCC-424E-BE9D-8855E6A1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45AE-0690-4CB2-AEB5-208D4E92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5947-8131-43E4-9CB8-800446A0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B619-0AC8-4CEE-A03E-5637E563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2E64-B07B-45AE-AFB2-6FDC973C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7D53-B943-4001-B6B5-43E606D3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735C-A40C-4330-A697-4D952748DE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AB17-BA5B-49ED-85B3-B7936FF9FD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09520"/>
            <a:ext cx="640080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tracking algorit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52C7-F223-4D94-90B2-0DC2C2995AD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SP : recursief algoritm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jdscomplexiteit : m = # bogen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n²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(m) = 2 T(m–1) + f(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(m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^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s : exponentieel algorit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noeien in oplossingenboom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paalde takken niet verder onderzoe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 zeker optimale oplossing niet bevat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vb. wanneer kost van partiële rondreis al groter dan reeds bekomen rondre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1AA2-9C48-4410-9E56-C69908BA12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SP : branch-and-bou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dergrens voor kost van optimale reis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m in elke top 2 goedkoopste bo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meer over alle toppen, deel doo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anch-and-bound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elke stap ook ondergrens vr. kost bepa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paalt volgorde van doorl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erst kind met kleinste ondergrens (heuristie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eel gebruiken om te snoei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 ondergrens voor verzameling &gt; reeds bekomen oplossing, dan ganse tak niet verder uitwer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7279-5026-44FC-A729-29E364F025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noeitechniek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noeien (of “pruning”)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et alle mogelijkheden uitprob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et alle stappen volledig uitwer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lechte” mogelijkheden vooraf elimine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o snel mogelij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hankelijk van specifieke probleem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66D3-EEB9-471F-A88B-58E0421AEA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urnpike reconstruction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em 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geven punten 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p x-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iëren m=n(n–1)/2 afstanden 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…,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828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n de vorm 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–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 i&gt;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palen van afstanden kos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²) tij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orbeeld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1=0, x2=1, x3=5, x4=7, x5=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= {1,2,3,4,5,5,6,7,9,10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mgekeerd probleem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geven afstanden 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reconstrueer punten 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828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derstel steeds 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3B64-4E13-4853-BB83-153B96ECC6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urnpike reconstruction’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em : recursief op te losse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paal punten voor D={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…,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 met 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n 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eeds ingevuld (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ktracking algoritme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 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ogelijk is, d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828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paal punten voor D’ en 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amp; 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 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–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ogelijk is, d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828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paal punten voor D’ en 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amp; 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–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opgeval : D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roepen met 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0 en 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gevu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C8C7-97AE-4491-9EC4-FABF2E0D63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tracking algorit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eer-en-verbeter techni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en oplossing/de beste oplossing bekomen door alle mogelijkheden uit te proberen (exhaustief, recursief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mige stappen leiden tot een “doodlopende weg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n “op stappen terugkeren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.i. “backtracking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fr. acht-koninginnen-probleem (DA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86AC-2BA1-47F5-AA42-34BD942A2C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orbeeld : reisbureau-proble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paal kortste rondreis door aantal ste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orbeeld : afstandstab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523880" y="3200400"/>
          <a:ext cx="5791320" cy="3105000"/>
        </p:xfrm>
        <a:graphic>
          <a:graphicData uri="http://schemas.openxmlformats.org/drawingml/2006/table">
            <a:tbl>
              <a:tblPr/>
              <a:tblGrid>
                <a:gridCol w="965160"/>
                <a:gridCol w="965520"/>
                <a:gridCol w="965160"/>
                <a:gridCol w="965160"/>
                <a:gridCol w="965160"/>
                <a:gridCol w="965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r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r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D6BD-AA2B-4B8E-A1F9-5075E042C3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ndelsreizigerproble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emstelling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ngerichte gewogen graaf de rondreis met minimale kost bepa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pen = steden, bogen = reiskost ts. ste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elvoorkomende veronderstellingen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af is compl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st = Euclidische afstand ts. punten in vla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em is NP-comple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oplossen voor kleine instan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naderingsalgoritmen voor grotere instan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4C3E-F308-42D4-BCA9-0825BE9E7C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SP : exacte oplos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eer alle permutaties van ste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eft volgorde om steden te bezoe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paal goedkoopste van al deze rondrei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xiteit : n = # ste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# te beschouwen permutaties = (n–1)!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jd voor evalueren van rondreis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s : totale tijdscomplexiteit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onentieel algorit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een bruikbaar voor kleine instan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5519-063A-4544-A161-EE96A048B4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SP : recursief algorit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e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ke boog behoor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w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ie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t optimale 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ursie : bepaal optimale rondreis, startend vanaf partiële rondreis 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m willekeurige boog (x,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 (x,y) tot rondreis kan behoren, d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25560" indent="-185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paal optimale rondreis, startend met P + (x,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 (x,y) niet tot rondreis kan behoren, d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25560" indent="-185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paal optimale rondreis, startend met P – (x,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ef beste van de twee teru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E6C5-B5FD-405A-B5D9-D3B7EA456A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SP : recursief algoritm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lossingenboom’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ualiseert manier waarop algoritme werk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merking 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p. combinaties niet verder uit te wer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nt kunnen niet tot oplossing lei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en top zou graad 3 of meer krij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en top zou maar graad 1 krij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ykel zou te vroeg gevormd worde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28040" indent="-18972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‘duur’ om te controler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ept : ‘backtracking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3455-A499-402E-858F-C8DB1CE633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31T10:50:40Z</dcterms:created>
  <dc:creator>Veerle Fack</dc:creator>
  <dc:description/>
  <dc:language>en-US</dc:language>
  <cp:lastModifiedBy>Veerle Fack</cp:lastModifiedBy>
  <cp:lastPrinted>2003-11-25T08:37:57Z</cp:lastPrinted>
  <dcterms:modified xsi:type="dcterms:W3CDTF">2003-11-27T07:49:22Z</dcterms:modified>
  <cp:revision>24</cp:revision>
  <dc:subject/>
  <dc:title>Hoofdstuk 4</dc:title>
</cp:coreProperties>
</file>