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E415E-0A33-4F49-A62A-19957DF1C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93FC5-C9FE-4D66-AC6D-8F3217FA6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E93-BF26-4BB4-BFD2-E519F28E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033-C78E-411C-B3BC-D78D7D1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7AE-7BAD-4032-BA70-B5397A74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2CD-1B50-459F-BB88-E4B6F4D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B7D-C25E-4E91-937D-FABA8859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420-C837-4608-87C0-C0FA6CC4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211-BADA-4A69-BCC2-8C88C282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DD6-A09A-487B-9ECB-5A97F7E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213-19B1-4176-A5D1-F59B10CB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85E-A442-4FAB-8629-4AC5836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587-5EB5-414D-9FFD-ACD5199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02B-B235-4957-A96D-27B6306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802F4-3F4D-44DF-ACF6-3D9B598CC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st for transpar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97360" y="3322800"/>
          <a:ext cx="4495680" cy="18288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  <a:gridCol w="1500120"/>
              </a:tblGrid>
              <a:tr h="1828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33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9:52:40Z</dcterms:created>
  <dc:creator/>
  <dc:description/>
  <dc:language>en-US</dc:language>
  <cp:lastModifiedBy>ldb</cp:lastModifiedBy>
  <dcterms:modified xsi:type="dcterms:W3CDTF">2012-06-07T06:41:57Z</dcterms:modified>
  <cp:revision>4</cp:revision>
  <dc:subject/>
  <dc:title>Slide 1</dc:title>
</cp:coreProperties>
</file>