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1857C-C6B8-4B9C-9994-059546636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02080" y="9553680"/>
            <a:ext cx="33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7F539-4938-4656-A570-3CE37FB9D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02080" y="9553680"/>
            <a:ext cx="33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B1821-6785-46F4-902E-1FD748000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289160" y="755640"/>
            <a:ext cx="5192640" cy="37720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WenQuanYi Zen Hei Sharp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3A6-356C-41D9-A1AC-CEEF08C7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4D5-6037-4A87-8DE2-2536E746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3E6-1A4A-4B6E-9F36-0EC3A6D6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923-8E82-45E3-BD39-17727F9A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EB7-B417-4871-ADDD-DF222841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6C2-8FFE-4F19-B022-911FD4E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E81-01FB-4DB2-97C2-7A1727D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A8B-2D1B-4E74-82B8-794E8E70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2D9-E3B5-4BC3-9793-2EB2EF78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94D-A278-471E-99FB-06413F75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3F7-7E12-4905-8E51-D0D9795E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189-D2F9-40FF-9E64-97F803BD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CBC0F-B3C7-42BA-AE14-8DC6B3FE4E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836720" y="3141720"/>
          <a:ext cx="6348600" cy="5558400"/>
        </p:xfrm>
        <a:graphic>
          <a:graphicData uri="http://schemas.openxmlformats.org/drawingml/2006/table">
            <a:tbl>
              <a:tblPr/>
              <a:tblGrid>
                <a:gridCol w="3174840"/>
                <a:gridCol w="3173760"/>
              </a:tblGrid>
              <a:tr h="1850040"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851480"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56880"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1126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ff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23:51:36Z</dcterms:created>
  <dc:creator>Joel Diaz</dc:creator>
  <dc:description/>
  <dc:language>en-US</dc:language>
  <cp:lastModifiedBy/>
  <cp:revision>1</cp:revision>
  <dc:subject/>
  <dc:title/>
</cp:coreProperties>
</file>