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E2D-8570-4A69-95C1-8336EC1C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EFF-3B7C-4F12-9EAA-F85CFFF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31F-7BA0-469A-A732-CA0A15B0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82D-D554-4207-982D-C3F6E669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C4D1-44B9-4AB3-B081-3B46E5AE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C851-BFBE-444E-95B0-A08AA0E1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B7F9-0245-4416-BC9E-1293401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7AC7-D9A3-4784-B9C7-396965E4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3364-C443-4055-B4AD-6FBBFEB4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328C-786B-4C9F-9D41-1CE307D9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F6D-8EA8-4FD7-AF9F-27E3EDE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13C-F211-4F45-B5C9-AF0459A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306F-16AE-4179-853E-CA0F950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31F-6875-4EF2-8D1A-5DE9C9F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D1D-3EDA-4887-B4AB-4AC010B4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A1B0-1D1A-4FAB-9DDD-189ECA0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6603-32C9-4CAD-9B98-1A4ABB41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4F7-2A61-483D-8F46-37E0B4AE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42E-43C9-41D3-B01E-6E33154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A6A-7120-4AAE-924C-3FD49D5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28C-4446-4FE5-BCFF-9DAE3D3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B53-2990-48E2-8813-3D0917E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063-A7CB-4E0B-A258-ABDBFDAE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E58-FFF4-4358-A11D-9365582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571-4DA6-4AAD-B970-165AE060A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F22-D498-4B7D-8192-F4BC257F1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חטיבת "קלמן", רמת השרו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מודל וועדת שילוב בית ספרית לתלמידים בעלי צרכים מיוחדי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כולם בשביל אחד – חלופה ממ</a:t>
            </a:r>
            <a:r>
              <a:rPr b="1" i="1" lang="en-US" sz="3200" spc="-1" strike="noStrike">
                <a:solidFill>
                  <a:srgbClr val="ff9900"/>
                </a:solidFill>
                <a:latin typeface="Tahoma"/>
                <a:ea typeface="Tahoma"/>
              </a:rPr>
              <a:t>”</a:t>
            </a:r>
            <a:r>
              <a:rPr b="1" i="1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ש איש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וצאות לוואי לא צפויו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04960" y="32767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2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חיוביות</a:t>
            </a:r>
            <a:r>
              <a:rPr b="0" i="1" lang="he-IL" sz="24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שיפור בעמדת המורים כלפי שילוב תלמידים בעלי צרכים מיוחדים בביה"ס וכלפי היכולת של ביה"ס להכיל תלמידים אלה ולהובילם להתקדמות על ידי:מוכנות לכתיבת בחינות נוספות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אחרות, מוכנות לאימוץ אסטרטגיות של חינוך מיוחד, מוכנות לקראת בנייה ויישום של תוכנית אישית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ביה"ס זוכה לשבחים רבים מצד ההורים, מפקחים ומורים מבתי ספר אחרים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בשנת תשס"ד תפתח כיתה מיוחדת לחינוך מיוחד בהכרת משרד החינוך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3352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שליליות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נוצר הלך רוח מינורי של קבוצה סוציואקונומית בישוב שלחטיבת קלמן מופנים תלמידים בעייתי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עקרונות פעולה נגזרו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מהתייחסות נקודתית לבעיות משמעת מזדמנות, שוטפות, להערכות ארגונית טיפולית שמונעת, מטפלת ומתמודדת עם בעיות מסוגים שונים וכתוצאה נערכות ישיבות קבועות, נוצר אורח חיים בית ספרי שונה – מפגשים רבים של ההורים והצוות החינוכי תוך בדיקת מדדים להצלחה ולכישלון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סוגיות בלתי פתורו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5943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כתוצאה ממודל וועדת השילוב עלתה הסוגייה כיצד ניתן לטפל בתלמידים שהתוכנית הקיימת אינה מתאימה להם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כתובת למידע נוסף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מנהלת חטיבת קלמן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- גברת מרים גול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רכזת מתי"א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– גברת שירה שקד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טלפון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5405830-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5493249-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Tahoma"/>
                <a:cs typeface="Tahoma"/>
              </a:rPr>
              <a:t>פקס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5494792-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098800"/>
                <a:tab algn="l" pos="2187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Tahoma"/>
              </a:rPr>
              <a:t>E.mail: kelman@rh-keman.org.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רקע רלוונטי להצלח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3429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ממ"ש קלמן (</a:t>
            </a:r>
            <a:r>
              <a:rPr b="0" lang="he-IL" sz="2800" spc="-1" strike="noStrike">
                <a:solidFill>
                  <a:srgbClr val="ff9900"/>
                </a:solidFill>
                <a:latin typeface="Tahoma"/>
                <a:cs typeface="Tahoma"/>
              </a:rPr>
              <a:t>מ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- מנהיגות, </a:t>
            </a:r>
            <a:r>
              <a:rPr b="0" lang="he-IL" sz="2800" spc="-1" strike="noStrike">
                <a:solidFill>
                  <a:srgbClr val="ff9900"/>
                </a:solidFill>
                <a:latin typeface="Tahoma"/>
                <a:cs typeface="Tahoma"/>
              </a:rPr>
              <a:t>מ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 – מעורבות, </a:t>
            </a:r>
            <a:r>
              <a:rPr b="0" lang="he-IL" sz="2800" spc="-1" strike="noStrike">
                <a:solidFill>
                  <a:srgbClr val="ff9900"/>
                </a:solidFill>
                <a:latin typeface="Tahoma"/>
                <a:cs typeface="Tahoma"/>
              </a:rPr>
              <a:t>ש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 – שותפות)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בית הספר מאמין באהבה ובגבולות, במקצועיות ובחינוך לדמוקרטיה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מוטו בית הספר מתייחס לממ"ש בשלושה מעגלים עיקריים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המורים, ההורים והתלמידים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133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מאפייני בית הספ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רקע רלוונטי להצלחה - המש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נהלת בית הספ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פסיכולוגית בית הספ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יועצת השכב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כזת השכב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חנכת הכית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ורת מתי"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הורי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תלמי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981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מאפייני המעורבים בהצלחה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רקע רלוונטי להצלחה - המש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ית ספרי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עקבות העלייה במספר התלמידים המאובחנים וחידוד המודעות לצורכי צוות ביה"ס לתת מענה לצרכים המיוחדים של התלמידים הללו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צון במעקב סדיר ושוטף אחר התפקוד הלימודי – רגשי – התנהגותי של ה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צון לטפח שותפות ואחריות משותפת של צוות רב מקצוע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דיקה והיזון חוזר של המערכת – האם הושגו המטרות שהוצבו. האם חל שינו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שיפור בתפקוד ה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209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9900"/>
                </a:solidFill>
                <a:latin typeface="Tahoma"/>
                <a:cs typeface="Tahoma"/>
              </a:rPr>
              <a:t>ההקשרים הארגוניים וההיסטוריים של ההצלחה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יאור התוצרי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יצירת דפוס עבודה בין יומיים קבועים מידי שבוע – ימים 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 + 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ראש וועדת השילוב משתתפת בקביעות מנהלת ביה"ס ופסיכולוגית 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תלמיד והוריו מגיעים אחת לשישה שבועות למפגש עם צוות וועדת השלוב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מפגש נקבע מראש ומתקיים בהקפדה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ידי מפגש נבדקת העמידה בתוכנית עליה סוכם במפגש הקודם, מוצגים ונידונים נקודות אור ובעיות ונבנית תוכנית חדשה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משך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לצורך המפגשים גובשו שני טפסים חדשים המשמשים מסד נתונים לעבודת ההמשך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יאור התוצרים - המש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אווירה בביה"ס רגועה יותר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רוב התלמידים בעלי הצרכים המיוחדים חשים בעלי ערך עצמי, אופטימים, מחוברים למערכת ובמיוחד להנהלת 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תלמיד בעל הצרכים המיוחדים חש במרכז העשייה, שותף, מודע לתוכנית, ליעדים וללוח הזמנים.בדר"כ רגוע, מתאמץ וגם מצליח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גובש אמון עם משפחות הילדים בעלי הצרכים המיוחדים ונוצרה שותפות ואחריות משותפת לקידום ה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נקודות מפנה בדרך להצלח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התהליך היה ניסיון מערכתי לצמצם התנהגויות אלימות ולפתור בעיות משמעת. ההמשך התפתח לחלופה אישית מותאמת קבועה שמשתדרגת ונבדקת  ממפגש למפגש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כל מפגש קוראים בקול לפני הנוכחים את הסיכום של המפגש הקוד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כל מפגש ובכדי לעזור לתלמיד משמיעים בפניו את תכונותיו הטובות והישגיו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תאור המצב בנקודת ההתחל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וועדת השילוב נוצרה כצורך בית ספרי עם העלייה במספר התלמידים בעלי הצרכים המיוחדים בתחומים שונים והרצון לעצב מענה הולם וייחודי לכל תלמיד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שיתוף צוות רב מקצועי שיבנה יחד תוכנית מותאמת אישית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יצירת קשר משמעותי, אמון ואחריות משותפת בין ההורים, התלמיד ו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תיעוד, בקרה ומעקב מסודרים על תפקודם של התלמידים בעלי הצרכים המיוחדי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צורך בשיתוף גורמים ברשות, במשרד ובקהילה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Tahoma"/>
                <a:cs typeface="Tahoma"/>
              </a:rPr>
              <a:t>פעולות חיוניות להצלחת התהלי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920" y="3429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קצאת זמן קבוע בשבוע (ימים 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 + 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מנהלת ביה"ס ופסיכולוגית ביה"ס מובילות את התהליך באופן עקב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כל מפגש נפגשים הצוות המקצועי הרחב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בתחילת כל מפגש נקרא בקול הסיכום של המפגש הקוד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קיים קשר קבוע לגבי יישום התוכנית בין כל חברי הצוות השותפים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r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ההורים נפגשים עם הצוות המורחב אחת לשישה שבועות, ושומרים על קשר קבוע עם המחנכת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cs typeface="Tahoma"/>
              </a:rPr>
              <a:t>יועצת באמצעות שיחות טלפון או מפגשים בביה"ס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19:24:58Z</dcterms:created>
  <dc:creator>ofer</dc:creator>
  <dc:description/>
  <dc:language>en-US</dc:language>
  <cp:lastModifiedBy>master_new</cp:lastModifiedBy>
  <dcterms:modified xsi:type="dcterms:W3CDTF">2003-06-24T08:18:22Z</dcterms:modified>
  <cp:revision>58</cp:revision>
  <dc:subject/>
  <dc:title>חטיבת "קלמן", רמת השרון</dc:title>
</cp:coreProperties>
</file>