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0BA9-D546-40E9-BDE0-6119F103C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34AF-BF8F-4D47-80A8-370C5C1C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5CCF-7CF9-40D4-A42D-7D55E57A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D59E-0621-4DD2-BEDE-4C10BCE64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209B-BB5E-4753-AD7E-715EBB90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E3C5-6F7C-4846-ADAB-18C350A2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28D1-8CDB-4635-B6C1-E4A92C51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FA95-B826-4DBC-8512-BFFDF022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B580-EEBA-49FB-8CF2-99599A3F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6F5A-87B0-497F-B20B-A9D98C91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5426-00E4-4898-93B9-5E240AEF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AB7E-8120-42DF-9F91-9CB041DF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E2F9-8382-405D-AA32-2849AD1286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aa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3276360" cy="3276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859280" y="1773360"/>
            <a:ext cx="3056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01:31:57Z</dcterms:created>
  <dc:creator>MC SYSTEM</dc:creator>
  <dc:description/>
  <dc:language>en-US</dc:language>
  <cp:lastModifiedBy>MC SYSTEM</cp:lastModifiedBy>
  <dcterms:modified xsi:type="dcterms:W3CDTF">2007-01-31T01:38:33Z</dcterms:modified>
  <cp:revision>2</cp:revision>
  <dc:subject/>
  <dc:title>aaaa</dc:title>
</cp:coreProperties>
</file>