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BD0-505E-44CB-84AE-216897CA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FBB-E3B0-4AD8-AA8B-8F9DE5AF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F6F-C252-4723-AC8F-D2DF8542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792-91DD-497B-B6B2-E4A2C5FD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F78-0588-4612-AA46-2351C80D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56E-9BA1-4C7F-88C9-71EFBE9F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7E4-7019-4C23-9FF7-6F5DE25A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E73-63E0-4309-889B-B7B8ED8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EF9-6CAE-4023-A93F-52D097EE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80C-F15E-4D05-BC80-BC2D53A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5A3-A344-4BB8-AA38-5F5647D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FE5-D3DD-41A2-97C0-3BDDBDB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D4A-1603-4F2A-9AD9-4F503C0D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716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09:56:16Z</dcterms:created>
  <dc:creator>crystal</dc:creator>
  <dc:description/>
  <dc:language>en-US</dc:language>
  <cp:lastModifiedBy>crystal</cp:lastModifiedBy>
  <dcterms:modified xsi:type="dcterms:W3CDTF">2012-06-08T01:37:34Z</dcterms:modified>
  <cp:revision>2</cp:revision>
  <dc:subject/>
  <dc:title>Slide 1</dc:title>
</cp:coreProperties>
</file>