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1639C-D182-4AF8-BBF6-7925A3F1B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5CE9A-0FAF-4AD8-883F-8484F607D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38F68-2CF4-40A4-8425-3F2E8D1DC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E113D-E5A8-4E31-A68F-E4A707FAF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8D550-7561-444A-9FD1-BDD1A45B25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4E95B-061E-4619-86A3-9EDC4175DC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07BE4-48E4-4A17-87C7-9C4F192508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F3756-5AF1-406C-84EE-B23CBA9726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D5EB3-539E-40A7-86D5-D9AF2B7278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29309-9367-4CF8-9638-D7C9A787E3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5478E-FA5E-43A2-A0D4-D2CCB8B384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0D14D-C7A1-4F2E-BED9-AC0BB4F12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30813-9870-4505-AC96-3864FA92B6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A7C91-9966-47D8-9E3E-336A63676D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B413F-8D95-4F46-83D0-E9F0D425FE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42E18-7211-431F-AC1C-188424C04D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654EF-A796-485A-8013-6396ED817C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4357B4-65A9-49CA-9271-C0C7E9F1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171B89-6CC7-4D57-83B7-9BFFACF8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676960-13C4-4283-85E5-A14F6F8B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46D1AD-8A0E-4E1C-BE6F-27B675A1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9F150A-4CFC-472F-82A8-3960C628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9B26B-3B5D-4B56-A4FF-DE2D999F69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B8229C-BBE2-4F36-A4D5-9E0BF169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5FFAC2-73D3-4C30-9254-CE85D513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B61F37-31F5-4CDD-A276-9ED8B268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1247EB-B4AB-4B26-999C-6AB4EA09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0224D2-0886-47F6-9149-B930A85E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B13DB6-15FA-4E57-840D-03169C93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070EDA-39D5-4178-B2A3-8404ED03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2CC53-1228-47CE-B58D-769FE7FBCB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32B06-147A-43F7-AE9A-B553B8556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86381-0DE0-48D5-BE23-54BE009ED7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642FD-E47F-497A-B774-E287FA010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CD274-6DF5-4482-9D28-AF6675F95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24CAB-B2ED-472C-8C05-A4D232B36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F0D6-3A36-4F7F-B0D2-AE12E85351AD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E545-C137-4035-A9CC-32CF320BE29D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5A0C-0881-4A18-B96B-015AF5BDD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93800" y="1808280"/>
            <a:ext cx="6189840" cy="1957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164120" y="5022720"/>
            <a:ext cx="1428480" cy="571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08:19:25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10-05-28T08:20:25Z</dcterms:modified>
  <cp:revision>1</cp:revision>
  <dc:subject/>
  <dc:title>Slide 1</dc:title>
</cp:coreProperties>
</file>