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71600" y="2394000"/>
            <a:ext cx="8894520" cy="4736880"/>
          </a:xfrm>
          <a:custGeom>
            <a:avLst/>
            <a:gdLst/>
            <a:ahLst/>
            <a:rect l="l" t="t" r="r" b="b"/>
            <a:pathLst>
              <a:path w="24709" h="13158">
                <a:moveTo>
                  <a:pt x="131" y="7394"/>
                </a:moveTo>
                <a:cubicBezTo>
                  <a:pt x="96" y="7068"/>
                  <a:pt x="157" y="6751"/>
                  <a:pt x="158" y="6424"/>
                </a:cubicBezTo>
                <a:cubicBezTo>
                  <a:pt x="159" y="5995"/>
                  <a:pt x="371" y="5592"/>
                  <a:pt x="420" y="5167"/>
                </a:cubicBezTo>
                <a:cubicBezTo>
                  <a:pt x="469" y="4749"/>
                  <a:pt x="570" y="4408"/>
                  <a:pt x="708" y="4014"/>
                </a:cubicBezTo>
                <a:cubicBezTo>
                  <a:pt x="837" y="3643"/>
                  <a:pt x="760" y="3218"/>
                  <a:pt x="1205" y="3045"/>
                </a:cubicBezTo>
                <a:cubicBezTo>
                  <a:pt x="1641" y="2875"/>
                  <a:pt x="2068" y="2748"/>
                  <a:pt x="2541" y="2600"/>
                </a:cubicBezTo>
                <a:cubicBezTo>
                  <a:pt x="2966" y="2467"/>
                  <a:pt x="3291" y="2514"/>
                  <a:pt x="3642" y="2600"/>
                </a:cubicBezTo>
                <a:cubicBezTo>
                  <a:pt x="4035" y="2696"/>
                  <a:pt x="4287" y="3041"/>
                  <a:pt x="4716" y="3150"/>
                </a:cubicBezTo>
                <a:cubicBezTo>
                  <a:pt x="5107" y="3250"/>
                  <a:pt x="5485" y="3335"/>
                  <a:pt x="5868" y="3438"/>
                </a:cubicBezTo>
                <a:cubicBezTo>
                  <a:pt x="6169" y="3519"/>
                  <a:pt x="6484" y="3486"/>
                  <a:pt x="6785" y="3438"/>
                </a:cubicBezTo>
                <a:cubicBezTo>
                  <a:pt x="7186" y="3373"/>
                  <a:pt x="7617" y="3238"/>
                  <a:pt x="7885" y="2888"/>
                </a:cubicBezTo>
                <a:cubicBezTo>
                  <a:pt x="8114" y="2589"/>
                  <a:pt x="8360" y="2309"/>
                  <a:pt x="8619" y="2023"/>
                </a:cubicBezTo>
                <a:cubicBezTo>
                  <a:pt x="8916" y="1695"/>
                  <a:pt x="9244" y="1348"/>
                  <a:pt x="9798" y="1395"/>
                </a:cubicBezTo>
                <a:cubicBezTo>
                  <a:pt x="10310" y="1439"/>
                  <a:pt x="10827" y="1349"/>
                  <a:pt x="11343" y="1342"/>
                </a:cubicBezTo>
                <a:cubicBezTo>
                  <a:pt x="11767" y="1336"/>
                  <a:pt x="12191" y="1355"/>
                  <a:pt x="12601" y="1447"/>
                </a:cubicBezTo>
                <a:cubicBezTo>
                  <a:pt x="13051" y="1548"/>
                  <a:pt x="13683" y="1493"/>
                  <a:pt x="13911" y="1971"/>
                </a:cubicBezTo>
                <a:cubicBezTo>
                  <a:pt x="14156" y="2484"/>
                  <a:pt x="14520" y="3045"/>
                  <a:pt x="15089" y="3124"/>
                </a:cubicBezTo>
                <a:cubicBezTo>
                  <a:pt x="15502" y="3181"/>
                  <a:pt x="15764" y="3442"/>
                  <a:pt x="16190" y="3438"/>
                </a:cubicBezTo>
                <a:cubicBezTo>
                  <a:pt x="16660" y="3433"/>
                  <a:pt x="17138" y="3536"/>
                  <a:pt x="17604" y="3438"/>
                </a:cubicBezTo>
                <a:cubicBezTo>
                  <a:pt x="18019" y="3350"/>
                  <a:pt x="18435" y="3246"/>
                  <a:pt x="18809" y="3045"/>
                </a:cubicBezTo>
                <a:cubicBezTo>
                  <a:pt x="19305" y="2779"/>
                  <a:pt x="19677" y="2271"/>
                  <a:pt x="19857" y="1735"/>
                </a:cubicBezTo>
                <a:cubicBezTo>
                  <a:pt x="19987" y="1348"/>
                  <a:pt x="20246" y="1049"/>
                  <a:pt x="20512" y="766"/>
                </a:cubicBezTo>
                <a:cubicBezTo>
                  <a:pt x="20751" y="511"/>
                  <a:pt x="20997" y="241"/>
                  <a:pt x="21324" y="137"/>
                </a:cubicBezTo>
                <a:cubicBezTo>
                  <a:pt x="21755" y="0"/>
                  <a:pt x="22209" y="222"/>
                  <a:pt x="22608" y="399"/>
                </a:cubicBezTo>
                <a:cubicBezTo>
                  <a:pt x="23035" y="589"/>
                  <a:pt x="23451" y="644"/>
                  <a:pt x="23813" y="1002"/>
                </a:cubicBezTo>
                <a:cubicBezTo>
                  <a:pt x="24139" y="1324"/>
                  <a:pt x="24302" y="1685"/>
                  <a:pt x="24442" y="2076"/>
                </a:cubicBezTo>
                <a:cubicBezTo>
                  <a:pt x="24539" y="2348"/>
                  <a:pt x="24507" y="2656"/>
                  <a:pt x="24389" y="2940"/>
                </a:cubicBezTo>
                <a:cubicBezTo>
                  <a:pt x="24241" y="3297"/>
                  <a:pt x="23861" y="3446"/>
                  <a:pt x="23525" y="3490"/>
                </a:cubicBezTo>
                <a:cubicBezTo>
                  <a:pt x="23069" y="3550"/>
                  <a:pt x="22614" y="3614"/>
                  <a:pt x="22163" y="3700"/>
                </a:cubicBezTo>
                <a:cubicBezTo>
                  <a:pt x="21802" y="3769"/>
                  <a:pt x="21697" y="4187"/>
                  <a:pt x="21691" y="4486"/>
                </a:cubicBezTo>
                <a:cubicBezTo>
                  <a:pt x="21683" y="4910"/>
                  <a:pt x="22180" y="5082"/>
                  <a:pt x="22451" y="5350"/>
                </a:cubicBezTo>
                <a:cubicBezTo>
                  <a:pt x="22845" y="5740"/>
                  <a:pt x="23465" y="5695"/>
                  <a:pt x="23891" y="6084"/>
                </a:cubicBezTo>
                <a:cubicBezTo>
                  <a:pt x="24264" y="6424"/>
                  <a:pt x="24450" y="6869"/>
                  <a:pt x="24599" y="7315"/>
                </a:cubicBezTo>
                <a:cubicBezTo>
                  <a:pt x="24708" y="7643"/>
                  <a:pt x="24622" y="8041"/>
                  <a:pt x="24363" y="8310"/>
                </a:cubicBezTo>
                <a:cubicBezTo>
                  <a:pt x="24057" y="8628"/>
                  <a:pt x="23597" y="8589"/>
                  <a:pt x="23210" y="8651"/>
                </a:cubicBezTo>
                <a:cubicBezTo>
                  <a:pt x="22620" y="8746"/>
                  <a:pt x="22022" y="8695"/>
                  <a:pt x="21429" y="8703"/>
                </a:cubicBezTo>
                <a:cubicBezTo>
                  <a:pt x="20932" y="8709"/>
                  <a:pt x="20432" y="8721"/>
                  <a:pt x="19936" y="8703"/>
                </a:cubicBezTo>
                <a:cubicBezTo>
                  <a:pt x="19486" y="8687"/>
                  <a:pt x="19043" y="8832"/>
                  <a:pt x="18600" y="8782"/>
                </a:cubicBezTo>
                <a:cubicBezTo>
                  <a:pt x="18153" y="8732"/>
                  <a:pt x="17938" y="9262"/>
                  <a:pt x="18102" y="9568"/>
                </a:cubicBezTo>
                <a:cubicBezTo>
                  <a:pt x="18299" y="9935"/>
                  <a:pt x="18625" y="10214"/>
                  <a:pt x="18888" y="10537"/>
                </a:cubicBezTo>
                <a:cubicBezTo>
                  <a:pt x="19145" y="10852"/>
                  <a:pt x="19584" y="11025"/>
                  <a:pt x="19700" y="11428"/>
                </a:cubicBezTo>
                <a:cubicBezTo>
                  <a:pt x="19816" y="11829"/>
                  <a:pt x="20141" y="12128"/>
                  <a:pt x="20145" y="12580"/>
                </a:cubicBezTo>
                <a:cubicBezTo>
                  <a:pt x="20148" y="12936"/>
                  <a:pt x="19812" y="13033"/>
                  <a:pt x="19569" y="13052"/>
                </a:cubicBezTo>
                <a:cubicBezTo>
                  <a:pt x="19164" y="13083"/>
                  <a:pt x="18868" y="12748"/>
                  <a:pt x="18600" y="12502"/>
                </a:cubicBezTo>
                <a:cubicBezTo>
                  <a:pt x="18239" y="12171"/>
                  <a:pt x="18021" y="11751"/>
                  <a:pt x="17866" y="11244"/>
                </a:cubicBezTo>
                <a:cubicBezTo>
                  <a:pt x="17757" y="10889"/>
                  <a:pt x="17766" y="10538"/>
                  <a:pt x="17500" y="10275"/>
                </a:cubicBezTo>
                <a:cubicBezTo>
                  <a:pt x="17214" y="9993"/>
                  <a:pt x="17318" y="9571"/>
                  <a:pt x="17133" y="9254"/>
                </a:cubicBezTo>
                <a:cubicBezTo>
                  <a:pt x="16963" y="8963"/>
                  <a:pt x="16637" y="8715"/>
                  <a:pt x="16635" y="8363"/>
                </a:cubicBezTo>
                <a:cubicBezTo>
                  <a:pt x="16632" y="7920"/>
                  <a:pt x="16576" y="7449"/>
                  <a:pt x="16818" y="7027"/>
                </a:cubicBezTo>
                <a:cubicBezTo>
                  <a:pt x="17027" y="6663"/>
                  <a:pt x="17314" y="6388"/>
                  <a:pt x="17604" y="6110"/>
                </a:cubicBezTo>
                <a:cubicBezTo>
                  <a:pt x="17852" y="5872"/>
                  <a:pt x="18208" y="5778"/>
                  <a:pt x="18547" y="5691"/>
                </a:cubicBezTo>
                <a:cubicBezTo>
                  <a:pt x="18926" y="5593"/>
                  <a:pt x="19299" y="5585"/>
                  <a:pt x="19674" y="5612"/>
                </a:cubicBezTo>
                <a:cubicBezTo>
                  <a:pt x="19976" y="5634"/>
                  <a:pt x="20229" y="5904"/>
                  <a:pt x="20538" y="5900"/>
                </a:cubicBezTo>
                <a:cubicBezTo>
                  <a:pt x="20990" y="5893"/>
                  <a:pt x="20845" y="5336"/>
                  <a:pt x="20853" y="5062"/>
                </a:cubicBezTo>
                <a:cubicBezTo>
                  <a:pt x="20864" y="4711"/>
                  <a:pt x="20888" y="4363"/>
                  <a:pt x="20905" y="4014"/>
                </a:cubicBezTo>
                <a:cubicBezTo>
                  <a:pt x="20922" y="3672"/>
                  <a:pt x="20575" y="3477"/>
                  <a:pt x="20407" y="3228"/>
                </a:cubicBezTo>
                <a:cubicBezTo>
                  <a:pt x="20159" y="2861"/>
                  <a:pt x="19674" y="2468"/>
                  <a:pt x="19229" y="2993"/>
                </a:cubicBezTo>
                <a:cubicBezTo>
                  <a:pt x="18994" y="3270"/>
                  <a:pt x="18760" y="3537"/>
                  <a:pt x="18547" y="3831"/>
                </a:cubicBezTo>
                <a:cubicBezTo>
                  <a:pt x="18270" y="4215"/>
                  <a:pt x="17716" y="4112"/>
                  <a:pt x="17290" y="4171"/>
                </a:cubicBezTo>
                <a:cubicBezTo>
                  <a:pt x="16880" y="4227"/>
                  <a:pt x="16466" y="4228"/>
                  <a:pt x="16059" y="4302"/>
                </a:cubicBezTo>
                <a:cubicBezTo>
                  <a:pt x="15708" y="4365"/>
                  <a:pt x="15370" y="4315"/>
                  <a:pt x="14985" y="4276"/>
                </a:cubicBezTo>
                <a:cubicBezTo>
                  <a:pt x="14291" y="4206"/>
                  <a:pt x="14150" y="3521"/>
                  <a:pt x="13649" y="3228"/>
                </a:cubicBezTo>
                <a:cubicBezTo>
                  <a:pt x="13283" y="3013"/>
                  <a:pt x="12846" y="3030"/>
                  <a:pt x="12444" y="2940"/>
                </a:cubicBezTo>
                <a:cubicBezTo>
                  <a:pt x="12039" y="2850"/>
                  <a:pt x="11526" y="2912"/>
                  <a:pt x="11239" y="2573"/>
                </a:cubicBezTo>
                <a:cubicBezTo>
                  <a:pt x="10717" y="1958"/>
                  <a:pt x="10678" y="2790"/>
                  <a:pt x="10741" y="3071"/>
                </a:cubicBezTo>
                <a:cubicBezTo>
                  <a:pt x="10874" y="3663"/>
                  <a:pt x="11498" y="3556"/>
                  <a:pt x="11920" y="3779"/>
                </a:cubicBezTo>
                <a:cubicBezTo>
                  <a:pt x="12392" y="4028"/>
                  <a:pt x="12960" y="3984"/>
                  <a:pt x="13465" y="4145"/>
                </a:cubicBezTo>
                <a:cubicBezTo>
                  <a:pt x="13944" y="4298"/>
                  <a:pt x="14442" y="4342"/>
                  <a:pt x="14932" y="4433"/>
                </a:cubicBezTo>
                <a:cubicBezTo>
                  <a:pt x="15344" y="4510"/>
                  <a:pt x="15741" y="4699"/>
                  <a:pt x="16164" y="4695"/>
                </a:cubicBezTo>
                <a:cubicBezTo>
                  <a:pt x="16546" y="4691"/>
                  <a:pt x="17036" y="4791"/>
                  <a:pt x="17159" y="5219"/>
                </a:cubicBezTo>
                <a:cubicBezTo>
                  <a:pt x="17250" y="5535"/>
                  <a:pt x="17101" y="5881"/>
                  <a:pt x="16792" y="6058"/>
                </a:cubicBezTo>
                <a:cubicBezTo>
                  <a:pt x="16493" y="6229"/>
                  <a:pt x="16192" y="6366"/>
                  <a:pt x="15902" y="6555"/>
                </a:cubicBezTo>
                <a:cubicBezTo>
                  <a:pt x="15584" y="6762"/>
                  <a:pt x="15184" y="6767"/>
                  <a:pt x="14828" y="6896"/>
                </a:cubicBezTo>
                <a:cubicBezTo>
                  <a:pt x="14535" y="7002"/>
                  <a:pt x="14153" y="7258"/>
                  <a:pt x="14304" y="7629"/>
                </a:cubicBezTo>
                <a:cubicBezTo>
                  <a:pt x="14504" y="8121"/>
                  <a:pt x="14750" y="8596"/>
                  <a:pt x="14932" y="9096"/>
                </a:cubicBezTo>
                <a:cubicBezTo>
                  <a:pt x="15059" y="9446"/>
                  <a:pt x="15282" y="9739"/>
                  <a:pt x="15378" y="10092"/>
                </a:cubicBezTo>
                <a:cubicBezTo>
                  <a:pt x="15492" y="10513"/>
                  <a:pt x="15523" y="11006"/>
                  <a:pt x="15849" y="11323"/>
                </a:cubicBezTo>
                <a:cubicBezTo>
                  <a:pt x="16121" y="11588"/>
                  <a:pt x="16329" y="11912"/>
                  <a:pt x="16452" y="12292"/>
                </a:cubicBezTo>
                <a:cubicBezTo>
                  <a:pt x="16608" y="12775"/>
                  <a:pt x="16045" y="12933"/>
                  <a:pt x="15771" y="13000"/>
                </a:cubicBezTo>
                <a:cubicBezTo>
                  <a:pt x="15440" y="13080"/>
                  <a:pt x="15035" y="13032"/>
                  <a:pt x="14775" y="12764"/>
                </a:cubicBezTo>
                <a:cubicBezTo>
                  <a:pt x="14361" y="12336"/>
                  <a:pt x="13906" y="11928"/>
                  <a:pt x="13858" y="11244"/>
                </a:cubicBezTo>
                <a:cubicBezTo>
                  <a:pt x="13822" y="10731"/>
                  <a:pt x="13652" y="10233"/>
                  <a:pt x="13675" y="9725"/>
                </a:cubicBezTo>
                <a:cubicBezTo>
                  <a:pt x="13697" y="9241"/>
                  <a:pt x="13539" y="8801"/>
                  <a:pt x="13492" y="8337"/>
                </a:cubicBezTo>
                <a:cubicBezTo>
                  <a:pt x="13453" y="7953"/>
                  <a:pt x="13293" y="7608"/>
                  <a:pt x="13151" y="7263"/>
                </a:cubicBezTo>
                <a:cubicBezTo>
                  <a:pt x="12944" y="6759"/>
                  <a:pt x="12375" y="6721"/>
                  <a:pt x="12077" y="6293"/>
                </a:cubicBezTo>
                <a:cubicBezTo>
                  <a:pt x="11866" y="5991"/>
                  <a:pt x="11532" y="5746"/>
                  <a:pt x="11160" y="5665"/>
                </a:cubicBezTo>
                <a:cubicBezTo>
                  <a:pt x="10781" y="5583"/>
                  <a:pt x="10392" y="5555"/>
                  <a:pt x="10007" y="5560"/>
                </a:cubicBezTo>
                <a:cubicBezTo>
                  <a:pt x="9647" y="5565"/>
                  <a:pt x="9305" y="5503"/>
                  <a:pt x="8960" y="5429"/>
                </a:cubicBezTo>
                <a:cubicBezTo>
                  <a:pt x="8574" y="5346"/>
                  <a:pt x="8426" y="4889"/>
                  <a:pt x="8278" y="4538"/>
                </a:cubicBezTo>
                <a:cubicBezTo>
                  <a:pt x="8141" y="4213"/>
                  <a:pt x="8067" y="3880"/>
                  <a:pt x="8043" y="3543"/>
                </a:cubicBezTo>
                <a:cubicBezTo>
                  <a:pt x="8021" y="3233"/>
                  <a:pt x="8094" y="2908"/>
                  <a:pt x="8357" y="2678"/>
                </a:cubicBezTo>
                <a:cubicBezTo>
                  <a:pt x="8585" y="2479"/>
                  <a:pt x="9154" y="2529"/>
                  <a:pt x="8960" y="2076"/>
                </a:cubicBezTo>
                <a:cubicBezTo>
                  <a:pt x="8727" y="1534"/>
                  <a:pt x="8041" y="1174"/>
                  <a:pt x="7571" y="1421"/>
                </a:cubicBezTo>
                <a:cubicBezTo>
                  <a:pt x="7155" y="1640"/>
                  <a:pt x="7023" y="2242"/>
                  <a:pt x="7021" y="2731"/>
                </a:cubicBezTo>
                <a:cubicBezTo>
                  <a:pt x="7019" y="3157"/>
                  <a:pt x="6939" y="3594"/>
                  <a:pt x="7021" y="4014"/>
                </a:cubicBezTo>
                <a:cubicBezTo>
                  <a:pt x="7099" y="4412"/>
                  <a:pt x="7164" y="4798"/>
                  <a:pt x="7257" y="5193"/>
                </a:cubicBezTo>
                <a:cubicBezTo>
                  <a:pt x="7405" y="5819"/>
                  <a:pt x="7597" y="6482"/>
                  <a:pt x="8121" y="6896"/>
                </a:cubicBezTo>
                <a:cubicBezTo>
                  <a:pt x="8654" y="7317"/>
                  <a:pt x="9094" y="7842"/>
                  <a:pt x="9483" y="8389"/>
                </a:cubicBezTo>
                <a:cubicBezTo>
                  <a:pt x="9744" y="8756"/>
                  <a:pt x="9792" y="9233"/>
                  <a:pt x="9824" y="9673"/>
                </a:cubicBezTo>
                <a:cubicBezTo>
                  <a:pt x="9866" y="10250"/>
                  <a:pt x="10273" y="10715"/>
                  <a:pt x="10269" y="11271"/>
                </a:cubicBezTo>
                <a:cubicBezTo>
                  <a:pt x="10267" y="11580"/>
                  <a:pt x="9945" y="11852"/>
                  <a:pt x="9614" y="11926"/>
                </a:cubicBezTo>
                <a:cubicBezTo>
                  <a:pt x="9319" y="11992"/>
                  <a:pt x="9019" y="11954"/>
                  <a:pt x="8724" y="11952"/>
                </a:cubicBezTo>
                <a:cubicBezTo>
                  <a:pt x="8197" y="11948"/>
                  <a:pt x="7698" y="11738"/>
                  <a:pt x="7178" y="11742"/>
                </a:cubicBezTo>
                <a:cubicBezTo>
                  <a:pt x="6521" y="11747"/>
                  <a:pt x="6539" y="11051"/>
                  <a:pt x="6576" y="10642"/>
                </a:cubicBezTo>
                <a:cubicBezTo>
                  <a:pt x="6618" y="10189"/>
                  <a:pt x="6849" y="9783"/>
                  <a:pt x="6995" y="9358"/>
                </a:cubicBezTo>
                <a:cubicBezTo>
                  <a:pt x="7123" y="8985"/>
                  <a:pt x="7296" y="8631"/>
                  <a:pt x="7440" y="8258"/>
                </a:cubicBezTo>
                <a:cubicBezTo>
                  <a:pt x="7595" y="7857"/>
                  <a:pt x="7541" y="7405"/>
                  <a:pt x="7571" y="6974"/>
                </a:cubicBezTo>
                <a:cubicBezTo>
                  <a:pt x="7614" y="6352"/>
                  <a:pt x="7400" y="5771"/>
                  <a:pt x="7178" y="5219"/>
                </a:cubicBezTo>
                <a:cubicBezTo>
                  <a:pt x="7021" y="4828"/>
                  <a:pt x="6633" y="4724"/>
                  <a:pt x="6288" y="4643"/>
                </a:cubicBezTo>
                <a:cubicBezTo>
                  <a:pt x="5961" y="4566"/>
                  <a:pt x="5625" y="4813"/>
                  <a:pt x="5371" y="5036"/>
                </a:cubicBezTo>
                <a:cubicBezTo>
                  <a:pt x="5124" y="5252"/>
                  <a:pt x="4982" y="5627"/>
                  <a:pt x="5109" y="5927"/>
                </a:cubicBezTo>
                <a:cubicBezTo>
                  <a:pt x="5263" y="6291"/>
                  <a:pt x="5537" y="6595"/>
                  <a:pt x="5764" y="6922"/>
                </a:cubicBezTo>
                <a:cubicBezTo>
                  <a:pt x="5912" y="7136"/>
                  <a:pt x="6345" y="7729"/>
                  <a:pt x="5816" y="7760"/>
                </a:cubicBezTo>
                <a:cubicBezTo>
                  <a:pt x="5428" y="7782"/>
                  <a:pt x="5067" y="7851"/>
                  <a:pt x="4663" y="7551"/>
                </a:cubicBezTo>
                <a:cubicBezTo>
                  <a:pt x="4360" y="7326"/>
                  <a:pt x="3998" y="7143"/>
                  <a:pt x="4008" y="6713"/>
                </a:cubicBezTo>
                <a:cubicBezTo>
                  <a:pt x="4019" y="6249"/>
                  <a:pt x="4244" y="5956"/>
                  <a:pt x="4428" y="5560"/>
                </a:cubicBezTo>
                <a:cubicBezTo>
                  <a:pt x="4592" y="5206"/>
                  <a:pt x="4807" y="4918"/>
                  <a:pt x="4873" y="4564"/>
                </a:cubicBezTo>
                <a:cubicBezTo>
                  <a:pt x="4949" y="4154"/>
                  <a:pt x="5107" y="3690"/>
                  <a:pt x="4925" y="3307"/>
                </a:cubicBezTo>
                <a:cubicBezTo>
                  <a:pt x="4735" y="2907"/>
                  <a:pt x="4177" y="2889"/>
                  <a:pt x="3773" y="2862"/>
                </a:cubicBezTo>
                <a:cubicBezTo>
                  <a:pt x="3432" y="2840"/>
                  <a:pt x="3035" y="2727"/>
                  <a:pt x="2751" y="2966"/>
                </a:cubicBezTo>
                <a:cubicBezTo>
                  <a:pt x="2459" y="3212"/>
                  <a:pt x="2071" y="3256"/>
                  <a:pt x="1860" y="3621"/>
                </a:cubicBezTo>
                <a:cubicBezTo>
                  <a:pt x="1699" y="3899"/>
                  <a:pt x="1532" y="4173"/>
                  <a:pt x="1441" y="4486"/>
                </a:cubicBezTo>
                <a:cubicBezTo>
                  <a:pt x="1330" y="4869"/>
                  <a:pt x="1661" y="5119"/>
                  <a:pt x="1913" y="5272"/>
                </a:cubicBezTo>
                <a:cubicBezTo>
                  <a:pt x="2240" y="5471"/>
                  <a:pt x="2565" y="5684"/>
                  <a:pt x="2803" y="5979"/>
                </a:cubicBezTo>
                <a:cubicBezTo>
                  <a:pt x="3035" y="6266"/>
                  <a:pt x="2922" y="6662"/>
                  <a:pt x="2987" y="7001"/>
                </a:cubicBezTo>
                <a:cubicBezTo>
                  <a:pt x="3047" y="7313"/>
                  <a:pt x="2880" y="7620"/>
                  <a:pt x="2594" y="7708"/>
                </a:cubicBezTo>
                <a:cubicBezTo>
                  <a:pt x="2291" y="7801"/>
                  <a:pt x="1946" y="7905"/>
                  <a:pt x="1782" y="8206"/>
                </a:cubicBezTo>
                <a:cubicBezTo>
                  <a:pt x="1637" y="8473"/>
                  <a:pt x="1640" y="8893"/>
                  <a:pt x="1991" y="9044"/>
                </a:cubicBezTo>
                <a:cubicBezTo>
                  <a:pt x="2444" y="9240"/>
                  <a:pt x="2907" y="9399"/>
                  <a:pt x="3380" y="9542"/>
                </a:cubicBezTo>
                <a:cubicBezTo>
                  <a:pt x="3814" y="9673"/>
                  <a:pt x="4214" y="9812"/>
                  <a:pt x="4663" y="9935"/>
                </a:cubicBezTo>
                <a:cubicBezTo>
                  <a:pt x="5057" y="10043"/>
                  <a:pt x="5260" y="10530"/>
                  <a:pt x="5711" y="10563"/>
                </a:cubicBezTo>
                <a:cubicBezTo>
                  <a:pt x="6153" y="10596"/>
                  <a:pt x="6532" y="10927"/>
                  <a:pt x="6680" y="11323"/>
                </a:cubicBezTo>
                <a:cubicBezTo>
                  <a:pt x="6778" y="11586"/>
                  <a:pt x="6751" y="11888"/>
                  <a:pt x="6628" y="12161"/>
                </a:cubicBezTo>
                <a:cubicBezTo>
                  <a:pt x="6483" y="12484"/>
                  <a:pt x="6017" y="12818"/>
                  <a:pt x="5764" y="12528"/>
                </a:cubicBezTo>
                <a:cubicBezTo>
                  <a:pt x="5392" y="12102"/>
                  <a:pt x="4834" y="11910"/>
                  <a:pt x="4663" y="11297"/>
                </a:cubicBezTo>
                <a:cubicBezTo>
                  <a:pt x="4553" y="10903"/>
                  <a:pt x="4495" y="10531"/>
                  <a:pt x="4585" y="10170"/>
                </a:cubicBezTo>
                <a:cubicBezTo>
                  <a:pt x="4672" y="9824"/>
                  <a:pt x="4936" y="9553"/>
                  <a:pt x="5161" y="9280"/>
                </a:cubicBezTo>
                <a:cubicBezTo>
                  <a:pt x="5378" y="9017"/>
                  <a:pt x="5555" y="8614"/>
                  <a:pt x="5397" y="8310"/>
                </a:cubicBezTo>
                <a:cubicBezTo>
                  <a:pt x="5131" y="7800"/>
                  <a:pt x="4465" y="7971"/>
                  <a:pt x="3982" y="7891"/>
                </a:cubicBezTo>
                <a:cubicBezTo>
                  <a:pt x="3671" y="7839"/>
                  <a:pt x="3360" y="7920"/>
                  <a:pt x="3118" y="8101"/>
                </a:cubicBezTo>
                <a:cubicBezTo>
                  <a:pt x="2830" y="8317"/>
                  <a:pt x="2710" y="8663"/>
                  <a:pt x="2620" y="8992"/>
                </a:cubicBezTo>
                <a:cubicBezTo>
                  <a:pt x="2539" y="9287"/>
                  <a:pt x="2415" y="9575"/>
                  <a:pt x="2384" y="9882"/>
                </a:cubicBezTo>
                <a:cubicBezTo>
                  <a:pt x="2352" y="10204"/>
                  <a:pt x="2211" y="10489"/>
                  <a:pt x="2122" y="10799"/>
                </a:cubicBezTo>
                <a:cubicBezTo>
                  <a:pt x="2041" y="11081"/>
                  <a:pt x="1933" y="11356"/>
                  <a:pt x="1782" y="11611"/>
                </a:cubicBezTo>
                <a:cubicBezTo>
                  <a:pt x="1611" y="11901"/>
                  <a:pt x="1542" y="12317"/>
                  <a:pt x="1179" y="12450"/>
                </a:cubicBezTo>
                <a:cubicBezTo>
                  <a:pt x="868" y="12564"/>
                  <a:pt x="580" y="12742"/>
                  <a:pt x="341" y="12973"/>
                </a:cubicBezTo>
                <a:lnTo>
                  <a:pt x="79" y="13131"/>
                </a:lnTo>
                <a:lnTo>
                  <a:pt x="0" y="131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-14400" y="6880320"/>
            <a:ext cx="971640" cy="500040"/>
          </a:xfrm>
          <a:prstGeom prst="roundRect">
            <a:avLst>
              <a:gd name="adj" fmla="val 31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üdiger Dreier</dc:creator>
  <dc:description/>
  <dc:language>en-US</dc:language>
  <cp:lastModifiedBy>Rüdiger Dreier</cp:lastModifiedBy>
  <cp:revision>0</cp:revision>
  <dc:subject/>
  <dc:title/>
</cp:coreProperties>
</file>