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030-DAA8-487E-8A4D-676263FD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B00-4952-46E5-B5A1-5BA1062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C16-2D26-43FF-8376-86907AF5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134-92D1-46F1-BF0C-2EFE87EA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943-A0BC-47E1-8EDC-10371288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94A-20E3-498A-A804-FCE7EFE6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19B-4392-4D7C-A448-36A0614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CEA-C979-42E1-883D-D60CA57C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AB2-9D9E-4577-8C4B-8A400BE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4A5-1398-4426-A903-DD260FD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84B-7F4F-4DBA-8D4F-0D20F2B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B7E-04AA-4095-AAA2-30C8EB68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E33A-58BD-4C85-A099-394CA811A9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shBul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Flash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3:05Z</dcterms:created>
  <dc:creator>FtpDown</dc:creator>
  <dc:description/>
  <dc:language>en-US</dc:language>
  <cp:lastModifiedBy>FtpDown</cp:lastModifiedBy>
  <dcterms:modified xsi:type="dcterms:W3CDTF">2006-03-03T23:43:06Z</dcterms:modified>
  <cp:revision>1</cp:revision>
  <dc:subject/>
  <dc:title>Hi!  Page </dc:title>
</cp:coreProperties>
</file>