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34A-D3C9-49FC-A0BB-C9ABAC28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7AD-6870-4537-996F-F3876A41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262-B1EC-46F5-A350-1A0CFDC2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C9F-D61F-4072-80CA-322719A0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299-32C4-4D07-B24E-E1B99762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0D7-6AD8-46D2-998F-0D7B9B6F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81E-3C37-4507-9C51-613731A5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BA6-5C8C-4FC9-9896-C505B454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639-B135-43ED-B5B3-76ACCBD6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670-61FE-4E45-B86A-9F6CFB7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517-4C58-46D6-9C96-AF4FDC93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43B-9FD2-4080-88EE-20C3EA5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8014-01BB-4A62-AB16-4C571EF7F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49120" y="907920"/>
            <a:ext cx="9580320" cy="1154160"/>
          </a:xfrm>
          <a:prstGeom prst="roundRect">
            <a:avLst>
              <a:gd name="adj" fmla="val 3847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9280" y="985680"/>
            <a:ext cx="207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GB" sz="3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3700" spc="-1" strike="noStrike">
                <a:solidFill>
                  <a:srgbClr val="ffffff"/>
                </a:solidFill>
                <a:latin typeface="Arial"/>
              </a:rPr>
              <a:t>RuO</a:t>
            </a:r>
            <a:r>
              <a:rPr b="1" lang="en-GB" sz="37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5:05:09Z</dcterms:created>
  <dc:creator>burnus</dc:creator>
  <dc:description/>
  <dc:language>en-US</dc:language>
  <cp:lastModifiedBy>burnus</cp:lastModifiedBy>
  <dcterms:modified xsi:type="dcterms:W3CDTF">2004-10-26T15:06:51Z</dcterms:modified>
  <cp:revision>1</cp:revision>
  <dc:subject/>
  <dc:title>Folie 1</dc:title>
</cp:coreProperties>
</file>