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985080" cy="9285120"/>
          </a:xfrm>
          <a:custGeom>
            <a:avLst/>
            <a:gdLst>
              <a:gd name="textAreaLeft" fmla="*/ 360 w 6985080"/>
              <a:gd name="textAreaRight" fmla="*/ 6984720 w 6985080"/>
              <a:gd name="textAreaTop" fmla="*/ 360 h 9285120"/>
              <a:gd name="textAreaBottom" fmla="*/ 9284760 h 9285120"/>
            </a:gdLst>
            <a:ahLst/>
            <a:rect l="textAreaLeft" t="textAreaTop" r="textAreaRight" b="textAreaBottom"/>
            <a:pathLst>
              <a:path w="21600" h="28712">
                <a:moveTo>
                  <a:pt x="4" y="0"/>
                </a:moveTo>
                <a:arcTo wR="4" hR="4" stAng="16200000" swAng="-5400000"/>
                <a:lnTo>
                  <a:pt x="0" y="28708"/>
                </a:lnTo>
                <a:arcTo wR="4" hR="4" stAng="10800000" swAng="-5400000"/>
                <a:lnTo>
                  <a:pt x="21596" y="2871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5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957120" y="0"/>
            <a:ext cx="3025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2880" y="694800"/>
            <a:ext cx="46400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19560" cy="4178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818560"/>
            <a:ext cx="3025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957120" y="8818560"/>
            <a:ext cx="3025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86253-308B-4A03-A63F-EAA5475FC1F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73240" y="69516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21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6BAC6-9A6B-47C2-AA7C-786BE92B0F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61880"/>
            <a:ext cx="7770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1E88F-9344-4653-9A5A-B68BA42733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61880"/>
            <a:ext cx="7770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9C9CE-5E5E-4D39-8E8A-B986FE24F3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61880"/>
            <a:ext cx="7770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F403D-62CF-4771-94DE-72EBFDAEF7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61880"/>
            <a:ext cx="7770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61880"/>
            <a:ext cx="7770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61880"/>
            <a:ext cx="7770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61880"/>
            <a:ext cx="7770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61880"/>
            <a:ext cx="777096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61880"/>
            <a:ext cx="7770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61880"/>
            <a:ext cx="7770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A7571-E4CE-4FC6-A64D-218353AF54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61880"/>
            <a:ext cx="7770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61880"/>
            <a:ext cx="7770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61880"/>
            <a:ext cx="7770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61880"/>
            <a:ext cx="7770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61880"/>
            <a:ext cx="7770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61880"/>
            <a:ext cx="7770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41174-7180-4E70-AAA5-9FD115DF18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61880"/>
            <a:ext cx="7770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BF876-F32A-4A95-9B85-2B29EF41D4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61880"/>
            <a:ext cx="7770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55676-BC0D-4152-B39A-10A99F13E1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61880"/>
            <a:ext cx="777096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27168-87A3-43FB-8DE6-96ED269BA8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61880"/>
            <a:ext cx="7770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AC0E4-AE85-402A-8BA4-79ED455D73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61880"/>
            <a:ext cx="7770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7E0FC-EAA8-4570-AE12-739B01E413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61880"/>
            <a:ext cx="7770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572A9-300C-48F9-B846-A8000D530C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85360"/>
            <a:ext cx="7770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11360" indent="-27252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097280" indent="-21924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36120" indent="-21924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974960" indent="-21924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974960" indent="-21924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974960" indent="-21924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400440"/>
            <a:ext cx="7770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Lucida Sans Unicode"/>
              </a:rPr>
              <a:t>© Cable Television Laboratories, Inc. 2005.  All Rights Reserved. Proprietary/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05720" y="0"/>
            <a:ext cx="2438280" cy="152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934320" y="228600"/>
            <a:ext cx="2074680" cy="3128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6248160"/>
            <a:ext cx="11415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EFF019-BFCC-450B-BB71-F99CF05BADF1}" type="slidenum">
              <a:rPr b="0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61880"/>
            <a:ext cx="7770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9999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6705720" y="0"/>
            <a:ext cx="2438280" cy="152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934320" y="228600"/>
            <a:ext cx="2074680" cy="312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1240" indent="-28404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792468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By 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Deepak Kharbanda and Jean-François Mulé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July 27, 2005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28600" y="1592280"/>
            <a:ext cx="86104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Verdana"/>
              </a:rPr>
              <a:t>DOCSIS 3.0 IPv6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Verdana"/>
              </a:rPr>
              <a:t>Requirements for a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Verdana"/>
              </a:rPr>
              <a:t>Lightweight IPv6 Router </a:t>
            </a:r>
            <a:endParaRPr b="1" lang="en-US" sz="4000" spc="-1" strike="noStrike">
              <a:solidFill>
                <a:srgbClr val="009999"/>
              </a:solidFill>
              <a:latin typeface="Verdana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