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A094C9-84BA-4478-A91A-E6DC64FABA4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EFDC-F654-426B-8BE8-21EFE239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7F6E-69EB-4566-A0F7-01C7F687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5A27-D6EC-4E74-ACDA-43C9C22EC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3652-CF42-41DE-81AF-9760A5443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C906-FFAC-4EC9-8059-249FC06C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7B02-32F7-4D84-BEB5-7CF686A9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E56D-0304-4291-8FB5-40CEE7A9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B34B-B47D-44AF-9E05-4E7F3CE2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05F0-26AA-4E9A-95F6-FDEFF094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CE86-841D-471B-A1AC-B93E2AC2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0922-DDD6-4513-8BDE-DE45D644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C48D-2955-4879-9364-7B8C5E12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0C031C-7A72-40FF-8ADB-17D481CC58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3302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mar Jenkins</dc:creator>
  <dc:description/>
  <dc:language>en-US</dc:language>
  <cp:lastModifiedBy>Omar Jenkins</cp:lastModifiedBy>
  <cp:revision>0</cp:revision>
  <dc:subject/>
  <dc:title>PowerPoint Presentation</dc:title>
</cp:coreProperties>
</file>