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2E9E-EC8C-4221-9DAD-D35E29CE7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1739-70F1-47C5-9365-443A2A56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AAF9-C844-415A-9716-83925A71F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6D83-A157-44EC-9CB8-BAF060C95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D9D7-83D8-420E-9848-3DBFA36F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2E68-5FC9-48B4-A07D-50B093EA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2879-49B9-4C82-8A53-7387F432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4CD0-FC95-450F-841A-E931EF4D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FA36-7E19-4807-B2CA-7F51FCFE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E1F4-9B87-472A-9102-431C6D35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FBD3-CB05-46B4-A268-78EF815E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F2D9-CFBC-4F1C-B41E-30F78156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EC17-2642-4B67-B217-C453FA3FCD1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4A3E-7FC2-4A28-A760-07FE39EE4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Various Font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123456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-5020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rlow Solid Italic"/>
              </a:rPr>
              <a:t>$%^%&amp;_+|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15:45:40Z</dcterms:created>
  <dc:creator>Wipro</dc:creator>
  <dc:description/>
  <dc:language>en-US</dc:language>
  <cp:lastModifiedBy>lthan</cp:lastModifiedBy>
  <dcterms:modified xsi:type="dcterms:W3CDTF">2009-08-14T12:32:49Z</dcterms:modified>
  <cp:revision>9</cp:revision>
  <dc:subject/>
  <dc:title>Slide 1</dc:title>
</cp:coreProperties>
</file>