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72038" cy="42803763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50D-D70B-4F3B-86BC-B59674F1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257335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70160" y="25781400"/>
            <a:ext cx="257335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248-543E-43A1-9775-9DCD570E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5624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70160" y="2578140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56240" y="2578140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210-C667-43DB-9B64-5138ADBC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971000" y="1236672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671840" y="1236672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70160" y="2578140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971000" y="2578140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671840" y="25781400"/>
            <a:ext cx="82861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6C5-FEAD-418C-8B3D-C00320E2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70160" y="12366720"/>
            <a:ext cx="25733520" cy="256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1DF-876B-4A77-B07E-1C441D5E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2573352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F48-0119-4FA1-953A-FB69757C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1255788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56240" y="12366720"/>
            <a:ext cx="1255788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B04-7891-49F7-92E9-E80B2A6E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5B4-9494-42DC-986F-69B56308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70160" y="3804840"/>
            <a:ext cx="2573352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BB1-B01B-4534-B1C3-1DEEA7F7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56240" y="12366720"/>
            <a:ext cx="1255788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70160" y="2578140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1B1-C961-426A-B939-187AFE20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1255788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5624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56240" y="2578140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1D1-48B2-430B-BD96-A669D7C6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7016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56240" y="12366720"/>
            <a:ext cx="1255788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70160" y="25781400"/>
            <a:ext cx="25733520" cy="122504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E3F-A6D4-4255-83DE-D39E92C8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70160" y="3804840"/>
            <a:ext cx="257335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70160" y="12366720"/>
            <a:ext cx="25733520" cy="25682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565280" indent="-1565280">
              <a:spcBef>
                <a:spcPts val="3651"/>
              </a:spcBef>
              <a:buClr>
                <a:srgbClr val="000000"/>
              </a:buClr>
              <a:buFont typeface="Times New Roman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2640" indent="-1305000">
              <a:spcBef>
                <a:spcPts val="3651"/>
              </a:spcBef>
              <a:buClr>
                <a:srgbClr val="000000"/>
              </a:buClr>
              <a:buFont typeface="Times New Roman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19640" indent="-1044360">
              <a:spcBef>
                <a:spcPts val="3651"/>
              </a:spcBef>
              <a:buClr>
                <a:srgbClr val="000000"/>
              </a:buClr>
              <a:buFont typeface="Times New Roman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3" marL="7307280" indent="-1042920">
              <a:spcBef>
                <a:spcPts val="3651"/>
              </a:spcBef>
              <a:buClr>
                <a:srgbClr val="000000"/>
              </a:buClr>
              <a:buFont typeface="Times New Roman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4" marL="9396360" indent="-10443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5" marL="9396360" indent="-10443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6" marL="9396360" indent="-10443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70160" y="39000240"/>
            <a:ext cx="630720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4240" y="39000240"/>
            <a:ext cx="958536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ct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96480" y="39000240"/>
            <a:ext cx="630720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Autofit/>
          </a:bodyPr>
          <a:lstStyle>
            <a:lvl1pPr indent="0" algn="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75280"/>
                <a:tab algn="l" pos="8350200"/>
              </a:tabLst>
            </a:pPr>
            <a:fld id="{09E176A1-35DB-4D9A-A004-CF40F15B6059}" type="slidenum"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920" y="0"/>
            <a:ext cx="30095640" cy="42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3T23:15:30Z</dcterms:created>
  <dc:creator>Andrew Dent</dc:creator>
  <dc:description/>
  <dc:language>en-US</dc:language>
  <cp:lastModifiedBy>Andrew C.E. Dent</cp:lastModifiedBy>
  <dcterms:modified xsi:type="dcterms:W3CDTF">2006-06-26T21:19:47Z</dcterms:modified>
  <cp:revision>32</cp:revision>
  <dc:subject/>
  <dc:title>PowerPoint Presentation</dc:title>
</cp:coreProperties>
</file>