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B03-FEAF-4F44-A370-3D1BA1E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3828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002-3AEB-4276-B19F-65EE1B36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441-2580-4D42-A4CD-17B59D14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238280"/>
            <a:ext cx="291708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BD-BD9A-4A4D-83DA-59C775D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FD4-F4AB-439F-872D-E0CE8D1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2A7-B6F6-415F-9912-4954CB2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BB1-D323-41AB-BDFA-770B057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F9F-691A-4595-BE12-C5CE64A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835-2F9E-4DB8-9F08-E0E6EFCF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48A-0384-46DB-851D-14E6D7E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23828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EED-B3B3-4C12-BAAC-8F246B8C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38280"/>
            <a:ext cx="905976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47A-A5EC-4A01-A935-10DC2A98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E69DE-0B34-41A8-B1E7-7A30F90E34D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682280"/>
            <a:ext cx="9070920" cy="45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with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372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rikethrough with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0:09:11Z</dcterms:created>
  <dc:creator/>
  <dc:description/>
  <dc:language>en-US</dc:language>
  <cp:lastModifiedBy/>
  <cp:revision>0</cp:revision>
  <dc:subject/>
  <dc:title/>
</cp:coreProperties>
</file>