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656-EE26-4565-A0E6-2C4D1B56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565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2360"/>
            <a:ext cx="77565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07C-E61E-4682-8F3E-0A7E052E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236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560" y="412236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703-BF35-4F8E-A1D2-CB037F40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400" y="198108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1000" y="198108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236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400" y="412236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1000" y="412236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C25-838A-4C5F-9773-16F70C9C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56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0B1-E9FA-47B5-988D-73DC0B43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56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1A7-0F08-4A28-ADF1-CF95DC22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88E-B52F-48AE-9C46-FC5D7D47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81F-CD26-4D86-BA7D-1A1A16E8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565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AA7-AF9A-42D2-ADE6-2465E410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236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BE1-0C2A-4388-98A9-298BDE08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560" y="412236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ED0-BE2A-49DF-A614-3F053EE5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2360"/>
            <a:ext cx="77565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2C0A-D106-4D0E-A43F-90844F41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56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74802"/>
                </a:solidFill>
                <a:latin typeface="Frutiger-Bold"/>
              </a:rPr>
              <a:t>Click to edit the title text format</a:t>
            </a:r>
            <a:endParaRPr b="0" lang="en-US" sz="3200" spc="-1" strike="noStrike">
              <a:solidFill>
                <a:srgbClr val="f74802"/>
              </a:solidFill>
              <a:latin typeface="Frutiger-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56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-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  <a:p>
            <a:pPr lvl="1" marL="343080" indent="-343080">
              <a:lnSpc>
                <a:spcPct val="9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-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  <a:p>
            <a:pPr lvl="2" marL="343080" indent="-343080">
              <a:lnSpc>
                <a:spcPct val="9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-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  <a:p>
            <a:pPr lvl="3" marL="343080" indent="-343080">
              <a:lnSpc>
                <a:spcPct val="9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-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  <a:p>
            <a:pPr lvl="4" marL="343080" indent="-343080">
              <a:lnSpc>
                <a:spcPct val="9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-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  <a:p>
            <a:pPr lvl="5" marL="343080" indent="-343080">
              <a:lnSpc>
                <a:spcPct val="9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-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  <a:p>
            <a:pPr lvl="6" marL="343080" indent="-343080">
              <a:lnSpc>
                <a:spcPct val="9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-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utiger-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40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600" spc="-1" strike="noStrike">
                <a:solidFill>
                  <a:srgbClr val="000000"/>
                </a:solidFill>
                <a:latin typeface="Frutiger-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Frutiger-Light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400"/>
            <a:ext cx="28800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600" spc="-1" strike="noStrike">
                <a:solidFill>
                  <a:srgbClr val="000000"/>
                </a:solidFill>
                <a:latin typeface="Frutiger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Frutiger-Light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629400"/>
            <a:ext cx="10508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000000"/>
                </a:solidFill>
                <a:latin typeface="Frutiger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0BB90-70EC-4D71-9A16-40ECDFA0C4D5}" type="slidenum">
              <a:rPr b="0" lang="en-US" sz="900" spc="-1" strike="noStrike">
                <a:solidFill>
                  <a:srgbClr val="000000"/>
                </a:solidFill>
                <a:latin typeface="Frutiger-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731520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rot="16200000">
            <a:off x="1906560" y="-404640"/>
            <a:ext cx="179280" cy="32050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Riesgo - Impa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8446320" y="819720"/>
            <a:ext cx="179280" cy="7556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Situación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6689520" y="-128160"/>
            <a:ext cx="169920" cy="26650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Acción -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4929840" y="819720"/>
            <a:ext cx="179280" cy="7556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Criticidad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4024080" y="730080"/>
            <a:ext cx="179280" cy="934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Probabilidad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5840" y="12600"/>
            <a:ext cx="183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57312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500" spc="-1" strike="noStrike">
                <a:solidFill>
                  <a:srgbClr val="f74802"/>
                </a:solidFill>
                <a:latin typeface="Frutiger-Bold"/>
              </a:rPr>
              <a:t>Proyecto ERP - Control de riesg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B1E-6088-45AA-B0F5-7EAA0D65107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1832760" y="-367200"/>
            <a:ext cx="179280" cy="3168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Riesgo - Impa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338320" y="840240"/>
            <a:ext cx="179640" cy="7556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Situación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6581880" y="-109080"/>
            <a:ext cx="169920" cy="26654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Acción -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821840" y="840240"/>
            <a:ext cx="179640" cy="7556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Criticidad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3936960" y="750600"/>
            <a:ext cx="179640" cy="934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Frutiger-Light"/>
              </a:rPr>
              <a:t>Probabilidad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15840" y="12600"/>
            <a:ext cx="183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6360" y="62064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500" spc="-1" strike="noStrike">
                <a:solidFill>
                  <a:srgbClr val="f74802"/>
                </a:solidFill>
                <a:latin typeface="Frutiger-Bold"/>
              </a:rPr>
              <a:t>Proyecto ERP - Control de riesg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4F0-87E4-4461-97D9-60AE39F6FEE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EAM</dc:creator>
  <dc:description/>
  <dc:language>en-US</dc:language>
  <cp:lastModifiedBy>ineam</cp:lastModifiedBy>
  <dcterms:modified xsi:type="dcterms:W3CDTF">2008-11-28T08:29:41Z</dcterms:modified>
  <cp:revision>15</cp:revision>
  <dc:subject/>
  <dc:title>Comité Informática</dc:title>
</cp:coreProperties>
</file>