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F4E2-A8BA-48DF-A5BD-70DCE1D40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B1A9-EECC-4A3B-AFAB-180A0C044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0C9D-1336-4EDD-8982-48C81F3FB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4184-E248-4966-A168-A719531F5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7534D-FB60-4308-AFA3-7F3EDBC869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4B91D-8B63-4A56-A6B6-0DEE1A139D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171FA-ECBD-4ECB-B794-2166ACB013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637D-E69E-4A17-93CF-15A8BEBEBA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4EBEB-20A6-40E7-8893-7241B0B363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8B786-888D-4C65-A6BF-64DBCFA7F3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903A2-E32C-469B-AC09-C14B5236D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DFAA-6728-4172-8366-096988F95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AC759-4E7E-40AD-A758-BE4665030B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B9827-07D8-4F10-B53A-D2128BD2D6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05976-AA34-4026-A704-3B36F34C62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2D37C-EEC1-47F7-AC21-375C297589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957A2-411C-4368-991D-AD150BFC56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A6597-18C6-4FB3-A72A-3A4852E0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88CA3-B6D9-4784-9670-12A744BC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8BCB0-A2B0-4AF5-AA67-46C28F56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B72D8-692F-4779-ADF4-EC1DA61F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A79B1-C00E-42CA-BAED-7CA6B7EF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DF6B-21D2-4A82-B30F-75E5E61A6E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6566F-18E0-4823-B0F7-BDBFAEC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086B6-FF1F-44F6-ABE7-35F2174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65589-FF61-47B7-9945-FFB2153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DE735D-AA8F-4E7F-B961-7E272F2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A35F5-A056-40AA-B0CF-EA19AF9B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50687-9837-4F84-880C-D7CA0107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CDADC-412F-4077-83CD-723EDFE4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BB89-E2FB-4ABB-A2DD-37C7B50CA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81FC-DBD2-4B5B-8B64-2E81E9226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0BDE-5683-464D-961C-167FB079D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7973-FC5F-4EB8-A2B7-1A87C2753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A9B0-D538-45F2-A170-9EB67B1BE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BBF2-BE58-4938-8196-8021592FD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45A8-DA41-4DC7-91C6-04A246F22D6D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D102-5A7B-498F-A4D3-06DA2AABD864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5512-8A56-4602-91D2-79EB225E1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860000">
            <a:off x="4238280" y="3143160"/>
            <a:ext cx="1428840" cy="57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8:22:56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2-02T08:39:37Z</dcterms:modified>
  <cp:revision>2</cp:revision>
  <dc:subject/>
  <dc:title>Slide 1</dc:title>
</cp:coreProperties>
</file>