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5C9-96E1-49A0-B8A3-7A719BBA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98F-1950-49FA-8082-F46AB587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480-260E-4298-8B5C-1E9D58F8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5D3-ECF3-4A9C-ABEC-FA562DDD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8FA3-0CAC-4726-B5A6-3734D354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C2B5-B0FB-4298-BA0F-2741FC84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9355-6696-41A1-A60A-D85721EF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6C2F-802C-48F5-9220-90AD4AE8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15D4-906E-4F50-9C24-5DA55B3C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E3CC-44EF-4F07-83BF-E646186C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7E14-E69E-4B97-A9B3-130F9D78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395-D4F0-45F9-9659-DCFF3489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7F2B-5487-49CF-B4F9-F1502C21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8084-3F5B-4D74-8677-12CC67B3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EC28-7DAC-42FF-90BF-A2B36B3F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2BF8-DBF6-4029-AC61-070E9C94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139C-D8EF-4013-8985-79BC3044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AD0-033A-4FE0-A473-EFC1A9AD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DBF-D0CA-47B4-A60D-06822F18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63C-07FC-49BE-8F85-1AA80352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3F7-5702-4ED9-BFC3-405F890B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77D-BA96-4B20-8287-15BD801F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2DC-3117-4BCF-B6D9-B6D466D9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FEF-090A-4571-AC2A-8A5E688C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CF73-BB28-4278-9161-BC84A0EC6EB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D611-5D78-4F6F-B3DC-2E21D325396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xxxxxxxxxxxxxx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xxxxxxxxxxxxxxx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xxxxxxxxxxxxxxxxx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1752480" y="4572000"/>
            <a:ext cx="914400" cy="175248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6781680" y="4572000"/>
            <a:ext cx="914400" cy="17524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4572000" y="4572000"/>
            <a:ext cx="914400" cy="1752480"/>
          </a:xfrm>
          <a:prstGeom prst="ca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AutoShape 22"/>
          <p:cNvSpPr/>
          <p:nvPr/>
        </p:nvSpPr>
        <p:spPr>
          <a:xfrm>
            <a:off x="2971800" y="5562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AutoShape 23"/>
          <p:cNvSpPr/>
          <p:nvPr/>
        </p:nvSpPr>
        <p:spPr>
          <a:xfrm>
            <a:off x="5715000" y="556272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 rot="20062800">
            <a:off x="1981080" y="5333760"/>
            <a:ext cx="457200" cy="65556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2998E-006 L 0.30834 -4.82998E-006 E"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3 -1.63081E-006 L 0.55833 -1.63081E-006 E">
                                      <p:cBhvr>
                                        <p:cTn id="1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xxxxxxxxxxxxx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table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xmlns=“http://www.w3.org/tr/xhtml”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xmlns:furn=http://www.furniture.org/tables&gt;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tr&gt;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td&gt;Product&lt;/td&gt;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td&gt;Price&lt;/td&gt;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/tr&gt;&lt;tr&gt;&lt;td&gt;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furn:table sku=“1429815132”&gt;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&lt;furn:type&gt;Coffee Table&lt;/furn:type&gt;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&lt;/furn:table&gt;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&lt;/td&gt;&lt;/tr&gt;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/table&gt;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9" dur="indefinite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" dur="indefinite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3" dur="indefinite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" dur="indefinite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" dur="indefinite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09:11:06Z</dcterms:created>
  <dc:creator>张芳向 Netboy</dc:creator>
  <dc:description/>
  <dc:language>en-US</dc:language>
  <cp:lastModifiedBy>IBM_ADMIN</cp:lastModifiedBy>
  <dcterms:modified xsi:type="dcterms:W3CDTF">2012-05-29T06:28:46Z</dcterms:modified>
  <cp:revision>30</cp:revision>
  <dc:subject/>
  <dc:title>XML Technology and Applications</dc:title>
</cp:coreProperties>
</file>