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490-6AD8-4E50-BB52-44728FDE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2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6A6-BC97-424C-89DF-731A6D90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2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02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38F-969F-49D7-A948-5431C819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55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68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2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55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68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01BA-FB2B-4F2F-A9E9-2EE2C907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251-5CEE-4174-8B61-64E71B8D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038-959B-4AE0-8D21-0E0083E6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2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26E-3D9A-4C00-8EC9-1ABCFE31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6571-F2B7-4438-95AD-F1E744D2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563640" y="53640"/>
            <a:ext cx="556236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66DF-B808-4EA7-850E-3484534E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2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2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090-9D23-48A7-B340-3BDC10DB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2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D60-4703-4CF3-8970-1177E149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2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041-BE33-4FFB-BCEB-64BE8209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238200" y="60357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FFFD0F-387E-4C00-982C-A4579F41A7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0" y="1371600"/>
            <a:ext cx="90662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142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600" indent="-226080" algn="r" rtl="1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14440" indent="-226080" algn="r" rtl="1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53560" indent="-226080" algn="r" rtl="1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53560" indent="-226080" algn="r" rtl="1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53560" indent="-226080" algn="r" rtl="1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563640" y="53640"/>
            <a:ext cx="55623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4280" y="190440"/>
            <a:ext cx="24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דינת ישרא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משרד התקשור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05520" y="1530360"/>
            <a:ext cx="3644640" cy="3645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47840" y="1530360"/>
            <a:ext cx="3645000" cy="3645000"/>
          </a:xfrm>
          <a:prstGeom prst="ellipse">
            <a:avLst/>
          </a:prstGeom>
          <a:solidFill>
            <a:srgbClr val="fe4a4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76680" y="3052800"/>
            <a:ext cx="3645000" cy="364500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14520" y="395280"/>
            <a:ext cx="573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Times New Roman"/>
              </a:rPr>
              <a:t>שירותים רחבי-סרט - “לכידות”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rgence</a:t>
            </a:r>
            <a:r>
              <a:rPr b="1" lang="he-IL" sz="3200" spc="-1" strike="noStrike">
                <a:solidFill>
                  <a:srgbClr val="ffff00"/>
                </a:solidFill>
                <a:latin typeface="Times New Roman"/>
              </a:rPr>
              <a:t>) של תעשיות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66920" y="1549440"/>
            <a:ext cx="3606840" cy="360684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95760" y="3071880"/>
            <a:ext cx="3606840" cy="360684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24600" y="1549440"/>
            <a:ext cx="3606480" cy="360684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6640" y="1755720"/>
            <a:ext cx="2314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Times New Roman"/>
                <a:cs typeface="David"/>
              </a:rPr>
              <a:t>תקשורת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34480" y="5699160"/>
            <a:ext cx="1692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Times New Roman"/>
                <a:cs typeface="David"/>
              </a:rPr>
              <a:t>תכני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88000" y="1755720"/>
            <a:ext cx="22942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Times New Roman"/>
                <a:cs typeface="David"/>
              </a:rPr>
              <a:t>מחשבי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962520" y="2179440"/>
            <a:ext cx="3899880" cy="4273200"/>
            <a:chOff x="3962520" y="2179440"/>
            <a:chExt cx="3899880" cy="4273200"/>
          </a:xfrm>
        </p:grpSpPr>
        <p:sp>
          <p:nvSpPr>
            <p:cNvPr id="54" name=""/>
            <p:cNvSpPr/>
            <p:nvPr/>
          </p:nvSpPr>
          <p:spPr>
            <a:xfrm>
              <a:off x="4471920" y="2728800"/>
              <a:ext cx="2254320" cy="225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99080" y="2438280"/>
              <a:ext cx="2263320" cy="255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3"/>
                  </a:moveTo>
                  <a:arcTo wR="10800" hR="10800" stAng="-10791470" swAng="53866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3"/>
                  </a:moveTo>
                  <a:arcTo wR="10800" hR="10800" stAng="-10791470" swAng="5386649"/>
                </a:path>
              </a:pathLst>
            </a:custGeom>
            <a:noFill/>
            <a:ln cap="rnd" w="200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43320" y="4189320"/>
              <a:ext cx="2558880" cy="226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7" y="0"/>
                  </a:moveTo>
                  <a:arcTo wR="10800" hR="10800" stAng="-5404265" swAng="54042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7" y="0"/>
                  </a:moveTo>
                  <a:arcTo wR="10800" hR="10800" stAng="-5404265" swAng="5404265"/>
                </a:path>
              </a:pathLst>
            </a:custGeom>
            <a:noFill/>
            <a:ln cap="rnd" w="200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2520" y="2179440"/>
              <a:ext cx="2558520" cy="226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3" y="21600"/>
                  </a:moveTo>
                  <a:arcTo wR="10800" hR="10800" stAng="5408543" swAng="54011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3" y="21600"/>
                  </a:moveTo>
                  <a:arcTo wR="10800" hR="10800" stAng="5408543" swAng="5401100"/>
                </a:path>
              </a:pathLst>
            </a:custGeom>
            <a:noFill/>
            <a:ln cap="rnd" w="200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57880" y="3590640"/>
              <a:ext cx="21571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4000" spc="-1" strike="noStrike">
                  <a:solidFill>
                    <a:srgbClr val="ffffff"/>
                  </a:solidFill>
                  <a:latin typeface="Times New Roman"/>
                  <a:cs typeface="David"/>
                </a:rPr>
                <a:t>אינטרנט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0" y="5029200"/>
            <a:ext cx="3200400" cy="1554840"/>
            <a:chOff x="0" y="5029200"/>
            <a:chExt cx="3200400" cy="1554840"/>
          </a:xfrm>
        </p:grpSpPr>
        <p:sp>
          <p:nvSpPr>
            <p:cNvPr id="60" name=""/>
            <p:cNvSpPr/>
            <p:nvPr/>
          </p:nvSpPr>
          <p:spPr>
            <a:xfrm>
              <a:off x="0" y="5029200"/>
              <a:ext cx="320040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4800" spc="-1" strike="noStrike">
                  <a:solidFill>
                    <a:srgbClr val="ffff00"/>
                  </a:solidFill>
                  <a:latin typeface="Arial"/>
                  <a:cs typeface="David"/>
                </a:rPr>
                <a:t>לכידות או התנגשות </a:t>
              </a:r>
              <a:r>
                <a:rPr b="1" lang="he-IL" sz="4800" spc="-1" strike="noStrike">
                  <a:solidFill>
                    <a:srgbClr val="ffff00"/>
                  </a:solidFill>
                  <a:latin typeface="Times New Roman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2280" y="5029200"/>
              <a:ext cx="3048120" cy="152388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09T17:01:58Z</dcterms:created>
  <dc:creator>Daniel Rosenne</dc:creator>
  <dc:description/>
  <dc:language>en-US</dc:language>
  <cp:lastModifiedBy>ooo</cp:lastModifiedBy>
  <cp:lastPrinted>1999-11-14T18:38:35Z</cp:lastPrinted>
  <dcterms:modified xsi:type="dcterms:W3CDTF">2007-08-16T10:40:41Z</dcterms:modified>
  <cp:revision>841</cp:revision>
  <dc:subject>ספטמבר 1998</dc:subject>
  <dc:title>התקשורת בישראל בתחילת שנות ה- 2000</dc:title>
</cp:coreProperties>
</file>