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D9B81-8CB2-48F9-A0EF-553A55AFE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874AA-160B-48F6-A501-1718FD326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2837F-DE3E-49A8-9C1B-AA580D6E5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BA991-689F-414D-8291-69AA72149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B167D-2C50-4288-A474-45A8A2E98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29040-6D52-40B1-8C84-395CD4B5C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7634F-B2AD-478F-BC0A-D6AEE69BA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B1D1B-B330-479A-B752-986E1ED78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4E6A6-F1C7-47AB-94A0-D6F700680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B93BF-C16D-4621-99BA-F9E3EDE65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1B3DD-1022-45F8-B8EE-A1DDC2685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CC294-240E-4234-AC94-938A9C715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B4CE8-267C-423E-AF03-9757F7EC87AC}" type="slidenum">
              <a:rPr b="0" lang="en-A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92360" y="760320"/>
            <a:ext cx="1729080" cy="863640"/>
          </a:xfrm>
          <a:prstGeom prst="rect">
            <a:avLst/>
          </a:prstGeom>
          <a:solidFill>
            <a:srgbClr val="b1edc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rm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age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967280" y="0"/>
            <a:ext cx="41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forma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nagement: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re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732720" y="2703600"/>
            <a:ext cx="2230200" cy="3384360"/>
          </a:xfrm>
          <a:prstGeom prst="rect">
            <a:avLst/>
          </a:prstGeom>
          <a:solidFill>
            <a:srgbClr val="b1edc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 Sup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aining Coordin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ain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elp Des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licy and Procedu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uide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actice State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1" idx="2"/>
            <a:endCxn id="45" idx="0"/>
          </p:cNvCxnSpPr>
          <p:nvPr/>
        </p:nvCxnSpPr>
        <p:spPr>
          <a:xfrm flipH="1" rot="16200000">
            <a:off x="4104360" y="1875960"/>
            <a:ext cx="1080000" cy="575280"/>
          </a:xfrm>
          <a:prstGeom prst="bentConnector3">
            <a:avLst>
              <a:gd name="adj1" fmla="val 49983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6" name=""/>
          <p:cNvCxnSpPr>
            <a:stCxn id="41" idx="2"/>
            <a:endCxn id="43" idx="0"/>
          </p:cNvCxnSpPr>
          <p:nvPr/>
        </p:nvCxnSpPr>
        <p:spPr>
          <a:xfrm flipH="1" rot="16200000">
            <a:off x="5562360" y="417960"/>
            <a:ext cx="1080000" cy="3491280"/>
          </a:xfrm>
          <a:prstGeom prst="bentConnector3">
            <a:avLst>
              <a:gd name="adj1" fmla="val 49983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7" name=""/>
          <p:cNvSpPr/>
          <p:nvPr/>
        </p:nvSpPr>
        <p:spPr>
          <a:xfrm>
            <a:off x="250920" y="2703600"/>
            <a:ext cx="2952720" cy="3384360"/>
          </a:xfrm>
          <a:prstGeom prst="rect">
            <a:avLst/>
          </a:prstGeom>
          <a:solidFill>
            <a:srgbClr val="b1edc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KO IM Project Te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ject Manag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 Warehouse Archite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rmation Archite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TL Archite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TL Develop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 Product Archite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 Product Develop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 Quality Archite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 Quality Profi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tadata Manag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usiness Requirements Analy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plementation Coordin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" name=""/>
          <p:cNvCxnSpPr>
            <a:stCxn id="41" idx="2"/>
            <a:endCxn id="47" idx="0"/>
          </p:cNvCxnSpPr>
          <p:nvPr/>
        </p:nvCxnSpPr>
        <p:spPr>
          <a:xfrm rot="5400000">
            <a:off x="2502000" y="848880"/>
            <a:ext cx="1080000" cy="2629800"/>
          </a:xfrm>
          <a:prstGeom prst="bentConnector3">
            <a:avLst>
              <a:gd name="adj1" fmla="val 49983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5" name=""/>
          <p:cNvSpPr/>
          <p:nvPr/>
        </p:nvSpPr>
        <p:spPr>
          <a:xfrm>
            <a:off x="3564000" y="2703600"/>
            <a:ext cx="2735280" cy="3384360"/>
          </a:xfrm>
          <a:prstGeom prst="rect">
            <a:avLst/>
          </a:prstGeom>
          <a:solidFill>
            <a:srgbClr val="b1edc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 Oper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 Product Administ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tadata Administ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4056120" y="861840"/>
            <a:ext cx="1498680" cy="5803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jec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a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384880" y="5511960"/>
            <a:ext cx="1409760" cy="139680"/>
          </a:xfrm>
          <a:prstGeom prst="leftRightArrow">
            <a:avLst>
              <a:gd name="adj1" fmla="val 46491"/>
              <a:gd name="adj2" fmla="val 54576"/>
            </a:avLst>
          </a:prstGeom>
          <a:solidFill>
            <a:srgbClr val="b1edc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0" bIns="18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124000" y="851040"/>
            <a:ext cx="1498680" cy="5803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jec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a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54560" y="5773680"/>
            <a:ext cx="3365280" cy="119160"/>
          </a:xfrm>
          <a:prstGeom prst="leftRightArrow">
            <a:avLst>
              <a:gd name="adj1" fmla="val 52000"/>
              <a:gd name="adj2" fmla="val 88517"/>
            </a:avLst>
          </a:prstGeom>
          <a:solidFill>
            <a:srgbClr val="b1edc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480" bIns="15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364000" y="0"/>
            <a:ext cx="378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formation Management: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in-busines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39640" y="366840"/>
            <a:ext cx="1152720" cy="10126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.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39640" y="3848040"/>
            <a:ext cx="1152720" cy="1003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2"/>
            <a:endCxn id="55" idx="0"/>
          </p:cNvCxnSpPr>
          <p:nvPr/>
        </p:nvCxnSpPr>
        <p:spPr>
          <a:xfrm flipV="1" rot="10800000">
            <a:off x="1115280" y="1379160"/>
            <a:ext cx="1080" cy="24692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7" name=""/>
          <p:cNvCxnSpPr>
            <a:stCxn id="54" idx="2"/>
            <a:endCxn id="58" idx="0"/>
          </p:cNvCxnSpPr>
          <p:nvPr/>
        </p:nvCxnSpPr>
        <p:spPr>
          <a:xfrm flipH="1" rot="16200000">
            <a:off x="1670040" y="825120"/>
            <a:ext cx="675360" cy="1783440"/>
          </a:xfrm>
          <a:prstGeom prst="bentConnector3">
            <a:avLst>
              <a:gd name="adj1" fmla="val 49866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9" name=""/>
          <p:cNvCxnSpPr>
            <a:stCxn id="54" idx="2"/>
            <a:endCxn id="60" idx="0"/>
          </p:cNvCxnSpPr>
          <p:nvPr/>
        </p:nvCxnSpPr>
        <p:spPr>
          <a:xfrm flipH="1" rot="16200000">
            <a:off x="2608200" y="-113760"/>
            <a:ext cx="675360" cy="3661560"/>
          </a:xfrm>
          <a:prstGeom prst="bentConnector3">
            <a:avLst>
              <a:gd name="adj1" fmla="val 49866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61" name=""/>
          <p:cNvSpPr/>
          <p:nvPr/>
        </p:nvSpPr>
        <p:spPr>
          <a:xfrm>
            <a:off x="2322360" y="4653000"/>
            <a:ext cx="1152720" cy="180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200480" y="4653000"/>
            <a:ext cx="1152720" cy="180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3" name=""/>
          <p:cNvCxnSpPr>
            <a:stCxn id="55" idx="3"/>
            <a:endCxn id="61" idx="0"/>
          </p:cNvCxnSpPr>
          <p:nvPr/>
        </p:nvCxnSpPr>
        <p:spPr>
          <a:xfrm>
            <a:off x="1692000" y="4349880"/>
            <a:ext cx="1207080" cy="3038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8" name=""/>
          <p:cNvSpPr/>
          <p:nvPr/>
        </p:nvSpPr>
        <p:spPr>
          <a:xfrm>
            <a:off x="2322360" y="2054160"/>
            <a:ext cx="1152720" cy="180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200480" y="2054160"/>
            <a:ext cx="1152720" cy="180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593800" y="30351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627280" y="31496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3056040" y="3362400"/>
            <a:ext cx="144360" cy="216000"/>
            <a:chOff x="3056040" y="3362400"/>
            <a:chExt cx="144360" cy="216000"/>
          </a:xfrm>
        </p:grpSpPr>
        <p:sp>
          <p:nvSpPr>
            <p:cNvPr id="67" name=""/>
            <p:cNvSpPr/>
            <p:nvPr/>
          </p:nvSpPr>
          <p:spPr>
            <a:xfrm>
              <a:off x="3080160" y="3362400"/>
              <a:ext cx="90360" cy="72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" bIns="4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128040" y="3434760"/>
              <a:ext cx="0" cy="78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flipH="1">
              <a:off x="3056040" y="3512880"/>
              <a:ext cx="72000" cy="6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126240" y="3515760"/>
              <a:ext cx="72000" cy="6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056040" y="3465720"/>
              <a:ext cx="1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2754360" y="2771640"/>
            <a:ext cx="144360" cy="216000"/>
            <a:chOff x="2754360" y="2771640"/>
            <a:chExt cx="144360" cy="216000"/>
          </a:xfrm>
        </p:grpSpPr>
        <p:sp>
          <p:nvSpPr>
            <p:cNvPr id="73" name=""/>
            <p:cNvSpPr/>
            <p:nvPr/>
          </p:nvSpPr>
          <p:spPr>
            <a:xfrm>
              <a:off x="2778480" y="2771640"/>
              <a:ext cx="90360" cy="72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" bIns="4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826360" y="2844000"/>
              <a:ext cx="0" cy="78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2754360" y="2922120"/>
              <a:ext cx="72000" cy="6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24560" y="2925000"/>
              <a:ext cx="72000" cy="6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754360" y="2874960"/>
              <a:ext cx="1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" name=""/>
          <p:cNvGrpSpPr/>
          <p:nvPr/>
        </p:nvGrpSpPr>
        <p:grpSpPr>
          <a:xfrm>
            <a:off x="2816280" y="2743200"/>
            <a:ext cx="144360" cy="216000"/>
            <a:chOff x="2816280" y="2743200"/>
            <a:chExt cx="144360" cy="216000"/>
          </a:xfrm>
        </p:grpSpPr>
        <p:sp>
          <p:nvSpPr>
            <p:cNvPr id="79" name=""/>
            <p:cNvSpPr/>
            <p:nvPr/>
          </p:nvSpPr>
          <p:spPr>
            <a:xfrm>
              <a:off x="2840400" y="2743200"/>
              <a:ext cx="90360" cy="72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" bIns="4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888280" y="2815560"/>
              <a:ext cx="0" cy="78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flipH="1">
              <a:off x="2816280" y="2893680"/>
              <a:ext cx="72000" cy="6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886480" y="2896560"/>
              <a:ext cx="72000" cy="6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816280" y="2846520"/>
              <a:ext cx="1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2890800" y="2765520"/>
            <a:ext cx="144360" cy="215640"/>
            <a:chOff x="2890800" y="2765520"/>
            <a:chExt cx="144360" cy="215640"/>
          </a:xfrm>
        </p:grpSpPr>
        <p:sp>
          <p:nvSpPr>
            <p:cNvPr id="85" name=""/>
            <p:cNvSpPr/>
            <p:nvPr/>
          </p:nvSpPr>
          <p:spPr>
            <a:xfrm>
              <a:off x="2914920" y="2765520"/>
              <a:ext cx="90360" cy="72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" bIns="4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962800" y="2837880"/>
              <a:ext cx="0" cy="77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>
              <a:off x="2890800" y="2915640"/>
              <a:ext cx="72000" cy="6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2961000" y="2918520"/>
              <a:ext cx="72000" cy="6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890800" y="2868840"/>
              <a:ext cx="1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2298240" y="3276720"/>
            <a:ext cx="694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usin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nta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698920" y="20224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041640" y="2268360"/>
            <a:ext cx="144360" cy="216000"/>
            <a:chOff x="3041640" y="2268360"/>
            <a:chExt cx="144360" cy="216000"/>
          </a:xfrm>
        </p:grpSpPr>
        <p:sp>
          <p:nvSpPr>
            <p:cNvPr id="93" name=""/>
            <p:cNvSpPr/>
            <p:nvPr/>
          </p:nvSpPr>
          <p:spPr>
            <a:xfrm>
              <a:off x="3065760" y="2268360"/>
              <a:ext cx="90360" cy="72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" bIns="4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113640" y="2340720"/>
              <a:ext cx="0" cy="78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>
              <a:off x="3041640" y="2418840"/>
              <a:ext cx="72000" cy="6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111840" y="2421720"/>
              <a:ext cx="72000" cy="6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041640" y="2371680"/>
              <a:ext cx="1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"/>
          <p:cNvSpPr/>
          <p:nvPr/>
        </p:nvSpPr>
        <p:spPr>
          <a:xfrm>
            <a:off x="2395440" y="219564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2355840" y="4869000"/>
            <a:ext cx="996840" cy="1441440"/>
            <a:chOff x="2355840" y="4869000"/>
            <a:chExt cx="996840" cy="1441440"/>
          </a:xfrm>
        </p:grpSpPr>
        <p:sp>
          <p:nvSpPr>
            <p:cNvPr id="100" name=""/>
            <p:cNvSpPr/>
            <p:nvPr/>
          </p:nvSpPr>
          <p:spPr>
            <a:xfrm>
              <a:off x="2411640" y="5919840"/>
              <a:ext cx="941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ta Analys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412720" y="6064200"/>
              <a:ext cx="879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esearch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355840" y="4869000"/>
              <a:ext cx="7905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count Manag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3" name=""/>
            <p:cNvGrpSpPr/>
            <p:nvPr/>
          </p:nvGrpSpPr>
          <p:grpSpPr>
            <a:xfrm>
              <a:off x="3219480" y="4973760"/>
              <a:ext cx="111240" cy="215640"/>
              <a:chOff x="3219480" y="4973760"/>
              <a:chExt cx="111240" cy="215640"/>
            </a:xfrm>
          </p:grpSpPr>
          <p:sp>
            <p:nvSpPr>
              <p:cNvPr id="104" name=""/>
              <p:cNvSpPr/>
              <p:nvPr/>
            </p:nvSpPr>
            <p:spPr>
              <a:xfrm>
                <a:off x="3238200" y="4973760"/>
                <a:ext cx="69480" cy="723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" bIns="4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3274920" y="5046120"/>
                <a:ext cx="0" cy="77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flipH="1">
                <a:off x="3219480" y="5123880"/>
                <a:ext cx="55440" cy="6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3273840" y="5126760"/>
                <a:ext cx="55440" cy="6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219480" y="5077080"/>
                <a:ext cx="111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2763720" y="5626080"/>
              <a:ext cx="144720" cy="216000"/>
              <a:chOff x="2763720" y="5626080"/>
              <a:chExt cx="144720" cy="216000"/>
            </a:xfrm>
          </p:grpSpPr>
          <p:sp>
            <p:nvSpPr>
              <p:cNvPr id="110" name=""/>
              <p:cNvSpPr/>
              <p:nvPr/>
            </p:nvSpPr>
            <p:spPr>
              <a:xfrm>
                <a:off x="2787840" y="5626080"/>
                <a:ext cx="90360" cy="723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" bIns="4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2835720" y="5698440"/>
                <a:ext cx="0" cy="78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H="1">
                <a:off x="2763720" y="5776560"/>
                <a:ext cx="72000" cy="6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834280" y="5779440"/>
                <a:ext cx="72000" cy="6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2763720" y="5729400"/>
                <a:ext cx="144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2900520" y="5619600"/>
              <a:ext cx="144360" cy="216000"/>
              <a:chOff x="2900520" y="5619600"/>
              <a:chExt cx="144360" cy="216000"/>
            </a:xfrm>
          </p:grpSpPr>
          <p:sp>
            <p:nvSpPr>
              <p:cNvPr id="116" name=""/>
              <p:cNvSpPr/>
              <p:nvPr/>
            </p:nvSpPr>
            <p:spPr>
              <a:xfrm>
                <a:off x="2924640" y="5619600"/>
                <a:ext cx="90360" cy="723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" bIns="4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2972520" y="5691960"/>
                <a:ext cx="0" cy="78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2900520" y="5770080"/>
                <a:ext cx="72000" cy="6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2970720" y="5772960"/>
                <a:ext cx="72000" cy="6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900520" y="5722920"/>
                <a:ext cx="144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1" name=""/>
          <p:cNvGrpSpPr/>
          <p:nvPr/>
        </p:nvGrpSpPr>
        <p:grpSpPr>
          <a:xfrm>
            <a:off x="1035000" y="977760"/>
            <a:ext cx="144360" cy="274680"/>
            <a:chOff x="1035000" y="977760"/>
            <a:chExt cx="144360" cy="274680"/>
          </a:xfrm>
        </p:grpSpPr>
        <p:grpSp>
          <p:nvGrpSpPr>
            <p:cNvPr id="122" name=""/>
            <p:cNvGrpSpPr/>
            <p:nvPr/>
          </p:nvGrpSpPr>
          <p:grpSpPr>
            <a:xfrm>
              <a:off x="1035000" y="1036440"/>
              <a:ext cx="144360" cy="216000"/>
              <a:chOff x="1035000" y="1036440"/>
              <a:chExt cx="144360" cy="216000"/>
            </a:xfrm>
          </p:grpSpPr>
          <p:sp>
            <p:nvSpPr>
              <p:cNvPr id="123" name=""/>
              <p:cNvSpPr/>
              <p:nvPr/>
            </p:nvSpPr>
            <p:spPr>
              <a:xfrm>
                <a:off x="1059120" y="1036440"/>
                <a:ext cx="90360" cy="723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" bIns="4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1107000" y="1108800"/>
                <a:ext cx="0" cy="78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1035000" y="1186920"/>
                <a:ext cx="72000" cy="6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1105200" y="1189800"/>
                <a:ext cx="72000" cy="6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035000" y="1139760"/>
                <a:ext cx="144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8" name=""/>
            <p:cNvSpPr/>
            <p:nvPr/>
          </p:nvSpPr>
          <p:spPr>
            <a:xfrm>
              <a:off x="1054080" y="1015920"/>
              <a:ext cx="103320" cy="42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076400" y="977760"/>
              <a:ext cx="69840" cy="50760"/>
            </a:xfrm>
            <a:prstGeom prst="parallelogram">
              <a:avLst>
                <a:gd name="adj" fmla="val 34397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760" bIns="-14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1065240" y="4554360"/>
            <a:ext cx="111240" cy="216000"/>
            <a:chOff x="1065240" y="4554360"/>
            <a:chExt cx="111240" cy="216000"/>
          </a:xfrm>
        </p:grpSpPr>
        <p:sp>
          <p:nvSpPr>
            <p:cNvPr id="131" name=""/>
            <p:cNvSpPr/>
            <p:nvPr/>
          </p:nvSpPr>
          <p:spPr>
            <a:xfrm>
              <a:off x="1083960" y="4554360"/>
              <a:ext cx="69480" cy="72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" bIns="4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120680" y="4626720"/>
              <a:ext cx="0" cy="78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 flipH="1">
              <a:off x="1065240" y="4704840"/>
              <a:ext cx="55440" cy="6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119600" y="4707720"/>
              <a:ext cx="55440" cy="6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065240" y="4657680"/>
              <a:ext cx="11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6" name=""/>
          <p:cNvCxnSpPr>
            <a:stCxn id="55" idx="3"/>
            <a:endCxn id="62" idx="0"/>
          </p:cNvCxnSpPr>
          <p:nvPr/>
        </p:nvCxnSpPr>
        <p:spPr>
          <a:xfrm>
            <a:off x="1692360" y="4349880"/>
            <a:ext cx="3085200" cy="3038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37" name=""/>
          <p:cNvSpPr/>
          <p:nvPr/>
        </p:nvSpPr>
        <p:spPr>
          <a:xfrm>
            <a:off x="4653000" y="30067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686480" y="31212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5114880" y="3333600"/>
            <a:ext cx="144360" cy="216000"/>
            <a:chOff x="5114880" y="3333600"/>
            <a:chExt cx="144360" cy="216000"/>
          </a:xfrm>
        </p:grpSpPr>
        <p:sp>
          <p:nvSpPr>
            <p:cNvPr id="140" name=""/>
            <p:cNvSpPr/>
            <p:nvPr/>
          </p:nvSpPr>
          <p:spPr>
            <a:xfrm>
              <a:off x="5139000" y="3333600"/>
              <a:ext cx="90360" cy="72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" bIns="4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86880" y="3405960"/>
              <a:ext cx="0" cy="78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 flipH="1">
              <a:off x="5114880" y="3484080"/>
              <a:ext cx="72000" cy="6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185080" y="3486960"/>
              <a:ext cx="72000" cy="6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114880" y="3436920"/>
              <a:ext cx="1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710240" y="2743200"/>
            <a:ext cx="144360" cy="216000"/>
            <a:chOff x="4710240" y="2743200"/>
            <a:chExt cx="144360" cy="216000"/>
          </a:xfrm>
        </p:grpSpPr>
        <p:sp>
          <p:nvSpPr>
            <p:cNvPr id="146" name=""/>
            <p:cNvSpPr/>
            <p:nvPr/>
          </p:nvSpPr>
          <p:spPr>
            <a:xfrm>
              <a:off x="4734360" y="2743200"/>
              <a:ext cx="90360" cy="72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" bIns="4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782240" y="2815560"/>
              <a:ext cx="0" cy="78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 flipH="1">
              <a:off x="4710240" y="2893680"/>
              <a:ext cx="72000" cy="6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780440" y="2896560"/>
              <a:ext cx="72000" cy="6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710240" y="2846520"/>
              <a:ext cx="1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4772160" y="2714760"/>
            <a:ext cx="144360" cy="215640"/>
            <a:chOff x="4772160" y="2714760"/>
            <a:chExt cx="144360" cy="215640"/>
          </a:xfrm>
        </p:grpSpPr>
        <p:sp>
          <p:nvSpPr>
            <p:cNvPr id="152" name=""/>
            <p:cNvSpPr/>
            <p:nvPr/>
          </p:nvSpPr>
          <p:spPr>
            <a:xfrm>
              <a:off x="4796280" y="2714760"/>
              <a:ext cx="90360" cy="72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" bIns="4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844160" y="2787120"/>
              <a:ext cx="0" cy="77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 flipH="1">
              <a:off x="4772160" y="2864880"/>
              <a:ext cx="72000" cy="6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842360" y="2867760"/>
              <a:ext cx="72000" cy="6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772160" y="2818080"/>
              <a:ext cx="1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4846680" y="2736720"/>
            <a:ext cx="144360" cy="216000"/>
            <a:chOff x="4846680" y="2736720"/>
            <a:chExt cx="144360" cy="216000"/>
          </a:xfrm>
        </p:grpSpPr>
        <p:sp>
          <p:nvSpPr>
            <p:cNvPr id="158" name=""/>
            <p:cNvSpPr/>
            <p:nvPr/>
          </p:nvSpPr>
          <p:spPr>
            <a:xfrm>
              <a:off x="4870800" y="2736720"/>
              <a:ext cx="90360" cy="72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" bIns="4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918680" y="2809080"/>
              <a:ext cx="0" cy="78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 flipH="1">
              <a:off x="4846680" y="2887200"/>
              <a:ext cx="72000" cy="6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916880" y="2890080"/>
              <a:ext cx="72000" cy="6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846680" y="2840040"/>
              <a:ext cx="1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4357080" y="3247920"/>
            <a:ext cx="694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usin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nta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5100480" y="2239920"/>
            <a:ext cx="144720" cy="216000"/>
            <a:chOff x="5100480" y="2239920"/>
            <a:chExt cx="144720" cy="216000"/>
          </a:xfrm>
        </p:grpSpPr>
        <p:sp>
          <p:nvSpPr>
            <p:cNvPr id="165" name=""/>
            <p:cNvSpPr/>
            <p:nvPr/>
          </p:nvSpPr>
          <p:spPr>
            <a:xfrm>
              <a:off x="5124600" y="2239920"/>
              <a:ext cx="90360" cy="72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" bIns="4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172480" y="2312280"/>
              <a:ext cx="0" cy="78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5100480" y="2390400"/>
              <a:ext cx="72000" cy="6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171040" y="2393280"/>
              <a:ext cx="72000" cy="6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100480" y="2343240"/>
              <a:ext cx="14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4454640" y="216684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327560" y="5919840"/>
            <a:ext cx="94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Analy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329000" y="6064200"/>
            <a:ext cx="879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search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272120" y="4869000"/>
            <a:ext cx="790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count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5135400" y="4973760"/>
            <a:ext cx="111240" cy="215640"/>
            <a:chOff x="5135400" y="4973760"/>
            <a:chExt cx="111240" cy="215640"/>
          </a:xfrm>
        </p:grpSpPr>
        <p:sp>
          <p:nvSpPr>
            <p:cNvPr id="175" name=""/>
            <p:cNvSpPr/>
            <p:nvPr/>
          </p:nvSpPr>
          <p:spPr>
            <a:xfrm>
              <a:off x="5154120" y="4973760"/>
              <a:ext cx="69480" cy="72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" bIns="4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190840" y="5046120"/>
              <a:ext cx="0" cy="77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flipH="1">
              <a:off x="5135400" y="5123880"/>
              <a:ext cx="55440" cy="6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189760" y="5126760"/>
              <a:ext cx="55440" cy="6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135400" y="5077080"/>
              <a:ext cx="11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4680000" y="5626080"/>
            <a:ext cx="144360" cy="216000"/>
            <a:chOff x="4680000" y="5626080"/>
            <a:chExt cx="144360" cy="216000"/>
          </a:xfrm>
        </p:grpSpPr>
        <p:sp>
          <p:nvSpPr>
            <p:cNvPr id="181" name=""/>
            <p:cNvSpPr/>
            <p:nvPr/>
          </p:nvSpPr>
          <p:spPr>
            <a:xfrm>
              <a:off x="4704120" y="5626080"/>
              <a:ext cx="90360" cy="72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" bIns="4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52000" y="5698440"/>
              <a:ext cx="0" cy="78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4680000" y="5776560"/>
              <a:ext cx="72000" cy="6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750200" y="5779440"/>
              <a:ext cx="72000" cy="6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680000" y="5729400"/>
              <a:ext cx="1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4816440" y="5619600"/>
            <a:ext cx="144360" cy="216000"/>
            <a:chOff x="4816440" y="5619600"/>
            <a:chExt cx="144360" cy="216000"/>
          </a:xfrm>
        </p:grpSpPr>
        <p:sp>
          <p:nvSpPr>
            <p:cNvPr id="187" name=""/>
            <p:cNvSpPr/>
            <p:nvPr/>
          </p:nvSpPr>
          <p:spPr>
            <a:xfrm>
              <a:off x="4840560" y="5619600"/>
              <a:ext cx="90360" cy="72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" bIns="4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888440" y="5691960"/>
              <a:ext cx="0" cy="78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flipH="1">
              <a:off x="4816440" y="5770080"/>
              <a:ext cx="72000" cy="6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886640" y="5772960"/>
              <a:ext cx="72000" cy="6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816440" y="5722920"/>
              <a:ext cx="1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3017880" y="5613480"/>
            <a:ext cx="144360" cy="234360"/>
            <a:chOff x="3017880" y="5613480"/>
            <a:chExt cx="144360" cy="234360"/>
          </a:xfrm>
        </p:grpSpPr>
        <p:sp>
          <p:nvSpPr>
            <p:cNvPr id="193" name=""/>
            <p:cNvSpPr/>
            <p:nvPr/>
          </p:nvSpPr>
          <p:spPr>
            <a:xfrm>
              <a:off x="3089160" y="5705280"/>
              <a:ext cx="0" cy="7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>
              <a:off x="3017880" y="5783040"/>
              <a:ext cx="71280" cy="61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087360" y="5784480"/>
              <a:ext cx="72720" cy="6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017880" y="5735520"/>
              <a:ext cx="1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043080" y="5613480"/>
              <a:ext cx="88560" cy="88560"/>
            </a:xfrm>
            <a:prstGeom prst="smileyFace">
              <a:avLst>
                <a:gd name="adj" fmla="val 9282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"/>
          <p:cNvSpPr/>
          <p:nvPr/>
        </p:nvSpPr>
        <p:spPr>
          <a:xfrm>
            <a:off x="6819840" y="4419720"/>
            <a:ext cx="1562040" cy="2133360"/>
          </a:xfrm>
          <a:prstGeom prst="rect">
            <a:avLst/>
          </a:prstGeom>
          <a:solidFill>
            <a:srgbClr val="b1edc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porat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775040" y="1714680"/>
            <a:ext cx="9399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724280" y="4343400"/>
            <a:ext cx="9399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029360" y="2894040"/>
            <a:ext cx="1152720" cy="873000"/>
          </a:xfrm>
          <a:prstGeom prst="rect">
            <a:avLst/>
          </a:prstGeom>
          <a:solidFill>
            <a:srgbClr val="b1edc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7524720" y="3365640"/>
            <a:ext cx="144360" cy="273960"/>
            <a:chOff x="7524720" y="3365640"/>
            <a:chExt cx="144360" cy="273960"/>
          </a:xfrm>
        </p:grpSpPr>
        <p:grpSp>
          <p:nvGrpSpPr>
            <p:cNvPr id="203" name=""/>
            <p:cNvGrpSpPr/>
            <p:nvPr/>
          </p:nvGrpSpPr>
          <p:grpSpPr>
            <a:xfrm>
              <a:off x="7524720" y="3423960"/>
              <a:ext cx="144360" cy="215640"/>
              <a:chOff x="7524720" y="3423960"/>
              <a:chExt cx="144360" cy="215640"/>
            </a:xfrm>
          </p:grpSpPr>
          <p:sp>
            <p:nvSpPr>
              <p:cNvPr id="204" name=""/>
              <p:cNvSpPr/>
              <p:nvPr/>
            </p:nvSpPr>
            <p:spPr>
              <a:xfrm>
                <a:off x="7548840" y="3423960"/>
                <a:ext cx="90360" cy="723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" bIns="4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596720" y="3496320"/>
                <a:ext cx="0" cy="77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 flipH="1">
                <a:off x="7524720" y="3574080"/>
                <a:ext cx="72000" cy="6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7594920" y="3576960"/>
                <a:ext cx="72000" cy="6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7524720" y="3527280"/>
                <a:ext cx="144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9" name=""/>
            <p:cNvSpPr/>
            <p:nvPr/>
          </p:nvSpPr>
          <p:spPr>
            <a:xfrm>
              <a:off x="7543800" y="3403440"/>
              <a:ext cx="103320" cy="424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566120" y="3365640"/>
              <a:ext cx="69840" cy="50400"/>
            </a:xfrm>
            <a:prstGeom prst="parallelogram">
              <a:avLst>
                <a:gd name="adj" fmla="val 34643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11" name=""/>
          <p:cNvCxnSpPr>
            <a:stCxn id="201" idx="2"/>
            <a:endCxn id="198" idx="0"/>
          </p:cNvCxnSpPr>
          <p:nvPr/>
        </p:nvCxnSpPr>
        <p:spPr>
          <a:xfrm flipH="1">
            <a:off x="7600320" y="3766680"/>
            <a:ext cx="5400" cy="6534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12" name=""/>
          <p:cNvSpPr/>
          <p:nvPr/>
        </p:nvSpPr>
        <p:spPr>
          <a:xfrm>
            <a:off x="6997680" y="5168880"/>
            <a:ext cx="1282680" cy="7747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rmation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ent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7080120" y="6134040"/>
            <a:ext cx="144720" cy="216000"/>
            <a:chOff x="7080120" y="6134040"/>
            <a:chExt cx="144720" cy="216000"/>
          </a:xfrm>
        </p:grpSpPr>
        <p:sp>
          <p:nvSpPr>
            <p:cNvPr id="214" name=""/>
            <p:cNvSpPr/>
            <p:nvPr/>
          </p:nvSpPr>
          <p:spPr>
            <a:xfrm>
              <a:off x="7104240" y="6134040"/>
              <a:ext cx="90360" cy="72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" bIns="4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152120" y="6206400"/>
              <a:ext cx="0" cy="78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 flipH="1">
              <a:off x="7080120" y="6284520"/>
              <a:ext cx="72000" cy="6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150680" y="6287400"/>
              <a:ext cx="72000" cy="6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080120" y="6237360"/>
              <a:ext cx="14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7216920" y="6127920"/>
            <a:ext cx="144360" cy="215640"/>
            <a:chOff x="7216920" y="6127920"/>
            <a:chExt cx="144360" cy="215640"/>
          </a:xfrm>
        </p:grpSpPr>
        <p:sp>
          <p:nvSpPr>
            <p:cNvPr id="220" name=""/>
            <p:cNvSpPr/>
            <p:nvPr/>
          </p:nvSpPr>
          <p:spPr>
            <a:xfrm>
              <a:off x="7241040" y="6127920"/>
              <a:ext cx="90360" cy="72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" bIns="4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7288920" y="6200280"/>
              <a:ext cx="0" cy="77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>
              <a:off x="7216920" y="6278040"/>
              <a:ext cx="72000" cy="6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287120" y="6280920"/>
              <a:ext cx="72000" cy="6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216920" y="6231240"/>
              <a:ext cx="1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5" name=""/>
          <p:cNvSpPr/>
          <p:nvPr/>
        </p:nvSpPr>
        <p:spPr>
          <a:xfrm>
            <a:off x="7441920" y="6114960"/>
            <a:ext cx="770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IM Te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124080" y="3632040"/>
            <a:ext cx="243000" cy="1257480"/>
          </a:xfrm>
          <a:custGeom>
            <a:avLst/>
            <a:gdLst/>
            <a:ahLst/>
            <a:rect l="l" t="t" r="r" b="b"/>
            <a:pathLst>
              <a:path w="153" h="792">
                <a:moveTo>
                  <a:pt x="0" y="0"/>
                </a:moveTo>
                <a:cubicBezTo>
                  <a:pt x="59" y="90"/>
                  <a:pt x="119" y="180"/>
                  <a:pt x="136" y="312"/>
                </a:cubicBezTo>
                <a:cubicBezTo>
                  <a:pt x="153" y="444"/>
                  <a:pt x="128" y="618"/>
                  <a:pt x="104" y="79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156280" y="3594240"/>
            <a:ext cx="185760" cy="1295280"/>
          </a:xfrm>
          <a:custGeom>
            <a:avLst/>
            <a:gdLst/>
            <a:ahLst/>
            <a:rect l="l" t="t" r="r" b="b"/>
            <a:pathLst>
              <a:path w="117" h="816">
                <a:moveTo>
                  <a:pt x="0" y="0"/>
                </a:moveTo>
                <a:cubicBezTo>
                  <a:pt x="53" y="152"/>
                  <a:pt x="107" y="304"/>
                  <a:pt x="112" y="440"/>
                </a:cubicBezTo>
                <a:cubicBezTo>
                  <a:pt x="117" y="576"/>
                  <a:pt x="74" y="696"/>
                  <a:pt x="32" y="816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.33364 E">
                                      <p:cBhvr>
                                        <p:cTn id="6" dur="1000" fill="hold"/>
                                        <p:tgtEl>
                                          <p:spTgt spid="1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27T02:16:38Z</dcterms:created>
  <dc:creator>David Spence</dc:creator>
  <dc:description/>
  <dc:language>en-US</dc:language>
  <cp:lastModifiedBy>Martin Gregory</cp:lastModifiedBy>
  <dcterms:modified xsi:type="dcterms:W3CDTF">2004-07-16T07:28:31Z</dcterms:modified>
  <cp:revision>29</cp:revision>
  <dc:subject/>
  <dc:title>Slide 1</dc:title>
</cp:coreProperties>
</file>