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body"/>
          </p:nvPr>
        </p:nvSpPr>
        <p:spPr>
          <a:xfrm>
            <a:off x="974880" y="4560480"/>
            <a:ext cx="5365440" cy="4319640"/>
          </a:xfrm>
          <a:prstGeom prst="rect">
            <a:avLst/>
          </a:prstGeom>
          <a:noFill/>
          <a:ln w="0">
            <a:noFill/>
          </a:ln>
        </p:spPr>
        <p:txBody>
          <a:bodyPr lIns="95760" rIns="95760" tIns="47880" bIns="478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2"/>
          <p:cNvSpPr>
            <a:spLocks noGrp="1"/>
          </p:cNvSpPr>
          <p:nvPr>
            <p:ph type="sldImg"/>
          </p:nvPr>
        </p:nvSpPr>
        <p:spPr>
          <a:xfrm>
            <a:off x="1257480" y="729360"/>
            <a:ext cx="4799880" cy="360000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move the slide</a:t>
            </a:r>
            <a:endParaRPr b="1" lang="en-US" sz="28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258920" y="720720"/>
            <a:ext cx="4799160" cy="3598920"/>
          </a:xfrm>
          <a:prstGeom prst="rect">
            <a:avLst/>
          </a:prstGeom>
          <a:ln w="0">
            <a:noFill/>
          </a:ln>
        </p:spPr>
      </p:sp>
      <p:sp>
        <p:nvSpPr>
          <p:cNvPr id="578" name="PlaceHolder 2"/>
          <p:cNvSpPr>
            <a:spLocks noGrp="1"/>
          </p:cNvSpPr>
          <p:nvPr>
            <p:ph type="body"/>
          </p:nvPr>
        </p:nvSpPr>
        <p:spPr>
          <a:xfrm>
            <a:off x="974880" y="4692240"/>
            <a:ext cx="5365440" cy="4079880"/>
          </a:xfrm>
          <a:prstGeom prst="rect">
            <a:avLst/>
          </a:prstGeom>
          <a:noFill/>
          <a:ln w="0">
            <a:noFill/>
          </a:ln>
        </p:spPr>
        <p:txBody>
          <a:bodyPr lIns="95040" rIns="95040" tIns="47520" bIns="4752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gothic"/>
              </a:rPr>
              <a:t>Here is a simple flow chart showing Magma’stop down hierarchical design flow.  It starts in the early chip architecture phases and progresses all the way through final chip implementation with all steps using one data model, one executable, and the same engines for timing, extraction, optimization, placement, and routing.  At each stage of the design process, the designer will use feedback provided by the tool to decide whether he should progress forward in the design flow or go back and modify input data including the design specification (RTL or netlist), the timing constraints, or the floorplan.  As the design is getting proactively refined throughout this flow, the necessity to return to an early step will diminish as the design moves forward.  Also, note that chip integration is not something you do at the end of the design process when all of the blocks are ready.  In this flow, chip integration starts as soon as you know what blocks you’ll have in the design and create simple black box models for them.</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258920" y="720720"/>
            <a:ext cx="4799160" cy="3598920"/>
          </a:xfrm>
          <a:prstGeom prst="rect">
            <a:avLst/>
          </a:prstGeom>
          <a:ln w="0">
            <a:noFill/>
          </a:ln>
        </p:spPr>
      </p:sp>
      <p:sp>
        <p:nvSpPr>
          <p:cNvPr id="580" name="PlaceHolder 2"/>
          <p:cNvSpPr>
            <a:spLocks noGrp="1"/>
          </p:cNvSpPr>
          <p:nvPr>
            <p:ph type="body"/>
          </p:nvPr>
        </p:nvSpPr>
        <p:spPr>
          <a:xfrm>
            <a:off x="974880" y="3367080"/>
            <a:ext cx="5365440" cy="7130880"/>
          </a:xfrm>
          <a:prstGeom prst="rect">
            <a:avLst/>
          </a:prstGeom>
          <a:noFill/>
          <a:ln w="0">
            <a:noFill/>
          </a:ln>
        </p:spPr>
        <p:txBody>
          <a:bodyPr lIns="95760" rIns="95760" tIns="47880" bIns="4788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1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GAIN-BASED TIMING ANALYSI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Unbuffe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onvert to super cell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Trimm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2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ROTOTYPE FLOORPLANN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hip siz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IO plann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Macro placemen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luster 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artitioning/pin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Time budge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Glassbox gener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3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ROTOTYPE PHYSICAL SYNTHESI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Longwire Buffer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Global Rou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Siz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Detailed 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 Step 4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PROTOTYPE CLOCK TREE SYNTHESI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Clock rou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ffff"/>
                </a:solidFill>
                <a:latin typeface="Times New Roman"/>
                <a:ea typeface="msgothic"/>
              </a:rPr>
              <a:t>Low effort skew optimiz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8" name="PlaceHolder 2"/>
          <p:cNvSpPr>
            <a:spLocks noGrp="1"/>
          </p:cNvSpPr>
          <p:nvPr>
            <p:ph/>
          </p:nvPr>
        </p:nvSpPr>
        <p:spPr>
          <a:xfrm>
            <a:off x="229680" y="1009800"/>
            <a:ext cx="866484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9" name="PlaceHolder 3"/>
          <p:cNvSpPr>
            <a:spLocks noGrp="1"/>
          </p:cNvSpPr>
          <p:nvPr>
            <p:ph/>
          </p:nvPr>
        </p:nvSpPr>
        <p:spPr>
          <a:xfrm>
            <a:off x="229680" y="3693960"/>
            <a:ext cx="866484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1" name="PlaceHolder 2"/>
          <p:cNvSpPr>
            <a:spLocks noGrp="1"/>
          </p:cNvSpPr>
          <p:nvPr>
            <p:ph/>
          </p:nvPr>
        </p:nvSpPr>
        <p:spPr>
          <a:xfrm>
            <a:off x="22968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2" name="PlaceHolder 3"/>
          <p:cNvSpPr>
            <a:spLocks noGrp="1"/>
          </p:cNvSpPr>
          <p:nvPr>
            <p:ph/>
          </p:nvPr>
        </p:nvSpPr>
        <p:spPr>
          <a:xfrm>
            <a:off x="466956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3" name="PlaceHolder 4"/>
          <p:cNvSpPr>
            <a:spLocks noGrp="1"/>
          </p:cNvSpPr>
          <p:nvPr>
            <p:ph/>
          </p:nvPr>
        </p:nvSpPr>
        <p:spPr>
          <a:xfrm>
            <a:off x="22968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4" name="PlaceHolder 5"/>
          <p:cNvSpPr>
            <a:spLocks noGrp="1"/>
          </p:cNvSpPr>
          <p:nvPr>
            <p:ph/>
          </p:nvPr>
        </p:nvSpPr>
        <p:spPr>
          <a:xfrm>
            <a:off x="466956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6" name="PlaceHolder 2"/>
          <p:cNvSpPr>
            <a:spLocks noGrp="1"/>
          </p:cNvSpPr>
          <p:nvPr>
            <p:ph/>
          </p:nvPr>
        </p:nvSpPr>
        <p:spPr>
          <a:xfrm>
            <a:off x="229680" y="100980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7" name="PlaceHolder 3"/>
          <p:cNvSpPr>
            <a:spLocks noGrp="1"/>
          </p:cNvSpPr>
          <p:nvPr>
            <p:ph/>
          </p:nvPr>
        </p:nvSpPr>
        <p:spPr>
          <a:xfrm>
            <a:off x="3159720" y="100980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8" name="PlaceHolder 4"/>
          <p:cNvSpPr>
            <a:spLocks noGrp="1"/>
          </p:cNvSpPr>
          <p:nvPr>
            <p:ph/>
          </p:nvPr>
        </p:nvSpPr>
        <p:spPr>
          <a:xfrm>
            <a:off x="6089400" y="100980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39" name="PlaceHolder 5"/>
          <p:cNvSpPr>
            <a:spLocks noGrp="1"/>
          </p:cNvSpPr>
          <p:nvPr>
            <p:ph/>
          </p:nvPr>
        </p:nvSpPr>
        <p:spPr>
          <a:xfrm>
            <a:off x="229680" y="369396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0" name="PlaceHolder 6"/>
          <p:cNvSpPr>
            <a:spLocks noGrp="1"/>
          </p:cNvSpPr>
          <p:nvPr>
            <p:ph/>
          </p:nvPr>
        </p:nvSpPr>
        <p:spPr>
          <a:xfrm>
            <a:off x="3159720" y="369396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1" name="PlaceHolder 7"/>
          <p:cNvSpPr>
            <a:spLocks noGrp="1"/>
          </p:cNvSpPr>
          <p:nvPr>
            <p:ph/>
          </p:nvPr>
        </p:nvSpPr>
        <p:spPr>
          <a:xfrm>
            <a:off x="6089400" y="369396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7" name="PlaceHolder 2"/>
          <p:cNvSpPr>
            <a:spLocks noGrp="1"/>
          </p:cNvSpPr>
          <p:nvPr>
            <p:ph type="subTitle"/>
          </p:nvPr>
        </p:nvSpPr>
        <p:spPr>
          <a:xfrm>
            <a:off x="229680" y="1009800"/>
            <a:ext cx="8664840" cy="513864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49" name="PlaceHolder 2"/>
          <p:cNvSpPr>
            <a:spLocks noGrp="1"/>
          </p:cNvSpPr>
          <p:nvPr>
            <p:ph/>
          </p:nvPr>
        </p:nvSpPr>
        <p:spPr>
          <a:xfrm>
            <a:off x="229680" y="1009800"/>
            <a:ext cx="866484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1" name="PlaceHolder 2"/>
          <p:cNvSpPr>
            <a:spLocks noGrp="1"/>
          </p:cNvSpPr>
          <p:nvPr>
            <p:ph/>
          </p:nvPr>
        </p:nvSpPr>
        <p:spPr>
          <a:xfrm>
            <a:off x="22968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2" name="PlaceHolder 3"/>
          <p:cNvSpPr>
            <a:spLocks noGrp="1"/>
          </p:cNvSpPr>
          <p:nvPr>
            <p:ph/>
          </p:nvPr>
        </p:nvSpPr>
        <p:spPr>
          <a:xfrm>
            <a:off x="466956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9680" y="80640"/>
            <a:ext cx="8685360" cy="28263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6" name="PlaceHolder 2"/>
          <p:cNvSpPr>
            <a:spLocks noGrp="1"/>
          </p:cNvSpPr>
          <p:nvPr>
            <p:ph/>
          </p:nvPr>
        </p:nvSpPr>
        <p:spPr>
          <a:xfrm>
            <a:off x="22968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7" name="PlaceHolder 3"/>
          <p:cNvSpPr>
            <a:spLocks noGrp="1"/>
          </p:cNvSpPr>
          <p:nvPr>
            <p:ph/>
          </p:nvPr>
        </p:nvSpPr>
        <p:spPr>
          <a:xfrm>
            <a:off x="466956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58" name="PlaceHolder 4"/>
          <p:cNvSpPr>
            <a:spLocks noGrp="1"/>
          </p:cNvSpPr>
          <p:nvPr>
            <p:ph/>
          </p:nvPr>
        </p:nvSpPr>
        <p:spPr>
          <a:xfrm>
            <a:off x="22968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 name="PlaceHolder 2"/>
          <p:cNvSpPr>
            <a:spLocks noGrp="1"/>
          </p:cNvSpPr>
          <p:nvPr>
            <p:ph type="subTitle"/>
          </p:nvPr>
        </p:nvSpPr>
        <p:spPr>
          <a:xfrm>
            <a:off x="229680" y="1009800"/>
            <a:ext cx="8664840" cy="513864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0" name="PlaceHolder 2"/>
          <p:cNvSpPr>
            <a:spLocks noGrp="1"/>
          </p:cNvSpPr>
          <p:nvPr>
            <p:ph/>
          </p:nvPr>
        </p:nvSpPr>
        <p:spPr>
          <a:xfrm>
            <a:off x="22968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1" name="PlaceHolder 3"/>
          <p:cNvSpPr>
            <a:spLocks noGrp="1"/>
          </p:cNvSpPr>
          <p:nvPr>
            <p:ph/>
          </p:nvPr>
        </p:nvSpPr>
        <p:spPr>
          <a:xfrm>
            <a:off x="466956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2" name="PlaceHolder 4"/>
          <p:cNvSpPr>
            <a:spLocks noGrp="1"/>
          </p:cNvSpPr>
          <p:nvPr>
            <p:ph/>
          </p:nvPr>
        </p:nvSpPr>
        <p:spPr>
          <a:xfrm>
            <a:off x="466956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4" name="PlaceHolder 2"/>
          <p:cNvSpPr>
            <a:spLocks noGrp="1"/>
          </p:cNvSpPr>
          <p:nvPr>
            <p:ph/>
          </p:nvPr>
        </p:nvSpPr>
        <p:spPr>
          <a:xfrm>
            <a:off x="22968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5" name="PlaceHolder 3"/>
          <p:cNvSpPr>
            <a:spLocks noGrp="1"/>
          </p:cNvSpPr>
          <p:nvPr>
            <p:ph/>
          </p:nvPr>
        </p:nvSpPr>
        <p:spPr>
          <a:xfrm>
            <a:off x="466956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6" name="PlaceHolder 4"/>
          <p:cNvSpPr>
            <a:spLocks noGrp="1"/>
          </p:cNvSpPr>
          <p:nvPr>
            <p:ph/>
          </p:nvPr>
        </p:nvSpPr>
        <p:spPr>
          <a:xfrm>
            <a:off x="229680" y="3693960"/>
            <a:ext cx="866484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8" name="PlaceHolder 2"/>
          <p:cNvSpPr>
            <a:spLocks noGrp="1"/>
          </p:cNvSpPr>
          <p:nvPr>
            <p:ph/>
          </p:nvPr>
        </p:nvSpPr>
        <p:spPr>
          <a:xfrm>
            <a:off x="229680" y="1009800"/>
            <a:ext cx="866484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69" name="PlaceHolder 3"/>
          <p:cNvSpPr>
            <a:spLocks noGrp="1"/>
          </p:cNvSpPr>
          <p:nvPr>
            <p:ph/>
          </p:nvPr>
        </p:nvSpPr>
        <p:spPr>
          <a:xfrm>
            <a:off x="229680" y="3693960"/>
            <a:ext cx="866484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1" name="PlaceHolder 2"/>
          <p:cNvSpPr>
            <a:spLocks noGrp="1"/>
          </p:cNvSpPr>
          <p:nvPr>
            <p:ph/>
          </p:nvPr>
        </p:nvSpPr>
        <p:spPr>
          <a:xfrm>
            <a:off x="22968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2" name="PlaceHolder 3"/>
          <p:cNvSpPr>
            <a:spLocks noGrp="1"/>
          </p:cNvSpPr>
          <p:nvPr>
            <p:ph/>
          </p:nvPr>
        </p:nvSpPr>
        <p:spPr>
          <a:xfrm>
            <a:off x="466956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3" name="PlaceHolder 4"/>
          <p:cNvSpPr>
            <a:spLocks noGrp="1"/>
          </p:cNvSpPr>
          <p:nvPr>
            <p:ph/>
          </p:nvPr>
        </p:nvSpPr>
        <p:spPr>
          <a:xfrm>
            <a:off x="22968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4" name="PlaceHolder 5"/>
          <p:cNvSpPr>
            <a:spLocks noGrp="1"/>
          </p:cNvSpPr>
          <p:nvPr>
            <p:ph/>
          </p:nvPr>
        </p:nvSpPr>
        <p:spPr>
          <a:xfrm>
            <a:off x="466956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6" name="PlaceHolder 2"/>
          <p:cNvSpPr>
            <a:spLocks noGrp="1"/>
          </p:cNvSpPr>
          <p:nvPr>
            <p:ph/>
          </p:nvPr>
        </p:nvSpPr>
        <p:spPr>
          <a:xfrm>
            <a:off x="229680" y="100980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7" name="PlaceHolder 3"/>
          <p:cNvSpPr>
            <a:spLocks noGrp="1"/>
          </p:cNvSpPr>
          <p:nvPr>
            <p:ph/>
          </p:nvPr>
        </p:nvSpPr>
        <p:spPr>
          <a:xfrm>
            <a:off x="3159720" y="100980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8" name="PlaceHolder 4"/>
          <p:cNvSpPr>
            <a:spLocks noGrp="1"/>
          </p:cNvSpPr>
          <p:nvPr>
            <p:ph/>
          </p:nvPr>
        </p:nvSpPr>
        <p:spPr>
          <a:xfrm>
            <a:off x="6089400" y="100980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79" name="PlaceHolder 5"/>
          <p:cNvSpPr>
            <a:spLocks noGrp="1"/>
          </p:cNvSpPr>
          <p:nvPr>
            <p:ph/>
          </p:nvPr>
        </p:nvSpPr>
        <p:spPr>
          <a:xfrm>
            <a:off x="229680" y="369396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80" name="PlaceHolder 6"/>
          <p:cNvSpPr>
            <a:spLocks noGrp="1"/>
          </p:cNvSpPr>
          <p:nvPr>
            <p:ph/>
          </p:nvPr>
        </p:nvSpPr>
        <p:spPr>
          <a:xfrm>
            <a:off x="3159720" y="369396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81" name="PlaceHolder 7"/>
          <p:cNvSpPr>
            <a:spLocks noGrp="1"/>
          </p:cNvSpPr>
          <p:nvPr>
            <p:ph/>
          </p:nvPr>
        </p:nvSpPr>
        <p:spPr>
          <a:xfrm>
            <a:off x="6089400" y="3693960"/>
            <a:ext cx="27900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9" name="PlaceHolder 2"/>
          <p:cNvSpPr>
            <a:spLocks noGrp="1"/>
          </p:cNvSpPr>
          <p:nvPr>
            <p:ph/>
          </p:nvPr>
        </p:nvSpPr>
        <p:spPr>
          <a:xfrm>
            <a:off x="229680" y="1009800"/>
            <a:ext cx="866484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1" name="PlaceHolder 2"/>
          <p:cNvSpPr>
            <a:spLocks noGrp="1"/>
          </p:cNvSpPr>
          <p:nvPr>
            <p:ph/>
          </p:nvPr>
        </p:nvSpPr>
        <p:spPr>
          <a:xfrm>
            <a:off x="22968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2" name="PlaceHolder 3"/>
          <p:cNvSpPr>
            <a:spLocks noGrp="1"/>
          </p:cNvSpPr>
          <p:nvPr>
            <p:ph/>
          </p:nvPr>
        </p:nvSpPr>
        <p:spPr>
          <a:xfrm>
            <a:off x="466956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9680" y="80640"/>
            <a:ext cx="8685360" cy="28263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Myriad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6" name="PlaceHolder 2"/>
          <p:cNvSpPr>
            <a:spLocks noGrp="1"/>
          </p:cNvSpPr>
          <p:nvPr>
            <p:ph/>
          </p:nvPr>
        </p:nvSpPr>
        <p:spPr>
          <a:xfrm>
            <a:off x="22968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7" name="PlaceHolder 3"/>
          <p:cNvSpPr>
            <a:spLocks noGrp="1"/>
          </p:cNvSpPr>
          <p:nvPr>
            <p:ph/>
          </p:nvPr>
        </p:nvSpPr>
        <p:spPr>
          <a:xfrm>
            <a:off x="466956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18" name="PlaceHolder 4"/>
          <p:cNvSpPr>
            <a:spLocks noGrp="1"/>
          </p:cNvSpPr>
          <p:nvPr>
            <p:ph/>
          </p:nvPr>
        </p:nvSpPr>
        <p:spPr>
          <a:xfrm>
            <a:off x="22968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0" name="PlaceHolder 2"/>
          <p:cNvSpPr>
            <a:spLocks noGrp="1"/>
          </p:cNvSpPr>
          <p:nvPr>
            <p:ph/>
          </p:nvPr>
        </p:nvSpPr>
        <p:spPr>
          <a:xfrm>
            <a:off x="229680" y="1009800"/>
            <a:ext cx="4228200" cy="513864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1" name="PlaceHolder 3"/>
          <p:cNvSpPr>
            <a:spLocks noGrp="1"/>
          </p:cNvSpPr>
          <p:nvPr>
            <p:ph/>
          </p:nvPr>
        </p:nvSpPr>
        <p:spPr>
          <a:xfrm>
            <a:off x="466956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2" name="PlaceHolder 4"/>
          <p:cNvSpPr>
            <a:spLocks noGrp="1"/>
          </p:cNvSpPr>
          <p:nvPr>
            <p:ph/>
          </p:nvPr>
        </p:nvSpPr>
        <p:spPr>
          <a:xfrm>
            <a:off x="4669560" y="369396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4" name="PlaceHolder 2"/>
          <p:cNvSpPr>
            <a:spLocks noGrp="1"/>
          </p:cNvSpPr>
          <p:nvPr>
            <p:ph/>
          </p:nvPr>
        </p:nvSpPr>
        <p:spPr>
          <a:xfrm>
            <a:off x="22968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5" name="PlaceHolder 3"/>
          <p:cNvSpPr>
            <a:spLocks noGrp="1"/>
          </p:cNvSpPr>
          <p:nvPr>
            <p:ph/>
          </p:nvPr>
        </p:nvSpPr>
        <p:spPr>
          <a:xfrm>
            <a:off x="4669560" y="1009800"/>
            <a:ext cx="422820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
        <p:nvSpPr>
          <p:cNvPr id="26" name="PlaceHolder 4"/>
          <p:cNvSpPr>
            <a:spLocks noGrp="1"/>
          </p:cNvSpPr>
          <p:nvPr>
            <p:ph/>
          </p:nvPr>
        </p:nvSpPr>
        <p:spPr>
          <a:xfrm>
            <a:off x="229680" y="3693960"/>
            <a:ext cx="8664840" cy="2450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Myriad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34880"/>
            <a:ext cx="9144000" cy="642312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792000"/>
            <a:ext cx="914400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
          <p:cNvSpPr/>
          <p:nvPr/>
        </p:nvSpPr>
        <p:spPr>
          <a:xfrm>
            <a:off x="144360" y="6512040"/>
            <a:ext cx="3319560" cy="2070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90ECB100-6E8F-4419-8C80-72A0DBE68812}" type="slidenum">
              <a:rPr b="0" i="1"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523880" y="1397160"/>
            <a:ext cx="6096240" cy="40636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139680" y="80640"/>
            <a:ext cx="8685360" cy="60948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title text format</a:t>
            </a:r>
            <a:endParaRPr b="1" lang="en-US" sz="2800" spc="-1" strike="noStrike">
              <a:solidFill>
                <a:srgbClr val="000000"/>
              </a:solidFill>
              <a:latin typeface="Myriad Pro"/>
            </a:endParaRPr>
          </a:p>
        </p:txBody>
      </p:sp>
      <p:sp>
        <p:nvSpPr>
          <p:cNvPr id="5" name="PlaceHolder 2"/>
          <p:cNvSpPr>
            <a:spLocks noGrp="1"/>
          </p:cNvSpPr>
          <p:nvPr>
            <p:ph type="body"/>
          </p:nvPr>
        </p:nvSpPr>
        <p:spPr>
          <a:xfrm>
            <a:off x="229680" y="1009800"/>
            <a:ext cx="8664840" cy="5138640"/>
          </a:xfrm>
          <a:prstGeom prst="rect">
            <a:avLst/>
          </a:prstGeom>
          <a:noFill/>
          <a:ln w="0">
            <a:noFill/>
          </a:ln>
        </p:spPr>
        <p:txBody>
          <a:bodyPr lIns="90000" rIns="90000" tIns="46800" bIns="46800" anchor="t">
            <a:normAutofit/>
          </a:bodyPr>
          <a:p>
            <a:pPr marL="2286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outline text format</a:t>
            </a:r>
            <a:endParaRPr b="1" lang="en-US" sz="2800" spc="-1" strike="noStrike">
              <a:solidFill>
                <a:srgbClr val="000000"/>
              </a:solidFill>
              <a:latin typeface="Myriad Pro"/>
            </a:endParaRPr>
          </a:p>
          <a:p>
            <a:pPr lvl="1" marL="54936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cond Outline Level</a:t>
            </a:r>
            <a:endParaRPr b="1" lang="en-US" sz="2800" spc="-1" strike="noStrike">
              <a:solidFill>
                <a:srgbClr val="000000"/>
              </a:solidFill>
              <a:latin typeface="Myriad Pro"/>
            </a:endParaRPr>
          </a:p>
          <a:p>
            <a:pPr lvl="2" marL="9144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Third Outline Level</a:t>
            </a:r>
            <a:endParaRPr b="1" lang="en-US" sz="2800" spc="-1" strike="noStrike">
              <a:solidFill>
                <a:srgbClr val="000000"/>
              </a:solidFill>
              <a:latin typeface="Myriad Pro"/>
            </a:endParaRPr>
          </a:p>
          <a:p>
            <a:pPr lvl="3" marL="12366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ourth Outline Level</a:t>
            </a:r>
            <a:endParaRPr b="1" lang="en-US" sz="2800" spc="-1" strike="noStrike">
              <a:solidFill>
                <a:srgbClr val="000000"/>
              </a:solidFill>
              <a:latin typeface="Myriad Pro"/>
            </a:endParaRPr>
          </a:p>
          <a:p>
            <a:pPr lvl="4" marL="1573200" indent="-201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ifth Outline Level</a:t>
            </a:r>
            <a:endParaRPr b="1" lang="en-US" sz="2800" spc="-1" strike="noStrike">
              <a:solidFill>
                <a:srgbClr val="000000"/>
              </a:solidFill>
              <a:latin typeface="Myriad Pro"/>
            </a:endParaRPr>
          </a:p>
          <a:p>
            <a:pPr lvl="5" marL="1573200" indent="-20160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ixth Outline Level</a:t>
            </a:r>
            <a:endParaRPr b="1" lang="en-US" sz="2800" spc="-1" strike="noStrike">
              <a:solidFill>
                <a:srgbClr val="000000"/>
              </a:solidFill>
              <a:latin typeface="Myriad Pro"/>
            </a:endParaRPr>
          </a:p>
          <a:p>
            <a:pPr lvl="6" marL="1573200" indent="-20160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venth Outline Level</a:t>
            </a:r>
            <a:endParaRPr b="1" lang="en-US" sz="28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4751280"/>
            <a:ext cx="914400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43" name="" descr=""/>
          <p:cNvPicPr/>
          <p:nvPr/>
        </p:nvPicPr>
        <p:blipFill>
          <a:blip r:embed="rId2"/>
          <a:stretch/>
        </p:blipFill>
        <p:spPr>
          <a:xfrm>
            <a:off x="2146320" y="1849320"/>
            <a:ext cx="4856040" cy="1590840"/>
          </a:xfrm>
          <a:prstGeom prst="rect">
            <a:avLst/>
          </a:prstGeom>
          <a:ln w="0">
            <a:noFill/>
          </a:ln>
        </p:spPr>
      </p:pic>
      <p:sp>
        <p:nvSpPr>
          <p:cNvPr id="44" name="PlaceHolder 1"/>
          <p:cNvSpPr>
            <a:spLocks noGrp="1"/>
          </p:cNvSpPr>
          <p:nvPr>
            <p:ph type="title"/>
          </p:nvPr>
        </p:nvSpPr>
        <p:spPr>
          <a:xfrm>
            <a:off x="689040" y="5243040"/>
            <a:ext cx="7748640" cy="53820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title text format</a:t>
            </a:r>
            <a:endParaRPr b="1" lang="en-US" sz="2800" spc="-1" strike="noStrike">
              <a:solidFill>
                <a:srgbClr val="000000"/>
              </a:solidFill>
              <a:latin typeface="Myriad Pro"/>
            </a:endParaRPr>
          </a:p>
        </p:txBody>
      </p:sp>
      <p:sp>
        <p:nvSpPr>
          <p:cNvPr id="45" name="PlaceHolder 2"/>
          <p:cNvSpPr>
            <a:spLocks noGrp="1"/>
          </p:cNvSpPr>
          <p:nvPr>
            <p:ph type="body"/>
          </p:nvPr>
        </p:nvSpPr>
        <p:spPr>
          <a:xfrm>
            <a:off x="671400" y="1906200"/>
            <a:ext cx="7785360" cy="4295880"/>
          </a:xfrm>
          <a:prstGeom prst="rect">
            <a:avLst/>
          </a:prstGeom>
          <a:noFill/>
          <a:ln w="0">
            <a:noFill/>
          </a:ln>
        </p:spPr>
        <p:txBody>
          <a:bodyPr lIns="0" rIns="0" tIns="0" bIns="0" anchor="t">
            <a:normAutofit/>
          </a:bodyPr>
          <a:p>
            <a:pPr marL="2286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Click to edit the outline text format</a:t>
            </a:r>
            <a:endParaRPr b="1" lang="en-US" sz="2800" spc="-1" strike="noStrike">
              <a:solidFill>
                <a:srgbClr val="000000"/>
              </a:solidFill>
              <a:latin typeface="Myriad Pro"/>
            </a:endParaRPr>
          </a:p>
          <a:p>
            <a:pPr lvl="1" marL="54936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cond Outline Level</a:t>
            </a:r>
            <a:endParaRPr b="1" lang="en-US" sz="2800" spc="-1" strike="noStrike">
              <a:solidFill>
                <a:srgbClr val="000000"/>
              </a:solidFill>
              <a:latin typeface="Myriad Pro"/>
            </a:endParaRPr>
          </a:p>
          <a:p>
            <a:pPr lvl="2" marL="9144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Third Outline Level</a:t>
            </a:r>
            <a:endParaRPr b="1" lang="en-US" sz="2800" spc="-1" strike="noStrike">
              <a:solidFill>
                <a:srgbClr val="000000"/>
              </a:solidFill>
              <a:latin typeface="Myriad Pro"/>
            </a:endParaRPr>
          </a:p>
          <a:p>
            <a:pPr lvl="3" marL="1236600" indent="-228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ourth Outline Level</a:t>
            </a:r>
            <a:endParaRPr b="1" lang="en-US" sz="2800" spc="-1" strike="noStrike">
              <a:solidFill>
                <a:srgbClr val="000000"/>
              </a:solidFill>
              <a:latin typeface="Myriad Pro"/>
            </a:endParaRPr>
          </a:p>
          <a:p>
            <a:pPr lvl="4" marL="1573200" indent="-201600">
              <a:spcBef>
                <a:spcPts val="700"/>
              </a:spcBef>
              <a:buClr>
                <a:srgbClr val="ff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Fifth Outline Level</a:t>
            </a:r>
            <a:endParaRPr b="1" lang="en-US" sz="2800" spc="-1" strike="noStrike">
              <a:solidFill>
                <a:srgbClr val="000000"/>
              </a:solidFill>
              <a:latin typeface="Myriad Pro"/>
            </a:endParaRPr>
          </a:p>
          <a:p>
            <a:pPr lvl="5" marL="1573200" indent="-20160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ixth Outline Level</a:t>
            </a:r>
            <a:endParaRPr b="1" lang="en-US" sz="2800" spc="-1" strike="noStrike">
              <a:solidFill>
                <a:srgbClr val="000000"/>
              </a:solidFill>
              <a:latin typeface="Myriad Pro"/>
            </a:endParaRPr>
          </a:p>
          <a:p>
            <a:pPr lvl="6" marL="1573200" indent="-201600">
              <a:spcBef>
                <a:spcPts val="700"/>
              </a:spcBef>
              <a:buClr>
                <a:srgbClr val="000000"/>
              </a:buClr>
              <a:buSzPct val="125000"/>
              <a:buFont typeface="Myriad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Myriad Pro"/>
              </a:rPr>
              <a:t>Seventh Outline Level</a:t>
            </a:r>
            <a:endParaRPr b="1" lang="en-US" sz="2800" spc="-1" strike="noStrike">
              <a:solidFill>
                <a:srgbClr val="000000"/>
              </a:solidFill>
              <a:latin typeface="Myriad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9680" y="80640"/>
            <a:ext cx="8709120" cy="63324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Myriad Pro"/>
              </a:rPr>
              <a:t>test</a:t>
            </a:r>
            <a:endParaRPr b="1" lang="en-US" sz="2800" spc="-1" strike="noStrike">
              <a:solidFill>
                <a:srgbClr val="000000"/>
              </a:solidFill>
              <a:latin typeface="Myriad Pro"/>
            </a:endParaRPr>
          </a:p>
        </p:txBody>
      </p:sp>
      <p:grpSp>
        <p:nvGrpSpPr>
          <p:cNvPr id="101" name=""/>
          <p:cNvGrpSpPr/>
          <p:nvPr/>
        </p:nvGrpSpPr>
        <p:grpSpPr>
          <a:xfrm>
            <a:off x="2625120" y="1443960"/>
            <a:ext cx="2902680" cy="364320"/>
            <a:chOff x="2625120" y="1443960"/>
            <a:chExt cx="2902680" cy="364320"/>
          </a:xfrm>
        </p:grpSpPr>
        <p:sp>
          <p:nvSpPr>
            <p:cNvPr id="102" name=""/>
            <p:cNvSpPr/>
            <p:nvPr/>
          </p:nvSpPr>
          <p:spPr>
            <a:xfrm>
              <a:off x="2657520" y="1471680"/>
              <a:ext cx="2870280" cy="336600"/>
            </a:xfrm>
            <a:prstGeom prst="roundRect">
              <a:avLst>
                <a:gd name="adj" fmla="val 468"/>
              </a:avLst>
            </a:prstGeom>
            <a:gradFill rotWithShape="0">
              <a:gsLst>
                <a:gs pos="0">
                  <a:srgbClr val="ff0000"/>
                </a:gs>
                <a:gs pos="50000">
                  <a:srgbClr val="ffffff"/>
                </a:gs>
                <a:gs pos="100000">
                  <a:srgbClr val="ff00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2625120" y="1443960"/>
              <a:ext cx="2888280" cy="349920"/>
              <a:chOff x="2625120" y="1443960"/>
              <a:chExt cx="2888280" cy="349920"/>
            </a:xfrm>
          </p:grpSpPr>
          <p:sp>
            <p:nvSpPr>
              <p:cNvPr id="104" name=""/>
              <p:cNvSpPr/>
              <p:nvPr/>
            </p:nvSpPr>
            <p:spPr>
              <a:xfrm>
                <a:off x="2657520" y="1471680"/>
                <a:ext cx="2855880" cy="322200"/>
              </a:xfrm>
              <a:prstGeom prst="roundRect">
                <a:avLst>
                  <a:gd name="adj" fmla="val 49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2625120" y="1443960"/>
                <a:ext cx="2875680" cy="337320"/>
                <a:chOff x="2625120" y="1443960"/>
                <a:chExt cx="2875680" cy="337320"/>
              </a:xfrm>
            </p:grpSpPr>
            <p:sp>
              <p:nvSpPr>
                <p:cNvPr id="106" name=""/>
                <p:cNvSpPr/>
                <p:nvPr/>
              </p:nvSpPr>
              <p:spPr>
                <a:xfrm>
                  <a:off x="2657520" y="1471680"/>
                  <a:ext cx="2843280" cy="30960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2625120" y="1443960"/>
                  <a:ext cx="2864520" cy="326160"/>
                  <a:chOff x="2625120" y="1443960"/>
                  <a:chExt cx="2864520" cy="326160"/>
                </a:xfrm>
              </p:grpSpPr>
              <p:sp>
                <p:nvSpPr>
                  <p:cNvPr id="108" name=""/>
                  <p:cNvSpPr/>
                  <p:nvPr/>
                </p:nvSpPr>
                <p:spPr>
                  <a:xfrm>
                    <a:off x="2657520" y="1471680"/>
                    <a:ext cx="2832120" cy="2984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2625120" y="1443960"/>
                    <a:ext cx="2860560" cy="320760"/>
                    <a:chOff x="2625120" y="1443960"/>
                    <a:chExt cx="2860560" cy="320760"/>
                  </a:xfrm>
                </p:grpSpPr>
                <p:sp>
                  <p:nvSpPr>
                    <p:cNvPr id="110" name=""/>
                    <p:cNvSpPr/>
                    <p:nvPr/>
                  </p:nvSpPr>
                  <p:spPr>
                    <a:xfrm>
                      <a:off x="2657520" y="1471680"/>
                      <a:ext cx="282240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2625120" y="1443960"/>
                      <a:ext cx="2860560" cy="320760"/>
                      <a:chOff x="2625120" y="1443960"/>
                      <a:chExt cx="2860560" cy="320760"/>
                    </a:xfrm>
                  </p:grpSpPr>
                  <p:sp>
                    <p:nvSpPr>
                      <p:cNvPr id="112" name=""/>
                      <p:cNvSpPr/>
                      <p:nvPr/>
                    </p:nvSpPr>
                    <p:spPr>
                      <a:xfrm>
                        <a:off x="2657520" y="1471680"/>
                        <a:ext cx="2814480" cy="28404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2625120" y="1443960"/>
                        <a:ext cx="2860560" cy="320760"/>
                        <a:chOff x="2625120" y="1443960"/>
                        <a:chExt cx="2860560" cy="320760"/>
                      </a:xfrm>
                    </p:grpSpPr>
                    <p:sp>
                      <p:nvSpPr>
                        <p:cNvPr id="114" name=""/>
                        <p:cNvSpPr/>
                        <p:nvPr/>
                      </p:nvSpPr>
                      <p:spPr>
                        <a:xfrm>
                          <a:off x="2657520" y="1471680"/>
                          <a:ext cx="2809800" cy="2779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2625120" y="1443960"/>
                          <a:ext cx="2860560" cy="320760"/>
                          <a:chOff x="2625120" y="1443960"/>
                          <a:chExt cx="2860560" cy="320760"/>
                        </a:xfrm>
                      </p:grpSpPr>
                      <p:sp>
                        <p:nvSpPr>
                          <p:cNvPr id="116" name=""/>
                          <p:cNvSpPr/>
                          <p:nvPr/>
                        </p:nvSpPr>
                        <p:spPr>
                          <a:xfrm>
                            <a:off x="2657520" y="1471680"/>
                            <a:ext cx="2803320" cy="2714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2625120" y="1443960"/>
                            <a:ext cx="2860560" cy="320760"/>
                            <a:chOff x="2625120" y="1443960"/>
                            <a:chExt cx="2860560" cy="320760"/>
                          </a:xfrm>
                        </p:grpSpPr>
                        <p:sp>
                          <p:nvSpPr>
                            <p:cNvPr id="118" name=""/>
                            <p:cNvSpPr/>
                            <p:nvPr/>
                          </p:nvSpPr>
                          <p:spPr>
                            <a:xfrm>
                              <a:off x="2657520" y="1471680"/>
                              <a:ext cx="2798640" cy="26820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2625120" y="1443960"/>
                              <a:ext cx="2860560" cy="320760"/>
                              <a:chOff x="2625120" y="1443960"/>
                              <a:chExt cx="2860560" cy="320760"/>
                            </a:xfrm>
                          </p:grpSpPr>
                          <p:sp>
                            <p:nvSpPr>
                              <p:cNvPr id="120" name=""/>
                              <p:cNvSpPr/>
                              <p:nvPr/>
                            </p:nvSpPr>
                            <p:spPr>
                              <a:xfrm>
                                <a:off x="2657520" y="1471680"/>
                                <a:ext cx="279540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2625120" y="1443960"/>
                                <a:ext cx="2860560" cy="320760"/>
                                <a:chOff x="2625120" y="1443960"/>
                                <a:chExt cx="2860560" cy="320760"/>
                              </a:xfrm>
                            </p:grpSpPr>
                            <p:sp>
                              <p:nvSpPr>
                                <p:cNvPr id="122" name=""/>
                                <p:cNvSpPr/>
                                <p:nvPr/>
                              </p:nvSpPr>
                              <p:spPr>
                                <a:xfrm>
                                  <a:off x="2657520" y="1471680"/>
                                  <a:ext cx="2795400" cy="26496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625120" y="1443960"/>
                                  <a:ext cx="2860560" cy="320760"/>
                                </a:xfrm>
                                <a:prstGeom prst="roundRect">
                                  <a:avLst>
                                    <a:gd name="adj" fmla="val 602"/>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Black Box  Design Planning</a:t>
                                  </a:r>
                                  <a:endParaRPr b="0" lang="en-US" sz="1600" spc="-1" strike="noStrike">
                                    <a:solidFill>
                                      <a:srgbClr val="000000"/>
                                    </a:solidFill>
                                    <a:latin typeface="Times New Roman"/>
                                  </a:endParaRPr>
                                </a:p>
                              </p:txBody>
                            </p:sp>
                          </p:grpSp>
                        </p:grpSp>
                      </p:grpSp>
                    </p:grpSp>
                  </p:grpSp>
                </p:grpSp>
              </p:grpSp>
            </p:grpSp>
          </p:grpSp>
        </p:grpSp>
      </p:grpSp>
      <p:grpSp>
        <p:nvGrpSpPr>
          <p:cNvPr id="124" name=""/>
          <p:cNvGrpSpPr/>
          <p:nvPr/>
        </p:nvGrpSpPr>
        <p:grpSpPr>
          <a:xfrm>
            <a:off x="2674440" y="2382840"/>
            <a:ext cx="2800800" cy="365040"/>
            <a:chOff x="2674440" y="2382840"/>
            <a:chExt cx="2800800" cy="365040"/>
          </a:xfrm>
        </p:grpSpPr>
        <p:sp>
          <p:nvSpPr>
            <p:cNvPr id="125" name=""/>
            <p:cNvSpPr/>
            <p:nvPr/>
          </p:nvSpPr>
          <p:spPr>
            <a:xfrm>
              <a:off x="2706840" y="2411280"/>
              <a:ext cx="2768400" cy="336600"/>
            </a:xfrm>
            <a:prstGeom prst="roundRect">
              <a:avLst>
                <a:gd name="adj" fmla="val 468"/>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2674440" y="2382840"/>
              <a:ext cx="2786400" cy="352440"/>
              <a:chOff x="2674440" y="2382840"/>
              <a:chExt cx="2786400" cy="352440"/>
            </a:xfrm>
          </p:grpSpPr>
          <p:sp>
            <p:nvSpPr>
              <p:cNvPr id="127" name=""/>
              <p:cNvSpPr/>
              <p:nvPr/>
            </p:nvSpPr>
            <p:spPr>
              <a:xfrm>
                <a:off x="2706840" y="2411280"/>
                <a:ext cx="2754000" cy="324000"/>
              </a:xfrm>
              <a:prstGeom prst="roundRect">
                <a:avLst>
                  <a:gd name="adj" fmla="val 4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2674440" y="2382840"/>
                <a:ext cx="2773800" cy="341280"/>
                <a:chOff x="2674440" y="2382840"/>
                <a:chExt cx="2773800" cy="341280"/>
              </a:xfrm>
            </p:grpSpPr>
            <p:sp>
              <p:nvSpPr>
                <p:cNvPr id="129" name=""/>
                <p:cNvSpPr/>
                <p:nvPr/>
              </p:nvSpPr>
              <p:spPr>
                <a:xfrm>
                  <a:off x="2706840" y="2411280"/>
                  <a:ext cx="2741400" cy="312840"/>
                </a:xfrm>
                <a:prstGeom prst="roundRect">
                  <a:avLst>
                    <a:gd name="adj" fmla="val 50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2674440" y="2382840"/>
                  <a:ext cx="2762640" cy="328680"/>
                  <a:chOff x="2674440" y="2382840"/>
                  <a:chExt cx="2762640" cy="328680"/>
                </a:xfrm>
              </p:grpSpPr>
              <p:sp>
                <p:nvSpPr>
                  <p:cNvPr id="131" name=""/>
                  <p:cNvSpPr/>
                  <p:nvPr/>
                </p:nvSpPr>
                <p:spPr>
                  <a:xfrm>
                    <a:off x="2706840" y="2411280"/>
                    <a:ext cx="2730240" cy="3002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2674440" y="2382840"/>
                    <a:ext cx="2758680" cy="320760"/>
                    <a:chOff x="2674440" y="2382840"/>
                    <a:chExt cx="2758680" cy="320760"/>
                  </a:xfrm>
                </p:grpSpPr>
                <p:sp>
                  <p:nvSpPr>
                    <p:cNvPr id="133" name=""/>
                    <p:cNvSpPr/>
                    <p:nvPr/>
                  </p:nvSpPr>
                  <p:spPr>
                    <a:xfrm>
                      <a:off x="2706840" y="2411280"/>
                      <a:ext cx="271908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2674440" y="2382840"/>
                      <a:ext cx="2758680" cy="320760"/>
                      <a:chOff x="2674440" y="2382840"/>
                      <a:chExt cx="2758680" cy="320760"/>
                    </a:xfrm>
                  </p:grpSpPr>
                  <p:sp>
                    <p:nvSpPr>
                      <p:cNvPr id="135" name=""/>
                      <p:cNvSpPr/>
                      <p:nvPr/>
                    </p:nvSpPr>
                    <p:spPr>
                      <a:xfrm>
                        <a:off x="2706840" y="2411280"/>
                        <a:ext cx="271116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 name=""/>
                      <p:cNvGrpSpPr/>
                      <p:nvPr/>
                    </p:nvGrpSpPr>
                    <p:grpSpPr>
                      <a:xfrm>
                        <a:off x="2674440" y="2382840"/>
                        <a:ext cx="2758680" cy="320760"/>
                        <a:chOff x="2674440" y="2382840"/>
                        <a:chExt cx="2758680" cy="320760"/>
                      </a:xfrm>
                    </p:grpSpPr>
                    <p:sp>
                      <p:nvSpPr>
                        <p:cNvPr id="137" name=""/>
                        <p:cNvSpPr/>
                        <p:nvPr/>
                      </p:nvSpPr>
                      <p:spPr>
                        <a:xfrm>
                          <a:off x="2706840" y="2411280"/>
                          <a:ext cx="2705040" cy="2779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2674440" y="2382840"/>
                          <a:ext cx="2758680" cy="320760"/>
                          <a:chOff x="2674440" y="2382840"/>
                          <a:chExt cx="2758680" cy="320760"/>
                        </a:xfrm>
                      </p:grpSpPr>
                      <p:sp>
                        <p:nvSpPr>
                          <p:cNvPr id="139" name=""/>
                          <p:cNvSpPr/>
                          <p:nvPr/>
                        </p:nvSpPr>
                        <p:spPr>
                          <a:xfrm>
                            <a:off x="2706840" y="2411280"/>
                            <a:ext cx="2700360" cy="27324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 name=""/>
                          <p:cNvGrpSpPr/>
                          <p:nvPr/>
                        </p:nvGrpSpPr>
                        <p:grpSpPr>
                          <a:xfrm>
                            <a:off x="2674440" y="2382840"/>
                            <a:ext cx="2758680" cy="320760"/>
                            <a:chOff x="2674440" y="2382840"/>
                            <a:chExt cx="2758680" cy="320760"/>
                          </a:xfrm>
                        </p:grpSpPr>
                        <p:sp>
                          <p:nvSpPr>
                            <p:cNvPr id="141" name=""/>
                            <p:cNvSpPr/>
                            <p:nvPr/>
                          </p:nvSpPr>
                          <p:spPr>
                            <a:xfrm>
                              <a:off x="2706840" y="2411280"/>
                              <a:ext cx="2695320" cy="27000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2674440" y="2382840"/>
                              <a:ext cx="2758680" cy="320760"/>
                              <a:chOff x="2674440" y="2382840"/>
                              <a:chExt cx="2758680" cy="320760"/>
                            </a:xfrm>
                          </p:grpSpPr>
                          <p:sp>
                            <p:nvSpPr>
                              <p:cNvPr id="143" name=""/>
                              <p:cNvSpPr/>
                              <p:nvPr/>
                            </p:nvSpPr>
                            <p:spPr>
                              <a:xfrm>
                                <a:off x="2706840" y="2411280"/>
                                <a:ext cx="269388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2674440" y="2382840"/>
                                <a:ext cx="2758680" cy="320760"/>
                                <a:chOff x="2674440" y="2382840"/>
                                <a:chExt cx="2758680" cy="320760"/>
                              </a:xfrm>
                            </p:grpSpPr>
                            <p:sp>
                              <p:nvSpPr>
                                <p:cNvPr id="145" name=""/>
                                <p:cNvSpPr/>
                                <p:nvPr/>
                              </p:nvSpPr>
                              <p:spPr>
                                <a:xfrm>
                                  <a:off x="2706840" y="2411280"/>
                                  <a:ext cx="2693880" cy="26532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674440" y="2382840"/>
                                  <a:ext cx="2758680" cy="320760"/>
                                </a:xfrm>
                                <a:prstGeom prst="roundRect">
                                  <a:avLst>
                                    <a:gd name="adj" fmla="val 602"/>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Gain Based RTL Synthesis</a:t>
                                  </a:r>
                                  <a:endParaRPr b="0" lang="en-US" sz="1600" spc="-1" strike="noStrike">
                                    <a:solidFill>
                                      <a:srgbClr val="000000"/>
                                    </a:solidFill>
                                    <a:latin typeface="Times New Roman"/>
                                  </a:endParaRPr>
                                </a:p>
                              </p:txBody>
                            </p:sp>
                          </p:grpSp>
                        </p:grpSp>
                      </p:grpSp>
                    </p:grpSp>
                  </p:grpSp>
                </p:grpSp>
              </p:grpSp>
            </p:grpSp>
          </p:grpSp>
        </p:grpSp>
      </p:grpSp>
      <p:grpSp>
        <p:nvGrpSpPr>
          <p:cNvPr id="147" name=""/>
          <p:cNvGrpSpPr/>
          <p:nvPr/>
        </p:nvGrpSpPr>
        <p:grpSpPr>
          <a:xfrm>
            <a:off x="2377080" y="3332160"/>
            <a:ext cx="3418920" cy="365040"/>
            <a:chOff x="2377080" y="3332160"/>
            <a:chExt cx="3418920" cy="365040"/>
          </a:xfrm>
        </p:grpSpPr>
        <p:sp>
          <p:nvSpPr>
            <p:cNvPr id="148" name=""/>
            <p:cNvSpPr/>
            <p:nvPr/>
          </p:nvSpPr>
          <p:spPr>
            <a:xfrm>
              <a:off x="2406600" y="3360600"/>
              <a:ext cx="3389400" cy="336600"/>
            </a:xfrm>
            <a:prstGeom prst="roundRect">
              <a:avLst>
                <a:gd name="adj" fmla="val 468"/>
              </a:avLst>
            </a:prstGeom>
            <a:gradFill rotWithShape="0">
              <a:gsLst>
                <a:gs pos="0">
                  <a:srgbClr val="ff0000"/>
                </a:gs>
                <a:gs pos="50000">
                  <a:srgbClr val="ffffff"/>
                </a:gs>
                <a:gs pos="100000">
                  <a:srgbClr val="ff00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2377080" y="3332160"/>
              <a:ext cx="3404520" cy="352440"/>
              <a:chOff x="2377080" y="3332160"/>
              <a:chExt cx="3404520" cy="352440"/>
            </a:xfrm>
          </p:grpSpPr>
          <p:sp>
            <p:nvSpPr>
              <p:cNvPr id="150" name=""/>
              <p:cNvSpPr/>
              <p:nvPr/>
            </p:nvSpPr>
            <p:spPr>
              <a:xfrm>
                <a:off x="2406600" y="3360600"/>
                <a:ext cx="3375000" cy="324000"/>
              </a:xfrm>
              <a:prstGeom prst="roundRect">
                <a:avLst>
                  <a:gd name="adj" fmla="val 4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2377080" y="3332160"/>
                <a:ext cx="3393360" cy="341280"/>
                <a:chOff x="2377080" y="3332160"/>
                <a:chExt cx="3393360" cy="341280"/>
              </a:xfrm>
            </p:grpSpPr>
            <p:sp>
              <p:nvSpPr>
                <p:cNvPr id="152" name=""/>
                <p:cNvSpPr/>
                <p:nvPr/>
              </p:nvSpPr>
              <p:spPr>
                <a:xfrm>
                  <a:off x="2406600" y="3360600"/>
                  <a:ext cx="3363840" cy="312840"/>
                </a:xfrm>
                <a:prstGeom prst="roundRect">
                  <a:avLst>
                    <a:gd name="adj" fmla="val 50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2377080" y="3332160"/>
                  <a:ext cx="3382200" cy="328680"/>
                  <a:chOff x="2377080" y="3332160"/>
                  <a:chExt cx="3382200" cy="328680"/>
                </a:xfrm>
              </p:grpSpPr>
              <p:sp>
                <p:nvSpPr>
                  <p:cNvPr id="154" name=""/>
                  <p:cNvSpPr/>
                  <p:nvPr/>
                </p:nvSpPr>
                <p:spPr>
                  <a:xfrm>
                    <a:off x="2406600" y="3360600"/>
                    <a:ext cx="3352680" cy="3002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2377080" y="3332160"/>
                    <a:ext cx="3375720" cy="320760"/>
                    <a:chOff x="2377080" y="3332160"/>
                    <a:chExt cx="3375720" cy="320760"/>
                  </a:xfrm>
                </p:grpSpPr>
                <p:sp>
                  <p:nvSpPr>
                    <p:cNvPr id="156" name=""/>
                    <p:cNvSpPr/>
                    <p:nvPr/>
                  </p:nvSpPr>
                  <p:spPr>
                    <a:xfrm>
                      <a:off x="2406600" y="3360600"/>
                      <a:ext cx="334332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2377080" y="3332160"/>
                      <a:ext cx="3375720" cy="320760"/>
                      <a:chOff x="2377080" y="3332160"/>
                      <a:chExt cx="3375720" cy="320760"/>
                    </a:xfrm>
                  </p:grpSpPr>
                  <p:sp>
                    <p:nvSpPr>
                      <p:cNvPr id="158" name=""/>
                      <p:cNvSpPr/>
                      <p:nvPr/>
                    </p:nvSpPr>
                    <p:spPr>
                      <a:xfrm>
                        <a:off x="2406600" y="3360600"/>
                        <a:ext cx="333684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2377080" y="3332160"/>
                        <a:ext cx="3375720" cy="320760"/>
                        <a:chOff x="2377080" y="3332160"/>
                        <a:chExt cx="3375720" cy="320760"/>
                      </a:xfrm>
                    </p:grpSpPr>
                    <p:sp>
                      <p:nvSpPr>
                        <p:cNvPr id="160" name=""/>
                        <p:cNvSpPr/>
                        <p:nvPr/>
                      </p:nvSpPr>
                      <p:spPr>
                        <a:xfrm>
                          <a:off x="2406600" y="3360600"/>
                          <a:ext cx="3330720" cy="2779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377080" y="3332160"/>
                          <a:ext cx="3375720" cy="320760"/>
                          <a:chOff x="2377080" y="3332160"/>
                          <a:chExt cx="3375720" cy="320760"/>
                        </a:xfrm>
                      </p:grpSpPr>
                      <p:sp>
                        <p:nvSpPr>
                          <p:cNvPr id="162" name=""/>
                          <p:cNvSpPr/>
                          <p:nvPr/>
                        </p:nvSpPr>
                        <p:spPr>
                          <a:xfrm>
                            <a:off x="2406600" y="3360600"/>
                            <a:ext cx="3326040" cy="27324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2377080" y="3332160"/>
                            <a:ext cx="3375720" cy="320760"/>
                            <a:chOff x="2377080" y="3332160"/>
                            <a:chExt cx="3375720" cy="320760"/>
                          </a:xfrm>
                        </p:grpSpPr>
                        <p:sp>
                          <p:nvSpPr>
                            <p:cNvPr id="164" name=""/>
                            <p:cNvSpPr/>
                            <p:nvPr/>
                          </p:nvSpPr>
                          <p:spPr>
                            <a:xfrm>
                              <a:off x="2406600" y="3360600"/>
                              <a:ext cx="3321000" cy="27000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2377080" y="3332160"/>
                              <a:ext cx="3375720" cy="320760"/>
                              <a:chOff x="2377080" y="3332160"/>
                              <a:chExt cx="3375720" cy="320760"/>
                            </a:xfrm>
                          </p:grpSpPr>
                          <p:sp>
                            <p:nvSpPr>
                              <p:cNvPr id="166" name=""/>
                              <p:cNvSpPr/>
                              <p:nvPr/>
                            </p:nvSpPr>
                            <p:spPr>
                              <a:xfrm>
                                <a:off x="2406600" y="3360600"/>
                                <a:ext cx="331776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2377080" y="3332160"/>
                                <a:ext cx="3375720" cy="320760"/>
                                <a:chOff x="2377080" y="3332160"/>
                                <a:chExt cx="3375720" cy="320760"/>
                              </a:xfrm>
                            </p:grpSpPr>
                            <p:sp>
                              <p:nvSpPr>
                                <p:cNvPr id="168" name=""/>
                                <p:cNvSpPr/>
                                <p:nvPr/>
                              </p:nvSpPr>
                              <p:spPr>
                                <a:xfrm>
                                  <a:off x="2406600" y="3360600"/>
                                  <a:ext cx="3316320" cy="26532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377080" y="3332160"/>
                                  <a:ext cx="3375720" cy="320760"/>
                                </a:xfrm>
                                <a:prstGeom prst="roundRect">
                                  <a:avLst>
                                    <a:gd name="adj" fmla="val 602"/>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Design Planning and Prototyping</a:t>
                                  </a:r>
                                  <a:endParaRPr b="0" lang="en-US" sz="1600" spc="-1" strike="noStrike">
                                    <a:solidFill>
                                      <a:srgbClr val="000000"/>
                                    </a:solidFill>
                                    <a:latin typeface="Times New Roman"/>
                                  </a:endParaRPr>
                                </a:p>
                              </p:txBody>
                            </p:sp>
                          </p:grpSp>
                        </p:grpSp>
                      </p:grpSp>
                    </p:grpSp>
                  </p:grpSp>
                </p:grpSp>
              </p:grpSp>
            </p:grpSp>
          </p:grpSp>
        </p:grpSp>
      </p:grpSp>
      <p:grpSp>
        <p:nvGrpSpPr>
          <p:cNvPr id="170" name=""/>
          <p:cNvGrpSpPr/>
          <p:nvPr/>
        </p:nvGrpSpPr>
        <p:grpSpPr>
          <a:xfrm>
            <a:off x="2924280" y="4278600"/>
            <a:ext cx="2327040" cy="364680"/>
            <a:chOff x="2924280" y="4278600"/>
            <a:chExt cx="2327040" cy="364680"/>
          </a:xfrm>
        </p:grpSpPr>
        <p:sp>
          <p:nvSpPr>
            <p:cNvPr id="171" name=""/>
            <p:cNvSpPr/>
            <p:nvPr/>
          </p:nvSpPr>
          <p:spPr>
            <a:xfrm>
              <a:off x="2954160" y="4307040"/>
              <a:ext cx="2297160" cy="336240"/>
            </a:xfrm>
            <a:prstGeom prst="roundRect">
              <a:avLst>
                <a:gd name="adj" fmla="val 468"/>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2924280" y="4278600"/>
              <a:ext cx="2314440" cy="350640"/>
              <a:chOff x="2924280" y="4278600"/>
              <a:chExt cx="2314440" cy="350640"/>
            </a:xfrm>
          </p:grpSpPr>
          <p:sp>
            <p:nvSpPr>
              <p:cNvPr id="173" name=""/>
              <p:cNvSpPr/>
              <p:nvPr/>
            </p:nvSpPr>
            <p:spPr>
              <a:xfrm>
                <a:off x="2954160" y="4307040"/>
                <a:ext cx="2284560" cy="322200"/>
              </a:xfrm>
              <a:prstGeom prst="roundRect">
                <a:avLst>
                  <a:gd name="adj" fmla="val 49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2924280" y="4278600"/>
                <a:ext cx="2305080" cy="337680"/>
                <a:chOff x="2924280" y="4278600"/>
                <a:chExt cx="2305080" cy="337680"/>
              </a:xfrm>
            </p:grpSpPr>
            <p:sp>
              <p:nvSpPr>
                <p:cNvPr id="175" name=""/>
                <p:cNvSpPr/>
                <p:nvPr/>
              </p:nvSpPr>
              <p:spPr>
                <a:xfrm>
                  <a:off x="2954160" y="4307040"/>
                  <a:ext cx="2275200" cy="30924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2924280" y="4278600"/>
                  <a:ext cx="2292120" cy="326880"/>
                  <a:chOff x="2924280" y="4278600"/>
                  <a:chExt cx="2292120" cy="326880"/>
                </a:xfrm>
              </p:grpSpPr>
              <p:sp>
                <p:nvSpPr>
                  <p:cNvPr id="177" name=""/>
                  <p:cNvSpPr/>
                  <p:nvPr/>
                </p:nvSpPr>
                <p:spPr>
                  <a:xfrm>
                    <a:off x="2954160" y="4307040"/>
                    <a:ext cx="2262240" cy="2984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2924280" y="4278600"/>
                    <a:ext cx="2284560" cy="320760"/>
                    <a:chOff x="2924280" y="4278600"/>
                    <a:chExt cx="2284560" cy="320760"/>
                  </a:xfrm>
                </p:grpSpPr>
                <p:sp>
                  <p:nvSpPr>
                    <p:cNvPr id="179" name=""/>
                    <p:cNvSpPr/>
                    <p:nvPr/>
                  </p:nvSpPr>
                  <p:spPr>
                    <a:xfrm>
                      <a:off x="2954160" y="4307040"/>
                      <a:ext cx="225288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2924280" y="4278600"/>
                      <a:ext cx="2284560" cy="320760"/>
                      <a:chOff x="2924280" y="4278600"/>
                      <a:chExt cx="2284560" cy="320760"/>
                    </a:xfrm>
                  </p:grpSpPr>
                  <p:sp>
                    <p:nvSpPr>
                      <p:cNvPr id="181" name=""/>
                      <p:cNvSpPr/>
                      <p:nvPr/>
                    </p:nvSpPr>
                    <p:spPr>
                      <a:xfrm>
                        <a:off x="2954160" y="4307040"/>
                        <a:ext cx="224496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2924280" y="4278600"/>
                        <a:ext cx="2284560" cy="320760"/>
                        <a:chOff x="2924280" y="4278600"/>
                        <a:chExt cx="2284560" cy="320760"/>
                      </a:xfrm>
                    </p:grpSpPr>
                    <p:sp>
                      <p:nvSpPr>
                        <p:cNvPr id="183" name=""/>
                        <p:cNvSpPr/>
                        <p:nvPr/>
                      </p:nvSpPr>
                      <p:spPr>
                        <a:xfrm>
                          <a:off x="2954160" y="4307040"/>
                          <a:ext cx="2237040" cy="2761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2924280" y="4278600"/>
                          <a:ext cx="2284560" cy="320760"/>
                          <a:chOff x="2924280" y="4278600"/>
                          <a:chExt cx="2284560" cy="320760"/>
                        </a:xfrm>
                      </p:grpSpPr>
                      <p:sp>
                        <p:nvSpPr>
                          <p:cNvPr id="185" name=""/>
                          <p:cNvSpPr/>
                          <p:nvPr/>
                        </p:nvSpPr>
                        <p:spPr>
                          <a:xfrm>
                            <a:off x="2954160" y="4307040"/>
                            <a:ext cx="2229120" cy="2714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2924280" y="4278600"/>
                            <a:ext cx="2284560" cy="320760"/>
                            <a:chOff x="2924280" y="4278600"/>
                            <a:chExt cx="2284560" cy="320760"/>
                          </a:xfrm>
                        </p:grpSpPr>
                        <p:sp>
                          <p:nvSpPr>
                            <p:cNvPr id="187" name=""/>
                            <p:cNvSpPr/>
                            <p:nvPr/>
                          </p:nvSpPr>
                          <p:spPr>
                            <a:xfrm>
                              <a:off x="2954160" y="4307040"/>
                              <a:ext cx="2225880" cy="26640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2924280" y="4278600"/>
                              <a:ext cx="2284560" cy="320760"/>
                              <a:chOff x="2924280" y="4278600"/>
                              <a:chExt cx="2284560" cy="320760"/>
                            </a:xfrm>
                          </p:grpSpPr>
                          <p:sp>
                            <p:nvSpPr>
                              <p:cNvPr id="189" name=""/>
                              <p:cNvSpPr/>
                              <p:nvPr/>
                            </p:nvSpPr>
                            <p:spPr>
                              <a:xfrm>
                                <a:off x="2954160" y="4307040"/>
                                <a:ext cx="2224440" cy="26640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 name=""/>
                              <p:cNvGrpSpPr/>
                              <p:nvPr/>
                            </p:nvGrpSpPr>
                            <p:grpSpPr>
                              <a:xfrm>
                                <a:off x="2924280" y="4278600"/>
                                <a:ext cx="2284560" cy="320760"/>
                                <a:chOff x="2924280" y="4278600"/>
                                <a:chExt cx="2284560" cy="320760"/>
                              </a:xfrm>
                            </p:grpSpPr>
                            <p:sp>
                              <p:nvSpPr>
                                <p:cNvPr id="191" name=""/>
                                <p:cNvSpPr/>
                                <p:nvPr/>
                              </p:nvSpPr>
                              <p:spPr>
                                <a:xfrm>
                                  <a:off x="2954160" y="4307040"/>
                                  <a:ext cx="2224440" cy="26496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24280" y="4278600"/>
                                  <a:ext cx="2284560" cy="320760"/>
                                </a:xfrm>
                                <a:prstGeom prst="roundRect">
                                  <a:avLst>
                                    <a:gd name="adj" fmla="val 602"/>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Block Implementation</a:t>
                                  </a:r>
                                  <a:endParaRPr b="0" lang="en-US" sz="1600" spc="-1" strike="noStrike">
                                    <a:solidFill>
                                      <a:srgbClr val="000000"/>
                                    </a:solidFill>
                                    <a:latin typeface="Times New Roman"/>
                                  </a:endParaRPr>
                                </a:p>
                              </p:txBody>
                            </p:sp>
                          </p:grpSp>
                        </p:grpSp>
                      </p:grpSp>
                    </p:grpSp>
                  </p:grpSp>
                </p:grpSp>
              </p:grpSp>
            </p:grpSp>
          </p:grpSp>
        </p:grpSp>
      </p:grpSp>
      <p:sp>
        <p:nvSpPr>
          <p:cNvPr id="193" name=""/>
          <p:cNvSpPr/>
          <p:nvPr/>
        </p:nvSpPr>
        <p:spPr>
          <a:xfrm>
            <a:off x="2108160" y="2216160"/>
            <a:ext cx="380880" cy="992160"/>
          </a:xfrm>
          <a:custGeom>
            <a:avLst/>
            <a:gdLst/>
            <a:ahLst/>
            <a:rect l="l" t="t" r="r" b="b"/>
            <a:pathLst>
              <a:path w="1059" h="2756">
                <a:moveTo>
                  <a:pt x="0" y="0"/>
                </a:moveTo>
                <a:cubicBezTo>
                  <a:pt x="263" y="0"/>
                  <a:pt x="528" y="114"/>
                  <a:pt x="528" y="229"/>
                </a:cubicBezTo>
                <a:lnTo>
                  <a:pt x="528" y="1148"/>
                </a:lnTo>
                <a:cubicBezTo>
                  <a:pt x="528" y="1262"/>
                  <a:pt x="793" y="1377"/>
                  <a:pt x="1058" y="1377"/>
                </a:cubicBezTo>
                <a:cubicBezTo>
                  <a:pt x="793" y="1377"/>
                  <a:pt x="528" y="1492"/>
                  <a:pt x="528" y="1606"/>
                </a:cubicBezTo>
                <a:lnTo>
                  <a:pt x="528" y="2525"/>
                </a:lnTo>
                <a:cubicBezTo>
                  <a:pt x="528" y="2640"/>
                  <a:pt x="263" y="2755"/>
                  <a:pt x="0" y="275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227320" y="4370400"/>
            <a:ext cx="380880" cy="663480"/>
          </a:xfrm>
          <a:custGeom>
            <a:avLst/>
            <a:gdLst/>
            <a:ahLst/>
            <a:rect l="l" t="t" r="r" b="b"/>
            <a:pathLst>
              <a:path w="1059" h="1844">
                <a:moveTo>
                  <a:pt x="0" y="0"/>
                </a:moveTo>
                <a:cubicBezTo>
                  <a:pt x="263" y="0"/>
                  <a:pt x="528" y="75"/>
                  <a:pt x="528" y="152"/>
                </a:cubicBezTo>
                <a:lnTo>
                  <a:pt x="528" y="767"/>
                </a:lnTo>
                <a:cubicBezTo>
                  <a:pt x="528" y="844"/>
                  <a:pt x="793" y="921"/>
                  <a:pt x="1058" y="921"/>
                </a:cubicBezTo>
                <a:cubicBezTo>
                  <a:pt x="793" y="921"/>
                  <a:pt x="528" y="997"/>
                  <a:pt x="528" y="1074"/>
                </a:cubicBezTo>
                <a:lnTo>
                  <a:pt x="528" y="1689"/>
                </a:lnTo>
                <a:cubicBezTo>
                  <a:pt x="528" y="1766"/>
                  <a:pt x="263" y="1843"/>
                  <a:pt x="0" y="1843"/>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228840" y="1965240"/>
            <a:ext cx="1721160" cy="304920"/>
          </a:xfrm>
          <a:custGeom>
            <a:avLst/>
            <a:gdLst/>
            <a:ahLst/>
            <a:rect l="l" t="t" r="r" b="b"/>
            <a:pathLst>
              <a:path w="4782" h="848">
                <a:moveTo>
                  <a:pt x="0" y="423"/>
                </a:moveTo>
                <a:lnTo>
                  <a:pt x="2390" y="0"/>
                </a:lnTo>
                <a:lnTo>
                  <a:pt x="4781" y="423"/>
                </a:lnTo>
                <a:lnTo>
                  <a:pt x="2390" y="847"/>
                </a:lnTo>
                <a:lnTo>
                  <a:pt x="0" y="423"/>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p:nvPr/>
        </p:nvCxnSpPr>
        <p:spPr>
          <a:xfrm>
            <a:off x="4098960" y="1793520"/>
            <a:ext cx="2160" cy="173880"/>
          </a:xfrm>
          <a:prstGeom prst="straightConnector1">
            <a:avLst/>
          </a:prstGeom>
          <a:ln w="9360">
            <a:solidFill>
              <a:srgbClr val="000000"/>
            </a:solidFill>
            <a:miter/>
            <a:tailEnd len="med" type="triangle" w="med"/>
          </a:ln>
        </p:spPr>
      </p:cxnSp>
      <p:cxnSp>
        <p:nvCxnSpPr>
          <p:cNvPr id="197" name=""/>
          <p:cNvCxnSpPr>
            <a:stCxn id="195" idx="0"/>
            <a:endCxn id="125" idx="0"/>
          </p:cNvCxnSpPr>
          <p:nvPr/>
        </p:nvCxnSpPr>
        <p:spPr>
          <a:xfrm>
            <a:off x="4089240" y="2270160"/>
            <a:ext cx="2160" cy="141480"/>
          </a:xfrm>
          <a:prstGeom prst="straightConnector1">
            <a:avLst/>
          </a:prstGeom>
          <a:ln w="9360">
            <a:solidFill>
              <a:srgbClr val="000000"/>
            </a:solidFill>
            <a:miter/>
            <a:tailEnd len="med" type="triangle" w="med"/>
          </a:ln>
        </p:spPr>
      </p:cxnSp>
      <p:cxnSp>
        <p:nvCxnSpPr>
          <p:cNvPr id="198" name=""/>
          <p:cNvCxnSpPr>
            <a:stCxn id="125" idx="2"/>
            <a:endCxn id="199" idx="0"/>
          </p:cNvCxnSpPr>
          <p:nvPr/>
        </p:nvCxnSpPr>
        <p:spPr>
          <a:xfrm>
            <a:off x="4091040" y="2747880"/>
            <a:ext cx="6480" cy="159120"/>
          </a:xfrm>
          <a:prstGeom prst="straightConnector1">
            <a:avLst/>
          </a:prstGeom>
          <a:ln w="9360">
            <a:solidFill>
              <a:srgbClr val="000000"/>
            </a:solidFill>
            <a:miter/>
            <a:tailEnd len="med" type="triangle" w="med"/>
          </a:ln>
        </p:spPr>
      </p:cxnSp>
      <p:sp>
        <p:nvSpPr>
          <p:cNvPr id="199" name=""/>
          <p:cNvSpPr/>
          <p:nvPr/>
        </p:nvSpPr>
        <p:spPr>
          <a:xfrm>
            <a:off x="3313080" y="2906640"/>
            <a:ext cx="1568520" cy="292320"/>
          </a:xfrm>
          <a:custGeom>
            <a:avLst/>
            <a:gdLst/>
            <a:ahLst/>
            <a:rect l="l" t="t" r="r" b="b"/>
            <a:pathLst>
              <a:path w="4358" h="813">
                <a:moveTo>
                  <a:pt x="0" y="406"/>
                </a:moveTo>
                <a:lnTo>
                  <a:pt x="2178" y="0"/>
                </a:lnTo>
                <a:lnTo>
                  <a:pt x="4357" y="406"/>
                </a:lnTo>
                <a:lnTo>
                  <a:pt x="2178" y="812"/>
                </a:lnTo>
                <a:lnTo>
                  <a:pt x="0" y="406"/>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0" name=""/>
          <p:cNvCxnSpPr>
            <a:stCxn id="199" idx="1"/>
            <a:endCxn id="148" idx="0"/>
          </p:cNvCxnSpPr>
          <p:nvPr/>
        </p:nvCxnSpPr>
        <p:spPr>
          <a:xfrm>
            <a:off x="4097160" y="3198960"/>
            <a:ext cx="4320" cy="162000"/>
          </a:xfrm>
          <a:prstGeom prst="straightConnector1">
            <a:avLst/>
          </a:prstGeom>
          <a:ln w="9360">
            <a:solidFill>
              <a:srgbClr val="000000"/>
            </a:solidFill>
            <a:miter/>
            <a:tailEnd len="med" type="triangle" w="med"/>
          </a:ln>
        </p:spPr>
      </p:cxnSp>
      <p:sp>
        <p:nvSpPr>
          <p:cNvPr id="201" name=""/>
          <p:cNvSpPr/>
          <p:nvPr/>
        </p:nvSpPr>
        <p:spPr>
          <a:xfrm>
            <a:off x="3568680" y="3873600"/>
            <a:ext cx="1090800" cy="304560"/>
          </a:xfrm>
          <a:custGeom>
            <a:avLst/>
            <a:gdLst/>
            <a:ahLst/>
            <a:rect l="l" t="t" r="r" b="b"/>
            <a:pathLst>
              <a:path w="3031" h="847">
                <a:moveTo>
                  <a:pt x="0" y="422"/>
                </a:moveTo>
                <a:lnTo>
                  <a:pt x="1515" y="0"/>
                </a:lnTo>
                <a:lnTo>
                  <a:pt x="3030" y="422"/>
                </a:lnTo>
                <a:lnTo>
                  <a:pt x="1515" y="846"/>
                </a:lnTo>
                <a:lnTo>
                  <a:pt x="0" y="422"/>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2" name=""/>
          <p:cNvCxnSpPr>
            <a:stCxn id="148" idx="2"/>
            <a:endCxn id="201" idx="0"/>
          </p:cNvCxnSpPr>
          <p:nvPr/>
        </p:nvCxnSpPr>
        <p:spPr>
          <a:xfrm>
            <a:off x="4101120" y="3697200"/>
            <a:ext cx="13320" cy="176760"/>
          </a:xfrm>
          <a:prstGeom prst="straightConnector1">
            <a:avLst/>
          </a:prstGeom>
          <a:ln w="9360">
            <a:solidFill>
              <a:srgbClr val="000000"/>
            </a:solidFill>
            <a:miter/>
            <a:tailEnd len="med" type="triangle" w="med"/>
          </a:ln>
        </p:spPr>
      </p:cxnSp>
      <p:cxnSp>
        <p:nvCxnSpPr>
          <p:cNvPr id="203" name=""/>
          <p:cNvCxnSpPr>
            <a:stCxn id="201" idx="1"/>
            <a:endCxn id="171" idx="0"/>
          </p:cNvCxnSpPr>
          <p:nvPr/>
        </p:nvCxnSpPr>
        <p:spPr>
          <a:xfrm flipH="1">
            <a:off x="4102560" y="4178160"/>
            <a:ext cx="11880" cy="129240"/>
          </a:xfrm>
          <a:prstGeom prst="straightConnector1">
            <a:avLst/>
          </a:prstGeom>
          <a:ln w="9360">
            <a:solidFill>
              <a:srgbClr val="000000"/>
            </a:solidFill>
            <a:miter/>
            <a:tailEnd len="med" type="triangle" w="med"/>
          </a:ln>
        </p:spPr>
      </p:cxnSp>
      <p:sp>
        <p:nvSpPr>
          <p:cNvPr id="204" name=""/>
          <p:cNvSpPr/>
          <p:nvPr/>
        </p:nvSpPr>
        <p:spPr>
          <a:xfrm>
            <a:off x="3672000" y="4800600"/>
            <a:ext cx="884160" cy="304920"/>
          </a:xfrm>
          <a:custGeom>
            <a:avLst/>
            <a:gdLst/>
            <a:ahLst/>
            <a:rect l="l" t="t" r="r" b="b"/>
            <a:pathLst>
              <a:path w="2457" h="848">
                <a:moveTo>
                  <a:pt x="0" y="423"/>
                </a:moveTo>
                <a:lnTo>
                  <a:pt x="1227" y="0"/>
                </a:lnTo>
                <a:lnTo>
                  <a:pt x="2456" y="423"/>
                </a:lnTo>
                <a:lnTo>
                  <a:pt x="1227" y="847"/>
                </a:lnTo>
                <a:lnTo>
                  <a:pt x="0" y="423"/>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5" name=""/>
          <p:cNvCxnSpPr>
            <a:stCxn id="171" idx="2"/>
            <a:endCxn id="204" idx="0"/>
          </p:cNvCxnSpPr>
          <p:nvPr/>
        </p:nvCxnSpPr>
        <p:spPr>
          <a:xfrm>
            <a:off x="4102560" y="4643280"/>
            <a:ext cx="11520" cy="157680"/>
          </a:xfrm>
          <a:prstGeom prst="straightConnector1">
            <a:avLst/>
          </a:prstGeom>
          <a:ln w="9360">
            <a:solidFill>
              <a:srgbClr val="000000"/>
            </a:solidFill>
            <a:miter/>
            <a:tailEnd len="med" type="triangle" w="med"/>
          </a:ln>
        </p:spPr>
      </p:cxnSp>
      <p:grpSp>
        <p:nvGrpSpPr>
          <p:cNvPr id="206" name=""/>
          <p:cNvGrpSpPr/>
          <p:nvPr/>
        </p:nvGrpSpPr>
        <p:grpSpPr>
          <a:xfrm>
            <a:off x="4968720" y="1917360"/>
            <a:ext cx="317520" cy="183960"/>
            <a:chOff x="4968720" y="1917360"/>
            <a:chExt cx="317520" cy="183960"/>
          </a:xfrm>
        </p:grpSpPr>
        <p:sp>
          <p:nvSpPr>
            <p:cNvPr id="207" name=""/>
            <p:cNvSpPr/>
            <p:nvPr/>
          </p:nvSpPr>
          <p:spPr>
            <a:xfrm flipV="1">
              <a:off x="5270400" y="1917360"/>
              <a:ext cx="180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4968720" y="2084400"/>
              <a:ext cx="31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09" name=""/>
          <p:cNvGrpSpPr/>
          <p:nvPr/>
        </p:nvGrpSpPr>
        <p:grpSpPr>
          <a:xfrm>
            <a:off x="4898880" y="2850840"/>
            <a:ext cx="317520" cy="183960"/>
            <a:chOff x="4898880" y="2850840"/>
            <a:chExt cx="317520" cy="183960"/>
          </a:xfrm>
        </p:grpSpPr>
        <p:sp>
          <p:nvSpPr>
            <p:cNvPr id="210" name=""/>
            <p:cNvSpPr/>
            <p:nvPr/>
          </p:nvSpPr>
          <p:spPr>
            <a:xfrm flipV="1">
              <a:off x="5199120" y="2850840"/>
              <a:ext cx="144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4898880" y="3021120"/>
              <a:ext cx="31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12" name=""/>
          <p:cNvGrpSpPr/>
          <p:nvPr/>
        </p:nvGrpSpPr>
        <p:grpSpPr>
          <a:xfrm>
            <a:off x="4676760" y="3828960"/>
            <a:ext cx="317520" cy="184320"/>
            <a:chOff x="4676760" y="3828960"/>
            <a:chExt cx="317520" cy="184320"/>
          </a:xfrm>
        </p:grpSpPr>
        <p:sp>
          <p:nvSpPr>
            <p:cNvPr id="213" name=""/>
            <p:cNvSpPr/>
            <p:nvPr/>
          </p:nvSpPr>
          <p:spPr>
            <a:xfrm flipV="1">
              <a:off x="4976640" y="3828960"/>
              <a:ext cx="1800" cy="18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4676760" y="3997440"/>
              <a:ext cx="31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15" name=""/>
          <p:cNvGrpSpPr/>
          <p:nvPr/>
        </p:nvGrpSpPr>
        <p:grpSpPr>
          <a:xfrm>
            <a:off x="4562280" y="4755960"/>
            <a:ext cx="317160" cy="183960"/>
            <a:chOff x="4562280" y="4755960"/>
            <a:chExt cx="317160" cy="183960"/>
          </a:xfrm>
        </p:grpSpPr>
        <p:sp>
          <p:nvSpPr>
            <p:cNvPr id="216" name=""/>
            <p:cNvSpPr/>
            <p:nvPr/>
          </p:nvSpPr>
          <p:spPr>
            <a:xfrm flipV="1">
              <a:off x="4862520" y="4755960"/>
              <a:ext cx="144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4562280" y="4924440"/>
              <a:ext cx="317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8" name=""/>
          <p:cNvSpPr/>
          <p:nvPr/>
        </p:nvSpPr>
        <p:spPr>
          <a:xfrm>
            <a:off x="6081840" y="3178080"/>
            <a:ext cx="380880" cy="914400"/>
          </a:xfrm>
          <a:custGeom>
            <a:avLst/>
            <a:gdLst/>
            <a:ahLst/>
            <a:rect l="l" t="t" r="r" b="b"/>
            <a:pathLst>
              <a:path w="1059" h="2541">
                <a:moveTo>
                  <a:pt x="1058" y="0"/>
                </a:moveTo>
                <a:cubicBezTo>
                  <a:pt x="793" y="0"/>
                  <a:pt x="528" y="104"/>
                  <a:pt x="528" y="210"/>
                </a:cubicBezTo>
                <a:lnTo>
                  <a:pt x="528" y="1057"/>
                </a:lnTo>
                <a:cubicBezTo>
                  <a:pt x="528" y="1163"/>
                  <a:pt x="263" y="1269"/>
                  <a:pt x="0" y="1269"/>
                </a:cubicBezTo>
                <a:cubicBezTo>
                  <a:pt x="263" y="1269"/>
                  <a:pt x="528" y="1375"/>
                  <a:pt x="528" y="1481"/>
                </a:cubicBezTo>
                <a:lnTo>
                  <a:pt x="528" y="2328"/>
                </a:lnTo>
                <a:cubicBezTo>
                  <a:pt x="528" y="2434"/>
                  <a:pt x="793" y="2540"/>
                  <a:pt x="1058" y="254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5989680" y="1351080"/>
            <a:ext cx="887400" cy="2543040"/>
            <a:chOff x="5989680" y="1351080"/>
            <a:chExt cx="887400" cy="2543040"/>
          </a:xfrm>
        </p:grpSpPr>
        <p:sp>
          <p:nvSpPr>
            <p:cNvPr id="220" name=""/>
            <p:cNvSpPr/>
            <p:nvPr/>
          </p:nvSpPr>
          <p:spPr>
            <a:xfrm>
              <a:off x="5989680" y="1351080"/>
              <a:ext cx="887400" cy="2543040"/>
            </a:xfrm>
            <a:custGeom>
              <a:avLst/>
              <a:gdLst/>
              <a:ahLst/>
              <a:rect l="l" t="t" r="r" b="b"/>
              <a:pathLst>
                <a:path w="2466" h="7065">
                  <a:moveTo>
                    <a:pt x="616" y="7064"/>
                  </a:moveTo>
                  <a:lnTo>
                    <a:pt x="616" y="1765"/>
                  </a:lnTo>
                  <a:lnTo>
                    <a:pt x="0" y="1765"/>
                  </a:lnTo>
                  <a:lnTo>
                    <a:pt x="1233" y="0"/>
                  </a:lnTo>
                  <a:lnTo>
                    <a:pt x="2465" y="1765"/>
                  </a:lnTo>
                  <a:lnTo>
                    <a:pt x="1848" y="1765"/>
                  </a:lnTo>
                  <a:lnTo>
                    <a:pt x="1848" y="7064"/>
                  </a:lnTo>
                  <a:lnTo>
                    <a:pt x="616" y="7064"/>
                  </a:lnTo>
                </a:path>
              </a:pathLst>
            </a:custGeom>
            <a:gradFill rotWithShape="0">
              <a:gsLst>
                <a:gs pos="0">
                  <a:srgbClr val="ffffff"/>
                </a:gs>
                <a:gs pos="50000">
                  <a:srgbClr val="ff0000"/>
                </a:gs>
                <a:gs pos="100000">
                  <a:srgbClr val="ffffff"/>
                </a:gs>
              </a:gsLst>
              <a:lin ang="108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6213600" y="1670040"/>
              <a:ext cx="439560" cy="2222640"/>
              <a:chOff x="6213600" y="1670040"/>
              <a:chExt cx="439560" cy="2222640"/>
            </a:xfrm>
          </p:grpSpPr>
          <p:sp>
            <p:nvSpPr>
              <p:cNvPr id="222" name=""/>
              <p:cNvSpPr/>
              <p:nvPr/>
            </p:nvSpPr>
            <p:spPr>
              <a:xfrm>
                <a:off x="6213600" y="1670040"/>
                <a:ext cx="439560" cy="2222640"/>
              </a:xfrm>
              <a:custGeom>
                <a:avLst/>
                <a:gdLst>
                  <a:gd name="textAreaLeft" fmla="*/ 360 w 439560"/>
                  <a:gd name="textAreaRight" fmla="*/ 439200 w 439560"/>
                  <a:gd name="textAreaTop" fmla="*/ 360 h 2222640"/>
                  <a:gd name="textAreaBottom" fmla="*/ 2222280 h 2222640"/>
                </a:gdLst>
                <a:ahLst/>
                <a:rect l="textAreaLeft" t="textAreaTop" r="textAreaRight" b="textAreaBottom"/>
                <a:pathLst>
                  <a:path w="21600" h="109149">
                    <a:moveTo>
                      <a:pt x="78" y="0"/>
                    </a:moveTo>
                    <a:arcTo wR="78" hR="78" stAng="16200000" swAng="-5400000"/>
                    <a:lnTo>
                      <a:pt x="0" y="109071"/>
                    </a:lnTo>
                    <a:arcTo wR="78" hR="78" stAng="10800000" swAng="-5400000"/>
                    <a:lnTo>
                      <a:pt x="21522" y="109149"/>
                    </a:lnTo>
                    <a:arcTo wR="78" hR="78" stAng="5400000" swAng="-5400000"/>
                    <a:lnTo>
                      <a:pt x="21600" y="78"/>
                    </a:lnTo>
                    <a:arcTo wR="78" hR="78"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213600" y="1670040"/>
                <a:ext cx="438120" cy="222084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MyriaMM"/>
                  </a:rPr>
                  <a:t>Chip Integration</a:t>
                </a:r>
                <a:endParaRPr b="0" lang="en-US" sz="1400" spc="-1" strike="noStrike">
                  <a:solidFill>
                    <a:srgbClr val="000000"/>
                  </a:solidFill>
                  <a:latin typeface="Times New Roman"/>
                </a:endParaRPr>
              </a:p>
            </p:txBody>
          </p:sp>
        </p:grpSp>
      </p:grpSp>
      <p:grpSp>
        <p:nvGrpSpPr>
          <p:cNvPr id="224" name=""/>
          <p:cNvGrpSpPr/>
          <p:nvPr/>
        </p:nvGrpSpPr>
        <p:grpSpPr>
          <a:xfrm>
            <a:off x="5989680" y="3902040"/>
            <a:ext cx="887400" cy="2171880"/>
            <a:chOff x="5989680" y="3902040"/>
            <a:chExt cx="887400" cy="2171880"/>
          </a:xfrm>
        </p:grpSpPr>
        <p:sp>
          <p:nvSpPr>
            <p:cNvPr id="225" name=""/>
            <p:cNvSpPr/>
            <p:nvPr/>
          </p:nvSpPr>
          <p:spPr>
            <a:xfrm>
              <a:off x="5989680" y="3902040"/>
              <a:ext cx="887400" cy="2171880"/>
            </a:xfrm>
            <a:custGeom>
              <a:avLst/>
              <a:gdLst/>
              <a:ahLst/>
              <a:rect l="l" t="t" r="r" b="b"/>
              <a:pathLst>
                <a:path w="2466" h="6034">
                  <a:moveTo>
                    <a:pt x="616" y="0"/>
                  </a:moveTo>
                  <a:lnTo>
                    <a:pt x="616" y="4525"/>
                  </a:lnTo>
                  <a:lnTo>
                    <a:pt x="0" y="4525"/>
                  </a:lnTo>
                  <a:lnTo>
                    <a:pt x="1233" y="6033"/>
                  </a:lnTo>
                  <a:lnTo>
                    <a:pt x="2465" y="4525"/>
                  </a:lnTo>
                  <a:lnTo>
                    <a:pt x="1848" y="4525"/>
                  </a:lnTo>
                  <a:lnTo>
                    <a:pt x="1848" y="0"/>
                  </a:lnTo>
                  <a:lnTo>
                    <a:pt x="616" y="0"/>
                  </a:lnTo>
                </a:path>
              </a:pathLst>
            </a:custGeom>
            <a:gradFill rotWithShape="0">
              <a:gsLst>
                <a:gs pos="0">
                  <a:srgbClr val="ffffff"/>
                </a:gs>
                <a:gs pos="50000">
                  <a:srgbClr val="5374a9"/>
                </a:gs>
                <a:gs pos="100000">
                  <a:srgbClr val="ffffff"/>
                </a:gs>
              </a:gsLst>
              <a:lin ang="108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6213600" y="3902040"/>
              <a:ext cx="439560" cy="1898640"/>
              <a:chOff x="6213600" y="3902040"/>
              <a:chExt cx="439560" cy="1898640"/>
            </a:xfrm>
          </p:grpSpPr>
          <p:sp>
            <p:nvSpPr>
              <p:cNvPr id="227" name=""/>
              <p:cNvSpPr/>
              <p:nvPr/>
            </p:nvSpPr>
            <p:spPr>
              <a:xfrm>
                <a:off x="6213600" y="3902040"/>
                <a:ext cx="439560" cy="1898640"/>
              </a:xfrm>
              <a:custGeom>
                <a:avLst/>
                <a:gdLst>
                  <a:gd name="textAreaLeft" fmla="*/ 360 w 439560"/>
                  <a:gd name="textAreaRight" fmla="*/ 439200 w 439560"/>
                  <a:gd name="textAreaTop" fmla="*/ 360 h 1898640"/>
                  <a:gd name="textAreaBottom" fmla="*/ 1898280 h 1898640"/>
                </a:gdLst>
                <a:ahLst/>
                <a:rect l="textAreaLeft" t="textAreaTop" r="textAreaRight" b="textAreaBottom"/>
                <a:pathLst>
                  <a:path w="21600" h="93241">
                    <a:moveTo>
                      <a:pt x="78" y="0"/>
                    </a:moveTo>
                    <a:arcTo wR="78" hR="78" stAng="16200000" swAng="-5400000"/>
                    <a:lnTo>
                      <a:pt x="0" y="93163"/>
                    </a:lnTo>
                    <a:arcTo wR="78" hR="78" stAng="10800000" swAng="-5400000"/>
                    <a:lnTo>
                      <a:pt x="21522" y="93241"/>
                    </a:lnTo>
                    <a:arcTo wR="78" hR="78" stAng="5400000" swAng="-5400000"/>
                    <a:lnTo>
                      <a:pt x="21600" y="78"/>
                    </a:lnTo>
                    <a:arcTo wR="78" hR="78"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213600" y="3902040"/>
                <a:ext cx="438120" cy="1898640"/>
              </a:xfrm>
              <a:prstGeom prst="rect">
                <a:avLst/>
              </a:prstGeom>
              <a:noFill/>
              <a:ln w="0">
                <a:noFill/>
              </a:ln>
            </p:spPr>
            <p:style>
              <a:lnRef idx="0"/>
              <a:fillRef idx="0"/>
              <a:effectRef idx="0"/>
              <a:fontRef idx="minor"/>
            </p:style>
            <p:txBody>
              <a:bodyPr lIns="90000" rIns="90000" tIns="46800" bIns="46800" anchor="b" vert="eaVe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MyriaMM"/>
                  </a:rPr>
                  <a:t>Chip Implementation</a:t>
                </a:r>
                <a:endParaRPr b="0" lang="en-US" sz="1400" spc="-1" strike="noStrike">
                  <a:solidFill>
                    <a:srgbClr val="000000"/>
                  </a:solidFill>
                  <a:latin typeface="Times New Roman"/>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9680" y="80640"/>
            <a:ext cx="8709120" cy="63324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Myriad Pro"/>
              </a:rPr>
              <a:t>Test </a:t>
            </a:r>
            <a:endParaRPr b="1" lang="en-US" sz="2800" spc="-1" strike="noStrike">
              <a:solidFill>
                <a:srgbClr val="000000"/>
              </a:solidFill>
              <a:latin typeface="Myriad Pro"/>
            </a:endParaRPr>
          </a:p>
        </p:txBody>
      </p:sp>
      <p:grpSp>
        <p:nvGrpSpPr>
          <p:cNvPr id="230" name=""/>
          <p:cNvGrpSpPr/>
          <p:nvPr/>
        </p:nvGrpSpPr>
        <p:grpSpPr>
          <a:xfrm>
            <a:off x="2838240" y="1711080"/>
            <a:ext cx="5826240" cy="3302280"/>
            <a:chOff x="2838240" y="1711080"/>
            <a:chExt cx="5826240" cy="3302280"/>
          </a:xfrm>
        </p:grpSpPr>
        <p:grpSp>
          <p:nvGrpSpPr>
            <p:cNvPr id="231" name=""/>
            <p:cNvGrpSpPr/>
            <p:nvPr/>
          </p:nvGrpSpPr>
          <p:grpSpPr>
            <a:xfrm>
              <a:off x="6406560" y="1711080"/>
              <a:ext cx="1095840" cy="390600"/>
              <a:chOff x="6406560" y="1711080"/>
              <a:chExt cx="1095840" cy="390600"/>
            </a:xfrm>
          </p:grpSpPr>
          <p:sp>
            <p:nvSpPr>
              <p:cNvPr id="232" name=""/>
              <p:cNvSpPr/>
              <p:nvPr/>
            </p:nvSpPr>
            <p:spPr>
              <a:xfrm>
                <a:off x="6478560" y="1771560"/>
                <a:ext cx="1023840" cy="33012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6406560" y="1711080"/>
                <a:ext cx="1075320" cy="370080"/>
                <a:chOff x="6406560" y="1711080"/>
                <a:chExt cx="1075320" cy="370080"/>
              </a:xfrm>
            </p:grpSpPr>
            <p:sp>
              <p:nvSpPr>
                <p:cNvPr id="234" name=""/>
                <p:cNvSpPr/>
                <p:nvPr/>
              </p:nvSpPr>
              <p:spPr>
                <a:xfrm>
                  <a:off x="6478560" y="1771560"/>
                  <a:ext cx="1003320" cy="30960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6406560" y="1711080"/>
                  <a:ext cx="1058040" cy="352800"/>
                  <a:chOff x="6406560" y="1711080"/>
                  <a:chExt cx="1058040" cy="352800"/>
                </a:xfrm>
              </p:grpSpPr>
              <p:sp>
                <p:nvSpPr>
                  <p:cNvPr id="236" name=""/>
                  <p:cNvSpPr/>
                  <p:nvPr/>
                </p:nvSpPr>
                <p:spPr>
                  <a:xfrm>
                    <a:off x="6478560" y="1771560"/>
                    <a:ext cx="986040" cy="292320"/>
                  </a:xfrm>
                  <a:prstGeom prst="roundRect">
                    <a:avLst>
                      <a:gd name="adj" fmla="val 5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406560" y="1711080"/>
                    <a:ext cx="1043640" cy="336960"/>
                    <a:chOff x="6406560" y="1711080"/>
                    <a:chExt cx="1043640" cy="336960"/>
                  </a:xfrm>
                </p:grpSpPr>
                <p:sp>
                  <p:nvSpPr>
                    <p:cNvPr id="238" name=""/>
                    <p:cNvSpPr/>
                    <p:nvPr/>
                  </p:nvSpPr>
                  <p:spPr>
                    <a:xfrm>
                      <a:off x="6478560" y="1771560"/>
                      <a:ext cx="971640" cy="27648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406560" y="1711080"/>
                      <a:ext cx="1027800" cy="327240"/>
                      <a:chOff x="6406560" y="1711080"/>
                      <a:chExt cx="1027800" cy="327240"/>
                    </a:xfrm>
                  </p:grpSpPr>
                  <p:sp>
                    <p:nvSpPr>
                      <p:cNvPr id="240" name=""/>
                      <p:cNvSpPr/>
                      <p:nvPr/>
                    </p:nvSpPr>
                    <p:spPr>
                      <a:xfrm>
                        <a:off x="6478560" y="1771560"/>
                        <a:ext cx="95580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6406560" y="1711080"/>
                        <a:ext cx="1024920" cy="321480"/>
                        <a:chOff x="6406560" y="1711080"/>
                        <a:chExt cx="1024920" cy="321480"/>
                      </a:xfrm>
                    </p:grpSpPr>
                    <p:sp>
                      <p:nvSpPr>
                        <p:cNvPr id="242" name=""/>
                        <p:cNvSpPr/>
                        <p:nvPr/>
                      </p:nvSpPr>
                      <p:spPr>
                        <a:xfrm>
                          <a:off x="6478560" y="1771560"/>
                          <a:ext cx="939960" cy="254160"/>
                        </a:xfrm>
                        <a:prstGeom prst="roundRect">
                          <a:avLst>
                            <a:gd name="adj" fmla="val 6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6406560" y="1711080"/>
                          <a:ext cx="1024920" cy="321480"/>
                          <a:chOff x="6406560" y="1711080"/>
                          <a:chExt cx="1024920" cy="321480"/>
                        </a:xfrm>
                      </p:grpSpPr>
                      <p:sp>
                        <p:nvSpPr>
                          <p:cNvPr id="244" name=""/>
                          <p:cNvSpPr/>
                          <p:nvPr/>
                        </p:nvSpPr>
                        <p:spPr>
                          <a:xfrm>
                            <a:off x="6478560" y="1771560"/>
                            <a:ext cx="927000" cy="241560"/>
                          </a:xfrm>
                          <a:prstGeom prst="roundRect">
                            <a:avLst>
                              <a:gd name="adj" fmla="val 6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6406560" y="1711080"/>
                            <a:ext cx="1024920" cy="321480"/>
                            <a:chOff x="6406560" y="1711080"/>
                            <a:chExt cx="1024920" cy="321480"/>
                          </a:xfrm>
                        </p:grpSpPr>
                        <p:sp>
                          <p:nvSpPr>
                            <p:cNvPr id="246" name=""/>
                            <p:cNvSpPr/>
                            <p:nvPr/>
                          </p:nvSpPr>
                          <p:spPr>
                            <a:xfrm>
                              <a:off x="6478560" y="1771560"/>
                              <a:ext cx="914400" cy="2304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6406560" y="1711080"/>
                              <a:ext cx="1024920" cy="321480"/>
                              <a:chOff x="6406560" y="1711080"/>
                              <a:chExt cx="1024920" cy="321480"/>
                            </a:xfrm>
                          </p:grpSpPr>
                          <p:sp>
                            <p:nvSpPr>
                              <p:cNvPr id="248" name=""/>
                              <p:cNvSpPr/>
                              <p:nvPr/>
                            </p:nvSpPr>
                            <p:spPr>
                              <a:xfrm>
                                <a:off x="6478560" y="1771560"/>
                                <a:ext cx="906480" cy="2253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 name=""/>
                              <p:cNvGrpSpPr/>
                              <p:nvPr/>
                            </p:nvGrpSpPr>
                            <p:grpSpPr>
                              <a:xfrm>
                                <a:off x="6406560" y="1711080"/>
                                <a:ext cx="1024920" cy="321480"/>
                                <a:chOff x="6406560" y="1711080"/>
                                <a:chExt cx="1024920" cy="321480"/>
                              </a:xfrm>
                            </p:grpSpPr>
                            <p:sp>
                              <p:nvSpPr>
                                <p:cNvPr id="250" name=""/>
                                <p:cNvSpPr/>
                                <p:nvPr/>
                              </p:nvSpPr>
                              <p:spPr>
                                <a:xfrm>
                                  <a:off x="6478560" y="1771560"/>
                                  <a:ext cx="898560" cy="2174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6406560" y="1711080"/>
                                  <a:ext cx="1024920" cy="321480"/>
                                  <a:chOff x="6406560" y="1711080"/>
                                  <a:chExt cx="1024920" cy="321480"/>
                                </a:xfrm>
                              </p:grpSpPr>
                              <p:sp>
                                <p:nvSpPr>
                                  <p:cNvPr id="252" name=""/>
                                  <p:cNvSpPr/>
                                  <p:nvPr/>
                                </p:nvSpPr>
                                <p:spPr>
                                  <a:xfrm>
                                    <a:off x="6478560" y="1771560"/>
                                    <a:ext cx="890640" cy="20952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6406560" y="1711080"/>
                                    <a:ext cx="1024920" cy="321480"/>
                                    <a:chOff x="6406560" y="1711080"/>
                                    <a:chExt cx="1024920" cy="321480"/>
                                  </a:xfrm>
                                </p:grpSpPr>
                                <p:sp>
                                  <p:nvSpPr>
                                    <p:cNvPr id="254" name=""/>
                                    <p:cNvSpPr/>
                                    <p:nvPr/>
                                  </p:nvSpPr>
                                  <p:spPr>
                                    <a:xfrm>
                                      <a:off x="6478560" y="1771560"/>
                                      <a:ext cx="889200" cy="2048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6406560" y="1711080"/>
                                      <a:ext cx="1024920" cy="321480"/>
                                      <a:chOff x="6406560" y="1711080"/>
                                      <a:chExt cx="1024920" cy="321480"/>
                                    </a:xfrm>
                                  </p:grpSpPr>
                                  <p:sp>
                                    <p:nvSpPr>
                                      <p:cNvPr id="256" name=""/>
                                      <p:cNvSpPr/>
                                      <p:nvPr/>
                                    </p:nvSpPr>
                                    <p:spPr>
                                      <a:xfrm>
                                        <a:off x="6478560" y="1771560"/>
                                        <a:ext cx="884160" cy="20160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6406560" y="1711080"/>
                                        <a:ext cx="1024920" cy="321480"/>
                                        <a:chOff x="6406560" y="1711080"/>
                                        <a:chExt cx="1024920" cy="321480"/>
                                      </a:xfrm>
                                    </p:grpSpPr>
                                    <p:sp>
                                      <p:nvSpPr>
                                        <p:cNvPr id="258" name=""/>
                                        <p:cNvSpPr/>
                                        <p:nvPr/>
                                      </p:nvSpPr>
                                      <p:spPr>
                                        <a:xfrm>
                                          <a:off x="6478560" y="1771560"/>
                                          <a:ext cx="882720" cy="20016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6406560" y="1711080"/>
                                          <a:ext cx="1024920" cy="321480"/>
                                          <a:chOff x="6406560" y="1711080"/>
                                          <a:chExt cx="1024920" cy="321480"/>
                                        </a:xfrm>
                                      </p:grpSpPr>
                                      <p:sp>
                                        <p:nvSpPr>
                                          <p:cNvPr id="260" name=""/>
                                          <p:cNvSpPr/>
                                          <p:nvPr/>
                                        </p:nvSpPr>
                                        <p:spPr>
                                          <a:xfrm>
                                            <a:off x="6478560" y="1771560"/>
                                            <a:ext cx="880920" cy="20016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406560" y="1711080"/>
                                            <a:ext cx="1024920" cy="321480"/>
                                          </a:xfrm>
                                          <a:prstGeom prst="roundRect">
                                            <a:avLst>
                                              <a:gd name="adj" fmla="val 792"/>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Unbuffer</a:t>
                                            </a:r>
                                            <a:endParaRPr b="0" lang="en-US" sz="1600" spc="-1" strike="noStrike">
                                              <a:solidFill>
                                                <a:srgbClr val="000000"/>
                                              </a:solidFill>
                                              <a:latin typeface="Times New Roman"/>
                                            </a:endParaRPr>
                                          </a:p>
                                        </p:txBody>
                                      </p:sp>
                                    </p:grpSp>
                                  </p:grpSp>
                                </p:grpSp>
                              </p:grpSp>
                            </p:grpSp>
                          </p:grpSp>
                        </p:grpSp>
                      </p:grpSp>
                    </p:grpSp>
                  </p:grpSp>
                </p:grpSp>
              </p:grpSp>
            </p:grpSp>
          </p:grpSp>
        </p:grpSp>
        <p:grpSp>
          <p:nvGrpSpPr>
            <p:cNvPr id="262" name=""/>
            <p:cNvGrpSpPr/>
            <p:nvPr/>
          </p:nvGrpSpPr>
          <p:grpSpPr>
            <a:xfrm>
              <a:off x="5780880" y="2315160"/>
              <a:ext cx="2353320" cy="391680"/>
              <a:chOff x="5780880" y="2315160"/>
              <a:chExt cx="2353320" cy="391680"/>
            </a:xfrm>
          </p:grpSpPr>
          <p:sp>
            <p:nvSpPr>
              <p:cNvPr id="263" name=""/>
              <p:cNvSpPr/>
              <p:nvPr/>
            </p:nvSpPr>
            <p:spPr>
              <a:xfrm>
                <a:off x="5854680" y="2376360"/>
                <a:ext cx="2279520" cy="33048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 name=""/>
              <p:cNvGrpSpPr/>
              <p:nvPr/>
            </p:nvGrpSpPr>
            <p:grpSpPr>
              <a:xfrm>
                <a:off x="5780880" y="2315160"/>
                <a:ext cx="2331360" cy="370800"/>
                <a:chOff x="5780880" y="2315160"/>
                <a:chExt cx="2331360" cy="370800"/>
              </a:xfrm>
            </p:grpSpPr>
            <p:sp>
              <p:nvSpPr>
                <p:cNvPr id="265" name=""/>
                <p:cNvSpPr/>
                <p:nvPr/>
              </p:nvSpPr>
              <p:spPr>
                <a:xfrm>
                  <a:off x="5854680" y="2376360"/>
                  <a:ext cx="2257560" cy="30960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5780880" y="2315160"/>
                  <a:ext cx="2313720" cy="354960"/>
                  <a:chOff x="5780880" y="2315160"/>
                  <a:chExt cx="2313720" cy="354960"/>
                </a:xfrm>
              </p:grpSpPr>
              <p:sp>
                <p:nvSpPr>
                  <p:cNvPr id="267" name=""/>
                  <p:cNvSpPr/>
                  <p:nvPr/>
                </p:nvSpPr>
                <p:spPr>
                  <a:xfrm>
                    <a:off x="5854680" y="2376360"/>
                    <a:ext cx="2239920" cy="293760"/>
                  </a:xfrm>
                  <a:prstGeom prst="roundRect">
                    <a:avLst>
                      <a:gd name="adj" fmla="val 5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780880" y="2315160"/>
                    <a:ext cx="2297880" cy="339120"/>
                    <a:chOff x="5780880" y="2315160"/>
                    <a:chExt cx="2297880" cy="339120"/>
                  </a:xfrm>
                </p:grpSpPr>
                <p:sp>
                  <p:nvSpPr>
                    <p:cNvPr id="269" name=""/>
                    <p:cNvSpPr/>
                    <p:nvPr/>
                  </p:nvSpPr>
                  <p:spPr>
                    <a:xfrm>
                      <a:off x="5854680" y="2376360"/>
                      <a:ext cx="2224080" cy="2779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780880" y="2315160"/>
                      <a:ext cx="2283480" cy="326520"/>
                      <a:chOff x="5780880" y="2315160"/>
                      <a:chExt cx="2283480" cy="326520"/>
                    </a:xfrm>
                  </p:grpSpPr>
                  <p:sp>
                    <p:nvSpPr>
                      <p:cNvPr id="271" name=""/>
                      <p:cNvSpPr/>
                      <p:nvPr/>
                    </p:nvSpPr>
                    <p:spPr>
                      <a:xfrm>
                        <a:off x="5854680" y="2376360"/>
                        <a:ext cx="2209680" cy="26532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780880" y="2315160"/>
                        <a:ext cx="2276280" cy="321480"/>
                        <a:chOff x="5780880" y="2315160"/>
                        <a:chExt cx="2276280" cy="321480"/>
                      </a:xfrm>
                    </p:grpSpPr>
                    <p:sp>
                      <p:nvSpPr>
                        <p:cNvPr id="273" name=""/>
                        <p:cNvSpPr/>
                        <p:nvPr/>
                      </p:nvSpPr>
                      <p:spPr>
                        <a:xfrm>
                          <a:off x="5854680" y="2376360"/>
                          <a:ext cx="2195640" cy="2527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5780880" y="2315160"/>
                          <a:ext cx="2276280" cy="321480"/>
                          <a:chOff x="5780880" y="2315160"/>
                          <a:chExt cx="2276280" cy="321480"/>
                        </a:xfrm>
                      </p:grpSpPr>
                      <p:sp>
                        <p:nvSpPr>
                          <p:cNvPr id="275" name=""/>
                          <p:cNvSpPr/>
                          <p:nvPr/>
                        </p:nvSpPr>
                        <p:spPr>
                          <a:xfrm>
                            <a:off x="5854680" y="2376360"/>
                            <a:ext cx="2181240" cy="243000"/>
                          </a:xfrm>
                          <a:prstGeom prst="roundRect">
                            <a:avLst>
                              <a:gd name="adj" fmla="val 6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5780880" y="2315160"/>
                            <a:ext cx="2276280" cy="321480"/>
                            <a:chOff x="5780880" y="2315160"/>
                            <a:chExt cx="2276280" cy="321480"/>
                          </a:xfrm>
                        </p:grpSpPr>
                        <p:sp>
                          <p:nvSpPr>
                            <p:cNvPr id="277" name=""/>
                            <p:cNvSpPr/>
                            <p:nvPr/>
                          </p:nvSpPr>
                          <p:spPr>
                            <a:xfrm>
                              <a:off x="5854680" y="2376360"/>
                              <a:ext cx="2168640" cy="231840"/>
                            </a:xfrm>
                            <a:prstGeom prst="roundRect">
                              <a:avLst>
                                <a:gd name="adj" fmla="val 6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5780880" y="2315160"/>
                              <a:ext cx="2276280" cy="321480"/>
                              <a:chOff x="5780880" y="2315160"/>
                              <a:chExt cx="2276280" cy="321480"/>
                            </a:xfrm>
                          </p:grpSpPr>
                          <p:sp>
                            <p:nvSpPr>
                              <p:cNvPr id="279" name=""/>
                              <p:cNvSpPr/>
                              <p:nvPr/>
                            </p:nvSpPr>
                            <p:spPr>
                              <a:xfrm>
                                <a:off x="5854680" y="2376360"/>
                                <a:ext cx="2158920" cy="22392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5780880" y="2315160"/>
                                <a:ext cx="2276280" cy="321480"/>
                                <a:chOff x="5780880" y="2315160"/>
                                <a:chExt cx="2276280" cy="321480"/>
                              </a:xfrm>
                            </p:grpSpPr>
                            <p:sp>
                              <p:nvSpPr>
                                <p:cNvPr id="281" name=""/>
                                <p:cNvSpPr/>
                                <p:nvPr/>
                              </p:nvSpPr>
                              <p:spPr>
                                <a:xfrm>
                                  <a:off x="5854680" y="2376360"/>
                                  <a:ext cx="2151000" cy="21456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 name=""/>
                                <p:cNvGrpSpPr/>
                                <p:nvPr/>
                              </p:nvGrpSpPr>
                              <p:grpSpPr>
                                <a:xfrm>
                                  <a:off x="5780880" y="2315160"/>
                                  <a:ext cx="2276280" cy="321480"/>
                                  <a:chOff x="5780880" y="2315160"/>
                                  <a:chExt cx="2276280" cy="321480"/>
                                </a:xfrm>
                              </p:grpSpPr>
                              <p:sp>
                                <p:nvSpPr>
                                  <p:cNvPr id="283" name=""/>
                                  <p:cNvSpPr/>
                                  <p:nvPr/>
                                </p:nvSpPr>
                                <p:spPr>
                                  <a:xfrm>
                                    <a:off x="5854680" y="2376360"/>
                                    <a:ext cx="2143080" cy="20952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5780880" y="2315160"/>
                                    <a:ext cx="2276280" cy="321480"/>
                                    <a:chOff x="5780880" y="2315160"/>
                                    <a:chExt cx="2276280" cy="321480"/>
                                  </a:xfrm>
                                </p:grpSpPr>
                                <p:sp>
                                  <p:nvSpPr>
                                    <p:cNvPr id="285" name=""/>
                                    <p:cNvSpPr/>
                                    <p:nvPr/>
                                  </p:nvSpPr>
                                  <p:spPr>
                                    <a:xfrm>
                                      <a:off x="5854680" y="2376360"/>
                                      <a:ext cx="2138400" cy="2048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5780880" y="2315160"/>
                                      <a:ext cx="2276280" cy="321480"/>
                                      <a:chOff x="5780880" y="2315160"/>
                                      <a:chExt cx="2276280" cy="321480"/>
                                    </a:xfrm>
                                  </p:grpSpPr>
                                  <p:sp>
                                    <p:nvSpPr>
                                      <p:cNvPr id="287" name=""/>
                                      <p:cNvSpPr/>
                                      <p:nvPr/>
                                    </p:nvSpPr>
                                    <p:spPr>
                                      <a:xfrm>
                                        <a:off x="5854680" y="2376360"/>
                                        <a:ext cx="2131920" cy="20160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5780880" y="2315160"/>
                                        <a:ext cx="2276280" cy="321480"/>
                                        <a:chOff x="5780880" y="2315160"/>
                                        <a:chExt cx="2276280" cy="321480"/>
                                      </a:xfrm>
                                    </p:grpSpPr>
                                    <p:sp>
                                      <p:nvSpPr>
                                        <p:cNvPr id="289" name=""/>
                                        <p:cNvSpPr/>
                                        <p:nvPr/>
                                      </p:nvSpPr>
                                      <p:spPr>
                                        <a:xfrm>
                                          <a:off x="5854680" y="2376360"/>
                                          <a:ext cx="2130480" cy="20016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5780880" y="2315160"/>
                                          <a:ext cx="2276280" cy="321480"/>
                                          <a:chOff x="5780880" y="2315160"/>
                                          <a:chExt cx="2276280" cy="321480"/>
                                        </a:xfrm>
                                      </p:grpSpPr>
                                      <p:sp>
                                        <p:nvSpPr>
                                          <p:cNvPr id="291" name=""/>
                                          <p:cNvSpPr/>
                                          <p:nvPr/>
                                        </p:nvSpPr>
                                        <p:spPr>
                                          <a:xfrm>
                                            <a:off x="5854680" y="2376360"/>
                                            <a:ext cx="2130480" cy="20016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780880" y="2315160"/>
                                            <a:ext cx="2276280" cy="321480"/>
                                          </a:xfrm>
                                          <a:prstGeom prst="roundRect">
                                            <a:avLst>
                                              <a:gd name="adj" fmla="val 806"/>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Convert to Supercells</a:t>
                                            </a:r>
                                            <a:endParaRPr b="0" lang="en-US" sz="1600" spc="-1" strike="noStrike">
                                              <a:solidFill>
                                                <a:srgbClr val="000000"/>
                                              </a:solidFill>
                                              <a:latin typeface="Times New Roman"/>
                                            </a:endParaRPr>
                                          </a:p>
                                        </p:txBody>
                                      </p:sp>
                                    </p:grpSp>
                                  </p:grpSp>
                                </p:grpSp>
                              </p:grpSp>
                            </p:grpSp>
                          </p:grpSp>
                        </p:grpSp>
                      </p:grpSp>
                    </p:grpSp>
                  </p:grpSp>
                </p:grpSp>
              </p:grpSp>
            </p:grpSp>
          </p:grpSp>
        </p:grpSp>
        <p:grpSp>
          <p:nvGrpSpPr>
            <p:cNvPr id="293" name=""/>
            <p:cNvGrpSpPr/>
            <p:nvPr/>
          </p:nvGrpSpPr>
          <p:grpSpPr>
            <a:xfrm>
              <a:off x="6375600" y="3466080"/>
              <a:ext cx="1203120" cy="393120"/>
              <a:chOff x="6375600" y="3466080"/>
              <a:chExt cx="1203120" cy="393120"/>
            </a:xfrm>
          </p:grpSpPr>
          <p:sp>
            <p:nvSpPr>
              <p:cNvPr id="294" name=""/>
              <p:cNvSpPr/>
              <p:nvPr/>
            </p:nvSpPr>
            <p:spPr>
              <a:xfrm>
                <a:off x="6450120" y="3529080"/>
                <a:ext cx="1128600" cy="33012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6375600" y="3466080"/>
                <a:ext cx="1182600" cy="372600"/>
                <a:chOff x="6375600" y="3466080"/>
                <a:chExt cx="1182600" cy="372600"/>
              </a:xfrm>
            </p:grpSpPr>
            <p:sp>
              <p:nvSpPr>
                <p:cNvPr id="296" name=""/>
                <p:cNvSpPr/>
                <p:nvPr/>
              </p:nvSpPr>
              <p:spPr>
                <a:xfrm>
                  <a:off x="6450120" y="3529080"/>
                  <a:ext cx="1108080" cy="30960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6375600" y="3466080"/>
                  <a:ext cx="1163520" cy="353520"/>
                  <a:chOff x="6375600" y="3466080"/>
                  <a:chExt cx="1163520" cy="353520"/>
                </a:xfrm>
              </p:grpSpPr>
              <p:sp>
                <p:nvSpPr>
                  <p:cNvPr id="298" name=""/>
                  <p:cNvSpPr/>
                  <p:nvPr/>
                </p:nvSpPr>
                <p:spPr>
                  <a:xfrm>
                    <a:off x="6450120" y="3529080"/>
                    <a:ext cx="1089000" cy="290520"/>
                  </a:xfrm>
                  <a:prstGeom prst="roundRect">
                    <a:avLst>
                      <a:gd name="adj" fmla="val 54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6375600" y="3466080"/>
                    <a:ext cx="1145880" cy="340920"/>
                    <a:chOff x="6375600" y="3466080"/>
                    <a:chExt cx="1145880" cy="340920"/>
                  </a:xfrm>
                </p:grpSpPr>
                <p:sp>
                  <p:nvSpPr>
                    <p:cNvPr id="300" name=""/>
                    <p:cNvSpPr/>
                    <p:nvPr/>
                  </p:nvSpPr>
                  <p:spPr>
                    <a:xfrm>
                      <a:off x="6450120" y="3529080"/>
                      <a:ext cx="1071360" cy="277920"/>
                    </a:xfrm>
                    <a:prstGeom prst="roundRect">
                      <a:avLst>
                        <a:gd name="adj" fmla="val 57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6375600" y="3466080"/>
                      <a:ext cx="1131840" cy="326520"/>
                      <a:chOff x="6375600" y="3466080"/>
                      <a:chExt cx="1131840" cy="326520"/>
                    </a:xfrm>
                  </p:grpSpPr>
                  <p:sp>
                    <p:nvSpPr>
                      <p:cNvPr id="302" name=""/>
                      <p:cNvSpPr/>
                      <p:nvPr/>
                    </p:nvSpPr>
                    <p:spPr>
                      <a:xfrm>
                        <a:off x="6450120" y="3529080"/>
                        <a:ext cx="1057320" cy="26352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6375600" y="3466080"/>
                        <a:ext cx="1127160" cy="321480"/>
                        <a:chOff x="6375600" y="3466080"/>
                        <a:chExt cx="1127160" cy="321480"/>
                      </a:xfrm>
                    </p:grpSpPr>
                    <p:sp>
                      <p:nvSpPr>
                        <p:cNvPr id="304" name=""/>
                        <p:cNvSpPr/>
                        <p:nvPr/>
                      </p:nvSpPr>
                      <p:spPr>
                        <a:xfrm>
                          <a:off x="6450120" y="3529080"/>
                          <a:ext cx="1042920" cy="2509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375600" y="3466080"/>
                          <a:ext cx="1127160" cy="321480"/>
                          <a:chOff x="6375600" y="3466080"/>
                          <a:chExt cx="1127160" cy="321480"/>
                        </a:xfrm>
                      </p:grpSpPr>
                      <p:sp>
                        <p:nvSpPr>
                          <p:cNvPr id="306" name=""/>
                          <p:cNvSpPr/>
                          <p:nvPr/>
                        </p:nvSpPr>
                        <p:spPr>
                          <a:xfrm>
                            <a:off x="6450120" y="3529080"/>
                            <a:ext cx="1028520" cy="2379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375600" y="3466080"/>
                            <a:ext cx="1127160" cy="321480"/>
                            <a:chOff x="6375600" y="3466080"/>
                            <a:chExt cx="1127160" cy="321480"/>
                          </a:xfrm>
                        </p:grpSpPr>
                        <p:sp>
                          <p:nvSpPr>
                            <p:cNvPr id="308" name=""/>
                            <p:cNvSpPr/>
                            <p:nvPr/>
                          </p:nvSpPr>
                          <p:spPr>
                            <a:xfrm>
                              <a:off x="6450120" y="3529080"/>
                              <a:ext cx="1017360" cy="22680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6375600" y="3466080"/>
                              <a:ext cx="1127160" cy="321480"/>
                              <a:chOff x="6375600" y="3466080"/>
                              <a:chExt cx="1127160" cy="321480"/>
                            </a:xfrm>
                          </p:grpSpPr>
                          <p:sp>
                            <p:nvSpPr>
                              <p:cNvPr id="310" name=""/>
                              <p:cNvSpPr/>
                              <p:nvPr/>
                            </p:nvSpPr>
                            <p:spPr>
                              <a:xfrm>
                                <a:off x="6450120" y="3529080"/>
                                <a:ext cx="1006200" cy="21888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6375600" y="3466080"/>
                                <a:ext cx="1127160" cy="321480"/>
                                <a:chOff x="6375600" y="3466080"/>
                                <a:chExt cx="1127160" cy="321480"/>
                              </a:xfrm>
                            </p:grpSpPr>
                            <p:sp>
                              <p:nvSpPr>
                                <p:cNvPr id="312" name=""/>
                                <p:cNvSpPr/>
                                <p:nvPr/>
                              </p:nvSpPr>
                              <p:spPr>
                                <a:xfrm>
                                  <a:off x="6450120" y="3529080"/>
                                  <a:ext cx="996840" cy="21420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6375600" y="3466080"/>
                                  <a:ext cx="1127160" cy="321480"/>
                                  <a:chOff x="6375600" y="3466080"/>
                                  <a:chExt cx="1127160" cy="321480"/>
                                </a:xfrm>
                              </p:grpSpPr>
                              <p:sp>
                                <p:nvSpPr>
                                  <p:cNvPr id="314" name=""/>
                                  <p:cNvSpPr/>
                                  <p:nvPr/>
                                </p:nvSpPr>
                                <p:spPr>
                                  <a:xfrm>
                                    <a:off x="6450120" y="3529080"/>
                                    <a:ext cx="990360" cy="2062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
                                  <p:cNvGrpSpPr/>
                                  <p:nvPr/>
                                </p:nvGrpSpPr>
                                <p:grpSpPr>
                                  <a:xfrm>
                                    <a:off x="6375600" y="3466080"/>
                                    <a:ext cx="1127160" cy="321480"/>
                                    <a:chOff x="6375600" y="3466080"/>
                                    <a:chExt cx="1127160" cy="321480"/>
                                  </a:xfrm>
                                </p:grpSpPr>
                                <p:sp>
                                  <p:nvSpPr>
                                    <p:cNvPr id="316" name=""/>
                                    <p:cNvSpPr/>
                                    <p:nvPr/>
                                  </p:nvSpPr>
                                  <p:spPr>
                                    <a:xfrm>
                                      <a:off x="6450120" y="3529080"/>
                                      <a:ext cx="984240" cy="20160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6375600" y="3466080"/>
                                      <a:ext cx="1127160" cy="321480"/>
                                      <a:chOff x="6375600" y="3466080"/>
                                      <a:chExt cx="1127160" cy="321480"/>
                                    </a:xfrm>
                                  </p:grpSpPr>
                                  <p:sp>
                                    <p:nvSpPr>
                                      <p:cNvPr id="318" name=""/>
                                      <p:cNvSpPr/>
                                      <p:nvPr/>
                                    </p:nvSpPr>
                                    <p:spPr>
                                      <a:xfrm>
                                        <a:off x="6450120" y="3529080"/>
                                        <a:ext cx="981000" cy="19692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6375600" y="3466080"/>
                                        <a:ext cx="1127160" cy="321480"/>
                                        <a:chOff x="6375600" y="3466080"/>
                                        <a:chExt cx="1127160" cy="321480"/>
                                      </a:xfrm>
                                    </p:grpSpPr>
                                    <p:sp>
                                      <p:nvSpPr>
                                        <p:cNvPr id="320" name=""/>
                                        <p:cNvSpPr/>
                                        <p:nvPr/>
                                      </p:nvSpPr>
                                      <p:spPr>
                                        <a:xfrm>
                                          <a:off x="6450120" y="3529080"/>
                                          <a:ext cx="979560" cy="19692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6375600" y="3466080"/>
                                          <a:ext cx="1127160" cy="321480"/>
                                          <a:chOff x="6375600" y="3466080"/>
                                          <a:chExt cx="1127160" cy="321480"/>
                                        </a:xfrm>
                                      </p:grpSpPr>
                                      <p:sp>
                                        <p:nvSpPr>
                                          <p:cNvPr id="322" name=""/>
                                          <p:cNvSpPr/>
                                          <p:nvPr/>
                                        </p:nvSpPr>
                                        <p:spPr>
                                          <a:xfrm>
                                            <a:off x="6450120" y="3529080"/>
                                            <a:ext cx="979560" cy="19692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375600" y="3466080"/>
                                            <a:ext cx="1127160" cy="321480"/>
                                          </a:xfrm>
                                          <a:prstGeom prst="roundRect">
                                            <a:avLst>
                                              <a:gd name="adj" fmla="val 819"/>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Trim Gain</a:t>
                                            </a:r>
                                            <a:endParaRPr b="0" lang="en-US" sz="1600" spc="-1" strike="noStrike">
                                              <a:solidFill>
                                                <a:srgbClr val="000000"/>
                                              </a:solidFill>
                                              <a:latin typeface="Times New Roman"/>
                                            </a:endParaRPr>
                                          </a:p>
                                        </p:txBody>
                                      </p:sp>
                                    </p:grpSp>
                                  </p:grpSp>
                                </p:grpSp>
                              </p:grpSp>
                            </p:grpSp>
                          </p:grpSp>
                        </p:grpSp>
                      </p:grpSp>
                    </p:grpSp>
                  </p:grpSp>
                </p:grpSp>
              </p:grpSp>
            </p:grpSp>
          </p:grpSp>
        </p:grpSp>
        <p:cxnSp>
          <p:nvCxnSpPr>
            <p:cNvPr id="324" name=""/>
            <p:cNvCxnSpPr>
              <a:stCxn id="232" idx="2"/>
              <a:endCxn id="263" idx="0"/>
            </p:cNvCxnSpPr>
            <p:nvPr/>
          </p:nvCxnSpPr>
          <p:spPr>
            <a:xfrm>
              <a:off x="6989400" y="2101320"/>
              <a:ext cx="5400" cy="275400"/>
            </a:xfrm>
            <a:prstGeom prst="straightConnector1">
              <a:avLst/>
            </a:prstGeom>
            <a:ln w="9360">
              <a:solidFill>
                <a:srgbClr val="000000"/>
              </a:solidFill>
              <a:miter/>
              <a:tailEnd len="med" type="triangle" w="med"/>
            </a:ln>
          </p:spPr>
        </p:cxnSp>
        <p:cxnSp>
          <p:nvCxnSpPr>
            <p:cNvPr id="325" name=""/>
            <p:cNvCxnSpPr>
              <a:stCxn id="263" idx="2"/>
              <a:endCxn id="326" idx="0"/>
            </p:cNvCxnSpPr>
            <p:nvPr/>
          </p:nvCxnSpPr>
          <p:spPr>
            <a:xfrm>
              <a:off x="6994440" y="2706840"/>
              <a:ext cx="8640" cy="235440"/>
            </a:xfrm>
            <a:prstGeom prst="straightConnector1">
              <a:avLst/>
            </a:prstGeom>
            <a:ln w="9360">
              <a:solidFill>
                <a:srgbClr val="000000"/>
              </a:solidFill>
              <a:miter/>
              <a:tailEnd len="med" type="triangle" w="med"/>
            </a:ln>
          </p:spPr>
        </p:cxnSp>
        <p:cxnSp>
          <p:nvCxnSpPr>
            <p:cNvPr id="327" name=""/>
            <p:cNvCxnSpPr>
              <a:stCxn id="294" idx="2"/>
              <a:endCxn id="328" idx="0"/>
            </p:cNvCxnSpPr>
            <p:nvPr/>
          </p:nvCxnSpPr>
          <p:spPr>
            <a:xfrm>
              <a:off x="7013160" y="3859200"/>
              <a:ext cx="2520" cy="288000"/>
            </a:xfrm>
            <a:prstGeom prst="straightConnector1">
              <a:avLst/>
            </a:prstGeom>
            <a:ln w="9360">
              <a:solidFill>
                <a:srgbClr val="000000"/>
              </a:solidFill>
              <a:miter/>
              <a:tailEnd len="med" type="triangle" w="med"/>
            </a:ln>
          </p:spPr>
        </p:cxnSp>
        <p:grpSp>
          <p:nvGrpSpPr>
            <p:cNvPr id="329" name=""/>
            <p:cNvGrpSpPr/>
            <p:nvPr/>
          </p:nvGrpSpPr>
          <p:grpSpPr>
            <a:xfrm>
              <a:off x="8353440" y="4386240"/>
              <a:ext cx="311040" cy="177840"/>
              <a:chOff x="8353440" y="4386240"/>
              <a:chExt cx="311040" cy="177840"/>
            </a:xfrm>
          </p:grpSpPr>
          <p:sp>
            <p:nvSpPr>
              <p:cNvPr id="330" name=""/>
              <p:cNvSpPr/>
              <p:nvPr/>
            </p:nvSpPr>
            <p:spPr>
              <a:xfrm flipV="1">
                <a:off x="8642520" y="4386240"/>
                <a:ext cx="1440" cy="1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8353440" y="4541760"/>
                <a:ext cx="311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32" name=""/>
            <p:cNvSpPr/>
            <p:nvPr/>
          </p:nvSpPr>
          <p:spPr>
            <a:xfrm>
              <a:off x="5065560" y="1889280"/>
              <a:ext cx="381240" cy="2931840"/>
            </a:xfrm>
            <a:custGeom>
              <a:avLst/>
              <a:gdLst/>
              <a:ahLst/>
              <a:rect l="l" t="t" r="r" b="b"/>
              <a:pathLst>
                <a:path w="1059" h="8144">
                  <a:moveTo>
                    <a:pt x="1058" y="0"/>
                  </a:moveTo>
                  <a:cubicBezTo>
                    <a:pt x="793" y="0"/>
                    <a:pt x="528" y="339"/>
                    <a:pt x="528" y="678"/>
                  </a:cubicBezTo>
                  <a:lnTo>
                    <a:pt x="528" y="3393"/>
                  </a:lnTo>
                  <a:cubicBezTo>
                    <a:pt x="528" y="3732"/>
                    <a:pt x="263" y="4073"/>
                    <a:pt x="0" y="4073"/>
                  </a:cubicBezTo>
                  <a:cubicBezTo>
                    <a:pt x="263" y="4073"/>
                    <a:pt x="528" y="4413"/>
                    <a:pt x="528" y="4751"/>
                  </a:cubicBezTo>
                  <a:lnTo>
                    <a:pt x="528" y="7465"/>
                  </a:lnTo>
                  <a:cubicBezTo>
                    <a:pt x="528" y="7804"/>
                    <a:pt x="793" y="8143"/>
                    <a:pt x="1058" y="8143"/>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3" name=""/>
            <p:cNvCxnSpPr>
              <a:endCxn id="332" idx="0"/>
            </p:cNvCxnSpPr>
            <p:nvPr/>
          </p:nvCxnSpPr>
          <p:spPr>
            <a:xfrm flipV="1">
              <a:off x="2838240" y="1888560"/>
              <a:ext cx="2608920" cy="207000"/>
            </a:xfrm>
            <a:prstGeom prst="straightConnector1">
              <a:avLst/>
            </a:prstGeom>
            <a:ln w="12600">
              <a:solidFill>
                <a:srgbClr val="000000"/>
              </a:solidFill>
              <a:miter/>
              <a:tailEnd len="med" type="triangle" w="med"/>
            </a:ln>
          </p:spPr>
        </p:cxnSp>
        <p:grpSp>
          <p:nvGrpSpPr>
            <p:cNvPr id="334" name=""/>
            <p:cNvGrpSpPr/>
            <p:nvPr/>
          </p:nvGrpSpPr>
          <p:grpSpPr>
            <a:xfrm>
              <a:off x="5400720" y="2880000"/>
              <a:ext cx="3138480" cy="391680"/>
              <a:chOff x="5400720" y="2880000"/>
              <a:chExt cx="3138480" cy="391680"/>
            </a:xfrm>
          </p:grpSpPr>
          <p:sp>
            <p:nvSpPr>
              <p:cNvPr id="326" name=""/>
              <p:cNvSpPr/>
              <p:nvPr/>
            </p:nvSpPr>
            <p:spPr>
              <a:xfrm>
                <a:off x="5464080" y="2941560"/>
                <a:ext cx="3075120" cy="330120"/>
              </a:xfrm>
              <a:prstGeom prst="roundRect">
                <a:avLst>
                  <a:gd name="adj" fmla="val 477"/>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5400720" y="2880000"/>
                <a:ext cx="3117960" cy="371160"/>
                <a:chOff x="5400720" y="2880000"/>
                <a:chExt cx="3117960" cy="371160"/>
              </a:xfrm>
            </p:grpSpPr>
            <p:sp>
              <p:nvSpPr>
                <p:cNvPr id="336" name=""/>
                <p:cNvSpPr/>
                <p:nvPr/>
              </p:nvSpPr>
              <p:spPr>
                <a:xfrm>
                  <a:off x="5464080" y="2941560"/>
                  <a:ext cx="3054600" cy="30960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400720" y="2880000"/>
                  <a:ext cx="3100320" cy="353880"/>
                  <a:chOff x="5400720" y="2880000"/>
                  <a:chExt cx="3100320" cy="353880"/>
                </a:xfrm>
              </p:grpSpPr>
              <p:sp>
                <p:nvSpPr>
                  <p:cNvPr id="338" name=""/>
                  <p:cNvSpPr/>
                  <p:nvPr/>
                </p:nvSpPr>
                <p:spPr>
                  <a:xfrm>
                    <a:off x="5464080" y="2941560"/>
                    <a:ext cx="3036960" cy="292320"/>
                  </a:xfrm>
                  <a:prstGeom prst="roundRect">
                    <a:avLst>
                      <a:gd name="adj" fmla="val 5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5400720" y="2880000"/>
                    <a:ext cx="3085920" cy="340920"/>
                    <a:chOff x="5400720" y="2880000"/>
                    <a:chExt cx="3085920" cy="340920"/>
                  </a:xfrm>
                </p:grpSpPr>
                <p:sp>
                  <p:nvSpPr>
                    <p:cNvPr id="340" name=""/>
                    <p:cNvSpPr/>
                    <p:nvPr/>
                  </p:nvSpPr>
                  <p:spPr>
                    <a:xfrm>
                      <a:off x="5464080" y="2941560"/>
                      <a:ext cx="3022560" cy="27936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5400720" y="2880000"/>
                      <a:ext cx="3070080" cy="328320"/>
                      <a:chOff x="5400720" y="2880000"/>
                      <a:chExt cx="3070080" cy="328320"/>
                    </a:xfrm>
                  </p:grpSpPr>
                  <p:sp>
                    <p:nvSpPr>
                      <p:cNvPr id="342" name=""/>
                      <p:cNvSpPr/>
                      <p:nvPr/>
                    </p:nvSpPr>
                    <p:spPr>
                      <a:xfrm>
                        <a:off x="5464080" y="2941560"/>
                        <a:ext cx="300672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5400720" y="2880000"/>
                        <a:ext cx="3059640" cy="321480"/>
                        <a:chOff x="5400720" y="2880000"/>
                        <a:chExt cx="3059640" cy="321480"/>
                      </a:xfrm>
                    </p:grpSpPr>
                    <p:sp>
                      <p:nvSpPr>
                        <p:cNvPr id="344" name=""/>
                        <p:cNvSpPr/>
                        <p:nvPr/>
                      </p:nvSpPr>
                      <p:spPr>
                        <a:xfrm>
                          <a:off x="5464080" y="2941560"/>
                          <a:ext cx="2990880" cy="254160"/>
                        </a:xfrm>
                        <a:prstGeom prst="roundRect">
                          <a:avLst>
                            <a:gd name="adj" fmla="val 6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5400720" y="2880000"/>
                          <a:ext cx="3059640" cy="321480"/>
                          <a:chOff x="5400720" y="2880000"/>
                          <a:chExt cx="3059640" cy="321480"/>
                        </a:xfrm>
                      </p:grpSpPr>
                      <p:sp>
                        <p:nvSpPr>
                          <p:cNvPr id="346" name=""/>
                          <p:cNvSpPr/>
                          <p:nvPr/>
                        </p:nvSpPr>
                        <p:spPr>
                          <a:xfrm>
                            <a:off x="5465880" y="2941560"/>
                            <a:ext cx="2974680" cy="241200"/>
                          </a:xfrm>
                          <a:prstGeom prst="roundRect">
                            <a:avLst>
                              <a:gd name="adj" fmla="val 65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5400720" y="2880000"/>
                            <a:ext cx="3059640" cy="321480"/>
                            <a:chOff x="5400720" y="2880000"/>
                            <a:chExt cx="3059640" cy="321480"/>
                          </a:xfrm>
                        </p:grpSpPr>
                        <p:sp>
                          <p:nvSpPr>
                            <p:cNvPr id="348" name=""/>
                            <p:cNvSpPr/>
                            <p:nvPr/>
                          </p:nvSpPr>
                          <p:spPr>
                            <a:xfrm>
                              <a:off x="5465880" y="2941560"/>
                              <a:ext cx="2962080" cy="2304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5400720" y="2880000"/>
                              <a:ext cx="3059640" cy="321480"/>
                              <a:chOff x="5400720" y="2880000"/>
                              <a:chExt cx="3059640" cy="321480"/>
                            </a:xfrm>
                          </p:grpSpPr>
                          <p:sp>
                            <p:nvSpPr>
                              <p:cNvPr id="350" name=""/>
                              <p:cNvSpPr/>
                              <p:nvPr/>
                            </p:nvSpPr>
                            <p:spPr>
                              <a:xfrm>
                                <a:off x="5465880" y="2941560"/>
                                <a:ext cx="2952720" cy="2253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5400720" y="2880000"/>
                                <a:ext cx="3059640" cy="321480"/>
                                <a:chOff x="5400720" y="2880000"/>
                                <a:chExt cx="3059640" cy="321480"/>
                              </a:xfrm>
                            </p:grpSpPr>
                            <p:sp>
                              <p:nvSpPr>
                                <p:cNvPr id="352" name=""/>
                                <p:cNvSpPr/>
                                <p:nvPr/>
                              </p:nvSpPr>
                              <p:spPr>
                                <a:xfrm>
                                  <a:off x="5465880" y="2941560"/>
                                  <a:ext cx="2944800" cy="21600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5400720" y="2880000"/>
                                  <a:ext cx="3059640" cy="321480"/>
                                  <a:chOff x="5400720" y="2880000"/>
                                  <a:chExt cx="3059640" cy="321480"/>
                                </a:xfrm>
                              </p:grpSpPr>
                              <p:sp>
                                <p:nvSpPr>
                                  <p:cNvPr id="354" name=""/>
                                  <p:cNvSpPr/>
                                  <p:nvPr/>
                                </p:nvSpPr>
                                <p:spPr>
                                  <a:xfrm>
                                    <a:off x="5465880" y="2941560"/>
                                    <a:ext cx="2938320" cy="2080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5400720" y="2880000"/>
                                    <a:ext cx="3059640" cy="321480"/>
                                    <a:chOff x="5400720" y="2880000"/>
                                    <a:chExt cx="3059640" cy="321480"/>
                                  </a:xfrm>
                                </p:grpSpPr>
                                <p:sp>
                                  <p:nvSpPr>
                                    <p:cNvPr id="356" name=""/>
                                    <p:cNvSpPr/>
                                    <p:nvPr/>
                                  </p:nvSpPr>
                                  <p:spPr>
                                    <a:xfrm>
                                      <a:off x="5465880" y="2941560"/>
                                      <a:ext cx="2933640" cy="2048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5400720" y="2880000"/>
                                      <a:ext cx="3059640" cy="321480"/>
                                      <a:chOff x="5400720" y="2880000"/>
                                      <a:chExt cx="3059640" cy="321480"/>
                                    </a:xfrm>
                                  </p:grpSpPr>
                                  <p:sp>
                                    <p:nvSpPr>
                                      <p:cNvPr id="358" name=""/>
                                      <p:cNvSpPr/>
                                      <p:nvPr/>
                                    </p:nvSpPr>
                                    <p:spPr>
                                      <a:xfrm>
                                        <a:off x="5465880" y="2941560"/>
                                        <a:ext cx="2930400" cy="20160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5400720" y="2880000"/>
                                        <a:ext cx="3059640" cy="321480"/>
                                        <a:chOff x="5400720" y="2880000"/>
                                        <a:chExt cx="3059640" cy="321480"/>
                                      </a:xfrm>
                                    </p:grpSpPr>
                                    <p:sp>
                                      <p:nvSpPr>
                                        <p:cNvPr id="360" name=""/>
                                        <p:cNvSpPr/>
                                        <p:nvPr/>
                                      </p:nvSpPr>
                                      <p:spPr>
                                        <a:xfrm>
                                          <a:off x="5465880" y="2941560"/>
                                          <a:ext cx="2928960" cy="200160"/>
                                        </a:xfrm>
                                        <a:prstGeom prst="roundRect">
                                          <a:avLst>
                                            <a:gd name="adj" fmla="val 79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5400720" y="2880000"/>
                                          <a:ext cx="3059640" cy="321480"/>
                                          <a:chOff x="5400720" y="2880000"/>
                                          <a:chExt cx="3059640" cy="321480"/>
                                        </a:xfrm>
                                      </p:grpSpPr>
                                      <p:sp>
                                        <p:nvSpPr>
                                          <p:cNvPr id="362" name=""/>
                                          <p:cNvSpPr/>
                                          <p:nvPr/>
                                        </p:nvSpPr>
                                        <p:spPr>
                                          <a:xfrm>
                                            <a:off x="5465880" y="2941560"/>
                                            <a:ext cx="2928960" cy="19836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400720" y="2880000"/>
                                            <a:ext cx="3059640" cy="321480"/>
                                          </a:xfrm>
                                          <a:prstGeom prst="roundRect">
                                            <a:avLst>
                                              <a:gd name="adj" fmla="val 806"/>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Low Effort Logic Optimization</a:t>
                                            </a:r>
                                            <a:endParaRPr b="0" lang="en-US" sz="1600" spc="-1" strike="noStrike">
                                              <a:solidFill>
                                                <a:srgbClr val="000000"/>
                                              </a:solidFill>
                                              <a:latin typeface="Times New Roman"/>
                                            </a:endParaRPr>
                                          </a:p>
                                        </p:txBody>
                                      </p:sp>
                                    </p:grpSp>
                                  </p:grpSp>
                                </p:grpSp>
                              </p:grpSp>
                            </p:grpSp>
                          </p:grpSp>
                        </p:grpSp>
                      </p:grpSp>
                    </p:grpSp>
                  </p:grpSp>
                </p:grpSp>
              </p:grpSp>
            </p:grpSp>
          </p:grpSp>
        </p:grpSp>
        <p:cxnSp>
          <p:nvCxnSpPr>
            <p:cNvPr id="364" name=""/>
            <p:cNvCxnSpPr>
              <a:stCxn id="326" idx="2"/>
              <a:endCxn id="294" idx="0"/>
            </p:cNvCxnSpPr>
            <p:nvPr/>
          </p:nvCxnSpPr>
          <p:spPr>
            <a:xfrm>
              <a:off x="7000560" y="3271320"/>
              <a:ext cx="13320" cy="258120"/>
            </a:xfrm>
            <a:prstGeom prst="straightConnector1">
              <a:avLst/>
            </a:prstGeom>
            <a:ln w="9360">
              <a:solidFill>
                <a:srgbClr val="000000"/>
              </a:solidFill>
              <a:miter/>
              <a:tailEnd len="med" type="triangle" w="med"/>
            </a:ln>
          </p:spPr>
        </p:cxnSp>
        <p:grpSp>
          <p:nvGrpSpPr>
            <p:cNvPr id="365" name=""/>
            <p:cNvGrpSpPr/>
            <p:nvPr/>
          </p:nvGrpSpPr>
          <p:grpSpPr>
            <a:xfrm>
              <a:off x="5645160" y="4146480"/>
              <a:ext cx="2738520" cy="866880"/>
              <a:chOff x="5645160" y="4146480"/>
              <a:chExt cx="2738520" cy="866880"/>
            </a:xfrm>
          </p:grpSpPr>
          <p:sp>
            <p:nvSpPr>
              <p:cNvPr id="328" name=""/>
              <p:cNvSpPr/>
              <p:nvPr/>
            </p:nvSpPr>
            <p:spPr>
              <a:xfrm>
                <a:off x="5645160" y="4146480"/>
                <a:ext cx="2738520" cy="866880"/>
              </a:xfrm>
              <a:custGeom>
                <a:avLst/>
                <a:gdLst/>
                <a:ahLst/>
                <a:rect l="l" t="t" r="r" b="b"/>
                <a:pathLst>
                  <a:path w="7608" h="2409">
                    <a:moveTo>
                      <a:pt x="0" y="1204"/>
                    </a:moveTo>
                    <a:lnTo>
                      <a:pt x="3804" y="0"/>
                    </a:lnTo>
                    <a:lnTo>
                      <a:pt x="7607" y="1204"/>
                    </a:lnTo>
                    <a:lnTo>
                      <a:pt x="3804" y="2408"/>
                    </a:lnTo>
                    <a:lnTo>
                      <a:pt x="0" y="1204"/>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6335640" y="4174560"/>
                <a:ext cx="1359000" cy="789480"/>
                <a:chOff x="6335640" y="4174560"/>
                <a:chExt cx="1359000" cy="789480"/>
              </a:xfrm>
            </p:grpSpPr>
            <p:sp>
              <p:nvSpPr>
                <p:cNvPr id="367" name=""/>
                <p:cNvSpPr/>
                <p:nvPr/>
              </p:nvSpPr>
              <p:spPr>
                <a:xfrm>
                  <a:off x="6335640" y="4375080"/>
                  <a:ext cx="1359000" cy="405000"/>
                </a:xfrm>
                <a:prstGeom prst="roundRect">
                  <a:avLst>
                    <a:gd name="adj" fmla="val 3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35640" y="4174560"/>
                  <a:ext cx="1354320" cy="7894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Gain Report/</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Timing OK?</a:t>
                  </a:r>
                  <a:endParaRPr b="0" lang="en-US" sz="1600" spc="-1" strike="noStrike">
                    <a:solidFill>
                      <a:srgbClr val="000000"/>
                    </a:solidFill>
                    <a:latin typeface="Times New Roman"/>
                  </a:endParaRPr>
                </a:p>
              </p:txBody>
            </p:sp>
          </p:grpSp>
        </p:grpSp>
      </p:grpSp>
      <p:grpSp>
        <p:nvGrpSpPr>
          <p:cNvPr id="369" name=""/>
          <p:cNvGrpSpPr/>
          <p:nvPr/>
        </p:nvGrpSpPr>
        <p:grpSpPr>
          <a:xfrm>
            <a:off x="135000" y="911880"/>
            <a:ext cx="3814560" cy="5922360"/>
            <a:chOff x="135000" y="911880"/>
            <a:chExt cx="3814560" cy="5922360"/>
          </a:xfrm>
        </p:grpSpPr>
        <p:sp>
          <p:nvSpPr>
            <p:cNvPr id="370" name=""/>
            <p:cNvSpPr/>
            <p:nvPr/>
          </p:nvSpPr>
          <p:spPr>
            <a:xfrm>
              <a:off x="1752480" y="6537240"/>
              <a:ext cx="665280" cy="297000"/>
            </a:xfrm>
            <a:custGeom>
              <a:avLst/>
              <a:gdLst/>
              <a:ahLst/>
              <a:rect l="l" t="t" r="r" b="b"/>
              <a:pathLst>
                <a:path w="1849" h="825">
                  <a:moveTo>
                    <a:pt x="0" y="410"/>
                  </a:moveTo>
                  <a:lnTo>
                    <a:pt x="924" y="0"/>
                  </a:lnTo>
                  <a:lnTo>
                    <a:pt x="1848" y="410"/>
                  </a:lnTo>
                  <a:lnTo>
                    <a:pt x="924" y="824"/>
                  </a:lnTo>
                  <a:lnTo>
                    <a:pt x="0" y="410"/>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1266480" y="1946880"/>
              <a:ext cx="1529280" cy="383400"/>
              <a:chOff x="1266480" y="1946880"/>
              <a:chExt cx="1529280" cy="383400"/>
            </a:xfrm>
          </p:grpSpPr>
          <p:sp>
            <p:nvSpPr>
              <p:cNvPr id="372" name=""/>
              <p:cNvSpPr/>
              <p:nvPr/>
            </p:nvSpPr>
            <p:spPr>
              <a:xfrm>
                <a:off x="1341360" y="2009880"/>
                <a:ext cx="1454400" cy="320400"/>
              </a:xfrm>
              <a:prstGeom prst="roundRect">
                <a:avLst>
                  <a:gd name="adj" fmla="val 491"/>
                </a:avLst>
              </a:prstGeom>
              <a:gradFill rotWithShape="0">
                <a:gsLst>
                  <a:gs pos="0">
                    <a:srgbClr val="f1190a"/>
                  </a:gs>
                  <a:gs pos="50000">
                    <a:srgbClr val="ffffff"/>
                  </a:gs>
                  <a:gs pos="100000">
                    <a:srgbClr val="f1190a"/>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1266480" y="1946880"/>
                <a:ext cx="1508400" cy="364680"/>
                <a:chOff x="1266480" y="1946880"/>
                <a:chExt cx="1508400" cy="364680"/>
              </a:xfrm>
            </p:grpSpPr>
            <p:sp>
              <p:nvSpPr>
                <p:cNvPr id="374" name=""/>
                <p:cNvSpPr/>
                <p:nvPr/>
              </p:nvSpPr>
              <p:spPr>
                <a:xfrm>
                  <a:off x="1341360" y="2009880"/>
                  <a:ext cx="1433520" cy="3016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1266480" y="1946880"/>
                  <a:ext cx="1494360" cy="351720"/>
                  <a:chOff x="1266480" y="1946880"/>
                  <a:chExt cx="1494360" cy="351720"/>
                </a:xfrm>
              </p:grpSpPr>
              <p:sp>
                <p:nvSpPr>
                  <p:cNvPr id="376" name=""/>
                  <p:cNvSpPr/>
                  <p:nvPr/>
                </p:nvSpPr>
                <p:spPr>
                  <a:xfrm>
                    <a:off x="1341360" y="2011320"/>
                    <a:ext cx="1419480" cy="287280"/>
                  </a:xfrm>
                  <a:prstGeom prst="roundRect">
                    <a:avLst>
                      <a:gd name="adj" fmla="val 5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1266480" y="1946880"/>
                    <a:ext cx="1478160" cy="334440"/>
                    <a:chOff x="1266480" y="1946880"/>
                    <a:chExt cx="1478160" cy="334440"/>
                  </a:xfrm>
                </p:grpSpPr>
                <p:sp>
                  <p:nvSpPr>
                    <p:cNvPr id="378" name=""/>
                    <p:cNvSpPr/>
                    <p:nvPr/>
                  </p:nvSpPr>
                  <p:spPr>
                    <a:xfrm>
                      <a:off x="1341360" y="2014560"/>
                      <a:ext cx="140328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1266480" y="1946880"/>
                      <a:ext cx="1459080" cy="321480"/>
                      <a:chOff x="1266480" y="1946880"/>
                      <a:chExt cx="1459080" cy="321480"/>
                    </a:xfrm>
                  </p:grpSpPr>
                  <p:sp>
                    <p:nvSpPr>
                      <p:cNvPr id="380" name=""/>
                      <p:cNvSpPr/>
                      <p:nvPr/>
                    </p:nvSpPr>
                    <p:spPr>
                      <a:xfrm>
                        <a:off x="1341360" y="2014560"/>
                        <a:ext cx="1384200" cy="2509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1" name=""/>
                      <p:cNvGrpSpPr/>
                      <p:nvPr/>
                    </p:nvGrpSpPr>
                    <p:grpSpPr>
                      <a:xfrm>
                        <a:off x="1266480" y="1946880"/>
                        <a:ext cx="1454760" cy="321480"/>
                        <a:chOff x="1266480" y="1946880"/>
                        <a:chExt cx="1454760" cy="321480"/>
                      </a:xfrm>
                    </p:grpSpPr>
                    <p:sp>
                      <p:nvSpPr>
                        <p:cNvPr id="382" name=""/>
                        <p:cNvSpPr/>
                        <p:nvPr/>
                      </p:nvSpPr>
                      <p:spPr>
                        <a:xfrm>
                          <a:off x="1341360" y="2014560"/>
                          <a:ext cx="1370160" cy="2397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1266480" y="1946880"/>
                          <a:ext cx="1454760" cy="321480"/>
                          <a:chOff x="1266480" y="1946880"/>
                          <a:chExt cx="1454760" cy="321480"/>
                        </a:xfrm>
                      </p:grpSpPr>
                      <p:sp>
                        <p:nvSpPr>
                          <p:cNvPr id="384" name=""/>
                          <p:cNvSpPr/>
                          <p:nvPr/>
                        </p:nvSpPr>
                        <p:spPr>
                          <a:xfrm>
                            <a:off x="1341360" y="2014560"/>
                            <a:ext cx="1357560" cy="2271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1266480" y="1946880"/>
                            <a:ext cx="1454760" cy="321480"/>
                            <a:chOff x="1266480" y="1946880"/>
                            <a:chExt cx="1454760" cy="321480"/>
                          </a:xfrm>
                        </p:grpSpPr>
                        <p:sp>
                          <p:nvSpPr>
                            <p:cNvPr id="386" name=""/>
                            <p:cNvSpPr/>
                            <p:nvPr/>
                          </p:nvSpPr>
                          <p:spPr>
                            <a:xfrm>
                              <a:off x="1341360" y="2014560"/>
                              <a:ext cx="1344600" cy="21888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1266480" y="1946880"/>
                              <a:ext cx="1454760" cy="321480"/>
                              <a:chOff x="1266480" y="1946880"/>
                              <a:chExt cx="1454760" cy="321480"/>
                            </a:xfrm>
                          </p:grpSpPr>
                          <p:sp>
                            <p:nvSpPr>
                              <p:cNvPr id="388" name=""/>
                              <p:cNvSpPr/>
                              <p:nvPr/>
                            </p:nvSpPr>
                            <p:spPr>
                              <a:xfrm>
                                <a:off x="1341360" y="2014560"/>
                                <a:ext cx="1333440" cy="21096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9" name=""/>
                              <p:cNvGrpSpPr/>
                              <p:nvPr/>
                            </p:nvGrpSpPr>
                            <p:grpSpPr>
                              <a:xfrm>
                                <a:off x="1266480" y="1946880"/>
                                <a:ext cx="1454760" cy="321480"/>
                                <a:chOff x="1266480" y="1946880"/>
                                <a:chExt cx="1454760" cy="321480"/>
                              </a:xfrm>
                            </p:grpSpPr>
                            <p:sp>
                              <p:nvSpPr>
                                <p:cNvPr id="390" name=""/>
                                <p:cNvSpPr/>
                                <p:nvPr/>
                              </p:nvSpPr>
                              <p:spPr>
                                <a:xfrm>
                                  <a:off x="1341360" y="2014560"/>
                                  <a:ext cx="1325520" cy="2030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1266480" y="1946880"/>
                                  <a:ext cx="1454760" cy="321480"/>
                                  <a:chOff x="1266480" y="1946880"/>
                                  <a:chExt cx="1454760" cy="321480"/>
                                </a:xfrm>
                              </p:grpSpPr>
                              <p:sp>
                                <p:nvSpPr>
                                  <p:cNvPr id="392" name=""/>
                                  <p:cNvSpPr/>
                                  <p:nvPr/>
                                </p:nvSpPr>
                                <p:spPr>
                                  <a:xfrm>
                                    <a:off x="1341360" y="2014560"/>
                                    <a:ext cx="1317600" cy="19692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1266480" y="1946880"/>
                                    <a:ext cx="1454760" cy="321480"/>
                                    <a:chOff x="1266480" y="1946880"/>
                                    <a:chExt cx="1454760" cy="321480"/>
                                  </a:xfrm>
                                </p:grpSpPr>
                                <p:sp>
                                  <p:nvSpPr>
                                    <p:cNvPr id="394" name=""/>
                                    <p:cNvSpPr/>
                                    <p:nvPr/>
                                  </p:nvSpPr>
                                  <p:spPr>
                                    <a:xfrm>
                                      <a:off x="1341360" y="2014560"/>
                                      <a:ext cx="1311480" cy="192240"/>
                                    </a:xfrm>
                                    <a:prstGeom prst="roundRect">
                                      <a:avLst>
                                        <a:gd name="adj" fmla="val 8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1266480" y="1946880"/>
                                      <a:ext cx="1454760" cy="321480"/>
                                      <a:chOff x="1266480" y="1946880"/>
                                      <a:chExt cx="1454760" cy="321480"/>
                                    </a:xfrm>
                                  </p:grpSpPr>
                                  <p:sp>
                                    <p:nvSpPr>
                                      <p:cNvPr id="396" name=""/>
                                      <p:cNvSpPr/>
                                      <p:nvPr/>
                                    </p:nvSpPr>
                                    <p:spPr>
                                      <a:xfrm>
                                        <a:off x="1341360" y="2014560"/>
                                        <a:ext cx="1308240" cy="190440"/>
                                      </a:xfrm>
                                      <a:prstGeom prst="roundRect">
                                        <a:avLst>
                                          <a:gd name="adj" fmla="val 8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1266480" y="1946880"/>
                                        <a:ext cx="1454760" cy="321480"/>
                                        <a:chOff x="1266480" y="1946880"/>
                                        <a:chExt cx="1454760" cy="321480"/>
                                      </a:xfrm>
                                    </p:grpSpPr>
                                    <p:sp>
                                      <p:nvSpPr>
                                        <p:cNvPr id="398" name=""/>
                                        <p:cNvSpPr/>
                                        <p:nvPr/>
                                      </p:nvSpPr>
                                      <p:spPr>
                                        <a:xfrm>
                                          <a:off x="1341360" y="2014560"/>
                                          <a:ext cx="1306440" cy="18900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1266480" y="1946880"/>
                                          <a:ext cx="1454760" cy="321480"/>
                                          <a:chOff x="1266480" y="1946880"/>
                                          <a:chExt cx="1454760" cy="321480"/>
                                        </a:xfrm>
                                      </p:grpSpPr>
                                      <p:sp>
                                        <p:nvSpPr>
                                          <p:cNvPr id="400" name=""/>
                                          <p:cNvSpPr/>
                                          <p:nvPr/>
                                        </p:nvSpPr>
                                        <p:spPr>
                                          <a:xfrm>
                                            <a:off x="1341360" y="2014560"/>
                                            <a:ext cx="1306440" cy="18720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266480" y="1946880"/>
                                            <a:ext cx="1454760" cy="321480"/>
                                          </a:xfrm>
                                          <a:prstGeom prst="roundRect">
                                            <a:avLst>
                                              <a:gd name="adj" fmla="val 861"/>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Time</a:t>
                                            </a:r>
                                            <a:endParaRPr b="0" lang="en-US" sz="1600" spc="-1" strike="noStrike">
                                              <a:solidFill>
                                                <a:srgbClr val="000000"/>
                                              </a:solidFill>
                                              <a:latin typeface="Times New Roman"/>
                                            </a:endParaRPr>
                                          </a:p>
                                        </p:txBody>
                                      </p:sp>
                                    </p:grpSp>
                                  </p:grpSp>
                                </p:grpSp>
                              </p:grpSp>
                            </p:grpSp>
                          </p:grpSp>
                        </p:grpSp>
                      </p:grpSp>
                    </p:grpSp>
                  </p:grpSp>
                </p:grpSp>
              </p:grpSp>
            </p:grpSp>
          </p:grpSp>
        </p:grpSp>
        <p:grpSp>
          <p:nvGrpSpPr>
            <p:cNvPr id="402" name=""/>
            <p:cNvGrpSpPr/>
            <p:nvPr/>
          </p:nvGrpSpPr>
          <p:grpSpPr>
            <a:xfrm>
              <a:off x="1292040" y="3489120"/>
              <a:ext cx="1481400" cy="390600"/>
              <a:chOff x="1292040" y="3489120"/>
              <a:chExt cx="1481400" cy="390600"/>
            </a:xfrm>
          </p:grpSpPr>
          <p:sp>
            <p:nvSpPr>
              <p:cNvPr id="403" name=""/>
              <p:cNvSpPr/>
              <p:nvPr/>
            </p:nvSpPr>
            <p:spPr>
              <a:xfrm>
                <a:off x="1365120" y="3556080"/>
                <a:ext cx="1408320" cy="323640"/>
              </a:xfrm>
              <a:prstGeom prst="roundRect">
                <a:avLst>
                  <a:gd name="adj" fmla="val 486"/>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4" name=""/>
              <p:cNvGrpSpPr/>
              <p:nvPr/>
            </p:nvGrpSpPr>
            <p:grpSpPr>
              <a:xfrm>
                <a:off x="1292040" y="3489120"/>
                <a:ext cx="1462320" cy="368640"/>
                <a:chOff x="1292040" y="3489120"/>
                <a:chExt cx="1462320" cy="368640"/>
              </a:xfrm>
            </p:grpSpPr>
            <p:sp>
              <p:nvSpPr>
                <p:cNvPr id="405" name=""/>
                <p:cNvSpPr/>
                <p:nvPr/>
              </p:nvSpPr>
              <p:spPr>
                <a:xfrm>
                  <a:off x="1365120" y="3556080"/>
                  <a:ext cx="1389240" cy="3016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1292040" y="3489120"/>
                  <a:ext cx="1446480" cy="347760"/>
                  <a:chOff x="1292040" y="3489120"/>
                  <a:chExt cx="1446480" cy="347760"/>
                </a:xfrm>
              </p:grpSpPr>
              <p:sp>
                <p:nvSpPr>
                  <p:cNvPr id="407" name=""/>
                  <p:cNvSpPr/>
                  <p:nvPr/>
                </p:nvSpPr>
                <p:spPr>
                  <a:xfrm>
                    <a:off x="1365120" y="3556080"/>
                    <a:ext cx="1373400" cy="28080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8" name=""/>
                  <p:cNvGrpSpPr/>
                  <p:nvPr/>
                </p:nvGrpSpPr>
                <p:grpSpPr>
                  <a:xfrm>
                    <a:off x="1292040" y="3489120"/>
                    <a:ext cx="1428840" cy="336600"/>
                    <a:chOff x="1292040" y="3489120"/>
                    <a:chExt cx="1428840" cy="336600"/>
                  </a:xfrm>
                </p:grpSpPr>
                <p:sp>
                  <p:nvSpPr>
                    <p:cNvPr id="409" name=""/>
                    <p:cNvSpPr/>
                    <p:nvPr/>
                  </p:nvSpPr>
                  <p:spPr>
                    <a:xfrm>
                      <a:off x="1365120" y="3556080"/>
                      <a:ext cx="1355760" cy="269640"/>
                    </a:xfrm>
                    <a:prstGeom prst="roundRect">
                      <a:avLst>
                        <a:gd name="adj" fmla="val 5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 name=""/>
                    <p:cNvGrpSpPr/>
                    <p:nvPr/>
                  </p:nvGrpSpPr>
                  <p:grpSpPr>
                    <a:xfrm>
                      <a:off x="1292040" y="3489120"/>
                      <a:ext cx="1413000" cy="322560"/>
                      <a:chOff x="1292040" y="3489120"/>
                      <a:chExt cx="1413000" cy="322560"/>
                    </a:xfrm>
                  </p:grpSpPr>
                  <p:sp>
                    <p:nvSpPr>
                      <p:cNvPr id="411" name=""/>
                      <p:cNvSpPr/>
                      <p:nvPr/>
                    </p:nvSpPr>
                    <p:spPr>
                      <a:xfrm>
                        <a:off x="1365120" y="3556080"/>
                        <a:ext cx="1339920" cy="255600"/>
                      </a:xfrm>
                      <a:prstGeom prst="roundRect">
                        <a:avLst>
                          <a:gd name="adj" fmla="val 6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1292040" y="3489120"/>
                        <a:ext cx="1410480" cy="321480"/>
                        <a:chOff x="1292040" y="3489120"/>
                        <a:chExt cx="1410480" cy="321480"/>
                      </a:xfrm>
                    </p:grpSpPr>
                    <p:sp>
                      <p:nvSpPr>
                        <p:cNvPr id="413" name=""/>
                        <p:cNvSpPr/>
                        <p:nvPr/>
                      </p:nvSpPr>
                      <p:spPr>
                        <a:xfrm>
                          <a:off x="1365120" y="3556080"/>
                          <a:ext cx="1325520" cy="244440"/>
                        </a:xfrm>
                        <a:prstGeom prst="roundRect">
                          <a:avLst>
                            <a:gd name="adj" fmla="val 64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292040" y="3489120"/>
                          <a:ext cx="1410480" cy="321480"/>
                          <a:chOff x="1292040" y="3489120"/>
                          <a:chExt cx="1410480" cy="321480"/>
                        </a:xfrm>
                      </p:grpSpPr>
                      <p:sp>
                        <p:nvSpPr>
                          <p:cNvPr id="415" name=""/>
                          <p:cNvSpPr/>
                          <p:nvPr/>
                        </p:nvSpPr>
                        <p:spPr>
                          <a:xfrm>
                            <a:off x="1365120" y="3556080"/>
                            <a:ext cx="1311480" cy="23004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1292040" y="3489120"/>
                            <a:ext cx="1410480" cy="321480"/>
                            <a:chOff x="1292040" y="3489120"/>
                            <a:chExt cx="1410480" cy="321480"/>
                          </a:xfrm>
                        </p:grpSpPr>
                        <p:sp>
                          <p:nvSpPr>
                            <p:cNvPr id="417" name=""/>
                            <p:cNvSpPr/>
                            <p:nvPr/>
                          </p:nvSpPr>
                          <p:spPr>
                            <a:xfrm>
                              <a:off x="1365120" y="3556080"/>
                              <a:ext cx="1300320" cy="21888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1292040" y="3489120"/>
                              <a:ext cx="1410480" cy="321480"/>
                              <a:chOff x="1292040" y="3489120"/>
                              <a:chExt cx="1410480" cy="321480"/>
                            </a:xfrm>
                          </p:grpSpPr>
                          <p:sp>
                            <p:nvSpPr>
                              <p:cNvPr id="419" name=""/>
                              <p:cNvSpPr/>
                              <p:nvPr/>
                            </p:nvSpPr>
                            <p:spPr>
                              <a:xfrm>
                                <a:off x="1365120" y="3556080"/>
                                <a:ext cx="1290600" cy="21276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1292040" y="3489120"/>
                                <a:ext cx="1410480" cy="321480"/>
                                <a:chOff x="1292040" y="3489120"/>
                                <a:chExt cx="1410480" cy="321480"/>
                              </a:xfrm>
                            </p:grpSpPr>
                            <p:sp>
                              <p:nvSpPr>
                                <p:cNvPr id="421" name=""/>
                                <p:cNvSpPr/>
                                <p:nvPr/>
                              </p:nvSpPr>
                              <p:spPr>
                                <a:xfrm>
                                  <a:off x="1365120" y="3556080"/>
                                  <a:ext cx="1285920" cy="2048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2" name=""/>
                                <p:cNvGrpSpPr/>
                                <p:nvPr/>
                              </p:nvGrpSpPr>
                              <p:grpSpPr>
                                <a:xfrm>
                                  <a:off x="1292040" y="3489120"/>
                                  <a:ext cx="1410480" cy="321480"/>
                                  <a:chOff x="1292040" y="3489120"/>
                                  <a:chExt cx="1410480" cy="321480"/>
                                </a:xfrm>
                              </p:grpSpPr>
                              <p:sp>
                                <p:nvSpPr>
                                  <p:cNvPr id="423" name=""/>
                                  <p:cNvSpPr/>
                                  <p:nvPr/>
                                </p:nvSpPr>
                                <p:spPr>
                                  <a:xfrm>
                                    <a:off x="1365120" y="3556080"/>
                                    <a:ext cx="1278000" cy="19836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 name=""/>
                                  <p:cNvGrpSpPr/>
                                  <p:nvPr/>
                                </p:nvGrpSpPr>
                                <p:grpSpPr>
                                  <a:xfrm>
                                    <a:off x="1292040" y="3489120"/>
                                    <a:ext cx="1410480" cy="321480"/>
                                    <a:chOff x="1292040" y="3489120"/>
                                    <a:chExt cx="1410480" cy="321480"/>
                                  </a:xfrm>
                                </p:grpSpPr>
                                <p:sp>
                                  <p:nvSpPr>
                                    <p:cNvPr id="425" name=""/>
                                    <p:cNvSpPr/>
                                    <p:nvPr/>
                                  </p:nvSpPr>
                                  <p:spPr>
                                    <a:xfrm>
                                      <a:off x="1365120" y="3556080"/>
                                      <a:ext cx="1271880" cy="193680"/>
                                    </a:xfrm>
                                    <a:prstGeom prst="roundRect">
                                      <a:avLst>
                                        <a:gd name="adj" fmla="val 8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1292040" y="3489120"/>
                                      <a:ext cx="1410480" cy="321480"/>
                                      <a:chOff x="1292040" y="3489120"/>
                                      <a:chExt cx="1410480" cy="321480"/>
                                    </a:xfrm>
                                  </p:grpSpPr>
                                  <p:sp>
                                    <p:nvSpPr>
                                      <p:cNvPr id="427" name=""/>
                                      <p:cNvSpPr/>
                                      <p:nvPr/>
                                    </p:nvSpPr>
                                    <p:spPr>
                                      <a:xfrm>
                                        <a:off x="1365120" y="3556080"/>
                                        <a:ext cx="1268640" cy="190440"/>
                                      </a:xfrm>
                                      <a:prstGeom prst="roundRect">
                                        <a:avLst>
                                          <a:gd name="adj" fmla="val 8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1292040" y="3489120"/>
                                        <a:ext cx="1410480" cy="321480"/>
                                        <a:chOff x="1292040" y="3489120"/>
                                        <a:chExt cx="1410480" cy="321480"/>
                                      </a:xfrm>
                                    </p:grpSpPr>
                                    <p:sp>
                                      <p:nvSpPr>
                                        <p:cNvPr id="429" name=""/>
                                        <p:cNvSpPr/>
                                        <p:nvPr/>
                                      </p:nvSpPr>
                                      <p:spPr>
                                        <a:xfrm>
                                          <a:off x="1365120" y="3556080"/>
                                          <a:ext cx="1265400" cy="18900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1292040" y="3489120"/>
                                          <a:ext cx="1410480" cy="321480"/>
                                          <a:chOff x="1292040" y="3489120"/>
                                          <a:chExt cx="1410480" cy="321480"/>
                                        </a:xfrm>
                                      </p:grpSpPr>
                                      <p:sp>
                                        <p:nvSpPr>
                                          <p:cNvPr id="431" name=""/>
                                          <p:cNvSpPr/>
                                          <p:nvPr/>
                                        </p:nvSpPr>
                                        <p:spPr>
                                          <a:xfrm>
                                            <a:off x="1365120" y="3556080"/>
                                            <a:ext cx="1265400" cy="18900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292040" y="3489120"/>
                                            <a:ext cx="1410480" cy="321480"/>
                                          </a:xfrm>
                                          <a:prstGeom prst="roundRect">
                                            <a:avLst>
                                              <a:gd name="adj" fmla="val 847"/>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Plan</a:t>
                                            </a:r>
                                            <a:endParaRPr b="0" lang="en-US" sz="1600" spc="-1" strike="noStrike">
                                              <a:solidFill>
                                                <a:srgbClr val="000000"/>
                                              </a:solidFill>
                                              <a:latin typeface="Times New Roman"/>
                                            </a:endParaRPr>
                                          </a:p>
                                        </p:txBody>
                                      </p:sp>
                                    </p:grpSp>
                                  </p:grpSp>
                                </p:grpSp>
                              </p:grpSp>
                            </p:grpSp>
                          </p:grpSp>
                        </p:grpSp>
                      </p:grpSp>
                    </p:grpSp>
                  </p:grpSp>
                </p:grpSp>
              </p:grpSp>
            </p:grpSp>
          </p:grpSp>
        </p:grpSp>
        <p:grpSp>
          <p:nvGrpSpPr>
            <p:cNvPr id="433" name=""/>
            <p:cNvGrpSpPr/>
            <p:nvPr/>
          </p:nvGrpSpPr>
          <p:grpSpPr>
            <a:xfrm>
              <a:off x="1317960" y="5037480"/>
              <a:ext cx="1428480" cy="375840"/>
              <a:chOff x="1317960" y="5037480"/>
              <a:chExt cx="1428480" cy="375840"/>
            </a:xfrm>
          </p:grpSpPr>
          <p:sp>
            <p:nvSpPr>
              <p:cNvPr id="434" name=""/>
              <p:cNvSpPr/>
              <p:nvPr/>
            </p:nvSpPr>
            <p:spPr>
              <a:xfrm>
                <a:off x="1393920" y="5091120"/>
                <a:ext cx="1352520" cy="322200"/>
              </a:xfrm>
              <a:prstGeom prst="roundRect">
                <a:avLst>
                  <a:gd name="adj" fmla="val 491"/>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
              <p:cNvGrpSpPr/>
              <p:nvPr/>
            </p:nvGrpSpPr>
            <p:grpSpPr>
              <a:xfrm>
                <a:off x="1317960" y="5037480"/>
                <a:ext cx="1407600" cy="355320"/>
                <a:chOff x="1317960" y="5037480"/>
                <a:chExt cx="1407600" cy="355320"/>
              </a:xfrm>
            </p:grpSpPr>
            <p:sp>
              <p:nvSpPr>
                <p:cNvPr id="436" name=""/>
                <p:cNvSpPr/>
                <p:nvPr/>
              </p:nvSpPr>
              <p:spPr>
                <a:xfrm>
                  <a:off x="1393920" y="5091120"/>
                  <a:ext cx="1331640" cy="3016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7" name=""/>
                <p:cNvGrpSpPr/>
                <p:nvPr/>
              </p:nvGrpSpPr>
              <p:grpSpPr>
                <a:xfrm>
                  <a:off x="1317960" y="5037480"/>
                  <a:ext cx="1388880" cy="339480"/>
                  <a:chOff x="1317960" y="5037480"/>
                  <a:chExt cx="1388880" cy="339480"/>
                </a:xfrm>
              </p:grpSpPr>
              <p:sp>
                <p:nvSpPr>
                  <p:cNvPr id="438" name=""/>
                  <p:cNvSpPr/>
                  <p:nvPr/>
                </p:nvSpPr>
                <p:spPr>
                  <a:xfrm>
                    <a:off x="1393920" y="5094360"/>
                    <a:ext cx="131292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1317960" y="5037480"/>
                    <a:ext cx="1372680" cy="323640"/>
                    <a:chOff x="1317960" y="5037480"/>
                    <a:chExt cx="1372680" cy="323640"/>
                  </a:xfrm>
                </p:grpSpPr>
                <p:sp>
                  <p:nvSpPr>
                    <p:cNvPr id="440" name=""/>
                    <p:cNvSpPr/>
                    <p:nvPr/>
                  </p:nvSpPr>
                  <p:spPr>
                    <a:xfrm>
                      <a:off x="1393920" y="5094360"/>
                      <a:ext cx="129672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
                    <p:cNvGrpSpPr/>
                    <p:nvPr/>
                  </p:nvGrpSpPr>
                  <p:grpSpPr>
                    <a:xfrm>
                      <a:off x="1317960" y="5037480"/>
                      <a:ext cx="1358640" cy="321480"/>
                      <a:chOff x="1317960" y="5037480"/>
                      <a:chExt cx="1358640" cy="321480"/>
                    </a:xfrm>
                  </p:grpSpPr>
                  <p:sp>
                    <p:nvSpPr>
                      <p:cNvPr id="442" name=""/>
                      <p:cNvSpPr/>
                      <p:nvPr/>
                    </p:nvSpPr>
                    <p:spPr>
                      <a:xfrm>
                        <a:off x="1393920" y="5095800"/>
                        <a:ext cx="1282680" cy="25092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1317960" y="5037480"/>
                        <a:ext cx="1353960" cy="321480"/>
                        <a:chOff x="1317960" y="5037480"/>
                        <a:chExt cx="1353960" cy="321480"/>
                      </a:xfrm>
                    </p:grpSpPr>
                    <p:sp>
                      <p:nvSpPr>
                        <p:cNvPr id="444" name=""/>
                        <p:cNvSpPr/>
                        <p:nvPr/>
                      </p:nvSpPr>
                      <p:spPr>
                        <a:xfrm>
                          <a:off x="1393920" y="5095800"/>
                          <a:ext cx="1266840" cy="2397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1317960" y="5037480"/>
                          <a:ext cx="1353960" cy="321480"/>
                          <a:chOff x="1317960" y="5037480"/>
                          <a:chExt cx="1353960" cy="321480"/>
                        </a:xfrm>
                      </p:grpSpPr>
                      <p:sp>
                        <p:nvSpPr>
                          <p:cNvPr id="446" name=""/>
                          <p:cNvSpPr/>
                          <p:nvPr/>
                        </p:nvSpPr>
                        <p:spPr>
                          <a:xfrm>
                            <a:off x="1393920" y="5095800"/>
                            <a:ext cx="1255680" cy="2304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1317960" y="5037480"/>
                            <a:ext cx="1353960" cy="321480"/>
                            <a:chOff x="1317960" y="5037480"/>
                            <a:chExt cx="1353960" cy="321480"/>
                          </a:xfrm>
                        </p:grpSpPr>
                        <p:sp>
                          <p:nvSpPr>
                            <p:cNvPr id="448" name=""/>
                            <p:cNvSpPr/>
                            <p:nvPr/>
                          </p:nvSpPr>
                          <p:spPr>
                            <a:xfrm>
                              <a:off x="1393920" y="5095800"/>
                              <a:ext cx="1243080" cy="219240"/>
                            </a:xfrm>
                            <a:prstGeom prst="roundRect">
                              <a:avLst>
                                <a:gd name="adj" fmla="val 7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1317960" y="5037480"/>
                              <a:ext cx="1353960" cy="321480"/>
                              <a:chOff x="1317960" y="5037480"/>
                              <a:chExt cx="1353960" cy="321480"/>
                            </a:xfrm>
                          </p:grpSpPr>
                          <p:sp>
                            <p:nvSpPr>
                              <p:cNvPr id="450" name=""/>
                              <p:cNvSpPr/>
                              <p:nvPr/>
                            </p:nvSpPr>
                            <p:spPr>
                              <a:xfrm>
                                <a:off x="1393920" y="5095800"/>
                                <a:ext cx="1230120" cy="211320"/>
                              </a:xfrm>
                              <a:prstGeom prst="roundRect">
                                <a:avLst>
                                  <a:gd name="adj" fmla="val 75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1317960" y="5037480"/>
                                <a:ext cx="1353960" cy="321480"/>
                                <a:chOff x="1317960" y="5037480"/>
                                <a:chExt cx="1353960" cy="321480"/>
                              </a:xfrm>
                            </p:grpSpPr>
                            <p:sp>
                              <p:nvSpPr>
                                <p:cNvPr id="452" name=""/>
                                <p:cNvSpPr/>
                                <p:nvPr/>
                              </p:nvSpPr>
                              <p:spPr>
                                <a:xfrm>
                                  <a:off x="1393920" y="5099040"/>
                                  <a:ext cx="1222200" cy="2030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3" name=""/>
                                <p:cNvGrpSpPr/>
                                <p:nvPr/>
                              </p:nvGrpSpPr>
                              <p:grpSpPr>
                                <a:xfrm>
                                  <a:off x="1317960" y="5037480"/>
                                  <a:ext cx="1353960" cy="321480"/>
                                  <a:chOff x="1317960" y="5037480"/>
                                  <a:chExt cx="1353960" cy="321480"/>
                                </a:xfrm>
                              </p:grpSpPr>
                              <p:sp>
                                <p:nvSpPr>
                                  <p:cNvPr id="454" name=""/>
                                  <p:cNvSpPr/>
                                  <p:nvPr/>
                                </p:nvSpPr>
                                <p:spPr>
                                  <a:xfrm>
                                    <a:off x="1393920" y="5099040"/>
                                    <a:ext cx="1216080" cy="195120"/>
                                  </a:xfrm>
                                  <a:prstGeom prst="roundRect">
                                    <a:avLst>
                                      <a:gd name="adj" fmla="val 8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1317960" y="5037480"/>
                                    <a:ext cx="1353960" cy="321480"/>
                                    <a:chOff x="1317960" y="5037480"/>
                                    <a:chExt cx="1353960" cy="321480"/>
                                  </a:xfrm>
                                </p:grpSpPr>
                                <p:sp>
                                  <p:nvSpPr>
                                    <p:cNvPr id="456" name=""/>
                                    <p:cNvSpPr/>
                                    <p:nvPr/>
                                  </p:nvSpPr>
                                  <p:spPr>
                                    <a:xfrm>
                                      <a:off x="1393920" y="5102280"/>
                                      <a:ext cx="1211040" cy="190440"/>
                                    </a:xfrm>
                                    <a:prstGeom prst="roundRect">
                                      <a:avLst>
                                        <a:gd name="adj" fmla="val 8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1317960" y="5037480"/>
                                      <a:ext cx="1353960" cy="321480"/>
                                      <a:chOff x="1317960" y="5037480"/>
                                      <a:chExt cx="1353960" cy="321480"/>
                                    </a:xfrm>
                                  </p:grpSpPr>
                                  <p:sp>
                                    <p:nvSpPr>
                                      <p:cNvPr id="458" name=""/>
                                      <p:cNvSpPr/>
                                      <p:nvPr/>
                                    </p:nvSpPr>
                                    <p:spPr>
                                      <a:xfrm>
                                        <a:off x="1393920" y="5103720"/>
                                        <a:ext cx="1206360" cy="185760"/>
                                      </a:xfrm>
                                      <a:prstGeom prst="roundRect">
                                        <a:avLst>
                                          <a:gd name="adj" fmla="val 86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1317960" y="5037480"/>
                                        <a:ext cx="1353960" cy="321480"/>
                                        <a:chOff x="1317960" y="5037480"/>
                                        <a:chExt cx="1353960" cy="321480"/>
                                      </a:xfrm>
                                    </p:grpSpPr>
                                    <p:sp>
                                      <p:nvSpPr>
                                        <p:cNvPr id="460" name=""/>
                                        <p:cNvSpPr/>
                                        <p:nvPr/>
                                      </p:nvSpPr>
                                      <p:spPr>
                                        <a:xfrm>
                                          <a:off x="1393920" y="5103720"/>
                                          <a:ext cx="1201680" cy="182520"/>
                                        </a:xfrm>
                                        <a:prstGeom prst="roundRect">
                                          <a:avLst>
                                            <a:gd name="adj" fmla="val 8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1317960" y="5037480"/>
                                          <a:ext cx="1353960" cy="321480"/>
                                          <a:chOff x="1317960" y="5037480"/>
                                          <a:chExt cx="1353960" cy="321480"/>
                                        </a:xfrm>
                                      </p:grpSpPr>
                                      <p:sp>
                                        <p:nvSpPr>
                                          <p:cNvPr id="462" name=""/>
                                          <p:cNvSpPr/>
                                          <p:nvPr/>
                                        </p:nvSpPr>
                                        <p:spPr>
                                          <a:xfrm>
                                            <a:off x="1393920" y="5105520"/>
                                            <a:ext cx="1201680" cy="183960"/>
                                          </a:xfrm>
                                          <a:prstGeom prst="roundRect">
                                            <a:avLst>
                                              <a:gd name="adj" fmla="val 86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317960" y="5037480"/>
                                            <a:ext cx="1353960" cy="321480"/>
                                          </a:xfrm>
                                          <a:prstGeom prst="roundRect">
                                            <a:avLst>
                                              <a:gd name="adj" fmla="val 875"/>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Cell</a:t>
                                            </a:r>
                                            <a:endParaRPr b="0" lang="en-US" sz="1600" spc="-1" strike="noStrike">
                                              <a:solidFill>
                                                <a:srgbClr val="000000"/>
                                              </a:solidFill>
                                              <a:latin typeface="Times New Roman"/>
                                            </a:endParaRPr>
                                          </a:p>
                                        </p:txBody>
                                      </p:sp>
                                    </p:grpSp>
                                  </p:grpSp>
                                </p:grpSp>
                              </p:grpSp>
                            </p:grpSp>
                          </p:grpSp>
                        </p:grpSp>
                      </p:grpSp>
                    </p:grpSp>
                  </p:grpSp>
                </p:grpSp>
              </p:grpSp>
            </p:grpSp>
          </p:grpSp>
        </p:grpSp>
        <p:grpSp>
          <p:nvGrpSpPr>
            <p:cNvPr id="464" name=""/>
            <p:cNvGrpSpPr/>
            <p:nvPr/>
          </p:nvGrpSpPr>
          <p:grpSpPr>
            <a:xfrm>
              <a:off x="1234800" y="5989320"/>
              <a:ext cx="1606680" cy="373320"/>
              <a:chOff x="1234800" y="5989320"/>
              <a:chExt cx="1606680" cy="373320"/>
            </a:xfrm>
          </p:grpSpPr>
          <p:sp>
            <p:nvSpPr>
              <p:cNvPr id="465" name=""/>
              <p:cNvSpPr/>
              <p:nvPr/>
            </p:nvSpPr>
            <p:spPr>
              <a:xfrm>
                <a:off x="1309680" y="6040440"/>
                <a:ext cx="1531800" cy="322200"/>
              </a:xfrm>
              <a:prstGeom prst="roundRect">
                <a:avLst>
                  <a:gd name="adj" fmla="val 491"/>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1234800" y="5989320"/>
                <a:ext cx="1586160" cy="352800"/>
                <a:chOff x="1234800" y="5989320"/>
                <a:chExt cx="1586160" cy="352800"/>
              </a:xfrm>
            </p:grpSpPr>
            <p:sp>
              <p:nvSpPr>
                <p:cNvPr id="467" name=""/>
                <p:cNvSpPr/>
                <p:nvPr/>
              </p:nvSpPr>
              <p:spPr>
                <a:xfrm>
                  <a:off x="1309680" y="6040440"/>
                  <a:ext cx="1511280" cy="3016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1234800" y="5989320"/>
                  <a:ext cx="1568880" cy="333720"/>
                  <a:chOff x="1234800" y="5989320"/>
                  <a:chExt cx="1568880" cy="333720"/>
                </a:xfrm>
              </p:grpSpPr>
              <p:sp>
                <p:nvSpPr>
                  <p:cNvPr id="469" name=""/>
                  <p:cNvSpPr/>
                  <p:nvPr/>
                </p:nvSpPr>
                <p:spPr>
                  <a:xfrm>
                    <a:off x="1309680" y="6040440"/>
                    <a:ext cx="1494000" cy="282600"/>
                  </a:xfrm>
                  <a:prstGeom prst="roundRect">
                    <a:avLst>
                      <a:gd name="adj" fmla="val 5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0" name=""/>
                  <p:cNvGrpSpPr/>
                  <p:nvPr/>
                </p:nvGrpSpPr>
                <p:grpSpPr>
                  <a:xfrm>
                    <a:off x="1234800" y="5989320"/>
                    <a:ext cx="1554480" cy="321480"/>
                    <a:chOff x="1234800" y="5989320"/>
                    <a:chExt cx="1554480" cy="321480"/>
                  </a:xfrm>
                </p:grpSpPr>
                <p:sp>
                  <p:nvSpPr>
                    <p:cNvPr id="471" name=""/>
                    <p:cNvSpPr/>
                    <p:nvPr/>
                  </p:nvSpPr>
                  <p:spPr>
                    <a:xfrm>
                      <a:off x="1309680" y="6041880"/>
                      <a:ext cx="1479600" cy="265320"/>
                    </a:xfrm>
                    <a:prstGeom prst="roundRect">
                      <a:avLst>
                        <a:gd name="adj" fmla="val 60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2" name=""/>
                    <p:cNvGrpSpPr/>
                    <p:nvPr/>
                  </p:nvGrpSpPr>
                  <p:grpSpPr>
                    <a:xfrm>
                      <a:off x="1234800" y="5989320"/>
                      <a:ext cx="1536840" cy="321480"/>
                      <a:chOff x="1234800" y="5989320"/>
                      <a:chExt cx="1536840" cy="321480"/>
                    </a:xfrm>
                  </p:grpSpPr>
                  <p:sp>
                    <p:nvSpPr>
                      <p:cNvPr id="473" name=""/>
                      <p:cNvSpPr/>
                      <p:nvPr/>
                    </p:nvSpPr>
                    <p:spPr>
                      <a:xfrm>
                        <a:off x="1309680" y="6043680"/>
                        <a:ext cx="1461960" cy="25236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1234800" y="5989320"/>
                        <a:ext cx="1533960" cy="321480"/>
                        <a:chOff x="1234800" y="5989320"/>
                        <a:chExt cx="1533960" cy="321480"/>
                      </a:xfrm>
                    </p:grpSpPr>
                    <p:sp>
                      <p:nvSpPr>
                        <p:cNvPr id="475" name=""/>
                        <p:cNvSpPr/>
                        <p:nvPr/>
                      </p:nvSpPr>
                      <p:spPr>
                        <a:xfrm>
                          <a:off x="1309680" y="6045120"/>
                          <a:ext cx="1451160" cy="2397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
                        <p:cNvGrpSpPr/>
                        <p:nvPr/>
                      </p:nvGrpSpPr>
                      <p:grpSpPr>
                        <a:xfrm>
                          <a:off x="1234800" y="5989320"/>
                          <a:ext cx="1533960" cy="321480"/>
                          <a:chOff x="1234800" y="5989320"/>
                          <a:chExt cx="1533960" cy="321480"/>
                        </a:xfrm>
                      </p:grpSpPr>
                      <p:sp>
                        <p:nvSpPr>
                          <p:cNvPr id="477" name=""/>
                          <p:cNvSpPr/>
                          <p:nvPr/>
                        </p:nvSpPr>
                        <p:spPr>
                          <a:xfrm>
                            <a:off x="1309680" y="6045120"/>
                            <a:ext cx="1440000" cy="227160"/>
                          </a:xfrm>
                          <a:prstGeom prst="roundRect">
                            <a:avLst>
                              <a:gd name="adj" fmla="val 7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8" name=""/>
                          <p:cNvGrpSpPr/>
                          <p:nvPr/>
                        </p:nvGrpSpPr>
                        <p:grpSpPr>
                          <a:xfrm>
                            <a:off x="1234800" y="5989320"/>
                            <a:ext cx="1533960" cy="321480"/>
                            <a:chOff x="1234800" y="5989320"/>
                            <a:chExt cx="1533960" cy="321480"/>
                          </a:xfrm>
                        </p:grpSpPr>
                        <p:sp>
                          <p:nvSpPr>
                            <p:cNvPr id="479" name=""/>
                            <p:cNvSpPr/>
                            <p:nvPr/>
                          </p:nvSpPr>
                          <p:spPr>
                            <a:xfrm>
                              <a:off x="1309680" y="6046920"/>
                              <a:ext cx="1425600" cy="215640"/>
                            </a:xfrm>
                            <a:prstGeom prst="roundRect">
                              <a:avLst>
                                <a:gd name="adj" fmla="val 7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1234800" y="5989320"/>
                              <a:ext cx="1533960" cy="321480"/>
                              <a:chOff x="1234800" y="5989320"/>
                              <a:chExt cx="1533960" cy="321480"/>
                            </a:xfrm>
                          </p:grpSpPr>
                          <p:sp>
                            <p:nvSpPr>
                              <p:cNvPr id="481" name=""/>
                              <p:cNvSpPr/>
                              <p:nvPr/>
                            </p:nvSpPr>
                            <p:spPr>
                              <a:xfrm>
                                <a:off x="1309680" y="6048360"/>
                                <a:ext cx="1415880" cy="206280"/>
                              </a:xfrm>
                              <a:prstGeom prst="roundRect">
                                <a:avLst>
                                  <a:gd name="adj" fmla="val 76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1234800" y="5989320"/>
                                <a:ext cx="1533960" cy="321480"/>
                                <a:chOff x="1234800" y="5989320"/>
                                <a:chExt cx="1533960" cy="321480"/>
                              </a:xfrm>
                            </p:grpSpPr>
                            <p:sp>
                              <p:nvSpPr>
                                <p:cNvPr id="483" name=""/>
                                <p:cNvSpPr/>
                                <p:nvPr/>
                              </p:nvSpPr>
                              <p:spPr>
                                <a:xfrm>
                                  <a:off x="1309680" y="6049800"/>
                                  <a:ext cx="1406520" cy="19872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4" name=""/>
                                <p:cNvGrpSpPr/>
                                <p:nvPr/>
                              </p:nvGrpSpPr>
                              <p:grpSpPr>
                                <a:xfrm>
                                  <a:off x="1234800" y="5989320"/>
                                  <a:ext cx="1533960" cy="321480"/>
                                  <a:chOff x="1234800" y="5989320"/>
                                  <a:chExt cx="1533960" cy="321480"/>
                                </a:xfrm>
                              </p:grpSpPr>
                              <p:sp>
                                <p:nvSpPr>
                                  <p:cNvPr id="485" name=""/>
                                  <p:cNvSpPr/>
                                  <p:nvPr/>
                                </p:nvSpPr>
                                <p:spPr>
                                  <a:xfrm>
                                    <a:off x="1309680" y="6051600"/>
                                    <a:ext cx="1400040" cy="191880"/>
                                  </a:xfrm>
                                  <a:prstGeom prst="roundRect">
                                    <a:avLst>
                                      <a:gd name="adj" fmla="val 8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234800" y="5989320"/>
                                    <a:ext cx="1533960" cy="321480"/>
                                    <a:chOff x="1234800" y="5989320"/>
                                    <a:chExt cx="1533960" cy="321480"/>
                                  </a:xfrm>
                                </p:grpSpPr>
                                <p:sp>
                                  <p:nvSpPr>
                                    <p:cNvPr id="487" name=""/>
                                    <p:cNvSpPr/>
                                    <p:nvPr/>
                                  </p:nvSpPr>
                                  <p:spPr>
                                    <a:xfrm>
                                      <a:off x="1309680" y="6053040"/>
                                      <a:ext cx="1395360" cy="18756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8" name=""/>
                                    <p:cNvGrpSpPr/>
                                    <p:nvPr/>
                                  </p:nvGrpSpPr>
                                  <p:grpSpPr>
                                    <a:xfrm>
                                      <a:off x="1234800" y="5989320"/>
                                      <a:ext cx="1533960" cy="321480"/>
                                      <a:chOff x="1234800" y="5989320"/>
                                      <a:chExt cx="1533960" cy="321480"/>
                                    </a:xfrm>
                                  </p:grpSpPr>
                                  <p:sp>
                                    <p:nvSpPr>
                                      <p:cNvPr id="489" name=""/>
                                      <p:cNvSpPr/>
                                      <p:nvPr/>
                                    </p:nvSpPr>
                                    <p:spPr>
                                      <a:xfrm>
                                        <a:off x="1309680" y="6054840"/>
                                        <a:ext cx="1390680" cy="183960"/>
                                      </a:xfrm>
                                      <a:prstGeom prst="roundRect">
                                        <a:avLst>
                                          <a:gd name="adj" fmla="val 86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0" name=""/>
                                      <p:cNvGrpSpPr/>
                                      <p:nvPr/>
                                    </p:nvGrpSpPr>
                                    <p:grpSpPr>
                                      <a:xfrm>
                                        <a:off x="1234800" y="5989320"/>
                                        <a:ext cx="1533960" cy="321480"/>
                                        <a:chOff x="1234800" y="5989320"/>
                                        <a:chExt cx="1533960" cy="321480"/>
                                      </a:xfrm>
                                    </p:grpSpPr>
                                    <p:sp>
                                      <p:nvSpPr>
                                        <p:cNvPr id="491" name=""/>
                                        <p:cNvSpPr/>
                                        <p:nvPr/>
                                      </p:nvSpPr>
                                      <p:spPr>
                                        <a:xfrm>
                                          <a:off x="1309680" y="6056280"/>
                                          <a:ext cx="1387440" cy="182520"/>
                                        </a:xfrm>
                                        <a:prstGeom prst="roundRect">
                                          <a:avLst>
                                            <a:gd name="adj" fmla="val 8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1234800" y="5989320"/>
                                          <a:ext cx="1533960" cy="321480"/>
                                          <a:chOff x="1234800" y="5989320"/>
                                          <a:chExt cx="1533960" cy="321480"/>
                                        </a:xfrm>
                                      </p:grpSpPr>
                                      <p:sp>
                                        <p:nvSpPr>
                                          <p:cNvPr id="493" name=""/>
                                          <p:cNvSpPr/>
                                          <p:nvPr/>
                                        </p:nvSpPr>
                                        <p:spPr>
                                          <a:xfrm>
                                            <a:off x="1309680" y="6058080"/>
                                            <a:ext cx="1386000" cy="180720"/>
                                          </a:xfrm>
                                          <a:prstGeom prst="roundRect">
                                            <a:avLst>
                                              <a:gd name="adj" fmla="val 8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234800" y="5989320"/>
                                            <a:ext cx="1533960" cy="321480"/>
                                          </a:xfrm>
                                          <a:prstGeom prst="roundRect">
                                            <a:avLst>
                                              <a:gd name="adj" fmla="val 875"/>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Explore Clock</a:t>
                                            </a:r>
                                            <a:endParaRPr b="0" lang="en-US" sz="1600" spc="-1" strike="noStrike">
                                              <a:solidFill>
                                                <a:srgbClr val="000000"/>
                                              </a:solidFill>
                                              <a:latin typeface="Times New Roman"/>
                                            </a:endParaRPr>
                                          </a:p>
                                        </p:txBody>
                                      </p:sp>
                                    </p:grpSp>
                                  </p:grpSp>
                                </p:grpSp>
                              </p:grpSp>
                            </p:grpSp>
                          </p:grpSp>
                        </p:grpSp>
                      </p:grpSp>
                    </p:grpSp>
                  </p:grpSp>
                </p:grpSp>
              </p:grpSp>
            </p:grpSp>
          </p:grpSp>
        </p:grpSp>
        <p:cxnSp>
          <p:nvCxnSpPr>
            <p:cNvPr id="495" name=""/>
            <p:cNvCxnSpPr>
              <a:stCxn id="372" idx="2"/>
              <a:endCxn id="496" idx="0"/>
            </p:cNvCxnSpPr>
            <p:nvPr/>
          </p:nvCxnSpPr>
          <p:spPr>
            <a:xfrm>
              <a:off x="2068560" y="2330280"/>
              <a:ext cx="7200" cy="208800"/>
            </a:xfrm>
            <a:prstGeom prst="straightConnector1">
              <a:avLst/>
            </a:prstGeom>
            <a:ln w="9360">
              <a:solidFill>
                <a:srgbClr val="000000"/>
              </a:solidFill>
              <a:miter/>
              <a:tailEnd len="med" type="triangle" w="med"/>
            </a:ln>
          </p:spPr>
        </p:cxnSp>
        <p:sp>
          <p:nvSpPr>
            <p:cNvPr id="496" name=""/>
            <p:cNvSpPr/>
            <p:nvPr/>
          </p:nvSpPr>
          <p:spPr>
            <a:xfrm>
              <a:off x="1290600" y="2538360"/>
              <a:ext cx="1568520" cy="285840"/>
            </a:xfrm>
            <a:custGeom>
              <a:avLst/>
              <a:gdLst/>
              <a:ahLst/>
              <a:rect l="l" t="t" r="r" b="b"/>
              <a:pathLst>
                <a:path w="4358" h="795">
                  <a:moveTo>
                    <a:pt x="0" y="397"/>
                  </a:moveTo>
                  <a:lnTo>
                    <a:pt x="2178" y="0"/>
                  </a:lnTo>
                  <a:lnTo>
                    <a:pt x="4357" y="397"/>
                  </a:lnTo>
                  <a:lnTo>
                    <a:pt x="2178" y="794"/>
                  </a:lnTo>
                  <a:lnTo>
                    <a:pt x="0" y="397"/>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8" idx="2"/>
              <a:endCxn id="403" idx="0"/>
            </p:cNvCxnSpPr>
            <p:nvPr/>
          </p:nvCxnSpPr>
          <p:spPr>
            <a:xfrm>
              <a:off x="2064960" y="3322440"/>
              <a:ext cx="5400" cy="232200"/>
            </a:xfrm>
            <a:prstGeom prst="straightConnector1">
              <a:avLst/>
            </a:prstGeom>
            <a:ln w="9360">
              <a:solidFill>
                <a:srgbClr val="000000"/>
              </a:solidFill>
              <a:miter/>
              <a:tailEnd len="med" type="triangle" w="med"/>
            </a:ln>
          </p:spPr>
        </p:cxnSp>
        <p:sp>
          <p:nvSpPr>
            <p:cNvPr id="499" name=""/>
            <p:cNvSpPr/>
            <p:nvPr/>
          </p:nvSpPr>
          <p:spPr>
            <a:xfrm>
              <a:off x="1536840" y="4606920"/>
              <a:ext cx="1090440" cy="297000"/>
            </a:xfrm>
            <a:custGeom>
              <a:avLst/>
              <a:gdLst/>
              <a:ahLst/>
              <a:rect l="l" t="t" r="r" b="b"/>
              <a:pathLst>
                <a:path w="3030" h="825">
                  <a:moveTo>
                    <a:pt x="0" y="408"/>
                  </a:moveTo>
                  <a:lnTo>
                    <a:pt x="1514" y="0"/>
                  </a:lnTo>
                  <a:lnTo>
                    <a:pt x="3029" y="408"/>
                  </a:lnTo>
                  <a:lnTo>
                    <a:pt x="1514" y="824"/>
                  </a:lnTo>
                  <a:lnTo>
                    <a:pt x="0" y="408"/>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0" name=""/>
            <p:cNvCxnSpPr>
              <a:stCxn id="501" idx="2"/>
              <a:endCxn id="499" idx="0"/>
            </p:cNvCxnSpPr>
            <p:nvPr/>
          </p:nvCxnSpPr>
          <p:spPr>
            <a:xfrm>
              <a:off x="2066760" y="4430520"/>
              <a:ext cx="15120" cy="178200"/>
            </a:xfrm>
            <a:prstGeom prst="straightConnector1">
              <a:avLst/>
            </a:prstGeom>
            <a:ln w="9360">
              <a:solidFill>
                <a:srgbClr val="000000"/>
              </a:solidFill>
              <a:miter/>
              <a:tailEnd len="med" type="triangle" w="med"/>
            </a:ln>
          </p:spPr>
        </p:cxnSp>
        <p:cxnSp>
          <p:nvCxnSpPr>
            <p:cNvPr id="502" name=""/>
            <p:cNvCxnSpPr>
              <a:stCxn id="499" idx="1"/>
              <a:endCxn id="434" idx="0"/>
            </p:cNvCxnSpPr>
            <p:nvPr/>
          </p:nvCxnSpPr>
          <p:spPr>
            <a:xfrm flipH="1">
              <a:off x="2069280" y="4903920"/>
              <a:ext cx="11880" cy="189360"/>
            </a:xfrm>
            <a:prstGeom prst="straightConnector1">
              <a:avLst/>
            </a:prstGeom>
            <a:ln w="9360">
              <a:solidFill>
                <a:srgbClr val="000000"/>
              </a:solidFill>
              <a:miter/>
              <a:tailEnd len="med" type="triangle" w="med"/>
            </a:ln>
          </p:spPr>
        </p:cxnSp>
        <p:sp>
          <p:nvSpPr>
            <p:cNvPr id="503" name=""/>
            <p:cNvSpPr/>
            <p:nvPr/>
          </p:nvSpPr>
          <p:spPr>
            <a:xfrm>
              <a:off x="1639800" y="5607000"/>
              <a:ext cx="884160" cy="298440"/>
            </a:xfrm>
            <a:custGeom>
              <a:avLst/>
              <a:gdLst/>
              <a:ahLst/>
              <a:rect l="l" t="t" r="r" b="b"/>
              <a:pathLst>
                <a:path w="2457" h="829">
                  <a:moveTo>
                    <a:pt x="0" y="413"/>
                  </a:moveTo>
                  <a:lnTo>
                    <a:pt x="1227" y="0"/>
                  </a:lnTo>
                  <a:lnTo>
                    <a:pt x="2456" y="413"/>
                  </a:lnTo>
                  <a:lnTo>
                    <a:pt x="1227" y="828"/>
                  </a:lnTo>
                  <a:lnTo>
                    <a:pt x="0" y="413"/>
                  </a:lnTo>
                </a:path>
              </a:pathLst>
            </a:custGeom>
            <a:gradFill rotWithShape="0">
              <a:gsLst>
                <a:gs pos="0">
                  <a:srgbClr val="5374a9"/>
                </a:gs>
                <a:gs pos="50000">
                  <a:srgbClr val="ffffff"/>
                </a:gs>
                <a:gs pos="100000">
                  <a:srgbClr val="5374a9"/>
                </a:gs>
              </a:gsLst>
              <a:lin ang="5400000"/>
            </a:grad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4" name=""/>
            <p:cNvCxnSpPr>
              <a:stCxn id="434" idx="2"/>
              <a:endCxn id="503" idx="0"/>
            </p:cNvCxnSpPr>
            <p:nvPr/>
          </p:nvCxnSpPr>
          <p:spPr>
            <a:xfrm>
              <a:off x="2069640" y="5413320"/>
              <a:ext cx="11880" cy="194400"/>
            </a:xfrm>
            <a:prstGeom prst="straightConnector1">
              <a:avLst/>
            </a:prstGeom>
            <a:ln w="9360">
              <a:solidFill>
                <a:srgbClr val="000000"/>
              </a:solidFill>
              <a:miter/>
              <a:tailEnd len="med" type="triangle" w="med"/>
            </a:ln>
          </p:spPr>
        </p:cxnSp>
        <p:cxnSp>
          <p:nvCxnSpPr>
            <p:cNvPr id="505" name=""/>
            <p:cNvCxnSpPr>
              <a:stCxn id="503" idx="1"/>
              <a:endCxn id="465" idx="0"/>
            </p:cNvCxnSpPr>
            <p:nvPr/>
          </p:nvCxnSpPr>
          <p:spPr>
            <a:xfrm flipH="1">
              <a:off x="2074320" y="5905080"/>
              <a:ext cx="5400" cy="137160"/>
            </a:xfrm>
            <a:prstGeom prst="straightConnector1">
              <a:avLst/>
            </a:prstGeom>
            <a:ln w="9360">
              <a:solidFill>
                <a:srgbClr val="000000"/>
              </a:solidFill>
              <a:miter/>
              <a:tailEnd len="med" type="triangle" w="med"/>
            </a:ln>
          </p:spPr>
        </p:cxnSp>
        <p:cxnSp>
          <p:nvCxnSpPr>
            <p:cNvPr id="506" name=""/>
            <p:cNvCxnSpPr>
              <a:stCxn id="465" idx="2"/>
              <a:endCxn id="370" idx="0"/>
            </p:cNvCxnSpPr>
            <p:nvPr/>
          </p:nvCxnSpPr>
          <p:spPr>
            <a:xfrm>
              <a:off x="2075040" y="6362280"/>
              <a:ext cx="10080" cy="175320"/>
            </a:xfrm>
            <a:prstGeom prst="straightConnector1">
              <a:avLst/>
            </a:prstGeom>
            <a:ln w="9360">
              <a:solidFill>
                <a:srgbClr val="000000"/>
              </a:solidFill>
              <a:miter/>
              <a:tailEnd len="med" type="triangle" w="med"/>
            </a:ln>
          </p:spPr>
        </p:cxnSp>
        <p:grpSp>
          <p:nvGrpSpPr>
            <p:cNvPr id="507" name=""/>
            <p:cNvGrpSpPr/>
            <p:nvPr/>
          </p:nvGrpSpPr>
          <p:grpSpPr>
            <a:xfrm>
              <a:off x="135000" y="1047600"/>
              <a:ext cx="1033560" cy="609840"/>
              <a:chOff x="135000" y="1047600"/>
              <a:chExt cx="1033560" cy="609840"/>
            </a:xfrm>
          </p:grpSpPr>
          <p:grpSp>
            <p:nvGrpSpPr>
              <p:cNvPr id="508" name=""/>
              <p:cNvGrpSpPr/>
              <p:nvPr/>
            </p:nvGrpSpPr>
            <p:grpSpPr>
              <a:xfrm>
                <a:off x="135000" y="1047600"/>
                <a:ext cx="1031760" cy="609840"/>
                <a:chOff x="135000" y="1047600"/>
                <a:chExt cx="1031760" cy="609840"/>
              </a:xfrm>
            </p:grpSpPr>
            <p:sp>
              <p:nvSpPr>
                <p:cNvPr id="509" name=""/>
                <p:cNvSpPr/>
                <p:nvPr/>
              </p:nvSpPr>
              <p:spPr>
                <a:xfrm>
                  <a:off x="135000" y="1047600"/>
                  <a:ext cx="1031760" cy="609840"/>
                </a:xfrm>
                <a:custGeom>
                  <a:avLst/>
                  <a:gdLst/>
                  <a:ahLst/>
                  <a:rect l="l" t="t" r="r" b="b"/>
                  <a:pathLst>
                    <a:path w="2867" h="1694">
                      <a:moveTo>
                        <a:pt x="1433" y="0"/>
                      </a:moveTo>
                      <a:cubicBezTo>
                        <a:pt x="650" y="0"/>
                        <a:pt x="0" y="99"/>
                        <a:pt x="0" y="213"/>
                      </a:cubicBezTo>
                      <a:lnTo>
                        <a:pt x="0" y="1486"/>
                      </a:lnTo>
                      <a:cubicBezTo>
                        <a:pt x="0" y="1601"/>
                        <a:pt x="650" y="1693"/>
                        <a:pt x="1433" y="1693"/>
                      </a:cubicBezTo>
                      <a:cubicBezTo>
                        <a:pt x="2215" y="1693"/>
                        <a:pt x="2866" y="1601"/>
                        <a:pt x="2866" y="1486"/>
                      </a:cubicBezTo>
                      <a:lnTo>
                        <a:pt x="2866" y="213"/>
                      </a:lnTo>
                      <a:cubicBezTo>
                        <a:pt x="2866" y="99"/>
                        <a:pt x="2215" y="0"/>
                        <a:pt x="1433" y="0"/>
                      </a:cubicBezTo>
                      <a:lnTo>
                        <a:pt x="1433"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35000" y="1047600"/>
                  <a:ext cx="1031760" cy="157320"/>
                </a:xfrm>
                <a:custGeom>
                  <a:avLst/>
                  <a:gdLst/>
                  <a:ahLst/>
                  <a:rect l="l" t="t" r="r" b="b"/>
                  <a:pathLst>
                    <a:path w="2867" h="436">
                      <a:moveTo>
                        <a:pt x="1433" y="0"/>
                      </a:moveTo>
                      <a:cubicBezTo>
                        <a:pt x="650" y="0"/>
                        <a:pt x="0" y="99"/>
                        <a:pt x="0" y="213"/>
                      </a:cubicBezTo>
                      <a:cubicBezTo>
                        <a:pt x="0" y="337"/>
                        <a:pt x="650" y="435"/>
                        <a:pt x="1433" y="435"/>
                      </a:cubicBezTo>
                      <a:cubicBezTo>
                        <a:pt x="2215" y="435"/>
                        <a:pt x="2866" y="337"/>
                        <a:pt x="2866" y="213"/>
                      </a:cubicBezTo>
                      <a:cubicBezTo>
                        <a:pt x="2866" y="99"/>
                        <a:pt x="2215" y="0"/>
                        <a:pt x="1433" y="0"/>
                      </a:cubicBezTo>
                      <a:lnTo>
                        <a:pt x="1433"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1" name=""/>
              <p:cNvGrpSpPr/>
              <p:nvPr/>
            </p:nvGrpSpPr>
            <p:grpSpPr>
              <a:xfrm>
                <a:off x="135000" y="1204920"/>
                <a:ext cx="1033560" cy="374760"/>
                <a:chOff x="135000" y="1204920"/>
                <a:chExt cx="1033560" cy="374760"/>
              </a:xfrm>
            </p:grpSpPr>
            <p:sp>
              <p:nvSpPr>
                <p:cNvPr id="512" name=""/>
                <p:cNvSpPr/>
                <p:nvPr/>
              </p:nvSpPr>
              <p:spPr>
                <a:xfrm>
                  <a:off x="135000" y="1204920"/>
                  <a:ext cx="1033560" cy="374760"/>
                </a:xfrm>
                <a:prstGeom prst="roundRect">
                  <a:avLst>
                    <a:gd name="adj" fmla="val 42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35000" y="1232280"/>
                  <a:ext cx="1033560" cy="3200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Netlist</a:t>
                  </a:r>
                  <a:endParaRPr b="0" lang="en-US" sz="1600" spc="-1" strike="noStrike">
                    <a:solidFill>
                      <a:srgbClr val="000000"/>
                    </a:solidFill>
                    <a:latin typeface="Times New Roman"/>
                  </a:endParaRPr>
                </a:p>
              </p:txBody>
            </p:sp>
          </p:grpSp>
        </p:grpSp>
        <p:cxnSp>
          <p:nvCxnSpPr>
            <p:cNvPr id="514" name=""/>
            <p:cNvCxnSpPr>
              <a:endCxn id="372" idx="0"/>
            </p:cNvCxnSpPr>
            <p:nvPr/>
          </p:nvCxnSpPr>
          <p:spPr>
            <a:xfrm>
              <a:off x="661680" y="1677960"/>
              <a:ext cx="1407240" cy="332640"/>
            </a:xfrm>
            <a:prstGeom prst="straightConnector1">
              <a:avLst/>
            </a:prstGeom>
            <a:ln w="9360">
              <a:solidFill>
                <a:srgbClr val="000000"/>
              </a:solidFill>
              <a:miter/>
              <a:tailEnd len="med" type="triangle" w="med"/>
            </a:ln>
          </p:spPr>
        </p:cxnSp>
        <p:cxnSp>
          <p:nvCxnSpPr>
            <p:cNvPr id="515" name=""/>
            <p:cNvCxnSpPr>
              <a:endCxn id="372" idx="0"/>
            </p:cNvCxnSpPr>
            <p:nvPr/>
          </p:nvCxnSpPr>
          <p:spPr>
            <a:xfrm flipH="1">
              <a:off x="2067840" y="1672920"/>
              <a:ext cx="1362600" cy="337320"/>
            </a:xfrm>
            <a:prstGeom prst="straightConnector1">
              <a:avLst/>
            </a:prstGeom>
            <a:ln w="9360">
              <a:solidFill>
                <a:srgbClr val="000000"/>
              </a:solidFill>
              <a:miter/>
              <a:tailEnd len="med" type="triangle" w="med"/>
            </a:ln>
          </p:spPr>
        </p:cxnSp>
        <p:cxnSp>
          <p:nvCxnSpPr>
            <p:cNvPr id="516" name=""/>
            <p:cNvCxnSpPr>
              <a:endCxn id="372" idx="0"/>
            </p:cNvCxnSpPr>
            <p:nvPr/>
          </p:nvCxnSpPr>
          <p:spPr>
            <a:xfrm flipH="1">
              <a:off x="2068200" y="1646280"/>
              <a:ext cx="15120" cy="364320"/>
            </a:xfrm>
            <a:prstGeom prst="straightConnector1">
              <a:avLst/>
            </a:prstGeom>
            <a:ln w="9360">
              <a:solidFill>
                <a:srgbClr val="000000"/>
              </a:solidFill>
              <a:miter/>
              <a:tailEnd len="med" type="triangle" w="med"/>
            </a:ln>
          </p:spPr>
        </p:cxnSp>
        <p:grpSp>
          <p:nvGrpSpPr>
            <p:cNvPr id="517" name=""/>
            <p:cNvGrpSpPr/>
            <p:nvPr/>
          </p:nvGrpSpPr>
          <p:grpSpPr>
            <a:xfrm>
              <a:off x="2391840" y="6481440"/>
              <a:ext cx="311400" cy="173160"/>
              <a:chOff x="2391840" y="6481440"/>
              <a:chExt cx="311400" cy="173160"/>
            </a:xfrm>
          </p:grpSpPr>
          <p:sp>
            <p:nvSpPr>
              <p:cNvPr id="518" name=""/>
              <p:cNvSpPr/>
              <p:nvPr/>
            </p:nvSpPr>
            <p:spPr>
              <a:xfrm flipV="1">
                <a:off x="2681280" y="6481440"/>
                <a:ext cx="144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2391840" y="6637320"/>
                <a:ext cx="31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20" name=""/>
            <p:cNvGrpSpPr/>
            <p:nvPr/>
          </p:nvGrpSpPr>
          <p:grpSpPr>
            <a:xfrm>
              <a:off x="2499840" y="5559120"/>
              <a:ext cx="311400" cy="173160"/>
              <a:chOff x="2499840" y="5559120"/>
              <a:chExt cx="311400" cy="173160"/>
            </a:xfrm>
          </p:grpSpPr>
          <p:sp>
            <p:nvSpPr>
              <p:cNvPr id="521" name=""/>
              <p:cNvSpPr/>
              <p:nvPr/>
            </p:nvSpPr>
            <p:spPr>
              <a:xfrm flipV="1">
                <a:off x="2790720" y="5559120"/>
                <a:ext cx="180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2499840" y="5721480"/>
                <a:ext cx="31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23" name=""/>
            <p:cNvGrpSpPr/>
            <p:nvPr/>
          </p:nvGrpSpPr>
          <p:grpSpPr>
            <a:xfrm>
              <a:off x="2588760" y="4582800"/>
              <a:ext cx="311400" cy="174600"/>
              <a:chOff x="2588760" y="4582800"/>
              <a:chExt cx="311400" cy="174600"/>
            </a:xfrm>
          </p:grpSpPr>
          <p:sp>
            <p:nvSpPr>
              <p:cNvPr id="524" name=""/>
              <p:cNvSpPr/>
              <p:nvPr/>
            </p:nvSpPr>
            <p:spPr>
              <a:xfrm flipV="1">
                <a:off x="2879640" y="4582800"/>
                <a:ext cx="1800" cy="17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2588760" y="4745160"/>
                <a:ext cx="31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26" name=""/>
            <p:cNvGrpSpPr/>
            <p:nvPr/>
          </p:nvGrpSpPr>
          <p:grpSpPr>
            <a:xfrm>
              <a:off x="2820960" y="2480760"/>
              <a:ext cx="311040" cy="173160"/>
              <a:chOff x="2820960" y="2480760"/>
              <a:chExt cx="311040" cy="173160"/>
            </a:xfrm>
          </p:grpSpPr>
          <p:sp>
            <p:nvSpPr>
              <p:cNvPr id="527" name=""/>
              <p:cNvSpPr/>
              <p:nvPr/>
            </p:nvSpPr>
            <p:spPr>
              <a:xfrm flipV="1">
                <a:off x="3108240" y="2480760"/>
                <a:ext cx="180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2820960" y="2635200"/>
                <a:ext cx="311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29" name=""/>
            <p:cNvGrpSpPr/>
            <p:nvPr/>
          </p:nvGrpSpPr>
          <p:grpSpPr>
            <a:xfrm>
              <a:off x="411120" y="3003480"/>
              <a:ext cx="3306960" cy="327600"/>
              <a:chOff x="411120" y="3003480"/>
              <a:chExt cx="3306960" cy="327600"/>
            </a:xfrm>
          </p:grpSpPr>
          <p:sp>
            <p:nvSpPr>
              <p:cNvPr id="498" name=""/>
              <p:cNvSpPr/>
              <p:nvPr/>
            </p:nvSpPr>
            <p:spPr>
              <a:xfrm>
                <a:off x="411120" y="3003480"/>
                <a:ext cx="3306960" cy="320760"/>
              </a:xfrm>
              <a:prstGeom prst="roundRect">
                <a:avLst>
                  <a:gd name="adj" fmla="val 491"/>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11120" y="3011040"/>
                <a:ext cx="3306960" cy="3200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Pad Placement / Power Mesh</a:t>
                </a:r>
                <a:endParaRPr b="0" lang="en-US" sz="1600" spc="-1" strike="noStrike">
                  <a:solidFill>
                    <a:srgbClr val="000000"/>
                  </a:solidFill>
                  <a:latin typeface="Times New Roman"/>
                </a:endParaRPr>
              </a:p>
            </p:txBody>
          </p:sp>
        </p:grpSp>
        <p:cxnSp>
          <p:nvCxnSpPr>
            <p:cNvPr id="531" name=""/>
            <p:cNvCxnSpPr>
              <a:stCxn id="496" idx="1"/>
              <a:endCxn id="498" idx="0"/>
            </p:cNvCxnSpPr>
            <p:nvPr/>
          </p:nvCxnSpPr>
          <p:spPr>
            <a:xfrm flipH="1">
              <a:off x="2064600" y="2822040"/>
              <a:ext cx="10440" cy="181800"/>
            </a:xfrm>
            <a:prstGeom prst="straightConnector1">
              <a:avLst/>
            </a:prstGeom>
            <a:ln w="9360">
              <a:solidFill>
                <a:srgbClr val="000000"/>
              </a:solidFill>
              <a:miter/>
              <a:tailEnd len="med" type="triangle" w="med"/>
            </a:ln>
          </p:spPr>
        </p:cxnSp>
        <p:grpSp>
          <p:nvGrpSpPr>
            <p:cNvPr id="532" name=""/>
            <p:cNvGrpSpPr/>
            <p:nvPr/>
          </p:nvGrpSpPr>
          <p:grpSpPr>
            <a:xfrm>
              <a:off x="415440" y="4042440"/>
              <a:ext cx="3238920" cy="388440"/>
              <a:chOff x="415440" y="4042440"/>
              <a:chExt cx="3238920" cy="388440"/>
            </a:xfrm>
          </p:grpSpPr>
          <p:sp>
            <p:nvSpPr>
              <p:cNvPr id="501" name=""/>
              <p:cNvSpPr/>
              <p:nvPr/>
            </p:nvSpPr>
            <p:spPr>
              <a:xfrm>
                <a:off x="480960" y="4110120"/>
                <a:ext cx="3173400" cy="320760"/>
              </a:xfrm>
              <a:prstGeom prst="roundRect">
                <a:avLst>
                  <a:gd name="adj" fmla="val 491"/>
                </a:avLst>
              </a:prstGeom>
              <a:gradFill rotWithShape="0">
                <a:gsLst>
                  <a:gs pos="0">
                    <a:srgbClr val="5374a9"/>
                  </a:gs>
                  <a:gs pos="50000">
                    <a:srgbClr val="ffffff"/>
                  </a:gs>
                  <a:gs pos="100000">
                    <a:srgbClr val="5374a9"/>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3" name=""/>
              <p:cNvGrpSpPr/>
              <p:nvPr/>
            </p:nvGrpSpPr>
            <p:grpSpPr>
              <a:xfrm>
                <a:off x="415440" y="4042440"/>
                <a:ext cx="3218400" cy="367560"/>
                <a:chOff x="415440" y="4042440"/>
                <a:chExt cx="3218400" cy="367560"/>
              </a:xfrm>
            </p:grpSpPr>
            <p:sp>
              <p:nvSpPr>
                <p:cNvPr id="534" name=""/>
                <p:cNvSpPr/>
                <p:nvPr/>
              </p:nvSpPr>
              <p:spPr>
                <a:xfrm>
                  <a:off x="480960" y="4110120"/>
                  <a:ext cx="3152880" cy="29988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 name=""/>
                <p:cNvGrpSpPr/>
                <p:nvPr/>
              </p:nvGrpSpPr>
              <p:grpSpPr>
                <a:xfrm>
                  <a:off x="415440" y="4042440"/>
                  <a:ext cx="3202560" cy="348480"/>
                  <a:chOff x="415440" y="4042440"/>
                  <a:chExt cx="3202560" cy="348480"/>
                </a:xfrm>
              </p:grpSpPr>
              <p:sp>
                <p:nvSpPr>
                  <p:cNvPr id="536" name=""/>
                  <p:cNvSpPr/>
                  <p:nvPr/>
                </p:nvSpPr>
                <p:spPr>
                  <a:xfrm>
                    <a:off x="480960" y="4110120"/>
                    <a:ext cx="3137040" cy="280800"/>
                  </a:xfrm>
                  <a:prstGeom prst="roundRect">
                    <a:avLst>
                      <a:gd name="adj" fmla="val 56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7" name=""/>
                  <p:cNvGrpSpPr/>
                  <p:nvPr/>
                </p:nvGrpSpPr>
                <p:grpSpPr>
                  <a:xfrm>
                    <a:off x="415440" y="4042440"/>
                    <a:ext cx="3184920" cy="334440"/>
                    <a:chOff x="415440" y="4042440"/>
                    <a:chExt cx="3184920" cy="334440"/>
                  </a:xfrm>
                </p:grpSpPr>
                <p:sp>
                  <p:nvSpPr>
                    <p:cNvPr id="538" name=""/>
                    <p:cNvSpPr/>
                    <p:nvPr/>
                  </p:nvSpPr>
                  <p:spPr>
                    <a:xfrm>
                      <a:off x="480960" y="4110120"/>
                      <a:ext cx="3119400" cy="266760"/>
                    </a:xfrm>
                    <a:prstGeom prst="roundRect">
                      <a:avLst>
                        <a:gd name="adj" fmla="val 59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 name=""/>
                    <p:cNvGrpSpPr/>
                    <p:nvPr/>
                  </p:nvGrpSpPr>
                  <p:grpSpPr>
                    <a:xfrm>
                      <a:off x="415440" y="4042440"/>
                      <a:ext cx="3169080" cy="321480"/>
                      <a:chOff x="415440" y="4042440"/>
                      <a:chExt cx="3169080" cy="321480"/>
                    </a:xfrm>
                  </p:grpSpPr>
                  <p:sp>
                    <p:nvSpPr>
                      <p:cNvPr id="540" name=""/>
                      <p:cNvSpPr/>
                      <p:nvPr/>
                    </p:nvSpPr>
                    <p:spPr>
                      <a:xfrm>
                        <a:off x="480960" y="4110120"/>
                        <a:ext cx="3103560" cy="252360"/>
                      </a:xfrm>
                      <a:prstGeom prst="roundRect">
                        <a:avLst>
                          <a:gd name="adj" fmla="val 63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15440" y="4042440"/>
                        <a:ext cx="3161520" cy="321480"/>
                        <a:chOff x="415440" y="4042440"/>
                        <a:chExt cx="3161520" cy="321480"/>
                      </a:xfrm>
                    </p:grpSpPr>
                    <p:sp>
                      <p:nvSpPr>
                        <p:cNvPr id="542" name=""/>
                        <p:cNvSpPr/>
                        <p:nvPr/>
                      </p:nvSpPr>
                      <p:spPr>
                        <a:xfrm>
                          <a:off x="480960" y="4110120"/>
                          <a:ext cx="3089160" cy="237960"/>
                        </a:xfrm>
                        <a:prstGeom prst="roundRect">
                          <a:avLst>
                            <a:gd name="adj" fmla="val 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415440" y="4042440"/>
                          <a:ext cx="3161520" cy="321480"/>
                          <a:chOff x="415440" y="4042440"/>
                          <a:chExt cx="3161520" cy="321480"/>
                        </a:xfrm>
                      </p:grpSpPr>
                      <p:sp>
                        <p:nvSpPr>
                          <p:cNvPr id="544" name=""/>
                          <p:cNvSpPr/>
                          <p:nvPr/>
                        </p:nvSpPr>
                        <p:spPr>
                          <a:xfrm>
                            <a:off x="480960" y="4110120"/>
                            <a:ext cx="3076560" cy="23004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415440" y="4042440"/>
                            <a:ext cx="3161520" cy="321480"/>
                            <a:chOff x="415440" y="4042440"/>
                            <a:chExt cx="3161520" cy="321480"/>
                          </a:xfrm>
                        </p:grpSpPr>
                        <p:sp>
                          <p:nvSpPr>
                            <p:cNvPr id="546" name=""/>
                            <p:cNvSpPr/>
                            <p:nvPr/>
                          </p:nvSpPr>
                          <p:spPr>
                            <a:xfrm>
                              <a:off x="480960" y="4110120"/>
                              <a:ext cx="3063960" cy="222120"/>
                            </a:xfrm>
                            <a:prstGeom prst="roundRect">
                              <a:avLst>
                                <a:gd name="adj" fmla="val 7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415440" y="4042440"/>
                              <a:ext cx="3161520" cy="321480"/>
                              <a:chOff x="415440" y="4042440"/>
                              <a:chExt cx="3161520" cy="321480"/>
                            </a:xfrm>
                          </p:grpSpPr>
                          <p:sp>
                            <p:nvSpPr>
                              <p:cNvPr id="548" name=""/>
                              <p:cNvSpPr/>
                              <p:nvPr/>
                            </p:nvSpPr>
                            <p:spPr>
                              <a:xfrm>
                                <a:off x="480960" y="4110120"/>
                                <a:ext cx="3054240" cy="212760"/>
                              </a:xfrm>
                              <a:prstGeom prst="roundRect">
                                <a:avLst>
                                  <a:gd name="adj" fmla="val 7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415440" y="4042440"/>
                                <a:ext cx="3161520" cy="321480"/>
                                <a:chOff x="415440" y="4042440"/>
                                <a:chExt cx="3161520" cy="321480"/>
                              </a:xfrm>
                            </p:grpSpPr>
                            <p:sp>
                              <p:nvSpPr>
                                <p:cNvPr id="550" name=""/>
                                <p:cNvSpPr/>
                                <p:nvPr/>
                              </p:nvSpPr>
                              <p:spPr>
                                <a:xfrm>
                                  <a:off x="480960" y="4110120"/>
                                  <a:ext cx="3044880" cy="204840"/>
                                </a:xfrm>
                                <a:prstGeom prst="roundRect">
                                  <a:avLst>
                                    <a:gd name="adj" fmla="val 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415440" y="4042440"/>
                                  <a:ext cx="3161520" cy="321480"/>
                                  <a:chOff x="415440" y="4042440"/>
                                  <a:chExt cx="3161520" cy="321480"/>
                                </a:xfrm>
                              </p:grpSpPr>
                              <p:sp>
                                <p:nvSpPr>
                                  <p:cNvPr id="552" name=""/>
                                  <p:cNvSpPr/>
                                  <p:nvPr/>
                                </p:nvSpPr>
                                <p:spPr>
                                  <a:xfrm>
                                    <a:off x="480960" y="4110120"/>
                                    <a:ext cx="3041640" cy="198360"/>
                                  </a:xfrm>
                                  <a:prstGeom prst="roundRect">
                                    <a:avLst>
                                      <a:gd name="adj" fmla="val 8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415440" y="4042440"/>
                                    <a:ext cx="3161520" cy="321480"/>
                                    <a:chOff x="415440" y="4042440"/>
                                    <a:chExt cx="3161520" cy="321480"/>
                                  </a:xfrm>
                                </p:grpSpPr>
                                <p:sp>
                                  <p:nvSpPr>
                                    <p:cNvPr id="554" name=""/>
                                    <p:cNvSpPr/>
                                    <p:nvPr/>
                                  </p:nvSpPr>
                                  <p:spPr>
                                    <a:xfrm>
                                      <a:off x="480960" y="4110120"/>
                                      <a:ext cx="3036960" cy="193680"/>
                                    </a:xfrm>
                                    <a:prstGeom prst="roundRect">
                                      <a:avLst>
                                        <a:gd name="adj" fmla="val 8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415440" y="4042440"/>
                                      <a:ext cx="3161520" cy="321480"/>
                                      <a:chOff x="415440" y="4042440"/>
                                      <a:chExt cx="3161520" cy="321480"/>
                                    </a:xfrm>
                                  </p:grpSpPr>
                                  <p:sp>
                                    <p:nvSpPr>
                                      <p:cNvPr id="556" name=""/>
                                      <p:cNvSpPr/>
                                      <p:nvPr/>
                                    </p:nvSpPr>
                                    <p:spPr>
                                      <a:xfrm>
                                        <a:off x="480960" y="4110120"/>
                                        <a:ext cx="3033720" cy="190440"/>
                                      </a:xfrm>
                                      <a:prstGeom prst="roundRect">
                                        <a:avLst>
                                          <a:gd name="adj" fmla="val 8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
                                      <p:cNvGrpSpPr/>
                                      <p:nvPr/>
                                    </p:nvGrpSpPr>
                                    <p:grpSpPr>
                                      <a:xfrm>
                                        <a:off x="415440" y="4042440"/>
                                        <a:ext cx="3161520" cy="321480"/>
                                        <a:chOff x="415440" y="4042440"/>
                                        <a:chExt cx="3161520" cy="321480"/>
                                      </a:xfrm>
                                    </p:grpSpPr>
                                    <p:sp>
                                      <p:nvSpPr>
                                        <p:cNvPr id="558" name=""/>
                                        <p:cNvSpPr/>
                                        <p:nvPr/>
                                      </p:nvSpPr>
                                      <p:spPr>
                                        <a:xfrm>
                                          <a:off x="480960" y="4110120"/>
                                          <a:ext cx="3032280" cy="18900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9" name=""/>
                                        <p:cNvGrpSpPr/>
                                        <p:nvPr/>
                                      </p:nvGrpSpPr>
                                      <p:grpSpPr>
                                        <a:xfrm>
                                          <a:off x="415440" y="4042440"/>
                                          <a:ext cx="3161520" cy="321480"/>
                                          <a:chOff x="415440" y="4042440"/>
                                          <a:chExt cx="3161520" cy="321480"/>
                                        </a:xfrm>
                                      </p:grpSpPr>
                                      <p:sp>
                                        <p:nvSpPr>
                                          <p:cNvPr id="560" name=""/>
                                          <p:cNvSpPr/>
                                          <p:nvPr/>
                                        </p:nvSpPr>
                                        <p:spPr>
                                          <a:xfrm>
                                            <a:off x="480960" y="4110120"/>
                                            <a:ext cx="3030480" cy="187200"/>
                                          </a:xfrm>
                                          <a:prstGeom prst="roundRect">
                                            <a:avLst>
                                              <a:gd name="adj" fmla="val 8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15440" y="4042440"/>
                                            <a:ext cx="3161520" cy="321480"/>
                                          </a:xfrm>
                                          <a:prstGeom prst="roundRect">
                                            <a:avLst>
                                              <a:gd name="adj" fmla="val 861"/>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Optional: Glassbox Generation</a:t>
                                            </a:r>
                                            <a:endParaRPr b="0" lang="en-US" sz="1600" spc="-1" strike="noStrike">
                                              <a:solidFill>
                                                <a:srgbClr val="000000"/>
                                              </a:solidFill>
                                              <a:latin typeface="Times New Roman"/>
                                            </a:endParaRPr>
                                          </a:p>
                                        </p:txBody>
                                      </p:sp>
                                    </p:grpSp>
                                  </p:grpSp>
                                </p:grpSp>
                              </p:grpSp>
                            </p:grpSp>
                          </p:grpSp>
                        </p:grpSp>
                      </p:grpSp>
                    </p:grpSp>
                  </p:grpSp>
                </p:grpSp>
              </p:grpSp>
            </p:grpSp>
          </p:grpSp>
        </p:grpSp>
        <p:cxnSp>
          <p:nvCxnSpPr>
            <p:cNvPr id="562" name=""/>
            <p:cNvCxnSpPr>
              <a:stCxn id="403" idx="2"/>
              <a:endCxn id="501" idx="0"/>
            </p:cNvCxnSpPr>
            <p:nvPr/>
          </p:nvCxnSpPr>
          <p:spPr>
            <a:xfrm flipH="1">
              <a:off x="2066040" y="3877920"/>
              <a:ext cx="2520" cy="230760"/>
            </a:xfrm>
            <a:prstGeom prst="straightConnector1">
              <a:avLst/>
            </a:prstGeom>
            <a:ln w="9360">
              <a:solidFill>
                <a:srgbClr val="000000"/>
              </a:solidFill>
              <a:miter/>
              <a:tailEnd len="med" type="triangle" w="med"/>
            </a:ln>
          </p:spPr>
        </p:cxnSp>
        <p:grpSp>
          <p:nvGrpSpPr>
            <p:cNvPr id="563" name=""/>
            <p:cNvGrpSpPr/>
            <p:nvPr/>
          </p:nvGrpSpPr>
          <p:grpSpPr>
            <a:xfrm>
              <a:off x="2909880" y="934560"/>
              <a:ext cx="1039680" cy="789480"/>
              <a:chOff x="2909880" y="934560"/>
              <a:chExt cx="1039680" cy="789480"/>
            </a:xfrm>
          </p:grpSpPr>
          <p:grpSp>
            <p:nvGrpSpPr>
              <p:cNvPr id="564" name=""/>
              <p:cNvGrpSpPr/>
              <p:nvPr/>
            </p:nvGrpSpPr>
            <p:grpSpPr>
              <a:xfrm>
                <a:off x="2909880" y="1011240"/>
                <a:ext cx="1038240" cy="547560"/>
                <a:chOff x="2909880" y="1011240"/>
                <a:chExt cx="1038240" cy="547560"/>
              </a:xfrm>
            </p:grpSpPr>
            <p:sp>
              <p:nvSpPr>
                <p:cNvPr id="565" name=""/>
                <p:cNvSpPr/>
                <p:nvPr/>
              </p:nvSpPr>
              <p:spPr>
                <a:xfrm>
                  <a:off x="2909880" y="1011240"/>
                  <a:ext cx="1038240" cy="547560"/>
                </a:xfrm>
                <a:custGeom>
                  <a:avLst/>
                  <a:gdLst/>
                  <a:ahLst/>
                  <a:rect l="l" t="t" r="r" b="b"/>
                  <a:pathLst>
                    <a:path w="2885" h="1522">
                      <a:moveTo>
                        <a:pt x="1442" y="0"/>
                      </a:moveTo>
                      <a:cubicBezTo>
                        <a:pt x="655" y="0"/>
                        <a:pt x="0" y="88"/>
                        <a:pt x="0" y="191"/>
                      </a:cubicBezTo>
                      <a:lnTo>
                        <a:pt x="0" y="1334"/>
                      </a:lnTo>
                      <a:cubicBezTo>
                        <a:pt x="0" y="1440"/>
                        <a:pt x="655" y="1521"/>
                        <a:pt x="1442" y="1521"/>
                      </a:cubicBezTo>
                      <a:cubicBezTo>
                        <a:pt x="2229" y="1521"/>
                        <a:pt x="2884" y="1440"/>
                        <a:pt x="2884" y="1334"/>
                      </a:cubicBezTo>
                      <a:lnTo>
                        <a:pt x="2884" y="191"/>
                      </a:lnTo>
                      <a:cubicBezTo>
                        <a:pt x="2884" y="88"/>
                        <a:pt x="2229" y="0"/>
                        <a:pt x="1442" y="0"/>
                      </a:cubicBezTo>
                      <a:lnTo>
                        <a:pt x="1442"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09880" y="1011240"/>
                  <a:ext cx="1038240" cy="139680"/>
                </a:xfrm>
                <a:custGeom>
                  <a:avLst/>
                  <a:gdLst/>
                  <a:ahLst/>
                  <a:rect l="l" t="t" r="r" b="b"/>
                  <a:pathLst>
                    <a:path w="2885" h="387">
                      <a:moveTo>
                        <a:pt x="1442" y="0"/>
                      </a:moveTo>
                      <a:cubicBezTo>
                        <a:pt x="655" y="0"/>
                        <a:pt x="0" y="88"/>
                        <a:pt x="0" y="198"/>
                      </a:cubicBezTo>
                      <a:cubicBezTo>
                        <a:pt x="0" y="297"/>
                        <a:pt x="655" y="386"/>
                        <a:pt x="1442" y="386"/>
                      </a:cubicBezTo>
                      <a:cubicBezTo>
                        <a:pt x="2229" y="386"/>
                        <a:pt x="2884" y="297"/>
                        <a:pt x="2884" y="198"/>
                      </a:cubicBezTo>
                      <a:cubicBezTo>
                        <a:pt x="2884" y="88"/>
                        <a:pt x="2229" y="0"/>
                        <a:pt x="1442" y="0"/>
                      </a:cubicBezTo>
                      <a:lnTo>
                        <a:pt x="1442"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7" name=""/>
              <p:cNvGrpSpPr/>
              <p:nvPr/>
            </p:nvGrpSpPr>
            <p:grpSpPr>
              <a:xfrm>
                <a:off x="2909880" y="934560"/>
                <a:ext cx="1039680" cy="789480"/>
                <a:chOff x="2909880" y="934560"/>
                <a:chExt cx="1039680" cy="789480"/>
              </a:xfrm>
            </p:grpSpPr>
            <p:sp>
              <p:nvSpPr>
                <p:cNvPr id="568" name=""/>
                <p:cNvSpPr/>
                <p:nvPr/>
              </p:nvSpPr>
              <p:spPr>
                <a:xfrm>
                  <a:off x="2909880" y="1152360"/>
                  <a:ext cx="1039680" cy="354240"/>
                </a:xfrm>
                <a:prstGeom prst="roundRect">
                  <a:avLst>
                    <a:gd name="adj" fmla="val 44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909880" y="934560"/>
                  <a:ext cx="1039680" cy="7894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Top level</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SDC</a:t>
                  </a:r>
                  <a:endParaRPr b="0" lang="en-US" sz="1600" spc="-1" strike="noStrike">
                    <a:solidFill>
                      <a:srgbClr val="000000"/>
                    </a:solidFill>
                    <a:latin typeface="Times New Roman"/>
                  </a:endParaRPr>
                </a:p>
              </p:txBody>
            </p:sp>
          </p:grpSp>
        </p:grpSp>
        <p:grpSp>
          <p:nvGrpSpPr>
            <p:cNvPr id="570" name=""/>
            <p:cNvGrpSpPr/>
            <p:nvPr/>
          </p:nvGrpSpPr>
          <p:grpSpPr>
            <a:xfrm>
              <a:off x="1471680" y="911880"/>
              <a:ext cx="1220760" cy="806760"/>
              <a:chOff x="1471680" y="911880"/>
              <a:chExt cx="1220760" cy="806760"/>
            </a:xfrm>
          </p:grpSpPr>
          <p:grpSp>
            <p:nvGrpSpPr>
              <p:cNvPr id="571" name=""/>
              <p:cNvGrpSpPr/>
              <p:nvPr/>
            </p:nvGrpSpPr>
            <p:grpSpPr>
              <a:xfrm>
                <a:off x="1471680" y="1022400"/>
                <a:ext cx="1218960" cy="504720"/>
                <a:chOff x="1471680" y="1022400"/>
                <a:chExt cx="1218960" cy="504720"/>
              </a:xfrm>
            </p:grpSpPr>
            <p:sp>
              <p:nvSpPr>
                <p:cNvPr id="572" name=""/>
                <p:cNvSpPr/>
                <p:nvPr/>
              </p:nvSpPr>
              <p:spPr>
                <a:xfrm>
                  <a:off x="1471680" y="1022400"/>
                  <a:ext cx="1218960" cy="504720"/>
                </a:xfrm>
                <a:custGeom>
                  <a:avLst/>
                  <a:gdLst/>
                  <a:ahLst/>
                  <a:rect l="l" t="t" r="r" b="b"/>
                  <a:pathLst>
                    <a:path w="3387" h="1403">
                      <a:moveTo>
                        <a:pt x="1693" y="0"/>
                      </a:moveTo>
                      <a:cubicBezTo>
                        <a:pt x="768" y="0"/>
                        <a:pt x="0" y="82"/>
                        <a:pt x="0" y="176"/>
                      </a:cubicBezTo>
                      <a:lnTo>
                        <a:pt x="0" y="1226"/>
                      </a:lnTo>
                      <a:cubicBezTo>
                        <a:pt x="0" y="1319"/>
                        <a:pt x="768" y="1402"/>
                        <a:pt x="1693" y="1402"/>
                      </a:cubicBezTo>
                      <a:cubicBezTo>
                        <a:pt x="2617" y="1402"/>
                        <a:pt x="3386" y="1319"/>
                        <a:pt x="3386" y="1226"/>
                      </a:cubicBezTo>
                      <a:lnTo>
                        <a:pt x="3386" y="176"/>
                      </a:lnTo>
                      <a:cubicBezTo>
                        <a:pt x="3386" y="82"/>
                        <a:pt x="2617" y="0"/>
                        <a:pt x="1693" y="0"/>
                      </a:cubicBezTo>
                      <a:lnTo>
                        <a:pt x="1693"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471680" y="1022400"/>
                  <a:ext cx="1218960" cy="129960"/>
                </a:xfrm>
                <a:custGeom>
                  <a:avLst/>
                  <a:gdLst/>
                  <a:ahLst/>
                  <a:rect l="l" t="t" r="r" b="b"/>
                  <a:pathLst>
                    <a:path w="3387" h="360">
                      <a:moveTo>
                        <a:pt x="1693" y="0"/>
                      </a:moveTo>
                      <a:cubicBezTo>
                        <a:pt x="768" y="0"/>
                        <a:pt x="0" y="83"/>
                        <a:pt x="0" y="177"/>
                      </a:cubicBezTo>
                      <a:cubicBezTo>
                        <a:pt x="0" y="278"/>
                        <a:pt x="768" y="359"/>
                        <a:pt x="1693" y="359"/>
                      </a:cubicBezTo>
                      <a:cubicBezTo>
                        <a:pt x="2617" y="359"/>
                        <a:pt x="3386" y="278"/>
                        <a:pt x="3386" y="177"/>
                      </a:cubicBezTo>
                      <a:cubicBezTo>
                        <a:pt x="3386" y="83"/>
                        <a:pt x="2617" y="0"/>
                        <a:pt x="1693" y="0"/>
                      </a:cubicBezTo>
                      <a:lnTo>
                        <a:pt x="1693" y="0"/>
                      </a:lnTo>
                    </a:path>
                  </a:pathLst>
                </a:custGeom>
                <a:gradFill rotWithShape="0">
                  <a:gsLst>
                    <a:gs pos="0">
                      <a:srgbClr val="5374a9"/>
                    </a:gs>
                    <a:gs pos="50000">
                      <a:srgbClr val="ffffff"/>
                    </a:gs>
                    <a:gs pos="100000">
                      <a:srgbClr val="5374a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4" name=""/>
              <p:cNvGrpSpPr/>
              <p:nvPr/>
            </p:nvGrpSpPr>
            <p:grpSpPr>
              <a:xfrm>
                <a:off x="1471680" y="911880"/>
                <a:ext cx="1220760" cy="806760"/>
                <a:chOff x="1471680" y="911880"/>
                <a:chExt cx="1220760" cy="806760"/>
              </a:xfrm>
            </p:grpSpPr>
            <p:sp>
              <p:nvSpPr>
                <p:cNvPr id="575" name=""/>
                <p:cNvSpPr/>
                <p:nvPr/>
              </p:nvSpPr>
              <p:spPr>
                <a:xfrm>
                  <a:off x="1471680" y="1152360"/>
                  <a:ext cx="1220760" cy="327240"/>
                </a:xfrm>
                <a:prstGeom prst="roundRect">
                  <a:avLst>
                    <a:gd name="adj" fmla="val 48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471680" y="911880"/>
                  <a:ext cx="1220760" cy="8067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Volcano</a:t>
                  </a:r>
                  <a:endParaRPr b="0" lang="en-US" sz="1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00"/>
                      </a:solidFill>
                      <a:latin typeface="Arial"/>
                    </a:rPr>
                    <a:t>(Blast RTL)</a:t>
                  </a:r>
                  <a:endParaRPr b="0" lang="en-US" sz="1600" spc="-1" strike="noStrike">
                    <a:solidFill>
                      <a:srgbClr val="000000"/>
                    </a:solidFill>
                    <a:latin typeface="Times New Roman"/>
                  </a:endParaRPr>
                </a:p>
              </p:txBody>
            </p:sp>
          </p:grpSp>
        </p:gr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