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CE3-18A5-451A-BD9F-935DC6F2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634-6800-41E2-B250-CC0774F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F9B-CA9D-4F90-99FE-2F31DE55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663-6FE0-43B1-9D4F-E1F24C98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88C-3C84-4B51-BE97-B18C864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45D-E2BA-47C7-BF89-77D6F11A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71B-FB92-4860-9BAB-221D005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9AB-1582-4FF9-951B-C4DED07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774-C665-4C76-A9BC-F7B2624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879-9E16-4E36-93C0-B07CEE4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594-E08D-4AE7-97CC-07977D7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AF0-7DCA-485A-91CE-38C9CAE3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F939-09A6-416E-88E0-4F5B47A2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4876920" cy="1676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760"/>
              </a:tblGrid>
              <a:tr h="838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8:32:52Z</dcterms:created>
  <dc:creator>joker_p</dc:creator>
  <dc:description/>
  <dc:language>en-US</dc:language>
  <cp:lastModifiedBy>joker_p</cp:lastModifiedBy>
  <dcterms:modified xsi:type="dcterms:W3CDTF">2012-06-05T08:33:09Z</dcterms:modified>
  <cp:revision>1</cp:revision>
  <dc:subject/>
  <dc:title>Slide 1</dc:title>
</cp:coreProperties>
</file>