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D206-FD91-47A6-8D61-45014A3C2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8D4C-CC69-45BB-913C-0A60F9E60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B2A6-59AE-4ADA-B526-0069D113E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E2EC-1A55-4FDC-9C2F-A43013FE8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3670-A691-45FA-A6BB-0219D3273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5B15-A829-4193-A794-E444C22D4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F7C9-7447-48BE-A711-90CB83A9B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5F75-1788-4F84-A790-5298EFB34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4B23-7284-4B3A-94EF-D9354FB57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D011-84EC-4CC8-85DC-8DBE460BB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0A1A-3208-43BA-B3A3-55E913DF7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0CBD-F4AE-4B53-80F2-6D99117B6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E2938-5724-4634-AE93-ED8AA1F1EF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838080" y="762120"/>
            <a:ext cx="7450200" cy="1666800"/>
            <a:chOff x="838080" y="762120"/>
            <a:chExt cx="7450200" cy="1666800"/>
          </a:xfrm>
        </p:grpSpPr>
        <p:cxnSp>
          <p:nvCxnSpPr>
            <p:cNvPr id="42" name="_s2055"/>
            <p:cNvCxnSpPr>
              <a:stCxn id="43" idx="0"/>
              <a:endCxn id="44" idx="2"/>
            </p:cNvCxnSpPr>
            <p:nvPr/>
          </p:nvCxnSpPr>
          <p:spPr>
            <a:xfrm flipV="1" rot="16200000">
              <a:off x="5869800" y="194760"/>
              <a:ext cx="205200" cy="2818440"/>
            </a:xfrm>
            <a:prstGeom prst="bentConnector5">
              <a:avLst>
                <a:gd name="adj1" fmla="val 113181"/>
                <a:gd name="adj2" fmla="val 49770"/>
                <a:gd name="adj3" fmla="val -1318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5" name="_s2056"/>
            <p:cNvCxnSpPr>
              <a:stCxn id="46" idx="0"/>
              <a:endCxn id="44" idx="2"/>
            </p:cNvCxnSpPr>
            <p:nvPr/>
          </p:nvCxnSpPr>
          <p:spPr>
            <a:xfrm flipV="1" rot="16200000">
              <a:off x="4930560" y="1133640"/>
              <a:ext cx="205200" cy="940320"/>
            </a:xfrm>
            <a:prstGeom prst="bentConnector3">
              <a:avLst>
                <a:gd name="adj1" fmla="val 4991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7" name="_s2057"/>
            <p:cNvCxnSpPr>
              <a:stCxn id="48" idx="0"/>
              <a:endCxn id="44" idx="2"/>
            </p:cNvCxnSpPr>
            <p:nvPr/>
          </p:nvCxnSpPr>
          <p:spPr>
            <a:xfrm flipH="1" flipV="1" rot="5400000">
              <a:off x="3990600" y="1134000"/>
              <a:ext cx="205200" cy="939960"/>
            </a:xfrm>
            <a:prstGeom prst="bentConnector3">
              <a:avLst>
                <a:gd name="adj1" fmla="val 4991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9" name="_s2058"/>
            <p:cNvCxnSpPr>
              <a:stCxn id="50" idx="0"/>
              <a:endCxn id="44" idx="2"/>
            </p:cNvCxnSpPr>
            <p:nvPr/>
          </p:nvCxnSpPr>
          <p:spPr>
            <a:xfrm flipH="1" flipV="1" rot="5400000">
              <a:off x="3051360" y="195120"/>
              <a:ext cx="205200" cy="2818080"/>
            </a:xfrm>
            <a:prstGeom prst="bentConnector5">
              <a:avLst>
                <a:gd name="adj1" fmla="val 113181"/>
                <a:gd name="adj2" fmla="val 49776"/>
                <a:gd name="adj3" fmla="val -1318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44" name="_s2059"/>
            <p:cNvSpPr/>
            <p:nvPr/>
          </p:nvSpPr>
          <p:spPr>
            <a:xfrm>
              <a:off x="3643200" y="762120"/>
              <a:ext cx="1839960" cy="739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5560" rIns="25560" tIns="12600" bIns="12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bos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_s2060"/>
            <p:cNvSpPr/>
            <p:nvPr/>
          </p:nvSpPr>
          <p:spPr>
            <a:xfrm>
              <a:off x="838080" y="1706400"/>
              <a:ext cx="1814760" cy="7225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5560" rIns="25560" tIns="12600" bIns="12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eon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_s2061"/>
            <p:cNvSpPr/>
            <p:nvPr/>
          </p:nvSpPr>
          <p:spPr>
            <a:xfrm>
              <a:off x="2716200" y="1706400"/>
              <a:ext cx="1814400" cy="7225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5560" rIns="25560" tIns="12600" bIns="12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eon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_s2062"/>
            <p:cNvSpPr/>
            <p:nvPr/>
          </p:nvSpPr>
          <p:spPr>
            <a:xfrm>
              <a:off x="4595760" y="1706400"/>
              <a:ext cx="1814400" cy="7225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eon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_s2063"/>
            <p:cNvSpPr/>
            <p:nvPr/>
          </p:nvSpPr>
          <p:spPr>
            <a:xfrm>
              <a:off x="6473880" y="1706400"/>
              <a:ext cx="1814400" cy="7225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eon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914400" y="3657600"/>
            <a:ext cx="4645080" cy="1666800"/>
            <a:chOff x="914400" y="3657600"/>
            <a:chExt cx="4645080" cy="1666800"/>
          </a:xfrm>
        </p:grpSpPr>
        <p:cxnSp>
          <p:nvCxnSpPr>
            <p:cNvPr id="52" name="_s2077"/>
            <p:cNvCxnSpPr>
              <a:stCxn id="53" idx="0"/>
              <a:endCxn id="54" idx="2"/>
            </p:cNvCxnSpPr>
            <p:nvPr/>
          </p:nvCxnSpPr>
          <p:spPr>
            <a:xfrm flipH="1" flipV="1" rot="5400000">
              <a:off x="3127680" y="3090600"/>
              <a:ext cx="205200" cy="2818080"/>
            </a:xfrm>
            <a:prstGeom prst="bentConnector5">
              <a:avLst>
                <a:gd name="adj1" fmla="val 113181"/>
                <a:gd name="adj2" fmla="val 49776"/>
                <a:gd name="adj3" fmla="val -1318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54" name="_s2078"/>
            <p:cNvSpPr/>
            <p:nvPr/>
          </p:nvSpPr>
          <p:spPr>
            <a:xfrm>
              <a:off x="3719520" y="3657600"/>
              <a:ext cx="1839960" cy="739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5560" rIns="25560" tIns="12600" bIns="12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bos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_s2079"/>
            <p:cNvSpPr/>
            <p:nvPr/>
          </p:nvSpPr>
          <p:spPr>
            <a:xfrm>
              <a:off x="914400" y="4601880"/>
              <a:ext cx="1814760" cy="7225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5560" rIns="25560" tIns="12600" bIns="12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eon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21:56:26Z</dcterms:created>
  <dc:creator>Windows User</dc:creator>
  <dc:description/>
  <dc:language>en-US</dc:language>
  <cp:lastModifiedBy>Windows User</cp:lastModifiedBy>
  <dcterms:modified xsi:type="dcterms:W3CDTF">2007-08-30T22:01:35Z</dcterms:modified>
  <cp:revision>2</cp:revision>
  <dc:subject/>
  <dc:title>Slide 1</dc:title>
</cp:coreProperties>
</file>