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47B1-C618-46EC-81B5-3FA1BB71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67B0-A20E-4A9B-B766-1D29FDF2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3892-4CC4-495B-9F0B-C769A659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F20A-506B-4C1E-ACE3-04FC3CF0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D177-59ED-4592-A993-8AF7B980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165D-166F-4988-AB2B-05BA5FDC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4076-549B-4FAB-B502-9F819287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1188-1922-4C46-A119-78E33537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6A33-F618-4142-87C3-CBC4557A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724F-9144-4ACD-A2C2-F5D5AD3B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97A9-1158-4F52-8CE4-766A2503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3845-E69E-464C-955C-2039C3E6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59EB-681E-4A85-B195-9C94475A6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284ba"/>
                </a:solidFill>
                <a:latin typeface="Arial"/>
              </a:rPr>
              <a:t>Chào Cly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266720" y="5714640"/>
            <a:ext cx="4496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270dd"/>
                </a:solidFill>
                <a:latin typeface="Arial"/>
              </a:rPr>
              <a:t>Ngô Hùng Dũ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22440"/>
            <a:ext cx="792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7a5b"/>
                </a:solidFill>
                <a:latin typeface="Arial"/>
              </a:rPr>
              <a:t>Học Open Office 2.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1447920"/>
            <a:ext cx="3809880" cy="0"/>
          </a:xfrm>
          <a:prstGeom prst="line">
            <a:avLst/>
          </a:prstGeom>
          <a:ln w="31680">
            <a:solidFill>
              <a:srgbClr val="e270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rot="16200000">
            <a:off x="-1918800" y="3727440"/>
            <a:ext cx="5038560" cy="130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52480" y="1600200"/>
            <a:ext cx="3810240" cy="0"/>
          </a:xfrm>
          <a:prstGeom prst="line">
            <a:avLst/>
          </a:prstGeom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28600" y="60958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nodeType="afterEffect" fill="hold" presetClass="entr" presetID="3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5 -1.11111E-006 L 0.45833 -1.11111E-006 E">
                                      <p:cBhvr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5 -1.11111E-006 L 0.45833 -1.11111E-006 E">
                                      <p:cBhvr>
                                        <p:cTn id="33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" nodeType="afterEffect" fill="hold" presetClass="entr" presetID="41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6500"/>
                            </p:stCondLst>
                            <p:childTnLst>
                              <p:par>
                                <p:cTn id="43" nodeType="afterEffect" fill="hold" presetClass="entr" presetID="38" repeatCount="indefinite">
                                  <p:stCondLst>
                                    <p:cond delay="2000"/>
                                  </p:stCondLst>
                                  <p:iterate type="wd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6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6:48:17Z</dcterms:created>
  <dc:creator>Windows xp sp2 Full</dc:creator>
  <dc:description/>
  <dc:language>en-US</dc:language>
  <cp:lastModifiedBy>My Computer</cp:lastModifiedBy>
  <dcterms:modified xsi:type="dcterms:W3CDTF">2007-01-04T16:51:45Z</dcterms:modified>
  <cp:revision>129</cp:revision>
  <dc:subject/>
  <dc:title>Slide 1</dc:title>
</cp:coreProperties>
</file>