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F22A-44A2-4D3F-8DE7-C79ED08BA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B8D5-5784-4803-B730-EA1852181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1B7C-0F87-4E37-9A2C-84E96A285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90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177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90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177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4E4B-821B-48F7-93D4-F1F9C4634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21379-6973-43CF-93F6-7565898CF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0EF98-B95F-4A93-9065-66A639D6D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F92D5-5D64-44E5-98FE-51FE446B2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AB218-E1F5-4580-BBEC-4BD788215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F0974-AA0C-4176-8F6C-6DDF2EF54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C594D-AC36-49AC-8217-488EE6DEB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98260-DE27-4BF6-8AF5-5DC92A51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E9F0-2950-4651-BDF5-E06E54068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CFE9A-9C98-4852-9390-CE09E539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5DF2E-B3B7-4B65-8B86-F3A032630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08701-5E06-4B1B-B7AF-E00D12204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CBE74-AA26-4A81-B168-14A1E1A24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90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177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90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177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436C6-B6A4-48EB-B9A0-24E380967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098B-8458-4BC6-89D4-8F3594B4B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C7E0-0F52-437D-A308-C8CE7E2F0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53A1-CFED-41CF-A9C6-7FD75F345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621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271D-7A48-4F8D-A394-4AC169D8B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BF2B-62AD-49B3-A952-C6C2182E9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BF7C-8651-497A-838A-0906F9E3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7FC8-6662-40B0-B1CB-1EC587F73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c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1D63A-5B47-4C09-8F5A-BA8E6A87F5D6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066680" y="1741320"/>
            <a:ext cx="7391520" cy="87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538760" y="103320"/>
            <a:ext cx="161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" spc="-1" strike="noStrike">
                <a:solidFill>
                  <a:srgbClr val="000000"/>
                </a:solidFill>
                <a:latin typeface="Times New Roman"/>
              </a:rPr>
              <a:t>Texcom Information Technolog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TW" sz="800" spc="-1" strike="noStrike">
                <a:solidFill>
                  <a:srgbClr val="000000"/>
                </a:solidFill>
                <a:latin typeface="Times New Roman"/>
              </a:rPr>
              <a:t>www.texcom.com.t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4"/>
          <a:stretch/>
        </p:blipFill>
        <p:spPr>
          <a:xfrm>
            <a:off x="7091280" y="115920"/>
            <a:ext cx="505080" cy="36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C7A6D-A6B5-4068-8C49-A1A399E431C7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066680" y="990720"/>
            <a:ext cx="6934320" cy="7617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838800" y="291960"/>
            <a:ext cx="1957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Texcom Information Technolog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www.texcom.com.t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4920" y="165240"/>
            <a:ext cx="826920" cy="599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500720" y="2924280"/>
            <a:ext cx="2280960" cy="457200"/>
          </a:xfrm>
          <a:prstGeom prst="rect">
            <a:avLst/>
          </a:prstGeom>
          <a:solidFill>
            <a:srgbClr val="ffa365">
              <a:alpha val="50000"/>
            </a:srgbClr>
          </a:solidFill>
          <a:ln w="57240">
            <a:solidFill>
              <a:srgbClr val="a5002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924680" y="3452760"/>
            <a:ext cx="914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石化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棉花…</a:t>
            </a: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0" y="3452760"/>
            <a:ext cx="99072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原紗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15000" y="3452760"/>
            <a:ext cx="99072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織布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0" y="3452760"/>
            <a:ext cx="99072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染整</a:t>
            </a: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/</a:t>
            </a: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染紗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後加工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29000" y="3452760"/>
            <a:ext cx="99072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成衣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52760"/>
            <a:ext cx="99036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品牌業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19320" y="3452760"/>
            <a:ext cx="99036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零售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3452760"/>
            <a:ext cx="914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消費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72400" y="3833640"/>
            <a:ext cx="228600" cy="304920"/>
          </a:xfrm>
          <a:prstGeom prst="leftArrow">
            <a:avLst>
              <a:gd name="adj1" fmla="val 35417"/>
              <a:gd name="adj2" fmla="val 5625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629400" y="3833640"/>
            <a:ext cx="228600" cy="304920"/>
          </a:xfrm>
          <a:prstGeom prst="leftArrow">
            <a:avLst>
              <a:gd name="adj1" fmla="val 35417"/>
              <a:gd name="adj2" fmla="val 5625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833640"/>
            <a:ext cx="228600" cy="304920"/>
          </a:xfrm>
          <a:prstGeom prst="leftArrow">
            <a:avLst>
              <a:gd name="adj1" fmla="val 35417"/>
              <a:gd name="adj2" fmla="val 5625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343400" y="3833640"/>
            <a:ext cx="228600" cy="304920"/>
          </a:xfrm>
          <a:prstGeom prst="leftArrow">
            <a:avLst>
              <a:gd name="adj1" fmla="val 35417"/>
              <a:gd name="adj2" fmla="val 5625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76720" y="3833640"/>
            <a:ext cx="228600" cy="304920"/>
          </a:xfrm>
          <a:prstGeom prst="leftArrow">
            <a:avLst>
              <a:gd name="adj1" fmla="val 35417"/>
              <a:gd name="adj2" fmla="val 5625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33720" y="3833640"/>
            <a:ext cx="228600" cy="304920"/>
          </a:xfrm>
          <a:prstGeom prst="leftArrow">
            <a:avLst>
              <a:gd name="adj1" fmla="val 35417"/>
              <a:gd name="adj2" fmla="val 5625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3833640"/>
            <a:ext cx="228600" cy="304920"/>
          </a:xfrm>
          <a:prstGeom prst="leftArrow">
            <a:avLst>
              <a:gd name="adj1" fmla="val 35417"/>
              <a:gd name="adj2" fmla="val 5625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812000" y="1844640"/>
            <a:ext cx="36720" cy="4732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6781680" y="1916280"/>
            <a:ext cx="22320" cy="4660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4495680" y="1916280"/>
            <a:ext cx="5040" cy="4584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16000" y="1989000"/>
            <a:ext cx="27000" cy="4511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48000" y="1916280"/>
            <a:ext cx="4680" cy="4584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5510160"/>
            <a:ext cx="312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352680" y="551016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95680" y="551016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81680" y="551016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848720" y="551016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91920" y="5510160"/>
            <a:ext cx="60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全世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歐美國家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74440" y="5510160"/>
            <a:ext cx="756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中國大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中南美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印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印度…</a:t>
            </a: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07200" y="5510160"/>
            <a:ext cx="863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台灣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韓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日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中國大陸…</a:t>
            </a: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078320" y="5586480"/>
            <a:ext cx="607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台灣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日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美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中國大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印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993800" y="5586480"/>
            <a:ext cx="756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美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印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中國大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埃及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日本…</a:t>
            </a: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352680" y="4595760"/>
            <a:ext cx="5410440" cy="533520"/>
          </a:xfrm>
          <a:prstGeom prst="leftRightArrow">
            <a:avLst>
              <a:gd name="adj1" fmla="val 44444"/>
              <a:gd name="adj2" fmla="val 72020"/>
            </a:avLst>
          </a:prstGeom>
          <a:solidFill>
            <a:srgbClr val="7373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供應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4595760"/>
            <a:ext cx="3047760" cy="533520"/>
          </a:xfrm>
          <a:prstGeom prst="leftRightArrow">
            <a:avLst>
              <a:gd name="adj1" fmla="val 45833"/>
              <a:gd name="adj2" fmla="val 77966"/>
            </a:avLst>
          </a:prstGeom>
          <a:solidFill>
            <a:srgbClr val="33cc3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購買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05320" y="29192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02000" y="2462040"/>
            <a:ext cx="607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遠東集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新光紡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南亞實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台南紡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815800" y="2309760"/>
            <a:ext cx="66852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潤泰國際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宏遠興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佳和實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36160" y="2097000"/>
            <a:ext cx="6685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強盛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台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興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怡華實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352680" y="2492280"/>
            <a:ext cx="1133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聯業</a:t>
            </a: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益大</a:t>
            </a: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新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台南企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聚陽實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62680" y="2690640"/>
            <a:ext cx="91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ike…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58560" y="2698920"/>
            <a:ext cx="945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Arial"/>
              </a:rPr>
              <a:t>JcPen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Arial"/>
              </a:rPr>
              <a:t>KM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Arial"/>
              </a:rPr>
              <a:t>Sears…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紡織產業的價值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8T07:02:53Z</dcterms:created>
  <dc:creator>083836</dc:creator>
  <dc:description/>
  <dc:language>en-US</dc:language>
  <cp:lastModifiedBy>mwu</cp:lastModifiedBy>
  <dcterms:modified xsi:type="dcterms:W3CDTF">2007-03-29T04:19:58Z</dcterms:modified>
  <cp:revision>17</cp:revision>
  <dc:subject/>
  <dc:title>紡織產業生產管理特性與電子化策略思考</dc:title>
</cp:coreProperties>
</file>