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892-BCBE-46D3-9D6C-3BFF650C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06F-DB2A-40D7-9E79-F3FB0B8E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372-C845-4AE4-82AD-F239BA67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528-0418-4B7B-9962-A11E1A62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5D5-6976-4B04-8D55-AFF4E76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B13-AA90-42E4-9037-01B77496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D73-003B-41C8-A3E7-A2B1400B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A15-A159-45B8-8261-4BBD62DC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720-DE8D-437A-A9BD-B078BFB0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09C-9B49-4DB3-947E-775B5C79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94A-73C8-488C-B15E-81386DBB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958-02A4-4E1F-9AD5-4C379276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FDD1-F93E-431F-9F45-1DA3346FA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914400"/>
            <a:ext cx="342900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786040"/>
            <a:ext cx="342900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4657680"/>
            <a:ext cx="342900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29280" y="1828800"/>
            <a:ext cx="1440" cy="957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29280" y="3700440"/>
            <a:ext cx="1440" cy="957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335320" y="1371600"/>
            <a:ext cx="180720" cy="3745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43600" y="1371600"/>
            <a:ext cx="181080" cy="3745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78040" y="1189080"/>
            <a:ext cx="3124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or the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78040" y="3079800"/>
            <a:ext cx="3124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or the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78040" y="4915080"/>
            <a:ext cx="3124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or the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gashree</cp:lastModifiedBy>
  <dcterms:modified xsi:type="dcterms:W3CDTF">2004-11-23T05:21:39Z</dcterms:modified>
  <cp:revision>1</cp:revision>
  <dc:subject/>
  <dc:title>Slide 1</dc:title>
</cp:coreProperties>
</file>