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2470150"/>
  <p:notesSz cx="201295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7AA-4C07-40BF-AB58-4A10D468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905184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1428480"/>
            <a:ext cx="905184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209-D0A4-44C6-B3A9-FFEC1DAD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57744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142848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142848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6A88-4CE0-4AB0-A7BA-1B1F155F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291456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577440"/>
            <a:ext cx="291456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577440"/>
            <a:ext cx="291456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1428480"/>
            <a:ext cx="291456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1428480"/>
            <a:ext cx="291456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1428480"/>
            <a:ext cx="291456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53D-E16B-44FE-9298-530145D9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77440"/>
            <a:ext cx="905184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9DB-6378-44A2-B7F0-0FEE23F1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905184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C18-9333-40FD-9A00-E1ED19FC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441720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577440"/>
            <a:ext cx="441720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F18-59F1-4C54-9ABC-EB0AB1C2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3ED-DA74-483B-BB48-ECFDD935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97920"/>
            <a:ext cx="9051840" cy="19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B71-C17F-41C1-83FC-DBE9C74E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577440"/>
            <a:ext cx="441720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142848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A4D-76EE-43FC-B082-482643E5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441720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57744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142848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079-01F2-47D1-AFCE-37688A32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-78480"/>
            <a:ext cx="905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7744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577440"/>
            <a:ext cx="441720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1428480"/>
            <a:ext cx="9051840" cy="7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41D-35FF-4371-9902-5E30A8D2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97920"/>
            <a:ext cx="9051840" cy="4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577440"/>
            <a:ext cx="905184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34160" indent="-8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08040" indent="-86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81560" indent="-86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81560" indent="-86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81560" indent="-86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2249640"/>
            <a:ext cx="23461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2249640"/>
            <a:ext cx="318456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2249640"/>
            <a:ext cx="23461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9AE4-6009-4886-90D2-1F74BF5C1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080" y="152280"/>
            <a:ext cx="7333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52280"/>
            <a:ext cx="733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1782720"/>
            <a:ext cx="72864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1" idx="4"/>
            <a:endCxn id="43" idx="0"/>
          </p:cNvCxnSpPr>
          <p:nvPr/>
        </p:nvCxnSpPr>
        <p:spPr>
          <a:xfrm>
            <a:off x="547920" y="685800"/>
            <a:ext cx="431244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4"/>
            <a:endCxn id="43" idx="0"/>
          </p:cNvCxnSpPr>
          <p:nvPr/>
        </p:nvCxnSpPr>
        <p:spPr>
          <a:xfrm>
            <a:off x="1433520" y="685800"/>
            <a:ext cx="342684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3581280" y="15228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pr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19720" y="152280"/>
            <a:ext cx="7617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152280"/>
            <a:ext cx="7617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5228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d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5228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5228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48440" y="152280"/>
            <a:ext cx="8175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m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39160" y="15228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2" idx="6"/>
            <a:endCxn id="53" idx="2"/>
          </p:cNvCxnSpPr>
          <p:nvPr/>
        </p:nvCxnSpPr>
        <p:spPr>
          <a:xfrm>
            <a:off x="7866000" y="419040"/>
            <a:ext cx="1735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8953560" y="15228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alibri"/>
              </a:rPr>
              <a:t>d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8" idx="4"/>
            <a:endCxn id="43" idx="0"/>
          </p:cNvCxnSpPr>
          <p:nvPr/>
        </p:nvCxnSpPr>
        <p:spPr>
          <a:xfrm>
            <a:off x="2286000" y="685800"/>
            <a:ext cx="257436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4"/>
            <a:endCxn id="43" idx="0"/>
          </p:cNvCxnSpPr>
          <p:nvPr/>
        </p:nvCxnSpPr>
        <p:spPr>
          <a:xfrm>
            <a:off x="3124440" y="685800"/>
            <a:ext cx="173592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3" idx="0"/>
          </p:cNvCxnSpPr>
          <p:nvPr/>
        </p:nvCxnSpPr>
        <p:spPr>
          <a:xfrm>
            <a:off x="3962520" y="685800"/>
            <a:ext cx="89784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7" idx="4"/>
            <a:endCxn id="43" idx="0"/>
          </p:cNvCxnSpPr>
          <p:nvPr/>
        </p:nvCxnSpPr>
        <p:spPr>
          <a:xfrm>
            <a:off x="4800600" y="685800"/>
            <a:ext cx="5976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0" idx="4"/>
            <a:endCxn id="43" idx="0"/>
          </p:cNvCxnSpPr>
          <p:nvPr/>
        </p:nvCxnSpPr>
        <p:spPr>
          <a:xfrm flipH="1">
            <a:off x="4860000" y="685800"/>
            <a:ext cx="77940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43" idx="0"/>
          </p:cNvCxnSpPr>
          <p:nvPr/>
        </p:nvCxnSpPr>
        <p:spPr>
          <a:xfrm flipH="1">
            <a:off x="4860000" y="685800"/>
            <a:ext cx="169380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4"/>
            <a:endCxn id="43" idx="0"/>
          </p:cNvCxnSpPr>
          <p:nvPr/>
        </p:nvCxnSpPr>
        <p:spPr>
          <a:xfrm flipH="1">
            <a:off x="4860000" y="685800"/>
            <a:ext cx="259776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3" idx="4"/>
            <a:endCxn id="43" idx="0"/>
          </p:cNvCxnSpPr>
          <p:nvPr/>
        </p:nvCxnSpPr>
        <p:spPr>
          <a:xfrm flipH="1">
            <a:off x="4860000" y="685800"/>
            <a:ext cx="3560760" cy="109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5" idx="3"/>
            <a:endCxn id="43" idx="0"/>
          </p:cNvCxnSpPr>
          <p:nvPr/>
        </p:nvCxnSpPr>
        <p:spPr>
          <a:xfrm flipH="1">
            <a:off x="4860000" y="607680"/>
            <a:ext cx="4205520" cy="11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6:01:03Z</dcterms:created>
  <dc:creator>Blaise Thomson</dc:creator>
  <dc:description/>
  <dc:language>en-US</dc:language>
  <cp:lastModifiedBy>Blaise Thomson</cp:lastModifiedBy>
  <dcterms:modified xsi:type="dcterms:W3CDTF">2009-10-29T16:23:13Z</dcterms:modified>
  <cp:revision>2</cp:revision>
  <dc:subject/>
  <dc:title>Slide 1</dc:title>
</cp:coreProperties>
</file>