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15B7-B93A-40ED-AA7E-C09367FAE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2541-A32A-416A-9AC8-39ACE501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5D25-4871-4C4F-B3BD-6974EBB1B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3B7D-343D-4812-8D20-A5933E1CC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C517-3F79-4AF1-9E72-584C548B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42D9-A826-4AC1-BEED-FF1EA091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B0E9-1F78-4912-8CF6-24DF100E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F1F3-ACDE-4E78-A7F1-EC0AA6E0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A14D-B18E-445D-8DEA-3ECE4C1C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277A-53BB-4DF3-AE95-7A394F4C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ADAB-E39A-45CD-8D36-B1EA95B0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46E9-288A-4E11-AE12-CDF5BA0D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95C3-E579-4921-A2DD-F57260BC8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9720" y="797040"/>
          <a:ext cx="8069400" cy="478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9720" y="797040"/>
                    <a:ext cx="806940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08:11:04Z</dcterms:created>
  <dc:creator>semicond</dc:creator>
  <dc:description/>
  <dc:language>en-US</dc:language>
  <cp:lastModifiedBy>semicond</cp:lastModifiedBy>
  <dcterms:modified xsi:type="dcterms:W3CDTF">2010-11-19T08:26:22Z</dcterms:modified>
  <cp:revision>2</cp:revision>
  <dc:subject/>
  <dc:title>Слайд 1</dc:title>
</cp:coreProperties>
</file>