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DDF-414C-4910-9CD3-90787424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98D-7ED5-4991-8BA8-A7090D18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777-A685-4932-915F-5AEF464B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375-CDA6-4520-BC75-B9A103CC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A1A-9A5F-4C8D-8EA6-6A42E4E0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921-F540-4699-8C82-47C3792F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E9E-6FEC-453B-8F0D-1A71A518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1B3-7FE5-4CE1-BAD2-AF971AF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9E7-83BD-47F9-BC1F-6A14680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A02-AA63-4EEC-B52D-035B127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115-773B-41C3-9FCE-8DA9BAC3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91B-90DD-4120-BE1F-9ADF8C1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b"/>
            </a:gs>
            <a:gs pos="50000">
              <a:srgbClr val="ffffcc"/>
            </a:gs>
            <a:gs pos="100000">
              <a:srgbClr val="c1c19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8FF-008E-4A49-ABF7-5BEB272049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9b"/>
            </a:gs>
            <a:gs pos="50000">
              <a:srgbClr val="ffffcc"/>
            </a:gs>
            <a:gs pos="100000">
              <a:srgbClr val="c1c19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gents Diploma Rates by Year of Entry Coh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8640" y="1592280"/>
          <a:ext cx="8075880" cy="42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592280"/>
                    <a:ext cx="80758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7150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7T22:27:14Z</dcterms:created>
  <dc:creator>Carol BurrisHP Authorized Customer</dc:creator>
  <dc:description/>
  <dc:language>en-US</dc:language>
  <cp:lastModifiedBy>zongdj</cp:lastModifiedBy>
  <dcterms:modified xsi:type="dcterms:W3CDTF">2012-06-05T01:18:22Z</dcterms:modified>
  <cp:revision>101</cp:revision>
  <dc:subject/>
  <dc:title>Regents results:</dc:title>
</cp:coreProperties>
</file>