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Untitled-8"/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39" name="Straight Connector 3"/>
          <p:cNvSpPr/>
          <p:nvPr/>
        </p:nvSpPr>
        <p:spPr>
          <a:xfrm flipH="1">
            <a:off x="3350880" y="1297080"/>
            <a:ext cx="3240" cy="3352680"/>
          </a:xfrm>
          <a:prstGeom prst="line">
            <a:avLst/>
          </a:prstGeom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E:\My Documents\1 Temple\1 Wipro\1 On-going Jobs\Corporate ppt\z+ final\TMPLTS\WIPRO-LOW RES JPG.jpg"/>
          <p:cNvPicPr/>
          <p:nvPr/>
        </p:nvPicPr>
        <p:blipFill>
          <a:blip r:embed="rId3"/>
          <a:stretch/>
        </p:blipFill>
        <p:spPr>
          <a:xfrm>
            <a:off x="380880" y="1371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1" name="Footer Placeholder 3"/>
          <p:cNvSpPr/>
          <p:nvPr/>
        </p:nvSpPr>
        <p:spPr>
          <a:xfrm>
            <a:off x="2514600" y="6553080"/>
            <a:ext cx="3962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© 2010 Wiper Ltd  - 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er and Sub Scrip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Hi I am a paragrap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with super a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sub script. Hi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 am a paragraph with super and sub scrip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 I am a paragraph with super and sub scrip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09:20:26Z</dcterms:created>
  <dc:creator>svege</dc:creator>
  <dc:description/>
  <dc:language>en-US</dc:language>
  <cp:lastModifiedBy>svege</cp:lastModifiedBy>
  <dcterms:modified xsi:type="dcterms:W3CDTF">2010-06-18T09:23:08Z</dcterms:modified>
  <cp:revision>1</cp:revision>
  <dc:subject>Standard Presentation Template</dc:subject>
  <dc:title>Super and Sub Script</dc:title>
</cp:coreProperties>
</file>