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700-9BD1-4ACB-8B6D-657DD133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531-0F49-4C24-98C6-ABB8BDA2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5DC-D9B6-4941-A6F0-9172B3D0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EEC-EFE9-4B07-ADB9-F90D74C2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B5D-9051-4233-82B5-111F10F4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E7B-73DB-4EF4-B263-5AEF3B05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87D-505E-4976-8390-DB0EA69A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606-F0F4-4165-AA3E-B994AF6D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34A-66BA-41A6-87E4-4C7A30FB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DBA-1D85-48B1-9F17-C0196253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E81-5468-4D0B-B417-A717310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2C4-081D-4651-8093-F52CBCC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983D-06DA-49DD-AC1A-C404229D2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-Ori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2411280" y="1541520"/>
            <a:ext cx="48769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–Less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-88000"/>
          </a:blip>
          <a:stretch/>
        </p:blipFill>
        <p:spPr>
          <a:xfrm>
            <a:off x="2411280" y="1541520"/>
            <a:ext cx="48769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–More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2340000" y="1773360"/>
            <a:ext cx="48769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25:09Z</dcterms:created>
  <dc:creator/>
  <dc:description/>
  <dc:language>en-US</dc:language>
  <cp:lastModifiedBy>svege</cp:lastModifiedBy>
  <dcterms:modified xsi:type="dcterms:W3CDTF">2010-06-17T11:55:13Z</dcterms:modified>
  <cp:revision>16</cp:revision>
  <dc:subject/>
  <dc:title>table</dc:title>
</cp:coreProperties>
</file>