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9728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46B6-59D7-488A-A61E-85EBB0B4FF0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slide uses action buttons to make a map of your site.  The lines joining the action buttons are connector lines. When you rearrange objects that have a connector line, the connectors remain attached to the objects and move with the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or more information, ask the Answer Wizard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ction But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onn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6B9A-241A-4CAC-AEB8-F5A68042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00040" y="167616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00040" y="418356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1594-9F11-4630-88C0-63053A8C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00040" y="16761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065720" y="16761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200040" y="41835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7065720" y="41835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5BB6-B045-4703-BACD-046D7B4F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00040" y="16761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50640" y="16761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301600" y="16761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200040" y="41835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5750640" y="41835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8301600" y="41835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851F-24BF-4843-B7E5-797A4377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20004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09E7-826F-40A3-8F58-CF530F5C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0004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CEAC-A0BE-4CEA-8AB0-9249C994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00040" y="167616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65720" y="167616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07A1-9D50-4879-96D7-1DD8110A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D01D-AD3A-4DC5-B016-8DABE797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200040" y="914040"/>
            <a:ext cx="754380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7970-134E-4585-B4B1-5E95DE25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00040" y="16761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65720" y="167616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00040" y="41835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C4A9-6822-47E9-BE38-7BABE837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0040" y="167616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065720" y="16761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65720" y="41835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E0BC-D208-4939-B929-C36422EF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00040" y="16761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065720" y="16761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200040" y="418356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51F5-6445-483B-9997-39BD2F32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.xml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9cc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9cc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501C-CE0D-4106-B2F7-F4C75CBDF404}" type="slidenum">
              <a:rPr b="0" lang="zh-CN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cc"/>
                </a:solidFill>
                <a:latin typeface="Times New Roman"/>
              </a:rPr>
              <a:t>Insert work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cc"/>
                </a:solidFill>
                <a:latin typeface="Times New Roman"/>
              </a:rPr>
              <a:t>logo on slide m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Insert workgroup name on slide m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11" name="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999933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00"/>
                </a:solidFill>
                <a:latin typeface="Times New Roman"/>
              </a:rPr>
              <a:t>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00"/>
                </a:solidFill>
                <a:latin typeface="Times New Roman"/>
              </a:rPr>
              <a:t>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00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28600" y="39592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00"/>
                </a:solidFill>
                <a:latin typeface="Times New Roman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00"/>
                </a:solidFill>
                <a:latin typeface="Times New Roman"/>
              </a:rPr>
              <a:t>What’s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cc00"/>
                </a:solidFill>
                <a:latin typeface="Times New Roman"/>
              </a:rPr>
              <a:t>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320004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Site Map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" action="ppaction://hlinksldjump"/>
          </p:cNvPr>
          <p:cNvSpPr/>
          <p:nvPr/>
        </p:nvSpPr>
        <p:spPr>
          <a:xfrm>
            <a:off x="4572000" y="2057400"/>
            <a:ext cx="1905120" cy="304920"/>
          </a:xfrm>
          <a:custGeom>
            <a:avLst/>
            <a:gdLst>
              <a:gd name="textAreaLeft" fmla="*/ 19440 w 1905120"/>
              <a:gd name="textAreaRight" fmla="*/ 1885680 w 1905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3422" y="1400"/>
                </a:lnTo>
                <a:lnTo>
                  <a:pt x="1400" y="1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3422" y="20200"/>
                </a:lnTo>
                <a:lnTo>
                  <a:pt x="133422" y="1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22" y="20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5943600" y="3124080"/>
            <a:ext cx="1905120" cy="304920"/>
          </a:xfrm>
          <a:custGeom>
            <a:avLst/>
            <a:gdLst>
              <a:gd name="textAreaLeft" fmla="*/ 19440 w 1905120"/>
              <a:gd name="textAreaRight" fmla="*/ 1885680 w 1905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3422" y="1400"/>
                </a:lnTo>
                <a:lnTo>
                  <a:pt x="1400" y="1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3422" y="20200"/>
                </a:lnTo>
                <a:lnTo>
                  <a:pt x="133422" y="1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22" y="20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3" action="ppaction://hlinksldjump"/>
          </p:cNvPr>
          <p:cNvSpPr/>
          <p:nvPr/>
        </p:nvSpPr>
        <p:spPr>
          <a:xfrm>
            <a:off x="5943600" y="2590920"/>
            <a:ext cx="1905120" cy="304560"/>
          </a:xfrm>
          <a:custGeom>
            <a:avLst/>
            <a:gdLst>
              <a:gd name="textAreaLeft" fmla="*/ 19440 w 1905120"/>
              <a:gd name="textAreaRight" fmla="*/ 1885680 w 1905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134981" h="21600">
                <a:moveTo>
                  <a:pt x="0" y="0"/>
                </a:moveTo>
                <a:lnTo>
                  <a:pt x="134981" y="0"/>
                </a:lnTo>
                <a:lnTo>
                  <a:pt x="134981" y="21600"/>
                </a:lnTo>
                <a:lnTo>
                  <a:pt x="0" y="21600"/>
                </a:lnTo>
                <a:close/>
              </a:path>
              <a:path fill="lightenLess" w="134981" h="21600">
                <a:moveTo>
                  <a:pt x="0" y="0"/>
                </a:moveTo>
                <a:lnTo>
                  <a:pt x="134981" y="0"/>
                </a:lnTo>
                <a:lnTo>
                  <a:pt x="133581" y="1400"/>
                </a:lnTo>
                <a:lnTo>
                  <a:pt x="1400" y="1400"/>
                </a:lnTo>
                <a:close/>
              </a:path>
              <a:path fill="darken" w="134981" h="21600">
                <a:moveTo>
                  <a:pt x="134981" y="0"/>
                </a:moveTo>
                <a:lnTo>
                  <a:pt x="134981" y="21600"/>
                </a:lnTo>
                <a:lnTo>
                  <a:pt x="133581" y="20200"/>
                </a:lnTo>
                <a:lnTo>
                  <a:pt x="133581" y="1400"/>
                </a:lnTo>
                <a:close/>
              </a:path>
              <a:path fill="darkenLess" w="134981" h="21600">
                <a:moveTo>
                  <a:pt x="134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581" y="20200"/>
                </a:lnTo>
                <a:close/>
              </a:path>
              <a:path fill="lighten" w="134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4" action="ppaction://hlinksldjump"/>
          </p:cNvPr>
          <p:cNvSpPr/>
          <p:nvPr/>
        </p:nvSpPr>
        <p:spPr>
          <a:xfrm>
            <a:off x="5943600" y="4724280"/>
            <a:ext cx="1905120" cy="304920"/>
          </a:xfrm>
          <a:custGeom>
            <a:avLst/>
            <a:gdLst>
              <a:gd name="textAreaLeft" fmla="*/ 19440 w 1905120"/>
              <a:gd name="textAreaRight" fmla="*/ 1885680 w 1905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3422" y="1400"/>
                </a:lnTo>
                <a:lnTo>
                  <a:pt x="1400" y="1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3422" y="20200"/>
                </a:lnTo>
                <a:lnTo>
                  <a:pt x="133422" y="1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22" y="20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5" action="ppaction://hlinksldjump"/>
          </p:cNvPr>
          <p:cNvSpPr/>
          <p:nvPr/>
        </p:nvSpPr>
        <p:spPr>
          <a:xfrm>
            <a:off x="5943600" y="5257800"/>
            <a:ext cx="1905120" cy="304920"/>
          </a:xfrm>
          <a:custGeom>
            <a:avLst/>
            <a:gdLst>
              <a:gd name="textAreaLeft" fmla="*/ 19440 w 1905120"/>
              <a:gd name="textAreaRight" fmla="*/ 1885680 w 1905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3422" y="1400"/>
                </a:lnTo>
                <a:lnTo>
                  <a:pt x="1400" y="1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3422" y="20200"/>
                </a:lnTo>
                <a:lnTo>
                  <a:pt x="133422" y="1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22" y="20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6" action="ppaction://hlinksldjump"/>
          </p:cNvPr>
          <p:cNvSpPr/>
          <p:nvPr/>
        </p:nvSpPr>
        <p:spPr>
          <a:xfrm>
            <a:off x="5943600" y="5791320"/>
            <a:ext cx="1905120" cy="304560"/>
          </a:xfrm>
          <a:custGeom>
            <a:avLst/>
            <a:gdLst>
              <a:gd name="textAreaLeft" fmla="*/ 19440 w 1905120"/>
              <a:gd name="textAreaRight" fmla="*/ 1885680 w 1905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134981" h="21600">
                <a:moveTo>
                  <a:pt x="0" y="0"/>
                </a:moveTo>
                <a:lnTo>
                  <a:pt x="134981" y="0"/>
                </a:lnTo>
                <a:lnTo>
                  <a:pt x="134981" y="21600"/>
                </a:lnTo>
                <a:lnTo>
                  <a:pt x="0" y="21600"/>
                </a:lnTo>
                <a:close/>
              </a:path>
              <a:path fill="lightenLess" w="134981" h="21600">
                <a:moveTo>
                  <a:pt x="0" y="0"/>
                </a:moveTo>
                <a:lnTo>
                  <a:pt x="134981" y="0"/>
                </a:lnTo>
                <a:lnTo>
                  <a:pt x="133581" y="1400"/>
                </a:lnTo>
                <a:lnTo>
                  <a:pt x="1400" y="1400"/>
                </a:lnTo>
                <a:close/>
              </a:path>
              <a:path fill="darken" w="134981" h="21600">
                <a:moveTo>
                  <a:pt x="134981" y="0"/>
                </a:moveTo>
                <a:lnTo>
                  <a:pt x="134981" y="21600"/>
                </a:lnTo>
                <a:lnTo>
                  <a:pt x="133581" y="20200"/>
                </a:lnTo>
                <a:lnTo>
                  <a:pt x="133581" y="1400"/>
                </a:lnTo>
                <a:close/>
              </a:path>
              <a:path fill="darkenLess" w="134981" h="21600">
                <a:moveTo>
                  <a:pt x="134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581" y="20200"/>
                </a:lnTo>
                <a:close/>
              </a:path>
              <a:path fill="lighten" w="134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7" action="ppaction://hlinksldjump"/>
          </p:cNvPr>
          <p:cNvSpPr/>
          <p:nvPr/>
        </p:nvSpPr>
        <p:spPr>
          <a:xfrm>
            <a:off x="7315200" y="3657600"/>
            <a:ext cx="1905120" cy="304920"/>
          </a:xfrm>
          <a:custGeom>
            <a:avLst/>
            <a:gdLst>
              <a:gd name="textAreaLeft" fmla="*/ 19440 w 1905120"/>
              <a:gd name="textAreaRight" fmla="*/ 1885680 w 1905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3422" y="1400"/>
                </a:lnTo>
                <a:lnTo>
                  <a:pt x="1400" y="1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3422" y="20200"/>
                </a:lnTo>
                <a:lnTo>
                  <a:pt x="133422" y="1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22" y="20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ct 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8" action="ppaction://hlinksldjump"/>
          </p:cNvPr>
          <p:cNvSpPr/>
          <p:nvPr/>
        </p:nvSpPr>
        <p:spPr>
          <a:xfrm>
            <a:off x="7315200" y="4114800"/>
            <a:ext cx="1905120" cy="304920"/>
          </a:xfrm>
          <a:custGeom>
            <a:avLst/>
            <a:gdLst>
              <a:gd name="textAreaLeft" fmla="*/ 19440 w 1905120"/>
              <a:gd name="textAreaRight" fmla="*/ 1885680 w 1905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3422" y="1400"/>
                </a:lnTo>
                <a:lnTo>
                  <a:pt x="1400" y="1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3422" y="20200"/>
                </a:lnTo>
                <a:lnTo>
                  <a:pt x="133422" y="1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22" y="20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ct 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65" idx="0"/>
            <a:endCxn id="66" idx="0"/>
          </p:cNvCxnSpPr>
          <p:nvPr/>
        </p:nvCxnSpPr>
        <p:spPr>
          <a:xfrm rot="5400000">
            <a:off x="5829480" y="2476440"/>
            <a:ext cx="762120" cy="53388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74" name=""/>
          <p:cNvCxnSpPr>
            <a:stCxn id="65" idx="1"/>
            <a:endCxn id="67" idx="0"/>
          </p:cNvCxnSpPr>
          <p:nvPr/>
        </p:nvCxnSpPr>
        <p:spPr>
          <a:xfrm flipH="1">
            <a:off x="5943600" y="2362320"/>
            <a:ext cx="533880" cy="228960"/>
          </a:xfrm>
          <a:prstGeom prst="bentConnector5">
            <a:avLst>
              <a:gd name="adj1" fmla="val -299730"/>
              <a:gd name="adj2" fmla="val 332598"/>
              <a:gd name="adj3" fmla="val 142577"/>
            </a:avLst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65" idx="2"/>
            <a:endCxn id="68" idx="0"/>
          </p:cNvCxnSpPr>
          <p:nvPr/>
        </p:nvCxnSpPr>
        <p:spPr>
          <a:xfrm rot="5400000">
            <a:off x="5029200" y="3276360"/>
            <a:ext cx="2362320" cy="533880"/>
          </a:xfrm>
          <a:prstGeom prst="bentConnector3">
            <a:avLst>
              <a:gd name="adj1" fmla="val 49992"/>
            </a:avLst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76" name=""/>
          <p:cNvCxnSpPr>
            <a:stCxn id="65" idx="3"/>
            <a:endCxn id="69" idx="0"/>
          </p:cNvCxnSpPr>
          <p:nvPr/>
        </p:nvCxnSpPr>
        <p:spPr>
          <a:xfrm rot="5400000">
            <a:off x="4762440" y="3543120"/>
            <a:ext cx="2895840" cy="533880"/>
          </a:xfrm>
          <a:prstGeom prst="bentConnector3">
            <a:avLst>
              <a:gd name="adj1" fmla="val 49993"/>
            </a:avLst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65" idx="4"/>
            <a:endCxn id="70" idx="0"/>
          </p:cNvCxnSpPr>
          <p:nvPr/>
        </p:nvCxnSpPr>
        <p:spPr>
          <a:xfrm flipH="1" rot="16200000">
            <a:off x="5448600" y="3390840"/>
            <a:ext cx="3429360" cy="137196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78" name=""/>
          <p:cNvCxnSpPr>
            <a:stCxn id="66" idx="1"/>
            <a:endCxn id="72" idx="0"/>
          </p:cNvCxnSpPr>
          <p:nvPr/>
        </p:nvCxnSpPr>
        <p:spPr>
          <a:xfrm flipH="1" rot="16200000">
            <a:off x="7239240" y="2133360"/>
            <a:ext cx="686160" cy="3277080"/>
          </a:xfrm>
          <a:prstGeom prst="bentConnector3">
            <a:avLst>
              <a:gd name="adj1" fmla="val 49973"/>
            </a:avLst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79" name=""/>
          <p:cNvCxnSpPr>
            <a:stCxn id="66" idx="2"/>
            <a:endCxn id="71" idx="0"/>
          </p:cNvCxnSpPr>
          <p:nvPr/>
        </p:nvCxnSpPr>
        <p:spPr>
          <a:xfrm flipH="1" rot="16200000">
            <a:off x="7467840" y="1904760"/>
            <a:ext cx="228960" cy="3277080"/>
          </a:xfrm>
          <a:prstGeom prst="bentConnector4">
            <a:avLst>
              <a:gd name="adj1" fmla="val 332598"/>
              <a:gd name="adj2" fmla="val 106921"/>
            </a:avLst>
          </a:prstGeom>
          <a:ln cap="sq" w="1260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06:33:51Z</dcterms:created>
  <dc:creator>wangxiul</dc:creator>
  <dc:description/>
  <dc:language>en-US</dc:language>
  <cp:lastModifiedBy>wangxiul</cp:lastModifiedBy>
  <dcterms:modified xsi:type="dcterms:W3CDTF">2009-08-06T06:34:09Z</dcterms:modified>
  <cp:revision>1</cp:revision>
  <dc:subject/>
  <dc:title>Site Ma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