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8012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62CB-5CCA-4E3B-A592-F25E93E1541E}" type="slidenum">
              <a:rPr b="1" lang="ja-JP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61840"/>
            <a:ext cx="9144000" cy="12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692928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of Progra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ent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1240" y="1270080"/>
          <a:ext cx="8953560" cy="4147920"/>
        </p:xfrm>
        <a:graphic>
          <a:graphicData uri="http://schemas.openxmlformats.org/drawingml/2006/table">
            <a:tbl>
              <a:tblPr/>
              <a:tblGrid>
                <a:gridCol w="858600"/>
                <a:gridCol w="1239840"/>
                <a:gridCol w="1401840"/>
                <a:gridCol w="1967040"/>
                <a:gridCol w="1859040"/>
                <a:gridCol w="16272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 13th 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 14th 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 15th 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 16th 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0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ing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ot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ot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to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ot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sessions Clo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ome 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quet D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01:12Z</dcterms:created>
  <dc:creator>Komoda</dc:creator>
  <dc:description/>
  <dc:language>en-US</dc:language>
  <cp:lastModifiedBy>komolab</cp:lastModifiedBy>
  <dcterms:modified xsi:type="dcterms:W3CDTF">2009-02-27T07:38:21Z</dcterms:modified>
  <cp:revision>127</cp:revision>
  <dc:subject/>
  <dc:title>INDIN2010</dc:title>
</cp:coreProperties>
</file>