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63D-8D2F-4A6B-9F1B-74EF58CD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489-6380-48D3-AF14-AB5A9340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B2A-681B-4E18-9500-515551C9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333-2088-4984-9ECD-5BC587E9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F42-CE09-4581-9FC5-558EC8C0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73D-529E-4980-A8A5-785D3F8B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45B-88E6-4D7E-BDDD-3B99DC12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1CD-3751-4A04-B017-2CB23ACF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25F-F2E6-47A5-9F06-80303671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66C-0C63-4F87-AB07-E06E39C5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E4D-74B4-431E-97C4-9D397EDA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9D9-958D-41AE-B204-45504FCF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C18E-3390-4BAD-A49E-90E1D6D64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1905120"/>
            <a:ext cx="7924680" cy="2895480"/>
            <a:chOff x="838080" y="1905120"/>
            <a:chExt cx="7924680" cy="2895480"/>
          </a:xfrm>
        </p:grpSpPr>
        <p:sp>
          <p:nvSpPr>
            <p:cNvPr id="42" name=""/>
            <p:cNvSpPr/>
            <p:nvPr/>
          </p:nvSpPr>
          <p:spPr>
            <a:xfrm>
              <a:off x="3504960" y="1905120"/>
              <a:ext cx="1981440" cy="99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38080" y="3810240"/>
              <a:ext cx="198108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86200" y="3657600"/>
              <a:ext cx="1981080" cy="99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81680" y="3657600"/>
              <a:ext cx="1981080" cy="99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" name=""/>
            <p:cNvCxnSpPr>
              <a:stCxn id="42" idx="2"/>
              <a:endCxn id="43" idx="0"/>
            </p:cNvCxnSpPr>
            <p:nvPr/>
          </p:nvCxnSpPr>
          <p:spPr>
            <a:xfrm rot="5400000">
              <a:off x="2704680" y="2019600"/>
              <a:ext cx="914760" cy="2667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" name=""/>
            <p:cNvCxnSpPr>
              <a:stCxn id="42" idx="2"/>
              <a:endCxn id="44" idx="0"/>
            </p:cNvCxnSpPr>
            <p:nvPr/>
          </p:nvCxnSpPr>
          <p:spPr>
            <a:xfrm flipH="1" rot="16200000">
              <a:off x="4305240" y="3086280"/>
              <a:ext cx="762120" cy="381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" name=""/>
            <p:cNvCxnSpPr>
              <a:stCxn id="42" idx="2"/>
              <a:endCxn id="45" idx="0"/>
            </p:cNvCxnSpPr>
            <p:nvPr/>
          </p:nvCxnSpPr>
          <p:spPr>
            <a:xfrm flipH="1" rot="16200000">
              <a:off x="5752800" y="1638360"/>
              <a:ext cx="762120" cy="3276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9" name=""/>
          <p:cNvSpPr/>
          <p:nvPr/>
        </p:nvSpPr>
        <p:spPr>
          <a:xfrm>
            <a:off x="762120" y="3049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rectangular and three connectors grou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828800" y="1981080"/>
            <a:ext cx="5485680" cy="2742480"/>
            <a:chOff x="1828800" y="1981080"/>
            <a:chExt cx="5485680" cy="2742480"/>
          </a:xfrm>
        </p:grpSpPr>
        <p:cxnSp>
          <p:nvCxnSpPr>
            <p:cNvPr id="51" name="_s3078"/>
            <p:cNvCxnSpPr>
              <a:stCxn id="52" idx="0"/>
              <a:endCxn id="53" idx="2"/>
            </p:cNvCxnSpPr>
            <p:nvPr/>
          </p:nvCxnSpPr>
          <p:spPr>
            <a:xfrm flipV="1" rot="16200000">
              <a:off x="5256720" y="2391480"/>
              <a:ext cx="549000" cy="192060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079"/>
            <p:cNvCxnSpPr>
              <a:stCxn id="55" idx="0"/>
              <a:endCxn id="53" idx="2"/>
            </p:cNvCxnSpPr>
            <p:nvPr/>
          </p:nvCxnSpPr>
          <p:spPr>
            <a:xfrm flipV="1">
              <a:off x="4571640" y="3077280"/>
              <a:ext cx="216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080"/>
            <p:cNvCxnSpPr>
              <a:stCxn id="57" idx="0"/>
              <a:endCxn id="53" idx="2"/>
            </p:cNvCxnSpPr>
            <p:nvPr/>
          </p:nvCxnSpPr>
          <p:spPr>
            <a:xfrm flipH="1" flipV="1" rot="5400000">
              <a:off x="3337920" y="2392200"/>
              <a:ext cx="549000" cy="191916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3081"/>
            <p:cNvSpPr/>
            <p:nvPr/>
          </p:nvSpPr>
          <p:spPr>
            <a:xfrm>
              <a:off x="3748680" y="198108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082"/>
            <p:cNvSpPr/>
            <p:nvPr/>
          </p:nvSpPr>
          <p:spPr>
            <a:xfrm>
              <a:off x="1828800" y="362664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83"/>
            <p:cNvSpPr/>
            <p:nvPr/>
          </p:nvSpPr>
          <p:spPr>
            <a:xfrm>
              <a:off x="3748680" y="362664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084"/>
            <p:cNvSpPr/>
            <p:nvPr/>
          </p:nvSpPr>
          <p:spPr>
            <a:xfrm>
              <a:off x="5668920" y="362664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762120" y="304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rganization chart with the same structure as the first grouped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11:11:00Z</dcterms:created>
  <dc:creator>lijiany</dc:creator>
  <dc:description/>
  <dc:language>en-US</dc:language>
  <cp:lastModifiedBy>lijiany</cp:lastModifiedBy>
  <dcterms:modified xsi:type="dcterms:W3CDTF">2012-08-01T11:17:01Z</dcterms:modified>
  <cp:revision>2</cp:revision>
  <dc:subject/>
  <dc:title>Slide 1</dc:title>
</cp:coreProperties>
</file>