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5D9-CFF4-45CB-A8D8-94B69533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55A-4B02-4725-BC12-DB8BFCF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29A-943E-471C-995D-C162AEE9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7E6-F7CB-42DB-BAFD-C60778A9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F3E-0276-43E2-97AF-55726819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7A7-D08E-4840-BD4D-BB511B95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5FB-F0D8-47F7-90D8-7274E968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345-AE65-415F-8AE5-95D595D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C12-8042-487A-98B4-84F1218B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0F6-7A54-4CAD-A0AB-D5A661B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235-26EE-4744-8825-C80DF32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BA0-65B1-4D59-9C1C-D2DCBC0A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97B-125F-4411-B542-F2AA589DC1C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3605.WAV" TargetMode="External"/><Relationship Id="rId3" Type="http://schemas.microsoft.com/office/2007/relationships/media" Target="file:///tmp/home/.config/libreoffice/4/user/gallery/~PP3605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 timbre de B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1679760" cy="2486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h est devenu un héros, il veut donc un timbre à son effigi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demande qu'on lui fasse un timbre d'excellente qualité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timbres sont créés, imprimés et distribué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1828800" cy="225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405360"/>
            <a:ext cx="75247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h est très content, mais au bout de quelques j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reçoit des plaintes comme quoi le timbre ne collerait pa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convoque les responsables et demande une enquêt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e-ci est menée dans plusieurs bureaux de poste et les conclus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nt envoyées à George Bush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370520"/>
            <a:ext cx="809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  Il n'y a rien d'anormal avec la qualité des timbres ou de la col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 problème vient du fait que les gens ne crachent pas du bon coté ! »</a:t>
            </a:r>
            <a:br>
              <a:rPr sz="36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1:11:09Z</dcterms:created>
  <dc:creator>Ribeaucourt</dc:creator>
  <dc:description/>
  <dc:language>en-US</dc:language>
  <cp:lastModifiedBy>Beauquesne Herve</cp:lastModifiedBy>
  <dcterms:modified xsi:type="dcterms:W3CDTF">2005-08-22T09:56:24Z</dcterms:modified>
  <cp:revision>7</cp:revision>
  <dc:subject/>
  <dc:title>Le timbre de Bush</dc:title>
</cp:coreProperties>
</file>