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99250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F18-441B-43CC-9641-5AB313A6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731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BBC-BF8D-4E55-ABBE-B55B5D85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867-75FB-4B40-82EF-3BF30F3A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84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84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731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731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731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7CC-5EB1-47C7-9480-AA4C0D67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84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674-B079-4F0A-8C60-3B2605E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F3B-345F-4CA9-9657-E8C61313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501-895E-42CA-9F92-574A346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35A-4EBC-4FB8-A2B2-FC654B3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740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A08-0ED5-4423-AD96-03B203AE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46A-4DDD-4297-ABAA-BB568B9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731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28A-9EE0-4F9A-9FF6-ACF11E3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84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731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896-6A40-4939-8D0E-BE39C30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74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84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79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00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6960" indent="-2300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304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304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304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988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988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988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F0BFD53-075B-45F9-ABC8-ADF8D238F2EA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4705200"/>
            <a:ext cx="5943600" cy="4726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2600" y="187200"/>
            <a:ext cx="55432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08:47:25Z</dcterms:created>
  <dc:creator>Mathis Heydtmann</dc:creator>
  <dc:description/>
  <dc:language>en-US</dc:language>
  <cp:lastModifiedBy>Mathis Heydtmann</cp:lastModifiedBy>
  <dcterms:modified xsi:type="dcterms:W3CDTF">2004-07-21T14:38:58Z</dcterms:modified>
  <cp:revision>36</cp:revision>
  <dc:subject/>
  <dc:title>PowerPoint Presentation</dc:title>
</cp:coreProperties>
</file>