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6D2B-E29A-40DA-A9C8-086CA29D0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7DE6-CA29-47ED-9F4F-4AE4FB54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0B90-375C-4607-82A5-E909A8580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6F49-D560-43AE-9F04-CA6151D3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BE48-D9A7-449F-ABDD-494D1515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45AF-0582-40E0-907F-2F6E4D70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8015-8E83-4178-9065-D44DBD10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D0C0-E287-4293-AD03-307EEE43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3EEF-8776-48D6-82EC-BC59CB83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A043-1910-4316-B53C-FD0F8433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39A4-5D4D-4232-932D-27CBE8FB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4669-2622-4CDE-A575-042F3FA4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5B0F-C5D6-464D-AC62-7580EE772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2209680"/>
            <a:ext cx="3832200" cy="1476360"/>
          </a:xfrm>
          <a:custGeom>
            <a:avLst/>
            <a:gdLst/>
            <a:ahLst/>
            <a:rect l="l" t="t" r="r" b="b"/>
            <a:pathLst>
              <a:path w="2414" h="930">
                <a:moveTo>
                  <a:pt x="2414" y="10"/>
                </a:moveTo>
                <a:cubicBezTo>
                  <a:pt x="2079" y="5"/>
                  <a:pt x="1765" y="0"/>
                  <a:pt x="1429" y="4"/>
                </a:cubicBezTo>
                <a:cubicBezTo>
                  <a:pt x="1295" y="11"/>
                  <a:pt x="1164" y="19"/>
                  <a:pt x="1031" y="33"/>
                </a:cubicBezTo>
                <a:cubicBezTo>
                  <a:pt x="929" y="60"/>
                  <a:pt x="833" y="112"/>
                  <a:pt x="738" y="154"/>
                </a:cubicBezTo>
                <a:cubicBezTo>
                  <a:pt x="704" y="169"/>
                  <a:pt x="667" y="178"/>
                  <a:pt x="634" y="194"/>
                </a:cubicBezTo>
                <a:cubicBezTo>
                  <a:pt x="577" y="221"/>
                  <a:pt x="526" y="254"/>
                  <a:pt x="467" y="275"/>
                </a:cubicBezTo>
                <a:cubicBezTo>
                  <a:pt x="425" y="306"/>
                  <a:pt x="374" y="321"/>
                  <a:pt x="323" y="332"/>
                </a:cubicBezTo>
                <a:cubicBezTo>
                  <a:pt x="290" y="349"/>
                  <a:pt x="257" y="367"/>
                  <a:pt x="225" y="384"/>
                </a:cubicBezTo>
                <a:cubicBezTo>
                  <a:pt x="219" y="387"/>
                  <a:pt x="213" y="392"/>
                  <a:pt x="208" y="396"/>
                </a:cubicBezTo>
                <a:cubicBezTo>
                  <a:pt x="202" y="401"/>
                  <a:pt x="197" y="409"/>
                  <a:pt x="190" y="413"/>
                </a:cubicBezTo>
                <a:cubicBezTo>
                  <a:pt x="176" y="421"/>
                  <a:pt x="159" y="424"/>
                  <a:pt x="144" y="430"/>
                </a:cubicBezTo>
                <a:cubicBezTo>
                  <a:pt x="110" y="442"/>
                  <a:pt x="76" y="482"/>
                  <a:pt x="52" y="505"/>
                </a:cubicBezTo>
                <a:cubicBezTo>
                  <a:pt x="38" y="518"/>
                  <a:pt x="34" y="541"/>
                  <a:pt x="23" y="557"/>
                </a:cubicBezTo>
                <a:cubicBezTo>
                  <a:pt x="16" y="588"/>
                  <a:pt x="6" y="618"/>
                  <a:pt x="0" y="649"/>
                </a:cubicBezTo>
                <a:cubicBezTo>
                  <a:pt x="2" y="691"/>
                  <a:pt x="3" y="734"/>
                  <a:pt x="6" y="776"/>
                </a:cubicBezTo>
                <a:cubicBezTo>
                  <a:pt x="12" y="854"/>
                  <a:pt x="77" y="870"/>
                  <a:pt x="139" y="891"/>
                </a:cubicBezTo>
                <a:cubicBezTo>
                  <a:pt x="171" y="913"/>
                  <a:pt x="222" y="913"/>
                  <a:pt x="260" y="920"/>
                </a:cubicBezTo>
                <a:cubicBezTo>
                  <a:pt x="310" y="918"/>
                  <a:pt x="364" y="930"/>
                  <a:pt x="409" y="908"/>
                </a:cubicBezTo>
                <a:cubicBezTo>
                  <a:pt x="431" y="897"/>
                  <a:pt x="445" y="874"/>
                  <a:pt x="473" y="87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2:25:55Z</dcterms:created>
  <dc:creator>dmbr</dc:creator>
  <dc:description/>
  <dc:language>en-US</dc:language>
  <cp:lastModifiedBy>dmbr</cp:lastModifiedBy>
  <dcterms:modified xsi:type="dcterms:W3CDTF">2005-10-13T12:26:06Z</dcterms:modified>
  <cp:revision>1</cp:revision>
  <dc:subject/>
  <dc:title>PowerPoint Presentation</dc:title>
</cp:coreProperties>
</file>