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30A355-D9B8-4061-827B-084BC1D4A85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837-D592-48C9-B0E8-6985D775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3AB-784D-4D0D-88DB-2299B561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A83-E38B-4ECB-AF26-A62B6943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7F9-758B-41DC-99DD-B38D7F22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C70-D11A-4CD5-8E8C-3F59195A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3105-E470-4264-9EDB-A05135ED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3C5-1527-422B-9850-B5BFA16B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3C2-E7AF-42C3-9209-52C9A02E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23E-685D-4CEA-AB60-325BE981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019-AAA9-4A38-A795-138C8B5A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22F-65AA-4455-9F9C-66E87EE1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8B5-CEA0-49B5-A917-762DCA54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EFDE31-185B-4B51-8341-135941F8ED7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89760"/>
            <a:ext cx="9144000" cy="10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32000" y="2276640"/>
            <a:ext cx="2952720" cy="863280"/>
            <a:chOff x="1332000" y="2276640"/>
            <a:chExt cx="2952720" cy="8632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629080" y="2449440"/>
              <a:ext cx="5047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32000" y="2276640"/>
              <a:ext cx="2952720" cy="86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aab6c"/>
                </a:gs>
                <a:gs pos="100000">
                  <a:srgbClr val="ffffff">
                    <a:alpha val="30196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uperación por Espa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E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089760"/>
            <a:ext cx="9144000" cy="10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332000" y="2276640"/>
            <a:ext cx="2952720" cy="863280"/>
            <a:chOff x="1332000" y="2276640"/>
            <a:chExt cx="2952720" cy="86328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2629080" y="2449440"/>
              <a:ext cx="5047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332000" y="2276640"/>
              <a:ext cx="2952720" cy="86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aab6c"/>
                </a:gs>
                <a:gs pos="100000">
                  <a:srgbClr val="ffffff">
                    <a:alpha val="30196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uperación por Espa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572000" y="2276640"/>
            <a:ext cx="2952720" cy="863280"/>
            <a:chOff x="4572000" y="2276640"/>
            <a:chExt cx="2952720" cy="863280"/>
          </a:xfrm>
        </p:grpSpPr>
        <p:grpSp>
          <p:nvGrpSpPr>
            <p:cNvPr id="59" name=""/>
            <p:cNvGrpSpPr/>
            <p:nvPr/>
          </p:nvGrpSpPr>
          <p:grpSpPr>
            <a:xfrm>
              <a:off x="5448240" y="2351160"/>
              <a:ext cx="1067040" cy="630000"/>
              <a:chOff x="5448240" y="2351160"/>
              <a:chExt cx="1067040" cy="630000"/>
            </a:xfrm>
          </p:grpSpPr>
          <p:pic>
            <p:nvPicPr>
              <p:cNvPr id="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48240" y="2351160"/>
                <a:ext cx="57456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0360" y="2406600"/>
                <a:ext cx="5749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" name=""/>
            <p:cNvSpPr/>
            <p:nvPr/>
          </p:nvSpPr>
          <p:spPr>
            <a:xfrm>
              <a:off x="4572000" y="2276640"/>
              <a:ext cx="2952720" cy="86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aab6c"/>
                </a:gs>
                <a:gs pos="100000">
                  <a:srgbClr val="ffffff">
                    <a:alpha val="30196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uper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éxico - Espa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959200" y="3284640"/>
            <a:ext cx="2952720" cy="865080"/>
            <a:chOff x="2959200" y="3284640"/>
            <a:chExt cx="2952720" cy="865080"/>
          </a:xfrm>
        </p:grpSpPr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4167360" y="3427560"/>
              <a:ext cx="57456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959200" y="3284640"/>
              <a:ext cx="2952720" cy="86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aab6c"/>
                </a:gs>
                <a:gs pos="100000">
                  <a:srgbClr val="ffffff">
                    <a:alpha val="30196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cuperación por Méx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95280" y="2350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Recuperación por Esp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36680" y="1886040"/>
            <a:ext cx="8707320" cy="4478760"/>
            <a:chOff x="436680" y="1886040"/>
            <a:chExt cx="8707320" cy="4478760"/>
          </a:xfrm>
        </p:grpSpPr>
        <p:sp>
          <p:nvSpPr>
            <p:cNvPr id="68" name=""/>
            <p:cNvSpPr/>
            <p:nvPr/>
          </p:nvSpPr>
          <p:spPr>
            <a:xfrm>
              <a:off x="468360" y="1886040"/>
              <a:ext cx="188280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40000"/>
                  </a:srgbClr>
                </a:gs>
                <a:gs pos="50000">
                  <a:srgbClr val="ffffff"/>
                </a:gs>
                <a:gs pos="100000">
                  <a:srgbClr val="ffff00">
                    <a:alpha val="40000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8360" y="3168720"/>
              <a:ext cx="188280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40000"/>
                  </a:srgbClr>
                </a:gs>
                <a:gs pos="50000">
                  <a:srgbClr val="ffffff"/>
                </a:gs>
                <a:gs pos="100000">
                  <a:srgbClr val="ffff00">
                    <a:alpha val="40000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nt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6680" y="2246400"/>
              <a:ext cx="8292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 asegura la recuperación de  los servicios críticos del Cli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o se tiene un dependencia del personal en México, en caso de alguna fata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 tiempo de respuesta pude llegar a ser más corto si se cuenta con toda la información neces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8360" y="3500280"/>
              <a:ext cx="867564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 requiere inversión en infraestruc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 requiere un monitoreo Constante de los respaldo de la información en Españ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 requiere una validación periódica de la información respald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 cambio de horario pudiera llegar a ser un factor en los tiempos de recupe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 requiere validar continuamente los canales de Comunicación con Españ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 requiere tener un Centro alterno en México para validar la funcionalidad de los servi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No se recuperaría el 100% de la operación, solo los sistemas respald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eden surgir problemas de configuración (En ambientes y equipos)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eben de establecerse políticas de seguridad más estrict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a capacitación y los simulacros de DRP, deben de ser más frecu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Una vez convenida la recuperación por España, esta deberá ser probada y validad por personal de Españ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284720" y="62690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 -6 4.21965 -6 C -0.03368 0.01618 -0.06736 0.03237 -0.08403 4.21965 -6 C -0.1007 -0.03237 -0.10035 -0.11353 -0.1 -0.19445">
                                      <p:cBhvr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089760"/>
            <a:ext cx="9144000" cy="10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332000" y="2276640"/>
            <a:ext cx="2952720" cy="863280"/>
            <a:chOff x="1332000" y="2276640"/>
            <a:chExt cx="2952720" cy="86328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2629080" y="2449440"/>
              <a:ext cx="5047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332000" y="2276640"/>
              <a:ext cx="2952720" cy="86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aab6c"/>
                </a:gs>
                <a:gs pos="100000">
                  <a:srgbClr val="ffffff">
                    <a:alpha val="30196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uperación por Espa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572000" y="2276640"/>
            <a:ext cx="2952720" cy="863280"/>
            <a:chOff x="4572000" y="2276640"/>
            <a:chExt cx="2952720" cy="863280"/>
          </a:xfrm>
        </p:grpSpPr>
        <p:grpSp>
          <p:nvGrpSpPr>
            <p:cNvPr id="79" name=""/>
            <p:cNvGrpSpPr/>
            <p:nvPr/>
          </p:nvGrpSpPr>
          <p:grpSpPr>
            <a:xfrm>
              <a:off x="5448240" y="2351160"/>
              <a:ext cx="1067040" cy="630000"/>
              <a:chOff x="5448240" y="2351160"/>
              <a:chExt cx="1067040" cy="630000"/>
            </a:xfrm>
          </p:grpSpPr>
          <p:pic>
            <p:nvPicPr>
              <p:cNvPr id="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48240" y="2351160"/>
                <a:ext cx="57456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0360" y="2406600"/>
                <a:ext cx="5749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"/>
            <p:cNvSpPr/>
            <p:nvPr/>
          </p:nvSpPr>
          <p:spPr>
            <a:xfrm>
              <a:off x="4572000" y="2276640"/>
              <a:ext cx="2952720" cy="86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aab6c"/>
                </a:gs>
                <a:gs pos="100000">
                  <a:srgbClr val="ffffff">
                    <a:alpha val="30196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uper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éxico - Espa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959200" y="3284640"/>
            <a:ext cx="2952720" cy="865080"/>
            <a:chOff x="2959200" y="3284640"/>
            <a:chExt cx="2952720" cy="865080"/>
          </a:xfrm>
        </p:grpSpPr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4167360" y="3427560"/>
              <a:ext cx="57456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959200" y="3284640"/>
              <a:ext cx="2952720" cy="86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aab6c"/>
                </a:gs>
                <a:gs pos="100000">
                  <a:srgbClr val="ffffff">
                    <a:alpha val="30196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cuperación por Méx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95280" y="2350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Recuperación por México y Esp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74760" y="1962000"/>
            <a:ext cx="8589960" cy="4172760"/>
            <a:chOff x="374760" y="1962000"/>
            <a:chExt cx="8589960" cy="4172760"/>
          </a:xfrm>
        </p:grpSpPr>
        <p:sp>
          <p:nvSpPr>
            <p:cNvPr id="88" name=""/>
            <p:cNvSpPr/>
            <p:nvPr/>
          </p:nvSpPr>
          <p:spPr>
            <a:xfrm>
              <a:off x="374760" y="1962000"/>
              <a:ext cx="1558800" cy="2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40000"/>
                  </a:srgbClr>
                </a:gs>
                <a:gs pos="50000">
                  <a:srgbClr val="ffffff"/>
                </a:gs>
                <a:gs pos="100000">
                  <a:srgbClr val="ffff00">
                    <a:alpha val="40000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4760" y="3860640"/>
              <a:ext cx="1558800" cy="2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>
                    <a:alpha val="40000"/>
                  </a:srgbClr>
                </a:gs>
                <a:gs pos="50000">
                  <a:srgbClr val="ffffff"/>
                </a:gs>
                <a:gs pos="100000">
                  <a:srgbClr val="ffff00">
                    <a:alpha val="40000"/>
                  </a:srgbClr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nt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4760" y="2236680"/>
              <a:ext cx="858996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 cuenta con la experiencia del diseño, análisis e implementación del DRP por parte del personal en México y por el soporte técnico en Españ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 porcentaje de recuperación de los servicios puede ser más al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 personal del equipo de DRP México, puede intercambiar perspectivas en forma directa con el personal de España y resolver con esto cualquier contingencia en un tiempo men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ede realizarse una subdivisión entre México y España de tareas y propiciar que la recuperación sea más ág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4760" y="4122720"/>
              <a:ext cx="844524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a coordinación de los dos equipos puede llegar a ser muy comple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e requiere establecer un procedimiento de actividades bien definido por paí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 personal del equipo de DRP, puede ser el personal afectado durante el desastre y España tendría que tomar algunas de esas activ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a contingencia, pude provocar problemas en las vías de comunicación y complicar la integración de los equipos de D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eden surgir problemas en los canales de comunicación y hacer imposible el acceso a los procedimientos e información almacenada en España, por sobre saturación de dichos ca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1280" indent="-341280">
                <a:buClr>
                  <a:srgbClr val="000000"/>
                </a:buClr>
                <a:buFont typeface="Arial"/>
                <a:buAutoNum type="arabicPeriod"/>
                <a:tabLst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a capacitación y los simulacros de DRP, deben de ser más frecu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284720" y="62690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0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6 -0.07445 C -0.19827 -0.000689999999999996 -0.38229 0.0733 -0.45695 0.05434 C -0.5316 0.03538 -0.46129 -0.14821 -0.46181 -0.18867 E">
                                      <p:cBhvr>
                                        <p:cTn id="3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upo Financiero Santander</dc:creator>
  <dc:description/>
  <dc:language>en-US</dc:language>
  <cp:lastModifiedBy>C682191</cp:lastModifiedBy>
  <cp:revision>0</cp:revision>
  <dc:subject/>
  <dc:title>Diapositiva 1</dc:title>
</cp:coreProperties>
</file>