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F0C-7CAD-4D9B-8764-77DC0DC4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496E-62BE-44EC-855E-40248B50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269-7F17-420A-8614-0381FDD2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97E-DAFE-4408-9A24-C663BBC3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AF34-5C98-4B6B-876A-2AA8B635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8E2-F61B-4EB6-A090-3686BB1B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147-0476-4D52-A975-429EBBC0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EC01-D4F7-4E1B-8CE5-B2669ABE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B8C3-0B09-41F8-91B6-5D18AAE8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910-ACB2-4647-80B8-70134869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6F2-7312-4C4F-A0C2-25549E25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419C-9969-4BE4-BC7B-06B79B50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3F9F-6AE0-455F-92DF-F3ED47002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24360" y="2924280"/>
            <a:ext cx="1371600" cy="609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24360" y="4143240"/>
            <a:ext cx="1371600" cy="6098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49840" y="361008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. . . . .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5" idx="1"/>
            <a:endCxn id="41" idx="2"/>
          </p:cNvCxnSpPr>
          <p:nvPr/>
        </p:nvCxnSpPr>
        <p:spPr>
          <a:xfrm flipV="1">
            <a:off x="2011320" y="3305160"/>
            <a:ext cx="3713400" cy="12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6" name=""/>
          <p:cNvCxnSpPr>
            <a:stCxn id="45" idx="1"/>
            <a:endCxn id="43" idx="1"/>
          </p:cNvCxnSpPr>
          <p:nvPr/>
        </p:nvCxnSpPr>
        <p:spPr>
          <a:xfrm>
            <a:off x="2011320" y="3317760"/>
            <a:ext cx="3638880" cy="5223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7" name=""/>
          <p:cNvCxnSpPr>
            <a:stCxn id="45" idx="1"/>
            <a:endCxn id="42" idx="2"/>
          </p:cNvCxnSpPr>
          <p:nvPr/>
        </p:nvCxnSpPr>
        <p:spPr>
          <a:xfrm>
            <a:off x="2011320" y="3317760"/>
            <a:ext cx="3713400" cy="12070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2011320" y="2860560"/>
            <a:ext cx="1600200" cy="91440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70480" y="1949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67680" y="20257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35840" y="304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4052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2:39:58Z</dcterms:created>
  <dc:creator>Martin Damboldt</dc:creator>
  <dc:description/>
  <dc:language>en-US</dc:language>
  <cp:lastModifiedBy>Martin Damboldt</cp:lastModifiedBy>
  <dcterms:modified xsi:type="dcterms:W3CDTF">2007-10-15T12:40:21Z</dcterms:modified>
  <cp:revision>1</cp:revision>
  <dc:subject/>
  <dc:title>Slide 1</dc:title>
</cp:coreProperties>
</file>