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DD5-BE90-4180-AE61-D3B5D3D9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617-E6C1-4366-8AF3-8C79C14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E0A-C742-44C7-9903-64677D4A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5F2-E1B9-4DC5-8616-35BAB33F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EC3-BACA-4654-B2FA-C6C85E12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B7C-D32B-497B-8856-3C2267D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EEC-CE99-4791-85F0-6E8DA80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4FF-C991-43C3-AE48-944625BE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0A6-DACA-4BBE-A471-23768E4B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35E-BF6A-4B45-9DC4-3EEC921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FC5-0F7B-42E6-88B9-4A007CB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013-1B06-4DFB-9B0D-B1856816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374C-F84D-4DB8-8332-05A5D00A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304920" cy="228600"/>
          </a:xfrm>
          <a:prstGeom prst="rect">
            <a:avLst/>
          </a:prstGeom>
          <a:noFill/>
          <a:ln w="47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143000"/>
            <a:ext cx="2819520" cy="533520"/>
          </a:xfrm>
          <a:prstGeom prst="wedgeRoundRectCallout">
            <a:avLst>
              <a:gd name="adj1" fmla="val -108500"/>
              <a:gd name="adj2" fmla="val -71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Window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66160" cy="518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181480"/>
            <a:ext cx="876312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age gets loaded initi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 has two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1 has some other information.Frame2 has the table with thes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records that shown are only 5 even t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vailable to display more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lines indicate the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762120"/>
            <a:ext cx="4267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514600"/>
            <a:ext cx="769644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6080" cy="581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5410080"/>
            <a:ext cx="8458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Maximizing the frame2 it shows the number of records with utilization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brow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lisam1</cp:lastModifiedBy>
  <dcterms:modified xsi:type="dcterms:W3CDTF">2007-10-18T11:13:2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