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0344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C6C4798-2BAE-4651-B159-E2A51589C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6396120"/>
            <a:ext cx="9131400" cy="447480"/>
            <a:chOff x="0" y="6396120"/>
            <a:chExt cx="9131400" cy="447480"/>
          </a:xfrm>
        </p:grpSpPr>
        <p:sp>
          <p:nvSpPr>
            <p:cNvPr id="4" name=""/>
            <p:cNvSpPr/>
            <p:nvPr/>
          </p:nvSpPr>
          <p:spPr>
            <a:xfrm>
              <a:off x="0" y="6396120"/>
              <a:ext cx="9131400" cy="4474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1919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7124760" y="6543720"/>
              <a:ext cx="955440" cy="16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"/>
          <p:cNvSpPr/>
          <p:nvPr/>
        </p:nvSpPr>
        <p:spPr>
          <a:xfrm>
            <a:off x="1440" y="6407280"/>
            <a:ext cx="9131400" cy="436320"/>
          </a:xfrm>
          <a:prstGeom prst="rect">
            <a:avLst/>
          </a:prstGeom>
          <a:solidFill>
            <a:srgbClr val="00cc99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161240" y="6491160"/>
            <a:ext cx="91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E2AEA58C-9B7B-4DF3-8109-4A9FB1E4A809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38080" y="63943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NAME -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403360" y="992160"/>
            <a:ext cx="4030920" cy="4359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Welco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Questions / Answ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ffee bre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nference #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nference #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nference #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nference #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icn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85760" y="998640"/>
            <a:ext cx="1332000" cy="4359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H3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H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H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H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H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H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H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H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H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H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570640" y="1000080"/>
            <a:ext cx="2533680" cy="4359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erson #1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erson #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erson #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erson #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"Bon appéti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58840" y="231840"/>
            <a:ext cx="155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066680" y="5680080"/>
            <a:ext cx="6924960" cy="522360"/>
            <a:chOff x="1066680" y="5680080"/>
            <a:chExt cx="6924960" cy="522360"/>
          </a:xfrm>
        </p:grpSpPr>
        <p:sp>
          <p:nvSpPr>
            <p:cNvPr id="50" name=""/>
            <p:cNvSpPr/>
            <p:nvPr/>
          </p:nvSpPr>
          <p:spPr>
            <a:xfrm>
              <a:off x="1283400" y="5757840"/>
              <a:ext cx="629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This session was prepared by the department committe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066680" y="5680080"/>
              <a:ext cx="6924960" cy="52236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 </dc:creator>
  <dc:description/>
  <dc:language>en-US</dc:language>
  <cp:lastModifiedBy> </cp:lastModifiedBy>
  <cp:lastPrinted>2001-12-17T15:28:25Z</cp:lastPrinted>
  <dcterms:modified xsi:type="dcterms:W3CDTF">2005-10-27T16:33:58Z</dcterms:modified>
  <cp:revision>812</cp:revision>
  <dc:subject/>
  <dc:title>Aucun titre de diapositive</dc:title>
</cp:coreProperties>
</file>