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995B-E1E0-4A99-843C-EA30CD7C0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1F80-174D-42C0-B1A5-04DDE431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B219-902E-464D-B0F5-69715227F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E70E-D463-44A8-A1C0-F58E8D8A6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5BE4-5C82-4ACF-A568-FE44BA45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0191-8025-4152-871F-17FC961E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F6DF-D7B3-42DF-818B-DFE7A5E1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280B-CEA8-4D33-BBD1-8E9D77E8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4E8D-53FF-48BD-8916-C66C3686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B2C4-51F5-4FD4-9A47-A7FE3923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626A-ADB0-4540-8E4C-92F42F47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657C-17B4-49EA-85A1-80364667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B5FB-5965-4A59-85CD-73ACF7129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3300"/>
                </a:solidFill>
                <a:latin typeface="Times New Roman"/>
              </a:rPr>
              <a:t>More Mobility</a:t>
            </a:r>
            <a:r>
              <a:rPr b="1" lang="en-GB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provided by online business cont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1773360"/>
            <a:ext cx="4751640" cy="1225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0415"/>
                </a:moveTo>
                <a:arcTo wR="21600" hR="147954" stAng="-5689079" swAng="159554"/>
                <a:lnTo>
                  <a:pt x="5400" y="4698"/>
                </a:lnTo>
                <a:arcTo wR="21600" hR="147954" stAng="-5529524" swAng="259048"/>
                <a:lnTo>
                  <a:pt x="16200" y="5291"/>
                </a:lnTo>
                <a:arcTo wR="21600" hR="147954" stAng="-5270476" swAng="159554"/>
                <a:lnTo>
                  <a:pt x="18900" y="11981"/>
                </a:lnTo>
                <a:lnTo>
                  <a:pt x="21600" y="21600"/>
                </a:lnTo>
                <a:lnTo>
                  <a:pt x="21600" y="21600"/>
                </a:lnTo>
                <a:arcTo wR="21600" hR="147954" stAng="-5110921" swAng="-225855"/>
                <a:lnTo>
                  <a:pt x="13500" y="2345"/>
                </a:lnTo>
                <a:arcTo wR="21600" hR="147954" stAng="-5336776" swAng="-126448"/>
                <a:lnTo>
                  <a:pt x="8100" y="2938"/>
                </a:lnTo>
                <a:arcTo wR="21600" hR="147954" stAng="-5463224" swAng="-225855"/>
                <a:lnTo>
                  <a:pt x="2700" y="11981"/>
                </a:lnTo>
                <a:close/>
              </a:path>
              <a:path fill="none" w="21600" h="21600">
                <a:moveTo>
                  <a:pt x="8100" y="2345"/>
                </a:moveTo>
                <a:arcTo wR="21600" hR="147954" stAng="-5463224" swAng="-66300"/>
                <a:lnTo>
                  <a:pt x="8100" y="2938"/>
                </a:lnTo>
              </a:path>
              <a:path fill="none" w="21600" h="21600">
                <a:moveTo>
                  <a:pt x="13500" y="2345"/>
                </a:moveTo>
                <a:arcTo wR="21600" hR="147954" stAng="-5336776" swAng="66300"/>
                <a:lnTo>
                  <a:pt x="13500" y="2938"/>
                </a:lnTo>
              </a:path>
              <a:path fill="none" w="21600" h="21600">
                <a:moveTo>
                  <a:pt x="5400" y="5291"/>
                </a:moveTo>
                <a:lnTo>
                  <a:pt x="5400" y="5883"/>
                </a:lnTo>
              </a:path>
              <a:path fill="none" w="21600" h="21600">
                <a:moveTo>
                  <a:pt x="16200" y="5291"/>
                </a:moveTo>
                <a:lnTo>
                  <a:pt x="16200" y="5883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258920" y="3068640"/>
            <a:ext cx="647640" cy="1297080"/>
            <a:chOff x="1258920" y="3068640"/>
            <a:chExt cx="647640" cy="1297080"/>
          </a:xfrm>
        </p:grpSpPr>
        <p:sp>
          <p:nvSpPr>
            <p:cNvPr id="44" name=""/>
            <p:cNvSpPr/>
            <p:nvPr/>
          </p:nvSpPr>
          <p:spPr>
            <a:xfrm>
              <a:off x="1258920" y="3068640"/>
              <a:ext cx="647640" cy="1297080"/>
            </a:xfrm>
            <a:prstGeom prst="cube">
              <a:avLst>
                <a:gd name="adj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Verdana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Verdana"/>
                </a:rPr>
                <a:t>P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1258920" y="3310200"/>
              <a:ext cx="486720" cy="136080"/>
              <a:chOff x="1258920" y="3310200"/>
              <a:chExt cx="486720" cy="136080"/>
            </a:xfrm>
          </p:grpSpPr>
          <p:sp>
            <p:nvSpPr>
              <p:cNvPr id="46" name=""/>
              <p:cNvSpPr/>
              <p:nvPr/>
            </p:nvSpPr>
            <p:spPr>
              <a:xfrm>
                <a:off x="1258920" y="3310200"/>
                <a:ext cx="486720" cy="30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258920" y="3416760"/>
                <a:ext cx="486720" cy="295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1291320" y="3859920"/>
              <a:ext cx="410760" cy="47016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b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68360" y="2205000"/>
            <a:ext cx="4032360" cy="4032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883640" y="3213000"/>
            <a:ext cx="504720" cy="6256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659640" y="3284640"/>
            <a:ext cx="1008000" cy="720720"/>
            <a:chOff x="6659640" y="3284640"/>
            <a:chExt cx="1008000" cy="720720"/>
          </a:xfrm>
        </p:grpSpPr>
        <p:sp>
          <p:nvSpPr>
            <p:cNvPr id="52" name=""/>
            <p:cNvSpPr/>
            <p:nvPr/>
          </p:nvSpPr>
          <p:spPr>
            <a:xfrm>
              <a:off x="6672240" y="3284640"/>
              <a:ext cx="734400" cy="482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Verdana"/>
                </a:rPr>
                <a:t>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659640" y="3783240"/>
              <a:ext cx="1008000" cy="222120"/>
            </a:xfrm>
            <a:prstGeom prst="parallelogram">
              <a:avLst>
                <a:gd name="adj" fmla="val 113452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" name=""/>
          <p:cNvCxnSpPr>
            <a:stCxn id="50" idx="2"/>
            <a:endCxn id="52" idx="3"/>
          </p:cNvCxnSpPr>
          <p:nvPr/>
        </p:nvCxnSpPr>
        <p:spPr>
          <a:xfrm flipH="1">
            <a:off x="7406640" y="3525840"/>
            <a:ext cx="4773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2T13:31:30Z</dcterms:created>
  <dc:creator>Gil</dc:creator>
  <dc:description/>
  <dc:language>en-US</dc:language>
  <cp:lastModifiedBy>Gil</cp:lastModifiedBy>
  <dcterms:modified xsi:type="dcterms:W3CDTF">2004-09-12T13:31:48Z</dcterms:modified>
  <cp:revision>1</cp:revision>
  <dc:subject/>
  <dc:title>No Slide Title</dc:title>
</cp:coreProperties>
</file>