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8C1-7286-40AB-9CC4-3D5C6A5D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84F-C9D1-4EE5-9A2C-A7EB4709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721-74A1-4228-8675-C4735302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982-6E84-4542-949D-8CC31643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0FB-31CE-45F2-BB2D-DFA1DBD5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61E-36BB-4363-B4BF-E40D7B75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338-5D14-45C2-9270-7DBC43BC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3F5-B703-427C-BCB7-87A63E50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D94-3C86-42EA-911A-6C103709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BEC-DBFA-4FF3-8742-1181F671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3A1-AD98-4E34-ABC0-8B22326B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E4E-6A8B-4676-AA26-67850A14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F938-9C6F-4948-8136-B1A65056E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hart with combinations poss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11360" y="1932120"/>
            <a:ext cx="4121280" cy="4035240"/>
            <a:chOff x="2511360" y="1932120"/>
            <a:chExt cx="4121280" cy="4035240"/>
          </a:xfrm>
        </p:grpSpPr>
        <p:sp>
          <p:nvSpPr>
            <p:cNvPr id="43" name="_s4101"/>
            <p:cNvSpPr/>
            <p:nvPr/>
          </p:nvSpPr>
          <p:spPr>
            <a:xfrm>
              <a:off x="3730680" y="195120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02"/>
            <p:cNvSpPr/>
            <p:nvPr/>
          </p:nvSpPr>
          <p:spPr>
            <a:xfrm rot="3060000">
              <a:off x="4566960" y="235404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4103"/>
            <p:cNvSpPr/>
            <p:nvPr/>
          </p:nvSpPr>
          <p:spPr>
            <a:xfrm rot="6180000">
              <a:off x="4773600" y="3259080"/>
              <a:ext cx="1682640" cy="168264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4104"/>
            <p:cNvSpPr/>
            <p:nvPr/>
          </p:nvSpPr>
          <p:spPr>
            <a:xfrm rot="9240000">
              <a:off x="4193280" y="3984120"/>
              <a:ext cx="1683000" cy="168300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5"/>
            <p:cNvSpPr/>
            <p:nvPr/>
          </p:nvSpPr>
          <p:spPr>
            <a:xfrm rot="12360000">
              <a:off x="3265560" y="3984120"/>
              <a:ext cx="1682640" cy="16830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06"/>
            <p:cNvSpPr/>
            <p:nvPr/>
          </p:nvSpPr>
          <p:spPr>
            <a:xfrm rot="15420000">
              <a:off x="2685960" y="3258720"/>
              <a:ext cx="1682640" cy="16830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1683000"/>
                <a:gd name="textAreaBottom" fmla="*/ 1683360 h 16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7"/>
            <p:cNvSpPr/>
            <p:nvPr/>
          </p:nvSpPr>
          <p:spPr>
            <a:xfrm rot="18540000">
              <a:off x="2892240" y="2352240"/>
              <a:ext cx="1683000" cy="168264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08"/>
            <p:cNvSpPr/>
            <p:nvPr/>
          </p:nvSpPr>
          <p:spPr>
            <a:xfrm>
              <a:off x="5011560" y="1932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 Black"/>
                </a:rPr>
                <a:t>Akhileshw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9"/>
            <p:cNvSpPr/>
            <p:nvPr/>
          </p:nvSpPr>
          <p:spPr>
            <a:xfrm>
              <a:off x="2511360" y="313704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!2F%h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.(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10"/>
            <p:cNvSpPr/>
            <p:nvPr/>
          </p:nvSpPr>
          <p:spPr>
            <a:xfrm>
              <a:off x="3471840" y="1932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6633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11"/>
            <p:cNvSpPr/>
            <p:nvPr/>
          </p:nvSpPr>
          <p:spPr>
            <a:xfrm>
              <a:off x="2854440" y="4638600"/>
              <a:ext cx="660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@</a:t>
              </a: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1^3*5&amp;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12"/>
            <p:cNvSpPr/>
            <p:nvPr/>
          </p:nvSpPr>
          <p:spPr>
            <a:xfrm>
              <a:off x="4243320" y="530712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66"/>
                  </a:solidFill>
                  <a:latin typeface="Baskerville Old Face"/>
                </a:rPr>
                <a:t>a1d2g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13"/>
            <p:cNvSpPr/>
            <p:nvPr/>
          </p:nvSpPr>
          <p:spPr>
            <a:xfrm>
              <a:off x="5630760" y="4637160"/>
              <a:ext cx="6606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!@$#$^&lt;&gt;?}{+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14"/>
            <p:cNvSpPr/>
            <p:nvPr/>
          </p:nvSpPr>
          <p:spPr>
            <a:xfrm>
              <a:off x="5972040" y="3135240"/>
              <a:ext cx="66060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10.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-21.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 Narrow"/>
                </a:rPr>
                <a:t>3045789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10:21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