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28F7-15E1-49AD-8967-E4AFA0343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BB70-ED1C-4EEF-BECB-AB2C3243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1931-ED26-43B0-8643-0CBFA2539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69EF-B6CB-4AE1-AD5B-11DD56097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4834-30EF-45AB-83E8-40DA1F265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BDFD-CC7C-4EE9-BA6C-DE6997A0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8E9B-7F5B-4939-B122-508A42AF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C38E-E463-4C18-81A6-C782B09E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371D-10FC-4E4B-A46C-D96C0E2D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8370-584B-4982-B1FC-A22633D5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771C-D6E5-493F-B213-0BC9971B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A13D-4B0F-449D-8D7A-6C3B0D92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BF73-9DAB-4072-9AC8-895F36B0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C92A-98CD-42B4-801B-2BC75728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8B3E-B6DA-4D83-BB9D-CB9E9E6B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BEC5-CB09-4516-B01F-59D5EB2F1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F194-52B1-4556-BFBA-B65CBD3C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DE12-45F1-4631-8325-7EF5808D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DC36-FD08-4650-AD8F-D303EC25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8BDE-564A-434A-AAF5-7548C48E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F95E-35C0-423A-9056-329749EC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F3C1-C1C4-4CDB-897F-D9793949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05DF-0B2D-4CE5-84E9-C39B9993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3DDD-AE21-457F-B521-3B6ACCDA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E7D4-C06F-4C6F-8CBB-7ED7A763E3AB}" type="datetime"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83D6D457-166C-4B1B-A548-34C23A883240}" type="datetime10"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16:0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D198-0C0A-4651-AE05-648370F309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52B4-CEC8-444C-9E00-20672C0E3404}" type="datetime"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F7884CCB-314C-4BDE-A1B1-EDC7973A6786}" type="datetime10"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16:0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0F86-0DE6-4F0C-8C99-233CC963CA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Times New Roman"/>
              </a:rPr>
              <a:t>המאבק הבינ"ל בהלבנת הון</a:t>
            </a:r>
            <a:br>
              <a:rPr sz="4400"/>
            </a:br>
            <a:r>
              <a:rPr b="0" lang="he-IL" sz="4400" spc="-1" strike="noStrike">
                <a:solidFill>
                  <a:srgbClr val="ffff00"/>
                </a:solidFill>
                <a:latin typeface="Times New Roman"/>
              </a:rPr>
              <a:t>נקודות ציון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390400"/>
            <a:ext cx="77724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1988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– אמנת וינה – סחר בסמים  - חילו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1989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– הקמת ה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TF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קביעת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) קריטריוני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2000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– חקיקת החוק הישראל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2001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- 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11.9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– הוספת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קריטריונים בנושא טרו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              החלטה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1373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של מועצת הביטחו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002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– הליך עדכון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הקריטריוני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2ED8-5DCE-40FE-A4F1-80CB0158EE7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AE57FE-E7A8-4B59-83E6-6A8208DFA9ED}" type="datetime8">
              <a:rPr lang="en-US"/>
              <a:t>07/29/26 16: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oo</cp:lastModifiedBy>
  <dcterms:modified xsi:type="dcterms:W3CDTF">2007-08-30T11:56:35Z</dcterms:modified>
  <cp:revision>36</cp:revision>
  <dc:subject/>
  <dc:title>מצגת של PowerPoint</dc:title>
</cp:coreProperties>
</file>