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62F-858B-4A88-B41B-9968BB7E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E1B-C6A4-4EB8-B61F-AD245E36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A1C-CD71-4A33-AFE8-357A7BF9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5B1-FDBF-431D-949E-BCBFE3DE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CFB-3DF7-4545-8769-9A19498A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615-F5E6-4B4F-8D54-5030756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90C-BBFB-48FE-A21A-650D6370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4EA-8ACE-4A56-9A4E-7D2D56A0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06F-521D-4600-A48A-B1C0D76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500-F2BE-4EC1-BAB1-6689E30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795-9EDF-4E8B-908D-DF468B4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ADA-7994-4F0D-A890-37EF28B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3CA7-1FE0-4673-AF90-34CFE2032D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tandard Colors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Cambria"/>
                <a:ea typeface="Tahoma"/>
              </a:rPr>
              <a:t>dark red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ff0000"/>
                </a:solidFill>
                <a:latin typeface="Cambria"/>
                <a:ea typeface="Tahoma"/>
              </a:rPr>
              <a:t>red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ffc000"/>
                </a:solidFill>
                <a:latin typeface="Cambria"/>
                <a:ea typeface="Tahoma"/>
              </a:rPr>
              <a:t>orang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ffff00"/>
                </a:solidFill>
                <a:latin typeface="Cambria"/>
                <a:ea typeface="Tahoma"/>
              </a:rPr>
              <a:t>yellow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92d050"/>
                </a:solidFill>
                <a:latin typeface="Cambria"/>
                <a:ea typeface="Tahoma"/>
              </a:rPr>
              <a:t>light green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00b050"/>
                </a:solidFill>
                <a:latin typeface="Cambria"/>
                <a:ea typeface="Tahoma"/>
              </a:rPr>
              <a:t>green</a:t>
            </a:r>
            <a:br>
              <a:rPr sz="2400"/>
            </a:br>
            <a:r>
              <a:rPr b="0" lang="de-DE" sz="2400" spc="-1" strike="noStrike">
                <a:solidFill>
                  <a:srgbClr val="00b0f0"/>
                </a:solidFill>
                <a:latin typeface="Cambria"/>
                <a:ea typeface="Tahoma"/>
              </a:rPr>
              <a:t>light blue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0070c0"/>
                </a:solidFill>
                <a:latin typeface="Cambria"/>
                <a:ea typeface="Tahoma"/>
              </a:rPr>
              <a:t>blu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002060"/>
                </a:solidFill>
                <a:latin typeface="Cambria"/>
                <a:ea typeface="Tahoma"/>
              </a:rPr>
              <a:t>dark blue 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– </a:t>
            </a:r>
            <a:r>
              <a:rPr b="0" lang="de-DE" sz="2400" spc="-1" strike="noStrike">
                <a:solidFill>
                  <a:srgbClr val="7030a0"/>
                </a:solidFill>
                <a:latin typeface="Cambria"/>
                <a:ea typeface="Tahoma"/>
              </a:rPr>
              <a:t>purple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ome Office 2007 Theme Color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black – </a:t>
            </a:r>
            <a:r>
              <a:rPr b="0" lang="de-DE" sz="2400" spc="-1" strike="noStrike">
                <a:solidFill>
                  <a:srgbClr val="eeece1"/>
                </a:solidFill>
                <a:latin typeface="Cambria"/>
                <a:ea typeface="Tahoma"/>
              </a:rPr>
              <a:t>tan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1f497d"/>
                </a:solidFill>
                <a:latin typeface="Cambria"/>
                <a:ea typeface="Tahoma"/>
              </a:rPr>
              <a:t>dark blu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4f81bd"/>
                </a:solidFill>
                <a:latin typeface="Cambria"/>
                <a:ea typeface="Tahoma"/>
              </a:rPr>
              <a:t>blu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c0504d"/>
                </a:solidFill>
                <a:latin typeface="Cambria"/>
                <a:ea typeface="Tahoma"/>
              </a:rPr>
              <a:t>red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9bbb59"/>
                </a:solidFill>
                <a:latin typeface="Cambria"/>
                <a:ea typeface="Tahoma"/>
              </a:rPr>
              <a:t>olive green</a:t>
            </a:r>
            <a:br>
              <a:rPr sz="2400"/>
            </a:br>
            <a:r>
              <a:rPr b="0" lang="de-DE" sz="2400" spc="-1" strike="noStrike">
                <a:solidFill>
                  <a:srgbClr val="8064a2"/>
                </a:solidFill>
                <a:latin typeface="Cambria"/>
                <a:ea typeface="Tahoma"/>
              </a:rPr>
              <a:t>purple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4bacc6"/>
                </a:solidFill>
                <a:latin typeface="Cambria"/>
                <a:ea typeface="Tahoma"/>
              </a:rPr>
              <a:t>aqua</a:t>
            </a: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 – </a:t>
            </a:r>
            <a:r>
              <a:rPr b="0" lang="de-DE" sz="2400" spc="-1" strike="noStrike">
                <a:solidFill>
                  <a:srgbClr val="f79646"/>
                </a:solidFill>
                <a:latin typeface="Cambria"/>
                <a:ea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Home&gt;Font&gt;Change Case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Sentence ca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lowerca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UPPERCA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Capitalize Each Word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tOGGLE cASE - tHE QUICK BROWN FOX JUMPS OVER THE LAZY 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Home&gt;Font&gt;Character Spacing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Very Thight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Tight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Normal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Loo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Very Loose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Kerning for fonts by 78pt - The quick brown fox jumps over the lazy d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Kerning for fonts by 12pt - The quick brown fox jumps over the lazy do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Character Spacing expanded by 5p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ahoma"/>
              </a:rPr>
              <a:t>Character Spacing condensed by 1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Font Decoration Test 1: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800080"/>
                </a:solidFill>
                <a:latin typeface="Calibri"/>
              </a:rPr>
              <a:t>Fonts in Text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rial 28px normal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Calibri"/>
              </a:rPr>
              <a:t>Arial 14px under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Calibri"/>
              </a:rPr>
              <a:t>Calibri 36px italic b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rier New 22px shad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 u="sng">
                <a:solidFill>
                  <a:srgbClr val="000000"/>
                </a:solidFill>
                <a:uFillTx/>
                <a:latin typeface="Book Antiqua"/>
              </a:rPr>
              <a:t>Book Antiqua 27px underl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</a:rPr>
              <a:t>Font Decoration Test 2: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800080"/>
                </a:solidFill>
                <a:latin typeface="Calibri"/>
              </a:rPr>
              <a:t>Fonts in Numb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Arial 28px b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Calibri"/>
              </a:rPr>
              <a:t>Calibri 14px underline ital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Tahoma"/>
              </a:rPr>
              <a:t>Tahoma 31px bol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Lucida Console"/>
              </a:rPr>
              <a:t>Lucida Console 26px sha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000000"/>
                </a:solidFill>
                <a:latin typeface="Calibri"/>
              </a:rPr>
              <a:t>Calibri 64px norma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47:23Z</dcterms:modified>
  <cp:revision>7</cp:revision>
  <dc:subject/>
  <dc:title>Standard Colors dark red – red – orange – yellow – light green – green light blue – blue – dark blue – purple  Some Office 2007 Theme Colors black – tan – dark blue – blue – red – olive green purple – aqua – orange</dc:title>
</cp:coreProperties>
</file>