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00A-6F28-4A53-B44D-312443DB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DD4-E75C-4F26-AB90-EFFD9F89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27B-00DB-4566-AE39-FE8F26C8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CBE-C9D4-487C-85D9-6FACBA39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022-9E93-4EF1-89FA-3E4D9A1B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AEA-D289-42BC-B486-066F0AD4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B6E-19AD-400C-8D5E-32DDF3A7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DA5-9C62-495B-ABB4-F9879149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CD7-D768-4256-A52A-88982DE9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3F7-A903-4129-82E7-40C236E6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FEC-E4AD-4D6E-AB3C-B963D6A2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BBF-9E87-493D-B149-DAA43AAA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E18F-EFBF-4E4B-9197-D056187DC1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2883600" y="-712440"/>
            <a:ext cx="7567920" cy="6986880"/>
            <a:chOff x="2883600" y="-712440"/>
            <a:chExt cx="7567920" cy="6986880"/>
          </a:xfrm>
        </p:grpSpPr>
        <p:sp>
          <p:nvSpPr>
            <p:cNvPr id="42" name="Rounded Rectangle 3"/>
            <p:cNvSpPr/>
            <p:nvPr/>
          </p:nvSpPr>
          <p:spPr>
            <a:xfrm rot="3103800">
              <a:off x="4952880" y="-685800"/>
              <a:ext cx="3429000" cy="6934320"/>
            </a:xfrm>
            <a:custGeom>
              <a:avLst/>
              <a:gdLst>
                <a:gd name="textAreaLeft" fmla="*/ 167400 w 3429000"/>
                <a:gd name="textAreaRight" fmla="*/ 3261600 w 3429000"/>
                <a:gd name="textAreaTop" fmla="*/ 167400 h 6934320"/>
                <a:gd name="textAreaBottom" fmla="*/ 6766920 h 6934320"/>
              </a:gdLst>
              <a:ahLst/>
              <a:rect l="textAreaLeft" t="textAreaTop" r="textAreaRight" b="textAreaBottom"/>
              <a:pathLst>
                <a:path w="21600" h="43678">
                  <a:moveTo>
                    <a:pt x="3600" y="0"/>
                  </a:moveTo>
                  <a:arcTo wR="3600" hR="3600" stAng="16200000" swAng="-5400000"/>
                  <a:lnTo>
                    <a:pt x="0" y="40078"/>
                  </a:lnTo>
                  <a:arcTo wR="3600" hR="3600" stAng="10800000" swAng="-5400000"/>
                  <a:lnTo>
                    <a:pt x="18000" y="436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ight Arrow 4"/>
            <p:cNvSpPr/>
            <p:nvPr/>
          </p:nvSpPr>
          <p:spPr>
            <a:xfrm rot="5428800">
              <a:off x="5583960" y="1496520"/>
              <a:ext cx="2438640" cy="2568240"/>
            </a:xfrm>
            <a:prstGeom prst="rightArrow">
              <a:avLst>
                <a:gd name="adj1" fmla="val 50000"/>
                <a:gd name="adj2" fmla="val 156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21:00:09Z</dcterms:created>
  <dc:creator>Fridrich Strba</dc:creator>
  <dc:description/>
  <dc:language>en-US</dc:language>
  <cp:lastModifiedBy>Fridrich Strba</cp:lastModifiedBy>
  <dcterms:modified xsi:type="dcterms:W3CDTF">2009-05-19T17:00:01Z</dcterms:modified>
  <cp:revision>3</cp:revision>
  <dc:subject/>
  <dc:title>Slide 1</dc:title>
</cp:coreProperties>
</file>