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09C-40A0-4FF1-9BD1-1956E581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FC5-F476-4FE2-9595-3F2084D3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8DB-DC1E-4E8D-BEE3-A3F545D6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42F-E01F-427B-8678-76A6AEBC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3AE-0B95-4E23-BE2C-89772ED7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265B-584A-45BF-ADC4-D7D2A7E3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792A-7413-4807-922F-7B9AF3FE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746-139F-473E-A5CA-7AEF008E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D91-787D-44B8-9C64-56FE1B66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E6D9-5A45-4A39-AB03-FA22BAFD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136-1F2B-4169-92BF-06EE22A4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C301-0DCD-4D9D-B7C7-69DBD1B9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E850-02F4-48B7-A1DD-45DF4A06A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calc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hyperlink" Target="file:///tmp/home/.config/libreoffice/4/user/gallery/tada.wav" TargetMode="Externa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over -&gt; Hyperlink to Sli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228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over -&gt; Run program -&gt; cal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Environment (system) variable PATH includes needed 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24680" y="1219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S00580_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09480"/>
            <a:ext cx="190656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over -&gt; Hyperlink to U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2666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E01832_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67616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over -&gt; Show Obje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over -&gt; Play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 when mouse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4191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914400"/>
          <a:ext cx="2362320" cy="1370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236232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934320" y="12193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EN00349_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914400"/>
            <a:ext cx="22986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Settings: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over -&gt; Run Macro -&gt; message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2286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705720" y="5715000"/>
            <a:ext cx="18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End Sh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8:47:38Z</dcterms:created>
  <dc:creator>a</dc:creator>
  <dc:description/>
  <dc:language>en-US</dc:language>
  <cp:lastModifiedBy>a</cp:lastModifiedBy>
  <dcterms:modified xsi:type="dcterms:W3CDTF">2011-09-17T16:14:26Z</dcterms:modified>
  <cp:revision>8</cp:revision>
  <dc:subject/>
  <dc:title>1</dc:title>
</cp:coreProperties>
</file>