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DC4-4468-4B0B-8BE7-C33DE896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17B-9AA8-478D-BE4F-8BC769AD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EAE-C8E1-4BFC-A042-C700C3BC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8BA9-0197-4ABF-B5AB-7BF22DC8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36C-8BA3-4FDB-8CFE-06193D75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BC0-45CB-490E-9FA2-08DA2898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205-2933-4128-8BF2-63233BA2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EFA-9FE9-415E-A67F-FC6CE75D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315-D16B-44C6-A3EF-E2CA2A03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6D2-C1B6-4994-9AD4-57A608FB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EB8-2A8C-4D71-9D3D-AAB0046A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275-C540-4317-842D-1605AE88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10ED2-4BE4-4FF5-BD19-2718B14BE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23:08:52Z</dcterms:created>
  <dc:creator/>
  <dc:description/>
  <dc:language>en-US</dc:language>
  <cp:lastModifiedBy/>
  <cp:revision>1</cp:revision>
  <dc:subject/>
  <dc:title/>
</cp:coreProperties>
</file>