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AD3-7BE9-4A0F-A0DB-DC06C61E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604A-1C4D-4E9B-B9F2-E2F6B8E6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304-4FC5-4CE8-9D98-312C4B84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420-CF75-4049-8ED0-E6336C30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C0D2-06C0-47B1-8323-E19866D7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45D3-F17B-4E2A-ADAF-6EDE98F0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BD13-E40D-4525-9993-01A9A56B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D30A-5F71-46BE-B7F7-C3723A14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76CE-AC6E-44C6-A2D5-D6398D65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0B16-1118-4CEF-A015-056B6714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234A-C3B5-43FD-A15A-F654CF6E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E8B1-4FBB-4F35-BD50-0E7F7554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57B8-CC31-4D71-BE8D-E8CD9629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E3AE-8312-4671-AE05-A46452D5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AB4E-30C3-4B19-8C30-6290B44A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40A2-772A-46A5-BD36-6BB4C01E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B979-AC27-4D64-BCBA-B4F3A021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B8AB-8B86-48B3-8CD1-C739BDFE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1F67-EC5C-41AF-95B5-46C3E921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954-038A-43CB-BCA7-A7F4CC01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8F2-97ED-4F6E-AA98-297A94F8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8016-8A94-4DE6-87DB-991BF547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2E50-C828-4C76-9650-14D28B0E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227-761B-4309-93A7-9DA9EFB8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7C3C-16DF-4DFC-BEBA-C6DCBA5EBBC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CDD6-52C4-4D1A-8767-7AC0FCBC4F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93CF-BF14-4ED2-9372-7942C1A4E8E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Slide #</a:t>
            </a:r>
            <a:fld id="{2FE9DD62-E315-4C0C-A87A-56426BD3E0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5BC7C1BA-3539-4254-9B3F-C25B65EEE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D8A65066-8ED1-433A-A29A-E897E36FD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FB31B303-0B66-4BD9-BFFB-B1B359F48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BA0F328A-B641-4BA8-9706-4B2009ED9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06E23D05-CF0B-47A1-AEB4-58981478E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5206903B-E3E4-4D90-B257-7611817AC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158B682E-DDE9-4304-BB95-E16D1C750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B96CBC1C-0311-46DA-9649-930CC97BF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3C1BFF8E-5C2E-4015-A46B-C7463ECA2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EF1A518F-70B6-4AF4-B764-A7C3CF720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D575DE00-8B25-4CD2-BCF5-7CC2A90B7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0EEFF7AC-DC74-4CEE-A6EE-213D6086E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96A4ACED-66F7-4108-A2B0-A8D2CA90F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EF959C95-C7BF-4BD3-97F1-4F786DE65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4791C221-34D8-4A3C-B074-49399B2AB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EAA7F5DC-FCC2-4795-83EF-9818F26B8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C0E599E1-A507-41B6-BA06-17B17D7DC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4064C13B-804A-46DC-9019-80C866575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C387DC14-CD29-4610-924F-AB841F0C1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Slide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 #</a:t>
            </a:r>
            <a:fld id="{2BF40B73-EB41-4AD9-A671-FE8F135F0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richblix</dc:creator>
  <dc:description/>
  <dc:language>en-US</dc:language>
  <cp:lastModifiedBy>Grichblix</cp:lastModifiedBy>
  <dcterms:modified xsi:type="dcterms:W3CDTF">2015-04-16T16:32:44Z</dcterms:modified>
  <cp:revision>1</cp:revision>
  <dc:subject/>
  <dc:title>Slide 1</dc:title>
</cp:coreProperties>
</file>