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A84-F394-4D2F-AF6C-DF404B56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B88-1E51-4AEC-9CE6-2AF5DD6E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8B1-9BDE-41DE-8DB7-0A30AEBD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3F1-92B2-4887-BC82-B697059B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1E37-E4C3-4ED6-A164-00136AE9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1B9E-CDE8-4365-BE4F-0C520FA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2A09-FC28-46EC-9B73-DD000A00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87BB-827A-4559-AF83-CA907124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8C6C-1FD3-4C5A-9951-EA56FBB5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1D42-EF19-4D0C-92E6-BA2C2237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9A56-3A83-498D-A27C-8C854FBF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7A1-665A-4CBF-8AFF-B6D8E7A7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403D-1BF9-4118-BD11-861B3AE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F5BF-7745-4FE9-AF76-E061C728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8226-567B-4D69-B3BF-897C2C8A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8576-6384-43A3-9428-BB67EAFB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793B-11A7-4DD0-81E3-F98B58A6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A22-8677-40C4-BA5D-0E0E3AF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1E2-3FC2-40BD-B776-B70A996D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DB0-7A6C-4AD7-96BB-D008512B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883-2C3E-4379-A93D-889DC29B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9A0-B8BC-4049-9A24-3E3BF0A8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B4B-AB36-4443-8237-60B7232C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C4B-2764-4B19-993B-BEE98C1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2F91-0903-45BE-B080-49800929530C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8D28-3E9B-4143-BF64-BD8F6F61E33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-Straight 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7T07:22:51Z</dcterms:modified>
  <cp:revision>32</cp:revision>
  <dc:subject/>
  <dc:title>PowerPoint Presentation</dc:title>
</cp:coreProperties>
</file>