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C289-75BE-4E25-A915-3DD566FF73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A1D5-A754-45E5-919C-005C773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97E7-1E33-4505-BC5D-127EE6AF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ABDE-C5A9-4135-813A-75BAB28B6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A148-EE47-4A0A-8264-A67542A2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E539-8617-4D77-A008-B2D385D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DB56-FFC7-469B-9B52-5ADEB651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64B8-024A-494D-A7A5-EAAF9BC7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02F9-515B-4A6D-815B-84176435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7AC5-355B-4A5B-A03E-36C2CAA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447E-7785-489D-9269-894357A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42CB-76C6-4E3B-9E54-BA12F4F5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635E89-AD70-4E55-8494-73FBE0387D6B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906640"/>
            <a:ext cx="8763120" cy="3556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12880" y="41400"/>
            <a:ext cx="8331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bile CRM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162840" y="3363840"/>
            <a:ext cx="2790720" cy="2776680"/>
          </a:xfrm>
          <a:prstGeom prst="roundRect">
            <a:avLst>
              <a:gd name="adj" fmla="val 6273"/>
            </a:avLst>
          </a:prstGeom>
          <a:noFill/>
          <a:ln w="9360">
            <a:solidFill>
              <a:srgbClr val="71a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193920" y="3363840"/>
            <a:ext cx="2789280" cy="2776680"/>
          </a:xfrm>
          <a:prstGeom prst="roundRect">
            <a:avLst>
              <a:gd name="adj" fmla="val 6273"/>
            </a:avLst>
          </a:prstGeom>
          <a:noFill/>
          <a:ln w="9360">
            <a:solidFill>
              <a:srgbClr val="71a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03040" y="3365640"/>
            <a:ext cx="2791080" cy="2774880"/>
          </a:xfrm>
          <a:prstGeom prst="roundRect">
            <a:avLst>
              <a:gd name="adj" fmla="val 6273"/>
            </a:avLst>
          </a:prstGeom>
          <a:noFill/>
          <a:ln w="9360">
            <a:solidFill>
              <a:srgbClr val="71a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3181320"/>
            <a:ext cx="2932200" cy="615960"/>
            <a:chOff x="171360" y="3181320"/>
            <a:chExt cx="2932200" cy="6159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71360" y="3181320"/>
              <a:ext cx="2932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16000" y="3282840"/>
              <a:ext cx="27954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119160" indent="-11772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119160"/>
                  <a:tab algn="l" pos="1033560"/>
                  <a:tab algn="l" pos="1947960"/>
                  <a:tab algn="l" pos="2862360"/>
                  <a:tab algn="l" pos="3776760"/>
                  <a:tab algn="l" pos="4691160"/>
                  <a:tab algn="l" pos="5605560"/>
                  <a:tab algn="l" pos="6519960"/>
                  <a:tab algn="l" pos="7434360"/>
                  <a:tab algn="l" pos="8348760"/>
                  <a:tab algn="l" pos="9263160"/>
                  <a:tab algn="l" pos="101775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17440" y="3790800"/>
            <a:ext cx="27907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" tIns="46080" bIns="46080" anchor="t">
            <a:spAutoFit/>
          </a:bodyPr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AAAAA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BBBBBB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DDDD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164040" y="3176640"/>
            <a:ext cx="2931840" cy="620640"/>
            <a:chOff x="3164040" y="3176640"/>
            <a:chExt cx="2931840" cy="6206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164040" y="3176640"/>
              <a:ext cx="29318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06880" y="3281400"/>
              <a:ext cx="2795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119160" indent="-11772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119160"/>
                  <a:tab algn="l" pos="1033560"/>
                  <a:tab algn="l" pos="1947960"/>
                  <a:tab algn="l" pos="2862360"/>
                  <a:tab algn="l" pos="3776760"/>
                  <a:tab algn="l" pos="4691160"/>
                  <a:tab algn="l" pos="5605560"/>
                  <a:tab algn="l" pos="6519960"/>
                  <a:tab algn="l" pos="7434360"/>
                  <a:tab algn="l" pos="8348760"/>
                  <a:tab algn="l" pos="9263160"/>
                  <a:tab algn="l" pos="101775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YYYYY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126120" y="3181320"/>
            <a:ext cx="2932200" cy="615960"/>
            <a:chOff x="6126120" y="3181320"/>
            <a:chExt cx="2932200" cy="6159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126120" y="3181320"/>
              <a:ext cx="2932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68960" y="3284640"/>
              <a:ext cx="2795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marL="119160" indent="-11772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119160"/>
                  <a:tab algn="l" pos="1033560"/>
                  <a:tab algn="l" pos="1947960"/>
                  <a:tab algn="l" pos="2862360"/>
                  <a:tab algn="l" pos="3776760"/>
                  <a:tab algn="l" pos="4691160"/>
                  <a:tab algn="l" pos="5605560"/>
                  <a:tab algn="l" pos="6519960"/>
                  <a:tab algn="l" pos="7434360"/>
                  <a:tab algn="l" pos="8348760"/>
                  <a:tab algn="l" pos="9263160"/>
                  <a:tab algn="l" pos="101775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ZZZZ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93920" y="3790800"/>
            <a:ext cx="27892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" tIns="46080" bIns="46080" anchor="t">
            <a:spAutoFit/>
          </a:bodyPr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EE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FFFFF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4940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GGGG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168960" y="3790800"/>
            <a:ext cx="2790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lvl="1" marL="169920" indent="-169920">
              <a:lnSpc>
                <a:spcPct val="100000"/>
              </a:lnSpc>
              <a:spcBef>
                <a:spcPts val="300"/>
              </a:spcBef>
              <a:buClr>
                <a:srgbClr val="fd0000"/>
              </a:buClr>
              <a:buFont typeface="Arial"/>
              <a:buChar char="•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HHHHHHH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IIIIII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49400" indent="-149400">
              <a:lnSpc>
                <a:spcPct val="100000"/>
              </a:lnSpc>
              <a:spcBef>
                <a:spcPts val="1199"/>
              </a:spcBef>
              <a:buClr>
                <a:srgbClr val="fd0000"/>
              </a:buClr>
              <a:buFont typeface="Arial"/>
              <a:buChar char="•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JJJJJJJJJ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19240" y="1133640"/>
            <a:ext cx="2730240" cy="18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635280" y="765000"/>
            <a:ext cx="1886040" cy="2152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72360" y="1114560"/>
            <a:ext cx="23032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07:01Z</dcterms:created>
  <dc:creator>Rob Knight</dc:creator>
  <dc:description/>
  <dc:language>en-US</dc:language>
  <cp:lastModifiedBy>Rob Knight</cp:lastModifiedBy>
  <dcterms:modified xsi:type="dcterms:W3CDTF">2010-12-14T14:13:38Z</dcterms:modified>
  <cp:revision>1</cp:revision>
  <dc:subject/>
  <dc:title>Mobile CRM Applications</dc:title>
</cp:coreProperties>
</file>