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6FF-A057-4155-B293-75716D61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07A-25DE-4BDD-B412-7946A722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900-8CB7-460A-B03A-40F6C599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34F-5680-4E39-BEE8-EEC17E96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FB8-735E-4EE5-951C-0A25895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231-5D69-412C-A372-B2D78F2A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64D-3303-400E-B1FD-44B0A85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473-9684-48F8-ABB6-0D58C771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5CA-A505-4C50-9C0E-8F6B8D8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31C-A399-442E-B23C-2D237CE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0F0-E443-4BBE-8C4B-B0186E9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89D-E097-4000-8AA7-6A4FB31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C8D-9C43-4EFC-BBC3-A90526F6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xxxxxxx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5:17:58Z</dcterms:created>
  <dc:creator>weihongtao</dc:creator>
  <dc:description/>
  <dc:language>en-US</dc:language>
  <cp:lastModifiedBy>dujing</cp:lastModifiedBy>
  <dcterms:modified xsi:type="dcterms:W3CDTF">2012-05-30T02:02:41Z</dcterms:modified>
  <cp:revision>2</cp:revision>
  <dc:subject/>
  <dc:title>Slide 1</dc:title>
</cp:coreProperties>
</file>