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182-15CE-4360-9B85-6B98A2C4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C5C-8E21-4326-B705-8B808272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6DC-6A2A-4E06-9A41-4A3740B3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AD7C-DB59-49DB-88DA-F8792799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5DCF-37F3-4C6E-9EE5-ED9C92C7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A128-95A8-4670-B0A6-DBA8C1DF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9C30-1137-4EB0-80D8-2BF68265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0F8D-CFF0-4B52-9CA6-484EAE39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4BDC-A459-4219-9B2A-A3B968E6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15A0-2642-4082-BF2A-6B4A39DA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50C7-C030-41B8-B348-753C6938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8363-0F82-45C2-8AF3-F5523C1D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633A-90EC-4536-9642-889B9412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91F5-F0E2-44A4-9E37-56DE2BB1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113F-2225-44AE-A881-E4A85704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0FD3-AB63-4C27-A49E-A34B03FD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C971-9A06-476C-80BD-66CC7B5C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7E4-6CA9-48E4-AD90-4855A87A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000-5F0A-46D1-B996-C139AB6E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8AA-C26C-4F4B-B689-109C6B99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67A-A580-4F69-BB8F-CB77D868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6BD1-4C55-4203-9461-F4C5B115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FB5-BD82-42C4-A820-ED6B0CB1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B22-F23B-4E42-962E-BE251EDD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Garamond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Garamond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7892-0D54-4E5D-841F-11B9D4D7F88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Garamond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Garamond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BED1-512A-4569-8C78-B921EA28EC3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tcouncil.org/Merchant2/merchant.mv?Screen=CTGY&amp;Category_Code=a201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Initial Hospital Assessment</a:t>
            </a: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basic tool for rapid assessment of structural saf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ing inspectors may take 6-12 hours to arr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C-20-1 </a:t>
            </a:r>
            <a:r>
              <a:rPr b="0" lang="en-US" sz="2800" spc="-1" strike="noStrike" u="sng">
                <a:solidFill>
                  <a:srgbClr val="00ff99"/>
                </a:solidFill>
                <a:uFillTx/>
                <a:latin typeface="Arial"/>
                <a:hlinkClick r:id="rId2"/>
              </a:rPr>
              <a:t>http://www.atcouncil.org/Merchant2/merchant.mv?Screen=CTGY&amp;Category_Code=a2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not-structural components (plumbing, heating/air conditioning, generators, water supply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Initial Regional Assessment</a:t>
            </a: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f these measure qualify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do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Instrumental intens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ak ground velocity and peak ground acceleration are plotted as Shakema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vailable within minutes of an earthquak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downloaded by anyone from the inter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sily interpreted by non-seismologi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23:57:18Z</dcterms:created>
  <dc:creator>schultzc</dc:creator>
  <dc:description/>
  <dc:language>en-US</dc:language>
  <cp:lastModifiedBy>ooo</cp:lastModifiedBy>
  <dcterms:modified xsi:type="dcterms:W3CDTF">2007-08-19T06:57:35Z</dcterms:modified>
  <cp:revision>49</cp:revision>
  <dc:subject/>
  <dc:title>The Hospital Response After an Earthquak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