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CFF-DBD2-41FF-BAFC-233A2073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E26-7ED7-44A9-8055-1658E858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B11-E6D4-4E26-9C3B-4806E1C2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1D5-FAD0-44F2-A577-2526A0C9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A29-C042-448C-BD22-015407B5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B56-1CFC-43F6-BBB2-9A16ECAC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B89-4D77-4DFF-ADEA-5F5B782B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A8A-FEF1-488B-A69E-BA35815A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CC5-069C-4A75-A173-C49D0BFC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36A-B2B6-4339-9EC7-A653A341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AB8-A32C-42CC-A50C-51C897F0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5D2-0A44-47B0-8074-D3FCA3D9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81FC-7266-41A0-95F2-E8B6E0C028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5676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06:36:11Z</dcterms:created>
  <dc:creator>cheng shunyi</dc:creator>
  <dc:description/>
  <dc:language>en-US</dc:language>
  <cp:lastModifiedBy>lierhu</cp:lastModifiedBy>
  <dcterms:modified xsi:type="dcterms:W3CDTF">2009-07-28T06:45:02Z</dcterms:modified>
  <cp:revision>1</cp:revision>
  <dc:subject/>
  <dc:title>PowerPoint 演示文稿</dc:title>
</cp:coreProperties>
</file>