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D33-F6B8-4160-80C1-7515526C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564-3EF2-4BD4-B048-CF1F18CE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E81-FD0F-4D62-88DC-C5F45E44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C1C-A191-4C1D-8ED8-E269A532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EA1-D413-48F4-9306-A1549B62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152-8B31-4444-9B6C-1E283E0B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210-A393-43D8-8ACF-0BF38EFC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260-9980-40B2-8997-E605A2C4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092-D4D4-44DD-A70C-D4E3BE28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AC0-BA1D-46B1-8880-1C28E2F8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EE4-F3C0-4406-A6C3-5046A72E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A66-8579-4DD9-BD65-8D003AF3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648C-5066-4C43-8048-2F2868FD9CDC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5200" y="2903400"/>
            <a:ext cx="18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140360" y="3357720"/>
            <a:ext cx="576000" cy="468000"/>
            <a:chOff x="4140360" y="3357720"/>
            <a:chExt cx="576000" cy="468000"/>
          </a:xfrm>
        </p:grpSpPr>
        <p:sp>
          <p:nvSpPr>
            <p:cNvPr id="43" name="Document"/>
            <p:cNvSpPr/>
            <p:nvPr/>
          </p:nvSpPr>
          <p:spPr>
            <a:xfrm flipH="1" flipV="1">
              <a:off x="4140360" y="3357720"/>
              <a:ext cx="576000" cy="4680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85720" y="351900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85720" y="355896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85720" y="360000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85720" y="364032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85720" y="367776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85720" y="371772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85720" y="3758760"/>
              <a:ext cx="4669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23:42:54Z</dcterms:created>
  <dc:creator>tyokoyama</dc:creator>
  <dc:description/>
  <dc:language>en-US</dc:language>
  <cp:lastModifiedBy>HUEHARA1317</cp:lastModifiedBy>
  <dcterms:modified xsi:type="dcterms:W3CDTF">2007-02-19T08:38:59Z</dcterms:modified>
  <cp:revision>336</cp:revision>
  <dc:subject/>
  <dc:title>SenSage紹介資料</dc:title>
</cp:coreProperties>
</file>