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C179A-6CD6-49A2-AA02-D9083307C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4680" y="695160"/>
            <a:ext cx="46371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69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9B8-F6E6-4D2A-8D86-7FC2CC5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556-AC21-4870-B54E-9255CDA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65D-A2B7-4F8C-8589-13FCBCA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360-00A0-48B9-A918-A90ECFB6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067-C124-4D17-988E-1FBAA002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3BA-E3B8-4EFD-9BDF-50F026F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4B0-9427-4F69-8EAB-6BD3191A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D6C-FD68-46D5-B49E-6D1CE3FD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4BC-99F9-4E19-8E6E-DC8B30B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036-7634-4BEF-99E6-0703FB4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72F-B571-47B0-85EC-50BCA4C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F43-7C58-41A0-A0CD-22BE006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pdated 10/7/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B844-5CAD-4B22-8F1D-E892A1A93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533520"/>
            <a:ext cx="7772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9480" y="1220760"/>
          <a:ext cx="800280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20760"/>
                    <a:ext cx="800280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D</cp:lastModifiedBy>
  <dcterms:modified xsi:type="dcterms:W3CDTF">2005-10-12T17:38:02Z</dcterms:modified>
  <cp:revision>3</cp:revision>
  <dc:subject/>
  <dc:title>No Slide Title</dc:title>
</cp:coreProperties>
</file>