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C76-4DF0-41C2-831A-FB376B1A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8D7-FD60-4E94-9A5B-9A4635CC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7C49-E9EB-4B8C-895B-C7E68203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9E2D-0319-4D06-8B87-FE3FCEC0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F5B-849A-488E-8101-0C209217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CAA-9159-4BCA-8C19-BD794F2B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32F9-7CC8-4903-870A-2ED84AD6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A646-C948-41CE-B880-C179F8F8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F89-20F1-4D45-B5B4-CDF05A07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20C-14D4-4EBC-A0C4-C16AEE3D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BB1-C55D-4202-BF6E-23810569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3F8-9A86-402C-B501-BC8A257B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6B6C-7A3F-4A7C-A9CE-E02EE601B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22860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define foo(message, test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{ if (!(test)) return; } while 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23:23:17Z</dcterms:created>
  <dc:creator>Danny Faught</dc:creator>
  <dc:description/>
  <dc:language>en-US</dc:language>
  <cp:lastModifiedBy>Danny Faught</cp:lastModifiedBy>
  <dcterms:modified xsi:type="dcterms:W3CDTF">2002-12-26T23:31:45Z</dcterms:modified>
  <cp:revision>1</cp:revision>
  <dc:subject/>
  <dc:title>Slide 1</dc:title>
</cp:coreProperties>
</file>