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95D-5C33-4B80-AA91-4265B7BC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A3F-7382-4F85-976A-E98E3A9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03B-0B7F-4BDA-9C5E-A6862B3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5C3-B91C-41B6-9074-0EC3251B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EDF-2027-4847-9C13-894B61F2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686-7BF4-418E-824A-956C69FF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99F-9226-424D-8233-084E50D3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0AA-E1E7-4238-847A-D1B52C6C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044-79A6-4506-830F-6D4A1B88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7DF-4D9B-46CF-92E3-A7C5DBC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351-2AB5-4CD4-8E3F-2FD9A77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E20-FD3B-4EFB-897F-D65CBDB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B7B-39F9-40EE-99AD-3A65CB00E774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312840" y="601560"/>
            <a:ext cx="22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is a text fi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21:39:34Z</dcterms:created>
  <dc:creator>Regina</dc:creator>
  <dc:description/>
  <dc:language>en-US</dc:language>
  <cp:lastModifiedBy>Regina</cp:lastModifiedBy>
  <dcterms:modified xsi:type="dcterms:W3CDTF">2012-12-21T22:53:13Z</dcterms:modified>
  <cp:revision>21</cp:revision>
  <dc:subject/>
  <dc:title>PowerPoint Presentation</dc:title>
</cp:coreProperties>
</file>