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D1B-41B1-4A7A-BBAA-9FFB4DAE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E44-B4D9-42CB-98BC-98EC0DDD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ECE-D921-41AE-B058-C13EDD86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2B3-1356-44A0-96FC-BBB1DA3D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9B8-AC2C-462D-A592-D3C1B86C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3CE-E897-451E-8F5F-8F00B53A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710-5E74-4D0B-80C4-74926299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318-2D9F-44CC-8CA7-E126591B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288-4736-4702-8BE2-08DA32A5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54A-294B-4478-B497-63066B9F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9D3-F4A4-4CB4-A024-49A37A0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9D2-B142-446D-9740-1291DB82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7973-E528-4FF7-88DD-F3119B90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gears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gif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icrosoft office default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5638680"/>
            <a:ext cx="1228680" cy="723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609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lides were originally made in Microsoft Office PowerPoint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 on jumping (music vide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mpg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55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domino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wmv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528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o monty pyth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avi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584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ver win (music vide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avi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024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pping han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av format s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icrosoft office default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74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 rabbit so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mp3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519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ncan sheik – barely breat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wav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7222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2:50:50Z</dcterms:created>
  <dc:creator>Zax</dc:creator>
  <dc:description/>
  <dc:language>en-US</dc:language>
  <cp:lastModifiedBy>Zax</cp:lastModifiedBy>
  <dcterms:modified xsi:type="dcterms:W3CDTF">2008-09-10T23:27:25Z</dcterms:modified>
  <cp:revision>9</cp:revision>
  <dc:subject/>
  <dc:title>Slide 1</dc:title>
</cp:coreProperties>
</file>