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erif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Bitstream Vera Serif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Bitstream Vera Serif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Bitstream Vera Serif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AF926-9E8A-4338-A419-5F806F40A6C8}" type="slidenum">
              <a:rPr b="0" lang="en-GB" sz="14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2056-6970-4001-8AC1-F856DDB3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1130-0AB2-49BB-886F-C9E2D2BB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2544-CF4D-4FEB-A6DF-4D49C98B9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99D7-C355-4C16-B2C6-D3869C511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870A-B5F2-44D4-8002-0B0E1B34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D1D0-8917-45EE-AA83-DD791958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3361-5941-4E61-B68D-1F3BC6B4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E85C-1786-4218-B272-F0C34D85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1701-3897-4DD6-BFE1-0C8EF907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80AC-D2BB-4666-9C72-EA4657B6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A2BF-0BE9-4C0B-B4EA-EDB91D89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0966-839B-4538-87D4-CC65399F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1840" indent="-285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9384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725480" indent="-214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15748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15748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15748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Bitstream Vera Serif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Bitstream Vera Serif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Bitstream Vera Serif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343EA-FF61-4582-8AD6-5393A5FC62A9}" type="slidenum">
              <a:rPr b="0" lang="en-GB" sz="14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0" y="3657600"/>
            <a:ext cx="2286000" cy="1143000"/>
          </a:xfrm>
          <a:prstGeom prst="roundRect">
            <a:avLst>
              <a:gd name="adj" fmla="val 139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