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E67-4E61-4107-9211-1FF99A00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A1A-9810-4E01-954B-D04645D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9F9-D126-43C6-9270-D0ACBF0A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47A-C043-4287-93A1-B7F615BF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2843-D554-415D-9D8E-E1A82D9A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BA26-C77F-48C8-BA1C-D6FBF000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F584-EADE-4EC6-915B-72BA613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6D64-79CD-447D-A5BC-6EC32E21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9981-DA68-4BF7-A3DA-611B298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06B-DAF9-4307-9115-010785CC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0CDF-E132-4AE1-A523-DD464E7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16E-2D04-4A13-B625-8C01603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08F0-3AA5-4CDF-B613-3712397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B980-EABC-46E0-9563-2ADA8B5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DEA6-B96A-4328-9BC1-E572775E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21FD-783C-40B6-9BDE-0310E15F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726-5E4C-44FF-B2AA-09245012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9412-E1CE-40CE-AB0A-AFAA1BA0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C9D2-BF22-4AFB-B500-E0DE0E5F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C662-30C9-4C35-8F71-0B780D5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282E-A203-4CEE-B62B-2CE8AEA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C752-A3F9-4763-97E5-D26A7E22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736-D389-4285-986C-49A69A1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853B-27C5-4FFC-B94A-451E38BB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1693-3DB3-4507-9C7A-8633F0B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EC30-06CF-4AE9-82E1-ACAA677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9C43-A9C0-4543-B3E2-F014706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1212-E3E9-404A-9C68-F1A99ECE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37CE-D2F7-42DC-B1D7-F560DEAC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F6F8-CC11-44A3-A58F-91D2F411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B629-860D-4E2A-ACD8-C350D928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8503-F52F-414B-9CDF-89E5756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5AC7-7BD7-4D35-BB9D-D1DA643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C03-AC29-4246-A75B-69B4F4AE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456BE-39A4-4A81-B50B-8FB073F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23D1-93A0-4D24-B31A-4A03D795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4FA7-F1FE-4D3A-ACE8-67E25A0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B0C7-7E99-4486-8FDB-E36245A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8790-B903-4F49-9387-D91E690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E665-C132-4EDB-9CE5-B63DD81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A5DD-6232-4CFD-844C-D3933CEC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2F59-B5DF-466A-A638-74A0DE79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0650-B0DF-4A7C-8A74-D6F476C5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BFDD-DFE8-433A-A9D9-5F484E88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888-1171-4AE5-8FBB-AEEB8DB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00B9-0F34-474E-A4EF-B4E9AF44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A255-59F2-4932-9D54-05D3819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D046-494A-4EB5-9F33-245B094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C6FE-4465-4F29-A8B8-4007D43F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60B7-92C6-4FD3-8801-8ACAD765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E8F8-D384-44CB-8813-8334EADD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F942-22BF-4D19-909B-724CCFD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AF82-2FDA-433A-BC76-6E078C9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AD59-6F40-4B70-9CF0-5A8F4F3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594E-DA88-4153-BF38-38A25164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06C-D2C1-4DBF-8B95-52FA4E9C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89C01-3593-4576-ABC1-08CC2179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64B7-3E53-4621-BBC9-AD08A536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F8A8-9282-4E06-A486-5AA1B52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C2CB-9CF2-4D6F-B0EC-5145B3A3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C5B2-DCC7-4724-9D4E-66362E2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A9A5-8C7B-4EE9-A645-F7C44C27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6E0E-7F62-443C-9C5A-DFCE29D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39F07-5724-4560-91D2-A25F69C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E239-FA0E-4ADA-BE3B-D1E61AE2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CC509-3AF7-4934-8866-458A255F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657-209E-4EA3-9AF1-8C90827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B1A4-360A-465B-B190-33878A77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44D5-AF9D-48DF-BAC3-4BCF13CE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32DFF-464E-4D69-920C-CE3276D0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8608-6D9F-4FE7-AA3E-12BFC993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4968-611A-435C-A505-EC72E9E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C6AD-1BD7-4FC4-A6E8-B396B80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20E10-0F6D-4094-ABBE-61CF370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8C50-345B-47F1-B466-FD062ED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7799-31B3-486B-8301-1E1D9402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59FB-63B6-4F04-9E55-B87323C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646-D695-498F-AA58-D6951CB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A2DC-19DD-4294-8556-7314199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830B-9993-4AB5-BB5D-33C5400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8F59-F509-4274-B49B-209B1F0B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0C6C-6B14-46B2-B0E3-7F6E6318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327FD-960F-405D-94BF-2BDABB5D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B849-4F92-4558-A92E-8F31473C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9BA8-BDE3-4E2F-9187-7765788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03F2B-4E57-4BD3-8423-142F889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E9DE-BD9C-47FB-B409-1D09453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ABA7-E96D-4513-B299-80E46DB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6DB-7C5E-4FA5-8B3A-61621DE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C3500-E471-4364-B3D8-61C0599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D55FE-09DA-4852-AE50-81C8086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12724-5886-44C3-9982-81BADD1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185B-FCD7-47DF-9629-69759ED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ACCE-F40D-46B6-AD97-3D9BD993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328F-18C1-4C04-ACF9-FC9D2771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4A88-3BBD-4F5E-9ED9-5D04277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0851-6BBF-40B9-838D-6D8867D97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62EC6-C38C-467D-A4EF-EFAFB3FB49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21D4-CDA8-4503-B65A-7AAC851FA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E0D65-44A7-4A6E-A69B-30CE11EFB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D7097-E2CD-416C-8808-125A917F41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936B1-51FA-4DEA-A67A-1762310D49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2920" y="2160720"/>
            <a:ext cx="9069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328A-1A90-4664-8142-FAA98909CD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32A5-4A6A-4E24-9EF6-3F417B729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80"/>
                </a:solidFill>
                <a:latin typeface="Arial"/>
              </a:rPr>
              <a:t>Header Title text</a:t>
            </a:r>
            <a:endParaRPr b="0" lang="en-US" sz="41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lide content tex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22:56:02Z</dcterms:created>
  <dc:creator/>
  <dc:description/>
  <dc:language>en-US</dc:language>
  <cp:lastModifiedBy/>
  <dcterms:modified xsi:type="dcterms:W3CDTF">2012-06-14T23:13:37Z</dcterms:modified>
  <cp:revision>2</cp:revision>
  <dc:subject/>
  <dc:title/>
</cp:coreProperties>
</file>