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E557-42FA-4A67-9FC9-171A61DA8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08B6-2147-4A3C-A8B1-477B94472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84F4-F16C-4F97-BE06-CB02F15DF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75A-C704-4343-AC85-6B5E13CA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E0F-0BC9-4C2F-9FEC-0CF5736D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B0A-06BA-4325-AE5D-5A07E0D3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9B7-434A-4B04-A90E-4DF4DF56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FB6-73FD-4AEB-A4A0-143A6DC4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201-F876-4BAF-B9B3-AD0D8704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3C8-96E9-41FF-8090-81FC7377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4C0-ECAD-48F8-82EC-6A08D7FD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71B-3544-4E9F-AD13-6E74574D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F10-2BC6-4FAF-A005-5771EB83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5AA4-D44C-46F3-990B-3FFF2ED3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454-412A-45BF-932D-C3EA11E1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D095-CED0-446E-9F48-B8F9D53C6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Mickey Chopra MD, P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ef Health UNIC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ight Arrow 4"/>
          <p:cNvSpPr/>
          <p:nvPr/>
        </p:nvSpPr>
        <p:spPr>
          <a:xfrm>
            <a:off x="3505320" y="266688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ight Arrow 5"/>
          <p:cNvSpPr/>
          <p:nvPr/>
        </p:nvSpPr>
        <p:spPr>
          <a:xfrm>
            <a:off x="4800600" y="2819520"/>
            <a:ext cx="380880" cy="3045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Arrow 6"/>
          <p:cNvSpPr/>
          <p:nvPr/>
        </p:nvSpPr>
        <p:spPr>
          <a:xfrm>
            <a:off x="4800600" y="297180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685800"/>
          <a:ext cx="8300880" cy="3521160"/>
        </p:xfrm>
        <a:graphic>
          <a:graphicData uri="http://schemas.openxmlformats.org/drawingml/2006/table">
            <a:tbl>
              <a:tblPr/>
              <a:tblGrid>
                <a:gridCol w="1066680"/>
                <a:gridCol w="579600"/>
                <a:gridCol w="1020600"/>
                <a:gridCol w="625680"/>
                <a:gridCol w="745920"/>
                <a:gridCol w="609840"/>
                <a:gridCol w="1066680"/>
                <a:gridCol w="117360"/>
                <a:gridCol w="141480"/>
                <a:gridCol w="1417680"/>
                <a:gridCol w="909360"/>
              </a:tblGrid>
              <a:tr h="1600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te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ona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f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lesc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212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um of Care!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Planning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th Spac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Right Arrow 10"/>
          <p:cNvSpPr/>
          <p:nvPr/>
        </p:nvSpPr>
        <p:spPr>
          <a:xfrm>
            <a:off x="1600200" y="129528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11"/>
          <p:cNvSpPr/>
          <p:nvPr/>
        </p:nvSpPr>
        <p:spPr>
          <a:xfrm>
            <a:off x="3276720" y="129528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ight Arrow 12"/>
          <p:cNvSpPr/>
          <p:nvPr/>
        </p:nvSpPr>
        <p:spPr>
          <a:xfrm>
            <a:off x="4572000" y="129528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ight Arrow 13"/>
          <p:cNvSpPr/>
          <p:nvPr/>
        </p:nvSpPr>
        <p:spPr>
          <a:xfrm>
            <a:off x="5867280" y="1295280"/>
            <a:ext cx="381240" cy="3049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ight Arrow 17"/>
          <p:cNvSpPr/>
          <p:nvPr/>
        </p:nvSpPr>
        <p:spPr>
          <a:xfrm>
            <a:off x="5105520" y="3352680"/>
            <a:ext cx="1066680" cy="60984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ly marria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ly pregnanc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girls &lt;20 years in India gave birth to at least one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1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ll deliveries occur in these young moth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FHS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nal age at childbirth &lt; 20 years, translates into as much as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48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cess risk of neonatal mortality, compared to a higher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tion of NNM possible if adolescent pregnancies are a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y of  43,550 women in 10 facilities (ICMR) showed an MMR among adolescents of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6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100,000 live births compared with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4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100,000 births for the age 20-3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s [Krishna, 199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3"/>
          <p:cNvSpPr/>
          <p:nvPr/>
        </p:nvSpPr>
        <p:spPr>
          <a:xfrm>
            <a:off x="4114800" y="60948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9:12:46Z</dcterms:created>
  <dc:creator/>
  <dc:description/>
  <dc:language>en-US</dc:language>
  <cp:lastModifiedBy/>
  <dcterms:modified xsi:type="dcterms:W3CDTF">2011-04-27T09:12:59Z</dcterms:modified>
  <cp:revision>1</cp:revision>
  <dc:subject/>
  <dc:title/>
</cp:coreProperties>
</file>