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6624720"/>
            <a:ext cx="360" cy="146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E86-FB4C-40DC-B420-C2AF72A2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EFA-054F-4F2C-9436-28DF797F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255-FA50-4081-932E-7C162205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FDF-B9FD-4AA9-854D-597124DA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EFF-4B76-43BF-889D-40423AB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DD9-176F-424A-A6D8-C20EC84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88A-27E4-416D-B900-6FAD31EC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57D-8D22-47AB-B592-F4D3952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6A3-A77E-45F6-A97A-C229EC55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7F3-60CA-470A-9C56-38E667C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67C-6FAB-4A59-AB19-B57B7CE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EA9-1EAF-4721-882E-3C3BD36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01FC29-CB56-48D7-963E-47D7A3697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5477040" y="4572000"/>
            <a:ext cx="137160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5477040" y="5791320"/>
            <a:ext cx="137160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402160" y="52578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. . . . . . .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AutoShape 4"/>
          <p:cNvCxnSpPr>
            <a:stCxn id="51" idx="1"/>
            <a:endCxn id="47" idx="2"/>
          </p:cNvCxnSpPr>
          <p:nvPr/>
        </p:nvCxnSpPr>
        <p:spPr>
          <a:xfrm flipV="1">
            <a:off x="1763640" y="4952880"/>
            <a:ext cx="3713760" cy="133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2" name="AutoShape 5"/>
          <p:cNvCxnSpPr>
            <a:stCxn id="51" idx="1"/>
            <a:endCxn id="49" idx="1"/>
          </p:cNvCxnSpPr>
          <p:nvPr/>
        </p:nvCxnSpPr>
        <p:spPr>
          <a:xfrm>
            <a:off x="1763640" y="4965840"/>
            <a:ext cx="3638880" cy="522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3" name="AutoShape 6"/>
          <p:cNvCxnSpPr>
            <a:stCxn id="51" idx="1"/>
            <a:endCxn id="48" idx="2"/>
          </p:cNvCxnSpPr>
          <p:nvPr/>
        </p:nvCxnSpPr>
        <p:spPr>
          <a:xfrm>
            <a:off x="1763640" y="4965840"/>
            <a:ext cx="3713760" cy="1206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1" name="AutoShape 7"/>
          <p:cNvSpPr/>
          <p:nvPr/>
        </p:nvSpPr>
        <p:spPr>
          <a:xfrm>
            <a:off x="1763640" y="4508640"/>
            <a:ext cx="1600200" cy="91440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753200" y="35971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323240" y="3673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x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88816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88816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4920" y="1752480"/>
            <a:ext cx="8381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an</cp:lastModifiedBy>
  <dcterms:modified xsi:type="dcterms:W3CDTF">2007-07-30T09:39:28Z</dcterms:modified>
  <cp:revision>2</cp:revision>
  <dc:subject/>
  <dc:title>PowerPoint Presentation</dc:title>
</cp:coreProperties>
</file>