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043-4D41-44AC-8011-E6E4F346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0FE-2EA8-48F9-A1CD-626B3B0C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8F8-1E55-4F4D-9230-4FD391E5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170-B39C-4425-89D3-1B931C42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6D9-BCE0-4110-9930-F2F657E8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936-F0B5-4E61-9020-79903B90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70D-59A2-4312-8AC5-38FBA15D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A02-8DBE-4F11-9E04-48DF2A92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AD2-7009-48D8-815A-9CF0E82D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403-0733-44D6-ADAB-88374A3A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CE8-2016-47CE-BD8E-C4B46F33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BD4-3333-4B7A-91BE-12C0D6FB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A46A-8E9F-4632-AC94-E9857ADA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4036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ash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476280"/>
            <a:ext cx="28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4036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36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53836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40360" y="2610000"/>
            <a:ext cx="3276720" cy="169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4036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4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23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4036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56536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0360" y="2610000"/>
            <a:ext cx="3276720" cy="169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4036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4036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w/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23000" y="1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40360" y="40464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253836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0360" y="2610000"/>
            <a:ext cx="3276720" cy="169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4697280"/>
            <a:ext cx="327672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879999995231628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6360" y="3933720"/>
            <a:ext cx="3276360" cy="17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ld Rev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476280"/>
            <a:ext cx="36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20:00:28Z</dcterms:created>
  <dc:creator>CCEPC7</dc:creator>
  <dc:description/>
  <dc:language>en-US</dc:language>
  <cp:lastModifiedBy>Christian Günther</cp:lastModifiedBy>
  <dcterms:modified xsi:type="dcterms:W3CDTF">2004-10-05T10:31:35Z</dcterms:modified>
  <cp:revision>13</cp:revision>
  <dc:subject/>
  <dc:title>Folie 1</dc:title>
</cp:coreProperties>
</file>