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F55-D5A8-4B29-ADFF-05005144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542-5029-4971-AB11-E4A35656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AA5-B7FE-4537-B0A9-C0C8EB35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0B9-D274-4E52-B681-4F1337B5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BD8-05F8-4BD8-B4E9-899488A1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29B-8C38-4002-A8AA-499A789E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94C-A7E1-498E-B3D8-429AC442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8BB-C0CF-43D4-A36C-9357153E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544-691E-4589-8CE6-803B100B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6AA-95CB-4B10-99E9-64E8651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04D-313B-49BC-BCC7-0BAC3A1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C48-D1D4-4DD0-B8E5-6B540FB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673A-D169-449D-BA31-1F07F8FC6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Box 5"/>
          <p:cNvSpPr/>
          <p:nvPr/>
        </p:nvSpPr>
        <p:spPr>
          <a:xfrm>
            <a:off x="175248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and white area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yovai</cp:lastModifiedBy>
  <dcterms:modified xsi:type="dcterms:W3CDTF">2010-06-29T06:52:55Z</dcterms:modified>
  <cp:revision>5</cp:revision>
  <dc:subject/>
  <dc:title>PowerPoint Presentation</dc:title>
</cp:coreProperties>
</file>