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96D-3A0A-4596-A7F0-3B907D72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35D-DE2E-424C-8423-37EF76A3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F84-8929-427C-BD02-C883F5B0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16E-9D61-4DB0-B3DE-75D7BF3C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BC3-F872-49D8-9BA1-9643AEEC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A9C-1F21-4467-8C15-42E1F0DC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858-DB8C-4218-A650-9E5F62E7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999-DBD6-4E1A-BC20-B63FEF03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21E-482E-499C-8460-3EE22D83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12C-F968-402F-AEBE-9DC8EBC5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007-A33A-4FA4-A920-F737FB0B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C86-3949-424D-9BE2-CC6344B5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89B5-A045-4063-98B7-5A4898656C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82600" y="2084400"/>
          <a:ext cx="5645160" cy="409680"/>
        </p:xfrm>
        <a:graphic>
          <a:graphicData uri="http://schemas.openxmlformats.org/drawingml/2006/table">
            <a:tbl>
              <a:tblPr/>
              <a:tblGrid>
                <a:gridCol w="560520"/>
                <a:gridCol w="4627440"/>
                <a:gridCol w="185760"/>
                <a:gridCol w="271440"/>
              </a:tblGrid>
              <a:tr h="369720">
                <a:tc>
                  <a:txBody>
                    <a:bodyPr lIns="72000" rIns="72000" tIns="432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2000" rIns="72000" tIns="432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is testing a test tex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f9e"/>
                    </a:solidFill>
                  </a:tcPr>
                </a:tc>
                <a:tc gridSpan="2">
                  <a:txBody>
                    <a:bodyPr lIns="72000" rIns="72000" tIns="432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ecf9e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80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00080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10:42Z</dcterms:created>
  <dc:creator>Fridrich Strba</dc:creator>
  <dc:description/>
  <dc:language>en-US</dc:language>
  <cp:lastModifiedBy>Fridrich Strba</cp:lastModifiedBy>
  <dcterms:modified xsi:type="dcterms:W3CDTF">2009-03-19T15:11:51Z</dcterms:modified>
  <cp:revision>1</cp:revision>
  <dc:subject/>
  <dc:title>Slide 1</dc:title>
</cp:coreProperties>
</file>