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D73EF-0C05-4783-8356-EEE215FAB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ldImg"/>
          </p:nvPr>
        </p:nvSpPr>
        <p:spPr>
          <a:xfrm>
            <a:off x="1143000" y="685800"/>
            <a:ext cx="4572000" cy="3429000"/>
          </a:xfrm>
          <a:prstGeom prst="rect">
            <a:avLst/>
          </a:prstGeom>
          <a:ln w="0">
            <a:noFill/>
          </a:ln>
        </p:spPr>
      </p:sp>
      <p:sp>
        <p:nvSpPr>
          <p:cNvPr id="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C run times are especially taxed with each new process.  Not only does the geometry increase as per Moore’s Law, but we’re also increasing the total number of layers, particular with the addition of more and more metal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further than that, even the base line checks are increasing due to RET constraints, DFM requirements, and more difficult process manufacturing issues.  Not only does this mean more rules are needed, but the number of SVRF lines required to accurately describe them also is increasi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8EAE1-01C6-407A-9A45-A6F3778E3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300BD-07EF-40C1-A55A-0E7F58485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E4EAB-349F-4C14-9345-1D27799E7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7BD18-6EFF-497B-892B-7895B1357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76A57-D71B-4465-855B-F6DDDF255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29B6B-D10D-4E92-99BF-5F1786276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52582-199D-448E-AC68-DBC8E25FB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E479C-957D-41ED-9FFF-58FE723CA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2628B-72C4-4A72-B164-C9D2A866A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B5807-AAC9-42D4-B2DA-52D1E7627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A6983-5E91-4D99-A707-9B342DD97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971C2-992A-4762-ACE6-4781D176A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8EE4D-B9BE-437E-BF2B-50BAF64020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1476360" y="1268280"/>
          <a:ext cx="6156360" cy="4426200"/>
        </p:xfrm>
        <a:graphic>
          <a:graphicData uri="http://schemas.openxmlformats.org/presentationml/2006/ole">
            <p:oleObj progId="Excel.Sheet.12" r:id="rId1" spid="">
              <p:embed/>
              <p:pic>
                <p:nvPicPr>
                  <p:cNvPr id="49" name="" descr=""/>
                  <p:cNvPicPr/>
                  <p:nvPr/>
                </p:nvPicPr>
                <p:blipFill>
                  <a:blip r:embed="rId2"/>
                  <a:stretch/>
                </p:blipFill>
                <p:spPr>
                  <a:xfrm>
                    <a:off x="1476360" y="1268280"/>
                    <a:ext cx="6156360" cy="44262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8T13:53:51Z</dcterms:created>
  <dc:creator>MGC</dc:creator>
  <dc:description/>
  <dc:language>en-US</dc:language>
  <cp:lastModifiedBy>MGC</cp:lastModifiedBy>
  <dcterms:modified xsi:type="dcterms:W3CDTF">2006-07-08T14:12:23Z</dcterms:modified>
  <cp:revision>1</cp:revision>
  <dc:subject/>
  <dc:title>Slide 1</dc:title>
</cp:coreProperties>
</file>