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49128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1430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1430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4912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4912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4912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49128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143000"/>
            <a:ext cx="3941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491280"/>
            <a:ext cx="8076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28080" y="584208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95440" y="1144440"/>
            <a:ext cx="77850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52"/>
                </a:solidFill>
                <a:latin typeface="Harmony Display"/>
              </a:rPr>
              <a:t>Click to edit the title text format</a:t>
            </a: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1430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Click to edit the outline text format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Second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43000" indent="-228600">
              <a:lnSpc>
                <a:spcPct val="90000"/>
              </a:lnSpc>
              <a:spcBef>
                <a:spcPts val="13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Third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3" marL="1600200" indent="-228600">
              <a:lnSpc>
                <a:spcPct val="90000"/>
              </a:lnSpc>
              <a:spcBef>
                <a:spcPts val="1301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Four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4" marL="2057400" indent="-228600">
              <a:lnSpc>
                <a:spcPct val="90000"/>
              </a:lnSpc>
              <a:spcBef>
                <a:spcPts val="13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Fif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5" marL="2057400" indent="-2286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Six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lvl="6" marL="2057400" indent="-2286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852"/>
                </a:solidFill>
                <a:latin typeface="Harmony Display"/>
              </a:rPr>
              <a:t>Seventh Outline Level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" name=""/>
          <p:cNvSpPr/>
          <p:nvPr/>
        </p:nvSpPr>
        <p:spPr>
          <a:xfrm>
            <a:off x="6369480" y="6613560"/>
            <a:ext cx="141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armony Display"/>
              </a:rPr>
              <a:t>Telstra in confi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07800" y="66135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1E1-07EF-4083-8415-3BD9542B0CB0}" type="slidenum">
              <a:rPr b="0" lang="en-US" sz="1000" spc="-1" strike="noStrike">
                <a:solidFill>
                  <a:srgbClr val="000000"/>
                </a:solidFill>
                <a:latin typeface="Harmony Displa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Telstra Mobile Proposal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001852"/>
                </a:solidFill>
                <a:latin typeface="Harmony Display"/>
              </a:rPr>
              <a:t>The Institute of Chartered Accountants</a:t>
            </a:r>
            <a:endParaRPr b="1" lang="en-US" sz="3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Harmony Display"/>
              </a:rPr>
              <a:t>Corporate Net Rate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Harmony Display"/>
              </a:rPr>
              <a:t>January 2005</a:t>
            </a: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5" name=""/>
          <p:cNvSpPr/>
          <p:nvPr/>
        </p:nvSpPr>
        <p:spPr>
          <a:xfrm>
            <a:off x="564840" y="5129280"/>
            <a:ext cx="18388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rmony Text"/>
              </a:rPr>
              <a:t>Proposed 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armony Text"/>
              </a:rPr>
              <a:t>Matthew Th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52"/>
                </a:solidFill>
                <a:latin typeface="Harmony Display"/>
              </a:rPr>
              <a:t>Current Situation</a:t>
            </a: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Institute of Chartered Accountants currently have 31 mobiles with 3 different providers (Telstra, Optus &amp; Vodafone)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he average spend per user is approximately $95 per month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he combined group spend is approximately $2,900 per month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he Institute of Chartered Accountants are currently reviewing their mobile spend on all 3 providers, with the view of having one provider for all mobile service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elstra currently supplies Fixed line service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52"/>
                </a:solidFill>
                <a:latin typeface="Harmony Display"/>
              </a:rPr>
              <a:t>Proposed Solution</a:t>
            </a:r>
            <a:endParaRPr b="1" lang="en-US" sz="32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852"/>
                </a:solidFill>
                <a:latin typeface="Harmony Display"/>
              </a:rPr>
              <a:t>Telstra would like to propose the following solution to 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188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1852"/>
                </a:solidFill>
                <a:latin typeface="Harmony Display"/>
              </a:rPr>
              <a:t>           </a:t>
            </a:r>
            <a:r>
              <a:rPr b="1" lang="en-AU" sz="2000" spc="-1" strike="noStrike">
                <a:solidFill>
                  <a:srgbClr val="001852"/>
                </a:solidFill>
                <a:latin typeface="Harmony Display"/>
              </a:rPr>
              <a:t>The Institute of Chartered Accountants: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0320" indent="-282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Corporate Net Rate pricing with the following benefits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Negotiated Pricing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Per Second Billing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Reduced Flagfall charges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Monthly Loyalty Credits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Grouping Flexibility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Reduced Call Rate Bonuses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2" marL="1175400" indent="-226080">
              <a:lnSpc>
                <a:spcPct val="90000"/>
              </a:lnSpc>
              <a:spcBef>
                <a:spcPts val="799"/>
              </a:spcBef>
              <a:buClr>
                <a:srgbClr val="fe7d19"/>
              </a:buClr>
              <a:buFont typeface="Harmony Displ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Combine with your Fixed Line for greater Savings on your Telstra services (It is cheaper to call a Telstra mobile from a fixed line than a mobile on another network).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Corporate Net Rate Bonuses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8240" indent="-285480">
              <a:lnSpc>
                <a:spcPct val="70000"/>
              </a:lnSpc>
              <a:spcBef>
                <a:spcPts val="700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Receive one of these great bonus Options Immediately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: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7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On-Net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2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all ANY Telstra mobile at ANY time within Australia for only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4 cents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 per 30 seconds                                  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(calls charges per 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lstra Mobile Net: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r>
              <a:rPr b="0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Call any Telstra mobile at any time 8c per 30 seconds.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lvl="2" marL="11872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Any Mobile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C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all ANY mobile on ANY network within Australia for only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11 cents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per 30 seconds (calls per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Business Hours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all ANY mobile or ANY fixed line within Australia for only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15 cents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 per 30 seconds (calls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harged per 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lvl="2" marL="11872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1852"/>
                </a:solidFill>
                <a:uFillTx/>
                <a:latin typeface="Harmony Display"/>
              </a:rPr>
              <a:t>Intra – Account:</a:t>
            </a:r>
            <a:endParaRPr b="1" lang="en-US" sz="16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6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Call ANY mobile within your mobile fleet within Australia for the first 5 minutes </a:t>
            </a:r>
            <a:r>
              <a:rPr b="1" lang="en-AU" sz="1400" spc="-1" strike="noStrike">
                <a:solidFill>
                  <a:srgbClr val="001852"/>
                </a:solidFill>
                <a:latin typeface="Harmony Display"/>
              </a:rPr>
              <a:t>free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 then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5 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i="1" lang="en-AU" sz="1400" spc="-1" strike="noStrike">
                <a:solidFill>
                  <a:srgbClr val="001852"/>
                </a:solidFill>
                <a:latin typeface="Harmony Display"/>
              </a:rPr>
              <a:t>cents </a:t>
            </a:r>
            <a:r>
              <a:rPr b="0" lang="en-AU" sz="1400" spc="-1" strike="noStrike">
                <a:solidFill>
                  <a:srgbClr val="001852"/>
                </a:solidFill>
                <a:latin typeface="Harmony Display"/>
              </a:rPr>
              <a:t>per 30 seconds (calls charged per second plus 15 cent flagfall)</a:t>
            </a:r>
            <a:endParaRPr b="1" lang="en-US" sz="14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rporate Free Flagfall:</a:t>
            </a:r>
            <a:r>
              <a:rPr b="1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AU" sz="1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1852"/>
              </a:solidFill>
              <a:latin typeface="Harmony Display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No flagfall to all National calls. (fixed &amp; mobile calls)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0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Corporate Net Rate Bonuses Part 2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68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US" sz="1500" spc="-1" strike="noStrike">
                <a:solidFill>
                  <a:srgbClr val="001852"/>
                </a:solidFill>
                <a:latin typeface="Harmony Display"/>
              </a:rPr>
              <a:t> </a:t>
            </a:r>
            <a:endParaRPr b="1" lang="en-US" sz="1500" spc="-1" strike="noStrike">
              <a:solidFill>
                <a:srgbClr val="001852"/>
              </a:solidFill>
              <a:latin typeface="Harmony Display"/>
            </a:endParaRPr>
          </a:p>
          <a:p>
            <a:pPr lvl="2" marL="1187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5736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506880" indent="-188280">
              <a:lnSpc>
                <a:spcPct val="80000"/>
              </a:lnSpc>
              <a:spcBef>
                <a:spcPts val="1001"/>
              </a:spcBef>
              <a:buClr>
                <a:srgbClr val="001852"/>
              </a:buClr>
              <a:buFont typeface="Harmony Displ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1852"/>
                </a:solidFill>
                <a:latin typeface="Harmony Display"/>
              </a:rPr>
              <a:t>Receive the benefits of Credits on your Account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5640" indent="-125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buClr>
                <a:srgbClr val="fe7d1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Monthly Loyalty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Each phone receives a monthly loyalty credit on the 24 month agreement. This credit can either be used to reduce the cost of your bill or to purchase hardware.</a:t>
            </a: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You would receive a $15 credit each month for 24 months on a $70 plan (recommended pla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   </a:t>
            </a: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Multiply this by your 31 services (31 x 15 x 24) and you will receive $11,160 in loyalty credits over the term of the agre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0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1" i="1" lang="en-AU" sz="1800" spc="-1" strike="noStrike">
                <a:solidFill>
                  <a:srgbClr val="ff6600"/>
                </a:solidFill>
                <a:latin typeface="Harmony Display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880" indent="-188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^monthly loyalty credits are paid in installments per service per month over 24 months based on each individual phone commitment .</a:t>
            </a: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r>
              <a:rPr b="0" lang="en-AU" sz="1000" spc="-1" strike="noStrike">
                <a:solidFill>
                  <a:srgbClr val="001852"/>
                </a:solidFill>
                <a:latin typeface="Harmony Display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260280"/>
          <a:ext cx="8076960" cy="5432400"/>
        </p:xfrm>
        <a:graphic>
          <a:graphicData uri="http://schemas.openxmlformats.org/drawingml/2006/table">
            <a:tbl>
              <a:tblPr/>
              <a:tblGrid>
                <a:gridCol w="1619280"/>
                <a:gridCol w="1076040"/>
                <a:gridCol w="1076400"/>
                <a:gridCol w="1076400"/>
                <a:gridCol w="1076400"/>
                <a:gridCol w="1076040"/>
                <a:gridCol w="1076400"/>
              </a:tblGrid>
              <a:tr h="9471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PORATE NET RATE - (24 Month Agreem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LY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LUDED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F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 RATE (per 30 s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ly Loyalty Bo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Month Loyalty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STOWAL 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Hardware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Harmony Display"/>
              </a:rPr>
              <a:t>Flexible Options for Purchasing Hardware: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Monthly Repayment Options: Defer the outright cost of the device by repaying it over a fixed term with no interest. (certain repayment levels apply and some restrictions apply on certain plans.)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Outright Purchasing: Purchase Hardware in full and the cost can be invoiced to the organisation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Delivery: Order direct from Telstra Shop North Sydney and the hardware will be shipped directly to you at no extra charge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Telstra Shop North Sydney has a full Range of the latest mobile products on the market including Blackberry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armony Display"/>
              </a:rPr>
              <a:t> 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852"/>
                </a:solidFill>
                <a:latin typeface="Harmony Display"/>
              </a:rPr>
              <a:t>Why Telstra?</a:t>
            </a:r>
            <a:endParaRPr b="1" lang="en-US" sz="2800" spc="-1" strike="noStrike">
              <a:solidFill>
                <a:srgbClr val="001852"/>
              </a:solidFill>
              <a:latin typeface="Harmony Displa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Telstra has both the largest GSM and CDMA networks in Australia in terms of Network Coverage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Dedicated Account Management team from Telstra and the team at the Telstra Shop North Sydney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Leaders in the latest Wireless Data technologies including Blackberry, Push2Talk, CDMA 1X, Wireless PC card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Convenience of single billing with your fixed line service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Harmony Display"/>
              </a:rPr>
              <a:t>Competitive Pricing with constant reviews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7d19"/>
              </a:buClr>
              <a:buFont typeface="Harmony Displ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1852"/>
                </a:solidFill>
                <a:latin typeface="Harmony Display"/>
              </a:rPr>
              <a:t>Telstra offers solutions for your telecommunication needs, not just competitive pricing.</a:t>
            </a:r>
            <a:endParaRPr b="1" lang="en-US" sz="20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1852"/>
              </a:solidFill>
              <a:latin typeface="Harmony Display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7:02:39Z</dcterms:created>
  <dc:creator>Amardeep Toor</dc:creator>
  <dc:description/>
  <dc:language>en-US</dc:language>
  <cp:lastModifiedBy> </cp:lastModifiedBy>
  <dcterms:modified xsi:type="dcterms:W3CDTF">2005-01-31T22:56:03Z</dcterms:modified>
  <cp:revision>39</cp:revision>
  <dc:subject/>
  <dc:title>PowerPoint Presentation</dc:title>
</cp:coreProperties>
</file>