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5E3-2813-4663-BA52-5BC589238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85BD-B0EA-40AB-AA26-B19F6FB5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1E4E-C8A1-4313-87BE-91357EEE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2136-CABA-4B48-8D4C-FCA3C460F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E5C5-6E48-46F6-A4D4-A89F207C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63E3-2AFC-427E-970F-F9A45D12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FF56-104F-44F3-9590-DC1BAE89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462120"/>
            <a:ext cx="91440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46212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46212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462120"/>
            <a:ext cx="294408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114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46212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462120"/>
            <a:ext cx="9144000" cy="31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6120"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5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6" marL="6120" indent="-6120" algn="ctr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rid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1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ve thanks to the Lord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ur God and Ki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He is good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 is above all things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2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a mighty hand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outstretched arm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2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the life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's been rebor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and 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3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m the rising to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etting sun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erse 3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y the grace of God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ill carry 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love endures forever.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praise.  Sing praise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orus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faithful,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strong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 God is with us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ver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2:40:15Z</dcterms:created>
  <dc:creator>Dan Shepherd</dc:creator>
  <dc:description/>
  <dc:language>en-US</dc:language>
  <cp:lastModifiedBy>Glenn Rymer</cp:lastModifiedBy>
  <dcterms:modified xsi:type="dcterms:W3CDTF">2009-01-24T01:04:54Z</dcterms:modified>
  <cp:revision>20</cp:revision>
  <dc:subject/>
  <dc:title>Freely, Freely</dc:title>
</cp:coreProperties>
</file>