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2262-B216-432D-A207-9C9B5713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6EB4-D989-44EC-A452-27C403BF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AA2C-C38B-42D5-AF00-AFAAAC66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31B0-90D4-44A8-8C9F-F3F59851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E4CD-2F36-45D6-B438-20925F1F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BDAB-AF71-4E74-8000-52A1B055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C530-8100-46A7-96B0-29D79C7E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55AB-AF46-4725-A48B-A1670586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C8CD-D3D7-4EC1-AA32-69CF350F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EED8-9C54-4857-A507-8E12E146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20F6-C78D-4C41-AA7A-36E2C34F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7E5D-7BA6-47A2-816C-56C50C8D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0E76-2B12-4FBC-B18E-F9EFE65B9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Dcol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652840" y="1727280"/>
            <a:ext cx="3838320" cy="4267080"/>
            <a:chOff x="2652840" y="1727280"/>
            <a:chExt cx="3838320" cy="4267080"/>
          </a:xfrm>
        </p:grpSpPr>
        <p:sp>
          <p:nvSpPr>
            <p:cNvPr id="43" name="_s6149"/>
            <p:cNvSpPr/>
            <p:nvPr/>
          </p:nvSpPr>
          <p:spPr>
            <a:xfrm flipH="1" flipV="1">
              <a:off x="3647880" y="3327120"/>
              <a:ext cx="463320" cy="268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6150"/>
            <p:cNvSpPr/>
            <p:nvPr/>
          </p:nvSpPr>
          <p:spPr>
            <a:xfrm>
              <a:off x="2652840" y="2527200"/>
              <a:ext cx="1066680" cy="10670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@2#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6151"/>
            <p:cNvSpPr/>
            <p:nvPr/>
          </p:nvSpPr>
          <p:spPr>
            <a:xfrm flipH="1">
              <a:off x="3647880" y="4127400"/>
              <a:ext cx="463320" cy="266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6152"/>
            <p:cNvSpPr/>
            <p:nvPr/>
          </p:nvSpPr>
          <p:spPr>
            <a:xfrm>
              <a:off x="2652840" y="4127400"/>
              <a:ext cx="1066680" cy="10670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F!@#$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6153"/>
            <p:cNvSpPr/>
            <p:nvPr/>
          </p:nvSpPr>
          <p:spPr>
            <a:xfrm>
              <a:off x="4572000" y="4392720"/>
              <a:ext cx="0" cy="534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6154"/>
            <p:cNvSpPr/>
            <p:nvPr/>
          </p:nvSpPr>
          <p:spPr>
            <a:xfrm>
              <a:off x="4038480" y="4927680"/>
              <a:ext cx="1067040" cy="10666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!@#$&lt;&gt;?:”}{_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6155"/>
            <p:cNvSpPr/>
            <p:nvPr/>
          </p:nvSpPr>
          <p:spPr>
            <a:xfrm>
              <a:off x="5032440" y="4127400"/>
              <a:ext cx="463320" cy="266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6156"/>
            <p:cNvSpPr/>
            <p:nvPr/>
          </p:nvSpPr>
          <p:spPr>
            <a:xfrm>
              <a:off x="5424480" y="4127400"/>
              <a:ext cx="1066680" cy="10670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c80"/>
                  </a:solidFill>
                  <a:latin typeface="Arial"/>
                </a:rPr>
                <a:t>A1g2h3r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6157"/>
            <p:cNvSpPr/>
            <p:nvPr/>
          </p:nvSpPr>
          <p:spPr>
            <a:xfrm flipV="1">
              <a:off x="5032440" y="3327120"/>
              <a:ext cx="463320" cy="268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6158"/>
            <p:cNvSpPr/>
            <p:nvPr/>
          </p:nvSpPr>
          <p:spPr>
            <a:xfrm>
              <a:off x="5424480" y="2527200"/>
              <a:ext cx="1066680" cy="10670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345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6159"/>
            <p:cNvSpPr/>
            <p:nvPr/>
          </p:nvSpPr>
          <p:spPr>
            <a:xfrm flipV="1">
              <a:off x="4572000" y="2793960"/>
              <a:ext cx="0" cy="534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6160"/>
            <p:cNvSpPr/>
            <p:nvPr/>
          </p:nvSpPr>
          <p:spPr>
            <a:xfrm>
              <a:off x="4038480" y="1727280"/>
              <a:ext cx="1067040" cy="10666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Akhileshwa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6161"/>
            <p:cNvSpPr/>
            <p:nvPr/>
          </p:nvSpPr>
          <p:spPr>
            <a:xfrm>
              <a:off x="4038480" y="3328920"/>
              <a:ext cx="1067040" cy="10670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1@S3%f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,?&lt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khkoth</cp:lastModifiedBy>
  <dcterms:modified xsi:type="dcterms:W3CDTF">2009-08-17T09:07:2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