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E9C1-A98F-4750-9780-D8BADEB4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A8FD-3CF3-4ACE-9995-27F537AE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9436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88C6-841C-487E-96C2-0EE3F99D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7836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4268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7836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4268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F2E5-A334-49A2-8551-706110A53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DD3B-A56E-4DF4-886A-65E33C6C8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7416-DA26-477E-9137-B6FF830A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40E8-492D-4708-A11F-431F0BF0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A8D7-62A1-471C-AC34-3432366F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ED36-28B7-4D42-891A-44CD005B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0A55-5E41-4B7C-B01E-FB68AFD0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E5D2-1F0B-4A40-9A90-45AAFD04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DE79-476B-40FD-ACB6-78C016D7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9436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F6CC-2A30-4771-B9E3-E86A2AD2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95D9-A6F5-4E72-AA17-ED03C4A7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48DC-9DAD-4B44-815B-DEBC902A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19436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41F1-C228-4D6E-9615-2D063BF12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7836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268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7836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4268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5B39-9AF2-46B3-AE8B-9E0E21A3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4572-24F9-46C5-8848-A5D16F08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7D3A-833E-4039-A0D3-465A894F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F988-F3C7-4A3D-BDC9-C51728F7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44F5-8371-4323-9964-E2B8D579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C3AC-C0C8-4357-B6A5-DA8709A8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9436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2F46-0E13-43C6-906B-45482A9D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1570-B8C1-4E60-A322-C5A0BCD5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3697-CAFD-4254-81BC-5C4435B846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44FB-F5FA-4642-8D65-07CFDA007A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1b60f"/>
                </a:solidFill>
                <a:latin typeface="Arial"/>
              </a:rPr>
              <a:t>xxxxxxxxxxx</a:t>
            </a: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jing</cp:lastModifiedBy>
  <dcterms:modified xsi:type="dcterms:W3CDTF">2012-05-30T05:38:4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3</vt:r8>
  </property>
</Properties>
</file>