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E05-4776-474D-9CB9-78D24B09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6CE-5C16-47E4-9718-3887109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9CC-8FB8-42E3-A38C-60BF42D3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730-C8CA-4C4D-95AD-B337FDCB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A6D-39EC-43AB-AE19-484654AB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1DD-9A43-42C8-A810-7C06D0D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817-B73F-4FE1-ACF7-F9819286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47B-FBCD-4CBE-8A28-2CAF0A4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66C-E297-48BA-B43B-2DF90D77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779-0AFB-4B7F-BA2E-922992A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931-6754-4C0B-8BEB-25CF007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C5B-B7F1-49BB-8069-F0202CA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276-F4D4-49F2-A5A3-118EDBE25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09320" y="1619640"/>
            <a:ext cx="3311640" cy="2620440"/>
            <a:chOff x="3109320" y="1619640"/>
            <a:chExt cx="3311640" cy="2620440"/>
          </a:xfrm>
        </p:grpSpPr>
        <p:sp>
          <p:nvSpPr>
            <p:cNvPr id="42" name=""/>
            <p:cNvSpPr/>
            <p:nvPr/>
          </p:nvSpPr>
          <p:spPr>
            <a:xfrm rot="291600">
              <a:off x="4440600" y="1677960"/>
              <a:ext cx="816840" cy="502560"/>
            </a:xfrm>
            <a:prstGeom prst="ellipse">
              <a:avLst/>
            </a:prstGeom>
            <a:solidFill>
              <a:srgbClr val="ff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91600">
              <a:off x="3203640" y="1747440"/>
              <a:ext cx="3122640" cy="23644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96360" y="1625040"/>
            <a:ext cx="3354840" cy="2774880"/>
            <a:chOff x="3096360" y="1625040"/>
            <a:chExt cx="3354840" cy="2774880"/>
          </a:xfrm>
        </p:grpSpPr>
        <p:sp>
          <p:nvSpPr>
            <p:cNvPr id="45" name=""/>
            <p:cNvSpPr/>
            <p:nvPr/>
          </p:nvSpPr>
          <p:spPr>
            <a:xfrm rot="291600">
              <a:off x="4450680" y="1680120"/>
              <a:ext cx="824760" cy="534960"/>
            </a:xfrm>
            <a:prstGeom prst="ellipse">
              <a:avLst/>
            </a:prstGeom>
            <a:solidFill>
              <a:srgbClr val="ff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91600">
              <a:off x="3197160" y="1753920"/>
              <a:ext cx="3152880" cy="25167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99c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44:38Z</dcterms:created>
  <dc:creator>Automation</dc:creator>
  <dc:description/>
  <dc:language>en-US</dc:language>
  <cp:lastModifiedBy>Automation</cp:lastModifiedBy>
  <dcterms:modified xsi:type="dcterms:W3CDTF">2010-04-19T09:02:31Z</dcterms:modified>
  <cp:revision>4</cp:revision>
  <dc:subject/>
  <dc:title>Slide 1</dc:title>
</cp:coreProperties>
</file>