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3CD-B2A3-4A08-AD82-6637008A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A4F-0D84-4352-9D96-08A2B4C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D40-67E6-4D41-BA4B-6DD56BAF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05B-202F-4639-86F8-6458B132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70D-19C0-4D92-B421-EA5BC6E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547-A93B-42F3-92D9-4B4C80E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59F-D714-4000-B05B-6E37385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1EA-1CD9-41C7-8205-99620FDC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52D-8361-49F4-AF11-72C12FB4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53-A857-41E0-8917-7B955E5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E97-E7A3-4F79-BE2F-1894A91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DAD-FFD2-4E8D-B6B5-88AE31A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B49C-D453-45AC-AD34-AAC726DC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0:18:51Z</dcterms:created>
  <dc:creator>Rainer Klute</dc:creator>
  <dc:description/>
  <dc:language>en-US</dc:language>
  <cp:lastModifiedBy>Rainer Klute</cp:lastModifiedBy>
  <dcterms:modified xsi:type="dcterms:W3CDTF">2007-06-02T10:23:24Z</dcterms:modified>
  <cp:revision>2</cp:revision>
  <dc:subject/>
  <dc:title>Folie 1</dc:title>
</cp:coreProperties>
</file>