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72E-E575-4AA0-B502-594EF54D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6B7-512E-4BCD-9063-F752F5B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9D5-B951-41ED-BBEB-E782A751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206-3F39-41D3-BF7A-AF0BBB19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F39-ECF9-4A1C-9F21-B5086400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590-0239-4464-9CE0-2CF9DE4E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B75-7AF2-4BD4-AB17-A249D8E0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2BB-FFB5-4DCC-B3D9-3884B96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E7A-F7E8-4058-9F55-F1F0CFCF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7F0-7EC9-4867-A767-8E33917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F96-02B6-4035-B042-686373A5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AAB-58FC-4754-B3DC-1B3C54F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CEAD8-0A86-45CF-9CEA-0FD354BE7A43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25560" y="1811160"/>
          <a:ext cx="8334360" cy="4006080"/>
        </p:xfrm>
        <a:graphic>
          <a:graphicData uri="http://schemas.openxmlformats.org/drawingml/2006/table">
            <a:tbl>
              <a:tblPr/>
              <a:tblGrid>
                <a:gridCol w="4559400"/>
                <a:gridCol w="1271520"/>
                <a:gridCol w="1133280"/>
                <a:gridCol w="1370160"/>
              </a:tblGrid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abcdefgistics of 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lme Al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 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iewed test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ndividuals in test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women in test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ance status of interviewed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number of optimal in optimal test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w abcdefgistic: 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w abcdefgistic: Semi-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47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w abcdefgistic: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7:14Z</dcterms:created>
  <dc:creator>Gerald Leppert</dc:creator>
  <dc:description/>
  <dc:language>en-US</dc:language>
  <cp:lastModifiedBy>Gerald Leppert</cp:lastModifiedBy>
  <dcterms:modified xsi:type="dcterms:W3CDTF">2011-03-23T11:53:30Z</dcterms:modified>
  <cp:revision>5</cp:revision>
  <dc:subject/>
  <dc:title/>
</cp:coreProperties>
</file>