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91C-29F5-42BF-A8C7-DF798DEB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C77-47CF-4555-A225-D99FE86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7F8-81C1-4CCF-B9C7-E90EDDD3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0BA-531C-4CE0-8EE6-3EC1DA41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275-DB48-4CE4-B58B-764A8D48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080-A465-4EF0-A3A9-A9E7AD4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DDB-7C6A-4F07-A595-47C5972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F92-A895-401F-A42B-0D72633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B25-3424-4671-8BDA-A10F877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4EC-B535-4DD3-ACA3-EB0486E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79F-781D-4B31-999E-F190A27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513-82DE-4A56-A2DD-BFC3A56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52C-D3DC-42CC-A65A-99E16BACC37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916280"/>
            <a:ext cx="4751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SLOW BOX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000000"/>
                </a:solidFill>
                <a:latin typeface="Arial"/>
              </a:rPr>
              <a:t>Slower in O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000000"/>
                </a:solidFill>
                <a:latin typeface="Arial"/>
              </a:rPr>
              <a:t>than in MS 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35280" y="1268280"/>
            <a:ext cx="5400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be0e3"/>
                </a:solidFill>
                <a:latin typeface="Arial"/>
              </a:rPr>
              <a:t>Slide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be0e3"/>
                </a:solidFill>
                <a:latin typeface="Arial"/>
              </a:rPr>
              <a:t>FAST BOX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bbe0e3"/>
                </a:solidFill>
                <a:latin typeface="Arial"/>
              </a:rPr>
              <a:t>Slower in O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bbe0e3"/>
                </a:solidFill>
                <a:latin typeface="Arial"/>
              </a:rPr>
              <a:t>than in MS 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2:08:04Z</dcterms:created>
  <dc:creator>USER</dc:creator>
  <dc:description/>
  <dc:language>en-US</dc:language>
  <cp:lastModifiedBy>USER</cp:lastModifiedBy>
  <dcterms:modified xsi:type="dcterms:W3CDTF">2005-04-05T12:18:09Z</dcterms:modified>
  <cp:revision>6</cp:revision>
  <dc:subject/>
  <dc:title>Slide 1</dc:title>
</cp:coreProperties>
</file>