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793200" cy="9907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0" y="0"/>
            <a:ext cx="6792840" cy="9907560"/>
          </a:xfrm>
          <a:custGeom>
            <a:avLst/>
            <a:gdLst>
              <a:gd name="textAreaLeft" fmla="*/ 360 w 6792840"/>
              <a:gd name="textAreaRight" fmla="*/ 6792480 w 679284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504">
                <a:moveTo>
                  <a:pt x="5" y="0"/>
                </a:moveTo>
                <a:arcTo wR="5" hR="5" stAng="16200000" swAng="-5400000"/>
                <a:lnTo>
                  <a:pt x="0" y="31499"/>
                </a:lnTo>
                <a:arcTo wR="5" hR="5" stAng="10800000" swAng="-5400000"/>
                <a:lnTo>
                  <a:pt x="21595" y="3150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929880" y="738360"/>
            <a:ext cx="49323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894960" y="4686120"/>
            <a:ext cx="5002200" cy="44370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Num" idx="2"/>
          </p:nvPr>
        </p:nvSpPr>
        <p:spPr>
          <a:xfrm>
            <a:off x="3881160" y="9371160"/>
            <a:ext cx="2911320" cy="4903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000" spc="-1" strike="noStrike">
                <a:solidFill>
                  <a:srgbClr val="000000"/>
                </a:solidFill>
                <a:latin typeface="FuturaA Bk B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5CF5837-7019-49C0-86AF-3C03900C10CC}" type="slidenum">
              <a:rPr b="0" lang="en-US" sz="1000" spc="-1" strike="noStrike">
                <a:solidFill>
                  <a:srgbClr val="000000"/>
                </a:solidFill>
                <a:latin typeface="FuturaA Bk BT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930240" y="738360"/>
            <a:ext cx="49341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body"/>
          </p:nvPr>
        </p:nvSpPr>
        <p:spPr>
          <a:xfrm>
            <a:off x="895320" y="4686120"/>
            <a:ext cx="5004000" cy="45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930240" y="738360"/>
            <a:ext cx="49341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body"/>
          </p:nvPr>
        </p:nvSpPr>
        <p:spPr>
          <a:xfrm>
            <a:off x="895320" y="4686120"/>
            <a:ext cx="5004000" cy="45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930240" y="738360"/>
            <a:ext cx="49341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body"/>
          </p:nvPr>
        </p:nvSpPr>
        <p:spPr>
          <a:xfrm>
            <a:off x="895320" y="4686120"/>
            <a:ext cx="5004000" cy="45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930240" y="738360"/>
            <a:ext cx="49341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body"/>
          </p:nvPr>
        </p:nvSpPr>
        <p:spPr>
          <a:xfrm>
            <a:off x="895320" y="4686120"/>
            <a:ext cx="5004000" cy="45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38E8F5-FAC4-49F2-A185-3EC3F6CDC3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26960" y="69840"/>
            <a:ext cx="8282160" cy="75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26960" y="1181160"/>
            <a:ext cx="8282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26960" y="3544560"/>
            <a:ext cx="8282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0B7A63-FFEE-497C-9A25-92F12CA4E1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26960" y="69840"/>
            <a:ext cx="8282160" cy="75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26960" y="1181160"/>
            <a:ext cx="4041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640" y="1181160"/>
            <a:ext cx="4041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26960" y="3544560"/>
            <a:ext cx="4041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640" y="3544560"/>
            <a:ext cx="4041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104CFF-AE0B-4F95-BE5B-F874261F97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26960" y="69840"/>
            <a:ext cx="8282160" cy="75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26960" y="1181160"/>
            <a:ext cx="2666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27040" y="1181160"/>
            <a:ext cx="2666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7480" y="1181160"/>
            <a:ext cx="2666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26960" y="3544560"/>
            <a:ext cx="2666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27040" y="3544560"/>
            <a:ext cx="2666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7480" y="3544560"/>
            <a:ext cx="2666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627ECE-5EFE-4519-B31E-B74DAA14107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26960" y="69840"/>
            <a:ext cx="8282160" cy="75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26960" y="1181160"/>
            <a:ext cx="8282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26960" y="69840"/>
            <a:ext cx="8282160" cy="75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26960" y="1181160"/>
            <a:ext cx="8282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26960" y="69840"/>
            <a:ext cx="8282160" cy="75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26960" y="1181160"/>
            <a:ext cx="4041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640" y="1181160"/>
            <a:ext cx="4041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26960" y="69840"/>
            <a:ext cx="8282160" cy="75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26960" y="69840"/>
            <a:ext cx="828216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26960" y="69840"/>
            <a:ext cx="8282160" cy="75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26960" y="1181160"/>
            <a:ext cx="4041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640" y="1181160"/>
            <a:ext cx="4041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26960" y="3544560"/>
            <a:ext cx="4041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6960" y="69840"/>
            <a:ext cx="8282160" cy="75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26960" y="1181160"/>
            <a:ext cx="8282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FBB886-EC61-41FB-84F3-DE848C4A9B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26960" y="69840"/>
            <a:ext cx="8282160" cy="75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26960" y="1181160"/>
            <a:ext cx="4041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640" y="1181160"/>
            <a:ext cx="4041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0640" y="3544560"/>
            <a:ext cx="4041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26960" y="69840"/>
            <a:ext cx="8282160" cy="75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26960" y="1181160"/>
            <a:ext cx="4041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640" y="1181160"/>
            <a:ext cx="4041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26960" y="3544560"/>
            <a:ext cx="8282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26960" y="69840"/>
            <a:ext cx="8282160" cy="75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26960" y="1181160"/>
            <a:ext cx="8282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6960" y="3544560"/>
            <a:ext cx="8282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26960" y="69840"/>
            <a:ext cx="8282160" cy="75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26960" y="1181160"/>
            <a:ext cx="4041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0640" y="1181160"/>
            <a:ext cx="4041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26960" y="3544560"/>
            <a:ext cx="4041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0640" y="3544560"/>
            <a:ext cx="4041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26960" y="69840"/>
            <a:ext cx="8282160" cy="75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26960" y="1181160"/>
            <a:ext cx="2666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27040" y="1181160"/>
            <a:ext cx="2666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7480" y="1181160"/>
            <a:ext cx="2666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26960" y="3544560"/>
            <a:ext cx="2666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27040" y="3544560"/>
            <a:ext cx="2666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7480" y="3544560"/>
            <a:ext cx="2666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26960" y="69840"/>
            <a:ext cx="8282160" cy="75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26960" y="1181160"/>
            <a:ext cx="8282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3A448E-1279-449A-A0DD-6CCF80EDC3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26960" y="69840"/>
            <a:ext cx="8282160" cy="75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26960" y="1181160"/>
            <a:ext cx="4041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640" y="1181160"/>
            <a:ext cx="4041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6612B6-03F3-489A-B80A-EC878897B3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26960" y="69840"/>
            <a:ext cx="8282160" cy="75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E81D97-09CA-4449-834F-D0BC800FA9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26960" y="69840"/>
            <a:ext cx="828216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B89FF8-5602-4BDA-BA12-9FF730836C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6960" y="69840"/>
            <a:ext cx="8282160" cy="75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6960" y="1181160"/>
            <a:ext cx="4041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640" y="1181160"/>
            <a:ext cx="4041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26960" y="3544560"/>
            <a:ext cx="4041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01A658-BB25-4994-8640-25AB58E42A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6960" y="69840"/>
            <a:ext cx="8282160" cy="75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6960" y="1181160"/>
            <a:ext cx="4041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640" y="1181160"/>
            <a:ext cx="4041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640" y="3544560"/>
            <a:ext cx="4041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E59A2B-9F38-4474-A17C-E1F0F8F420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6960" y="69840"/>
            <a:ext cx="8282160" cy="75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6960" y="1181160"/>
            <a:ext cx="4041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640" y="1181160"/>
            <a:ext cx="4041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26960" y="3544560"/>
            <a:ext cx="8282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C7C3A9-8806-4D5D-AE1C-93C9A8B8AB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6960" y="69840"/>
            <a:ext cx="8282160" cy="75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" name=""/>
          <p:cNvSpPr/>
          <p:nvPr/>
        </p:nvSpPr>
        <p:spPr>
          <a:xfrm>
            <a:off x="9126360" y="6145200"/>
            <a:ext cx="6480" cy="19080"/>
          </a:xfrm>
          <a:prstGeom prst="rect">
            <a:avLst/>
          </a:prstGeom>
          <a:gradFill rotWithShape="0">
            <a:gsLst>
              <a:gs pos="0">
                <a:srgbClr val="d5d5d5"/>
              </a:gs>
              <a:gs pos="100000">
                <a:srgbClr val="8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26960" y="1181160"/>
            <a:ext cx="8282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1"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2"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3"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4"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5"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6"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"/>
          <p:cNvSpPr/>
          <p:nvPr/>
        </p:nvSpPr>
        <p:spPr>
          <a:xfrm>
            <a:off x="3197160" y="6465960"/>
            <a:ext cx="2876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fr-FR" sz="700" spc="-1" strike="noStrike">
                <a:solidFill>
                  <a:srgbClr val="000000"/>
                </a:solidFill>
                <a:latin typeface="Trebuchet MS"/>
              </a:rPr>
              <a:t>All Rights Reserved © Alcatel-Lucent 2006, #####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426960" y="6486120"/>
            <a:ext cx="3875040" cy="206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7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3C1762C-CCCA-4D68-801C-7DA818A9185B}" type="slidenum">
              <a:rPr b="0" lang="en-US" sz="7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r>
              <a:rPr b="0" lang="en-US" sz="700" spc="-1" strike="noStrike">
                <a:solidFill>
                  <a:srgbClr val="000000"/>
                </a:solidFill>
                <a:latin typeface="Trebuchet MS"/>
              </a:rPr>
              <a:t> | </a:t>
            </a:r>
            <a:r>
              <a:rPr b="0" lang="fr-FR" sz="700" spc="-1" strike="noStrike">
                <a:solidFill>
                  <a:srgbClr val="000000"/>
                </a:solidFill>
                <a:latin typeface="Trebuchet MS"/>
              </a:rPr>
              <a:t>Presentation Title | Month 2006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467480" y="6437160"/>
            <a:ext cx="1524240" cy="33336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453960" y="6359400"/>
            <a:ext cx="8715600" cy="19080"/>
          </a:xfrm>
          <a:prstGeom prst="rect">
            <a:avLst/>
          </a:prstGeom>
          <a:gradFill rotWithShape="0">
            <a:gsLst>
              <a:gs pos="0">
                <a:srgbClr val="eaeaea"/>
              </a:gs>
              <a:gs pos="100000">
                <a:srgbClr val="8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453960" y="892080"/>
            <a:ext cx="8715600" cy="19080"/>
          </a:xfrm>
          <a:prstGeom prst="rect">
            <a:avLst/>
          </a:prstGeom>
          <a:gradFill rotWithShape="0">
            <a:gsLst>
              <a:gs pos="0">
                <a:srgbClr val="eaeaea"/>
              </a:gs>
              <a:gs pos="100000">
                <a:srgbClr val="8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-4680" y="-46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21920" y="2650680"/>
            <a:ext cx="7116840" cy="146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" name=""/>
          <p:cNvSpPr/>
          <p:nvPr/>
        </p:nvSpPr>
        <p:spPr>
          <a:xfrm>
            <a:off x="6132600" y="6400800"/>
            <a:ext cx="287640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fr-FR" sz="700" spc="-1" strike="noStrike">
                <a:solidFill>
                  <a:srgbClr val="000000"/>
                </a:solidFill>
                <a:latin typeface="Trebuchet MS"/>
              </a:rPr>
              <a:t>All Rights Reserved © Alcatel-Lucent 2006, #####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3960" y="6359400"/>
            <a:ext cx="8715600" cy="19080"/>
          </a:xfrm>
          <a:prstGeom prst="rect">
            <a:avLst/>
          </a:prstGeom>
          <a:gradFill rotWithShape="0">
            <a:gsLst>
              <a:gs pos="0">
                <a:srgbClr val="eaeaea"/>
              </a:gs>
              <a:gs pos="100000">
                <a:srgbClr val="8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1"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2"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3"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4"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5"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6"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26960" y="69840"/>
            <a:ext cx="828360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Scheduler Implementation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"/>
          <p:cNvSpPr/>
          <p:nvPr/>
        </p:nvSpPr>
        <p:spPr>
          <a:xfrm>
            <a:off x="841320" y="1279440"/>
            <a:ext cx="7032600" cy="8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108000" bIns="1080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168120"/>
                <a:tab algn="l" pos="1082520"/>
                <a:tab algn="l" pos="1996920"/>
                <a:tab algn="l" pos="2911320"/>
                <a:tab algn="l" pos="3825720"/>
                <a:tab algn="l" pos="4740120"/>
                <a:tab algn="l" pos="5654520"/>
                <a:tab algn="l" pos="6568920"/>
                <a:tab algn="l" pos="7483320"/>
                <a:tab algn="l" pos="8397720"/>
                <a:tab algn="l" pos="9312120"/>
                <a:tab algn="l" pos="1022652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68120"/>
                <a:tab algn="l" pos="1082520"/>
                <a:tab algn="l" pos="1996920"/>
                <a:tab algn="l" pos="2911320"/>
                <a:tab algn="l" pos="3825720"/>
                <a:tab algn="l" pos="4740120"/>
                <a:tab algn="l" pos="5654520"/>
                <a:tab algn="l" pos="6568920"/>
                <a:tab algn="l" pos="7483320"/>
                <a:tab algn="l" pos="8397720"/>
                <a:tab algn="l" pos="9312120"/>
                <a:tab algn="l" pos="1022652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841320" y="1279440"/>
            <a:ext cx="649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108000" bIns="108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rebuchet MS"/>
              </a:rPr>
              <a:t>The scheduler has to find a decision for the following mat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741320" y="2023920"/>
            <a:ext cx="4296960" cy="1163880"/>
            <a:chOff x="1741320" y="2023920"/>
            <a:chExt cx="4296960" cy="1163880"/>
          </a:xfrm>
        </p:grpSpPr>
        <mc:AlternateContent>
          <mc:Choice xmlns:a14="http://schemas.microsoft.com/office/drawing/2010/main" Requires="a14">
            <p:sp>
              <p:nvSpPr>
                <p:cNvPr id="96" name=""/>
                <p:cNvSpPr txBox="1"/>
                <p:nvPr/>
              </p:nvSpPr>
              <p:spPr>
                <a:xfrm>
                  <a:off x="1741320" y="2265480"/>
                  <a:ext cx="4187880" cy="922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m>
                            <m:mr>
                              <m:e>
                                <m:sSub>
                                  <m:e>
                                    <m:r>
                                      <m:t xml:space="preserve">λ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sSubSup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sSub>
                                      <m:e/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sub>
                                  <m:sup>
                                    <m:r>
                                      <m:t xml:space="preserve">−</m:t>
                                    </m:r>
                                    <m:r>
                                      <m:t xml:space="preserve">α</m:t>
                                    </m:r>
                                  </m:sup>
                                </m:sSubSup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</m:mr>
                            <m:mr>
                              <m:e>
                                <m:r>
                                  <m:t xml:space="preserve">⋮</m:t>
                                </m:r>
                              </m:e>
                            </m:mr>
                            <m:mr>
                              <m:e>
                                <m:sSub>
                                  <m:e>
                                    <m:r>
                                      <m:t xml:space="preserve">λ</m:t>
                                    </m:r>
                                  </m:e>
                                  <m:sub>
                                    <m:r>
                                      <m:t xml:space="preserve">M</m:t>
                                    </m:r>
                                  </m:sub>
                                </m:sSub>
                                <m:sSubSup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M</m:t>
                                    </m:r>
                                  </m:sub>
                                  <m:sup>
                                    <m:r>
                                      <m:t xml:space="preserve">−</m:t>
                                    </m:r>
                                    <m:r>
                                      <m:t xml:space="preserve">α</m:t>
                                    </m:r>
                                  </m:sup>
                                </m:sSubSup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M</m:t>
                                    </m:r>
                                  </m:sub>
                                </m:sSub>
                              </m:e>
                            </m:mr>
                          </m:m>
                        </m:e>
                      </m:d>
                      <m:r>
                        <m:t xml:space="preserve">=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m>
                            <m:mr>
                              <m:e>
                                <m:sSub>
                                  <m:e>
                                    <m:r>
                                      <m:t xml:space="preserve">λ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sSubSup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sSub>
                                      <m:e/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sub>
                                  <m:sup>
                                    <m:r>
                                      <m:t xml:space="preserve">−</m:t>
                                    </m:r>
                                    <m:r>
                                      <m:t xml:space="preserve">α</m:t>
                                    </m:r>
                                  </m:sup>
                                </m:sSubSup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1</m:t>
                                    </m:r>
                                  </m:sub>
                                </m:sSub>
                              </m:e>
                              <m:e>
                                <m:r>
                                  <m:t xml:space="preserve">⋯</m:t>
                                </m:r>
                              </m:e>
                              <m:e>
                                <m:sSub>
                                  <m:e>
                                    <m:r>
                                      <m:t xml:space="preserve">λ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sSubSup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sSub>
                                      <m:e/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sub>
                                  <m:sup>
                                    <m:r>
                                      <m:t xml:space="preserve">−</m:t>
                                    </m:r>
                                    <m:r>
                                      <m:t xml:space="preserve">α</m:t>
                                    </m:r>
                                  </m:sup>
                                </m:sSubSup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</m:e>
                            </m:mr>
                            <m:mr>
                              <m:e>
                                <m:r>
                                  <m:t xml:space="preserve">⋮</m:t>
                                </m:r>
                              </m:e>
                              <m:e>
                                <m:r>
                                  <m:t xml:space="preserve">⋱</m:t>
                                </m:r>
                              </m:e>
                              <m:e>
                                <m:r>
                                  <m:t xml:space="preserve">⋮</m:t>
                                </m:r>
                              </m:e>
                            </m:mr>
                            <m:mr>
                              <m:e>
                                <m:sSub>
                                  <m:e>
                                    <m:r>
                                      <m:t xml:space="preserve">λ</m:t>
                                    </m:r>
                                  </m:e>
                                  <m:sub>
                                    <m:r>
                                      <m:t xml:space="preserve">M</m:t>
                                    </m:r>
                                  </m:sub>
                                </m:sSub>
                                <m:sSubSup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M</m:t>
                                    </m:r>
                                  </m:sub>
                                  <m:sup>
                                    <m:r>
                                      <m:t xml:space="preserve">−</m:t>
                                    </m:r>
                                    <m:r>
                                      <m:t xml:space="preserve">α</m:t>
                                    </m:r>
                                  </m:sup>
                                </m:sSubSup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M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  <m:e>
                                <m:r>
                                  <m:t xml:space="preserve">⋯</m:t>
                                </m:r>
                              </m:e>
                              <m:e>
                                <m:sSub>
                                  <m:e>
                                    <m:r>
                                      <m:t xml:space="preserve">λ</m:t>
                                    </m:r>
                                  </m:e>
                                  <m:sub>
                                    <m:r>
                                      <m:t xml:space="preserve">M</m:t>
                                    </m:r>
                                  </m:sub>
                                </m:sSub>
                                <m:sSubSup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M</m:t>
                                    </m:r>
                                  </m:sub>
                                  <m:sup>
                                    <m:r>
                                      <m:t xml:space="preserve">−</m:t>
                                    </m:r>
                                    <m:r>
                                      <m:t xml:space="preserve">α</m:t>
                                    </m:r>
                                  </m:sup>
                                </m:sSubSup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MN</m:t>
                                    </m:r>
                                  </m:sub>
                                </m:sSub>
                              </m:e>
                            </m:mr>
                          </m:m>
                        </m:e>
                      </m:d>
                      <m:r>
                        <m:rPr>
                          <m:lit/>
                          <m:nor/>
                        </m:rPr>
                        <m:t xml:space="preserve">     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97" name=""/>
            <p:cNvSpPr/>
            <p:nvPr/>
          </p:nvSpPr>
          <p:spPr>
            <a:xfrm>
              <a:off x="5769000" y="2805120"/>
              <a:ext cx="1440" cy="333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316400" y="2165400"/>
              <a:ext cx="119232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84760" y="2023920"/>
              <a:ext cx="465120" cy="36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00" rIns="108000" tIns="108000" bIns="108000" anchor="t">
              <a:spAutoFit/>
            </a:bodyPr>
            <a:p>
              <a:pPr algn="ctr">
                <a:lnSpc>
                  <a:spcPct val="100000"/>
                </a:lnSpc>
                <a:spcBef>
                  <a:spcPts val="1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Trebuchet MS"/>
                </a:rPr>
                <a:t>PRB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542560" y="2519280"/>
              <a:ext cx="495720" cy="36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00" rIns="108000" tIns="108000" bIns="108000" anchor="t">
              <a:spAutoFit/>
            </a:bodyPr>
            <a:p>
              <a:pPr algn="ctr">
                <a:lnSpc>
                  <a:spcPct val="100000"/>
                </a:lnSpc>
                <a:spcBef>
                  <a:spcPts val="1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Trebuchet MS"/>
                </a:rPr>
                <a:t>us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3122640" y="2165400"/>
              <a:ext cx="7970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 flipV="1">
              <a:off x="5769000" y="2314080"/>
              <a:ext cx="144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4514760" y="3551400"/>
                <a:ext cx="114480" cy="21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1741320" y="3551400"/>
                <a:ext cx="1994040" cy="99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sSub>
                              <m:e/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sub>
                        </m:sSub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 rate control factor</m:t>
                        </m:r>
                      </m:e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sSub>
                              <m:e/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sub>
                        </m:sSub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 average throughput</m:t>
                        </m:r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effective spectral efficiency </m:t>
                        </m:r>
                      </m:e>
                      <m:e>
                        <m:r>
                          <m:t xml:space="preserve">α</m:t>
                        </m:r>
                        <m:r>
                          <m:rPr>
                            <m:lit/>
                            <m:nor/>
                          </m:rPr>
                          <m:t xml:space="preserve">: fairness factor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5" name=""/>
          <p:cNvSpPr/>
          <p:nvPr/>
        </p:nvSpPr>
        <p:spPr>
          <a:xfrm>
            <a:off x="841320" y="4761000"/>
            <a:ext cx="6496200" cy="46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108000" bIns="108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rebuchet MS"/>
              </a:rPr>
              <a:t>The effective spectral efficiency r</a:t>
            </a:r>
            <a:r>
              <a:rPr b="1" lang="en-GB" sz="1600" spc="-1" strike="noStrike" baseline="-10000">
                <a:solidFill>
                  <a:srgbClr val="000000"/>
                </a:solidFill>
                <a:latin typeface="Trebuchet MS"/>
              </a:rPr>
              <a:t>i,j</a:t>
            </a:r>
            <a:r>
              <a:rPr b="1" lang="en-GB" sz="1600" spc="-1" strike="noStrike">
                <a:solidFill>
                  <a:srgbClr val="000000"/>
                </a:solidFill>
                <a:latin typeface="Trebuchet MS"/>
              </a:rPr>
              <a:t> is given b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1778040" y="5492880"/>
                <a:ext cx="1346040" cy="24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nSINR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1789200" y="5848200"/>
                <a:ext cx="4330440" cy="25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     if effective spectral efficiency is below a minimum threshold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8BF959-61F4-4EA9-81E4-402E9D152E3A}" type="slidenum">
              <a:t>1</a:t>
            </a:fld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26960" y="69840"/>
            <a:ext cx="828360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Alpha Fairness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"/>
          <p:cNvSpPr/>
          <p:nvPr/>
        </p:nvSpPr>
        <p:spPr>
          <a:xfrm>
            <a:off x="841320" y="1279440"/>
            <a:ext cx="7032600" cy="8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108000" bIns="1080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168120"/>
                <a:tab algn="l" pos="1082520"/>
                <a:tab algn="l" pos="1996920"/>
                <a:tab algn="l" pos="2911320"/>
                <a:tab algn="l" pos="3825720"/>
                <a:tab algn="l" pos="4740120"/>
                <a:tab algn="l" pos="5654520"/>
                <a:tab algn="l" pos="6568920"/>
                <a:tab algn="l" pos="7483320"/>
                <a:tab algn="l" pos="8397720"/>
                <a:tab algn="l" pos="9312120"/>
                <a:tab algn="l" pos="1022652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68120"/>
                <a:tab algn="l" pos="1082520"/>
                <a:tab algn="l" pos="1996920"/>
                <a:tab algn="l" pos="2911320"/>
                <a:tab algn="l" pos="3825720"/>
                <a:tab algn="l" pos="4740120"/>
                <a:tab algn="l" pos="5654520"/>
                <a:tab algn="l" pos="6568920"/>
                <a:tab algn="l" pos="7483320"/>
                <a:tab algn="l" pos="8397720"/>
                <a:tab algn="l" pos="9312120"/>
                <a:tab algn="l" pos="1022652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1865160" y="2227320"/>
                <a:ext cx="3492720" cy="184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sSub>
                              <m:e/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sub>
                        </m:sSub>
                        <m:r>
                          <m:t xml:space="preserve">[</m:t>
                        </m:r>
                        <m:r>
                          <m:t xml:space="preserve">t</m:t>
                        </m:r>
                        <m:r>
                          <m:t xml:space="preserve">]</m:t>
                        </m:r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β</m:t>
                            </m:r>
                            <m:r>
                              <m:t xml:space="preserve">×</m:t>
                            </m:r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sSub>
                                  <m:e/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sub>
                            </m:sSub>
                            <m:r>
                              <m:t xml:space="preserve">[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]</m:t>
                            </m:r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β</m:t>
                            </m:r>
                            <m:r>
                              <m:t xml:space="preserve">)</m:t>
                            </m:r>
                            <m:r>
                              <m:t xml:space="preserve">×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nrPRB</m:t>
                                </m:r>
                                <m:r>
                                  <m:t xml:space="preserve">[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]</m:t>
                                </m:r>
                              </m:den>
                            </m:f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</m:naryPr>
                                  <m:sub>
                                    <m:r>
                                      <m:t xml:space="preserve">j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nrPRB</m:t>
                                    </m:r>
                                    <m:r>
                                      <m:t xml:space="preserve">[</m:t>
                                    </m:r>
                                    <m:r>
                                      <m:t xml:space="preserve">t</m:t>
                                    </m:r>
                                    <m:r>
                                      <m:t xml:space="preserve">]</m:t>
                                    </m:r>
                                  </m:sup>
                                  <m:e>
                                    <m:sSub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,</m:t>
                                        </m:r>
                                        <m:r>
                                          <m:t xml:space="preserve">j</m:t>
                                        </m:r>
                                      </m:sub>
                                    </m:sSub>
                                    <m:r>
                                      <m:t xml:space="preserve">[</m:t>
                                    </m:r>
                                    <m:r>
                                      <m:t xml:space="preserve">t</m:t>
                                    </m:r>
                                    <m:r>
                                      <m:t xml:space="preserve">]</m:t>
                                    </m:r>
                                  </m:e>
                                </m:nary>
                              </m:e>
                            </m:d>
                          </m:e>
                        </m:d>
                      </m:e>
                      <m:e/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sSub>
                              <m:e/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sub>
                        </m:sSub>
                        <m:r>
                          <m:t xml:space="preserve">[</m:t>
                        </m:r>
                        <m:r>
                          <m:t xml:space="preserve">t</m:t>
                        </m:r>
                        <m:r>
                          <m:t xml:space="preserve">]</m:t>
                        </m:r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 average throughput</m:t>
                        </m:r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[</m:t>
                        </m:r>
                        <m:r>
                          <m:t xml:space="preserve">t</m:t>
                        </m:r>
                        <m:r>
                          <m:t xml:space="preserve">]</m:t>
                        </m:r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effective spectral efficiency </m:t>
                        </m:r>
                      </m:e>
                      <m:e>
                        <m:r>
                          <m:t xml:space="preserve">β</m:t>
                        </m:r>
                        <m:r>
                          <m:rPr>
                            <m:lit/>
                            <m:nor/>
                          </m:rPr>
                          <m:t xml:space="preserve">: forgetting facto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rPRB</m:t>
                        </m:r>
                        <m:r>
                          <m:rPr>
                            <m:lit/>
                            <m:nor/>
                          </m:rPr>
                          <m:t xml:space="preserve">: number of physical resource block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841320" y="1390680"/>
            <a:ext cx="703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108000" bIns="108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rebuchet MS"/>
              </a:rPr>
              <a:t>The proportional fairness is implemented as a </a:t>
            </a:r>
            <a:r>
              <a:rPr b="1" lang="en-GB" sz="1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one-tap IIR-filter</a:t>
            </a:r>
            <a:r>
              <a:rPr b="1" lang="en-GB" sz="16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13" name=""/>
          <p:cNvSpPr/>
          <p:nvPr/>
        </p:nvSpPr>
        <p:spPr>
          <a:xfrm>
            <a:off x="841320" y="4551480"/>
            <a:ext cx="649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108000" bIns="108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rebuchet MS"/>
              </a:rPr>
              <a:t>At t=0, w is initialized b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1766880" y="5140440"/>
                <a:ext cx="2184480" cy="48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[</m:t>
                    </m:r>
                    <m:r>
                      <m:t xml:space="preserve">t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]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rPRB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ll</m:t>
                            </m:r>
                          </m:sub>
                        </m:sSub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nrPRB</m:t>
                            </m:r>
                            <m:r>
                              <m:t xml:space="preserve">[</m:t>
                            </m:r>
                            <m:r>
                              <m:t xml:space="preserve">t</m:t>
                            </m:r>
                            <m:r>
                              <m:t xml:space="preserve">]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[</m:t>
                            </m:r>
                            <m:r>
                              <m:t xml:space="preserve">t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  <m:r>
                              <m:t xml:space="preserve">]</m:t>
                            </m:r>
                          </m:e>
                        </m:nary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5D7D0D-1D02-467E-8FF7-3D5886652B6F}" type="slidenum">
              <a:t>2</a:t>
            </a:fld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26960" y="69840"/>
            <a:ext cx="828360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Minimum Rate Constraints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"/>
          <p:cNvSpPr/>
          <p:nvPr/>
        </p:nvSpPr>
        <p:spPr>
          <a:xfrm>
            <a:off x="841320" y="1279440"/>
            <a:ext cx="7032600" cy="8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108000" bIns="1080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168120"/>
                <a:tab algn="l" pos="1082520"/>
                <a:tab algn="l" pos="1996920"/>
                <a:tab algn="l" pos="2911320"/>
                <a:tab algn="l" pos="3825720"/>
                <a:tab algn="l" pos="4740120"/>
                <a:tab algn="l" pos="5654520"/>
                <a:tab algn="l" pos="6568920"/>
                <a:tab algn="l" pos="7483320"/>
                <a:tab algn="l" pos="8397720"/>
                <a:tab algn="l" pos="9312120"/>
                <a:tab algn="l" pos="1022652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68120"/>
                <a:tab algn="l" pos="1082520"/>
                <a:tab algn="l" pos="1996920"/>
                <a:tab algn="l" pos="2911320"/>
                <a:tab algn="l" pos="3825720"/>
                <a:tab algn="l" pos="4740120"/>
                <a:tab algn="l" pos="5654520"/>
                <a:tab algn="l" pos="6568920"/>
                <a:tab algn="l" pos="7483320"/>
                <a:tab algn="l" pos="8397720"/>
                <a:tab algn="l" pos="9312120"/>
                <a:tab algn="l" pos="1022652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41320" y="1390680"/>
            <a:ext cx="649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108000" bIns="108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rebuchet MS"/>
              </a:rPr>
              <a:t>Token counter for rate contr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1865160" y="2089080"/>
                <a:ext cx="3919680" cy="164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e>
                          <m:sub>
                            <m:sSub>
                              <m:e/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sub>
                        </m:sSub>
                        <m:r>
                          <m:t xml:space="preserve">[</m:t>
                        </m:r>
                        <m:r>
                          <m:t xml:space="preserve">t</m:t>
                        </m:r>
                        <m:r>
                          <m:t xml:space="preserve">]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e>
                          <m:sub>
                            <m:sSub>
                              <m:e/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sub>
                        </m:sSub>
                        <m:r>
                          <m:t xml:space="preserve">[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]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BR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  with   0 </m:t>
                        </m:r>
                        <m:r>
                          <m:t xml:space="preserve">&lt;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e>
                          <m:sub>
                            <m:sSub>
                              <m:e/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sub>
                        </m:sSub>
                        <m:r>
                          <m:t xml:space="preserve">[</m:t>
                        </m:r>
                        <m:r>
                          <m:t xml:space="preserve">t</m:t>
                        </m:r>
                        <m:r>
                          <m:t xml:space="preserve">]</m:t>
                        </m:r>
                        <m:r>
                          <m:t xml:space="preserve">&lt;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t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</m:e>
                      <m:e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e>
                          <m:sub>
                            <m:sSub>
                              <m:e/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sub>
                        </m:sSub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      token counter  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BR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Guaranteed Bitrate</m:t>
                        </m:r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       serviced bits in last TTI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maximum value of the token counter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1865160" y="5111640"/>
                <a:ext cx="2764080" cy="82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0</m:t>
                                </m:r>
                                <m:r>
                                  <m:t xml:space="preserve">,</m:t>
                                </m:r>
                                <m:f>
                                  <m:num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tc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num>
                                  <m:den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tc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norm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</m:sup>
                        </m:sSup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orm</m:t>
                            </m:r>
                          </m:sub>
                        </m:sSub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 token counter scaling factor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1" name=""/>
          <p:cNvSpPr/>
          <p:nvPr/>
        </p:nvSpPr>
        <p:spPr>
          <a:xfrm>
            <a:off x="841320" y="4446720"/>
            <a:ext cx="649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108000" bIns="108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rebuchet MS"/>
              </a:rPr>
              <a:t>The rate control factor is given b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FC6463-86E0-44DE-AC72-B3F1FAA2F1B9}" type="slidenum">
              <a:t>3</a:t>
            </a:fld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26960" y="69840"/>
            <a:ext cx="828360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rebuchet MS"/>
              </a:rPr>
              <a:t>Calculation of Parameter tc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Trebuchet MS"/>
              </a:rPr>
              <a:t>norm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"/>
          <p:cNvSpPr/>
          <p:nvPr/>
        </p:nvSpPr>
        <p:spPr>
          <a:xfrm>
            <a:off x="841320" y="1063800"/>
            <a:ext cx="5440320" cy="72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108000" bIns="1080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1450800" y="4435560"/>
                <a:ext cx="186696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  <m:r>
                          <m:t xml:space="preserve">=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0</m:t>
                                </m:r>
                                <m:r>
                                  <m:t xml:space="preserve">,</m:t>
                                </m:r>
                                <m:f>
                                  <m:num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tc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max</m:t>
                                        </m:r>
                                      </m:sub>
                                    </m:sSub>
                                  </m:num>
                                  <m:den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tc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norm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</m:sup>
                        </m:sSup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orm</m:t>
                            </m:r>
                          </m:sub>
                        </m:sSub>
                        <m:r>
                          <m:t xml:space="preserve">&lt;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max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ln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+</m:t>
                                        </m:r>
                                        <m:sSub>
                                          <m:e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linSINR</m:t>
                                            </m:r>
                                          </m:e>
                                          <m:sub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max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ln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+</m:t>
                                        </m:r>
                                        <m:sSub>
                                          <m:e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linSINR</m:t>
                                            </m:r>
                                          </m:e>
                                          <m:sub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min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den>
                                </m:f>
                              </m:e>
                            </m:d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1654200" y="2222640"/>
                <a:ext cx="146052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in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inSINR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min</m:t>
                                </m:r>
                              </m:sub>
                            </m:sSub>
                          </m:e>
                        </m:d>
                      </m:e>
                      <m:e/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inSINR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max</m:t>
                                </m:r>
                              </m:sub>
                            </m:sSub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5937120" y="4575240"/>
                <a:ext cx="95256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cNorm</m:t>
                    </m:r>
                    <m:r>
                      <m:t xml:space="preserve">&lt;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</m:num>
                      <m:den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3627360" y="2565360"/>
            <a:ext cx="903240" cy="3920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5751360" y="2336760"/>
                <a:ext cx="14227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in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75</m:t>
                        </m:r>
                        <m:r>
                          <m:rPr>
                            <m:lit/>
                            <m:nor/>
                          </m:rPr>
                          <m:t xml:space="preserve"> bit/symbol</m:t>
                        </m:r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8</m:t>
                        </m:r>
                        <m:r>
                          <m:rPr>
                            <m:lit/>
                            <m:nor/>
                          </m:rPr>
                          <m:t xml:space="preserve">  bit/symbol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5751360" y="3583080"/>
                <a:ext cx="147348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  <m:r>
                      <m:t xml:space="preserve">=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98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75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1908000" y="3583080"/>
                <a:ext cx="95256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in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1" name=""/>
          <p:cNvSpPr/>
          <p:nvPr/>
        </p:nvSpPr>
        <p:spPr>
          <a:xfrm>
            <a:off x="2293920" y="3137040"/>
            <a:ext cx="181080" cy="190440"/>
          </a:xfrm>
          <a:prstGeom prst="downArrow">
            <a:avLst>
              <a:gd name="adj1" fmla="val 50000"/>
              <a:gd name="adj2" fmla="val 26292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93920" y="4025880"/>
            <a:ext cx="181080" cy="190440"/>
          </a:xfrm>
          <a:prstGeom prst="downArrow">
            <a:avLst>
              <a:gd name="adj1" fmla="val 50000"/>
              <a:gd name="adj2" fmla="val 26292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323040" y="3137040"/>
            <a:ext cx="181080" cy="190440"/>
          </a:xfrm>
          <a:prstGeom prst="downArrow">
            <a:avLst>
              <a:gd name="adj1" fmla="val 50000"/>
              <a:gd name="adj2" fmla="val 26292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281640" y="4025880"/>
            <a:ext cx="181080" cy="190440"/>
          </a:xfrm>
          <a:prstGeom prst="downArrow">
            <a:avLst>
              <a:gd name="adj1" fmla="val 50000"/>
              <a:gd name="adj2" fmla="val 26292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489120" y="2222640"/>
            <a:ext cx="125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108000" bIns="108000" anchor="t">
            <a:sp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rebuchet MS"/>
              </a:rPr>
              <a:t>example wi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rot="16260000">
            <a:off x="5216400" y="2473200"/>
            <a:ext cx="180720" cy="190440"/>
          </a:xfrm>
          <a:prstGeom prst="downArrow">
            <a:avLst>
              <a:gd name="adj1" fmla="val 50000"/>
              <a:gd name="adj2" fmla="val 2634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95160" y="1320840"/>
            <a:ext cx="6496200" cy="49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108000" bIns="108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rebuchet MS"/>
              </a:rPr>
              <a:t>The calculation of tc</a:t>
            </a:r>
            <a:r>
              <a:rPr b="1" lang="en-GB" sz="1600" spc="-1" strike="noStrike" baseline="-25000">
                <a:solidFill>
                  <a:srgbClr val="000000"/>
                </a:solidFill>
                <a:latin typeface="Trebuchet MS"/>
              </a:rPr>
              <a:t>norm</a:t>
            </a:r>
            <a:r>
              <a:rPr b="1" lang="en-GB" sz="1600" spc="-1" strike="noStrike">
                <a:solidFill>
                  <a:srgbClr val="000000"/>
                </a:solidFill>
                <a:latin typeface="Trebuchet MS"/>
              </a:rPr>
              <a:t> can be done b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FA3326-6D38-4288-80A8-9F621BBB9A33}" type="slidenum">
              <a:t>4</a:t>
            </a:fld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30T21:03:13Z</dcterms:created>
  <dc:creator>Ralph Ballentin</dc:creator>
  <dc:description/>
  <dc:language>en-US</dc:language>
  <cp:lastModifiedBy>Stephen Kaminski</cp:lastModifiedBy>
  <cp:lastPrinted>2006-11-16T20:03:46Z</cp:lastPrinted>
  <dcterms:modified xsi:type="dcterms:W3CDTF">2009-01-28T13:47:04Z</dcterms:modified>
  <cp:revision>116</cp:revision>
  <dc:subject/>
  <dc:title>Portfolio/Program Name Here 36/42pt with 12pt After Paragraph Subheadings 20pt</dc:title>
</cp:coreProperties>
</file>