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907588" cy="6858000"/>
  <p:notesSz cx="685800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81000" y="473040"/>
            <a:ext cx="4896000" cy="32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333000" y="3857760"/>
            <a:ext cx="6335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937872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937872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7125-7808-4959-A7A9-3935EF1629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89000" y="473040"/>
            <a:ext cx="4680000" cy="3240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333000" y="3857760"/>
            <a:ext cx="63356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ots of 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122D-67E5-4963-90A4-57E518EC87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21E3-D507-4AEB-8A04-1F3EFA47C6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755640" y="741240"/>
            <a:ext cx="5346720" cy="3702240"/>
          </a:xfrm>
          <a:prstGeom prst="rect">
            <a:avLst/>
          </a:prstGeom>
          <a:ln w="0">
            <a:noFill/>
          </a:ln>
        </p:spPr>
      </p:sp>
      <p:sp>
        <p:nvSpPr>
          <p:cNvPr id="115" name="Text Box 2"/>
          <p:cNvSpPr/>
          <p:nvPr/>
        </p:nvSpPr>
        <p:spPr>
          <a:xfrm>
            <a:off x="685800" y="4691160"/>
            <a:ext cx="548640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Lots of Not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88476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2C99-807F-4124-B29F-6270F8D3C0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265A-C0D7-4C74-B3D9-F5649230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29880" y="2017800"/>
            <a:ext cx="799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829880" y="4167360"/>
            <a:ext cx="799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092F-0069-47FF-912F-E10931FA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829880" y="201780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925960" y="201780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829880" y="416736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25960" y="416736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BAB1-890A-42C8-A741-D5803038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29880" y="201780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32760" y="201780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235280" y="201780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829880" y="416736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532760" y="416736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235280" y="416736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08FE-9FDD-4602-B263-FB7CDFEC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A816-7E4B-4B88-BFB7-240B17F80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829880" y="201780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CBFC-6949-4E95-9489-9AB1B198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9880" y="201780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4F2E-E48E-435E-9A8C-F6FF68A0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9880" y="2017800"/>
            <a:ext cx="39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25960" y="2017800"/>
            <a:ext cx="39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720D-F08D-44B5-BF17-E8573A95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68FA-664D-48C6-8603-C7284AAA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794960" y="214200"/>
            <a:ext cx="801540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604A-BF67-4787-8FE3-6A66AAE0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29880" y="201780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25960" y="2017800"/>
            <a:ext cx="39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829880" y="416736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1471-8673-4974-91D7-6534343C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829880" y="201780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B9D5-4294-4C54-9D09-B1E14BC6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9880" y="2017800"/>
            <a:ext cx="39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25960" y="201780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5960" y="416736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C9C1-F255-4685-B290-F9D28EB0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9880" y="201780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925960" y="201780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9880" y="4167360"/>
            <a:ext cx="799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23C8-BCF1-47D0-9942-879CA9E3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829880" y="2017800"/>
            <a:ext cx="799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829880" y="4167360"/>
            <a:ext cx="799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9A41-AC79-452D-AFF3-A7F89C90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29880" y="201780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925960" y="201780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829880" y="416736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925960" y="416736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A12C-9BC7-46B0-A023-CC811074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29880" y="201780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32760" y="201780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235280" y="201780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829880" y="416736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4532760" y="416736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7235280" y="416736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0876-E9F7-4261-8759-E5BA1343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9880" y="201780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CEE2-8834-4785-B45B-2C47414E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29880" y="2017800"/>
            <a:ext cx="39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25960" y="2017800"/>
            <a:ext cx="39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02F7-4B4A-4CB9-A2E2-92E777BB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9379-5AF5-4DB2-88EE-9F774FCE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794960" y="214200"/>
            <a:ext cx="801540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15B2-4C2C-492B-A044-2373D4A7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29880" y="201780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25960" y="2017800"/>
            <a:ext cx="39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829880" y="416736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8310-018F-4A38-B97A-7DEBB9CB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29880" y="2017800"/>
            <a:ext cx="39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25960" y="201780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25960" y="416736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9592-BA4E-4482-980F-286CC21A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9880" y="201780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25960" y="201780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9880" y="4167360"/>
            <a:ext cx="799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1E06-8C04-4431-8AFE-47231FA5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001880" y="1098720"/>
            <a:ext cx="4507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15880" y="1098720"/>
            <a:ext cx="33840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1135080" y="1521000"/>
            <a:ext cx="4348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536840" y="1521000"/>
            <a:ext cx="37764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687240" y="1447920"/>
            <a:ext cx="5763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374840" y="990720"/>
            <a:ext cx="6984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028880" y="1781280"/>
            <a:ext cx="845964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829880" y="201780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807920" y="6243480"/>
            <a:ext cx="195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511160" y="6243480"/>
            <a:ext cx="297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178480" y="6243480"/>
            <a:ext cx="195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7879-FA3F-4041-AEF7-8E3E8613D4A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792000" y="2438280"/>
            <a:ext cx="9129600" cy="1052640"/>
            <a:chOff x="792000" y="2438280"/>
            <a:chExt cx="91296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1089360" y="2546280"/>
              <a:ext cx="721800" cy="474840"/>
              <a:chOff x="1089360" y="2546280"/>
              <a:chExt cx="72180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1089360" y="2546280"/>
                <a:ext cx="44424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1478160" y="2546280"/>
                <a:ext cx="33300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1215000" y="2968560"/>
              <a:ext cx="749520" cy="474840"/>
              <a:chOff x="1215000" y="2968560"/>
              <a:chExt cx="74952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1215000" y="2968560"/>
                <a:ext cx="4269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1589760" y="2968560"/>
                <a:ext cx="37476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792000" y="2895480"/>
              <a:ext cx="5677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1435320" y="2438280"/>
              <a:ext cx="3996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1112040" y="3260520"/>
              <a:ext cx="880956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829880" y="201780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10728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71448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742968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EF8A-736F-49EC-95B2-D3FFEC6D0034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4960" y="214200"/>
            <a:ext cx="80154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hows No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29880" y="201780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 Normal View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1795320" y="214200"/>
            <a:ext cx="8013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oesn’t Show Not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Content Placeholder 5"/>
          <p:cNvSpPr/>
          <p:nvPr/>
        </p:nvSpPr>
        <p:spPr>
          <a:xfrm>
            <a:off x="1830240" y="2017800"/>
            <a:ext cx="7993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 Normal View, but it does show them in Print Preview and View &gt; Notes P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8T21:27:09Z</dcterms:created>
  <dc:creator>Martin Taylor</dc:creator>
  <dc:description/>
  <dc:language>en-US</dc:language>
  <cp:lastModifiedBy>MT</cp:lastModifiedBy>
  <dcterms:modified xsi:type="dcterms:W3CDTF">2014-08-23T21:12:12Z</dcterms:modified>
  <cp:revision>175</cp:revision>
  <dc:subject>Sola Scriptura</dc:subject>
  <dc:title>God's Characteristics</dc:title>
</cp:coreProperties>
</file>