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D62-3F26-4326-A9F9-C69B458B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032-536B-4B1D-A6E3-45ACD481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0BB-BBA3-4A3F-BA42-A373A149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6F4-4497-4B13-85F0-76E4698F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3EF-EFAC-4088-8E08-3B4C9302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512-BE9C-4B3F-BA8B-1780778E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31C-AEC4-4755-8BAA-38A7F1E5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313-BABB-40A5-9605-146578DF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BD3-C1AB-4611-AA3E-82698833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E22-F42D-419D-A7C6-247B0A7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12C-09EE-466D-B5F0-896DB2A1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50D-1A76-46D3-806A-4984884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1DB6-80DE-40A8-A1AE-CECAE0D06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AM APPROACH TO 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200040"/>
            <a:ext cx="6629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EST WAY TO PREDICT THE FUTURE IS TO CREATE IT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 Nun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rise UM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AND TRAINS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ITH CHAMPION TO DRAFT CHARTER &amp; INITIAL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TEAM CLARIFY &amp; FOCUS ON IT’S MISSION, GOALS, MEASU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RESOURCES NEEDED (PEOPLE, TIME, MONEY, MATERIALS) AND ENSURE THEY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ESTABLISH AND HOLD TEAM ACCOUNTABLE FOR METRICS, MEASUREMENTS AND SCOREBO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S AS LIAISON TO OTHER TEAMS, COMMUNICATE TEAM ACCOMPLISHMENTS TO 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TEAM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RESPONSIBILITY FOR TEAM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WITH IDEAS AND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OPENLY WITH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AND SUPPORT TEAM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EVERY TEAM MEMBER IS EXPECTED TO FILL ANY ROL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WHO’S ON A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S MORNING OUT: POSSIBL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CHAMPION” OVERSEES TEAM an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’S MIN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MATTER EXPERT: SPECIAL EXPERTISE IF NEEDED (E.G. FINANCE, IF THE MONEY IS NOT IN THEIR BUD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 AS A TEAM ON HOW TO APPROACH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UNDERSTANDING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 TRU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CTION, MONITOR AND 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, HONEST DECISIONS BASED ON TRUST AND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CT FOR DIGNITY OF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 WILL BE SEEN AS A RESOURCE, NOT A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VALUE VERSUS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S INTEGRITY IN ALL WE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WILL BE PUBLISHED FOR ALL TO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OR, BULLETIN, NEWSLETTER AS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SET UP TO DO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INITIAL TEA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EXP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OF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OF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OF TEAM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HOW TO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S AND TEAM MEMBERS NEED TO BE HELD ACCOUNTABLE FOR THEIR GOALS &amp; COMPLETING ASSIGNMENTS ON TIME &amp; IN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HOW CHURCH WILL BENEFIT BY ACHIEVING THES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 OF NOT ACHIEVING THE EXPECTE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THE CONSEQUENCES: HOLDING THE TEAM ACCOU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WILL BE SEEN BY COACHES, STAFF, QUALITY COUNCIL, PASTORS, CONGREGATION (UP &amp;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TEAM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 TIMELY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MEMBER HAS INPUT, NO FEAR OF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DEFINED MEMBER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GENERATED BY ALL TEAM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OUTCOMES &amp; DEFINED GOALS FOR EACH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SIMINATED FOR EACH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ROUGH PLANS ARE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/FACILITATOR HAS WELL THOUGHT OUT 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GROWTH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RT 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EGINS Jan 1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BEFORE YOU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ON CHAR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OF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LIMINARY DECISION MAKING, CHAMPION CONTRO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EAM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RESOLUTION WITHOUT C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PLANNING AND PROBLEM 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 NEW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AND PROVID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OMOUS DECISION 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S RARE AND EASILY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FULL TEAM PERFORMANC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ITEES AND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MINISTRIES WILL FORM INTO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MS WILL FORM TO FILL NEW N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COMMITTEES STAY AS ORGANIZED PER 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S LIKELY TO HAVE MULTIPLE TEAMS ALIGNED UNDER THEM; FOR EXAMPLE, THE PROPERTY COMMITTEE HAS CREATED 4 TEAM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SSESSMEN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ASSESSMEN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IAL ASSESSMENT AND REQUIREMENT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S WILL CROSS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HOLDERS WILL B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MAY BE ON MULTIPLE TE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ES AND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COUNC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COUNCI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EES THE TEAM PROC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RISE QUALITY COUNCIL CONSI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IOR LEADERS AND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R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N ENVIRONMENT THAT ALLOWS THE CHURCH TO GROW AND SUCC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INVOLVEMENT, COMMUNICATE PRINCIPLES DOWN, AND SEEK &amp; UTILIZE 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HUMAN RESOURCE DEVELOPMENT THROUGH EMPOWERMENT, RECOGNITION, EDUCATION, TRAINING, SAFETY, HEALTH &amp; WELL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E RESOURCES FOR IMPROVEMENT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OFFICE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A FACILITATOR: RECEIVES NEW INITIATIVES, ASSIGNS IT TO A TEAM, RECEIVES STATUS, PUBLISHES IN NEWSLETTER, WEB SITE, COMMUNICATOR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305880" y="2354400"/>
            <a:ext cx="2533680" cy="1828800"/>
            <a:chOff x="3305880" y="2354400"/>
            <a:chExt cx="2533680" cy="1828800"/>
          </a:xfrm>
        </p:grpSpPr>
        <p:cxnSp>
          <p:nvCxnSpPr>
            <p:cNvPr id="83" name="_s70682"/>
            <p:cNvCxnSpPr>
              <a:stCxn id="84" idx="0"/>
              <a:endCxn id="85" idx="2"/>
            </p:cNvCxnSpPr>
            <p:nvPr/>
          </p:nvCxnSpPr>
          <p:spPr>
            <a:xfrm flipV="1">
              <a:off x="4364280" y="3496680"/>
              <a:ext cx="28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70676"/>
            <p:cNvCxnSpPr>
              <a:stCxn id="85" idx="0"/>
              <a:endCxn id="87" idx="2"/>
            </p:cNvCxnSpPr>
            <p:nvPr/>
          </p:nvCxnSpPr>
          <p:spPr>
            <a:xfrm flipH="1" flipV="1" rot="5400000">
              <a:off x="4411080" y="2764080"/>
              <a:ext cx="229320" cy="322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7" name="_s70662"/>
            <p:cNvSpPr/>
            <p:nvPr/>
          </p:nvSpPr>
          <p:spPr>
            <a:xfrm>
              <a:off x="3534480" y="2354400"/>
              <a:ext cx="230508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ALITY COUNC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70675"/>
            <p:cNvSpPr/>
            <p:nvPr/>
          </p:nvSpPr>
          <p:spPr>
            <a:xfrm>
              <a:off x="3305880" y="3040200"/>
              <a:ext cx="211464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ALITY 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70681"/>
            <p:cNvSpPr/>
            <p:nvPr/>
          </p:nvSpPr>
          <p:spPr>
            <a:xfrm>
              <a:off x="3534480" y="3726000"/>
              <a:ext cx="16578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066680" y="3048120"/>
            <a:ext cx="152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481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29718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70160" y="263196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048120"/>
            <a:ext cx="2743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0481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FOR NEW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95480"/>
            <a:ext cx="304812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048120"/>
            <a:ext cx="2895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2971800"/>
            <a:ext cx="289548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DEC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72428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PERMISSIVE APPROACH BUT A WELL DESIGN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KNOWS WHO THE BOSS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DISTINCTION BETWEEN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 KEEP IN TOUCH, STAY INFORMED AND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ARE BASED ON TRUST AND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TO-DAY DECISIONS MADE BY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 DIRECTION AND MAJOR RESOURCE DECISIONS GO TO QUALITY COUNCIL/PASTORS FOR FINAL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ORS AND STAFF WILL HAVE MORE TIME TO FOCUS ON THEIR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OMMUNICATION AND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CUS ON VALUES, PRIORITIES AN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, GOALS, DECISIONS COME FROM THE TOP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FEEL THEY HAVE NO INPUT IN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ORDINATES FEEL THEY HAVE LITTL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 CAN BE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 COME FROM THE TOP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COME THE BOTT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S 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MAKE DECISIONS THAT AFFEC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CTS THE DIGNITY OF TH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MPOWERMENT &amp; 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DECISION MAKING AT THE PROP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OUR PEOPLE I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OMMUNICATION AND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US REFOCUS ON VALUES, PRIORITIES AND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VISION, MISSION AND VALUES (CHART THE COUR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D WITH MAJOR RESOURCE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LAY PEOPLE DISCOVER THEIR GI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, EQUIP AND EMPOWER THEM TO UTILIZE THESE GIFTS TO DO MIN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ERVE AS TEAM LEADERS OR CHAMP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LEADERS/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NEED AND ME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OALS AND STEPS TO ACHIEVE THESE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AY-TO-DAY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ACCOMP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ALI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OUT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RISE WHO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AND CARE ABOUT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WORKING ENVIRONMENT THAT INSPIRES TRUST, TEAMWORK AND P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RESPONSIBILITY &amp; AUTHORITY TO MAKE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OUTPUTS (NOT INPUTS), SERVICE (NOT THE J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“INVOLVEMENT PROGRA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A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S SET THEIR OWN GOALS, MEASURE PROGRESS, RECOGNIZE &amp; REWAR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WILL BE ALIGNED WITH THE SUNRISE STRATEGIC PLAN (VISION, MISSION, CORE VAL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S WILL PUBLISH DECISIONS:WEBSITE, COMMUN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MBIGUOUS ACHIEVEMENT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SURATE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LUTTERED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COMPOSITION</a:t>
            </a:r>
            <a:br>
              <a:rPr sz="4000"/>
            </a:br>
            <a:br>
              <a:rPr sz="7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5-12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S TEAM; PROCESS OW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LEADE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S &amp; LEAD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B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MATTER EXPER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..FINANCE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FUNCTIONAL; ANYONE AFFECTED BY TH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S DECISIONS WILL B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EAMS MAY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EVERYONE PARTICIPATING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TEAM HOW THEY ARE DOING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KEEPE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TIME LIMITS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MP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BY SENIOR LEADERSHIP OR QUALITY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PION SELECTS TEAM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OVERALL APPROVAL AUTHORITY OVER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T ANY LEVEL IN THE CHURCH BASED ON THE LEVEL OF THE PROCESS (SENIOR LEVEL, STAFF OR LAY LE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TOP AN INITIATIVE IF REQUIREMENTS NOT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3:45:22Z</dcterms:created>
  <dc:creator>beau.nunnally</dc:creator>
  <dc:description/>
  <dc:language>en-US</dc:language>
  <cp:lastModifiedBy> </cp:lastModifiedBy>
  <dcterms:modified xsi:type="dcterms:W3CDTF">2007-11-18T13:28:32Z</dcterms:modified>
  <cp:revision>43</cp:revision>
  <dc:subject/>
  <dc:title>The Team Approach</dc:title>
</cp:coreProperties>
</file>