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7759-3309-4B44-9D01-5EBD831B19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BCDF-0D8C-4E90-AD96-4515D9A5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3D89-12D7-4A20-9B92-A92CBED0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893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166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616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893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166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C2AD-2DF8-4120-98BB-6420F0A9F0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5A12B-601F-444E-BEDA-1C515C9F5C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4BF34-2FF8-4A65-B07E-EE4BC975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F42AF-F98D-4ECB-B54D-962D9DB1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E23CD-1EDD-48EF-A022-D9F80E62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75C86-4810-4E73-9975-C10B954C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905120" y="228240"/>
            <a:ext cx="708480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36CC2-8A2A-40BE-BB9C-640C0FB0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46A2C-A58B-468E-848A-23143AF5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0ABE-2E3A-4440-8E59-FD20B8CA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D93ED-CBE7-42D2-8441-EDD6DAEB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C6437-3BC9-4AEE-BFB1-A0A0E17D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7BE42-5DA1-41AD-891A-FEBB16FB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36D78-8D65-4F67-87BF-D5F6992D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893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166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616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893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166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D9AF3-C9C6-4410-9003-7562D9914F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CCF3-5D45-48E5-A7B1-C4CEE3DF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F23B-4CD1-4ED2-B3B1-20A3D4D4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6C73-AE4E-4AC7-A7A6-C162CA8C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05120" y="228240"/>
            <a:ext cx="708480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7DD7-F6BD-4B61-9861-99D737BE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BAFB-9EDF-4990-94C0-E44000E8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7241-6A08-4014-A01F-006C4411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5434-6FE9-41C2-B73C-4F6BDCCA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6560"/>
            <a:chOff x="0" y="0"/>
            <a:chExt cx="17524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52280" y="374760"/>
              <a:ext cx="1525680" cy="1226880"/>
              <a:chOff x="152280" y="374760"/>
              <a:chExt cx="1525680" cy="1226880"/>
            </a:xfrm>
          </p:grpSpPr>
          <p:sp>
            <p:nvSpPr>
              <p:cNvPr id="3" name=""/>
              <p:cNvSpPr/>
              <p:nvPr/>
            </p:nvSpPr>
            <p:spPr>
              <a:xfrm>
                <a:off x="1171440" y="785880"/>
                <a:ext cx="506520" cy="506520"/>
              </a:xfrm>
              <a:prstGeom prst="pie">
                <a:avLst/>
              </a:pr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52280" y="785880"/>
                <a:ext cx="506520" cy="50652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239040" y="374760"/>
                <a:ext cx="1308600" cy="1226880"/>
                <a:chOff x="239040" y="374760"/>
                <a:chExt cx="1308600" cy="1226880"/>
              </a:xfrm>
            </p:grpSpPr>
            <p:sp>
              <p:nvSpPr>
                <p:cNvPr id="6" name=""/>
                <p:cNvSpPr/>
                <p:nvPr/>
              </p:nvSpPr>
              <p:spPr>
                <a:xfrm flipH="1" rot="10800000">
                  <a:off x="238680" y="376200"/>
                  <a:ext cx="1305000" cy="122544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41200" y="374760"/>
                  <a:ext cx="654120" cy="1226880"/>
                </a:xfrm>
                <a:prstGeom prst="pie">
                  <a:avLst/>
                </a:prstGeom>
                <a:solidFill>
                  <a:srgbClr val="002010">
                    <a:alpha val="50000"/>
                  </a:srgbClr>
                </a:solidFill>
                <a:ln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41200" y="374760"/>
                  <a:ext cx="1306440" cy="122040"/>
                </a:xfrm>
                <a:prstGeom prst="pie">
                  <a:avLst/>
                </a:prstGeom>
                <a:solidFill>
                  <a:srgbClr val="71bb96">
                    <a:alpha val="50000"/>
                  </a:srgbClr>
                </a:solidFill>
                <a:ln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93880" y="374760"/>
                  <a:ext cx="653760" cy="1226880"/>
                </a:xfrm>
                <a:prstGeom prst="pie">
                  <a:avLst/>
                </a:prstGeom>
                <a:solidFill>
                  <a:srgbClr val="006633">
                    <a:alpha val="50000"/>
                  </a:srgbClr>
                </a:solidFill>
                <a:ln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152280" y="1117440"/>
                <a:ext cx="1522440" cy="173160"/>
              </a:xfrm>
              <a:prstGeom prst="rect">
                <a:avLst/>
              </a:prstGeom>
              <a:gradFill rotWithShape="0">
                <a:gsLst>
                  <a:gs pos="0">
                    <a:srgbClr val="71bb96"/>
                  </a:gs>
                  <a:gs pos="50000">
                    <a:srgbClr val="000000"/>
                  </a:gs>
                  <a:gs pos="100000">
                    <a:srgbClr val="71bb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44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9.05.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124080" y="639936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23A3D0-ED12-4779-B146-40A154D963D4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3b"/>
            </a:gs>
            <a:gs pos="50000">
              <a:srgbClr val="000000"/>
            </a:gs>
            <a:gs pos="100000">
              <a:srgbClr val="00763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3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133720" y="473040"/>
              <a:ext cx="4878360" cy="3490920"/>
              <a:chOff x="2133720" y="473040"/>
              <a:chExt cx="4878360" cy="3490920"/>
            </a:xfrm>
          </p:grpSpPr>
          <p:sp>
            <p:nvSpPr>
              <p:cNvPr id="55" name=""/>
              <p:cNvSpPr/>
              <p:nvPr/>
            </p:nvSpPr>
            <p:spPr>
              <a:xfrm>
                <a:off x="2133720" y="1643040"/>
                <a:ext cx="1617480" cy="1440000"/>
              </a:xfrm>
              <a:prstGeom prst="pi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94240" y="1643040"/>
                <a:ext cx="1617840" cy="1440000"/>
              </a:xfrm>
              <a:prstGeom prst="pie">
                <a:avLst/>
              </a:pr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494080" y="473040"/>
                <a:ext cx="4178160" cy="3490920"/>
                <a:chOff x="2494080" y="473040"/>
                <a:chExt cx="4178160" cy="3490920"/>
              </a:xfrm>
            </p:grpSpPr>
            <p:sp>
              <p:nvSpPr>
                <p:cNvPr id="58" name=""/>
                <p:cNvSpPr/>
                <p:nvPr/>
              </p:nvSpPr>
              <p:spPr>
                <a:xfrm flipH="1" rot="10800000">
                  <a:off x="2495520" y="474840"/>
                  <a:ext cx="4176720" cy="348912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94080" y="473040"/>
                  <a:ext cx="2089080" cy="3490920"/>
                </a:xfrm>
                <a:prstGeom prst="pie">
                  <a:avLst/>
                </a:prstGeom>
                <a:solidFill>
                  <a:srgbClr val="002010">
                    <a:alpha val="50000"/>
                  </a:srgbClr>
                </a:solidFill>
                <a:ln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94080" y="473040"/>
                  <a:ext cx="4178160" cy="344520"/>
                </a:xfrm>
                <a:prstGeom prst="pie">
                  <a:avLst/>
                </a:prstGeom>
                <a:solidFill>
                  <a:srgbClr val="71bb96">
                    <a:alpha val="50000"/>
                  </a:srgbClr>
                </a:solidFill>
                <a:ln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581360" y="473040"/>
                  <a:ext cx="2090880" cy="3490920"/>
                </a:xfrm>
                <a:prstGeom prst="pie">
                  <a:avLst/>
                </a:prstGeom>
                <a:solidFill>
                  <a:srgbClr val="006633">
                    <a:alpha val="50000"/>
                  </a:srgbClr>
                </a:solidFill>
                <a:ln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2133720" y="2589120"/>
                <a:ext cx="4871880" cy="492120"/>
              </a:xfrm>
              <a:prstGeom prst="rect">
                <a:avLst/>
              </a:prstGeom>
              <a:gradFill rotWithShape="0">
                <a:gsLst>
                  <a:gs pos="0">
                    <a:srgbClr val="71bb96"/>
                  </a:gs>
                  <a:gs pos="50000">
                    <a:srgbClr val="000000"/>
                  </a:gs>
                  <a:gs pos="100000">
                    <a:srgbClr val="71bb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685440" y="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9.05.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6553080" y="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B860CB-45FE-42E9-A52B-FD1D758D2608}" type="slidenum">
              <a:rPr b="0" lang="pl-PL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3b"/>
            </a:gs>
            <a:gs pos="50000">
              <a:srgbClr val="000000"/>
            </a:gs>
            <a:gs pos="100000">
              <a:srgbClr val="00763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7788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6000" spc="-1" strike="noStrike">
                <a:solidFill>
                  <a:srgbClr val="ff9900"/>
                </a:solidFill>
                <a:latin typeface="Times New Roman"/>
              </a:rPr>
              <a:t>Lorem ipsum dolor sit amet..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5720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9900"/>
                </a:solidFill>
                <a:latin typeface="Times New Roman"/>
              </a:rPr>
              <a:t>Lorem ipsum dolor sit amet, consectetur adipiscing eli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71bb9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15:24:32Z</dcterms:created>
  <dc:creator>Mariusz Dragan</dc:creator>
  <dc:description/>
  <dc:language>en-US</dc:language>
  <cp:lastModifiedBy>MaNiAc!</cp:lastModifiedBy>
  <cp:lastPrinted>2001-10-21T10:50:30Z</cp:lastPrinted>
  <dcterms:modified xsi:type="dcterms:W3CDTF">2009-05-09T10:12:54Z</dcterms:modified>
  <cp:revision>17</cp:revision>
  <dc:subject/>
  <dc:title>SAMOUCZEK</dc:title>
</cp:coreProperties>
</file>