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66276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248280"/>
            <a:ext cx="66276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0116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24828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701160" y="324828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545560" y="121932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6560" y="121932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24828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545560" y="324828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786560" y="324828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662760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719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662760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2342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01160" y="1219320"/>
            <a:ext cx="32342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662760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719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01160" y="1219320"/>
            <a:ext cx="32342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24828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662760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7199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2342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0116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701160" y="324828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0116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248280"/>
            <a:ext cx="66276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66276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248280"/>
            <a:ext cx="66276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0116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24828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701160" y="324828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545560" y="121932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86560" y="121932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24828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545560" y="324828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786560" y="3248280"/>
            <a:ext cx="21337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662760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2342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701160" y="1219320"/>
            <a:ext cx="32342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662760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7199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701160" y="1219320"/>
            <a:ext cx="32342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24828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2342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0116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701160" y="324828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01160" y="1219320"/>
            <a:ext cx="323424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248280"/>
            <a:ext cx="66276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38880" y="0"/>
            <a:ext cx="1905120" cy="6858000"/>
          </a:xfrm>
          <a:prstGeom prst="rect">
            <a:avLst/>
          </a:pr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990720"/>
            <a:ext cx="7238880" cy="4343400"/>
          </a:xfrm>
          <a:prstGeom prst="rect">
            <a:avLst/>
          </a:prstGeom>
          <a:solidFill>
            <a:srgbClr val="99c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7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71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662760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1E8CFE-3600-4A53-86E6-0DB4086580E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298520" cy="568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851520" y="5715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4573440" cy="6873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16000" y="0"/>
            <a:ext cx="6885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69325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71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762120"/>
            <a:ext cx="7010280" cy="1440"/>
          </a:xfrm>
          <a:prstGeom prst="line">
            <a:avLst/>
          </a:prstGeom>
          <a:ln w="9360">
            <a:solidFill>
              <a:srgbClr val="007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543800" y="228600"/>
            <a:ext cx="1298520" cy="568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69339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199"/>
                </a:solidFill>
                <a:latin typeface="Verdana"/>
              </a:rPr>
              <a:t>title</a:t>
            </a: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615600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7199"/>
                </a:solidFill>
                <a:latin typeface="Verdana"/>
              </a:rPr>
              <a:t>subtitle</a:t>
            </a:r>
            <a:endParaRPr b="0" lang="en-US" sz="2400" spc="-1" strike="noStrike">
              <a:solidFill>
                <a:srgbClr val="0071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62940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199"/>
                </a:solidFill>
                <a:latin typeface="Verdana"/>
              </a:rPr>
              <a:t>title2</a:t>
            </a: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62940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7199"/>
                </a:solidFill>
                <a:latin typeface="Verdana"/>
              </a:rPr>
              <a:t>title3</a:t>
            </a:r>
            <a:endParaRPr b="0" lang="en-US" sz="2800" spc="-1" strike="noStrike">
              <a:solidFill>
                <a:srgbClr val="007199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6629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ext tex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