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719-403D-4D98-92BF-C2D71DF3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DF17-4C41-4C70-B33F-52DF84EA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D2F-1665-4FED-BA63-277C7E3F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61E-3273-4D58-9F1D-B7556C17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01D-F551-409F-B352-40D7C404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67B-2815-433A-A72A-EC9EEF73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F36-6CFB-4A94-8100-4E67F851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9E1-A44C-4C12-BEAB-0736AB62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CA9-FF02-4B0D-AAC4-D0D6E969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6D9-8681-449E-92DE-CB43542D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0B1-EBA6-4D69-8A40-E2699D21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18F-588C-4725-BCD4-5E7CD1ED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FCF6-9056-4113-8220-6D489B1ED1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765000"/>
            <a:ext cx="6629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Shape of  font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      Ring  Insi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three line text  t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  fourth   line  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 many people to do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56000" y="3860640"/>
            <a:ext cx="3511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ing Insi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47640" y="3068640"/>
            <a:ext cx="101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est font size 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219640" y="3429000"/>
            <a:ext cx="757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e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o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557360"/>
            <a:ext cx="1224000" cy="1008000"/>
          </a:xfrm>
          <a:prstGeom prst="wedgeRoundRectCallout">
            <a:avLst>
              <a:gd name="adj1" fmla="val -50907"/>
              <a:gd name="adj2" fmla="val 85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est font size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92720" y="1413000"/>
            <a:ext cx="1224000" cy="1368360"/>
          </a:xfrm>
          <a:prstGeom prst="wedgeRoundRectCallout">
            <a:avLst>
              <a:gd name="adj1" fmla="val -49611"/>
              <a:gd name="adj2" fmla="val 9396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ont size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47640" y="3068640"/>
            <a:ext cx="101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est font size 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557360"/>
            <a:ext cx="1224000" cy="1008000"/>
          </a:xfrm>
          <a:prstGeom prst="wedgeRoundRectCallout">
            <a:avLst>
              <a:gd name="adj1" fmla="val -50907"/>
              <a:gd name="adj2" fmla="val 85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est font type 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64000" y="3284640"/>
            <a:ext cx="101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新宋体"/>
              </a:rPr>
              <a:t>test font size 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新宋体"/>
              <a:ea typeface="新宋体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1773360"/>
            <a:ext cx="1224000" cy="1008000"/>
          </a:xfrm>
          <a:prstGeom prst="wedgeRoundRectCallout">
            <a:avLst>
              <a:gd name="adj1" fmla="val -50907"/>
              <a:gd name="adj2" fmla="val 85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est font typ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宋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588000" y="3139920"/>
            <a:ext cx="1014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test font size 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1628640"/>
            <a:ext cx="1224000" cy="1008360"/>
          </a:xfrm>
          <a:prstGeom prst="wedgeRoundRectCallout">
            <a:avLst>
              <a:gd name="adj1" fmla="val -50907"/>
              <a:gd name="adj2" fmla="val 85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est font typ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华文行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02:49:03Z</dcterms:created>
  <dc:creator>jiyu</dc:creator>
  <dc:description/>
  <dc:language>en-US</dc:language>
  <cp:lastModifiedBy>sunying</cp:lastModifiedBy>
  <dcterms:modified xsi:type="dcterms:W3CDTF">2012-08-17T06:36:53Z</dcterms:modified>
  <cp:revision>16</cp:revision>
  <dc:subject/>
  <dc:title>Slide 1</dc:title>
</cp:coreProperties>
</file>