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E3FD-9937-4212-9842-80CAE3AC1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50D0-E3F4-4E6D-B26A-4B42EF6D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D9F4-5603-412A-AB87-86B4810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40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94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40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94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05D6-B4A1-406A-9215-9A4CFF302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AD01-257A-4194-85AD-1A5391B1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40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940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40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940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F3F7-8321-4A40-BFE1-5B018966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975A-91FA-467A-9845-565B9C3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EC02-5E90-4885-8AFC-2AE658DC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D70B-041B-447C-A640-F9770489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BA66-1A40-48DD-AE38-2015C3E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1880" y="392544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9A1A-F5B2-41AB-A9BE-8522B1B2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1880" y="1218960"/>
            <a:ext cx="416484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925440"/>
            <a:ext cx="8534520" cy="24714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DE05-6DEF-4373-84EE-3DE6B1EF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1199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3" marL="1523880" indent="-190440">
              <a:spcBef>
                <a:spcPts val="1199"/>
              </a:spcBef>
              <a:buClr>
                <a:srgbClr val="d7281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4" marL="1905120" indent="-190440">
              <a:spcBef>
                <a:spcPts val="1199"/>
              </a:spcBef>
              <a:buClr>
                <a:srgbClr val="d7281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5" marL="1905120" indent="-190440">
              <a:spcBef>
                <a:spcPts val="119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6" marL="1905120" indent="-190440">
              <a:spcBef>
                <a:spcPts val="119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2814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f5f5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f5f5f"/>
                </a:solidFill>
                <a:latin typeface="Verdana"/>
              </a:rPr>
              <a:t>05/02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608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f5f5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8BF-0A1F-429A-9B9E-2E528EE17FB0}" type="slidenum">
              <a:rPr b="0" lang="fr-FR" sz="1000" spc="-1" strike="noStrike">
                <a:solidFill>
                  <a:srgbClr val="5f5f5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e1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5" name="gd-solucom" descr=""/>
          <p:cNvPicPr/>
          <p:nvPr/>
        </p:nvPicPr>
        <p:blipFill>
          <a:blip r:embed="rId2"/>
          <a:srcRect l="15417" t="31190" r="15715" b="16512"/>
          <a:stretch/>
        </p:blipFill>
        <p:spPr>
          <a:xfrm>
            <a:off x="0" y="0"/>
            <a:ext cx="13892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8429760" y="0"/>
            <a:ext cx="714240" cy="819000"/>
            <a:chOff x="8429760" y="0"/>
            <a:chExt cx="714240" cy="819000"/>
          </a:xfrm>
        </p:grpSpPr>
        <p:pic>
          <p:nvPicPr>
            <p:cNvPr id="7" name="logo_bas" descr=""/>
            <p:cNvPicPr/>
            <p:nvPr/>
          </p:nvPicPr>
          <p:blipFill>
            <a:blip r:embed="rId3"/>
            <a:stretch/>
          </p:blipFill>
          <p:spPr>
            <a:xfrm>
              <a:off x="8429760" y="533520"/>
              <a:ext cx="71424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logo_haut" descr=""/>
            <p:cNvPicPr/>
            <p:nvPr/>
          </p:nvPicPr>
          <p:blipFill>
            <a:blip r:embed="rId4"/>
            <a:stretch/>
          </p:blipFill>
          <p:spPr>
            <a:xfrm>
              <a:off x="8429760" y="0"/>
              <a:ext cx="714240" cy="561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4960" y="30481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d72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47" name="gd-solucom" descr=""/>
          <p:cNvPicPr/>
          <p:nvPr/>
        </p:nvPicPr>
        <p:blipFill>
          <a:blip r:embed="rId2"/>
          <a:srcRect l="15417" t="22016" r="15417" b="16512"/>
          <a:stretch/>
        </p:blipFill>
        <p:spPr>
          <a:xfrm>
            <a:off x="0" y="0"/>
            <a:ext cx="355608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914400" indent="38160" algn="ctr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3" marL="1333440" algn="ctr">
              <a:spcBef>
                <a:spcPts val="400"/>
              </a:spcBef>
              <a:buClr>
                <a:srgbClr val="d7281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Verdana"/>
            </a:endParaRPr>
          </a:p>
          <a:p>
            <a:pPr lvl="4" marL="1714680" algn="ctr">
              <a:spcBef>
                <a:spcPts val="349"/>
              </a:spcBef>
              <a:buClr>
                <a:srgbClr val="d72814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lvl="5" marL="1714680">
              <a:spcBef>
                <a:spcPts val="34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lvl="6" marL="1714680">
              <a:spcBef>
                <a:spcPts val="349"/>
              </a:spcBef>
              <a:buClr>
                <a:srgbClr val="5f5f5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66720" y="251424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f5f5f"/>
                </a:solidFill>
                <a:latin typeface="Verdana"/>
              </a:rPr>
              <a:t>Jeudis de l’ATICA</a:t>
            </a:r>
            <a:endParaRPr b="0" lang="en-US" sz="36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6720" y="38858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5f5f"/>
                </a:solidFill>
                <a:latin typeface="Verdana"/>
              </a:rPr>
              <a:t>Projet EAI et Web Services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5f5f"/>
                </a:solidFill>
                <a:latin typeface="Verdana"/>
              </a:rPr>
              <a:t>chez un Opérateur internationa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562720"/>
            <a:ext cx="5257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05 février 2003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huoc HO-HUU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Wingdings"/>
                <a:ea typeface="Wingdings"/>
              </a:rPr>
              <a:t>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huoc.ho-huu@solucom.fr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05520" y="685800"/>
            <a:ext cx="2284920" cy="2056680"/>
            <a:chOff x="5105520" y="685800"/>
            <a:chExt cx="2284920" cy="2056680"/>
          </a:xfrm>
        </p:grpSpPr>
        <p:pic>
          <p:nvPicPr>
            <p:cNvPr id="89" name="logo_bas" descr=""/>
            <p:cNvPicPr/>
            <p:nvPr/>
          </p:nvPicPr>
          <p:blipFill>
            <a:blip r:embed="rId1"/>
            <a:stretch/>
          </p:blipFill>
          <p:spPr>
            <a:xfrm>
              <a:off x="5105520" y="2024640"/>
              <a:ext cx="22849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logo_haut" descr=""/>
            <p:cNvPicPr/>
            <p:nvPr/>
          </p:nvPicPr>
          <p:blipFill>
            <a:blip r:embed="rId2"/>
            <a:stretch/>
          </p:blipFill>
          <p:spPr>
            <a:xfrm>
              <a:off x="5105520" y="685800"/>
              <a:ext cx="2284920" cy="14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76320" y="6620040"/>
            <a:ext cx="259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5f5f5f"/>
                </a:solidFill>
                <a:latin typeface="Verdana"/>
              </a:rPr>
              <a:t>Réf. : PHH/0368D1.01.0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mise à jour du référentiel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7" idx="2"/>
            <a:endCxn id="238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762440" y="4267080"/>
            <a:ext cx="3467520" cy="1447920"/>
            <a:chOff x="4762440" y="4267080"/>
            <a:chExt cx="3467520" cy="1447920"/>
          </a:xfrm>
        </p:grpSpPr>
        <p:cxnSp>
          <p:nvCxnSpPr>
            <p:cNvPr id="251" name=""/>
            <p:cNvCxnSpPr>
              <a:stCxn id="227" idx="0"/>
              <a:endCxn id="220" idx="3"/>
            </p:cNvCxnSpPr>
            <p:nvPr/>
          </p:nvCxnSpPr>
          <p:spPr>
            <a:xfrm flipH="1" flipV="1" rot="5400000">
              <a:off x="7314840" y="5028480"/>
              <a:ext cx="1181880" cy="191160"/>
            </a:xfrm>
            <a:prstGeom prst="bentConnector4">
              <a:avLst>
                <a:gd name="adj1" fmla="val 38695"/>
                <a:gd name="adj2" fmla="val 220000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6279840" y="4952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654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3360" y="5410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26" idx="0"/>
              <a:endCxn id="220" idx="2"/>
            </p:cNvCxnSpPr>
            <p:nvPr/>
          </p:nvCxnSpPr>
          <p:spPr>
            <a:xfrm flipH="1" flipV="1" rot="5400000">
              <a:off x="6342840" y="4743360"/>
              <a:ext cx="915120" cy="10288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23" idx="0"/>
              <a:endCxn id="220" idx="1"/>
            </p:cNvCxnSpPr>
            <p:nvPr/>
          </p:nvCxnSpPr>
          <p:spPr>
            <a:xfrm flipH="1" flipV="1" rot="5400000">
              <a:off x="5105160" y="4190400"/>
              <a:ext cx="1181880" cy="18676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</p:grpSp>
      <p:grpSp>
        <p:nvGrpSpPr>
          <p:cNvPr id="25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5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27520" y="38862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A488-273C-43DE-8ADF-D149CF459CD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C1BEF-4263-406E-B6E9-96CB918E7FB7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mise à jour du SI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7" idx="2"/>
            <a:endCxn id="278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0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762440" y="4267080"/>
            <a:ext cx="3467520" cy="1447920"/>
            <a:chOff x="4762440" y="4267080"/>
            <a:chExt cx="3467520" cy="1447920"/>
          </a:xfrm>
        </p:grpSpPr>
        <p:cxnSp>
          <p:nvCxnSpPr>
            <p:cNvPr id="291" name=""/>
            <p:cNvCxnSpPr>
              <a:stCxn id="267" idx="0"/>
              <a:endCxn id="260" idx="3"/>
            </p:cNvCxnSpPr>
            <p:nvPr/>
          </p:nvCxnSpPr>
          <p:spPr>
            <a:xfrm flipH="1" flipV="1" rot="5400000">
              <a:off x="7314840" y="5028480"/>
              <a:ext cx="1181880" cy="191160"/>
            </a:xfrm>
            <a:prstGeom prst="bentConnector4">
              <a:avLst>
                <a:gd name="adj1" fmla="val 38695"/>
                <a:gd name="adj2" fmla="val 22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6279840" y="4952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54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13360" y="5410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66" idx="0"/>
              <a:endCxn id="260" idx="2"/>
            </p:cNvCxnSpPr>
            <p:nvPr/>
          </p:nvCxnSpPr>
          <p:spPr>
            <a:xfrm flipH="1" flipV="1" rot="5400000">
              <a:off x="6342840" y="4743360"/>
              <a:ext cx="915120" cy="10288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cxnSp>
          <p:nvCxnSpPr>
            <p:cNvPr id="296" name=""/>
            <p:cNvCxnSpPr>
              <a:stCxn id="263" idx="0"/>
              <a:endCxn id="260" idx="1"/>
            </p:cNvCxnSpPr>
            <p:nvPr/>
          </p:nvCxnSpPr>
          <p:spPr>
            <a:xfrm flipH="1" flipV="1" rot="5400000">
              <a:off x="5105160" y="4190400"/>
              <a:ext cx="1181880" cy="18676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9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7520" y="3809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2DC4-90B8-4F79-9908-12DBA9048E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C1268-CA96-4EE4-881E-8A1B71878422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4000"/>
          </a:bodyPr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jet pris en charge par une entité transverse d’architectur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Vision globale des SVA existants et à veni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Vision globale de l’architecture technique (SI, réseau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xistence de recommandations EAI « groupe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 technique : ObjectSwith de Kabir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 métier : webMethods Enterprise Server de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74320" indent="-2743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upport par deux centres internes d’expertise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Le premier pour ObjectSwith et le second pour webMethods Enterprise Serv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apitalisation des connaissances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16040" indent="-2624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etour d’expérience des projets EAI au sein du group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Organisation interne 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D41B-5B80-4AEC-A534-EDFDCA884C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1139D-B8FB-46AE-897B-80DE0208FE80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8000"/>
          </a:bodyPr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Lancement d’un « Request For Inform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eux problématiques proches et peut-être une seule solu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Études des solutions pouvant répondre globalemen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Lancement d’un « Request For Quot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utils identifiés lors du RF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nsultation des SSIIs présentes en Franc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5840" indent="-2858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Mise en œuvre pour la Franc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type pour valider l’architecture et les performan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pécifications fonctionnelles et techniques définitiv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égration sur la future plate-forme de produc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46640" indent="-2736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se en produc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émarche projet 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52CC-5AE5-41C7-AA61-950DCDEEC6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87F61-B635-4F12-96AD-C06544A65DD6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3895200" y="4191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" y="1295280"/>
            <a:ext cx="419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Orientation B2B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Ouverture vers l’extérieur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rotocoles standardisés et ouvert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as de bibliothèques de connecteurs spécifique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as de transformation des données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estion du workflow émergente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Impacts forts sur la sécurité (externe SI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1295280"/>
            <a:ext cx="4192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Uniformisation du SI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Applications du SI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énéralement propriétaires, même si support de standards comme XML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Bibliothèques riches de connecteurs spécifiques (SI, réseau, etc.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Transformation des données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Gestion du workflow</a:t>
            </a:r>
            <a:br>
              <a:rPr sz="1800"/>
            </a:b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 lvl="1" marL="762120" indent="-279360">
              <a:lnSpc>
                <a:spcPct val="100000"/>
              </a:lnSpc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86040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Impacts modérés sur la sécurité (interne SI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 Services et EAI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es différences…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FFC9-0CA9-4D94-BF57-E13DEF3C180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8FE8A-FCE4-4CB8-B1F6-03DC1D9EB52D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7000"/>
          </a:bodyPr>
          <a:p>
            <a:pPr marL="282960" indent="-282960">
              <a:spcBef>
                <a:spcPts val="499"/>
              </a:spcBef>
              <a:spcAft>
                <a:spcPts val="499"/>
              </a:spcAft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acilitateurs de communication inter application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499"/>
              </a:spcBef>
              <a:spcAft>
                <a:spcPts val="499"/>
              </a:spcAft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jets transverses d’urbanisation du SI et de B2B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ise en compte de la dynamique « Web Services » par les éditeurs d’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Jusqu’ici, uniquement support de XM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Bientôt, support natif de SOAP et WSDL (webMethods Integration Server 6 par exemple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ientôt, les Web Services permettront de :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Standardiser les interfaces de communication des EAI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spcBef>
                <a:spcPts val="675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Faire de l’EAI à couplage faible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spcBef>
                <a:spcPts val="901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Web Services et EAI sont complémentair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 Services et EAI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Et des points commu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4385-D747-4459-ADD5-024331A339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3E992-AB34-4141-B860-A9611119F7C9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1000"/>
          </a:bodyPr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parfait = Web Services +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s offres Web Services et des offres EAI étudiées (entretiens avec les éditeurs, études de documents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epona Causeway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BM CrossWorl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comit Movad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crosoft .NE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 par une filial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5680" indent="-265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offres privilégiées pour des raisons financières et les fortes compétences intern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bjectSwitch de Kabir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93360" indent="-2541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 de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 la recherche de l’outil idéal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9DB9-3B36-4682-836F-F295445EEF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E876E-2CCD-408F-AC63-781B237FE7DA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0000"/>
          </a:bodyPr>
          <a:p>
            <a:pPr marL="262440" indent="-262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d’EAI technique proposant ses propres outils de développemen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délisation UML (Rational Rose avec plug-in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orte capacité à intégrer des équipements télécom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Nombreux protocoles télécoms supporté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Arial"/>
              </a:rPr>
              <a:t>Nombreuses références de projets en production en environnement télécoms (médiation et activation de servic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85800" indent="-2512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Arial"/>
              </a:rPr>
              <a:t>Existence de produits « clés en main » répondant à certains besoins spécifiques orientés opérat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Montées en charge importantes possibles et robustess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Complexité des développement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Solution de workflow peu pérenn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ObjectSwitch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A81A-F477-4684-85DD-5812D2996A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6990A-C5C5-44F6-9E82-64D315C224F8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til d’EAI généralist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Forte capacité à intégrer des applications de type S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atalogue important d’adaptateurs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giciels, bases de données, grands systèm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u de compétences techniques pointues requis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Outils de supervision technique et fonctionnell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Peu de connecteurs techniques, notamment télécom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Performances très en deçà de celles d’ObjectSwitch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webMethods Enterprise Server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ACB6-0F9E-42D6-B125-AE8C844163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61EF1-549A-4701-815F-AB493CEA931B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895200" y="3691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6000"/>
          </a:bodyPr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ibliothèque d’adaptateurs (30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coles Web Services (SOAP, HTTP, XML-RPC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utres protocoles (JDBC, LDAP, RMI, Tuxedo, MQSeri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ichesse fonctionnelle de l’outil (30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dules d’authentification / autorisation (partenair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Types de communication supportés (message, transaction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util de gestion du workflow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ritères commerciaux (15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ces pour des volumes et performance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1520" indent="-26784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ces pour des contextes fonctionnel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0080" indent="-2800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s et haute disponibilité (25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ritères d’évalu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EF83-2A6D-4704-8BD5-2032898CCB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868A7-AC09-4000-A818-557BAFEC6154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2000"/>
          </a:bodyPr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solutions supérieur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bjectSwitch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eux solutions légèrement en retrai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BM CrossWorl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ecommandations final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conclusion importante : pas d’outil parfait à ce jo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tilisation de 2 outils pour couvrir l’ensemble des besoi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 Enterprise Server pour l’intégration des </a:t>
            </a:r>
            <a:r>
              <a:rPr b="0" lang="fr-FR" sz="2000" spc="-1" strike="noStrike">
                <a:solidFill>
                  <a:srgbClr val="308987"/>
                </a:solidFill>
                <a:latin typeface="Verdana"/>
              </a:rPr>
              <a:t>données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fournies par les applications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olution développée en interne pour les </a:t>
            </a:r>
            <a:r>
              <a:rPr b="0" lang="fr-FR" sz="2000" spc="-1" strike="noStrike">
                <a:solidFill>
                  <a:srgbClr val="308987"/>
                </a:solidFill>
                <a:latin typeface="Verdana"/>
              </a:rPr>
              <a:t>communicatio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s des offres du marché 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ilan du RFI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4DDA-EE23-4F6C-AFD3-FE8098644D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B2E13-CB33-42EA-BDD4-DCBD2DDCDAA9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14400" y="1523880"/>
            <a:ext cx="7315200" cy="4724640"/>
          </a:xfrm>
          <a:prstGeom prst="rect">
            <a:avLst/>
          </a:prstGeom>
          <a:solidFill>
            <a:srgbClr val="e6dcc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Étude des offres du marché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ouverture des besoi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905880" y="16002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22040" y="579132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14120" y="1600200"/>
            <a:ext cx="962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ern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86200"/>
            <a:ext cx="73152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3240" y="601992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Réseau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2209680"/>
            <a:ext cx="6858000" cy="175284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éveloppement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pécifique intern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38098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Method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nterprise Server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B7E3-E6EF-40CF-A80E-86B0FD16063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CE037-CEA7-4F18-80F8-A5BE1C415D1B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3895200" y="472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2000"/>
          </a:bodyPr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ahier des charges élaboré à partir des conclusions du RF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Utilisation de webMethods Enterprise Server pour 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Utilisation d’un développement interne pour les communicatio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Projet critique pour l’opérateu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Contrainte réglementaire forte (échéance à respecter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Nécessité d’avoir une SSII de taille importante disposant des ressources humaines et des compétences nécessair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68560" indent="-2685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Élaboration de la liste des sociétés consulté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éférencées par le centre interne d’expertise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ecommandées en France par l’éditeur webMethod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Sociétés référencées par l’opérateur pour des projets non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00920" indent="-25668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10 sociétés consultées et 3 retenues pour les oraux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ahier des charges et sociétés consulté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092F-66FE-473D-BE84-76E85ED28D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C7C61-69DC-436A-B22F-568E1C3BB364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8000"/>
          </a:bodyPr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late-forme critique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attendue de 99,9 % (matériels et logiciel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s « Communic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 requêtes Web Services par seconde avec SS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requêtes Web Services par seconde sans SS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6680" indent="-25668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 « Données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300 requêtes par seconde en provenance des SVA (remontée d’information vers la base de donnée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requêtes par seconde pour les interrogation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 000 mises à jour en 10 minutes pour les remontées d’information vers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0320" indent="-2455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400 000 mises à jour en 2 heures pour l’intégration des données en provenance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isponibilité et performance attendu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F139-90B9-4001-995F-066D1A08074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00275-BE1B-47F3-A15C-DF3E282ADEE2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33520" y="1188720"/>
            <a:ext cx="807696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Appréciation générale de la réponse et de la société</a:t>
            </a:r>
            <a:br>
              <a:rPr sz="2400"/>
            </a:b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uverture des besoins « Données » (2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uverture des besoins « Communications » (15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Performances globales du système (2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Exploitabilité (15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Sécurité 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Support et maintenance (10 %)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ritères d’évalu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D120-AE98-45CA-B3DE-8E3B2C30773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0161-C5D5-4B73-8ACC-0C52E04B52E4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6840" y="1188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97000"/>
          </a:bodyPr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Deux sociétés largement en tête avec 60/100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Deux sociétés derrière avec 40/100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Autres offres très faibles ou non crédibl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Constats généraux sur les offres reçu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Beaucoup de maquettes, de prototypes et de benchmarks (prestations amont de type « conseil »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Existence d’équipes spécialisées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Bonnes connaissances générales, expertise moindre 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Quelques références intéressantes sur des projets opérationnel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39080" indent="-27072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Helvetica 55 Roman"/>
              </a:rPr>
              <a:t>Aucune référence avec des volumes et des performances compar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82960" indent="-282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Helvetica 55 Roman"/>
              </a:rPr>
              <a:t>Offres en cours de maturation chez les intégrateu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Appel d’offres « SSII »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ilan de l’appel d’offr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6A45-EE99-4FB0-BF06-6E748BDB0A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6C07D-0A62-4056-B3E4-3BE9A6214555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3895200" y="5181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520" y="11890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élai d'obtention des spécifications et jeux de données des systèmes à intégre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souhaitée : dès le début du projet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ésignation et disponibilité des « bons » interlocuteur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erformance de webMethods Enterprise Server et migration vers Integration Server 6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imensionnement et architecture des systèm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Haut niveau de performance demandé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Haut niveau de robustesse et de disponibilité (99,9 %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élai de réalisation très cour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ontée en charge de l'équip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isponibilité de l'infrastructure d'intégration du systèm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Identification des risqu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1B7E-FD3E-4F9A-B1AA-4E32C6468F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92C90-1592-4A08-9152-A76A42E9D25C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9000"/>
          </a:bodyPr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nvironnement des Services à Valeur Ajoutée au sein d’un opérateur internationa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Besoin de mutualisation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formations : terminaux, abonnés, paiement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Services : fonctionnalités de base réutilisab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Augmentation du nombre de SVA et accroissement de l’hétérogénéité de l’environnement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lates-formes internes à l’opérateur ou externalis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rtage de plates-formes avec d’autres filiales européenn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9560" indent="-2595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Ouverture des SVA vers les partenaires extérieu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enforcement des partenariat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-2484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Nouveaux services à valeur ajouté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78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Communiquer et urbaniser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4091-E599-48DF-9AC2-7728CEE394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97C9B-3DE9-48F2-A60E-37AC896C14BD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totype pour s’assurer de l’architecture et des performanc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xigences importantes sur les performan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position des 2 intégrateurs retenus en finale d’oraux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Grande confiance dans les performances (existence de benchmarks effectués par webMethods)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Prototypage en parallèle des spécification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totypage effectué sur des processus simpl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onclusion : l’architecture envisagée répond aux besoins en termes de performanc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Prototype et benchmark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07A3-0B1D-4845-BB94-DB3B979046C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7FAA0-DCC8-46E0-99BB-CAD079656511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générale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cxnSp>
        <p:nvCxnSpPr>
          <p:cNvPr id="351" name=""/>
          <p:cNvCxnSpPr>
            <a:stCxn id="352" idx="2"/>
            <a:endCxn id="353" idx="0"/>
          </p:cNvCxnSpPr>
          <p:nvPr/>
        </p:nvCxnSpPr>
        <p:spPr>
          <a:xfrm>
            <a:off x="4838400" y="2514600"/>
            <a:ext cx="1080" cy="457920"/>
          </a:xfrm>
          <a:prstGeom prst="straightConnector1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5" idx="3"/>
            <a:endCxn id="356" idx="1"/>
          </p:cNvCxnSpPr>
          <p:nvPr/>
        </p:nvCxnSpPr>
        <p:spPr>
          <a:xfrm>
            <a:off x="2133720" y="5676480"/>
            <a:ext cx="129600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7" name=""/>
          <p:cNvCxnSpPr>
            <a:stCxn id="358" idx="0"/>
            <a:endCxn id="359" idx="2"/>
          </p:cNvCxnSpPr>
          <p:nvPr/>
        </p:nvCxnSpPr>
        <p:spPr>
          <a:xfrm flipV="1">
            <a:off x="3978000" y="4060080"/>
            <a:ext cx="1080" cy="127404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3429000" y="2971800"/>
            <a:ext cx="263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 de Donné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res bases de donné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943600"/>
            <a:ext cx="17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1219320"/>
            <a:ext cx="22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10 Sun Fire V10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4191120"/>
            <a:ext cx="270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Cluster 2 Sun Fire V88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Baie StoreEdge 391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5791320"/>
            <a:ext cx="167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Cluste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Verdana"/>
              </a:rPr>
              <a:t>2 Sun Fire V880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65" name="Sun_Fire_Server.jpg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804960" cy="380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429000" y="5105520"/>
            <a:ext cx="2819520" cy="114300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334120"/>
            <a:ext cx="1447920" cy="68580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52" idx="1"/>
            <a:endCxn id="367" idx="3"/>
          </p:cNvCxnSpPr>
          <p:nvPr/>
        </p:nvCxnSpPr>
        <p:spPr>
          <a:xfrm rot="10800000">
            <a:off x="1675800" y="1980360"/>
            <a:ext cx="121968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228600" y="167652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167652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VA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3809880"/>
            <a:ext cx="1143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3809880"/>
            <a:ext cx="533160" cy="3812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52520" y="3886200"/>
            <a:ext cx="38124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114800" y="5105160"/>
            <a:ext cx="609480" cy="60948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4952520" y="4952520"/>
            <a:ext cx="381240" cy="7621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75" name="Sun_Storage_3910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463680" cy="1120680"/>
          </a:xfrm>
          <a:prstGeom prst="rect">
            <a:avLst/>
          </a:prstGeom>
          <a:ln w="0">
            <a:noFill/>
          </a:ln>
        </p:spPr>
      </p:pic>
      <p:pic>
        <p:nvPicPr>
          <p:cNvPr id="376" name="Sun_Fire_V880" descr=""/>
          <p:cNvPicPr/>
          <p:nvPr/>
        </p:nvPicPr>
        <p:blipFill>
          <a:blip r:embed="rId3"/>
          <a:stretch/>
        </p:blipFill>
        <p:spPr>
          <a:xfrm>
            <a:off x="5257800" y="5318280"/>
            <a:ext cx="652320" cy="641160"/>
          </a:xfrm>
          <a:prstGeom prst="rect">
            <a:avLst/>
          </a:prstGeom>
          <a:ln w="0">
            <a:noFill/>
          </a:ln>
        </p:spPr>
      </p:pic>
      <p:pic>
        <p:nvPicPr>
          <p:cNvPr id="377" name="Sun_Fire_V880" descr=""/>
          <p:cNvPicPr/>
          <p:nvPr/>
        </p:nvPicPr>
        <p:blipFill>
          <a:blip r:embed="rId4"/>
          <a:stretch/>
        </p:blipFill>
        <p:spPr>
          <a:xfrm>
            <a:off x="3657600" y="5334120"/>
            <a:ext cx="641520" cy="631800"/>
          </a:xfrm>
          <a:prstGeom prst="rect">
            <a:avLst/>
          </a:prstGeom>
          <a:ln w="0">
            <a:noFill/>
          </a:ln>
        </p:spPr>
      </p:pic>
      <p:pic>
        <p:nvPicPr>
          <p:cNvPr id="378" name="Sun_Fire_V880" descr=""/>
          <p:cNvPicPr/>
          <p:nvPr/>
        </p:nvPicPr>
        <p:blipFill>
          <a:blip r:embed="rId5"/>
          <a:stretch/>
        </p:blipFill>
        <p:spPr>
          <a:xfrm>
            <a:off x="3657600" y="3429000"/>
            <a:ext cx="641520" cy="631800"/>
          </a:xfrm>
          <a:prstGeom prst="rect">
            <a:avLst/>
          </a:prstGeom>
          <a:ln w="0">
            <a:noFill/>
          </a:ln>
        </p:spPr>
      </p:pic>
      <p:pic>
        <p:nvPicPr>
          <p:cNvPr id="379" name="Sun_Fire_V880" descr=""/>
          <p:cNvPicPr/>
          <p:nvPr/>
        </p:nvPicPr>
        <p:blipFill>
          <a:blip r:embed="rId6"/>
          <a:stretch/>
        </p:blipFill>
        <p:spPr>
          <a:xfrm>
            <a:off x="5257800" y="3429000"/>
            <a:ext cx="652320" cy="641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29000" y="2971800"/>
            <a:ext cx="2819520" cy="167652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80" name="Sun_Fire_Server.jpg" descr=""/>
          <p:cNvPicPr/>
          <p:nvPr/>
        </p:nvPicPr>
        <p:blipFill>
          <a:blip r:embed="rId7"/>
          <a:stretch/>
        </p:blipFill>
        <p:spPr>
          <a:xfrm>
            <a:off x="289548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1" name="Sun_Fire_Server.jpg" descr=""/>
          <p:cNvPicPr/>
          <p:nvPr/>
        </p:nvPicPr>
        <p:blipFill>
          <a:blip r:embed="rId8"/>
          <a:stretch/>
        </p:blipFill>
        <p:spPr>
          <a:xfrm>
            <a:off x="289548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2" name="Sun_Fire_Server.jpg" descr=""/>
          <p:cNvPicPr/>
          <p:nvPr/>
        </p:nvPicPr>
        <p:blipFill>
          <a:blip r:embed="rId9"/>
          <a:stretch/>
        </p:blipFill>
        <p:spPr>
          <a:xfrm>
            <a:off x="518148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3" name="Sun_Fire_Server.jpg" descr=""/>
          <p:cNvPicPr/>
          <p:nvPr/>
        </p:nvPicPr>
        <p:blipFill>
          <a:blip r:embed="rId10"/>
          <a:stretch/>
        </p:blipFill>
        <p:spPr>
          <a:xfrm>
            <a:off x="4419720" y="1828800"/>
            <a:ext cx="804600" cy="380880"/>
          </a:xfrm>
          <a:prstGeom prst="rect">
            <a:avLst/>
          </a:prstGeom>
          <a:ln w="0">
            <a:noFill/>
          </a:ln>
        </p:spPr>
      </p:pic>
      <p:pic>
        <p:nvPicPr>
          <p:cNvPr id="384" name="Sun_Fire_Server.jpg" descr=""/>
          <p:cNvPicPr/>
          <p:nvPr/>
        </p:nvPicPr>
        <p:blipFill>
          <a:blip r:embed="rId11"/>
          <a:stretch/>
        </p:blipFill>
        <p:spPr>
          <a:xfrm>
            <a:off x="365760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5" name="Sun_Fire_Server.jpg" descr=""/>
          <p:cNvPicPr/>
          <p:nvPr/>
        </p:nvPicPr>
        <p:blipFill>
          <a:blip r:embed="rId12"/>
          <a:stretch/>
        </p:blipFill>
        <p:spPr>
          <a:xfrm>
            <a:off x="5943600" y="182880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6" name="Sun_Fire_Server.jpg" descr=""/>
          <p:cNvPicPr/>
          <p:nvPr/>
        </p:nvPicPr>
        <p:blipFill>
          <a:blip r:embed="rId13"/>
          <a:stretch/>
        </p:blipFill>
        <p:spPr>
          <a:xfrm>
            <a:off x="4419720" y="2133720"/>
            <a:ext cx="804600" cy="380880"/>
          </a:xfrm>
          <a:prstGeom prst="rect">
            <a:avLst/>
          </a:prstGeom>
          <a:ln w="0">
            <a:noFill/>
          </a:ln>
        </p:spPr>
      </p:pic>
      <p:pic>
        <p:nvPicPr>
          <p:cNvPr id="387" name="Sun_Fire_Server.jpg" descr=""/>
          <p:cNvPicPr/>
          <p:nvPr/>
        </p:nvPicPr>
        <p:blipFill>
          <a:blip r:embed="rId14"/>
          <a:stretch/>
        </p:blipFill>
        <p:spPr>
          <a:xfrm>
            <a:off x="5181480" y="2133720"/>
            <a:ext cx="80496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Sun_Fire_Server.jpg" descr=""/>
          <p:cNvPicPr/>
          <p:nvPr/>
        </p:nvPicPr>
        <p:blipFill>
          <a:blip r:embed="rId15"/>
          <a:stretch/>
        </p:blipFill>
        <p:spPr>
          <a:xfrm>
            <a:off x="5943600" y="2133720"/>
            <a:ext cx="80496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895480" y="1447920"/>
            <a:ext cx="3886200" cy="1066680"/>
          </a:xfrm>
          <a:prstGeom prst="rect">
            <a:avLst/>
          </a:prstGeom>
          <a:noFill/>
          <a:ln cap="rnd" w="936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68" idx="1"/>
            <a:endCxn id="352" idx="3"/>
          </p:cNvCxnSpPr>
          <p:nvPr/>
        </p:nvCxnSpPr>
        <p:spPr>
          <a:xfrm rot="10800000">
            <a:off x="6780960" y="1980360"/>
            <a:ext cx="53424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68" idx="2"/>
            <a:endCxn id="353" idx="3"/>
          </p:cNvCxnSpPr>
          <p:nvPr/>
        </p:nvCxnSpPr>
        <p:spPr>
          <a:xfrm rot="5400000">
            <a:off x="6381360" y="2152440"/>
            <a:ext cx="1524600" cy="1791360"/>
          </a:xfrm>
          <a:prstGeom prst="bentConnector2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68" idx="3"/>
            <a:endCxn id="356" idx="3"/>
          </p:cNvCxnSpPr>
          <p:nvPr/>
        </p:nvCxnSpPr>
        <p:spPr>
          <a:xfrm flipH="1">
            <a:off x="6247800" y="1981080"/>
            <a:ext cx="2515320" cy="3696480"/>
          </a:xfrm>
          <a:prstGeom prst="bentConnector3">
            <a:avLst>
              <a:gd name="adj1" fmla="val -9089"/>
            </a:avLst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7238880" y="5410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ise à jou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9400" y="3505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Interrog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ise à jour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1676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Interrog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6" idx="0"/>
            <a:endCxn id="379" idx="2"/>
          </p:cNvCxnSpPr>
          <p:nvPr/>
        </p:nvCxnSpPr>
        <p:spPr>
          <a:xfrm flipV="1">
            <a:off x="5584320" y="4070160"/>
            <a:ext cx="1080" cy="1248480"/>
          </a:xfrm>
          <a:prstGeom prst="straightConnector1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2895480" y="1447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Module Web Servic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éveloppement spécifique interne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370C-2D78-49A8-9E0E-4ADB8FB59BD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967E7-1A77-47F8-B94B-3C3D4E6A9917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Contexte actuel difficile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organisation profonde au sein de l’opérat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Tensions internes fortes (en dehors du projet)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Réductions des budgets pour les nouveaux projets (justification)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jet transverse : des difficultés typiqu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Nombreux interlocuteurs et nombreuses contribution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19044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Champ d’action large : perçu comme une concurrence menaçante par d’autres projets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èmes avec l’exploitation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ssociée très en amont (dès le lancement du RFQ)… 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ais mauvaise perception de la complexité et des besoin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Mise en œuvre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Quelques difficulté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5334120"/>
            <a:ext cx="8534520" cy="1066680"/>
          </a:xfrm>
          <a:prstGeom prst="rect">
            <a:avLst/>
          </a:prstGeom>
          <a:solidFill>
            <a:srgbClr val="308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Travail important de communication en intern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Pas de problème technique majeur à ce jou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4045-5AA1-4AFC-8E80-D239B1B7B57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B6185-4302-4735-ACF7-C9E37C9FECE7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292640" y="1219320"/>
            <a:ext cx="347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72814"/>
                </a:solidFill>
                <a:latin typeface="Verdana"/>
              </a:rPr>
              <a:t>Agenda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7080" y="3551400"/>
            <a:ext cx="48769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1. Contexte du proje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2. Études des offres du marché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3. Appel d’offres « SSII »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4. Mise en œuvr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880"/>
                <a:tab algn="l" pos="3911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72814"/>
                </a:solidFill>
                <a:latin typeface="Verdana"/>
              </a:rPr>
              <a:t>5. Conclusio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400000">
            <a:off x="3895200" y="5715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22816"/>
          </a:solidFill>
          <a:ln cap="sq" w="12600">
            <a:solidFill>
              <a:srgbClr val="e1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28600" y="1189080"/>
            <a:ext cx="861048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/>
          </a:bodyPr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ous-projet « Communication » traité avec les Web Servic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erface de communication et d’accès standardisé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91960" indent="-29196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Sous-projet « Données » traité avec un EAI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tilisation du workflow de l’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762120" indent="-27936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Adaptateurs SI : base de données, fichier, Tuxedo, MQSeri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clusion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Bénéfices attendu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3809880"/>
            <a:ext cx="8534520" cy="2590920"/>
          </a:xfrm>
          <a:prstGeom prst="rect">
            <a:avLst/>
          </a:prstGeom>
          <a:solidFill>
            <a:srgbClr val="308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normAutofit fontScale="98000"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6dcc1"/>
                </a:solidFill>
                <a:latin typeface="Verdana"/>
              </a:rPr>
              <a:t>Bénéfices pour l’opérateur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Meilleure circulation des données entre les SVA et le S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Cohérence des données </a:t>
            </a:r>
            <a:r>
              <a:rPr b="0" lang="fr-FR" sz="2000" spc="-1" strike="noStrike">
                <a:solidFill>
                  <a:srgbClr val="e6dcc1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 Meilleure qualité de service perçue par les abonné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1" marL="746640" indent="-273600">
              <a:lnSpc>
                <a:spcPct val="100000"/>
              </a:lnSpc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Nouveaux services plus riches et de meilleure qualité donc plus attractifs </a:t>
            </a:r>
            <a:r>
              <a:rPr b="0" lang="fr-FR" sz="2000" spc="-1" strike="noStrike">
                <a:solidFill>
                  <a:srgbClr val="e6dcc1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e6dcc1"/>
                </a:solidFill>
                <a:latin typeface="Verdana"/>
              </a:rPr>
              <a:t>Génération de trafic supplémentaire et donc de revenu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6694-A21E-4D96-921D-593773321D6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7DD19-E8CA-4B9F-BBFD-A9956935AB97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pic>
        <p:nvPicPr>
          <p:cNvPr id="408" name="CONFUS" descr=""/>
          <p:cNvPicPr/>
          <p:nvPr/>
        </p:nvPicPr>
        <p:blipFill>
          <a:blip r:embed="rId1"/>
          <a:stretch/>
        </p:blipFill>
        <p:spPr>
          <a:xfrm>
            <a:off x="3637080" y="2268360"/>
            <a:ext cx="1849320" cy="3980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882160" y="1554120"/>
            <a:ext cx="3340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Questions / Réponse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3D9E-2C01-45EA-9D37-CEAFECC49EFB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60B01-52A5-45E6-B89D-DC0C42D863E9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gd-solucom" descr=""/>
          <p:cNvPicPr/>
          <p:nvPr/>
        </p:nvPicPr>
        <p:blipFill>
          <a:blip r:embed="rId1"/>
          <a:srcRect l="14919" t="12843" r="15417" b="17888"/>
          <a:stretch/>
        </p:blipFill>
        <p:spPr>
          <a:xfrm>
            <a:off x="2779560" y="693720"/>
            <a:ext cx="3478320" cy="3746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849760" y="4865400"/>
            <a:ext cx="33631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Donnons de la valeur </a:t>
            </a:r>
            <a:br>
              <a:rPr sz="2400"/>
            </a:br>
            <a:r>
              <a:rPr b="1" lang="fr-FR" sz="2400" spc="-1" strike="noStrike">
                <a:solidFill>
                  <a:srgbClr val="777777"/>
                </a:solidFill>
                <a:latin typeface="Verdana"/>
              </a:rPr>
              <a:t>à vos infrastructures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12240" y="6053400"/>
            <a:ext cx="1819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77777"/>
                </a:solidFill>
                <a:latin typeface="Verdana"/>
              </a:rPr>
              <a:t>www.solucom.fr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F1BB-D6B7-45E1-94F8-34CCEE2C2A9D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665C0-C669-4467-8D2D-C3E4583B2B2C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523880"/>
            <a:ext cx="7315200" cy="4724640"/>
          </a:xfrm>
          <a:prstGeom prst="rect">
            <a:avLst/>
          </a:prstGeom>
          <a:solidFill>
            <a:srgbClr val="e6dcc1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Différents besoin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05880" y="16002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22040" y="579132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4120" y="1600200"/>
            <a:ext cx="962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Partenair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ern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3152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3240" y="601992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Réseau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133720"/>
            <a:ext cx="6400800" cy="190476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733920"/>
            <a:ext cx="3733560" cy="220968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OSA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657600"/>
            <a:ext cx="3733920" cy="1905120"/>
          </a:xfrm>
          <a:prstGeom prst="roundRect">
            <a:avLst>
              <a:gd name="adj" fmla="val 16667"/>
            </a:avLst>
          </a:prstGeom>
          <a:solidFill>
            <a:srgbClr val="8cc3c0">
              <a:alpha val="50000"/>
            </a:srgbClr>
          </a:solidFill>
          <a:ln w="12600">
            <a:solidFill>
              <a:srgbClr val="8cc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EAI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EA6B-5097-4E61-8524-6FE29CDBBB6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789F6-087C-42AD-AC48-29C9A2FAF983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actuel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e données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368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800" y="54100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2440" y="144792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724280"/>
            <a:ext cx="77724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86400"/>
            <a:ext cx="152424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486400"/>
            <a:ext cx="152388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3962520"/>
            <a:ext cx="2438280" cy="4572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ré approvisionnemen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5680" y="4419360"/>
            <a:ext cx="1677600" cy="1067040"/>
            <a:chOff x="5485680" y="4419360"/>
            <a:chExt cx="1677600" cy="1067040"/>
          </a:xfrm>
        </p:grpSpPr>
        <p:cxnSp>
          <p:nvCxnSpPr>
            <p:cNvPr id="118" name=""/>
            <p:cNvCxnSpPr>
              <a:stCxn id="116" idx="2"/>
              <a:endCxn id="115" idx="0"/>
            </p:cNvCxnSpPr>
            <p:nvPr/>
          </p:nvCxnSpPr>
          <p:spPr>
            <a:xfrm flipH="1" rot="16200000">
              <a:off x="6400800" y="4723920"/>
              <a:ext cx="1067400" cy="45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  <p:cxnSp>
          <p:nvCxnSpPr>
            <p:cNvPr id="119" name=""/>
            <p:cNvCxnSpPr>
              <a:stCxn id="116" idx="2"/>
              <a:endCxn id="114" idx="0"/>
            </p:cNvCxnSpPr>
            <p:nvPr/>
          </p:nvCxnSpPr>
          <p:spPr>
            <a:xfrm rot="5400000">
              <a:off x="5562000" y="4343040"/>
              <a:ext cx="10674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</a:ln>
          </p:spPr>
        </p:cxnSp>
      </p:grpSp>
      <p:cxnSp>
        <p:nvCxnSpPr>
          <p:cNvPr id="120" name=""/>
          <p:cNvCxnSpPr>
            <a:stCxn id="121" idx="4"/>
            <a:endCxn id="116" idx="1"/>
          </p:cNvCxnSpPr>
          <p:nvPr/>
        </p:nvCxnSpPr>
        <p:spPr>
          <a:xfrm>
            <a:off x="5105520" y="4190760"/>
            <a:ext cx="381600" cy="108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971800" y="2743200"/>
            <a:ext cx="76212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743200"/>
            <a:ext cx="76176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2004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20040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274320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124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124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80988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2"/>
            <a:endCxn id="121" idx="1"/>
          </p:cNvCxnSpPr>
          <p:nvPr/>
        </p:nvCxnSpPr>
        <p:spPr>
          <a:xfrm flipV="1" rot="10800000">
            <a:off x="4647600" y="3428640"/>
            <a:ext cx="1080" cy="381600"/>
          </a:xfrm>
          <a:prstGeom prst="bentConnector2">
            <a:avLst/>
          </a:prstGeom>
          <a:ln w="9360">
            <a:solidFill>
              <a:srgbClr val="5f5f5f"/>
            </a:solidFill>
            <a:miter/>
            <a:head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971800" y="2057400"/>
            <a:ext cx="762120" cy="38088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4479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19810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25AF-3EEE-4A93-BDCB-85F3D5EB13B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A0829-6F66-4CDD-A174-216F94DDC9F1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6000"/>
          </a:bodyPr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Un seul flux échangé dans l’environnement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s d’exploitation des nombreuses données du S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Données gérées localement par les SVA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Duplication de nombreuses données entre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afraîchissement des données SVA par SI impossible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as de remontée d’information depuis les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isque très fort d’incohérences dans 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0920" indent="-25092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Rafraîchissement de la BD portail lourd, peu évolutif et consommateur de temp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Procédures d’extraction du SI complex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Intégration par fichier plat et transfert de fichie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55200" indent="-24012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Format fixe du fichier, d’où difficultés pour intégrer rapidement des nouvelles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Situation initiale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01F4-49E4-4185-BA5D-2470123D9C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7D23B-0A95-4BCF-8292-E48A8472F6A0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18872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t">
            <a:normAutofit fontScale="87000"/>
          </a:bodyPr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En fait, deux problématiques fortement liée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problématique « Communication » : Web Servic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Une problématique « Données » : base de données et EAI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ématique « Données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Référentiel de données communes aux SVA avec des sources multiples dans le Système d’Information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2" marL="994320" indent="-16560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Données : abonnements, clients, terminaux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2" marL="994320" indent="-165600">
              <a:spcBef>
                <a:spcPts val="451"/>
              </a:spcBef>
              <a:buClr>
                <a:srgbClr val="d7281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Verdana"/>
              </a:rPr>
              <a:t>Consolidation des données en un point unique</a:t>
            </a:r>
            <a:endParaRPr b="0" lang="en-US" sz="18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Mise à jour de données en « temps réel » et batch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marL="253800" indent="-253800">
              <a:spcBef>
                <a:spcPts val="1199"/>
              </a:spcBef>
              <a:buClr>
                <a:srgbClr val="d7281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Verdana"/>
              </a:rPr>
              <a:t>Problématique « Communication »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inter SVA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avec l’extérieur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1" marL="662760" indent="-243000">
              <a:spcBef>
                <a:spcPts val="751"/>
              </a:spcBef>
              <a:buClr>
                <a:srgbClr val="d7281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f5f5f"/>
                </a:solidFill>
                <a:latin typeface="Verdana"/>
              </a:rPr>
              <a:t>Communications avec le référentiel de données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Les réponses apportées par le projet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D860-7472-40E8-92FB-DC18392262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57AC1-BA37-4626-9261-AF6E6C35B8CC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Flux d’interrogation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4" idx="2"/>
            <a:endCxn id="155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grpSp>
        <p:nvGrpSpPr>
          <p:cNvPr id="157" name=""/>
          <p:cNvGrpSpPr/>
          <p:nvPr/>
        </p:nvGrpSpPr>
        <p:grpSpPr>
          <a:xfrm>
            <a:off x="5638680" y="3124080"/>
            <a:ext cx="1371960" cy="267120"/>
            <a:chOff x="5638680" y="3124080"/>
            <a:chExt cx="1371960" cy="267120"/>
          </a:xfrm>
        </p:grpSpPr>
        <p:cxnSp>
          <p:nvCxnSpPr>
            <p:cNvPr id="158" name=""/>
            <p:cNvCxnSpPr>
              <a:stCxn id="153" idx="3"/>
              <a:endCxn id="152" idx="2"/>
            </p:cNvCxnSpPr>
            <p:nvPr/>
          </p:nvCxnSpPr>
          <p:spPr>
            <a:xfrm>
              <a:off x="5638680" y="3390480"/>
              <a:ext cx="1372320" cy="108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5741280" y="31240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680" y="1981080"/>
            <a:ext cx="2629440" cy="2323800"/>
            <a:chOff x="2209680" y="1981080"/>
            <a:chExt cx="2629440" cy="2323800"/>
          </a:xfrm>
        </p:grpSpPr>
        <p:cxnSp>
          <p:nvCxnSpPr>
            <p:cNvPr id="165" name=""/>
            <p:cNvCxnSpPr>
              <a:stCxn id="147" idx="3"/>
              <a:endCxn id="153" idx="0"/>
            </p:cNvCxnSpPr>
            <p:nvPr/>
          </p:nvCxnSpPr>
          <p:spPr>
            <a:xfrm>
              <a:off x="3505320" y="2911320"/>
              <a:ext cx="1334160" cy="1375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46" idx="2"/>
              <a:endCxn id="153" idx="1"/>
            </p:cNvCxnSpPr>
            <p:nvPr/>
          </p:nvCxnSpPr>
          <p:spPr>
            <a:xfrm flipH="1" rot="16200000">
              <a:off x="2960640" y="2312640"/>
              <a:ext cx="327600" cy="18295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312280" y="31240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07560" y="259092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4" idx="3"/>
              <a:endCxn id="153" idx="2"/>
            </p:cNvCxnSpPr>
            <p:nvPr/>
          </p:nvCxnSpPr>
          <p:spPr>
            <a:xfrm flipV="1">
              <a:off x="2971800" y="3733200"/>
              <a:ext cx="1867680" cy="57204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3074400" y="403848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Interrogation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2" idx="2"/>
              <a:endCxn id="153" idx="0"/>
            </p:cNvCxnSpPr>
            <p:nvPr/>
          </p:nvCxnSpPr>
          <p:spPr>
            <a:xfrm flipH="1" rot="16200000">
              <a:off x="4095720" y="2304720"/>
              <a:ext cx="1067760" cy="41976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</p:grpSp>
      <p:sp>
        <p:nvSpPr>
          <p:cNvPr id="172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B219-1371-4516-9943-DD431C48479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468B0-849D-4113-AA24-21E7666CD7FB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29400" y="4267080"/>
            <a:ext cx="1371600" cy="5335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Verdana"/>
              </a:rPr>
              <a:t>Contexte du projet</a:t>
            </a:r>
            <a:br>
              <a:rPr sz="14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Architecture cible</a:t>
            </a:r>
            <a:br>
              <a:rPr sz="2000"/>
            </a:br>
            <a:r>
              <a:rPr b="1" lang="fr-FR" sz="2000" spc="-1" strike="noStrike">
                <a:solidFill>
                  <a:srgbClr val="d72814"/>
                </a:solidFill>
                <a:latin typeface="Verdana"/>
              </a:rPr>
              <a:t>Mise à jour depuis et vers les SVA</a:t>
            </a:r>
            <a:endParaRPr b="1" lang="en-US" sz="2000" spc="-1" strike="noStrike">
              <a:solidFill>
                <a:srgbClr val="d72814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05740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Terminaux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3840" y="1523880"/>
            <a:ext cx="761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Extérieur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Internet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936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715000"/>
            <a:ext cx="144756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Cli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6600" y="5715000"/>
            <a:ext cx="1447920" cy="609480"/>
          </a:xfrm>
          <a:prstGeom prst="rect">
            <a:avLst/>
          </a:prstGeom>
          <a:solidFill>
            <a:srgbClr val="8cc3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Applications Abonnement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752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759040"/>
            <a:ext cx="762120" cy="30492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214956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1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133720"/>
            <a:ext cx="609480" cy="53316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2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68272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66688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124080"/>
            <a:ext cx="60984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048120"/>
            <a:ext cx="160020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Interfac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962520"/>
            <a:ext cx="1066680" cy="68580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800600"/>
            <a:ext cx="914400" cy="7621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Abonnés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Portail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2"/>
            <a:endCxn id="196" idx="1"/>
          </p:cNvCxnSpPr>
          <p:nvPr/>
        </p:nvCxnSpPr>
        <p:spPr>
          <a:xfrm flipV="1" rot="10800000">
            <a:off x="2437560" y="4647960"/>
            <a:ext cx="1080" cy="153000"/>
          </a:xfrm>
          <a:prstGeom prst="bentConnector2">
            <a:avLst/>
          </a:prstGeom>
          <a:ln w="9360">
            <a:solidFill>
              <a:srgbClr val="5f5f5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029200" y="228600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066680"/>
            <a:ext cx="609480" cy="533520"/>
          </a:xfrm>
          <a:prstGeom prst="can">
            <a:avLst>
              <a:gd name="adj" fmla="val 25000"/>
            </a:avLst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BD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600200"/>
            <a:ext cx="0" cy="763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1676520"/>
            <a:ext cx="762120" cy="304560"/>
          </a:xfrm>
          <a:prstGeom prst="rect">
            <a:avLst/>
          </a:prstGeom>
          <a:solidFill>
            <a:srgbClr val="308987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6dcc1"/>
                </a:solidFill>
                <a:latin typeface="Verdana"/>
              </a:rPr>
              <a:t>SVA 3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9120" y="3429000"/>
            <a:ext cx="1226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ervices à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Valeur Ajouté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8520" y="5867280"/>
            <a:ext cx="1148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Système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f5f5f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362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Autorisatio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89548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Référentiel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2193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f5f5f"/>
                </a:solidFill>
                <a:latin typeface="Verdana"/>
              </a:rPr>
              <a:t>Données locales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09320" y="1828440"/>
            <a:ext cx="5105520" cy="3353400"/>
            <a:chOff x="2209320" y="1828440"/>
            <a:chExt cx="5105520" cy="3353400"/>
          </a:xfrm>
        </p:grpSpPr>
        <p:cxnSp>
          <p:nvCxnSpPr>
            <p:cNvPr id="209" name=""/>
            <p:cNvCxnSpPr>
              <a:stCxn id="178" idx="1"/>
              <a:endCxn id="188" idx="3"/>
            </p:cNvCxnSpPr>
            <p:nvPr/>
          </p:nvCxnSpPr>
          <p:spPr>
            <a:xfrm rot="10800000">
              <a:off x="3504600" y="2910600"/>
              <a:ext cx="3124800" cy="1623240"/>
            </a:xfrm>
            <a:prstGeom prst="bentConnector3">
              <a:avLst>
                <a:gd name="adj1" fmla="val 90229"/>
              </a:avLst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78" idx="2"/>
              <a:endCxn id="196" idx="4"/>
            </p:cNvCxnSpPr>
            <p:nvPr/>
          </p:nvCxnSpPr>
          <p:spPr>
            <a:xfrm rot="5400000">
              <a:off x="4914000" y="2781000"/>
              <a:ext cx="381600" cy="442044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4603320" y="487692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93840" y="42670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>
              <a:stCxn id="178" idx="1"/>
              <a:endCxn id="202" idx="1"/>
            </p:cNvCxnSpPr>
            <p:nvPr/>
          </p:nvCxnSpPr>
          <p:spPr>
            <a:xfrm rot="10800000">
              <a:off x="4037760" y="1828080"/>
              <a:ext cx="2591640" cy="2705760"/>
            </a:xfrm>
            <a:prstGeom prst="bentConnector3">
              <a:avLst>
                <a:gd name="adj1" fmla="val 108821"/>
              </a:avLst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 flipH="1">
              <a:off x="2209320" y="358128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0"/>
              <a:endCxn id="187" idx="2"/>
            </p:cNvCxnSpPr>
            <p:nvPr/>
          </p:nvCxnSpPr>
          <p:spPr>
            <a:xfrm flipV="1">
              <a:off x="2209320" y="3063240"/>
              <a:ext cx="1080" cy="5180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2317320" y="327672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315200" y="3657600"/>
            <a:ext cx="1035000" cy="609480"/>
            <a:chOff x="7315200" y="3657600"/>
            <a:chExt cx="1035000" cy="609480"/>
          </a:xfrm>
        </p:grpSpPr>
        <p:sp>
          <p:nvSpPr>
            <p:cNvPr id="218" name=""/>
            <p:cNvSpPr/>
            <p:nvPr/>
          </p:nvSpPr>
          <p:spPr>
            <a:xfrm>
              <a:off x="7315200" y="3657600"/>
              <a:ext cx="0" cy="609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27520" y="380988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f5f5f"/>
                  </a:solidFill>
                  <a:latin typeface="Verdana"/>
                </a:rPr>
                <a:t>Mise à jour</a:t>
              </a:r>
              <a:endParaRPr b="0" lang="en-US" sz="1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B3B5-5E99-426D-A976-4819B57CFC9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775B-42FD-478F-8BC9-409EB27E7AB9}" type="datetime5">
              <a:rPr lang="en-US"/>
              <a:t>Jul 29, 2026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2:44:39Z</dcterms:created>
  <dc:creator>PHH</dc:creator>
  <dc:description/>
  <dc:language>en-US</dc:language>
  <cp:lastModifiedBy>Olivier GUERIN</cp:lastModifiedBy>
  <cp:lastPrinted>2002-08-07T09:48:27Z</cp:lastPrinted>
  <dcterms:modified xsi:type="dcterms:W3CDTF">2003-02-03T13:38:30Z</dcterms:modified>
  <cp:revision>461</cp:revision>
  <dc:subject>Projet Opérateur</dc:subject>
  <dc:title>ATICA</dc:title>
</cp:coreProperties>
</file>