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90DB3-DB76-4A35-829C-A5423B4FDC5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BAB7-5D55-4036-A3E9-084C9600E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2762-9FE0-4800-B049-F6BADCFE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42E2-8F95-4D43-9B17-2AB1446D9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B6CD-9DDA-471B-9599-80DB19F2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D1114-4313-4C79-BA68-750328EF8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D82F1-9769-4F14-9365-ECA045A5E4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1B8A-8582-4F28-BC02-43142B88D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4EEDF-084A-4E90-B2FB-C90DE689ED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D8BD6-50AB-4FAE-A003-361A3AC69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81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32232-F78F-4DDD-A30F-63775C746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2DA69-3A8C-419E-A729-0F6DBD63D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61DB-E112-47D0-9E04-B81AF8E28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14FF0-9B76-4137-89B7-73F0642747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383DF-89D8-4D05-AD17-E983E6931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DEE9-0E3A-43AB-8021-4DDF451B2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08439-FBF2-446B-81D7-5D3FC23A1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891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645720"/>
            <a:ext cx="2649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9BC64-8F71-4039-9548-8D3F45E3D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A233-8855-4D63-B2B4-30ED721F5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A262-77FF-4C1B-BDD4-EBF54986F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6BFF-7B33-4ADA-A6B6-5A588BCEF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81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440C-1E40-45BB-8313-918BB79CE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A99C-9ACA-48AB-B18A-096EDD183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45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EAD1-03B8-48B4-B60B-118D078EB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891720"/>
            <a:ext cx="4015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5720"/>
            <a:ext cx="82281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D158-4FF6-4194-B0AF-46D55EEAB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91720"/>
            <a:ext cx="82281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000" y="6453360"/>
            <a:ext cx="6767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3080" y="6381360"/>
            <a:ext cx="162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D8466E-A492-4CC4-AE12-DC61D6F36DE3}" type="slidenum"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6019560"/>
            <a:ext cx="77709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4CF3AD-2852-406C-A7E4-31E501CB939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60210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ncient Words</a:t>
            </a:r>
            <a:endParaRPr b="1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ncient Word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9172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long preserv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r walk in this worl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resound with God's own he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the ancient words impart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of life, words of h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us strength help us cop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world where'er we ro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ient words will guide us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ncient words ever tru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hanging me, changing you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 have come with open hearts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h let the ancient words impart.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Lynn DeShazo  . Used with permission  CCLI Licence 1130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0083-D561-4F9D-87A9-83C5EC434A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92080"/>
            <a:ext cx="822960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3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of our fa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ed down to this ag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 to us through sacrif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heed the faithful words of Chris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y words long preserv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r walk in this worl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resound with God's own he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the ancient words impa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ncient words ever tru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hanging me, changing you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e have come with open hearts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Oh let the ancient words impart.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93080" y="6597720"/>
            <a:ext cx="98640" cy="1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ds and Music by Lynn DeShazo  . Used with permission  CCLI Licence 1130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3F3A-4866-4BE9-B055-550D544B714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/>
  <cp:revision>0</cp:revision>
  <dc:subject/>
  <dc:title/>
</cp:coreProperties>
</file>