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E65F-0A1A-4BF9-8F95-817C3F878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ECC4-BF21-437D-A5B2-C0309DD6E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16B0-37C3-4DEE-B239-740523FE1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D8C6-04DF-4648-A50C-B4626A445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7231B-E2FC-46B5-B377-407903D73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5E2A1-83C4-47C7-980C-30BFBB857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31ABE-6008-4789-8CB9-55A394159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44F3B-41FE-4346-8D93-71304010C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B7578-DD9F-421B-8BA5-870F38D29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789B5-D4D6-4621-A157-D3984C8CA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A0891-4688-4F80-8E33-D26C1839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C121-E6D1-4D52-A8B9-9E4351903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B55F2-DE43-4679-856A-EC5B4A10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851DD-AFD9-46E7-B08E-AD842517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1684F-D761-4D9A-964C-DAD840618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7ABB2-C2D6-4AB9-8013-AFC6245F2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01B4C-8E55-45CB-903C-B2B9DEA39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EEEA-5F84-4903-ACD2-07069F176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C2E8-ED18-43E4-9ADA-A3E6D9C27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5097-CA2F-4E30-8078-0D96E567D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3E38-CD78-4DDD-930A-FEB932F1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C435-DFEF-472D-BA49-E4334DB3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0CDF-096A-4EC4-AEAE-4AFAABC6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44C2-289E-4EDD-92B3-D1D2153B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9033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520"/>
            <a:ext cx="2894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36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D9D060-0157-4A7B-A319-A19BF3D4C2F5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16000" y="76320"/>
            <a:ext cx="8685000" cy="6780240"/>
            <a:chOff x="216000" y="76320"/>
            <a:chExt cx="8685000" cy="6780240"/>
          </a:xfrm>
        </p:grpSpPr>
        <p:grpSp>
          <p:nvGrpSpPr>
            <p:cNvPr id="6" name=""/>
            <p:cNvGrpSpPr/>
            <p:nvPr/>
          </p:nvGrpSpPr>
          <p:grpSpPr>
            <a:xfrm>
              <a:off x="216000" y="76320"/>
              <a:ext cx="8685000" cy="334800"/>
              <a:chOff x="216000" y="76320"/>
              <a:chExt cx="8685000" cy="334800"/>
            </a:xfrm>
          </p:grpSpPr>
          <p:grpSp>
            <p:nvGrpSpPr>
              <p:cNvPr id="7" name=""/>
              <p:cNvGrpSpPr/>
              <p:nvPr/>
            </p:nvGrpSpPr>
            <p:grpSpPr>
              <a:xfrm>
                <a:off x="216000" y="76320"/>
                <a:ext cx="1674720" cy="334800"/>
                <a:chOff x="216000" y="76320"/>
                <a:chExt cx="1674720" cy="334800"/>
              </a:xfrm>
            </p:grpSpPr>
            <p:sp>
              <p:nvSpPr>
                <p:cNvPr id="8" name=""/>
                <p:cNvSpPr/>
                <p:nvPr/>
              </p:nvSpPr>
              <p:spPr>
                <a:xfrm>
                  <a:off x="1054080" y="76320"/>
                  <a:ext cx="836640" cy="16668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054080" y="244440"/>
                  <a:ext cx="836640" cy="16668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16000" y="244440"/>
                  <a:ext cx="836640" cy="16668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216000" y="76320"/>
                  <a:ext cx="836640" cy="16668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299880" y="160200"/>
                  <a:ext cx="1506600" cy="16668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" name=""/>
              <p:cNvGrpSpPr/>
              <p:nvPr/>
            </p:nvGrpSpPr>
            <p:grpSpPr>
              <a:xfrm>
                <a:off x="1968480" y="76320"/>
                <a:ext cx="1674720" cy="334800"/>
                <a:chOff x="1968480" y="76320"/>
                <a:chExt cx="1674720" cy="334800"/>
              </a:xfrm>
            </p:grpSpPr>
            <p:sp>
              <p:nvSpPr>
                <p:cNvPr id="14" name=""/>
                <p:cNvSpPr/>
                <p:nvPr/>
              </p:nvSpPr>
              <p:spPr>
                <a:xfrm>
                  <a:off x="2806560" y="76320"/>
                  <a:ext cx="836640" cy="16668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2806560" y="244440"/>
                  <a:ext cx="836640" cy="16668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1968480" y="244440"/>
                  <a:ext cx="836640" cy="16668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1968480" y="76320"/>
                  <a:ext cx="836640" cy="16668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2052720" y="160200"/>
                  <a:ext cx="1506600" cy="16668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" name=""/>
              <p:cNvGrpSpPr/>
              <p:nvPr/>
            </p:nvGrpSpPr>
            <p:grpSpPr>
              <a:xfrm>
                <a:off x="3720960" y="76320"/>
                <a:ext cx="1675080" cy="334800"/>
                <a:chOff x="3720960" y="76320"/>
                <a:chExt cx="1675080" cy="33480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4559400" y="76320"/>
                  <a:ext cx="836640" cy="16668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4559400" y="244440"/>
                  <a:ext cx="836640" cy="16668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3720960" y="244440"/>
                  <a:ext cx="836640" cy="16668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3720960" y="76320"/>
                  <a:ext cx="836640" cy="16668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3805200" y="160200"/>
                  <a:ext cx="1506600" cy="16668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5473800" y="76320"/>
                <a:ext cx="1674720" cy="334800"/>
                <a:chOff x="5473800" y="76320"/>
                <a:chExt cx="1674720" cy="3348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6311880" y="76320"/>
                  <a:ext cx="836640" cy="16668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311880" y="244440"/>
                  <a:ext cx="836640" cy="16668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5473800" y="244440"/>
                  <a:ext cx="836640" cy="16668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5473800" y="76320"/>
                  <a:ext cx="836640" cy="16668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5557680" y="160200"/>
                  <a:ext cx="1506600" cy="16668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" name=""/>
              <p:cNvGrpSpPr/>
              <p:nvPr/>
            </p:nvGrpSpPr>
            <p:grpSpPr>
              <a:xfrm>
                <a:off x="7226280" y="76320"/>
                <a:ext cx="1674720" cy="334800"/>
                <a:chOff x="7226280" y="76320"/>
                <a:chExt cx="1674720" cy="334800"/>
              </a:xfrm>
            </p:grpSpPr>
            <p:sp>
              <p:nvSpPr>
                <p:cNvPr id="32" name=""/>
                <p:cNvSpPr/>
                <p:nvPr/>
              </p:nvSpPr>
              <p:spPr>
                <a:xfrm>
                  <a:off x="8064360" y="76320"/>
                  <a:ext cx="836640" cy="16668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8064360" y="244440"/>
                  <a:ext cx="836640" cy="16668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7226280" y="244440"/>
                  <a:ext cx="836640" cy="16668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7226280" y="76320"/>
                  <a:ext cx="836640" cy="16668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7310520" y="160200"/>
                  <a:ext cx="1506600" cy="16668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" name=""/>
            <p:cNvGrpSpPr/>
            <p:nvPr/>
          </p:nvGrpSpPr>
          <p:grpSpPr>
            <a:xfrm>
              <a:off x="304920" y="6783480"/>
              <a:ext cx="8456400" cy="73080"/>
              <a:chOff x="304920" y="6783480"/>
              <a:chExt cx="8456400" cy="73080"/>
            </a:xfrm>
          </p:grpSpPr>
          <p:grpSp>
            <p:nvGrpSpPr>
              <p:cNvPr id="38" name=""/>
              <p:cNvGrpSpPr/>
              <p:nvPr/>
            </p:nvGrpSpPr>
            <p:grpSpPr>
              <a:xfrm>
                <a:off x="304920" y="6783480"/>
                <a:ext cx="988920" cy="73080"/>
                <a:chOff x="304920" y="6783480"/>
                <a:chExt cx="988920" cy="73080"/>
              </a:xfrm>
            </p:grpSpPr>
            <p:sp>
              <p:nvSpPr>
                <p:cNvPr id="39" name=""/>
                <p:cNvSpPr/>
                <p:nvPr/>
              </p:nvSpPr>
              <p:spPr>
                <a:xfrm>
                  <a:off x="800280" y="6783480"/>
                  <a:ext cx="493560" cy="7308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304920" y="6783480"/>
                  <a:ext cx="493560" cy="7308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" name=""/>
              <p:cNvGrpSpPr/>
              <p:nvPr/>
            </p:nvGrpSpPr>
            <p:grpSpPr>
              <a:xfrm>
                <a:off x="1371600" y="6783480"/>
                <a:ext cx="988920" cy="73080"/>
                <a:chOff x="1371600" y="6783480"/>
                <a:chExt cx="988920" cy="73080"/>
              </a:xfrm>
            </p:grpSpPr>
            <p:sp>
              <p:nvSpPr>
                <p:cNvPr id="42" name=""/>
                <p:cNvSpPr/>
                <p:nvPr/>
              </p:nvSpPr>
              <p:spPr>
                <a:xfrm>
                  <a:off x="1866960" y="6783480"/>
                  <a:ext cx="493560" cy="7308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1371600" y="6783480"/>
                  <a:ext cx="493560" cy="7308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2438280" y="6783480"/>
                <a:ext cx="989280" cy="73080"/>
                <a:chOff x="2438280" y="6783480"/>
                <a:chExt cx="989280" cy="7308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2933640" y="6783480"/>
                  <a:ext cx="493920" cy="7308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2438280" y="6783480"/>
                  <a:ext cx="493920" cy="7308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3505320" y="6783480"/>
                <a:ext cx="988920" cy="73080"/>
                <a:chOff x="3505320" y="6783480"/>
                <a:chExt cx="988920" cy="7308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000680" y="6783480"/>
                  <a:ext cx="493560" cy="7308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505320" y="6783480"/>
                  <a:ext cx="493560" cy="7308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" name=""/>
              <p:cNvGrpSpPr/>
              <p:nvPr/>
            </p:nvGrpSpPr>
            <p:grpSpPr>
              <a:xfrm>
                <a:off x="4572000" y="6783480"/>
                <a:ext cx="988920" cy="73080"/>
                <a:chOff x="4572000" y="6783480"/>
                <a:chExt cx="988920" cy="7308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5067360" y="6783480"/>
                  <a:ext cx="493560" cy="7308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572000" y="6783480"/>
                  <a:ext cx="493560" cy="7308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"/>
              <p:cNvGrpSpPr/>
              <p:nvPr/>
            </p:nvGrpSpPr>
            <p:grpSpPr>
              <a:xfrm>
                <a:off x="5638680" y="6783480"/>
                <a:ext cx="989280" cy="73080"/>
                <a:chOff x="5638680" y="6783480"/>
                <a:chExt cx="989280" cy="73080"/>
              </a:xfrm>
            </p:grpSpPr>
            <p:sp>
              <p:nvSpPr>
                <p:cNvPr id="54" name=""/>
                <p:cNvSpPr/>
                <p:nvPr/>
              </p:nvSpPr>
              <p:spPr>
                <a:xfrm>
                  <a:off x="6134040" y="6783480"/>
                  <a:ext cx="493920" cy="7308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5638680" y="6783480"/>
                  <a:ext cx="493920" cy="7308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" name=""/>
              <p:cNvGrpSpPr/>
              <p:nvPr/>
            </p:nvGrpSpPr>
            <p:grpSpPr>
              <a:xfrm>
                <a:off x="6705720" y="6783480"/>
                <a:ext cx="988920" cy="73080"/>
                <a:chOff x="6705720" y="6783480"/>
                <a:chExt cx="988920" cy="73080"/>
              </a:xfrm>
            </p:grpSpPr>
            <p:sp>
              <p:nvSpPr>
                <p:cNvPr id="57" name=""/>
                <p:cNvSpPr/>
                <p:nvPr/>
              </p:nvSpPr>
              <p:spPr>
                <a:xfrm>
                  <a:off x="7201080" y="6783480"/>
                  <a:ext cx="493560" cy="7308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6705720" y="6783480"/>
                  <a:ext cx="493560" cy="7308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"/>
              <p:cNvGrpSpPr/>
              <p:nvPr/>
            </p:nvGrpSpPr>
            <p:grpSpPr>
              <a:xfrm>
                <a:off x="7772400" y="6783480"/>
                <a:ext cx="988920" cy="73080"/>
                <a:chOff x="7772400" y="6783480"/>
                <a:chExt cx="988920" cy="7308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8267760" y="6783480"/>
                  <a:ext cx="493560" cy="7308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7772400" y="6783480"/>
                  <a:ext cx="493560" cy="7308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099720" cy="6487920"/>
            <a:chOff x="0" y="108000"/>
            <a:chExt cx="9099720" cy="6487920"/>
          </a:xfrm>
        </p:grpSpPr>
        <p:sp>
          <p:nvSpPr>
            <p:cNvPr id="99" name=""/>
            <p:cNvSpPr/>
            <p:nvPr/>
          </p:nvSpPr>
          <p:spPr>
            <a:xfrm>
              <a:off x="0" y="93636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173124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255816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335340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417852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97376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580068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659592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6800" y="22824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562040" y="22824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62040" y="1023480"/>
              <a:ext cx="0" cy="6174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6800" y="1023480"/>
              <a:ext cx="0" cy="6174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55720" y="93636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95600" y="93636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95600" y="173124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55720" y="173124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6800" y="185040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62040" y="185040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62040" y="264564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6800" y="264564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55720" y="255816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95600" y="255816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95600" y="335340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55720" y="335340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6800" y="347076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62040" y="347076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62040" y="4265640"/>
              <a:ext cx="0" cy="6174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6800" y="4265640"/>
              <a:ext cx="0" cy="6174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55720" y="417852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95600" y="417852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95600" y="497376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55720" y="497376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6800" y="509292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62040" y="509292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62040" y="588780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6800" y="588780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55720" y="580068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95600" y="580068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95600" y="659592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55720" y="659592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62040" y="22824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57640" y="22824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57640" y="1023480"/>
              <a:ext cx="0" cy="6174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62040" y="1023480"/>
              <a:ext cx="0" cy="6174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50960" y="936360"/>
              <a:ext cx="6177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390840" y="936360"/>
              <a:ext cx="6177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390840" y="1731240"/>
              <a:ext cx="6177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50960" y="1731240"/>
              <a:ext cx="6177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462040" y="185040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57640" y="185040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57640" y="264564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62040" y="264564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550960" y="2558160"/>
              <a:ext cx="6177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90840" y="2558160"/>
              <a:ext cx="6177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390840" y="3353400"/>
              <a:ext cx="6177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50960" y="3353400"/>
              <a:ext cx="6177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62040" y="347076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257640" y="347076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57640" y="4265640"/>
              <a:ext cx="0" cy="6174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462040" y="4265640"/>
              <a:ext cx="0" cy="6174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50960" y="4178520"/>
              <a:ext cx="6177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90840" y="4178520"/>
              <a:ext cx="6177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90840" y="4973760"/>
              <a:ext cx="6177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50960" y="4973760"/>
              <a:ext cx="6177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462040" y="509292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57640" y="509292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257640" y="588780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62040" y="588780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550960" y="5800680"/>
              <a:ext cx="6177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390840" y="5800680"/>
              <a:ext cx="6177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390840" y="6595920"/>
              <a:ext cx="6177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50960" y="6595920"/>
              <a:ext cx="6177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57640" y="22824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52880" y="22824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952880" y="1023480"/>
              <a:ext cx="0" cy="6174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157640" y="1023480"/>
              <a:ext cx="0" cy="6174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246560" y="93636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086440" y="93636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086440" y="173124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46560" y="173124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157640" y="185040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952880" y="185040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952880" y="264564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157640" y="264564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246560" y="255816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86440" y="255816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86440" y="335340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46560" y="335340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57640" y="347076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52880" y="347076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52880" y="4265640"/>
              <a:ext cx="0" cy="6174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157640" y="4265640"/>
              <a:ext cx="0" cy="6174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246560" y="417852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086440" y="417852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086440" y="497376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246560" y="497376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57640" y="509292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952880" y="509292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52880" y="588780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157640" y="588780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46560" y="580068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086440" y="580068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86440" y="659592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46560" y="659592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853240" y="22824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648480" y="22824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648480" y="1023480"/>
              <a:ext cx="0" cy="6174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53240" y="1023480"/>
              <a:ext cx="0" cy="6174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42160" y="93636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781680" y="936360"/>
              <a:ext cx="6177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781680" y="1731240"/>
              <a:ext cx="6177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42160" y="173124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853240" y="185040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648480" y="185040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648480" y="264564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53240" y="264564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42160" y="255816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781680" y="2558160"/>
              <a:ext cx="6177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81680" y="3353400"/>
              <a:ext cx="6177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42160" y="335340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853240" y="347076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648480" y="347076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648480" y="4265640"/>
              <a:ext cx="0" cy="6174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53240" y="4265640"/>
              <a:ext cx="0" cy="6174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942160" y="417852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81680" y="4178520"/>
              <a:ext cx="6177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781680" y="4973760"/>
              <a:ext cx="6177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42160" y="497376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853240" y="509292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48480" y="509292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48480" y="588780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53240" y="588780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42160" y="580068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781680" y="5800680"/>
              <a:ext cx="6177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781680" y="6595920"/>
              <a:ext cx="6177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942160" y="659592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548480" y="22824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344080" y="22824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344080" y="1023480"/>
              <a:ext cx="0" cy="6174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548480" y="1023480"/>
              <a:ext cx="0" cy="6174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37400" y="936360"/>
              <a:ext cx="6177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477280" y="93636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477280" y="173124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637400" y="1731240"/>
              <a:ext cx="6177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548480" y="185040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344080" y="185040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344080" y="264564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48480" y="264564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637400" y="2558160"/>
              <a:ext cx="6177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477280" y="255816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477280" y="335340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37400" y="3353400"/>
              <a:ext cx="6177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548480" y="347076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344080" y="347076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344080" y="4265640"/>
              <a:ext cx="0" cy="6174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48480" y="4265640"/>
              <a:ext cx="0" cy="6174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637400" y="4178520"/>
              <a:ext cx="6177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477280" y="417852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477280" y="497376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637400" y="4973760"/>
              <a:ext cx="6177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48480" y="509292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344080" y="509292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344080" y="588780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548480" y="5887800"/>
              <a:ext cx="0" cy="61704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637400" y="5800680"/>
              <a:ext cx="6177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477280" y="580068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477280" y="659592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37400" y="6595920"/>
              <a:ext cx="6177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680" y="108000"/>
              <a:ext cx="6177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60400" y="10800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00280" y="10800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56000" y="10800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95520" y="108000"/>
              <a:ext cx="6177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251240" y="108000"/>
              <a:ext cx="6177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091120" y="10800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946840" y="10800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786720" y="108000"/>
              <a:ext cx="61740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642080" y="108000"/>
              <a:ext cx="6177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481960" y="108000"/>
              <a:ext cx="6177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533520" y="1905120"/>
            <a:ext cx="8075520" cy="1674720"/>
            <a:chOff x="533520" y="1905120"/>
            <a:chExt cx="8075520" cy="1674720"/>
          </a:xfrm>
        </p:grpSpPr>
        <p:sp>
          <p:nvSpPr>
            <p:cNvPr id="279" name=""/>
            <p:cNvSpPr/>
            <p:nvPr/>
          </p:nvSpPr>
          <p:spPr>
            <a:xfrm>
              <a:off x="4572000" y="1905120"/>
              <a:ext cx="4037040" cy="83664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72000" y="2743200"/>
              <a:ext cx="4037040" cy="83664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33520" y="2743200"/>
              <a:ext cx="4037040" cy="83664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3520" y="1905120"/>
              <a:ext cx="4037040" cy="83664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5800" y="2057400"/>
              <a:ext cx="7770960" cy="137016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09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zh-CN" sz="1400" spc="-1" strike="noStrike">
                <a:solidFill>
                  <a:srgbClr val="8383ad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1400" spc="-1" strike="noStrike">
                <a:solidFill>
                  <a:srgbClr val="8383ad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zh-CN" sz="1400" spc="-1" strike="noStrike">
                <a:solidFill>
                  <a:srgbClr val="8383ad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1400" spc="-1" strike="noStrike">
                <a:solidFill>
                  <a:srgbClr val="8383ad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zh-CN" sz="1400" spc="-1" strike="noStrike">
                <a:solidFill>
                  <a:srgbClr val="8383ad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049219-CFCE-47C3-A456-7D0874144637}" type="slidenum">
              <a:rPr b="0" lang="zh-CN" sz="1400" spc="-1" strike="noStrike">
                <a:solidFill>
                  <a:srgbClr val="8383ad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304920" y="6783480"/>
            <a:ext cx="8456400" cy="73080"/>
            <a:chOff x="304920" y="6783480"/>
            <a:chExt cx="8456400" cy="73080"/>
          </a:xfrm>
        </p:grpSpPr>
        <p:sp>
          <p:nvSpPr>
            <p:cNvPr id="289" name=""/>
            <p:cNvSpPr/>
            <p:nvPr/>
          </p:nvSpPr>
          <p:spPr>
            <a:xfrm>
              <a:off x="800280" y="6783480"/>
              <a:ext cx="493560" cy="73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04920" y="6783480"/>
              <a:ext cx="493560" cy="73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866960" y="6783480"/>
              <a:ext cx="493560" cy="73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371600" y="6783480"/>
              <a:ext cx="493560" cy="73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33640" y="6783480"/>
              <a:ext cx="493920" cy="73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438280" y="6783480"/>
              <a:ext cx="493920" cy="73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000680" y="6783480"/>
              <a:ext cx="493560" cy="73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6783480"/>
              <a:ext cx="493560" cy="73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67360" y="6783480"/>
              <a:ext cx="493560" cy="73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72000" y="6783480"/>
              <a:ext cx="493560" cy="73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34040" y="6783480"/>
              <a:ext cx="493920" cy="73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638680" y="6783480"/>
              <a:ext cx="493920" cy="73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201080" y="6783480"/>
              <a:ext cx="493560" cy="73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05720" y="6783480"/>
              <a:ext cx="493560" cy="73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267760" y="6783480"/>
              <a:ext cx="493560" cy="73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772400" y="6783480"/>
              <a:ext cx="493560" cy="73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  <a:ea typeface="宋体"/>
              </a:rPr>
              <a:t>Agenda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85800" y="4130640"/>
            <a:ext cx="3792600" cy="19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668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5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6T17:48:09Z</dcterms:created>
  <dc:creator>wangxiul</dc:creator>
  <dc:description/>
  <dc:language>en-US</dc:language>
  <cp:lastModifiedBy>Luke </cp:lastModifiedBy>
  <dcterms:modified xsi:type="dcterms:W3CDTF">2015-04-15T07:13:08Z</dcterms:modified>
  <cp:revision>1</cp:revision>
  <dc:subject/>
  <dc:title>Agend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