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FFCD6-2C76-40ED-AAE1-9446FB226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5D3C-2597-461B-968F-6A096F026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EBB81-F6E8-4357-B2A3-9F1513A46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4658-1F13-48E5-BB74-5A86D54BF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A2FCD-2819-45DE-B14E-B3EEBBD6F1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43179-A5EE-4E71-A12E-E50B2341F1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D67D2-9C26-4124-9258-38A7FAAAB1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2DFB0-BB21-4892-AB4A-E9F152010F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4AF84-C5EF-4FFA-8C33-48650AC3ED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CDC1A-34BD-4DB5-BA33-D3C5907E73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1E208-06EE-4E0E-87B3-2E3684ECF6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61C2-5E6E-4C49-BC74-85CC2097A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82E3E-B10A-4554-BC25-CE98C7A438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534C4-9B7D-454E-BCA5-1ED73CF1D2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4E21D-516D-4DAD-AA88-333E31F543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F33D2-73F5-4DED-9D50-A4C75CBF1B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ED9D8-16C4-4739-BF13-4FAC699700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3E72E-E061-42CC-A2BE-505D826B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64F08-B259-4E32-93DF-E84FAEBF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E55807-71E2-4CC2-A471-7D8DA981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6303CF-4D03-4DC6-A295-EF1A4EEA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296205-04B7-405C-8084-8417C260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F8ADD-4C5D-41E0-ADA6-96B675446B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44CD92-3B9F-458E-A2C0-21BB0AC5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F5EB72-F01B-48D9-A56B-FBBC0E76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301C1C-FFF6-44A7-9B9A-D1DD5186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0EF513-353E-4A70-8A64-00E77D08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B7D8A9-133C-4E6D-B847-001CF3C5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1EBCA-30ED-4A7D-A086-F946229B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AF5FC3-B0C0-44CA-BD30-8B920CF0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012AE-2AF6-4E0E-9EA7-9ECEA82F6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8086-DF1D-4B3A-8B1F-5BA4F898C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C0C1D-6DA0-47F2-AF4D-2CE47BE18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B97B-9DD0-41F8-9235-0E5FE260C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93508-2B63-4825-8832-41C176EBF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2475-5C85-470D-8376-4C3311301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4CE8-472C-4E49-95C7-AA19C402D1AC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14F6-F036-4067-A3CA-E61BE36CD121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DA3A-C30D-4568-87BE-79E3EEA5B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the text is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the text is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he text is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he text is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ze of the text is 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ze of the text is 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9:48:42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5-28T11:23:29Z</dcterms:modified>
  <cp:revision>2</cp:revision>
  <dc:subject/>
  <dc:title>Slide 1</dc:title>
</cp:coreProperties>
</file>