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77784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52120" y="7426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66720" y="4716000"/>
            <a:ext cx="53323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942948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777840" y="942948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7CEBC-96A4-466E-8AF5-CD40E3F99D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52480" y="74448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218F-4E46-4D2F-BEA7-D123A0130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79326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66520" y="3786840"/>
            <a:ext cx="79326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826C-F785-4DA9-A808-229BAA829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1640" y="133488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66520" y="378684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1640" y="378684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58A28-8BF1-4247-BD25-E1EDA3F9F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25542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8880" y="1334880"/>
            <a:ext cx="25542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1240" y="1334880"/>
            <a:ext cx="25542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66520" y="3786840"/>
            <a:ext cx="25542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8880" y="3786840"/>
            <a:ext cx="25542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1240" y="3786840"/>
            <a:ext cx="25542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3F10-5CD6-43F2-BF37-362A6223B5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66520" y="1334880"/>
            <a:ext cx="7932600" cy="46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1A95-ACA2-454F-81E2-DF8563F6B0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793260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4D4A-0A11-4EF0-9D37-CDA614C6F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387108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1640" y="1334880"/>
            <a:ext cx="387108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3FDD6-FDC7-4E95-AD3A-DE834E4E4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4B03C-7464-4D56-B9EE-D4853FAE7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800" y="115920"/>
            <a:ext cx="8059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0AFB-B73D-4B7A-A473-5759DDA43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1640" y="1334880"/>
            <a:ext cx="387108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66520" y="378684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4855-F397-4F03-BAFE-DE239ED0F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387108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1640" y="133488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1640" y="378684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CF6D-3ABC-40C9-8E88-8E32D7EE6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1640" y="133488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66520" y="3786840"/>
            <a:ext cx="79326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A0C1-AF94-4769-AC8B-43AE6EA5C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66520" y="1334880"/>
            <a:ext cx="7932600" cy="469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400"/>
              </a:spcBef>
              <a:buClr>
                <a:srgbClr val="000099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400"/>
              </a:spcBef>
              <a:buClr>
                <a:srgbClr val="000099"/>
              </a:buClr>
              <a:buSzPct val="9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400"/>
              </a:spcBef>
              <a:buClr>
                <a:srgbClr val="d81e04"/>
              </a:buClr>
              <a:buSzPct val="8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400"/>
              </a:spcBef>
              <a:buClr>
                <a:srgbClr val="d81e04"/>
              </a:buClr>
              <a:buSzPct val="8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65080" y="843120"/>
            <a:ext cx="8278920" cy="36360"/>
          </a:xfrm>
          <a:prstGeom prst="rect">
            <a:avLst/>
          </a:prstGeom>
          <a:solidFill>
            <a:srgbClr val="aeaf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5080" y="779400"/>
            <a:ext cx="8278920" cy="36720"/>
          </a:xfrm>
          <a:prstGeom prst="rect">
            <a:avLst/>
          </a:prstGeom>
          <a:solidFill>
            <a:srgbClr val="d81e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84840" y="6578640"/>
            <a:ext cx="65556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0CCD53-84F1-42D6-A7AF-7435367704C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12040" y="77760"/>
            <a:ext cx="831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960" rIns="3996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52585a"/>
                </a:solidFill>
                <a:latin typeface="Arial"/>
              </a:rPr>
              <a:t>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4210200"/>
            <a:ext cx="6848280" cy="2171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800" y="214920"/>
            <a:ext cx="80596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sfd asd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0920" y="907920"/>
            <a:ext cx="3948120" cy="297000"/>
          </a:xfrm>
          <a:prstGeom prst="rect">
            <a:avLst/>
          </a:prstGeom>
          <a:solidFill>
            <a:srgbClr val="3333cc"/>
          </a:solidFill>
          <a:ln w="64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9960" rIns="39960" tIns="0" bIns="0" anchor="ctr">
            <a:noAutofit/>
          </a:bodyPr>
          <a:p>
            <a:pPr marL="270000" indent="-270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alety rozwiąz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2080" y="1197000"/>
            <a:ext cx="3926160" cy="2879640"/>
          </a:xfrm>
          <a:prstGeom prst="rect">
            <a:avLst/>
          </a:prstGeom>
          <a:solidFill>
            <a:srgbClr val="eaeaea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9960" rIns="39960" tIns="39960" bIns="39960" anchor="t">
            <a:noAutofit/>
          </a:bodyPr>
          <a:p>
            <a:pPr marL="270000" indent="-270000">
              <a:lnSpc>
                <a:spcPct val="10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■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o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32360" y="907920"/>
            <a:ext cx="3948120" cy="297000"/>
          </a:xfrm>
          <a:prstGeom prst="rect">
            <a:avLst/>
          </a:prstGeom>
          <a:solidFill>
            <a:srgbClr val="3333cc"/>
          </a:solidFill>
          <a:ln w="64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9960" rIns="39960" tIns="0" bIns="0" anchor="ctr">
            <a:noAutofit/>
          </a:bodyPr>
          <a:p>
            <a:pPr marL="270000" indent="-270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dy rozwiąz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41720" y="1197000"/>
            <a:ext cx="3926160" cy="2887560"/>
          </a:xfrm>
          <a:prstGeom prst="rect">
            <a:avLst/>
          </a:prstGeom>
          <a:solidFill>
            <a:srgbClr val="eaeaea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9960" rIns="39960" tIns="39960" bIns="39960" anchor="t">
            <a:noAutofit/>
          </a:bodyPr>
          <a:p>
            <a:pPr marL="270000" indent="-270000">
              <a:lnSpc>
                <a:spcPct val="10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■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bb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221000"/>
            <a:ext cx="115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gólna ocena spełnienia wymaga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411280" y="6093000"/>
            <a:ext cx="6307200" cy="215640"/>
            <a:chOff x="2411280" y="6093000"/>
            <a:chExt cx="6307200" cy="215640"/>
          </a:xfrm>
        </p:grpSpPr>
        <p:sp>
          <p:nvSpPr>
            <p:cNvPr id="59" name=""/>
            <p:cNvSpPr/>
            <p:nvPr/>
          </p:nvSpPr>
          <p:spPr>
            <a:xfrm>
              <a:off x="2411280" y="6093000"/>
              <a:ext cx="43200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Sd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62360" y="6093000"/>
              <a:ext cx="431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Sd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08400" y="6093000"/>
              <a:ext cx="431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Sd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78200" y="6093000"/>
              <a:ext cx="431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asdf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11640" y="6093000"/>
              <a:ext cx="431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Prff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62360" y="6093000"/>
              <a:ext cx="43200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Ff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27480" y="6093000"/>
              <a:ext cx="43200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Daaató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64160" y="6093000"/>
              <a:ext cx="44748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dddn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11640" y="6093000"/>
              <a:ext cx="43200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Fffgl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2080" y="6093000"/>
              <a:ext cx="43200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fasd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42240" y="6093000"/>
              <a:ext cx="431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asd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78560" y="6093000"/>
              <a:ext cx="43200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d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812000" y="6093000"/>
              <a:ext cx="43200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Poczasd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86840" y="6093000"/>
              <a:ext cx="431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l-PL" sz="700" spc="-1" strike="noStrike">
                  <a:solidFill>
                    <a:srgbClr val="000000"/>
                  </a:solidFill>
                  <a:latin typeface="Arial"/>
                </a:rPr>
                <a:t>Inne funkcj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-684360" y="4608360"/>
            <a:ext cx="3276720" cy="1629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0960" y="5300640"/>
            <a:ext cx="7430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69,26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4479-BA4F-4EC1-BDF2-616BD6BB875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ek Banaśkiewicz</dc:creator>
  <dc:description/>
  <dc:language>en-US</dc:language>
  <cp:lastModifiedBy>Jakub Nadolny</cp:lastModifiedBy>
  <dcterms:modified xsi:type="dcterms:W3CDTF">2006-06-12T12:03:18Z</dcterms:modified>
  <cp:revision>227</cp:revision>
  <dc:subject/>
  <dc:title>Zarząd - listopda 2005</dc:title>
</cp:coreProperties>
</file>