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77880"/>
            <a:ext cx="456876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3A340-F0B4-4283-9C33-98FA37CC4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9480" y="695160"/>
            <a:ext cx="50990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7C8-B009-4A9B-95DF-6F6E00BA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14E-BC97-4D5B-9C97-759E71BE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2A3-3D9C-4A51-8400-D6D12C65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E82-84AD-4052-8C77-9B049731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3CA-8810-4A78-A096-ACE292D0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966-20BD-4178-8909-59B62A8A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A82-ED5A-4644-A400-E52E700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439-19A9-4225-B5ED-8BB44DA7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17B-CC93-4C05-AF84-46EBFD01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78B-1957-49F1-B843-BCCDFDA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846-401A-41BD-B73B-EB5ADAB5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303-0C99-4D16-A20D-9AC6703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4C497-DE64-448E-BD23-6D812A992F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2300dc"/>
                </a:solidFill>
                <a:latin typeface="Century Gothic"/>
              </a:rPr>
              <a:t>Success of  WD-40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0360" y="4653000"/>
            <a:ext cx="7227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2300dc"/>
                </a:solidFill>
                <a:latin typeface="Century Gothic"/>
              </a:rPr>
              <a:t>Exclusive distributor in Russia since 1999 </a:t>
            </a:r>
            <a:r>
              <a:rPr b="1" lang="en-GB" sz="2600" spc="-1" strike="noStrike">
                <a:solidFill>
                  <a:srgbClr val="2300dc"/>
                </a:solidFill>
                <a:latin typeface="Century Gothic"/>
              </a:rPr>
              <a:t>PHOENIX UNIVER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72560" y="4016520"/>
            <a:ext cx="1027080" cy="264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60720" y="2160720"/>
            <a:ext cx="273996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2300dc"/>
                </a:solidFill>
                <a:latin typeface="Microsoft Sans Serif"/>
              </a:rPr>
              <a:t>Russia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72560" y="4016520"/>
            <a:ext cx="1027080" cy="264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60720" y="2340000"/>
            <a:ext cx="273996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2300dc"/>
                </a:solidFill>
                <a:latin typeface="Century Gothic"/>
              </a:rPr>
              <a:t>Russia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Population – 143,5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57 Million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27% of population lives in rural areas, 73% in u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30% of population lives below povert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Average monthly salary – $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6.2 % economic growth in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2300dc"/>
                </a:solidFill>
                <a:latin typeface="Century Gothic"/>
              </a:rPr>
              <a:t>Inflation rate 7-9% in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116920" y="3860640"/>
            <a:ext cx="10270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2300dc"/>
                </a:solidFill>
                <a:latin typeface="Microsoft Sans Serif"/>
              </a:rPr>
              <a:t>Automobile in Russia</a:t>
            </a:r>
            <a:r>
              <a:rPr b="1" lang="en-GB" sz="4400" spc="-1" strike="noStrike">
                <a:solidFill>
                  <a:srgbClr val="2300dc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35 million cars, average life span of cars is 9.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45% of cars in the country –are locally made, the rest are  of foreign ori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55% of Russian buy used cars and 45% buy 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300dc"/>
                </a:solidFill>
                <a:latin typeface="Microsoft Sans Serif"/>
              </a:rPr>
              <a:t>The average growth of automobile market in Russia is 7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451720" y="4724280"/>
            <a:ext cx="692280" cy="17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7040" y="711360"/>
            <a:ext cx="8629920" cy="324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593280" y="2589120"/>
            <a:ext cx="1017720" cy="188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840" y="4237200"/>
            <a:ext cx="825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Mos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6080" y="2324160"/>
            <a:ext cx="150840" cy="208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1360" y="4410000"/>
            <a:ext cx="1590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t.Peters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2739960"/>
            <a:ext cx="530280" cy="188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1160" y="4387680"/>
            <a:ext cx="90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am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4280" y="2387520"/>
            <a:ext cx="907920" cy="2019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1640" y="4387680"/>
            <a:ext cx="1166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Ekaterin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08680" y="3338640"/>
            <a:ext cx="1665360" cy="1076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6040" y="4387680"/>
            <a:ext cx="1287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ladivos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51560" y="4786200"/>
            <a:ext cx="680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Rost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240" y="4387680"/>
            <a:ext cx="1690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Nizhny Novgor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274760" y="2746440"/>
            <a:ext cx="2379600" cy="269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5294160"/>
            <a:ext cx="136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  <a:ea typeface="Arial"/>
              </a:rPr>
              <a:t>Novosibir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3440" y="5294160"/>
            <a:ext cx="1111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rasnoyar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1960" y="5294160"/>
            <a:ext cx="620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a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319200" y="4547880"/>
            <a:ext cx="183960" cy="43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410920" y="2655720"/>
            <a:ext cx="1243080" cy="2724480"/>
          </a:xfrm>
          <a:prstGeom prst="line">
            <a:avLst/>
          </a:prstGeom>
          <a:ln w="93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13320" y="5294160"/>
            <a:ext cx="8809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oronez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881000" y="3093840"/>
            <a:ext cx="4522680" cy="2842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1880" y="5294160"/>
            <a:ext cx="9417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olg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+ Volg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1280" y="5294160"/>
            <a:ext cx="717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rkut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7280" y="2809800"/>
            <a:ext cx="2725920" cy="262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120" y="5653080"/>
            <a:ext cx="95256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tavrop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rasno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U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Astrak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82720" y="5653080"/>
            <a:ext cx="14382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Blagoveshen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shevsz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Om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Yaroslav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van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68800" y="5857920"/>
            <a:ext cx="11232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Arkhangel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88480" y="5380200"/>
            <a:ext cx="10238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Murman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276200" y="1868400"/>
            <a:ext cx="691848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728360" y="2269800"/>
            <a:ext cx="6240600" cy="387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50800" y="5653080"/>
            <a:ext cx="10864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Chelyabin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Rya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Sarat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olya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5653080"/>
            <a:ext cx="116532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alu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Ijev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emer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ir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0200" y="5919840"/>
            <a:ext cx="139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Novokuznet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ladim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049480" y="2974680"/>
            <a:ext cx="1209600" cy="359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21880" y="2711520"/>
            <a:ext cx="1546200" cy="3298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30600" y="3156120"/>
            <a:ext cx="1663560" cy="258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0" y="239760"/>
            <a:ext cx="9082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2300dc"/>
                </a:solidFill>
                <a:latin typeface="Microsoft Sans Serif"/>
                <a:ea typeface="Lucida Sans Unicode"/>
              </a:rPr>
              <a:t>3 Regional warehouses and dealers in </a:t>
            </a:r>
            <a:r>
              <a:rPr b="1" lang="en-GB" sz="2600" spc="-1" strike="noStrike">
                <a:solidFill>
                  <a:srgbClr val="ff0000"/>
                </a:solidFill>
                <a:latin typeface="Microsoft Sans Serif"/>
                <a:ea typeface="Lucida Sans Unicode"/>
              </a:rPr>
              <a:t>44</a:t>
            </a:r>
            <a:r>
              <a:rPr b="1" lang="en-GB" sz="2600" spc="-1" strike="noStrike">
                <a:solidFill>
                  <a:srgbClr val="2300dc"/>
                </a:solidFill>
                <a:latin typeface="Microsoft Sans Serif"/>
                <a:ea typeface="Lucida Sans Unicode"/>
              </a:rPr>
              <a:t> citi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71560" y="3278160"/>
            <a:ext cx="453960" cy="1631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17680" y="3157560"/>
            <a:ext cx="604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Rosto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051000"/>
            <a:ext cx="3557520" cy="23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2960" y="2900520"/>
            <a:ext cx="4692600" cy="243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411200" y="2914560"/>
            <a:ext cx="4680000" cy="35956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197000" y="2773080"/>
            <a:ext cx="5819760" cy="3593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5040" y="6299280"/>
            <a:ext cx="847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Belgor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ur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3960" y="6083280"/>
            <a:ext cx="1008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O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Ulyanov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8440" y="6138720"/>
            <a:ext cx="765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amb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409760" y="2700000"/>
            <a:ext cx="6178320" cy="352260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1480" y="5568840"/>
            <a:ext cx="7772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Volog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409760" y="2203560"/>
            <a:ext cx="2673360" cy="3449520"/>
          </a:xfrm>
          <a:prstGeom prst="line">
            <a:avLst/>
          </a:prstGeom>
          <a:ln w="9360">
            <a:solidFill>
              <a:srgbClr val="b4748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72200" y="6299280"/>
            <a:ext cx="1059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Khabarov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Oren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32600" y="3058920"/>
            <a:ext cx="2100240" cy="33080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52000" y="3786120"/>
            <a:ext cx="6872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770200" y="2273400"/>
            <a:ext cx="4890960" cy="15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0080" y="5640480"/>
            <a:ext cx="760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Barn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38360" y="2774880"/>
            <a:ext cx="214632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resh</dc:creator>
  <dc:description/>
  <dc:language>en-US</dc:language>
  <cp:lastModifiedBy>User</cp:lastModifiedBy>
  <cp:revision>0</cp:revision>
  <dc:subject/>
  <dc:title>Successful story of  WD-40 in Russia</dc:title>
</cp:coreProperties>
</file>