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193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94D-33BB-4AEC-BE90-F7A25A80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892152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5720" y="8691480"/>
            <a:ext cx="892152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8BD-0BBB-4078-A017-0EEE29D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572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736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51E-59EE-44AE-AE59-A0AABE5B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2160" y="372852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8600" y="372852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5720" y="869148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2160" y="869148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8600" y="8691480"/>
            <a:ext cx="287244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037-0CF1-4946-B559-FB4706FE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5720" y="3728520"/>
            <a:ext cx="892152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F96-AD10-4131-8FFA-AF7F96C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892152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95A-09B5-4DF2-8953-7F901A0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FDF-3B59-4047-B29E-17F0372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720-668F-4F91-AD5E-3C26701C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5720" y="933480"/>
            <a:ext cx="8921520" cy="11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212-2865-4ED1-BF6F-6AA7D41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572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7DD-8438-4B0C-A79D-675D779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7360" y="869148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6C0-71A1-4F43-9E84-08747CC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7360" y="3728520"/>
            <a:ext cx="435348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5720" y="8691480"/>
            <a:ext cx="892152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6C4-739B-4992-A099-4606135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5720" y="933480"/>
            <a:ext cx="892152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3728520"/>
            <a:ext cx="8921520" cy="9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5720" y="13477680"/>
            <a:ext cx="2308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50840" y="13477680"/>
            <a:ext cx="31402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8920" y="13477680"/>
            <a:ext cx="230796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D6F3D-68D3-4DB9-B138-95EB4B04D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0480" y="4132440"/>
            <a:ext cx="6603840" cy="8572320"/>
          </a:xfrm>
          <a:custGeom>
            <a:avLst/>
            <a:gdLst/>
            <a:ahLst/>
            <a:rect l="l" t="t" r="r" b="b"/>
            <a:pathLst>
              <a:path w="18343" h="23811">
                <a:moveTo>
                  <a:pt x="5414" y="23810"/>
                </a:moveTo>
                <a:lnTo>
                  <a:pt x="0" y="23810"/>
                </a:lnTo>
                <a:lnTo>
                  <a:pt x="0" y="5714"/>
                </a:lnTo>
                <a:lnTo>
                  <a:pt x="5414" y="5714"/>
                </a:lnTo>
                <a:lnTo>
                  <a:pt x="5414" y="0"/>
                </a:lnTo>
                <a:lnTo>
                  <a:pt x="18342" y="0"/>
                </a:lnTo>
                <a:lnTo>
                  <a:pt x="18342" y="23810"/>
                </a:lnTo>
                <a:lnTo>
                  <a:pt x="5414" y="238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30480" y="4130640"/>
            <a:ext cx="194616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30480" y="2214720"/>
            <a:ext cx="6603840" cy="19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5676840" y="11673000"/>
            <a:ext cx="1800" cy="1031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76840" y="11674440"/>
            <a:ext cx="12398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0800" y="10302840"/>
            <a:ext cx="159372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0480" y="6188040"/>
            <a:ext cx="1946160" cy="6515280"/>
          </a:xfrm>
          <a:custGeom>
            <a:avLst/>
            <a:gdLst/>
            <a:ahLst/>
            <a:rect l="l" t="t" r="r" b="b"/>
            <a:pathLst>
              <a:path w="5408" h="18096">
                <a:moveTo>
                  <a:pt x="0" y="18095"/>
                </a:moveTo>
                <a:lnTo>
                  <a:pt x="0" y="0"/>
                </a:lnTo>
                <a:lnTo>
                  <a:pt x="492" y="0"/>
                </a:lnTo>
                <a:lnTo>
                  <a:pt x="5407" y="0"/>
                </a:lnTo>
                <a:lnTo>
                  <a:pt x="5407" y="952"/>
                </a:lnTo>
                <a:lnTo>
                  <a:pt x="1065" y="952"/>
                </a:lnTo>
                <a:lnTo>
                  <a:pt x="1065" y="18095"/>
                </a:lnTo>
                <a:lnTo>
                  <a:pt x="0" y="18095"/>
                </a:lnTo>
              </a:path>
            </a:pathLst>
          </a:custGeom>
          <a:solidFill>
            <a:srgbClr val="ceb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76640" y="6531120"/>
            <a:ext cx="1800" cy="268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6640" y="9982080"/>
            <a:ext cx="1800" cy="2719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83120" y="4130640"/>
            <a:ext cx="1593720" cy="343080"/>
          </a:xfrm>
          <a:prstGeom prst="roundRect">
            <a:avLst>
              <a:gd name="adj" fmla="val 463"/>
            </a:avLst>
          </a:prstGeom>
          <a:solidFill>
            <a:srgbClr val="ceb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5120" y="9291600"/>
            <a:ext cx="919080" cy="668520"/>
          </a:xfrm>
          <a:prstGeom prst="roundRect">
            <a:avLst>
              <a:gd name="adj" fmla="val 23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76640" y="12360240"/>
            <a:ext cx="536760" cy="343080"/>
          </a:xfrm>
          <a:prstGeom prst="roundRect">
            <a:avLst>
              <a:gd name="adj" fmla="val 46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1920" y="4132440"/>
            <a:ext cx="1922400" cy="4458960"/>
          </a:xfrm>
          <a:custGeom>
            <a:avLst/>
            <a:gdLst/>
            <a:ahLst/>
            <a:rect l="l" t="t" r="r" b="b"/>
            <a:pathLst>
              <a:path w="5342" h="12386">
                <a:moveTo>
                  <a:pt x="0" y="943"/>
                </a:moveTo>
                <a:lnTo>
                  <a:pt x="0" y="0"/>
                </a:lnTo>
                <a:lnTo>
                  <a:pt x="5341" y="0"/>
                </a:lnTo>
                <a:lnTo>
                  <a:pt x="5341" y="943"/>
                </a:lnTo>
                <a:lnTo>
                  <a:pt x="5341" y="12385"/>
                </a:lnTo>
                <a:lnTo>
                  <a:pt x="4336" y="12385"/>
                </a:lnTo>
                <a:lnTo>
                  <a:pt x="4336" y="943"/>
                </a:lnTo>
                <a:lnTo>
                  <a:pt x="0" y="943"/>
                </a:lnTo>
              </a:path>
            </a:pathLst>
          </a:custGeom>
          <a:solidFill>
            <a:srgbClr val="ceba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92680" y="5156640"/>
            <a:ext cx="636480" cy="3433680"/>
            <a:chOff x="4792680" y="5156640"/>
            <a:chExt cx="636480" cy="3433680"/>
          </a:xfrm>
        </p:grpSpPr>
        <p:sp>
          <p:nvSpPr>
            <p:cNvPr id="55" name=""/>
            <p:cNvSpPr/>
            <p:nvPr/>
          </p:nvSpPr>
          <p:spPr>
            <a:xfrm>
              <a:off x="4792680" y="5159520"/>
              <a:ext cx="636480" cy="342900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3429000"/>
                <a:gd name="textAreaBottom" fmla="*/ 3428640 h 3429000"/>
              </a:gdLst>
              <a:ahLst/>
              <a:rect l="textAreaLeft" t="textAreaTop" r="textAreaRight" b="textAreaBottom"/>
              <a:pathLst>
                <a:path w="21600" h="116315">
                  <a:moveTo>
                    <a:pt x="54" y="0"/>
                  </a:moveTo>
                  <a:arcTo wR="54" hR="54" stAng="16200000" swAng="-5400000"/>
                  <a:lnTo>
                    <a:pt x="0" y="116261"/>
                  </a:lnTo>
                  <a:arcTo wR="54" hR="54" stAng="10800000" swAng="-5400000"/>
                  <a:lnTo>
                    <a:pt x="21546" y="116315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937040" y="5156640"/>
              <a:ext cx="361080" cy="3433680"/>
              <a:chOff x="4937040" y="5156640"/>
              <a:chExt cx="361080" cy="3433680"/>
            </a:xfrm>
          </p:grpSpPr>
          <p:sp>
            <p:nvSpPr>
              <p:cNvPr id="57" name=""/>
              <p:cNvSpPr/>
              <p:nvPr/>
            </p:nvSpPr>
            <p:spPr>
              <a:xfrm>
                <a:off x="5116680" y="5157720"/>
                <a:ext cx="1440" cy="3432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5400000">
                <a:off x="3400560" y="6692760"/>
                <a:ext cx="34336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Fru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6805440" y="5156640"/>
            <a:ext cx="641520" cy="3062160"/>
            <a:chOff x="6805440" y="5156640"/>
            <a:chExt cx="641520" cy="3062160"/>
          </a:xfrm>
        </p:grpSpPr>
        <p:sp>
          <p:nvSpPr>
            <p:cNvPr id="60" name=""/>
            <p:cNvSpPr/>
            <p:nvPr/>
          </p:nvSpPr>
          <p:spPr>
            <a:xfrm>
              <a:off x="6805440" y="5159520"/>
              <a:ext cx="641520" cy="3057480"/>
            </a:xfrm>
            <a:custGeom>
              <a:avLst/>
              <a:gdLst>
                <a:gd name="textAreaLeft" fmla="*/ 360 w 641520"/>
                <a:gd name="textAreaRight" fmla="*/ 641160 w 641520"/>
                <a:gd name="textAreaTop" fmla="*/ 360 h 3057480"/>
                <a:gd name="textAreaBottom" fmla="*/ 3057120 h 3057480"/>
              </a:gdLst>
              <a:ahLst/>
              <a:rect l="textAreaLeft" t="textAreaTop" r="textAreaRight" b="textAreaBottom"/>
              <a:pathLst>
                <a:path w="21600" h="102900">
                  <a:moveTo>
                    <a:pt x="53" y="0"/>
                  </a:moveTo>
                  <a:arcTo wR="53" hR="53" stAng="16200000" swAng="-5400000"/>
                  <a:lnTo>
                    <a:pt x="0" y="102847"/>
                  </a:lnTo>
                  <a:arcTo wR="53" hR="53" stAng="10800000" swAng="-5400000"/>
                  <a:lnTo>
                    <a:pt x="21547" y="102900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953040" y="5156640"/>
              <a:ext cx="361080" cy="3062160"/>
              <a:chOff x="6953040" y="5156640"/>
              <a:chExt cx="361080" cy="3062160"/>
            </a:xfrm>
          </p:grpSpPr>
          <p:sp>
            <p:nvSpPr>
              <p:cNvPr id="62" name=""/>
              <p:cNvSpPr/>
              <p:nvPr/>
            </p:nvSpPr>
            <p:spPr>
              <a:xfrm>
                <a:off x="7132680" y="5157720"/>
                <a:ext cx="1440" cy="306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5602320" y="6507000"/>
                <a:ext cx="30621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Fruits de sais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5751360" y="5156640"/>
            <a:ext cx="633600" cy="3433680"/>
            <a:chOff x="5751360" y="5156640"/>
            <a:chExt cx="633600" cy="3433680"/>
          </a:xfrm>
        </p:grpSpPr>
        <p:sp>
          <p:nvSpPr>
            <p:cNvPr id="65" name=""/>
            <p:cNvSpPr/>
            <p:nvPr/>
          </p:nvSpPr>
          <p:spPr>
            <a:xfrm>
              <a:off x="5751360" y="5160960"/>
              <a:ext cx="633600" cy="3429000"/>
            </a:xfrm>
            <a:custGeom>
              <a:avLst/>
              <a:gdLst>
                <a:gd name="textAreaLeft" fmla="*/ 360 w 633600"/>
                <a:gd name="textAreaRight" fmla="*/ 633240 w 633600"/>
                <a:gd name="textAreaTop" fmla="*/ 360 h 3429000"/>
                <a:gd name="textAreaBottom" fmla="*/ 3428640 h 3429000"/>
              </a:gdLst>
              <a:ahLst/>
              <a:rect l="textAreaLeft" t="textAreaTop" r="textAreaRight" b="textAreaBottom"/>
              <a:pathLst>
                <a:path w="21600" h="116844">
                  <a:moveTo>
                    <a:pt x="54" y="0"/>
                  </a:moveTo>
                  <a:arcTo wR="54" hR="54" stAng="16200000" swAng="-5400000"/>
                  <a:lnTo>
                    <a:pt x="0" y="116790"/>
                  </a:lnTo>
                  <a:arcTo wR="54" hR="54" stAng="10800000" swAng="-5400000"/>
                  <a:lnTo>
                    <a:pt x="21546" y="116844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895720" y="5156640"/>
              <a:ext cx="361080" cy="3433680"/>
              <a:chOff x="5895720" y="5156640"/>
              <a:chExt cx="361080" cy="3433680"/>
            </a:xfrm>
          </p:grpSpPr>
          <p:sp>
            <p:nvSpPr>
              <p:cNvPr id="67" name=""/>
              <p:cNvSpPr/>
              <p:nvPr/>
            </p:nvSpPr>
            <p:spPr>
              <a:xfrm>
                <a:off x="6075360" y="5157720"/>
                <a:ext cx="1440" cy="3432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400000">
                <a:off x="4359240" y="6692760"/>
                <a:ext cx="34336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Fruits exo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6805440" y="8217000"/>
            <a:ext cx="641520" cy="374400"/>
          </a:xfrm>
          <a:prstGeom prst="roundRect">
            <a:avLst>
              <a:gd name="adj" fmla="val 42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955960" y="6866280"/>
            <a:ext cx="636480" cy="2206800"/>
            <a:chOff x="2955960" y="6866280"/>
            <a:chExt cx="636480" cy="2206800"/>
          </a:xfrm>
        </p:grpSpPr>
        <p:sp>
          <p:nvSpPr>
            <p:cNvPr id="71" name=""/>
            <p:cNvSpPr/>
            <p:nvPr/>
          </p:nvSpPr>
          <p:spPr>
            <a:xfrm>
              <a:off x="2955960" y="6869160"/>
              <a:ext cx="636480" cy="220176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2201760"/>
                <a:gd name="textAreaBottom" fmla="*/ 2201400 h 2201760"/>
              </a:gdLst>
              <a:ahLst/>
              <a:rect l="textAreaLeft" t="textAreaTop" r="textAreaRight" b="textAreaBottom"/>
              <a:pathLst>
                <a:path w="21600" h="74690">
                  <a:moveTo>
                    <a:pt x="54" y="0"/>
                  </a:moveTo>
                  <a:arcTo wR="54" hR="54" stAng="16200000" swAng="-5400000"/>
                  <a:lnTo>
                    <a:pt x="0" y="74636"/>
                  </a:lnTo>
                  <a:arcTo wR="54" hR="54" stAng="10800000" swAng="-5400000"/>
                  <a:lnTo>
                    <a:pt x="21546" y="74690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3100320" y="6866280"/>
              <a:ext cx="361080" cy="2206800"/>
              <a:chOff x="3100320" y="6866280"/>
              <a:chExt cx="361080" cy="2206800"/>
            </a:xfrm>
          </p:grpSpPr>
          <p:sp>
            <p:nvSpPr>
              <p:cNvPr id="73" name=""/>
              <p:cNvSpPr/>
              <p:nvPr/>
            </p:nvSpPr>
            <p:spPr>
              <a:xfrm>
                <a:off x="3279600" y="6867360"/>
                <a:ext cx="1800" cy="2205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2177280" y="7788960"/>
                <a:ext cx="22068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Légu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2955960" y="10179360"/>
            <a:ext cx="636480" cy="2206800"/>
            <a:chOff x="2955960" y="10179360"/>
            <a:chExt cx="636480" cy="2206800"/>
          </a:xfrm>
        </p:grpSpPr>
        <p:sp>
          <p:nvSpPr>
            <p:cNvPr id="76" name=""/>
            <p:cNvSpPr/>
            <p:nvPr/>
          </p:nvSpPr>
          <p:spPr>
            <a:xfrm>
              <a:off x="2955960" y="10180800"/>
              <a:ext cx="636480" cy="220176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2201760"/>
                <a:gd name="textAreaBottom" fmla="*/ 2201400 h 2201760"/>
              </a:gdLst>
              <a:ahLst/>
              <a:rect l="textAreaLeft" t="textAreaTop" r="textAreaRight" b="textAreaBottom"/>
              <a:pathLst>
                <a:path w="21600" h="74690">
                  <a:moveTo>
                    <a:pt x="54" y="0"/>
                  </a:moveTo>
                  <a:arcTo wR="54" hR="54" stAng="16200000" swAng="-5400000"/>
                  <a:lnTo>
                    <a:pt x="0" y="74636"/>
                  </a:lnTo>
                  <a:arcTo wR="54" hR="54" stAng="10800000" swAng="-5400000"/>
                  <a:lnTo>
                    <a:pt x="21546" y="74690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101760" y="10179360"/>
              <a:ext cx="361080" cy="2206800"/>
              <a:chOff x="3101760" y="10179360"/>
              <a:chExt cx="361080" cy="2206800"/>
            </a:xfrm>
          </p:grpSpPr>
          <p:sp>
            <p:nvSpPr>
              <p:cNvPr id="78" name=""/>
              <p:cNvSpPr/>
              <p:nvPr/>
            </p:nvSpPr>
            <p:spPr>
              <a:xfrm>
                <a:off x="3281400" y="10180800"/>
                <a:ext cx="1440" cy="2205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400000">
                <a:off x="2178720" y="11102040"/>
                <a:ext cx="22068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Légu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6066000" y="9291600"/>
            <a:ext cx="1380960" cy="668520"/>
          </a:xfrm>
          <a:prstGeom prst="roundRect">
            <a:avLst>
              <a:gd name="adj" fmla="val 23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uits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05400" y="10328760"/>
            <a:ext cx="636480" cy="1555560"/>
            <a:chOff x="4505400" y="10328760"/>
            <a:chExt cx="636480" cy="1555560"/>
          </a:xfrm>
        </p:grpSpPr>
        <p:sp>
          <p:nvSpPr>
            <p:cNvPr id="82" name=""/>
            <p:cNvSpPr/>
            <p:nvPr/>
          </p:nvSpPr>
          <p:spPr>
            <a:xfrm>
              <a:off x="4505400" y="10329840"/>
              <a:ext cx="636480" cy="155268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1552680"/>
                <a:gd name="textAreaBottom" fmla="*/ 1552320 h 1552680"/>
              </a:gdLst>
              <a:ahLst/>
              <a:rect l="textAreaLeft" t="textAreaTop" r="textAreaRight" b="textAreaBottom"/>
              <a:pathLst>
                <a:path w="21600" h="52675">
                  <a:moveTo>
                    <a:pt x="54" y="0"/>
                  </a:moveTo>
                  <a:arcTo wR="54" hR="54" stAng="16200000" swAng="-5400000"/>
                  <a:lnTo>
                    <a:pt x="0" y="52621"/>
                  </a:lnTo>
                  <a:arcTo wR="54" hR="54" stAng="10800000" swAng="-5400000"/>
                  <a:lnTo>
                    <a:pt x="21546" y="52675"/>
                  </a:lnTo>
                  <a:arcTo wR="54" hR="54" stAng="5400000" swAng="-5400000"/>
                  <a:lnTo>
                    <a:pt x="21600" y="54"/>
                  </a:lnTo>
                  <a:arcTo wR="54" hR="54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649760" y="10328760"/>
              <a:ext cx="361080" cy="1555560"/>
              <a:chOff x="4649760" y="10328760"/>
              <a:chExt cx="361080" cy="1555560"/>
            </a:xfrm>
          </p:grpSpPr>
          <p:sp>
            <p:nvSpPr>
              <p:cNvPr id="84" name=""/>
              <p:cNvSpPr/>
              <p:nvPr/>
            </p:nvSpPr>
            <p:spPr>
              <a:xfrm>
                <a:off x="4829040" y="10329840"/>
                <a:ext cx="1800" cy="155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400000">
                <a:off x="4052520" y="10926000"/>
                <a:ext cx="15555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0840" bIns="450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Produits b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5689440" y="12700080"/>
            <a:ext cx="990720" cy="144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89440" y="12825360"/>
            <a:ext cx="10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079880" y="9124560"/>
            <a:ext cx="9360" cy="96372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79880" y="4876920"/>
            <a:ext cx="9360" cy="96336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6160" y="4132440"/>
            <a:ext cx="990720" cy="1440"/>
          </a:xfrm>
          <a:prstGeom prst="line">
            <a:avLst/>
          </a:prstGeom>
          <a:ln w="36000">
            <a:solidFill>
              <a:srgbClr val="cccccc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13293720"/>
            <a:ext cx="4424400" cy="1467000"/>
          </a:xfrm>
          <a:prstGeom prst="roundRect">
            <a:avLst>
              <a:gd name="adj" fmla="val 10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1520" y="13366800"/>
            <a:ext cx="639720" cy="314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79440" y="13368240"/>
            <a:ext cx="2438640" cy="312840"/>
          </a:xfrm>
          <a:prstGeom prst="roundRect">
            <a:avLst>
              <a:gd name="adj" fmla="val 5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370040"/>
            <a:ext cx="1525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ire de 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41520" y="13835160"/>
            <a:ext cx="639720" cy="31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13838400"/>
            <a:ext cx="30319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Zone réservée a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0:07:30Z</dcterms:created>
  <dc:creator>Jean-Luc Louicellier</dc:creator>
  <dc:description/>
  <dc:language>en-US</dc:language>
  <cp:lastModifiedBy>Jean-Luc Louicellier</cp:lastModifiedBy>
  <dcterms:modified xsi:type="dcterms:W3CDTF">2009-11-28T17:15:46Z</dcterms:modified>
  <cp:revision>13</cp:revision>
  <dc:subject/>
  <dc:title/>
</cp:coreProperties>
</file>