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135625"/>
          <c:y val="0.111555555555556"/>
          <c:w val="0.6929375"/>
          <c:h val="0.793666666666667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Octave Polyfit</c:v>
                </c:pt>
              </c:strCache>
            </c:strRef>
          </c:tx>
          <c:spPr>
            <a:solidFill>
              <a:srgbClr val="000000"/>
            </a:solidFill>
            <a:ln w="0">
              <a:solidFill>
                <a:srgbClr val="000000"/>
              </a:solidFill>
            </a:ln>
          </c:spPr>
          <c:marker>
            <c:symbol val="diamond"/>
            <c:size val="6"/>
            <c:spPr>
              <a:solidFill>
                <a:srgbClr val="000000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0</c:v>
                </c:pt>
                <c:pt idx="1">
                  <c:v>2002</c:v>
                </c:pt>
                <c:pt idx="2">
                  <c:v>2004</c:v>
                </c:pt>
                <c:pt idx="3">
                  <c:v>2006</c:v>
                </c:pt>
                <c:pt idx="4">
                  <c:v>2008</c:v>
                </c:pt>
                <c:pt idx="5">
                  <c:v>2010</c:v>
                </c:pt>
                <c:pt idx="6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2558.7063369751</c:v>
                </c:pt>
                <c:pt idx="1">
                  <c:v>2947.18253326416</c:v>
                </c:pt>
                <c:pt idx="2">
                  <c:v>3071.2063369751</c:v>
                </c:pt>
                <c:pt idx="3">
                  <c:v>3146.2222366333</c:v>
                </c:pt>
                <c:pt idx="4">
                  <c:v>3387.67458343506</c:v>
                </c:pt>
                <c:pt idx="5">
                  <c:v>4011.00792694092</c:v>
                </c:pt>
              </c:numCache>
            </c:numRef>
          </c:val>
          <c:smooth val="1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Y Linest OO</c:v>
                </c:pt>
              </c:strCache>
            </c:strRef>
          </c:tx>
          <c:spPr>
            <a:solidFill>
              <a:srgbClr val="83caff"/>
            </a:solidFill>
            <a:ln w="18000">
              <a:solidFill>
                <a:srgbClr val="83caff"/>
              </a:solidFill>
              <a:custDash>
                <a:ds d="197000" sp="197000"/>
              </a:custDash>
              <a:round/>
            </a:ln>
          </c:spPr>
          <c:marker>
            <c:symbol val="square"/>
            <c:size val="8"/>
            <c:spPr>
              <a:solidFill>
                <a:srgbClr val="83ca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0</c:v>
                </c:pt>
                <c:pt idx="1">
                  <c:v>2002</c:v>
                </c:pt>
                <c:pt idx="2">
                  <c:v>2004</c:v>
                </c:pt>
                <c:pt idx="3">
                  <c:v>2006</c:v>
                </c:pt>
                <c:pt idx="4">
                  <c:v>2008</c:v>
                </c:pt>
                <c:pt idx="5">
                  <c:v>2010</c:v>
                </c:pt>
                <c:pt idx="6">
                  <c:v/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2664.40082263947</c:v>
                </c:pt>
                <c:pt idx="1">
                  <c:v>2799.31851255894</c:v>
                </c:pt>
                <c:pt idx="2">
                  <c:v>2986.65077078342</c:v>
                </c:pt>
                <c:pt idx="3">
                  <c:v>3230.63348698616</c:v>
                </c:pt>
                <c:pt idx="4">
                  <c:v>3535.50255203247</c:v>
                </c:pt>
                <c:pt idx="5">
                  <c:v>3905.49385547638</c:v>
                </c:pt>
              </c:numCache>
            </c:numRef>
          </c:val>
          <c:smooth val="1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Y</c:v>
                </c:pt>
              </c:strCache>
            </c:strRef>
          </c:tx>
          <c:spPr>
            <a:solidFill>
              <a:srgbClr val="ff00ff"/>
            </a:solidFill>
            <a:ln w="28800">
              <a:noFill/>
            </a:ln>
          </c:spPr>
          <c:marker>
            <c:symbol val="square"/>
            <c:size val="6"/>
            <c:spPr>
              <a:solidFill>
                <a:srgbClr val="ff00ff"/>
              </a:solidFill>
            </c:spPr>
          </c:marker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0</c:v>
                </c:pt>
                <c:pt idx="1">
                  <c:v>2002</c:v>
                </c:pt>
                <c:pt idx="2">
                  <c:v>2004</c:v>
                </c:pt>
                <c:pt idx="3">
                  <c:v>2006</c:v>
                </c:pt>
                <c:pt idx="4">
                  <c:v>2008</c:v>
                </c:pt>
                <c:pt idx="5">
                  <c:v>2010</c:v>
                </c:pt>
                <c:pt idx="6">
                  <c:v/>
                </c:pt>
              </c:strCache>
            </c:strRef>
          </c:cat>
          <c:val>
            <c:numRef>
              <c:f>2</c:f>
              <c:numCache>
                <c:formatCode>General</c:formatCode>
                <c:ptCount val="7"/>
                <c:pt idx="0">
                  <c:v>2577</c:v>
                </c:pt>
                <c:pt idx="1">
                  <c:v>2870</c:v>
                </c:pt>
                <c:pt idx="2">
                  <c:v>3197</c:v>
                </c:pt>
                <c:pt idx="3">
                  <c:v>3049</c:v>
                </c:pt>
                <c:pt idx="4">
                  <c:v>3422</c:v>
                </c:pt>
                <c:pt idx="5">
                  <c:v>4007</c:v>
                </c:pt>
              </c:numCache>
            </c:numRef>
          </c:val>
          <c:smooth val="1"/>
        </c:ser>
        <c:hiLowLines>
          <c:spPr>
            <a:ln w="0">
              <a:noFill/>
            </a:ln>
          </c:spPr>
        </c:hiLowLines>
        <c:marker val="1"/>
        <c:axId val="88609079"/>
        <c:axId val="98088984"/>
      </c:lineChart>
      <c:catAx>
        <c:axId val="886090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33333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88984"/>
        <c:crosses val="autoZero"/>
        <c:auto val="1"/>
        <c:lblAlgn val="ctr"/>
        <c:lblOffset val="100"/>
        <c:noMultiLvlLbl val="0"/>
      </c:catAx>
      <c:valAx>
        <c:axId val="98088984"/>
        <c:scaling>
          <c:orientation val="minMax"/>
          <c:min val="2000"/>
        </c:scaling>
        <c:delete val="0"/>
        <c:axPos val="l"/>
        <c:majorGridlines>
          <c:spPr>
            <a:ln w="0">
              <a:solidFill>
                <a:srgbClr val="33333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33333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09079"/>
        <c:crosses val="autoZero"/>
        <c:crossBetween val="midCat"/>
      </c:valAx>
      <c:spPr>
        <a:solidFill>
          <a:srgbClr val="c0c0c0"/>
        </a:solidFill>
        <a:ln w="0">
          <a:solidFill>
            <a:srgbClr val="333333"/>
          </a:solidFill>
        </a:ln>
      </c:spPr>
    </c:plotArea>
    <c:legend>
      <c:legendPos val="r"/>
      <c:overlay val="0"/>
      <c:spPr>
        <a:noFill/>
        <a:ln w="0">
          <a:solidFill>
            <a:srgbClr val="333333"/>
          </a:solidFill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solidFill>
        <a:srgbClr val="000000"/>
      </a:solidFill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B17-1E61-4BF9-9C4E-B6F7066F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8CA-181D-4E5E-B9FF-7767086E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108-4626-467C-89DA-100AD7B3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320-CCBD-4288-9179-2D51E696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7A0-60A9-45DB-ADD8-72383ABE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AF5-412E-4EDA-B4F1-81B50E37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820-FE60-4A02-94B7-B3BC0335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8BB-6849-4C17-A0C7-853FB2D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C64-DE3B-4355-B545-887A8693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EF0-FD7A-4C70-8E15-67EE17DA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84C-DC4E-442D-A9EF-7B5DC861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FDF-A1D4-4F10-A082-39342AB7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2E5BB7-EECF-487F-AB6D-644BCB1DA5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5373720"/>
            <a:ext cx="4008600" cy="93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25280" y="5032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Lin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1347840"/>
            <a:ext cx="5486400" cy="3771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$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58960" y="1311120"/>
          <a:ext cx="5759280" cy="32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49400" y="5321160"/>
            <a:ext cx="490392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49400" y="49928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 Lin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9:26:00Z</dcterms:created>
  <dc:creator>bvennber</dc:creator>
  <dc:description/>
  <dc:language>en-US</dc:language>
  <cp:lastModifiedBy>bvennber</cp:lastModifiedBy>
  <dcterms:modified xsi:type="dcterms:W3CDTF">2010-09-27T07:25:06Z</dcterms:modified>
  <cp:revision>4</cp:revision>
  <dc:subject/>
  <dc:title>Slide 1</dc:title>
</cp:coreProperties>
</file>