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77816-8DAB-4D10-94D2-2875F88E1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3A6DD-0FF4-4477-952F-50F9B4C72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C8EA3-C198-4BFC-A1EE-FD3D109B1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BA230-5D39-450C-A3FC-DF9B7D05F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059BA-8B40-4BF5-8B7D-65A1A3A07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8DE3C-756A-43ED-BEA8-A00D69D28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B4272-C44A-4B2A-8668-0A83DDF15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2546B-30ED-47D2-9DC8-640612D3E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15CC5-F513-4756-995F-6B75EDFB5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B47A5-4AEB-45E1-A041-30808BAF4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A0431-56C8-4862-8F28-9B3229A10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0F213-FBAF-4C4D-A5B6-D7E13DF99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D7B39-E695-42ED-94B9-CA873A2F4F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36720" y="2897280"/>
            <a:ext cx="3591000" cy="24192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БУХВАЛ" descr=""/>
          <p:cNvPicPr/>
          <p:nvPr/>
        </p:nvPicPr>
        <p:blipFill>
          <a:blip r:embed="rId1"/>
          <a:stretch/>
        </p:blipFill>
        <p:spPr>
          <a:xfrm>
            <a:off x="1298520" y="2820960"/>
            <a:ext cx="2209680" cy="1009800"/>
          </a:xfrm>
          <a:prstGeom prst="rect">
            <a:avLst/>
          </a:prstGeom>
          <a:ln w="0">
            <a:noFill/>
          </a:ln>
        </p:spPr>
      </p:pic>
      <p:pic>
        <p:nvPicPr>
          <p:cNvPr id="43" name="Шоя copy" descr=""/>
          <p:cNvPicPr/>
          <p:nvPr/>
        </p:nvPicPr>
        <p:blipFill>
          <a:blip r:embed="rId2"/>
          <a:stretch/>
        </p:blipFill>
        <p:spPr>
          <a:xfrm>
            <a:off x="1784520" y="3697200"/>
            <a:ext cx="1238040" cy="943200"/>
          </a:xfrm>
          <a:prstGeom prst="rect">
            <a:avLst/>
          </a:prstGeom>
          <a:ln w="0">
            <a:noFill/>
          </a:ln>
        </p:spPr>
      </p:pic>
      <p:pic>
        <p:nvPicPr>
          <p:cNvPr id="44" name="ИТАЛИЯ" descr=""/>
          <p:cNvPicPr/>
          <p:nvPr/>
        </p:nvPicPr>
        <p:blipFill>
          <a:blip r:embed="rId3"/>
          <a:stretch/>
        </p:blipFill>
        <p:spPr>
          <a:xfrm>
            <a:off x="1793880" y="4011480"/>
            <a:ext cx="184788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user</cp:lastModifiedBy>
  <dcterms:modified xsi:type="dcterms:W3CDTF">2011-11-21T18:47:22Z</dcterms:modified>
  <cp:revision>1</cp:revision>
  <dc:subject/>
  <dc:title>Slide 1</dc:title>
</cp:coreProperties>
</file>