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6F25-28C8-4DE3-9906-CCC358A604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C0B1-F1F9-453B-BB68-7914AB70E9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8BE-D8E8-4267-A87D-5EAF5D4E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7E6-D5E6-4890-A81A-8784709B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9AC-EF51-421D-B8C0-DC05B9C2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042-7A34-4B54-B9D4-40AB81B3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2C6-C0B6-4A25-B3C4-25D8603E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B21-7BFF-41DF-92EE-84850340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8E7-5357-4DDB-82D2-A8C6AC37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2AA-EC2B-435B-BE5B-69B3AD90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36E-E10F-4646-B6FA-E6122F0F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105-791A-4627-8EBD-A103092D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10D-03D4-49C8-A42F-0D36B100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275-2119-4DD4-8D53-2C6F7A8E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A408-553C-4CB3-9AEC-9D0771A35FBD}" type="slidenum">
              <a:rPr b="0" lang="he-I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0:10:43Z</dcterms:modified>
  <cp:revision>215</cp:revision>
  <dc:subject/>
  <dc:title>Slide 1</dc:title>
</cp:coreProperties>
</file>