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D7A-338B-4BC2-9AC8-7F94942C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818-902B-4EDF-ADCA-2CA6F98C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043-DE63-4508-AEC8-BA7B2BE0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7C6-4E92-4F8B-95DF-F7FC8FCB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34F-B25F-4EF0-8AF1-BEDCCB4D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247-1D65-4908-8D6E-7108426A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7A2-F319-4F4E-A87F-35A2E3A2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935-E30F-452C-A6A3-B0FD333D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331-7794-4BDA-A392-2E00566B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EBA-95DB-4D9A-AAC6-2953EED1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078-3026-4483-9AAC-EE8471B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6E4-E90E-4241-BF70-AF00BA26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6FD7-29DA-4619-A92C-1996D66F8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71680"/>
            <a:ext cx="73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3:15:50Z</dcterms:created>
  <dc:creator>Terri Incollingo</dc:creator>
  <dc:description/>
  <dc:language>en-US</dc:language>
  <cp:lastModifiedBy>Terri Incollingo</cp:lastModifiedBy>
  <dcterms:modified xsi:type="dcterms:W3CDTF">2002-01-06T03:16:13Z</dcterms:modified>
  <cp:revision>1</cp:revision>
  <dc:subject/>
  <dc:title>PowerPoint Presentation</dc:title>
</cp:coreProperties>
</file>