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055-0EF2-4D1B-BA5C-762ADD32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6316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A7E-E14C-4A8E-904F-C17CCD9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B9A-6C73-4CE7-9333-E00D535F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7952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5760" y="12682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7952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5760" y="3631680"/>
            <a:ext cx="2205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32B-D3D9-4763-B4FE-2EE80DB0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CBC-7DC0-4419-94B2-1905F59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DE9-5672-479B-A6B2-BCCC958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BE3-4BD1-4599-9911-DA0A94B3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A6D-FF9B-40B4-B7CF-357CFE9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580000" y="274680"/>
            <a:ext cx="31053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836-88FC-4F52-BFBD-42BC9F4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0F9-50BB-478E-9511-68010FC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3640" y="36316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D7C-8ABF-4177-BBC2-3A27C1C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3640" y="1268280"/>
            <a:ext cx="3342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631680"/>
            <a:ext cx="6850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E37-2F3E-4C51-B4C3-B90873C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0000" y="274680"/>
            <a:ext cx="3105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268280"/>
            <a:ext cx="6850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A5048A-0B56-4F97-B56D-92F13647A0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68280"/>
            <a:ext cx="9144000" cy="4176720"/>
          </a:xfrm>
          <a:prstGeom prst="rect">
            <a:avLst/>
          </a:prstGeom>
          <a:solidFill>
            <a:srgbClr val="909bd4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354389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16280" y="1235160"/>
            <a:ext cx="6851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orteur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Opportunité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Notre équip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 palmarè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almarès en solitai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che techniqu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Support  publicitai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Pourquoi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Blabla marketing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Communiquer avec un moyen visuel fort vos valeurs, votre image et vos produits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 support proposé véhicule une image attractive et positiv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voile connaît un engouement médiatique très important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Vecteurs / Porteurs de l’actualité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voile Suisse obtient des résultats magnifiqu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s frères Bourgn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es frères Ravussi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Et l’équipe Alinghi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Grâce à ces succès, la voile devient un média irremplaçabl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1773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La population suit avec de plus en plus d’intérêt les régates international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Aventure incroyable: de minuscules bateaux face à l’immense océa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etits bateaux, grandes surfaces marketing très visibl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re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Jean-Jacques Cunier, un solitaire né qui réalise son rêve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Excellents résultats sur les lacs et en mer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René Bach, équipier, soutien et l’intellectuel de l’équipe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Thomas Schweizer, Alain Grosvernier,</a:t>
            </a: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Une équipe ayant effectué des 10’000 de milles en mer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Une expérience à votre disposition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800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alm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280" y="1268280"/>
            <a:ext cx="68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Jean-Jacques Cunier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lmares en sol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280" y="1267920"/>
            <a:ext cx="685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7200" y="-36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874800"/>
            <a:ext cx="4319280" cy="46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oûts 2006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Bateau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5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Remorque 6.50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5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Remorque ann.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8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Bat. assistance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5’000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Moteur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Voile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Assurance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Déplacement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8’000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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Hébergements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0fr/jour</a:t>
            </a:r>
            <a:br>
              <a:rPr sz="2000"/>
            </a:br>
            <a:r>
              <a:rPr b="0" lang="en-GB" sz="1800" spc="-1" strike="noStrike">
                <a:solidFill>
                  <a:srgbClr val="cc9900"/>
                </a:solidFill>
                <a:latin typeface="Arial"/>
              </a:rPr>
              <a:t>(3-4 pers)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874800"/>
            <a:ext cx="38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Coûts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Voile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3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Assurance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Déplacements</a:t>
            </a: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0’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Héber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otal 185’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ch René GSEFD</dc:creator>
  <dc:description/>
  <dc:language>en-US</dc:language>
  <cp:lastModifiedBy>Bach René GSEFD</cp:lastModifiedBy>
  <cp:revision>0</cp:revision>
  <dc:subject/>
  <dc:title>Slide 1</dc:title>
</cp:coreProperties>
</file>