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252-EBC0-4B4F-A514-91A7A1BD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E36-9356-48EB-99E0-7A4CB69C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621-7B8C-4749-B345-F757E825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AB2-B9CC-47B3-AFD0-A88D7448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29A-85D2-473A-AB72-368544CC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DD9-0E7D-498B-97D7-2FAD1830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114-1FFC-4CB2-8423-289A6467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FCA-DC24-4702-AAE5-995F6586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C80-21A8-4234-8925-D9C14A34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722-DF75-4235-B309-0E55639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473-5D64-4E62-A9B9-87612596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7D0-EC2A-4600-9E66-5D320E8F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8E3B4-7445-458A-A288-D719D64538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2840" y="360360"/>
            <a:ext cx="5854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ain Heading: Spectrum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359000" y="1440000"/>
            <a:ext cx="7361280" cy="720720"/>
            <a:chOff x="1359000" y="1440000"/>
            <a:chExt cx="7361280" cy="720720"/>
          </a:xfrm>
        </p:grpSpPr>
        <p:sp>
          <p:nvSpPr>
            <p:cNvPr id="43" name=""/>
            <p:cNvSpPr/>
            <p:nvPr/>
          </p:nvSpPr>
          <p:spPr>
            <a:xfrm>
              <a:off x="1359000" y="1440000"/>
              <a:ext cx="368928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30640" y="1440000"/>
              <a:ext cx="368964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72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9280" y="2519280"/>
            <a:ext cx="184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2000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5440" y="4140360"/>
            <a:ext cx="937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rem ipsum dolor sit amet, consectetur adipisicing elit, sed do eiusm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empor incididunt ut labore et dolore magna aliqua. Ut enim ad mi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niam, quis nostrud exercitation ullamco laboris nisi ut aliquip ex 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modo consequat. Duis aute irure dolor in reprehenderit in volup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lit esse cillum dolore eu fugiat nulla pariatur. Excepteur sint occaec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upidatat non proident, sunt in culpa qui officia deserunt mollit anim id 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5" idx="2"/>
            <a:endCxn id="49" idx="0"/>
          </p:cNvCxnSpPr>
          <p:nvPr/>
        </p:nvCxnSpPr>
        <p:spPr>
          <a:xfrm flipH="1" rot="16200000">
            <a:off x="2736360" y="1861560"/>
            <a:ext cx="1188000" cy="3369960"/>
          </a:xfrm>
          <a:prstGeom prst="bentConnector3">
            <a:avLst>
              <a:gd name="adj1" fmla="val 49984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12840" y="360360"/>
            <a:ext cx="5854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ain Heading: Spectrum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59000" y="1440000"/>
            <a:ext cx="7361280" cy="720720"/>
            <a:chOff x="1359000" y="1440000"/>
            <a:chExt cx="7361280" cy="720720"/>
          </a:xfrm>
        </p:grpSpPr>
        <p:sp>
          <p:nvSpPr>
            <p:cNvPr id="53" name=""/>
            <p:cNvSpPr/>
            <p:nvPr/>
          </p:nvSpPr>
          <p:spPr>
            <a:xfrm>
              <a:off x="1359000" y="1440000"/>
              <a:ext cx="368928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0640" y="1440000"/>
              <a:ext cx="368964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2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9280" y="2519280"/>
            <a:ext cx="184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0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000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6" idx="2"/>
            <a:endCxn id="60" idx="0"/>
          </p:cNvCxnSpPr>
          <p:nvPr/>
        </p:nvCxnSpPr>
        <p:spPr>
          <a:xfrm>
            <a:off x="1660320" y="1766880"/>
            <a:ext cx="1786680" cy="118764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39640" y="4140360"/>
            <a:ext cx="937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ferences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rem ipsum dolor sit amet, consectetur adipisicing elit, sed do eiusm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empor incididunt ut labore et dolore magna aliqua. Ut enim ad mi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niam, quis nostrud exercitation ullamco laboris nisi ut aliquip ex 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modo consequat. Duis aute irure dolor in reprehenderit in volup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lit esse cillum dolore eu fugiat nulla pariatur. Excepteur sint occaec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upidatat non proident, sunt in culpa qui officia deserunt mollit anim id 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12840" y="360360"/>
            <a:ext cx="5854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ain Heading: Spectrum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59000" y="1440000"/>
            <a:ext cx="7361280" cy="720720"/>
            <a:chOff x="1359000" y="1440000"/>
            <a:chExt cx="7361280" cy="720720"/>
          </a:xfrm>
        </p:grpSpPr>
        <p:sp>
          <p:nvSpPr>
            <p:cNvPr id="63" name=""/>
            <p:cNvSpPr/>
            <p:nvPr/>
          </p:nvSpPr>
          <p:spPr>
            <a:xfrm>
              <a:off x="1359000" y="1440000"/>
              <a:ext cx="368928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0640" y="1440000"/>
              <a:ext cx="368964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72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9280" y="2519280"/>
            <a:ext cx="184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2000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7" idx="2"/>
            <a:endCxn id="70" idx="0"/>
          </p:cNvCxnSpPr>
          <p:nvPr/>
        </p:nvCxnSpPr>
        <p:spPr>
          <a:xfrm flipV="1" rot="10800000">
            <a:off x="4133160" y="1766880"/>
            <a:ext cx="1096200" cy="118764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539640" y="4140360"/>
            <a:ext cx="937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ferences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rem ipsum dolor sit amet, consectetur adipisicing elit, sed do eiusm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empor incididunt ut labore et dolore magna aliqua. Ut enim ad mi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niam, quis nostrud exercitation ullamco laboris nisi ut aliquip ex 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modo consequat. Duis aute irure dolor in reprehenderit in volup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lit esse cillum dolore eu fugiat nulla pariatur. Excepteur sint occaec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upidatat non proident, sunt in culpa qui officia deserunt mollit anim id 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12840" y="360360"/>
            <a:ext cx="5854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ain Heading: Spectrum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59000" y="1440000"/>
            <a:ext cx="7361280" cy="720720"/>
            <a:chOff x="1359000" y="1440000"/>
            <a:chExt cx="7361280" cy="720720"/>
          </a:xfrm>
        </p:grpSpPr>
        <p:sp>
          <p:nvSpPr>
            <p:cNvPr id="73" name=""/>
            <p:cNvSpPr/>
            <p:nvPr/>
          </p:nvSpPr>
          <p:spPr>
            <a:xfrm>
              <a:off x="1359000" y="1440000"/>
              <a:ext cx="368928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0640" y="1440000"/>
              <a:ext cx="3689640" cy="72072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9280" y="2519280"/>
            <a:ext cx="184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0072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2519280"/>
            <a:ext cx="1849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ubheading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endCxn id="80" idx="0"/>
          </p:cNvCxnSpPr>
          <p:nvPr/>
        </p:nvCxnSpPr>
        <p:spPr>
          <a:xfrm flipV="1" rot="10800000">
            <a:off x="1501200" y="2018880"/>
            <a:ext cx="3729600" cy="1062720"/>
          </a:xfrm>
          <a:prstGeom prst="bentConnector3">
            <a:avLst>
              <a:gd name="adj1" fmla="val 49995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39640" y="4140360"/>
            <a:ext cx="937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ferences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rem ipsum dolor sit amet, consectetur adipisicing elit, sed do eiusm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empor incididunt ut labore et dolore magna aliqua. Ut enim ad min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niam, quis nostrud exercitation ullamco laboris nisi ut aliquip ex 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modo consequat. Duis aute irure dolor in reprehenderit in volup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velit esse cillum dolore eu fugiat nulla pariatur. Excepteur sint occaec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upidatat non proident, sunt in culpa qui officia deserunt mollit anim id 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ab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0:02:41Z</dcterms:created>
  <dc:creator>Chris Forbes</dc:creator>
  <dc:description/>
  <dc:language>en-US</dc:language>
  <cp:lastModifiedBy>Chris Forbes</cp:lastModifiedBy>
  <dcterms:modified xsi:type="dcterms:W3CDTF">2010-05-03T10:16:50Z</dcterms:modified>
  <cp:revision>3</cp:revision>
  <dc:subject/>
  <dc:title/>
</cp:coreProperties>
</file>