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778-F84E-4E8D-8B55-AA26BB28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CEB-546C-42CD-9264-8943982E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F82-0520-4799-AE83-881A1DAB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2CE-52F4-4558-BBDF-66AF0AB1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D7D-2787-4481-96C2-6194B46E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FB4-BEA5-4409-9E92-B57F822C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EC2-89D5-4A5A-A9FB-D5F4CA68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A4E-BDA0-4EF7-94EF-16274DAB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B97-9E06-4312-A380-C6FAC109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78F-250B-4C46-82CC-876D2F1D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D76-DBBE-4652-8C28-D09B7D37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DF9-3484-4AC0-AD6F-3DC050C6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4AFE-2A44-4B8C-A5ED-A47F1091B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549360"/>
            <a:ext cx="3671640" cy="237636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: Gray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or: Black&amp;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FFC252FFCSD_Picture00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: Was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ghtness: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260280"/>
            <a:ext cx="3672000" cy="2376720"/>
          </a:xfrm>
          <a:prstGeom prst="wedgeRoundRectCallout">
            <a:avLst>
              <a:gd name="adj1" fmla="val -50689"/>
              <a:gd name="adj2" fmla="val 113328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(Image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st: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FC252FFCSD_Picture00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52560" y="3354480"/>
            <a:ext cx="2745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1:40:48Z</dcterms:created>
  <dc:creator>Administrator</dc:creator>
  <dc:description/>
  <dc:language>en-US</dc:language>
  <cp:lastModifiedBy>Administrator</cp:lastModifiedBy>
  <dcterms:modified xsi:type="dcterms:W3CDTF">2005-05-27T03:13:35Z</dcterms:modified>
  <cp:revision>6</cp:revision>
  <dc:subject/>
  <dc:title>Key Issues</dc:title>
</cp:coreProperties>
</file>