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20DD-9095-4276-9EA6-E8307692E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920" y="405036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1637-3C7C-4F23-9A8F-BCB36D62F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904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633A-BCE6-47D2-BCAE-59E73762A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752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8480" y="182880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92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752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8480" y="4050360"/>
            <a:ext cx="2514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6BD1-D33C-4B54-AC0A-2939609E1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FC29-C287-444B-BEDF-973C398A0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25DA-E91F-446B-AD9D-53E7D9431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2D4D-5BC0-4A4B-AFF0-73857A14B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DBC6-60BF-4E0F-AFCE-1C0E61676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39640" y="-168120"/>
            <a:ext cx="65754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F7B8-D527-4910-BD87-08ED0097C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1B21-6FEE-4740-9D10-70F45ABB2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9040" y="405036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43BA-0CA3-48B9-A56D-880A29D43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9040" y="1828800"/>
            <a:ext cx="381132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050360"/>
            <a:ext cx="78105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3261-DBB0-4542-A268-41FB9D199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39640" y="-168120"/>
            <a:ext cx="6575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921b21"/>
                </a:solidFill>
                <a:latin typeface="Gill Sans MT"/>
              </a:rPr>
              <a:t>Click to edit the title text format</a:t>
            </a:r>
            <a:endParaRPr b="1" lang="en-US" sz="34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828800"/>
            <a:ext cx="781056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18558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7CAAA-FE0C-4571-9157-969942DB3C8F}" type="slidenum">
              <a:rPr b="0" lang="en-I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7280" y="104400"/>
            <a:ext cx="7164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N" sz="2800" spc="-1" strike="noStrike">
                <a:solidFill>
                  <a:srgbClr val="921b21"/>
                </a:solidFill>
                <a:latin typeface="Gill Sans MT"/>
              </a:rPr>
              <a:t>Wd?</a:t>
            </a:r>
            <a:endParaRPr b="1" lang="en-US" sz="2800" spc="-1" strike="noStrike">
              <a:solidFill>
                <a:srgbClr val="921b21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560" y="1375920"/>
            <a:ext cx="78598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Gill Sans MT"/>
              </a:rPr>
              <a:t>Ttextd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"/>
          <p:cNvSpPr/>
          <p:nvPr/>
        </p:nvSpPr>
        <p:spPr>
          <a:xfrm>
            <a:off x="93960" y="1270080"/>
            <a:ext cx="39960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N" sz="1800" spc="-1" strike="noStrike">
                <a:solidFill>
                  <a:srgbClr val="921b21"/>
                </a:solidFill>
                <a:latin typeface="Gill Sans MT"/>
              </a:rPr>
              <a:t>Vertic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BB92-8A30-44A8-9201-0E7955DF70E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8:55:22Z</dcterms:created>
  <dc:creator>Ralf Radermacher</dc:creator>
  <dc:description/>
  <dc:language>en-US</dc:language>
  <cp:lastModifiedBy>mark</cp:lastModifiedBy>
  <dcterms:modified xsi:type="dcterms:W3CDTF">2009-04-29T13:10:57Z</dcterms:modified>
  <cp:revision>44</cp:revision>
  <dc:subject/>
  <dc:title>Slide 1</dc:title>
</cp:coreProperties>
</file>