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282-E86C-4EAD-AD99-5CFA27B2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4DC-6D5A-4A60-BF12-58D006CF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23C-7963-45C3-98C7-7BC05B67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390-E635-4DAB-A62E-4825087F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E7C-D75C-4D1E-B766-7020FD12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50B-1E2A-4A27-AC3A-A46F931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7B2-0986-4BAC-986A-5420053E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9E5-C4EA-4DEF-AB16-FEC9FCA7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F1D-BCED-41AE-B117-696EDF45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E10-FEFE-4F86-BC32-D1A3E93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1DE-FB8F-4983-95CF-4FCAAB7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72A-FF03-429E-9AB0-8CE1AD3E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7C00-42D2-40CF-A2DA-A7B5555CA2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ormat Object…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lternative text: ” Char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25146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1:58:01Z</dcterms:created>
  <dc:creator>wctsvt</dc:creator>
  <dc:description/>
  <dc:language>en-US</dc:language>
  <cp:lastModifiedBy>wanglifeng</cp:lastModifiedBy>
  <dcterms:modified xsi:type="dcterms:W3CDTF">2012-09-12T02:09:36Z</dcterms:modified>
  <cp:revision>13</cp:revision>
  <dc:subject/>
  <dc:title>Slide 1</dc:title>
</cp:coreProperties>
</file>