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6C38-9EB0-4AEA-B9A3-05E781783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8837-95D4-4ECB-BCE4-E43EB88C8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67D0-3FE3-4A14-ABA7-9A3B423C5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053A-5CC7-445D-BF79-417AD750C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70CA-51E6-44CB-97A1-7A3EFDBF5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C215-23D4-4C07-B5FE-56E2C5B51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D00B-E490-4C8F-AA5D-F077B2808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870D-61FC-4CD6-80A9-7A088F468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C1FC-7A93-44FB-A67A-60D9EC27A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F28B-1F9E-44D2-9057-0EB6DF6DD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6D57-86AF-499A-810A-9D37FB092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28A5-5D87-43EA-8D3B-EDDCDB911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B6D32-DD60-4480-978A-38E7955F0D7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620640"/>
            <a:ext cx="2232000" cy="22320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2232000"/>
              <a:gd name="textAreaBottom" fmla="*/ 2232360 h 22320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564000" y="620640"/>
            <a:ext cx="2232000" cy="22320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2232000"/>
              <a:gd name="textAreaBottom" fmla="*/ 2232360 h 2232000"/>
            </a:gdLst>
            <a:ahLst/>
            <a:rect l="textAreaLeft" t="textAreaTop" r="textAreaRight" b="textAreaBottom"/>
            <a:pathLst>
              <a:path w="21600" h="21600">
                <a:moveTo>
                  <a:pt x="8926" y="19064"/>
                </a:moveTo>
                <a:arcTo wR="-8474" hR="-8474" stAng="6166512" swAng="-3977231"/>
                <a:lnTo>
                  <a:pt x="2117" y="4378"/>
                </a:lnTo>
                <a:arcTo wR="10800" hR="10800" stAng="-8610720" swAng="3977231"/>
                <a:lnTo>
                  <a:pt x="13785" y="-2366"/>
                </a:lnTo>
                <a:lnTo>
                  <a:pt x="16698" y="2256"/>
                </a:lnTo>
                <a:lnTo>
                  <a:pt x="12077" y="516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620640"/>
            <a:ext cx="2232000" cy="22320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2232000"/>
              <a:gd name="textAreaBottom" fmla="*/ 2232360 h 2232000"/>
            </a:gdLst>
            <a:ahLst/>
            <a:rect l="textAreaLeft" t="textAreaTop" r="textAreaRight" b="textAreaBottom"/>
            <a:pathLst>
              <a:path w="21600" h="21600">
                <a:moveTo>
                  <a:pt x="14364" y="7973"/>
                </a:moveTo>
                <a:arcTo wR="-4549" hR="-4549" stAng="-2305308" swAng="-18842995"/>
                <a:lnTo>
                  <a:pt x="93" y="9385"/>
                </a:lnTo>
                <a:arcTo wR="10800" hR="10800" stAng="-10348303" swAng="18842995"/>
                <a:lnTo>
                  <a:pt x="223" y="19190"/>
                </a:lnTo>
                <a:lnTo>
                  <a:pt x="1167" y="11005"/>
                </a:lnTo>
                <a:lnTo>
                  <a:pt x="9351" y="119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55640" y="3355920"/>
            <a:ext cx="2232000" cy="22320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2232000"/>
              <a:gd name="textAreaBottom" fmla="*/ 2232360 h 2232000"/>
            </a:gdLst>
            <a:ahLst/>
            <a:rect l="textAreaLeft" t="textAreaTop" r="textAreaRight" b="textAreaBottom"/>
            <a:pathLst>
              <a:path w="21600" h="21600">
                <a:moveTo>
                  <a:pt x="27" y="10036"/>
                </a:moveTo>
                <a:arcTo wR="-10800" hR="-10800" stAng="-10556665" swAng="-19129406"/>
                <a:lnTo>
                  <a:pt x="18406" y="18468"/>
                </a:lnTo>
                <a:arcTo wR="10800" hR="10800" stAng="2713929" swAng="19129406"/>
                <a:lnTo>
                  <a:pt x="24266" y="11755"/>
                </a:lnTo>
                <a:lnTo>
                  <a:pt x="21382" y="14257"/>
                </a:lnTo>
                <a:lnTo>
                  <a:pt x="18880" y="11373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59280" y="3716280"/>
            <a:ext cx="2232000" cy="22320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2232000"/>
              <a:gd name="textAreaBottom" fmla="*/ 2232360 h 2232000"/>
            </a:gdLst>
            <a:ahLst/>
            <a:rect l="textAreaLeft" t="textAreaTop" r="textAreaRight" b="textAreaBottom"/>
            <a:pathLst>
              <a:path w="21600" h="21600">
                <a:moveTo>
                  <a:pt x="10462" y="9970"/>
                </a:moveTo>
                <a:arcTo wR="-896" hR="-896" stAng="-6729455" swAng="-20347066"/>
                <a:lnTo>
                  <a:pt x="11040" y="21597"/>
                </a:lnTo>
                <a:arcTo wR="10800" hR="10800" stAng="5323479" swAng="20347066"/>
                <a:lnTo>
                  <a:pt x="15892" y="23303"/>
                </a:lnTo>
                <a:lnTo>
                  <a:pt x="5919" y="19102"/>
                </a:lnTo>
                <a:lnTo>
                  <a:pt x="10120" y="912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333440" y="981000"/>
            <a:ext cx="647712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15:22:43Z</dcterms:created>
  <dc:creator>bm93744</dc:creator>
  <dc:description/>
  <dc:language>en-US</dc:language>
  <cp:lastModifiedBy>bm93744</cp:lastModifiedBy>
  <dcterms:modified xsi:type="dcterms:W3CDTF">2004-12-16T15:23:05Z</dcterms:modified>
  <cp:revision>1</cp:revision>
  <dc:subject/>
  <dc:title>Slide 1</dc:title>
</cp:coreProperties>
</file>