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A63-51F6-416F-AFFF-62C6DE4F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D19-7264-4151-9772-105A3E13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101-0A3B-4D11-A3F3-A0A7C3C0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392-44BD-4EB5-AC1B-C1E8B05D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6A63-44CF-4B23-BF07-5598509B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64F8-CD81-4BAF-8166-7767602D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EABE-2978-4DFE-A5E2-AE3E9F66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A6BC-BD65-4853-B9A4-EC14E67F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042D-B41E-4696-9122-A638F730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E036-DC4E-4688-92E4-AFA32CCD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9FAC-8100-4026-BB0A-207F28A7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970-98E3-4F18-9206-D247371E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4081-76F0-4CA2-8718-EA203B4B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07C0-6DF6-42BD-9534-2E9DA32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27EB-E9CC-4963-B991-C6E0B54A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20A4-9BE1-4F83-9BA7-411D9DEF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4604-9040-4432-A28D-13F64DDD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1A4-7547-49F9-8B5B-6E1B03E3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5B9-54AB-4F07-A6CF-CC0EB33F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8C6-7705-4E3B-A95A-436393D0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AFA-4DC2-42BC-9047-AD739F5F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F6B-8442-4AFB-A811-15183D09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4A7-5BF6-47B9-9A0C-96B9EDE3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B1C-7FA8-44C0-A8A8-55559D2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4E2D-7B0E-42CA-866B-F0D0C8A717B2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9040-5DC1-45F1-B9AB-BCD791B3B26B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Times New Roman"/>
              </a:rPr>
              <a:t>Compaq cluster és storage a Magyar Posta Rt. SAP R3ndszerébe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őté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ladat és növekedés 1997-2000 közöt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rastruktúra és környez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chnológia és eszközö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emelend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pasztal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olgált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vábbi irány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eladat és növekedés 1997-2000 között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AP R/3 3.0F-3.1H FI,CO,MM,SD,HR modul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evesített/egyidejű on-line felhasználók: 15-szörö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roduktív adatbázis mérete egy 12-sz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omtatók száma 50-szeres (!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ite-ok száma tízsz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api 12-14 óra dialógus üz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frastruktúra és környez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erverek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lhasználó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den egyé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echnológia és eszközö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AP AG ajánlás szerinti három-rendszeres landsca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urboLaser és 4100-as kategóriájú szerver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DDI gyűrű (!), Ethernet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igital Unix 3.2G..Tru64 Unix 4.0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SE (Failover cluster) 1.4- ASE 1.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A 35x polcok…ESA 10000 tároló alrend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L895 5/96-os TZ89-es lib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iemelendő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SM alapú tükrö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A alapú stripe-ol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vFS fájlrend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racle adatbáz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pasztalato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SE kontra hálózati elem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vFS: rendszerind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SM: I/O és rendszerind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ape library teljesítmé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A 10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zolgáltatá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ital, majd Compaq mint hardver és rendszermenedzsment támogat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Üzemidőhöz igazodó karbantartási szerződ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vábbi irányo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P R/3 verzióváltáshoz kapcsolódó szerverbővítés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0:04:31Z</dcterms:created>
  <dc:creator>LilingZoltán</dc:creator>
  <dc:description/>
  <dc:language>en-US</dc:language>
  <cp:lastModifiedBy>David J Cho</cp:lastModifiedBy>
  <dcterms:modified xsi:type="dcterms:W3CDTF">2005-01-10T22:44:17Z</dcterms:modified>
  <cp:revision>2</cp:revision>
  <dc:subject/>
  <dc:title>Compaq cluster és storage a Magyar Posta Rt. SAP R3ndszerében</dc:title>
</cp:coreProperties>
</file>