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705E-EF4A-4443-9CD8-D614BE741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A6A2-E023-43AF-A743-E57423AF4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53AA-6DEA-4C2E-BB23-CE4842559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15D4-6E9E-4F7E-B099-02688DF4B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F141-FA4A-4DDC-89EB-0817F4ED7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5966-BF66-4CF0-B248-9C8E2BF91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1E43-5F0B-4FFC-9929-634181ADB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A9CA-7B4E-4242-8A90-F3D9A017C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0C6B-55BE-4A09-A2FE-11CAFDD67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A2B7-E7FB-4883-8466-D8FA9F7B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AD94-03C3-4B16-AC92-91A419E8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45D1-6A54-40B7-BA1A-A753E59F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37FD2-EEAB-41E4-B6FA-54AC1A9E3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151680" y="2209680"/>
          <a:ext cx="2992320" cy="9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1680" y="2209680"/>
                    <a:ext cx="2992320" cy="9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1960" y="300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003640" y="3284640"/>
            <a:ext cx="1828800" cy="266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"/>
          <p:cNvGraphicFramePr/>
          <p:nvPr/>
        </p:nvGraphicFramePr>
        <p:xfrm>
          <a:off x="1187280" y="3213000"/>
          <a:ext cx="1752840" cy="2895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87280" y="3213000"/>
                    <a:ext cx="175284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9T06:11:00Z</dcterms:created>
  <dc:creator>weihongtao</dc:creator>
  <dc:description/>
  <dc:language>en-US</dc:language>
  <cp:lastModifiedBy>dujing</cp:lastModifiedBy>
  <dcterms:modified xsi:type="dcterms:W3CDTF">2012-05-29T02:53:36Z</dcterms:modified>
  <cp:revision>3</cp:revision>
  <dc:subject/>
  <dc:title>通信模式</dc:title>
</cp:coreProperties>
</file>