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94920" y="763200"/>
            <a:ext cx="518004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484B6-34AC-473A-AA7D-F98A1DC5F4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A52F9-9CB0-4687-8771-CA9AF425CA7A}" type="slidenum">
              <a:rPr b="0" lang="en-US" sz="2000" spc="-1" strike="noStrike">
                <a:solidFill>
                  <a:srgbClr val="ffffff"/>
                </a:solidFill>
                <a:latin typeface="Arial"/>
                <a:ea typeface="+mn-e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65DB-717B-44C3-BEDC-BE4EAD60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39F8-FAB5-4E60-B97F-CD206500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BAAF-9C08-4E54-85EE-78E4D4BD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602-9BCA-43D6-838A-D5273FE9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7D0-EBD9-45D8-9345-CADE9C57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067-6F7B-4C20-AF2A-5F409382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EF50-CBB0-40B0-A1A6-A6814F75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1AF0-2B45-4AB9-B9A3-A9A82CC0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056D-2C4B-4965-A1CD-7A9C3B1E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27B0-0B60-4283-9D5B-3F83C5BB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0F6B-9B58-4F49-98A6-99456A9B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B31-41A1-4569-BDD7-F8A0FFBF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C3833-EA47-4D86-A92F-8E9AA93A46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78920" cy="1595520"/>
          </a:xfrm>
          <a:prstGeom prst="rect">
            <a:avLst/>
          </a:prstGeom>
          <a:solidFill>
            <a:srgbClr val="164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794800" y="5880240"/>
            <a:ext cx="1284120" cy="1679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36600" y="7034040"/>
            <a:ext cx="23493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4920" y="7034040"/>
            <a:ext cx="31892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5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36600" y="174600"/>
            <a:ext cx="906948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25579440" cy="2557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arcTo wR="10152" hR="21600" stAng="10800000" swAng="5400000"/>
                <a:lnTo>
                  <a:pt x="-6264" y="0"/>
                </a:lnTo>
                <a:arcTo wR="10152" hR="21600" stAng="-5400000" swAng="908339"/>
                <a:lnTo>
                  <a:pt x="16513" y="2880"/>
                </a:lnTo>
                <a:lnTo>
                  <a:pt x="12096" y="21600"/>
                </a:lnTo>
                <a:lnTo>
                  <a:pt x="-2495" y="2880"/>
                </a:lnTo>
                <a:lnTo>
                  <a:pt x="15217" y="2880"/>
                </a:lnTo>
                <a:arcTo wR="10152" hR="21600" stAng="-4491661" swAng="-2879430"/>
                <a:lnTo>
                  <a:pt x="1944" y="8889"/>
                </a:lnTo>
                <a:arcTo wR="10152" hR="21600" stAng="-3428908" swAng="-7371092"/>
                <a:close/>
              </a:path>
              <a:path fill="darkenLess" w="21600" h="21600">
                <a:moveTo>
                  <a:pt x="0" y="21600"/>
                </a:moveTo>
                <a:arcTo wR="10152" hR="21600" stAng="10800000" swAng="5400000"/>
                <a:lnTo>
                  <a:pt x="10152" y="0"/>
                </a:lnTo>
                <a:arcTo wR="10152" hR="21600" stAng="-5400000" swAng="19628908"/>
                <a:lnTo>
                  <a:pt x="1944" y="8889"/>
                </a:lnTo>
                <a:arcTo wR="10152" hR="21600" stAng="-3428908" swAng="-7371092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25579440" cy="25579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25579440" cy="255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25579440" cy="25579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25579440" cy="255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25579440" cy="25579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25579440" cy="255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25579440" cy="25579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25579440" cy="255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Arial"/>
              </a:rPr>
              <a:t>In The Ideal Future: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t">
            <a:normAutofit/>
          </a:bodyPr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Droid Sans Fallback"/>
              </a:rPr>
              <a:t>Social networking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Droid Sans Fallback"/>
              </a:rPr>
              <a:t>Monito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Droid Sans Fallback"/>
              </a:rPr>
              <a:t>Mana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Droid Sans Fallback"/>
              </a:rPr>
              <a:t>Eff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21:12:21Z</dcterms:created>
  <dc:creator/>
  <dc:description/>
  <dc:language>en-US</dc:language>
  <cp:lastModifiedBy/>
  <dcterms:modified xsi:type="dcterms:W3CDTF">2011-07-12T21:13:22Z</dcterms:modified>
  <cp:revision>2</cp:revision>
  <dc:subject/>
  <dc:title/>
</cp:coreProperties>
</file>