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2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A0484-0FD1-421C-B544-14C50AA9F7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4E626F4-7D7A-438D-A4D6-150CB21132DB}" type="slidenum">
              <a:rPr b="1" lang="en-US" sz="10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0" y="-110160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52B90-634C-4E72-8D2B-4C0521B8C0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376200"/>
            <a:ext cx="8244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2840" y="1382400"/>
            <a:ext cx="380988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72840" y="3420000"/>
            <a:ext cx="380988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01341-4A71-443C-AC87-08FB1B26F9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376200"/>
            <a:ext cx="8244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2840" y="1382400"/>
            <a:ext cx="185904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625120" y="1382400"/>
            <a:ext cx="185904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2840" y="3420000"/>
            <a:ext cx="185904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625120" y="3420000"/>
            <a:ext cx="185904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2AB38-29D9-4563-906A-A2C1770A42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376200"/>
            <a:ext cx="8244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72840" y="1382400"/>
            <a:ext cx="122652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960920" y="1382400"/>
            <a:ext cx="122652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249360" y="1382400"/>
            <a:ext cx="122652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72840" y="3420000"/>
            <a:ext cx="122652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1960920" y="3420000"/>
            <a:ext cx="122652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3249360" y="3420000"/>
            <a:ext cx="122652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96BC3-8B98-4BF8-BF2D-546F1A84FE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376200"/>
            <a:ext cx="8244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72840" y="1382400"/>
            <a:ext cx="38098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A6541-C493-4572-991D-566A890D55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376200"/>
            <a:ext cx="8244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2840" y="1382400"/>
            <a:ext cx="380988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DDE73-49D5-44F1-A01D-59ED913E38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376200"/>
            <a:ext cx="8244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72840" y="1382400"/>
            <a:ext cx="185904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625120" y="1382400"/>
            <a:ext cx="185904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58BDC-9AC3-4D5B-A337-0ACA3AD6D2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76200"/>
            <a:ext cx="8244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51087-D6D3-4653-A154-98DECD1477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0" y="376200"/>
            <a:ext cx="8244000" cy="23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74B2B-4385-4FB6-8799-2067A77B0B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376200"/>
            <a:ext cx="8244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2840" y="1382400"/>
            <a:ext cx="185904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25120" y="1382400"/>
            <a:ext cx="185904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2840" y="3420000"/>
            <a:ext cx="185904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20E72-1505-4214-B1C1-77EB29E6EA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376200"/>
            <a:ext cx="8244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2840" y="1382400"/>
            <a:ext cx="185904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25120" y="1382400"/>
            <a:ext cx="185904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25120" y="3420000"/>
            <a:ext cx="185904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77F68-F1B3-49EA-99CE-7ED26750DC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376200"/>
            <a:ext cx="8244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2840" y="1382400"/>
            <a:ext cx="185904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25120" y="1382400"/>
            <a:ext cx="185904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72840" y="3420000"/>
            <a:ext cx="380988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A6C66-67F5-4C0C-B82C-D7597B1B97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500880"/>
            <a:ext cx="9144000" cy="3618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3618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6400800"/>
            <a:ext cx="9145440" cy="15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376200"/>
            <a:ext cx="8244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72840" y="1382400"/>
            <a:ext cx="380988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37160" y="1382760"/>
            <a:ext cx="381168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Eigh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700"/>
              </a:spcBef>
              <a:spcAft>
                <a:spcPts val="425"/>
              </a:spcAft>
              <a:buClr>
                <a:srgbClr val="000066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nth Outline LevelClick to edit Master text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Bef>
                <a:spcPts val="601"/>
              </a:spcBef>
              <a:spcAft>
                <a:spcPts val="363"/>
              </a:spcAft>
              <a:buClr>
                <a:srgbClr val="000066"/>
              </a:buClr>
              <a:buSzPct val="75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45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45000"/>
              <a:buFont typeface="Arial"/>
              <a:buChar char="&gt;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0880"/>
            <a:ext cx="68256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1937C3B-8935-4FC5-BAF9-720951FED434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219320" y="6500880"/>
            <a:ext cx="40399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456160" y="6500880"/>
            <a:ext cx="17067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4080" y="6500880"/>
            <a:ext cx="6840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C03BDBD-C708-40D3-A0B2-4032772DAC5F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4544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