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55640" y="692280"/>
            <a:ext cx="1582920" cy="71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dd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816360" y="2736720"/>
            <a:ext cx="1582560" cy="719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dd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a7eb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68360" y="4896000"/>
            <a:ext cx="1511280" cy="718920"/>
          </a:xfrm>
          <a:prstGeom prst="flowChartProcess">
            <a:avLst/>
          </a:prstGeom>
          <a:solidFill>
            <a:srgbClr val="cfe7e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0" y="0"/>
            <a:ext cx="2160" cy="216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" name=""/>
          <p:cNvCxnSpPr>
            <a:stCxn id="38" idx="3"/>
            <a:endCxn id="39" idx="1"/>
          </p:cNvCxnSpPr>
          <p:nvPr/>
        </p:nvCxnSpPr>
        <p:spPr>
          <a:xfrm>
            <a:off x="2338560" y="1051560"/>
            <a:ext cx="1478160" cy="2045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4" name=""/>
          <p:cNvCxnSpPr>
            <a:stCxn id="39" idx="2"/>
            <a:endCxn id="41" idx="0"/>
          </p:cNvCxnSpPr>
          <p:nvPr/>
        </p:nvCxnSpPr>
        <p:spPr>
          <a:xfrm flipH="1">
            <a:off x="2124000" y="3456000"/>
            <a:ext cx="2484000" cy="1440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