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5863-E65D-4299-862D-B8D3E11A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A429-0ABA-4C4B-B954-6DDD0A09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5FCE-70E9-4A85-B69E-3F23FA7D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FFA0-AEB9-4AD5-9FCB-C2D9B599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2BF-D692-4B7B-A749-4FDCB828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5329-336B-4247-B737-AC9A93DA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58C-3958-48A1-AE02-9F3E2324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2C0-8E40-4FB8-903D-FF9436EE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3891-6D76-4A2A-B7A3-507D28D2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4D2-E48C-4535-937F-2BC9905F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455D-89CE-41D2-ADB2-3A811155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8B86-302F-4EFE-900C-057C808B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46C8-76B8-4B3E-ACA8-59DED181B8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,BoldItalic"/>
              </a:rPr>
              <a:t>11  Future Work</a:t>
            </a:r>
            <a:r>
              <a:rPr b="1" i="1" lang="en-US" sz="4400" spc="-1" strike="noStrike">
                <a:solidFill>
                  <a:srgbClr val="000000"/>
                </a:solidFill>
                <a:latin typeface="Arial,BoldItal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981080"/>
            <a:ext cx="82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2133720"/>
            <a:ext cx="678168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Math A"/>
                <a:ea typeface="Math A"/>
              </a:rPr>
              <a:t>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吞吐量的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消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Math A"/>
                <a:ea typeface="Math A"/>
              </a:rPr>
              <a:t>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另外的网格服务主机环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吞吐量的</a:t>
            </a:r>
            <a:r>
              <a:rPr b="1" lang="zh-CN" sz="3200" spc="-1" strike="noStrike">
                <a:solidFill>
                  <a:srgbClr val="000000"/>
                </a:solidFill>
                <a:latin typeface="TimesNewRoman,Bold"/>
              </a:rPr>
              <a:t>X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消息</a:t>
            </a:r>
            <a:r>
              <a:rPr b="1" lang="zh-CN" sz="3200" spc="-1" strike="noStrike">
                <a:solidFill>
                  <a:srgbClr val="000000"/>
                </a:solidFill>
                <a:latin typeface="TimesNewRoman,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另外的网格服务主机环境</a:t>
            </a:r>
            <a:r>
              <a:rPr b="1" lang="zh-CN" sz="3200" spc="-1" strike="noStrike">
                <a:solidFill>
                  <a:srgbClr val="000000"/>
                </a:solidFill>
                <a:latin typeface="TimesNewRoman,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7:32:04Z</dcterms:created>
  <dc:creator>weihongtao</dc:creator>
  <dc:description/>
  <dc:language>en-US</dc:language>
  <cp:lastModifiedBy>crystal</cp:lastModifiedBy>
  <dcterms:modified xsi:type="dcterms:W3CDTF">2012-05-29T02:59:11Z</dcterms:modified>
  <cp:revision>2</cp:revision>
  <dc:subject/>
  <dc:title>11  Future Work </dc:title>
</cp:coreProperties>
</file>