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3B2-7AC5-4FFE-B403-F37B0D5E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793-ED5E-4F0F-8423-209E4DBD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4F6-AD2E-412B-AF2D-C1DF033D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A31-E9BB-4C7F-A442-7B83F53E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5D3-3DFD-4E7D-8B1F-C75E2C9E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BE1-8EBC-4F58-8DA5-35679EB2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A1B-DEB5-4CBE-AC6C-0BA1987C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4A2-135B-4A03-9964-29153CD3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90D-3FDC-4DD3-9545-F9FC24E4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357-770F-4CE0-B44F-FD4410D3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D7F-396D-40F7-A6E5-D64C0D6F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86F-4F99-4802-A94A-BC0F3E2B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e-IL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FAEA-E15B-445E-918A-5C4F6F12650C}" type="slidenum">
              <a:rPr b="0" i="1" lang="he-IL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572000" y="2133720"/>
            <a:ext cx="587520" cy="457200"/>
          </a:xfrm>
          <a:prstGeom prst="rect">
            <a:avLst/>
          </a:prstGeom>
          <a:solidFill>
            <a:srgbClr val="ada8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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598-6B05-4284-B8C0-A87CB4165E6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10:51:23Z</dcterms:created>
  <dc:creator>***</dc:creator>
  <dc:description/>
  <dc:language>en-US</dc:language>
  <cp:lastModifiedBy>Alan Yaniger</cp:lastModifiedBy>
  <dcterms:modified xsi:type="dcterms:W3CDTF">2006-11-19T13:09:45Z</dcterms:modified>
  <cp:revision>72</cp:revision>
  <dc:subject/>
  <dc:title>מצגת של PowerPoint</dc:title>
</cp:coreProperties>
</file>