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3FA-0D85-4A77-95EA-45E2366E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3C4-7A65-4ABB-AB82-ABF6C987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A78-FC76-4420-898D-E3382018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358-F2E5-4A20-A06B-9D61ECDF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5B31-AB32-41F5-829F-19CB7B23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5C6D-AB88-40B8-A2DD-F2BC2CEE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A76C-1227-493B-8B00-1060EE44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14F6-6A14-461F-8BD7-0B9BF48E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88C6-76AE-4345-86F1-383C6646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AAA1-401B-421D-AD2B-52369D8D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874E-3C60-4273-AC21-7C93C612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D02-571E-4F9F-889B-B88EA991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1A2E-7721-4C8F-B63E-B1ABDE17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05C5-57F7-4821-983B-930A2EF5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3700-C9F7-4823-A427-D410BA97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2E45-5431-4934-8A40-B02E181B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EA27-19DE-4A22-B091-4B30A868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0D89-B7CA-4B87-B5FA-323DCAAA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5A8-9571-45B8-B3B9-31826ECF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B11-BC51-4B45-A5B6-9573D47A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428-29C5-4A82-9F1E-99421619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0CC-DE05-41AD-86A6-3005B9D3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100-5826-4967-84F7-C82DC2F1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C0F-E8C2-47BD-8611-2F6EDA0E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pic>
        <p:nvPicPr>
          <p:cNvPr id="7" name="Picture 10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E84B-3CE6-45B8-8D41-5FA30764400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pic>
        <p:nvPicPr>
          <p:cNvPr id="48" name="Picture 102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28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0404"/>
              </a:solidFill>
              <a:latin typeface="宋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DB6B-958C-422E-84C0-8AB388AF44B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40404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26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title</a:t>
            </a:r>
            <a:br>
              <a:rPr sz="6000"/>
            </a:br>
            <a:r>
              <a:rPr b="1" lang="en-US" sz="6000" spc="-1" strike="noStrike">
                <a:solidFill>
                  <a:srgbClr val="2a3d7a"/>
                </a:solidFill>
                <a:latin typeface="Times New Roman"/>
              </a:rPr>
              <a:t>title b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027"/>
              <p:cNvSpPr txBox="1"/>
              <p:nvPr/>
            </p:nvSpPr>
            <p:spPr>
              <a:xfrm>
                <a:off x="1066680" y="1523880"/>
                <a:ext cx="47008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028"/>
              <p:cNvSpPr txBox="1"/>
              <p:nvPr/>
            </p:nvSpPr>
            <p:spPr>
              <a:xfrm>
                <a:off x="762120" y="4572000"/>
                <a:ext cx="784836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⋯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3T01:55:47Z</dcterms:created>
  <dc:creator>xieshaoai</dc:creator>
  <dc:description/>
  <dc:language>en-US</dc:language>
  <cp:lastModifiedBy>lizhenbo</cp:lastModifiedBy>
  <dcterms:modified xsi:type="dcterms:W3CDTF">2013-11-21T04:34:52Z</dcterms:modified>
  <cp:revision>218</cp:revision>
  <dc:subject/>
  <dc:title>第九章  酸碱反应与酸碱滴定法</dc:title>
</cp:coreProperties>
</file>