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49E-3046-4996-A95C-445E5D83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FAD-A549-4DB7-8C7C-98A881B2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B63-A307-4695-BB85-BE931D44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79D-7B75-4726-B8C9-C351FBED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05E6-E60C-4139-8821-B95B616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CBA-E5DE-4FBD-BC3C-FAD8545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576E-F6E8-47C1-BDAD-85F69A28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166-18BA-40CE-8FB6-7812B4D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8DD-4D9A-4C13-B712-E3C3D01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ED9D-7AA6-460D-A4BB-D3D62C4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C524-29D6-4F42-A047-3D18C06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F52-8F00-48CA-BF66-A8B4062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CA6A-CFAD-41DD-A4B7-2790EEF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92C-D240-4FDD-BF00-7DE92A4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C25F-B997-4974-9F60-525C19AB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A92-AD95-4195-AFE9-3C771B3A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241-F2A4-423B-B54A-21292F85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B7C-B02C-475F-AFA9-CF92BD5B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C1D-63CB-44BB-9293-C5A6AD5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305-5BF2-4B74-BB41-7B79075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4BB-06AE-4BFD-9FF5-6D5262E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CB2-C665-4AC9-A35A-9A946EF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801-21CE-4696-A9E1-B8DB91C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DA2-A34B-4037-A50F-381A0FD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D3B-616C-441B-894A-C3F21E38A9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C9A-4CCF-4132-9836-97EA863124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04:53Z</dcterms:created>
  <dc:creator>asw</dc:creator>
  <dc:description/>
  <dc:language>en-US</dc:language>
  <cp:lastModifiedBy>asw</cp:lastModifiedBy>
  <dcterms:modified xsi:type="dcterms:W3CDTF">2010-02-11T15:43:41Z</dcterms:modified>
  <cp:revision>2</cp:revision>
  <dc:subject/>
  <dc:title>Folie 1</dc:title>
</cp:coreProperties>
</file>