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D04-21E6-4CF7-8108-408D2F48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3D9-E94A-44BE-8B48-EB6439DB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8D1-1D31-47E1-97D3-6031C3A0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4CD-5230-467F-8143-3F512E76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DE0-F523-4682-9AA3-FB03B30D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BD0-FF13-4FC1-BC02-54FE8957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4F9-C1B1-4E69-862F-2AFA6873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BFE-C396-4826-8D52-77AAA1DC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FC8-FAA6-4AE1-8071-3309EACE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BDD-E622-4E10-BEA2-FA7F370F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48D-75F5-4EA9-ADE0-5C18A240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B79-7747-44C5-BA34-BE614F4E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23707-8716-491A-97D7-822136D09182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600280" y="3773520"/>
          <a:ext cx="5075280" cy="3433320"/>
        </p:xfrm>
        <a:graphic>
          <a:graphicData uri="http://schemas.openxmlformats.org/drawingml/2006/table">
            <a:tbl>
              <a:tblPr/>
              <a:tblGrid>
                <a:gridCol w="2537640"/>
                <a:gridCol w="2537640"/>
              </a:tblGrid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438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9:44:25Z</dcterms:created>
  <dc:creator/>
  <dc:description/>
  <dc:language>en-US</dc:language>
  <cp:lastModifiedBy/>
  <cp:revision>0</cp:revision>
  <dc:subject/>
  <dc:title/>
</cp:coreProperties>
</file>