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898-AB7E-4A2C-885F-38028BFF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B6F-0AC6-4E96-9954-B36184BF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5AF-77F5-4AF1-9C03-A24878DE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D38-92B7-4ACC-8AA8-7AE025B3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C4CB-B52E-47FE-A99B-E66FB904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3782-106C-4FC2-8DC2-4725A3B2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A7BC-DC52-44FC-93B6-E072B70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12E1-47A8-4346-AA04-84E33F7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F25E-E55C-4C6D-B154-5953A29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2158-9076-42B7-867E-7678D54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9340-DAD0-4F21-AAFF-3B507C2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4B2-84B9-4EED-8B3F-6A9D3950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5926-6931-4AA4-8A33-058363D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97AD-D54A-43C1-89E6-3B403165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7C5E-1AFE-4AC3-8E08-352B0D8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3D1F-9F2C-46F3-A6FA-CD1F14E8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579B-A24E-4DB3-B850-DB80B4E9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06E-52CD-4756-812B-9BDD7ECB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668-6918-4B48-B66F-E04CC586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C10-8D8E-471D-B915-53F86FE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A3D-28F0-4985-B854-092CA3C6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B4D-A255-4AA0-B758-3DA25BB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C61-00DF-47D1-80D3-2700A99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C2C-D2E9-4741-AB14-2F6BE5C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9A7C-9DBF-499B-BA34-799A837A0A4C}" type="slidenum"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7522-5A72-425D-94FE-110E5435A658}" type="slidenum">
              <a:rPr b="0" lang="zh-CN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  <a:ea typeface="宋体"/>
              </a:rPr>
              <a:t>Agenda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383ad"/>
              </a:solidFill>
              <a:latin typeface="Times New Roman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5:48:09Z</dcterms:created>
  <dc:creator>wangxiul</dc:creator>
  <dc:description/>
  <dc:language>en-US</dc:language>
  <cp:lastModifiedBy>wangxiul</cp:lastModifiedBy>
  <dcterms:modified xsi:type="dcterms:W3CDTF">2009-08-06T05:48:32Z</dcterms:modified>
  <cp:revision>1</cp:revision>
  <dc:subject/>
  <dc:title>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