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3370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02080" y="0"/>
            <a:ext cx="3370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09680" y="753840"/>
            <a:ext cx="5143680" cy="37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22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673e"/>
                </a:solidFill>
                <a:latin typeface="Arial Black"/>
              </a:rPr>
              <a:t>Click to move the slide</a:t>
            </a: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960" y="4778280"/>
            <a:ext cx="6207120" cy="451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555120"/>
            <a:ext cx="3370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7"/>
          </p:nvPr>
        </p:nvSpPr>
        <p:spPr>
          <a:xfrm>
            <a:off x="4401720" y="9553320"/>
            <a:ext cx="335916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1A09A-91ED-4A7C-930B-4D480F5B0B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09680" y="754200"/>
            <a:ext cx="51544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77960" y="477828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61C-D0C2-4D72-A273-7E467BA7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90615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2840" y="4102560"/>
            <a:ext cx="90615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26E-706C-40E5-ABA9-91EB1134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2840" y="410256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6120" y="410256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931-EBF6-4DC4-BFB4-23E84A50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49220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400" y="149220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2840" y="410256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410256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400" y="410256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131-44F5-4DEA-A66A-01D03E25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DABA-783D-4603-ABF0-BB9C71A2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2840" y="1492200"/>
            <a:ext cx="90615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2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EA5C-9BB8-4F39-A266-29D07029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90615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02DC-A908-433E-B0DC-DA824171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99CB-506C-4DF1-97F3-1B16CF7F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D873-F054-4D5F-A4F7-599E28C4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1760" y="169920"/>
            <a:ext cx="966456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D20C-1F5A-4E40-A0DA-DFC2D2E7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2840" y="410256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EC9A-107E-48B8-8D86-9AF2302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2840" y="1492200"/>
            <a:ext cx="90615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2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18D-3A68-4F46-9F0F-CE94687E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76120" y="410256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6CFC-012C-45D8-9337-6A23F0F6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2840" y="4102560"/>
            <a:ext cx="90615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A4A0-F52A-4EDF-B788-AAC40668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90615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2840" y="4102560"/>
            <a:ext cx="90615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A7B4-AFD3-411E-810B-BAF921FD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2840" y="410256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76120" y="410256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3DC4-B709-40B3-A460-A6078F27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6440" y="149220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60400" y="149220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2840" y="410256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6440" y="410256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60400" y="4102560"/>
            <a:ext cx="291744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193B-62D4-431E-8BC9-425DF41D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90615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A67-0DE1-4398-9487-E296A0E6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4C5-D8B8-4B5A-97EC-39F303E7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793-7770-42E9-BED4-6B318F40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1760" y="169920"/>
            <a:ext cx="966456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6A8-1275-4DF9-BE0E-B37D9700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2840" y="410256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4B5-4C68-4A79-BF73-A0338A21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6120" y="410256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9DE-3FEF-4507-8C13-04C3181D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1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284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6120" y="1492200"/>
            <a:ext cx="44218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2840" y="4102560"/>
            <a:ext cx="90615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2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9965-F04A-4C8E-81FA-48F6CA0C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52BD0-F8C9-4493-BEB2-380B6D8959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760" y="6935760"/>
            <a:ext cx="1933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2000" indent="-162000">
              <a:lnSpc>
                <a:spcPct val="90000"/>
              </a:lnSpc>
              <a:tabLst>
                <a:tab algn="l" pos="0"/>
                <a:tab algn="l" pos="16200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04256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fld id="{ECECBB55-41F8-48AF-8BE9-9CAEAC246AF9}" type="slidenum">
              <a:rPr b="0" lang="en-GB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&lt;number&gt;</a:t>
            </a:fld>
            <a:r>
              <a:rPr b="0" lang="en-GB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	</a:t>
            </a:r>
            <a:r>
              <a:rPr b="0" lang="en-GB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Managed by UT-Battelle</a:t>
            </a:r>
            <a:br>
              <a:rPr sz="900"/>
            </a:br>
            <a:r>
              <a:rPr b="0" lang="en-GB" sz="9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for the Department of Ene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96160" y="3975120"/>
            <a:ext cx="2284560" cy="3584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167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32840" y="1492200"/>
            <a:ext cx="90615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0000"/>
              </a:lnSpc>
              <a:spcBef>
                <a:spcPts val="2100"/>
              </a:spcBef>
              <a:buClr>
                <a:srgbClr val="01673e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0000"/>
              </a:lnSpc>
              <a:spcBef>
                <a:spcPts val="2100"/>
              </a:spcBef>
              <a:buClr>
                <a:srgbClr val="01673e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2100"/>
              </a:spcBef>
              <a:buClr>
                <a:srgbClr val="01673e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2100"/>
              </a:spcBef>
              <a:buClr>
                <a:srgbClr val="01673e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0000"/>
              </a:lnSpc>
              <a:spcBef>
                <a:spcPts val="2100"/>
              </a:spcBef>
              <a:buClr>
                <a:srgbClr val="01673e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0000"/>
              </a:lnSpc>
              <a:spcBef>
                <a:spcPts val="2100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0000"/>
              </a:lnSpc>
              <a:spcBef>
                <a:spcPts val="2100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31760" y="169920"/>
            <a:ext cx="96645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2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673e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443040" y="7343640"/>
            <a:ext cx="318276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500" spc="-1" strike="noStrike">
                <a:solidFill>
                  <a:srgbClr val="01673e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Cherokee Schools  9/24/08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740720" y="3933720"/>
            <a:ext cx="2338200" cy="3625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062F2-C220-4AF1-8720-1602A8B8A3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3200" y="169920"/>
            <a:ext cx="96742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673e"/>
                </a:solidFill>
                <a:latin typeface="Arial Black"/>
              </a:rPr>
              <a:t>Who are w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" y="1049400"/>
            <a:ext cx="929016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 represent three different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2100"/>
              </a:spcBef>
              <a:buClr>
                <a:srgbClr val="01673e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im Rome (ORNL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1049"/>
              </a:spcBef>
              <a:buClr>
                <a:srgbClr val="01673e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behalf of the Neutron Science TeraGrid Gateway. Connects SNS to Tera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2100"/>
              </a:spcBef>
              <a:buClr>
                <a:srgbClr val="01673e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im Ferguson (UT Knoxville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1049"/>
              </a:spcBef>
              <a:buClr>
                <a:srgbClr val="01673e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behalf of NICS − A UTK/ORNL petaflop TeraGrid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2100"/>
              </a:spcBef>
              <a:buClr>
                <a:srgbClr val="01673e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thur Stewart (Oak Ridge Institute for Science and Engineering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1049"/>
              </a:spcBef>
              <a:buClr>
                <a:srgbClr val="01673e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AU runs ORNL’s education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1049"/>
              </a:spcBef>
              <a:buClr>
                <a:srgbClr val="01673e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AU runs the ARC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43400" y="7345440"/>
            <a:ext cx="319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2000" indent="-162000"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" spc="-1" strike="noStrike">
                <a:solidFill>
                  <a:srgbClr val="01673e"/>
                </a:solidFill>
                <a:latin typeface="Times New Roman"/>
                <a:ea typeface="Times New Roman"/>
              </a:rPr>
              <a:t>Cherokee School System 9/24/08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mes A</dc:creator>
  <dc:description/>
  <dc:language>en-US</dc:language>
  <cp:lastModifiedBy/>
  <cp:revision>0</cp:revision>
  <dc:subject/>
  <dc:title/>
</cp:coreProperties>
</file>