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5DF-8BD9-4119-8B2A-1FE11454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E07-8314-427D-9C8A-B5D577B3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FA2-6AF5-4F4D-810A-661C798D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89E-3275-4E9A-A10B-A4FA4310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94E-25AC-4761-80F5-9CDEA893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5EE-7EA4-4C17-B07D-7DE79975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9BD-63F7-46DD-84A3-7A2AE72A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420-9F5C-4E26-80D3-5443EC3C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67F-1EAC-46EC-AE7D-A5C760F6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767-0734-4D8C-825B-8B246623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5C6-B30D-4023-9959-11BE85F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C63-3F4F-49AB-B8D0-3028E540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52A3-8029-43D1-BF3F-F4CF9C0FC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</a:rPr>
              <a:t>מגמות בכלכלת ישרא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נתונים כלליי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תוצר ותעסוק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מאזן התשלומים והיציבות החיצונ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מדיניות פיסקל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מדיניות מוניטרית ושיעור האינפלצי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Times New Roman"/>
                <a:cs typeface="David"/>
              </a:rPr>
              <a:t>מגמות בכלכלת ישרא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ff00"/>
                </a:solidFill>
                <a:uFillTx/>
                <a:latin typeface="Arial"/>
                <a:cs typeface="David"/>
              </a:rPr>
              <a:t>נתונים כלליי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תוצר ותעסוק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מאזן התשלומים והיציבות החיצונ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מדיניות פיסקל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99"/>
                </a:solidFill>
                <a:latin typeface="Arial"/>
                <a:cs typeface="David"/>
              </a:rPr>
              <a:t>מדיניות מוניטרית ושיעור האינפלצי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ff00"/>
                </a:solidFill>
                <a:uFillTx/>
                <a:latin typeface="Times New Roman"/>
                <a:cs typeface="David"/>
              </a:rPr>
              <a:t>נתונים כלליי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1001"/>
              </a:spcBef>
              <a:buClr>
                <a:srgbClr val="cc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ff99"/>
                </a:solidFill>
                <a:latin typeface="Arial"/>
                <a:cs typeface="David"/>
              </a:rPr>
              <a:t>הרמה הטכנולוג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1001"/>
              </a:spcBef>
              <a:buClr>
                <a:srgbClr val="cc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ccff99"/>
                </a:solidFill>
                <a:latin typeface="Arial"/>
                <a:cs typeface="David"/>
              </a:rPr>
              <a:t>רמת החינו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ff00"/>
                </a:solidFill>
                <a:latin typeface="Times New Roman"/>
                <a:cs typeface="David"/>
              </a:rPr>
              <a:t>נתונים כלליי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1001"/>
              </a:spcBef>
              <a:buClr>
                <a:srgbClr val="cc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ccff99"/>
                </a:solidFill>
                <a:uFillTx/>
                <a:latin typeface="Arial"/>
                <a:cs typeface="David"/>
              </a:rPr>
              <a:t>הרמה הטכנולוגי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b2b2b2"/>
                </a:solidFill>
                <a:latin typeface="Times New Roman"/>
                <a:cs typeface="David"/>
              </a:rPr>
              <a:t>ההוצאה למו"פ אזרחי בישראל ובמדינות ה-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  <a:ea typeface="David"/>
              </a:rPr>
              <a:t>OECD</a:t>
            </a:r>
            <a:br>
              <a:rPr sz="3200"/>
            </a:br>
            <a:r>
              <a:rPr b="1" lang="he-IL" sz="3200" spc="-1" strike="noStrike">
                <a:solidFill>
                  <a:srgbClr val="b2b2b2"/>
                </a:solidFill>
                <a:latin typeface="Times New Roman"/>
                <a:ea typeface="David"/>
              </a:rPr>
              <a:t>2001</a:t>
            </a:r>
            <a:r>
              <a:rPr b="1" lang="he-IL" sz="3200" spc="-1" strike="noStrike">
                <a:solidFill>
                  <a:srgbClr val="b2b2b2"/>
                </a:solidFill>
                <a:latin typeface="Times New Roman"/>
                <a:ea typeface="David"/>
              </a:rPr>
              <a:t>, </a:t>
            </a:r>
            <a:r>
              <a:rPr b="1" lang="he-IL" sz="2400" spc="-1" strike="noStrike">
                <a:solidFill>
                  <a:srgbClr val="b2b2b2"/>
                </a:solidFill>
                <a:latin typeface="Times New Roman"/>
                <a:ea typeface="David"/>
              </a:rPr>
              <a:t>(כאחוז תמ"ג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447920"/>
          <a:ext cx="91440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563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מדינת ישראל מובילה בתחומים הטכנולוגיים ומדורגת במקום הראשון באחוז התוצר המושקע למחקר ולפיתוח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1:08:04Z</dcterms:created>
  <dc:creator>Oleg</dc:creator>
  <dc:description/>
  <dc:language>en-US</dc:language>
  <cp:lastModifiedBy>Oleg</cp:lastModifiedBy>
  <dcterms:modified xsi:type="dcterms:W3CDTF">2004-12-19T11:08:28Z</dcterms:modified>
  <cp:revision>1</cp:revision>
  <dc:subject/>
  <dc:title>מגמות בכלכלת ישראל</dc:title>
</cp:coreProperties>
</file>