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708F-3E02-481D-99CB-0BB0C484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F625-18A8-4EAE-AFB0-9F658492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E82C-A069-45FF-8B75-DB9287C2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1141-83B3-4603-BEDE-B966BAB6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8F85-2AF1-4B42-924C-32A566CB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BB2B-014F-430A-ADF9-AE53F5DE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826F-3716-448C-8C3C-CFE5772C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0281-1BA8-484F-A50B-92CB8DCE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C0B7-3A45-4DA7-90BF-09D52766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8393-D930-4C7D-8FD0-C18C64B3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3174-49CF-4C8A-9D92-4F346EBF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B4C7-A7B0-4BB8-BCF0-BE447F73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279B-9183-410C-901A-B80E326E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0D98-B1C9-4A8C-B2C9-726282CB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DCAC-524F-4C09-AC08-41AD4744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F2D0-068B-4136-9860-04E92402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EABA-17A5-47B7-86F4-45EC9C29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ECAD-D77B-4929-BFB5-DED0A37A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BCF3-D0CE-4415-9C74-129B6785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EF0B-8510-4D5D-BFFE-1380C1DF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C878-BA1F-4D6C-9BC3-D08BE64F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766D-5955-436C-9E0E-C83A4B06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5DB3-8520-416C-8792-9031065D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B23A-B97C-4998-A7B3-EEDF389B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CDF1-27B8-48FA-80DC-E11493A160E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C0DE-D537-4133-9562-4E950184CE9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735E-AD2F-435E-BC42-8477DA8D2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圆角矩形 3"/>
          <p:cNvSpPr/>
          <p:nvPr/>
        </p:nvSpPr>
        <p:spPr>
          <a:xfrm>
            <a:off x="5075280" y="1197000"/>
            <a:ext cx="3097080" cy="1440000"/>
          </a:xfrm>
          <a:custGeom>
            <a:avLst/>
            <a:gdLst>
              <a:gd name="textAreaLeft" fmla="*/ 0 w 3097080"/>
              <a:gd name="textAreaRight" fmla="*/ 3097440 w 309708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3528392" h="1800200">
                <a:moveTo>
                  <a:pt x="0" y="1184775"/>
                </a:moveTo>
                <a:lnTo>
                  <a:pt x="0" y="300039"/>
                </a:lnTo>
                <a:cubicBezTo>
                  <a:pt x="0" y="134332"/>
                  <a:pt x="134332" y="0"/>
                  <a:pt x="300039" y="0"/>
                </a:cubicBezTo>
                <a:lnTo>
                  <a:pt x="3228353" y="0"/>
                </a:lnTo>
                <a:cubicBezTo>
                  <a:pt x="3394060" y="0"/>
                  <a:pt x="3528392" y="134332"/>
                  <a:pt x="3528392" y="300039"/>
                </a:cubicBezTo>
                <a:lnTo>
                  <a:pt x="3528392" y="1500161"/>
                </a:lnTo>
                <a:cubicBezTo>
                  <a:pt x="3528392" y="1665868"/>
                  <a:pt x="3394060" y="1800200"/>
                  <a:pt x="3228353" y="1800200"/>
                </a:cubicBezTo>
                <a:lnTo>
                  <a:pt x="621287" y="1800200"/>
                </a:lnTo>
              </a:path>
            </a:pathLst>
          </a:custGeom>
          <a:noFill/>
          <a:ln w="25560">
            <a:solidFill>
              <a:srgbClr val="94dd43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9"/>
          <p:cNvSpPr/>
          <p:nvPr/>
        </p:nvSpPr>
        <p:spPr>
          <a:xfrm>
            <a:off x="5191200" y="133524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94d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角三角形 15"/>
          <p:cNvSpPr/>
          <p:nvPr/>
        </p:nvSpPr>
        <p:spPr>
          <a:xfrm flipH="1">
            <a:off x="-720" y="5229360"/>
            <a:ext cx="9140760" cy="1628640"/>
          </a:xfrm>
          <a:custGeom>
            <a:avLst/>
            <a:gdLst>
              <a:gd name="textAreaLeft" fmla="*/ -360 w 9140760"/>
              <a:gd name="textAreaRight" fmla="*/ 9140760 w 9140760"/>
              <a:gd name="textAreaTop" fmla="*/ 0 h 1628640"/>
              <a:gd name="textAreaBottom" fmla="*/ 1629000 h 1628640"/>
            </a:gdLst>
            <a:ahLst/>
            <a:rect l="textAreaLeft" t="textAreaTop" r="textAreaRight" b="textAreaBottom"/>
            <a:pathLst>
              <a:path w="9144000" h="1988840">
                <a:moveTo>
                  <a:pt x="9144000" y="0"/>
                </a:moveTo>
                <a:lnTo>
                  <a:pt x="2946165" y="1755844"/>
                </a:lnTo>
                <a:lnTo>
                  <a:pt x="0" y="0"/>
                </a:lnTo>
                <a:lnTo>
                  <a:pt x="0" y="1988840"/>
                </a:lnTo>
                <a:lnTo>
                  <a:pt x="2123728" y="1988840"/>
                </a:lnTo>
                <a:lnTo>
                  <a:pt x="3337114" y="1988840"/>
                </a:lnTo>
                <a:lnTo>
                  <a:pt x="9144000" y="1988840"/>
                </a:lnTo>
                <a:close/>
              </a:path>
            </a:pathLst>
          </a:custGeom>
          <a:solidFill>
            <a:srgbClr val="94d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750960" y="2462040"/>
            <a:ext cx="3333600" cy="3152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390600" y="5783400"/>
            <a:ext cx="722160" cy="682560"/>
          </a:xfrm>
          <a:prstGeom prst="rect">
            <a:avLst/>
          </a:prstGeom>
          <a:ln w="0">
            <a:noFill/>
          </a:ln>
        </p:spPr>
      </p:pic>
      <p:sp>
        <p:nvSpPr>
          <p:cNvPr id="87" name="TextBox 16"/>
          <p:cNvSpPr/>
          <p:nvPr/>
        </p:nvSpPr>
        <p:spPr>
          <a:xfrm>
            <a:off x="-212040" y="493560"/>
            <a:ext cx="408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4dd43"/>
                </a:solidFill>
                <a:latin typeface="Berlin Sans FB Demi"/>
                <a:ea typeface="Calibri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 3"/>
          <p:cNvSpPr/>
          <p:nvPr/>
        </p:nvSpPr>
        <p:spPr>
          <a:xfrm>
            <a:off x="5075280" y="2852640"/>
            <a:ext cx="3097080" cy="1440000"/>
          </a:xfrm>
          <a:custGeom>
            <a:avLst/>
            <a:gdLst>
              <a:gd name="textAreaLeft" fmla="*/ 0 w 3097080"/>
              <a:gd name="textAreaRight" fmla="*/ 3097440 w 309708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3528392" h="1800200">
                <a:moveTo>
                  <a:pt x="0" y="1184775"/>
                </a:moveTo>
                <a:lnTo>
                  <a:pt x="0" y="300039"/>
                </a:lnTo>
                <a:cubicBezTo>
                  <a:pt x="0" y="134332"/>
                  <a:pt x="134332" y="0"/>
                  <a:pt x="300039" y="0"/>
                </a:cubicBezTo>
                <a:lnTo>
                  <a:pt x="3228353" y="0"/>
                </a:lnTo>
                <a:cubicBezTo>
                  <a:pt x="3394060" y="0"/>
                  <a:pt x="3528392" y="134332"/>
                  <a:pt x="3528392" y="300039"/>
                </a:cubicBezTo>
                <a:lnTo>
                  <a:pt x="3528392" y="1500161"/>
                </a:lnTo>
                <a:cubicBezTo>
                  <a:pt x="3528392" y="1665868"/>
                  <a:pt x="3394060" y="1800200"/>
                  <a:pt x="3228353" y="1800200"/>
                </a:cubicBezTo>
                <a:lnTo>
                  <a:pt x="621287" y="1800200"/>
                </a:lnTo>
              </a:path>
            </a:pathLst>
          </a:custGeom>
          <a:noFill/>
          <a:ln w="25560">
            <a:solidFill>
              <a:srgbClr val="94dd43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圆角矩形 23"/>
          <p:cNvSpPr/>
          <p:nvPr/>
        </p:nvSpPr>
        <p:spPr>
          <a:xfrm>
            <a:off x="5191200" y="299088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94d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7"/>
          <p:cNvSpPr/>
          <p:nvPr/>
        </p:nvSpPr>
        <p:spPr>
          <a:xfrm>
            <a:off x="98640" y="618804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duct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圆角矩形 3"/>
          <p:cNvSpPr/>
          <p:nvPr/>
        </p:nvSpPr>
        <p:spPr>
          <a:xfrm>
            <a:off x="5075280" y="1197000"/>
            <a:ext cx="3097080" cy="1440000"/>
          </a:xfrm>
          <a:custGeom>
            <a:avLst/>
            <a:gdLst>
              <a:gd name="textAreaLeft" fmla="*/ 0 w 3097080"/>
              <a:gd name="textAreaRight" fmla="*/ 3097440 w 309708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3528392" h="1800200">
                <a:moveTo>
                  <a:pt x="0" y="1184775"/>
                </a:moveTo>
                <a:lnTo>
                  <a:pt x="0" y="300039"/>
                </a:lnTo>
                <a:cubicBezTo>
                  <a:pt x="0" y="134332"/>
                  <a:pt x="134332" y="0"/>
                  <a:pt x="300039" y="0"/>
                </a:cubicBezTo>
                <a:lnTo>
                  <a:pt x="3228353" y="0"/>
                </a:lnTo>
                <a:cubicBezTo>
                  <a:pt x="3394060" y="0"/>
                  <a:pt x="3528392" y="134332"/>
                  <a:pt x="3528392" y="300039"/>
                </a:cubicBezTo>
                <a:lnTo>
                  <a:pt x="3528392" y="1500161"/>
                </a:lnTo>
                <a:cubicBezTo>
                  <a:pt x="3528392" y="1665868"/>
                  <a:pt x="3394060" y="1800200"/>
                  <a:pt x="3228353" y="1800200"/>
                </a:cubicBezTo>
                <a:lnTo>
                  <a:pt x="621287" y="1800200"/>
                </a:lnTo>
              </a:path>
            </a:pathLst>
          </a:custGeom>
          <a:noFill/>
          <a:ln w="25560">
            <a:solidFill>
              <a:srgbClr val="ffc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9"/>
          <p:cNvSpPr/>
          <p:nvPr/>
        </p:nvSpPr>
        <p:spPr>
          <a:xfrm>
            <a:off x="5191200" y="133524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角三角形 15"/>
          <p:cNvSpPr/>
          <p:nvPr/>
        </p:nvSpPr>
        <p:spPr>
          <a:xfrm flipH="1">
            <a:off x="-720" y="5243400"/>
            <a:ext cx="9140760" cy="1629000"/>
          </a:xfrm>
          <a:custGeom>
            <a:avLst/>
            <a:gdLst>
              <a:gd name="textAreaLeft" fmla="*/ -360 w 9140760"/>
              <a:gd name="textAreaRight" fmla="*/ 9140760 w 9140760"/>
              <a:gd name="textAreaTop" fmla="*/ 0 h 1629000"/>
              <a:gd name="textAreaBottom" fmla="*/ 1629360 h 1629000"/>
            </a:gdLst>
            <a:ahLst/>
            <a:rect l="textAreaLeft" t="textAreaTop" r="textAreaRight" b="textAreaBottom"/>
            <a:pathLst>
              <a:path w="9144000" h="1988840">
                <a:moveTo>
                  <a:pt x="9144000" y="0"/>
                </a:moveTo>
                <a:lnTo>
                  <a:pt x="2946165" y="1755844"/>
                </a:lnTo>
                <a:lnTo>
                  <a:pt x="0" y="0"/>
                </a:lnTo>
                <a:lnTo>
                  <a:pt x="0" y="1988840"/>
                </a:lnTo>
                <a:lnTo>
                  <a:pt x="2123728" y="1988840"/>
                </a:lnTo>
                <a:lnTo>
                  <a:pt x="3337114" y="1988840"/>
                </a:lnTo>
                <a:lnTo>
                  <a:pt x="9144000" y="198884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750960" y="2462040"/>
            <a:ext cx="3333600" cy="3152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395280" y="5877000"/>
            <a:ext cx="720720" cy="682560"/>
          </a:xfrm>
          <a:prstGeom prst="rect">
            <a:avLst/>
          </a:prstGeom>
          <a:ln w="0">
            <a:noFill/>
          </a:ln>
        </p:spPr>
      </p:pic>
      <p:sp>
        <p:nvSpPr>
          <p:cNvPr id="96" name="TextBox 16"/>
          <p:cNvSpPr/>
          <p:nvPr/>
        </p:nvSpPr>
        <p:spPr>
          <a:xfrm>
            <a:off x="-212040" y="493560"/>
            <a:ext cx="408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000"/>
                </a:solidFill>
                <a:latin typeface="Berlin Sans FB Demi"/>
                <a:ea typeface="Calibri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圆角矩形 3"/>
          <p:cNvSpPr/>
          <p:nvPr/>
        </p:nvSpPr>
        <p:spPr>
          <a:xfrm>
            <a:off x="5075280" y="2852640"/>
            <a:ext cx="3097080" cy="1440000"/>
          </a:xfrm>
          <a:custGeom>
            <a:avLst/>
            <a:gdLst>
              <a:gd name="textAreaLeft" fmla="*/ 0 w 3097080"/>
              <a:gd name="textAreaRight" fmla="*/ 3097440 w 309708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3528392" h="1800200">
                <a:moveTo>
                  <a:pt x="0" y="1184775"/>
                </a:moveTo>
                <a:lnTo>
                  <a:pt x="0" y="300039"/>
                </a:lnTo>
                <a:cubicBezTo>
                  <a:pt x="0" y="134332"/>
                  <a:pt x="134332" y="0"/>
                  <a:pt x="300039" y="0"/>
                </a:cubicBezTo>
                <a:lnTo>
                  <a:pt x="3228353" y="0"/>
                </a:lnTo>
                <a:cubicBezTo>
                  <a:pt x="3394060" y="0"/>
                  <a:pt x="3528392" y="134332"/>
                  <a:pt x="3528392" y="300039"/>
                </a:cubicBezTo>
                <a:lnTo>
                  <a:pt x="3528392" y="1500161"/>
                </a:lnTo>
                <a:cubicBezTo>
                  <a:pt x="3528392" y="1665868"/>
                  <a:pt x="3394060" y="1800200"/>
                  <a:pt x="3228353" y="1800200"/>
                </a:cubicBezTo>
                <a:lnTo>
                  <a:pt x="621287" y="1800200"/>
                </a:lnTo>
              </a:path>
            </a:pathLst>
          </a:custGeom>
          <a:noFill/>
          <a:ln w="25560">
            <a:solidFill>
              <a:srgbClr val="ffc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23"/>
          <p:cNvSpPr/>
          <p:nvPr/>
        </p:nvSpPr>
        <p:spPr>
          <a:xfrm>
            <a:off x="5191200" y="299088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98640" y="618804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duct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圆角矩形 3"/>
          <p:cNvSpPr/>
          <p:nvPr/>
        </p:nvSpPr>
        <p:spPr>
          <a:xfrm>
            <a:off x="5075280" y="1197000"/>
            <a:ext cx="3097080" cy="1440000"/>
          </a:xfrm>
          <a:custGeom>
            <a:avLst/>
            <a:gdLst>
              <a:gd name="textAreaLeft" fmla="*/ 0 w 3097080"/>
              <a:gd name="textAreaRight" fmla="*/ 3097440 w 309708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3528392" h="1800200">
                <a:moveTo>
                  <a:pt x="0" y="1184775"/>
                </a:moveTo>
                <a:lnTo>
                  <a:pt x="0" y="300039"/>
                </a:lnTo>
                <a:cubicBezTo>
                  <a:pt x="0" y="134332"/>
                  <a:pt x="134332" y="0"/>
                  <a:pt x="300039" y="0"/>
                </a:cubicBezTo>
                <a:lnTo>
                  <a:pt x="3228353" y="0"/>
                </a:lnTo>
                <a:cubicBezTo>
                  <a:pt x="3394060" y="0"/>
                  <a:pt x="3528392" y="134332"/>
                  <a:pt x="3528392" y="300039"/>
                </a:cubicBezTo>
                <a:lnTo>
                  <a:pt x="3528392" y="1500161"/>
                </a:lnTo>
                <a:cubicBezTo>
                  <a:pt x="3528392" y="1665868"/>
                  <a:pt x="3394060" y="1800200"/>
                  <a:pt x="3228353" y="1800200"/>
                </a:cubicBezTo>
                <a:lnTo>
                  <a:pt x="621287" y="1800200"/>
                </a:lnTo>
              </a:path>
            </a:pathLst>
          </a:custGeom>
          <a:noFill/>
          <a:ln w="25560">
            <a:solidFill>
              <a:srgbClr val="92ccdc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圆角矩形 9"/>
          <p:cNvSpPr/>
          <p:nvPr/>
        </p:nvSpPr>
        <p:spPr>
          <a:xfrm>
            <a:off x="5191200" y="133524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92c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角三角形 15"/>
          <p:cNvSpPr/>
          <p:nvPr/>
        </p:nvSpPr>
        <p:spPr>
          <a:xfrm flipH="1">
            <a:off x="-720" y="5243400"/>
            <a:ext cx="9140760" cy="1629000"/>
          </a:xfrm>
          <a:custGeom>
            <a:avLst/>
            <a:gdLst>
              <a:gd name="textAreaLeft" fmla="*/ -360 w 9140760"/>
              <a:gd name="textAreaRight" fmla="*/ 9140760 w 9140760"/>
              <a:gd name="textAreaTop" fmla="*/ 0 h 1629000"/>
              <a:gd name="textAreaBottom" fmla="*/ 1629360 h 1629000"/>
            </a:gdLst>
            <a:ahLst/>
            <a:rect l="textAreaLeft" t="textAreaTop" r="textAreaRight" b="textAreaBottom"/>
            <a:pathLst>
              <a:path w="9144000" h="1988840">
                <a:moveTo>
                  <a:pt x="9144000" y="0"/>
                </a:moveTo>
                <a:lnTo>
                  <a:pt x="2946165" y="1755844"/>
                </a:lnTo>
                <a:lnTo>
                  <a:pt x="0" y="0"/>
                </a:lnTo>
                <a:lnTo>
                  <a:pt x="0" y="1988840"/>
                </a:lnTo>
                <a:lnTo>
                  <a:pt x="2123728" y="1988840"/>
                </a:lnTo>
                <a:lnTo>
                  <a:pt x="3337114" y="1988840"/>
                </a:lnTo>
                <a:lnTo>
                  <a:pt x="9144000" y="1988840"/>
                </a:lnTo>
                <a:close/>
              </a:path>
            </a:pathLst>
          </a:custGeom>
          <a:solidFill>
            <a:srgbClr val="92c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750960" y="2462040"/>
            <a:ext cx="3333600" cy="3152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390600" y="5783400"/>
            <a:ext cx="722160" cy="6825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6"/>
          <p:cNvSpPr/>
          <p:nvPr/>
        </p:nvSpPr>
        <p:spPr>
          <a:xfrm>
            <a:off x="-212040" y="493560"/>
            <a:ext cx="408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2ccdc"/>
                </a:solidFill>
                <a:latin typeface="Berlin Sans FB Demi"/>
                <a:ea typeface="Calibri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 3"/>
          <p:cNvSpPr/>
          <p:nvPr/>
        </p:nvSpPr>
        <p:spPr>
          <a:xfrm>
            <a:off x="5075280" y="2852640"/>
            <a:ext cx="3097080" cy="1440000"/>
          </a:xfrm>
          <a:custGeom>
            <a:avLst/>
            <a:gdLst>
              <a:gd name="textAreaLeft" fmla="*/ 0 w 3097080"/>
              <a:gd name="textAreaRight" fmla="*/ 3097440 w 309708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3528392" h="1800200">
                <a:moveTo>
                  <a:pt x="0" y="1184775"/>
                </a:moveTo>
                <a:lnTo>
                  <a:pt x="0" y="300039"/>
                </a:lnTo>
                <a:cubicBezTo>
                  <a:pt x="0" y="134332"/>
                  <a:pt x="134332" y="0"/>
                  <a:pt x="300039" y="0"/>
                </a:cubicBezTo>
                <a:lnTo>
                  <a:pt x="3228353" y="0"/>
                </a:lnTo>
                <a:cubicBezTo>
                  <a:pt x="3394060" y="0"/>
                  <a:pt x="3528392" y="134332"/>
                  <a:pt x="3528392" y="300039"/>
                </a:cubicBezTo>
                <a:lnTo>
                  <a:pt x="3528392" y="1500161"/>
                </a:lnTo>
                <a:cubicBezTo>
                  <a:pt x="3528392" y="1665868"/>
                  <a:pt x="3394060" y="1800200"/>
                  <a:pt x="3228353" y="1800200"/>
                </a:cubicBezTo>
                <a:lnTo>
                  <a:pt x="621287" y="1800200"/>
                </a:lnTo>
              </a:path>
            </a:pathLst>
          </a:custGeom>
          <a:noFill/>
          <a:ln w="25560">
            <a:solidFill>
              <a:srgbClr val="92ccdc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23"/>
          <p:cNvSpPr/>
          <p:nvPr/>
        </p:nvSpPr>
        <p:spPr>
          <a:xfrm>
            <a:off x="5191200" y="299088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92c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98640" y="618804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duct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325440" y="4437000"/>
            <a:ext cx="44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Kingsoft 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-1133280" y="5302080"/>
            <a:ext cx="57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73680" y="6004080"/>
            <a:ext cx="289080" cy="314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672240" y="5565600"/>
            <a:ext cx="290520" cy="317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962760" y="5562720"/>
            <a:ext cx="1970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@Kingsoft_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kingsoft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61280" y="6102360"/>
            <a:ext cx="126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91280" y="61722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4:45:00Z</dcterms:created>
  <dc:creator>Sophie</dc:creator>
  <dc:description/>
  <dc:language>en-US</dc:language>
  <cp:lastModifiedBy>微软用户</cp:lastModifiedBy>
  <cp:lastPrinted>1899-12-30T00:00:00Z</cp:lastPrinted>
  <dcterms:modified xsi:type="dcterms:W3CDTF">2011-05-30T23:57:00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