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1fe"/>
              </a:solidFill>
              <a:latin typeface="Lucida Sans Unicode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769080" cy="9907560"/>
          </a:xfrm>
          <a:custGeom>
            <a:avLst/>
            <a:gdLst>
              <a:gd name="textAreaLeft" fmla="*/ 360 w 6769080"/>
              <a:gd name="textAreaRight" fmla="*/ 6768720 w 6769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14">
                <a:moveTo>
                  <a:pt x="5" y="0"/>
                </a:moveTo>
                <a:arcTo wR="5" hR="5" stAng="16200000" swAng="-5400000"/>
                <a:lnTo>
                  <a:pt x="0" y="31609"/>
                </a:lnTo>
                <a:arcTo wR="5" hR="5" stAng="10800000" swAng="-5400000"/>
                <a:lnTo>
                  <a:pt x="21595" y="3161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1fe"/>
              </a:solidFill>
              <a:latin typeface="Lucida Sans Unicode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769080" cy="9907560"/>
          </a:xfrm>
          <a:custGeom>
            <a:avLst/>
            <a:gdLst>
              <a:gd name="textAreaLeft" fmla="*/ 360 w 6769080"/>
              <a:gd name="textAreaRight" fmla="*/ 6768720 w 6769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14">
                <a:moveTo>
                  <a:pt x="5" y="0"/>
                </a:moveTo>
                <a:arcTo wR="5" hR="5" stAng="16200000" swAng="-5400000"/>
                <a:lnTo>
                  <a:pt x="0" y="31609"/>
                </a:lnTo>
                <a:arcTo wR="5" hR="5" stAng="10800000" swAng="-5400000"/>
                <a:lnTo>
                  <a:pt x="21595" y="3161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1fe"/>
              </a:solidFill>
              <a:latin typeface="Lucida Sans Unicode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769080" cy="9907560"/>
          </a:xfrm>
          <a:custGeom>
            <a:avLst/>
            <a:gdLst>
              <a:gd name="textAreaLeft" fmla="*/ 360 w 6769080"/>
              <a:gd name="textAreaRight" fmla="*/ 6768720 w 6769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14">
                <a:moveTo>
                  <a:pt x="5" y="0"/>
                </a:moveTo>
                <a:arcTo wR="5" hR="5" stAng="16200000" swAng="-5400000"/>
                <a:lnTo>
                  <a:pt x="0" y="31609"/>
                </a:lnTo>
                <a:arcTo wR="5" hR="5" stAng="10800000" swAng="-5400000"/>
                <a:lnTo>
                  <a:pt x="21595" y="3161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1fe"/>
              </a:solidFill>
              <a:latin typeface="Lucida Sans Unicode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769080" cy="9906120"/>
          </a:xfrm>
          <a:custGeom>
            <a:avLst/>
            <a:gdLst>
              <a:gd name="textAreaLeft" fmla="*/ 360 w 6769080"/>
              <a:gd name="textAreaRight" fmla="*/ 6768720 w 676908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610">
                <a:moveTo>
                  <a:pt x="4" y="0"/>
                </a:moveTo>
                <a:arcTo wR="4" hR="4" stAng="16200000" swAng="-5400000"/>
                <a:lnTo>
                  <a:pt x="0" y="31606"/>
                </a:lnTo>
                <a:arcTo wR="4" hR="4" stAng="10800000" swAng="-5400000"/>
                <a:lnTo>
                  <a:pt x="21596" y="3161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1fe"/>
              </a:solidFill>
              <a:latin typeface="Lucida Sans Unicode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140520" cy="9034560"/>
          </a:xfrm>
          <a:custGeom>
            <a:avLst/>
            <a:gdLst>
              <a:gd name="textAreaLeft" fmla="*/ 360 w 6140520"/>
              <a:gd name="textAreaRight" fmla="*/ 6140160 w 6140520"/>
              <a:gd name="textAreaTop" fmla="*/ 360 h 9034560"/>
              <a:gd name="textAreaBottom" fmla="*/ 9034200 h 9034560"/>
            </a:gdLst>
            <a:ahLst/>
            <a:rect l="textAreaLeft" t="textAreaTop" r="textAreaRight" b="textAreaBottom"/>
            <a:pathLst>
              <a:path w="21600" h="31780">
                <a:moveTo>
                  <a:pt x="5" y="0"/>
                </a:moveTo>
                <a:arcTo wR="5" hR="5" stAng="16200000" swAng="-5400000"/>
                <a:lnTo>
                  <a:pt x="0" y="31775"/>
                </a:lnTo>
                <a:arcTo wR="5" hR="5" stAng="10800000" swAng="-5400000"/>
                <a:lnTo>
                  <a:pt x="21595" y="317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1fe"/>
              </a:solidFill>
              <a:latin typeface="Lucida Sans Unicode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812880" y="677520"/>
            <a:ext cx="4510080" cy="33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 Pro Light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817200" y="4287960"/>
            <a:ext cx="44989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87400" y="677880"/>
            <a:ext cx="4367160" cy="338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1fe"/>
              </a:solidFill>
              <a:latin typeface="Lucida Sans Unicode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817560" y="4287600"/>
            <a:ext cx="45007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462800" cy="12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75844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51920" y="4267080"/>
            <a:ext cx="875844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462800" cy="12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27392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0040" y="1600200"/>
            <a:ext cx="427392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51920" y="4267080"/>
            <a:ext cx="427392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40040" y="4267080"/>
            <a:ext cx="427392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462800" cy="12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281988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13280" y="1600200"/>
            <a:ext cx="281988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81988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51920" y="4267080"/>
            <a:ext cx="281988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13280" y="4267080"/>
            <a:ext cx="281988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74280" y="4267080"/>
            <a:ext cx="281988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462800" cy="12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758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4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462800" cy="12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758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462800" cy="12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273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040" y="1600200"/>
            <a:ext cx="4273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462800" cy="12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52280" y="76320"/>
            <a:ext cx="7462800" cy="57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4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462800" cy="12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27392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040" y="1600200"/>
            <a:ext cx="4273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1920" y="4267080"/>
            <a:ext cx="427392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462800" cy="12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273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0040" y="1600200"/>
            <a:ext cx="427392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40040" y="4267080"/>
            <a:ext cx="427392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7462800" cy="12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27392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0040" y="1600200"/>
            <a:ext cx="427392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1920" y="4267080"/>
            <a:ext cx="875844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5238720"/>
            <a:ext cx="3524040" cy="1617840"/>
            <a:chOff x="5638680" y="5238720"/>
            <a:chExt cx="3524040" cy="1617840"/>
          </a:xfrm>
        </p:grpSpPr>
        <p:sp>
          <p:nvSpPr>
            <p:cNvPr id="1" name=""/>
            <p:cNvSpPr/>
            <p:nvPr/>
          </p:nvSpPr>
          <p:spPr>
            <a:xfrm>
              <a:off x="5638680" y="5238720"/>
              <a:ext cx="539640" cy="538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91fe"/>
                </a:solidFill>
                <a:latin typeface="Lucida Sans Unicode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25600" y="5238720"/>
              <a:ext cx="3237120" cy="161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91fe"/>
                </a:solidFill>
                <a:latin typeface="Lucida Sans Unicode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638680" y="5525640"/>
              <a:ext cx="360000" cy="133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91fe"/>
                </a:solidFill>
                <a:latin typeface="Lucida Sans Unicode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151920" y="1600200"/>
            <a:ext cx="8758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 Pro L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  <a:p>
            <a:pPr lvl="1" marL="735120" indent="-277920">
              <a:lnSpc>
                <a:spcPct val="103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 Pro L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 Pro L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0091fe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 Pro L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0091fe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 Pro L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 Pro L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 Pro L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5" name="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1fe"/>
              </a:solidFill>
              <a:latin typeface="Lucida Sans Unicode"/>
            </a:endParaRPr>
          </a:p>
        </p:txBody>
      </p:sp>
      <p:sp>
        <p:nvSpPr>
          <p:cNvPr id="6" name=""/>
          <p:cNvSpPr/>
          <p:nvPr/>
        </p:nvSpPr>
        <p:spPr>
          <a:xfrm>
            <a:off x="7951680" y="6458040"/>
            <a:ext cx="8557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1fe"/>
              </a:solidFill>
              <a:latin typeface="Lucida Sans Unicode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6095880" y="5514840"/>
            <a:ext cx="2040120" cy="1190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7615080" y="6400800"/>
            <a:ext cx="152892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91fe"/>
                </a:solidFill>
                <a:latin typeface="Gill Sans MT Pro Light"/>
              </a:rPr>
              <a:t>IT solutions for </a:t>
            </a:r>
            <a:endParaRPr b="0" lang="en-US" sz="1100" spc="-1" strike="noStrike">
              <a:solidFill>
                <a:srgbClr val="0091fe"/>
              </a:solidFill>
              <a:latin typeface="Lucida Sans Unicode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0091fe"/>
                </a:solidFill>
                <a:latin typeface="Gill Sans MT Pro Light"/>
              </a:rPr>
              <a:t>financial services providers</a:t>
            </a:r>
            <a:endParaRPr b="0" lang="en-US" sz="1100" spc="-1" strike="noStrike">
              <a:solidFill>
                <a:srgbClr val="0091fe"/>
              </a:solidFill>
              <a:latin typeface="Lucida Sans Unicode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103320"/>
            <a:ext cx="7951320" cy="1149120"/>
            <a:chOff x="0" y="103320"/>
            <a:chExt cx="7951320" cy="1149120"/>
          </a:xfrm>
        </p:grpSpPr>
        <p:grpSp>
          <p:nvGrpSpPr>
            <p:cNvPr id="10" name=""/>
            <p:cNvGrpSpPr/>
            <p:nvPr/>
          </p:nvGrpSpPr>
          <p:grpSpPr>
            <a:xfrm>
              <a:off x="0" y="103320"/>
              <a:ext cx="7951320" cy="1149120"/>
              <a:chOff x="0" y="103320"/>
              <a:chExt cx="7951320" cy="1149120"/>
            </a:xfrm>
          </p:grpSpPr>
          <p:sp>
            <p:nvSpPr>
              <p:cNvPr id="11" name=""/>
              <p:cNvSpPr/>
              <p:nvPr/>
            </p:nvSpPr>
            <p:spPr>
              <a:xfrm>
                <a:off x="0" y="103320"/>
                <a:ext cx="7384680" cy="114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91fe"/>
                  </a:solidFill>
                  <a:latin typeface="Lucida Sans Unicode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814800" y="103320"/>
                <a:ext cx="1136520" cy="1149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91fe"/>
                  </a:solidFill>
                  <a:latin typeface="Lucida Sans Unicode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0" y="139680"/>
              <a:ext cx="7913160" cy="1077840"/>
              <a:chOff x="0" y="139680"/>
              <a:chExt cx="7913160" cy="1077840"/>
            </a:xfrm>
          </p:grpSpPr>
          <p:sp>
            <p:nvSpPr>
              <p:cNvPr id="14" name=""/>
              <p:cNvSpPr/>
              <p:nvPr/>
            </p:nvSpPr>
            <p:spPr>
              <a:xfrm>
                <a:off x="0" y="139680"/>
                <a:ext cx="7351560" cy="1077840"/>
              </a:xfrm>
              <a:prstGeom prst="rect">
                <a:avLst/>
              </a:prstGeom>
              <a:solidFill>
                <a:srgbClr val="007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91fe"/>
                  </a:solidFill>
                  <a:latin typeface="Lucida Sans Unicode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783120" y="139680"/>
                <a:ext cx="1130040" cy="1077840"/>
              </a:xfrm>
              <a:prstGeom prst="ellipse">
                <a:avLst/>
              </a:prstGeom>
              <a:solidFill>
                <a:srgbClr val="007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91fe"/>
                  </a:solidFill>
                  <a:latin typeface="Lucida Sans Unicode"/>
                </a:endParaRPr>
              </a:p>
            </p:txBody>
          </p:sp>
        </p:grpSp>
      </p:grpSp>
      <p:sp>
        <p:nvSpPr>
          <p:cNvPr id="16" name="PlaceHolder 2"/>
          <p:cNvSpPr>
            <a:spLocks noGrp="1"/>
          </p:cNvSpPr>
          <p:nvPr>
            <p:ph type="title"/>
          </p:nvPr>
        </p:nvSpPr>
        <p:spPr>
          <a:xfrm>
            <a:off x="152280" y="76320"/>
            <a:ext cx="7462800" cy="12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 Pro Light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Gill Sans MT Pro Light"/>
            </a:endParaRPr>
          </a:p>
        </p:txBody>
      </p:sp>
      <p:sp>
        <p:nvSpPr>
          <p:cNvPr id="17" name=""/>
          <p:cNvSpPr/>
          <p:nvPr/>
        </p:nvSpPr>
        <p:spPr>
          <a:xfrm>
            <a:off x="3619440" y="6468120"/>
            <a:ext cx="20462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 Pro Light"/>
              </a:rPr>
              <a:t>ProVast 20070125</a:t>
            </a:r>
            <a:endParaRPr b="0" lang="en-US" sz="1400" spc="-1" strike="noStrike">
              <a:solidFill>
                <a:srgbClr val="0091fe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280" y="76320"/>
            <a:ext cx="74678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 Pro Light"/>
              </a:rPr>
              <a:t>Gebruikers interface</a:t>
            </a:r>
            <a:endParaRPr b="0" lang="en-US" sz="3200" spc="-1" strike="noStrike">
              <a:solidFill>
                <a:srgbClr val="0091fe"/>
              </a:solidFill>
              <a:latin typeface="Lucida Sans Unicode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86080" y="1371600"/>
            <a:ext cx="6453000" cy="5049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457200" y="1584000"/>
            <a:ext cx="990720" cy="336240"/>
          </a:xfrm>
          <a:prstGeom prst="wedgeEllipseCallout">
            <a:avLst>
              <a:gd name="adj1" fmla="val -159476"/>
              <a:gd name="adj2" fmla="val 97912"/>
            </a:avLst>
          </a:prstGeom>
          <a:solidFill>
            <a:srgbClr val="0079c2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 Pro Light"/>
              </a:rPr>
              <a:t>Menu</a:t>
            </a:r>
            <a:endParaRPr b="0" lang="en-US" sz="1400" spc="-1" strike="noStrike">
              <a:solidFill>
                <a:srgbClr val="0091fe"/>
              </a:solidFill>
              <a:latin typeface="Lucida Sans Unicode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52280" y="2255400"/>
            <a:ext cx="1447920" cy="336240"/>
          </a:xfrm>
          <a:prstGeom prst="wedgeEllipseCallout">
            <a:avLst>
              <a:gd name="adj1" fmla="val -124120"/>
              <a:gd name="adj2" fmla="val 69356"/>
            </a:avLst>
          </a:prstGeom>
          <a:solidFill>
            <a:srgbClr val="0079c2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 Pro Light"/>
              </a:rPr>
              <a:t>Zoekfilter</a:t>
            </a:r>
            <a:endParaRPr b="0" lang="en-US" sz="1400" spc="-1" strike="noStrike">
              <a:solidFill>
                <a:srgbClr val="0091fe"/>
              </a:solidFill>
              <a:latin typeface="Lucida Sans Unicode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4520" y="3223440"/>
            <a:ext cx="1525680" cy="641520"/>
          </a:xfrm>
          <a:prstGeom prst="wedgeEllipseCallout">
            <a:avLst>
              <a:gd name="adj1" fmla="val -110578"/>
              <a:gd name="adj2" fmla="val 64129"/>
            </a:avLst>
          </a:prstGeom>
          <a:solidFill>
            <a:srgbClr val="0079c2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 Pro Light"/>
              </a:rPr>
              <a:t>Gevonden resultaten</a:t>
            </a:r>
            <a:endParaRPr b="0" lang="en-US" sz="1400" spc="-1" strike="noStrike">
              <a:solidFill>
                <a:srgbClr val="0091fe"/>
              </a:solidFill>
              <a:latin typeface="Lucida Sans Unicode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52280" y="4070520"/>
            <a:ext cx="1525680" cy="641520"/>
          </a:xfrm>
          <a:prstGeom prst="wedgeEllipseCallout">
            <a:avLst>
              <a:gd name="adj1" fmla="val -113171"/>
              <a:gd name="adj2" fmla="val -14106"/>
            </a:avLst>
          </a:prstGeom>
          <a:solidFill>
            <a:srgbClr val="0079c2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 Pro Light"/>
              </a:rPr>
              <a:t>Gegevens wijzigen</a:t>
            </a:r>
            <a:endParaRPr b="0" lang="en-US" sz="1400" spc="-1" strike="noStrike">
              <a:solidFill>
                <a:srgbClr val="0091fe"/>
              </a:solidFill>
              <a:latin typeface="Lucida Sans Unicode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6320" y="4704120"/>
            <a:ext cx="1752480" cy="1863000"/>
          </a:xfrm>
          <a:prstGeom prst="wedgeEllipseCallout">
            <a:avLst>
              <a:gd name="adj1" fmla="val -95861"/>
              <a:gd name="adj2" fmla="val -17060"/>
            </a:avLst>
          </a:prstGeom>
          <a:solidFill>
            <a:srgbClr val="0079c2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 Pro Light"/>
              </a:rPr>
              <a:t>Gekoppelde documenten, bijvoorbeeld onderbouwing</a:t>
            </a:r>
            <a:endParaRPr b="0" lang="en-US" sz="1400" spc="-1" strike="noStrike">
              <a:solidFill>
                <a:srgbClr val="0091fe"/>
              </a:solidFill>
              <a:latin typeface="Lucida Sans Unicode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237440" y="-77040"/>
            <a:ext cx="1752480" cy="1557360"/>
          </a:xfrm>
          <a:prstGeom prst="wedgeEllipseCallout">
            <a:avLst>
              <a:gd name="adj1" fmla="val 246032"/>
              <a:gd name="adj2" fmla="val 72324"/>
            </a:avLst>
          </a:prstGeom>
          <a:solidFill>
            <a:srgbClr val="0079c2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 Pro Light"/>
              </a:rPr>
              <a:t>Web browser</a:t>
            </a:r>
            <a:endParaRPr b="0" lang="en-US" sz="1400" spc="-1" strike="noStrike">
              <a:solidFill>
                <a:srgbClr val="0091fe"/>
              </a:solidFill>
              <a:latin typeface="Lucida Sans Unicode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 Pro Light"/>
              </a:rPr>
              <a:t>Internet Explorer, Firefox</a:t>
            </a:r>
            <a:endParaRPr b="0" lang="en-US" sz="1400" spc="-1" strike="noStrike">
              <a:solidFill>
                <a:srgbClr val="0091fe"/>
              </a:solidFill>
              <a:latin typeface="Lucida Sans Unicode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019920" y="2058120"/>
            <a:ext cx="1752480" cy="641160"/>
          </a:xfrm>
          <a:prstGeom prst="wedgeEllipseCallout">
            <a:avLst>
              <a:gd name="adj1" fmla="val 110050"/>
              <a:gd name="adj2" fmla="val 222666"/>
            </a:avLst>
          </a:prstGeom>
          <a:solidFill>
            <a:srgbClr val="0079c2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 Pro Light"/>
              </a:rPr>
              <a:t>Klik=sorteren</a:t>
            </a:r>
            <a:endParaRPr b="0" lang="en-US" sz="1400" spc="-1" strike="noStrike">
              <a:solidFill>
                <a:srgbClr val="0091fe"/>
              </a:solidFill>
              <a:latin typeface="Lucida Sans Unicode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637960" y="4550040"/>
            <a:ext cx="1675080" cy="641520"/>
          </a:xfrm>
          <a:prstGeom prst="wedgeEllipseCallout">
            <a:avLst>
              <a:gd name="adj1" fmla="val 83537"/>
              <a:gd name="adj2" fmla="val 151791"/>
            </a:avLst>
          </a:prstGeom>
          <a:solidFill>
            <a:srgbClr val="0079c2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 Pro Light"/>
              </a:rPr>
              <a:t>Beveiliging en audit</a:t>
            </a:r>
            <a:endParaRPr b="0" lang="en-US" sz="1400" spc="-1" strike="noStrike">
              <a:solidFill>
                <a:srgbClr val="0091fe"/>
              </a:solidFill>
              <a:latin typeface="Lucida Sans Unicode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7120" y="5954760"/>
            <a:ext cx="1675080" cy="641520"/>
          </a:xfrm>
          <a:prstGeom prst="wedgeEllipseCallout">
            <a:avLst>
              <a:gd name="adj1" fmla="val 159171"/>
              <a:gd name="adj2" fmla="val -17416"/>
            </a:avLst>
          </a:prstGeom>
          <a:solidFill>
            <a:srgbClr val="0079c2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 Pro Light"/>
              </a:rPr>
              <a:t>Vast filter (context)</a:t>
            </a:r>
            <a:endParaRPr b="0" lang="en-US" sz="1400" spc="-1" strike="noStrike">
              <a:solidFill>
                <a:srgbClr val="0091fe"/>
              </a:solidFill>
              <a:latin typeface="Lucida Sans Unicode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393680" y="4008960"/>
            <a:ext cx="1522440" cy="946800"/>
          </a:xfrm>
          <a:prstGeom prst="wedgeEllipseCallout">
            <a:avLst>
              <a:gd name="adj1" fmla="val -8819"/>
              <a:gd name="adj2" fmla="val 135972"/>
            </a:avLst>
          </a:prstGeom>
          <a:solidFill>
            <a:srgbClr val="0079c2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 Pro Light"/>
              </a:rPr>
              <a:t>Kleuren en logo’s instelbaar</a:t>
            </a:r>
            <a:endParaRPr b="0" lang="en-US" sz="1400" spc="-1" strike="noStrike">
              <a:solidFill>
                <a:srgbClr val="0091fe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ido Leenders</cp:lastModifiedBy>
  <dcterms:modified xsi:type="dcterms:W3CDTF">2007-02-11T12:17:58Z</dcterms:modified>
  <cp:revision>5</cp:revision>
  <dc:subject/>
  <dc:title>Projectbewakingssysteem Invantive Estate</dc:title>
</cp:coreProperties>
</file>