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B4D-7F53-44EE-8347-21EC827C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896-3259-41AE-A7F9-09979573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006-A9F6-4194-9528-DD3A1671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EF9-BD10-4B30-9298-80A55422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BB5-A3EE-4027-9FCB-D26DA2FE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DA1-11A2-4C52-A0E0-B4FB3EF7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293-5B05-4343-9747-4B20DEC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F28-D397-40BC-96F8-4B602289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3BE-C871-47F0-A1FB-5960ABA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9FE-F7A9-4BD0-8B60-A7C598FF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021-622C-4EA6-9C5F-F4501ED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245-E705-442C-9906-C7EFF89A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140-A8E9-4F63-875F-93500FCF3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_Orig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titled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_Black and 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untitled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403440" y="3886200"/>
            <a:ext cx="233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 Ltd</cp:lastModifiedBy>
  <dcterms:modified xsi:type="dcterms:W3CDTF">2010-09-13T10:07:51Z</dcterms:modified>
  <cp:revision>42</cp:revision>
  <dc:subject/>
  <dc:title>PowerPoint Presentation</dc:title>
</cp:coreProperties>
</file>