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1AF-B5BD-408C-A045-0FA6E55D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859-F64F-4844-8631-C06FBC77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516-BC5D-40CA-8FEC-F7D08927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CB8-9F86-42FB-A291-D24FB57D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982-AF21-49E1-8597-D022D6FB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2FD-5C60-41A8-A70A-89204390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24B-F5F7-40C5-9359-5D2F099B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76E-B3D7-4B76-9D4A-081219AB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C44-3518-421B-91DE-E1CF22CB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8F9-3510-4C97-A5EC-4020413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6E7-F39D-4624-9384-453A3BC4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DBC-F823-464F-AE1D-DD87FB7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0AA91-4454-40F8-A24D-05CC5C33F1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ob_bell_love_wins_hell_empty_book_cover" descr=""/>
          <p:cNvPicPr/>
          <p:nvPr/>
        </p:nvPicPr>
        <p:blipFill>
          <a:blip r:embed=""/>
          <a:stretch/>
        </p:blipFill>
        <p:spPr>
          <a:xfrm>
            <a:off x="900000" y="1015920"/>
            <a:ext cx="4140360" cy="618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8:29:46Z</dcterms:created>
  <dc:creator/>
  <dc:description/>
  <dc:language>en-US</dc:language>
  <cp:lastModifiedBy/>
  <cp:revision>0</cp:revision>
  <dc:subject/>
  <dc:title/>
</cp:coreProperties>
</file>