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pptx" ContentType="application/vnd.openxmlformats-officedocument.presentationml.presentation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80E-7D1B-4F40-8620-A119A019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6808-2B3E-4C50-8A14-07F045B2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EAD-D5BE-4C32-90AC-BC4F2406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34D-6A75-45A5-9454-928B517C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5841-34F4-4D8D-996C-9999A4D4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9842-D281-482F-88A7-12EACB51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9496-29B3-4758-8475-1E9C6B1C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BF83-772C-462F-9127-F60C528A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7DA4-20AD-4249-9123-5EB01CFF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1B20-DBE1-4DBC-BCF1-CDB35462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B174-688F-4A51-8BC5-3F6F30F3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E3A-2C2A-423C-B782-534FD508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9886-B76D-4F17-8B12-78F12100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78A7-86BC-4A90-8250-288E5040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D02B-CA96-4D7D-8E78-F1D17E96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37B5-22FD-446A-87B7-56700F3C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E7A5-E50B-4A60-8E63-C23DB2E3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7025-E40A-4C07-ABE6-026CF258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48E8-BA71-4D73-9477-6DE5FED5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B08-4FAF-45D5-8D13-21ADA6BC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344-3B50-4D62-95F8-F9718B3E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989-7540-4331-832C-7A005B5D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F1C-97B1-463B-9160-52232637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C2F-03A8-451C-A1A0-002FE30C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4C6F-43AB-4DFF-9F89-D3380B725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8BC6-354F-4C44-912D-DA6E80CE6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33240" y="30240"/>
            <a:ext cx="5792040" cy="581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008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66"/>
                </a:solidFill>
                <a:latin typeface="Arial"/>
                <a:cs typeface="Arial"/>
              </a:rPr>
              <a:t>המרכז הרפואי הלל יפה - חדר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8600" y="1006560"/>
            <a:ext cx="7695720" cy="1068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rial"/>
              </a:rPr>
              <a:t>העברות לבתי חולים אחרים – ויסות שניונ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נפגע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08800" y="2590920"/>
            <a:ext cx="4888440" cy="1068840"/>
          </a:xfrm>
          <a:prstGeom prst="rect">
            <a:avLst/>
          </a:prstGeom>
          <a:solidFill>
            <a:srgbClr val="cee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6600"/>
                </a:solidFill>
                <a:latin typeface="Arial"/>
                <a:cs typeface="Arial"/>
              </a:rPr>
              <a:t>פציעות מיוחד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	</a:t>
            </a:r>
            <a:r>
              <a:rPr b="1" lang="hi-IN" sz="2400" spc="-1" strike="noStrike">
                <a:solidFill>
                  <a:srgbClr val="006600"/>
                </a:solidFill>
                <a:latin typeface="Arial"/>
                <a:cs typeface="Arial"/>
              </a:rPr>
              <a:t>נוירו-כירורגיה, כוויות, פה ולסת וכד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34560" y="4145040"/>
            <a:ext cx="2743920" cy="581400"/>
          </a:xfrm>
          <a:prstGeom prst="rect">
            <a:avLst/>
          </a:prstGeom>
          <a:solidFill>
            <a:srgbClr val="cee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"קיצור תורים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88440" y="5181480"/>
            <a:ext cx="3315600" cy="581400"/>
          </a:xfrm>
          <a:prstGeom prst="rect">
            <a:avLst/>
          </a:prstGeom>
          <a:solidFill>
            <a:srgbClr val="cee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"איחוד משפחות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14160" y="30240"/>
            <a:ext cx="5792040" cy="581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008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66"/>
                </a:solidFill>
                <a:latin typeface="Arial"/>
                <a:cs typeface="Arial"/>
              </a:rPr>
              <a:t>המרכז הרפואי הלל יפה - חדר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914400"/>
          <a:ext cx="7620120" cy="54100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חומרה על פי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e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0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מ   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י   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ו    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ן    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ea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ק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בינונ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קש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e9">
                        <a:alpha val="50000"/>
                      </a:srgbClr>
                    </a:solidFill>
                  </a:tcPr>
                </a:tc>
              </a:tr>
              <a:tr h="106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ק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a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06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בינונ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a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bed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קש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ea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bed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bed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2:11:43Z</dcterms:created>
  <dc:creator>ד"ר הספל</dc:creator>
  <dc:description/>
  <dc:language>en-US</dc:language>
  <cp:lastModifiedBy>ooo</cp:lastModifiedBy>
  <dcterms:modified xsi:type="dcterms:W3CDTF">2007-08-16T06:43:30Z</dcterms:modified>
  <cp:revision>31</cp:revision>
  <dc:subject/>
  <dc:title>מצגת של PowerPoint</dc:title>
</cp:coreProperties>
</file>