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6A0-03F8-4ABF-B85B-D64E4179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92F-5B23-431C-991B-F1A62DEA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5D8-BAC5-4B1D-AAD5-F92D00CA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8A4-C069-4632-9B49-91EFC92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573-95C8-4EA6-9348-D10A5C5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0C9-5B22-44BB-8E06-BD8638C0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E16-5527-4A37-9492-F882E17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E27-F9E8-416E-894E-A2BE07D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89F-C1F6-45E9-9B64-B5518417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0D1-E19F-4B58-8152-6AD9CDE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F30-DE9A-47F8-873E-10807AD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3E9-0D1C-4F10-98AB-6EB3A3E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9402-70C4-437F-A036-FEF5CCB3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quotationspage.com/quote/1315.html" TargetMode="External"/><Relationship Id="rId2" Type="http://schemas.openxmlformats.org/officeDocument/2006/relationships/hyperlink" Target="http://www.quotationspage.com/quote/1315.html" TargetMode="External"/><Relationship Id="rId3" Type="http://schemas.openxmlformats.org/officeDocument/2006/relationships/hyperlink" Target="http://www.quotationspage.com/quote/1315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23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gden Nas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333360"/>
            <a:ext cx="23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gden Nas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933720"/>
            <a:ext cx="23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gden Nas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476280"/>
            <a:ext cx="23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Ogden N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221000"/>
            <a:ext cx="23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Ogden N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4149720"/>
            <a:ext cx="23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were invented to make children happy by giving them something to igno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- Ogden N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0560" y="6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77280" y="-7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82520" y="115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640" y="33764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6520" y="35002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7240" y="3357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52:31Z</dcterms:created>
  <dc:creator/>
  <dc:description/>
  <dc:language>en-US</dc:language>
  <cp:lastModifiedBy/>
  <dcterms:modified xsi:type="dcterms:W3CDTF">2010-04-09T08:53:31Z</dcterms:modified>
  <cp:revision>2</cp:revision>
  <dc:subject/>
  <dc:title>Slide 1</dc:title>
</cp:coreProperties>
</file>