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28A-7566-4040-A725-16C135FE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556-A7FC-4DCD-AEBE-4E726EF1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968-80DB-4F58-80E0-D0AA13DE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BBC-1B95-48AB-99EF-C1CB4B4F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46E-0A23-4D9F-A718-6AE85E95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55E-E2A6-4993-8746-FCE7FB19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CF6-DAC6-4D3E-A091-64C7C439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A24-7D77-4D8E-905F-4D6E99E2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FC9-7CFC-43DE-ADFF-AC7C1F36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D0A-DE8F-4ECE-AB98-8D84901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089-CCDB-4562-8476-0C85E78B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A65-D54C-42CE-B738-C2702794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CC8-7A70-4B1E-9EEF-2F539158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4494240" y="1192320"/>
            <a:ext cx="1009800" cy="8856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446880" y="1182600"/>
            <a:ext cx="1133280" cy="809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550800" y="2144880"/>
            <a:ext cx="933480" cy="1295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2608200" y="2039760"/>
            <a:ext cx="1123920" cy="134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4865760" y="2173320"/>
            <a:ext cx="1504800" cy="1162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7332840" y="2567160"/>
            <a:ext cx="771480" cy="1123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5"/>
          <p:cNvSpPr/>
          <p:nvPr/>
        </p:nvSpPr>
        <p:spPr>
          <a:xfrm>
            <a:off x="4227480" y="3938760"/>
            <a:ext cx="1514520" cy="904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8:11:29Z</dcterms:created>
  <dc:creator>user</dc:creator>
  <dc:description/>
  <dc:language>en-US</dc:language>
  <cp:lastModifiedBy>user</cp:lastModifiedBy>
  <dcterms:modified xsi:type="dcterms:W3CDTF">2011-11-08T08:11:36Z</dcterms:modified>
  <cp:revision>1</cp:revision>
  <dc:subject/>
  <dc:title>Slide 1</dc:title>
</cp:coreProperties>
</file>