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21BB-5EF0-4C2F-8963-BEEE2F964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2EF9-1BD6-4D09-9176-62530F7FC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07EC-7FC6-4E46-BA99-AA9298A1C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D2A2-4CBA-4C89-90DF-1B579CE9F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06F3-4E83-4316-B026-C5A689848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09E7-80E0-49E4-8A64-70AD28134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48E6-36B4-41CF-AF99-9B90541DA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2AE2-1B90-457C-8F60-C906C88BB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2A0B-AD30-4462-A14D-C5CD40918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C3DE-F591-4148-8F08-FD35E127C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1903-4AF1-4BB6-BAC9-747585252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F923-6300-48E9-A611-29C86B793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FAA825-CA4E-4F1B-8B83-6B712E9B087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19280" y="1440000"/>
            <a:ext cx="5400720" cy="16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buSzPct val="117210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s is bullete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17210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iht some l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buSzPct val="139933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And some </a:t>
            </a:r>
            <a:r>
              <a:rPr b="0" lang="en-GB" sz="1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differen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lev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47640" indent="-216000">
              <a:lnSpc>
                <a:spcPct val="93000"/>
              </a:lnSpc>
              <a:buSzPct val="100000"/>
              <a:buBlip>
                <a:blip r:embed="rId4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Here is the third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buSzPct val="139933"/>
              <a:buBlip>
                <a:blip r:embed="rId5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Second 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a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17210"/>
              <a:buBlip>
                <a:blip r:embed="rId6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d one last first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liver Brendel</dc:creator>
  <dc:description/>
  <dc:language>en-US</dc:language>
  <cp:lastModifiedBy>Oliver Brendel</cp:lastModifiedBy>
  <cp:revision>0</cp:revision>
  <dc:subject/>
  <dc:title/>
</cp:coreProperties>
</file>