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DE7F-9B82-4C7C-A665-6E831B90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BA90-CF3A-43D2-B839-D5370F47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80C1-9316-49EF-97B4-2BFC1BE4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63F9-A624-4131-A877-78847B55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79D9-87E4-4A9E-8B46-4CB70903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C3BD-C2F9-4481-9CBA-FBAD061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132-E297-4FEF-A0B4-AC088E84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5FE0-D78E-4852-971C-68FB118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DF9-0C17-4CD5-A2F9-48D3BE3E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275-864A-4CF6-9ACC-C929B281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F849-1083-4334-BFA1-3D789C7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F4F7-D32E-43C7-A55E-97C46FDD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95F-E822-4CD6-AD03-563F6A8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5F5-281E-4BB3-BEFE-FB8C3F1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BEA-4701-4467-A782-ABB2EEDF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DE8E-AD22-4AD8-8393-B1D46953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08F3-DC01-4867-A1EE-92B54EE2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2A59-36EA-46AC-B911-CC8DC46F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79A7-B533-431E-973E-CAE64AA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B11B-025D-4CDC-B9D3-56497E7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6324-4CF6-4AD4-974C-DA86609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0AB1-6957-4F04-B94B-F643B40A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7F60-6130-44BD-A583-291C388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5D13-74C8-46CF-BFB2-6364229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A45A-8098-44E3-8CE5-EFD4F643F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8430"/>
                </a:solidFill>
                <a:latin typeface="Arial"/>
              </a:rPr>
              <a:t>Company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8430"/>
                </a:solidFill>
                <a:latin typeface="Arial"/>
              </a:rPr>
              <a:t>Company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E1F-5629-4F9C-AAF1-6CC964A09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687600" y="3409920"/>
            <a:ext cx="2207880" cy="781920"/>
            <a:chOff x="687600" y="3409920"/>
            <a:chExt cx="2207880" cy="781920"/>
          </a:xfrm>
        </p:grpSpPr>
        <p:sp>
          <p:nvSpPr>
            <p:cNvPr id="109" name="Rectangle 3"/>
            <p:cNvSpPr/>
            <p:nvPr/>
          </p:nvSpPr>
          <p:spPr>
            <a:xfrm>
              <a:off x="723960" y="3409920"/>
              <a:ext cx="2171520" cy="75996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687600" y="342540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1431720" y="3915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Got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6"/>
          <p:cNvSpPr/>
          <p:nvPr/>
        </p:nvSpPr>
        <p:spPr>
          <a:xfrm>
            <a:off x="1636560" y="1143000"/>
            <a:ext cx="5967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SCORM 1.2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687600" y="1927080"/>
            <a:ext cx="2207880" cy="1197000"/>
            <a:chOff x="687600" y="1927080"/>
            <a:chExt cx="2207880" cy="1197000"/>
          </a:xfrm>
        </p:grpSpPr>
        <p:sp>
          <p:nvSpPr>
            <p:cNvPr id="114" name="Rectangle 8"/>
            <p:cNvSpPr/>
            <p:nvPr/>
          </p:nvSpPr>
          <p:spPr>
            <a:xfrm>
              <a:off x="723960" y="1927080"/>
              <a:ext cx="2171520" cy="119700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687600" y="19670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922320" y="241452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status == “satisfied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hen got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lse got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1"/>
          <p:cNvGrpSpPr/>
          <p:nvPr/>
        </p:nvGrpSpPr>
        <p:grpSpPr>
          <a:xfrm>
            <a:off x="1828800" y="2743200"/>
            <a:ext cx="2742840" cy="2590560"/>
            <a:chOff x="1828800" y="2743200"/>
            <a:chExt cx="2742840" cy="2590560"/>
          </a:xfrm>
        </p:grpSpPr>
        <p:sp>
          <p:nvSpPr>
            <p:cNvPr id="118" name="Line 12"/>
            <p:cNvSpPr/>
            <p:nvPr/>
          </p:nvSpPr>
          <p:spPr>
            <a:xfrm>
              <a:off x="1828800" y="27432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4571640" y="274320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 flipH="1">
              <a:off x="3075120" y="5333760"/>
              <a:ext cx="149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685800" y="4637160"/>
            <a:ext cx="2209680" cy="1182600"/>
            <a:chOff x="685800" y="4637160"/>
            <a:chExt cx="2209680" cy="1182600"/>
          </a:xfrm>
        </p:grpSpPr>
        <p:sp>
          <p:nvSpPr>
            <p:cNvPr id="122" name="Rectangle 16"/>
            <p:cNvSpPr/>
            <p:nvPr/>
          </p:nvSpPr>
          <p:spPr>
            <a:xfrm>
              <a:off x="723960" y="4637160"/>
              <a:ext cx="2171520" cy="1182600"/>
            </a:xfrm>
            <a:prstGeom prst="rect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685800" y="4637160"/>
              <a:ext cx="16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ctivity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8"/>
            <p:cNvSpPr/>
            <p:nvPr/>
          </p:nvSpPr>
          <p:spPr>
            <a:xfrm>
              <a:off x="762120" y="5142240"/>
              <a:ext cx="1739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status == “not satisfied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hen got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lse goto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1219320" y="2209680"/>
            <a:ext cx="3557160" cy="3276720"/>
            <a:chOff x="1219320" y="2209680"/>
            <a:chExt cx="3557160" cy="3276720"/>
          </a:xfrm>
        </p:grpSpPr>
        <p:sp>
          <p:nvSpPr>
            <p:cNvPr id="126" name="Line 20"/>
            <p:cNvSpPr/>
            <p:nvPr/>
          </p:nvSpPr>
          <p:spPr>
            <a:xfrm>
              <a:off x="1219320" y="5486400"/>
              <a:ext cx="35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1"/>
            <p:cNvSpPr/>
            <p:nvPr/>
          </p:nvSpPr>
          <p:spPr>
            <a:xfrm>
              <a:off x="4776480" y="22096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 flipH="1">
              <a:off x="2536200" y="2209680"/>
              <a:ext cx="22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3"/>
          <p:cNvSpPr/>
          <p:nvPr/>
        </p:nvSpPr>
        <p:spPr>
          <a:xfrm>
            <a:off x="5689440" y="19051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ditional branching logic is built into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5715000" y="31240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’t easily reuse Resources, because of ‘hard wired’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895480" y="2919240"/>
            <a:ext cx="1552680" cy="842760"/>
            <a:chOff x="2895480" y="2919240"/>
            <a:chExt cx="1552680" cy="842760"/>
          </a:xfrm>
        </p:grpSpPr>
        <p:sp>
          <p:nvSpPr>
            <p:cNvPr id="132" name="Line 26"/>
            <p:cNvSpPr/>
            <p:nvPr/>
          </p:nvSpPr>
          <p:spPr>
            <a:xfrm>
              <a:off x="2895480" y="2919240"/>
              <a:ext cx="15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448160" y="291924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8"/>
            <p:cNvSpPr/>
            <p:nvPr/>
          </p:nvSpPr>
          <p:spPr>
            <a:xfrm flipH="1">
              <a:off x="3708360" y="3762000"/>
              <a:ext cx="7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2819520" y="1905120"/>
            <a:ext cx="2057400" cy="3962160"/>
            <a:chOff x="2819520" y="1905120"/>
            <a:chExt cx="2057400" cy="3962160"/>
          </a:xfrm>
        </p:grpSpPr>
        <p:sp>
          <p:nvSpPr>
            <p:cNvPr id="136" name="Line 30"/>
            <p:cNvSpPr/>
            <p:nvPr/>
          </p:nvSpPr>
          <p:spPr>
            <a:xfrm>
              <a:off x="2819520" y="58672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4876920" y="1905120"/>
              <a:ext cx="0" cy="396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 flipH="1">
              <a:off x="3580920" y="190512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647640" y="3305160"/>
            <a:ext cx="236232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"/>
          <p:cNvSpPr/>
          <p:nvPr/>
        </p:nvSpPr>
        <p:spPr>
          <a:xfrm>
            <a:off x="685800" y="4521240"/>
            <a:ext cx="2324160" cy="13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5"/>
          <p:cNvGrpSpPr/>
          <p:nvPr/>
        </p:nvGrpSpPr>
        <p:grpSpPr>
          <a:xfrm>
            <a:off x="2133720" y="4087800"/>
            <a:ext cx="2260080" cy="866520"/>
            <a:chOff x="2133720" y="4087800"/>
            <a:chExt cx="2260080" cy="866520"/>
          </a:xfrm>
        </p:grpSpPr>
        <p:sp>
          <p:nvSpPr>
            <p:cNvPr id="142" name="Line 36"/>
            <p:cNvSpPr/>
            <p:nvPr/>
          </p:nvSpPr>
          <p:spPr>
            <a:xfrm>
              <a:off x="2133720" y="4087800"/>
              <a:ext cx="22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393800" y="408780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 flipH="1">
              <a:off x="3317400" y="4954320"/>
              <a:ext cx="10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3:00:36Z</dcterms:created>
  <dc:creator>surasit</dc:creator>
  <dc:description/>
  <dc:language>en-US</dc:language>
  <cp:lastModifiedBy>svegesna</cp:lastModifiedBy>
  <dcterms:modified xsi:type="dcterms:W3CDTF">2011-11-09T10:33:35Z</dcterms:modified>
  <cp:revision>26</cp:revision>
  <dc:subject/>
  <dc:title>E-learning Stand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Company Confidential</vt:lpwstr>
  </property>
  <property fmtid="{D5CDD505-2E9C-101B-9397-08002B2CF9AE}" pid="3" name="TitusGUID">
    <vt:lpwstr>869f7984-72f7-43d3-a943-4e0459f6465c</vt:lpwstr>
  </property>
</Properties>
</file>