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14B-C717-4ECC-91B7-F80D72AD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042-5AAC-4FE7-A9DF-0C1BD17A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68C-60C7-4D7C-8655-02978BDC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D53-4218-41DB-9178-2F995B20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370-8EBE-4EF8-B017-936957F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9D7-07D2-45B1-90C5-50B7C97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70E-B1C9-4CDF-918F-48B3C9D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7E7-2FDD-4EBA-B4DA-4F5B280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2A7-CCAC-4EC3-BD46-BE89FCF4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984-1810-4ED4-9849-EABB09C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701-0CDA-469B-90C7-437FE9B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7F7-2DCE-4303-A54D-543C7CA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157C-BFD9-482F-B699-C43633C5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c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661000"/>
            <a:ext cx="8280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Monotype Corsiva"/>
              </a:rPr>
              <a:t>Когда даришь от души, даришь самое лучшее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476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ЕТЬ МАГАЗИНОВ ПОДАРКИ И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0:39:38Z</dcterms:created>
  <dc:creator>Ханбекова</dc:creator>
  <dc:description/>
  <dc:language>en-US</dc:language>
  <cp:lastModifiedBy>Irina Ivanovna Ovsiankina</cp:lastModifiedBy>
  <dcterms:modified xsi:type="dcterms:W3CDTF">2008-03-31T10:43:43Z</dcterms:modified>
  <cp:revision>77</cp:revision>
  <dc:subject/>
  <dc:title>Слайд 1</dc:title>
</cp:coreProperties>
</file>