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6484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0E53-68EB-4698-BF70-8DD1F55A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39A9-6285-49B8-BAFA-ECFF584A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4BF7-C085-4358-A143-E3191336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37D4-72FB-43D5-8AB2-281A6484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F12B-75F7-4555-86DA-F87BF6AB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F926-4CF7-4A11-B34D-556FF44B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F645-7E92-4EDB-BECA-429D1916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4B8B-95BE-4674-BBFB-E768F18D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9C43-E570-4653-83BA-A4E61E9F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DF0C-D2B1-43F3-A0C7-4857C8E1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2AF9-912C-4769-8EB4-2F5D281A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9C57-C1D8-4DE8-BFB7-4A9AB2EA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78E4-9ABA-4C41-ADC4-E3C85D3B73C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9440" y="2209680"/>
            <a:ext cx="6689880" cy="67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2308320"/>
            <a:ext cx="6683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p rou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10.10.0 255.255.255.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11.11.11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0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60520" y="2967120"/>
            <a:ext cx="653724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8048520" y="2251080"/>
            <a:ext cx="0" cy="7812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43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Instradamento di tipo statico </a:t>
            </a:r>
            <a:br>
              <a:rPr sz="3200"/>
            </a:b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(route statiche)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1430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empio di comando per realizz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 route sta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29080" y="3833640"/>
            <a:ext cx="3886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427500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5037120"/>
            <a:ext cx="2514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80440" y="427500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84800" y="5037120"/>
            <a:ext cx="2514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26160" y="3300480"/>
            <a:ext cx="128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E SERI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(es. S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95960" y="345276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04680" y="345276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5510160"/>
          <a:ext cx="99072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510160"/>
                    <a:ext cx="99072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711920" y="5526000"/>
          <a:ext cx="990720" cy="72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11920" y="5526000"/>
                    <a:ext cx="99072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 flipV="1">
            <a:off x="958680" y="505296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229600" y="505296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762120" y="3465360"/>
            <a:ext cx="1828800" cy="838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6566040" y="3452760"/>
            <a:ext cx="1828800" cy="838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21360" y="5181480"/>
            <a:ext cx="174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e di destinazi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0.10.0 255.255.25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8360" y="3890880"/>
            <a:ext cx="174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1.11.11.1 255.255.25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2360" y="3886200"/>
            <a:ext cx="174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1.11.11.2 255.255.25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685440" y="2438280"/>
            <a:ext cx="533520" cy="914400"/>
          </a:xfrm>
          <a:custGeom>
            <a:avLst/>
            <a:gdLst>
              <a:gd name="textAreaLeft" fmla="*/ 177840 w 533520"/>
              <a:gd name="textAreaRight" fmla="*/ 457200 w 533520"/>
              <a:gd name="textAreaTop" fmla="*/ 527040 h 914400"/>
              <a:gd name="textAreaBottom" fmla="*/ 7837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61320" y="6537240"/>
            <a:ext cx="120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DW.RT.EO. CNA-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6FCC-5B0F-42A2-8E63-A6BB859BD9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6600" y="307800"/>
            <a:ext cx="937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Instradamento di tipo statico </a:t>
            </a:r>
            <a:br>
              <a:rPr sz="3200"/>
            </a:b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(esempio di configurazione di route statiche)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861320" y="6537240"/>
            <a:ext cx="120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DW.RT.EO. CNA-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427500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5037120"/>
            <a:ext cx="2514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5510160"/>
          <a:ext cx="99072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510160"/>
                    <a:ext cx="99072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 flipV="1">
            <a:off x="958680" y="505296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62120" y="3465360"/>
            <a:ext cx="1828800" cy="838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094200" y="1371600"/>
            <a:ext cx="2239920" cy="1689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604320" y="1748520"/>
            <a:ext cx="1395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cip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4354560" y="3649680"/>
            <a:ext cx="2046240" cy="922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816080" y="3645360"/>
            <a:ext cx="1328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ack-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133720" y="3048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590920" y="259056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9092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200040" y="38098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4038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62280" y="31384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53840" y="3747960"/>
            <a:ext cx="6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Bri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6477120" y="2362320"/>
            <a:ext cx="1828800" cy="838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257800" y="220968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6172200" y="3123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560" y="2362320"/>
            <a:ext cx="20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rotocollo di ro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66840" y="457200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ute stati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2883600" y="4197960"/>
            <a:ext cx="251640" cy="366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2666880"/>
            <a:ext cx="5335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07D9-6E30-4123-8DA0-7B1900B96F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Generalita’ 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4120" y="68904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 COS’E’ UNAUTONOMOUS SYSTEM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572000"/>
            <a:ext cx="93232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n sistema autonomo (A.S. Autonomous System) si compone di vari router e re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o sottoreti) che condividono le informazioni per mezzo dello stesso protocollo di instradamento. Questi router sono generalmente sotto il controllo di un gestore comu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d ogni A.S. è assegnato un numero esclusivo, e questi numeri sono gestiti dal N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Network Information Center). Es. interbusiness 32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61320" y="6537240"/>
            <a:ext cx="120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DW.RT.EO. CNA-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8720" y="1752480"/>
            <a:ext cx="8433000" cy="291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73120" y="3295800"/>
            <a:ext cx="1219320" cy="74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793960" y="3695760"/>
            <a:ext cx="406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895480" y="3924000"/>
            <a:ext cx="139716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473120" y="2666880"/>
            <a:ext cx="101592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92440" y="2666880"/>
            <a:ext cx="60948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692440" y="2323800"/>
            <a:ext cx="142236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16320" y="2324160"/>
            <a:ext cx="406440" cy="7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4521240" y="3295800"/>
            <a:ext cx="203040" cy="51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403440" y="3295800"/>
            <a:ext cx="101628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295800"/>
            <a:ext cx="914400" cy="28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07040" y="3924360"/>
            <a:ext cx="124452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248520" y="3638520"/>
            <a:ext cx="71100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7162920" y="3181320"/>
            <a:ext cx="812520" cy="7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248160" y="318132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6756120" y="2666880"/>
            <a:ext cx="132084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825800" y="2666880"/>
            <a:ext cx="172692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220968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723920" y="2209680"/>
            <a:ext cx="1016280" cy="85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34120" y="1879560"/>
            <a:ext cx="939600" cy="368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102200" y="2959200"/>
            <a:ext cx="939600" cy="368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990720" y="3022560"/>
            <a:ext cx="939600" cy="368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6248520" y="2400480"/>
            <a:ext cx="939600" cy="368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7569360" y="2933640"/>
            <a:ext cx="939600" cy="368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3848040" y="2133720"/>
            <a:ext cx="939960" cy="368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2819520" y="3403440"/>
            <a:ext cx="939600" cy="368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2158920" y="2336760"/>
            <a:ext cx="939960" cy="368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2311560" y="4013280"/>
            <a:ext cx="939600" cy="368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0"/>
          <a:stretch/>
        </p:blipFill>
        <p:spPr>
          <a:xfrm>
            <a:off x="6400800" y="3848040"/>
            <a:ext cx="939960" cy="368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1"/>
          <a:stretch/>
        </p:blipFill>
        <p:spPr>
          <a:xfrm>
            <a:off x="5486400" y="3327480"/>
            <a:ext cx="939960" cy="368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2"/>
          <a:stretch/>
        </p:blipFill>
        <p:spPr>
          <a:xfrm>
            <a:off x="4267080" y="3784680"/>
            <a:ext cx="939960" cy="368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flipH="1">
            <a:off x="4800600" y="20764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F5A1-C2D9-4569-A0E9-1CD90BF709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021040" y="228600"/>
            <a:ext cx="50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TOCOLLI DI ROUTING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45440" y="990720"/>
            <a:ext cx="7407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Nel caso in cui devono essere interfacciati piu’ </a:t>
            </a: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AUTONOMUS SYSTEMS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(come la realta’ d’intern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bisogna utilizzare un protocollo denominato </a:t>
            </a: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Exterior Gateway Protocol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(EGP – RFC 904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l protocollo che attualmente viene utilizzato per l’interfacciamento e’ il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BG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Border Gateway Protocol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(BGP –RFC 1771). Il protocollo BGP si pone al livello 7 della pila iso-o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quindi e’ considerato come un’applicazi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50960" y="3390840"/>
            <a:ext cx="3251160" cy="8571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99080" y="3448080"/>
            <a:ext cx="3251160" cy="857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5040" y="3962520"/>
            <a:ext cx="3251160" cy="857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94160" y="4248000"/>
            <a:ext cx="3251160" cy="857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84680" y="5048280"/>
            <a:ext cx="3251160" cy="8571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49440" y="4476600"/>
            <a:ext cx="3251160" cy="857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0120" y="2933640"/>
            <a:ext cx="8433000" cy="325764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65040" y="4762440"/>
            <a:ext cx="18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imes New Roman"/>
              </a:rPr>
              <a:t>Autonomus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01800" y="5334120"/>
            <a:ext cx="18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imes New Roman"/>
              </a:rPr>
              <a:t>Autonomus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11280" y="4533840"/>
            <a:ext cx="18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imes New Roman"/>
              </a:rPr>
              <a:t>Autonomus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52160" y="4248000"/>
            <a:ext cx="18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imes New Roman"/>
              </a:rPr>
              <a:t>Autonomus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68080" y="3676680"/>
            <a:ext cx="18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imes New Roman"/>
              </a:rPr>
              <a:t>Autonomus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16200" y="3733920"/>
            <a:ext cx="18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imes New Roman"/>
              </a:rPr>
              <a:t>Autonomus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65600" y="499104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S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5240" y="396252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S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67120" y="350532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S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16800" y="476244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G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07320" y="561960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G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57680" y="407664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G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87720" y="5105520"/>
            <a:ext cx="6098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72320" y="510552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G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92640" y="4648320"/>
            <a:ext cx="6094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76880" y="464832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G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4991040"/>
            <a:ext cx="6098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94680" y="499104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G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50960" y="4533840"/>
            <a:ext cx="6094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35200" y="453384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G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68760" y="3962520"/>
            <a:ext cx="6094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53000" y="396252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G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95680" y="3733920"/>
            <a:ext cx="6098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80280" y="373392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G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816520" y="4133880"/>
            <a:ext cx="6098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01120" y="413388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G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19880" y="228600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61320" y="6537240"/>
            <a:ext cx="120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DW.RT.EO. CNA-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77B2-771B-4B10-AD97-DE8685950C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9T12:16:06Z</dcterms:created>
  <dc:creator>Chichi</dc:creator>
  <dc:description/>
  <dc:language>en-US</dc:language>
  <cp:lastModifiedBy>Maurizio Firmani</cp:lastModifiedBy>
  <cp:lastPrinted>2001-09-06T11:03:31Z</cp:lastPrinted>
  <dcterms:modified xsi:type="dcterms:W3CDTF">2008-05-14T07:35:48Z</dcterms:modified>
  <cp:revision>157</cp:revision>
  <dc:subject/>
  <dc:title>CISCO START-UP</dc:title>
</cp:coreProperties>
</file>