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9B7-2F69-4C10-86CD-C118CD1D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CEF-73DD-46E1-AACF-79AF7AA2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9FE-68F2-43DE-8655-BD497A67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493-7A72-4DDF-9C48-DC926F21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DDA-AD23-455D-8F72-9118D227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066-DED1-4AF6-A0C8-69FEF97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0FC-CEB1-4D6C-80B9-ACF46DD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CDF-3F30-4467-BBA9-D882137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941-844A-4883-8559-2ABE7081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CCF-555C-4B85-91FE-6DF1E5B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453-0F4F-411E-92C8-A6C4A30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1AD-28A6-4E3E-B3D7-68C7405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C332-9062-4184-A38A-DEB4D10F88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838080" y="228600"/>
            <a:ext cx="91512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" name=""/>
          <p:cNvCxnSpPr/>
          <p:nvPr/>
        </p:nvCxnSpPr>
        <p:spPr>
          <a:xfrm>
            <a:off x="2362320" y="456840"/>
            <a:ext cx="1219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4343040" y="45684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/>
          <p:nvPr/>
        </p:nvCxnSpPr>
        <p:spPr>
          <a:xfrm flipH="1" rot="16200000">
            <a:off x="456480" y="2361960"/>
            <a:ext cx="838800" cy="6865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"/>
          <p:cNvCxnSpPr/>
          <p:nvPr/>
        </p:nvCxnSpPr>
        <p:spPr>
          <a:xfrm>
            <a:off x="2057040" y="2361960"/>
            <a:ext cx="2134440" cy="1067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/>
          <p:nvPr/>
        </p:nvCxnSpPr>
        <p:spPr>
          <a:xfrm>
            <a:off x="5181120" y="2514600"/>
            <a:ext cx="167724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H="1" rot="16200000">
            <a:off x="608400" y="4190760"/>
            <a:ext cx="1296360" cy="99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/>
          <p:nvPr/>
        </p:nvCxnSpPr>
        <p:spPr>
          <a:xfrm flipH="1" rot="16200000">
            <a:off x="2438280" y="4495320"/>
            <a:ext cx="160092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>
            <a:off x="4876920" y="4495320"/>
            <a:ext cx="1829520" cy="12200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7:59:50Z</dcterms:created>
  <dc:creator>cheng shunyi</dc:creator>
  <dc:description/>
  <dc:language>en-US</dc:language>
  <cp:lastModifiedBy>zxd</cp:lastModifiedBy>
  <dcterms:modified xsi:type="dcterms:W3CDTF">2009-08-20T03:36:56Z</dcterms:modified>
  <cp:revision>1</cp:revision>
  <dc:subject/>
  <dc:title>PowerPoint 演示文稿</dc:title>
</cp:coreProperties>
</file>