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4C5-F4B5-4DA2-8A5D-5692BF63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C09-9CBF-4B44-B854-887E378C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D25-7472-48A3-9B58-89F557E5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A58-9792-4A98-AAF3-8322AE94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3A9-2295-4F49-9951-BCDBF7D9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22C-DB9E-49D6-AC06-654B1CEE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359-0788-4B0A-AEF0-9A4BC341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3D0E-E65D-4942-9C5F-802033EF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519-3751-4A39-863C-8144DDFF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DD3-F17B-4E10-BDEB-80D37CF4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18F-D6E1-402F-9F8A-7C77D27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0A8-C335-46FA-A1AE-973BD562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5160"/>
            <a:ext cx="31860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1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tencil"/>
              </a:rPr>
              <a:t>Billings Information Technology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925 Grand Ave., Ste. 131 • Billings, MT 591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fo: www.bitsmt.com • Tel: (406) 545-3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eed Help? Go to http://www.askbitsm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BEA31-28F8-4541-AE13-0A7AB6CA3C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2 Wireless</a:t>
            </a:r>
            <a:br>
              <a:rPr sz="44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crotel Inn &amp; Suites</a:t>
            </a:r>
            <a:br>
              <a:rPr sz="32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12 Nikles Street  Bozeman, MT 597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2920" y="731520"/>
            <a:ext cx="886788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users are reporting no internet after connecting to an Access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es are not sure what to reset to restore Internet back to their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es and previous contractors have not been able to locate Access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network connections were found loose or not plugged in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twork map has been put together for this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centralized management and diagnostics station for this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aptive portal with an access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Points are named “mtl25900n” (where n is a number from 1-4). This naming is confusing to clients, who may accidentally connect to a neighboring access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ed loose network connections and verified conne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ed each access point and found a week one that needs repl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and mapped all four Access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switch is not capable of producing 802.3af Po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/>
  <cp:revision>0</cp:revision>
  <dc:subject/>
  <dc:title/>
</cp:coreProperties>
</file>