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258480"/>
            <a:ext cx="79995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258480"/>
            <a:ext cx="79995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9480" y="1566720"/>
            <a:ext cx="7958160" cy="111240"/>
            <a:chOff x="609480" y="1566720"/>
            <a:chExt cx="7958160" cy="111240"/>
          </a:xfrm>
        </p:grpSpPr>
        <p:sp>
          <p:nvSpPr>
            <p:cNvPr id="1" name=""/>
            <p:cNvSpPr/>
            <p:nvPr/>
          </p:nvSpPr>
          <p:spPr>
            <a:xfrm>
              <a:off x="609480" y="1566720"/>
              <a:ext cx="4656240" cy="111240"/>
            </a:xfrm>
            <a:custGeom>
              <a:avLst/>
              <a:gdLst/>
              <a:ahLst/>
              <a:rect l="l" t="t" r="r" b="b"/>
              <a:pathLst>
                <a:path w="12933" h="307">
                  <a:moveTo>
                    <a:pt x="0" y="0"/>
                  </a:moveTo>
                  <a:lnTo>
                    <a:pt x="12932" y="0"/>
                  </a:lnTo>
                  <a:lnTo>
                    <a:pt x="12932" y="306"/>
                  </a:lnTo>
                  <a:lnTo>
                    <a:pt x="0" y="306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09480" y="1566720"/>
              <a:ext cx="7958160" cy="1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4200" y="258480"/>
            <a:ext cx="79995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2394000"/>
            <a:ext cx="7772400" cy="109440"/>
            <a:chOff x="685800" y="2394000"/>
            <a:chExt cx="7772400" cy="109440"/>
          </a:xfrm>
        </p:grpSpPr>
        <p:sp>
          <p:nvSpPr>
            <p:cNvPr id="43" name=""/>
            <p:cNvSpPr/>
            <p:nvPr/>
          </p:nvSpPr>
          <p:spPr>
            <a:xfrm>
              <a:off x="685800" y="2394000"/>
              <a:ext cx="4803840" cy="109440"/>
            </a:xfrm>
            <a:custGeom>
              <a:avLst/>
              <a:gdLst/>
              <a:ahLst/>
              <a:rect l="l" t="t" r="r" b="b"/>
              <a:pathLst>
                <a:path w="13344" h="306">
                  <a:moveTo>
                    <a:pt x="0" y="0"/>
                  </a:moveTo>
                  <a:lnTo>
                    <a:pt x="13343" y="0"/>
                  </a:lnTo>
                  <a:lnTo>
                    <a:pt x="13343" y="305"/>
                  </a:lnTo>
                  <a:lnTo>
                    <a:pt x="0" y="305"/>
                  </a:lnTo>
                  <a:lnTo>
                    <a:pt x="0" y="0"/>
                  </a:lnTo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800" y="2394000"/>
              <a:ext cx="7772400" cy="1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Mappings and morphis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440" y="3428640"/>
            <a:ext cx="4343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uth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ristina Kallaste LA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nverse F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unction f:S</a:t>
            </a:r>
            <a:r>
              <a:rPr b="0" lang="en-GB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 is </a:t>
            </a:r>
            <a:r>
              <a:rPr b="0" lang="en-GB" sz="3000" spc="-1" strike="noStrike">
                <a:solidFill>
                  <a:srgbClr val="cc0000"/>
                </a:solidFill>
                <a:latin typeface="Verdana"/>
              </a:rPr>
              <a:t>invertible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if there exists a function g:T</a:t>
            </a:r>
            <a:r>
              <a:rPr b="0" lang="en-GB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 such th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=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an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=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 is called an </a:t>
            </a:r>
            <a:r>
              <a:rPr b="0" lang="en-GB" sz="2200" spc="-1" strike="noStrike">
                <a:solidFill>
                  <a:srgbClr val="cc0000"/>
                </a:solidFill>
                <a:latin typeface="Verdana"/>
              </a:rPr>
              <a:t>inverse functio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of 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f f is invertible,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ts inverse is uniqu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function is invertible if and only if it is bijectiv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g(f(s))=s   and   f(g(s))=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Groups and subgrou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Magm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&lt;S,*&gt; is a set S together with an operation *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associative magma is called a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semigrou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emigroup with identity element is called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monoi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group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&lt;G,*&gt; is a monoid in which every element is invertible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operation * is associative on G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re exists an element 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 which is an identity for *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 every 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 there exists  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G such that s*t=e=t*s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group with operation + is called additive grou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Subgrou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 &lt;G,*&gt; be a group. Then a subset H of G is called a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subgrou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G if it constitutes a group in its own right with respect to the operation * defined on 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can show that H is subgroup of G by verify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 is closed under the operation defined on 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 contains the identity of 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f s lies in H, then so does s</a:t>
            </a:r>
            <a:r>
              <a:rPr b="0" lang="en-GB" sz="19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Group Homomorphis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-5698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 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e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9880" indent="-5698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function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s called a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homomorphism of group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f it satisfies the condi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spcBef>
                <a:spcPts val="689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st)=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s)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0">
              <a:spcBef>
                <a:spcPts val="499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all s,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69880" indent="-5698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additive not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550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s+t)=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s) +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exponential 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GB" sz="37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Verdana"/>
              </a:rPr>
              <a:t>+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7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GB" sz="37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3700" spc="-1" strike="noStrike">
                <a:solidFill>
                  <a:srgbClr val="000000"/>
                </a:solidFill>
                <a:latin typeface="Verdana"/>
              </a:rPr>
              <a:t> e</a:t>
            </a:r>
            <a:r>
              <a:rPr b="0" lang="en-GB" sz="37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s a homomorphism from the group of real numbers under addition to the group of positive real numbers under multiplic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90000"/>
              </a:lnSpc>
              <a:spcBef>
                <a:spcPts val="81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600" spc="-1" strike="noStrike" baseline="30000">
                <a:solidFill>
                  <a:srgbClr val="000000"/>
                </a:solidFill>
                <a:latin typeface="Verdana"/>
              </a:rPr>
              <a:t>x+y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=e</a:t>
            </a:r>
            <a:r>
              <a:rPr b="0" lang="en-GB" sz="26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26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perties of morphism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T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For every object X there exists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a morphism  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 : X-&gt; X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 called the </a:t>
            </a:r>
            <a:r>
              <a:rPr b="0" i="1" lang="en-GB" sz="2300" spc="-1" strike="noStrike">
                <a:solidFill>
                  <a:srgbClr val="cc0000"/>
                </a:solidFill>
                <a:latin typeface="Verdana"/>
              </a:rPr>
              <a:t>identity morphism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on X, such that for every morphism φ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: G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-&gt;G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we have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300" spc="-1" strike="noStrike" baseline="-64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300" spc="-1" strike="noStrike">
                <a:solidFill>
                  <a:srgbClr val="000000"/>
                </a:solidFill>
                <a:latin typeface="Verdana"/>
              </a:rPr>
              <a:t>  ○ f =f=f ○ id 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300" spc="-1" strike="noStrike" baseline="-5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GB" sz="23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perties of morphism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SSOCIATIVIT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○ (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○ 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= (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○ 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) ○ φ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whenever the operations are defin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we have 4 objects and 3 mophisms so th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-&gt;b-&gt;c-&gt;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lied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phism a-&gt;c combined with c-&gt;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ives the same mophism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a-&gt;b composed with b-&gt;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mposition of morphis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mposition of group homomorphisms is a group homomorphis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t φ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&gt;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and φ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&gt;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 group homomorphis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all s,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(st)= 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(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(s)) 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(φ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Group homomorphis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t φ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&gt;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be group homomorphism.  Then we have the following asser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φ(e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)=e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re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s identity of 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j=0,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φ(s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)= φ(s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-1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all 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φ(s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)= φ(s)</a:t>
            </a:r>
            <a:r>
              <a:rPr b="0" lang="en-GB" sz="3000" spc="-1" strike="noStrike" baseline="30000">
                <a:solidFill>
                  <a:srgbClr val="000000"/>
                </a:solidFill>
                <a:latin typeface="Verdana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all 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integers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Isomorph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bijective homomorphism of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φ: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&gt;G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is called an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isomophis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group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and G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re isomorphic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differ only in the notation of their elements and are identical for all practical purpo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ts and fun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osition of fun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verse fun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oups and Group Morphis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oups and subgrou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oup (homo)morph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omorph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do-, epi- and automorph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ings and fiel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inear trans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ffeomorphis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ndo- &amp; automorphism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φ: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G-&gt;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a group homomorphism, we call it an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endomorphis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it is bijective and is isomorphism, it is called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automorphism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Aut(G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has the following propert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dent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ssociativ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losu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nver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Automorphis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900" spc="-1" strike="noStrike">
                <a:solidFill>
                  <a:srgbClr val="cc0000"/>
                </a:solidFill>
                <a:latin typeface="Verdana"/>
              </a:rPr>
              <a:t>An inner automorphism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of a group is a func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 :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-&gt;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defined 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</a:rPr>
              <a:t>axa</a:t>
            </a:r>
            <a:r>
              <a:rPr b="0" lang="en-GB" sz="3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for all </a:t>
            </a:r>
            <a:r>
              <a:rPr b="0" i="1" lang="en-GB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i="1" lang="en-GB" sz="25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operation </a:t>
            </a: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axa</a:t>
            </a:r>
            <a:r>
              <a:rPr b="0" lang="en-GB" sz="29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is called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conjugation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n automorphism not of this form is called an </a:t>
            </a:r>
            <a:r>
              <a:rPr b="1" lang="en-GB" sz="2900" spc="-1" strike="noStrike">
                <a:solidFill>
                  <a:srgbClr val="cc0000"/>
                </a:solidFill>
                <a:latin typeface="Verdana"/>
              </a:rPr>
              <a:t>outer automorphism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ing homomorphis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r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consists of nonempty set A together with two operation + and * such that the following properties ho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&lt;A,+&gt; is an additive grou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&lt;A,*&gt; is a monoid (an associative magma with identity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se operations satisfy two distrobutive law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*(b+c)= a*b + a*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(a+b)*c= a*c + b*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or any three elements a,b,c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ing homomorphisms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ring homomorphis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 function between two rings which respects the operations of addition and multipli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R and S are rings, then a ring homomorphism is a function f: R-&gt;S such th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f(a+b)= f(a) + f(b)    for all a,b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f(ab)= f(a)f(b)    for all a,b </a:t>
            </a:r>
            <a:r>
              <a:rPr b="0" lang="en-GB" sz="13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f(1)=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 injectiv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ng homomorphism  is ring 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monomorphis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 surjectiv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ng homomorphism  is ring 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epimorph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An bijectiv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ng homomorphism  is ring 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isomorphism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inear trans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linear transform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s a function between two vector spaces that preserves the operations of vector addition and scalar multipl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inear  transformation is a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homomorphism of vector spac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V and W are vector spaces over the same field K, then 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f:V-&gt;W is a linear transforma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f for any two vectors x and y in V and any scalar a in 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(x+y)= f(x)+f(y) (additivity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f(ax)=af(x) (homogenity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Manifol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Verdana"/>
              </a:rPr>
              <a:t>Smooth manifold -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infinitely differentiable) manifold, also called a differentiable manifold. A smooth manifold is a topological manifold together with its "functional structure" and so differs from a topological manifold because the notion of differentiability exists on i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Verdana"/>
              </a:rPr>
              <a:t>A topological spac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satisfying some separability and countability conditions such that every point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has a neighborhood homeomorphic to an open set in R</a:t>
            </a:r>
            <a:r>
              <a:rPr b="0" lang="en-GB" sz="2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for some n</a:t>
            </a:r>
            <a:r>
              <a:rPr b="0" lang="en-GB" sz="2200" spc="-1" strike="noStrike">
                <a:solidFill>
                  <a:srgbClr val="000000"/>
                </a:solidFill>
                <a:latin typeface="MS Mincho"/>
                <a:ea typeface="MS Mincho"/>
              </a:rPr>
              <a:t>≥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Homeomorph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omeomorphism, also called a continuous transformation, is an equivalence relation and one-to-one correspondence between points in two geometric fig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Diffeomoph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s a kind of isomophism of smooth manifol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iven two differentiable manifolds M and N,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 bijective map</a:t>
            </a:r>
            <a:r>
              <a:rPr b="1" i="1" lang="en-GB" sz="2200" spc="-1" strike="noStrike">
                <a:solidFill>
                  <a:srgbClr val="000000"/>
                </a:solidFill>
                <a:latin typeface="Verdana"/>
              </a:rPr>
              <a:t> f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from M to 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s called a </a:t>
            </a:r>
            <a:r>
              <a:rPr b="0" lang="en-GB" sz="2200" spc="-1" strike="noStrike">
                <a:solidFill>
                  <a:srgbClr val="cc0000"/>
                </a:solidFill>
                <a:latin typeface="Verdana"/>
              </a:rPr>
              <a:t>diffemorfism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if both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f: M-&gt;N and its inverse f</a:t>
            </a:r>
            <a:r>
              <a:rPr b="1" lang="en-GB" sz="22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: N-&gt;M are smoot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manifolds M and N are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iffeomorphi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(symbol   ) if there is a diffeomophism f from M to 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1904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Sets and f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What is func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: S-&gt;T is a pairing of elements from S and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 that each element 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is associated with exactly one element 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f(s)=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=&gt;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 is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imag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of s under 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Doma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Codoma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Verdana"/>
              </a:rPr>
              <a:t>Rules of assignment </a:t>
            </a:r>
            <a:r>
              <a:rPr b="1" i="1" lang="en-GB" sz="1800" spc="-1" strike="noStrike">
                <a:solidFill>
                  <a:srgbClr val="cc0000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et of all elements of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at occur as the image of some element i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called the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rang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image of 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denoted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Im(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19680" y="2843280"/>
                <a:ext cx="12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Mappings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: S-&gt;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jective function (one-to-one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s, s’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S  f(s)= f(s’) </a:t>
            </a:r>
            <a:r>
              <a:rPr b="0" lang="en-GB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s=s’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Equivalently, </a:t>
            </a:r>
            <a:r>
              <a:rPr b="0" lang="en-GB" sz="21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, s’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S  f(s)</a:t>
            </a:r>
            <a:r>
              <a:rPr b="0" lang="en-GB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≠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f(s’) </a:t>
            </a:r>
            <a:r>
              <a:rPr b="0" lang="en-GB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en-GB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≠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743200" y="3962520"/>
            <a:ext cx="2414520" cy="2087280"/>
            <a:chOff x="2743200" y="3962520"/>
            <a:chExt cx="2414520" cy="208728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2743200" y="3962520"/>
              <a:ext cx="241452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43200" y="3962520"/>
              <a:ext cx="2414520" cy="2087280"/>
            </a:xfrm>
            <a:prstGeom prst="roundRect">
              <a:avLst>
                <a:gd name="adj" fmla="val 7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Mappings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urjective (on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If Im(f)=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바탕"/>
                <a:ea typeface="바탕"/>
              </a:rPr>
              <a:t>∀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T </a:t>
            </a:r>
            <a:r>
              <a:rPr b="0" lang="en-GB" sz="2300" spc="-1" strike="noStrike">
                <a:solidFill>
                  <a:srgbClr val="000000"/>
                </a:solidFill>
                <a:latin typeface="MS Mincho"/>
                <a:ea typeface="MS Mincho"/>
              </a:rPr>
              <a:t>∃ 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∈</a:t>
            </a:r>
            <a:r>
              <a:rPr b="0" lang="en-GB" sz="2300" spc="-1" strike="noStrike">
                <a:solidFill>
                  <a:srgbClr val="000000"/>
                </a:solidFill>
                <a:latin typeface="MS Mincho"/>
                <a:ea typeface="MS Mincho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: f(s)=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6880" y="3657600"/>
            <a:ext cx="2567160" cy="2219400"/>
            <a:chOff x="2666880" y="3657600"/>
            <a:chExt cx="2567160" cy="221940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666880" y="3657600"/>
              <a:ext cx="256716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666880" y="3657600"/>
              <a:ext cx="2567160" cy="221940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Mappings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ijective=injective &amp; sur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71800" y="2895480"/>
            <a:ext cx="2643120" cy="2284560"/>
            <a:chOff x="2971800" y="2895480"/>
            <a:chExt cx="2643120" cy="22845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2971800" y="2895480"/>
              <a:ext cx="264312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71800" y="2895480"/>
              <a:ext cx="2643120" cy="228456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s of mappi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is nonempty set.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</a:t>
            </a:r>
            <a:r>
              <a:rPr b="0" lang="en-GB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0">
              <a:spcBef>
                <a:spcPts val="6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GB" sz="2300" spc="-1" strike="noStrike" baseline="-25000">
                <a:solidFill>
                  <a:srgbClr val="000000"/>
                </a:solidFill>
                <a:latin typeface="Verdana"/>
              </a:rPr>
              <a:t>s 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is called the </a:t>
            </a:r>
            <a:r>
              <a:rPr b="1" lang="en-GB" sz="2300" spc="-1" strike="noStrike">
                <a:solidFill>
                  <a:srgbClr val="cc0000"/>
                </a:solidFill>
                <a:latin typeface="Verdana"/>
              </a:rPr>
              <a:t>identity map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on 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0"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It is clearly bijec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: R</a:t>
            </a:r>
            <a:r>
              <a:rPr b="0" lang="en-GB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injective and non-bi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4038480"/>
            <a:ext cx="2109960" cy="1824120"/>
            <a:chOff x="5867280" y="4038480"/>
            <a:chExt cx="2109960" cy="182412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5867280" y="4038480"/>
              <a:ext cx="21099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867280" y="4038480"/>
              <a:ext cx="2109960" cy="182412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mposition of F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: S </a:t>
            </a:r>
            <a:r>
              <a:rPr b="0" lang="en-GB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 and  g: T </a:t>
            </a:r>
            <a:r>
              <a:rPr b="0" lang="en-GB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mposition of functions 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 : S </a:t>
            </a:r>
            <a:r>
              <a:rPr b="0" lang="en-GB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↦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defin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◦f(s)=g(f(s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819520" y="4114800"/>
            <a:ext cx="2857320" cy="1851120"/>
            <a:chOff x="2819520" y="4114800"/>
            <a:chExt cx="2857320" cy="1851120"/>
          </a:xfrm>
        </p:grpSpPr>
        <p:sp>
          <p:nvSpPr>
            <p:cNvPr id="113" name=""/>
            <p:cNvSpPr/>
            <p:nvPr/>
          </p:nvSpPr>
          <p:spPr>
            <a:xfrm>
              <a:off x="2819520" y="4114800"/>
              <a:ext cx="2857320" cy="1851120"/>
            </a:xfrm>
            <a:prstGeom prst="roundRect">
              <a:avLst>
                <a:gd name="adj" fmla="val 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505320" y="4229280"/>
              <a:ext cx="1828800" cy="1736640"/>
              <a:chOff x="3505320" y="4229280"/>
              <a:chExt cx="1828800" cy="17366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848040" y="4915080"/>
                <a:ext cx="571680" cy="276480"/>
                <a:chOff x="3848040" y="4915080"/>
                <a:chExt cx="571680" cy="2764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848040" y="4915080"/>
                  <a:ext cx="571680" cy="260280"/>
                </a:xfrm>
                <a:prstGeom prst="roundRect">
                  <a:avLst>
                    <a:gd name="adj" fmla="val 60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48040" y="4915080"/>
                  <a:ext cx="571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g 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○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 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040" y="4800600"/>
                <a:ext cx="343080" cy="290520"/>
                <a:chOff x="4991040" y="4800600"/>
                <a:chExt cx="343080" cy="290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991040" y="4800600"/>
                  <a:ext cx="343080" cy="290520"/>
                </a:xfrm>
                <a:prstGeom prst="roundRect">
                  <a:avLst>
                    <a:gd name="adj" fmla="val 54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040" y="4800600"/>
                  <a:ext cx="34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3733920" y="4457880"/>
                <a:ext cx="1143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3505320" y="4343400"/>
                <a:ext cx="342720" cy="343080"/>
                <a:chOff x="3505320" y="4343400"/>
                <a:chExt cx="342720" cy="343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505320" y="4343400"/>
                  <a:ext cx="342720" cy="343080"/>
                </a:xfrm>
                <a:custGeom>
                  <a:avLst/>
                  <a:gdLst>
                    <a:gd name="textAreaLeft" fmla="*/ 360 w 342720"/>
                    <a:gd name="textAreaRight" fmla="*/ 342360 w 342720"/>
                    <a:gd name="textAreaTop" fmla="*/ 360 h 343080"/>
                    <a:gd name="textAreaBottom" fmla="*/ 342720 h 343080"/>
                  </a:gdLst>
                  <a:ahLst/>
                  <a:rect l="textAreaLeft" t="textAreaTop" r="textAreaRight" b="textAreaBottom"/>
                  <a:pathLst>
                    <a:path w="21600" h="21623">
                      <a:moveTo>
                        <a:pt x="100" y="0"/>
                      </a:moveTo>
                      <a:arcTo wR="100" hR="100" stAng="16200000" swAng="-5400000"/>
                      <a:lnTo>
                        <a:pt x="0" y="21523"/>
                      </a:lnTo>
                      <a:arcTo wR="100" hR="100" stAng="10800000" swAng="-5400000"/>
                      <a:lnTo>
                        <a:pt x="21500" y="21623"/>
                      </a:lnTo>
                      <a:arcTo wR="100" hR="100" stAng="5400000" swAng="-5400000"/>
                      <a:lnTo>
                        <a:pt x="21600" y="100"/>
                      </a:lnTo>
                      <a:arcTo wR="100" hR="1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05320" y="4343400"/>
                  <a:ext cx="34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876920" y="4343400"/>
                <a:ext cx="342720" cy="457200"/>
                <a:chOff x="4876920" y="4343400"/>
                <a:chExt cx="342720" cy="4572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876920" y="4343400"/>
                  <a:ext cx="342720" cy="457200"/>
                </a:xfrm>
                <a:custGeom>
                  <a:avLst/>
                  <a:gdLst>
                    <a:gd name="textAreaLeft" fmla="*/ 360 w 342720"/>
                    <a:gd name="textAreaRight" fmla="*/ 342360 w 342720"/>
                    <a:gd name="textAreaTop" fmla="*/ 360 h 457200"/>
                    <a:gd name="textAreaBottom" fmla="*/ 456840 h 45720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100" y="0"/>
                      </a:moveTo>
                      <a:arcTo wR="100" hR="100" stAng="16200000" swAng="-5400000"/>
                      <a:lnTo>
                        <a:pt x="0" y="28708"/>
                      </a:lnTo>
                      <a:arcTo wR="100" hR="100" stAng="10800000" swAng="-5400000"/>
                      <a:lnTo>
                        <a:pt x="21500" y="28808"/>
                      </a:lnTo>
                      <a:arcTo wR="100" hR="100" stAng="5400000" swAng="-5400000"/>
                      <a:lnTo>
                        <a:pt x="21600" y="100"/>
                      </a:lnTo>
                      <a:arcTo wR="100" hR="1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76920" y="4343400"/>
                  <a:ext cx="34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762440" y="5600880"/>
                <a:ext cx="343080" cy="365040"/>
                <a:chOff x="4762440" y="5600880"/>
                <a:chExt cx="343080" cy="365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762440" y="5600880"/>
                  <a:ext cx="343080" cy="365040"/>
                </a:xfrm>
                <a:custGeom>
                  <a:avLst/>
                  <a:gdLst>
                    <a:gd name="textAreaLeft" fmla="*/ 360 w 343080"/>
                    <a:gd name="textAreaRight" fmla="*/ 342720 w 343080"/>
                    <a:gd name="textAreaTop" fmla="*/ 360 h 365040"/>
                    <a:gd name="textAreaBottom" fmla="*/ 364680 h 365040"/>
                  </a:gdLst>
                  <a:ahLst/>
                  <a:rect l="textAreaLeft" t="textAreaTop" r="textAreaRight" b="textAreaBottom"/>
                  <a:pathLst>
                    <a:path w="21600" h="22981">
                      <a:moveTo>
                        <a:pt x="100" y="0"/>
                      </a:moveTo>
                      <a:arcTo wR="100" hR="100" stAng="16200000" swAng="-5400000"/>
                      <a:lnTo>
                        <a:pt x="0" y="22881"/>
                      </a:lnTo>
                      <a:arcTo wR="100" hR="100" stAng="10800000" swAng="-5400000"/>
                      <a:lnTo>
                        <a:pt x="21500" y="22981"/>
                      </a:lnTo>
                      <a:arcTo wR="100" hR="100" stAng="5400000" swAng="-5400000"/>
                      <a:lnTo>
                        <a:pt x="21600" y="100"/>
                      </a:lnTo>
                      <a:arcTo wR="100" hR="1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62440" y="5600880"/>
                  <a:ext cx="34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4991040" y="4572000"/>
                <a:ext cx="18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48040" y="4572000"/>
                <a:ext cx="9144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191120" y="4229280"/>
                <a:ext cx="342720" cy="276480"/>
                <a:chOff x="4191120" y="4229280"/>
                <a:chExt cx="342720" cy="276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191120" y="4229280"/>
                  <a:ext cx="342720" cy="230040"/>
                </a:xfrm>
                <a:prstGeom prst="roundRect">
                  <a:avLst>
                    <a:gd name="adj" fmla="val 694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91120" y="4229280"/>
                  <a:ext cx="34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Verdana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mposition of Function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f: S </a:t>
            </a:r>
            <a:r>
              <a:rPr b="0" lang="en-GB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 ,  g: T </a:t>
            </a:r>
            <a:r>
              <a:rPr b="0" lang="en-GB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U and h: U </a:t>
            </a:r>
            <a:r>
              <a:rPr b="0" lang="en-GB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↦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)=(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us composition of functions is 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associa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g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)(s)=…=(h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)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arning: Composition of functions is not defined in both directions and it need not be commutativ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(x)=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(x)=x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