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35160"/>
            <a:ext cx="914256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79440"/>
            <a:ext cx="531720" cy="227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1279440"/>
            <a:ext cx="8552160" cy="2271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5970600"/>
            <a:ext cx="91425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9360" y="6053040"/>
            <a:ext cx="224784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59080" y="6043680"/>
            <a:ext cx="678348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04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35160"/>
            <a:ext cx="914256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79440"/>
            <a:ext cx="531720" cy="227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0400" y="1279440"/>
            <a:ext cx="8552160" cy="2271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235160"/>
            <a:ext cx="914256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79440"/>
            <a:ext cx="531720" cy="227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0400" y="1279440"/>
            <a:ext cx="8552160" cy="2271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62320" y="4038480"/>
            <a:ext cx="64753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PI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hapters 6 &amp;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6049800"/>
            <a:ext cx="67039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riday, August 12,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12720" y="228600"/>
            <a:ext cx="81518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2720" y="1600200"/>
            <a:ext cx="81518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voked by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ree m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Command Mode: Press Esc; navigate through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Insert Mode: Press “i”, “o”, or “a”; changes can b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Execute Mode: Executes command from within editor, requires “:!”; ! Means do command forc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arch Mode:  “/” for forward search; “?” for revers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avigation: “h”,  “j”, “k”, l” or arrow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2720" y="228600"/>
            <a:ext cx="81518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2720" y="228600"/>
            <a:ext cx="81518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vi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1600200"/>
            <a:ext cx="81518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ange c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c3j: delets four lines and enters insert 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c + #oflines + 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lete d: Deletes current lines and lines belo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dd deletes line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ndo u: undo the previous com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ste p: copies lines/characters in the regist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ank y: cuts the line and puts it in the register (to be pasted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2720" y="228600"/>
            <a:ext cx="81518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vi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2720" y="1600200"/>
            <a:ext cx="81518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ange c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c3j: delets four lines and enters insert 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c + #oflines + 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lete d: Deletes current lines and lines belo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dd deletes line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ndo u: undo the previous com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ste p: copies lines/characters in the regist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ank y: cuts the line and puts it in the register (to be pasted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2720" y="228600"/>
            <a:ext cx="81518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iorit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2720" y="1600200"/>
            <a:ext cx="81518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s: Lists currently runn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PID (Process ID), TTY (Terminal), TIME (Time Running) , CMD (Command c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pstree: displays processes in a tree format; parent processes followed by their chil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p: displays processes in terms of priority, user, cpu usage, time run, and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ice: sets up the priority of the command; negative priorities are higher, require cl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nice: reprioritize process: renice priority P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2720" y="228600"/>
            <a:ext cx="81518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2720" y="1600200"/>
            <a:ext cx="81518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ill (sub-command): in “top” command, enter k, then PID to kill proc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g: displays # of jobs/commands that running in the backgrou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g: brings the job to the foregrou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ill (command): kill PID#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2720" y="228600"/>
            <a:ext cx="81518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cess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720" y="1600200"/>
            <a:ext cx="81518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ptime: provide basic operational information on curr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Droid Sans Fallback"/>
              </a:rPr>
              <a:t>current time, time running, number of users, load 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ree: displays current status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&amp; ampersand: allows access to command line interface while running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jobs: displays commands/jobs running in the background or currently susp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hup: runs a command with no stop, not interrupted by exit of terminal session, output redirected to nohup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12720" y="228600"/>
            <a:ext cx="815184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7: Manage and Maintain File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2720" y="1600200"/>
            <a:ext cx="81518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isk: partition table manip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Displays device file, partitions, location, blocks, sectors, heads of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isk dev/sd#: attain information on device file/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Linux Partrition: fdisk dev/sd#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: capacity report, measures capacity of currently mounted filesystems, displays blocks of memory, used/avail., mount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: reports directory space – memory occupied,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sck: file system check, used to repair corrupted files on unmount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e2fs: provides information on the ext2 and ext3 partitions in hard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