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B20631D-E17E-4F8B-BF4D-28B9C97AAA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EA90AD1-84A1-4B78-8E7A-0EF64BF5AC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79360" y="695160"/>
            <a:ext cx="462600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932040" y="44035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the way, IBM is not the only company discussing this with customers. In fact, when I first joined the team, I was told to go to Microsoft’s licensing web page and there, I found a webcast discussing licensing by the author of the Gartner Best Practices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FD8A8-EBF6-426F-AFC0-FBE9A6FD93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994040"/>
            <a:ext cx="77724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4100400"/>
            <a:ext cx="77724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91F11-FDDC-4DEC-86DB-8A1C858D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994040"/>
            <a:ext cx="3792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54120" y="1994040"/>
            <a:ext cx="3792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4100400"/>
            <a:ext cx="3792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54120" y="4100400"/>
            <a:ext cx="3792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C7C5A-C01B-439C-AD2F-340FAB9B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994040"/>
            <a:ext cx="2502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9440" y="1994040"/>
            <a:ext cx="2502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27080" y="1994040"/>
            <a:ext cx="2502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4100400"/>
            <a:ext cx="2502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99440" y="4100400"/>
            <a:ext cx="2502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27080" y="4100400"/>
            <a:ext cx="2502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62790-1C2F-405F-A7CB-E6BC2061E1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99404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B56A7-3BF1-46DB-8F17-07C89729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99404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47BE1-3AA9-4B9E-8152-5E0B84D9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994040"/>
            <a:ext cx="3792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54120" y="1994040"/>
            <a:ext cx="3792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71D7E-3255-4350-B21F-7089952A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96BBC-2AF2-4080-B96F-EA1CB24C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4A5B9-C42B-4B99-A12D-6C06543C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994040"/>
            <a:ext cx="3792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54120" y="1994040"/>
            <a:ext cx="3792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4100400"/>
            <a:ext cx="3792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918CB-713A-4D5E-8E9E-39477E2B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994040"/>
            <a:ext cx="3792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54120" y="1994040"/>
            <a:ext cx="3792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54120" y="4100400"/>
            <a:ext cx="3792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1B426-2A74-4FE4-B0EC-12D9D1A7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994040"/>
            <a:ext cx="3792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54120" y="1994040"/>
            <a:ext cx="3792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4100400"/>
            <a:ext cx="77724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1037A-EBE3-46F5-8DB9-D57911C2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5d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99404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5d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5da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5da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5da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7238520" y="652608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A940-58C5-47E8-AD5C-5C78FD35CB4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86680" y="357120"/>
            <a:ext cx="706320" cy="268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670720" y="125280"/>
            <a:ext cx="7174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2040" y="907560"/>
            <a:ext cx="8393040" cy="10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2920" y="194292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7800" indent="-307800">
              <a:lnSpc>
                <a:spcPct val="92000"/>
              </a:lnSpc>
              <a:spcBef>
                <a:spcPts val="224"/>
              </a:spcBef>
              <a:buSzPct val="100000"/>
              <a:buBlip>
                <a:blip r:embed="rId1"/>
              </a:buBlip>
              <a:tabLst>
                <a:tab algn="l" pos="307800"/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2000"/>
              </a:lnSpc>
              <a:spcBef>
                <a:spcPts val="201"/>
              </a:spcBef>
              <a:buSzPct val="100000"/>
              <a:buBlip>
                <a:blip r:embed="rId2"/>
              </a:buBlip>
              <a:tabLst>
                <a:tab algn="l" pos="307800"/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st1_su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84000"/>
              </a:lnSpc>
              <a:spcBef>
                <a:spcPts val="201"/>
              </a:spcBef>
              <a:buNone/>
              <a:tabLst>
                <a:tab algn="l" pos="307800"/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92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307800"/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2000"/>
              </a:lnSpc>
              <a:spcBef>
                <a:spcPts val="201"/>
              </a:spcBef>
              <a:buSzPct val="100000"/>
              <a:buBlip>
                <a:blip r:embed="rId4"/>
              </a:buBlip>
              <a:tabLst>
                <a:tab algn="l" pos="307800"/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st2-su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84000"/>
              </a:lnSpc>
              <a:spcBef>
                <a:spcPts val="201"/>
              </a:spcBef>
              <a:buNone/>
              <a:tabLst>
                <a:tab algn="l" pos="307800"/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92000"/>
              </a:lnSpc>
              <a:spcBef>
                <a:spcPts val="224"/>
              </a:spcBef>
              <a:buSzPct val="100000"/>
              <a:buBlip>
                <a:blip r:embed="rId5"/>
              </a:buBlip>
              <a:tabLst>
                <a:tab algn="l" pos="307800"/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2000"/>
              </a:lnSpc>
              <a:spcBef>
                <a:spcPts val="201"/>
              </a:spcBef>
              <a:buSzPct val="100000"/>
              <a:buBlip>
                <a:blip r:embed="rId6"/>
              </a:buBlip>
              <a:tabLst>
                <a:tab algn="l" pos="307800"/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st3_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2000"/>
              </a:lnSpc>
              <a:spcBef>
                <a:spcPts val="201"/>
              </a:spcBef>
              <a:buSzPct val="100000"/>
              <a:buBlip>
                <a:blip r:embed="rId7"/>
              </a:buBlip>
              <a:tabLst>
                <a:tab algn="l" pos="307800"/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st3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2000"/>
              </a:lnSpc>
              <a:spcBef>
                <a:spcPts val="201"/>
              </a:spcBef>
              <a:buSzPct val="100000"/>
              <a:buBlip>
                <a:blip r:embed="rId8"/>
              </a:buBlip>
              <a:tabLst>
                <a:tab algn="l" pos="307800"/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st3_2_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2000"/>
              </a:lnSpc>
              <a:spcBef>
                <a:spcPts val="201"/>
              </a:spcBef>
              <a:buSzPct val="100000"/>
              <a:buBlip>
                <a:blip r:embed="rId9"/>
              </a:buBlip>
              <a:tabLst>
                <a:tab algn="l" pos="307800"/>
                <a:tab algn="l" pos="420840"/>
                <a:tab algn="l" pos="878040"/>
                <a:tab algn="l" pos="1335240"/>
                <a:tab algn="l" pos="1792440"/>
                <a:tab algn="l" pos="2249640"/>
                <a:tab algn="l" pos="2706840"/>
                <a:tab algn="l" pos="3164040"/>
                <a:tab algn="l" pos="3621240"/>
                <a:tab algn="l" pos="4078440"/>
                <a:tab algn="l" pos="4535640"/>
                <a:tab algn="l" pos="49928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st3_2_2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3:52:53Z</dcterms:created>
  <dc:creator>Terry Quinn</dc:creator>
  <dc:description/>
  <dc:language>en-US</dc:language>
  <cp:lastModifiedBy>sunying</cp:lastModifiedBy>
  <dcterms:modified xsi:type="dcterms:W3CDTF">2012-07-04T02:02:10Z</dcterms:modified>
  <cp:revision>178</cp:revision>
  <dc:subject/>
  <dc:title>PowerPoint Presentation</dc:title>
</cp:coreProperties>
</file>