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DBD-39BD-4BA0-AFCF-A43C5279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062-326C-42B6-B974-A87CC021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E7A-74E6-4341-B8C1-8DEE4B47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E41-9F50-4E68-BF02-9A13A69D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C167-615B-4E27-A3C3-835A0EFF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5FFB-BFF2-4C07-846E-03804F75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BFCB-CB37-4404-865A-F4DDBD0E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84A3-1EAC-43BE-8E5B-ECFD85A9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EA38-41A9-446B-917D-0924E638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4813-623C-4CF0-B98D-F4C6D131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72BD-9510-4C2C-8179-F77FA82A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9A0-B484-47C8-B939-2796941D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7CCE-8E38-40F4-B0B8-C8ECE143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F26C-256B-47E9-AD9A-691D4F60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6AAF-AF70-4925-89AB-A593AA87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A54E-CD5A-4C82-9429-6CCFCEB4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128C-37EA-4260-9FB2-C43C3352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D63-787C-4C6F-B83C-60907C3A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271-0935-4555-B2BA-87D134D6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5E4-C4BF-4C19-B60F-B0F1DA42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DDE-759F-4D04-A1EC-DE59C5F6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7F3-CFE9-4334-8F1D-F7FB6B7D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D0C-1AE7-4BCB-92FA-A3C2EB9A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71E-D507-45EA-925E-C075A07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5BD2-0BA1-40BF-B856-397ED4908BA3}" type="slidenum"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B8F0-27E1-44AC-AACF-C70307F0A198}" type="slidenum">
              <a:rPr b="0" lang="hu-H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Times New Roman"/>
              </a:rPr>
              <a:t>Compaq cluster és storage a Magyar Posta Rt. SAP R3ndszerébe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őté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ladat és növekedés 1997-2000 közöt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frastruktúra és környez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chnológia és eszközö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iemelend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pasztalat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zolgálta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vábbi irány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eladat és növekedés 1997-2000 között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AP R/3 3.0F-3.1H FI,CO,MM,SD,HR modul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evesített/egyidejű on-line felhasználók: 15-szörö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roduktív adatbázis mérete egy 12-sze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yomtatók száma 50-szeres (!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ite-ok száma tízsze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Napi 12-14 óra dialógus üz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frastruktúra és környeze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zerverek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lhasználó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nden egyé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echnológia és eszközö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AP AG ajánlás szerinti három-rendszeres landsca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urboLaser és 4100-as kategóriájú szerver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FDDI gyűrű (!), Ethernet…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Digital Unix 3.2G..Tru64 Unix 4.0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SE (Failover cluster) 1.4- ASE 1.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BA 35x polcok…ESA 10000 tároló alrendsz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L895 5/96-os TZ89-es libr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iemelendő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LSM alapú tükrö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A alapú stripe-ol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dvFS fájlrendsz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Oracle adatbáz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apasztalato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SE kontra hálózati elem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dvFS: rendszerind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LSM: I/O és rendszerind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Tape library teljesítmé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SA 10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zolgáltatá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ital, majd Compaq mint hardver és rendszermenedzsment támogat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Üzemidőhöz igazodó karbantartási szerződ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vábbi irányo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P R/3 verzióváltáshoz kapcsolódó szerverbővítés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0:04:31Z</dcterms:created>
  <dc:creator>LilingZoltán</dc:creator>
  <dc:description/>
  <dc:language>en-US</dc:language>
  <cp:lastModifiedBy>LilingZoltán</cp:lastModifiedBy>
  <dcterms:modified xsi:type="dcterms:W3CDTF">2000-05-24T10:23:02Z</dcterms:modified>
  <cp:revision>2</cp:revision>
  <dc:subject/>
  <dc:title>Compaq cluster és storage a Magyar Posta Rt. SAP R3ndszerében</dc:title>
</cp:coreProperties>
</file>