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BAF-88E1-465A-8FB1-FF1813D2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64F-A0B7-40E9-8E33-1845E8DA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6E8-06A8-4049-8E25-214BD884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1D2-B37B-4E13-839A-2A7BDB52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B9BC-F2A5-4C86-95F5-BE03B25C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3EF3-6C1A-4F72-A6D1-68AE847E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4656-E805-4D46-8315-7B8CB720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B827-009B-403E-A19B-6B1D4804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0C13-8FEF-45C3-BDE5-C5A9722A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D41-E371-4BF5-AD2D-E8F6E8DC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FC2E-C1B2-421A-8B24-7643C3C6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8E2-EA9B-4962-93E3-7BE74B10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6B8E-956D-45BF-87BC-7C5E806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B10D-16A2-47C8-8295-85A9D899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D33F-285E-453F-BFBF-02AAA9E7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4779-9A79-4863-BCD1-B9C0E36B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9D7F-C813-436A-90B2-606C4556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CD9-AE7C-49FC-863F-EF565EFF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243-7FBE-4853-A228-3D7B4B85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CE1-C74D-476F-ABC9-457E17C4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389-2FC1-4011-A676-3B080409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B27-DDB2-4EB0-AA14-3174ED11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D4C-C868-4029-B6CF-17295DBE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EB1-A4A5-4816-ADAF-55F92182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0C77-385C-4CAA-ABD5-0F172F8BCD1E}" type="datetime">
              <a:rPr b="0" i="1" lang="en-US" sz="14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522A-3E72-4235-B9C3-9A4CB2DE2F6B}" type="slidenum">
              <a:rPr b="0" i="1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B929-3E29-4DEF-BCB6-2E89DD4E5C34}" type="datetime">
              <a:rPr b="0" i="1" lang="en-US" sz="14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56B2-5BC6-4A90-A353-05D528E87986}" type="slidenum">
              <a:rPr b="0" i="1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-85680" y="304920"/>
          <a:ext cx="9229680" cy="61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04920"/>
                    <a:ext cx="92296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7A2-394F-4430-9A85-6B4A4EA4353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CB100-FF91-4B54-B5C8-F17E8B70FC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9:51:52Z</dcterms:created>
  <dc:creator>CEC</dc:creator>
  <dc:description/>
  <dc:language>en-US</dc:language>
  <cp:lastModifiedBy>dujing</cp:lastModifiedBy>
  <cp:lastPrinted>2002-10-28T19:01:28Z</cp:lastPrinted>
  <dcterms:modified xsi:type="dcterms:W3CDTF">2012-05-30T07:22:33Z</dcterms:modified>
  <cp:revision>65</cp:revision>
  <dc:subject/>
  <dc:title>California Energy Commission’s MTBE Phase out Progress Report </dc:title>
</cp:coreProperties>
</file>