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492-9459-4421-9EE4-BD5EB864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1BC-10AD-4C1A-93BC-EA104BDF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0CE-C34F-4308-93FE-CABD841D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657-77AA-42D5-8430-22401F92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E2D-AEF0-4B95-A58A-069EE239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71A-0931-41AD-97CF-B2FF9EF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4B4-1772-4406-BC48-D4FCC607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CCAC-8FC5-4AE0-B61A-7216B7EE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3ABF-4745-44FA-AD8A-A05C403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48E-70AC-4C52-BB0B-8B607E17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4AD-382E-4C2F-9FB4-E25B607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CD6-EA75-4CA4-A691-2D25775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DAF-8AAA-4355-B2CF-88945F6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B9EC-4B5A-44D1-A841-1BF2E2F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5F7C-0B37-4811-B849-67DF5BE9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43CE-AFB7-4A6D-8A5C-B0614AD9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10B2-CA85-4BC6-8D5F-3C0C0DC8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96E-2D68-4B1C-A03B-32451F9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92C-7DAF-467C-923A-0298B5D9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D5F-DDBF-4BC8-A6EC-D99EAC1A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20F-5FAF-4AE9-A182-A10D4138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8F4-B78D-4996-8B8B-31ED2ED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90D-DC34-4549-9453-79E3B04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EF2-D17A-4A3C-B6E1-A61AD86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AcroRd.PIF DocRef1A.PDF" TargetMode="External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hyperlink" Target="TC.PIF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24360" y="6267600"/>
            <a:ext cx="895680" cy="51408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70AC-3F60-44B1-A09F-B1E225C2828F}" type="slidenum">
              <a:rPr b="1" lang="fr-FR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">
            <a:hlinkClick r:id="" action="ppaction://hlinkshowjump?jump=endshow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378240"/>
            <a:ext cx="533520" cy="49680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0" y="335268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4" name=""/>
          <p:cNvGraphicFramePr/>
          <p:nvPr/>
        </p:nvGraphicFramePr>
        <p:xfrm>
          <a:off x="560520" y="3898800"/>
          <a:ext cx="47916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520" y="3898800"/>
                    <a:ext cx="479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" name=""/>
          <p:cNvSpPr/>
          <p:nvPr/>
        </p:nvSpPr>
        <p:spPr>
          <a:xfrm>
            <a:off x="533520" y="388620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3366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66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8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5724360" y="6267600"/>
            <a:ext cx="895680" cy="514080"/>
          </a:xfrm>
          <a:prstGeom prst="rect">
            <a:avLst/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7B5B-5020-427C-AFC2-D64CD6811C04}" type="slidenum">
              <a:rPr b="1" lang="fr-FR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7.xml"/><Relationship Id="rId22" Type="http://schemas.openxmlformats.org/officeDocument/2006/relationships/slide" Target="slide17.xml"/><Relationship Id="rId23" Type="http://schemas.openxmlformats.org/officeDocument/2006/relationships/slide" Target="slide17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"/><Relationship Id="rId3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Informatique Industrielle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Programmation – Langage C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(I1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Université François Rabelais de Tours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I.U.T. département G.E.I.I.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1</a:t>
            </a:r>
            <a:r>
              <a:rPr b="0" lang="fr-FR" sz="2000" spc="-1" strike="noStrike" baseline="30000">
                <a:solidFill>
                  <a:srgbClr val="99ccff"/>
                </a:solidFill>
                <a:latin typeface="Arial Narrow"/>
              </a:rPr>
              <a:t>ère</a:t>
            </a: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 année – 1</a:t>
            </a:r>
            <a:r>
              <a:rPr b="0" lang="fr-FR" sz="2000" spc="-1" strike="noStrike" baseline="30000">
                <a:solidFill>
                  <a:srgbClr val="99ccff"/>
                </a:solidFill>
                <a:latin typeface="Arial Narrow"/>
              </a:rPr>
              <a:t>er</a:t>
            </a: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 semestre – S1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ccff"/>
                </a:solidFill>
                <a:latin typeface="Arial Narrow"/>
              </a:rPr>
              <a:t>2006/2007 – Pierre POISSON</a:t>
            </a:r>
            <a:endParaRPr b="0" lang="en-US" sz="2000" spc="-1" strike="noStrike">
              <a:solidFill>
                <a:srgbClr val="99ccff"/>
              </a:solidFill>
              <a:latin typeface="Arial Narrow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48160" y="3808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Bibliographi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219320"/>
            <a:ext cx="681192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DAX Philipp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4</a:t>
            </a:r>
            <a:r>
              <a:rPr b="0" lang="fr-FR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èm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édition, Eyrolles, 1986, 172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DELANNOY Claude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ivre du C premier langag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Eyrolles, 1996, 272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JAMSA Kris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Toute la puissance de C++ en quarante leçons, Elektor-Publitronic, 1999, 250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KERNIGHAN B.W. et RITCHIE D.M. 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Masson, 1984, 218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MALLET F. et BOERI F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–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Informatique industrielle et Java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Dunod, 2003, 176 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ZHANG T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CampusPress (collection : Le Tout En Poche), 02/2005, 480 pa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3440" y="2031840"/>
            <a:ext cx="8015040" cy="2963880"/>
          </a:xfrm>
          <a:prstGeom prst="rect">
            <a:avLst/>
          </a:prstGeom>
          <a:solidFill>
            <a:srgbClr val="8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et ouvrage intéressera celui qui désire maîtriser le langage C mais ne conviendra probablement pas à l'étudiant de 1</a:t>
            </a:r>
            <a:r>
              <a:rPr b="0" lang="fr-FR" sz="20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ère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année qui découvre le C. Ph. DAX s'adresse aux informaticiens, en particulier ceux qui connaissent Pasc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'introduction, dans laquelle Ph. DAX nous livre le point de vue d'un informaticien dans les années 1980, retient l'attention du lecteur. L'historique du langage C et ses particularités par rapport aux autres langages y sont clairement expliqué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'index de ce livre lui donne tout son intérêt car il permet d'obtenir rapidement des informations complémentaires sur un point donné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48160" y="3808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Bibliographi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68137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 action="ppaction://hlinksldjump"/>
              </a:rPr>
              <a:t>DAX Philippe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 action="ppaction://hlinksldjump"/>
              </a:rPr>
              <a:t> 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4" action="ppaction://hlinksldjump"/>
              </a:rPr>
              <a:t>Langage 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5" action="ppaction://hlinksldjump"/>
              </a:rPr>
              <a:t>, 4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6" action="ppaction://hlinksldjump"/>
              </a:rPr>
              <a:t>ème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7" action="ppaction://hlinksldjump"/>
              </a:rPr>
              <a:t> édition, 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8" action="ppaction://hlinksldjump"/>
              </a:rPr>
              <a:t>Eyrolles</a:t>
            </a:r>
            <a:r>
              <a:rPr b="0" lang="fr-FR" sz="20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  <a:hlinkClick r:id="rId9" action="ppaction://hlinksldjump"/>
              </a:rPr>
              <a:t>, 1986, 172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0" action="ppaction://hlinksldjump"/>
              </a:rPr>
              <a:t>DELANNOY Claude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1" action="ppaction://hlinksldjump"/>
              </a:rPr>
              <a:t>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2" action="ppaction://hlinksldjump"/>
              </a:rPr>
              <a:t>Le livre du C premier langage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3" action="ppaction://hlinksldjump"/>
              </a:rPr>
              <a:t>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4" action="ppaction://hlinksldjump"/>
              </a:rPr>
              <a:t>Eyrolles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5" action="ppaction://hlinksldjump"/>
              </a:rPr>
              <a:t>, 1996, 272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6" action="ppaction://hlinksldjump"/>
              </a:rPr>
              <a:t>JAMSA Kris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7" action="ppaction://hlinksldjump"/>
              </a:rPr>
              <a:t> – Toute la puissance de C++ en quarante leçons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8" action="ppaction://hlinksldjump"/>
              </a:rPr>
              <a:t>Elektor-Publitroni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9" action="ppaction://hlinksldjump"/>
              </a:rPr>
              <a:t>, 1999, 250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0" action="ppaction://hlinksldjump"/>
              </a:rPr>
              <a:t>KERNIGHAN B.W. et RITCHIE D.M.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1" action="ppaction://hlinksldjump"/>
              </a:rPr>
              <a:t>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2" action="ppaction://hlinksldjump"/>
              </a:rPr>
              <a:t>Le langage C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3" action="ppaction://hlinksldjump"/>
              </a:rPr>
              <a:t>, Masson, 1984, 218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4" action="ppaction://hlinksldjump"/>
              </a:rPr>
              <a:t>MALLET F. et BOERI F.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5" action="ppaction://hlinksldjump"/>
              </a:rPr>
              <a:t> –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6" action="ppaction://hlinksldjump"/>
              </a:rPr>
              <a:t>Informatique industrielle et Java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7" action="ppaction://hlinksldjump"/>
              </a:rPr>
              <a:t>,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8" action="ppaction://hlinksldjump"/>
              </a:rPr>
              <a:t>Dunod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9" action="ppaction://hlinksldjump"/>
              </a:rPr>
              <a:t>, 2003, 176 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 algn="just">
              <a:lnSpc>
                <a:spcPct val="100000"/>
              </a:lnSpc>
              <a:spcBef>
                <a:spcPts val="20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ZHANG T.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i="1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Le langage C</a:t>
            </a: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Arial"/>
              </a:rPr>
              <a:t>, CampusPress (collection : Le Tout En Poche), 02/2005, 480 pages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703440" y="2905200"/>
            <a:ext cx="8015040" cy="1803240"/>
          </a:xfrm>
          <a:prstGeom prst="rect">
            <a:avLst/>
          </a:prstGeom>
          <a:solidFill>
            <a:srgbClr val="8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ouvrages rédigés par Claude DELANNOY sur les langages informatiques, en particulier ceux abordant le C, sont considérés comme des références en la matièr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Les exemples y sont particulièrement bien choisis, de plus les exercices inclus permettent au lecteur de s'assurer de la bonne compréhension du cou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>
            <a:hlinkClick r:id="rId30" action="ppaction://hlinksldjump"/>
          </p:cNvPr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8:43:48Z</dcterms:created>
  <dc:creator>POISSON</dc:creator>
  <dc:description/>
  <dc:language>en-US</dc:language>
  <cp:lastModifiedBy>poisson</cp:lastModifiedBy>
  <dcterms:modified xsi:type="dcterms:W3CDTF">2008-09-14T14:13:53Z</dcterms:modified>
  <cp:revision>37</cp:revision>
  <dc:subject/>
  <dc:title>Informatique Industrielle Programmation – Langage C</dc:title>
</cp:coreProperties>
</file>