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5B1E-81B4-43D6-A0DF-82961288B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602D-9A0E-451A-92F8-C726FC78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6784-F204-41A4-A30B-528E04BA7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9234-8ECD-45F0-B63A-A50A6E22C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2D64-1487-4E5C-BF96-3BA24F44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7313-8943-4FCE-B01F-7F2F4BF6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C889-D6D3-43EB-A81F-D884207E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FA26-20F4-40AE-8959-5EFA2483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A9AC-2FF3-4C40-B75F-99DE65DF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1E94-7C49-4CE2-A8FC-0FF10587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C397-99D4-4268-972C-163DFD6B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BE03-B5DB-4D51-83CF-C58A322C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DBB0-D2FD-442C-8820-4FB77965E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56360" y="2708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あああああ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56360" y="33559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ああああ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56360" y="400536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あああああ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3456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ＣＪＫあああああああああああああ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31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ＣＪＫああああ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ＣＪＫあああああ。１２３４５６７８９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05:05:59Z</dcterms:created>
  <dc:creator>twotop</dc:creator>
  <dc:description/>
  <dc:language>en-US</dc:language>
  <cp:lastModifiedBy>twotop</cp:lastModifiedBy>
  <dcterms:modified xsi:type="dcterms:W3CDTF">2006-11-08T06:02:55Z</dcterms:modified>
  <cp:revision>8</cp:revision>
  <dc:subject/>
  <dc:title>スライド 1</dc:title>
</cp:coreProperties>
</file>