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789A-1DCD-4103-B5EC-F85584BB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DAF4-3981-4407-9F3D-61CBC81E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0766-0786-47BA-A5FC-84D0CB9C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E4F7-725B-476E-9060-0A15A388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36EF-3ABD-40C3-B4AF-C00811A4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8FE7-D32A-4247-AE08-A3E3BE19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0207-06B2-485B-95E8-EF6E1AB2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C64E-6E7D-43EA-92A4-87E6055F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E400-632C-4676-BDC5-809BACDE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7664-DAFB-447F-A4D2-9A195626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76D8-D93C-49C9-88D1-95231B41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F60F-790E-46C9-BC4C-744B4F8C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36F7-A704-41DD-9A93-6F228BB65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"/>
          <p:cNvSpPr/>
          <p:nvPr/>
        </p:nvSpPr>
        <p:spPr>
          <a:xfrm>
            <a:off x="3203640" y="2924280"/>
            <a:ext cx="647640" cy="5760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6:48:28Z</dcterms:created>
  <dc:creator>Ученик</dc:creator>
  <dc:description/>
  <dc:language>en-US</dc:language>
  <cp:lastModifiedBy>Ученик</cp:lastModifiedBy>
  <dcterms:modified xsi:type="dcterms:W3CDTF">2011-05-18T16:57:44Z</dcterms:modified>
  <cp:revision>3</cp:revision>
  <dc:subject/>
  <dc:title>Слайд 1</dc:title>
</cp:coreProperties>
</file>