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007-CB80-4115-8479-672113C8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0D9-021D-46EE-9CED-1A27E508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45B-27E5-4EDB-B7FE-2DF4E8C5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BB5-CB88-4088-B992-CC0867CE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637-F612-41FE-8299-A332551F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596-737F-48CD-BEE5-0FD106B9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506C-1588-4D88-AEE7-A850C2EA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2D0-649F-4C25-9C80-B44B78F7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697E-089C-4A27-A1CA-5E4F4C01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E63-8B65-4DA0-BD2B-F1B3C9E8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CA08-63C2-4B26-A7FC-EEA2C7A0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385-D2A5-4C7B-8F75-376ED7B0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DB68-BC3C-4BAA-9E72-9A53E45EDB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9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47640" y="1413000"/>
          <a:ext cx="609624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413000"/>
                    <a:ext cx="609624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5:47:19Z</dcterms:created>
  <dc:creator>Jason</dc:creator>
  <dc:description/>
  <dc:language>en-US</dc:language>
  <cp:lastModifiedBy>robin</cp:lastModifiedBy>
  <dcterms:modified xsi:type="dcterms:W3CDTF">2012-06-06T05:40:23Z</dcterms:modified>
  <cp:revision>88</cp:revision>
  <dc:subject/>
  <dc:title>幻灯片 1</dc:title>
</cp:coreProperties>
</file>