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31480" y="698400"/>
            <a:ext cx="4594680" cy="344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65360"/>
            <a:ext cx="54860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ior Management is responsible for creating and maintaining the Business Continuity Plan (BCP).  Departmental and front line management needs to focus on employee &amp; customer saf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87D-08E6-49CF-830C-170512E5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3D3-6A71-4381-AC5F-CBB327C1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CED-694E-4BE8-874A-6504B91A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5D5-69C9-4ECC-8502-23D918F5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D3E-3751-43B1-B137-21274F85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9432-00D9-4B20-BC4F-B75673CA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012-6BCF-4A1F-AA64-D521AA46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FE5-F151-421D-83D6-0B82A505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FE7D-62CC-4B39-8A87-4ACF8CEB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F3CE-694D-444E-A847-1032B494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9AA-DDDD-45C5-9170-3FADE7E8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DEC-D2C2-4BBC-95EE-F91B64F7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50A1-C5AE-436B-B202-B3899FEDB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70040" y="5538960"/>
            <a:ext cx="5612040" cy="34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2960" y="5891040"/>
            <a:ext cx="755172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7080" y="1536840"/>
            <a:ext cx="1600200" cy="373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28880" y="1530360"/>
            <a:ext cx="1582920" cy="36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5200" y="711360"/>
            <a:ext cx="7558200" cy="81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7800" y="806400"/>
            <a:ext cx="7512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CONTINUITY PLANNING (B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N INTEGRATED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9040" y="5910120"/>
            <a:ext cx="751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IC, FFIEC &amp; OCC 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4200" y="5270400"/>
            <a:ext cx="1611000" cy="62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3200" y="1662120"/>
            <a:ext cx="17571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TE/DEPT EMERGENCY ACTION P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e Prevention,  HAZMAT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orism Pla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3240" y="3440160"/>
            <a:ext cx="1792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3454560"/>
            <a:ext cx="15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5880" y="3652920"/>
            <a:ext cx="155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6160" y="3859200"/>
            <a:ext cx="156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5000" y="4057560"/>
            <a:ext cx="157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6160" y="4424400"/>
            <a:ext cx="157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62920" y="4862520"/>
            <a:ext cx="1461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CUS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Employe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amp; Customer Safe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5000" y="482436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7960" y="5330880"/>
            <a:ext cx="1533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HA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65600" y="1662120"/>
            <a:ext cx="153972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TE/DEPT CRISIS MANAGEMENT PLANS (BR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e manage a crisis that MIGHT turn into a true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55800" y="3919680"/>
            <a:ext cx="1621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IDENT CONTAIN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05120" y="4824360"/>
            <a:ext cx="15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52640" y="4843440"/>
            <a:ext cx="1473120" cy="4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CUS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Decision Making Process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06560" y="4313160"/>
            <a:ext cx="158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54360" y="4265640"/>
            <a:ext cx="162072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SPONSIBILITIE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IFICATIONS  &amp; ACTIV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4040" y="3560760"/>
            <a:ext cx="13464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ITIAL  DAM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811600" y="3944520"/>
            <a:ext cx="15508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7720" y="3522600"/>
            <a:ext cx="155268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26360" y="1531800"/>
            <a:ext cx="252360" cy="368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4723920" y="3246480"/>
            <a:ext cx="3679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l Records &amp; Critical Vendor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65600" y="1530360"/>
            <a:ext cx="1577880" cy="368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1662120"/>
            <a:ext cx="14637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TE/DEPT BUSINESS  RESUMPTION P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RP &amp; MSL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64160" y="4818240"/>
            <a:ext cx="15699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59480" y="4300560"/>
            <a:ext cx="16048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5080" y="3211560"/>
            <a:ext cx="16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0400" y="319104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OVERY STRATEGIES APPROVED BY SR. 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53000" y="4270320"/>
            <a:ext cx="16002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AGEMENT GUIDANCE &amp; ANALYS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51200" y="3919680"/>
            <a:ext cx="156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24520" y="1528920"/>
            <a:ext cx="567000" cy="37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67640" y="1536840"/>
            <a:ext cx="252360" cy="368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5610960" y="3528000"/>
            <a:ext cx="297180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formation Systems, Telecommun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l Room  and Item Proces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06560" y="3149640"/>
            <a:ext cx="155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595560" y="3321000"/>
            <a:ext cx="239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ty of Company Execu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720" y="3637080"/>
            <a:ext cx="14032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2040" y="3835440"/>
            <a:ext cx="11682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VACU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3240" y="4016520"/>
            <a:ext cx="1792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ERGENCY RESPON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9120" y="4425840"/>
            <a:ext cx="14810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PLOYEE TRAIN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5040" y="3059280"/>
            <a:ext cx="1792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SCALATION TO 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4720" y="3095640"/>
            <a:ext cx="15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59480" y="2763720"/>
            <a:ext cx="1600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RITTEN PRO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OVERY PLA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5080" y="2701800"/>
            <a:ext cx="161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9760" y="3902040"/>
            <a:ext cx="1548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ITICAL PROCESS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70120" y="5224320"/>
            <a:ext cx="5467320" cy="32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57600" y="5514840"/>
            <a:ext cx="534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IMPACT ANALYSI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dentify Process Owners, Information System Dependencies, Financial Impact, Maximum Allowable Downtim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90720" y="3132000"/>
            <a:ext cx="16495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 BUS. CONT. TE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94000" y="5262480"/>
            <a:ext cx="432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 &amp; VULNERABILITIES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13720" y="1728720"/>
            <a:ext cx="62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DR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4800600"/>
            <a:ext cx="16761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CUS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Customers &amp; Business Revenu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6172200"/>
            <a:ext cx="7772400" cy="32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6248520"/>
            <a:ext cx="723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PORATE AND BUSINESS UNIT 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6T15:38:13Z</dcterms:created>
  <dc:creator>Carl M. Evans</dc:creator>
  <dc:description/>
  <dc:language>en-US</dc:language>
  <cp:lastModifiedBy>Carl M. Evans</cp:lastModifiedBy>
  <cp:lastPrinted>2000-05-09T18:18:05Z</cp:lastPrinted>
  <dcterms:modified xsi:type="dcterms:W3CDTF">2004-09-13T20:04:26Z</dcterms:modified>
  <cp:revision>20</cp:revision>
  <dc:subject/>
  <dc:title>BCP Pillar Chart</dc:title>
</cp:coreProperties>
</file>