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A47-1E46-4DD8-AC9A-375681E8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913-D747-4663-96BC-36877B3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3AB-782B-44B7-8158-A8F39971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DE9-5AD4-45E5-A292-641EBB4F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2F7-79C8-4BE0-B849-409E3B9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1E6-0E72-4BBA-8E4E-8FFD2E7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28B-3351-4A0B-9233-7F00A61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297-4839-43CB-8D3C-3C666297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565-FA47-438E-8077-34F75DB3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279-D043-4E18-8C54-CF8EE3C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3EF-24FB-4B63-8B30-B360FFD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5DB-2DFB-4950-A86F-43D2BE5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28600" y="61722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3F2-C641-4B38-9A54-EE1ADF7E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447920"/>
            <a:ext cx="2819160" cy="3504600"/>
            <a:chOff x="990720" y="1447920"/>
            <a:chExt cx="2819160" cy="3504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720" y="3051360"/>
              <a:ext cx="2819160" cy="190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90720" y="1447920"/>
              <a:ext cx="2819160" cy="16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435680" y="2492640"/>
              <a:ext cx="193068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43800" y="304920"/>
            <a:ext cx="1600200" cy="55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962520" y="1371600"/>
            <a:ext cx="3886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WELCOM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ALL OF YOU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GLISHIS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EL GIB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EX R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771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° MASTER GESTIONE E STRATEGIA D’IMPRE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eiilogo120" descr=""/>
          <p:cNvPicPr/>
          <p:nvPr/>
        </p:nvPicPr>
        <p:blipFill>
          <a:blip r:embed="rId5"/>
          <a:stretch/>
        </p:blipFill>
        <p:spPr>
          <a:xfrm>
            <a:off x="0" y="304920"/>
            <a:ext cx="1752480" cy="61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0" name="logo_business_school_vert" descr=""/>
          <p:cNvPicPr/>
          <p:nvPr/>
        </p:nvPicPr>
        <p:blipFill>
          <a:blip r:embed="rId6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logo_business_school_vert" descr=""/>
          <p:cNvPicPr/>
          <p:nvPr/>
        </p:nvPicPr>
        <p:blipFill>
          <a:blip r:embed="rId7"/>
          <a:stretch/>
        </p:blipFill>
        <p:spPr>
          <a:xfrm>
            <a:off x="8391600" y="4884840"/>
            <a:ext cx="75240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logo_business_school_vert" descr=""/>
          <p:cNvPicPr/>
          <p:nvPr/>
        </p:nvPicPr>
        <p:blipFill>
          <a:blip r:embed="rId8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8DA-984D-4E99-AB6D-592B518317C7}" type="slidenum">
              <a:t>1</a:t>
            </a:fld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981080"/>
            <a:ext cx="5715000" cy="21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ENGLISHISHI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UN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PUT /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4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5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498-69E3-4ECA-9524-97D1FA9F288A}" type="slidenum">
              <a:t>10</a:t>
            </a:fld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1600200"/>
            <a:ext cx="57150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08" name=""/>
          <p:cNvSpPr/>
          <p:nvPr/>
        </p:nvSpPr>
        <p:spPr>
          <a:xfrm>
            <a:off x="2590920" y="1447920"/>
            <a:ext cx="5943600" cy="39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MMUNICAT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SPOKE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VOCABULARY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LATED TO THI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  <a:tab algn="l" pos="9150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CUS ON GRAMMAR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D LANGUAGE USE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  <a:tab algn="l" pos="8734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1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2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F8B-8F2B-470E-8B4D-41CD4B89FBDD}" type="slidenum">
              <a:t>11</a:t>
            </a:fld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24080" y="1447920"/>
            <a:ext cx="5715000" cy="248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PUT / 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PUT = TH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TION WE WILL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SS ON TO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UTPUT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YOUR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USE OF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acher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7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8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73D-09F8-4E26-B411-EBED0029D25C}" type="slidenum">
              <a:t>12</a:t>
            </a:fld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3200" y="1828800"/>
            <a:ext cx="533412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D05378_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3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4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F81-399C-46C8-B1F7-9CBC8C892241}" type="slidenum">
              <a:t>13</a:t>
            </a:fld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9320" y="1219320"/>
            <a:ext cx="7543800" cy="357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PRE-COURSE LEVE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END OF COURSE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END OF COURS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72404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9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0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2BE-0573-4728-8C53-2E36B3528BA1}" type="slidenum">
              <a:t>14</a:t>
            </a:fld>
          </a:p>
        </p:txBody>
      </p: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1219320"/>
            <a:ext cx="7315200" cy="311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PRE-COURSE LEVEL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ESTABLISH YOU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PLACE YOU IN THE B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5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6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4FC-7998-46A6-9D33-6F36CB16893D}" type="slidenum">
              <a:t>15</a:t>
            </a:fld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219320"/>
            <a:ext cx="6324480" cy="381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19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END OF COURSE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 ORAL EXAMINATION IN WHICH YOU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 YOUR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SWER QUESTIONS ABOUT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CUSS YOUR 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1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2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0A5-73B1-4382-BE81-DCA408EAD343}" type="slidenum">
              <a:t>16</a:t>
            </a:fld>
          </a:p>
        </p:txBody>
      </p:sp>
    </p:spTree>
  </p:cSld>
  <p:transition spd="med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0" y="1219320"/>
            <a:ext cx="6324480" cy="325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END OF COURS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REPORT WILL HELP YOU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DENTIFY YOUR STRENGTHS AN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Verdana"/>
              <a:buChar char="o"/>
              <a:tabLst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  <a:tab algn="l" pos="4900680"/>
                <a:tab algn="l" pos="5133960"/>
                <a:tab algn="l" pos="5367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 FUTURE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examinations" descr=""/>
          <p:cNvPicPr/>
          <p:nvPr/>
        </p:nvPicPr>
        <p:blipFill>
          <a:blip r:embed="rId1"/>
          <a:stretch/>
        </p:blipFill>
        <p:spPr>
          <a:xfrm>
            <a:off x="0" y="19051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7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8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4E1-D4C7-4A22-B3E8-22B10CD50D88}" type="slidenum">
              <a:t>17</a:t>
            </a:fld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1143000"/>
            <a:ext cx="8153640" cy="46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Final thou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  <a:ea typeface="HG Mincho Light J"/>
              </a:rPr>
              <a:t>'The roots of education are bitter, but the fruits are sweet.'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  <a:ea typeface="HG Mincho Light J"/>
              </a:rPr>
              <a:t>Artisto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Le radici dell’istruzione sono am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 i frutti sono dolci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eiilogo120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3" name="logo_business_school_vert" descr=""/>
          <p:cNvPicPr/>
          <p:nvPr/>
        </p:nvPicPr>
        <p:blipFill>
          <a:blip r:embed="rId3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DF7-6D33-448E-B3E9-8DAB1157E70D}" type="slidenum">
              <a:t>18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447920"/>
            <a:ext cx="6096240" cy="35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’IMPRE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6" name="eiilogo120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7" name="logo_business_school_vert" descr=""/>
          <p:cNvPicPr/>
          <p:nvPr/>
        </p:nvPicPr>
        <p:blipFill>
          <a:blip r:embed="rId3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640-BE6A-43EA-8BE4-B1241F185B53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1676520"/>
            <a:ext cx="5029200" cy="292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5378_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362320" cy="1855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2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04C-A128-489C-9F62-1A454F5E4968}" type="slidenum">
              <a:t>3</a:t>
            </a:fld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905120"/>
            <a:ext cx="51814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EL GIB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LEX R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acher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14600" cy="228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8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9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27C-D7F8-4711-95AF-E8B6FEB318B9}" type="slidenum">
              <a:t>4</a:t>
            </a:fld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5120" y="1676520"/>
            <a:ext cx="7238880" cy="262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D05378_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4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75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EFB-80B0-4AB0-9AE6-B66AF38C608E}" type="slidenum">
              <a:t>5</a:t>
            </a:fld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rget2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2286000" cy="216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1523880"/>
            <a:ext cx="8153640" cy="33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develop your ability to use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it-IT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i="1" lang="en-GB" sz="3200" spc="-1" strike="noStrike">
                <a:solidFill>
                  <a:srgbClr val="ffffff"/>
                </a:solidFill>
                <a:latin typeface="Verdana"/>
              </a:rPr>
              <a:t>poken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English in business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expand your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To help you express your ideas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learly and eff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0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1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AC1-8E55-42E5-80B1-C29E1828EFD2}" type="slidenum">
              <a:t>6</a:t>
            </a:fld>
          </a:p>
        </p:txBody>
      </p:sp>
    </p:spTree>
  </p:cSld>
  <p:transition spd="slow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6880" y="1981080"/>
            <a:ext cx="518184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D05378_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1676160" cy="1855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6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7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495-4D1D-4649-919F-29E24B438215}" type="slidenum">
              <a:t>7</a:t>
            </a:fld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752480"/>
            <a:ext cx="8153280" cy="24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YOUR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ATTEMPT TO USE ENGLISH AT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RY OPPORT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BE PROA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tudents2" descr=""/>
          <p:cNvPicPr/>
          <p:nvPr/>
        </p:nvPicPr>
        <p:blipFill>
          <a:blip r:embed="rId1"/>
          <a:stretch/>
        </p:blipFill>
        <p:spPr>
          <a:xfrm>
            <a:off x="6477120" y="762120"/>
            <a:ext cx="2457360" cy="1527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2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3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07B-B1CC-49F5-9D9B-3F80E506A674}" type="slidenum">
              <a:t>8</a:t>
            </a:fld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66880" y="1905120"/>
            <a:ext cx="4724640" cy="27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TU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IMS AND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YOUR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D05378_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167652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° MASTER GESTIONE E STRATEGIA D'IMPRESA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BUSINESS ENGLISH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181160" cy="40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8" name="eiilogo120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295280" cy="45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99" name="logo_business_school_vert" descr=""/>
          <p:cNvPicPr/>
          <p:nvPr/>
        </p:nvPicPr>
        <p:blipFill>
          <a:blip r:embed="rId4"/>
          <a:stretch/>
        </p:blipFill>
        <p:spPr>
          <a:xfrm>
            <a:off x="8391600" y="4876920"/>
            <a:ext cx="75240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A52-4277-4035-92B9-B0DE592D84C7}" type="slidenum">
              <a:t>9</a:t>
            </a:fld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14:51:30Z</dcterms:created>
  <dc:creator>a</dc:creator>
  <dc:description/>
  <dc:language>en-US</dc:language>
  <cp:lastModifiedBy>a</cp:lastModifiedBy>
  <dcterms:modified xsi:type="dcterms:W3CDTF">2005-01-24T21:31:51Z</dcterms:modified>
  <cp:revision>41</cp:revision>
  <dc:subject/>
  <dc:title>2° MASTER – BANCA FINANZA &amp; MERCATI  BUSINESS ENGLISH </dc:title>
</cp:coreProperties>
</file>