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A37-4BCC-453F-8DE9-A78720AC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742-30DC-4749-B84F-A8E4B126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12D-A682-4DE2-A66C-03F26291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365-A4B2-4BEA-9CC6-FE4E2001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6BB-8A9B-4D94-95E3-47D0CDAE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A12-40D1-46B9-BE03-622D5473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3A1-658C-45D8-9742-64BD8AF9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D06-56EA-4D62-BB4D-9DF7A107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1B2-46E2-47DA-982B-983CC2F0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DAA-98EC-4B73-B6C1-BEC6134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BF6-9791-438A-874F-147CCF6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D06-D209-4C84-9A09-3A7F21A2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DACA-77A8-46FB-8551-D5585406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1.wmf"/><Relationship Id="rId11" Type="http://schemas.openxmlformats.org/officeDocument/2006/relationships/image" Target="../media/image3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3.wmf"/><Relationship Id="rId16" Type="http://schemas.openxmlformats.org/officeDocument/2006/relationships/image" Target="../media/image4.wmf"/><Relationship Id="rId17" Type="http://schemas.openxmlformats.org/officeDocument/2006/relationships/image" Target="../media/image3.wmf"/><Relationship Id="rId18" Type="http://schemas.openxmlformats.org/officeDocument/2006/relationships/image" Target="../media/image4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8320" y="1330200"/>
            <a:ext cx="1092240" cy="80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812960" y="3962520"/>
          <a:ext cx="96840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2960" y="3962520"/>
                    <a:ext cx="9684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" name=""/>
          <p:cNvGrpSpPr/>
          <p:nvPr/>
        </p:nvGrpSpPr>
        <p:grpSpPr>
          <a:xfrm>
            <a:off x="2647800" y="3859200"/>
            <a:ext cx="400320" cy="331920"/>
            <a:chOff x="2647800" y="3859200"/>
            <a:chExt cx="400320" cy="33192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647800" y="3859200"/>
              <a:ext cx="4003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727720" y="3956760"/>
              <a:ext cx="192240" cy="78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7" name=""/>
          <p:cNvGraphicFramePr/>
          <p:nvPr/>
        </p:nvGraphicFramePr>
        <p:xfrm>
          <a:off x="1841400" y="5168880"/>
          <a:ext cx="911160" cy="77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41400" y="5168880"/>
                    <a:ext cx="911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8000" y="365040"/>
            <a:ext cx="65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erarchy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Di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ram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of SECOM EV SSL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9080" y="4876920"/>
            <a:ext cx="1514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V SSL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717640" y="5154480"/>
            <a:ext cx="400320" cy="331920"/>
            <a:chOff x="2717640" y="5154480"/>
            <a:chExt cx="400320" cy="331920"/>
          </a:xfrm>
        </p:grpSpPr>
        <p:pic>
          <p:nvPicPr>
            <p:cNvPr id="52" name="" descr=""/>
            <p:cNvPicPr/>
            <p:nvPr/>
          </p:nvPicPr>
          <p:blipFill>
            <a:blip r:embed="rId8"/>
            <a:stretch/>
          </p:blipFill>
          <p:spPr>
            <a:xfrm>
              <a:off x="2717640" y="5154480"/>
              <a:ext cx="4003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9"/>
            <a:stretch/>
          </p:blipFill>
          <p:spPr>
            <a:xfrm>
              <a:off x="2797560" y="5252040"/>
              <a:ext cx="192240" cy="7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" name=""/>
          <p:cNvCxnSpPr>
            <a:stCxn id="41" idx="2"/>
            <a:endCxn id="55" idx="0"/>
          </p:cNvCxnSpPr>
          <p:nvPr/>
        </p:nvCxnSpPr>
        <p:spPr>
          <a:xfrm flipH="1">
            <a:off x="2298600" y="2133720"/>
            <a:ext cx="1620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5" idx="2"/>
          </p:cNvCxnSpPr>
          <p:nvPr/>
        </p:nvCxnSpPr>
        <p:spPr>
          <a:xfrm flipH="1">
            <a:off x="2296800" y="350532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>
            <a:off x="2296800" y="4770000"/>
            <a:ext cx="108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1752480" y="2701800"/>
            <a:ext cx="1092240" cy="80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297180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newly construc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New root - FEB8 C432 DCF9 769A CEAE 3DD8 908F FD28 8665 647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906640" y="1649520"/>
            <a:ext cx="399960" cy="331560"/>
            <a:chOff x="2906640" y="1649520"/>
            <a:chExt cx="399960" cy="331560"/>
          </a:xfrm>
        </p:grpSpPr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2906640" y="1649520"/>
              <a:ext cx="39996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2"/>
            <a:stretch/>
          </p:blipFill>
          <p:spPr>
            <a:xfrm>
              <a:off x="2986560" y="1747080"/>
              <a:ext cx="191880" cy="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103560" y="1219320"/>
            <a:ext cx="565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Communication RootCA1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Self sig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844720" y="3021120"/>
            <a:ext cx="399960" cy="331560"/>
            <a:chOff x="2844720" y="3021120"/>
            <a:chExt cx="399960" cy="331560"/>
          </a:xfrm>
        </p:grpSpPr>
        <p:pic>
          <p:nvPicPr>
            <p:cNvPr id="65" name="" descr=""/>
            <p:cNvPicPr/>
            <p:nvPr/>
          </p:nvPicPr>
          <p:blipFill>
            <a:blip r:embed="rId13"/>
            <a:stretch/>
          </p:blipFill>
          <p:spPr>
            <a:xfrm>
              <a:off x="2844720" y="3021120"/>
              <a:ext cx="39996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4"/>
            <a:stretch/>
          </p:blipFill>
          <p:spPr>
            <a:xfrm>
              <a:off x="2924640" y="3118680"/>
              <a:ext cx="191880" cy="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118320" y="2600280"/>
            <a:ext cx="572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Communication EV RootCA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Self sig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671920" y="1143000"/>
            <a:ext cx="399960" cy="331920"/>
            <a:chOff x="2671920" y="1143000"/>
            <a:chExt cx="399960" cy="331920"/>
          </a:xfrm>
        </p:grpSpPr>
        <p:pic>
          <p:nvPicPr>
            <p:cNvPr id="69" name="" descr=""/>
            <p:cNvPicPr/>
            <p:nvPr/>
          </p:nvPicPr>
          <p:blipFill>
            <a:blip r:embed="rId15"/>
            <a:stretch/>
          </p:blipFill>
          <p:spPr>
            <a:xfrm>
              <a:off x="2671920" y="1143000"/>
              <a:ext cx="39996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6"/>
            <a:stretch/>
          </p:blipFill>
          <p:spPr>
            <a:xfrm>
              <a:off x="2751840" y="1240560"/>
              <a:ext cx="191880" cy="7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384720" y="1554480"/>
            <a:ext cx="48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36B1 2B49 F981 9ED7 4C9E BC38 0FC6 568F 5DAC B2F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Already embedded on firef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8640" y="429084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V SSL IssuingC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89840" y="3618000"/>
            <a:ext cx="97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oss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480" y="3975840"/>
            <a:ext cx="38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M Passport for Web EV 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9000" y="2133720"/>
            <a:ext cx="97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oss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666880" y="2362320"/>
            <a:ext cx="400320" cy="331560"/>
            <a:chOff x="2666880" y="2362320"/>
            <a:chExt cx="400320" cy="331560"/>
          </a:xfrm>
        </p:grpSpPr>
        <p:pic>
          <p:nvPicPr>
            <p:cNvPr id="77" name="" descr=""/>
            <p:cNvPicPr/>
            <p:nvPr/>
          </p:nvPicPr>
          <p:blipFill>
            <a:blip r:embed="rId17"/>
            <a:stretch/>
          </p:blipFill>
          <p:spPr>
            <a:xfrm>
              <a:off x="2666880" y="2362320"/>
              <a:ext cx="40032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8"/>
            <a:stretch/>
          </p:blipFill>
          <p:spPr>
            <a:xfrm>
              <a:off x="2746800" y="2459880"/>
              <a:ext cx="192240" cy="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1447920" y="1295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18288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SL certifica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 sig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crypted e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27432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89480"/>
            <a:ext cx="144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V SSL certifica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76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4,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加毛　寿</cp:lastModifiedBy>
  <dcterms:modified xsi:type="dcterms:W3CDTF">2008-01-24T10:06:4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