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735-6717-45F2-9566-7806DC76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AB0-8689-42F6-BFD6-BABE09AE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045-8F0D-4F2C-8364-11DB72B4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5B5-26DD-4B1F-A9D2-566F4FB3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5DE-46CE-4BA0-A13F-095BEDCE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1E28-D955-4D4D-887F-EE5CD2D8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0CA4-1071-403D-9C62-18F10143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80D-ABB9-4CF8-9253-03AC1470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987-045D-4CCA-9674-BCEB9E3D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A70-39F1-44D2-B9AC-4F602868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BDA-CEB8-4811-B395-03CF42E2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A84-7EF1-4D10-B4A2-42EDA6E3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A4DD3-6239-429A-AF2C-124B40A9F2C4}" type="slidenum">
              <a:rPr b="0" lang="bg-BG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Запознаване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Алфрес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Managing and Configuring a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1. Managing sit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e a new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ite visibilit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ntering a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earching for sit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diting site detail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leting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pecifying favorite sit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Managing and Configuring a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ite membership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Joining and leaving a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nternal and external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nternal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xternal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Roles and permiss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Managing and Configuring a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Managing site membership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nviting members to the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Alfresco to send outbound e-mail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dding groups to a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How users can see which sites they are currently members of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hanging the role of a site member or site group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Removing a site member or site group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Configuring a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ite pag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ocument Librar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alenda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iscuss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ata lis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Configuring a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ustomizing site pag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o remove a page from the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o add a page to the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o rename a page of a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How to apply themes for a particular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ite Dashboard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ashle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ustomizing Site Dashboard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Collaboration Features in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1. The wiki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How to access the wiki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Browsing the wiki pag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the wiki main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a new wiki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diting a wiki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Renaming a wiki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leting a wiki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Viewing the wiki page detail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Collaboration Features in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he Blog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How to access a Blog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Browsing the blo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a blog pos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diting a blog pos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Viewing a blog pos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leting a blog pos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the external blo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Publishing a post to an external blo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Working with commen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dding a comment to a pos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diting a comm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leting a comm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Data 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3240" y="1768320"/>
            <a:ext cx="88696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ata Lis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How to access Data Lis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a new lis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diting list detail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leting a lis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List item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a list item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ctions for the list item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Cale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ite Calenda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dding an ev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Cal feed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Building a Corporate Collabora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2000"/>
          </a:bodyPr>
          <a:p>
            <a:pPr marL="818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8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Alfresco 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Collaboration capabilities of Alfresco Share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Document library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Calendar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Discussions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Lists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Strategizing for developing efficient collaboration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Business context definition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Organization structuring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8640" indent="-28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Be specif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Document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1. The Document Library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2.Creating folders and folder hierarch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3.Uploading files and creating documen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content in the Document Librar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ploading Content in the Document Librar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ocument details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mment on a docum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Permiss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Workflow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Document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3000"/>
          </a:bodyPr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ocument act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ocument versionin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pload a new version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pdating a new version after editin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nline editin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Online edi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Offline editin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humbnails and universal viewing with web preview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agging documen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earch for documen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Implementing Work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1. Introduction to the Alfresco workflow proces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imple workflow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Out-of-the-box featur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fining and using simple workflow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dentifing spaces and securit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fining the workflow proces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dding a simple workflow to item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ending notifications to reviewers for approval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esting the simple work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ccessing the Repositor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Implementing Work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3. Advanced workflow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Workflow user interact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Out-of-the-box featur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4.Out-of-the-box features of the workflow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New inbox dashle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Viewing the workflow detail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Reassigning a task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ave and Clos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Workflow information in the document details pag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Благодаря за вниманиет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Benefiting with Alfresco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176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5000"/>
          </a:bodyPr>
          <a:p>
            <a:pPr marL="1023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Benefiting with Alfresco Shar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ypes of Alfresco Share collaboration sit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-357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eam collaboration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-357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xternal collaboration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 Case Study to explain Alfresco Share as a collaborative framework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nderstanding the requiremen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nderstanding the users of the marketing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-357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nternal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3480" indent="-357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xternal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49000"/>
          </a:bodyPr>
          <a:p>
            <a:pPr marL="771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1. Installation and Configuration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2. Which installation option is suitable for you?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nterprise and community edit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-269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Operating Systems—Windows, Linux, UNIX, MacO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-269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atabases—Oracle, MS SQL Server, PostgreSQL, Apache iBATI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-269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pplication servers—Tomcat, JBos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-269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Portals (optional)—JBoss Portal, Lifera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3. Accessing the application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4.Software requirement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Production environment verification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-269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rchitecture validation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-269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Validating the environm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1480" indent="-269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nstalla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Alfresco Shar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8000"/>
          </a:bodyPr>
          <a:p>
            <a:pPr marL="780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1. An overview of the Alfresco Repositor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2. The Spring Surf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3. The Alfresco Share structur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4. Working with the Alfresco Share Surf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5. How data is stored in the Alfresco Repository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6. Share configuration architectur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-31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hare configurat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-31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Extending Shar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-31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Overview of SurfBu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-31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JavaScript minification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-31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JavaScript debuggin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9. Applications using the Alfresco Surf platform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Administering Share and Configuring Authentication Ac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5000"/>
          </a:bodyPr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1. The Alfresco security model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sers and group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uthentication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2. Managing system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new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earching for people using People Finde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Searching by property from the People Finder compon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pdating a user profil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-30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pdating another user's profil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-30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pdating the user's own profil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pdating a user's statu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leting a use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isabling a use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5800" indent="-30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Importing user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Administering Share and Configuring Authentication Ac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3000"/>
          </a:bodyPr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Managing group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group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reating a sub group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Managing group membership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Deleting group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The users of the marketing site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User dashboard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ustomizing the personal dashboard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hange the dashboard layou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e dashlets and display orde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Administering Share and Configuring Authentication Ac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3000"/>
          </a:bodyPr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authentication subsystem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LDAP for centralized identity managem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LDAP configuration with Active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dministrative funct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them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List of themes available out-of-the-box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hanging the Alfresco logo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Managing categori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Node browse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Managing deleted item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tent publishin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Repository featur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Administering Share and Configuring Authentication Ac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3000"/>
          </a:bodyPr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authentication subsystem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LDAP for centralized identity management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LDAP configuration with Active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Administrative function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figuring them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List of themes available out-of-the-box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hanging the Alfresco logo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Managing categori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Node browser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Managing deleted item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Content publishing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Repository feature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7:47:09Z</dcterms:created>
  <dc:creator>Krasimir Ivanov</dc:creator>
  <dc:description/>
  <dc:language>en-US</dc:language>
  <cp:lastModifiedBy/>
  <cp:revision>0</cp:revision>
  <dc:subject/>
  <dc:title/>
</cp:coreProperties>
</file>