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A55-3D73-4E85-A6A2-9378D16A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340-23A1-48F3-817D-81B08027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BAF-818D-4E74-8190-F23D571B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CE3-0C1F-4137-BD4F-27644F5A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5B3-106B-44B3-95DA-65C13C8C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01C-0A16-422A-8DD7-87842F9B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EB0-89CF-47EA-AE33-1DC9F9B3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032-615E-4557-AD83-BCCD9B17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766-A96F-405A-B32A-46B576CD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ADD-85C7-4606-886E-7E6AEB1B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150-E49E-4BD9-A233-9DE8EA87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C67-8E8B-4657-9F23-16843B87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DBE9-25C4-4583-9185-84EEC99C8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 Vertical He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serial.JPG"/>
          <p:cNvPicPr/>
          <p:nvPr/>
        </p:nvPicPr>
        <p:blipFill>
          <a:blip r:embed="rId1"/>
          <a:stretch/>
        </p:blipFill>
        <p:spPr>
          <a:xfrm>
            <a:off x="2743200" y="3581280"/>
            <a:ext cx="374796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7:51:55Z</dcterms:created>
  <dc:creator>Luke Benes</dc:creator>
  <dc:description/>
  <dc:language>en-US</dc:language>
  <cp:lastModifiedBy>Luke Benes</cp:lastModifiedBy>
  <dcterms:modified xsi:type="dcterms:W3CDTF">2014-02-06T21:07:15Z</dcterms:modified>
  <cp:revision>2</cp:revision>
  <dc:subject/>
  <dc:title>Slide 1</dc:title>
</cp:coreProperties>
</file>