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208B8-FBF6-42CC-9385-6690393F4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7A578-F884-4F35-857B-FB0B77239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5812D-9EA5-4AB7-9C9A-8FAFE6584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900A3-BD8C-47EF-AC6D-FA7EAD473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B4B70-EFCA-4C28-9722-1EDA5ECF6E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341D9-C63C-4F04-8095-53EE671259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65BE2-AAAA-4EEB-9E7C-3C722982D7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70F3B-F4FC-4E63-86E4-2207F520CE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F7F1F-56F4-4D3D-A50D-5814ECD414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4F4B0-9F27-418E-BADE-470964638D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EEDD8-6874-439C-A9AD-1CECC2B852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CF5B-9D06-4222-8847-C131CFD32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8926F-55C7-40CB-B462-ECAFC5E3D3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156FE-642A-4A45-95D4-5C702B0D53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0B344-CE07-4CAF-80D8-D1639F9B48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EA4FA-ABA2-4EE8-AFC8-38A6FFE91C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D65D7-B425-4338-AE13-5F5DC3542D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B7D78B-F0FC-4250-B2C8-C62CB3BB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B96175-D425-4CE2-8DE5-E8DD40F7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92DD17-BE69-481F-917F-B507A899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A7247C-AE12-4D61-AE0F-E0C53806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E45F04-8844-4924-AAEA-2CF3B38B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AFBA5-75B1-47DA-97FB-D71D9C6D9E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BB3CA4-D9D5-4EAD-9586-BEDC47E0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75E4FF-0D88-4616-A215-90B742F8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A63D1A-5AD2-4DF8-B27C-BAC49A99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6F5BE6-1295-4D35-91B3-8C2C7E32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AF0319-6F40-488B-A4CA-994AA5B8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B0FFCC-4CC3-4C50-9C35-EC006D98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FB937C-A394-469E-B17D-B2C70965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5534-E4F3-49AA-B94A-F9366BC5A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E1095-D4C8-4694-AFD1-233CEB527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F6FBD-4E41-4546-89E4-CE3614FD9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7E579-E206-4994-AD19-5A845AE7E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BB05B-44A5-4560-A6A2-F253C7C18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BA896-0F17-4679-8F87-3022054A5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DFD4-8DFE-48C8-BC9D-882D28DF1899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574640"/>
            <a:ext cx="70992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sz="8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223E-630E-4BBC-9F27-C279D2091705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1736-4D91-42EB-A325-BEE67EFFA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 Spread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04840" y="2004840"/>
            <a:ext cx="769644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 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666880" y="21477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378240" y="1600200"/>
            <a:ext cx="314964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32120" y="2575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899480" y="2679840"/>
            <a:ext cx="67608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3:05:01Z</dcterms:created>
  <dc:creator>Gujjari Achala</dc:creator>
  <dc:description/>
  <cp:keywords/>
  <dc:language>en-US</dc:language>
  <cp:lastModifiedBy>Gujjari Achala</cp:lastModifiedBy>
  <cp:lastPrinted>1998-09-04T08:04:32Z</cp:lastPrinted>
  <dcterms:modified xsi:type="dcterms:W3CDTF">2010-10-05T13:34:17Z</dcterms:modified>
  <cp:revision>2</cp:revision>
  <dc:subject/>
  <dc:title>Insert Spreadsheet</dc:title>
</cp:coreProperties>
</file>