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20F-E59F-4325-BBB9-3E4A95EE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C71-D6DC-4AD9-B5EF-AAED384B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6FF-38D0-4581-95FF-C7689F33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4736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83788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64736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83788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14F-A0FE-4561-B6A5-B425F915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B7A6-7A9E-455B-BFF0-BF4083BE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84BF-F67F-4014-9F60-17CFF7EA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1AE8-DB22-46E8-8B2F-41CE4991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E20E-16CF-41FD-8FF1-27ED4431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8D5C-9B48-4814-9FBC-891B262A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273B-21B9-4BA8-A532-0C8C8493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569C-C96E-4CB3-BB5C-1D7EC79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048-17FB-457A-A036-82D9EE15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D1A8-8FB0-440C-A129-72B99CC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4F7-2EB4-4BEF-BE43-77D79627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130B-6AAA-44AC-BEBD-01B2340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48BB-F949-4339-B3E0-195FDE70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4736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83788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164736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283788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CCED-EF8D-445A-85CC-C9E2CAD7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2598-2C50-4A3E-85B0-1D7BA09F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99070-93E8-4822-8A28-73314727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85C6-55A3-40BB-ACA2-583141D0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91C1-A6FA-42C5-BFB0-EA4EECF6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286D-72B7-4920-BE24-20DC69CB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4DA-363E-4612-B424-C155D5E7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B0CC-E3B5-480E-8E19-C68BB93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1052-14FC-41A2-9E13-CA47DCCF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363D-F7E8-404B-B354-E197BFA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5DA1-B412-4AF2-975D-FEDCAB25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7A64-E5F4-4CF7-918A-AF527A85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31D9-766E-4F3F-841B-B65C6673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64736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837880" y="160020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164736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2837880" y="3964320"/>
            <a:ext cx="1133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2BE3-50CA-4BAA-A6E0-BD3DC084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485-720D-4E37-9B2D-18390CCD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6B7-F7C8-4860-A42F-7BAB3C78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41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B8C-9ACD-4A76-952C-B645B1F3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EB3-F04E-408A-BE4E-62B77DC5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61160" y="396432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4E0-69BF-4F66-A321-E2D5E26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61160" y="1600200"/>
            <a:ext cx="1717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20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0EF-385C-414D-8F7D-AEBB4C9C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  <a:ea typeface="ＭＳ Ｐゴシック"/>
            </a:endParaRPr>
          </a:p>
        </p:txBody>
      </p:sp>
      <p:sp>
        <p:nvSpPr>
          <p:cNvPr id="1" name="正方形/長方形 3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  <a:ea typeface="ＭＳ Ｐゴシック"/>
            </a:endParaRPr>
          </a:p>
        </p:txBody>
      </p:sp>
      <p:sp>
        <p:nvSpPr>
          <p:cNvPr id="2" name="直線コネクタ 4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ja-JP" sz="4200" spc="-1" strike="noStrike" cap="all">
                <a:solidFill>
                  <a:srgbClr val="000000"/>
                </a:solidFill>
                <a:latin typeface="Trebuchet MS"/>
              </a:rPr>
              <a:t>マスタ タイトルの書式設定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0520" y="6558120"/>
            <a:ext cx="2003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16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400" y="6556320"/>
            <a:ext cx="58860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AA6ADD-969D-49AB-A1CA-79E33FD0E32A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  <a:ea typeface="ＭＳ Ｐゴシック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ja-JP" sz="3800" spc="-1" strike="noStrike" cap="all">
                <a:solidFill>
                  <a:srgbClr val="000000"/>
                </a:solidFill>
                <a:latin typeface="Trebuchet MS"/>
              </a:rPr>
              <a:t>マスタ タイトルの書式設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600" spc="-1" strike="noStrike">
                <a:solidFill>
                  <a:srgbClr val="000000"/>
                </a:solidFill>
                <a:latin typeface="Trebuchet MS"/>
              </a:rPr>
              <a:t>マスタ テキストの書式設定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ja-JP" sz="23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2 </a:t>
            </a:r>
            <a:r>
              <a:rPr b="0" lang="ja-JP" sz="23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ja-JP" sz="20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4 </a:t>
            </a:r>
            <a:r>
              <a:rPr b="0" lang="ja-JP" sz="20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5 </a:t>
            </a: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6560" y="6558120"/>
            <a:ext cx="20016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860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02AB02-DA70-4F3B-BD01-4B11346FC06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正方形/長方形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  <a:ea typeface="ＭＳ Ｐゴシック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417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ja-JP" sz="3800" spc="-1" strike="noStrike" cap="all">
                <a:solidFill>
                  <a:srgbClr val="000000"/>
                </a:solidFill>
                <a:latin typeface="Trebuchet MS"/>
              </a:rPr>
              <a:t>マスタ タイトルの書式設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5200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マスタ テキストの書式設定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ja-JP" sz="24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2 </a:t>
            </a:r>
            <a:r>
              <a:rPr b="0" lang="ja-JP" sz="24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ja-JP" sz="18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4 </a:t>
            </a:r>
            <a:r>
              <a:rPr b="0" lang="ja-JP" sz="18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5 </a:t>
            </a: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4178880" y="1600200"/>
            <a:ext cx="35200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マスタ テキストの書式設定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ja-JP" sz="24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2 </a:t>
            </a:r>
            <a:r>
              <a:rPr b="0" lang="ja-JP" sz="24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>
              <a:lnSpc>
                <a:spcPct val="100000"/>
              </a:lnSpc>
              <a:spcBef>
                <a:spcPts val="36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ja-JP" sz="1800" spc="-1" strike="noStrike">
                <a:solidFill>
                  <a:srgbClr val="6c6c6c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4 </a:t>
            </a:r>
            <a:r>
              <a:rPr b="0" lang="ja-JP" sz="1800" spc="-1" strike="noStrike">
                <a:solidFill>
                  <a:srgbClr val="6c6c6c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5 </a:t>
            </a:r>
            <a:r>
              <a:rPr b="0" lang="ja-JP" sz="1800" spc="-1" strike="noStrike">
                <a:solidFill>
                  <a:srgbClr val="000000"/>
                </a:solidFill>
                <a:latin typeface="Trebuchet MS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246560" y="6558120"/>
            <a:ext cx="20016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6251400" y="6556320"/>
            <a:ext cx="58860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7C33B4-9ABD-4842-A42D-91CFFEAA114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ankei.jp.msn.com/entertainments/entertainers/081014/tnr0810142104008-n1.ht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eadlines.yahoo.co.jp/hl?a=20081014-00000840-reu-int" TargetMode="External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00240" y="642960"/>
            <a:ext cx="5105160" cy="182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ja-JP" sz="4000" spc="-1" strike="noStrike" cap="all">
                <a:solidFill>
                  <a:srgbClr val="000000"/>
                </a:solidFill>
                <a:latin typeface="Trebuchet MS"/>
              </a:rPr>
              <a:t>リア・ディゾンさん「できちゃった婚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286080" y="2928960"/>
            <a:ext cx="5114520" cy="1101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45720" rIns="4572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米国出身の歌手、</a:t>
            </a:r>
            <a:r>
              <a:rPr b="0" lang="ja-JP" sz="20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リア・ディゾン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さん（２２）が今月１０日に結婚していたことが１４日、分かった。関係者によると、相手は２０代後半の日本人スタイリストで、リアさんは現在、妊娠中。今後も芸能活動は続ける予定という。１４日夜、初の全国ツアーの最終公演を迎えた東京・渋谷のＯ－ＥＡＳＴで本人が明か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52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70000"/>
          </a:bodyPr>
          <a:p>
            <a:pPr indent="0">
              <a:lnSpc>
                <a:spcPct val="100000"/>
              </a:lnSpc>
              <a:buNone/>
            </a:pPr>
            <a:br>
              <a:rPr sz="3100"/>
            </a:br>
            <a:r>
              <a:rPr b="1" lang="ja-JP" sz="3100" spc="-1" strike="noStrike" cap="all">
                <a:solidFill>
                  <a:srgbClr val="000000"/>
                </a:solidFill>
                <a:latin typeface="Trebuchet MS"/>
              </a:rPr>
              <a:t>サッカー＝ベッカム邸の家政婦ら</a:t>
            </a:r>
            <a:r>
              <a:rPr b="1" lang="en-US" sz="3100" spc="-1" strike="noStrike" cap="all">
                <a:solidFill>
                  <a:srgbClr val="000000"/>
                </a:solidFill>
                <a:latin typeface="Trebuchet MS"/>
              </a:rPr>
              <a:t>2</a:t>
            </a:r>
            <a:r>
              <a:rPr b="1" lang="ja-JP" sz="3100" spc="-1" strike="noStrike" cap="all">
                <a:solidFill>
                  <a:srgbClr val="000000"/>
                </a:solidFill>
                <a:latin typeface="Trebuchet MS"/>
              </a:rPr>
              <a:t>人を逮捕、窃盗容疑で</a:t>
            </a:r>
            <a:br>
              <a:rPr sz="38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［ロンドン　１４日　ロイター］　「ベッキンガム宮殿」として知られる、サッカーのイングランド代表ＭＦデビッド・ベッカムと英歌手ビクトリア・ベッカム夫妻の英ハートフォードシャー州の邸宅で家政婦などとして働く２人が、夫妻の所有物を盗んだ容疑で逮捕されたと、メディアが１４日報じた。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　新聞報道によると、サッカーシューズ、スポーツウェアなどの個人アイテムがインターネット・オークションサイトの大手イーベイに出品されていたという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52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70000"/>
          </a:bodyPr>
          <a:p>
            <a:pPr indent="0">
              <a:lnSpc>
                <a:spcPct val="100000"/>
              </a:lnSpc>
              <a:buNone/>
            </a:pPr>
            <a:br>
              <a:rPr sz="3100"/>
            </a:br>
            <a:r>
              <a:rPr b="1" lang="ja-JP" sz="3100" spc="-1" strike="noStrike" cap="all">
                <a:solidFill>
                  <a:srgbClr val="000000"/>
                </a:solidFill>
                <a:latin typeface="Trebuchet MS"/>
              </a:rPr>
              <a:t>サッカー＝ベッカム邸の家政婦ら</a:t>
            </a:r>
            <a:r>
              <a:rPr b="1" lang="en-US" sz="3100" spc="-1" strike="noStrike" cap="all">
                <a:solidFill>
                  <a:srgbClr val="000000"/>
                </a:solidFill>
                <a:latin typeface="Trebuchet MS"/>
              </a:rPr>
              <a:t>2</a:t>
            </a:r>
            <a:r>
              <a:rPr b="1" lang="ja-JP" sz="3100" spc="-1" strike="noStrike" cap="all">
                <a:solidFill>
                  <a:srgbClr val="000000"/>
                </a:solidFill>
                <a:latin typeface="Trebuchet MS"/>
              </a:rPr>
              <a:t>人を逮捕、窃盗容疑で</a:t>
            </a:r>
            <a:br>
              <a:rPr sz="38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［ロンドン　１４日　ロイター］　「ベッキンガム宮殿」として知られる、サッカーのイングランド代表ＭＦデビッド・ベッカムと英歌手ビクトリア・ベッカム夫妻の英ハートフォードシャー州の邸宅で家政婦などとして働く２人が、夫妻の所有物を盗んだ容疑で逮捕されたと、メディアが１４日報じた。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　新聞報道によると、サッカーシューズ、スポーツウェアなどの個人アイテムがインターネット・オークションサイトの大手イーベイに出品されていたという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1143000"/>
            <a:ext cx="7241760" cy="99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18000"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ja-JP" sz="4000" spc="-1" strike="noStrike" cap="all">
                <a:solidFill>
                  <a:srgbClr val="000000"/>
                </a:solidFill>
                <a:latin typeface="Trebuchet MS"/>
              </a:rPr>
              <a:t>　</a:t>
            </a:r>
            <a:br>
              <a:rPr sz="4000"/>
            </a:br>
            <a:r>
              <a:rPr b="1" lang="ja-JP" sz="4000" spc="-1" strike="noStrike" cap="all">
                <a:solidFill>
                  <a:srgbClr val="000000"/>
                </a:solidFill>
                <a:latin typeface="Trebuchet MS"/>
              </a:rPr>
              <a:t>コードネームそのまま――「</a:t>
            </a:r>
            <a:r>
              <a:rPr b="1" lang="en-US" sz="4000" spc="-1" strike="noStrike" cap="all">
                <a:solidFill>
                  <a:srgbClr val="000000"/>
                </a:solidFill>
                <a:latin typeface="Trebuchet MS"/>
              </a:rPr>
              <a:t>Windows 7</a:t>
            </a:r>
            <a:r>
              <a:rPr b="1" lang="ja-JP" sz="4000" spc="-1" strike="noStrike" cap="all">
                <a:solidFill>
                  <a:srgbClr val="000000"/>
                </a:solidFill>
                <a:latin typeface="Trebuchet MS"/>
              </a:rPr>
              <a:t>」、正式名称に決定</a:t>
            </a:r>
            <a:br>
              <a:rPr sz="3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3520800" cy="4525560"/>
          </a:xfrm>
          <a:prstGeom prst="rect">
            <a:avLst/>
          </a:prstGeom>
          <a:solidFill>
            <a:schemeClr val="lt1"/>
          </a:solidFill>
          <a:ln w="39960">
            <a:solidFill>
              <a:srgbClr val="b83d68"/>
            </a:solidFill>
            <a:miter/>
          </a:ln>
        </p:spPr>
        <p:txBody>
          <a:bodyPr numCol="1" spcCol="0" anchor="t">
            <a:normAutofit fontScale="5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米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Microsoft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は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OS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Vista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に次ぐメジャーリリースの名称を「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」に決定した。これまで次期主力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OS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は「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」というコードネームで呼ばれていたが、それが正式名称としても使われることが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Vista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公式ブログで明かされた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　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は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Microsoft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開発者向けカンファレンスである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PDC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および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HEC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参加者に、デベロッパー専用リリースとして配布される予定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　同ブログによれば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Microsoft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が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OS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でコードネームをそのまま製品名に使うのはこれが初めてという。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　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という名称に決めた理由は、「シンプルさ」にあると同ブログは説明。毎年リリースするわけではないので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95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98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2000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ように年を製品名に使えないこと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XP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や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Vista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のように「抱負」がこめられたものではなく、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Vista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を継承し洗練させながら進化していくため、こうした名称も使いたくないことを考慮。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として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番目のリリースなので「</a:t>
            </a: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Windows 7</a:t>
            </a:r>
            <a:r>
              <a:rPr b="0" lang="ja-JP" sz="2800" spc="-1" strike="noStrike">
                <a:solidFill>
                  <a:schemeClr val="dk1"/>
                </a:solidFill>
                <a:latin typeface="Trebuchet MS"/>
              </a:rPr>
              <a:t>」とするのが妥当との結論に至ったという。</a:t>
            </a:r>
            <a:br>
              <a:rPr sz="2800"/>
            </a:br>
            <a:r>
              <a:rPr b="0" lang="en-US" sz="2800" spc="-1" strike="noStrike">
                <a:solidFill>
                  <a:schemeClr val="dk1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78160" y="1928880"/>
            <a:ext cx="35208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85800" indent="-6858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ja-JP" sz="28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アルコール、飲むほどに脳が縮小＝米研究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85800" indent="-6858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アルコールを飲めば飲むほど脳が縮小するという研究結果が１３日、明らかになった。米マサチューセッツ州のウェルズリー大学のキャロル・アン・ポール氏が率いる研究チームが、神経学の専門誌「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rchives of Neurology</a:t>
            </a:r>
            <a:r>
              <a:rPr b="0" lang="ja-JP" sz="2800" spc="-1" strike="noStrike">
                <a:solidFill>
                  <a:srgbClr val="000000"/>
                </a:solidFill>
                <a:latin typeface="Trebuchet MS"/>
              </a:rPr>
              <a:t>」で発表した。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キュート">
  <a:themeElements>
    <a:clrScheme name="キュート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キュート">
  <a:themeElements>
    <a:clrScheme name="キュート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キュート">
  <a:themeElements>
    <a:clrScheme name="キュート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71</TotalTime>
  <Application>LibreOffice/7.4.7.2$Linux_X86_64 LibreOffice_project/40$Build-2</Application>
  <AppVersion>15.0000</AppVersion>
  <Words>211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2:30:03Z</dcterms:created>
  <dc:creator>標準ユーザー</dc:creator>
  <dc:description/>
  <dc:language>en-US</dc:language>
  <cp:lastModifiedBy>ohsumi</cp:lastModifiedBy>
  <dcterms:modified xsi:type="dcterms:W3CDTF">2008-11-10T06:29:25Z</dcterms:modified>
  <cp:revision>7</cp:revision>
  <dc:subject/>
  <dc:title>リア・ディゾンさん「できちゃった婚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画面に合わせる (4:3)</vt:lpwstr>
  </property>
  <property fmtid="{D5CDD505-2E9C-101B-9397-08002B2CF9AE}" pid="3" name="Slides">
    <vt:r8>4</vt:r8>
  </property>
</Properties>
</file>