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03C-7601-49AA-AF09-58558357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D7F-CA98-424C-AEE5-26D04C17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A4F-965E-4CE4-871E-E5FE5BC8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D76-FDA3-40EC-A4AD-ED0662A0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DEC-B032-4573-9B57-F58D65FA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C92-BBBE-42CE-B09A-947F3B7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279-3B96-4244-86A3-AB8A874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FA2-4E22-4F19-8C4C-A782BDC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6D0-3545-4F57-A741-D44C554A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A75-4895-409B-99DB-F0F1494C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854-A1AB-412F-B4BE-417BADC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FE7-4EEC-4013-844C-AE02AFA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679-E6A6-4359-8386-9A130AEC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ubFunction: Animation\Combination\AutoShap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File Name: FFC261FFCSD_Animation_Combination_AutoShape_0140.ppt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eck Point: Timing\Trigger\With Previous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Please check object: AutoShap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Animations on object: Entrance_Split,Exit_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646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6Z</dcterms:created>
  <dc:creator>ibm</dc:creator>
  <dc:description/>
  <dc:language>en-US</dc:language>
  <cp:lastModifiedBy>ibm</cp:lastModifiedBy>
  <dcterms:modified xsi:type="dcterms:W3CDTF">2006-04-27T23:19:36Z</dcterms:modified>
  <cp:revision>1</cp:revision>
  <dc:subject/>
  <dc:title>SubFunction: Animation\Combination\AutoShape File Name: FFC261FFCSD_Animation_Combination_AutoShape_0140.ppt Check Point: Timing\Trigger\With Previous Please check object: AutoShape Animations on object: Entrance_Split,Exit_Split</dc:title>
</cp:coreProperties>
</file>