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A54-DEBB-4149-BFD8-55CC7FBA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3E9-DB97-4A2E-BA25-9403A89A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44E-56DA-4C57-ABEF-38A80C6F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F14-8D11-4ED2-9B36-91FF3415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AA9-6F76-477F-9829-D6CEED31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4B9-D0E9-4CE6-8FF9-571656E4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62B-93AE-4C0F-AF54-7CB90EDD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EC4-1A81-4E4A-9510-8C6FB26E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AE9-2B79-4A03-B3D4-D2BC7788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950-E8E5-4B2E-A252-BF16144D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529-AF39-445C-B081-CAED6733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AAF-2A6E-4B54-8E8C-CF9B82FB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47271-07F6-4A65-BA5F-BD8232A49214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18000" y="2063880"/>
            <a:ext cx="1486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Op-/bij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bedrijfsstrate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30760" y="3371760"/>
            <a:ext cx="2057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Op-/bij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informatiestrate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05160" y="4154400"/>
            <a:ext cx="16797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Samen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Projec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portefeu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56440" y="893880"/>
            <a:ext cx="1303200" cy="1036440"/>
          </a:xfrm>
          <a:prstGeom prst="flowChartDocumen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81720" y="1033560"/>
            <a:ext cx="1055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Bedrijf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strate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40640" y="4768920"/>
            <a:ext cx="1303200" cy="1036440"/>
          </a:xfrm>
          <a:prstGeom prst="flowChartDocumen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72240" y="4888080"/>
            <a:ext cx="1427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Informati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strate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58960" y="5221440"/>
            <a:ext cx="1301760" cy="1042920"/>
          </a:xfrm>
          <a:prstGeom prst="flowChartDocumen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89120" y="5388120"/>
            <a:ext cx="1427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Projec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portefeu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93800" y="3071880"/>
            <a:ext cx="2068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Realiseren Projec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portefeu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9520" y="1274760"/>
            <a:ext cx="1303200" cy="1036800"/>
          </a:xfrm>
          <a:prstGeom prst="flowChartDocumen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6600" y="1414440"/>
            <a:ext cx="10555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Projec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result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8920" y="2289240"/>
            <a:ext cx="1440000" cy="1439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404880" y="3354120"/>
            <a:ext cx="1439640" cy="14396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344760" y="2290680"/>
            <a:ext cx="14400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6760" y="3533760"/>
            <a:ext cx="14400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5402160" y="3351240"/>
            <a:ext cx="14400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3782880" y="4394160"/>
            <a:ext cx="14400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1827000" y="2089080"/>
            <a:ext cx="1439640" cy="1440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5022720" y="1231920"/>
            <a:ext cx="14400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5364168"/>
                <a:lnTo>
                  <a:pt x="10913" y="1"/>
                </a:lnTo>
                <a:arcTo wR="10800" hR="10800" stAng="-5364168" swAng="5364168"/>
                <a:lnTo>
                  <a:pt x="24300" y="10800"/>
                </a:lnTo>
                <a:lnTo>
                  <a:pt x="34234" y="10666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48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4T21:17:26Z</dcterms:created>
  <dc:creator/>
  <dc:description/>
  <dc:language>en-US</dc:language>
  <cp:lastModifiedBy/>
  <dcterms:modified xsi:type="dcterms:W3CDTF">2014-11-14T21:18:50Z</dcterms:modified>
  <cp:revision>1</cp:revision>
  <dc:subject/>
  <dc:title/>
</cp:coreProperties>
</file>