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0F4D-ED1B-4A4E-BCAE-0EDE4E369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D41A-F631-41F6-814F-D166C6899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1E3F-F56E-4DE6-A7FE-FC3099CB6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7865-53A3-4357-B0B2-FCAFC8984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9CC1-1A1D-4D4D-889B-D3ADC3CB6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2F11-7A71-420C-9B03-CB4335AEF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BBFF-A820-4CDF-8941-C8EF8333C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D8A2-FB7A-4709-B698-96596859E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E31C-0C28-488A-8CF0-43C93CB7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91FB-FF90-4FAC-80FB-A3FD62FE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C12D-B149-4CFA-98E7-2E193442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A02D-C921-4971-A734-0BCDC3F4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A12DA-2A6E-415B-AB6D-54A1763FA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24080" y="2057400"/>
            <a:ext cx="2133720" cy="990720"/>
          </a:xfrm>
          <a:custGeom>
            <a:avLst/>
            <a:gdLst/>
            <a:ahLst/>
            <a:rect l="l" t="t" r="r" b="b"/>
            <a:pathLst>
              <a:path w="1344" h="624">
                <a:moveTo>
                  <a:pt x="0" y="624"/>
                </a:moveTo>
                <a:lnTo>
                  <a:pt x="1344" y="624"/>
                </a:lnTo>
                <a:lnTo>
                  <a:pt x="1104" y="0"/>
                </a:lnTo>
                <a:lnTo>
                  <a:pt x="384" y="0"/>
                </a:lnTo>
                <a:lnTo>
                  <a:pt x="0" y="62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733920" y="1828800"/>
            <a:ext cx="1143000" cy="228600"/>
          </a:xfrm>
          <a:custGeom>
            <a:avLst/>
            <a:gdLst/>
            <a:ahLst/>
            <a:rect l="l" t="t" r="r" b="b"/>
            <a:pathLst>
              <a:path w="720" h="144">
                <a:moveTo>
                  <a:pt x="192" y="48"/>
                </a:moveTo>
                <a:lnTo>
                  <a:pt x="0" y="144"/>
                </a:lnTo>
                <a:lnTo>
                  <a:pt x="720" y="144"/>
                </a:lnTo>
                <a:lnTo>
                  <a:pt x="720" y="0"/>
                </a:lnTo>
                <a:lnTo>
                  <a:pt x="192" y="48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1828800"/>
            <a:ext cx="1218960" cy="1143000"/>
          </a:xfrm>
          <a:custGeom>
            <a:avLst/>
            <a:gdLst/>
            <a:ahLst/>
            <a:rect l="l" t="t" r="r" b="b"/>
            <a:pathLst>
              <a:path w="768" h="720">
                <a:moveTo>
                  <a:pt x="0" y="144"/>
                </a:moveTo>
                <a:lnTo>
                  <a:pt x="192" y="0"/>
                </a:lnTo>
                <a:lnTo>
                  <a:pt x="768" y="528"/>
                </a:lnTo>
                <a:lnTo>
                  <a:pt x="528" y="720"/>
                </a:lnTo>
                <a:lnTo>
                  <a:pt x="0" y="14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581280" y="2286000"/>
            <a:ext cx="2743200" cy="609480"/>
          </a:xfrm>
          <a:custGeom>
            <a:avLst/>
            <a:gdLst/>
            <a:ahLst/>
            <a:rect l="l" t="t" r="r" b="b"/>
            <a:pathLst>
              <a:path w="1728" h="384">
                <a:moveTo>
                  <a:pt x="0" y="384"/>
                </a:moveTo>
                <a:lnTo>
                  <a:pt x="384" y="0"/>
                </a:lnTo>
                <a:lnTo>
                  <a:pt x="172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2895480"/>
            <a:ext cx="2819520" cy="762120"/>
          </a:xfrm>
          <a:custGeom>
            <a:avLst/>
            <a:gdLst/>
            <a:ahLst/>
            <a:rect l="l" t="t" r="r" b="b"/>
            <a:pathLst>
              <a:path w="1776" h="480">
                <a:moveTo>
                  <a:pt x="0" y="0"/>
                </a:moveTo>
                <a:lnTo>
                  <a:pt x="384" y="480"/>
                </a:lnTo>
                <a:lnTo>
                  <a:pt x="1776" y="48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81280" y="2666880"/>
            <a:ext cx="2743200" cy="228600"/>
          </a:xfrm>
          <a:custGeom>
            <a:avLst/>
            <a:gdLst/>
            <a:ahLst/>
            <a:rect l="l" t="t" r="r" b="b"/>
            <a:pathLst>
              <a:path w="1728" h="144">
                <a:moveTo>
                  <a:pt x="0" y="144"/>
                </a:moveTo>
                <a:lnTo>
                  <a:pt x="480" y="0"/>
                </a:lnTo>
                <a:lnTo>
                  <a:pt x="172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81280" y="2895480"/>
            <a:ext cx="2743200" cy="228600"/>
          </a:xfrm>
          <a:custGeom>
            <a:avLst/>
            <a:gdLst/>
            <a:ahLst/>
            <a:rect l="l" t="t" r="r" b="b"/>
            <a:pathLst>
              <a:path w="1728" h="144">
                <a:moveTo>
                  <a:pt x="0" y="0"/>
                </a:moveTo>
                <a:lnTo>
                  <a:pt x="480" y="144"/>
                </a:lnTo>
                <a:lnTo>
                  <a:pt x="1728" y="14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8120" y="2286000"/>
            <a:ext cx="1746000" cy="1727280"/>
          </a:xfrm>
          <a:custGeom>
            <a:avLst/>
            <a:gdLst/>
            <a:ahLst/>
            <a:rect l="l" t="t" r="r" b="b"/>
            <a:pathLst>
              <a:path w="1100" h="1088">
                <a:moveTo>
                  <a:pt x="1068" y="1088"/>
                </a:moveTo>
                <a:cubicBezTo>
                  <a:pt x="1002" y="1083"/>
                  <a:pt x="937" y="1077"/>
                  <a:pt x="872" y="1067"/>
                </a:cubicBezTo>
                <a:cubicBezTo>
                  <a:pt x="818" y="1051"/>
                  <a:pt x="801" y="1052"/>
                  <a:pt x="730" y="1047"/>
                </a:cubicBezTo>
                <a:cubicBezTo>
                  <a:pt x="716" y="1042"/>
                  <a:pt x="703" y="1036"/>
                  <a:pt x="689" y="1033"/>
                </a:cubicBezTo>
                <a:cubicBezTo>
                  <a:pt x="680" y="1031"/>
                  <a:pt x="671" y="1030"/>
                  <a:pt x="662" y="1027"/>
                </a:cubicBezTo>
                <a:cubicBezTo>
                  <a:pt x="648" y="1023"/>
                  <a:pt x="621" y="1013"/>
                  <a:pt x="621" y="1013"/>
                </a:cubicBezTo>
                <a:cubicBezTo>
                  <a:pt x="602" y="994"/>
                  <a:pt x="583" y="980"/>
                  <a:pt x="560" y="966"/>
                </a:cubicBezTo>
                <a:cubicBezTo>
                  <a:pt x="550" y="937"/>
                  <a:pt x="532" y="934"/>
                  <a:pt x="513" y="911"/>
                </a:cubicBezTo>
                <a:cubicBezTo>
                  <a:pt x="484" y="876"/>
                  <a:pt x="442" y="828"/>
                  <a:pt x="404" y="803"/>
                </a:cubicBezTo>
                <a:cubicBezTo>
                  <a:pt x="391" y="760"/>
                  <a:pt x="409" y="805"/>
                  <a:pt x="377" y="769"/>
                </a:cubicBezTo>
                <a:cubicBezTo>
                  <a:pt x="359" y="749"/>
                  <a:pt x="341" y="726"/>
                  <a:pt x="330" y="701"/>
                </a:cubicBezTo>
                <a:cubicBezTo>
                  <a:pt x="316" y="670"/>
                  <a:pt x="307" y="629"/>
                  <a:pt x="289" y="600"/>
                </a:cubicBezTo>
                <a:cubicBezTo>
                  <a:pt x="280" y="586"/>
                  <a:pt x="269" y="574"/>
                  <a:pt x="262" y="559"/>
                </a:cubicBezTo>
                <a:cubicBezTo>
                  <a:pt x="253" y="540"/>
                  <a:pt x="252" y="517"/>
                  <a:pt x="242" y="498"/>
                </a:cubicBezTo>
                <a:cubicBezTo>
                  <a:pt x="235" y="483"/>
                  <a:pt x="227" y="469"/>
                  <a:pt x="215" y="457"/>
                </a:cubicBezTo>
                <a:cubicBezTo>
                  <a:pt x="192" y="434"/>
                  <a:pt x="194" y="455"/>
                  <a:pt x="194" y="437"/>
                </a:cubicBezTo>
                <a:lnTo>
                  <a:pt x="0" y="576"/>
                </a:lnTo>
                <a:lnTo>
                  <a:pt x="48" y="0"/>
                </a:lnTo>
                <a:lnTo>
                  <a:pt x="624" y="96"/>
                </a:lnTo>
                <a:lnTo>
                  <a:pt x="432" y="240"/>
                </a:lnTo>
                <a:cubicBezTo>
                  <a:pt x="439" y="240"/>
                  <a:pt x="448" y="236"/>
                  <a:pt x="452" y="241"/>
                </a:cubicBezTo>
                <a:cubicBezTo>
                  <a:pt x="473" y="267"/>
                  <a:pt x="454" y="337"/>
                  <a:pt x="486" y="383"/>
                </a:cubicBezTo>
                <a:cubicBezTo>
                  <a:pt x="496" y="417"/>
                  <a:pt x="516" y="440"/>
                  <a:pt x="540" y="464"/>
                </a:cubicBezTo>
                <a:cubicBezTo>
                  <a:pt x="549" y="490"/>
                  <a:pt x="565" y="495"/>
                  <a:pt x="581" y="518"/>
                </a:cubicBezTo>
                <a:cubicBezTo>
                  <a:pt x="591" y="553"/>
                  <a:pt x="612" y="573"/>
                  <a:pt x="642" y="593"/>
                </a:cubicBezTo>
                <a:cubicBezTo>
                  <a:pt x="655" y="636"/>
                  <a:pt x="636" y="594"/>
                  <a:pt x="669" y="620"/>
                </a:cubicBezTo>
                <a:cubicBezTo>
                  <a:pt x="675" y="625"/>
                  <a:pt x="676" y="634"/>
                  <a:pt x="682" y="640"/>
                </a:cubicBezTo>
                <a:cubicBezTo>
                  <a:pt x="688" y="646"/>
                  <a:pt x="695" y="649"/>
                  <a:pt x="702" y="654"/>
                </a:cubicBezTo>
                <a:cubicBezTo>
                  <a:pt x="707" y="661"/>
                  <a:pt x="710" y="668"/>
                  <a:pt x="716" y="674"/>
                </a:cubicBezTo>
                <a:cubicBezTo>
                  <a:pt x="722" y="680"/>
                  <a:pt x="731" y="682"/>
                  <a:pt x="736" y="688"/>
                </a:cubicBezTo>
                <a:cubicBezTo>
                  <a:pt x="740" y="694"/>
                  <a:pt x="740" y="702"/>
                  <a:pt x="743" y="708"/>
                </a:cubicBezTo>
                <a:cubicBezTo>
                  <a:pt x="757" y="735"/>
                  <a:pt x="774" y="764"/>
                  <a:pt x="791" y="789"/>
                </a:cubicBezTo>
                <a:cubicBezTo>
                  <a:pt x="793" y="800"/>
                  <a:pt x="792" y="812"/>
                  <a:pt x="797" y="823"/>
                </a:cubicBezTo>
                <a:cubicBezTo>
                  <a:pt x="819" y="873"/>
                  <a:pt x="843" y="868"/>
                  <a:pt x="885" y="891"/>
                </a:cubicBezTo>
                <a:cubicBezTo>
                  <a:pt x="899" y="899"/>
                  <a:pt x="912" y="909"/>
                  <a:pt x="926" y="918"/>
                </a:cubicBezTo>
                <a:cubicBezTo>
                  <a:pt x="933" y="923"/>
                  <a:pt x="946" y="932"/>
                  <a:pt x="946" y="932"/>
                </a:cubicBezTo>
                <a:cubicBezTo>
                  <a:pt x="963" y="956"/>
                  <a:pt x="977" y="957"/>
                  <a:pt x="1001" y="972"/>
                </a:cubicBezTo>
                <a:cubicBezTo>
                  <a:pt x="1012" y="1009"/>
                  <a:pt x="1017" y="1021"/>
                  <a:pt x="1055" y="1033"/>
                </a:cubicBezTo>
                <a:cubicBezTo>
                  <a:pt x="1069" y="1037"/>
                  <a:pt x="1096" y="1047"/>
                  <a:pt x="1096" y="1047"/>
                </a:cubicBezTo>
                <a:cubicBezTo>
                  <a:pt x="1088" y="1088"/>
                  <a:pt x="1100" y="1077"/>
                  <a:pt x="1068" y="1088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895480" y="1752480"/>
            <a:ext cx="2428920" cy="2057400"/>
          </a:xfrm>
          <a:custGeom>
            <a:avLst/>
            <a:gdLst/>
            <a:ahLst/>
            <a:rect l="l" t="t" r="r" b="b"/>
            <a:pathLst>
              <a:path w="1530" h="1296">
                <a:moveTo>
                  <a:pt x="42" y="240"/>
                </a:moveTo>
                <a:lnTo>
                  <a:pt x="90" y="144"/>
                </a:lnTo>
                <a:lnTo>
                  <a:pt x="618" y="192"/>
                </a:lnTo>
                <a:cubicBezTo>
                  <a:pt x="557" y="207"/>
                  <a:pt x="598" y="283"/>
                  <a:pt x="630" y="305"/>
                </a:cubicBezTo>
                <a:cubicBezTo>
                  <a:pt x="671" y="303"/>
                  <a:pt x="713" y="310"/>
                  <a:pt x="752" y="298"/>
                </a:cubicBezTo>
                <a:cubicBezTo>
                  <a:pt x="768" y="293"/>
                  <a:pt x="780" y="258"/>
                  <a:pt x="780" y="258"/>
                </a:cubicBezTo>
                <a:cubicBezTo>
                  <a:pt x="785" y="242"/>
                  <a:pt x="800" y="225"/>
                  <a:pt x="800" y="210"/>
                </a:cubicBezTo>
                <a:lnTo>
                  <a:pt x="1482" y="0"/>
                </a:lnTo>
                <a:cubicBezTo>
                  <a:pt x="1487" y="7"/>
                  <a:pt x="1491" y="15"/>
                  <a:pt x="1498" y="20"/>
                </a:cubicBezTo>
                <a:cubicBezTo>
                  <a:pt x="1504" y="24"/>
                  <a:pt x="1513" y="22"/>
                  <a:pt x="1518" y="27"/>
                </a:cubicBezTo>
                <a:cubicBezTo>
                  <a:pt x="1530" y="39"/>
                  <a:pt x="1525" y="81"/>
                  <a:pt x="1525" y="88"/>
                </a:cubicBezTo>
                <a:lnTo>
                  <a:pt x="858" y="288"/>
                </a:lnTo>
                <a:lnTo>
                  <a:pt x="1194" y="672"/>
                </a:lnTo>
                <a:lnTo>
                  <a:pt x="1050" y="720"/>
                </a:lnTo>
                <a:lnTo>
                  <a:pt x="1242" y="1104"/>
                </a:lnTo>
                <a:cubicBezTo>
                  <a:pt x="1190" y="1170"/>
                  <a:pt x="1195" y="1172"/>
                  <a:pt x="1105" y="1172"/>
                </a:cubicBezTo>
                <a:lnTo>
                  <a:pt x="906" y="768"/>
                </a:lnTo>
                <a:lnTo>
                  <a:pt x="618" y="768"/>
                </a:lnTo>
                <a:lnTo>
                  <a:pt x="138" y="1296"/>
                </a:lnTo>
                <a:cubicBezTo>
                  <a:pt x="105" y="1275"/>
                  <a:pt x="84" y="1286"/>
                  <a:pt x="48" y="1294"/>
                </a:cubicBezTo>
                <a:cubicBezTo>
                  <a:pt x="27" y="1288"/>
                  <a:pt x="0" y="1265"/>
                  <a:pt x="0" y="1240"/>
                </a:cubicBezTo>
                <a:lnTo>
                  <a:pt x="474" y="768"/>
                </a:lnTo>
                <a:lnTo>
                  <a:pt x="282" y="768"/>
                </a:lnTo>
                <a:lnTo>
                  <a:pt x="474" y="288"/>
                </a:lnTo>
                <a:lnTo>
                  <a:pt x="42" y="24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76720" y="1447920"/>
            <a:ext cx="1752480" cy="3657600"/>
          </a:xfrm>
          <a:custGeom>
            <a:avLst/>
            <a:gdLst/>
            <a:ahLst/>
            <a:rect l="l" t="t" r="r" b="b"/>
            <a:pathLst>
              <a:path w="1104" h="2304">
                <a:moveTo>
                  <a:pt x="0" y="288"/>
                </a:moveTo>
                <a:lnTo>
                  <a:pt x="0" y="2304"/>
                </a:lnTo>
                <a:lnTo>
                  <a:pt x="288" y="2304"/>
                </a:lnTo>
                <a:lnTo>
                  <a:pt x="1104" y="0"/>
                </a:lnTo>
                <a:lnTo>
                  <a:pt x="0" y="288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ijiany</cp:lastModifiedBy>
  <dcterms:modified xsi:type="dcterms:W3CDTF">2012-07-10T02:12:30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