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A00A-3A0B-451C-B839-22205222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A332-CF4D-4756-BF0C-AE13A792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234-EFDF-4A01-BD6B-8C143F33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342D-D33F-4587-90DF-BEB6081A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E634-754C-45C0-8F11-D5841EB8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346D-C23C-42B6-9A4C-243CAE5C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373B-267C-4466-B0DD-61724E61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4A14-71D3-43A6-8755-EDA7E606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234C-0923-46A8-91AF-8383B9B9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9F3A-602B-4C1B-A1FF-806EB493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A595-FE80-4AA2-8D33-7C7716E8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3522-5D6D-4BAD-BF91-F95C731B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CFAD-FAFC-4F71-9767-B133F2066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990720" y="9907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Animation should fade in at first cli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3"/>
          <p:cNvSpPr/>
          <p:nvPr/>
        </p:nvSpPr>
        <p:spPr>
          <a:xfrm>
            <a:off x="990720" y="9907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Animation should dissolve in after previous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6:29:30Z</dcterms:created>
  <dc:creator>benneds1</dc:creator>
  <dc:description/>
  <dc:language>en-US</dc:language>
  <cp:lastModifiedBy>benneds1</cp:lastModifiedBy>
  <dcterms:modified xsi:type="dcterms:W3CDTF">2012-02-06T16:31:49Z</dcterms:modified>
  <cp:revision>1</cp:revision>
  <dc:subject/>
  <dc:title>Slide 1</dc:title>
</cp:coreProperties>
</file>