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EB20-C52E-4CC2-9708-0934D07A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370404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A08-0C73-4689-B0FD-9AE29F4E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370404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800" y="370404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B23-1E61-4F27-9BDE-BFF75DFA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1000" y="8380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080" y="8380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370404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1000" y="370404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080" y="370404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95D9-15D2-426C-8150-510585F6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6743-9051-4C5C-9352-91EE4FC7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2B04-0F96-45CB-91BF-F554BC52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5A98-A162-4756-8FB0-8E5241DF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8D54-63AD-44CD-8E9C-B04DA3D2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6A13-DE6A-46CE-A0BA-9F6B3772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370404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D894-C95B-4AEA-BF3F-E1D92464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800" y="370404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E7DD-983A-4043-B4BB-D932F13F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3704040"/>
            <a:ext cx="8839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F7FD-E7C9-4BDE-978B-9C4A2364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1E38-E897-494E-B7FF-069752A80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676520"/>
            <a:ext cx="83822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SCI-2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of Comp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2EFD-EFC4-44B9-9AF4-CDF04E9B46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362320" y="1295280"/>
            <a:ext cx="3657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2819520"/>
            <a:ext cx="2819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4114800"/>
            <a:ext cx="2819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75800" y="2895480"/>
            <a:ext cx="25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24600" y="419112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ut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23240" y="1371600"/>
            <a:ext cx="34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mporary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334120" y="3124080"/>
            <a:ext cx="76176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4267080"/>
            <a:ext cx="7617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2895480"/>
            <a:ext cx="251460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08160" y="3124080"/>
            <a:ext cx="2064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a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20760" y="0"/>
            <a:ext cx="39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ite Automat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990720"/>
            <a:ext cx="3810240" cy="121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286000" y="914400"/>
            <a:ext cx="3657600" cy="144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5410080"/>
            <a:ext cx="5729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Vending Machines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small computing 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6DD5-94B2-4E9A-91CA-CD20637891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95880" y="2895480"/>
            <a:ext cx="28195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4191120"/>
            <a:ext cx="2819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75800" y="2971800"/>
            <a:ext cx="25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24600" y="426708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ut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97520" y="83808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1480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334120" y="3200400"/>
            <a:ext cx="76176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434340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2971800"/>
            <a:ext cx="25146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08160" y="3200400"/>
            <a:ext cx="2064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sh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a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97440" y="0"/>
            <a:ext cx="49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ushdown Automat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6360" y="5486400"/>
            <a:ext cx="8594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Compilers for Programming Languag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medium computing 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990720"/>
            <a:ext cx="106704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81280" y="21337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17524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648320" y="1143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13716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92520" y="91440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sh, P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CC2A-BB4D-4591-B6D8-54877BCC68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362320" y="1371600"/>
            <a:ext cx="4495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5880" y="2895480"/>
            <a:ext cx="28195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4191120"/>
            <a:ext cx="2819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75800" y="2971800"/>
            <a:ext cx="25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24600" y="426708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ut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38280" y="144792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andom Access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1981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334120" y="3200400"/>
            <a:ext cx="76176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4120" y="434340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19520" y="2971800"/>
            <a:ext cx="25146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21480" y="3200400"/>
            <a:ext cx="160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50600" y="0"/>
            <a:ext cx="35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uring Mach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99560" y="5486400"/>
            <a:ext cx="627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Any Algorith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highest computing 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14A3-97CA-45A5-940C-9F4C6AF949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10960" y="2209680"/>
            <a:ext cx="1829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ini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6320" y="2286000"/>
            <a:ext cx="1936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ush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07680" y="2362320"/>
            <a:ext cx="160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666880" y="2362320"/>
            <a:ext cx="53352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6880" y="2971800"/>
            <a:ext cx="53352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867280" y="2362320"/>
            <a:ext cx="53352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2971800"/>
            <a:ext cx="53352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51320" y="228600"/>
            <a:ext cx="43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wer of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95480" y="487692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7000" y="457200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ess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67320" y="457200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r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67960" y="5105520"/>
            <a:ext cx="4292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olve m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mputational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D6F6-806B-4FF2-B58F-7EE247DAC9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F8DB-6D84-4A89-AF27-27AFADA3DC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language is a set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ring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ring: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sequence of letter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xamples: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“cat”, “dog”, “house”,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fined over an alphabet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263760" y="5207040"/>
                <a:ext cx="3302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EC1A-8D82-4E5D-9F89-ACA41C3121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lphabets and String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 will use small alphabets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tring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470480" y="3193920"/>
                <a:ext cx="2016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470480" y="3193920"/>
                <a:ext cx="2016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987880" y="3276720"/>
                <a:ext cx="2273400" cy="19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bbaaa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b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867280" y="914400"/>
                <a:ext cx="1841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676520" y="2666880"/>
                <a:ext cx="2832120" cy="335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b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b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aabbbaaba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34CA-893A-49DC-B7FC-280E8FB3BD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ring Oper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28600" y="1143000"/>
                <a:ext cx="27558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553080" y="1219320"/>
                <a:ext cx="154944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bb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bbaa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470480" y="3193920"/>
                <a:ext cx="2016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28600" y="4800600"/>
                <a:ext cx="4876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2985480" y="3657600"/>
            <a:ext cx="29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oncate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6095880" y="4876920"/>
                <a:ext cx="25783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babbbaa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0223-4085-4CC9-B4C3-70A6FDF65F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470480" y="3193920"/>
                <a:ext cx="2016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685800" y="4724280"/>
                <a:ext cx="30988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762120" y="1523880"/>
                <a:ext cx="27558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791320" y="1600200"/>
                <a:ext cx="2577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abaaabb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470480" y="3193920"/>
                <a:ext cx="2016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3202560" y="373392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eve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715000" y="4952880"/>
                <a:ext cx="2565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bbaaabab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7D13-8EB6-48D4-B65D-0210571E59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ring Lengt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ength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057400" y="1066680"/>
                <a:ext cx="27558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057400" y="2057400"/>
                <a:ext cx="1231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w</m:t>
                        </m:r>
                      </m:e>
                    </m:d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895480" y="3886200"/>
                <a:ext cx="190512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b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0E6E-84B6-4E38-A2C6-6DFA464DC5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76320" y="228600"/>
            <a:ext cx="363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2819520"/>
            <a:ext cx="152424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41400" y="3352680"/>
            <a:ext cx="8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2895480"/>
            <a:ext cx="281952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26240" y="327672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3581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0ACD-7752-4735-A840-A1B7AFE217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ngth of Concaten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xample: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276720" y="1143000"/>
                <a:ext cx="2247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362320" y="2590920"/>
                <a:ext cx="4381560" cy="37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a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aa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v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babaa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v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81C0-94A1-405B-BE49-A4D83D76CA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mpty Str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string with no letters: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Observations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003640" y="954000"/>
                <a:ext cx="3304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352680" y="2666880"/>
                <a:ext cx="4686480" cy="354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λw</m:t>
                        </m:r>
                        <m:r>
                          <m:t xml:space="preserve">=</m:t>
                        </m:r>
                        <m:r>
                          <m:t xml:space="preserve">wλ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</m:e>
                      <m:e/>
                      <m:e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abb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ba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b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A1BC-5B4C-482E-9CE2-6AE76A51CD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str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ubstring of string: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subsequence of consecutive character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tring                    Substring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6477120" y="3429000"/>
                <a:ext cx="1054080" cy="27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ba</m:t>
                        </m:r>
                      </m:e>
                      <m:e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ba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438280" y="3429000"/>
                <a:ext cx="1308240" cy="27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bba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ba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ba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ba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2438280" y="39625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472428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54864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62485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9BDE-0F6E-471F-A2E6-D87F6F7D03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efix and Suffi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refixes         Suffixe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133720" y="914400"/>
                <a:ext cx="13078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b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990720" y="2209680"/>
                <a:ext cx="1307880" cy="424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λ</m:t>
                        </m:r>
                      </m:e>
                      <m:e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b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ba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3657600" y="2133720"/>
                <a:ext cx="1308240" cy="42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bba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ba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>
                        <m:r>
                          <m:t xml:space="preserve">b</m:t>
                        </m:r>
                      </m:e>
                      <m:e>
                        <m:r>
                          <m:t xml:space="preserve">λ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6934320" y="2209680"/>
                <a:ext cx="13460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 flipV="1">
            <a:off x="7162920" y="251424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8152920" y="2514600"/>
            <a:ext cx="3049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988960" y="3200400"/>
            <a:ext cx="12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ref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849800" y="3886200"/>
            <a:ext cx="122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uff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5FCC-6B05-440A-80F6-30581B8F7F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other Oper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xample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finition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124080" y="914400"/>
                <a:ext cx="26798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  <m:r>
                              <m:t xml:space="preserve">⋯</m:t>
                            </m:r>
                            <m:r>
                              <m:t xml:space="preserve">w</m:t>
                            </m:r>
                          </m:e>
                        </m:groupChr>
                      </m:e>
                      <m:lim>
                        <m:r>
                          <m:t xml:space="preserve">n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438280" y="2438280"/>
                <a:ext cx="41911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ba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baabb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590920" y="4280040"/>
                <a:ext cx="14349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590920" y="5410080"/>
                <a:ext cx="2438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ba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D0D8-9EEF-4690-8E61-584126152B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* Oper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: the set of all possible strings from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lphabet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298440" y="868320"/>
                <a:ext cx="609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016080" y="1486080"/>
                <a:ext cx="3286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28600" y="2514600"/>
                <a:ext cx="77360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t xml:space="preserve">Σ</m:t>
                        </m:r>
                        <m:r>
                          <m:t xml:space="preserve">∗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λ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b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CE30-F3C1-45AD-ADDA-4F2BC16D7E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p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: the set of all possible strings 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lphabet      except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11040" y="779400"/>
                <a:ext cx="584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016080" y="1486080"/>
                <a:ext cx="3286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28600" y="2514600"/>
                <a:ext cx="77360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t xml:space="preserve">Σ</m:t>
                        </m:r>
                        <m:r>
                          <m:t xml:space="preserve">∗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λ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b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28600" y="4724280"/>
                <a:ext cx="2387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∗</m:t>
                    </m:r>
                    <m:r>
                      <m:t xml:space="preserve">−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28600" y="5562720"/>
                <a:ext cx="7354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a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b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5181480" y="1523880"/>
                <a:ext cx="3304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3E7C-7053-4601-9173-07AB76ED96E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Languag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language is any subset of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xample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anguages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5619600" y="888840"/>
                <a:ext cx="6098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347920" y="2057400"/>
                <a:ext cx="67960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t xml:space="preserve">Σ</m:t>
                        </m:r>
                        <m:r>
                          <m:t xml:space="preserve">∗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λ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a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2438280" y="4495680"/>
                <a:ext cx="61722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 </m:t>
                        </m:r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b</m:t>
                            </m:r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λ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b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b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aaaa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4054-DD65-4802-BCE1-8FDDE715023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558960" y="304920"/>
            <a:ext cx="21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Note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3733920" y="1523880"/>
                <a:ext cx="32572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∅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</m:e>
                    </m:d>
                    <m:r>
                      <m:t xml:space="preserve">≠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λ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3657600" y="2819520"/>
                <a:ext cx="29574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sepChr m:val="∅"/>
                        <m:endChr m:val="|"/>
                      </m:dPr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657600" y="4191120"/>
                <a:ext cx="18572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3657600" y="5486400"/>
                <a:ext cx="14986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889560" y="1600200"/>
            <a:ext cx="9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37000" y="297180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t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37000" y="434340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t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7400" y="5562720"/>
            <a:ext cx="26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tring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CD26-5F4C-4541-AB90-E61090EDAE4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n infinite language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419720" y="1295280"/>
                <a:ext cx="4190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851040" y="3124080"/>
                <a:ext cx="2577960" cy="271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λ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ab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aaaabbbb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038480" y="4191120"/>
                <a:ext cx="6987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006960" y="4160880"/>
                <a:ext cx="15750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b</m:t>
                    </m:r>
                    <m:r>
                      <m:t xml:space="preserve">∉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3505320" y="3048120"/>
            <a:ext cx="380880" cy="2743200"/>
          </a:xfrm>
          <a:custGeom>
            <a:avLst/>
            <a:gdLst>
              <a:gd name="textAreaLeft" fmla="*/ 0 w 380880"/>
              <a:gd name="textAreaRight" fmla="*/ 137520 w 3808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36C4-4BBD-4C07-BCF5-292D2D9FAFA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352680" y="2819520"/>
            <a:ext cx="152424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41400" y="3352680"/>
            <a:ext cx="8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1600200"/>
            <a:ext cx="3657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2590920"/>
            <a:ext cx="2819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3886200"/>
            <a:ext cx="2819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4876920"/>
            <a:ext cx="35816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75800" y="2666880"/>
            <a:ext cx="25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24600" y="396252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ut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59360" y="495288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gram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13760" y="1676520"/>
            <a:ext cx="34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mporary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876920" y="2895480"/>
            <a:ext cx="12189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038480"/>
            <a:ext cx="12189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D86F-7282-4D0B-A43B-859DF22A8C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perations on Languag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usual set operation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omplement: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380880" y="1752480"/>
                <a:ext cx="82314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aa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aa</m:t>
                            </m:r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aa</m:t>
                            </m:r>
                          </m:e>
                        </m:d>
                        <m:r>
                          <m:t xml:space="preserve">∩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aa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aa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276720" y="4419720"/>
                <a:ext cx="21463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∗</m:t>
                    </m:r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143000" y="5437080"/>
                <a:ext cx="6453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</m:e>
                        </m:d>
                      </m:e>
                    </m:ba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λ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a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E23F-DEFE-4691-BA21-6338C16C84F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vers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finition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679840" y="1295280"/>
                <a:ext cx="35557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346480" y="2514600"/>
                <a:ext cx="67975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ba</m:t>
                            </m:r>
                          </m:e>
                        </m:d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aa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a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228760" y="3803760"/>
                <a:ext cx="3772080" cy="23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n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/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n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1D91-4A7D-4293-A74F-398EF52FF63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caten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finition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xample: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787480" y="1479600"/>
                <a:ext cx="52452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133720" y="3809880"/>
                <a:ext cx="64656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e>
                        </m:d>
                      </m:e>
                      <m:e/>
                      <m:e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a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aa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762C-FFB4-4FD1-9160-04C8E5A51B5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other Oper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finition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pecial case: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4470480" y="3193920"/>
                <a:ext cx="2016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2819520" y="838080"/>
                <a:ext cx="24764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L</m:t>
                            </m:r>
                            <m:r>
                              <m:t xml:space="preserve">⋯</m:t>
                            </m:r>
                            <m:r>
                              <m:t xml:space="preserve">L</m:t>
                            </m:r>
                          </m:e>
                        </m:groupChr>
                      </m:e>
                      <m:lim>
                        <m:r>
                          <m:t xml:space="preserve">n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304920" y="2362320"/>
                <a:ext cx="767232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b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048120" y="4343400"/>
                <a:ext cx="344160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</m:e>
                      <m:e/>
                      <m:e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bba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aa</m:t>
                                </m:r>
                              </m:e>
                            </m:d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F5F7-D4F4-4AC6-8F1F-9E84D71CD2C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re Examp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1822320" y="1519200"/>
                <a:ext cx="35053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625760" y="3193920"/>
                <a:ext cx="54226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908440" y="4896000"/>
                <a:ext cx="35179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abbaaabbb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3998-574C-439F-AD1B-93A76A4BD2C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r-Closure (Kleene *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finition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xample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5081760" y="3460680"/>
                <a:ext cx="2016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514600" y="1295280"/>
                <a:ext cx="39625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∪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∪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647640" y="3492360"/>
                <a:ext cx="7736040" cy="287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e>
                    </m:d>
                    <m:r>
                      <m:t xml:space="preserve">∗</m:t>
                    </m:r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λ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bb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A1D0-D264-49D5-9EF3-2ACD8974FF8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sitive Closu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finition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2666880" y="1371600"/>
                <a:ext cx="342900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∪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∪</m:t>
                        </m:r>
                        <m:r>
                          <m:t xml:space="preserve">⋯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−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15960" y="4178160"/>
                <a:ext cx="78246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e>
                        </m:d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b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a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bb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A26D-29A8-405E-9FF4-A47E8A8B889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52680" y="2819520"/>
            <a:ext cx="152424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41400" y="3352680"/>
            <a:ext cx="8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1600200"/>
            <a:ext cx="3657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2590920"/>
            <a:ext cx="2819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3886200"/>
            <a:ext cx="2819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4876920"/>
            <a:ext cx="35816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5800" y="2666880"/>
            <a:ext cx="25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24600" y="396252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ut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1440" y="434340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gram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13760" y="1676520"/>
            <a:ext cx="34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mporary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876920" y="2895480"/>
            <a:ext cx="12189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76920" y="4038480"/>
            <a:ext cx="12189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629400" y="0"/>
                <a:ext cx="19558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2238480" y="502920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114800" y="5105520"/>
                <a:ext cx="927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2238480" y="594360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114800" y="5791320"/>
                <a:ext cx="1193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∗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240080" y="152280"/>
            <a:ext cx="214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430B-AFC7-42C7-A963-593AECCD5C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352680" y="2819520"/>
            <a:ext cx="152424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41400" y="3352680"/>
            <a:ext cx="8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05120" y="1600200"/>
            <a:ext cx="3657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2590920"/>
            <a:ext cx="2819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3886200"/>
            <a:ext cx="2819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4876920"/>
            <a:ext cx="35816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7200" y="1981080"/>
            <a:ext cx="25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24600" y="396252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ut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1440" y="434340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gram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13760" y="1676520"/>
            <a:ext cx="34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mporary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876920" y="2895480"/>
            <a:ext cx="12189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4038480"/>
            <a:ext cx="12189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8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629400" y="0"/>
                <a:ext cx="19558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238480" y="502920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114800" y="5105520"/>
                <a:ext cx="927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2238480" y="594360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114800" y="5791320"/>
                <a:ext cx="1193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∗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858000" y="2666880"/>
                <a:ext cx="10414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8FEC-6155-4501-8365-4D2B308213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352680" y="2819520"/>
            <a:ext cx="152424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41400" y="3352680"/>
            <a:ext cx="8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685800"/>
            <a:ext cx="36576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2590920"/>
            <a:ext cx="2819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886200"/>
            <a:ext cx="2819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4876920"/>
            <a:ext cx="35816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7200" y="1981080"/>
            <a:ext cx="25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24600" y="396252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ut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11440" y="434340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gram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13760" y="152280"/>
            <a:ext cx="34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mporary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876920" y="2895480"/>
            <a:ext cx="12189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4038480"/>
            <a:ext cx="12189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629400" y="0"/>
                <a:ext cx="19558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2238480" y="502920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114800" y="5105520"/>
                <a:ext cx="927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2238480" y="594360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114800" y="5791320"/>
                <a:ext cx="1193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∗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858000" y="2666880"/>
                <a:ext cx="10414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444760" y="762120"/>
                <a:ext cx="2387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133720" y="1447920"/>
                <a:ext cx="30859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66F2-1791-4580-A060-738832091A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352680" y="2819520"/>
            <a:ext cx="152424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41400" y="3352680"/>
            <a:ext cx="8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5120" y="685800"/>
            <a:ext cx="36576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2590920"/>
            <a:ext cx="2819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5880" y="3886200"/>
            <a:ext cx="2819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4876920"/>
            <a:ext cx="35816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7200" y="1981080"/>
            <a:ext cx="25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8640" y="449568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ut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1440" y="434340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gram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13760" y="152280"/>
            <a:ext cx="34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mporary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876920" y="2895480"/>
            <a:ext cx="12189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76920" y="4038480"/>
            <a:ext cx="12189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629400" y="0"/>
                <a:ext cx="19558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2238480" y="502920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114800" y="5105520"/>
                <a:ext cx="927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2238480" y="594360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114800" y="5791320"/>
                <a:ext cx="1193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∗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858000" y="2666880"/>
                <a:ext cx="10414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444760" y="762120"/>
                <a:ext cx="2387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133720" y="1447920"/>
                <a:ext cx="30859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553080" y="3886200"/>
                <a:ext cx="1727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7359-348D-4DE1-9898-3FF03184E2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826720" y="-38160"/>
            <a:ext cx="314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2819520"/>
            <a:ext cx="152424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41400" y="3352680"/>
            <a:ext cx="8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1066680"/>
            <a:ext cx="3657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2590920"/>
            <a:ext cx="2819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3886200"/>
            <a:ext cx="2819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4876920"/>
            <a:ext cx="35816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5800" y="2666880"/>
            <a:ext cx="25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24600" y="396252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utpu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59360" y="495288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gram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13760" y="1143000"/>
            <a:ext cx="34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mporary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876920" y="2895480"/>
            <a:ext cx="12189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76920" y="4038480"/>
            <a:ext cx="12189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2666880"/>
            <a:ext cx="4038480" cy="297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73000" y="220680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a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9AF6-0C2E-41C2-B13E-DCC0D60EE1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88040" y="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fferent Kinds of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-13320" y="835200"/>
            <a:ext cx="9307800" cy="44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utomata are distinguished by the temporary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nite Automa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no temporary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ushdown Automa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ring Machin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random access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8178-2B97-4F73-8CB2-9780C53B6F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1T01:12:33Z</dcterms:created>
  <dc:creator>Costas Busch</dc:creator>
  <dc:description/>
  <dc:language>en-US</dc:language>
  <cp:lastModifiedBy>admin</cp:lastModifiedBy>
  <dcterms:modified xsi:type="dcterms:W3CDTF">2004-11-15T02:57:31Z</dcterms:modified>
  <cp:revision>273</cp:revision>
  <dc:subject/>
  <dc:title>Languages and Finite Automata</dc:title>
</cp:coreProperties>
</file>