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481-4E93-4CB7-879A-440BBC29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5194-3CFC-45A2-AE8A-CFF1D294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470D-43CE-43D0-B8B3-66B764E9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87D-DA51-4CEA-A45A-064B757D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B7D-34A6-4625-A8F2-A8A76D44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2128-0744-4E25-B7D9-072584A4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586A-9C92-4CF8-8D17-4A080934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D83-346A-4610-BF3B-070B9195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95F-10C2-4542-95BD-81FB1A26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623-0386-444C-B433-202641FD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1DC-2B1D-4436-ADED-58755DE7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A0E-8728-49DB-8152-2B6BD9C5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7D73-B2E6-42C7-942C-0EFF6C039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295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2:11:55Z</dcterms:created>
  <dc:creator>.</dc:creator>
  <dc:description/>
  <dc:language>en-US</dc:language>
  <cp:lastModifiedBy> Ben Collingsworth</cp:lastModifiedBy>
  <dcterms:modified xsi:type="dcterms:W3CDTF">2005-03-30T12:15:15Z</dcterms:modified>
  <cp:revision>25</cp:revision>
  <dc:subject/>
  <dc:title>x</dc:title>
</cp:coreProperties>
</file>