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D201-9BB3-4596-9116-9BC22D011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258A-E69A-4F9E-9A13-025C10040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277C-FD03-4382-BAB5-E277F64F3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5F36-B965-47C4-8D73-C394DFC60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FC6F7-1E13-4221-84A2-161A6311C1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4B86B-FE1D-48F6-8C83-146947B824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B5576-9970-4E27-8685-1FCB47BB80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FB02F-D5F9-43D6-BF86-0821FC620E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55AB5-DB30-4B95-A195-C83FF00F51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5AC85-8174-4C2A-94EF-37784494C5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B9C5E-01DA-4A6C-8B49-52F3C64109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BC75-18FA-4FA0-8362-35A3595E1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40336-DF0E-4BA5-97EC-66054A675A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9A2F4-6079-492A-9B56-A401EB28FD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5CB1F-13E7-4C10-B0B4-96E44B0455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33842-4E40-4DE3-96D4-C66355C5EE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A11F9-75FC-49F5-9AF1-30450C03EE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7765-D1F8-485A-9823-E2F445A219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0EC3-C942-470E-99D3-D007B11ABC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6A6D-BBC1-4C0F-B590-0DF3C80933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290B-516B-49A2-B892-570D2CBC36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3AB9-DE99-464E-888F-1AFD4AE34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E9E6-6EE9-43BA-ACF3-3FBAFE39A9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E237-29CE-412A-8796-2F6D864F50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4BB8-8810-40DC-9E17-64D20E4E70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E6EC-193E-48AC-BF75-E2E7F143A8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7C05-ABB2-4D6E-9A64-6B88D74D6B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D07D-3604-470E-B80A-42CC209FCE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BB6F-599C-416B-BDE1-7EC417889D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B74A-2D64-4302-A8B9-70050C3B2C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FE1A0-0654-4939-B4B4-D002C71075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90BD3-40A0-483F-9A17-33D591C27E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E0D6F-03E8-49BF-9356-8D417E700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05B5-CF46-4012-86D7-CAD9F30FC2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91F32-2E4E-410B-B42A-70AD5DF813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B2270-0B49-4B5F-9860-37B2CB2972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9C128-D278-4D40-81D0-B1986D941E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21179-F4F8-470F-88E7-C011881F39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63788-1CEE-4384-9D15-D44605C698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DEB4B-A426-4879-A195-9C0C2A98FB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63F96-C893-4A9B-B671-CD33012A64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7FEC2-0F7E-4168-BD06-0A9AB9A20A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38126-E9F4-444F-A78D-1CA51BDA39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5694F-6365-41BD-B75A-255AD292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0A1F-2233-4628-B832-BC57DACE409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38ECF-F966-4CCF-BB92-79D97B3E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642748-645C-4F57-9260-5B257207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B4957-82F8-40A7-92A2-941D7127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B1833-1560-4279-A905-C6E5E4C1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438B4-4DB0-437A-BB0E-1FB74A71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778E6-6DEA-4F81-AF1F-C710BD8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F7717-DED4-437B-9378-AE5C98B0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45996-0D75-470A-92FD-563829C9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C294E-E458-408D-BF53-44ED8DE7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79CBB-3617-4220-9738-2574A6E1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134C-5ACE-4959-93FE-9747F84A20C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45E9F-7025-481D-8A9B-E75A3EE5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A400E-76CE-4001-A01C-7432ABEE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64E28-F011-4219-842D-C113E36E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C331D-4297-4F20-80E7-7CE3BF4F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46D95-C62E-4B39-AEB3-A568ED33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1C708-57BE-4439-9E30-D5F7481A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1DB14-C863-4634-8652-3F0E6162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296E4-4EAA-4652-AA12-87B4415D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65249-C911-47BD-BAF7-6BD83A9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C43EC-5481-4A72-BA4C-70CB499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5584-2D73-4163-A40A-8750B12CD9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BAF52-4A2A-43C5-9034-4AD4B44B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29E5F-6DFE-401F-B91D-96A7C849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53408-2001-4102-AF77-8B81A15B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62B3-F851-483F-85E0-614FF7505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6253-4855-4B17-A6A8-1BD62BBAF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B277-3D0A-433A-8F8B-378C12AE3779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7167-F42B-4428-92A7-7A8C87D663F7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9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010360" y="6111720"/>
            <a:ext cx="1895400" cy="746280"/>
            <a:chOff x="8010360" y="6111720"/>
            <a:chExt cx="1895400" cy="74628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8312760" y="6389640"/>
              <a:ext cx="1288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010360" y="6111720"/>
              <a:ext cx="18954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593640" y="6524640"/>
            <a:ext cx="458784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192240" y="6518160"/>
            <a:ext cx="40464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6360-CBB4-4005-82C9-E3724ABE0B75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132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001000" y="2962440"/>
            <a:ext cx="1895040" cy="745920"/>
            <a:chOff x="8001000" y="2962440"/>
            <a:chExt cx="1895040" cy="745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8305560" y="3240000"/>
              <a:ext cx="1288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001000" y="2962440"/>
              <a:ext cx="189504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 type="ftr" idx="7"/>
          </p:nvPr>
        </p:nvSpPr>
        <p:spPr>
          <a:xfrm>
            <a:off x="635040" y="6524640"/>
            <a:ext cx="458784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8"/>
          </p:nvPr>
        </p:nvSpPr>
        <p:spPr>
          <a:xfrm>
            <a:off x="232920" y="6518160"/>
            <a:ext cx="40500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3CD1-0C1D-46B4-9A27-4CC5212841D4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0"/>
            <a:ext cx="7845120" cy="1981080"/>
            <a:chOff x="0" y="0"/>
            <a:chExt cx="7845120" cy="1981080"/>
          </a:xfrm>
        </p:grpSpPr>
        <p:sp>
          <p:nvSpPr>
            <p:cNvPr id="175" name=""/>
            <p:cNvSpPr/>
            <p:nvPr/>
          </p:nvSpPr>
          <p:spPr>
            <a:xfrm>
              <a:off x="0" y="925560"/>
              <a:ext cx="771624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0"/>
              <a:ext cx="7845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1246-13F7-4462-A6E7-05E1C680FE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62720" cy="5943600"/>
            <a:chOff x="0" y="0"/>
            <a:chExt cx="9162720" cy="5943600"/>
          </a:xfrm>
        </p:grpSpPr>
        <p:sp>
          <p:nvSpPr>
            <p:cNvPr id="219" name=""/>
            <p:cNvSpPr/>
            <p:nvPr/>
          </p:nvSpPr>
          <p:spPr>
            <a:xfrm>
              <a:off x="0" y="2286000"/>
              <a:ext cx="886536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0"/>
              <a:ext cx="916272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dt" idx="1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7504-2964-4FE1-9444-1827217160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title"/>
          </p:nvPr>
        </p:nvSpPr>
        <p:spPr>
          <a:xfrm>
            <a:off x="742680" y="1767960"/>
            <a:ext cx="8420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2680" y="1767960"/>
            <a:ext cx="8420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5400" spc="-1" strike="noStrike">
                <a:solidFill>
                  <a:srgbClr val="ffffcc"/>
                </a:solidFill>
                <a:latin typeface="Tahoma"/>
              </a:rPr>
              <a:t>Test at work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485720" y="3885840"/>
            <a:ext cx="693396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Measurement t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87200" y="4759200"/>
            <a:ext cx="8496360" cy="1496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Created by: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   Phyc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Approver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: Director, Common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Function: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 D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Doc ID: 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H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Location: 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7:49:49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7T08:36:12Z</dcterms:modified>
  <cp:revision>3</cp:revision>
  <dc:subject/>
  <dc:title>Slide 1</dc:title>
</cp:coreProperties>
</file>