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2600" cy="37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42660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49840" y="942660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BECD190-4C7D-4A51-8736-585441643B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19080" y="74448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77EA-5A6E-4169-8A17-9F9B24D2D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34800"/>
            <a:ext cx="77724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777096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901"/>
              </a:spcBef>
              <a:spcAft>
                <a:spcPts val="675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98960"/>
            <a:ext cx="777096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901"/>
              </a:spcBef>
              <a:spcAft>
                <a:spcPts val="675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2E25-B91F-4BF3-8EBD-4ADF7C08F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34800"/>
            <a:ext cx="77724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3791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901"/>
              </a:spcBef>
              <a:spcAft>
                <a:spcPts val="675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16280"/>
            <a:ext cx="3791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901"/>
              </a:spcBef>
              <a:spcAft>
                <a:spcPts val="675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98960"/>
            <a:ext cx="3791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901"/>
              </a:spcBef>
              <a:spcAft>
                <a:spcPts val="675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098960"/>
            <a:ext cx="3791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901"/>
              </a:spcBef>
              <a:spcAft>
                <a:spcPts val="675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360D-1931-4DC9-884B-1CCAA7FCB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34800"/>
            <a:ext cx="77724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250200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901"/>
              </a:spcBef>
              <a:spcAft>
                <a:spcPts val="675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16280"/>
            <a:ext cx="250200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901"/>
              </a:spcBef>
              <a:spcAft>
                <a:spcPts val="675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16280"/>
            <a:ext cx="250200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901"/>
              </a:spcBef>
              <a:spcAft>
                <a:spcPts val="675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98960"/>
            <a:ext cx="250200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901"/>
              </a:spcBef>
              <a:spcAft>
                <a:spcPts val="675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098960"/>
            <a:ext cx="250200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901"/>
              </a:spcBef>
              <a:spcAft>
                <a:spcPts val="675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098960"/>
            <a:ext cx="250200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901"/>
              </a:spcBef>
              <a:spcAft>
                <a:spcPts val="675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F58F-9FAB-4B6A-A34C-4D9EEEBD2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34800"/>
            <a:ext cx="77724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16280"/>
            <a:ext cx="777096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spcAft>
                <a:spcPts val="675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0719-173C-4593-B00C-BC03A626B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34800"/>
            <a:ext cx="77724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7770960" cy="41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901"/>
              </a:spcBef>
              <a:spcAft>
                <a:spcPts val="675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87BC-B5EF-40E4-8CBB-78C27F575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34800"/>
            <a:ext cx="77724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3791880" cy="41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901"/>
              </a:spcBef>
              <a:spcAft>
                <a:spcPts val="675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16280"/>
            <a:ext cx="3791880" cy="41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901"/>
              </a:spcBef>
              <a:spcAft>
                <a:spcPts val="675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843C-1759-4018-A52D-20807C42A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34800"/>
            <a:ext cx="77724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D8C8-8304-4ABE-A2B4-728C38E53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34800"/>
            <a:ext cx="77724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spcAft>
                <a:spcPts val="675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D5B5-342F-446C-A479-B005CBDA8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34800"/>
            <a:ext cx="77724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3791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901"/>
              </a:spcBef>
              <a:spcAft>
                <a:spcPts val="675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16280"/>
            <a:ext cx="3791880" cy="41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901"/>
              </a:spcBef>
              <a:spcAft>
                <a:spcPts val="675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98960"/>
            <a:ext cx="3791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901"/>
              </a:spcBef>
              <a:spcAft>
                <a:spcPts val="675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21E7-17F4-4F44-8D39-B7712CFCF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34800"/>
            <a:ext cx="77724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3791880" cy="41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901"/>
              </a:spcBef>
              <a:spcAft>
                <a:spcPts val="675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16280"/>
            <a:ext cx="3791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901"/>
              </a:spcBef>
              <a:spcAft>
                <a:spcPts val="675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098960"/>
            <a:ext cx="3791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901"/>
              </a:spcBef>
              <a:spcAft>
                <a:spcPts val="675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AA34-BCA7-4845-97EB-2E84CF2FC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34800"/>
            <a:ext cx="77724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3791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901"/>
              </a:spcBef>
              <a:spcAft>
                <a:spcPts val="675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16280"/>
            <a:ext cx="379188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901"/>
              </a:spcBef>
              <a:spcAft>
                <a:spcPts val="675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98960"/>
            <a:ext cx="7770960" cy="19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901"/>
              </a:spcBef>
              <a:spcAft>
                <a:spcPts val="675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A404-7AD9-448F-A685-2F524DD18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34800"/>
            <a:ext cx="77724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16280"/>
            <a:ext cx="7770960" cy="41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6120" indent="0">
              <a:spcBef>
                <a:spcPts val="901"/>
              </a:spcBef>
              <a:spcAft>
                <a:spcPts val="675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276120" indent="-276120">
              <a:spcBef>
                <a:spcPts val="901"/>
              </a:spcBef>
              <a:spcAft>
                <a:spcPts val="675"/>
              </a:spcAft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276120" indent="-276120">
              <a:spcBef>
                <a:spcPts val="901"/>
              </a:spcBef>
              <a:spcAft>
                <a:spcPts val="675"/>
              </a:spcAft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276120" indent="-276120">
              <a:spcBef>
                <a:spcPts val="901"/>
              </a:spcBef>
              <a:spcAft>
                <a:spcPts val="675"/>
              </a:spcAft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76120" indent="-276120">
              <a:spcBef>
                <a:spcPts val="901"/>
              </a:spcBef>
              <a:spcAft>
                <a:spcPts val="675"/>
              </a:spcAft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76120" indent="-276120">
              <a:spcBef>
                <a:spcPts val="901"/>
              </a:spcBef>
              <a:spcAft>
                <a:spcPts val="675"/>
              </a:spcAft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76120" indent="-276120">
              <a:spcBef>
                <a:spcPts val="901"/>
              </a:spcBef>
              <a:spcAft>
                <a:spcPts val="675"/>
              </a:spcAft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12440" y="631332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20/09/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50720" y="631332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36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552F475-D077-4E95-B8BA-0417C1E43669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2485800"/>
            <a:ext cx="7772400" cy="36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Two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two three four five six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even eight n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owell</dc:creator>
  <dc:description/>
  <dc:language>en-US</dc:language>
  <cp:lastModifiedBy>ro</cp:lastModifiedBy>
  <cp:revision>0</cp:revision>
  <dc:subject/>
  <dc:title>PowerPoint Presentation</dc:title>
</cp:coreProperties>
</file>