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1F1-A59F-4787-AEF5-E1143A38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6E0-F4AA-4DE6-B1DF-4A7EC286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183-AC3D-4054-AFE6-D4312F93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CD1-E1CA-4C02-9F3F-ECC02F5B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CB51-4FA9-4B9D-A7E0-7BA6A4EB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64EA-7EC7-44F9-9A86-1CD5F09C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E962-35EE-4DDA-B37D-296EF77E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01E2-318B-43F9-8080-38F6E3E0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3A46-9951-45BE-9E89-29BBF64C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19A2-5E01-41C2-A80F-43C6453C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FF12-4579-4FD4-BDDE-3CA7B633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03B-B658-4C56-9E4D-41214060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0A47-CACF-4647-A721-5996CBAF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E35D-8DF8-4441-A064-B38E8852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ACCF-FE17-412D-AD50-26AEA3C1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59F6-8DA8-4A8D-AFC1-42538039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5402-420C-40DE-A942-4DF0A6FA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42C-5CE7-4EC5-8923-863CC84F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AC2-4F54-41F0-BC60-EE76BEFE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EAF-5FBC-4985-B284-70D8D92B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518-4970-4463-9749-29E9C878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DBA-7EF5-46A5-9E37-56DCD9DE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A21-D52F-4C0D-881D-508265A2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818-7ED1-495B-93AC-BEE9E972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41B7-BAAA-4193-89BF-E55EAC52A64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80AC-8EC0-48F4-8AB0-722ACB7E6B3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[Company Name]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siness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05:52:38Z</dcterms:created>
  <dc:creator>Amit Batra</dc:creator>
  <dc:description/>
  <dc:language>en-US</dc:language>
  <cp:lastModifiedBy>Amit Batra</cp:lastModifiedBy>
  <dcterms:modified xsi:type="dcterms:W3CDTF">2004-01-22T08:39:48Z</dcterms:modified>
  <cp:revision>2</cp:revision>
  <dc:subject/>
  <dc:title>[Company Name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