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31D4-B236-41DA-8F56-37C39C11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CD54-E57A-4DBD-A455-763E2DA8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1B96-18A5-4977-97A1-399192847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F542-1CC5-4D1D-B28C-9E650587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B291-10BC-4FB9-B7DC-A2198A7F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57EC-EFE7-4DF4-91DB-3D6F0A5A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1235-9092-4B23-BE02-289665A8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774A-46D3-49BD-B031-FBF995F3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B1BB-F063-40B3-9943-E929BD15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45C4-3CDF-4362-8E59-0D4E07C6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0F34-C788-4179-9C92-277F3DE6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8B58-26A3-4585-A24B-ABFB0485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464421-ECAD-4ED6-8AD2-1B6918A6C35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ontent Placeholder 3" descr="bug2.JPG"/>
          <p:cNvPicPr/>
          <p:nvPr/>
        </p:nvPicPr>
        <p:blipFill>
          <a:blip r:embed="rId1"/>
          <a:stretch/>
        </p:blipFill>
        <p:spPr>
          <a:xfrm>
            <a:off x="165240" y="1219320"/>
            <a:ext cx="8177760" cy="49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ontent Placeholder 3" descr="bug1.JPG"/>
          <p:cNvPicPr/>
          <p:nvPr/>
        </p:nvPicPr>
        <p:blipFill>
          <a:blip r:embed="rId1"/>
          <a:stretch/>
        </p:blipFill>
        <p:spPr>
          <a:xfrm>
            <a:off x="416520" y="1447920"/>
            <a:ext cx="8048160" cy="46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lex Bargerstock</dc:creator>
  <dc:description/>
  <dc:language>en-US</dc:language>
  <cp:lastModifiedBy>Alex Bargerstock</cp:lastModifiedBy>
  <dcterms:modified xsi:type="dcterms:W3CDTF">2014-05-07T17:53:52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</vt:r8>
  </property>
</Properties>
</file>