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8FA-5894-464F-8F2F-B1925568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37F-928B-46B9-B373-BAA7CBD1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82F-56A9-46E0-A495-28500D84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A1B-20F9-48DF-BC25-90F09C3F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7837-4292-42B6-A786-25E9382C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611F-924F-4588-9536-10ED0617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2FC6-BC03-4907-8A85-9220BC1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E6A7-AD76-4A39-BC53-48467A8F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886A-5502-407C-83FF-6E2BFA2A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0087-B01F-4928-ADDA-096D7A34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8C55-3C86-4EDF-8CF7-C3FBF7F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478-220A-4A87-92EC-598630FA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625-47F3-4133-A616-86DE4B1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B53B-D86E-4049-9D61-0AB58FD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7ED-6946-4F0B-9371-2DE49D2F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7585-1BC8-45F6-8C5F-2B0EB3C5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962E-FA4D-41D3-AD9C-79B9F1A6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398-8379-4F22-BB32-8B1D3CA8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3ED-59B2-4DBA-922C-89AE7B48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9BF-526D-4489-A4D7-87B1D060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8A8-962B-45C8-B8B3-1025938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195-F07F-403B-A7B3-61C6436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DD2-7D3B-4158-9A65-1CBEA723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8B6-099A-4CC3-9F23-125FA9B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e4e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C758-F67C-4072-A6EE-A780356B4C62}" type="datetime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C26A-ACE8-4258-B039-170E6D051D70}" type="slidenum"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6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2B3F-ABC8-44E1-8A39-ECAF101665E1}" type="datetime"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F3DF-CAE2-4440-8E24-E9752BBA877D}" type="slidenum">
              <a:rPr b="0" lang="he-IL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d4d4ce"/>
                </a:solidFill>
                <a:latin typeface="Tahoma"/>
                <a:cs typeface="Narkisim"/>
              </a:rPr>
              <a:t>מדע בדיוני בישראל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876560" y="4611240"/>
            <a:ext cx="42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</a:rPr>
              <a:t>רק אנ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C76D-8736-4F0B-AB47-8B31308859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C3517D7-02C9-4E04-822C-0A93374F4342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תוכן הענינים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מגזינים בישרא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פורומ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כותב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כנס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משחקי תפקידי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קומיק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8C6-879C-449B-B229-059602FD00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EE611-21BA-4F7F-A299-EE9AC6709CB8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מגזינים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הטוב, הרע והמכונה- ביקורת סר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יש כמה שאלות בחיים שהתשובה עליהן היא לא פשוטה ולעיתים בלתי אפשרית:"מאיפה באנו?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ראשית אנו מברכים את עזריאל דגן על הצטרפותו לצוות הכותבי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E26-638E-44CD-B46A-2ED9999E8A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7CDAA-DA8F-4687-8BEB-3EA8BE5A1BD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</a:rPr>
              <a:t> </a:t>
            </a: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מילון מושגים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הכוכב הלבן  ספינת חלל ראשונה מסוג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BN Pakistan"/>
              </a:rPr>
              <a:t> שילוב בין טכנולוגייה מינבארית לבין טכנולוגיה אנושית וורלוני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הטאורי  כינויים של בני האדם בפי יושבי הגלקסיה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היום בו עמדה האדמה מלכת  סרט קולנוע בשחור לבן משנת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BN Pakistan"/>
              </a:rPr>
              <a:t>195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ahoma"/>
                <a:cs typeface="BN Pakistan"/>
              </a:rPr>
              <a:t>כונות החשיבה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BN Pakistan"/>
              </a:rPr>
              <a:t>  אויבי האנושות האימתניים ביותר בכרוניקת הספרים של 'חולית'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97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A8B-1313-4D8D-B85C-6B7033726C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061BC-F202-4B48-8C16-AC8F8C900C11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d4d4ce"/>
                </a:solidFill>
                <a:latin typeface="Tahoma"/>
                <a:cs typeface="Narkisim"/>
              </a:rPr>
              <a:t>מזל שלכל דבר יש סוף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BN Pakistan"/>
              </a:rPr>
              <a:t> לעולם אל לך להיות בחברתו של מישהו שלא היית רוצה למות עמו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BN Pakist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BN Pakistan"/>
              </a:rPr>
              <a:t> האם אלוהים מוטרד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BN Pakistan"/>
              </a:rPr>
              <a:t>חטאיו של העולם היו מטרידים כל אחד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07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F47-8C5C-4B47-9953-2131275642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FFA56-8A43-47AA-9173-2F397F2FB050}" type="datetime1">
              <a:rPr lang="en-US"/>
              <a:t>07/29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115" name="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/>
              <a:ahLst/>
              <a:rect l="l" t="t" r="r" b="b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123" name="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/>
              <a:ahLst/>
              <a:rect l="l" t="t" r="r" b="b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131" name="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/>
              <a:ahLst/>
              <a:rect l="l" t="t" r="r" b="b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139" name="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/>
              <a:ahLst/>
              <a:rect l="l" t="t" r="r" b="b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147" name="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/>
              <a:ahLst/>
              <a:rect l="l" t="t" r="r" b="b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155" name="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49747d"/>
          </a:solidFill>
          <a:ln w="12600">
            <a:solidFill>
              <a:srgbClr val="497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163" name="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165" name="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49747d"/>
              </a:solidFill>
              <a:ln w="12600">
                <a:solidFill>
                  <a:srgbClr val="497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/>
                <a:ahLst/>
                <a:rect l="l" t="t" r="r" b="b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747d"/>
              </a:solidFill>
              <a:ln w="12600">
                <a:solidFill>
                  <a:srgbClr val="4974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172" name="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/>
              <a:ahLst/>
              <a:rect l="l" t="t" r="r" b="b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49747d"/>
            </a:solidFill>
            <a:ln w="12600">
              <a:solidFill>
                <a:srgbClr val="497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49747d"/>
            </a:solidFill>
            <a:ln w="12600">
              <a:solidFill>
                <a:srgbClr val="497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הפריחה הגדולה של מדע בדיוני בישראל של שנות האלפיי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9D9-3E0D-4C38-81A8-E4E8313BBAF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0654B-6B03-446F-BEBB-F97ED1960106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18:59Z</dcterms:created>
  <dc:creator>null</dc:creator>
  <dc:description/>
  <dc:language>en-US</dc:language>
  <cp:lastModifiedBy>Administrator</cp:lastModifiedBy>
  <dcterms:modified xsi:type="dcterms:W3CDTF">2003-11-17T10:16:14Z</dcterms:modified>
  <cp:revision>7</cp:revision>
  <dc:subject/>
  <dc:title>Creativity Se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