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17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5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17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4520" y="115920"/>
            <a:ext cx="8272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17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8920" y="114264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45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17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8920" y="3768120"/>
            <a:ext cx="26636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115920"/>
            <a:ext cx="8272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76812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3668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520" y="3768120"/>
            <a:ext cx="8272440" cy="23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5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7e7a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1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2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3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4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5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6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9200" y="6234120"/>
            <a:ext cx="1197000" cy="611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34880" y="6532560"/>
            <a:ext cx="2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86B42D-CE26-40B8-86F6-97CC922FEF97}" type="slidenum">
              <a:rPr b="0" lang="pt-BR" sz="900" spc="-1" strike="noStrike">
                <a:solidFill>
                  <a:srgbClr val="74767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5000" y="6257880"/>
            <a:ext cx="6991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440" y="1432080"/>
            <a:ext cx="834228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3076560"/>
            <a:ext cx="5310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422280"/>
            <a:ext cx="125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66040" y="281160"/>
            <a:ext cx="239544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975120"/>
            <a:ext cx="9145440" cy="25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520" y="115920"/>
            <a:ext cx="8272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7e7a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7e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4520" y="1142640"/>
            <a:ext cx="8272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25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1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2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3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4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5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  <a:p>
            <a:pPr lvl="6" marL="318960" indent="-318960">
              <a:spcBef>
                <a:spcPts val="25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89000" y="934920"/>
            <a:ext cx="4605120" cy="26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4747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4640" y="135000"/>
            <a:ext cx="7931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Manganese Ore– Supply x Demand and Concentration level</a:t>
            </a:r>
            <a:endParaRPr b="0" lang="en-US" sz="2000" spc="-1" strike="noStrike">
              <a:solidFill>
                <a:srgbClr val="474747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8000" y="50760"/>
            <a:ext cx="895320" cy="611280"/>
            <a:chOff x="108000" y="50760"/>
            <a:chExt cx="895320" cy="611280"/>
          </a:xfrm>
        </p:grpSpPr>
        <p:sp>
          <p:nvSpPr>
            <p:cNvPr id="87" name=""/>
            <p:cNvSpPr/>
            <p:nvPr/>
          </p:nvSpPr>
          <p:spPr>
            <a:xfrm>
              <a:off x="108000" y="66600"/>
              <a:ext cx="8953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474747"/>
                  </a:solidFill>
                  <a:latin typeface="Arial"/>
                  <a:ea typeface="Gulim"/>
                </a:rPr>
                <a:t>Iron Ore</a:t>
              </a:r>
              <a:endParaRPr b="0" lang="en-US" sz="1200" spc="-1" strike="noStrike">
                <a:solidFill>
                  <a:srgbClr val="474747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1080" y="50760"/>
              <a:ext cx="728640" cy="61128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474747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06280" y="219240"/>
              <a:ext cx="68904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78000" y="1206360"/>
          <a:ext cx="4449600" cy="20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206360"/>
                    <a:ext cx="444960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96880" y="738360"/>
            <a:ext cx="2881440" cy="3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Supply x Demand x Capacity</a:t>
            </a:r>
            <a:endParaRPr b="0" lang="en-US" sz="1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25560" y="3370320"/>
            <a:ext cx="3826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17600" y="3370320"/>
            <a:ext cx="38268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0560" y="3370320"/>
            <a:ext cx="381240" cy="1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79720" y="3373560"/>
            <a:ext cx="3808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60600" y="3373560"/>
            <a:ext cx="3826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8480" y="3370320"/>
            <a:ext cx="38124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,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80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,7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907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0,9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1160" y="3362400"/>
            <a:ext cx="554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0,7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44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-0,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1480" y="3362400"/>
            <a:ext cx="508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,3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0040" y="3373560"/>
            <a:ext cx="3808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20920" y="3373560"/>
            <a:ext cx="38268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4480" y="3362400"/>
            <a:ext cx="5097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548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2,9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94240" y="3373560"/>
            <a:ext cx="38232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76560" y="3373560"/>
            <a:ext cx="381240" cy="18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2440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11,1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87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8,6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68960" y="3378240"/>
            <a:ext cx="382320" cy="1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0160" y="3362400"/>
            <a:ext cx="507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6,4%</a:t>
            </a:r>
            <a:endParaRPr b="0" lang="en-US" sz="9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078080" y="2262240"/>
            <a:ext cx="1981080" cy="250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95800" y="3017880"/>
            <a:ext cx="3823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3000240"/>
            <a:ext cx="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474747"/>
                </a:solidFill>
                <a:latin typeface="Arial"/>
              </a:rPr>
              <a:t>Supply/Demand</a:t>
            </a:r>
            <a:endParaRPr b="0" lang="en-US" sz="8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103500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Million tons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3040" y="3836880"/>
            <a:ext cx="4605480" cy="26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4747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440" y="3672000"/>
            <a:ext cx="3225600" cy="3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474747"/>
                </a:solidFill>
                <a:latin typeface="Arial"/>
              </a:rPr>
              <a:t>Concentration level – High Grade Mn Ore</a:t>
            </a:r>
            <a:endParaRPr b="0" lang="en-US" sz="12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077720" y="4984560"/>
            <a:ext cx="1981440" cy="250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0760" y="4160880"/>
          <a:ext cx="4216320" cy="23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760" y="4160880"/>
                    <a:ext cx="421632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194440" y="3948120"/>
            <a:ext cx="35128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High grade Mn Ore remains a highly concentrated market, 4 players hold 77% of the market share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BHP still remain the market leader until 2020. Currently it holds 37% of share, followed by Eramet and Assmang with 16% and 15 % respectively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ue to Mn Ore high grade scarcity, new sources of ore will be also provided by expansion of the current operations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 algn="just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riven by higher prices, new entrants should come from Asian and other African countries, increasing the share of other suppliers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1187280"/>
            <a:ext cx="35542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474747"/>
                </a:solidFill>
                <a:latin typeface="Arial"/>
              </a:rPr>
              <a:t>China remains the main demand driver. Until 2020 Chinese imports of Mn Ore will almost double in relation to 2008 (~7Mtpy contained Mn)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Increasing ferroalloy production in India consolidating the dependant on Mn imports. Poor domestic Mn reserves not enough to meet the demand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RSA output projects to bring on additional supply but logistics remains a constraint for these projects.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Despite a nominal oversupplied market, high grade ore remains short in the long term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  <a:p>
            <a:pPr marL="119160" indent="-119160">
              <a:spcBef>
                <a:spcPts val="624"/>
              </a:spcBef>
              <a:buClr>
                <a:srgbClr val="474747"/>
              </a:buClr>
              <a:buFont typeface="Arial"/>
              <a:buChar char="•"/>
              <a:tabLst>
                <a:tab algn="l" pos="119160"/>
                <a:tab algn="l" pos="1033560"/>
                <a:tab algn="l" pos="1947960"/>
                <a:tab algn="l" pos="2862360"/>
                <a:tab algn="l" pos="3776760"/>
                <a:tab algn="l" pos="4691160"/>
                <a:tab algn="l" pos="5605560"/>
                <a:tab algn="l" pos="6519960"/>
                <a:tab algn="l" pos="7434360"/>
                <a:tab algn="l" pos="8348760"/>
                <a:tab algn="l" pos="9263160"/>
                <a:tab algn="l" pos="1017756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474747"/>
                </a:solidFill>
                <a:latin typeface="Arial"/>
              </a:rPr>
              <a:t>A higher utilization of the installed capacity will be restricted by logistics constraints in the next years. </a:t>
            </a:r>
            <a:endParaRPr b="0" lang="en-US" sz="10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07040" y="2004840"/>
            <a:ext cx="187200" cy="144720"/>
          </a:xfrm>
          <a:custGeom>
            <a:avLst/>
            <a:gdLst>
              <a:gd name="textAreaLeft" fmla="*/ 9360 w 187200"/>
              <a:gd name="textAreaRight" fmla="*/ 177840 w 1872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6956" y="3794"/>
                </a:moveTo>
                <a:lnTo>
                  <a:pt x="20969" y="10800"/>
                </a:lnTo>
                <a:lnTo>
                  <a:pt x="6956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26510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58160" y="3357720"/>
            <a:ext cx="187560" cy="14904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27169" h="21600">
                <a:moveTo>
                  <a:pt x="0" y="0"/>
                </a:moveTo>
                <a:lnTo>
                  <a:pt x="27169" y="0"/>
                </a:lnTo>
                <a:lnTo>
                  <a:pt x="27169" y="21600"/>
                </a:lnTo>
                <a:lnTo>
                  <a:pt x="0" y="21600"/>
                </a:lnTo>
                <a:close/>
              </a:path>
              <a:path fill="lightenLess" w="27169" h="21600">
                <a:moveTo>
                  <a:pt x="0" y="0"/>
                </a:moveTo>
                <a:lnTo>
                  <a:pt x="27169" y="0"/>
                </a:lnTo>
                <a:lnTo>
                  <a:pt x="25769" y="1400"/>
                </a:lnTo>
                <a:lnTo>
                  <a:pt x="1400" y="1400"/>
                </a:lnTo>
                <a:close/>
              </a:path>
              <a:path fill="darken" w="27169" h="21600">
                <a:moveTo>
                  <a:pt x="27169" y="0"/>
                </a:moveTo>
                <a:lnTo>
                  <a:pt x="27169" y="21600"/>
                </a:lnTo>
                <a:lnTo>
                  <a:pt x="25769" y="20200"/>
                </a:lnTo>
                <a:lnTo>
                  <a:pt x="25769" y="1400"/>
                </a:lnTo>
                <a:close/>
              </a:path>
              <a:path fill="darkenLess" w="27169" h="21600">
                <a:moveTo>
                  <a:pt x="2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69" y="20200"/>
                </a:lnTo>
                <a:close/>
              </a:path>
              <a:path fill="lighten" w="2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69" h="21600">
                <a:moveTo>
                  <a:pt x="6578" y="3794"/>
                </a:moveTo>
                <a:lnTo>
                  <a:pt x="20591" y="10800"/>
                </a:lnTo>
                <a:lnTo>
                  <a:pt x="657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58160" y="5504040"/>
            <a:ext cx="187560" cy="14904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040"/>
              <a:gd name="textAreaBottom" fmla="*/ 139680 h 149040"/>
            </a:gdLst>
            <a:ahLst/>
            <a:rect l="textAreaLeft" t="textAreaTop" r="textAreaRight" b="textAreaBottom"/>
            <a:pathLst>
              <a:path w="27169" h="21600">
                <a:moveTo>
                  <a:pt x="0" y="0"/>
                </a:moveTo>
                <a:lnTo>
                  <a:pt x="27169" y="0"/>
                </a:lnTo>
                <a:lnTo>
                  <a:pt x="27169" y="21600"/>
                </a:lnTo>
                <a:lnTo>
                  <a:pt x="0" y="21600"/>
                </a:lnTo>
                <a:close/>
              </a:path>
              <a:path fill="lightenLess" w="27169" h="21600">
                <a:moveTo>
                  <a:pt x="0" y="0"/>
                </a:moveTo>
                <a:lnTo>
                  <a:pt x="27169" y="0"/>
                </a:lnTo>
                <a:lnTo>
                  <a:pt x="25769" y="1400"/>
                </a:lnTo>
                <a:lnTo>
                  <a:pt x="1400" y="1400"/>
                </a:lnTo>
                <a:close/>
              </a:path>
              <a:path fill="darken" w="27169" h="21600">
                <a:moveTo>
                  <a:pt x="27169" y="0"/>
                </a:moveTo>
                <a:lnTo>
                  <a:pt x="27169" y="21600"/>
                </a:lnTo>
                <a:lnTo>
                  <a:pt x="25769" y="20200"/>
                </a:lnTo>
                <a:lnTo>
                  <a:pt x="25769" y="1400"/>
                </a:lnTo>
                <a:close/>
              </a:path>
              <a:path fill="darkenLess" w="27169" h="21600">
                <a:moveTo>
                  <a:pt x="27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69" y="20200"/>
                </a:lnTo>
                <a:close/>
              </a:path>
              <a:path fill="lighten" w="27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69" h="21600">
                <a:moveTo>
                  <a:pt x="6578" y="3794"/>
                </a:moveTo>
                <a:lnTo>
                  <a:pt x="20591" y="10800"/>
                </a:lnTo>
                <a:lnTo>
                  <a:pt x="6578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8160" y="59054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1992240"/>
            <a:ext cx="187560" cy="149400"/>
          </a:xfrm>
          <a:custGeom>
            <a:avLst/>
            <a:gdLst>
              <a:gd name="textAreaLeft" fmla="*/ 9360 w 187560"/>
              <a:gd name="textAreaRight" fmla="*/ 178200 w 187560"/>
              <a:gd name="textAreaTop" fmla="*/ 9360 h 149400"/>
              <a:gd name="textAreaBottom" fmla="*/ 140040 h 149400"/>
            </a:gdLst>
            <a:ahLst/>
            <a:rect l="textAreaLeft" t="textAreaTop" r="textAreaRight" b="textAreaBottom"/>
            <a:pathLst>
              <a:path w="27104" h="21600">
                <a:moveTo>
                  <a:pt x="0" y="0"/>
                </a:moveTo>
                <a:lnTo>
                  <a:pt x="27104" y="0"/>
                </a:lnTo>
                <a:lnTo>
                  <a:pt x="27104" y="21600"/>
                </a:lnTo>
                <a:lnTo>
                  <a:pt x="0" y="21600"/>
                </a:lnTo>
                <a:close/>
              </a:path>
              <a:path fill="lightenLess" w="27104" h="21600">
                <a:moveTo>
                  <a:pt x="0" y="0"/>
                </a:moveTo>
                <a:lnTo>
                  <a:pt x="27104" y="0"/>
                </a:lnTo>
                <a:lnTo>
                  <a:pt x="25704" y="1400"/>
                </a:lnTo>
                <a:lnTo>
                  <a:pt x="1400" y="1400"/>
                </a:lnTo>
                <a:close/>
              </a:path>
              <a:path fill="darken" w="27104" h="21600">
                <a:moveTo>
                  <a:pt x="27104" y="0"/>
                </a:moveTo>
                <a:lnTo>
                  <a:pt x="27104" y="21600"/>
                </a:lnTo>
                <a:lnTo>
                  <a:pt x="25704" y="20200"/>
                </a:lnTo>
                <a:lnTo>
                  <a:pt x="25704" y="1400"/>
                </a:lnTo>
                <a:close/>
              </a:path>
              <a:path fill="darkenLess" w="27104" h="21600">
                <a:moveTo>
                  <a:pt x="27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04" y="20200"/>
                </a:lnTo>
                <a:close/>
              </a:path>
              <a:path fill="lighten" w="27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04" h="21600">
                <a:moveTo>
                  <a:pt x="6545" y="3794"/>
                </a:moveTo>
                <a:lnTo>
                  <a:pt x="20558" y="10800"/>
                </a:lnTo>
                <a:lnTo>
                  <a:pt x="6545" y="1780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65960" y="1189080"/>
            <a:ext cx="901800" cy="2141640"/>
          </a:xfrm>
          <a:prstGeom prst="rect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18240" y="3772080"/>
            <a:ext cx="901800" cy="2141280"/>
          </a:xfrm>
          <a:prstGeom prst="rect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47474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8:21:02Z</dcterms:created>
  <dc:creator>Patricia Tinoco</dc:creator>
  <dc:description/>
  <dc:language>en-US</dc:language>
  <cp:lastModifiedBy>12000208</cp:lastModifiedBy>
  <dcterms:modified xsi:type="dcterms:W3CDTF">2011-07-22T09:35:10Z</dcterms:modified>
  <cp:revision>114</cp:revision>
  <dc:subject/>
  <dc:title>Slide 1</dc:title>
</cp:coreProperties>
</file>