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155700" cy="1555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55680" y="685440"/>
            <a:ext cx="2546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02F0ABF5-1A89-42AF-AAB7-A684C581A4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fixed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6413DC27-EA2C-464A-A7ED-A2FB80A25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155680" y="685800"/>
            <a:ext cx="25466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200" spc="-1" strike="noStrike">
                <a:solidFill>
                  <a:srgbClr val="000000"/>
                </a:solidFill>
                <a:latin typeface="Calibri"/>
              </a:rPr>
              <a:t>This is my Note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BDC-1279-4795-BC1C-5AF9820C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80" y="89892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588-63C4-4284-BE6C-EDF014A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76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5C9-DAAA-4EEF-9F6E-C6622DB8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32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400" y="36324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8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32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61400" y="898920"/>
            <a:ext cx="3351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926-A2EC-4392-9551-3AA98746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527-DA7B-4D6E-A6DC-8974089A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A02-A3A0-4D6F-B5B9-1859FE7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646-3130-44FB-BB77-90797F3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C57-5FB5-4CF0-9415-9B5A7727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880" y="61560"/>
            <a:ext cx="1041480" cy="12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6B0-5259-4B40-AC27-FB59759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ECE-8F97-4631-AD19-8F790BC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760" y="89892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AF6-CDBB-43FE-9C3B-96B8FA1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760" y="3632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80" y="898920"/>
            <a:ext cx="1041480" cy="4888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1B1-9177-406C-8DC1-93682C0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-5724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125280" indent="-4752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2" marL="192240" indent="-381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3" marL="270000" indent="-381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4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5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6" marL="347760" indent="-381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880" y="1441080"/>
            <a:ext cx="26964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lstStyle>
            <a:lvl1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en-US" sz="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5280" y="1441080"/>
            <a:ext cx="36504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720" y="1441080"/>
            <a:ext cx="270000" cy="824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lstStyle>
            <a:lvl1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  <a:defRPr b="0" lang="en-US" sz="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D5A180D1-4D7E-4CB4-82DF-CA1BE75B051B}" type="slidenum">
              <a:rPr b="0" lang="en-US" sz="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80" y="61920"/>
            <a:ext cx="1041480" cy="14018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Design&gt;Page Setup&gt;Custo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Width: 3,21c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Height: 4,32cm</a:t>
            </a:r>
            <a:br>
              <a:rPr sz="500"/>
            </a:br>
            <a:r>
              <a:rPr b="0" lang="de-DE" sz="500" spc="-1" strike="noStrike">
                <a:solidFill>
                  <a:srgbClr val="000000"/>
                </a:solidFill>
                <a:latin typeface="Cambria"/>
              </a:rPr>
              <a:t>Portait / Porta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1" i="1" lang="de-DE" sz="500" spc="-1" strike="noStrike">
                <a:solidFill>
                  <a:srgbClr val="000000"/>
                </a:solidFill>
                <a:latin typeface="Calibri"/>
              </a:rPr>
              <a:t>Page Setup Test 1: </a:t>
            </a:r>
            <a:r>
              <a:rPr b="0" lang="de-DE" sz="700" spc="-1" strike="noStrike">
                <a:solidFill>
                  <a:srgbClr val="800080"/>
                </a:solidFill>
                <a:latin typeface="Calibri"/>
              </a:rPr>
              <a:t>Siz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Sized for: Custo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Orientation: Landcap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Size: 20x20 c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&lt; line break (ente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7240" y="1441440"/>
            <a:ext cx="2696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B832BECD-BE6F-48AF-8359-B361E4FA8B4F}" type="datetime">
              <a:rPr b="0" lang="en-US" sz="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 </a:t>
            </a:r>
            <a:fld id="{85BA8CA2-7750-4649-8944-5034599D9D9C}" type="datetime12">
              <a:rPr b="0" lang="en-US" sz="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5280" y="1441440"/>
            <a:ext cx="365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 algn="ct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en-US" sz="200" spc="-1" strike="noStrike">
                <a:solidFill>
                  <a:srgbClr val="898989"/>
                </a:solidFill>
                <a:latin typeface="Calibri"/>
              </a:rPr>
              <a:t>This is a Testfooter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28720" y="1441440"/>
            <a:ext cx="2700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" rIns="15480" tIns="7920" bIns="7920" anchor="ctr">
            <a:noAutofit/>
          </a:bodyPr>
          <a:p>
            <a:pPr algn="r"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fld id="{789BC7D1-74B1-43A2-92AA-8F4BFAA7BD4E}" type="slidenum">
              <a:rPr b="0" lang="en-US" sz="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80" y="61560"/>
            <a:ext cx="1041480" cy="26028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ctr">
            <a:noAutofit/>
          </a:bodyPr>
          <a:p>
            <a:pPr indent="0" algn="ctr"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1" i="1" lang="de-DE" sz="500" spc="-1" strike="noStrike">
                <a:solidFill>
                  <a:srgbClr val="000000"/>
                </a:solidFill>
                <a:latin typeface="Calibri"/>
              </a:rPr>
              <a:t>Page Setup Test 2: </a:t>
            </a:r>
            <a:r>
              <a:rPr b="0" lang="de-DE" sz="800" spc="-1" strike="noStrike">
                <a:solidFill>
                  <a:srgbClr val="800080"/>
                </a:solidFill>
                <a:latin typeface="Calibri"/>
              </a:rPr>
              <a:t>Header/Foot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880" y="363240"/>
            <a:ext cx="1041480" cy="1025640"/>
          </a:xfrm>
          <a:prstGeom prst="rect">
            <a:avLst/>
          </a:prstGeom>
          <a:noFill/>
          <a:ln w="0">
            <a:noFill/>
          </a:ln>
        </p:spPr>
        <p:txBody>
          <a:bodyPr lIns="15480" rIns="15480" tIns="7920" bIns="7920" anchor="t">
            <a:normAutofit/>
          </a:bodyPr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This slide should have a Foote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spcBef>
                <a:spcPts val="99"/>
              </a:spcBef>
              <a:buNone/>
              <a:tabLst>
                <a:tab algn="l" pos="0"/>
                <a:tab algn="l" pos="154080"/>
                <a:tab algn="l" pos="307800"/>
                <a:tab algn="l" pos="461880"/>
                <a:tab algn="l" pos="615960"/>
                <a:tab algn="l" pos="77004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Calibri"/>
              </a:rPr>
              <a:t>It‘s notespage should have a header, footer and a tex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aime</cp:lastModifiedBy>
  <dcterms:modified xsi:type="dcterms:W3CDTF">2010-03-30T22:09:55Z</dcterms:modified>
  <cp:revision>86</cp:revision>
  <dc:subject/>
  <dc:title>Slide 1</dc:title>
</cp:coreProperties>
</file>