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A68-A7D9-4E11-8DDC-0AF3E1A1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584-1E22-47F4-87D2-8D80D23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47F-B127-4D91-B18A-2BE79506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651-72BD-43A0-AFBB-13475D24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716-2262-4575-9ADC-A673BC29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384-17B4-4C11-9881-20103F61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3C4-770C-4860-8187-095F0873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E04-3B83-427E-ACC0-EC6E7AF4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821-8A13-4076-94F2-4D9579E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3A4-6075-4ACC-8152-4DE5BE6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2D0-31F5-46E7-B18E-5CB885A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3E2-642C-4576-A062-E297239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160-4E76-48D1-9A74-11681171A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89000"/>
          <a:ext cx="8569080" cy="1182600"/>
        </p:xfrm>
        <a:graphic>
          <a:graphicData uri="http://schemas.openxmlformats.org/drawingml/2006/table">
            <a:tbl>
              <a:tblPr/>
              <a:tblGrid>
                <a:gridCol w="1066680"/>
                <a:gridCol w="750240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case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acked Bar with a cylindrical sha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ked Bar with a cylindrical 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8446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446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crystal</cp:lastModifiedBy>
  <dcterms:modified xsi:type="dcterms:W3CDTF">2012-09-12T07:09:39Z</dcterms:modified>
  <cp:revision>13</cp:revision>
  <dc:subject/>
  <dc:title>幻灯片 1</dc:title>
</cp:coreProperties>
</file>