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53E0-6876-4258-B6EF-A0F62442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CDD3-4E81-4D1C-968D-3C38AB85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D01C-1DE9-4446-8A46-D96EA4B0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CA45-585D-4C90-9662-528DA82B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7F15-9D58-44CC-B665-789BA21E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2538-3C0B-4747-9393-C4D1B886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CFED-FE49-42FC-B7F0-D2532444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5B28-5F4A-42ED-A6C7-1FD1990E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82CD-6611-4F0E-A942-6C6CE3C4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5C1C-D6B5-4C74-B50A-0922ACB9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DF2F-F5D7-4F6A-BC3B-039F5F0B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1810-593A-48F4-B9C5-71FD6F24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9834-999D-4207-BC3A-F20CAE60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AC9D-FD21-47B0-8F30-7117D9B9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5457-EB95-458A-9631-BE334157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A2E9-938F-4723-A1F3-DDE0DDBC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317A-8A76-4741-A905-2C87C773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E599-4E00-4FB1-838F-DF4BC3FD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3735-1EC7-4FDF-AB73-5A3BFC86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7030-63C6-4C99-9AC8-7BF8248E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C2B0-0DB9-414D-9651-C3FB55EA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92C1-1275-4FDE-BDF3-349E08E0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ECE6-D076-47BC-BFC6-1352D79C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A47C-54E2-4DD6-BF57-4D26FF98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ADBF-BC11-4B37-8582-63750E2444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3C8E-41AB-49E0-8C13-8E8C752265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4360" y="549360"/>
            <a:ext cx="6553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imulace, jak by to mohlo vypad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9520" y="2914560"/>
            <a:ext cx="7859880" cy="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2914560"/>
            <a:ext cx="1440" cy="31428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8880" y="3228840"/>
            <a:ext cx="13698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2080" y="1917720"/>
            <a:ext cx="1241280" cy="64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2080" y="2133720"/>
            <a:ext cx="247680" cy="2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9760" y="2133720"/>
            <a:ext cx="993600" cy="2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3240" y="1203480"/>
            <a:ext cx="43524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0800" y="1631880"/>
            <a:ext cx="144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8880" y="2562120"/>
            <a:ext cx="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76320" y="1917720"/>
            <a:ext cx="1241640" cy="64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76320" y="2133720"/>
            <a:ext cx="247680" cy="2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24000" y="2133720"/>
            <a:ext cx="993960" cy="2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49640" y="1203480"/>
            <a:ext cx="43308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5400" y="1631880"/>
            <a:ext cx="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73480" y="2562120"/>
            <a:ext cx="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76680" y="1917720"/>
            <a:ext cx="1243080" cy="64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6680" y="2133720"/>
            <a:ext cx="249120" cy="2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25800" y="2133720"/>
            <a:ext cx="993960" cy="2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49640" y="1203480"/>
            <a:ext cx="43488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cs-CZ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35400" y="1631880"/>
            <a:ext cx="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73480" y="2562120"/>
            <a:ext cx="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9520" y="3024360"/>
            <a:ext cx="75866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892080" y="2575080"/>
            <a:ext cx="1800" cy="457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508120" y="2575080"/>
            <a:ext cx="0" cy="457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308480" y="2575080"/>
            <a:ext cx="1440" cy="457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6120" y="2098800"/>
            <a:ext cx="2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93960" y="2097000"/>
            <a:ext cx="2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55840" y="2085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4520" y="21099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51400" y="1917720"/>
            <a:ext cx="1243080" cy="64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51400" y="2133720"/>
            <a:ext cx="249480" cy="2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00880" y="2133720"/>
            <a:ext cx="993600" cy="2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1203480"/>
            <a:ext cx="43524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cs-CZ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10120" y="1631880"/>
            <a:ext cx="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48200" y="2562120"/>
            <a:ext cx="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983200" y="2575080"/>
            <a:ext cx="1800" cy="457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87840" y="2098800"/>
            <a:ext cx="2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4000" y="2095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8920" y="189396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ámek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04560" y="189396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ámek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04920" y="189396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ámek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60560" y="189396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ámek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6200" y="353700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ámek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43480" y="2095560"/>
            <a:ext cx="2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49640" y="2095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88320" y="1917720"/>
            <a:ext cx="1242720" cy="64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88320" y="2133720"/>
            <a:ext cx="249120" cy="2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37440" y="2133720"/>
            <a:ext cx="993600" cy="2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61280" y="1203480"/>
            <a:ext cx="43488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cs-CZ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47040" y="1631880"/>
            <a:ext cx="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85120" y="2562120"/>
            <a:ext cx="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620120" y="2575080"/>
            <a:ext cx="1440" cy="457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97120" y="189396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ámek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80400" y="2095560"/>
            <a:ext cx="2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486560" y="2095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4221000"/>
          <a:ext cx="7345440" cy="2372040"/>
        </p:xfrm>
        <a:graphic>
          <a:graphicData uri="http://schemas.openxmlformats.org/drawingml/2006/table">
            <a:tbl>
              <a:tblPr/>
              <a:tblGrid>
                <a:gridCol w="503280"/>
                <a:gridCol w="1008000"/>
                <a:gridCol w="1152720"/>
                <a:gridCol w="1224000"/>
                <a:gridCol w="1657080"/>
                <a:gridCol w="180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Bus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BusRd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BusUpg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Sup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CacheFlu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08000" y="1197000"/>
            <a:ext cx="5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19280" y="1197000"/>
            <a:ext cx="5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48000" y="1197000"/>
            <a:ext cx="5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76720" y="1197000"/>
            <a:ext cx="5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32720" y="1197000"/>
            <a:ext cx="5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39920" y="3192480"/>
            <a:ext cx="5420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se zamkne v CS, ostatní se budou neúspěšně pokoušet o toté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2349360"/>
            <a:ext cx="69840" cy="698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280" y="134136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87280" y="472428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350028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472428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116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116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2108160"/>
            <a:ext cx="2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134136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56000" y="2276640"/>
            <a:ext cx="69840" cy="698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87280" y="508464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2276640"/>
            <a:ext cx="69840" cy="698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27640" y="472428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4200" y="3225960"/>
            <a:ext cx="1369800" cy="94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2104920"/>
            <a:ext cx="2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73080" y="2089080"/>
            <a:ext cx="20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68440" y="208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73080" y="2106720"/>
            <a:ext cx="20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27280" y="2276640"/>
            <a:ext cx="69840" cy="698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9880" y="2098800"/>
            <a:ext cx="2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48000" y="508464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134136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11640" y="2276640"/>
            <a:ext cx="69840" cy="698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87280" y="551664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2276640"/>
            <a:ext cx="69840" cy="698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7640" y="508464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1880" y="2089080"/>
            <a:ext cx="2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9680" y="2116080"/>
            <a:ext cx="2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90760" y="2116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2349360"/>
            <a:ext cx="69840" cy="698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49680" y="2116080"/>
            <a:ext cx="2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00080" y="2090880"/>
            <a:ext cx="2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70880" y="350028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bytek už je asi zřejmý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87280" y="5877000"/>
            <a:ext cx="0" cy="217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87280" y="6308640"/>
            <a:ext cx="0" cy="217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48000" y="5877000"/>
            <a:ext cx="0" cy="217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8000" y="6237360"/>
            <a:ext cx="0" cy="217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27640" y="5516640"/>
            <a:ext cx="0" cy="217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27640" y="5877000"/>
            <a:ext cx="0" cy="217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2098800"/>
            <a:ext cx="2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551664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092 C -0.00174 0.01828 -0.00382 0.03472 -0.00469 0.05231 C -0.00434 0.06111 -0.00487 0.07013 -0.00365 0.0787 C -0.00296 0.0831 0.00573 0.08425 0.00573 0.08425 C 0.02638 0.0824 0.04965 0.07685 0.06927 0.08564 C 0.07048 0.09027 0.07222 0.09351 0.07343 0.09814 C 0.07378 0.10601 0.0717 0.13287 0.07968 0.13981 C 0.09132 0.1375 0.08472 0.13935 0.0901 0.1287 C 0.09045 0.12685 0.09079 0.125 0.09114 0.12314 C 0.09184 0.12037 0.09323 0.11481 0.09323 0.11481 C 0.09531 0.05717 0.09826 0.08425 0.16302 0.08287 C 0.17343 0.07824 0.15729 0.08541 0.17031 0.08009 C 0.17239 0.07916 0.17656 0.07731 0.17656 0.07731 C 0.17621 0.06898 0.17222 0.04282 0.17864 0.03564 C 0.18073 0.03333 0.18368 0.03217 0.18593 0.03009 C 0.1901 0.03379 0.18993 0.03611 0.19114 0.04259 C 0.19079 0.04953 0.19062 0.05648 0.1901 0.06342 C 0.18975 0.06805 0.18698 0.06875 0.1901 0.07453 C 0.19236 0.0787 0.19635 0.0787 0.19948 0.08009 C 0.20156 0.08101 0.20573 0.08287 0.20573 0.08287 C 0.24531 0.0824 0.28489 0.0824 0.32448 0.08148 C 0.34357 0.08101 0.38177 0.07731 0.38177 0.07731 C 0.38368 0.06944 0.38472 0.06458 0.38177 0.05648 C 0.3802 0.05231 0.3776 0.04398 0.3776 0.04398 C 0.37864 0.03981 0.37968 0.03564 0.38073 0.03148 C 0.38142 0.0287 0.38698 0.0287 0.38698 0.0287 C 0.39184 0.0331 0.39236 0.03634 0.39427 0.04398 C 0.39461 0.04537 0.39531 0.04814 0.39531 0.04814 C 0.39618 0.06018 0.3967 0.06643 0.39948 0.07731 C 0.39982 0.0787 0.39948 0.08101 0.40052 0.08148 C 0.40816 0.08495 0.40468 0.08356 0.41093 0.08564 C 0.45746 0.08263 0.49843 0.08078 0.54739 0.08009 C 0.55069 0.07337 0.55208 0.06898 0.55468 0.06203 C 0.55538 0.0574 0.55573 0.05254 0.55677 0.04814 C 0.55711 0.04675 0.55746 0.04537 0.55781 0.04398 C 0.55816 0.04166 0.55781 0.03888 0.55885 0.03703 C 0.55954 0.03587 0.56093 0.03611 0.56198 0.03564 C 0.56493 0.04375 0.5684 0.05115 0.57135 0.05925 C 0.57257 0.06736 0.57326 0.07569 0.5776 0.08148 C 0.62656 0.08055 0.67465 0.08032 0.72343 0.0787 C 0.73107 0.07615 0.7302 0.07129 0.73177 0.06203 C 0.73333 0.053 0.73524 0.04467 0.73906 0.03703 C 0.74948 0.04629 0.74253 0.06944 0.75781 0.07453 C 0.76423 0.08032 0.76736 0.07777 0.77448 0.07453 C 0.78402 0.07037 0.80468 0.07314 0.80468 0.07314 E">
                                      <p:cBhvr>
                                        <p:cTn id="31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2222E-006 C 0.00087 -0.01042 0.00278 -0.01898 0.0066 -0.02547 C 0.00799 -0.02685 0.00833 -0.0294 0.00938 -0.03056 C 0.01111 -0.03218 0.01476 -0.0338 0.01476 -0.03334 C 0.02188 -0.03148 0.01806 -0.0331 0.02535 -0.02871 C 0.02726 -0.02755 0.03073 -0.02547 0.03073 -0.02523 C 0.03472 -0.02593 0.03872 -0.02593 0.04323 -0.02709 C 0.04497 -0.02755 0.04827 -0.03056 0.04827 -0.03033 C 0.05122 -0.03588 0.05347 -0.03611 0.05556 -0.04213 C 0.05521 -0.05347 0.05816 -0.06806 0.05365 -0.0757 C 0.0441 -0.09422 0.02083 -0.08704 0.01198 -0.08773 C 0.00417 -0.08912 0.00365 -0.08704 0.00122 -0.09931 C 0.00295 -0.13982 0.00208 -0.11482 0.00208 -0.17292 E">
                                      <p:cBhvr>
                                        <p:cTn id="46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5185E-006 L 4.44444E-006 0.02871 E">
                                      <p:cBhvr>
                                        <p:cTn id="69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1157 C -0.00746 0.01481 -0.01336 0.02222 -0.02083 0.02546 C -0.02569 0.03495 -0.02413 0.03055 -0.02604 0.03796 C -0.02639 0.05185 -0.02639 0.06574 -0.02708 0.07963 C -0.02708 0.07986 -0.02864 0.08842 -0.02916 0.08935 C -0.03194 0.09398 -0.03975 0.09583 -0.04375 0.09768 C -0.08264 0.09606 -0.10868 0.09444 -0.15104 0.09352 C -0.25833 0.0949 -0.22048 0.0949 -0.26458 0.0949 E">
                                      <p:cBhvr>
                                        <p:cTn id="97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71 0.00555 C -0.01458 0.00879 -0.01424 0.01273 -0.0158 0.01528 C -0.01649 0.01643 -0.01788 0.01597 -0.01892 0.01666 C -0.02726 0.02176 -0.03628 0.02453 -0.04288 0.03333 C -0.0467 0.04838 -0.05104 0.04143 -0.04496 0.06944 C -0.04496 0.06944 -0.03715 0.07639 -0.03559 0.07778 C -0.03368 0.0794 -0.02934 0.08055 -0.02934 0.08055 C -0.00538 0.07893 -0.00312 0.07801 0.02379 0.07916 C 0.02708 0.08125 0.02865 0.08125 0.03004 0.08611 C 0.03108 0.08958 0.03212 0.09722 0.03212 0.09722 C 0.03142 0.10856 0.02604 0.14028 0.03524 0.14444 C 0.04392 0.14051 0.04028 0.14421 0.04566 0.13333 C 0.04688 0.13078 0.04705 0.12778 0.04774 0.125 C 0.04809 0.12361 0.04879 0.12083 0.04879 0.12083 C 0.04913 0.11435 0.04861 0.10764 0.04983 0.10139 C 0.05017 0.1 0.05504 0.09722 0.05608 0.09722 C 0.07309 0.09629 0.0901 0.09629 0.10712 0.09583 C 0.12135 0.09421 0.11858 0.09352 0.12899 0.08889 C 0.13385 0.0794 0.13229 0.08379 0.1342 0.07639 C 0.1349 0.06528 0.13247 0.05301 0.13629 0.04305 C 0.13715 0.04097 0.13976 0.04398 0.14149 0.04444 C 0.14271 0.04907 0.14444 0.05231 0.14566 0.05694 C 0.1474 0.08842 0.14844 0.08518 0.17483 0.08611 C 0.19306 0.0868 0.21163 0.08703 0.23004 0.0875 C 0.25538 0.08703 0.28073 0.08703 0.30608 0.08611 C 0.31076 0.08588 0.31962 0.08055 0.31962 0.08055 C 0.32274 0.07453 0.3276 0.07037 0.33004 0.06389 C 0.33212 0.05833 0.33385 0.05301 0.33524 0.04722 C 0.33559 0.04583 0.33733 0.04653 0.33837 0.04583 C 0.33941 0.04514 0.34045 0.04398 0.34149 0.04305 C 0.34844 0.04907 0.34896 0.05949 0.35069 0.06944 C 0.35156 0.07268 0.35122 0.07662 0.35295 0.07916 C 0.3559 0.08356 0.35868 0.08449 0.36215 0.08611 C 0.40451 0.08518 0.44705 0.08472 0.48941 0.07916 C 0.49896 0.07268 0.49931 0.07338 0.50399 0.06111 C 0.50556 0.05671 0.51233 0.05139 0.51233 0.05139 C 0.51406 0.05231 0.51597 0.05254 0.51754 0.05416 C 0.51858 0.05555 0.51875 0.05787 0.51944 0.05972 C 0.52396 0.06967 0.52726 0.08403 0.5342 0.09166 C 0.53524 0.09282 0.54236 0.09444 0.54254 0.09444 C 0.55313 0.09328 0.56302 0.09004 0.57361 0.08889 C 0.60469 0.08541 0.63559 0.08449 0.66649 0.08333 C 0.67431 0.08194 0.6776 0.08102 0.68316 0.07361 C 0.68368 0.07176 0.68646 0.06227 0.68733 0.06111 C 0.68906 0.05879 0.69358 0.05555 0.69358 0.05555 C 0.69705 0.05602 0.70069 0.05555 0.70399 0.05694 C 0.70885 0.05903 0.70538 0.07315 0.7092 0.07639 C 0.71684 0.08333 0.71302 0.08125 0.72066 0.08333 C 0.73056 0.07893 0.74045 0.07916 0.75087 0.07916 E">
                                      <p:cBhvr>
                                        <p:cTn id="11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5185E-006 L -3.33333E-006 0.02871 E">
                                      <p:cBhvr>
                                        <p:cTn id="147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5.18519E-006 C -0.00486 0.01226 -0.00955 0.01874 -0.01997 0.02221 C -0.02361 0.02546 -0.02795 0.0287 -0.03229 0.03055 C -0.03455 0.03518 -0.03716 0.03772 -0.03854 0.04305 C -0.03716 0.05277 -0.03802 0.04768 -0.03542 0.05833 C -0.03473 0.0611 -0.03334 0.06666 -0.03334 0.06666 C -0.03403 0.07823 -0.03177 0.08564 -0.03854 0.09166 C -0.04115 0.10184 -0.05243 0.09606 -0.05834 0.09583 C -0.08889 0.0949 -0.11945 0.0949 -0.15 0.09444 C -0.19757 0.09513 -0.22795 0.09444 -0.26979 0.09444 E">
                                      <p:cBhvr>
                                        <p:cTn id="155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0602 C -0.00503 0.01018 -0.0066 0.01227 -0.00816 0.01852 C -0.00972 0.04027 -0.01007 0.03981 -0.0092 0.06713 C -0.00972 0.07569 -0.00781 0.09004 -0.01545 0.09352 C -0.04167 0.09097 -0.06736 0.08889 -0.09358 0.09074 C -0.16806 0.08958 -0.24201 0.08796 -0.31649 0.09074 C -0.4158 0.08912 -0.37205 0.08935 -0.44774 0.08935 E">
                                      <p:cBhvr>
                                        <p:cTn id="19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7.40741E-007 C 0.00625 0.00278 0.00938 0.00856 0.01146 0.01666 C 0.01372 0.04097 0.01163 0.0169 0.01354 0.05972 C 0.01545 0.1044 0.02378 0.08518 0.07083 0.08611 C 0.09757 0.08657 0.12431 0.08703 0.15104 0.0875 C 0.16771 0.08703 0.18438 0.08819 0.20104 0.08611 C 0.20278 0.08588 0.20347 0.08264 0.20417 0.08055 C 0.20712 0.07176 0.20712 0.06065 0.20938 0.05139 C 0.22309 0.05509 0.21597 0.07037 0.22604 0.07639 C 0.23594 0.08217 0.24427 0.08009 0.25625 0.08055 C 0.26771 0.08102 0.27917 0.08148 0.29063 0.08194 C 0.3842 0.07986 0.47795 0.07847 0.57188 0.07778 C 0.62465 0.07916 0.60521 0.07916 0.63021 0.07916 E">
                                      <p:cBhvr>
                                        <p:cTn id="205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85185E-006 L 4.16667E-006 0.02871 E">
                                      <p:cBhvr>
                                        <p:cTn id="234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0.00648 C 0.00243 0.01157 0.00138 0.02407 -0.00365 0.02592 C -0.00643 0.02685 -0.00921 0.02685 -0.01198 0.02731 C -0.01389 0.03518 -0.0158 0.03865 -0.01927 0.04537 C -0.01893 0.05046 -0.01893 0.05555 -0.01823 0.06064 C -0.01789 0.06342 -0.01615 0.06898 -0.01615 0.06898 C -0.02014 0.08518 -0.0415 0.08356 -0.05052 0.08425 C -0.08212 0.0831 -0.11372 0.08125 -0.14532 0.08009 C -0.23056 0.08194 -0.31355 0.08356 -0.39948 0.08425 C -0.42292 0.08773 -0.42014 0.08842 -0.45365 0.08842 E">
                                      <p:cBhvr>
                                        <p:cTn id="242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9:54:30Z</dcterms:created>
  <dc:creator>Maxmilián Vomáčka</dc:creator>
  <dc:description/>
  <dc:language>en-US</dc:language>
  <cp:lastModifiedBy>Maxmilián Vomáčka</cp:lastModifiedBy>
  <dcterms:modified xsi:type="dcterms:W3CDTF">2007-07-15T11:39:01Z</dcterms:modified>
  <cp:revision>23</cp:revision>
  <dc:subject/>
  <dc:title>Snímek 1</dc:title>
</cp:coreProperties>
</file>