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F02-875B-4478-B519-18711F08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FD9-7EF7-4A17-9C74-5999AD8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BC6-04CD-4610-B625-364EF43B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D8-D41F-4CE3-956F-BED1A5D0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15F-3E41-4C9E-A152-AF173205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622-CD1F-4523-9266-D5C1F4EB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56E-A352-46F8-A159-911EB24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9CE-2CAC-486E-9265-6C9C9A6B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C84-FD83-4AEB-8A59-E658BB1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252-8F4F-406B-A0C1-9BF454B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093-D706-418B-80F0-463B6B2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0B9-DBAF-47BD-A663-8540933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AE2-5331-4F7E-A77F-4B3706EFFB7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ždý budoucí inženýr se učí matematický zápis sumy dvou racionálních čísel, napříkla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9520" y="4191120"/>
                <a:ext cx="33861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ze takto jednoduše napsat. Tato forma je špatná pro svoji banalitu a svědčí o nedostatcích ve vzdělání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ff"/>
                </a:solidFill>
                <a:latin typeface="Times New Roman"/>
              </a:rPr>
              <a:t>První matematická lek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V prvních semestrech se učí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505320" y="1295280"/>
                <a:ext cx="2050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2819520"/>
                <a:ext cx="48006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všichni ví, že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472428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tedy rov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ůžeme jednoduše napsa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ám(a) musíš uznat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adá to podstatně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rozumitelněji a vědečtěji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oučasně je samozřejmé, že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aké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48320"/>
                <a:ext cx="292896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z toho vyplývá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rovnice se dá napsat jednoduchým a samozřejmým způsobem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usíme ještě zohlednit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opačná mocnina mocniny převrácené se rovná převrácené mocnině mocniny opačné; za předpokladu jednorozměrného prostoru a při použití vektoru 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zřetelem na to, ž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819520" y="487692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01000" y="285768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stli tedy potvrdíme, 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1828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a také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ak logicky dostaneme 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použití předcházejících výrazů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 rot="10800000">
                <a:off x="685800" y="1142640"/>
                <a:ext cx="7924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ak dostaneme výraz v elegantní a čitelné podobě, současně jednoduché a pro každého srozumitelné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" y="3581280"/>
                <a:ext cx="8610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p>
                                              <m:e>
                                                <m:bar>
                                                  <m:barPr>
                                                    <m:pos m:val="top"/>
                                                  </m:bar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bar>
                                              </m:e>
                                              <m:sup>
                                                <m:r>
                                                  <m:t xml:space="preserve">−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!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V tomto okamžiku je samozřejmé, ž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ato rovnice je podstatně srozumitelnější než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81280" y="6019920"/>
                <a:ext cx="1905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ylo by možné ještě ukázat hodně jiných možností zápisu výraz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71800" y="1295280"/>
                <a:ext cx="3157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43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řistoupíme k nim v okamžiku, kdy začneme přesně chápat jednoduché principy předcházející metody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ElPeplo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šli tento e-mail chytrému , inteligentnímu inženýrov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kud takového neznáš, pošli ho svému známému nebo příteli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Earl Gray</dc:creator>
  <dc:description/>
  <dc:language>en-US</dc:language>
  <cp:lastModifiedBy>.</cp:lastModifiedBy>
  <dcterms:modified xsi:type="dcterms:W3CDTF">2002-12-06T09:29:41Z</dcterms:modified>
  <cp:revision>31</cp:revision>
  <dc:subject/>
  <dc:title>PowerPoint-Präsentation</dc:title>
</cp:coreProperties>
</file>