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739116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6080" y="3908160"/>
            <a:ext cx="739116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63640" y="178272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6080" y="390816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63640" y="390816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23796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5200" y="1782720"/>
            <a:ext cx="23796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73960" y="1782720"/>
            <a:ext cx="23796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76080" y="3908160"/>
            <a:ext cx="23796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5200" y="3908160"/>
            <a:ext cx="23796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73960" y="3908160"/>
            <a:ext cx="23796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76080" y="1782720"/>
            <a:ext cx="73911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73911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36068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63640" y="1782720"/>
            <a:ext cx="36068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02880" y="37800"/>
            <a:ext cx="757404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3640" y="1782720"/>
            <a:ext cx="36068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6080" y="390816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76080" y="1782720"/>
            <a:ext cx="73911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36068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63640" y="178272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63640" y="390816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63640" y="178272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6080" y="3908160"/>
            <a:ext cx="739116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739116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6080" y="3908160"/>
            <a:ext cx="739116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3640" y="178272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6080" y="390816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63640" y="390816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23796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5200" y="1782720"/>
            <a:ext cx="23796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73960" y="1782720"/>
            <a:ext cx="23796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76080" y="3908160"/>
            <a:ext cx="23796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5200" y="3908160"/>
            <a:ext cx="23796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73960" y="3908160"/>
            <a:ext cx="23796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76080" y="1782720"/>
            <a:ext cx="73911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73911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36068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63640" y="1782720"/>
            <a:ext cx="36068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73911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02880" y="37800"/>
            <a:ext cx="757404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63640" y="1782720"/>
            <a:ext cx="36068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6080" y="390816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36068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63640" y="178272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463640" y="390816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63640" y="178272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76080" y="3908160"/>
            <a:ext cx="739116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739116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76080" y="3908160"/>
            <a:ext cx="739116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63640" y="178272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76080" y="390816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63640" y="390816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23796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75200" y="1782720"/>
            <a:ext cx="23796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73960" y="1782720"/>
            <a:ext cx="23796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76080" y="3908160"/>
            <a:ext cx="23796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75200" y="3908160"/>
            <a:ext cx="23796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73960" y="3908160"/>
            <a:ext cx="23796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36068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63640" y="1782720"/>
            <a:ext cx="36068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02880" y="37800"/>
            <a:ext cx="757404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63640" y="1782720"/>
            <a:ext cx="36068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76080" y="390816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36068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63640" y="178272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63640" y="390816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6080" y="178272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63640" y="1782720"/>
            <a:ext cx="360684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6080" y="3908160"/>
            <a:ext cx="739116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2253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9040" cy="91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76080" y="1782720"/>
            <a:ext cx="73911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902880" y="37800"/>
            <a:ext cx="757404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1722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620120" y="6226200"/>
            <a:ext cx="947520" cy="119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595440" y="6448320"/>
            <a:ext cx="4104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52200" bIns="46080" anchor="t">
            <a:spAutoFit/>
          </a:bodyPr>
          <a:p>
            <a:pPr>
              <a:lnSpc>
                <a:spcPct val="96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©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0 Oracle and/or its affiliates. 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02480" y="6472080"/>
            <a:ext cx="921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87FAF-1362-4F78-9B4D-FB604BE99CC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14400" y="4343400"/>
            <a:ext cx="2895480" cy="361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4584600"/>
            <a:ext cx="7764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225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904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76440" y="1782360"/>
            <a:ext cx="739584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903240" y="28440"/>
            <a:ext cx="7578720" cy="9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1722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7620120" y="6226200"/>
            <a:ext cx="947520" cy="119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620120" y="6226200"/>
            <a:ext cx="947520" cy="119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73480" y="6448320"/>
            <a:ext cx="54810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52200" bIns="46080" anchor="t">
            <a:spAutoFit/>
          </a:bodyPr>
          <a:p>
            <a:pPr>
              <a:lnSpc>
                <a:spcPct val="96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©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0 Oracle and/or its affiliates. All rights reserved. Oracle confid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32720" y="6472080"/>
            <a:ext cx="921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3A555-1BC9-46BB-B258-4126084BD95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88840" y="282600"/>
            <a:ext cx="81028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TO Tape Drives – Technology Direction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1219320"/>
            <a:ext cx="7925040" cy="40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60" indent="9442440">
              <a:lnSpc>
                <a:spcPct val="93000"/>
              </a:lnSpc>
              <a:spcBef>
                <a:spcPts val="601"/>
              </a:spcBef>
              <a:buClr>
                <a:srgbClr val="e72619"/>
              </a:buClr>
              <a:buFont typeface="Times New Roman"/>
              <a:buChar char="•"/>
              <a:tabLst>
                <a:tab algn="l" pos="50760"/>
                <a:tab algn="l" pos="498600"/>
                <a:tab algn="l" pos="947880"/>
                <a:tab algn="l" pos="1397160"/>
                <a:tab algn="l" pos="1846440"/>
                <a:tab algn="l" pos="2295360"/>
                <a:tab algn="l" pos="2744640"/>
                <a:tab algn="l" pos="3193920"/>
                <a:tab algn="l" pos="3643200"/>
                <a:tab algn="l" pos="4092480"/>
                <a:tab algn="l" pos="4541760"/>
                <a:tab algn="l" pos="4991040"/>
                <a:tab algn="l" pos="5440320"/>
                <a:tab algn="l" pos="5889600"/>
                <a:tab algn="l" pos="6338880"/>
                <a:tab algn="l" pos="6788160"/>
                <a:tab algn="l" pos="7237440"/>
                <a:tab algn="l" pos="7686720"/>
                <a:tab algn="l" pos="8136000"/>
                <a:tab algn="l" pos="8585280"/>
                <a:tab algn="l" pos="9034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 capacity and through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93800" indent="-220680">
              <a:lnSpc>
                <a:spcPct val="93000"/>
              </a:lnSpc>
              <a:spcBef>
                <a:spcPts val="601"/>
              </a:spcBef>
              <a:buClr>
                <a:srgbClr val="e72619"/>
              </a:buClr>
              <a:buFont typeface="Times New Roman"/>
              <a:buChar char="•"/>
              <a:tabLst>
                <a:tab algn="l" pos="50760"/>
                <a:tab algn="l" pos="498600"/>
                <a:tab algn="l" pos="947880"/>
                <a:tab algn="l" pos="1397160"/>
                <a:tab algn="l" pos="1846440"/>
                <a:tab algn="l" pos="2295360"/>
                <a:tab algn="l" pos="2744640"/>
                <a:tab algn="l" pos="3193920"/>
                <a:tab algn="l" pos="3643200"/>
                <a:tab algn="l" pos="4092480"/>
                <a:tab algn="l" pos="4541760"/>
                <a:tab algn="l" pos="4991040"/>
                <a:tab algn="l" pos="5440320"/>
                <a:tab algn="l" pos="5889600"/>
                <a:tab algn="l" pos="6338880"/>
                <a:tab algn="l" pos="6788160"/>
                <a:tab algn="l" pos="7237440"/>
                <a:tab algn="l" pos="7686720"/>
                <a:tab algn="l" pos="8136000"/>
                <a:tab algn="l" pos="8585280"/>
                <a:tab algn="l" pos="9034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TO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3760" indent="-220680">
              <a:lnSpc>
                <a:spcPct val="93000"/>
              </a:lnSpc>
              <a:spcBef>
                <a:spcPts val="601"/>
              </a:spcBef>
              <a:buClr>
                <a:srgbClr val="e72619"/>
              </a:buClr>
              <a:buFont typeface="Times New Roman"/>
              <a:buChar char="•"/>
              <a:tabLst>
                <a:tab algn="l" pos="50760"/>
                <a:tab algn="l" pos="498600"/>
                <a:tab algn="l" pos="947880"/>
                <a:tab algn="l" pos="1397160"/>
                <a:tab algn="l" pos="1846440"/>
                <a:tab algn="l" pos="2295360"/>
                <a:tab algn="l" pos="2744640"/>
                <a:tab algn="l" pos="3193920"/>
                <a:tab algn="l" pos="3643200"/>
                <a:tab algn="l" pos="4092480"/>
                <a:tab algn="l" pos="4541760"/>
                <a:tab algn="l" pos="4991040"/>
                <a:tab algn="l" pos="5440320"/>
                <a:tab algn="l" pos="5889600"/>
                <a:tab algn="l" pos="6338880"/>
                <a:tab algn="l" pos="6788160"/>
                <a:tab algn="l" pos="7237440"/>
                <a:tab algn="l" pos="7686720"/>
                <a:tab algn="l" pos="8136000"/>
                <a:tab algn="l" pos="8585280"/>
                <a:tab algn="l" pos="9034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5 TB native (new LTO 5 med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3760" indent="-220680">
              <a:lnSpc>
                <a:spcPct val="93000"/>
              </a:lnSpc>
              <a:spcBef>
                <a:spcPts val="601"/>
              </a:spcBef>
              <a:buClr>
                <a:srgbClr val="e72619"/>
              </a:buClr>
              <a:buFont typeface="Times New Roman"/>
              <a:buChar char="•"/>
              <a:tabLst>
                <a:tab algn="l" pos="50760"/>
                <a:tab algn="l" pos="498600"/>
                <a:tab algn="l" pos="947880"/>
                <a:tab algn="l" pos="1397160"/>
                <a:tab algn="l" pos="1846440"/>
                <a:tab algn="l" pos="2295360"/>
                <a:tab algn="l" pos="2744640"/>
                <a:tab algn="l" pos="3193920"/>
                <a:tab algn="l" pos="3643200"/>
                <a:tab algn="l" pos="4092480"/>
                <a:tab algn="l" pos="4541760"/>
                <a:tab algn="l" pos="4991040"/>
                <a:tab algn="l" pos="5440320"/>
                <a:tab algn="l" pos="5889600"/>
                <a:tab algn="l" pos="6338880"/>
                <a:tab algn="l" pos="6788160"/>
                <a:tab algn="l" pos="7237440"/>
                <a:tab algn="l" pos="7686720"/>
                <a:tab algn="l" pos="8136000"/>
                <a:tab algn="l" pos="8585280"/>
                <a:tab algn="l" pos="9034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40 MB/s na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3760" indent="-220680">
              <a:lnSpc>
                <a:spcPct val="93000"/>
              </a:lnSpc>
              <a:spcBef>
                <a:spcPts val="601"/>
              </a:spcBef>
              <a:buClr>
                <a:srgbClr val="e72619"/>
              </a:buClr>
              <a:buFont typeface="Times New Roman"/>
              <a:buChar char="•"/>
              <a:tabLst>
                <a:tab algn="l" pos="50760"/>
                <a:tab algn="l" pos="498600"/>
                <a:tab algn="l" pos="947880"/>
                <a:tab algn="l" pos="1397160"/>
                <a:tab algn="l" pos="1846440"/>
                <a:tab algn="l" pos="2295360"/>
                <a:tab algn="l" pos="2744640"/>
                <a:tab algn="l" pos="3193920"/>
                <a:tab algn="l" pos="3643200"/>
                <a:tab algn="l" pos="4092480"/>
                <a:tab algn="l" pos="4541760"/>
                <a:tab algn="l" pos="4991040"/>
                <a:tab algn="l" pos="5440320"/>
                <a:tab algn="l" pos="5889600"/>
                <a:tab algn="l" pos="6338880"/>
                <a:tab algn="l" pos="6788160"/>
                <a:tab algn="l" pos="7237440"/>
                <a:tab algn="l" pos="7686720"/>
                <a:tab algn="l" pos="8136000"/>
                <a:tab algn="l" pos="8585280"/>
                <a:tab algn="l" pos="9034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Gb FC (all SL-series librar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3760" indent="-220680">
              <a:lnSpc>
                <a:spcPct val="93000"/>
              </a:lnSpc>
              <a:spcBef>
                <a:spcPts val="601"/>
              </a:spcBef>
              <a:buClr>
                <a:srgbClr val="e72619"/>
              </a:buClr>
              <a:buFont typeface="Times New Roman"/>
              <a:buChar char="•"/>
              <a:tabLst>
                <a:tab algn="l" pos="50760"/>
                <a:tab algn="l" pos="498600"/>
                <a:tab algn="l" pos="947880"/>
                <a:tab algn="l" pos="1397160"/>
                <a:tab algn="l" pos="1846440"/>
                <a:tab algn="l" pos="2295360"/>
                <a:tab algn="l" pos="2744640"/>
                <a:tab algn="l" pos="3193920"/>
                <a:tab algn="l" pos="3643200"/>
                <a:tab algn="l" pos="4092480"/>
                <a:tab algn="l" pos="4541760"/>
                <a:tab algn="l" pos="4991040"/>
                <a:tab algn="l" pos="5440320"/>
                <a:tab algn="l" pos="5889600"/>
                <a:tab algn="l" pos="6338880"/>
                <a:tab algn="l" pos="6788160"/>
                <a:tab algn="l" pos="7237440"/>
                <a:tab algn="l" pos="7686720"/>
                <a:tab algn="l" pos="8136000"/>
                <a:tab algn="l" pos="8585280"/>
                <a:tab algn="l" pos="9034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Gb SAS (for SL24/48/5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3760" indent="-220680">
              <a:lnSpc>
                <a:spcPct val="93000"/>
              </a:lnSpc>
              <a:spcBef>
                <a:spcPts val="601"/>
              </a:spcBef>
              <a:buClr>
                <a:srgbClr val="e72619"/>
              </a:buClr>
              <a:buFont typeface="Times New Roman"/>
              <a:buChar char="•"/>
              <a:tabLst>
                <a:tab algn="l" pos="50760"/>
                <a:tab algn="l" pos="498600"/>
                <a:tab algn="l" pos="947880"/>
                <a:tab algn="l" pos="1397160"/>
                <a:tab algn="l" pos="1846440"/>
                <a:tab algn="l" pos="2295360"/>
                <a:tab algn="l" pos="2744640"/>
                <a:tab algn="l" pos="3193920"/>
                <a:tab algn="l" pos="3643200"/>
                <a:tab algn="l" pos="4092480"/>
                <a:tab algn="l" pos="4541760"/>
                <a:tab algn="l" pos="4991040"/>
                <a:tab algn="l" pos="5440320"/>
                <a:tab algn="l" pos="5889600"/>
                <a:tab algn="l" pos="6338880"/>
                <a:tab algn="l" pos="6788160"/>
                <a:tab algn="l" pos="7237440"/>
                <a:tab algn="l" pos="7686720"/>
                <a:tab algn="l" pos="8136000"/>
                <a:tab algn="l" pos="8585280"/>
                <a:tab algn="l" pos="9034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MS encryption cap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3760" indent="-220680">
              <a:lnSpc>
                <a:spcPct val="93000"/>
              </a:lnSpc>
              <a:spcBef>
                <a:spcPts val="601"/>
              </a:spcBef>
              <a:buClr>
                <a:srgbClr val="e72619"/>
              </a:buClr>
              <a:buFont typeface="Times New Roman"/>
              <a:buChar char="•"/>
              <a:tabLst>
                <a:tab algn="l" pos="50760"/>
                <a:tab algn="l" pos="498600"/>
                <a:tab algn="l" pos="947880"/>
                <a:tab algn="l" pos="1397160"/>
                <a:tab algn="l" pos="1846440"/>
                <a:tab algn="l" pos="2295360"/>
                <a:tab algn="l" pos="2744640"/>
                <a:tab algn="l" pos="3193920"/>
                <a:tab algn="l" pos="3643200"/>
                <a:tab algn="l" pos="4092480"/>
                <a:tab algn="l" pos="4541760"/>
                <a:tab algn="l" pos="4991040"/>
                <a:tab algn="l" pos="5440320"/>
                <a:tab algn="l" pos="5889600"/>
                <a:tab algn="l" pos="6338880"/>
                <a:tab algn="l" pos="6788160"/>
                <a:tab algn="l" pos="7237440"/>
                <a:tab algn="l" pos="7686720"/>
                <a:tab algn="l" pos="8136000"/>
                <a:tab algn="l" pos="8585280"/>
                <a:tab algn="l" pos="9034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fer both HP and IBM drives for the SL500/3000/8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888840" y="282600"/>
            <a:ext cx="81028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ape Drives – Technology Direction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7720" y="765000"/>
            <a:ext cx="7924680" cy="56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60" indent="9442440">
              <a:lnSpc>
                <a:spcPct val="93000"/>
              </a:lnSpc>
              <a:spcBef>
                <a:spcPts val="601"/>
              </a:spcBef>
              <a:buClr>
                <a:srgbClr val="e72619"/>
              </a:buClr>
              <a:buFont typeface="Times New Roman"/>
              <a:buChar char="•"/>
              <a:tabLst>
                <a:tab algn="l" pos="50760"/>
                <a:tab algn="l" pos="498600"/>
                <a:tab algn="l" pos="947880"/>
                <a:tab algn="l" pos="1397160"/>
                <a:tab algn="l" pos="1846440"/>
                <a:tab algn="l" pos="2295360"/>
                <a:tab algn="l" pos="2744640"/>
                <a:tab algn="l" pos="3193920"/>
                <a:tab algn="l" pos="3643200"/>
                <a:tab algn="l" pos="4092480"/>
                <a:tab algn="l" pos="4541760"/>
                <a:tab algn="l" pos="4991040"/>
                <a:tab algn="l" pos="5440320"/>
                <a:tab algn="l" pos="5889600"/>
                <a:tab algn="l" pos="6338880"/>
                <a:tab algn="l" pos="6788160"/>
                <a:tab algn="l" pos="7237440"/>
                <a:tab algn="l" pos="7686720"/>
                <a:tab algn="l" pos="8136000"/>
                <a:tab algn="l" pos="8585280"/>
                <a:tab algn="l" pos="9034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tibilidad tecnología LTO vs 9840 vs T10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760" indent="9442440">
              <a:lnSpc>
                <a:spcPct val="93000"/>
              </a:lnSpc>
              <a:spcBef>
                <a:spcPts val="601"/>
              </a:spcBef>
              <a:buClr>
                <a:srgbClr val="e72619"/>
              </a:buClr>
              <a:buFont typeface="Times New Roman"/>
              <a:buChar char="•"/>
              <a:tabLst>
                <a:tab algn="l" pos="50760"/>
                <a:tab algn="l" pos="498600"/>
                <a:tab algn="l" pos="947880"/>
                <a:tab algn="l" pos="1397160"/>
                <a:tab algn="l" pos="1846440"/>
                <a:tab algn="l" pos="2295360"/>
                <a:tab algn="l" pos="2744640"/>
                <a:tab algn="l" pos="3193920"/>
                <a:tab algn="l" pos="3643200"/>
                <a:tab algn="l" pos="4092480"/>
                <a:tab algn="l" pos="4541760"/>
                <a:tab algn="l" pos="4991040"/>
                <a:tab algn="l" pos="5440320"/>
                <a:tab algn="l" pos="5889600"/>
                <a:tab algn="l" pos="6338880"/>
                <a:tab algn="l" pos="6788160"/>
                <a:tab algn="l" pos="7237440"/>
                <a:tab algn="l" pos="7686720"/>
                <a:tab algn="l" pos="8136000"/>
                <a:tab algn="l" pos="8585280"/>
                <a:tab algn="l" pos="9034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nología MP (Metal Particle) LTO vs BaFe (T10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93800" indent="-220680">
              <a:lnSpc>
                <a:spcPct val="93000"/>
              </a:lnSpc>
              <a:spcBef>
                <a:spcPts val="601"/>
              </a:spcBef>
              <a:buClr>
                <a:srgbClr val="e72619"/>
              </a:buClr>
              <a:buFont typeface="Times New Roman"/>
              <a:buChar char="•"/>
              <a:tabLst>
                <a:tab algn="l" pos="50760"/>
                <a:tab algn="l" pos="498600"/>
                <a:tab algn="l" pos="947880"/>
                <a:tab algn="l" pos="1397160"/>
                <a:tab algn="l" pos="1846440"/>
                <a:tab algn="l" pos="2295360"/>
                <a:tab algn="l" pos="2744640"/>
                <a:tab algn="l" pos="3193920"/>
                <a:tab algn="l" pos="3643200"/>
                <a:tab algn="l" pos="4092480"/>
                <a:tab algn="l" pos="4541760"/>
                <a:tab algn="l" pos="4991040"/>
                <a:tab algn="l" pos="5440320"/>
                <a:tab algn="l" pos="5889600"/>
                <a:tab algn="l" pos="6338880"/>
                <a:tab algn="l" pos="6788160"/>
                <a:tab algn="l" pos="7237440"/>
                <a:tab algn="l" pos="7686720"/>
                <a:tab algn="l" pos="8136000"/>
                <a:tab algn="l" pos="8585280"/>
                <a:tab algn="l" pos="9034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mitaciones MP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TO5 no dobla perform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93800" indent="-220680">
              <a:lnSpc>
                <a:spcPct val="93000"/>
              </a:lnSpc>
              <a:spcBef>
                <a:spcPts val="601"/>
              </a:spcBef>
              <a:buClr>
                <a:srgbClr val="e72619"/>
              </a:buClr>
              <a:buFont typeface="Times New Roman"/>
              <a:buChar char="•"/>
              <a:tabLst>
                <a:tab algn="l" pos="50760"/>
                <a:tab algn="l" pos="498600"/>
                <a:tab algn="l" pos="947880"/>
                <a:tab algn="l" pos="1397160"/>
                <a:tab algn="l" pos="1846440"/>
                <a:tab algn="l" pos="2295360"/>
                <a:tab algn="l" pos="2744640"/>
                <a:tab algn="l" pos="3193920"/>
                <a:tab algn="l" pos="3643200"/>
                <a:tab algn="l" pos="4092480"/>
                <a:tab algn="l" pos="4541760"/>
                <a:tab algn="l" pos="4991040"/>
                <a:tab algn="l" pos="5440320"/>
                <a:tab algn="l" pos="5889600"/>
                <a:tab algn="l" pos="6338880"/>
                <a:tab algn="l" pos="6788160"/>
                <a:tab algn="l" pos="7237440"/>
                <a:tab algn="l" pos="7686720"/>
                <a:tab algn="l" pos="8136000"/>
                <a:tab algn="l" pos="8585280"/>
                <a:tab algn="l" pos="9034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Fe permite drives T10000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3760" indent="-220680">
              <a:lnSpc>
                <a:spcPct val="93000"/>
              </a:lnSpc>
              <a:spcBef>
                <a:spcPts val="601"/>
              </a:spcBef>
              <a:buClr>
                <a:srgbClr val="e72619"/>
              </a:buClr>
              <a:buFont typeface="Times New Roman"/>
              <a:buChar char="•"/>
              <a:tabLst>
                <a:tab algn="l" pos="50760"/>
                <a:tab algn="l" pos="498600"/>
                <a:tab algn="l" pos="947880"/>
                <a:tab algn="l" pos="1397160"/>
                <a:tab algn="l" pos="1846440"/>
                <a:tab algn="l" pos="2295360"/>
                <a:tab algn="l" pos="2744640"/>
                <a:tab algn="l" pos="3193920"/>
                <a:tab algn="l" pos="3643200"/>
                <a:tab algn="l" pos="4092480"/>
                <a:tab algn="l" pos="4541760"/>
                <a:tab algn="l" pos="4991040"/>
                <a:tab algn="l" pos="5440320"/>
                <a:tab algn="l" pos="5889600"/>
                <a:tab algn="l" pos="6338880"/>
                <a:tab algn="l" pos="6788160"/>
                <a:tab algn="l" pos="7237440"/>
                <a:tab algn="l" pos="7686720"/>
                <a:tab algn="l" pos="8136000"/>
                <a:tab algn="l" pos="8585280"/>
                <a:tab algn="l" pos="9034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40 MB/seg y 5 TB na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3760" indent="-220680">
              <a:lnSpc>
                <a:spcPct val="93000"/>
              </a:lnSpc>
              <a:spcBef>
                <a:spcPts val="601"/>
              </a:spcBef>
              <a:buClr>
                <a:srgbClr val="e72619"/>
              </a:buClr>
              <a:buFont typeface="Times New Roman"/>
              <a:buChar char="•"/>
              <a:tabLst>
                <a:tab algn="l" pos="50760"/>
                <a:tab algn="l" pos="498600"/>
                <a:tab algn="l" pos="947880"/>
                <a:tab algn="l" pos="1397160"/>
                <a:tab algn="l" pos="1846440"/>
                <a:tab algn="l" pos="2295360"/>
                <a:tab algn="l" pos="2744640"/>
                <a:tab algn="l" pos="3193920"/>
                <a:tab algn="l" pos="3643200"/>
                <a:tab algn="l" pos="4092480"/>
                <a:tab algn="l" pos="4541760"/>
                <a:tab algn="l" pos="4991040"/>
                <a:tab algn="l" pos="5440320"/>
                <a:tab algn="l" pos="5889600"/>
                <a:tab algn="l" pos="6338880"/>
                <a:tab algn="l" pos="6788160"/>
                <a:tab algn="l" pos="7237440"/>
                <a:tab algn="l" pos="7686720"/>
                <a:tab algn="l" pos="8136000"/>
                <a:tab algn="l" pos="8585280"/>
                <a:tab algn="l" pos="9034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ctura de generaciones prev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760" indent="9442440">
              <a:lnSpc>
                <a:spcPct val="93000"/>
              </a:lnSpc>
              <a:spcBef>
                <a:spcPts val="601"/>
              </a:spcBef>
              <a:buClr>
                <a:srgbClr val="e72619"/>
              </a:buClr>
              <a:buFont typeface="Times New Roman"/>
              <a:buChar char="•"/>
              <a:tabLst>
                <a:tab algn="l" pos="50760"/>
                <a:tab algn="l" pos="498600"/>
                <a:tab algn="l" pos="947880"/>
                <a:tab algn="l" pos="1397160"/>
                <a:tab algn="l" pos="1846440"/>
                <a:tab algn="l" pos="2295360"/>
                <a:tab algn="l" pos="2744640"/>
                <a:tab algn="l" pos="3193920"/>
                <a:tab algn="l" pos="3643200"/>
                <a:tab algn="l" pos="4092480"/>
                <a:tab algn="l" pos="4541760"/>
                <a:tab algn="l" pos="4991040"/>
                <a:tab algn="l" pos="5440320"/>
                <a:tab algn="l" pos="5889600"/>
                <a:tab algn="l" pos="6338880"/>
                <a:tab algn="l" pos="6788160"/>
                <a:tab algn="l" pos="7237440"/>
                <a:tab algn="l" pos="7686720"/>
                <a:tab algn="l" pos="8136000"/>
                <a:tab algn="l" pos="8585280"/>
                <a:tab algn="l" pos="9034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¿LTO cambiará de tecnología a BaFe o MP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93800" indent="-220680">
              <a:lnSpc>
                <a:spcPct val="93000"/>
              </a:lnSpc>
              <a:spcBef>
                <a:spcPts val="601"/>
              </a:spcBef>
              <a:buClr>
                <a:srgbClr val="e72619"/>
              </a:buClr>
              <a:buFont typeface="Times New Roman"/>
              <a:buChar char="•"/>
              <a:tabLst>
                <a:tab algn="l" pos="50760"/>
                <a:tab algn="l" pos="498600"/>
                <a:tab algn="l" pos="947880"/>
                <a:tab algn="l" pos="1397160"/>
                <a:tab algn="l" pos="1846440"/>
                <a:tab algn="l" pos="2295360"/>
                <a:tab algn="l" pos="2744640"/>
                <a:tab algn="l" pos="3193920"/>
                <a:tab algn="l" pos="3643200"/>
                <a:tab algn="l" pos="4092480"/>
                <a:tab algn="l" pos="4541760"/>
                <a:tab algn="l" pos="4991040"/>
                <a:tab algn="l" pos="5440320"/>
                <a:tab algn="l" pos="5889600"/>
                <a:tab algn="l" pos="6338880"/>
                <a:tab algn="l" pos="6788160"/>
                <a:tab algn="l" pos="7237440"/>
                <a:tab algn="l" pos="7686720"/>
                <a:tab algn="l" pos="8136000"/>
                <a:tab algn="l" pos="8585280"/>
                <a:tab algn="l" pos="9034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¿Supondrá mayor capacidad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93800" indent="-220680">
              <a:lnSpc>
                <a:spcPct val="93000"/>
              </a:lnSpc>
              <a:spcBef>
                <a:spcPts val="601"/>
              </a:spcBef>
              <a:buClr>
                <a:srgbClr val="e72619"/>
              </a:buClr>
              <a:buFont typeface="Times New Roman"/>
              <a:buChar char="•"/>
              <a:tabLst>
                <a:tab algn="l" pos="50760"/>
                <a:tab algn="l" pos="498600"/>
                <a:tab algn="l" pos="947880"/>
                <a:tab algn="l" pos="1397160"/>
                <a:tab algn="l" pos="1846440"/>
                <a:tab algn="l" pos="2295360"/>
                <a:tab algn="l" pos="2744640"/>
                <a:tab algn="l" pos="3193920"/>
                <a:tab algn="l" pos="3643200"/>
                <a:tab algn="l" pos="4092480"/>
                <a:tab algn="l" pos="4541760"/>
                <a:tab algn="l" pos="4991040"/>
                <a:tab algn="l" pos="5440320"/>
                <a:tab algn="l" pos="5889600"/>
                <a:tab algn="l" pos="6338880"/>
                <a:tab algn="l" pos="6788160"/>
                <a:tab algn="l" pos="7237440"/>
                <a:tab algn="l" pos="7686720"/>
                <a:tab algn="l" pos="8136000"/>
                <a:tab algn="l" pos="8585280"/>
                <a:tab algn="l" pos="9034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¿Mayor rendimient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93800" indent="-220680">
              <a:lnSpc>
                <a:spcPct val="93000"/>
              </a:lnSpc>
              <a:spcBef>
                <a:spcPts val="601"/>
              </a:spcBef>
              <a:buClr>
                <a:srgbClr val="e72619"/>
              </a:buClr>
              <a:buFont typeface="Times New Roman"/>
              <a:buChar char="•"/>
              <a:tabLst>
                <a:tab algn="l" pos="50760"/>
                <a:tab algn="l" pos="498600"/>
                <a:tab algn="l" pos="947880"/>
                <a:tab algn="l" pos="1397160"/>
                <a:tab algn="l" pos="1846440"/>
                <a:tab algn="l" pos="2295360"/>
                <a:tab algn="l" pos="2744640"/>
                <a:tab algn="l" pos="3193920"/>
                <a:tab algn="l" pos="3643200"/>
                <a:tab algn="l" pos="4092480"/>
                <a:tab algn="l" pos="4541760"/>
                <a:tab algn="l" pos="4991040"/>
                <a:tab algn="l" pos="5440320"/>
                <a:tab algn="l" pos="5889600"/>
                <a:tab algn="l" pos="6338880"/>
                <a:tab algn="l" pos="6788160"/>
                <a:tab algn="l" pos="7237440"/>
                <a:tab algn="l" pos="7686720"/>
                <a:tab algn="l" pos="8136000"/>
                <a:tab algn="l" pos="8585280"/>
                <a:tab algn="l" pos="9034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¿Compatibilidad hacia atrá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760" indent="944244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50760"/>
                <a:tab algn="l" pos="498600"/>
                <a:tab algn="l" pos="947880"/>
                <a:tab algn="l" pos="1397160"/>
                <a:tab algn="l" pos="1846440"/>
                <a:tab algn="l" pos="2295360"/>
                <a:tab algn="l" pos="2744640"/>
                <a:tab algn="l" pos="3193920"/>
                <a:tab algn="l" pos="3643200"/>
                <a:tab algn="l" pos="4092480"/>
                <a:tab algn="l" pos="4541760"/>
                <a:tab algn="l" pos="4991040"/>
                <a:tab algn="l" pos="5440320"/>
                <a:tab algn="l" pos="5889600"/>
                <a:tab algn="l" pos="6338880"/>
                <a:tab algn="l" pos="6788160"/>
                <a:tab algn="l" pos="7237440"/>
                <a:tab algn="l" pos="7686720"/>
                <a:tab algn="l" pos="8136000"/>
                <a:tab algn="l" pos="8585280"/>
                <a:tab algn="l" pos="9034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5:07:25Z</dcterms:created>
  <dc:creator>Office 2004 Test Drive User</dc:creator>
  <dc:description/>
  <dc:language>en-US</dc:language>
  <cp:lastModifiedBy>MIGUELANGEL BORREGA</cp:lastModifiedBy>
  <cp:lastPrinted>2010-03-30T04:04:46Z</cp:lastPrinted>
  <dcterms:modified xsi:type="dcterms:W3CDTF">2011-01-27T16:01:19Z</dcterms:modified>
  <cp:revision>546</cp:revision>
  <dc:subject/>
  <dc:title>SUN Oracle Primary Storage Briefing Oracle 2009</dc:title>
</cp:coreProperties>
</file>