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EF1C-6A1A-48FC-8205-42853506875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666D-579C-46D9-B5D9-6093B198E8C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4BC-7409-46C4-BCB6-8B036463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315-883E-45EC-AD94-49749EA8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E30-B849-4E5C-B56F-6A119A1E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BB8-1AE8-4418-80FE-06BA55B1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4FB3-CD96-4D7F-B824-FCEC9D45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86CE-2C03-49B5-8BBA-86C46816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C733-A53C-4244-8FE2-6D50A3FE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1CE8-2F8F-4F1A-B572-BC2B2BF2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2DB5-242A-497A-87BA-BF1100B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3BC0-F483-420A-86CB-B3AD5D36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6CAE-8E01-455D-834E-92E60B4F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936-0FCE-4501-833E-D188023C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968D-BF8C-490B-ACD8-A7738979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37A7-97CD-4EB3-A9F9-C73C1A3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8643-112D-49F0-8BBC-6425422D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2CE2-8C69-413A-85D9-5881BE3B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559D-89A3-4AAD-86D1-D585A1BE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EB4-776E-4655-977C-565FC5FD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3E7-E379-48C9-9CB4-C906486C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586-3D8C-4B04-B117-21605F63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D0F-873E-46D6-AFB8-F5E6AF97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70E-DF53-4408-804B-E7047014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913-4E13-408B-827A-890B38B6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68A-6A71-4F6D-8BB6-A2A3551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C5ED-42A3-40BE-B579-5C1E35E9712D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5495-AE48-4913-B147-2EB2C2E6CDAA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ecs.bvs.br/cgi-bin/wxis1660.exe/decsserver/?IsisScript=../cgi-bin/decsserver/decsserver.xis&amp;task=exact_term&amp;previous_page=homepage&amp;interface_language=p&amp;search_language=p&amp;search_exp=Papillomavirus%20Humano&amp;show_tree_number=T" TargetMode="External"/><Relationship Id="rId2" Type="http://schemas.openxmlformats.org/officeDocument/2006/relationships/hyperlink" Target="http://decs.bvs.br/cgi-bin/wxis1660.exe/decsserver/?IsisScript=../cgi-bin/decsserver/decsserver.xis&amp;task=exact_term&amp;previous_page=homepage&amp;interface_language=p&amp;search_language=p&amp;search_exp=Infec&#231;&#245;es%20Tumorais%20por%20V&#237;rus&amp;show_tree_number=T" TargetMode="External"/><Relationship Id="rId3" Type="http://schemas.openxmlformats.org/officeDocument/2006/relationships/hyperlink" Target="http://decs.bvs.br/cgi-bin/wxis1660.exe/decsserver/?IsisScript=../cgi-bin/decsserver/decsserver.xis&amp;task=exact_term&amp;previous_page=homepage&amp;interface_language=p&amp;search_language=p&amp;search_exp=/patologia&amp;show_tree_number=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497B-B9BC-4A83-A540-0E2148EF300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Arial"/>
              </a:rPr>
              <a:t>Analysis procedure (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simulating the authoring/Self-Publishing tool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4857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d4d4d"/>
                </a:solidFill>
                <a:latin typeface="Arial"/>
              </a:rPr>
              <a:t>CAMARA, Geni NL, CERQUEIRA, Daniela M, OLIVEIRA, Ana PG</a:t>
            </a:r>
            <a:r>
              <a:rPr b="1" i="1" lang="pt-BR" sz="1200" spc="-1" strike="noStrike">
                <a:solidFill>
                  <a:srgbClr val="4d4d4d"/>
                </a:solidFill>
                <a:latin typeface="Arial"/>
              </a:rPr>
              <a:t> et al</a:t>
            </a:r>
            <a:r>
              <a:rPr b="1" lang="pt-BR" sz="12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Prevalence of human papillomavirus types in women with pre-neoplastic and neoplastic cervical lesions in the Federal District of Brazil.</a:t>
            </a:r>
            <a:r>
              <a:rPr b="1" i="1" lang="en-US" sz="1200" spc="-1" strike="noStrike">
                <a:solidFill>
                  <a:srgbClr val="4d4d4d"/>
                </a:solidFill>
                <a:latin typeface="Arial"/>
              </a:rPr>
              <a:t> Mem. Inst. </a:t>
            </a:r>
            <a:r>
              <a:rPr b="1" i="1" lang="pt-BR" sz="1200" spc="-1" strike="noStrike">
                <a:solidFill>
                  <a:srgbClr val="4d4d4d"/>
                </a:solidFill>
                <a:latin typeface="Arial"/>
              </a:rPr>
              <a:t>Oswaldo Cruz</a:t>
            </a:r>
            <a:r>
              <a:rPr b="1" lang="pt-BR" sz="12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[online]. Oct. 2003, vol.98, no.7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3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tep 1- Type of reasoning is identified: experimental-dedu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tep 2-“elements of knowledge” are identified in the text as the main hypothesis stated by the auth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HPV causes pre-neoplastic and neoplastic cervical lesion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Knowledge as a relation: Antecedent: HP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Type of Relation: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Consequent: pre-neoplastic and neoplastic cervical les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tep 3-Each of these elements is mapped to “Public Knowledge” - UMLS, UMLS Semantic Network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apillomavirus, Human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Causes” , UMLS Semantic network relation T1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66ff"/>
                </a:solidFill>
                <a:uFillTx/>
                <a:latin typeface="Arial"/>
              </a:rPr>
              <a:t>Colonic Neoplasms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umor Vírus Infections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pt-BR" sz="12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pathology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Tumor Vírus Infections /vir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d4d4d"/>
                </a:solidFill>
                <a:latin typeface="Arial"/>
              </a:rPr>
              <a:t>*We used DECS, portuguese version of MESH – Medical Subject Headings -, the main Vocabulary in UM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2:53:48Z</dcterms:created>
  <dc:creator>Carlos H. Marcondes</dc:creator>
  <dc:description/>
  <dc:language>en-US</dc:language>
  <cp:lastModifiedBy>svegesna</cp:lastModifiedBy>
  <dcterms:modified xsi:type="dcterms:W3CDTF">2011-04-14T09:17:09Z</dcterms:modified>
  <cp:revision>148</cp:revision>
  <dc:subject/>
  <dc:title>A proposed model of knowledge representation and coding of knowledge embedded in texts of Web published scientific articles</dc:title>
</cp:coreProperties>
</file>