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5A5-06CF-4F0D-BED6-B749C729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522-A317-4EB7-A3E9-543DCC2C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CB0-0CD7-4BED-80A6-56152D4B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AFA-87AF-4C00-9B44-06E5EA6E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6B9-B95C-4E91-BAB3-50E5F724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BB5-F372-4D51-B4D2-FEC571B3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53A-8167-4DFB-B6C5-D55DE513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177-CB70-4B80-BEE1-428DDAF2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845-AAE4-460C-A28A-87AE5396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748-9776-4EBD-A5F3-D7D0655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627-4F36-4D14-BB19-51C3D9F9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B5B-36F5-47EC-ACF3-9FBB5F5C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48BD-4EBE-4A97-B9E2-9AA1E154C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 flipV="1">
            <a:off x="3564000" y="2997360"/>
            <a:ext cx="360" cy="380880"/>
          </a:xfrm>
          <a:prstGeom prst="line">
            <a:avLst/>
          </a:prstGeom>
          <a:noFill/>
          <a:ln w="76320">
            <a:solidFill>
              <a:srgbClr val="d11f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6227640" y="3284640"/>
            <a:ext cx="360" cy="457200"/>
          </a:xfrm>
          <a:prstGeom prst="line">
            <a:avLst/>
          </a:prstGeom>
          <a:noFill/>
          <a:ln w="76320">
            <a:solidFill>
              <a:srgbClr val="9eb2c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2411280" y="3645000"/>
            <a:ext cx="360" cy="936360"/>
          </a:xfrm>
          <a:prstGeom prst="line">
            <a:avLst/>
          </a:prstGeom>
          <a:noFill/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17:38Z</dcterms:created>
  <dc:creator>weihongtao</dc:creator>
  <dc:description/>
  <dc:language>en-US</dc:language>
  <cp:lastModifiedBy>LENOVO USER</cp:lastModifiedBy>
  <dcterms:modified xsi:type="dcterms:W3CDTF">2009-10-16T08:33:10Z</dcterms:modified>
  <cp:revision>1</cp:revision>
  <dc:subject/>
  <dc:title>Slide 1</dc:title>
</cp:coreProperties>
</file>