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3EAD35-8C09-4A8C-BDF8-31E8D51A14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F8CC-E4B5-4975-9347-A37A7413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2992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B4DC-15CF-468D-9B22-1FBA0C85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5C4D-7ACE-4EAA-BEEC-E5EDDBED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980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008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7980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008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E05D-1A55-4C40-B4B8-4133F3A7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E778-F4A8-4E5A-9376-312A7806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44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F9E6-553A-4290-BCCE-62FDE41E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44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A8EE-5AF2-4B2F-A02A-2FE8D3BA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9482-32D5-4328-B3FD-7843840F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408A-7EB2-480C-A476-D7523042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4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38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5885-19E2-46CD-9EEF-AEAEAA2A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BABE-7884-4D12-8F5F-F0B5D5B7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44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023-FF03-4FB2-A063-1087E735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66EF-2B9E-4EBF-8E90-107AB803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0D86-310F-4676-8C71-B9537B60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2992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4257-22ED-4E73-A407-244F18E4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DA6B-1671-4D12-8D5C-324382FA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980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0080" y="198108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7980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0080" y="4129920"/>
            <a:ext cx="196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63FB-E8A9-4126-B92E-05FC70CF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44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A3C-1E4D-4EF8-B0B3-58DA6A6B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7B8-7ECD-4C58-A971-F004A71C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ED87-4E9F-4698-8891-77DD415B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4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38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7665-7486-460E-A159-1D51383D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5380-563D-4BDF-ACDC-32525443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160" y="412992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6480-64F7-4A3E-A729-DF206E60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160" y="1981080"/>
            <a:ext cx="2973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29920"/>
            <a:ext cx="60944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8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E9B8-B9C9-40DD-B671-F35587E6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7280" y="843120"/>
            <a:ext cx="5794560" cy="12029760"/>
          </a:xfrm>
          <a:custGeom>
            <a:avLst/>
            <a:gdLst>
              <a:gd name="textAreaLeft" fmla="*/ 2896920 w 5794560"/>
              <a:gd name="textAreaRight" fmla="*/ 5794560 w 5794560"/>
              <a:gd name="textAreaTop" fmla="*/ 0 h 12029760"/>
              <a:gd name="textAreaBottom" fmla="*/ 6014160 h 1202976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44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44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3400" indent="-293400">
              <a:lnSpc>
                <a:spcPct val="138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7200" indent="-244080">
              <a:lnSpc>
                <a:spcPct val="138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138000"/>
              </a:lnSpc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lnSpc>
                <a:spcPct val="138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-196560">
              <a:lnSpc>
                <a:spcPct val="138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69040" indent="-196560">
              <a:lnSpc>
                <a:spcPct val="13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69040" indent="-196560">
              <a:lnSpc>
                <a:spcPct val="13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09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281B55-B80B-4363-82EB-2583DBF20C5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144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7280" y="843120"/>
            <a:ext cx="5794560" cy="12029760"/>
          </a:xfrm>
          <a:custGeom>
            <a:avLst/>
            <a:gdLst>
              <a:gd name="textAreaLeft" fmla="*/ 2896920 w 5794560"/>
              <a:gd name="textAreaRight" fmla="*/ 5794560 w 5794560"/>
              <a:gd name="textAreaTop" fmla="*/ 0 h 12029760"/>
              <a:gd name="textAreaBottom" fmla="*/ 6014160 h 1202976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426960"/>
            <a:ext cx="63975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Arial"/>
                <a:ea typeface="Roy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Roy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09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Arial"/>
                <a:ea typeface="Roy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Roy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Arial"/>
                <a:ea typeface="Roy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6644B-B4B1-43D0-B317-2D41C9F53DEA}" type="slidenum">
              <a:rPr b="0" lang="en-GB" sz="1400" spc="-1" strike="noStrike">
                <a:solidFill>
                  <a:srgbClr val="ffffff"/>
                </a:solidFill>
                <a:latin typeface="Arial"/>
                <a:ea typeface="Roy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66680" y="997560"/>
            <a:ext cx="716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Arial Narrow"/>
                <a:ea typeface="B Nazanin"/>
              </a:rPr>
              <a:t>Test</a:t>
            </a:r>
            <a:r>
              <a:rPr b="1" lang="en-GB" sz="4000" spc="-1" strike="noStrike">
                <a:solidFill>
                  <a:srgbClr val="ffffcc"/>
                </a:solidFill>
                <a:latin typeface="Arial Narrow"/>
                <a:ea typeface="B Nazani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85800" y="4114800"/>
                <a:ext cx="2441520" cy="24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4648320" y="48769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nrad</dc:creator>
  <dc:description/>
  <dc:language>en-US</dc:language>
  <cp:lastModifiedBy>Conrad</cp:lastModifiedBy>
  <cp:revision>0</cp:revision>
  <dc:subject/>
  <dc:title>مدیریت شبکه‌های رایانه‌ای بهم‌پیوسته</dc:title>
</cp:coreProperties>
</file>