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4314-643D-4799-A0C9-A9344EED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7B6A-0064-4C9D-B759-4FF46A3F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1CA7-489E-47CE-8CE4-3FE8E79FE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B24C-C75D-4D34-93CC-1A265248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50AA-DB9E-476A-9ADB-3AF17688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3A16-2A7E-4346-AC26-8F86BCB8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AAF8-62DC-4E69-BC50-0D4E1BD3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7554-360E-4FA5-B165-B1D9A174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D394-8DF9-4F2D-8063-3F8724F2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4037-4032-4151-A895-0FACF77D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D046-F009-4161-AFBC-62FA6160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7056-62C3-4832-949A-F4753436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464A-F1FD-4858-9EB3-892FB04A30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35280" y="3500280"/>
            <a:ext cx="243864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08:12:53Z</dcterms:created>
  <dc:creator>ZQ</dc:creator>
  <dc:description/>
  <dc:language>en-US</dc:language>
  <cp:lastModifiedBy>ZQ</cp:lastModifiedBy>
  <dcterms:modified xsi:type="dcterms:W3CDTF">2004-11-17T08:31:10Z</dcterms:modified>
  <cp:revision>5</cp:revision>
  <dc:subject/>
  <dc:title>幻灯片 1</dc:title>
</cp:coreProperties>
</file>