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68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2"/>
          </p:nvPr>
        </p:nvSpPr>
        <p:spPr>
          <a:xfrm>
            <a:off x="3886200" y="-360"/>
            <a:ext cx="29368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7080" cy="33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9428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3"/>
          </p:nvPr>
        </p:nvSpPr>
        <p:spPr>
          <a:xfrm>
            <a:off x="0" y="8686440"/>
            <a:ext cx="29368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 type="sldNum" idx="4"/>
          </p:nvPr>
        </p:nvSpPr>
        <p:spPr>
          <a:xfrm>
            <a:off x="3886200" y="8686440"/>
            <a:ext cx="29368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B08F2-D0F7-43E3-B440-0327CE118F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957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E478-3D9C-4F8C-A1A8-07650AF26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374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111920"/>
            <a:ext cx="77374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345C-E31D-4520-8243-982BD467F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0120" y="19807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119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0120" y="41119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1BDB-11FA-459E-B29B-7C982ADF2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49120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1560" y="1980720"/>
            <a:ext cx="249120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680" y="1980720"/>
            <a:ext cx="249120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111920"/>
            <a:ext cx="249120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1560" y="4111920"/>
            <a:ext cx="249120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680" y="4111920"/>
            <a:ext cx="249120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B69E-60D3-44B9-AB75-F84B98596C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374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85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3886-134F-4334-BDB6-922DF3FC59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37480" cy="40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ED53-D1F1-4369-B164-C009BEACC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75680" cy="40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0120" y="1980720"/>
            <a:ext cx="3775680" cy="40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3FC4-D519-450B-8CDE-624AF8F9F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6B25-4E28-4913-ADDD-F6A45174C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181080"/>
            <a:ext cx="7737480" cy="71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85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38EF-9756-465A-97F7-2B220C6F8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0120" y="1980720"/>
            <a:ext cx="3775680" cy="40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1119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E639-1011-4CB4-93E9-897717CCD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75680" cy="40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120" y="19807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0120" y="41119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2F58-B28D-491D-945A-5F471D8E7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120" y="1980720"/>
            <a:ext cx="37756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11920"/>
            <a:ext cx="7737480" cy="194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26A0-1066-465A-889A-61D74E5EC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81080"/>
            <a:ext cx="7737480" cy="153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37480" cy="40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07800" indent="-307800">
              <a:lnSpc>
                <a:spcPct val="2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21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1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1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1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1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1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7640" y="6322680"/>
            <a:ext cx="18702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3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3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DB685-49B4-4F51-BC68-3647E3CA202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80720"/>
            <a:ext cx="8353440" cy="15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0293-B412-43AF-A9BE-AEB1B1CB224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son Hsue</dc:creator>
  <dc:description/>
  <dc:language>en-US</dc:language>
  <cp:lastModifiedBy>Zhong Qiyao</cp:lastModifiedBy>
  <cp:revision>0</cp:revision>
  <dc:subject/>
  <dc:title>32 Team SW Weekly Report</dc:title>
</cp:coreProperties>
</file>