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39BE-33D6-4295-AB85-7302B6051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1316-7A55-4FBB-96CC-2FA11C4D3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A8CC-55E9-49C8-BCDE-3208470B8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9772-DD48-40F0-920A-D4BBD38F3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88CB-5C7E-4C8D-AB53-9000A7FFF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B4C8-D452-4D39-866D-B339946CB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82D2-1B4E-4FE3-9437-AFF4EF61E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7B8A-CCE4-4E21-B14C-111C823B9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D005-707A-4506-85BA-0A394778B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BD5D-5354-4303-AFDF-6D59BACB2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E0C4-EFCB-4117-B69B-55F63FCB6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5F2C-C718-45A0-8C6F-0C9DF32E4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6E2C2E-2704-490C-88DB-C6A5F99DD94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4th row behaves different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w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4 comes out first in MS PPT vie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dur="indefinite" fill="hold">
                      <p:stCondLst>
                        <p:cond delay="indefinite"/>
                      </p:stCondLst>
                      <p:childTnLst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yosti Anttonen</dc:creator>
  <dc:description/>
  <dc:language>en-US</dc:language>
  <cp:lastModifiedBy>Kyosti Anttonen</cp:lastModifiedBy>
  <cp:revision>0</cp:revision>
  <dc:subject/>
  <dc:title/>
</cp:coreProperties>
</file>