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6EE8-654C-4778-B176-FC3B970E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36888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8495-348C-4849-81E4-0EFBC87D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36888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81200" y="336888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96475-8D01-4E5C-BAF7-7890AE35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72600" y="1219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11680" y="1219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36888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72600" y="336888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11680" y="336888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003E2-5948-4F5B-B793-F57E2C2C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7DA37-70AC-4C6A-A726-66EA9BAB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21932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D6C33-8720-47A7-BF0F-CEE04F89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3373E-4BC9-47DF-832C-BD6A0C56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7A2ED-E00D-4111-9B8F-DBCBCC5E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A80F3-B016-4A53-8B9E-79CF6325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19320" y="147600"/>
            <a:ext cx="723888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EDBBA-1D0B-4CBB-9EFA-463894E7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36888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533C8-C2BB-48FC-99A7-141A8A1E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1932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B317E-9765-4117-8162-3BDACC60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81200" y="336888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63C61-29C4-4776-BA48-E286F0F0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36888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5D868-2220-42D6-BD76-24DEDB85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36888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397F2-7F59-4651-AE31-4544998D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36888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81200" y="336888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26EB6-EB29-4666-9BD4-97C17361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72600" y="1219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11680" y="1219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36888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72600" y="336888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11680" y="336888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1C566-43A6-4F79-AA6C-CDF8595C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CD255-4B37-4B2C-9D24-9ABA0D1C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0000-32E0-4C9A-AD78-DD5B6688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9656-7A1B-49A7-84B1-68102BB2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147600"/>
            <a:ext cx="723888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918A9-6262-497E-8BD6-6B84A2B6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36888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12D3-522F-4380-B529-E18896EA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81200" y="336888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7B5C-9C4F-4A03-90F9-7D2B6454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81200" y="1219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36888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59F10-1011-4D98-911C-0C6E65CD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19320"/>
            <a:ext cx="7508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 algn="r" rtl="1">
              <a:spcBef>
                <a:spcPts val="7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 algn="r" rtl="1">
              <a:spcBef>
                <a:spcPts val="700"/>
              </a:spcBef>
              <a:buClr>
                <a:srgbClr val="cc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 algn="r" rtl="1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120" y="6508440"/>
            <a:ext cx="7402680" cy="304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-360" y="6562800"/>
            <a:ext cx="133524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 anchorCtr="1">
            <a:noAutofit/>
          </a:bodyPr>
          <a:lstStyle>
            <a:lvl1pPr lvl="1" marL="457200"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lvl="1" marL="457200"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A426-C34A-4185-AA53-DB3CE4BF6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5400000">
            <a:off x="5644440" y="3131640"/>
            <a:ext cx="64008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900" spc="-1" strike="noStrike">
                <a:solidFill>
                  <a:srgbClr val="000000"/>
                </a:solidFill>
                <a:latin typeface="Arial"/>
                <a:cs typeface="Arial (Hebrew)"/>
              </a:rPr>
              <a:t>דר אמנון גונן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 rot="5400000">
            <a:off x="7231680" y="5534280"/>
            <a:ext cx="2360880" cy="2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ftr" idx="4"/>
          </p:nvPr>
        </p:nvSpPr>
        <p:spPr>
          <a:xfrm>
            <a:off x="837720" y="6508440"/>
            <a:ext cx="7402680" cy="304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-360" y="6562800"/>
            <a:ext cx="133524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 anchorCtr="1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4666-2824-4D0A-A9F7-2CA66D898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5757120" y="3244320"/>
            <a:ext cx="640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  <a:cs typeface="Arial (Hebrew)"/>
              </a:rPr>
              <a:t>קורס בשיטות כמותיות  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1418760" y="1219320"/>
            <a:ext cx="5745240" cy="10396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6"/>
          </p:nvPr>
        </p:nvSpPr>
        <p:spPr>
          <a:xfrm rot="5400000">
            <a:off x="7155360" y="5534280"/>
            <a:ext cx="2360880" cy="2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147240"/>
            <a:ext cx="5867280" cy="6145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תרגיל - חברת יאכטושית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82440"/>
            <a:ext cx="8229600" cy="563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חברת יכטושית מייצרת סירות מירוץ לאורך כל השנה אך מארגנת את ההזמנות לפי רבעונים. יש לה הזמנות לשנה הבאה: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ברבעון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ב-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ב-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ב-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בהתחלה יש לה כבר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סירו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החברה צריכה להחליט בראשית כל רבעון כמה לייצ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החברה יכולה לייצר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סירות בעלות של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00$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לסיר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באמצעות שעות נוספות יכולה החברה לייצר עוד סירות במחיר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50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בסוף הרבעון, נוספת הוצאה ממוצעת של, אחזקה וטיפול על כל סירה שבמלאי (לאחר הוצאת הסירות שנמכרו) של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20$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לסיר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נסח את הבעיה כבעיית תכנון תחבורה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51771-3815-4F06-BF7B-DB398DFDC8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ניסוח בעיית יכטושית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508880" cy="563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נגדיר נקודות יצור (מקורות)  ויעדים כדלקמן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1454040"/>
            <a:ext cx="7128000" cy="5195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64600" y="6399720"/>
            <a:ext cx="68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(Hebrew)"/>
              </a:rPr>
              <a:t>RT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Arial (Hebrew)"/>
              </a:rPr>
              <a:t> משמעו זמן עבודה רגיל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(Hebrew)"/>
              </a:rPr>
              <a:t>OT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Arial (Hebrew)"/>
              </a:rPr>
              <a:t> משמעו שעות נוספו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BA537-8383-4AD5-B6D7-C1FC6307AC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מחירי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229600" cy="525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“משלוח” סחורה מרבעון אחד לרבעון שלוש משמעו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00$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בסיסיים +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דולר על כל רבעון בו נמצאת הסירה במפעל כלומר המחיר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 שהם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40$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מנתוני הבעיה, אין צורך לייצר יותר מ-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סירות (למה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מאחר ש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סירות ייצורו כי העובדים קיימים, לכן בזמן השעות הנוספות לא נייצר יותר מ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190-4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סה”כ היצור במקורות -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77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פחות סה”כ הביקוש -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נותן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570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סירות ביע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MY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פתור את הבעיה בדרך ידנית  או במחש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3DEE6-05F7-419F-9137-E6A5C207E1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147600"/>
            <a:ext cx="7238880" cy="8352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פתרו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1100160"/>
          <a:ext cx="8077320" cy="549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00160"/>
                    <a:ext cx="8077320" cy="54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1C23-BCEB-4AF7-88CD-2B01974CAA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8T10:31:48Z</dcterms:created>
  <dc:creator>Amnon Gonen</dc:creator>
  <dc:description/>
  <dc:language>en-US</dc:language>
  <cp:lastModifiedBy>Amnon Gonen</cp:lastModifiedBy>
  <cp:lastPrinted>1997-11-29T16:26:26Z</cp:lastPrinted>
  <dcterms:modified xsi:type="dcterms:W3CDTF">2003-05-01T21:50:27Z</dcterms:modified>
  <cp:revision>72</cp:revision>
  <dc:subject/>
  <dc:title>סקירה ארגונית</dc:title>
</cp:coreProperties>
</file>