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9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 must be balanc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A637-503E-44CC-83FF-7A115800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848520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640" y="3799800"/>
            <a:ext cx="848520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D643-57C9-4DE2-BBEC-C385F4FE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03720" y="13410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37998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03720" y="37998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233F-47CF-4EFA-8C3D-D1CFF56D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273204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24840" y="1341000"/>
            <a:ext cx="273204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93680" y="1341000"/>
            <a:ext cx="273204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640" y="3799800"/>
            <a:ext cx="273204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24840" y="3799800"/>
            <a:ext cx="273204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93680" y="3799800"/>
            <a:ext cx="273204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020C-BBC7-42B4-AE81-7DE9B6E2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FAB1-4677-4E38-8A5E-7F1BA16E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55640" y="1341000"/>
            <a:ext cx="84852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050B-0827-4CF7-B30A-BF72921C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848520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387B-FBEB-4594-A3D2-7289A624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414072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3720" y="1341000"/>
            <a:ext cx="414072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F98A-2FD5-49A1-B459-E526B5FD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C7D0-3A49-476C-A3ED-1F4A4DBB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72920" y="426600"/>
            <a:ext cx="8458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48C5-DBAB-4ABE-9EFB-3AD43038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03720" y="1341000"/>
            <a:ext cx="414072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55640" y="37998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C9B0-5CCA-498E-B68B-7E16C159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640" y="1341000"/>
            <a:ext cx="84852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C0CC-03E5-46E4-B002-515B862C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414072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03720" y="13410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03720" y="37998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F9C1-A894-4A53-8096-301D7A1B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03720" y="13410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55640" y="3799800"/>
            <a:ext cx="848520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1375-B519-4BC2-966F-83531473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848520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55640" y="3799800"/>
            <a:ext cx="848520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B141-1A2D-4193-A07E-50C8050D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03720" y="13410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55640" y="37998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103720" y="37998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36AF-B0AA-4FCB-BD89-1494DA28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273204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624840" y="1341000"/>
            <a:ext cx="273204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93680" y="1341000"/>
            <a:ext cx="273204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755640" y="3799800"/>
            <a:ext cx="273204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624840" y="3799800"/>
            <a:ext cx="273204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493680" y="3799800"/>
            <a:ext cx="273204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73A4-A285-4A91-AF32-0D819284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848520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04C7-B824-4C9D-872A-E577EAFA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414072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3720" y="1341000"/>
            <a:ext cx="414072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C0A2-4131-4465-8D61-6AF50B66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1624-E8EF-488A-90FB-B9B88927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72920" y="426600"/>
            <a:ext cx="8458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4AE6-2DB0-4626-B96B-285885A0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3720" y="1341000"/>
            <a:ext cx="414072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640" y="37998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9177-3B0E-4334-B497-5DEFE7D4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414072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03720" y="13410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03720" y="37998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A4E2-297A-4EC4-88B2-23BB8DC8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2920" y="417240"/>
            <a:ext cx="8458200" cy="8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03720" y="1341000"/>
            <a:ext cx="414072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640" y="3799800"/>
            <a:ext cx="8485200" cy="224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B9A5-5972-45E7-9CF5-4BFAC587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8574840" y="-16560"/>
            <a:ext cx="1281240" cy="22986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2920" y="42660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1341000"/>
            <a:ext cx="848520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2720" y="6888240"/>
            <a:ext cx="20988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19680" y="6888240"/>
            <a:ext cx="319248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0556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7E843EA2-3F2E-4F69-9DEE-555B977ABE12}" type="slidenum">
              <a:rPr b="0" lang="en-US" sz="15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8670960" y="26640"/>
            <a:ext cx="1284120" cy="2313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8633520" y="211680"/>
            <a:ext cx="1130400" cy="173196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9360" y="6107040"/>
            <a:ext cx="1965960" cy="1373040"/>
            <a:chOff x="9360" y="6107040"/>
            <a:chExt cx="1965960" cy="1373040"/>
          </a:xfrm>
        </p:grpSpPr>
        <p:sp>
          <p:nvSpPr>
            <p:cNvPr id="9" name=""/>
            <p:cNvSpPr/>
            <p:nvPr/>
          </p:nvSpPr>
          <p:spPr>
            <a:xfrm>
              <a:off x="42480" y="6132960"/>
              <a:ext cx="1905480" cy="113508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788840" y="6267960"/>
              <a:ext cx="124200" cy="22500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80" y="6603480"/>
              <a:ext cx="1386000" cy="7171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26080" y="6662880"/>
              <a:ext cx="918360" cy="6541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9240" y="6180120"/>
              <a:ext cx="235800" cy="2116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22120" y="7284240"/>
              <a:ext cx="132840" cy="195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82720" y="6311520"/>
              <a:ext cx="337680" cy="6699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69640" y="6281640"/>
              <a:ext cx="636840" cy="30420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07680" y="6462000"/>
              <a:ext cx="272880" cy="1173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9360" y="6107040"/>
              <a:ext cx="1965960" cy="1363680"/>
              <a:chOff x="9360" y="6107040"/>
              <a:chExt cx="1965960" cy="136368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873360" y="6232680"/>
                <a:ext cx="958320" cy="1238040"/>
                <a:chOff x="873360" y="6232680"/>
                <a:chExt cx="958320" cy="123804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873360" y="6276600"/>
                  <a:ext cx="274680" cy="1515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113120" y="7238160"/>
                  <a:ext cx="200880" cy="2325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756440" y="6232680"/>
                  <a:ext cx="75240" cy="2044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33200" y="6530040"/>
                <a:ext cx="1040760" cy="4374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55400" y="6799320"/>
                <a:ext cx="426600" cy="258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988560" y="6439320"/>
                <a:ext cx="187200" cy="41580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9360" y="6107040"/>
                <a:ext cx="1965960" cy="1185480"/>
                <a:chOff x="9360" y="6107040"/>
                <a:chExt cx="1965960" cy="118548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170720" y="7083000"/>
                  <a:ext cx="131040" cy="1515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360" y="6522840"/>
                  <a:ext cx="1472760" cy="76968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85760" y="6596640"/>
                  <a:ext cx="139680" cy="2916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85880" y="6107040"/>
                  <a:ext cx="563040" cy="103860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011600" y="6386400"/>
                  <a:ext cx="167760" cy="44100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74200" y="6351480"/>
                  <a:ext cx="340920" cy="2361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151640" y="6190920"/>
                  <a:ext cx="823680" cy="37008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254600" y="6309360"/>
                  <a:ext cx="428400" cy="15048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9569520" y="2332080"/>
            <a:ext cx="425160" cy="4749480"/>
            <a:chOff x="9569520" y="2332080"/>
            <a:chExt cx="425160" cy="4749480"/>
          </a:xfrm>
        </p:grpSpPr>
        <p:sp>
          <p:nvSpPr>
            <p:cNvPr id="36" name=""/>
            <p:cNvSpPr/>
            <p:nvPr/>
          </p:nvSpPr>
          <p:spPr>
            <a:xfrm flipH="1">
              <a:off x="9569520" y="4584240"/>
              <a:ext cx="358560" cy="24973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9636120" y="2332080"/>
              <a:ext cx="358560" cy="28576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905960" y="-96120"/>
            <a:ext cx="2675160" cy="2476440"/>
            <a:chOff x="7905960" y="-96120"/>
            <a:chExt cx="2675160" cy="2476440"/>
          </a:xfrm>
        </p:grpSpPr>
        <p:grpSp>
          <p:nvGrpSpPr>
            <p:cNvPr id="39" name=""/>
            <p:cNvGrpSpPr/>
            <p:nvPr/>
          </p:nvGrpSpPr>
          <p:grpSpPr>
            <a:xfrm>
              <a:off x="7905960" y="-96120"/>
              <a:ext cx="2675160" cy="2476440"/>
              <a:chOff x="7905960" y="-96120"/>
              <a:chExt cx="2675160" cy="247644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9502200" y="1899000"/>
                <a:ext cx="108360" cy="5040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905960" y="-96120"/>
                <a:ext cx="2675160" cy="2476440"/>
                <a:chOff x="7905960" y="-96120"/>
                <a:chExt cx="2675160" cy="247644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8690760" y="123840"/>
                  <a:ext cx="267480" cy="21888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834760" y="579960"/>
                  <a:ext cx="470520" cy="76608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8502120" y="317160"/>
                  <a:ext cx="883080" cy="15714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8580600" y="-33480"/>
                  <a:ext cx="1325880" cy="235152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9270720" y="1568160"/>
                  <a:ext cx="295200" cy="2134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9192960" y="1409040"/>
                  <a:ext cx="316800" cy="2520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8723160" y="367200"/>
                  <a:ext cx="316440" cy="25740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8659800" y="247320"/>
                  <a:ext cx="312840" cy="24120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719280"/>
                      <a:tab algn="l" pos="1438200"/>
                      <a:tab algn="l" pos="2157480"/>
                      <a:tab algn="l" pos="2876400"/>
                      <a:tab algn="l" pos="3595680"/>
                      <a:tab algn="l" pos="4314960"/>
                      <a:tab algn="l" pos="5033880"/>
                      <a:tab algn="l" pos="5753160"/>
                      <a:tab algn="l" pos="6472080"/>
                      <a:tab algn="l" pos="7191360"/>
                      <a:tab algn="l" pos="7910640"/>
                      <a:tab algn="l" pos="8629560"/>
                      <a:tab algn="l" pos="9348840"/>
                      <a:tab algn="l" pos="10067760"/>
                      <a:tab algn="l" pos="107870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8522280" y="147240"/>
              <a:ext cx="7380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320" y="14400"/>
            <a:ext cx="9807480" cy="747396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2720" y="1665000"/>
            <a:ext cx="7056720" cy="2506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9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18666773-9BBE-4936-B318-BA13B4061953}" type="slidenum">
              <a:rPr b="0" lang="en-US" sz="15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16000" y="258840"/>
            <a:ext cx="4174200" cy="1960200"/>
            <a:chOff x="216000" y="258840"/>
            <a:chExt cx="4174200" cy="1960200"/>
          </a:xfrm>
        </p:grpSpPr>
        <p:sp>
          <p:nvSpPr>
            <p:cNvPr id="93" name=""/>
            <p:cNvSpPr/>
            <p:nvPr/>
          </p:nvSpPr>
          <p:spPr>
            <a:xfrm>
              <a:off x="310680" y="309600"/>
              <a:ext cx="3936240" cy="17798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1240" y="456480"/>
              <a:ext cx="3925800" cy="17625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0160" y="601560"/>
              <a:ext cx="2603520" cy="16081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216000" y="258840"/>
              <a:ext cx="4174200" cy="1891800"/>
              <a:chOff x="216000" y="258840"/>
              <a:chExt cx="4174200" cy="1891800"/>
            </a:xfrm>
          </p:grpSpPr>
          <p:sp>
            <p:nvSpPr>
              <p:cNvPr id="97" name=""/>
              <p:cNvSpPr/>
              <p:nvPr/>
            </p:nvSpPr>
            <p:spPr>
              <a:xfrm>
                <a:off x="3508560" y="1634400"/>
                <a:ext cx="370800" cy="3740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16000" y="258840"/>
                <a:ext cx="4174200" cy="18918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67720" y="276120"/>
                <a:ext cx="2949480" cy="10742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16400" y="438840"/>
                <a:ext cx="397080" cy="717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481040" y="937800"/>
                <a:ext cx="1208520" cy="636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8596440" y="4761000"/>
            <a:ext cx="1079640" cy="1277280"/>
            <a:chOff x="8596440" y="4761000"/>
            <a:chExt cx="1079640" cy="1277280"/>
          </a:xfrm>
        </p:grpSpPr>
        <p:sp>
          <p:nvSpPr>
            <p:cNvPr id="103" name=""/>
            <p:cNvSpPr/>
            <p:nvPr/>
          </p:nvSpPr>
          <p:spPr>
            <a:xfrm rot="7320000">
              <a:off x="8591760" y="5137560"/>
              <a:ext cx="1100160" cy="5126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8564760" y="5113440"/>
              <a:ext cx="1096560" cy="5076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8749440" y="5096520"/>
              <a:ext cx="727920" cy="4640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8596440" y="4761000"/>
              <a:ext cx="1079640" cy="1277280"/>
              <a:chOff x="8596440" y="4761000"/>
              <a:chExt cx="1079640" cy="127728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8727480" y="5581800"/>
                <a:ext cx="103320" cy="10656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8553240" y="5127120"/>
                <a:ext cx="1166040" cy="5443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858520" y="5244120"/>
                <a:ext cx="825480" cy="3078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9386640" y="5028120"/>
                <a:ext cx="109800" cy="2066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989200" y="5248800"/>
                <a:ext cx="337320" cy="1814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93600" y="5572080"/>
            <a:ext cx="7504200" cy="80316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4240" y="2127240"/>
            <a:ext cx="979560" cy="4208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1" marL="503280" indent="0"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2" marL="1008000" algn="ctr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511280" algn="ctr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4" marL="2016000" algn="ctr">
              <a:spcBef>
                <a:spcPts val="550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5" marL="2016000">
              <a:spcBef>
                <a:spcPts val="55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6" marL="2016000">
              <a:spcBef>
                <a:spcPts val="55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41240" y="813600"/>
            <a:ext cx="8609040" cy="747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Comic Sans MS"/>
              </a:rPr>
              <a:t>Stoichiometry</a:t>
            </a:r>
            <a:endParaRPr b="0" lang="en-US" sz="49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41240" y="3390840"/>
            <a:ext cx="8609040" cy="21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hapter 10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hem I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Mr. Kupfer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2004 - 05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2920" y="42660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Yield Amount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848520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3 steps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g of A ~&gt; mol of A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mol of A ~&gt; mol of B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mol of B ~&gt; g of B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72920" y="42660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Yield Amount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848520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5000"/>
          </a:bodyPr>
          <a:p>
            <a:pPr marL="358920" indent="-358920"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onvert grams of C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OH to mol of C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OH.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1" marL="777960" indent="-299880">
              <a:spcBef>
                <a:spcPts val="675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5.10 mol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OH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58920" indent="-358920"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onvert mol of C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OH to mol of C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OOC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11.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1" marL="777960" indent="-299880">
              <a:spcBef>
                <a:spcPts val="675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5.10 mol C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OO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58920" indent="-358920"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onvert mol of C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OOC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 to grams of C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OOC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1" marL="777960" indent="-299880">
              <a:spcBef>
                <a:spcPts val="675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664 g C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OO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2920" y="42660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Comic Sans MS"/>
              </a:rPr>
              <a:t>Chapter 10-1 Objectives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848520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Apply a three step method to solve stoichiometry problems.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Use mole ratios and molar masses to create conversion factors for solving stoichiometry problems.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72920" y="42660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Comic Sans MS"/>
              </a:rPr>
              <a:t>What is Stoichiometry?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848520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What can we do?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mic Sans MS"/>
              </a:rPr>
              <a:t>Predict yield of a reaction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mic Sans MS"/>
              </a:rPr>
              <a:t>Determine how much a reactant you need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mic Sans MS"/>
              </a:rPr>
              <a:t>How do we do this?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mic Sans MS"/>
              </a:rPr>
              <a:t>Compute mole ratios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mic Sans MS"/>
              </a:rPr>
              <a:t>Determine mass of chemical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72920" y="579240"/>
            <a:ext cx="7575480" cy="742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Reactant Amount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417320"/>
            <a:ext cx="8485200" cy="463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hemists are not wastefu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Use the correct reactant amount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72920" y="42660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Reactant Amount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848520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404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4NH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+ 5O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~&gt; 4NO + 6H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4040" indent="-37404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Here, 4 mol NH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reacts with 5 mol O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4040" indent="-37404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Mole ration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810720" indent="-312480">
              <a:spcBef>
                <a:spcPts val="774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4 mol N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:5 mol O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74040" indent="-37404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If I only have 2.4 mol NH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, how much O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do I need?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4040" indent="-37404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3.0 mol O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404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2920" y="42660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Yield Amount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839952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6000"/>
          </a:bodyPr>
          <a:p>
            <a:pPr marL="362880" indent="-362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isoamyl acetate -- provides banana flavoring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6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6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62880" indent="-362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OH + C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OOH ~&gt;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6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OOC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 + 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62880" indent="-362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If I have 450 g of C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OH &amp; an excess of C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OOH how much C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OOC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 will I get?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6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421240" y="1341360"/>
            <a:ext cx="3710160" cy="25671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2920" y="42660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Yield Amount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848520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7000"/>
          </a:bodyPr>
          <a:p>
            <a:pPr marL="366480" indent="-366480"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Organize what you know.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66480" indent="-366480"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Isoamyl alcohol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1" marL="794160" indent="-306000">
              <a:spcBef>
                <a:spcPts val="675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m = 450 g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lvl="1" marL="794160" indent="-306000">
              <a:spcBef>
                <a:spcPts val="675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OH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lvl="1" marL="794160" indent="-306000">
              <a:spcBef>
                <a:spcPts val="675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molar mass = 88.17g/mol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66480" indent="-366480"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Acetic Acid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1" marL="794160" indent="-306000">
              <a:spcBef>
                <a:spcPts val="675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m = excess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lvl="1" marL="794160" indent="-306000">
              <a:spcBef>
                <a:spcPts val="675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lvl="1" marL="794160" indent="-306000">
              <a:spcBef>
                <a:spcPts val="675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molar mass = 60.06 g/mol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2920" y="42660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Yield Amount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848520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7000"/>
          </a:bodyPr>
          <a:p>
            <a:pPr marL="366480" indent="-36648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Isoamyl acetate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794160" indent="-306000">
              <a:spcBef>
                <a:spcPts val="774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m = ? g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1" marL="794160" indent="-306000">
              <a:spcBef>
                <a:spcPts val="774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COOC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1" marL="794160" indent="-306000">
              <a:spcBef>
                <a:spcPts val="774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molar mass = 130.21 g/mol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marL="366480" indent="-36648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794160" indent="-306000">
              <a:spcBef>
                <a:spcPts val="774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m = not given (doesn’t matter)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1" marL="794160" indent="-306000">
              <a:spcBef>
                <a:spcPts val="774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1" marL="794160" indent="-306000">
              <a:spcBef>
                <a:spcPts val="774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molar mass = 18.02 g/mol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1" marL="79416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72920" y="42660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Yield Amount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8485200" cy="47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To calculate yield, we use mole ratios.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Ratio between C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OH &amp; CH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OOC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1:1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vard  Schools</cp:lastModifiedBy>
  <dcterms:modified xsi:type="dcterms:W3CDTF">2005-04-18T16:48:21Z</dcterms:modified>
  <cp:revision>5</cp:revision>
  <dc:subject/>
  <dc:title>Stoichiometry</dc:title>
</cp:coreProperties>
</file>