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DC3-3302-4F18-A710-11A95B72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031-761B-431C-9B0C-9BB9E5F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7FA-6E91-4A7C-B540-18740606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DE8-7128-49DE-B6DD-B1F93266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DA8-3A92-4CB6-BA49-6AFEDDC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EB3-B908-4B49-96F1-ACB0CC9F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2A3-DC68-4A3D-83AD-16DE182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008-8744-43CA-97DC-A20E7F87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A81-5A2D-492D-BE66-FFA5DEE9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ABB-F8DD-45C3-9EF4-EC4E4B9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D59-79E3-40AF-9573-0D4BCAC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59C-E983-4B97-A982-FFBE047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961-2565-4CF4-A8E6-690F03F5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304560"/>
            <a:ext cx="8458200" cy="4190760"/>
            <a:chOff x="152280" y="304560"/>
            <a:chExt cx="8458200" cy="4190760"/>
          </a:xfrm>
        </p:grpSpPr>
        <p:cxnSp>
          <p:nvCxnSpPr>
            <p:cNvPr id="42" name="_s2054"/>
            <p:cNvCxnSpPr/>
            <p:nvPr/>
          </p:nvCxnSpPr>
          <p:spPr>
            <a:xfrm flipH="1" flipV="1" rot="5400000">
              <a:off x="418680" y="1180440"/>
              <a:ext cx="762840" cy="38160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3" name="_s2055"/>
            <p:cNvSpPr/>
            <p:nvPr/>
          </p:nvSpPr>
          <p:spPr>
            <a:xfrm>
              <a:off x="990360" y="304560"/>
              <a:ext cx="1219320" cy="3812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  <a:ea typeface="宋体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24480" y="914400"/>
              <a:ext cx="228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/>
            <p:nvPr/>
          </p:nvCxnSpPr>
          <p:spPr>
            <a:xfrm>
              <a:off x="1676160" y="1447200"/>
              <a:ext cx="2160" cy="2520"/>
            </a:xfrm>
            <a:prstGeom prst="bentConnector2">
              <a:avLst/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6" name="_s2058"/>
            <p:cNvSpPr/>
            <p:nvPr/>
          </p:nvSpPr>
          <p:spPr>
            <a:xfrm>
              <a:off x="152280" y="1371600"/>
              <a:ext cx="99036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  <a:ea typeface="宋体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360" y="761760"/>
              <a:ext cx="1219320" cy="533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/>
            <p:nvPr/>
          </p:nvCxnSpPr>
          <p:spPr>
            <a:xfrm flipH="1" flipV="1" rot="5400000">
              <a:off x="2056680" y="4493160"/>
              <a:ext cx="2520" cy="25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bbe0e3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218960" y="1371600"/>
              <a:ext cx="685800" cy="6094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宋体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08:51:58Z</dcterms:created>
  <dc:creator>lijiany</dc:creator>
  <dc:description/>
  <dc:language>en-US</dc:language>
  <cp:lastModifiedBy>lijiany</cp:lastModifiedBy>
  <dcterms:modified xsi:type="dcterms:W3CDTF">2012-08-02T08:54:25Z</dcterms:modified>
  <cp:revision>2</cp:revision>
  <dc:subject/>
  <dc:title>Slide 1</dc:title>
</cp:coreProperties>
</file>