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39D-30BA-4129-9303-40AA088F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515-4FDD-4D55-8E91-60D0D4C6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4D9-B95A-4AF0-BB4A-6A11C148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846-0240-4EAF-87C5-8E15D1C9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47F-9BFB-4EA7-AB58-92A1200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2DB-4BD6-43DA-B1FD-EF20CD44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AE0-05AE-4004-BFC3-6C0E7B7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68A-A82A-4DA4-AE20-D8D09E69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036-0991-4078-96B7-F6ECAC25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630-3EA2-4BC8-9CEE-14090864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9EC-B851-43D3-9598-2CCF449C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89F-DAC9-472A-846F-ECCA38CC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25EC-7E27-467C-9E47-E7DFA51588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56000" y="404640"/>
          <a:ext cx="3263760" cy="6213600"/>
        </p:xfrm>
        <a:graphic>
          <a:graphicData uri="http://schemas.openxmlformats.org/drawingml/2006/table">
            <a:tbl>
              <a:tblPr/>
              <a:tblGrid>
                <a:gridCol w="360360"/>
                <a:gridCol w="790560"/>
                <a:gridCol w="360360"/>
                <a:gridCol w="182520"/>
                <a:gridCol w="182520"/>
                <a:gridCol w="355680"/>
                <a:gridCol w="288720"/>
                <a:gridCol w="743040"/>
              </a:tblGrid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a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g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 a 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on</cp:lastModifiedBy>
  <dcterms:modified xsi:type="dcterms:W3CDTF">2005-04-14T08:11:43Z</dcterms:modified>
  <cp:revision>7</cp:revision>
  <dc:subject/>
  <dc:title>PowerPoint Presentation</dc:title>
</cp:coreProperties>
</file>