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845CB-4235-431E-BD25-553B15A28B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BFB04-357A-4685-9AB8-F14300C80F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350C4-F1B6-4CF1-BB5A-616950566E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6581D-298C-46E0-91EB-A46C385588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57D37-DA98-40C4-ADB1-CEA10F37DC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EADE8-C882-4E62-9A32-AE69BA5ADC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9DE80-4BEE-44FA-A5CC-93ECA50616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459D2-7660-458D-BF4C-A18671D869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EFB5F-27AC-4043-8464-98D2926FF3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3E0B1-E658-4FB1-B7B9-6CAE22FF64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1D92C-60C0-450E-BA60-9016523E48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11EB7-0B4A-4A26-AFCF-ADE99C4FE6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84AF7-4E87-452D-9992-66137D08EA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991D6-8AE1-4246-8320-9C5EF56665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64CCC-AB0A-460E-9A7E-46DBA9D163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DC381-4366-42B6-B719-34A80C7FCD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4E0FB-E32A-4109-9D80-898B836C8D5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85BBCF-8B5F-4442-805D-DB392E3D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F8439B-6E1F-44F0-BFF6-9C3B61AB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3A51FC-FC9F-48BB-9CAA-7F53977B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46A134-CE37-42FB-A7A6-783F87FC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949F90-B6F1-4635-9CB0-19C6F07F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83992-8840-4DF8-8DAC-B6EB3D92E03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A44A24-07B5-456F-84A8-ECBC471F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B95D83-8E13-4875-9120-B902E7EE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44361E-246A-4BE6-8D4D-F883DB8F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102A4F-4ED7-4D9F-9F2C-D74C80E6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A33BC0-CF9E-48CB-B5BB-FD68B020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E81A80-9965-404C-826E-1CA58A2E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6E63C2-4C5A-4A82-9A40-DD2BD95D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7E53F-3031-4AEC-8C43-A38CC7CE8B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6E003-92C3-4E45-9559-F900DAF3B5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57A81-80C2-471D-BAE1-A6901D16B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D8063-DCA6-4DDC-9F05-232B668DCA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511B4-293E-426F-9030-DDB551A796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0A2BD-733A-4C73-8AED-9DA43B6DE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C5D5-645A-4995-841C-0B151CE60F95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574640"/>
            <a:ext cx="70992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5853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156520" y="2962440"/>
            <a:ext cx="1749600" cy="745920"/>
            <a:chOff x="8156520" y="2962440"/>
            <a:chExt cx="1749600" cy="7459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8437680" y="324000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156520" y="2962440"/>
              <a:ext cx="174960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21600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7055-D595-4738-9066-8BC2D2106F58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A1EB-F90B-4DE2-A155-608FEDF67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shapes with transparent fil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52640" y="3029040"/>
            <a:ext cx="2205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63640" y="1677960"/>
            <a:ext cx="2995560" cy="520560"/>
          </a:xfrm>
          <a:prstGeom prst="rect">
            <a:avLst/>
          </a:prstGeom>
          <a:solidFill>
            <a:srgbClr val="ffcc99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02:08Z</dcterms:created>
  <dc:creator>nandita</dc:creator>
  <dc:description/>
  <cp:keywords/>
  <dc:language>en-US</dc:language>
  <cp:lastModifiedBy>nandita</cp:lastModifiedBy>
  <cp:lastPrinted>1998-09-04T08:04:32Z</cp:lastPrinted>
  <dcterms:modified xsi:type="dcterms:W3CDTF">2010-03-17T07:23:21Z</dcterms:modified>
  <cp:revision>2</cp:revision>
  <dc:subject/>
  <dc:title>Slide 1</dc:title>
</cp:coreProperties>
</file>