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EB22-3E7D-40E0-A149-73E8AF71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entered opened a new  Openoffice text document and I entered some text 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 tried to spell check the document so I pressed  the short cut key “Alt+W” to spell check the document. But it is shwoing the  “window”  menu bar option “window” as shown above.  But as per the definition of  “Alt+w” short cut key it does this change.(Alt+W  Spellchecker Dialog : call back the original unknown word into the text box). So please check it. It may be treated as defect or enhance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62A-0FFE-45CA-8E65-B73078A3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9BD-D9C8-49BF-B62F-5E9E853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877-3B81-452D-A328-E6DE0516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CFF-A00B-44DB-B7FF-81EB3562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97C-6606-4B6A-B3F3-760A7124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893-DAFA-4C9B-9FC7-BA88FFAA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CDF-EC1E-49CD-A5DD-C4D1520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FA5-8BDD-41EE-AA22-BED9DA2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723-6B3B-490C-9197-7568B65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761-539D-4010-B177-F22D9B4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AE4-1CFA-483B-BC0B-2C9C596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83-680F-4BCB-BA94-0B50FEE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3D1-A681-47B8-BC87-373583F8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checker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7:00:54Z</dcterms:created>
  <dc:creator>virtusa</dc:creator>
  <dc:description/>
  <dc:language>en-US</dc:language>
  <cp:lastModifiedBy>virtusa</cp:lastModifiedBy>
  <dcterms:modified xsi:type="dcterms:W3CDTF">2004-12-03T07:11:07Z</dcterms:modified>
  <cp:revision>3</cp:revision>
  <dc:subject/>
  <dc:title>Work Flow</dc:title>
</cp:coreProperties>
</file>