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875-11C5-41DE-B554-B0EDEF31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4CF-1376-446B-A651-A6A02AB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875-E642-41BC-B6E5-4FE38C79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27E-D150-4E5C-B1D6-AB8596DC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0A2-4436-418A-BE82-F75DDE41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5FC-6B00-4519-AE8D-B5BA593B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8A0-5954-43C4-A296-2E3DE995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7FA-08AC-498F-89B8-0121A7A4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D8B-40ED-4A49-BF63-BCE0D93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718-4900-4D8F-956E-838A6D7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272-DB37-4AD2-910E-230F05E7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113-4134-47EA-BA64-8F1DD24D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647-8A63-4B5F-A31E-1524BF41C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dfasfdasdfsa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dfs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5:53:24Z</dcterms:created>
  <dc:creator>yolanda.wang</dc:creator>
  <dc:description/>
  <dc:language>en-US</dc:language>
  <cp:lastModifiedBy>yolanda.wang</cp:lastModifiedBy>
  <dcterms:modified xsi:type="dcterms:W3CDTF">2006-03-14T05:53:28Z</dcterms:modified>
  <cp:revision>1</cp:revision>
  <dc:subject/>
  <dc:title>幻灯片 1</dc:title>
</cp:coreProperties>
</file>