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F05D-55C9-432D-B2A4-48C52BA6D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0D23-B8E2-407A-B7A6-533EEED857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CAA5-9B28-4F11-89B3-B6B330EA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35BC-9196-46F9-B375-279A0CFE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20BC-46BF-4B3E-999C-78A3B53B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83A7-C79B-4CCC-A2F7-1D9FB450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9760-A457-4CC4-9BB3-404DCAFD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AD9F-25DD-42C1-A41E-5274C621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A26E-F3EB-4E62-BBEA-7DE6065F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E03A-0668-42E1-BB6E-0893ABA5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7B22-698D-407F-9B2D-DE1945C6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2AD0-EF70-4588-9715-52588B1B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D009-E943-4CF8-ACB7-FD9F1B30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E315-97E7-4896-9CED-2965F527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able-driven parsing</a:t>
            </a:r>
            <a:fld id="{6AC48F71-8736-4DC9-B4C8-2EB37FFCCD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puting Follow (N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        TE’     |  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’        +TE’   |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         FT’    |   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’         *FT’   |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          id       |  (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 (E) = {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),  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}    Follow (E’) = {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), 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 (T)  = First (E’ ) + Follow (E’) = {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+, ), 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 (T’) = Follow (T) = {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+, ), 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 (F) = First (T’) + Follow (T’) =   {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*, +, ), 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1600200" y="22096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600200" y="2590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Line 6"/>
          <p:cNvSpPr/>
          <p:nvPr/>
        </p:nvSpPr>
        <p:spPr>
          <a:xfrm>
            <a:off x="1600200" y="29718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Line 7"/>
          <p:cNvSpPr/>
          <p:nvPr/>
        </p:nvSpPr>
        <p:spPr>
          <a:xfrm>
            <a:off x="1600200" y="3276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600200" y="3657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08:58:33Z</dcterms:created>
  <dc:creator/>
  <dc:description/>
  <dc:language>en-US</dc:language>
  <cp:lastModifiedBy/>
  <dcterms:modified xsi:type="dcterms:W3CDTF">2011-04-27T08:58:36Z</dcterms:modified>
  <cp:revision>1</cp:revision>
  <dc:subject/>
  <dc:title/>
</cp:coreProperties>
</file>