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2153-5EED-41BD-939A-BA6C263A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A36E-3596-4BCD-86BC-3563F00F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69FC-6D0E-40B9-937E-675888CE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9016-575E-4960-ACF4-E3A5D4EBA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8083-63CB-4684-9425-9DA95F44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CB7E-58F8-4A81-8FE9-40A64488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1171-181E-4484-A7EF-12837242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EEF2-A866-4519-AA4A-1496AC83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A5D3-2C84-4F12-9BBA-0F308A6D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3B72-25B2-4411-979C-582908F9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B789-4FB4-441A-BDA5-1BC745CC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492-DB61-4947-83C8-A9D20FE2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37BF-9EE1-4A7F-A3A9-C99AE68B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470C-BD8C-426E-967A-0A215C89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26BA-90D1-434E-BE78-95B0321C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DECE-DD37-40B1-9759-DC39B6B8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168B-B65A-41BD-80ED-D8F441F6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5180-C462-4F97-BFD6-B87E54BD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B761-2507-498C-A6CF-BBD979A9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86BC-53C2-4C3F-A926-1047ED25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BACD-24D9-41C0-952A-E2F74FC6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F63F-550B-4F57-9D30-5E93115B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A007-2638-4F76-9292-AD6EE0E3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B933-298B-4077-BFA8-A7458BE4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41B3-989B-4EDA-9AF9-67608A5DE3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8687-933E-46C3-A0ED-055021B733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ame Theo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655720" y="2511360"/>
          <a:ext cx="3646800" cy="36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5720" y="2511360"/>
                    <a:ext cx="3646800" cy="36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isoner’s dilemm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52320" y="1676520"/>
            <a:ext cx="48006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Possible strategies for Mullo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60020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for J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3429000"/>
            <a:ext cx="1676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f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343400"/>
            <a:ext cx="1981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f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3124080"/>
            <a:ext cx="7010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nes: 8 year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nes:  2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loy:  8 year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loy:  1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nes:  10 year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nes:  4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loy:  2 ye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loy:  4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31240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3521400">
            <a:off x="4495320" y="220968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rot="18078600">
            <a:off x="6476760" y="22096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2590920"/>
            <a:ext cx="1676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f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2590920"/>
            <a:ext cx="2895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 not conf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oes cheating pay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76720" y="1676520"/>
            <a:ext cx="5029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Possible strategies for Far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523880"/>
            <a:ext cx="2057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strateg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for Ac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429000"/>
            <a:ext cx="2209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ide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572000"/>
            <a:ext cx="1981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3124080"/>
            <a:ext cx="71629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ron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$5 mill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ron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-$2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mer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5 mill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mer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8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ron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$8 mill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ron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$2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mer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-$2 mill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mer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2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1240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3521400">
            <a:off x="4495320" y="220968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rot="18078600">
            <a:off x="6476760" y="22096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2362320"/>
            <a:ext cx="2438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ide by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26668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st-favored-customer clau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7884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pulates that if the firm reduces its price subsequent to a purchase, the early customer will get a rebate so that he or she will pay no more than those buying after the price redu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ree types of commit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885680"/>
            <a:ext cx="914400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ince rivals that your firm is committed to a strategic move that it is ma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ince rivals that if they make particular moves, your firm is committed to retaliate swiftly and effectiv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ince rivals that your firm is committed to not make particular threatening moves against the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edible threa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733560" y="1752120"/>
            <a:ext cx="43434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Possible strategies for LI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523880"/>
            <a:ext cx="21337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Possi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for Gel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429000"/>
            <a:ext cx="2209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w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572000"/>
            <a:ext cx="1981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igh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3124080"/>
            <a:ext cx="71629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lhart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$2 mill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lhart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$3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3 mill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-$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lhart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$7 mill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lhart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$11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$11 mill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8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31240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3521400">
            <a:off x="4495320" y="220968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rot="18078600">
            <a:off x="6476760" y="22096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266688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w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666880"/>
            <a:ext cx="289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igh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terence of ent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657240" y="1752120"/>
            <a:ext cx="43434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Possible strategies for Sa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1523880"/>
            <a:ext cx="1600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Possi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strateg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for Lo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42900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ist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34340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ist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0" y="3124080"/>
            <a:ext cx="71629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tus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$3 mill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tus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$13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em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6 mill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em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$9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tus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$4 mill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tus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$13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em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$12 mill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em’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9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31240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3521400">
            <a:off x="4495320" y="220968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rot="18078600">
            <a:off x="6476760" y="22096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95480" y="26668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ist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2666880"/>
            <a:ext cx="3581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 not resist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cision tre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5053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a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1676520"/>
            <a:ext cx="2209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aq = $5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P = $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19520" y="19810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51814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3962520"/>
            <a:ext cx="12193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46483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on’t exp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25909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xp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752480" y="26668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3581280"/>
            <a:ext cx="4572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2514600"/>
            <a:ext cx="6858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71800" y="4648320"/>
            <a:ext cx="6858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657600" y="1981080"/>
            <a:ext cx="21337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2895480"/>
            <a:ext cx="22096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657600" y="434340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502920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17524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xp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6200" y="40384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xp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1280" y="33526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on’t exp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54864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on’t exp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289548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aq = $15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P = $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388620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aq = $6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P = $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518148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aq = $8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P = $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ame theo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s to study decision making in situations where there is a mixture of conflict and co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g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ompetitive situation where two or more persons pursue their own interests and no person can dictate the outc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6868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s of the g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describe how resources can be employ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a complete specification of what a player will do under each contingency in the playing of the g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yoff matr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set of rewards to players depending upon the outcome of the g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ominant strate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ategy that is “best” for one player, regardless of the strategy adopted by the oth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ominant strate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33920" y="1828440"/>
            <a:ext cx="487656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Possible strategies for Bark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133720"/>
            <a:ext cx="281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Possible strategies for All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429000"/>
            <a:ext cx="380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2438280"/>
            <a:ext cx="380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419720"/>
            <a:ext cx="380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2438280"/>
            <a:ext cx="381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3124080"/>
            <a:ext cx="7010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ied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3 mill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ied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2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rkley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4 mill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rkley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3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ied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4 mill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ied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3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rkley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3 mill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rkley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2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1240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3521400">
            <a:off x="4495320" y="220968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rot="18078600">
            <a:off x="6476760" y="22096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sh equilibriu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et of strategies such that each player believes (accurately) that it is doing the best it can 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given the strategy of the other player(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o dominant strateg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 Barkle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00400" y="1752120"/>
            <a:ext cx="49528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Possible strategies for Bark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133720"/>
            <a:ext cx="281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Possible strategies for All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3429000"/>
            <a:ext cx="380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2438280"/>
            <a:ext cx="380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419720"/>
            <a:ext cx="380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2438280"/>
            <a:ext cx="381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3124080"/>
            <a:ext cx="7010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ied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3 mill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ied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2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rkley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4 mill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rkley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3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ied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4 mill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ied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3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rkley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3 mill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rkley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4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31240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3521400">
            <a:off x="4495320" y="220968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rot="18078600">
            <a:off x="6476760" y="22096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wo Nash equilibr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52320" y="1676520"/>
            <a:ext cx="48006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Possible strategies for Bark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209680"/>
            <a:ext cx="2819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Possible strategies for All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3429000"/>
            <a:ext cx="380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2438280"/>
            <a:ext cx="380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4419720"/>
            <a:ext cx="380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438280"/>
            <a:ext cx="381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3124080"/>
            <a:ext cx="7010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ied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5 mill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ied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rkley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5 mill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rkley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ied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ied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5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rkley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rkley’s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$5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1240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3521400">
            <a:off x="4495320" y="220968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rot="18078600">
            <a:off x="6476760" y="22096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action curves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rpenter and Hano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1967040" y="6238800"/>
            <a:ext cx="6567480" cy="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63244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of Han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286000"/>
            <a:ext cx="20620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of Carp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32720" y="5334120"/>
            <a:ext cx="2411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Arial Black"/>
              </a:rPr>
              <a:t>Carpenter’s reaction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1905120"/>
            <a:ext cx="28954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 Black"/>
              </a:rPr>
              <a:t>Hanover’s reaction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2819520"/>
            <a:ext cx="18288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quilib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71880" y="1996920"/>
            <a:ext cx="4640040" cy="385128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71800" y="1828800"/>
            <a:ext cx="2279520" cy="440388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981080" y="167652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3T04:53:24Z</dcterms:created>
  <dc:creator>RACK</dc:creator>
  <dc:description/>
  <dc:language>en-US</dc:language>
  <cp:lastModifiedBy>Chunsheng Zhou</cp:lastModifiedBy>
  <dcterms:modified xsi:type="dcterms:W3CDTF">2000-01-31T06:38:31Z</dcterms:modified>
  <cp:revision>7</cp:revision>
  <dc:subject/>
  <dc:title>Chapter 13 Game Theory</dc:title>
</cp:coreProperties>
</file>