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FAB-3D17-4988-BF21-D38FBC78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CFA-3597-403C-A5EE-C56781AD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1A8-C57E-4020-9B77-E9F1AA94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174-02D4-4BE6-B01A-3E5F8BF8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D66-B6BA-417D-8D57-6E1F0C81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965-00D1-462A-AD5E-AEC1446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E9F-EE40-476F-9CBC-D7DC6C3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52B-F693-4B81-98C2-2B36E765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A96-3642-4356-B17C-AF1B9984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D06-D5E1-4DB6-8968-552B7AC6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062-23CD-48CD-8F99-616BACD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AAB-A53C-42F3-B14F-CE75835D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B26E-414A-44AA-8AEE-9BEC1CCECD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for bull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for bull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for bull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gashree</dc:creator>
  <dc:description/>
  <dc:language>en-US</dc:language>
  <cp:lastModifiedBy/>
  <cp:revision>0</cp:revision>
  <dc:subject/>
  <dc:title/>
</cp:coreProperties>
</file>