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3F1-25C6-417D-9AD5-8504F307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4DF-5209-4C90-B7AD-29FB8B5B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4C2-F1FA-4CF5-8A89-1DA6F962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16F-7C6B-4BB4-9AB3-8668764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8CB-1956-4F99-9FC2-D939F110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20C-06C8-462E-AA8A-9EC72E1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011-3C71-41FE-B611-551A3404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354-5EEE-479F-B698-5E6739E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113-C8CC-4835-8CD2-48AB8F85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23C-2331-4929-BF12-7504A34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9B6-487E-4BB1-ACDC-E329044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4AC-CE57-4234-B47C-C393F8D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3DB-9691-470F-A3FB-158AF340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layout with Lin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ff00"/>
            </a:solidFill>
            <a:prstDash val="lgDashDot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 Dash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99cc00"/>
            </a:solidFill>
            <a:prstDash val="dashDot"/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ge</cp:lastModifiedBy>
  <dcterms:modified xsi:type="dcterms:W3CDTF">2010-07-16T04:56:37Z</dcterms:modified>
  <cp:revision>13</cp:revision>
  <dc:subject/>
  <dc:title>This is a layout with Lin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