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72C-616F-4AAB-8722-120E171F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2EC-E017-4E65-8D41-02DEA3C4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26F-CDC7-42D2-ABC4-0419C0F7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62F-61E8-4399-9A60-66DFF1CE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B6F2-8459-4368-B69D-6E1BA3AD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5A7C-7CC8-469E-ABC5-B1DD5C92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951D-C8C6-41F3-981E-F55ABA04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1EEB-6B3A-4C91-869C-F26413EB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239C-ADBA-4DEB-BA79-65AA734A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E7CE-18CA-4517-B5A1-6C33AA7C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E129-B5A8-48BA-8C16-9A6CBF1E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4DD-F952-448C-ABE3-4EB25E56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0578-4439-45BC-B266-F8EA12FB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9A9A-685D-4068-BF01-1E3FA8C8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E247-A9BE-46E9-A017-84CCCB50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AD44-5CC2-46B9-983C-B59DAE07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E758-5B40-46E0-961C-4742A8EA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CC0-B7DC-4AEB-9C6F-7C19ED93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74F-CE7C-4626-803D-0D1E820B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FF9E-BA4D-463B-BCA5-94D08C7D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B0D-76E3-4A7B-9FE9-9BEBC698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A53-DF07-447C-B1DE-B8A74AAC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A85-D9FA-41E5-A3DE-304C3C3D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044-C5C7-4A95-B2B0-6D53B479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ECEB-3E2D-4460-AF37-EB4A9BE24E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842D-47D1-401B-8553-6F87975A68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333399"/>
                </a:solidFill>
                <a:latin typeface="Tahoma"/>
              </a:rPr>
              <a:t>קבוצת מבנה הרקטה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חברי הקבוצה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אסף קליין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ליאור בכ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חידושים והמצאות (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אלמנט משכך בתחתית ה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I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משכי גומי קטנים שמתיישבים בין המייתרי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מילוי סיליקוני של הגשר     שיכוך זעזועי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גדלת מומנט אינרציה של המחבט      יציבות סביב ציר המחבט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3657600"/>
            <a:ext cx="381240" cy="152280"/>
          </a:xfrm>
          <a:prstGeom prst="leftArrow">
            <a:avLst>
              <a:gd name="adj1" fmla="val 50000"/>
              <a:gd name="adj2" fmla="val 6258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419112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כיוונים פוטנציאלים (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א-סימטריות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Tahoma"/>
              </a:rPr>
              <a:t>יתרונות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גישה נוחה לכדורים קשים (בעיקר בסקווש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אחיזה מותאמת אישית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Tahoma"/>
              </a:rPr>
              <a:t>חסרונות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אין הבדלים בדרישות הדינמיות עבור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H.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.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דורש אחיזה קבועה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נוסו ונכשלו מחבטים א- סימטריים בעבר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nawert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כיוונים פוטנציאלים (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רעיונות א-סימטריים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ידית אחיזה מותאמת אישית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כיווניות הראש- שטוח לכיוון הקיר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ציר סיבוב בין הראש ל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I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קצה ראש מחבט גמיש או חסר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כיוונים פוטנציאלים (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רעיונות כללים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שינוי דינמי של מיקום מרכז מסה ומומנט האינרציה      יציבות, עוצמה, שיכוך רעידות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יכולת שליטה על מתיחות מייתרים ע"י שימוש בחומרים פיאזואלקטרים        דיוק או עוצמה לפי הצורך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724280"/>
            <a:ext cx="533520" cy="152640"/>
          </a:xfrm>
          <a:prstGeom prst="leftArrow">
            <a:avLst>
              <a:gd name="adj1" fmla="val 50000"/>
              <a:gd name="adj2" fmla="val 873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81952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סדר יו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זיהוי הצור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הבנת הצור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לימוד החומ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סוגי חומרי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תצור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ahoma"/>
              </a:rPr>
              <a:t>מייתרי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חידושים והמצאו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ahoma"/>
              </a:rPr>
              <a:t>כיוונים פוטנציאלי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זיהוי הצור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פיתוח מחבט טני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סקווש בעל תכונות אלסטיות דינמיות בלתי סימטריות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הבנת הצור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he-IL" sz="2400" spc="-1" strike="noStrike">
                <a:solidFill>
                  <a:srgbClr val="000000"/>
                </a:solidFill>
                <a:latin typeface="Miriam"/>
              </a:rPr>
              <a:t>ראיונות מומחים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דר' יאיר פלד , רופא, שחקן נבחרת ישראל בסקווש, בעבר מקום שני בארץ ומאמן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אמנון כסיף , מאמן טניס בכיר, נבחרות ומקצוענים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מאור סירקין , אלוף ישראל לנוער בטניס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נועם מזרחי , מהנדס מכונות, בעבר מהנדס אנוש ברפאל, כיום מתמחה בביו- רפואה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פרופסור חיים אברמוביץ, מומחה לחומרים מרוכבים, פיאזואלקטרים ותורת הרטט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יהודית,מרכז הטניס, </a:t>
            </a:r>
            <a:r>
              <a:rPr b="1" lang="he-IL" sz="1600" spc="-1" strike="noStrike">
                <a:solidFill>
                  <a:srgbClr val="000000"/>
                </a:solidFill>
                <a:latin typeface="Miriam"/>
                <a:ea typeface="Arial"/>
              </a:rPr>
              <a:t>17</a:t>
            </a:r>
            <a:r>
              <a:rPr b="1" lang="he-IL" sz="1600" spc="-1" strike="noStrike">
                <a:solidFill>
                  <a:srgbClr val="000000"/>
                </a:solidFill>
                <a:latin typeface="Miriam"/>
                <a:ea typeface="Arial"/>
              </a:rPr>
              <a:t> שנה בתחום של ציוד טניס ושזירה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he-IL" sz="2400" spc="-1" strike="noStrike">
                <a:solidFill>
                  <a:srgbClr val="000000"/>
                </a:solidFill>
                <a:latin typeface="Miriam"/>
              </a:rPr>
              <a:t>סקר צרכנים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רעיונות לשחקנים חובבים, סקווש / טניס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Miriam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Miriam"/>
              </a:rPr>
              <a:t>סקר ספרות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חומר תאורטי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he-IL" sz="1600" spc="-1" strike="noStrike">
                <a:solidFill>
                  <a:srgbClr val="000000"/>
                </a:solidFill>
                <a:latin typeface="Miriam"/>
                <a:cs typeface="Arial"/>
              </a:rPr>
              <a:t>אינטרנט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Miriam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333399"/>
                </a:solidFill>
                <a:latin typeface="Tahoma"/>
              </a:rPr>
              <a:t>בית האיכות-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QF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1371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לימוד החומר </a:t>
            </a: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:    </a:t>
            </a: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סוגי חומרים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סקירה רטרוספקטיבית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עץ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אלומיניום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חומרים מרוכבים: סיבי גרפית, קוולר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תוספי טיטניום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חומרים דינמיים: פיאזו- אלקטריי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לימוד החומר </a:t>
            </a: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:          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תצור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סקירה רטרוספקטיבית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ראש אליפטי קטן ותצורה קבוע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עלית שטח הרא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ראש טיפה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ראש פחוס (סקווש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התארכות המחבט  (טניס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דגש אווירודינמ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שינויי תצורת הגש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לימוד החומר</a:t>
            </a: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:          </a:t>
            </a:r>
            <a:r>
              <a:rPr b="0" lang="he-IL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מייתרים</a:t>
            </a: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סקירה רטרוספקטיבית: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גידים מהח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פולימרי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ליבה + מעטפת מפולימרים בעלי תכונות שונ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מעטפת טיטניום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ahoma"/>
              </a:rPr>
              <a:t>איזונים: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שינויי עובי אורך וחומ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קשיחות- אלסטי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r" rtl="1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חוזק מיתר </a:t>
            </a:r>
            <a:r>
              <a:rPr b="0" lang="he-IL" sz="2400" spc="-1" strike="noStrike">
                <a:solidFill>
                  <a:srgbClr val="3333cc"/>
                </a:solidFill>
                <a:latin typeface="Tahoma"/>
              </a:rPr>
              <a:t>מול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תחוש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r" rtl="1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עוצמה </a:t>
            </a:r>
            <a:r>
              <a:rPr b="0" lang="he-IL" sz="2400" spc="-1" strike="noStrike">
                <a:solidFill>
                  <a:srgbClr val="3333cc"/>
                </a:solidFill>
                <a:latin typeface="Tahoma"/>
              </a:rPr>
              <a:t>מול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</a:rPr>
              <a:t> דיוק</a:t>
            </a:r>
            <a:r>
              <a:rPr b="0" lang="he-I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חידושים והמצאות (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he-IL" sz="4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שילוב חומרים פיאזואלקטרים בצוואר המחבט                            קשיחות, הפחתת רעידות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גלגיליות כתומכי מייתרים    אלסטיות, עמידות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ממשק מייתרים -ראש חופשי     אלסטיות, תחושה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חומר סופג רעידות (גומי) בצוואר     שיכוך רעידות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352680"/>
            <a:ext cx="380880" cy="152640"/>
          </a:xfrm>
          <a:prstGeom prst="leftArrow">
            <a:avLst>
              <a:gd name="adj1" fmla="val 50000"/>
              <a:gd name="adj2" fmla="val 623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88620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4495680"/>
            <a:ext cx="457200" cy="152640"/>
          </a:xfrm>
          <a:prstGeom prst="leftArrow">
            <a:avLst>
              <a:gd name="adj1" fmla="val 50000"/>
              <a:gd name="adj2" fmla="val 748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228600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saf</cp:lastModifiedBy>
  <dcterms:modified xsi:type="dcterms:W3CDTF">2001-12-25T21:04:08Z</dcterms:modified>
  <cp:revision>25</cp:revision>
  <dc:subject/>
  <dc:title>מצגת של PowerPoint</dc:title>
</cp:coreProperties>
</file>