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645C-ADE6-4134-B826-8DF225084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F6B3-D0C4-4468-8898-EFB56C2F5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F273-36F1-4447-8085-0CC77D06B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EACA-2699-45CC-8862-3D0709345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87E18-9704-4641-BCF6-7DD78030F0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AC49B-0340-4EF2-A314-652AA01A86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CE6B4-0A91-4680-BF94-AAECD8282A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5C31C-67F1-49A0-AA41-B8F0AB60BD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19E5D-BD4F-4D4D-B7A0-7E73839C79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900D6-9BA7-4B8D-8CD1-EEADC4F6FD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16E6C-BA4F-425D-95BC-1EF6F8B4D8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45FB-EE71-4A04-AA06-342A70D02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E9F39-AD5C-46C5-AE07-D8A38AC0AE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4EF7A-CFD5-4BFF-8F3C-9C3B9F10B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21C80-2873-491C-BFFD-80DA1510E7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89062-415E-41A6-A75A-9175350B82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83359-866E-42C4-A66D-AFFEC1F59E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81AB-6A79-4151-B64F-53EEC56FAE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2800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5640" y="177336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0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2800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5640" y="4049640"/>
            <a:ext cx="250236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F351-4A64-41D1-BF7D-6578ED50F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2A4F-7ECC-41CF-8FD7-A899C191D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1125360"/>
            <a:ext cx="7772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47F7-C372-449A-B1CB-73FEEA62D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AF77-A30E-4245-BECC-C78DBA6CD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2680" y="404964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C106-9DD1-4BDE-B8D4-65BE7D513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680" y="1773360"/>
            <a:ext cx="37926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4049640"/>
            <a:ext cx="777240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A06A-55CB-4D56-976D-9FBF03F07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6480"/>
            <a:ext cx="9144000" cy="88920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a9aa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98200" y="6442200"/>
            <a:ext cx="6837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22960" y="6442200"/>
            <a:ext cx="6634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7C99-73F1-498B-BB13-ED0722AEEAD0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162000"/>
            <a:ext cx="216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8676c"/>
                </a:solidFill>
                <a:latin typeface="Trebuchet MS"/>
              </a:rPr>
              <a:t>www.law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705040" y="214200"/>
            <a:ext cx="2422440" cy="406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5800" y="-6480"/>
            <a:ext cx="2340000" cy="884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91440" y="81900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4680" y="3860640"/>
            <a:ext cx="59691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2704680" y="6442200"/>
            <a:ext cx="496116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28000" y="6442200"/>
            <a:ext cx="6588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33C-79B6-4DE5-AC02-553F2B01ED96}" type="slidenum">
              <a:rPr b="1" lang="cs-CZ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676c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68676c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a9aaa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-6480"/>
            <a:ext cx="9144000" cy="2536920"/>
          </a:xfrm>
          <a:prstGeom prst="rect">
            <a:avLst/>
          </a:prstGeom>
          <a:solidFill>
            <a:srgbClr val="df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ftr" idx="5"/>
          </p:nvPr>
        </p:nvSpPr>
        <p:spPr>
          <a:xfrm>
            <a:off x="2704680" y="6442200"/>
            <a:ext cx="496116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704680" y="3141360"/>
            <a:ext cx="5969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6391440" y="2457360"/>
            <a:ext cx="2752560" cy="115920"/>
          </a:xfrm>
          <a:prstGeom prst="rect">
            <a:avLst/>
          </a:prstGeom>
          <a:solidFill>
            <a:srgbClr val="803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05040" y="431640"/>
            <a:ext cx="5391360" cy="166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15526" r="0" b="33673"/>
          <a:stretch/>
        </p:blipFill>
        <p:spPr>
          <a:xfrm>
            <a:off x="415800" y="-63360"/>
            <a:ext cx="2340000" cy="691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d1e1e"/>
                </a:solidFill>
                <a:latin typeface="Trebuchet MS"/>
              </a:rPr>
              <a:t>Click to edit the outline text format</a:t>
            </a:r>
            <a:endParaRPr b="1" lang="en-US" sz="3600" spc="-1" strike="noStrike">
              <a:solidFill>
                <a:srgbClr val="7d1e1e"/>
              </a:solidFill>
              <a:latin typeface="Trebuchet MS"/>
            </a:endParaRPr>
          </a:p>
          <a:p>
            <a:pPr lvl="1" marL="826920" indent="-285480">
              <a:spcBef>
                <a:spcPts val="649"/>
              </a:spcBef>
              <a:buClr>
                <a:srgbClr val="7d1e1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spcBef>
                <a:spcPts val="575"/>
              </a:spcBef>
              <a:buClr>
                <a:srgbClr val="7d1e1e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43040" indent="-228600">
              <a:spcBef>
                <a:spcPts val="499"/>
              </a:spcBef>
              <a:buClr>
                <a:srgbClr val="7d1e1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7d1e1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4680" y="3141360"/>
            <a:ext cx="5969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MPS II/1. seminář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ápatí prezenta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inárodní příslušnost - pramen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Unijní předpisy (nařízení Brusel I, nařízení Brusel IIbis, nařízení o výživné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ezinárodní smlouvy (dvoustranné o právní pomoci, mnohostranné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ZMPS (§§37 a násl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99AE-5A1A-4915-9025-2094443128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slušnost ve věcech majetkový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ukromoprávní věci mající majetkový aspek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řízení Brusel I x §37 (§39) ZMPS x mezinárodní smlouv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ásadním předpisem je nařízení Brusel I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D26D-5D0E-478D-8B7D-111CCDB50D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řízení Brusel 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fikace pravid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zinárodní příslušno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znání a výkon rozhodnutí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49DF-79F2-4A6C-AF88-325145F81E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řízení Brusel I - působnos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zinárodní prv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vinná aplikac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Územní (členské státy EU, Dánsko na základě mezinárodní smlouvy s EU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Časová (článek 66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sobní (žalovaný má bydliště v EU – články 2 -4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ěcná (článek 1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013E-B254-4362-B1A9-2EFB8DA6AE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řízení Brusel I – věcná působnos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ěci občanské a obchodní (bez ohledu na druh soudu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yloučené otázk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ěci osobního stravu, způsobilost osoby k právům a právním úkonům, majetkové vztahy mezi manželi, dědě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onkurzy, vyrovnání a podobná říz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ciální zabezpeč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zhodčí řízení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EAE9-8D52-465E-B0A1-CAF074D1F6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onomní interpreta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j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ův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líčové rozhodnutí ES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1610-8340-4D46-9E39-8A4053C5F0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říklad 1: Posuďte aplikaci nařízení Brusel 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Prahy uzavřeli kupní smlouvu na dodávku nábytku. Kupující nezaplatil kupní cenu a prodávající podal dne 17.3.2008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důvodněte příslušnou právní normou a judikaturou ESD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61EF-C672-4C84-ACFE-76CABD9FB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Vídně uzavřeli kupní smlouvu na dodávku nábytku. Kupující nezaplatil kupní cenu a prodávající podal dne 17.3.2004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72FE-7395-45DD-B030-BDE944EB93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 ČR byl dne 17.3.2004 podán návrh na výkon rozsudku vydaného rakouským soudem dne 15.12.200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 ČR byl dne 15.6.2004 podán návrh na výkon rozsudku vydaného rakouským soudem dne 15.1.2004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 ČR byl dne 15.6.2005 podán návrh na výkon rozsudku vydaného rakouským soudem dne 15.1.2005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0893-5135-46D6-A9B9-6DF77D72F4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4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Ženevy uzavřeli kupní smlouvu na dodávku nábytku. Kupující nezaplatil kupní cenu a prodávající podal dne 17.3.2010 žalobu na plnění u soudu v Ženev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0677-26E3-4228-8521-1A18CC78FF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akování podzimního semestru – příkla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řízení Brusel I – působno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0DE3-5E59-46B0-A1DE-95B179F35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5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(prodávající) a podnikatel I.B. z Ženevy (kupující) uzavřeli kupní smlouvu na dodávku nábytku. Kupující nezaplatil kupní cenu a prodávající podal dne 17.3.2010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DCD8-7FE9-438D-B08F-C9AF92C81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(kupující) a podnikatel I.B. z Ženevy (prodávající) uzavřeli kupní smlouvu na dodávku nábytku. Kupující nezaplatil kupní cenu a prodávající podal dne 17.3.2010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E459-4E5F-4DE7-9077-866C8F6B0E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7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odnikatel P.D. z Brna a podnikatel I.B. z Vídně uzavřeli kupní smlouvu na dodávku nábytku. Kupující nezaplatil kupní cenu a prodávající podal dne 17.3.2010 žalobu na plněn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36FB-FF45-42D2-B4CD-2356F4674C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8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Manželé, z nichž jeden má českou a druhý slovenskou státní příslušnost, žijí ve Vídni. Jeden z nich podá dne 17.3.2010 návrh na rozvod manželství u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207E-0189-40E7-B1B1-EF834777CC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Manželé, z nichž jeden má českou a druhý slovenskou státní příslušnost, byli rozvedeni. Manželka podá dne 17.3.2010 návrh na přiznání výživného rozvedeného manžela soudu v Brn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1EA0-1BEB-412A-9D34-ED506475E3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1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U Rozhodčího soudu při HK ČR a AK ČR se konalo rozhodčí řízení ve sporu o zaplacení kupní ceny z kupní smlouvy uzavřené mezi podnikatelem z Prahy a podnikatelem z Varšavy. Povinný podal u soudu v Praze návrh na zrušení rozhodčího nálezu podle §31 ZRŘ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2F50-0ACF-4542-BCAA-8EF0D4AA3A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Zpět k úvodnímu příklad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uďte, zda by byly splněny podmínky působnosti nařízení Brusel 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88D9-B5E6-41DE-A12A-759636A203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1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Novomanželé Adam a Eva z Brna se rozhodli, že na svatební cestu pojedou na ostrov Malta. Na radu kamaráda si v dubnu 2010 objednali zájezd na Maltu (odlet z Vídně, ubytování v hotelu, stravování all inclusive) přes internet u slovenské cestovní kanceláře Easy Travel, s.r.o. se sídlem v Bratislavě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FFF8-0B50-4A8B-A99C-967C30E3E4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říklad 1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rebuchet MS"/>
              </a:rPr>
              <a:t>Pan Edberger s německou státní příslušností bydlící v Brně (žije s ním tady jeho rodina, děti chodí do školy) pracoval pro německou pobočku americké společnosti SDA (nabízel a prodával průmyslové čisticí prostředky) pro ČR, SR, Maďarsko a Rakousko mimo Vídeň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B520-A83F-43FB-9D15-CCA4B8ABF2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4680" y="3860640"/>
            <a:ext cx="59691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08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704680" y="3141360"/>
            <a:ext cx="5969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říklad - opakování</a:t>
            </a:r>
            <a:endParaRPr b="0" lang="en-US" sz="2800" spc="-1" strike="noStrike">
              <a:solidFill>
                <a:srgbClr val="68676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68E30-DAE2-44D5-AD04-2497EA07DC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uďte právní režim smlouvy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D20B-5BC1-4F34-84E2-BDE767420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dle jakého práva byste posoudili, zda byla smlouva uzavřena v platné formě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619A-4186-438F-B223-EC2D1DCC53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dle jakého práva byste posoudili, zda a v jaké výši má prodávající nárok na úroky z prodlení se zaplacením kupní ceny za říjnovou dodávku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004F-0836-4C89-ABBB-16B8701CE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5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uďte právní režim (ve všech aspektech) situace, kdy prodávající postoupí svoji pohledávku za kupujícím české společnosti ABC, s.r.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6BCB-FE5A-455F-A0BA-600A55A38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tázka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Určete právo rozhodné pro kupní smlouvu, kdy si pan Novák z Brna v červenci 2010 objedná přes internet od společnosti Hollandbloemen cibule tulipánů na svoji zahrádku. Společnost Hollandbloemen provozuje rovněž tento internetový obchod a cibule doručuje do všech členských států EU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C4C9-6D60-482C-B565-C26849A1B2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inárodní právo procesní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 ČR součást M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zinárodní pravomoc (příslušnos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ávní pomo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9aaa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znání a výkon rozhodnutí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patí prezenta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7CD5-3C2B-47F0-AB0F-F5124AB43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8:46:35Z</dcterms:created>
  <dc:creator>Klára Svobodová</dc:creator>
  <dc:description/>
  <dc:language>en-US</dc:language>
  <cp:lastModifiedBy>Ondra</cp:lastModifiedBy>
  <dcterms:modified xsi:type="dcterms:W3CDTF">2011-02-26T10:30:45Z</dcterms:modified>
  <cp:revision>36</cp:revision>
  <dc:subject/>
  <dc:title>MPS II/1. seminář  </dc:title>
</cp:coreProperties>
</file>