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497-5452-4483-A232-3BA0AF40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A05-C65A-4BE7-BD70-87D429BD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C84-1B10-4620-B3B9-BC75E22D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AF3-29B1-47F9-B141-FACCC3EE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03F-7731-4869-8FFF-CA06891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4AA-A116-4F71-8B64-A17986C7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90B-7A43-46B5-9513-D2AB021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A84-ABF5-47A2-BCDE-C86958E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CBE-DE7B-42AE-A99B-166172C1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435-9C57-47E7-A701-89B26DA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71D-B9EA-447C-A3A9-6ECA2C3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385-28AC-4D43-B4B3-7EC3A96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A54-3313-431A-8A95-C62686DE1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2338560"/>
          <a:ext cx="6675480" cy="1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38560"/>
                    <a:ext cx="6675480" cy="16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0:06:47Z</dcterms:created>
  <dc:creator>Caolan McNamara</dc:creator>
  <dc:description/>
  <dc:language>en-US</dc:language>
  <cp:lastModifiedBy>Caolan McNamara</cp:lastModifiedBy>
  <dcterms:modified xsi:type="dcterms:W3CDTF">2004-02-19T10:06:53Z</dcterms:modified>
  <cp:revision>1</cp:revision>
  <dc:subject/>
  <dc:title>Slide 1</dc:title>
</cp:coreProperties>
</file>