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D5600-4C21-4602-84BB-A4C20A456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E680C-FC85-4D7E-81B0-AACBE668D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D18EE-529F-4C0E-BBE2-F80A7247B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772DB-4764-4777-AD14-4A9D41DF8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689DA-0B98-4ABD-A806-4E37D0C7A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72F42-8C68-46E6-A47D-C4B080EEC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479C3-C9ED-4E31-B795-35A718C19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E78E7-62BD-4E41-8E7B-97D86716D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A3CED-8C8F-488D-855A-AEC959D1E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83C9A-8510-4157-B6D6-87725CB1D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928AF-15E7-4DAA-BB81-BF7D8E706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F1C8B-B8A6-444F-8668-BA2CD7214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A630E-2845-4520-816F-064F6E0EF26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524240"/>
                <a:gridCol w="1523880"/>
                <a:gridCol w="1523880"/>
                <a:gridCol w="1524240"/>
              </a:tblGrid>
              <a:tr h="2528280"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f a fad faf adf 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9966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ff9966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ff9966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f a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ff9966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f  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ff9966"/>
                      </a:solidFill>
                    </a:lnR>
                    <a:lnT w="18720">
                      <a:solidFill>
                        <a:srgbClr val="ff9966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511920"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9966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ff996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511920"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9966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ff996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511560"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9966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ff9966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ff9966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ff9966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ff996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ff9966"/>
                      </a:solidFill>
                    </a:lnB>
                    <a:solidFill>
                      <a:srgbClr val="00cc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ason</cp:lastModifiedBy>
  <dcterms:modified xsi:type="dcterms:W3CDTF">2005-04-15T09:15:47Z</dcterms:modified>
  <cp:revision>6</cp:revision>
  <dc:subject/>
  <dc:title>PowerPoint Presentation</dc:title>
</cp:coreProperties>
</file>