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133F9-F5C5-41CE-B247-2ADF0FDD8C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27160" y="752400"/>
            <a:ext cx="5527800" cy="377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18DA-8C1C-4E88-B43A-EC87FF44C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CEBD-6391-423E-AC8E-62E948FA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AD8A-F903-4AFC-9C42-4F53573D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7A8A-B5DC-4884-8ADE-9B6201C1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C52F-E839-4F85-B822-F15ADDE2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C50B-7961-43C7-9974-CEF32E11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FCB8-66D0-4A7D-8C43-00412D4D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E6D2-1CBF-4B1B-BD94-4DA5DA4B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67F-2D43-4A0D-A994-0CF13FE2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9AE1-4C6C-46C9-A85B-3A848510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EAAD-5C59-4A33-B906-3E63A9D4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B3B1-7302-4D25-AE6C-37F76A89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C92A7-D0C5-4478-A56D-FC01D45A0F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00360" y="1260360"/>
            <a:ext cx="4173480" cy="46022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 Catchpole</cp:lastModifiedBy>
  <dcterms:modified xsi:type="dcterms:W3CDTF">2005-05-04T13:02:38Z</dcterms:modified>
  <cp:revision>1</cp:revision>
  <dc:subject/>
  <dc:title>Slide 1</dc:title>
</cp:coreProperties>
</file>