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B20-74A0-4E61-B3C1-4124766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6FA-A191-43E0-A322-C639BE8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119-2F75-4633-8E54-7FE1927E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7F4-26C8-4B7A-8E04-1CA1FFF5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E04-C081-4A14-A495-E4EFAEE8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5CE-491A-48D8-9702-BB8ECFD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25C-8AF4-4B46-9FC0-3BA5171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DEF-14A8-44C5-A76E-7909BE2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C46-8432-4BD9-8BA5-0D94C3D3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E20-C1D0-45CA-8E47-340D5BC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056-43E2-4969-ABF0-996C750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F91-98D0-468F-ADD1-7CD841A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01B8-16AE-43C9-B730-D5D772A791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719-88BB-425E-A498-66EDE68E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Fo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456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-502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%^%&amp;_+|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5:45:40Z</dcterms:created>
  <dc:creator>Wipro</dc:creator>
  <dc:description/>
  <dc:language>en-US</dc:language>
  <cp:lastModifiedBy>lthan</cp:lastModifiedBy>
  <dcterms:modified xsi:type="dcterms:W3CDTF">2009-08-14T12:34:00Z</dcterms:modified>
  <cp:revision>10</cp:revision>
  <dc:subject/>
  <dc:title>Slide 1</dc:title>
</cp:coreProperties>
</file>