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A61-6698-498B-BE36-0E6C4B0E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5ED-E32E-4A6F-8771-003B40C6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3DE-0B09-428C-B2A0-5BF28FA3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986-EBA2-429E-B4BB-D8CC4E64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BB1-020C-451C-A63A-EE087852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8FD-9864-452D-95A2-83642B77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B81-DF49-4432-8EF4-6E1CAFE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FF4-E01C-403D-8D6D-D06CB2E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F08-FC6B-4EE5-A285-E1DE48F8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284-9CB9-42CD-B444-A3A5295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908-68B3-4A4A-BB1C-44729924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DFB-F43A-4493-A91E-362A8B6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2AB8-CEDD-43C9-B4A2-35509D0C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50:22Z</dcterms:created>
  <dc:creator>Erik Christiansson</dc:creator>
  <dc:description/>
  <dc:language>en-US</dc:language>
  <cp:lastModifiedBy>Erik Christiansson</cp:lastModifiedBy>
  <dcterms:modified xsi:type="dcterms:W3CDTF">2005-11-28T13:50:25Z</dcterms:modified>
  <cp:revision>1</cp:revision>
  <dc:subject/>
  <dc:title>Title</dc:title>
</cp:coreProperties>
</file>