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D3C-8220-499F-A989-587525FA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F5B-0E58-4510-B214-91ED468C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0E5-CF97-4A2F-8555-4BED90B0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33F-FC6B-4C63-AB19-E49AFBC8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F95-F0B9-45D3-A332-1A2DD40A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29D-82C3-4179-AA4D-F74CAB70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51F-B51D-46CB-86E3-C5744688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2E9-D9E3-4289-B13A-0736BCA5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CBA-1C5E-4094-9D38-9AD8F0E7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CA5-168C-48EE-A6CB-6E4F5CAD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41E-3BCD-4F70-8EA1-B8F50975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321-C192-4106-8F9C-D260DA58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41C5-F129-4044-B108-57B93DE19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77320" y="14590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4680" y="1320840"/>
            <a:ext cx="2361960" cy="914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46120" y="152244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1397160"/>
            <a:ext cx="2210040" cy="914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55840" y="177804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06720" y="1647720"/>
            <a:ext cx="2057400" cy="914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6160" y="502596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4849920"/>
            <a:ext cx="22860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5000" y="30225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717640"/>
            <a:ext cx="3200400" cy="1143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59120" y="44751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322880"/>
            <a:ext cx="2654280" cy="985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75160" y="3403440"/>
            <a:ext cx="439920" cy="1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29200" y="5164200"/>
            <a:ext cx="1082520" cy="14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125960"/>
            <a:ext cx="1800" cy="6904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55960" y="1930320"/>
            <a:ext cx="930240" cy="1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5960" y="1473120"/>
            <a:ext cx="3584520" cy="1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89680" y="1930320"/>
            <a:ext cx="536400" cy="1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273400"/>
            <a:ext cx="1440" cy="349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273400"/>
            <a:ext cx="1440" cy="1998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 flipV="1">
            <a:off x="7552800" y="2300040"/>
            <a:ext cx="1058040" cy="3064320"/>
          </a:xfrm>
          <a:prstGeom prst="bentConnector2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4352040" y="4127400"/>
            <a:ext cx="1102320" cy="616680"/>
          </a:xfrm>
          <a:prstGeom prst="bentConnector3">
            <a:avLst>
              <a:gd name="adj1" fmla="val 100261"/>
            </a:avLst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7343280" y="323532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27680" y="3084480"/>
            <a:ext cx="2666880" cy="1035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34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35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  <p:animClr clrSpc="rgb">
                                <p:cBhvr>
                                  <p:cTn id="36" dur="1" fill="hold"/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2:25:38Z</dcterms:created>
  <dc:creator>Office 2004 Test Drive User</dc:creator>
  <dc:description/>
  <dc:language>en-US</dc:language>
  <cp:lastModifiedBy>Office 2004 Test Drive User</cp:lastModifiedBy>
  <dcterms:modified xsi:type="dcterms:W3CDTF">2006-05-18T12:29:05Z</dcterms:modified>
  <cp:revision>2</cp:revision>
  <dc:subject/>
  <dc:title>PowerPoint Presentation</dc:title>
</cp:coreProperties>
</file>