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ECC-6F44-4683-90F8-5C65EDF2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201-6EB3-4E9F-A434-DB577BB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373-C74A-4CE7-AF32-5408816F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E49-3FC6-4387-8121-4D74E699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FBF3-183D-4465-B3F1-1F0727BA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ADFD-3F98-4E43-843D-2DA2DDE2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2FE8-E61F-4EF4-9D9A-F6CFCCD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FE3F-F4CF-4E59-A1B0-798E6A1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8BD-1F54-46E0-BEB2-BC287AD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BF72-889A-42AB-8240-8BAE67F4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C9A6-E0CD-4295-BD12-22C7F665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FC4-72AA-480C-8013-B07B209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32E-BC6E-4059-8F8C-7E151A2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2E64-1AE1-4908-95BE-59F85A1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E032-E67F-4097-88A3-6F024E3B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E61-BBC3-4467-82BB-394318AE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4C84-DA0E-4D41-983F-A01A48A8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22B-A515-45A3-9635-8F0BB8A3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832-35A0-4D76-A025-9260EF04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56C-97E8-4464-BAC3-34D003FE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9CE-0D38-4C49-8DFB-144C6A0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AB7-5ED9-47E3-85C8-C73CFD5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C4C-674E-4691-A0A4-DA93D40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ACB-CFE2-4BBA-8900-7ED98B9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F947-0896-4544-99B1-EAB2C46D32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62000" y="51055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ide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39DD-EB67-491B-9BA7-25BCC21320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1280" y="857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tle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28:16Z</dcterms:created>
  <dc:creator>Christian Günther</dc:creator>
  <dc:description/>
  <dc:language>en-US</dc:language>
  <cp:lastModifiedBy>Christian Günther</cp:lastModifiedBy>
  <dcterms:modified xsi:type="dcterms:W3CDTF">2004-11-18T11:29:49Z</dcterms:modified>
  <cp:revision>1</cp:revision>
  <dc:subject/>
  <dc:title/>
</cp:coreProperties>
</file>