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F61D-F5B8-4E48-B7B6-FBBD9171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319-50CA-4DC5-A31E-0F05F25F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35D-2239-4512-90A1-302E5C89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090-C250-408F-9D97-F94D671F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7F4-4EA8-4BAD-98E2-0959AAEC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8C3A-C2EF-411C-8B24-2566D8A5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FA7-2F83-449E-B8BC-7378219A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EA2E-1673-4A05-B82A-A620704A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2DD-B7EE-4C36-9BEC-1A617C9A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19E-3F89-475C-9487-60CE3E98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45C-3FD1-45D4-B761-DB194D20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4451-608B-422F-9CF1-E37A3ACB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6BD9-6B65-4771-8380-68530D3B38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he-IL" sz="5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nimati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d Square"/>
          <p:cNvSpPr/>
          <p:nvPr/>
        </p:nvSpPr>
        <p:spPr>
          <a:xfrm>
            <a:off x="1828800" y="1828800"/>
            <a:ext cx="2540160" cy="2540160"/>
          </a:xfrm>
          <a:prstGeom prst="flowChartProcess">
            <a:avLst/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Fill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160" y="127080"/>
            <a:ext cx="2539800" cy="2539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Fill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1778040"/>
            <a:ext cx="635040" cy="1270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Fill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03840" y="2540160"/>
            <a:ext cx="1270080" cy="2539800"/>
          </a:xfrm>
          <a:prstGeom prst="ellipse">
            <a:avLst/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Fill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064040"/>
            <a:ext cx="380880" cy="888840"/>
          </a:xfrm>
          <a:prstGeom prst="smileyFace">
            <a:avLst>
              <a:gd name="adj" fmla="val 9282"/>
            </a:avLst>
          </a:pr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Fill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5715000"/>
            <a:ext cx="380880" cy="888840"/>
          </a:xfrm>
          <a:custGeom>
            <a:avLst/>
            <a:gdLst>
              <a:gd name="textAreaLeft" fmla="*/ 156960 w 380880"/>
              <a:gd name="textAreaRight" fmla="*/ 223920 w 380880"/>
              <a:gd name="textAreaTop" fmla="*/ 366120 h 888840"/>
              <a:gd name="textAreaBottom" fmla="*/ 522720 h 888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a17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Fill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99440" y="5460840"/>
            <a:ext cx="761040" cy="177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Fill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he-IL" sz="5000" spc="-1" strike="noStrike">
                <a:solidFill>
                  <a:srgbClr val="000000"/>
                </a:solidFill>
                <a:latin typeface="Arial"/>
              </a:rPr>
              <a:t>! 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20120" y="3809880"/>
          <a:ext cx="1269720" cy="103500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939960" y="2817720"/>
          <a:ext cx="914400" cy="7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81772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" descr=""/>
          <p:cNvPicPr/>
          <p:nvPr/>
        </p:nvPicPr>
        <p:blipFill>
          <a:blip r:embed="rId3"/>
          <a:stretch/>
        </p:blipFill>
        <p:spPr>
          <a:xfrm>
            <a:off x="1270080" y="1270080"/>
            <a:ext cx="888840" cy="8888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4254480" y="552600"/>
            <a:ext cx="482760" cy="416880"/>
            <a:chOff x="4254480" y="552600"/>
            <a:chExt cx="482760" cy="416880"/>
          </a:xfrm>
        </p:grpSpPr>
        <p:sp>
          <p:nvSpPr>
            <p:cNvPr id="57" name="_s3093"/>
            <p:cNvSpPr/>
            <p:nvPr/>
          </p:nvSpPr>
          <p:spPr>
            <a:xfrm flipV="1">
              <a:off x="4375080" y="552600"/>
              <a:ext cx="241200" cy="209520"/>
            </a:xfrm>
            <a:custGeom>
              <a:avLst/>
              <a:gdLst>
                <a:gd name="textAreaLeft" fmla="*/ 86400 w 241200"/>
                <a:gd name="textAreaRight" fmla="*/ 154800 w 241200"/>
                <a:gd name="textAreaTop" fmla="*/ 75240 h 209520"/>
                <a:gd name="textAreaBottom" fmla="*/ 134280 h 20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92"/>
            <p:cNvSpPr/>
            <p:nvPr/>
          </p:nvSpPr>
          <p:spPr>
            <a:xfrm flipV="1">
              <a:off x="4254480" y="761400"/>
              <a:ext cx="482760" cy="207720"/>
            </a:xfrm>
            <a:custGeom>
              <a:avLst/>
              <a:gdLst>
                <a:gd name="textAreaLeft" fmla="*/ 106200 w 482760"/>
                <a:gd name="textAreaRight" fmla="*/ 376560 w 482760"/>
                <a:gd name="textAreaTop" fmla="*/ 45720 h 207720"/>
                <a:gd name="textAreaBottom" fmla="*/ 162000 h 20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40160" y="1270080"/>
            <a:ext cx="190476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FillCo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9960" y="127008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bjects on this slide have the effect -ChangeFill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23:42:45Z</dcterms:created>
  <dc:creator>FtpDown</dc:creator>
  <dc:description/>
  <dc:language>en-US</dc:language>
  <cp:lastModifiedBy>FtpDown</cp:lastModifiedBy>
  <dcterms:modified xsi:type="dcterms:W3CDTF">2006-03-03T23:42:46Z</dcterms:modified>
  <cp:revision>1</cp:revision>
  <dc:subject/>
  <dc:title>Hi!  Page </dc:title>
</cp:coreProperties>
</file>