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3FA-31BE-4F4F-A429-52D4175C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91E-BC65-428B-84AA-A2EF0904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1C9-C612-4877-8061-71153E9C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331-0B5D-4BF2-952E-DAA3EE5F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C4D-9031-4802-B2EE-FEAFFB02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61B-A779-48E0-9011-39837DA9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625-E31C-464E-979A-CD9993CA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134-98B8-4397-AFFC-992E8378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059-45E9-4BD3-95D9-0780FEC8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25D-E90E-449E-97B0-BB39DD17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F9A-2ED3-4137-8641-EAB431BB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64F-BDAD-4804-90E3-E765C939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4156-21AE-431C-9BB4-BCC701155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152280"/>
            <a:ext cx="380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990720"/>
            <a:ext cx="3800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920" y="2666880"/>
            <a:ext cx="380052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48520" y="3200400"/>
            <a:ext cx="2695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5880" y="1752480"/>
            <a:ext cx="28767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 rot="5400000">
            <a:off x="2690640" y="1804680"/>
            <a:ext cx="38005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" y="4419720"/>
            <a:ext cx="38005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Your Text He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5880" y="2514600"/>
            <a:ext cx="287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Your Text Her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2280" y="6095880"/>
            <a:ext cx="380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r Text He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152280"/>
            <a:ext cx="380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our Text He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72200" y="990720"/>
            <a:ext cx="269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r Text Her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3447720" y="3714840"/>
            <a:ext cx="38005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Your Text Here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48520" y="4114800"/>
            <a:ext cx="2695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r Text Her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48520" y="4724280"/>
            <a:ext cx="2695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Your Text Her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3657600"/>
            <a:ext cx="287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Your Text Her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81480" y="6095880"/>
            <a:ext cx="380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ur Text He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5257800"/>
            <a:ext cx="28767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Your Text He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5400000">
            <a:off x="-1023840" y="1328400"/>
            <a:ext cx="28767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Your Text Here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2120" y="152280"/>
            <a:ext cx="380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990720"/>
            <a:ext cx="28767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8080" y="1905120"/>
            <a:ext cx="285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Your Text Her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2743200"/>
            <a:ext cx="26956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our Text Her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280" y="3352680"/>
            <a:ext cx="38005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Your Text Her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 rot="5400000">
            <a:off x="2253600" y="2927160"/>
            <a:ext cx="43689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Your Text He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9480" y="4724280"/>
            <a:ext cx="2876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5638680"/>
            <a:ext cx="38005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4120" y="685800"/>
            <a:ext cx="26953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76920" y="3352680"/>
            <a:ext cx="26953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81480" y="594360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6500520" y="264312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Your Text 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9:07:53Z</dcterms:created>
  <dc:creator>cg103521</dc:creator>
  <dc:description/>
  <dc:language>en-US</dc:language>
  <cp:lastModifiedBy>cg103521</cp:lastModifiedBy>
  <dcterms:modified xsi:type="dcterms:W3CDTF">2004-08-13T15:15:23Z</dcterms:modified>
  <cp:revision>3</cp:revision>
  <dc:subject/>
  <dc:title>PowerPoint Presentation</dc:title>
</cp:coreProperties>
</file>