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D82E-FF65-4237-A76B-1C897ED4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78EF-8B83-4EC9-BC17-8800E37B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5AE3-4F32-4CF9-B4C5-4897C46A1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44C8-1872-4CDC-BCD6-DD53A19C3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4195-1BC8-4CEE-83B1-DDA8B913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8F56-2D55-4101-AE37-8DFB16FE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DB12-4CE8-444E-A4CB-6823A199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A84E-2E5F-4F58-B57D-6AD8ABB4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5FD6-5F59-492F-A102-27C5FBFC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CA22-33E4-40B0-B918-78990FCC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BA9A-8EF9-494E-AB14-5FC7E369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27EB-EDDC-4186-A56C-38197DDB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46B8-FFE3-46B3-8695-3416F7233E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peg med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ACT60.MPG" descr=""/>
          <p:cNvPicPr/>
          <p:nvPr/>
        </p:nvPicPr>
        <p:blipFill>
          <a:blip r:embed="rId1"/>
          <a:stretch/>
        </p:blipFill>
        <p:spPr>
          <a:xfrm>
            <a:off x="3809880" y="2857680"/>
            <a:ext cx="15242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63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2:37:31Z</dcterms:created>
  <dc:creator>jaime</dc:creator>
  <dc:description/>
  <dc:language>en-US</dc:language>
  <cp:lastModifiedBy>jaime</cp:lastModifiedBy>
  <dcterms:modified xsi:type="dcterms:W3CDTF">2010-06-04T02:39:15Z</dcterms:modified>
  <cp:revision>2</cp:revision>
  <dc:subject/>
  <dc:title>Mpeg media</dc:title>
</cp:coreProperties>
</file>