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7880" bIns="478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257480" y="729360"/>
            <a:ext cx="4799880" cy="36000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move the slide</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258920" y="720720"/>
            <a:ext cx="4799160" cy="3598920"/>
          </a:xfrm>
          <a:prstGeom prst="rect">
            <a:avLst/>
          </a:prstGeom>
          <a:ln w="0">
            <a:noFill/>
          </a:ln>
        </p:spPr>
      </p:sp>
      <p:sp>
        <p:nvSpPr>
          <p:cNvPr id="551" name="PlaceHolder 2"/>
          <p:cNvSpPr>
            <a:spLocks noGrp="1"/>
          </p:cNvSpPr>
          <p:nvPr>
            <p:ph type="body"/>
          </p:nvPr>
        </p:nvSpPr>
        <p:spPr>
          <a:xfrm>
            <a:off x="974880" y="4692240"/>
            <a:ext cx="5365440" cy="4079880"/>
          </a:xfrm>
          <a:prstGeom prst="rect">
            <a:avLst/>
          </a:prstGeom>
          <a:noFill/>
          <a:ln w="0">
            <a:noFill/>
          </a:ln>
        </p:spPr>
        <p:txBody>
          <a:bodyPr lIns="95040" rIns="95040" tIns="47520" bIns="47520" anchor="t">
            <a:noAutofit/>
          </a:bodyPr>
          <a:p>
            <a:pPr indent="0">
              <a:lnSpc>
                <a:spcPct val="94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gothic"/>
              </a:rPr>
              <a:t>Here is a simple flow chart showing Magma’stop down hierarchical design flow.  It starts in the early chip architecture phases and progresses all the way through final chip implementation with all steps using one data model, one executable, and the same engines for timing, extraction, optimization, placement, and routing.  At each stage of the design process, the designer will use feedback provided by the tool to decide whether he should progress forward in the design flow or go back and modify input data including the design specification (RTL or netlist), the timing constraints, or the floorplan.  As the design is getting proactively refined throughout this flow, the necessity to return to an early step will diminish as the design moves forward.  Also, note that chip integration is not something you do at the end of the design process when all of the blocks are ready.  In this flow, chip integration starts as soon as you know what blocks you’ll have in the design and create simple black box models for them.</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8920" y="720720"/>
            <a:ext cx="4799160" cy="3598920"/>
          </a:xfrm>
          <a:prstGeom prst="rect">
            <a:avLst/>
          </a:prstGeom>
          <a:ln w="0">
            <a:noFill/>
          </a:ln>
        </p:spPr>
      </p:sp>
      <p:sp>
        <p:nvSpPr>
          <p:cNvPr id="553" name="PlaceHolder 2"/>
          <p:cNvSpPr>
            <a:spLocks noGrp="1"/>
          </p:cNvSpPr>
          <p:nvPr>
            <p:ph type="body"/>
          </p:nvPr>
        </p:nvSpPr>
        <p:spPr>
          <a:xfrm>
            <a:off x="974880" y="3367080"/>
            <a:ext cx="5365440" cy="7130880"/>
          </a:xfrm>
          <a:prstGeom prst="rect">
            <a:avLst/>
          </a:prstGeom>
          <a:noFill/>
          <a:ln w="0">
            <a:noFill/>
          </a:ln>
        </p:spPr>
        <p:txBody>
          <a:bodyPr lIns="95760" rIns="95760" tIns="47880" bIns="47880" anchor="t">
            <a:noAutofit/>
          </a:bodyPr>
          <a:p>
            <a:pPr indent="0">
              <a:lnSpc>
                <a:spcPct val="94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1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AIN-BASED TIMING ANALY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Unbuffe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onvert to super cel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rimm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2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FLOOR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hip si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IO 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Macro placemen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uster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artitioning/pin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ime budge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assbox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3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PHYSICAL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ngwire Buffer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obal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Siz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Detailed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4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CLOCK TREE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ock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w effort skew optimiz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8" name="PlaceHolder 2"/>
          <p:cNvSpPr>
            <a:spLocks noGrp="1"/>
          </p:cNvSpPr>
          <p:nvPr>
            <p:ph/>
          </p:nvPr>
        </p:nvSpPr>
        <p:spPr>
          <a:xfrm>
            <a:off x="229680" y="100980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9" name="PlaceHolder 3"/>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1"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2"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3"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4" name="PlaceHolder 5"/>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6" name="PlaceHolder 2"/>
          <p:cNvSpPr>
            <a:spLocks noGrp="1"/>
          </p:cNvSpPr>
          <p:nvPr>
            <p:ph/>
          </p:nvPr>
        </p:nvSpPr>
        <p:spPr>
          <a:xfrm>
            <a:off x="2296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7" name="PlaceHolder 3"/>
          <p:cNvSpPr>
            <a:spLocks noGrp="1"/>
          </p:cNvSpPr>
          <p:nvPr>
            <p:ph/>
          </p:nvPr>
        </p:nvSpPr>
        <p:spPr>
          <a:xfrm>
            <a:off x="31600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8" name="PlaceHolder 4"/>
          <p:cNvSpPr>
            <a:spLocks noGrp="1"/>
          </p:cNvSpPr>
          <p:nvPr>
            <p:ph/>
          </p:nvPr>
        </p:nvSpPr>
        <p:spPr>
          <a:xfrm>
            <a:off x="609012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9" name="PlaceHolder 5"/>
          <p:cNvSpPr>
            <a:spLocks noGrp="1"/>
          </p:cNvSpPr>
          <p:nvPr>
            <p:ph/>
          </p:nvPr>
        </p:nvSpPr>
        <p:spPr>
          <a:xfrm>
            <a:off x="2296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0" name="PlaceHolder 6"/>
          <p:cNvSpPr>
            <a:spLocks noGrp="1"/>
          </p:cNvSpPr>
          <p:nvPr>
            <p:ph/>
          </p:nvPr>
        </p:nvSpPr>
        <p:spPr>
          <a:xfrm>
            <a:off x="31600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1" name="PlaceHolder 7"/>
          <p:cNvSpPr>
            <a:spLocks noGrp="1"/>
          </p:cNvSpPr>
          <p:nvPr>
            <p:ph/>
          </p:nvPr>
        </p:nvSpPr>
        <p:spPr>
          <a:xfrm>
            <a:off x="609012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7" name="PlaceHolder 2"/>
          <p:cNvSpPr>
            <a:spLocks noGrp="1"/>
          </p:cNvSpPr>
          <p:nvPr>
            <p:ph type="subTitle"/>
          </p:nvPr>
        </p:nvSpPr>
        <p:spPr>
          <a:xfrm>
            <a:off x="229680" y="1009800"/>
            <a:ext cx="8666280" cy="51400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9" name="PlaceHolder 2"/>
          <p:cNvSpPr>
            <a:spLocks noGrp="1"/>
          </p:cNvSpPr>
          <p:nvPr>
            <p:ph/>
          </p:nvPr>
        </p:nvSpPr>
        <p:spPr>
          <a:xfrm>
            <a:off x="229680" y="1009800"/>
            <a:ext cx="866628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1"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2"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9680" y="81000"/>
            <a:ext cx="8686800" cy="283500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6"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7"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8"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 name="PlaceHolder 2"/>
          <p:cNvSpPr>
            <a:spLocks noGrp="1"/>
          </p:cNvSpPr>
          <p:nvPr>
            <p:ph type="subTitle"/>
          </p:nvPr>
        </p:nvSpPr>
        <p:spPr>
          <a:xfrm>
            <a:off x="229680" y="1009800"/>
            <a:ext cx="8666280" cy="51400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0"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1"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2" name="PlaceHolder 4"/>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4"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5"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6" name="PlaceHolder 4"/>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8" name="PlaceHolder 2"/>
          <p:cNvSpPr>
            <a:spLocks noGrp="1"/>
          </p:cNvSpPr>
          <p:nvPr>
            <p:ph/>
          </p:nvPr>
        </p:nvSpPr>
        <p:spPr>
          <a:xfrm>
            <a:off x="229680" y="100980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9" name="PlaceHolder 3"/>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1"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2"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3"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4" name="PlaceHolder 5"/>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6" name="PlaceHolder 2"/>
          <p:cNvSpPr>
            <a:spLocks noGrp="1"/>
          </p:cNvSpPr>
          <p:nvPr>
            <p:ph/>
          </p:nvPr>
        </p:nvSpPr>
        <p:spPr>
          <a:xfrm>
            <a:off x="2296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7" name="PlaceHolder 3"/>
          <p:cNvSpPr>
            <a:spLocks noGrp="1"/>
          </p:cNvSpPr>
          <p:nvPr>
            <p:ph/>
          </p:nvPr>
        </p:nvSpPr>
        <p:spPr>
          <a:xfrm>
            <a:off x="316008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8" name="PlaceHolder 4"/>
          <p:cNvSpPr>
            <a:spLocks noGrp="1"/>
          </p:cNvSpPr>
          <p:nvPr>
            <p:ph/>
          </p:nvPr>
        </p:nvSpPr>
        <p:spPr>
          <a:xfrm>
            <a:off x="6090120" y="100980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9" name="PlaceHolder 5"/>
          <p:cNvSpPr>
            <a:spLocks noGrp="1"/>
          </p:cNvSpPr>
          <p:nvPr>
            <p:ph/>
          </p:nvPr>
        </p:nvSpPr>
        <p:spPr>
          <a:xfrm>
            <a:off x="2296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0" name="PlaceHolder 6"/>
          <p:cNvSpPr>
            <a:spLocks noGrp="1"/>
          </p:cNvSpPr>
          <p:nvPr>
            <p:ph/>
          </p:nvPr>
        </p:nvSpPr>
        <p:spPr>
          <a:xfrm>
            <a:off x="316008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1" name="PlaceHolder 7"/>
          <p:cNvSpPr>
            <a:spLocks noGrp="1"/>
          </p:cNvSpPr>
          <p:nvPr>
            <p:ph/>
          </p:nvPr>
        </p:nvSpPr>
        <p:spPr>
          <a:xfrm>
            <a:off x="6090120" y="3694680"/>
            <a:ext cx="279036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9" name="PlaceHolder 2"/>
          <p:cNvSpPr>
            <a:spLocks noGrp="1"/>
          </p:cNvSpPr>
          <p:nvPr>
            <p:ph/>
          </p:nvPr>
        </p:nvSpPr>
        <p:spPr>
          <a:xfrm>
            <a:off x="229680" y="1009800"/>
            <a:ext cx="866628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1"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2"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9680" y="81000"/>
            <a:ext cx="8686800" cy="283500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6"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7" name="PlaceHolder 3"/>
          <p:cNvSpPr>
            <a:spLocks noGrp="1"/>
          </p:cNvSpPr>
          <p:nvPr>
            <p:ph/>
          </p:nvPr>
        </p:nvSpPr>
        <p:spPr>
          <a:xfrm>
            <a:off x="46702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8" name="PlaceHolder 4"/>
          <p:cNvSpPr>
            <a:spLocks noGrp="1"/>
          </p:cNvSpPr>
          <p:nvPr>
            <p:ph/>
          </p:nvPr>
        </p:nvSpPr>
        <p:spPr>
          <a:xfrm>
            <a:off x="2296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0" name="PlaceHolder 2"/>
          <p:cNvSpPr>
            <a:spLocks noGrp="1"/>
          </p:cNvSpPr>
          <p:nvPr>
            <p:ph/>
          </p:nvPr>
        </p:nvSpPr>
        <p:spPr>
          <a:xfrm>
            <a:off x="229680" y="1009800"/>
            <a:ext cx="4228920" cy="5140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1"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2" name="PlaceHolder 4"/>
          <p:cNvSpPr>
            <a:spLocks noGrp="1"/>
          </p:cNvSpPr>
          <p:nvPr>
            <p:ph/>
          </p:nvPr>
        </p:nvSpPr>
        <p:spPr>
          <a:xfrm>
            <a:off x="4670280" y="369468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4" name="PlaceHolder 2"/>
          <p:cNvSpPr>
            <a:spLocks noGrp="1"/>
          </p:cNvSpPr>
          <p:nvPr>
            <p:ph/>
          </p:nvPr>
        </p:nvSpPr>
        <p:spPr>
          <a:xfrm>
            <a:off x="2296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5" name="PlaceHolder 3"/>
          <p:cNvSpPr>
            <a:spLocks noGrp="1"/>
          </p:cNvSpPr>
          <p:nvPr>
            <p:ph/>
          </p:nvPr>
        </p:nvSpPr>
        <p:spPr>
          <a:xfrm>
            <a:off x="4670280" y="1009800"/>
            <a:ext cx="422892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6" name="PlaceHolder 4"/>
          <p:cNvSpPr>
            <a:spLocks noGrp="1"/>
          </p:cNvSpPr>
          <p:nvPr>
            <p:ph/>
          </p:nvPr>
        </p:nvSpPr>
        <p:spPr>
          <a:xfrm>
            <a:off x="229680" y="3694680"/>
            <a:ext cx="8666280" cy="245160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34880"/>
            <a:ext cx="9144000" cy="64231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79200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
          <p:cNvSpPr/>
          <p:nvPr/>
        </p:nvSpPr>
        <p:spPr>
          <a:xfrm>
            <a:off x="144360" y="6512040"/>
            <a:ext cx="3319560" cy="2116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AC1DE4B-67E7-4A17-BB7E-EB9B25FE8174}"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523880" y="1397160"/>
            <a:ext cx="6096240" cy="4063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39680" y="81000"/>
            <a:ext cx="8686800" cy="6112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5" name="PlaceHolder 2"/>
          <p:cNvSpPr>
            <a:spLocks noGrp="1"/>
          </p:cNvSpPr>
          <p:nvPr>
            <p:ph type="body"/>
          </p:nvPr>
        </p:nvSpPr>
        <p:spPr>
          <a:xfrm>
            <a:off x="229680" y="1009800"/>
            <a:ext cx="8666280" cy="5140080"/>
          </a:xfrm>
          <a:prstGeom prst="rect">
            <a:avLst/>
          </a:prstGeom>
          <a:noFill/>
          <a:ln w="0">
            <a:noFill/>
          </a:ln>
        </p:spPr>
        <p:txBody>
          <a:bodyPr lIns="90000" rIns="90000" tIns="46800" bIns="4680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508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8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4640" indent="-20304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75128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 name="" descr=""/>
          <p:cNvPicPr/>
          <p:nvPr/>
        </p:nvPicPr>
        <p:blipFill>
          <a:blip r:embed="rId2"/>
          <a:stretch/>
        </p:blipFill>
        <p:spPr>
          <a:xfrm>
            <a:off x="2146320" y="1849320"/>
            <a:ext cx="4856040" cy="1590840"/>
          </a:xfrm>
          <a:prstGeom prst="rect">
            <a:avLst/>
          </a:prstGeom>
          <a:ln w="0">
            <a:noFill/>
          </a:ln>
        </p:spPr>
      </p:pic>
      <p:sp>
        <p:nvSpPr>
          <p:cNvPr id="44" name="PlaceHolder 1"/>
          <p:cNvSpPr>
            <a:spLocks noGrp="1"/>
          </p:cNvSpPr>
          <p:nvPr>
            <p:ph type="title"/>
          </p:nvPr>
        </p:nvSpPr>
        <p:spPr>
          <a:xfrm>
            <a:off x="689040" y="5243400"/>
            <a:ext cx="7750080" cy="5400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45" name="PlaceHolder 2"/>
          <p:cNvSpPr>
            <a:spLocks noGrp="1"/>
          </p:cNvSpPr>
          <p:nvPr>
            <p:ph type="body"/>
          </p:nvPr>
        </p:nvSpPr>
        <p:spPr>
          <a:xfrm>
            <a:off x="671400" y="1906200"/>
            <a:ext cx="7786800" cy="4297320"/>
          </a:xfrm>
          <a:prstGeom prst="rect">
            <a:avLst/>
          </a:prstGeom>
          <a:noFill/>
          <a:ln w="0">
            <a:noFill/>
          </a:ln>
        </p:spPr>
        <p:txBody>
          <a:bodyPr lIns="0" rIns="0" tIns="0" bIns="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508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8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4640" indent="-20304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4640" indent="-20304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a:t>
            </a:r>
            <a:endParaRPr b="1" lang="en-US" sz="2800" spc="-1" strike="noStrike">
              <a:solidFill>
                <a:srgbClr val="000000"/>
              </a:solidFill>
              <a:latin typeface="Myriad Pro"/>
            </a:endParaRPr>
          </a:p>
        </p:txBody>
      </p:sp>
      <p:grpSp>
        <p:nvGrpSpPr>
          <p:cNvPr id="100" name=""/>
          <p:cNvGrpSpPr/>
          <p:nvPr/>
        </p:nvGrpSpPr>
        <p:grpSpPr>
          <a:xfrm>
            <a:off x="2633040" y="1442520"/>
            <a:ext cx="2896200" cy="367200"/>
            <a:chOff x="2633040" y="1442520"/>
            <a:chExt cx="2896200" cy="367200"/>
          </a:xfrm>
        </p:grpSpPr>
        <p:sp>
          <p:nvSpPr>
            <p:cNvPr id="101" name=""/>
            <p:cNvSpPr/>
            <p:nvPr/>
          </p:nvSpPr>
          <p:spPr>
            <a:xfrm>
              <a:off x="2657520" y="1471680"/>
              <a:ext cx="2871720" cy="33804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2633040" y="1442520"/>
              <a:ext cx="2883600" cy="354600"/>
              <a:chOff x="2633040" y="1442520"/>
              <a:chExt cx="2883600" cy="354600"/>
            </a:xfrm>
          </p:grpSpPr>
          <p:sp>
            <p:nvSpPr>
              <p:cNvPr id="103" name=""/>
              <p:cNvSpPr/>
              <p:nvPr/>
            </p:nvSpPr>
            <p:spPr>
              <a:xfrm>
                <a:off x="2657520" y="1471680"/>
                <a:ext cx="2859120" cy="32544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2633040" y="1442520"/>
                <a:ext cx="2872440" cy="343440"/>
                <a:chOff x="2633040" y="1442520"/>
                <a:chExt cx="2872440" cy="343440"/>
              </a:xfrm>
            </p:grpSpPr>
            <p:sp>
              <p:nvSpPr>
                <p:cNvPr id="105" name=""/>
                <p:cNvSpPr/>
                <p:nvPr/>
              </p:nvSpPr>
              <p:spPr>
                <a:xfrm>
                  <a:off x="2657520" y="1471680"/>
                  <a:ext cx="2847960" cy="314280"/>
                </a:xfrm>
                <a:prstGeom prst="roundRect">
                  <a:avLst>
                    <a:gd name="adj" fmla="val 50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633040" y="1442520"/>
                  <a:ext cx="2862720" cy="338040"/>
                  <a:chOff x="2633040" y="1442520"/>
                  <a:chExt cx="2862720" cy="338040"/>
                </a:xfrm>
              </p:grpSpPr>
              <p:sp>
                <p:nvSpPr>
                  <p:cNvPr id="107" name=""/>
                  <p:cNvSpPr/>
                  <p:nvPr/>
                </p:nvSpPr>
                <p:spPr>
                  <a:xfrm>
                    <a:off x="2657520" y="1471680"/>
                    <a:ext cx="28382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2633040" y="1442520"/>
                    <a:ext cx="2860560" cy="338040"/>
                    <a:chOff x="2633040" y="1442520"/>
                    <a:chExt cx="2860560" cy="338040"/>
                  </a:xfrm>
                </p:grpSpPr>
                <p:sp>
                  <p:nvSpPr>
                    <p:cNvPr id="109" name=""/>
                    <p:cNvSpPr/>
                    <p:nvPr/>
                  </p:nvSpPr>
                  <p:spPr>
                    <a:xfrm>
                      <a:off x="2657520" y="1471680"/>
                      <a:ext cx="2830320" cy="29664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2633040" y="1442520"/>
                      <a:ext cx="2860560" cy="338040"/>
                      <a:chOff x="2633040" y="1442520"/>
                      <a:chExt cx="2860560" cy="338040"/>
                    </a:xfrm>
                  </p:grpSpPr>
                  <p:sp>
                    <p:nvSpPr>
                      <p:cNvPr id="111" name=""/>
                      <p:cNvSpPr/>
                      <p:nvPr/>
                    </p:nvSpPr>
                    <p:spPr>
                      <a:xfrm>
                        <a:off x="2657520" y="1471680"/>
                        <a:ext cx="2824200" cy="29196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2633040" y="1442520"/>
                        <a:ext cx="2860560" cy="338040"/>
                        <a:chOff x="2633040" y="1442520"/>
                        <a:chExt cx="2860560" cy="338040"/>
                      </a:xfrm>
                    </p:grpSpPr>
                    <p:sp>
                      <p:nvSpPr>
                        <p:cNvPr id="113" name=""/>
                        <p:cNvSpPr/>
                        <p:nvPr/>
                      </p:nvSpPr>
                      <p:spPr>
                        <a:xfrm>
                          <a:off x="2657520" y="1471680"/>
                          <a:ext cx="282096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633040" y="1442520"/>
                          <a:ext cx="2860560" cy="338040"/>
                          <a:chOff x="2633040" y="1442520"/>
                          <a:chExt cx="2860560" cy="338040"/>
                        </a:xfrm>
                      </p:grpSpPr>
                      <p:sp>
                        <p:nvSpPr>
                          <p:cNvPr id="115" name=""/>
                          <p:cNvSpPr/>
                          <p:nvPr/>
                        </p:nvSpPr>
                        <p:spPr>
                          <a:xfrm>
                            <a:off x="2657520" y="1471680"/>
                            <a:ext cx="281628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633040" y="1442520"/>
                            <a:ext cx="2860560" cy="338040"/>
                            <a:chOff x="2633040" y="1442520"/>
                            <a:chExt cx="2860560" cy="338040"/>
                          </a:xfrm>
                        </p:grpSpPr>
                        <p:sp>
                          <p:nvSpPr>
                            <p:cNvPr id="117" name=""/>
                            <p:cNvSpPr/>
                            <p:nvPr/>
                          </p:nvSpPr>
                          <p:spPr>
                            <a:xfrm>
                              <a:off x="2657520" y="1471680"/>
                              <a:ext cx="281304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633040" y="1442520"/>
                              <a:ext cx="2860560" cy="338040"/>
                              <a:chOff x="2633040" y="1442520"/>
                              <a:chExt cx="2860560" cy="338040"/>
                            </a:xfrm>
                          </p:grpSpPr>
                          <p:sp>
                            <p:nvSpPr>
                              <p:cNvPr id="119" name=""/>
                              <p:cNvSpPr/>
                              <p:nvPr/>
                            </p:nvSpPr>
                            <p:spPr>
                              <a:xfrm>
                                <a:off x="2657520" y="1471680"/>
                                <a:ext cx="281124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33040" y="1442520"/>
                                <a:ext cx="286056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ck Box  Design Planning</a:t>
                                </a:r>
                                <a:endParaRPr b="0" lang="en-US" sz="1600" spc="-1" strike="noStrike">
                                  <a:solidFill>
                                    <a:srgbClr val="000000"/>
                                  </a:solidFill>
                                  <a:latin typeface="Times New Roman"/>
                                </a:endParaRPr>
                              </a:p>
                            </p:txBody>
                          </p:sp>
                        </p:grpSp>
                      </p:grpSp>
                    </p:grpSp>
                  </p:grpSp>
                </p:grpSp>
              </p:grpSp>
            </p:grpSp>
          </p:grpSp>
        </p:grpSp>
      </p:grpSp>
      <p:grpSp>
        <p:nvGrpSpPr>
          <p:cNvPr id="121" name=""/>
          <p:cNvGrpSpPr/>
          <p:nvPr/>
        </p:nvGrpSpPr>
        <p:grpSpPr>
          <a:xfrm>
            <a:off x="2682360" y="2382120"/>
            <a:ext cx="2794680" cy="367560"/>
            <a:chOff x="2682360" y="2382120"/>
            <a:chExt cx="2794680" cy="367560"/>
          </a:xfrm>
        </p:grpSpPr>
        <p:sp>
          <p:nvSpPr>
            <p:cNvPr id="122" name=""/>
            <p:cNvSpPr/>
            <p:nvPr/>
          </p:nvSpPr>
          <p:spPr>
            <a:xfrm>
              <a:off x="2706840" y="2411280"/>
              <a:ext cx="2770200" cy="33840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2682360" y="2382120"/>
              <a:ext cx="2781720" cy="356400"/>
              <a:chOff x="2682360" y="2382120"/>
              <a:chExt cx="2781720" cy="356400"/>
            </a:xfrm>
          </p:grpSpPr>
          <p:sp>
            <p:nvSpPr>
              <p:cNvPr id="124" name=""/>
              <p:cNvSpPr/>
              <p:nvPr/>
            </p:nvSpPr>
            <p:spPr>
              <a:xfrm>
                <a:off x="2706840" y="2411280"/>
                <a:ext cx="275724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682360" y="2382120"/>
                <a:ext cx="2770560" cy="346680"/>
                <a:chOff x="2682360" y="2382120"/>
                <a:chExt cx="2770560" cy="346680"/>
              </a:xfrm>
            </p:grpSpPr>
            <p:sp>
              <p:nvSpPr>
                <p:cNvPr id="126" name=""/>
                <p:cNvSpPr/>
                <p:nvPr/>
              </p:nvSpPr>
              <p:spPr>
                <a:xfrm>
                  <a:off x="2706840" y="2411280"/>
                  <a:ext cx="2746080" cy="317520"/>
                </a:xfrm>
                <a:prstGeom prst="roundRect">
                  <a:avLst>
                    <a:gd name="adj" fmla="val 5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2682360" y="2382120"/>
                  <a:ext cx="2761200" cy="338040"/>
                  <a:chOff x="2682360" y="2382120"/>
                  <a:chExt cx="2761200" cy="338040"/>
                </a:xfrm>
              </p:grpSpPr>
              <p:sp>
                <p:nvSpPr>
                  <p:cNvPr id="128" name=""/>
                  <p:cNvSpPr/>
                  <p:nvPr/>
                </p:nvSpPr>
                <p:spPr>
                  <a:xfrm>
                    <a:off x="2706840" y="2411280"/>
                    <a:ext cx="2736720" cy="3063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2682360" y="2382120"/>
                    <a:ext cx="2758680" cy="338040"/>
                    <a:chOff x="2682360" y="2382120"/>
                    <a:chExt cx="2758680" cy="338040"/>
                  </a:xfrm>
                </p:grpSpPr>
                <p:sp>
                  <p:nvSpPr>
                    <p:cNvPr id="130" name=""/>
                    <p:cNvSpPr/>
                    <p:nvPr/>
                  </p:nvSpPr>
                  <p:spPr>
                    <a:xfrm>
                      <a:off x="2706840" y="2411280"/>
                      <a:ext cx="272700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682360" y="2382120"/>
                      <a:ext cx="2758680" cy="338040"/>
                      <a:chOff x="2682360" y="2382120"/>
                      <a:chExt cx="2758680" cy="338040"/>
                    </a:xfrm>
                  </p:grpSpPr>
                  <p:sp>
                    <p:nvSpPr>
                      <p:cNvPr id="132" name=""/>
                      <p:cNvSpPr/>
                      <p:nvPr/>
                    </p:nvSpPr>
                    <p:spPr>
                      <a:xfrm>
                        <a:off x="2706840" y="2411280"/>
                        <a:ext cx="272088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682360" y="2382120"/>
                        <a:ext cx="2758680" cy="338040"/>
                        <a:chOff x="2682360" y="2382120"/>
                        <a:chExt cx="2758680" cy="338040"/>
                      </a:xfrm>
                    </p:grpSpPr>
                    <p:sp>
                      <p:nvSpPr>
                        <p:cNvPr id="134" name=""/>
                        <p:cNvSpPr/>
                        <p:nvPr/>
                      </p:nvSpPr>
                      <p:spPr>
                        <a:xfrm>
                          <a:off x="2706840" y="2411280"/>
                          <a:ext cx="2716200" cy="2876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682360" y="2382120"/>
                          <a:ext cx="2758680" cy="338040"/>
                          <a:chOff x="2682360" y="2382120"/>
                          <a:chExt cx="2758680" cy="338040"/>
                        </a:xfrm>
                      </p:grpSpPr>
                      <p:sp>
                        <p:nvSpPr>
                          <p:cNvPr id="136" name=""/>
                          <p:cNvSpPr/>
                          <p:nvPr/>
                        </p:nvSpPr>
                        <p:spPr>
                          <a:xfrm>
                            <a:off x="2706840" y="2411280"/>
                            <a:ext cx="2712960" cy="2844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2682360" y="2382120"/>
                            <a:ext cx="2758680" cy="338040"/>
                            <a:chOff x="2682360" y="2382120"/>
                            <a:chExt cx="2758680" cy="338040"/>
                          </a:xfrm>
                        </p:grpSpPr>
                        <p:sp>
                          <p:nvSpPr>
                            <p:cNvPr id="138" name=""/>
                            <p:cNvSpPr/>
                            <p:nvPr/>
                          </p:nvSpPr>
                          <p:spPr>
                            <a:xfrm>
                              <a:off x="2706840" y="2411280"/>
                              <a:ext cx="270972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2682360" y="2382120"/>
                              <a:ext cx="2758680" cy="338040"/>
                              <a:chOff x="2682360" y="2382120"/>
                              <a:chExt cx="2758680" cy="338040"/>
                            </a:xfrm>
                          </p:grpSpPr>
                          <p:sp>
                            <p:nvSpPr>
                              <p:cNvPr id="140" name=""/>
                              <p:cNvSpPr/>
                              <p:nvPr/>
                            </p:nvSpPr>
                            <p:spPr>
                              <a:xfrm>
                                <a:off x="2706840" y="2411280"/>
                                <a:ext cx="2709720" cy="28116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82360" y="2382120"/>
                                <a:ext cx="275868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Based RTL Synthesis</a:t>
                                </a:r>
                                <a:endParaRPr b="0" lang="en-US" sz="1600" spc="-1" strike="noStrike">
                                  <a:solidFill>
                                    <a:srgbClr val="000000"/>
                                  </a:solidFill>
                                  <a:latin typeface="Times New Roman"/>
                                </a:endParaRPr>
                              </a:p>
                            </p:txBody>
                          </p:sp>
                        </p:grpSp>
                      </p:grpSp>
                    </p:grpSp>
                  </p:grpSp>
                </p:grpSp>
              </p:grpSp>
            </p:grpSp>
          </p:grpSp>
        </p:grpSp>
      </p:grpSp>
      <p:grpSp>
        <p:nvGrpSpPr>
          <p:cNvPr id="142" name=""/>
          <p:cNvGrpSpPr/>
          <p:nvPr/>
        </p:nvGrpSpPr>
        <p:grpSpPr>
          <a:xfrm>
            <a:off x="2385000" y="3331440"/>
            <a:ext cx="3412440" cy="367560"/>
            <a:chOff x="2385000" y="3331440"/>
            <a:chExt cx="3412440" cy="367560"/>
          </a:xfrm>
        </p:grpSpPr>
        <p:sp>
          <p:nvSpPr>
            <p:cNvPr id="143" name=""/>
            <p:cNvSpPr/>
            <p:nvPr/>
          </p:nvSpPr>
          <p:spPr>
            <a:xfrm>
              <a:off x="2406600" y="3360600"/>
              <a:ext cx="3390840" cy="33840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2385000" y="3331440"/>
              <a:ext cx="3399840" cy="356400"/>
              <a:chOff x="2385000" y="3331440"/>
              <a:chExt cx="3399840" cy="356400"/>
            </a:xfrm>
          </p:grpSpPr>
          <p:sp>
            <p:nvSpPr>
              <p:cNvPr id="145" name=""/>
              <p:cNvSpPr/>
              <p:nvPr/>
            </p:nvSpPr>
            <p:spPr>
              <a:xfrm>
                <a:off x="2406600" y="3360600"/>
                <a:ext cx="337824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2385000" y="3331440"/>
                <a:ext cx="3390480" cy="346680"/>
                <a:chOff x="2385000" y="3331440"/>
                <a:chExt cx="3390480" cy="346680"/>
              </a:xfrm>
            </p:grpSpPr>
            <p:sp>
              <p:nvSpPr>
                <p:cNvPr id="147" name=""/>
                <p:cNvSpPr/>
                <p:nvPr/>
              </p:nvSpPr>
              <p:spPr>
                <a:xfrm>
                  <a:off x="2406600" y="3360600"/>
                  <a:ext cx="3368880" cy="317520"/>
                </a:xfrm>
                <a:prstGeom prst="roundRect">
                  <a:avLst>
                    <a:gd name="adj" fmla="val 5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2385000" y="3331440"/>
                  <a:ext cx="3380760" cy="338040"/>
                  <a:chOff x="2385000" y="3331440"/>
                  <a:chExt cx="3380760" cy="338040"/>
                </a:xfrm>
              </p:grpSpPr>
              <p:sp>
                <p:nvSpPr>
                  <p:cNvPr id="149" name=""/>
                  <p:cNvSpPr/>
                  <p:nvPr/>
                </p:nvSpPr>
                <p:spPr>
                  <a:xfrm>
                    <a:off x="2406600" y="3360600"/>
                    <a:ext cx="3359160" cy="3063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2385000" y="3331440"/>
                    <a:ext cx="3375720" cy="338040"/>
                    <a:chOff x="2385000" y="3331440"/>
                    <a:chExt cx="3375720" cy="338040"/>
                  </a:xfrm>
                </p:grpSpPr>
                <p:sp>
                  <p:nvSpPr>
                    <p:cNvPr id="151" name=""/>
                    <p:cNvSpPr/>
                    <p:nvPr/>
                  </p:nvSpPr>
                  <p:spPr>
                    <a:xfrm>
                      <a:off x="2406600" y="3360600"/>
                      <a:ext cx="335124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385000" y="3331440"/>
                      <a:ext cx="3375720" cy="338040"/>
                      <a:chOff x="2385000" y="3331440"/>
                      <a:chExt cx="3375720" cy="338040"/>
                    </a:xfrm>
                  </p:grpSpPr>
                  <p:sp>
                    <p:nvSpPr>
                      <p:cNvPr id="153" name=""/>
                      <p:cNvSpPr/>
                      <p:nvPr/>
                    </p:nvSpPr>
                    <p:spPr>
                      <a:xfrm>
                        <a:off x="2406600" y="3360600"/>
                        <a:ext cx="334656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2385000" y="3331440"/>
                        <a:ext cx="3375720" cy="338040"/>
                        <a:chOff x="2385000" y="3331440"/>
                        <a:chExt cx="3375720" cy="338040"/>
                      </a:xfrm>
                    </p:grpSpPr>
                    <p:sp>
                      <p:nvSpPr>
                        <p:cNvPr id="155" name=""/>
                        <p:cNvSpPr/>
                        <p:nvPr/>
                      </p:nvSpPr>
                      <p:spPr>
                        <a:xfrm>
                          <a:off x="2406600" y="3360600"/>
                          <a:ext cx="3341880" cy="2876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2385000" y="3331440"/>
                          <a:ext cx="3375720" cy="338040"/>
                          <a:chOff x="2385000" y="3331440"/>
                          <a:chExt cx="3375720" cy="338040"/>
                        </a:xfrm>
                      </p:grpSpPr>
                      <p:sp>
                        <p:nvSpPr>
                          <p:cNvPr id="157" name=""/>
                          <p:cNvSpPr/>
                          <p:nvPr/>
                        </p:nvSpPr>
                        <p:spPr>
                          <a:xfrm>
                            <a:off x="2406600" y="3360600"/>
                            <a:ext cx="3338640" cy="2844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2385000" y="3331440"/>
                            <a:ext cx="3375720" cy="338040"/>
                            <a:chOff x="2385000" y="3331440"/>
                            <a:chExt cx="3375720" cy="338040"/>
                          </a:xfrm>
                        </p:grpSpPr>
                        <p:sp>
                          <p:nvSpPr>
                            <p:cNvPr id="159" name=""/>
                            <p:cNvSpPr/>
                            <p:nvPr/>
                          </p:nvSpPr>
                          <p:spPr>
                            <a:xfrm>
                              <a:off x="2406600" y="3360600"/>
                              <a:ext cx="333540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385000" y="3331440"/>
                              <a:ext cx="3375720" cy="338040"/>
                              <a:chOff x="2385000" y="3331440"/>
                              <a:chExt cx="3375720" cy="338040"/>
                            </a:xfrm>
                          </p:grpSpPr>
                          <p:sp>
                            <p:nvSpPr>
                              <p:cNvPr id="161" name=""/>
                              <p:cNvSpPr/>
                              <p:nvPr/>
                            </p:nvSpPr>
                            <p:spPr>
                              <a:xfrm>
                                <a:off x="2406600" y="3360600"/>
                                <a:ext cx="3333960" cy="28116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85000" y="3331440"/>
                                <a:ext cx="337572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Design Planning and Prototyping</a:t>
                                </a:r>
                                <a:endParaRPr b="0" lang="en-US" sz="1600" spc="-1" strike="noStrike">
                                  <a:solidFill>
                                    <a:srgbClr val="000000"/>
                                  </a:solidFill>
                                  <a:latin typeface="Times New Roman"/>
                                </a:endParaRPr>
                              </a:p>
                            </p:txBody>
                          </p:sp>
                        </p:grpSp>
                      </p:grpSp>
                    </p:grpSp>
                  </p:grpSp>
                </p:grpSp>
              </p:grpSp>
            </p:grpSp>
          </p:grpSp>
        </p:grpSp>
      </p:grpSp>
      <p:grpSp>
        <p:nvGrpSpPr>
          <p:cNvPr id="163" name=""/>
          <p:cNvGrpSpPr/>
          <p:nvPr/>
        </p:nvGrpSpPr>
        <p:grpSpPr>
          <a:xfrm>
            <a:off x="2932200" y="4277880"/>
            <a:ext cx="2320920" cy="367200"/>
            <a:chOff x="2932200" y="4277880"/>
            <a:chExt cx="2320920" cy="367200"/>
          </a:xfrm>
        </p:grpSpPr>
        <p:sp>
          <p:nvSpPr>
            <p:cNvPr id="164" name=""/>
            <p:cNvSpPr/>
            <p:nvPr/>
          </p:nvSpPr>
          <p:spPr>
            <a:xfrm>
              <a:off x="2954160" y="4307040"/>
              <a:ext cx="2298960" cy="33804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932200" y="4277880"/>
              <a:ext cx="2309760" cy="354600"/>
              <a:chOff x="2932200" y="4277880"/>
              <a:chExt cx="2309760" cy="354600"/>
            </a:xfrm>
          </p:grpSpPr>
          <p:sp>
            <p:nvSpPr>
              <p:cNvPr id="166" name=""/>
              <p:cNvSpPr/>
              <p:nvPr/>
            </p:nvSpPr>
            <p:spPr>
              <a:xfrm>
                <a:off x="2954160" y="4307040"/>
                <a:ext cx="2287800" cy="32544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2932200" y="4277880"/>
                <a:ext cx="2301840" cy="343440"/>
                <a:chOff x="2932200" y="4277880"/>
                <a:chExt cx="2301840" cy="343440"/>
              </a:xfrm>
            </p:grpSpPr>
            <p:sp>
              <p:nvSpPr>
                <p:cNvPr id="168" name=""/>
                <p:cNvSpPr/>
                <p:nvPr/>
              </p:nvSpPr>
              <p:spPr>
                <a:xfrm>
                  <a:off x="2954160" y="4307040"/>
                  <a:ext cx="2279880" cy="314280"/>
                </a:xfrm>
                <a:prstGeom prst="roundRect">
                  <a:avLst>
                    <a:gd name="adj" fmla="val 50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2932200" y="4277880"/>
                  <a:ext cx="2290680" cy="338040"/>
                  <a:chOff x="2932200" y="4277880"/>
                  <a:chExt cx="2290680" cy="338040"/>
                </a:xfrm>
              </p:grpSpPr>
              <p:sp>
                <p:nvSpPr>
                  <p:cNvPr id="170" name=""/>
                  <p:cNvSpPr/>
                  <p:nvPr/>
                </p:nvSpPr>
                <p:spPr>
                  <a:xfrm>
                    <a:off x="2954160" y="4307040"/>
                    <a:ext cx="226872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2932200" y="4277880"/>
                    <a:ext cx="2284560" cy="338040"/>
                    <a:chOff x="2932200" y="4277880"/>
                    <a:chExt cx="2284560" cy="338040"/>
                  </a:xfrm>
                </p:grpSpPr>
                <p:sp>
                  <p:nvSpPr>
                    <p:cNvPr id="172" name=""/>
                    <p:cNvSpPr/>
                    <p:nvPr/>
                  </p:nvSpPr>
                  <p:spPr>
                    <a:xfrm>
                      <a:off x="2954160" y="4307040"/>
                      <a:ext cx="226080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2932200" y="4277880"/>
                      <a:ext cx="2284560" cy="338040"/>
                      <a:chOff x="2932200" y="4277880"/>
                      <a:chExt cx="2284560" cy="338040"/>
                    </a:xfrm>
                  </p:grpSpPr>
                  <p:sp>
                    <p:nvSpPr>
                      <p:cNvPr id="174" name=""/>
                      <p:cNvSpPr/>
                      <p:nvPr/>
                    </p:nvSpPr>
                    <p:spPr>
                      <a:xfrm>
                        <a:off x="2954160" y="4307040"/>
                        <a:ext cx="2254320" cy="29196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2932200" y="4277880"/>
                        <a:ext cx="2284560" cy="338040"/>
                        <a:chOff x="2932200" y="4277880"/>
                        <a:chExt cx="2284560" cy="338040"/>
                      </a:xfrm>
                    </p:grpSpPr>
                    <p:sp>
                      <p:nvSpPr>
                        <p:cNvPr id="176" name=""/>
                        <p:cNvSpPr/>
                        <p:nvPr/>
                      </p:nvSpPr>
                      <p:spPr>
                        <a:xfrm>
                          <a:off x="2954160" y="4307040"/>
                          <a:ext cx="224820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2932200" y="4277880"/>
                          <a:ext cx="2284560" cy="338040"/>
                          <a:chOff x="2932200" y="4277880"/>
                          <a:chExt cx="2284560" cy="338040"/>
                        </a:xfrm>
                      </p:grpSpPr>
                      <p:sp>
                        <p:nvSpPr>
                          <p:cNvPr id="178" name=""/>
                          <p:cNvSpPr/>
                          <p:nvPr/>
                        </p:nvSpPr>
                        <p:spPr>
                          <a:xfrm>
                            <a:off x="2954160" y="4307040"/>
                            <a:ext cx="2241720" cy="28404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2932200" y="4277880"/>
                            <a:ext cx="2284560" cy="338040"/>
                            <a:chOff x="2932200" y="4277880"/>
                            <a:chExt cx="2284560" cy="338040"/>
                          </a:xfrm>
                        </p:grpSpPr>
                        <p:sp>
                          <p:nvSpPr>
                            <p:cNvPr id="180" name=""/>
                            <p:cNvSpPr/>
                            <p:nvPr/>
                          </p:nvSpPr>
                          <p:spPr>
                            <a:xfrm>
                              <a:off x="2954160" y="4307040"/>
                              <a:ext cx="224028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2932200" y="4277880"/>
                              <a:ext cx="2284560" cy="338040"/>
                              <a:chOff x="2932200" y="4277880"/>
                              <a:chExt cx="2284560" cy="338040"/>
                            </a:xfrm>
                          </p:grpSpPr>
                          <p:sp>
                            <p:nvSpPr>
                              <p:cNvPr id="182" name=""/>
                              <p:cNvSpPr/>
                              <p:nvPr/>
                            </p:nvSpPr>
                            <p:spPr>
                              <a:xfrm>
                                <a:off x="2954160" y="4307040"/>
                                <a:ext cx="224028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932200" y="4277880"/>
                                <a:ext cx="2284560" cy="338040"/>
                              </a:xfrm>
                              <a:prstGeom prst="roundRect">
                                <a:avLst>
                                  <a:gd name="adj" fmla="val 565"/>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ock Implementation</a:t>
                                </a:r>
                                <a:endParaRPr b="0" lang="en-US" sz="1600" spc="-1" strike="noStrike">
                                  <a:solidFill>
                                    <a:srgbClr val="000000"/>
                                  </a:solidFill>
                                  <a:latin typeface="Times New Roman"/>
                                </a:endParaRPr>
                              </a:p>
                            </p:txBody>
                          </p:sp>
                        </p:grpSp>
                      </p:grpSp>
                    </p:grpSp>
                  </p:grpSp>
                </p:grpSp>
              </p:grpSp>
            </p:grpSp>
          </p:grpSp>
        </p:grpSp>
      </p:grpSp>
      <p:sp>
        <p:nvSpPr>
          <p:cNvPr id="184" name=""/>
          <p:cNvSpPr/>
          <p:nvPr/>
        </p:nvSpPr>
        <p:spPr>
          <a:xfrm>
            <a:off x="2108160" y="2216160"/>
            <a:ext cx="380880" cy="992160"/>
          </a:xfrm>
          <a:custGeom>
            <a:avLst/>
            <a:gdLst/>
            <a:ahLst/>
            <a:rect l="l" t="t" r="r" b="b"/>
            <a:pathLst>
              <a:path w="1059" h="2756">
                <a:moveTo>
                  <a:pt x="0" y="0"/>
                </a:moveTo>
                <a:cubicBezTo>
                  <a:pt x="263" y="0"/>
                  <a:pt x="528" y="114"/>
                  <a:pt x="528" y="229"/>
                </a:cubicBezTo>
                <a:lnTo>
                  <a:pt x="528" y="1148"/>
                </a:lnTo>
                <a:cubicBezTo>
                  <a:pt x="528" y="1262"/>
                  <a:pt x="793" y="1377"/>
                  <a:pt x="1058" y="1377"/>
                </a:cubicBezTo>
                <a:cubicBezTo>
                  <a:pt x="793" y="1377"/>
                  <a:pt x="528" y="1492"/>
                  <a:pt x="528" y="1606"/>
                </a:cubicBezTo>
                <a:lnTo>
                  <a:pt x="528" y="2525"/>
                </a:lnTo>
                <a:cubicBezTo>
                  <a:pt x="528" y="2640"/>
                  <a:pt x="263" y="2755"/>
                  <a:pt x="0" y="275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27320" y="4370400"/>
            <a:ext cx="380880" cy="663480"/>
          </a:xfrm>
          <a:custGeom>
            <a:avLst/>
            <a:gdLst/>
            <a:ahLst/>
            <a:rect l="l" t="t" r="r" b="b"/>
            <a:pathLst>
              <a:path w="1059" h="1844">
                <a:moveTo>
                  <a:pt x="0" y="0"/>
                </a:moveTo>
                <a:cubicBezTo>
                  <a:pt x="263" y="0"/>
                  <a:pt x="528" y="75"/>
                  <a:pt x="528" y="152"/>
                </a:cubicBezTo>
                <a:lnTo>
                  <a:pt x="528" y="767"/>
                </a:lnTo>
                <a:cubicBezTo>
                  <a:pt x="528" y="844"/>
                  <a:pt x="793" y="921"/>
                  <a:pt x="1058" y="921"/>
                </a:cubicBezTo>
                <a:cubicBezTo>
                  <a:pt x="793" y="921"/>
                  <a:pt x="528" y="997"/>
                  <a:pt x="528" y="1074"/>
                </a:cubicBezTo>
                <a:lnTo>
                  <a:pt x="528" y="1689"/>
                </a:lnTo>
                <a:cubicBezTo>
                  <a:pt x="528" y="1766"/>
                  <a:pt x="263" y="1843"/>
                  <a:pt x="0" y="184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228840" y="1965240"/>
            <a:ext cx="1721160" cy="304920"/>
          </a:xfrm>
          <a:custGeom>
            <a:avLst/>
            <a:gdLst/>
            <a:ahLst/>
            <a:rect l="l" t="t" r="r" b="b"/>
            <a:pathLst>
              <a:path w="4782" h="848">
                <a:moveTo>
                  <a:pt x="0" y="423"/>
                </a:moveTo>
                <a:lnTo>
                  <a:pt x="2390" y="0"/>
                </a:lnTo>
                <a:lnTo>
                  <a:pt x="4781" y="423"/>
                </a:lnTo>
                <a:lnTo>
                  <a:pt x="2390"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p:nvPr/>
        </p:nvCxnSpPr>
        <p:spPr>
          <a:xfrm>
            <a:off x="4098960" y="1793520"/>
            <a:ext cx="2160" cy="173880"/>
          </a:xfrm>
          <a:prstGeom prst="straightConnector1">
            <a:avLst/>
          </a:prstGeom>
          <a:ln w="9360">
            <a:solidFill>
              <a:srgbClr val="000000"/>
            </a:solidFill>
            <a:miter/>
            <a:tailEnd len="med" type="triangle" w="med"/>
          </a:ln>
        </p:spPr>
      </p:cxnSp>
      <p:cxnSp>
        <p:nvCxnSpPr>
          <p:cNvPr id="188" name=""/>
          <p:cNvCxnSpPr>
            <a:stCxn id="186" idx="0"/>
            <a:endCxn id="122" idx="0"/>
          </p:cNvCxnSpPr>
          <p:nvPr/>
        </p:nvCxnSpPr>
        <p:spPr>
          <a:xfrm flipH="1">
            <a:off x="4091760" y="2117520"/>
            <a:ext cx="858600" cy="294120"/>
          </a:xfrm>
          <a:prstGeom prst="straightConnector1">
            <a:avLst/>
          </a:prstGeom>
          <a:ln w="9360">
            <a:solidFill>
              <a:srgbClr val="000000"/>
            </a:solidFill>
            <a:miter/>
            <a:tailEnd len="med" type="triangle" w="med"/>
          </a:ln>
        </p:spPr>
      </p:cxnSp>
      <p:cxnSp>
        <p:nvCxnSpPr>
          <p:cNvPr id="189" name=""/>
          <p:cNvCxnSpPr>
            <a:stCxn id="122" idx="2"/>
            <a:endCxn id="190" idx="0"/>
          </p:cNvCxnSpPr>
          <p:nvPr/>
        </p:nvCxnSpPr>
        <p:spPr>
          <a:xfrm flipH="1">
            <a:off x="3313080" y="2749680"/>
            <a:ext cx="779040" cy="303480"/>
          </a:xfrm>
          <a:prstGeom prst="straightConnector1">
            <a:avLst/>
          </a:prstGeom>
          <a:ln w="9360">
            <a:solidFill>
              <a:srgbClr val="000000"/>
            </a:solidFill>
            <a:miter/>
            <a:tailEnd len="med" type="triangle" w="med"/>
          </a:ln>
        </p:spPr>
      </p:cxnSp>
      <p:sp>
        <p:nvSpPr>
          <p:cNvPr id="190" name=""/>
          <p:cNvSpPr/>
          <p:nvPr/>
        </p:nvSpPr>
        <p:spPr>
          <a:xfrm>
            <a:off x="3313080" y="2906640"/>
            <a:ext cx="1568520" cy="292320"/>
          </a:xfrm>
          <a:custGeom>
            <a:avLst/>
            <a:gdLst/>
            <a:ahLst/>
            <a:rect l="l" t="t" r="r" b="b"/>
            <a:pathLst>
              <a:path w="4358" h="813">
                <a:moveTo>
                  <a:pt x="0" y="406"/>
                </a:moveTo>
                <a:lnTo>
                  <a:pt x="2178" y="0"/>
                </a:lnTo>
                <a:lnTo>
                  <a:pt x="4357" y="406"/>
                </a:lnTo>
                <a:lnTo>
                  <a:pt x="2178" y="812"/>
                </a:lnTo>
                <a:lnTo>
                  <a:pt x="0" y="406"/>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90" idx="1"/>
            <a:endCxn id="143" idx="0"/>
          </p:cNvCxnSpPr>
          <p:nvPr/>
        </p:nvCxnSpPr>
        <p:spPr>
          <a:xfrm flipH="1">
            <a:off x="4101840" y="3052800"/>
            <a:ext cx="780120" cy="308160"/>
          </a:xfrm>
          <a:prstGeom prst="straightConnector1">
            <a:avLst/>
          </a:prstGeom>
          <a:ln w="9360">
            <a:solidFill>
              <a:srgbClr val="000000"/>
            </a:solidFill>
            <a:miter/>
            <a:tailEnd len="med" type="triangle" w="med"/>
          </a:ln>
        </p:spPr>
      </p:cxnSp>
      <p:sp>
        <p:nvSpPr>
          <p:cNvPr id="192" name=""/>
          <p:cNvSpPr/>
          <p:nvPr/>
        </p:nvSpPr>
        <p:spPr>
          <a:xfrm>
            <a:off x="3568680" y="3873600"/>
            <a:ext cx="1090800" cy="304560"/>
          </a:xfrm>
          <a:custGeom>
            <a:avLst/>
            <a:gdLst/>
            <a:ahLst/>
            <a:rect l="l" t="t" r="r" b="b"/>
            <a:pathLst>
              <a:path w="3031" h="847">
                <a:moveTo>
                  <a:pt x="0" y="422"/>
                </a:moveTo>
                <a:lnTo>
                  <a:pt x="1515" y="0"/>
                </a:lnTo>
                <a:lnTo>
                  <a:pt x="3030" y="422"/>
                </a:lnTo>
                <a:lnTo>
                  <a:pt x="1515" y="846"/>
                </a:lnTo>
                <a:lnTo>
                  <a:pt x="0" y="422"/>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3" name=""/>
          <p:cNvCxnSpPr>
            <a:stCxn id="143" idx="2"/>
            <a:endCxn id="192" idx="0"/>
          </p:cNvCxnSpPr>
          <p:nvPr/>
        </p:nvCxnSpPr>
        <p:spPr>
          <a:xfrm flipH="1">
            <a:off x="3568680" y="3699000"/>
            <a:ext cx="533520" cy="326880"/>
          </a:xfrm>
          <a:prstGeom prst="straightConnector1">
            <a:avLst/>
          </a:prstGeom>
          <a:ln w="9360">
            <a:solidFill>
              <a:srgbClr val="000000"/>
            </a:solidFill>
            <a:miter/>
            <a:tailEnd len="med" type="triangle" w="med"/>
          </a:ln>
        </p:spPr>
      </p:cxnSp>
      <p:cxnSp>
        <p:nvCxnSpPr>
          <p:cNvPr id="194" name=""/>
          <p:cNvCxnSpPr>
            <a:stCxn id="192" idx="1"/>
            <a:endCxn id="164" idx="0"/>
          </p:cNvCxnSpPr>
          <p:nvPr/>
        </p:nvCxnSpPr>
        <p:spPr>
          <a:xfrm flipH="1">
            <a:off x="4103640" y="4025520"/>
            <a:ext cx="556200" cy="281880"/>
          </a:xfrm>
          <a:prstGeom prst="straightConnector1">
            <a:avLst/>
          </a:prstGeom>
          <a:ln w="9360">
            <a:solidFill>
              <a:srgbClr val="000000"/>
            </a:solidFill>
            <a:miter/>
            <a:tailEnd len="med" type="triangle" w="med"/>
          </a:ln>
        </p:spPr>
      </p:cxnSp>
      <p:sp>
        <p:nvSpPr>
          <p:cNvPr id="195" name=""/>
          <p:cNvSpPr/>
          <p:nvPr/>
        </p:nvSpPr>
        <p:spPr>
          <a:xfrm>
            <a:off x="3672000" y="4800600"/>
            <a:ext cx="884160" cy="304920"/>
          </a:xfrm>
          <a:custGeom>
            <a:avLst/>
            <a:gdLst/>
            <a:ahLst/>
            <a:rect l="l" t="t" r="r" b="b"/>
            <a:pathLst>
              <a:path w="2457" h="848">
                <a:moveTo>
                  <a:pt x="0" y="423"/>
                </a:moveTo>
                <a:lnTo>
                  <a:pt x="1227" y="0"/>
                </a:lnTo>
                <a:lnTo>
                  <a:pt x="2456" y="423"/>
                </a:lnTo>
                <a:lnTo>
                  <a:pt x="1227"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stCxn id="164" idx="2"/>
            <a:endCxn id="195" idx="0"/>
          </p:cNvCxnSpPr>
          <p:nvPr/>
        </p:nvCxnSpPr>
        <p:spPr>
          <a:xfrm flipH="1">
            <a:off x="3672000" y="4645080"/>
            <a:ext cx="432000" cy="308160"/>
          </a:xfrm>
          <a:prstGeom prst="straightConnector1">
            <a:avLst/>
          </a:prstGeom>
          <a:ln w="9360">
            <a:solidFill>
              <a:srgbClr val="000000"/>
            </a:solidFill>
            <a:miter/>
            <a:tailEnd len="med" type="triangle" w="med"/>
          </a:ln>
        </p:spPr>
      </p:cxnSp>
      <p:grpSp>
        <p:nvGrpSpPr>
          <p:cNvPr id="197" name=""/>
          <p:cNvGrpSpPr/>
          <p:nvPr/>
        </p:nvGrpSpPr>
        <p:grpSpPr>
          <a:xfrm>
            <a:off x="4968360" y="1917720"/>
            <a:ext cx="319320" cy="185760"/>
            <a:chOff x="4968360" y="1917720"/>
            <a:chExt cx="319320" cy="185760"/>
          </a:xfrm>
        </p:grpSpPr>
        <p:sp>
          <p:nvSpPr>
            <p:cNvPr id="198" name=""/>
            <p:cNvSpPr/>
            <p:nvPr/>
          </p:nvSpPr>
          <p:spPr>
            <a:xfrm flipV="1">
              <a:off x="5273640" y="1917720"/>
              <a:ext cx="180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4968360" y="2087640"/>
              <a:ext cx="319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0" name=""/>
          <p:cNvGrpSpPr/>
          <p:nvPr/>
        </p:nvGrpSpPr>
        <p:grpSpPr>
          <a:xfrm>
            <a:off x="4898520" y="2851200"/>
            <a:ext cx="319320" cy="185760"/>
            <a:chOff x="4898520" y="2851200"/>
            <a:chExt cx="319320" cy="185760"/>
          </a:xfrm>
        </p:grpSpPr>
        <p:sp>
          <p:nvSpPr>
            <p:cNvPr id="201" name=""/>
            <p:cNvSpPr/>
            <p:nvPr/>
          </p:nvSpPr>
          <p:spPr>
            <a:xfrm flipV="1">
              <a:off x="5202360" y="2851200"/>
              <a:ext cx="144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4898520" y="3024360"/>
              <a:ext cx="319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3" name=""/>
          <p:cNvGrpSpPr/>
          <p:nvPr/>
        </p:nvGrpSpPr>
        <p:grpSpPr>
          <a:xfrm>
            <a:off x="4676760" y="3828960"/>
            <a:ext cx="318960" cy="185760"/>
            <a:chOff x="4676760" y="3828960"/>
            <a:chExt cx="318960" cy="185760"/>
          </a:xfrm>
        </p:grpSpPr>
        <p:sp>
          <p:nvSpPr>
            <p:cNvPr id="204" name=""/>
            <p:cNvSpPr/>
            <p:nvPr/>
          </p:nvSpPr>
          <p:spPr>
            <a:xfrm flipV="1">
              <a:off x="4979880" y="3828960"/>
              <a:ext cx="180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4676760" y="4000680"/>
              <a:ext cx="318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6" name=""/>
          <p:cNvGrpSpPr/>
          <p:nvPr/>
        </p:nvGrpSpPr>
        <p:grpSpPr>
          <a:xfrm>
            <a:off x="4562640" y="4755960"/>
            <a:ext cx="318960" cy="185400"/>
            <a:chOff x="4562640" y="4755960"/>
            <a:chExt cx="318960" cy="185400"/>
          </a:xfrm>
        </p:grpSpPr>
        <p:sp>
          <p:nvSpPr>
            <p:cNvPr id="207" name=""/>
            <p:cNvSpPr/>
            <p:nvPr/>
          </p:nvSpPr>
          <p:spPr>
            <a:xfrm flipV="1">
              <a:off x="4865760" y="4755960"/>
              <a:ext cx="1440" cy="18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4562640" y="4925880"/>
              <a:ext cx="318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09" name=""/>
          <p:cNvSpPr/>
          <p:nvPr/>
        </p:nvSpPr>
        <p:spPr>
          <a:xfrm>
            <a:off x="6081840" y="3178080"/>
            <a:ext cx="380880" cy="914400"/>
          </a:xfrm>
          <a:custGeom>
            <a:avLst/>
            <a:gdLst/>
            <a:ahLst/>
            <a:rect l="l" t="t" r="r" b="b"/>
            <a:pathLst>
              <a:path w="1059" h="2541">
                <a:moveTo>
                  <a:pt x="1058" y="0"/>
                </a:moveTo>
                <a:cubicBezTo>
                  <a:pt x="793" y="0"/>
                  <a:pt x="528" y="104"/>
                  <a:pt x="528" y="210"/>
                </a:cubicBezTo>
                <a:lnTo>
                  <a:pt x="528" y="1057"/>
                </a:lnTo>
                <a:cubicBezTo>
                  <a:pt x="528" y="1163"/>
                  <a:pt x="263" y="1269"/>
                  <a:pt x="0" y="1269"/>
                </a:cubicBezTo>
                <a:cubicBezTo>
                  <a:pt x="263" y="1269"/>
                  <a:pt x="528" y="1375"/>
                  <a:pt x="528" y="1481"/>
                </a:cubicBezTo>
                <a:lnTo>
                  <a:pt x="528" y="2328"/>
                </a:lnTo>
                <a:cubicBezTo>
                  <a:pt x="528" y="2434"/>
                  <a:pt x="793" y="2540"/>
                  <a:pt x="1058" y="254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5989680" y="1351080"/>
            <a:ext cx="888840" cy="2544480"/>
            <a:chOff x="5989680" y="1351080"/>
            <a:chExt cx="888840" cy="2544480"/>
          </a:xfrm>
        </p:grpSpPr>
        <p:sp>
          <p:nvSpPr>
            <p:cNvPr id="211" name=""/>
            <p:cNvSpPr/>
            <p:nvPr/>
          </p:nvSpPr>
          <p:spPr>
            <a:xfrm>
              <a:off x="5989680" y="1351080"/>
              <a:ext cx="888840" cy="2544480"/>
            </a:xfrm>
            <a:custGeom>
              <a:avLst/>
              <a:gdLst/>
              <a:ahLst/>
              <a:rect l="l" t="t" r="r" b="b"/>
              <a:pathLst>
                <a:path w="2470" h="7069">
                  <a:moveTo>
                    <a:pt x="617" y="7068"/>
                  </a:moveTo>
                  <a:lnTo>
                    <a:pt x="617" y="1766"/>
                  </a:lnTo>
                  <a:lnTo>
                    <a:pt x="0" y="1766"/>
                  </a:lnTo>
                  <a:lnTo>
                    <a:pt x="1235" y="0"/>
                  </a:lnTo>
                  <a:lnTo>
                    <a:pt x="2469" y="1766"/>
                  </a:lnTo>
                  <a:lnTo>
                    <a:pt x="1851" y="1766"/>
                  </a:lnTo>
                  <a:lnTo>
                    <a:pt x="1851" y="7068"/>
                  </a:lnTo>
                  <a:lnTo>
                    <a:pt x="617" y="7068"/>
                  </a:lnTo>
                </a:path>
              </a:pathLst>
            </a:custGeom>
            <a:gradFill rotWithShape="0">
              <a:gsLst>
                <a:gs pos="0">
                  <a:srgbClr val="ff0000"/>
                </a:gs>
                <a:gs pos="50000">
                  <a:srgbClr val="ffffff"/>
                </a:gs>
                <a:gs pos="100000">
                  <a:srgbClr val="ff0000"/>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6213600" y="1670040"/>
              <a:ext cx="441360" cy="2224080"/>
              <a:chOff x="6213600" y="1670040"/>
              <a:chExt cx="441360" cy="2224080"/>
            </a:xfrm>
          </p:grpSpPr>
          <p:sp>
            <p:nvSpPr>
              <p:cNvPr id="213" name=""/>
              <p:cNvSpPr/>
              <p:nvPr/>
            </p:nvSpPr>
            <p:spPr>
              <a:xfrm>
                <a:off x="6213600" y="1670040"/>
                <a:ext cx="441360" cy="2224080"/>
              </a:xfrm>
              <a:custGeom>
                <a:avLst/>
                <a:gdLst>
                  <a:gd name="textAreaLeft" fmla="*/ 360 w 441360"/>
                  <a:gd name="textAreaRight" fmla="*/ 441000 w 441360"/>
                  <a:gd name="textAreaTop" fmla="*/ 360 h 2224080"/>
                  <a:gd name="textAreaBottom" fmla="*/ 2223720 h 2224080"/>
                </a:gdLst>
                <a:ahLst/>
                <a:rect l="textAreaLeft" t="textAreaTop" r="textAreaRight" b="textAreaBottom"/>
                <a:pathLst>
                  <a:path w="21600" h="108775">
                    <a:moveTo>
                      <a:pt x="77" y="0"/>
                    </a:moveTo>
                    <a:arcTo wR="77" hR="77" stAng="16200000" swAng="-5400000"/>
                    <a:lnTo>
                      <a:pt x="0" y="108698"/>
                    </a:lnTo>
                    <a:arcTo wR="77" hR="77" stAng="10800000" swAng="-5400000"/>
                    <a:lnTo>
                      <a:pt x="21523" y="108775"/>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213600" y="1670040"/>
                <a:ext cx="439560" cy="22226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ntegration</a:t>
                </a:r>
                <a:endParaRPr b="0" lang="en-US" sz="1400" spc="-1" strike="noStrike">
                  <a:solidFill>
                    <a:srgbClr val="000000"/>
                  </a:solidFill>
                  <a:latin typeface="Times New Roman"/>
                </a:endParaRPr>
              </a:p>
            </p:txBody>
          </p:sp>
        </p:grpSp>
      </p:grpSp>
      <p:grpSp>
        <p:nvGrpSpPr>
          <p:cNvPr id="215" name=""/>
          <p:cNvGrpSpPr/>
          <p:nvPr/>
        </p:nvGrpSpPr>
        <p:grpSpPr>
          <a:xfrm>
            <a:off x="5989680" y="3902040"/>
            <a:ext cx="888840" cy="2173320"/>
            <a:chOff x="5989680" y="3902040"/>
            <a:chExt cx="888840" cy="2173320"/>
          </a:xfrm>
        </p:grpSpPr>
        <p:sp>
          <p:nvSpPr>
            <p:cNvPr id="216" name=""/>
            <p:cNvSpPr/>
            <p:nvPr/>
          </p:nvSpPr>
          <p:spPr>
            <a:xfrm>
              <a:off x="5989680" y="3902040"/>
              <a:ext cx="888840" cy="2173320"/>
            </a:xfrm>
            <a:custGeom>
              <a:avLst/>
              <a:gdLst/>
              <a:ahLst/>
              <a:rect l="l" t="t" r="r" b="b"/>
              <a:pathLst>
                <a:path w="2470" h="6038">
                  <a:moveTo>
                    <a:pt x="617" y="0"/>
                  </a:moveTo>
                  <a:lnTo>
                    <a:pt x="617" y="4528"/>
                  </a:lnTo>
                  <a:lnTo>
                    <a:pt x="0" y="4528"/>
                  </a:lnTo>
                  <a:lnTo>
                    <a:pt x="1235" y="6037"/>
                  </a:lnTo>
                  <a:lnTo>
                    <a:pt x="2469" y="4528"/>
                  </a:lnTo>
                  <a:lnTo>
                    <a:pt x="1851" y="4528"/>
                  </a:lnTo>
                  <a:lnTo>
                    <a:pt x="1851" y="0"/>
                  </a:lnTo>
                  <a:lnTo>
                    <a:pt x="617" y="0"/>
                  </a:lnTo>
                </a:path>
              </a:pathLst>
            </a:custGeom>
            <a:gradFill rotWithShape="0">
              <a:gsLst>
                <a:gs pos="0">
                  <a:srgbClr val="5374a9"/>
                </a:gs>
                <a:gs pos="50000">
                  <a:srgbClr val="ffffff"/>
                </a:gs>
                <a:gs pos="100000">
                  <a:srgbClr val="5374a9"/>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6213600" y="3902040"/>
              <a:ext cx="441360" cy="1900440"/>
              <a:chOff x="6213600" y="3902040"/>
              <a:chExt cx="441360" cy="1900440"/>
            </a:xfrm>
          </p:grpSpPr>
          <p:sp>
            <p:nvSpPr>
              <p:cNvPr id="218" name=""/>
              <p:cNvSpPr/>
              <p:nvPr/>
            </p:nvSpPr>
            <p:spPr>
              <a:xfrm>
                <a:off x="6213600" y="3902040"/>
                <a:ext cx="441360" cy="1900440"/>
              </a:xfrm>
              <a:custGeom>
                <a:avLst/>
                <a:gdLst>
                  <a:gd name="textAreaLeft" fmla="*/ 360 w 441360"/>
                  <a:gd name="textAreaRight" fmla="*/ 441000 w 441360"/>
                  <a:gd name="textAreaTop" fmla="*/ 360 h 1900440"/>
                  <a:gd name="textAreaBottom" fmla="*/ 1900080 h 1900440"/>
                </a:gdLst>
                <a:ahLst/>
                <a:rect l="textAreaLeft" t="textAreaTop" r="textAreaRight" b="textAreaBottom"/>
                <a:pathLst>
                  <a:path w="21600" h="92949">
                    <a:moveTo>
                      <a:pt x="77" y="0"/>
                    </a:moveTo>
                    <a:arcTo wR="77" hR="77" stAng="16200000" swAng="-5400000"/>
                    <a:lnTo>
                      <a:pt x="0" y="92872"/>
                    </a:lnTo>
                    <a:arcTo wR="77" hR="77" stAng="10800000" swAng="-5400000"/>
                    <a:lnTo>
                      <a:pt x="21523" y="92949"/>
                    </a:lnTo>
                    <a:arcTo wR="77" hR="77" stAng="5400000" swAng="-5400000"/>
                    <a:lnTo>
                      <a:pt x="21600" y="77"/>
                    </a:lnTo>
                    <a:arcTo wR="77" hR="7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213600" y="3902040"/>
                <a:ext cx="439560" cy="1900440"/>
              </a:xfrm>
              <a:prstGeom prst="rect">
                <a:avLst/>
              </a:prstGeom>
              <a:noFill/>
              <a:ln w="0">
                <a:noFill/>
              </a:ln>
            </p:spPr>
            <p:style>
              <a:lnRef idx="0"/>
              <a:fillRef idx="0"/>
              <a:effectRef idx="0"/>
              <a:fontRef idx="minor"/>
            </p:style>
            <p:txBody>
              <a:bodyPr lIns="90000" rIns="90000" tIns="46800" bIns="46800" anchor="b" vert="eaVe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mplementation</a:t>
                </a:r>
                <a:endParaRPr b="0" lang="en-US" sz="1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a:t>
            </a:r>
            <a:endParaRPr b="1" lang="en-US" sz="2800" spc="-1" strike="noStrike">
              <a:solidFill>
                <a:srgbClr val="000000"/>
              </a:solidFill>
              <a:latin typeface="Myriad Pro"/>
            </a:endParaRPr>
          </a:p>
        </p:txBody>
      </p:sp>
      <p:grpSp>
        <p:nvGrpSpPr>
          <p:cNvPr id="221" name=""/>
          <p:cNvGrpSpPr/>
          <p:nvPr/>
        </p:nvGrpSpPr>
        <p:grpSpPr>
          <a:xfrm>
            <a:off x="2838240" y="1716120"/>
            <a:ext cx="5827680" cy="3298680"/>
            <a:chOff x="2838240" y="1716120"/>
            <a:chExt cx="5827680" cy="3298680"/>
          </a:xfrm>
        </p:grpSpPr>
        <p:grpSp>
          <p:nvGrpSpPr>
            <p:cNvPr id="222" name=""/>
            <p:cNvGrpSpPr/>
            <p:nvPr/>
          </p:nvGrpSpPr>
          <p:grpSpPr>
            <a:xfrm>
              <a:off x="6417360" y="1716120"/>
              <a:ext cx="1086840" cy="387360"/>
              <a:chOff x="6417360" y="1716120"/>
              <a:chExt cx="1086840" cy="387360"/>
            </a:xfrm>
          </p:grpSpPr>
          <p:sp>
            <p:nvSpPr>
              <p:cNvPr id="223" name=""/>
              <p:cNvSpPr/>
              <p:nvPr/>
            </p:nvSpPr>
            <p:spPr>
              <a:xfrm>
                <a:off x="6478560" y="1771560"/>
                <a:ext cx="1025640" cy="3319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6417360" y="1716120"/>
                <a:ext cx="1067760" cy="368280"/>
                <a:chOff x="6417360" y="1716120"/>
                <a:chExt cx="1067760" cy="368280"/>
              </a:xfrm>
            </p:grpSpPr>
            <p:sp>
              <p:nvSpPr>
                <p:cNvPr id="225" name=""/>
                <p:cNvSpPr/>
                <p:nvPr/>
              </p:nvSpPr>
              <p:spPr>
                <a:xfrm>
                  <a:off x="6478560" y="1771560"/>
                  <a:ext cx="100656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6417360" y="1716120"/>
                  <a:ext cx="1051920" cy="352440"/>
                  <a:chOff x="6417360" y="1716120"/>
                  <a:chExt cx="1051920" cy="352440"/>
                </a:xfrm>
              </p:grpSpPr>
              <p:sp>
                <p:nvSpPr>
                  <p:cNvPr id="227" name=""/>
                  <p:cNvSpPr/>
                  <p:nvPr/>
                </p:nvSpPr>
                <p:spPr>
                  <a:xfrm>
                    <a:off x="6478560" y="1771560"/>
                    <a:ext cx="99072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6417360" y="1716120"/>
                    <a:ext cx="1038960" cy="338040"/>
                    <a:chOff x="6417360" y="1716120"/>
                    <a:chExt cx="1038960" cy="338040"/>
                  </a:xfrm>
                </p:grpSpPr>
                <p:sp>
                  <p:nvSpPr>
                    <p:cNvPr id="229" name=""/>
                    <p:cNvSpPr/>
                    <p:nvPr/>
                  </p:nvSpPr>
                  <p:spPr>
                    <a:xfrm>
                      <a:off x="6478560" y="1771560"/>
                      <a:ext cx="9777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417360" y="1716120"/>
                      <a:ext cx="1024920" cy="330480"/>
                      <a:chOff x="6417360" y="1716120"/>
                      <a:chExt cx="1024920" cy="330480"/>
                    </a:xfrm>
                  </p:grpSpPr>
                  <p:sp>
                    <p:nvSpPr>
                      <p:cNvPr id="231" name=""/>
                      <p:cNvSpPr/>
                      <p:nvPr/>
                    </p:nvSpPr>
                    <p:spPr>
                      <a:xfrm>
                        <a:off x="6478560" y="1771560"/>
                        <a:ext cx="96372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417360" y="1716120"/>
                        <a:ext cx="1024200" cy="330480"/>
                        <a:chOff x="6417360" y="1716120"/>
                        <a:chExt cx="1024200" cy="330480"/>
                      </a:xfrm>
                    </p:grpSpPr>
                    <p:sp>
                      <p:nvSpPr>
                        <p:cNvPr id="233" name=""/>
                        <p:cNvSpPr/>
                        <p:nvPr/>
                      </p:nvSpPr>
                      <p:spPr>
                        <a:xfrm>
                          <a:off x="6478560" y="1771560"/>
                          <a:ext cx="94932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6417360" y="1716120"/>
                          <a:ext cx="1024200" cy="330480"/>
                          <a:chOff x="6417360" y="1716120"/>
                          <a:chExt cx="1024200" cy="330480"/>
                        </a:xfrm>
                      </p:grpSpPr>
                      <p:sp>
                        <p:nvSpPr>
                          <p:cNvPr id="235" name=""/>
                          <p:cNvSpPr/>
                          <p:nvPr/>
                        </p:nvSpPr>
                        <p:spPr>
                          <a:xfrm>
                            <a:off x="6478560" y="1771560"/>
                            <a:ext cx="93816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417360" y="1716120"/>
                            <a:ext cx="1024200" cy="330480"/>
                            <a:chOff x="6417360" y="1716120"/>
                            <a:chExt cx="1024200" cy="330480"/>
                          </a:xfrm>
                        </p:grpSpPr>
                        <p:sp>
                          <p:nvSpPr>
                            <p:cNvPr id="237" name=""/>
                            <p:cNvSpPr/>
                            <p:nvPr/>
                          </p:nvSpPr>
                          <p:spPr>
                            <a:xfrm>
                              <a:off x="6478560" y="1771560"/>
                              <a:ext cx="927000" cy="24156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417360" y="1716120"/>
                              <a:ext cx="1024200" cy="330480"/>
                              <a:chOff x="6417360" y="1716120"/>
                              <a:chExt cx="1024200" cy="330480"/>
                            </a:xfrm>
                          </p:grpSpPr>
                          <p:sp>
                            <p:nvSpPr>
                              <p:cNvPr id="239" name=""/>
                              <p:cNvSpPr/>
                              <p:nvPr/>
                            </p:nvSpPr>
                            <p:spPr>
                              <a:xfrm>
                                <a:off x="6478560" y="1771560"/>
                                <a:ext cx="92088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6417360" y="1716120"/>
                                <a:ext cx="1024200" cy="330480"/>
                                <a:chOff x="6417360" y="1716120"/>
                                <a:chExt cx="1024200" cy="330480"/>
                              </a:xfrm>
                            </p:grpSpPr>
                            <p:sp>
                              <p:nvSpPr>
                                <p:cNvPr id="241" name=""/>
                                <p:cNvSpPr/>
                                <p:nvPr/>
                              </p:nvSpPr>
                              <p:spPr>
                                <a:xfrm>
                                  <a:off x="6478560" y="1771560"/>
                                  <a:ext cx="91440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6417360" y="1716120"/>
                                  <a:ext cx="1024200" cy="330480"/>
                                  <a:chOff x="6417360" y="1716120"/>
                                  <a:chExt cx="1024200" cy="330480"/>
                                </a:xfrm>
                              </p:grpSpPr>
                              <p:sp>
                                <p:nvSpPr>
                                  <p:cNvPr id="243" name=""/>
                                  <p:cNvSpPr/>
                                  <p:nvPr/>
                                </p:nvSpPr>
                                <p:spPr>
                                  <a:xfrm>
                                    <a:off x="6478560" y="1771560"/>
                                    <a:ext cx="907920" cy="2239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417360" y="1716120"/>
                                    <a:ext cx="1024200" cy="330480"/>
                                    <a:chOff x="6417360" y="1716120"/>
                                    <a:chExt cx="1024200" cy="330480"/>
                                  </a:xfrm>
                                </p:grpSpPr>
                                <p:sp>
                                  <p:nvSpPr>
                                    <p:cNvPr id="245" name=""/>
                                    <p:cNvSpPr/>
                                    <p:nvPr/>
                                  </p:nvSpPr>
                                  <p:spPr>
                                    <a:xfrm>
                                      <a:off x="6478560" y="1771560"/>
                                      <a:ext cx="906480" cy="2206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6417360" y="1716120"/>
                                      <a:ext cx="1024200" cy="330480"/>
                                      <a:chOff x="6417360" y="1716120"/>
                                      <a:chExt cx="1024200" cy="330480"/>
                                    </a:xfrm>
                                  </p:grpSpPr>
                                  <p:sp>
                                    <p:nvSpPr>
                                      <p:cNvPr id="247" name=""/>
                                      <p:cNvSpPr/>
                                      <p:nvPr/>
                                    </p:nvSpPr>
                                    <p:spPr>
                                      <a:xfrm>
                                        <a:off x="6478560" y="1771560"/>
                                        <a:ext cx="9032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6417360" y="1716120"/>
                                        <a:ext cx="1024200" cy="330480"/>
                                        <a:chOff x="6417360" y="1716120"/>
                                        <a:chExt cx="1024200" cy="330480"/>
                                      </a:xfrm>
                                    </p:grpSpPr>
                                    <p:sp>
                                      <p:nvSpPr>
                                        <p:cNvPr id="249" name=""/>
                                        <p:cNvSpPr/>
                                        <p:nvPr/>
                                      </p:nvSpPr>
                                      <p:spPr>
                                        <a:xfrm>
                                          <a:off x="6478560" y="1771560"/>
                                          <a:ext cx="90324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17360" y="1716120"/>
                                          <a:ext cx="1024200" cy="330480"/>
                                        </a:xfrm>
                                        <a:prstGeom prst="roundRect">
                                          <a:avLst>
                                            <a:gd name="adj" fmla="val 722"/>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Unbuffer</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251" name=""/>
            <p:cNvGrpSpPr/>
            <p:nvPr/>
          </p:nvGrpSpPr>
          <p:grpSpPr>
            <a:xfrm>
              <a:off x="5793480" y="2319840"/>
              <a:ext cx="2342520" cy="388440"/>
              <a:chOff x="5793480" y="2319840"/>
              <a:chExt cx="2342520" cy="388440"/>
            </a:xfrm>
          </p:grpSpPr>
          <p:sp>
            <p:nvSpPr>
              <p:cNvPr id="252" name=""/>
              <p:cNvSpPr/>
              <p:nvPr/>
            </p:nvSpPr>
            <p:spPr>
              <a:xfrm>
                <a:off x="5854680" y="2376360"/>
                <a:ext cx="2281320" cy="3319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5793480" y="2319840"/>
                <a:ext cx="2322000" cy="369360"/>
                <a:chOff x="5793480" y="2319840"/>
                <a:chExt cx="2322000" cy="369360"/>
              </a:xfrm>
            </p:grpSpPr>
            <p:sp>
              <p:nvSpPr>
                <p:cNvPr id="254" name=""/>
                <p:cNvSpPr/>
                <p:nvPr/>
              </p:nvSpPr>
              <p:spPr>
                <a:xfrm>
                  <a:off x="5854680" y="2376360"/>
                  <a:ext cx="226080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5793480" y="2319840"/>
                  <a:ext cx="2305800" cy="354960"/>
                  <a:chOff x="5793480" y="2319840"/>
                  <a:chExt cx="2305800" cy="354960"/>
                </a:xfrm>
              </p:grpSpPr>
              <p:sp>
                <p:nvSpPr>
                  <p:cNvPr id="256" name=""/>
                  <p:cNvSpPr/>
                  <p:nvPr/>
                </p:nvSpPr>
                <p:spPr>
                  <a:xfrm>
                    <a:off x="5854680" y="2376360"/>
                    <a:ext cx="224460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5793480" y="2319840"/>
                    <a:ext cx="2291760" cy="339120"/>
                    <a:chOff x="5793480" y="2319840"/>
                    <a:chExt cx="2291760" cy="339120"/>
                  </a:xfrm>
                </p:grpSpPr>
                <p:sp>
                  <p:nvSpPr>
                    <p:cNvPr id="258" name=""/>
                    <p:cNvSpPr/>
                    <p:nvPr/>
                  </p:nvSpPr>
                  <p:spPr>
                    <a:xfrm>
                      <a:off x="5854680" y="2376360"/>
                      <a:ext cx="22305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5793480" y="2319840"/>
                      <a:ext cx="2278800" cy="330480"/>
                      <a:chOff x="5793480" y="2319840"/>
                      <a:chExt cx="2278800" cy="330480"/>
                    </a:xfrm>
                  </p:grpSpPr>
                  <p:sp>
                    <p:nvSpPr>
                      <p:cNvPr id="260" name=""/>
                      <p:cNvSpPr/>
                      <p:nvPr/>
                    </p:nvSpPr>
                    <p:spPr>
                      <a:xfrm>
                        <a:off x="5854680" y="2376360"/>
                        <a:ext cx="221760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5793480" y="2319840"/>
                        <a:ext cx="2275560" cy="330480"/>
                        <a:chOff x="5793480" y="2319840"/>
                        <a:chExt cx="2275560" cy="330480"/>
                      </a:xfrm>
                    </p:grpSpPr>
                    <p:sp>
                      <p:nvSpPr>
                        <p:cNvPr id="262" name=""/>
                        <p:cNvSpPr/>
                        <p:nvPr/>
                      </p:nvSpPr>
                      <p:spPr>
                        <a:xfrm>
                          <a:off x="5854680" y="2376360"/>
                          <a:ext cx="220500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5793480" y="2319840"/>
                          <a:ext cx="2275560" cy="330480"/>
                          <a:chOff x="5793480" y="2319840"/>
                          <a:chExt cx="2275560" cy="330480"/>
                        </a:xfrm>
                      </p:grpSpPr>
                      <p:sp>
                        <p:nvSpPr>
                          <p:cNvPr id="264" name=""/>
                          <p:cNvSpPr/>
                          <p:nvPr/>
                        </p:nvSpPr>
                        <p:spPr>
                          <a:xfrm>
                            <a:off x="5854680" y="2376360"/>
                            <a:ext cx="219240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5793480" y="2319840"/>
                            <a:ext cx="2275560" cy="330480"/>
                            <a:chOff x="5793480" y="2319840"/>
                            <a:chExt cx="2275560" cy="330480"/>
                          </a:xfrm>
                        </p:grpSpPr>
                        <p:sp>
                          <p:nvSpPr>
                            <p:cNvPr id="266" name=""/>
                            <p:cNvSpPr/>
                            <p:nvPr/>
                          </p:nvSpPr>
                          <p:spPr>
                            <a:xfrm>
                              <a:off x="5854680" y="2376360"/>
                              <a:ext cx="2181240" cy="24156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5793480" y="2319840"/>
                              <a:ext cx="2275560" cy="330480"/>
                              <a:chOff x="5793480" y="2319840"/>
                              <a:chExt cx="2275560" cy="330480"/>
                            </a:xfrm>
                          </p:grpSpPr>
                          <p:sp>
                            <p:nvSpPr>
                              <p:cNvPr id="268" name=""/>
                              <p:cNvSpPr/>
                              <p:nvPr/>
                            </p:nvSpPr>
                            <p:spPr>
                              <a:xfrm>
                                <a:off x="5854680" y="2376360"/>
                                <a:ext cx="2173320" cy="23508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5793480" y="2319840"/>
                                <a:ext cx="2275560" cy="330480"/>
                                <a:chOff x="5793480" y="2319840"/>
                                <a:chExt cx="2275560" cy="330480"/>
                              </a:xfrm>
                            </p:grpSpPr>
                            <p:sp>
                              <p:nvSpPr>
                                <p:cNvPr id="270" name=""/>
                                <p:cNvSpPr/>
                                <p:nvPr/>
                              </p:nvSpPr>
                              <p:spPr>
                                <a:xfrm>
                                  <a:off x="5854680" y="2376360"/>
                                  <a:ext cx="216684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5793480" y="2319840"/>
                                  <a:ext cx="2275560" cy="330480"/>
                                  <a:chOff x="5793480" y="2319840"/>
                                  <a:chExt cx="2275560" cy="330480"/>
                                </a:xfrm>
                              </p:grpSpPr>
                              <p:sp>
                                <p:nvSpPr>
                                  <p:cNvPr id="272" name=""/>
                                  <p:cNvSpPr/>
                                  <p:nvPr/>
                                </p:nvSpPr>
                                <p:spPr>
                                  <a:xfrm>
                                    <a:off x="5854680" y="2376360"/>
                                    <a:ext cx="2160720" cy="22248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5793480" y="2319840"/>
                                    <a:ext cx="2275560" cy="330480"/>
                                    <a:chOff x="5793480" y="2319840"/>
                                    <a:chExt cx="2275560" cy="330480"/>
                                  </a:xfrm>
                                </p:grpSpPr>
                                <p:sp>
                                  <p:nvSpPr>
                                    <p:cNvPr id="274" name=""/>
                                    <p:cNvSpPr/>
                                    <p:nvPr/>
                                  </p:nvSpPr>
                                  <p:spPr>
                                    <a:xfrm>
                                      <a:off x="5854680" y="2376360"/>
                                      <a:ext cx="21574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5793480" y="2319840"/>
                                      <a:ext cx="2275560" cy="330480"/>
                                      <a:chOff x="5793480" y="2319840"/>
                                      <a:chExt cx="2275560" cy="330480"/>
                                    </a:xfrm>
                                  </p:grpSpPr>
                                  <p:sp>
                                    <p:nvSpPr>
                                      <p:cNvPr id="276" name=""/>
                                      <p:cNvSpPr/>
                                      <p:nvPr/>
                                    </p:nvSpPr>
                                    <p:spPr>
                                      <a:xfrm>
                                        <a:off x="5854680" y="2376360"/>
                                        <a:ext cx="215280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5793480" y="2319840"/>
                                        <a:ext cx="2275560" cy="330480"/>
                                        <a:chOff x="5793480" y="2319840"/>
                                        <a:chExt cx="2275560" cy="330480"/>
                                      </a:xfrm>
                                    </p:grpSpPr>
                                    <p:sp>
                                      <p:nvSpPr>
                                        <p:cNvPr id="278" name=""/>
                                        <p:cNvSpPr/>
                                        <p:nvPr/>
                                      </p:nvSpPr>
                                      <p:spPr>
                                        <a:xfrm>
                                          <a:off x="5854680" y="2376360"/>
                                          <a:ext cx="215280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93480" y="2319840"/>
                                          <a:ext cx="2275560" cy="330480"/>
                                        </a:xfrm>
                                        <a:prstGeom prst="roundRect">
                                          <a:avLst>
                                            <a:gd name="adj" fmla="val 731"/>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Convert to Supercells</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280" name=""/>
            <p:cNvGrpSpPr/>
            <p:nvPr/>
          </p:nvGrpSpPr>
          <p:grpSpPr>
            <a:xfrm>
              <a:off x="6386760" y="3470760"/>
              <a:ext cx="1193400" cy="389880"/>
              <a:chOff x="6386760" y="3470760"/>
              <a:chExt cx="1193400" cy="389880"/>
            </a:xfrm>
          </p:grpSpPr>
          <p:sp>
            <p:nvSpPr>
              <p:cNvPr id="281" name=""/>
              <p:cNvSpPr/>
              <p:nvPr/>
            </p:nvSpPr>
            <p:spPr>
              <a:xfrm>
                <a:off x="6450120" y="3529080"/>
                <a:ext cx="1130040" cy="33156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6386760" y="3470760"/>
                <a:ext cx="1174680" cy="371160"/>
                <a:chOff x="6386760" y="3470760"/>
                <a:chExt cx="1174680" cy="371160"/>
              </a:xfrm>
            </p:grpSpPr>
            <p:sp>
              <p:nvSpPr>
                <p:cNvPr id="283" name=""/>
                <p:cNvSpPr/>
                <p:nvPr/>
              </p:nvSpPr>
              <p:spPr>
                <a:xfrm>
                  <a:off x="6450120" y="3529080"/>
                  <a:ext cx="111132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6386760" y="3470760"/>
                  <a:ext cx="1157040" cy="353520"/>
                  <a:chOff x="6386760" y="3470760"/>
                  <a:chExt cx="1157040" cy="353520"/>
                </a:xfrm>
              </p:grpSpPr>
              <p:sp>
                <p:nvSpPr>
                  <p:cNvPr id="285" name=""/>
                  <p:cNvSpPr/>
                  <p:nvPr/>
                </p:nvSpPr>
                <p:spPr>
                  <a:xfrm>
                    <a:off x="6450120" y="3529080"/>
                    <a:ext cx="1093680" cy="2952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386760" y="3470760"/>
                    <a:ext cx="1141200" cy="340920"/>
                    <a:chOff x="6386760" y="3470760"/>
                    <a:chExt cx="1141200" cy="340920"/>
                  </a:xfrm>
                </p:grpSpPr>
                <p:sp>
                  <p:nvSpPr>
                    <p:cNvPr id="287" name=""/>
                    <p:cNvSpPr/>
                    <p:nvPr/>
                  </p:nvSpPr>
                  <p:spPr>
                    <a:xfrm>
                      <a:off x="6450120" y="3529080"/>
                      <a:ext cx="107784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386760" y="3470760"/>
                      <a:ext cx="1128600" cy="331200"/>
                      <a:chOff x="6386760" y="3470760"/>
                      <a:chExt cx="1128600" cy="331200"/>
                    </a:xfrm>
                  </p:grpSpPr>
                  <p:sp>
                    <p:nvSpPr>
                      <p:cNvPr id="289" name=""/>
                      <p:cNvSpPr/>
                      <p:nvPr/>
                    </p:nvSpPr>
                    <p:spPr>
                      <a:xfrm>
                        <a:off x="6450120" y="3529080"/>
                        <a:ext cx="1065240" cy="2696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386760" y="3470760"/>
                        <a:ext cx="1127160" cy="331200"/>
                        <a:chOff x="6386760" y="3470760"/>
                        <a:chExt cx="1127160" cy="331200"/>
                      </a:xfrm>
                    </p:grpSpPr>
                    <p:sp>
                      <p:nvSpPr>
                        <p:cNvPr id="291" name=""/>
                        <p:cNvSpPr/>
                        <p:nvPr/>
                      </p:nvSpPr>
                      <p:spPr>
                        <a:xfrm>
                          <a:off x="6450120" y="3529080"/>
                          <a:ext cx="105228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386760" y="3470760"/>
                          <a:ext cx="1127160" cy="331200"/>
                          <a:chOff x="6386760" y="3470760"/>
                          <a:chExt cx="1127160" cy="331200"/>
                        </a:xfrm>
                      </p:grpSpPr>
                      <p:sp>
                        <p:nvSpPr>
                          <p:cNvPr id="293" name=""/>
                          <p:cNvSpPr/>
                          <p:nvPr/>
                        </p:nvSpPr>
                        <p:spPr>
                          <a:xfrm>
                            <a:off x="6450120" y="3529080"/>
                            <a:ext cx="103968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6386760" y="3470760"/>
                            <a:ext cx="1127160" cy="331200"/>
                            <a:chOff x="6386760" y="3470760"/>
                            <a:chExt cx="1127160" cy="331200"/>
                          </a:xfrm>
                        </p:grpSpPr>
                        <p:sp>
                          <p:nvSpPr>
                            <p:cNvPr id="295" name=""/>
                            <p:cNvSpPr/>
                            <p:nvPr/>
                          </p:nvSpPr>
                          <p:spPr>
                            <a:xfrm>
                              <a:off x="6450120" y="3529080"/>
                              <a:ext cx="1030320" cy="2379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6386760" y="3470760"/>
                              <a:ext cx="1127160" cy="331200"/>
                              <a:chOff x="6386760" y="3470760"/>
                              <a:chExt cx="1127160" cy="331200"/>
                            </a:xfrm>
                          </p:grpSpPr>
                          <p:sp>
                            <p:nvSpPr>
                              <p:cNvPr id="297" name=""/>
                              <p:cNvSpPr/>
                              <p:nvPr/>
                            </p:nvSpPr>
                            <p:spPr>
                              <a:xfrm>
                                <a:off x="6450120" y="3529080"/>
                                <a:ext cx="1020600" cy="231840"/>
                              </a:xfrm>
                              <a:prstGeom prst="roundRect">
                                <a:avLst>
                                  <a:gd name="adj" fmla="val 6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6386760" y="3470760"/>
                                <a:ext cx="1127160" cy="331200"/>
                                <a:chOff x="6386760" y="3470760"/>
                                <a:chExt cx="1127160" cy="331200"/>
                              </a:xfrm>
                            </p:grpSpPr>
                            <p:sp>
                              <p:nvSpPr>
                                <p:cNvPr id="299" name=""/>
                                <p:cNvSpPr/>
                                <p:nvPr/>
                              </p:nvSpPr>
                              <p:spPr>
                                <a:xfrm>
                                  <a:off x="6450120" y="3529080"/>
                                  <a:ext cx="1012680" cy="22680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386760" y="3470760"/>
                                  <a:ext cx="1127160" cy="331200"/>
                                  <a:chOff x="6386760" y="3470760"/>
                                  <a:chExt cx="1127160" cy="331200"/>
                                </a:xfrm>
                              </p:grpSpPr>
                              <p:sp>
                                <p:nvSpPr>
                                  <p:cNvPr id="301" name=""/>
                                  <p:cNvSpPr/>
                                  <p:nvPr/>
                                </p:nvSpPr>
                                <p:spPr>
                                  <a:xfrm>
                                    <a:off x="6450120" y="3529080"/>
                                    <a:ext cx="1008000" cy="2206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386760" y="3470760"/>
                                    <a:ext cx="1127160" cy="331200"/>
                                    <a:chOff x="6386760" y="3470760"/>
                                    <a:chExt cx="1127160" cy="331200"/>
                                  </a:xfrm>
                                </p:grpSpPr>
                                <p:sp>
                                  <p:nvSpPr>
                                    <p:cNvPr id="303" name=""/>
                                    <p:cNvSpPr/>
                                    <p:nvPr/>
                                  </p:nvSpPr>
                                  <p:spPr>
                                    <a:xfrm>
                                      <a:off x="6450120" y="3529080"/>
                                      <a:ext cx="100332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86760" y="3470760"/>
                                      <a:ext cx="1127160" cy="331200"/>
                                      <a:chOff x="6386760" y="3470760"/>
                                      <a:chExt cx="1127160" cy="331200"/>
                                    </a:xfrm>
                                  </p:grpSpPr>
                                  <p:sp>
                                    <p:nvSpPr>
                                      <p:cNvPr id="305" name=""/>
                                      <p:cNvSpPr/>
                                      <p:nvPr/>
                                    </p:nvSpPr>
                                    <p:spPr>
                                      <a:xfrm>
                                        <a:off x="6450120" y="3529080"/>
                                        <a:ext cx="100152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6386760" y="3470760"/>
                                        <a:ext cx="1127160" cy="331200"/>
                                        <a:chOff x="6386760" y="3470760"/>
                                        <a:chExt cx="1127160" cy="331200"/>
                                      </a:xfrm>
                                    </p:grpSpPr>
                                    <p:sp>
                                      <p:nvSpPr>
                                        <p:cNvPr id="307" name=""/>
                                        <p:cNvSpPr/>
                                        <p:nvPr/>
                                      </p:nvSpPr>
                                      <p:spPr>
                                        <a:xfrm>
                                          <a:off x="6450120" y="3529080"/>
                                          <a:ext cx="100152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86760" y="3470760"/>
                                          <a:ext cx="1127160" cy="331200"/>
                                        </a:xfrm>
                                        <a:prstGeom prst="roundRect">
                                          <a:avLst>
                                            <a:gd name="adj" fmla="val 745"/>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rim Gain</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309" name=""/>
            <p:cNvCxnSpPr>
              <a:stCxn id="223" idx="2"/>
              <a:endCxn id="252" idx="0"/>
            </p:cNvCxnSpPr>
            <p:nvPr/>
          </p:nvCxnSpPr>
          <p:spPr>
            <a:xfrm>
              <a:off x="6991200" y="2103480"/>
              <a:ext cx="5760" cy="273240"/>
            </a:xfrm>
            <a:prstGeom prst="straightConnector1">
              <a:avLst/>
            </a:prstGeom>
            <a:ln w="9360">
              <a:solidFill>
                <a:srgbClr val="000000"/>
              </a:solidFill>
              <a:miter/>
              <a:tailEnd len="med" type="triangle" w="med"/>
            </a:ln>
          </p:spPr>
        </p:cxnSp>
        <p:cxnSp>
          <p:nvCxnSpPr>
            <p:cNvPr id="310" name=""/>
            <p:cNvCxnSpPr>
              <a:stCxn id="252" idx="2"/>
              <a:endCxn id="311" idx="0"/>
            </p:cNvCxnSpPr>
            <p:nvPr/>
          </p:nvCxnSpPr>
          <p:spPr>
            <a:xfrm>
              <a:off x="6994440" y="2708280"/>
              <a:ext cx="8640" cy="234000"/>
            </a:xfrm>
            <a:prstGeom prst="straightConnector1">
              <a:avLst/>
            </a:prstGeom>
            <a:ln w="9360">
              <a:solidFill>
                <a:srgbClr val="000000"/>
              </a:solidFill>
              <a:miter/>
              <a:tailEnd len="med" type="triangle" w="med"/>
            </a:ln>
          </p:spPr>
        </p:cxnSp>
        <p:cxnSp>
          <p:nvCxnSpPr>
            <p:cNvPr id="312" name=""/>
            <p:cNvCxnSpPr>
              <a:stCxn id="281" idx="2"/>
              <a:endCxn id="313" idx="0"/>
            </p:cNvCxnSpPr>
            <p:nvPr/>
          </p:nvCxnSpPr>
          <p:spPr>
            <a:xfrm flipH="1">
              <a:off x="5644800" y="3860640"/>
              <a:ext cx="1370880" cy="721440"/>
            </a:xfrm>
            <a:prstGeom prst="straightConnector1">
              <a:avLst/>
            </a:prstGeom>
            <a:ln w="9360">
              <a:solidFill>
                <a:srgbClr val="000000"/>
              </a:solidFill>
              <a:miter/>
              <a:tailEnd len="med" type="triangle" w="med"/>
            </a:ln>
          </p:spPr>
        </p:cxnSp>
        <p:grpSp>
          <p:nvGrpSpPr>
            <p:cNvPr id="314" name=""/>
            <p:cNvGrpSpPr/>
            <p:nvPr/>
          </p:nvGrpSpPr>
          <p:grpSpPr>
            <a:xfrm>
              <a:off x="8353080" y="4386240"/>
              <a:ext cx="312840" cy="179280"/>
              <a:chOff x="8353080" y="4386240"/>
              <a:chExt cx="312840" cy="179280"/>
            </a:xfrm>
          </p:grpSpPr>
          <p:sp>
            <p:nvSpPr>
              <p:cNvPr id="315" name=""/>
              <p:cNvSpPr/>
              <p:nvPr/>
            </p:nvSpPr>
            <p:spPr>
              <a:xfrm flipV="1">
                <a:off x="8645400" y="4386240"/>
                <a:ext cx="180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8353080" y="454500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17" name=""/>
            <p:cNvSpPr/>
            <p:nvPr/>
          </p:nvSpPr>
          <p:spPr>
            <a:xfrm>
              <a:off x="5065560" y="1889280"/>
              <a:ext cx="381240" cy="2931840"/>
            </a:xfrm>
            <a:custGeom>
              <a:avLst/>
              <a:gdLst/>
              <a:ahLst/>
              <a:rect l="l" t="t" r="r" b="b"/>
              <a:pathLst>
                <a:path w="1059" h="8144">
                  <a:moveTo>
                    <a:pt x="1058" y="0"/>
                  </a:moveTo>
                  <a:cubicBezTo>
                    <a:pt x="793" y="0"/>
                    <a:pt x="528" y="339"/>
                    <a:pt x="528" y="678"/>
                  </a:cubicBezTo>
                  <a:lnTo>
                    <a:pt x="528" y="3393"/>
                  </a:lnTo>
                  <a:cubicBezTo>
                    <a:pt x="528" y="3732"/>
                    <a:pt x="263" y="4073"/>
                    <a:pt x="0" y="4073"/>
                  </a:cubicBezTo>
                  <a:cubicBezTo>
                    <a:pt x="263" y="4073"/>
                    <a:pt x="528" y="4413"/>
                    <a:pt x="528" y="4751"/>
                  </a:cubicBezTo>
                  <a:lnTo>
                    <a:pt x="528" y="7465"/>
                  </a:lnTo>
                  <a:cubicBezTo>
                    <a:pt x="528" y="7804"/>
                    <a:pt x="793" y="8143"/>
                    <a:pt x="1058" y="814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18" name=""/>
            <p:cNvCxnSpPr>
              <a:endCxn id="317" idx="0"/>
            </p:cNvCxnSpPr>
            <p:nvPr/>
          </p:nvCxnSpPr>
          <p:spPr>
            <a:xfrm flipV="1">
              <a:off x="2838240" y="1888560"/>
              <a:ext cx="2608920" cy="207000"/>
            </a:xfrm>
            <a:prstGeom prst="straightConnector1">
              <a:avLst/>
            </a:prstGeom>
            <a:ln w="12600">
              <a:solidFill>
                <a:srgbClr val="000000"/>
              </a:solidFill>
              <a:miter/>
              <a:tailEnd len="med" type="triangle" w="med"/>
            </a:ln>
          </p:spPr>
        </p:cxnSp>
        <p:grpSp>
          <p:nvGrpSpPr>
            <p:cNvPr id="319" name=""/>
            <p:cNvGrpSpPr/>
            <p:nvPr/>
          </p:nvGrpSpPr>
          <p:grpSpPr>
            <a:xfrm>
              <a:off x="5411160" y="2885040"/>
              <a:ext cx="3129480" cy="388440"/>
              <a:chOff x="5411160" y="2885040"/>
              <a:chExt cx="3129480" cy="388440"/>
            </a:xfrm>
          </p:grpSpPr>
          <p:sp>
            <p:nvSpPr>
              <p:cNvPr id="311" name=""/>
              <p:cNvSpPr/>
              <p:nvPr/>
            </p:nvSpPr>
            <p:spPr>
              <a:xfrm>
                <a:off x="5464080" y="2941560"/>
                <a:ext cx="3076560" cy="3319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5411160" y="2885040"/>
                <a:ext cx="3110400" cy="369360"/>
                <a:chOff x="5411160" y="2885040"/>
                <a:chExt cx="3110400" cy="369360"/>
              </a:xfrm>
            </p:grpSpPr>
            <p:sp>
              <p:nvSpPr>
                <p:cNvPr id="321" name=""/>
                <p:cNvSpPr/>
                <p:nvPr/>
              </p:nvSpPr>
              <p:spPr>
                <a:xfrm>
                  <a:off x="5464080" y="2941560"/>
                  <a:ext cx="305748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5411160" y="2885040"/>
                  <a:ext cx="3094560" cy="353520"/>
                  <a:chOff x="5411160" y="2885040"/>
                  <a:chExt cx="3094560" cy="353520"/>
                </a:xfrm>
              </p:grpSpPr>
              <p:sp>
                <p:nvSpPr>
                  <p:cNvPr id="323" name=""/>
                  <p:cNvSpPr/>
                  <p:nvPr/>
                </p:nvSpPr>
                <p:spPr>
                  <a:xfrm>
                    <a:off x="5464080" y="2941560"/>
                    <a:ext cx="3041640" cy="297000"/>
                  </a:xfrm>
                  <a:prstGeom prst="roundRect">
                    <a:avLst>
                      <a:gd name="adj" fmla="val 5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5411160" y="2885040"/>
                    <a:ext cx="3080520" cy="342360"/>
                    <a:chOff x="5411160" y="2885040"/>
                    <a:chExt cx="3080520" cy="342360"/>
                  </a:xfrm>
                </p:grpSpPr>
                <p:sp>
                  <p:nvSpPr>
                    <p:cNvPr id="325" name=""/>
                    <p:cNvSpPr/>
                    <p:nvPr/>
                  </p:nvSpPr>
                  <p:spPr>
                    <a:xfrm>
                      <a:off x="5464080" y="2941560"/>
                      <a:ext cx="3027600" cy="2858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5411160" y="2885040"/>
                      <a:ext cx="3066120" cy="330480"/>
                      <a:chOff x="5411160" y="2885040"/>
                      <a:chExt cx="3066120" cy="330480"/>
                    </a:xfrm>
                  </p:grpSpPr>
                  <p:sp>
                    <p:nvSpPr>
                      <p:cNvPr id="327" name=""/>
                      <p:cNvSpPr/>
                      <p:nvPr/>
                    </p:nvSpPr>
                    <p:spPr>
                      <a:xfrm>
                        <a:off x="5464080" y="2941560"/>
                        <a:ext cx="301320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5411160" y="2885040"/>
                        <a:ext cx="3058920" cy="330480"/>
                        <a:chOff x="5411160" y="2885040"/>
                        <a:chExt cx="3058920" cy="330480"/>
                      </a:xfrm>
                    </p:grpSpPr>
                    <p:sp>
                      <p:nvSpPr>
                        <p:cNvPr id="329" name=""/>
                        <p:cNvSpPr/>
                        <p:nvPr/>
                      </p:nvSpPr>
                      <p:spPr>
                        <a:xfrm>
                          <a:off x="5464080" y="2941560"/>
                          <a:ext cx="30006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5411160" y="2885040"/>
                          <a:ext cx="3058920" cy="330480"/>
                          <a:chOff x="5411160" y="2885040"/>
                          <a:chExt cx="3058920" cy="330480"/>
                        </a:xfrm>
                      </p:grpSpPr>
                      <p:sp>
                        <p:nvSpPr>
                          <p:cNvPr id="331" name=""/>
                          <p:cNvSpPr/>
                          <p:nvPr/>
                        </p:nvSpPr>
                        <p:spPr>
                          <a:xfrm>
                            <a:off x="5465880" y="2941560"/>
                            <a:ext cx="298584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5411160" y="2885040"/>
                            <a:ext cx="3058920" cy="330480"/>
                            <a:chOff x="5411160" y="2885040"/>
                            <a:chExt cx="3058920" cy="330480"/>
                          </a:xfrm>
                        </p:grpSpPr>
                        <p:sp>
                          <p:nvSpPr>
                            <p:cNvPr id="333" name=""/>
                            <p:cNvSpPr/>
                            <p:nvPr/>
                          </p:nvSpPr>
                          <p:spPr>
                            <a:xfrm>
                              <a:off x="5465880" y="2941560"/>
                              <a:ext cx="2974680" cy="24120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5411160" y="2885040"/>
                              <a:ext cx="3058920" cy="330480"/>
                              <a:chOff x="5411160" y="2885040"/>
                              <a:chExt cx="3058920" cy="330480"/>
                            </a:xfrm>
                          </p:grpSpPr>
                          <p:sp>
                            <p:nvSpPr>
                              <p:cNvPr id="335" name=""/>
                              <p:cNvSpPr/>
                              <p:nvPr/>
                            </p:nvSpPr>
                            <p:spPr>
                              <a:xfrm>
                                <a:off x="5465880" y="2941560"/>
                                <a:ext cx="296532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5411160" y="2885040"/>
                                <a:ext cx="3058920" cy="330480"/>
                                <a:chOff x="5411160" y="2885040"/>
                                <a:chExt cx="3058920" cy="330480"/>
                              </a:xfrm>
                            </p:grpSpPr>
                            <p:sp>
                              <p:nvSpPr>
                                <p:cNvPr id="337" name=""/>
                                <p:cNvSpPr/>
                                <p:nvPr/>
                              </p:nvSpPr>
                              <p:spPr>
                                <a:xfrm>
                                  <a:off x="5465880" y="2941560"/>
                                  <a:ext cx="295884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
                                <p:cNvGrpSpPr/>
                                <p:nvPr/>
                              </p:nvGrpSpPr>
                              <p:grpSpPr>
                                <a:xfrm>
                                  <a:off x="5411160" y="2885040"/>
                                  <a:ext cx="3058920" cy="330480"/>
                                  <a:chOff x="5411160" y="2885040"/>
                                  <a:chExt cx="3058920" cy="330480"/>
                                </a:xfrm>
                              </p:grpSpPr>
                              <p:sp>
                                <p:nvSpPr>
                                  <p:cNvPr id="339" name=""/>
                                  <p:cNvSpPr/>
                                  <p:nvPr/>
                                </p:nvSpPr>
                                <p:spPr>
                                  <a:xfrm>
                                    <a:off x="5465880" y="2941560"/>
                                    <a:ext cx="2954160" cy="22248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5411160" y="2885040"/>
                                    <a:ext cx="3058920" cy="330480"/>
                                    <a:chOff x="5411160" y="2885040"/>
                                    <a:chExt cx="3058920" cy="330480"/>
                                  </a:xfrm>
                                </p:grpSpPr>
                                <p:sp>
                                  <p:nvSpPr>
                                    <p:cNvPr id="341" name=""/>
                                    <p:cNvSpPr/>
                                    <p:nvPr/>
                                  </p:nvSpPr>
                                  <p:spPr>
                                    <a:xfrm>
                                      <a:off x="5465880" y="2941560"/>
                                      <a:ext cx="2950920" cy="2206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5411160" y="2885040"/>
                                      <a:ext cx="3058920" cy="330480"/>
                                      <a:chOff x="5411160" y="2885040"/>
                                      <a:chExt cx="3058920" cy="330480"/>
                                    </a:xfrm>
                                  </p:grpSpPr>
                                  <p:sp>
                                    <p:nvSpPr>
                                      <p:cNvPr id="343" name=""/>
                                      <p:cNvSpPr/>
                                      <p:nvPr/>
                                    </p:nvSpPr>
                                    <p:spPr>
                                      <a:xfrm>
                                        <a:off x="5465880" y="2941560"/>
                                        <a:ext cx="29494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5411160" y="2885040"/>
                                        <a:ext cx="3058920" cy="330480"/>
                                        <a:chOff x="5411160" y="2885040"/>
                                        <a:chExt cx="3058920" cy="330480"/>
                                      </a:xfrm>
                                    </p:grpSpPr>
                                    <p:sp>
                                      <p:nvSpPr>
                                        <p:cNvPr id="345" name=""/>
                                        <p:cNvSpPr/>
                                        <p:nvPr/>
                                      </p:nvSpPr>
                                      <p:spPr>
                                        <a:xfrm>
                                          <a:off x="5465880" y="2941560"/>
                                          <a:ext cx="29494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11160" y="2885040"/>
                                          <a:ext cx="3058920" cy="330480"/>
                                        </a:xfrm>
                                        <a:prstGeom prst="roundRect">
                                          <a:avLst>
                                            <a:gd name="adj" fmla="val 731"/>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Low Effort Logic Optimization</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347" name=""/>
            <p:cNvCxnSpPr>
              <a:stCxn id="311" idx="2"/>
              <a:endCxn id="281" idx="0"/>
            </p:cNvCxnSpPr>
            <p:nvPr/>
          </p:nvCxnSpPr>
          <p:spPr>
            <a:xfrm>
              <a:off x="7002360" y="3273480"/>
              <a:ext cx="13680" cy="255960"/>
            </a:xfrm>
            <a:prstGeom prst="straightConnector1">
              <a:avLst/>
            </a:prstGeom>
            <a:ln w="9360">
              <a:solidFill>
                <a:srgbClr val="000000"/>
              </a:solidFill>
              <a:miter/>
              <a:tailEnd len="med" type="triangle" w="med"/>
            </a:ln>
          </p:spPr>
        </p:cxnSp>
        <p:grpSp>
          <p:nvGrpSpPr>
            <p:cNvPr id="348" name=""/>
            <p:cNvGrpSpPr/>
            <p:nvPr/>
          </p:nvGrpSpPr>
          <p:grpSpPr>
            <a:xfrm>
              <a:off x="5645160" y="4146480"/>
              <a:ext cx="2739960" cy="868320"/>
              <a:chOff x="5645160" y="4146480"/>
              <a:chExt cx="2739960" cy="868320"/>
            </a:xfrm>
          </p:grpSpPr>
          <p:sp>
            <p:nvSpPr>
              <p:cNvPr id="313" name=""/>
              <p:cNvSpPr/>
              <p:nvPr/>
            </p:nvSpPr>
            <p:spPr>
              <a:xfrm>
                <a:off x="5645160" y="4146480"/>
                <a:ext cx="2739960" cy="868320"/>
              </a:xfrm>
              <a:custGeom>
                <a:avLst/>
                <a:gdLst/>
                <a:ahLst/>
                <a:rect l="l" t="t" r="r" b="b"/>
                <a:pathLst>
                  <a:path w="7612" h="2413">
                    <a:moveTo>
                      <a:pt x="0" y="1206"/>
                    </a:moveTo>
                    <a:lnTo>
                      <a:pt x="3806" y="0"/>
                    </a:lnTo>
                    <a:lnTo>
                      <a:pt x="7611" y="1206"/>
                    </a:lnTo>
                    <a:lnTo>
                      <a:pt x="3806" y="2412"/>
                    </a:lnTo>
                    <a:lnTo>
                      <a:pt x="0" y="1206"/>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335640" y="4166640"/>
                <a:ext cx="1360440" cy="808920"/>
                <a:chOff x="6335640" y="4166640"/>
                <a:chExt cx="1360440" cy="808920"/>
              </a:xfrm>
            </p:grpSpPr>
            <p:sp>
              <p:nvSpPr>
                <p:cNvPr id="350" name=""/>
                <p:cNvSpPr/>
                <p:nvPr/>
              </p:nvSpPr>
              <p:spPr>
                <a:xfrm>
                  <a:off x="6335640" y="4375080"/>
                  <a:ext cx="1360440" cy="40644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335640" y="4166640"/>
                  <a:ext cx="1355760" cy="8089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Report/</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iming OK?</a:t>
                  </a:r>
                  <a:endParaRPr b="0" lang="en-US" sz="1600" spc="-1" strike="noStrike">
                    <a:solidFill>
                      <a:srgbClr val="000000"/>
                    </a:solidFill>
                    <a:latin typeface="Times New Roman"/>
                  </a:endParaRPr>
                </a:p>
              </p:txBody>
            </p:sp>
          </p:grpSp>
        </p:grpSp>
      </p:grpSp>
      <p:grpSp>
        <p:nvGrpSpPr>
          <p:cNvPr id="352" name=""/>
          <p:cNvGrpSpPr/>
          <p:nvPr/>
        </p:nvGrpSpPr>
        <p:grpSpPr>
          <a:xfrm>
            <a:off x="135000" y="903960"/>
            <a:ext cx="3816360" cy="5931720"/>
            <a:chOff x="135000" y="903960"/>
            <a:chExt cx="3816360" cy="5931720"/>
          </a:xfrm>
        </p:grpSpPr>
        <p:sp>
          <p:nvSpPr>
            <p:cNvPr id="353" name=""/>
            <p:cNvSpPr/>
            <p:nvPr/>
          </p:nvSpPr>
          <p:spPr>
            <a:xfrm>
              <a:off x="1752480" y="6539040"/>
              <a:ext cx="665280" cy="296640"/>
            </a:xfrm>
            <a:custGeom>
              <a:avLst/>
              <a:gdLst/>
              <a:ahLst/>
              <a:rect l="l" t="t" r="r" b="b"/>
              <a:pathLst>
                <a:path w="1849" h="825">
                  <a:moveTo>
                    <a:pt x="0" y="410"/>
                  </a:moveTo>
                  <a:lnTo>
                    <a:pt x="924" y="0"/>
                  </a:lnTo>
                  <a:lnTo>
                    <a:pt x="1848" y="410"/>
                  </a:lnTo>
                  <a:lnTo>
                    <a:pt x="924" y="824"/>
                  </a:lnTo>
                  <a:lnTo>
                    <a:pt x="0" y="410"/>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1277640" y="1951560"/>
              <a:ext cx="1519560" cy="380520"/>
              <a:chOff x="1277640" y="1951560"/>
              <a:chExt cx="1519560" cy="380520"/>
            </a:xfrm>
          </p:grpSpPr>
          <p:sp>
            <p:nvSpPr>
              <p:cNvPr id="355" name=""/>
              <p:cNvSpPr/>
              <p:nvPr/>
            </p:nvSpPr>
            <p:spPr>
              <a:xfrm>
                <a:off x="1341360" y="2009880"/>
                <a:ext cx="1455840" cy="322200"/>
              </a:xfrm>
              <a:prstGeom prst="roundRect">
                <a:avLst>
                  <a:gd name="adj" fmla="val 491"/>
                </a:avLst>
              </a:prstGeom>
              <a:gradFill rotWithShape="0">
                <a:gsLst>
                  <a:gs pos="0">
                    <a:srgbClr val="f1190a"/>
                  </a:gs>
                  <a:gs pos="50000">
                    <a:srgbClr val="ffffff"/>
                  </a:gs>
                  <a:gs pos="100000">
                    <a:srgbClr val="f1190a"/>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1277640" y="1951560"/>
                <a:ext cx="1500480" cy="362880"/>
                <a:chOff x="1277640" y="1951560"/>
                <a:chExt cx="1500480" cy="362880"/>
              </a:xfrm>
            </p:grpSpPr>
            <p:sp>
              <p:nvSpPr>
                <p:cNvPr id="357" name=""/>
                <p:cNvSpPr/>
                <p:nvPr/>
              </p:nvSpPr>
              <p:spPr>
                <a:xfrm>
                  <a:off x="1341360" y="2009880"/>
                  <a:ext cx="143676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1277640" y="1951560"/>
                  <a:ext cx="1487880" cy="350280"/>
                  <a:chOff x="1277640" y="1951560"/>
                  <a:chExt cx="1487880" cy="350280"/>
                </a:xfrm>
              </p:grpSpPr>
              <p:sp>
                <p:nvSpPr>
                  <p:cNvPr id="359" name=""/>
                  <p:cNvSpPr/>
                  <p:nvPr/>
                </p:nvSpPr>
                <p:spPr>
                  <a:xfrm>
                    <a:off x="1341360" y="2011320"/>
                    <a:ext cx="142416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1277640" y="1951560"/>
                    <a:ext cx="1473480" cy="334440"/>
                    <a:chOff x="1277640" y="1951560"/>
                    <a:chExt cx="1473480" cy="334440"/>
                  </a:xfrm>
                </p:grpSpPr>
                <p:sp>
                  <p:nvSpPr>
                    <p:cNvPr id="361" name=""/>
                    <p:cNvSpPr/>
                    <p:nvPr/>
                  </p:nvSpPr>
                  <p:spPr>
                    <a:xfrm>
                      <a:off x="1341360" y="2014560"/>
                      <a:ext cx="140976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1277640" y="1951560"/>
                      <a:ext cx="1456200" cy="331200"/>
                      <a:chOff x="1277640" y="1951560"/>
                      <a:chExt cx="1456200" cy="331200"/>
                    </a:xfrm>
                  </p:grpSpPr>
                  <p:sp>
                    <p:nvSpPr>
                      <p:cNvPr id="363" name=""/>
                      <p:cNvSpPr/>
                      <p:nvPr/>
                    </p:nvSpPr>
                    <p:spPr>
                      <a:xfrm>
                        <a:off x="1341360" y="2014560"/>
                        <a:ext cx="1392480" cy="2570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1277640" y="1951560"/>
                        <a:ext cx="1454760" cy="331200"/>
                        <a:chOff x="1277640" y="1951560"/>
                        <a:chExt cx="1454760" cy="331200"/>
                      </a:xfrm>
                    </p:grpSpPr>
                    <p:sp>
                      <p:nvSpPr>
                        <p:cNvPr id="365" name=""/>
                        <p:cNvSpPr/>
                        <p:nvPr/>
                      </p:nvSpPr>
                      <p:spPr>
                        <a:xfrm>
                          <a:off x="1341360" y="2014560"/>
                          <a:ext cx="137952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1277640" y="1951560"/>
                          <a:ext cx="1454760" cy="331200"/>
                          <a:chOff x="1277640" y="1951560"/>
                          <a:chExt cx="1454760" cy="331200"/>
                        </a:xfrm>
                      </p:grpSpPr>
                      <p:sp>
                        <p:nvSpPr>
                          <p:cNvPr id="367" name=""/>
                          <p:cNvSpPr/>
                          <p:nvPr/>
                        </p:nvSpPr>
                        <p:spPr>
                          <a:xfrm>
                            <a:off x="1341360" y="2014560"/>
                            <a:ext cx="136836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1277640" y="1951560"/>
                            <a:ext cx="1454760" cy="331200"/>
                            <a:chOff x="1277640" y="1951560"/>
                            <a:chExt cx="1454760" cy="331200"/>
                          </a:xfrm>
                        </p:grpSpPr>
                        <p:sp>
                          <p:nvSpPr>
                            <p:cNvPr id="369" name=""/>
                            <p:cNvSpPr/>
                            <p:nvPr/>
                          </p:nvSpPr>
                          <p:spPr>
                            <a:xfrm>
                              <a:off x="1341360" y="2014560"/>
                              <a:ext cx="135756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1277640" y="1951560"/>
                              <a:ext cx="1454760" cy="331200"/>
                              <a:chOff x="1277640" y="1951560"/>
                              <a:chExt cx="1454760" cy="331200"/>
                            </a:xfrm>
                          </p:grpSpPr>
                          <p:sp>
                            <p:nvSpPr>
                              <p:cNvPr id="371" name=""/>
                              <p:cNvSpPr/>
                              <p:nvPr/>
                            </p:nvSpPr>
                            <p:spPr>
                              <a:xfrm>
                                <a:off x="1341360" y="2014560"/>
                                <a:ext cx="1347840" cy="2221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277640" y="1951560"/>
                                <a:ext cx="1454760" cy="331200"/>
                                <a:chOff x="1277640" y="1951560"/>
                                <a:chExt cx="1454760" cy="331200"/>
                              </a:xfrm>
                            </p:grpSpPr>
                            <p:sp>
                              <p:nvSpPr>
                                <p:cNvPr id="373" name=""/>
                                <p:cNvSpPr/>
                                <p:nvPr/>
                              </p:nvSpPr>
                              <p:spPr>
                                <a:xfrm>
                                  <a:off x="1341360" y="2014560"/>
                                  <a:ext cx="1341360" cy="21600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1277640" y="1951560"/>
                                  <a:ext cx="1454760" cy="331200"/>
                                  <a:chOff x="1277640" y="1951560"/>
                                  <a:chExt cx="1454760" cy="331200"/>
                                </a:xfrm>
                              </p:grpSpPr>
                              <p:sp>
                                <p:nvSpPr>
                                  <p:cNvPr id="375" name=""/>
                                  <p:cNvSpPr/>
                                  <p:nvPr/>
                                </p:nvSpPr>
                                <p:spPr>
                                  <a:xfrm>
                                    <a:off x="1341360" y="2014560"/>
                                    <a:ext cx="1335240" cy="21096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1277640" y="1951560"/>
                                    <a:ext cx="1454760" cy="331200"/>
                                    <a:chOff x="1277640" y="1951560"/>
                                    <a:chExt cx="1454760" cy="331200"/>
                                  </a:xfrm>
                                </p:grpSpPr>
                                <p:sp>
                                  <p:nvSpPr>
                                    <p:cNvPr id="377" name=""/>
                                    <p:cNvSpPr/>
                                    <p:nvPr/>
                                  </p:nvSpPr>
                                  <p:spPr>
                                    <a:xfrm>
                                      <a:off x="1341360" y="2014560"/>
                                      <a:ext cx="1330560" cy="2080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1277640" y="1951560"/>
                                      <a:ext cx="1454760" cy="331200"/>
                                      <a:chOff x="1277640" y="1951560"/>
                                      <a:chExt cx="1454760" cy="331200"/>
                                    </a:xfrm>
                                  </p:grpSpPr>
                                  <p:sp>
                                    <p:nvSpPr>
                                      <p:cNvPr id="379" name=""/>
                                      <p:cNvSpPr/>
                                      <p:nvPr/>
                                    </p:nvSpPr>
                                    <p:spPr>
                                      <a:xfrm>
                                        <a:off x="1341360" y="2014560"/>
                                        <a:ext cx="132876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1277640" y="1951560"/>
                                        <a:ext cx="1454760" cy="331200"/>
                                        <a:chOff x="1277640" y="1951560"/>
                                        <a:chExt cx="1454760" cy="331200"/>
                                      </a:xfrm>
                                    </p:grpSpPr>
                                    <p:sp>
                                      <p:nvSpPr>
                                        <p:cNvPr id="381" name=""/>
                                        <p:cNvSpPr/>
                                        <p:nvPr/>
                                      </p:nvSpPr>
                                      <p:spPr>
                                        <a:xfrm>
                                          <a:off x="1341360" y="2014560"/>
                                          <a:ext cx="132876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277640" y="1951560"/>
                                          <a:ext cx="1454760" cy="331200"/>
                                        </a:xfrm>
                                        <a:prstGeom prst="roundRect">
                                          <a:avLst>
                                            <a:gd name="adj" fmla="val 778"/>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Time</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383" name=""/>
            <p:cNvGrpSpPr/>
            <p:nvPr/>
          </p:nvGrpSpPr>
          <p:grpSpPr>
            <a:xfrm>
              <a:off x="1302840" y="3493800"/>
              <a:ext cx="1472040" cy="387720"/>
              <a:chOff x="1302840" y="3493800"/>
              <a:chExt cx="1472040" cy="387720"/>
            </a:xfrm>
          </p:grpSpPr>
          <p:sp>
            <p:nvSpPr>
              <p:cNvPr id="384" name=""/>
              <p:cNvSpPr/>
              <p:nvPr/>
            </p:nvSpPr>
            <p:spPr>
              <a:xfrm>
                <a:off x="1365120" y="3556080"/>
                <a:ext cx="1409760" cy="32544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1302840" y="3493800"/>
                <a:ext cx="1454760" cy="366840"/>
                <a:chOff x="1302840" y="3493800"/>
                <a:chExt cx="1454760" cy="366840"/>
              </a:xfrm>
            </p:grpSpPr>
            <p:sp>
              <p:nvSpPr>
                <p:cNvPr id="386" name=""/>
                <p:cNvSpPr/>
                <p:nvPr/>
              </p:nvSpPr>
              <p:spPr>
                <a:xfrm>
                  <a:off x="1365120" y="3556080"/>
                  <a:ext cx="139248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302840" y="3493800"/>
                  <a:ext cx="1440360" cy="348120"/>
                  <a:chOff x="1302840" y="3493800"/>
                  <a:chExt cx="1440360" cy="348120"/>
                </a:xfrm>
              </p:grpSpPr>
              <p:sp>
                <p:nvSpPr>
                  <p:cNvPr id="388" name=""/>
                  <p:cNvSpPr/>
                  <p:nvPr/>
                </p:nvSpPr>
                <p:spPr>
                  <a:xfrm>
                    <a:off x="1365120" y="3556080"/>
                    <a:ext cx="1378080" cy="2858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1302840" y="3493800"/>
                    <a:ext cx="1424520" cy="338400"/>
                    <a:chOff x="1302840" y="3493800"/>
                    <a:chExt cx="1424520" cy="338400"/>
                  </a:xfrm>
                </p:grpSpPr>
                <p:sp>
                  <p:nvSpPr>
                    <p:cNvPr id="390" name=""/>
                    <p:cNvSpPr/>
                    <p:nvPr/>
                  </p:nvSpPr>
                  <p:spPr>
                    <a:xfrm>
                      <a:off x="1365120" y="3556080"/>
                      <a:ext cx="1362240" cy="2761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302840" y="3493800"/>
                      <a:ext cx="1410480" cy="331200"/>
                      <a:chOff x="1302840" y="3493800"/>
                      <a:chExt cx="1410480" cy="331200"/>
                    </a:xfrm>
                  </p:grpSpPr>
                  <p:sp>
                    <p:nvSpPr>
                      <p:cNvPr id="392" name=""/>
                      <p:cNvSpPr/>
                      <p:nvPr/>
                    </p:nvSpPr>
                    <p:spPr>
                      <a:xfrm>
                        <a:off x="1365120" y="3556080"/>
                        <a:ext cx="1347840" cy="2635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1302840" y="3493800"/>
                        <a:ext cx="1410480" cy="331200"/>
                        <a:chOff x="1302840" y="3493800"/>
                        <a:chExt cx="1410480" cy="331200"/>
                      </a:xfrm>
                    </p:grpSpPr>
                    <p:sp>
                      <p:nvSpPr>
                        <p:cNvPr id="394" name=""/>
                        <p:cNvSpPr/>
                        <p:nvPr/>
                      </p:nvSpPr>
                      <p:spPr>
                        <a:xfrm>
                          <a:off x="1365120" y="3556080"/>
                          <a:ext cx="1335240" cy="25236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302840" y="3493800"/>
                          <a:ext cx="1410480" cy="331200"/>
                          <a:chOff x="1302840" y="3493800"/>
                          <a:chExt cx="1410480" cy="331200"/>
                        </a:xfrm>
                      </p:grpSpPr>
                      <p:sp>
                        <p:nvSpPr>
                          <p:cNvPr id="396" name=""/>
                          <p:cNvSpPr/>
                          <p:nvPr/>
                        </p:nvSpPr>
                        <p:spPr>
                          <a:xfrm>
                            <a:off x="1365120" y="3556080"/>
                            <a:ext cx="132264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302840" y="3493800"/>
                            <a:ext cx="1410480" cy="331200"/>
                            <a:chOff x="1302840" y="3493800"/>
                            <a:chExt cx="1410480" cy="331200"/>
                          </a:xfrm>
                        </p:grpSpPr>
                        <p:sp>
                          <p:nvSpPr>
                            <p:cNvPr id="398" name=""/>
                            <p:cNvSpPr/>
                            <p:nvPr/>
                          </p:nvSpPr>
                          <p:spPr>
                            <a:xfrm>
                              <a:off x="1365120" y="3556080"/>
                              <a:ext cx="1312920" cy="23004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302840" y="3493800"/>
                              <a:ext cx="1410480" cy="331200"/>
                              <a:chOff x="1302840" y="3493800"/>
                              <a:chExt cx="1410480" cy="331200"/>
                            </a:xfrm>
                          </p:grpSpPr>
                          <p:sp>
                            <p:nvSpPr>
                              <p:cNvPr id="400" name=""/>
                              <p:cNvSpPr/>
                              <p:nvPr/>
                            </p:nvSpPr>
                            <p:spPr>
                              <a:xfrm>
                                <a:off x="1365120" y="3556080"/>
                                <a:ext cx="1305000" cy="2239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1302840" y="3493800"/>
                                <a:ext cx="1410480" cy="331200"/>
                                <a:chOff x="1302840" y="3493800"/>
                                <a:chExt cx="1410480" cy="331200"/>
                              </a:xfrm>
                            </p:grpSpPr>
                            <p:sp>
                              <p:nvSpPr>
                                <p:cNvPr id="402" name=""/>
                                <p:cNvSpPr/>
                                <p:nvPr/>
                              </p:nvSpPr>
                              <p:spPr>
                                <a:xfrm>
                                  <a:off x="1365120" y="3556080"/>
                                  <a:ext cx="130032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1302840" y="3493800"/>
                                  <a:ext cx="1410480" cy="331200"/>
                                  <a:chOff x="1302840" y="3493800"/>
                                  <a:chExt cx="1410480" cy="331200"/>
                                </a:xfrm>
                              </p:grpSpPr>
                              <p:sp>
                                <p:nvSpPr>
                                  <p:cNvPr id="404" name=""/>
                                  <p:cNvSpPr/>
                                  <p:nvPr/>
                                </p:nvSpPr>
                                <p:spPr>
                                  <a:xfrm>
                                    <a:off x="1365120" y="3556080"/>
                                    <a:ext cx="129384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1302840" y="3493800"/>
                                    <a:ext cx="1410480" cy="331200"/>
                                    <a:chOff x="1302840" y="3493800"/>
                                    <a:chExt cx="1410480" cy="331200"/>
                                  </a:xfrm>
                                </p:grpSpPr>
                                <p:sp>
                                  <p:nvSpPr>
                                    <p:cNvPr id="406" name=""/>
                                    <p:cNvSpPr/>
                                    <p:nvPr/>
                                  </p:nvSpPr>
                                  <p:spPr>
                                    <a:xfrm>
                                      <a:off x="1365120" y="3556080"/>
                                      <a:ext cx="128916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1302840" y="3493800"/>
                                      <a:ext cx="1410480" cy="331200"/>
                                      <a:chOff x="1302840" y="3493800"/>
                                      <a:chExt cx="1410480" cy="331200"/>
                                    </a:xfrm>
                                  </p:grpSpPr>
                                  <p:sp>
                                    <p:nvSpPr>
                                      <p:cNvPr id="408" name=""/>
                                      <p:cNvSpPr/>
                                      <p:nvPr/>
                                    </p:nvSpPr>
                                    <p:spPr>
                                      <a:xfrm>
                                        <a:off x="1365120" y="3556080"/>
                                        <a:ext cx="1287720" cy="20772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1302840" y="3493800"/>
                                        <a:ext cx="1410480" cy="331200"/>
                                        <a:chOff x="1302840" y="3493800"/>
                                        <a:chExt cx="1410480" cy="331200"/>
                                      </a:xfrm>
                                    </p:grpSpPr>
                                    <p:sp>
                                      <p:nvSpPr>
                                        <p:cNvPr id="410" name=""/>
                                        <p:cNvSpPr/>
                                        <p:nvPr/>
                                      </p:nvSpPr>
                                      <p:spPr>
                                        <a:xfrm>
                                          <a:off x="1365120" y="3556080"/>
                                          <a:ext cx="1285920" cy="20772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02840" y="3493800"/>
                                          <a:ext cx="1410480" cy="331200"/>
                                        </a:xfrm>
                                        <a:prstGeom prst="roundRect">
                                          <a:avLst>
                                            <a:gd name="adj" fmla="val 769"/>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Plan</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412" name=""/>
            <p:cNvGrpSpPr/>
            <p:nvPr/>
          </p:nvGrpSpPr>
          <p:grpSpPr>
            <a:xfrm>
              <a:off x="1329120" y="5043240"/>
              <a:ext cx="1418760" cy="373320"/>
              <a:chOff x="1329120" y="5043240"/>
              <a:chExt cx="1418760" cy="373320"/>
            </a:xfrm>
          </p:grpSpPr>
          <p:sp>
            <p:nvSpPr>
              <p:cNvPr id="413" name=""/>
              <p:cNvSpPr/>
              <p:nvPr/>
            </p:nvSpPr>
            <p:spPr>
              <a:xfrm>
                <a:off x="1393920" y="5092560"/>
                <a:ext cx="1353960" cy="32400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29120" y="5043240"/>
                <a:ext cx="1399680" cy="354240"/>
                <a:chOff x="1329120" y="5043240"/>
                <a:chExt cx="1399680" cy="354240"/>
              </a:xfrm>
            </p:grpSpPr>
            <p:sp>
              <p:nvSpPr>
                <p:cNvPr id="415" name=""/>
                <p:cNvSpPr/>
                <p:nvPr/>
              </p:nvSpPr>
              <p:spPr>
                <a:xfrm>
                  <a:off x="1393920" y="5092560"/>
                  <a:ext cx="133488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329120" y="5043240"/>
                  <a:ext cx="1382400" cy="339840"/>
                  <a:chOff x="1329120" y="5043240"/>
                  <a:chExt cx="1382400" cy="339840"/>
                </a:xfrm>
              </p:grpSpPr>
              <p:sp>
                <p:nvSpPr>
                  <p:cNvPr id="417" name=""/>
                  <p:cNvSpPr/>
                  <p:nvPr/>
                </p:nvSpPr>
                <p:spPr>
                  <a:xfrm>
                    <a:off x="1393920" y="5095800"/>
                    <a:ext cx="131760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1329120" y="5043240"/>
                    <a:ext cx="1368000" cy="331200"/>
                    <a:chOff x="1329120" y="5043240"/>
                    <a:chExt cx="1368000" cy="331200"/>
                  </a:xfrm>
                </p:grpSpPr>
                <p:sp>
                  <p:nvSpPr>
                    <p:cNvPr id="419" name=""/>
                    <p:cNvSpPr/>
                    <p:nvPr/>
                  </p:nvSpPr>
                  <p:spPr>
                    <a:xfrm>
                      <a:off x="1393920" y="5095800"/>
                      <a:ext cx="130320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329120" y="5043240"/>
                      <a:ext cx="1355400" cy="331200"/>
                      <a:chOff x="1329120" y="5043240"/>
                      <a:chExt cx="1355400" cy="331200"/>
                    </a:xfrm>
                  </p:grpSpPr>
                  <p:sp>
                    <p:nvSpPr>
                      <p:cNvPr id="421" name=""/>
                      <p:cNvSpPr/>
                      <p:nvPr/>
                    </p:nvSpPr>
                    <p:spPr>
                      <a:xfrm>
                        <a:off x="1393920" y="5097600"/>
                        <a:ext cx="1290600" cy="2570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1329120" y="5043240"/>
                        <a:ext cx="1353960" cy="331200"/>
                        <a:chOff x="1329120" y="5043240"/>
                        <a:chExt cx="1353960" cy="331200"/>
                      </a:xfrm>
                    </p:grpSpPr>
                    <p:sp>
                      <p:nvSpPr>
                        <p:cNvPr id="423" name=""/>
                        <p:cNvSpPr/>
                        <p:nvPr/>
                      </p:nvSpPr>
                      <p:spPr>
                        <a:xfrm>
                          <a:off x="1393920" y="5097600"/>
                          <a:ext cx="127620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1329120" y="5043240"/>
                          <a:ext cx="1353960" cy="331200"/>
                          <a:chOff x="1329120" y="5043240"/>
                          <a:chExt cx="1353960" cy="331200"/>
                        </a:xfrm>
                      </p:grpSpPr>
                      <p:sp>
                        <p:nvSpPr>
                          <p:cNvPr id="425" name=""/>
                          <p:cNvSpPr/>
                          <p:nvPr/>
                        </p:nvSpPr>
                        <p:spPr>
                          <a:xfrm>
                            <a:off x="1393920" y="5097600"/>
                            <a:ext cx="1266840" cy="23940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329120" y="5043240"/>
                            <a:ext cx="1353960" cy="331200"/>
                            <a:chOff x="1329120" y="5043240"/>
                            <a:chExt cx="1353960" cy="331200"/>
                          </a:xfrm>
                        </p:grpSpPr>
                        <p:sp>
                          <p:nvSpPr>
                            <p:cNvPr id="427" name=""/>
                            <p:cNvSpPr/>
                            <p:nvPr/>
                          </p:nvSpPr>
                          <p:spPr>
                            <a:xfrm>
                              <a:off x="1393920" y="5097600"/>
                              <a:ext cx="125568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1329120" y="5043240"/>
                              <a:ext cx="1353960" cy="331200"/>
                              <a:chOff x="1329120" y="5043240"/>
                              <a:chExt cx="1353960" cy="331200"/>
                            </a:xfrm>
                          </p:grpSpPr>
                          <p:sp>
                            <p:nvSpPr>
                              <p:cNvPr id="429" name=""/>
                              <p:cNvSpPr/>
                              <p:nvPr/>
                            </p:nvSpPr>
                            <p:spPr>
                              <a:xfrm>
                                <a:off x="1393920" y="5097600"/>
                                <a:ext cx="1244520" cy="2221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329120" y="5043240"/>
                                <a:ext cx="1353960" cy="331200"/>
                                <a:chOff x="1329120" y="5043240"/>
                                <a:chExt cx="1353960" cy="331200"/>
                              </a:xfrm>
                            </p:grpSpPr>
                            <p:sp>
                              <p:nvSpPr>
                                <p:cNvPr id="431" name=""/>
                                <p:cNvSpPr/>
                                <p:nvPr/>
                              </p:nvSpPr>
                              <p:spPr>
                                <a:xfrm>
                                  <a:off x="1393920" y="5100480"/>
                                  <a:ext cx="1238040" cy="21600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1329120" y="5043240"/>
                                  <a:ext cx="1353960" cy="331200"/>
                                  <a:chOff x="1329120" y="5043240"/>
                                  <a:chExt cx="1353960" cy="331200"/>
                                </a:xfrm>
                              </p:grpSpPr>
                              <p:sp>
                                <p:nvSpPr>
                                  <p:cNvPr id="433" name=""/>
                                  <p:cNvSpPr/>
                                  <p:nvPr/>
                                </p:nvSpPr>
                                <p:spPr>
                                  <a:xfrm>
                                    <a:off x="1393920" y="5100480"/>
                                    <a:ext cx="1233360" cy="20988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329120" y="5043240"/>
                                    <a:ext cx="1353960" cy="331200"/>
                                    <a:chOff x="1329120" y="5043240"/>
                                    <a:chExt cx="1353960" cy="331200"/>
                                  </a:xfrm>
                                </p:grpSpPr>
                                <p:sp>
                                  <p:nvSpPr>
                                    <p:cNvPr id="435" name=""/>
                                    <p:cNvSpPr/>
                                    <p:nvPr/>
                                  </p:nvSpPr>
                                  <p:spPr>
                                    <a:xfrm>
                                      <a:off x="1393920" y="5103720"/>
                                      <a:ext cx="1230120" cy="20664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329120" y="5043240"/>
                                      <a:ext cx="1353960" cy="331200"/>
                                      <a:chOff x="1329120" y="5043240"/>
                                      <a:chExt cx="1353960" cy="331200"/>
                                    </a:xfrm>
                                  </p:grpSpPr>
                                  <p:sp>
                                    <p:nvSpPr>
                                      <p:cNvPr id="437" name=""/>
                                      <p:cNvSpPr/>
                                      <p:nvPr/>
                                    </p:nvSpPr>
                                    <p:spPr>
                                      <a:xfrm>
                                        <a:off x="1393920" y="5105520"/>
                                        <a:ext cx="122688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1329120" y="5043240"/>
                                        <a:ext cx="1353960" cy="331200"/>
                                        <a:chOff x="1329120" y="5043240"/>
                                        <a:chExt cx="1353960" cy="331200"/>
                                      </a:xfrm>
                                    </p:grpSpPr>
                                    <p:sp>
                                      <p:nvSpPr>
                                        <p:cNvPr id="439" name=""/>
                                        <p:cNvSpPr/>
                                        <p:nvPr/>
                                      </p:nvSpPr>
                                      <p:spPr>
                                        <a:xfrm>
                                          <a:off x="1393920" y="5105520"/>
                                          <a:ext cx="122400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29120" y="5043240"/>
                                          <a:ext cx="1353960" cy="331200"/>
                                        </a:xfrm>
                                        <a:prstGeom prst="roundRect">
                                          <a:avLst>
                                            <a:gd name="adj" fmla="val 778"/>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ell</a:t>
                                          </a:r>
                                          <a:endParaRPr b="0" lang="en-US" sz="1600" spc="-1" strike="noStrike">
                                            <a:solidFill>
                                              <a:srgbClr val="000000"/>
                                            </a:solidFill>
                                            <a:latin typeface="Times New Roman"/>
                                          </a:endParaRPr>
                                        </a:p>
                                      </p:txBody>
                                    </p:sp>
                                  </p:grpSp>
                                </p:grpSp>
                              </p:grpSp>
                            </p:grpSp>
                          </p:grpSp>
                        </p:grpSp>
                      </p:grpSp>
                    </p:grpSp>
                  </p:grpSp>
                </p:grpSp>
              </p:grpSp>
            </p:grpSp>
          </p:grpSp>
        </p:grpSp>
        <p:grpSp>
          <p:nvGrpSpPr>
            <p:cNvPr id="441" name=""/>
            <p:cNvGrpSpPr/>
            <p:nvPr/>
          </p:nvGrpSpPr>
          <p:grpSpPr>
            <a:xfrm>
              <a:off x="1246680" y="5993280"/>
              <a:ext cx="1596600" cy="372600"/>
              <a:chOff x="1246680" y="5993280"/>
              <a:chExt cx="1596600" cy="372600"/>
            </a:xfrm>
          </p:grpSpPr>
          <p:sp>
            <p:nvSpPr>
              <p:cNvPr id="442" name=""/>
              <p:cNvSpPr/>
              <p:nvPr/>
            </p:nvSpPr>
            <p:spPr>
              <a:xfrm>
                <a:off x="1309680" y="6041880"/>
                <a:ext cx="1533600" cy="32400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246680" y="5993280"/>
                <a:ext cx="1577520" cy="353520"/>
                <a:chOff x="1246680" y="5993280"/>
                <a:chExt cx="1577520" cy="353520"/>
              </a:xfrm>
            </p:grpSpPr>
            <p:sp>
              <p:nvSpPr>
                <p:cNvPr id="444" name=""/>
                <p:cNvSpPr/>
                <p:nvPr/>
              </p:nvSpPr>
              <p:spPr>
                <a:xfrm>
                  <a:off x="1309680" y="6041880"/>
                  <a:ext cx="151452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1246680" y="5993280"/>
                  <a:ext cx="1561680" cy="336240"/>
                  <a:chOff x="1246680" y="5993280"/>
                  <a:chExt cx="1561680" cy="336240"/>
                </a:xfrm>
              </p:grpSpPr>
              <p:sp>
                <p:nvSpPr>
                  <p:cNvPr id="446" name=""/>
                  <p:cNvSpPr/>
                  <p:nvPr/>
                </p:nvSpPr>
                <p:spPr>
                  <a:xfrm>
                    <a:off x="1309680" y="6041880"/>
                    <a:ext cx="1498680" cy="2876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246680" y="5993280"/>
                    <a:ext cx="1549080" cy="331200"/>
                    <a:chOff x="1246680" y="5993280"/>
                    <a:chExt cx="1549080" cy="331200"/>
                  </a:xfrm>
                </p:grpSpPr>
                <p:sp>
                  <p:nvSpPr>
                    <p:cNvPr id="448" name=""/>
                    <p:cNvSpPr/>
                    <p:nvPr/>
                  </p:nvSpPr>
                  <p:spPr>
                    <a:xfrm>
                      <a:off x="1309680" y="6043680"/>
                      <a:ext cx="148608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1246680" y="5993280"/>
                      <a:ext cx="1533960" cy="331200"/>
                      <a:chOff x="1246680" y="5993280"/>
                      <a:chExt cx="1533960" cy="331200"/>
                    </a:xfrm>
                  </p:grpSpPr>
                  <p:sp>
                    <p:nvSpPr>
                      <p:cNvPr id="450" name=""/>
                      <p:cNvSpPr/>
                      <p:nvPr/>
                    </p:nvSpPr>
                    <p:spPr>
                      <a:xfrm>
                        <a:off x="1309680" y="6045120"/>
                        <a:ext cx="146988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1246680" y="5993280"/>
                        <a:ext cx="1533960" cy="331200"/>
                        <a:chOff x="1246680" y="5993280"/>
                        <a:chExt cx="1533960" cy="331200"/>
                      </a:xfrm>
                    </p:grpSpPr>
                    <p:sp>
                      <p:nvSpPr>
                        <p:cNvPr id="452" name=""/>
                        <p:cNvSpPr/>
                        <p:nvPr/>
                      </p:nvSpPr>
                      <p:spPr>
                        <a:xfrm>
                          <a:off x="1309680" y="6046920"/>
                          <a:ext cx="1460520" cy="247680"/>
                        </a:xfrm>
                        <a:prstGeom prst="roundRect">
                          <a:avLst>
                            <a:gd name="adj" fmla="val 6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
                        <p:cNvGrpSpPr/>
                        <p:nvPr/>
                      </p:nvGrpSpPr>
                      <p:grpSpPr>
                        <a:xfrm>
                          <a:off x="1246680" y="5993280"/>
                          <a:ext cx="1533960" cy="331200"/>
                          <a:chOff x="1246680" y="5993280"/>
                          <a:chExt cx="1533960" cy="331200"/>
                        </a:xfrm>
                      </p:grpSpPr>
                      <p:sp>
                        <p:nvSpPr>
                          <p:cNvPr id="454" name=""/>
                          <p:cNvSpPr/>
                          <p:nvPr/>
                        </p:nvSpPr>
                        <p:spPr>
                          <a:xfrm>
                            <a:off x="1309680" y="6046920"/>
                            <a:ext cx="1451160" cy="236520"/>
                          </a:xfrm>
                          <a:prstGeom prst="roundRect">
                            <a:avLst>
                              <a:gd name="adj" fmla="val 67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1246680" y="5993280"/>
                            <a:ext cx="1533960" cy="331200"/>
                            <a:chOff x="1246680" y="5993280"/>
                            <a:chExt cx="1533960" cy="331200"/>
                          </a:xfrm>
                        </p:grpSpPr>
                        <p:sp>
                          <p:nvSpPr>
                            <p:cNvPr id="456" name=""/>
                            <p:cNvSpPr/>
                            <p:nvPr/>
                          </p:nvSpPr>
                          <p:spPr>
                            <a:xfrm>
                              <a:off x="1309680" y="6048360"/>
                              <a:ext cx="143820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1246680" y="5993280"/>
                              <a:ext cx="1533960" cy="331200"/>
                              <a:chOff x="1246680" y="5993280"/>
                              <a:chExt cx="1533960" cy="331200"/>
                            </a:xfrm>
                          </p:grpSpPr>
                          <p:sp>
                            <p:nvSpPr>
                              <p:cNvPr id="458" name=""/>
                              <p:cNvSpPr/>
                              <p:nvPr/>
                            </p:nvSpPr>
                            <p:spPr>
                              <a:xfrm>
                                <a:off x="1309680" y="6049800"/>
                                <a:ext cx="14302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1246680" y="5993280"/>
                                <a:ext cx="1533960" cy="331200"/>
                                <a:chOff x="1246680" y="5993280"/>
                                <a:chExt cx="1533960" cy="331200"/>
                              </a:xfrm>
                            </p:grpSpPr>
                            <p:sp>
                              <p:nvSpPr>
                                <p:cNvPr id="460" name=""/>
                                <p:cNvSpPr/>
                                <p:nvPr/>
                              </p:nvSpPr>
                              <p:spPr>
                                <a:xfrm>
                                  <a:off x="1309680" y="6051600"/>
                                  <a:ext cx="142236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246680" y="5993280"/>
                                  <a:ext cx="1533960" cy="331200"/>
                                  <a:chOff x="1246680" y="5993280"/>
                                  <a:chExt cx="1533960" cy="331200"/>
                                </a:xfrm>
                              </p:grpSpPr>
                              <p:sp>
                                <p:nvSpPr>
                                  <p:cNvPr id="462" name=""/>
                                  <p:cNvSpPr/>
                                  <p:nvPr/>
                                </p:nvSpPr>
                                <p:spPr>
                                  <a:xfrm>
                                    <a:off x="1309680" y="6053040"/>
                                    <a:ext cx="1417680" cy="2080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1246680" y="5993280"/>
                                    <a:ext cx="1533960" cy="331200"/>
                                    <a:chOff x="1246680" y="5993280"/>
                                    <a:chExt cx="1533960" cy="331200"/>
                                  </a:xfrm>
                                </p:grpSpPr>
                                <p:sp>
                                  <p:nvSpPr>
                                    <p:cNvPr id="464" name=""/>
                                    <p:cNvSpPr/>
                                    <p:nvPr/>
                                  </p:nvSpPr>
                                  <p:spPr>
                                    <a:xfrm>
                                      <a:off x="1309680" y="6054840"/>
                                      <a:ext cx="141444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1246680" y="5993280"/>
                                      <a:ext cx="1533960" cy="331200"/>
                                      <a:chOff x="1246680" y="5993280"/>
                                      <a:chExt cx="1533960" cy="331200"/>
                                    </a:xfrm>
                                  </p:grpSpPr>
                                  <p:sp>
                                    <p:nvSpPr>
                                      <p:cNvPr id="466" name=""/>
                                      <p:cNvSpPr/>
                                      <p:nvPr/>
                                    </p:nvSpPr>
                                    <p:spPr>
                                      <a:xfrm>
                                        <a:off x="1309680" y="6056280"/>
                                        <a:ext cx="141120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1246680" y="5993280"/>
                                        <a:ext cx="1533960" cy="331200"/>
                                        <a:chOff x="1246680" y="5993280"/>
                                        <a:chExt cx="1533960" cy="331200"/>
                                      </a:xfrm>
                                    </p:grpSpPr>
                                    <p:sp>
                                      <p:nvSpPr>
                                        <p:cNvPr id="468" name=""/>
                                        <p:cNvSpPr/>
                                        <p:nvPr/>
                                      </p:nvSpPr>
                                      <p:spPr>
                                        <a:xfrm>
                                          <a:off x="1309680" y="6058080"/>
                                          <a:ext cx="1409760" cy="1998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246680" y="5993280"/>
                                          <a:ext cx="1533960" cy="331200"/>
                                        </a:xfrm>
                                        <a:prstGeom prst="roundRect">
                                          <a:avLst>
                                            <a:gd name="adj" fmla="val 806"/>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lock</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470" name=""/>
            <p:cNvCxnSpPr>
              <a:stCxn id="355" idx="2"/>
              <a:endCxn id="471" idx="0"/>
            </p:cNvCxnSpPr>
            <p:nvPr/>
          </p:nvCxnSpPr>
          <p:spPr>
            <a:xfrm flipH="1">
              <a:off x="1289880" y="2332080"/>
              <a:ext cx="778680" cy="349920"/>
            </a:xfrm>
            <a:prstGeom prst="straightConnector1">
              <a:avLst/>
            </a:prstGeom>
            <a:ln w="9360">
              <a:solidFill>
                <a:srgbClr val="000000"/>
              </a:solidFill>
              <a:miter/>
              <a:tailEnd len="med" type="triangle" w="med"/>
            </a:ln>
          </p:spPr>
        </p:cxnSp>
        <p:sp>
          <p:nvSpPr>
            <p:cNvPr id="471" name=""/>
            <p:cNvSpPr/>
            <p:nvPr/>
          </p:nvSpPr>
          <p:spPr>
            <a:xfrm>
              <a:off x="1290600" y="2538360"/>
              <a:ext cx="1568520" cy="285840"/>
            </a:xfrm>
            <a:custGeom>
              <a:avLst/>
              <a:gdLst/>
              <a:ahLst/>
              <a:rect l="l" t="t" r="r" b="b"/>
              <a:pathLst>
                <a:path w="4358" h="795">
                  <a:moveTo>
                    <a:pt x="0" y="397"/>
                  </a:moveTo>
                  <a:lnTo>
                    <a:pt x="2178" y="0"/>
                  </a:lnTo>
                  <a:lnTo>
                    <a:pt x="4357" y="397"/>
                  </a:lnTo>
                  <a:lnTo>
                    <a:pt x="2178" y="794"/>
                  </a:lnTo>
                  <a:lnTo>
                    <a:pt x="0" y="397"/>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3" idx="2"/>
              <a:endCxn id="384" idx="0"/>
            </p:cNvCxnSpPr>
            <p:nvPr/>
          </p:nvCxnSpPr>
          <p:spPr>
            <a:xfrm>
              <a:off x="2064960" y="3323880"/>
              <a:ext cx="5400" cy="230760"/>
            </a:xfrm>
            <a:prstGeom prst="straightConnector1">
              <a:avLst/>
            </a:prstGeom>
            <a:ln w="9360">
              <a:solidFill>
                <a:srgbClr val="000000"/>
              </a:solidFill>
              <a:miter/>
              <a:tailEnd len="med" type="triangle" w="med"/>
            </a:ln>
          </p:spPr>
        </p:cxnSp>
        <p:sp>
          <p:nvSpPr>
            <p:cNvPr id="474" name=""/>
            <p:cNvSpPr/>
            <p:nvPr/>
          </p:nvSpPr>
          <p:spPr>
            <a:xfrm>
              <a:off x="1536840" y="4608360"/>
              <a:ext cx="1090440" cy="297000"/>
            </a:xfrm>
            <a:custGeom>
              <a:avLst/>
              <a:gdLst/>
              <a:ahLst/>
              <a:rect l="l" t="t" r="r" b="b"/>
              <a:pathLst>
                <a:path w="3030" h="825">
                  <a:moveTo>
                    <a:pt x="0" y="408"/>
                  </a:moveTo>
                  <a:lnTo>
                    <a:pt x="1514" y="0"/>
                  </a:lnTo>
                  <a:lnTo>
                    <a:pt x="3029" y="408"/>
                  </a:lnTo>
                  <a:lnTo>
                    <a:pt x="1514" y="824"/>
                  </a:lnTo>
                  <a:lnTo>
                    <a:pt x="0" y="408"/>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76" idx="2"/>
              <a:endCxn id="474" idx="0"/>
            </p:cNvCxnSpPr>
            <p:nvPr/>
          </p:nvCxnSpPr>
          <p:spPr>
            <a:xfrm flipH="1">
              <a:off x="1536120" y="4432320"/>
              <a:ext cx="532440" cy="324720"/>
            </a:xfrm>
            <a:prstGeom prst="straightConnector1">
              <a:avLst/>
            </a:prstGeom>
            <a:ln w="9360">
              <a:solidFill>
                <a:srgbClr val="000000"/>
              </a:solidFill>
              <a:miter/>
              <a:tailEnd len="med" type="triangle" w="med"/>
            </a:ln>
          </p:spPr>
        </p:cxnSp>
        <p:cxnSp>
          <p:nvCxnSpPr>
            <p:cNvPr id="477" name=""/>
            <p:cNvCxnSpPr>
              <a:stCxn id="474" idx="1"/>
              <a:endCxn id="413" idx="0"/>
            </p:cNvCxnSpPr>
            <p:nvPr/>
          </p:nvCxnSpPr>
          <p:spPr>
            <a:xfrm flipH="1">
              <a:off x="2069640" y="4755960"/>
              <a:ext cx="556560" cy="338760"/>
            </a:xfrm>
            <a:prstGeom prst="straightConnector1">
              <a:avLst/>
            </a:prstGeom>
            <a:ln w="9360">
              <a:solidFill>
                <a:srgbClr val="000000"/>
              </a:solidFill>
              <a:miter/>
              <a:tailEnd len="med" type="triangle" w="med"/>
            </a:ln>
          </p:spPr>
        </p:cxnSp>
        <p:sp>
          <p:nvSpPr>
            <p:cNvPr id="478" name=""/>
            <p:cNvSpPr/>
            <p:nvPr/>
          </p:nvSpPr>
          <p:spPr>
            <a:xfrm>
              <a:off x="1639800" y="5608800"/>
              <a:ext cx="884160" cy="298440"/>
            </a:xfrm>
            <a:custGeom>
              <a:avLst/>
              <a:gdLst/>
              <a:ahLst/>
              <a:rect l="l" t="t" r="r" b="b"/>
              <a:pathLst>
                <a:path w="2457" h="829">
                  <a:moveTo>
                    <a:pt x="0" y="413"/>
                  </a:moveTo>
                  <a:lnTo>
                    <a:pt x="1227" y="0"/>
                  </a:lnTo>
                  <a:lnTo>
                    <a:pt x="2456" y="413"/>
                  </a:lnTo>
                  <a:lnTo>
                    <a:pt x="1227" y="828"/>
                  </a:lnTo>
                  <a:lnTo>
                    <a:pt x="0" y="41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9" name=""/>
            <p:cNvCxnSpPr>
              <a:stCxn id="413" idx="2"/>
              <a:endCxn id="478" idx="0"/>
            </p:cNvCxnSpPr>
            <p:nvPr/>
          </p:nvCxnSpPr>
          <p:spPr>
            <a:xfrm flipH="1">
              <a:off x="1639080" y="5416560"/>
              <a:ext cx="430920" cy="342000"/>
            </a:xfrm>
            <a:prstGeom prst="straightConnector1">
              <a:avLst/>
            </a:prstGeom>
            <a:ln w="9360">
              <a:solidFill>
                <a:srgbClr val="000000"/>
              </a:solidFill>
              <a:miter/>
              <a:tailEnd len="med" type="triangle" w="med"/>
            </a:ln>
          </p:spPr>
        </p:cxnSp>
        <p:cxnSp>
          <p:nvCxnSpPr>
            <p:cNvPr id="480" name=""/>
            <p:cNvCxnSpPr>
              <a:stCxn id="478" idx="1"/>
              <a:endCxn id="442" idx="0"/>
            </p:cNvCxnSpPr>
            <p:nvPr/>
          </p:nvCxnSpPr>
          <p:spPr>
            <a:xfrm flipH="1">
              <a:off x="2075760" y="5757840"/>
              <a:ext cx="446760" cy="286560"/>
            </a:xfrm>
            <a:prstGeom prst="straightConnector1">
              <a:avLst/>
            </a:prstGeom>
            <a:ln w="9360">
              <a:solidFill>
                <a:srgbClr val="000000"/>
              </a:solidFill>
              <a:miter/>
              <a:tailEnd len="med" type="triangle" w="med"/>
            </a:ln>
          </p:spPr>
        </p:cxnSp>
        <p:cxnSp>
          <p:nvCxnSpPr>
            <p:cNvPr id="481" name=""/>
            <p:cNvCxnSpPr>
              <a:stCxn id="442" idx="2"/>
              <a:endCxn id="353" idx="0"/>
            </p:cNvCxnSpPr>
            <p:nvPr/>
          </p:nvCxnSpPr>
          <p:spPr>
            <a:xfrm flipH="1">
              <a:off x="1752120" y="6365520"/>
              <a:ext cx="324720" cy="321480"/>
            </a:xfrm>
            <a:prstGeom prst="straightConnector1">
              <a:avLst/>
            </a:prstGeom>
            <a:ln w="9360">
              <a:solidFill>
                <a:srgbClr val="000000"/>
              </a:solidFill>
              <a:miter/>
              <a:tailEnd len="med" type="triangle" w="med"/>
            </a:ln>
          </p:spPr>
        </p:cxnSp>
        <p:grpSp>
          <p:nvGrpSpPr>
            <p:cNvPr id="482" name=""/>
            <p:cNvGrpSpPr/>
            <p:nvPr/>
          </p:nvGrpSpPr>
          <p:grpSpPr>
            <a:xfrm>
              <a:off x="135000" y="1047600"/>
              <a:ext cx="1035000" cy="611280"/>
              <a:chOff x="135000" y="1047600"/>
              <a:chExt cx="1035000" cy="611280"/>
            </a:xfrm>
          </p:grpSpPr>
          <p:grpSp>
            <p:nvGrpSpPr>
              <p:cNvPr id="483" name=""/>
              <p:cNvGrpSpPr/>
              <p:nvPr/>
            </p:nvGrpSpPr>
            <p:grpSpPr>
              <a:xfrm>
                <a:off x="135000" y="1047600"/>
                <a:ext cx="1033560" cy="611280"/>
                <a:chOff x="135000" y="1047600"/>
                <a:chExt cx="1033560" cy="611280"/>
              </a:xfrm>
            </p:grpSpPr>
            <p:sp>
              <p:nvSpPr>
                <p:cNvPr id="484" name=""/>
                <p:cNvSpPr/>
                <p:nvPr/>
              </p:nvSpPr>
              <p:spPr>
                <a:xfrm>
                  <a:off x="135000" y="1047600"/>
                  <a:ext cx="1033560" cy="611280"/>
                </a:xfrm>
                <a:custGeom>
                  <a:avLst/>
                  <a:gdLst/>
                  <a:ahLst/>
                  <a:rect l="l" t="t" r="r" b="b"/>
                  <a:pathLst>
                    <a:path w="2872" h="1698">
                      <a:moveTo>
                        <a:pt x="1436" y="0"/>
                      </a:moveTo>
                      <a:cubicBezTo>
                        <a:pt x="651" y="0"/>
                        <a:pt x="0" y="99"/>
                        <a:pt x="0" y="213"/>
                      </a:cubicBezTo>
                      <a:lnTo>
                        <a:pt x="0" y="1489"/>
                      </a:lnTo>
                      <a:cubicBezTo>
                        <a:pt x="0" y="1604"/>
                        <a:pt x="651" y="1697"/>
                        <a:pt x="1436" y="1697"/>
                      </a:cubicBezTo>
                      <a:cubicBezTo>
                        <a:pt x="2219" y="1697"/>
                        <a:pt x="2871" y="1604"/>
                        <a:pt x="2871" y="1489"/>
                      </a:cubicBezTo>
                      <a:lnTo>
                        <a:pt x="2871" y="213"/>
                      </a:lnTo>
                      <a:cubicBezTo>
                        <a:pt x="2871" y="99"/>
                        <a:pt x="2219" y="0"/>
                        <a:pt x="1436" y="0"/>
                      </a:cubicBezTo>
                      <a:lnTo>
                        <a:pt x="143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35000" y="1047600"/>
                  <a:ext cx="1033560" cy="157320"/>
                </a:xfrm>
                <a:custGeom>
                  <a:avLst/>
                  <a:gdLst/>
                  <a:ahLst/>
                  <a:rect l="l" t="t" r="r" b="b"/>
                  <a:pathLst>
                    <a:path w="2872" h="436">
                      <a:moveTo>
                        <a:pt x="1436" y="0"/>
                      </a:moveTo>
                      <a:cubicBezTo>
                        <a:pt x="651" y="0"/>
                        <a:pt x="0" y="99"/>
                        <a:pt x="0" y="213"/>
                      </a:cubicBezTo>
                      <a:cubicBezTo>
                        <a:pt x="0" y="337"/>
                        <a:pt x="651" y="435"/>
                        <a:pt x="1436" y="435"/>
                      </a:cubicBezTo>
                      <a:cubicBezTo>
                        <a:pt x="2219" y="435"/>
                        <a:pt x="2871" y="337"/>
                        <a:pt x="2871" y="213"/>
                      </a:cubicBezTo>
                      <a:cubicBezTo>
                        <a:pt x="2871" y="99"/>
                        <a:pt x="2219" y="0"/>
                        <a:pt x="1436" y="0"/>
                      </a:cubicBezTo>
                      <a:lnTo>
                        <a:pt x="143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135000" y="1204920"/>
                <a:ext cx="1035000" cy="376200"/>
                <a:chOff x="135000" y="1204920"/>
                <a:chExt cx="1035000" cy="376200"/>
              </a:xfrm>
            </p:grpSpPr>
            <p:sp>
              <p:nvSpPr>
                <p:cNvPr id="487" name=""/>
                <p:cNvSpPr/>
                <p:nvPr/>
              </p:nvSpPr>
              <p:spPr>
                <a:xfrm>
                  <a:off x="135000" y="1204920"/>
                  <a:ext cx="1035000" cy="376200"/>
                </a:xfrm>
                <a:prstGeom prst="roundRect">
                  <a:avLst>
                    <a:gd name="adj" fmla="val 42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5000" y="1227960"/>
                  <a:ext cx="1035000" cy="329760"/>
                </a:xfrm>
                <a:prstGeom prst="rect">
                  <a:avLst/>
                </a:prstGeom>
                <a:noFill/>
                <a:ln w="0">
                  <a:noFill/>
                </a:ln>
              </p:spPr>
              <p:style>
                <a:lnRef idx="0"/>
                <a:fillRef idx="0"/>
                <a:effectRef idx="0"/>
                <a:fontRef idx="minor"/>
              </p:style>
              <p:txBody>
                <a:bodyPr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Netlist</a:t>
                  </a:r>
                  <a:endParaRPr b="0" lang="en-US" sz="1600" spc="-1" strike="noStrike">
                    <a:solidFill>
                      <a:srgbClr val="000000"/>
                    </a:solidFill>
                    <a:latin typeface="Times New Roman"/>
                  </a:endParaRPr>
                </a:p>
              </p:txBody>
            </p:sp>
          </p:grpSp>
        </p:grpSp>
        <p:cxnSp>
          <p:nvCxnSpPr>
            <p:cNvPr id="489" name=""/>
            <p:cNvCxnSpPr>
              <a:endCxn id="355" idx="0"/>
            </p:cNvCxnSpPr>
            <p:nvPr/>
          </p:nvCxnSpPr>
          <p:spPr>
            <a:xfrm>
              <a:off x="661680" y="1677960"/>
              <a:ext cx="1408680" cy="332640"/>
            </a:xfrm>
            <a:prstGeom prst="straightConnector1">
              <a:avLst/>
            </a:prstGeom>
            <a:ln w="9360">
              <a:solidFill>
                <a:srgbClr val="000000"/>
              </a:solidFill>
              <a:miter/>
              <a:tailEnd len="med" type="triangle" w="med"/>
            </a:ln>
          </p:spPr>
        </p:cxnSp>
        <p:cxnSp>
          <p:nvCxnSpPr>
            <p:cNvPr id="490" name=""/>
            <p:cNvCxnSpPr>
              <a:endCxn id="355" idx="0"/>
            </p:cNvCxnSpPr>
            <p:nvPr/>
          </p:nvCxnSpPr>
          <p:spPr>
            <a:xfrm flipH="1">
              <a:off x="2067840" y="1672920"/>
              <a:ext cx="1362600" cy="337320"/>
            </a:xfrm>
            <a:prstGeom prst="straightConnector1">
              <a:avLst/>
            </a:prstGeom>
            <a:ln w="9360">
              <a:solidFill>
                <a:srgbClr val="000000"/>
              </a:solidFill>
              <a:miter/>
              <a:tailEnd len="med" type="triangle" w="med"/>
            </a:ln>
          </p:spPr>
        </p:cxnSp>
        <p:cxnSp>
          <p:nvCxnSpPr>
            <p:cNvPr id="491" name=""/>
            <p:cNvCxnSpPr>
              <a:endCxn id="355" idx="0"/>
            </p:cNvCxnSpPr>
            <p:nvPr/>
          </p:nvCxnSpPr>
          <p:spPr>
            <a:xfrm flipH="1">
              <a:off x="2068200" y="1646280"/>
              <a:ext cx="15120" cy="364320"/>
            </a:xfrm>
            <a:prstGeom prst="straightConnector1">
              <a:avLst/>
            </a:prstGeom>
            <a:ln w="9360">
              <a:solidFill>
                <a:srgbClr val="000000"/>
              </a:solidFill>
              <a:miter/>
              <a:tailEnd len="med" type="triangle" w="med"/>
            </a:ln>
          </p:spPr>
        </p:cxnSp>
        <p:grpSp>
          <p:nvGrpSpPr>
            <p:cNvPr id="492" name=""/>
            <p:cNvGrpSpPr/>
            <p:nvPr/>
          </p:nvGrpSpPr>
          <p:grpSpPr>
            <a:xfrm>
              <a:off x="2391840" y="6482880"/>
              <a:ext cx="312840" cy="174600"/>
              <a:chOff x="2391840" y="6482880"/>
              <a:chExt cx="312840" cy="174600"/>
            </a:xfrm>
          </p:grpSpPr>
          <p:sp>
            <p:nvSpPr>
              <p:cNvPr id="493" name=""/>
              <p:cNvSpPr/>
              <p:nvPr/>
            </p:nvSpPr>
            <p:spPr>
              <a:xfrm flipV="1">
                <a:off x="2684520" y="6482880"/>
                <a:ext cx="144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a:off x="2391840" y="664056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95" name=""/>
            <p:cNvGrpSpPr/>
            <p:nvPr/>
          </p:nvGrpSpPr>
          <p:grpSpPr>
            <a:xfrm>
              <a:off x="2499840" y="5560560"/>
              <a:ext cx="312840" cy="174600"/>
              <a:chOff x="2499840" y="5560560"/>
              <a:chExt cx="312840" cy="174600"/>
            </a:xfrm>
          </p:grpSpPr>
          <p:sp>
            <p:nvSpPr>
              <p:cNvPr id="496" name=""/>
              <p:cNvSpPr/>
              <p:nvPr/>
            </p:nvSpPr>
            <p:spPr>
              <a:xfrm flipV="1">
                <a:off x="2793960" y="5560560"/>
                <a:ext cx="180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2499840" y="572436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8" name=""/>
            <p:cNvGrpSpPr/>
            <p:nvPr/>
          </p:nvGrpSpPr>
          <p:grpSpPr>
            <a:xfrm>
              <a:off x="2588760" y="4582800"/>
              <a:ext cx="312840" cy="176040"/>
              <a:chOff x="2588760" y="4582800"/>
              <a:chExt cx="312840" cy="176040"/>
            </a:xfrm>
          </p:grpSpPr>
          <p:sp>
            <p:nvSpPr>
              <p:cNvPr id="499" name=""/>
              <p:cNvSpPr/>
              <p:nvPr/>
            </p:nvSpPr>
            <p:spPr>
              <a:xfrm flipV="1">
                <a:off x="2882880" y="4582800"/>
                <a:ext cx="1440" cy="17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2588760" y="474660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01" name=""/>
            <p:cNvGrpSpPr/>
            <p:nvPr/>
          </p:nvGrpSpPr>
          <p:grpSpPr>
            <a:xfrm>
              <a:off x="2820600" y="2480760"/>
              <a:ext cx="312840" cy="174600"/>
              <a:chOff x="2820600" y="2480760"/>
              <a:chExt cx="312840" cy="174600"/>
            </a:xfrm>
          </p:grpSpPr>
          <p:sp>
            <p:nvSpPr>
              <p:cNvPr id="502" name=""/>
              <p:cNvSpPr/>
              <p:nvPr/>
            </p:nvSpPr>
            <p:spPr>
              <a:xfrm flipV="1">
                <a:off x="3111480" y="2480760"/>
                <a:ext cx="144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2820600" y="2637000"/>
                <a:ext cx="31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04" name=""/>
            <p:cNvGrpSpPr/>
            <p:nvPr/>
          </p:nvGrpSpPr>
          <p:grpSpPr>
            <a:xfrm>
              <a:off x="411120" y="3003480"/>
              <a:ext cx="3308400" cy="333360"/>
              <a:chOff x="411120" y="3003480"/>
              <a:chExt cx="3308400" cy="333360"/>
            </a:xfrm>
          </p:grpSpPr>
          <p:sp>
            <p:nvSpPr>
              <p:cNvPr id="473" name=""/>
              <p:cNvSpPr/>
              <p:nvPr/>
            </p:nvSpPr>
            <p:spPr>
              <a:xfrm>
                <a:off x="411120" y="3003480"/>
                <a:ext cx="330840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11120" y="3007080"/>
                <a:ext cx="3308400" cy="329760"/>
              </a:xfrm>
              <a:prstGeom prst="rect">
                <a:avLst/>
              </a:prstGeom>
              <a:noFill/>
              <a:ln w="0">
                <a:noFill/>
              </a:ln>
            </p:spPr>
            <p:style>
              <a:lnRef idx="0"/>
              <a:fillRef idx="0"/>
              <a:effectRef idx="0"/>
              <a:fontRef idx="minor"/>
            </p:style>
            <p:txBody>
              <a:bodyPr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Pad Placement / Power Mesh</a:t>
                </a:r>
                <a:endParaRPr b="0" lang="en-US" sz="1600" spc="-1" strike="noStrike">
                  <a:solidFill>
                    <a:srgbClr val="000000"/>
                  </a:solidFill>
                  <a:latin typeface="Times New Roman"/>
                </a:endParaRPr>
              </a:p>
            </p:txBody>
          </p:sp>
        </p:grpSp>
        <p:cxnSp>
          <p:nvCxnSpPr>
            <p:cNvPr id="506" name=""/>
            <p:cNvCxnSpPr>
              <a:stCxn id="471" idx="1"/>
              <a:endCxn id="473" idx="0"/>
            </p:cNvCxnSpPr>
            <p:nvPr/>
          </p:nvCxnSpPr>
          <p:spPr>
            <a:xfrm flipH="1">
              <a:off x="2064600" y="2680920"/>
              <a:ext cx="793080" cy="322920"/>
            </a:xfrm>
            <a:prstGeom prst="straightConnector1">
              <a:avLst/>
            </a:prstGeom>
            <a:ln w="9360">
              <a:solidFill>
                <a:srgbClr val="000000"/>
              </a:solidFill>
              <a:miter/>
              <a:tailEnd len="med" type="triangle" w="med"/>
            </a:ln>
          </p:spPr>
        </p:cxnSp>
        <p:grpSp>
          <p:nvGrpSpPr>
            <p:cNvPr id="507" name=""/>
            <p:cNvGrpSpPr/>
            <p:nvPr/>
          </p:nvGrpSpPr>
          <p:grpSpPr>
            <a:xfrm>
              <a:off x="425880" y="4047120"/>
              <a:ext cx="3230280" cy="385200"/>
              <a:chOff x="425880" y="4047120"/>
              <a:chExt cx="3230280" cy="385200"/>
            </a:xfrm>
          </p:grpSpPr>
          <p:sp>
            <p:nvSpPr>
              <p:cNvPr id="476" name=""/>
              <p:cNvSpPr/>
              <p:nvPr/>
            </p:nvSpPr>
            <p:spPr>
              <a:xfrm>
                <a:off x="480960" y="4110120"/>
                <a:ext cx="317520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425880" y="4047120"/>
                <a:ext cx="3211200" cy="366120"/>
                <a:chOff x="425880" y="4047120"/>
                <a:chExt cx="3211200" cy="366120"/>
              </a:xfrm>
            </p:grpSpPr>
            <p:sp>
              <p:nvSpPr>
                <p:cNvPr id="509" name=""/>
                <p:cNvSpPr/>
                <p:nvPr/>
              </p:nvSpPr>
              <p:spPr>
                <a:xfrm>
                  <a:off x="480960" y="4110120"/>
                  <a:ext cx="3156120" cy="30312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425880" y="4047120"/>
                  <a:ext cx="3196800" cy="348840"/>
                  <a:chOff x="425880" y="4047120"/>
                  <a:chExt cx="3196800" cy="348840"/>
                </a:xfrm>
              </p:grpSpPr>
              <p:sp>
                <p:nvSpPr>
                  <p:cNvPr id="511" name=""/>
                  <p:cNvSpPr/>
                  <p:nvPr/>
                </p:nvSpPr>
                <p:spPr>
                  <a:xfrm>
                    <a:off x="480960" y="4110120"/>
                    <a:ext cx="3141720" cy="28584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425880" y="4047120"/>
                    <a:ext cx="3180960" cy="335880"/>
                    <a:chOff x="425880" y="4047120"/>
                    <a:chExt cx="3180960" cy="335880"/>
                  </a:xfrm>
                </p:grpSpPr>
                <p:sp>
                  <p:nvSpPr>
                    <p:cNvPr id="513" name=""/>
                    <p:cNvSpPr/>
                    <p:nvPr/>
                  </p:nvSpPr>
                  <p:spPr>
                    <a:xfrm>
                      <a:off x="480960" y="4110120"/>
                      <a:ext cx="3125880" cy="2728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425880" y="4047120"/>
                      <a:ext cx="3166560" cy="331200"/>
                      <a:chOff x="425880" y="4047120"/>
                      <a:chExt cx="3166560" cy="331200"/>
                    </a:xfrm>
                  </p:grpSpPr>
                  <p:sp>
                    <p:nvSpPr>
                      <p:cNvPr id="515" name=""/>
                      <p:cNvSpPr/>
                      <p:nvPr/>
                    </p:nvSpPr>
                    <p:spPr>
                      <a:xfrm>
                        <a:off x="480960" y="4110120"/>
                        <a:ext cx="3111480" cy="258840"/>
                      </a:xfrm>
                      <a:prstGeom prst="roundRect">
                        <a:avLst>
                          <a:gd name="adj" fmla="val 6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425880" y="4047120"/>
                        <a:ext cx="3161520" cy="331200"/>
                        <a:chOff x="425880" y="4047120"/>
                        <a:chExt cx="3161520" cy="331200"/>
                      </a:xfrm>
                    </p:grpSpPr>
                    <p:sp>
                      <p:nvSpPr>
                        <p:cNvPr id="517" name=""/>
                        <p:cNvSpPr/>
                        <p:nvPr/>
                      </p:nvSpPr>
                      <p:spPr>
                        <a:xfrm>
                          <a:off x="480960" y="4110120"/>
                          <a:ext cx="3098880" cy="245880"/>
                        </a:xfrm>
                        <a:prstGeom prst="roundRect">
                          <a:avLst>
                            <a:gd name="adj" fmla="val 64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425880" y="4047120"/>
                          <a:ext cx="3161520" cy="331200"/>
                          <a:chOff x="425880" y="4047120"/>
                          <a:chExt cx="3161520" cy="331200"/>
                        </a:xfrm>
                      </p:grpSpPr>
                      <p:sp>
                        <p:nvSpPr>
                          <p:cNvPr id="519" name=""/>
                          <p:cNvSpPr/>
                          <p:nvPr/>
                        </p:nvSpPr>
                        <p:spPr>
                          <a:xfrm>
                            <a:off x="480960" y="4110120"/>
                            <a:ext cx="308772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425880" y="4047120"/>
                            <a:ext cx="3161520" cy="331200"/>
                            <a:chOff x="425880" y="4047120"/>
                            <a:chExt cx="3161520" cy="331200"/>
                          </a:xfrm>
                        </p:grpSpPr>
                        <p:sp>
                          <p:nvSpPr>
                            <p:cNvPr id="521" name=""/>
                            <p:cNvSpPr/>
                            <p:nvPr/>
                          </p:nvSpPr>
                          <p:spPr>
                            <a:xfrm>
                              <a:off x="480960" y="4110120"/>
                              <a:ext cx="3076560" cy="233280"/>
                            </a:xfrm>
                            <a:prstGeom prst="roundRect">
                              <a:avLst>
                                <a:gd name="adj" fmla="val 6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425880" y="4047120"/>
                              <a:ext cx="3161520" cy="331200"/>
                              <a:chOff x="425880" y="4047120"/>
                              <a:chExt cx="3161520" cy="331200"/>
                            </a:xfrm>
                          </p:grpSpPr>
                          <p:sp>
                            <p:nvSpPr>
                              <p:cNvPr id="523" name=""/>
                              <p:cNvSpPr/>
                              <p:nvPr/>
                            </p:nvSpPr>
                            <p:spPr>
                              <a:xfrm>
                                <a:off x="480960" y="4110120"/>
                                <a:ext cx="3068640" cy="2253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425880" y="4047120"/>
                                <a:ext cx="3161520" cy="331200"/>
                                <a:chOff x="425880" y="4047120"/>
                                <a:chExt cx="3161520" cy="331200"/>
                              </a:xfrm>
                            </p:grpSpPr>
                            <p:sp>
                              <p:nvSpPr>
                                <p:cNvPr id="525" name=""/>
                                <p:cNvSpPr/>
                                <p:nvPr/>
                              </p:nvSpPr>
                              <p:spPr>
                                <a:xfrm>
                                  <a:off x="480960" y="4110120"/>
                                  <a:ext cx="306072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425880" y="4047120"/>
                                  <a:ext cx="3161520" cy="331200"/>
                                  <a:chOff x="425880" y="4047120"/>
                                  <a:chExt cx="3161520" cy="331200"/>
                                </a:xfrm>
                              </p:grpSpPr>
                              <p:sp>
                                <p:nvSpPr>
                                  <p:cNvPr id="527" name=""/>
                                  <p:cNvSpPr/>
                                  <p:nvPr/>
                                </p:nvSpPr>
                                <p:spPr>
                                  <a:xfrm>
                                    <a:off x="480960" y="4110120"/>
                                    <a:ext cx="305748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425880" y="4047120"/>
                                    <a:ext cx="3161520" cy="331200"/>
                                    <a:chOff x="425880" y="4047120"/>
                                    <a:chExt cx="3161520" cy="331200"/>
                                  </a:xfrm>
                                </p:grpSpPr>
                                <p:sp>
                                  <p:nvSpPr>
                                    <p:cNvPr id="529" name=""/>
                                    <p:cNvSpPr/>
                                    <p:nvPr/>
                                  </p:nvSpPr>
                                  <p:spPr>
                                    <a:xfrm>
                                      <a:off x="480960" y="4110120"/>
                                      <a:ext cx="305424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 name=""/>
                                    <p:cNvGrpSpPr/>
                                    <p:nvPr/>
                                  </p:nvGrpSpPr>
                                  <p:grpSpPr>
                                    <a:xfrm>
                                      <a:off x="425880" y="4047120"/>
                                      <a:ext cx="3161520" cy="331200"/>
                                      <a:chOff x="425880" y="4047120"/>
                                      <a:chExt cx="3161520" cy="331200"/>
                                    </a:xfrm>
                                  </p:grpSpPr>
                                  <p:sp>
                                    <p:nvSpPr>
                                      <p:cNvPr id="531" name=""/>
                                      <p:cNvSpPr/>
                                      <p:nvPr/>
                                    </p:nvSpPr>
                                    <p:spPr>
                                      <a:xfrm>
                                        <a:off x="480960" y="4110120"/>
                                        <a:ext cx="3052800" cy="20772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425880" y="4047120"/>
                                        <a:ext cx="3161520" cy="331200"/>
                                        <a:chOff x="425880" y="4047120"/>
                                        <a:chExt cx="3161520" cy="331200"/>
                                      </a:xfrm>
                                    </p:grpSpPr>
                                    <p:sp>
                                      <p:nvSpPr>
                                        <p:cNvPr id="533" name=""/>
                                        <p:cNvSpPr/>
                                        <p:nvPr/>
                                      </p:nvSpPr>
                                      <p:spPr>
                                        <a:xfrm>
                                          <a:off x="480960" y="4110120"/>
                                          <a:ext cx="305280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25880" y="4047120"/>
                                          <a:ext cx="3161520" cy="331200"/>
                                        </a:xfrm>
                                        <a:prstGeom prst="roundRect">
                                          <a:avLst>
                                            <a:gd name="adj" fmla="val 778"/>
                                          </a:avLst>
                                        </a:prstGeom>
                                        <a:noFill/>
                                        <a:ln w="0">
                                          <a:noFill/>
                                        </a:ln>
                                      </p:spPr>
                                      <p:style>
                                        <a:lnRef idx="0"/>
                                        <a:fillRef idx="0"/>
                                        <a:effectRef idx="0"/>
                                        <a:fontRef idx="minor"/>
                                      </p:style>
                                      <p:txBody>
                                        <a:bodyPr wrap="none" lIns="90000" rIns="90000" tIns="46800" bIns="46800" anchor="ctr">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Optional: Glassbox Generation</a:t>
                                          </a:r>
                                          <a:endParaRPr b="0" lang="en-US" sz="1600" spc="-1" strike="noStrike">
                                            <a:solidFill>
                                              <a:srgbClr val="000000"/>
                                            </a:solidFill>
                                            <a:latin typeface="Times New Roman"/>
                                          </a:endParaRPr>
                                        </a:p>
                                      </p:txBody>
                                    </p:sp>
                                  </p:grpSp>
                                </p:grpSp>
                              </p:grpSp>
                            </p:grpSp>
                          </p:grpSp>
                        </p:grpSp>
                      </p:grpSp>
                    </p:grpSp>
                  </p:grpSp>
                </p:grpSp>
              </p:grpSp>
            </p:grpSp>
          </p:grpSp>
        </p:grpSp>
        <p:cxnSp>
          <p:nvCxnSpPr>
            <p:cNvPr id="535" name=""/>
            <p:cNvCxnSpPr>
              <a:stCxn id="384" idx="2"/>
              <a:endCxn id="476" idx="0"/>
            </p:cNvCxnSpPr>
            <p:nvPr/>
          </p:nvCxnSpPr>
          <p:spPr>
            <a:xfrm flipH="1">
              <a:off x="2068200" y="3881160"/>
              <a:ext cx="2160" cy="229320"/>
            </a:xfrm>
            <a:prstGeom prst="straightConnector1">
              <a:avLst/>
            </a:prstGeom>
            <a:ln w="9360">
              <a:solidFill>
                <a:srgbClr val="000000"/>
              </a:solidFill>
              <a:miter/>
              <a:tailEnd len="med" type="triangle" w="med"/>
            </a:ln>
          </p:spPr>
        </p:cxnSp>
        <p:grpSp>
          <p:nvGrpSpPr>
            <p:cNvPr id="536" name=""/>
            <p:cNvGrpSpPr/>
            <p:nvPr/>
          </p:nvGrpSpPr>
          <p:grpSpPr>
            <a:xfrm>
              <a:off x="2909880" y="918360"/>
              <a:ext cx="1041480" cy="824040"/>
              <a:chOff x="2909880" y="918360"/>
              <a:chExt cx="1041480" cy="824040"/>
            </a:xfrm>
          </p:grpSpPr>
          <p:grpSp>
            <p:nvGrpSpPr>
              <p:cNvPr id="537" name=""/>
              <p:cNvGrpSpPr/>
              <p:nvPr/>
            </p:nvGrpSpPr>
            <p:grpSpPr>
              <a:xfrm>
                <a:off x="2909880" y="1011240"/>
                <a:ext cx="1039680" cy="549360"/>
                <a:chOff x="2909880" y="1011240"/>
                <a:chExt cx="1039680" cy="549360"/>
              </a:xfrm>
            </p:grpSpPr>
            <p:sp>
              <p:nvSpPr>
                <p:cNvPr id="538" name=""/>
                <p:cNvSpPr/>
                <p:nvPr/>
              </p:nvSpPr>
              <p:spPr>
                <a:xfrm>
                  <a:off x="2909880" y="1011240"/>
                  <a:ext cx="1039680" cy="549360"/>
                </a:xfrm>
                <a:custGeom>
                  <a:avLst/>
                  <a:gdLst/>
                  <a:ahLst/>
                  <a:rect l="l" t="t" r="r" b="b"/>
                  <a:pathLst>
                    <a:path w="2889" h="1525">
                      <a:moveTo>
                        <a:pt x="1444" y="0"/>
                      </a:moveTo>
                      <a:cubicBezTo>
                        <a:pt x="656" y="0"/>
                        <a:pt x="0" y="88"/>
                        <a:pt x="0" y="192"/>
                      </a:cubicBezTo>
                      <a:lnTo>
                        <a:pt x="0" y="1337"/>
                      </a:lnTo>
                      <a:cubicBezTo>
                        <a:pt x="0" y="1443"/>
                        <a:pt x="656" y="1524"/>
                        <a:pt x="1444" y="1524"/>
                      </a:cubicBezTo>
                      <a:cubicBezTo>
                        <a:pt x="2232" y="1524"/>
                        <a:pt x="2888" y="1443"/>
                        <a:pt x="2888" y="1337"/>
                      </a:cubicBezTo>
                      <a:lnTo>
                        <a:pt x="2888" y="192"/>
                      </a:lnTo>
                      <a:cubicBezTo>
                        <a:pt x="2888" y="88"/>
                        <a:pt x="2232" y="0"/>
                        <a:pt x="1444" y="0"/>
                      </a:cubicBezTo>
                      <a:lnTo>
                        <a:pt x="1444"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09880" y="1011240"/>
                  <a:ext cx="1039680" cy="139680"/>
                </a:xfrm>
                <a:custGeom>
                  <a:avLst/>
                  <a:gdLst/>
                  <a:ahLst/>
                  <a:rect l="l" t="t" r="r" b="b"/>
                  <a:pathLst>
                    <a:path w="2889" h="386">
                      <a:moveTo>
                        <a:pt x="1444" y="0"/>
                      </a:moveTo>
                      <a:cubicBezTo>
                        <a:pt x="656" y="0"/>
                        <a:pt x="0" y="88"/>
                        <a:pt x="0" y="198"/>
                      </a:cubicBezTo>
                      <a:cubicBezTo>
                        <a:pt x="0" y="296"/>
                        <a:pt x="656" y="385"/>
                        <a:pt x="1444" y="385"/>
                      </a:cubicBezTo>
                      <a:cubicBezTo>
                        <a:pt x="2232" y="385"/>
                        <a:pt x="2888" y="296"/>
                        <a:pt x="2888" y="198"/>
                      </a:cubicBezTo>
                      <a:cubicBezTo>
                        <a:pt x="2888" y="88"/>
                        <a:pt x="2232" y="0"/>
                        <a:pt x="1444" y="0"/>
                      </a:cubicBezTo>
                      <a:lnTo>
                        <a:pt x="1444"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2909880" y="918360"/>
                <a:ext cx="1041480" cy="824040"/>
                <a:chOff x="2909880" y="918360"/>
                <a:chExt cx="1041480" cy="824040"/>
              </a:xfrm>
            </p:grpSpPr>
            <p:sp>
              <p:nvSpPr>
                <p:cNvPr id="541" name=""/>
                <p:cNvSpPr/>
                <p:nvPr/>
              </p:nvSpPr>
              <p:spPr>
                <a:xfrm>
                  <a:off x="2909880" y="1152360"/>
                  <a:ext cx="1041480" cy="354240"/>
                </a:xfrm>
                <a:prstGeom prst="roundRect">
                  <a:avLst>
                    <a:gd name="adj" fmla="val 44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909880" y="918360"/>
                  <a:ext cx="1041480" cy="8240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op level</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SDC</a:t>
                  </a:r>
                  <a:endParaRPr b="0" lang="en-US" sz="1600" spc="-1" strike="noStrike">
                    <a:solidFill>
                      <a:srgbClr val="000000"/>
                    </a:solidFill>
                    <a:latin typeface="Times New Roman"/>
                  </a:endParaRPr>
                </a:p>
              </p:txBody>
            </p:sp>
          </p:grpSp>
        </p:grpSp>
        <p:grpSp>
          <p:nvGrpSpPr>
            <p:cNvPr id="543" name=""/>
            <p:cNvGrpSpPr/>
            <p:nvPr/>
          </p:nvGrpSpPr>
          <p:grpSpPr>
            <a:xfrm>
              <a:off x="1471680" y="903960"/>
              <a:ext cx="1222200" cy="824040"/>
              <a:chOff x="1471680" y="903960"/>
              <a:chExt cx="1222200" cy="824040"/>
            </a:xfrm>
          </p:grpSpPr>
          <p:grpSp>
            <p:nvGrpSpPr>
              <p:cNvPr id="544" name=""/>
              <p:cNvGrpSpPr/>
              <p:nvPr/>
            </p:nvGrpSpPr>
            <p:grpSpPr>
              <a:xfrm>
                <a:off x="1471680" y="1022400"/>
                <a:ext cx="1220760" cy="506520"/>
                <a:chOff x="1471680" y="1022400"/>
                <a:chExt cx="1220760" cy="506520"/>
              </a:xfrm>
            </p:grpSpPr>
            <p:sp>
              <p:nvSpPr>
                <p:cNvPr id="545" name=""/>
                <p:cNvSpPr/>
                <p:nvPr/>
              </p:nvSpPr>
              <p:spPr>
                <a:xfrm>
                  <a:off x="1471680" y="1022400"/>
                  <a:ext cx="1220760" cy="506520"/>
                </a:xfrm>
                <a:custGeom>
                  <a:avLst/>
                  <a:gdLst/>
                  <a:ahLst/>
                  <a:rect l="l" t="t" r="r" b="b"/>
                  <a:pathLst>
                    <a:path w="3392" h="1407">
                      <a:moveTo>
                        <a:pt x="1696" y="0"/>
                      </a:moveTo>
                      <a:cubicBezTo>
                        <a:pt x="769" y="0"/>
                        <a:pt x="0" y="82"/>
                        <a:pt x="0" y="177"/>
                      </a:cubicBezTo>
                      <a:lnTo>
                        <a:pt x="0" y="1229"/>
                      </a:lnTo>
                      <a:cubicBezTo>
                        <a:pt x="0" y="1323"/>
                        <a:pt x="769" y="1406"/>
                        <a:pt x="1696" y="1406"/>
                      </a:cubicBezTo>
                      <a:cubicBezTo>
                        <a:pt x="2621" y="1406"/>
                        <a:pt x="3391" y="1323"/>
                        <a:pt x="3391" y="1229"/>
                      </a:cubicBezTo>
                      <a:lnTo>
                        <a:pt x="3391" y="177"/>
                      </a:lnTo>
                      <a:cubicBezTo>
                        <a:pt x="3391" y="82"/>
                        <a:pt x="2621" y="0"/>
                        <a:pt x="1696" y="0"/>
                      </a:cubicBezTo>
                      <a:lnTo>
                        <a:pt x="169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471680" y="1022400"/>
                  <a:ext cx="1220760" cy="129960"/>
                </a:xfrm>
                <a:custGeom>
                  <a:avLst/>
                  <a:gdLst/>
                  <a:ahLst/>
                  <a:rect l="l" t="t" r="r" b="b"/>
                  <a:pathLst>
                    <a:path w="3392" h="360">
                      <a:moveTo>
                        <a:pt x="1696" y="0"/>
                      </a:moveTo>
                      <a:cubicBezTo>
                        <a:pt x="769" y="0"/>
                        <a:pt x="0" y="83"/>
                        <a:pt x="0" y="178"/>
                      </a:cubicBezTo>
                      <a:cubicBezTo>
                        <a:pt x="0" y="278"/>
                        <a:pt x="769" y="359"/>
                        <a:pt x="1696" y="359"/>
                      </a:cubicBezTo>
                      <a:cubicBezTo>
                        <a:pt x="2621" y="359"/>
                        <a:pt x="3391" y="278"/>
                        <a:pt x="3391" y="178"/>
                      </a:cubicBezTo>
                      <a:cubicBezTo>
                        <a:pt x="3391" y="83"/>
                        <a:pt x="2621" y="0"/>
                        <a:pt x="1696" y="0"/>
                      </a:cubicBezTo>
                      <a:lnTo>
                        <a:pt x="1696"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7" name=""/>
              <p:cNvGrpSpPr/>
              <p:nvPr/>
            </p:nvGrpSpPr>
            <p:grpSpPr>
              <a:xfrm>
                <a:off x="1471680" y="903960"/>
                <a:ext cx="1222200" cy="824040"/>
                <a:chOff x="1471680" y="903960"/>
                <a:chExt cx="1222200" cy="824040"/>
              </a:xfrm>
            </p:grpSpPr>
            <p:sp>
              <p:nvSpPr>
                <p:cNvPr id="548" name=""/>
                <p:cNvSpPr/>
                <p:nvPr/>
              </p:nvSpPr>
              <p:spPr>
                <a:xfrm>
                  <a:off x="1471680" y="1152360"/>
                  <a:ext cx="122220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471680" y="903960"/>
                  <a:ext cx="1222200" cy="8240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Volcano</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st RTL)</a:t>
                  </a:r>
                  <a:endParaRPr b="0" lang="en-US" sz="1600" spc="-1" strike="noStrike">
                    <a:solidFill>
                      <a:srgbClr val="000000"/>
                    </a:solidFill>
                    <a:latin typeface="Times New Roman"/>
                  </a:endParaRPr>
                </a:p>
              </p:txBody>
            </p:sp>
          </p:grpSp>
        </p:gr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