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436-7A82-4376-93A2-B49D7BBE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B0C-3707-451F-A754-B1C05D32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331-E0F6-4BF2-93D0-37AA0002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BD7-D399-4D44-8E68-00289770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58D-1492-41FE-A4BE-DAA9380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BDB-EE32-40A5-A0CB-0FD5829A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330-C6AA-4089-B8C2-EFA979A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EBF-5808-4D03-8610-E6D7626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F28-5576-4F8E-BD5F-991D457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DB6-48C3-4EE5-873F-A5E4557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99F-5845-495A-8872-888F032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329-730F-4B3B-BAF4-4D51D73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68DA91-4304-456F-A915-743B0FDDD8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11680" y="13716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35568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499680" y="27432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4213680" cy="45643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-49250520"/>
            <a:ext cx="41148000" cy="4925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709440" y="948996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6120" y="167641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89600" y="23317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4120" y="300229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8120" y="364237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-45897840"/>
            <a:ext cx="438912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  <a:tab algn="l" pos="36919080"/>
                <a:tab algn="l" pos="37642680"/>
                <a:tab algn="l" pos="38366640"/>
                <a:tab algn="l" pos="39090600"/>
                <a:tab algn="l" pos="39814560"/>
                <a:tab algn="l" pos="40538520"/>
                <a:tab algn="l" pos="41262480"/>
                <a:tab algn="l" pos="41986080"/>
                <a:tab algn="l" pos="42710040"/>
                <a:tab algn="l" pos="434340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-41151240" y="-1440"/>
            <a:ext cx="41149800" cy="4925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-45643680" y="-34216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-36576000" y="-27358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-27432000" y="-20500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-18288000" y="-13642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-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51663600" y="-38941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42291000" y="-314737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3604200" y="-25225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4231600" y="-1760544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859000" y="-105948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232680" y="-332100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39480" y="-434340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907120" y="-13563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27051120" y="-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36195120" y="-27279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-34137720" y="-1440"/>
            <a:ext cx="34137720" cy="45187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-41071680" y="-49707720"/>
            <a:ext cx="41071680" cy="49706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31200" y="-106678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946600" y="-176785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166920" y="-246124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39520" y="-323848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8176200" y="-47040840"/>
            <a:ext cx="381762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  <a:tab algn="l" pos="34023240"/>
                <a:tab algn="l" pos="34747200"/>
                <a:tab algn="l" pos="35471160"/>
                <a:tab algn="l" pos="36195120"/>
                <a:tab algn="l" pos="36919080"/>
                <a:tab algn="l" pos="3764268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-1440" y="0"/>
            <a:ext cx="41073120" cy="49250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-45643680" y="3413772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-36499680" y="27355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-2743200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-18288000" y="13639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-9144000" y="6858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51435000" y="428245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2976800" y="3703320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3985080" y="3070872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5069680" y="23698080"/>
            <a:ext cx="2682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849720" y="1676412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77120" y="8991720"/>
            <a:ext cx="26830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Arial"/>
              </a:rPr>
              <a:t>-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