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2CE-42C5-457D-8ED1-EB8F95F0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633-A2CB-40FD-8AE1-D303A76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2C6-5F38-4F8A-A1B2-894FDA90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0B7-15CA-4A1C-8B8B-B14A5E6C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CD1-3241-4709-B3A9-ACED232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AEC-192F-4A5D-A89A-70E6D2C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D5E-5561-477C-86E7-F119E3B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F6E-A030-41FD-8927-2BABB67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E42-863B-4B43-80CF-7094993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618-53D3-4257-A023-7652446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5A9-3E31-4BAB-A5F0-312C3E4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833-159C-42B8-AF05-B5A1D42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7BFA72-D2C7-43EB-91AB-5EA7A03BB6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Exit_Zoom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Properties\Exit\Settings\Zoom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0707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07070"/>
                  </a:gs>
                  <a:gs pos="100000">
                    <a:srgbClr val="ffff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3480" cy="2341800"/>
            <a:chOff x="1352520" y="1368360"/>
            <a:chExt cx="2373480" cy="2341800"/>
          </a:xfrm>
        </p:grpSpPr>
        <p:sp>
          <p:nvSpPr>
            <p:cNvPr id="47" name=""/>
            <p:cNvSpPr/>
            <p:nvPr/>
          </p:nvSpPr>
          <p:spPr>
            <a:xfrm>
              <a:off x="2063880" y="1701720"/>
              <a:ext cx="950760" cy="9511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cap="sq"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13080" y="1368360"/>
              <a:ext cx="252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25680" y="2063880"/>
              <a:ext cx="95076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3280" y="2421000"/>
              <a:ext cx="2527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3880" y="2425680"/>
              <a:ext cx="95076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13080" y="3473280"/>
              <a:ext cx="25236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01720" y="2063880"/>
              <a:ext cx="951120" cy="9507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cap="sq"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2520" y="2421000"/>
              <a:ext cx="252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5:39:05Z</dcterms:created>
  <dc:creator>Yolanda</dc:creator>
  <dc:description/>
  <dc:language>en-US</dc:language>
  <cp:lastModifiedBy>Yolanda</cp:lastModifiedBy>
  <dcterms:modified xsi:type="dcterms:W3CDTF">2006-04-29T08:57:35Z</dcterms:modified>
  <cp:revision>2</cp:revision>
  <dc:subject/>
  <dc:title>Below are the test focus   Chosen Effect:      Entrance_Zoom Effect Property:    Properties\Exit\Settings\Zoom Property Value:     Out</dc:title>
</cp:coreProperties>
</file>