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5FC-7011-4CA2-92F2-FD838F99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C22-2A78-4835-9CA2-66BBE3AD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6C8-4086-43D9-B8EC-64AA0194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8AD-6348-420D-B56A-CACA4C0C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A36-C251-4550-A615-ADE8F71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202-E790-4176-9E84-8D40ABD2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204-E2D4-4B6A-9DEA-F9CCF1B0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C05-D4F3-4AC5-BDEE-3054DAF2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3DA-8AC5-40C7-A3D7-9651D14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43C-0B28-4476-8CFD-EE61E478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462-48F7-4924-B344-FF5DAA3F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AFB-0B97-4B59-85E4-99C630FD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8D9C-8C8C-40D1-864E-45822A80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alc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hyperlink" Target="file:///tmp/home/.config/libreoffice/4/user/gallery/whoosh.wav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Sli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program -&gt; cal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Environment (system) variable PATH includes needed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S00580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19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2666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01832_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676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Show Obj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Play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when mouse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914400"/>
          <a:ext cx="2362320" cy="1370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236232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934320" y="1219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00349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914400"/>
            <a:ext cx="2298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click -&gt; Run Macro -&gt; messag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705720" y="57150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d S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47:38Z</dcterms:created>
  <dc:creator>a</dc:creator>
  <dc:description/>
  <dc:language>en-US</dc:language>
  <cp:lastModifiedBy>a</cp:lastModifiedBy>
  <dcterms:modified xsi:type="dcterms:W3CDTF">2011-09-17T09:25:02Z</dcterms:modified>
  <cp:revision>4</cp:revision>
  <dc:subject/>
  <dc:title>1</dc:title>
</cp:coreProperties>
</file>