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64C-1BF6-47EE-9201-BDF92EA6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F86-F500-4D7E-BE84-BF18EC46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CE2-41EB-408E-8A4F-CBD59F4B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10A-9881-40EB-807C-BC8933F2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718-B389-42F9-A776-D970AD4F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322-86CA-4B16-AD25-F6C74A80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E9C-39CB-4EB2-A754-46629C8C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B21-609F-4C46-A877-2B973DBE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F79-8651-495C-92D9-13CAE231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513-0F35-4C3E-B12D-CE1E0139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1A6-FECF-4EFA-9005-0E0FA9EF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86C-BEEA-41FB-AD8A-E73F5A3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0CA1-8C9C-490D-83DF-2F1EEBB72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447920"/>
          <a:ext cx="807696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9:26:26Z</dcterms:created>
  <dc:creator>ningma</dc:creator>
  <dc:description/>
  <dc:language>en-US</dc:language>
  <cp:lastModifiedBy>ningma</cp:lastModifiedBy>
  <dcterms:modified xsi:type="dcterms:W3CDTF">2004-06-17T19:31:43Z</dcterms:modified>
  <cp:revision>1</cp:revision>
  <dc:subject/>
  <dc:title>Slide 1</dc:title>
</cp:coreProperties>
</file>