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B69-9219-4089-8B26-88580549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B36-B8D2-4893-B122-EA855DDA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3814-6C36-4338-82F8-F3E98A5D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BBD-8D0C-436F-850A-FFB57BD5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0A33-8FCE-4B38-A96D-828FC138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75B-BA31-49A2-9E49-4A6734DF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AC2-80AA-4999-B164-6A1ACAEA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2197-3D84-4A4D-892D-2D58B54C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602-E1C4-43E1-8EA0-AD9CBF63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94B-890D-4CA4-BE77-19118A44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BA8-63BC-4960-BDAE-487FCCD2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CCB0-314F-4FE6-8D54-BF35986A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7C84-64F5-4423-95BC-CD36E3B716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000000"/>
                </a:solidFill>
                <a:latin typeface="Century Gothic"/>
              </a:rPr>
              <a:t>HAVE YOU SEEN MY CAT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000000"/>
                </a:solidFill>
                <a:latin typeface="Century Gothic"/>
              </a:rPr>
              <a:t>Please help me find him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000000"/>
                </a:solidFill>
                <a:latin typeface="Century Gothic"/>
              </a:rPr>
              <a:t>This is the last photo taken of him before he vanish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12682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THANK YOU FOR YOU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</cp:lastModifiedBy>
  <dcterms:modified xsi:type="dcterms:W3CDTF">2005-11-17T07:48:23Z</dcterms:modified>
  <cp:revision>4</cp:revision>
  <dc:subject/>
  <dc:title>PowerPoint Presentation</dc:title>
</cp:coreProperties>
</file>