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DEA5-0506-4AD5-87A1-8243D61F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3CE9-FD8A-42ED-9AB6-DBDC5425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A06-8D5B-4472-8864-37D51D40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1B44-67EF-48F4-A0BA-58516F9A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B30-05B0-48E8-8CB8-20E4CEDA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1A4-C445-4D30-B6C9-7A8D2383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B84-1B46-4927-804E-8513A826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873-F6C1-4834-B92D-37F44A0E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1B49-A8E9-44DC-9C68-18C480D2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13BC-AF1C-4D54-B098-43C1103D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A45F-6BE4-4DF2-9A3A-26706BA1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6FF8-1C00-4CF2-B7D8-10CBCCEB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00E0D-3814-436C-A63A-742235DAB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09:26:13Z</dcterms:created>
  <dc:creator/>
  <dc:description/>
  <dc:language>en-US</dc:language>
  <cp:lastModifiedBy/>
  <cp:revision>0</cp:revision>
  <dc:subject/>
  <dc:title/>
</cp:coreProperties>
</file>