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FF0-5A9E-4B64-8BED-BAFCAF11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946-6315-4CE3-A467-C8FFB535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852-D533-4B4B-8595-64A4EC7C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721-1F68-4ECD-A221-2CF59D39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92E-4EE7-4CFE-B8F4-F7C18A2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C0E-8DD0-4B9B-9D4C-B6742393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201-2EB7-4AA1-BBAB-89A36B6D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7E1-7926-4294-88EE-FD4888CE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05D-06AB-4A64-A2C4-E0173B3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F55-F9D9-43CC-8D50-2A17187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1DD-1711-4B03-B63B-E05609E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78C-ED2C-4A81-9F39-88F11B7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10FC-774F-4FBE-9BAA-08EF4A1B2E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ushOn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Brush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2:57Z</dcterms:created>
  <dc:creator>FtpDown</dc:creator>
  <dc:description/>
  <dc:language>en-US</dc:language>
  <cp:lastModifiedBy>FtpDown</cp:lastModifiedBy>
  <dcterms:modified xsi:type="dcterms:W3CDTF">2006-03-03T23:42:57Z</dcterms:modified>
  <cp:revision>1</cp:revision>
  <dc:subject/>
  <dc:title>Hi!  Page </dc:title>
</cp:coreProperties>
</file>