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E93-8547-48DC-BC12-83BE3120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801-C0DD-4026-A241-94438F8F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2D2-DBA7-4BDF-9460-7C876C71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BD9-7851-411B-8C74-2DDB2120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F5C-4EC9-4FDC-8DF5-E87902BA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542-AEC7-4AB0-B695-22702A1F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C79-EC9D-44ED-9CD0-080BC786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373-4421-4C17-A60F-71D014E4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585-B31B-410A-8976-829F9C01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8DF-6429-4C34-9D0F-6C6F022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DFD-198C-485E-9EE6-B3AAAC45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C6E-97E8-494A-AE29-62437CF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44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Arial Balt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F23B-0F32-4CC8-9C30-A897BBBC869A}" type="datetime3">
              <a:rPr b="0" lang="lt-LT" sz="1000" spc="-1" strike="noStrike">
                <a:solidFill>
                  <a:srgbClr val="ffffff"/>
                </a:solidFill>
                <a:latin typeface="Arial Baltic"/>
              </a:rPr>
              <a:t>2026 metų liepos 29 d.</a:t>
            </a:fld>
            <a:endParaRPr b="0" lang="en-US" sz="1000" spc="-1" strike="noStrike">
              <a:solidFill>
                <a:srgbClr val="000000"/>
              </a:solidFill>
              <a:latin typeface="Arial Balt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400440"/>
            <a:ext cx="4876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Arial Balt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ffffff"/>
                </a:solidFill>
                <a:latin typeface="Arial Balt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Balt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ffffff"/>
                </a:solidFill>
                <a:latin typeface="Arial Balt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C295-B3BB-43DB-ACAA-FE84A38BE355}" type="slidenum">
              <a:rPr b="0" lang="lt-LT" sz="1000" spc="-1" strike="noStrike">
                <a:solidFill>
                  <a:srgbClr val="ffffff"/>
                </a:solidFill>
                <a:latin typeface="Arial Balt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altic"/>
            </a:endParaRPr>
          </a:p>
        </p:txBody>
      </p:sp>
      <p:pic>
        <p:nvPicPr>
          <p:cNvPr id="5" name="AMzenkl2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630360" cy="685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304920" y="6400800"/>
            <a:ext cx="85341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alt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AMzenkl1" descr=""/>
          <p:cNvPicPr/>
          <p:nvPr/>
        </p:nvPicPr>
        <p:blipFill>
          <a:blip r:embed="rId1"/>
          <a:stretch/>
        </p:blipFill>
        <p:spPr>
          <a:xfrm>
            <a:off x="4016520" y="685800"/>
            <a:ext cx="112068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etuvos Respublikos aplinkos minister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1CA-5985-4327-85D9-4787DA57961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5E42E-DB5D-4031-88B2-2B9C2F68A5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nbnbnbnbn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Hjhj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Jk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etuvos Respublikos aplinkos minister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0F3-4361-47AA-81BC-AD6F018604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4B4BE-C8F1-459E-8FFF-62492F6E97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00"/>
                </a:solidFill>
                <a:latin typeface="Arial"/>
              </a:rPr>
              <a:t>Fgf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duktai Komisijos sprendimai dėl statybos produktų, statinių,  statybos gaminių atitikties įvertinimo procedūrų, statybos produktų klasifikacijos, produktų sąrašų p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žžžž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l klases, įgyvendinant Tarybos 1988 m. gruodžio 21 d. direktyvą 89/106/EEB dėl valstybių narių įstatymų, kitų teisės aktų ir administracinių nuostatų, susijusių su statybos produktais, derinimo: 2003/639/EB, 2003/640/EB, 2003/655/EB,  2003/656/EB, 2003/728/EB, 2003/722/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etuvos Respublikos aplinkos ministerij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D19-0521-4B13-857E-41056C3DCE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06667-157D-4A77-BEB6-8C115A5215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3:14:00Z</dcterms:created>
  <dc:creator>AM</dc:creator>
  <dc:description/>
  <dc:language>en-US</dc:language>
  <cp:lastModifiedBy>AM</cp:lastModifiedBy>
  <dcterms:modified xsi:type="dcterms:W3CDTF">2004-04-28T13:16:02Z</dcterms:modified>
  <cp:revision>1</cp:revision>
  <dc:subject/>
  <dc:title>PowerPoint Presentation</dc:title>
</cp:coreProperties>
</file>