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3F8-335F-46FE-8919-FFBA0443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4D7-AF9E-4F00-A863-2DA51A1D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6A4-473B-4B0F-AE9F-D5023483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895-C095-42DC-A707-87F1FB95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851-6055-4431-86F7-30CAE7CB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655-1084-4815-879D-24BD530E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CC2-6F38-4AEA-AA95-B2BBFE00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1CA-A7BB-41C3-B362-2CF291B9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288-E811-4182-9CEF-13301377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A92-4C34-4E00-83DB-EDD8ADA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893-F6B5-44FF-9A99-3B6F5D9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7D6-BBAB-48B2-A225-12890FA9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C0C6EB-D107-4F15-833F-23CF4D64C1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8388-A11B-44ED-89AB-81754B0C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6CDC7-8ADE-490D-B83B-BE15AF1C6211}" type="datetime13">
              <a:rPr lang="en-US"/>
              <a:t>04:07:59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06:34:43Z</dcterms:created>
  <dc:creator>crystal</dc:creator>
  <dc:description/>
  <dc:language>en-US</dc:language>
  <cp:lastModifiedBy>crystal</cp:lastModifiedBy>
  <dcterms:modified xsi:type="dcterms:W3CDTF">2012-06-20T06:34:52Z</dcterms:modified>
  <cp:revision>1</cp:revision>
  <dc:subject/>
  <dc:title>Slide 1</dc:title>
</cp:coreProperties>
</file>