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C3B-AEEB-4ED0-BA06-637842B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E42-FBF0-46CD-BB27-2A77D39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CB1-C238-4DD6-8252-92274CAC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F90-7ECA-484A-A717-8D74F89B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599-22AE-4C9D-9BC7-FEB009F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9FA-C6E5-4AE6-B835-EEDBDD9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B2D-723C-49E0-9D27-C264D22A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1EF-1BFC-476F-9BC2-C901121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FA9-2EB9-4831-ADAB-C93B43C5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DA7-FD28-4959-9949-6E9D640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1FE-BFAD-4674-92D5-4E75F42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58A-3DF4-4573-B37D-DAB572B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02AB-89EC-4093-9637-F27F53866C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3640" y="1700280"/>
          <a:ext cx="4560840" cy="260820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</a:tblGrid>
              <a:tr h="130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3880" y="1397160"/>
          <a:ext cx="40640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20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6920" y="1557360"/>
          <a:ext cx="2808360" cy="1440000"/>
        </p:xfrm>
        <a:graphic>
          <a:graphicData uri="http://schemas.openxmlformats.org/drawingml/2006/table">
            <a:tbl>
              <a:tblPr/>
              <a:tblGrid>
                <a:gridCol w="1404360"/>
                <a:gridCol w="14040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859280" y="1557360"/>
          <a:ext cx="2808360" cy="1440000"/>
        </p:xfrm>
        <a:graphic>
          <a:graphicData uri="http://schemas.openxmlformats.org/drawingml/2006/table">
            <a:tbl>
              <a:tblPr/>
              <a:tblGrid>
                <a:gridCol w="1404720"/>
                <a:gridCol w="1403640"/>
              </a:tblGrid>
              <a:tr h="72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        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72480" cy="42638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  <a:gridCol w="1214280"/>
                <a:gridCol w="1214640"/>
              </a:tblGrid>
              <a:tr h="8524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23880" y="1397160"/>
          <a:ext cx="6072480" cy="426384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  <a:gridCol w="1214280"/>
                <a:gridCol w="1214640"/>
              </a:tblGrid>
              <a:tr h="8524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ccccff"/>
                      </a:solidFill>
                    </a:lnR>
                    <a:lnT w="18720">
                      <a:solidFill>
                        <a:srgbClr val="ccccff"/>
                      </a:solidFill>
                    </a:lnT>
                    <a:lnB w="18720">
                      <a:solidFill>
                        <a:srgbClr val="ccccff"/>
                      </a:solidFill>
                    </a:lnB>
                    <a:noFill/>
                  </a:tcPr>
                </a:tc>
              </a:tr>
              <a:tr h="852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ccccff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99"/>
                      </a:solidFill>
                    </a:lnL>
                    <a:lnR w="18720">
                      <a:solidFill>
                        <a:srgbClr val="33ccff"/>
                      </a:solidFill>
                    </a:lnR>
                    <a:lnT w="18720">
                      <a:solidFill>
                        <a:srgbClr val="33ccff"/>
                      </a:solidFill>
                    </a:lnT>
                    <a:lnB w="18720">
                      <a:solidFill>
                        <a:srgbClr val="33cc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ccff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5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>
                      <a:noFill/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00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ccff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33ccff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9999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ff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203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>
                      <a:noFill/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66ff99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9966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>
                      <a:noFill/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966ff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33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996633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124000" y="765000"/>
          <a:ext cx="5977080" cy="52912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>
                      <a:noFill/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66ff99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66ff99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99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18720">
                      <a:solidFill>
                        <a:srgbClr val="66ff99"/>
                      </a:solidFill>
                    </a:lnT>
                    <a:lnB w="18720">
                      <a:solidFill>
                        <a:srgbClr val="9966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ff"/>
                      </a:solidFill>
                    </a:lnL>
                    <a:lnR>
                      <a:noFill/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99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00cc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6633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996633"/>
                      </a:solidFill>
                    </a:lnT>
                    <a:lnB w="18720">
                      <a:solidFill>
                        <a:srgbClr val="996633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ying</cp:lastModifiedBy>
  <dcterms:modified xsi:type="dcterms:W3CDTF">2012-09-07T07:31:47Z</dcterms:modified>
  <cp:revision>20</cp:revision>
  <dc:subject/>
  <dc:title>PowerPoint Presentation</dc:title>
</cp:coreProperties>
</file>