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EBF-F045-4E0D-BAAF-488E1AEF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B05-A5BF-447E-A9B9-7F7628D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66F-09F0-4873-827C-4AAC7E49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9CE-69C4-4731-840D-DBBC0E47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EF6-0E4C-460F-B977-6985B263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557-C94D-4F79-89BB-AAF6E064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CFA-9A7A-4480-B8BC-6780CC1C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C4E-0A00-4F90-B7FD-C48E37AB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7BE-D929-45E1-8C56-2372357C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A2F-1584-4E22-BD2B-F072A9C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503-D11A-48D3-95C8-F1952B9F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1D2-C88E-457D-8214-32876D7C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4A3B-8CAA-4C5A-BA61-A4B0124C2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557360"/>
            <a:ext cx="1873080" cy="16556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8:24:37Z</dcterms:created>
  <dc:creator>Pierre Martineau</dc:creator>
  <dc:description/>
  <dc:language>en-US</dc:language>
  <cp:lastModifiedBy>Pierre Martineau</cp:lastModifiedBy>
  <dcterms:modified xsi:type="dcterms:W3CDTF">2012-10-13T18:24:41Z</dcterms:modified>
  <cp:revision>1</cp:revision>
  <dc:subject/>
  <dc:title>Diapositive 1</dc:title>
</cp:coreProperties>
</file>