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E5E-C238-4D33-ADFF-8FEC2072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950-7D24-452B-96AF-83CAAA8B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070-C682-4A53-B393-EE5057CE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56A-0655-4ED1-98E4-DC74870D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2B0A-B861-415E-854E-AD175F35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3873-BFF5-45E6-8773-45DC2FB0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75B3-4811-4C1D-B176-BF9ED071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44AD-6EBC-4FA8-9D4F-22602DE5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407E-42B1-44B2-AFF6-864CE6CC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6242-1748-45F0-944C-FED966FC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9EEA-5DC5-4A9B-BED2-52203258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431-D753-4961-8D7C-54774ECD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763A-9D2A-4840-B015-832567B6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4913-3553-4E56-9F57-00350E7D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8352-6471-438E-B909-5AD0259D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5090-4366-4A20-B426-194DFE64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7FC4-5DB1-4F22-989E-DCB48014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E3F-289B-43D6-ACCF-42192616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FCC-DB85-419A-9F56-82959B30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269-C329-4F77-997A-863EC7F5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FEE-FB50-4B0B-9B42-264CED9B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CEE-027A-4E14-8A88-CB23D5DE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BF8-E683-47A9-9D18-B941E679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03A-649F-438C-9B46-653EC2C0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b5d4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solidFill>
              <a:srgbClr val="66f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eaeaea"/>
                </a:solidFill>
                <a:latin typeface="Verdan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eaeaea"/>
                </a:solidFill>
                <a:latin typeface="Verdana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eaeaea"/>
                </a:solidFill>
                <a:latin typeface="Verdana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C8C7-CD62-491B-9C7F-037C5DB91F60}" type="slidenum">
              <a:rPr b="0" lang="en-US" sz="1200" spc="-1" strike="noStrike">
                <a:solidFill>
                  <a:srgbClr val="eaeae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b5d4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eaeaea"/>
                </a:solidFill>
                <a:latin typeface="Verdan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eaeaea"/>
                </a:solidFill>
                <a:latin typeface="Verdan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62BD-02F8-4F47-9375-DAF5241CBCBC}" type="slidenum">
              <a:rPr b="0" lang="en-US" sz="1200" spc="-1" strike="noStrike">
                <a:solidFill>
                  <a:srgbClr val="eaeae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b5d4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64400" y="119160"/>
            <a:ext cx="66776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Times New Roman"/>
                <a:cs typeface="David"/>
              </a:rPr>
              <a:t>תוכנית עבודה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2005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David"/>
              </a:rPr>
              <a:t> - כיבוי וגילוי אש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887400"/>
            <a:ext cx="8237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ff"/>
                </a:solidFill>
                <a:latin typeface="Times New Roman"/>
                <a:cs typeface="David"/>
              </a:rPr>
              <a:t>ביצוע ביקורת מטפים, גלגלונים ופתחי מילוט בכל אתרי משרד התחבורה (כרגע בבדיקה האם תבוצע ע"י עובדי היחידה או ע"י קבלן)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ff"/>
                </a:solidFill>
                <a:latin typeface="Times New Roman"/>
                <a:cs typeface="David"/>
              </a:rPr>
              <a:t>ביצוע ביקורות למערכות גילוי אש שבאחריות משרד התחבורה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ff"/>
                </a:solidFill>
                <a:latin typeface="Times New Roman"/>
                <a:cs typeface="David"/>
              </a:rPr>
              <a:t>הקמת מסד נתונים שיאפשר מעקב אחר ביצוע ביקורות שנתיות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ff"/>
                </a:solidFill>
                <a:latin typeface="Times New Roman"/>
                <a:cs typeface="David"/>
              </a:rPr>
              <a:t>התקנת מערכות גילוי אש במס' אתרים בהם אין מערכת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ff"/>
                </a:solidFill>
                <a:latin typeface="Times New Roman"/>
                <a:cs typeface="David"/>
              </a:rPr>
              <a:t>חיבור כל האתרים בהם מערכת גילוי האש באחריות המשרד למוקד (המאוייש </a:t>
            </a:r>
            <a:r>
              <a:rPr b="1" lang="he-IL" sz="2700" spc="-1" strike="noStrike">
                <a:solidFill>
                  <a:srgbClr val="0000ff"/>
                </a:solidFill>
                <a:latin typeface="Times New Roman"/>
                <a:ea typeface="David"/>
              </a:rPr>
              <a:t>24</a:t>
            </a:r>
            <a:r>
              <a:rPr b="1" lang="he-IL" sz="2700" spc="-1" strike="noStrike">
                <a:solidFill>
                  <a:srgbClr val="0000ff"/>
                </a:solidFill>
                <a:latin typeface="Times New Roman"/>
                <a:ea typeface="David"/>
              </a:rPr>
              <a:t> שעות ביממה ע"מ התריע במקרה של שריפה)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1880" y="914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0066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1880" y="259092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0066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1880" y="34290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0066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1880" y="42670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ff0066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1880" y="50292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0066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8:34:12Z</dcterms:created>
  <dc:creator>coheng</dc:creator>
  <dc:description/>
  <dc:language>en-US</dc:language>
  <cp:lastModifiedBy>ooo</cp:lastModifiedBy>
  <dcterms:modified xsi:type="dcterms:W3CDTF">2007-08-26T07:07:52Z</dcterms:modified>
  <cp:revision>79</cp:revision>
  <dc:subject/>
  <dc:title>מצגת של PowerPoint</dc:title>
</cp:coreProperties>
</file>