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C111-272E-49A0-A962-199DF6BD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2F69-246D-4873-B09A-B40BEC92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DED-68FA-42BD-8C9D-9A8783E9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3DB5-F20E-4B19-8D15-EE4F3AA3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8A0E-EF37-4FF2-9389-7446D9CC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2792-D523-42FE-8F37-69468357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A601-21E9-4176-80A9-82290384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C956-C4B2-454B-AEB3-BC5658C4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CFE2-CB50-4E9A-A19C-6F195427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8749-A608-4CE0-8826-C150A98D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AD94-B259-4509-9347-BF88014E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5082-BAE8-4226-BF79-E0099179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0CAC-AFC3-4961-9B55-D7C7E480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6470-36FC-42D4-BF67-402F206B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B698-9927-41BA-AE46-E5D9A3BC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1343-34F4-465E-B743-D1C5557C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377E-C737-4BD5-93BB-DF44F335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F3B8-F90A-49E1-8031-4345E2C0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E339-9E80-48D5-B5C3-7E909D83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CA65-BEE3-4EAD-A883-6480ED95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CE4A-172F-481B-810A-834BAECB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F1F0-2D84-4F83-ADEF-19C0CF87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3DFA-0B51-4E7F-9282-B823C9A7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679A-F076-44EF-A1BF-C0672649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4583-715A-407B-AC82-44DBC21A94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858000" y="6324480"/>
            <a:ext cx="1905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-</a:t>
            </a:r>
            <a:fld id="{BE48103F-EDBD-4A7B-8086-4CDE3F25D275}" type="slidenum">
              <a:rPr b="1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89A0-A960-4CE4-A282-E30495F67D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6324480"/>
            <a:ext cx="1905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-</a:t>
            </a:r>
            <a:fld id="{DF8B29B4-6282-4449-BEA9-13FDBDECEF47}" type="slidenum">
              <a:rPr b="1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8284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HAPTER 4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inancial Environment: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rkets, Institutions, and Interest Ra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mark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s of financial instit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ants of interest r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ield cur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mark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arket is a venue where goods and services are exchang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financial market is a place where individuals and organizations wanting to borrow funds are brought together with those having a surplus of fu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4:23:36Z</dcterms:created>
  <dc:creator>Christopher Buzzard</dc:creator>
  <dc:description/>
  <dc:language>en-US</dc:language>
  <cp:lastModifiedBy>University of Tulsa</cp:lastModifiedBy>
  <dcterms:modified xsi:type="dcterms:W3CDTF">2006-08-24T17:48:15Z</dcterms:modified>
  <cp:revision>25</cp:revision>
  <dc:subject/>
  <dc:title>CHAPTER 4 The Financial Environment: Markets, Institutions, and Interest Rates</dc:title>
</cp:coreProperties>
</file>