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457-73A1-4F93-B3C0-943D301B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6DB-716C-4D23-AFBB-DE321F81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066-586D-4D41-95F8-2A7AF5F6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FE5-BEC9-48AD-8D34-A17A047A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1AF-4807-479A-BB3F-101AEEEC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9CA-642A-43DD-B97B-C09DBD9A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117-DFB8-43C8-9794-3199FA6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A72-C872-4E28-8572-2990452D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C02-7647-4AF1-B4E3-0144C80C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0CA-1D0D-4689-AA65-0603808F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1BD-0A60-46E3-893B-37C6AF2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BB1-7EE4-4B07-BD66-95535A50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45A0AB-506E-42E7-B789-8DA88614A8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7080" y="127080"/>
            <a:ext cx="127008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Times New Roman"/>
              </a:rPr>
              <a:t>Page 1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27080"/>
            <a:ext cx="2539800" cy="2539800"/>
          </a:xfrm>
          <a:custGeom>
            <a:avLst/>
            <a:gdLst>
              <a:gd name="textAreaLeft" fmla="*/ 579600 w 2539800"/>
              <a:gd name="textAreaRight" fmla="*/ 1960200 w 2539800"/>
              <a:gd name="textAreaTop" fmla="*/ 579600 h 2539800"/>
              <a:gd name="textAreaBottom" fmla="*/ 1960200 h 253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62012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