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5EE-2F8C-4D92-80B8-618D7A92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32B-F0CF-4C62-A6DE-E516C8E3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2E0-6E13-4926-8129-C9DC3DB7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37A-63D9-4D73-A64E-316857E5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8FF-6C93-4BF1-BAF9-E8AA2049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50F-2F76-4ECF-A67A-D6BB263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0F7-D5CA-4F32-9AF8-1D9B7E85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1CD-CAF6-4A47-A1DD-63A58D8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78A-791A-430C-AC9B-DA4B0E3E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937-C3DE-442F-A11B-EFEFB46D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D37-4005-4521-9F94-01D0501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08E-D28D-4852-9667-6A456D82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F37-FFC2-4976-ACB7-9718D981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8:36:13Z</dcterms:created>
  <dc:creator>virtusa</dc:creator>
  <dc:description/>
  <dc:language>en-US</dc:language>
  <cp:lastModifiedBy>virtusa</cp:lastModifiedBy>
  <dcterms:modified xsi:type="dcterms:W3CDTF">2004-12-10T08:36:23Z</dcterms:modified>
  <cp:revision>1</cp:revision>
  <dc:subject/>
  <dc:title>Slide 1</dc:title>
</cp:coreProperties>
</file>