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77E6-C5BC-4FC0-B0DF-BD16810973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Stelling verder uitwer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Verder verschil tussen beide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Voorbeeld van bio-ingenieurs gebrui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Onderzoek met bioingenieu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Verband vrees- opleiding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Een vak dat naast ingenieurswetenschappen sta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Project inleiden, waar, wie, wat wanneer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dere: scherpt verstand, ontdekken van gebre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43A-2352-45ED-9DA0-FA4E685C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475-8B00-4C43-B74E-F1A37384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3EA-4E8F-4DD0-87EC-A9C9843E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3CB-E97C-4240-B023-861F9CF5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4C4B-2768-4BA7-8F49-A1A6175B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9E7-401C-4DBD-B16B-2FFB227D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A461-617C-48F9-A982-51F92F6A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82B3-4225-4E2A-9EDC-11982F50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80E0-FEC0-4C9C-AEA0-AB7A043C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A83E-ED77-4880-9F93-CB77E010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4FE-F299-44C4-B6F5-D9EAA4E1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CEE-E5A2-4FC2-95D0-450952F7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031-A74D-4C84-A13D-A0BF62C2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32F8-2611-4901-AE2B-99E23D17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27BD-FBAA-4C31-8ABA-F29355F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169F-0273-4E78-8BC2-2CED55A8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BF66-2610-468B-9C44-69105B88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6E9-8480-450E-9FA3-3BE8A1FE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7C8-4FE1-44B6-9880-A2050887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434-FA1A-4088-9275-C5154928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F92-F4A8-4B6A-93FC-220981FA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8BD-E646-4012-A322-8F57F64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EC2-B7D2-47C2-AFF6-FCC39D4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EA0-E833-4AE7-8DBF-DB7F4F66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894A-80CE-4C33-9D0C-E291542E8913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D266-375E-4186-A69D-9DF0734BC360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3366"/>
                </a:solidFill>
                <a:latin typeface="Arial"/>
              </a:rPr>
              <a:t>Communicatie en Ingenieur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39369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66"/>
                </a:solidFill>
                <a:latin typeface="Arial"/>
              </a:rPr>
              <a:t>Het belang van communicatie voor ingenieurs in onze moderne samenleving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Beslui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Geïntegreerd aanlere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Noodzaak creëren, leren gebaseerd op uitdag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Intellectual activities lead to skills, but skills do not generate intellectual activiti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Proble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Meeste ingenieursopleidingen niet vak-overschrijdend of project-gebasee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Kosten ho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Internet-cursu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Twee Modellen voor 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Twee projecten, geïntegreerd met de leerstof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Duidelijke doelen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bv: brieven schrijven, presentatie ge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Zonder duidelijke doelen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Goede resultaten vereisen dat men zijn 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projecten kan verdedigen, voorstellen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Taalvaardige ingeni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Industrie is vragende parti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cholen geven opleidi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Op een goede mani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En de ingenieurs zelf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Mening ingeni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16 communicatievaardigheden geëvaluee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Belangrijk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Team-Building, luisteren, motiveren,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Minder Belangrijk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Spreken voor publiek, conflicten oplossen</a:t>
            </a:r>
            <a:br>
              <a:rPr sz="2800"/>
            </a:b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interviewen,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Dagelijks               occasione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71440" y="57150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Vaardigheden ingeni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Goed in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Team-Building, werken in kleine      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groepen, luisteren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Minder in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Spreken voor publiek, interviews,                                              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motiveren, bevelen geven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Communicatievre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Lager geplaatste ingenieurs meer vr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Hoger geplaatste ingenieu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Oudere werknemers meer vrees dan jonge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Door 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opleiding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657600"/>
            <a:ext cx="1066680" cy="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Opleiding Communica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Leerplan: Communicatie = basisvaardighe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tudenten: Zien communicatie als 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bijvak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Geïntegreerd aanleren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via nieuwe projecten (VaNTH ER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Opleiding communicatie vroe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Twee soorten opleidingen: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1)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Alleenstaande cursussen technisch   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chrijven, zinsbouw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Niet doeltreffend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 2)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chrijfcursussen waarin het belang wordt 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uitgelegd voor ingenieurs (WAC)</a:t>
            </a:r>
            <a:br>
              <a:rPr sz="2800"/>
            </a:b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ommige succesvol, 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meeste 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teleurstelling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19112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41008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Nieuwe projec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Engineering Design and Communication (ED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Samenwerking</a:t>
            </a: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 tussen vak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Projecten voorstellen, verkopen, proeven samenvatten, presentaties geven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66"/>
                </a:solidFill>
                <a:latin typeface="Arial"/>
              </a:rPr>
              <a:t>Resulta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Hogere kwaliteit rapporten dan vorige j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Beter team-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3366"/>
                </a:solidFill>
                <a:latin typeface="Arial"/>
              </a:rPr>
              <a:t>Studenten zien het belang in</a:t>
            </a:r>
            <a:br>
              <a:rPr sz="2800"/>
            </a:b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(85% zei gigantisch veel bijgeleerd te 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838383"/>
                </a:solidFill>
                <a:latin typeface="Arial"/>
              </a:rPr>
              <a:t>hebb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3:12:54Z</dcterms:created>
  <dc:creator>Ruben Simoens</dc:creator>
  <dc:description/>
  <dc:language>en-US</dc:language>
  <cp:lastModifiedBy>Ruben Simoens</cp:lastModifiedBy>
  <dcterms:modified xsi:type="dcterms:W3CDTF">2005-10-15T13:36:37Z</dcterms:modified>
  <cp:revision>4</cp:revision>
  <dc:subject/>
  <dc:title>Communicatie en Ingenieurs</dc:title>
</cp:coreProperties>
</file>