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412-DCA4-401D-B6D0-1D4460F3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DF1-EA89-4992-ACB5-8A6926EF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396-0262-430D-80C2-18206FD7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8C3-B146-4328-9226-B4CC88DA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045-6247-4AC8-9CFF-1D125963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39D-B897-450B-931E-5475B945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A02-1BE0-48C2-9A09-5E74F03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B68-6DD5-41E7-B63B-6536E07A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6A5-33A8-42A5-835F-A211617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438-C5A1-4FD6-B13C-4419744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F0D-31F2-44C9-8514-DB36A30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E4F-58D1-49A3-965A-25D2460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79B5-250B-46AA-9C35-CD6C908A5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Orig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s" descr=""/>
          <p:cNvPicPr/>
          <p:nvPr/>
        </p:nvPicPr>
        <p:blipFill>
          <a:blip r:embed="rId1"/>
          <a:stretch/>
        </p:blipFill>
        <p:spPr>
          <a:xfrm>
            <a:off x="1646280" y="2819520"/>
            <a:ext cx="58514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with-More Brigh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s" descr=""/>
          <p:cNvPicPr/>
          <p:nvPr/>
        </p:nvPicPr>
        <p:blipFill>
          <a:blip r:embed="rId1"/>
          <a:srcRect l="9116" t="39016" r="67447" b="23898"/>
          <a:stretch/>
        </p:blipFill>
        <p:spPr>
          <a:xfrm>
            <a:off x="2209680" y="4141800"/>
            <a:ext cx="1371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with-Less-Brigh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s" descr=""/>
          <p:cNvPicPr/>
          <p:nvPr/>
        </p:nvPicPr>
        <p:blipFill>
          <a:blip r:embed="rId1"/>
          <a:srcRect l="9116" t="39016" r="67447" b="23898"/>
          <a:stretch/>
        </p:blipFill>
        <p:spPr>
          <a:xfrm>
            <a:off x="2209680" y="4141800"/>
            <a:ext cx="1371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22:07Z</dcterms:modified>
  <cp:revision>26</cp:revision>
  <dc:subject/>
  <dc:title>PowerPoint Presentation</dc:title>
</cp:coreProperties>
</file>