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7FF-3E71-43BC-9CE1-E210DFAC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D93-A72C-42BA-8771-C2E1D42D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340-3963-4DAD-8C7A-08018E61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4C1-B442-41F4-8BEE-B1453551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24D-4E45-4DC8-9585-34EF933A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454-5228-4009-9A1F-5A3D09B5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ABD8-1CCD-4522-9DA4-2A902C8D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1AE-5C00-4F08-A02D-148CA736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D92-EAD7-448A-A7A7-A49CA1FF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AA6-0966-41A8-9D08-8A4DA79C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30B-58D2-49A6-81CD-AF90413E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06E-EEC0-41D7-A8FA-5E38677C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0F23E-8DA9-49F0-97DF-1AF1E43D9E00}" type="slidenum">
              <a:rPr b="0" lang="en-I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6760"/>
            <a:ext cx="9072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Avoid Mental Sub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6840" y="1233360"/>
            <a:ext cx="9264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Mean Change in Supine Blood Pressure Following MK and Placebo (</a:t>
            </a:r>
            <a:r>
              <a:rPr b="0" lang="en-IN" sz="2000" spc="-1" strike="noStrike">
                <a:solidFill>
                  <a:srgbClr val="00ccff"/>
                </a:solidFill>
                <a:latin typeface="Arial"/>
              </a:rPr>
              <a:t>left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) and Difference Between MK and Placebo Mean Change (</a:t>
            </a:r>
            <a:r>
              <a:rPr b="0" lang="en-IN" sz="2000" spc="-1" strike="noStrike">
                <a:solidFill>
                  <a:srgbClr val="00ccff"/>
                </a:solidFill>
                <a:latin typeface="Arial"/>
              </a:rPr>
              <a:t>right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) at Each Tim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3818" t="20238" r="5635" b="6470"/>
          <a:stretch/>
        </p:blipFill>
        <p:spPr>
          <a:xfrm>
            <a:off x="603360" y="197172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02:42:40Z</dcterms:created>
  <dc:creator/>
  <dc:description/>
  <dc:language>en-US</dc:language>
  <cp:lastModifiedBy>svege</cp:lastModifiedBy>
  <dcterms:modified xsi:type="dcterms:W3CDTF">2010-07-16T05:51:07Z</dcterms:modified>
  <cp:revision>2</cp:revision>
  <dc:subject/>
  <dc:title>Avoid Mental Subtraction</dc:title>
</cp:coreProperties>
</file>