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66F-8FAB-4BA1-B408-2A5E1A78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C0C-D6FA-476F-A925-CCDAABEC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C9B-6844-4C90-9FF8-7E22A569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E64-110C-47D4-85EC-C1FA37E9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4E1-1CDD-40A7-9C0F-577E0A7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7A1-27D8-4150-87A8-EC58780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BCE-7CE7-4ACA-88D5-D375542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E63-2B84-4447-87EE-9EC845FF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0B5-9DA9-451C-8464-9AAC5470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CB9-8B4B-462B-B20C-07A0687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D1F-86EC-47E9-B7DA-95613F2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0FC-3795-4E56-9EB3-53F2F60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AE0-DE95-4C73-9BAB-B57E1E173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1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0:03:02Z</dcterms:created>
  <dc:creator>Ученик</dc:creator>
  <dc:description/>
  <dc:language>en-US</dc:language>
  <cp:lastModifiedBy>Ученик</cp:lastModifiedBy>
  <dcterms:modified xsi:type="dcterms:W3CDTF">2011-05-18T10:03:22Z</dcterms:modified>
  <cp:revision>1</cp:revision>
  <dc:subject/>
  <dc:title>Слайд 1</dc:title>
</cp:coreProperties>
</file>