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BC8A-AF7A-4DDB-B846-A58C5CFB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D99-C7B8-4BB8-929E-5441DDBD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6FF7-F113-4D53-9548-3E0E263E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1BCD-9732-41D5-BD05-542DC9B7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6B9F-3A4F-47EE-836C-AE4A3907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048D-4D4C-4D3E-B3BB-C86CB1FC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1DCE-942C-445F-8473-F083F39D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6869-3FE0-4697-A0F9-A22A4FEE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2098-C237-4F2A-B0F3-3259070B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EBC1-5088-47F4-88DD-FB327F7A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036C-7370-4054-AC4D-18475A6C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8A57-D9A8-4A3B-B262-18A837B9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8D82-26B2-45D9-B919-FAEABD51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8EBA-0EFC-4EB8-AC95-B504203F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07CC-5326-4CC2-81F3-518E75B9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C1BD-77B3-4A19-9F5B-EC650CC6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8CAA-B9D9-4031-B7EE-5712614C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86A5-D27C-4140-923C-F915091D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FFED-808C-4AAA-962B-29D7276E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9D98-AD0C-424A-943F-BD11E851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B5E1-CD70-4F7D-93E3-B1BF499F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A6F6-5153-48E9-9DA9-4A41ED68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167E-F39C-4F07-BE4A-62218C65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2CDD-A804-4572-99D2-A219D062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2560" cy="6399000"/>
                <a:chOff x="0" y="304920"/>
                <a:chExt cx="9142560" cy="63990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1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04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896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5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0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0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756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24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704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16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65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144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564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056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54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004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46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895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40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3990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39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2720" cy="6856560"/>
                <a:chOff x="304920" y="0"/>
                <a:chExt cx="8532720" cy="685656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1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0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896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5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4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36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79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24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74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196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68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18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636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12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58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04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53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02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48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3997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46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088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376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186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32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816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30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764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89880" cy="150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05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2720" cy="2322720"/>
              <a:chOff x="414360" y="1415880"/>
              <a:chExt cx="1782720" cy="232272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2720"/>
                <a:ext cx="178272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9120" y="1419120"/>
                <a:ext cx="0" cy="23194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560" y="1415880"/>
                <a:ext cx="191880" cy="19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528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FA80F5-B73E-414F-8543-A085021358E8}" type="slidenum">
              <a:rPr b="0" lang="pl-PL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89880" cy="15084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2560" cy="6856560"/>
                <a:chOff x="0" y="0"/>
                <a:chExt cx="9142560" cy="68565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256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05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320" y="887400"/>
              <a:ext cx="6652800" cy="2849400"/>
              <a:chOff x="4320" y="887400"/>
              <a:chExt cx="6652800" cy="28494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880" y="887400"/>
                <a:ext cx="0" cy="2849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320" y="3052440"/>
                <a:ext cx="5096520" cy="32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760" y="1487160"/>
                <a:ext cx="6048360" cy="32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5880" cy="24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3680" cy="2874960"/>
              <a:chOff x="2349360" y="3098880"/>
              <a:chExt cx="6043680" cy="287496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36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496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6240" cy="247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40458c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40458c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40458c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7131375-7B30-4B6D-A02A-7FFCB0A84C4B}" type="slidenum">
              <a:rPr b="0" lang="pl-PL" sz="1400" spc="-1" strike="noStrike">
                <a:solidFill>
                  <a:srgbClr val="40458c"/>
                </a:solidFill>
                <a:latin typeface="Tahoma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68220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Arial"/>
              </a:rPr>
              <a:t>Podstawowe prawa optyk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Arial"/>
              </a:rPr>
              <a:t>Zasada Fermat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Arial"/>
              </a:rPr>
              <a:t>Odbicie i załamanie fali elektromagnetycznej na granicy idealnego dielektryk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71600"/>
            <a:ext cx="7772400" cy="53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cc3300"/>
                </a:solidFill>
                <a:latin typeface="Arial"/>
              </a:rPr>
              <a:t>Zasada Fermata:</a:t>
            </a:r>
            <a:br>
              <a:rPr sz="3600"/>
            </a:br>
            <a:br>
              <a:rPr sz="3600"/>
            </a:br>
            <a:r>
              <a:rPr b="0" lang="pl-PL" sz="3200" spc="-1" strike="noStrike">
                <a:solidFill>
                  <a:srgbClr val="660066"/>
                </a:solidFill>
                <a:latin typeface="Arial"/>
              </a:rPr>
              <a:t>Promień świetlny biegnie pomiędzy dwoma punktami po drodze optycznej, która dla danego promienia jest spośród wszystkich najkrótsza. Drogą optyczną nazywamy iloczyn drogi geometrycznej </a:t>
            </a:r>
            <a:r>
              <a:rPr b="0" i="1" lang="pl-PL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pl-PL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660066"/>
                </a:solidFill>
                <a:latin typeface="Arial"/>
              </a:rPr>
              <a:t>przebytej przez promień i współczynnika załamania ośrodka</a:t>
            </a: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3200" spc="-1" strike="noStrike">
                <a:solidFill>
                  <a:srgbClr val="660066"/>
                </a:solidFill>
                <a:latin typeface="Arial"/>
              </a:rPr>
              <a:t>, </a:t>
            </a:r>
            <a:br>
              <a:rPr sz="3200"/>
            </a:br>
            <a:r>
              <a:rPr b="0" lang="pl-PL" sz="3200" spc="-1" strike="noStrike">
                <a:solidFill>
                  <a:srgbClr val="660066"/>
                </a:solidFill>
                <a:latin typeface="Arial"/>
              </a:rPr>
              <a:t>w którym aktualnie biegnie promień.</a:t>
            </a:r>
            <a:r>
              <a:rPr b="0" lang="pl-PL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pl-PL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660066"/>
                </a:solidFill>
                <a:latin typeface="Arial"/>
              </a:rPr>
              <a:t>Jeśli współczynnik załamania ośrodka zmienia się w sposób ciągły wtedy możemy napisać: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429000" y="1467000"/>
                <a:ext cx="228600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nds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581280" y="3798720"/>
                <a:ext cx="221004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s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038480" y="5486400"/>
                <a:ext cx="10670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762120" y="28954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Równanie możemy podzielić przez stałą prędkość światła w próżni 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43120" y="503568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poniewa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0" y="18684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(2.1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9440" y="42735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(2.2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9440" y="579744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(2.3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164880"/>
            <a:ext cx="77724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660066"/>
                </a:solidFill>
                <a:latin typeface="Arial"/>
              </a:rPr>
              <a:t>zatem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429000" y="839880"/>
                <a:ext cx="204480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505320" y="2814480"/>
                <a:ext cx="1884240" cy="138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900000" y="240192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0040" y="4502160"/>
            <a:ext cx="779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Co oznacza że czas przebiegu przez światło odcinka A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jest najkrótsz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10080" y="133524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(2.4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10080" y="3240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(2.5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cc3300"/>
                </a:solidFill>
                <a:latin typeface="Arial"/>
              </a:rPr>
              <a:t>Odbicie i załamanie fali elektromagnetycznej na granicy idealnego dielektryk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505320" y="2971800"/>
                <a:ext cx="23619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{ vec 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1280160" y="1674720"/>
            <a:ext cx="718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Na granicy ośrodków następuje odbicie i załamani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fali elektromagnetycznej. Aby określić te zjawisk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korzystamy z równań Maxwell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58640" y="407844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gdzi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752480" y="4572000"/>
                <a:ext cx="400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752480" y="5181480"/>
                <a:ext cx="400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2290320" y="4646520"/>
            <a:ext cx="43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- natężenie pola elektryczneg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90680" y="533232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- wektor indukcji magnetycznej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7160" y="3359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(2.6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660066"/>
                </a:solidFill>
                <a:latin typeface="Arial"/>
              </a:rPr>
              <a:t>Odbicie i załamanie fali elektromagnetycznej na granicy idealnego dielektryk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915840" y="1701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ora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362320" y="1828800"/>
                <a:ext cx="330012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{ vec 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993600" y="335916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gdzi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905120" y="3809880"/>
                <a:ext cx="504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905120" y="4495680"/>
                <a:ext cx="4600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905120" y="5181480"/>
                <a:ext cx="419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2368440" y="396864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- natężenie pola elektromagnetyczneg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67000" y="465444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- wektor indukcji magnetycznej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63760" y="526428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- gęstość prądu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54520" y="236844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(2.7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876920" y="5105520"/>
                <a:ext cx="15620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660066"/>
                </a:solidFill>
                <a:latin typeface="Arial"/>
              </a:rPr>
              <a:t>Wprowadzając do równania wektorową postać prawa Ohma otrzymamy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362320" y="1523880"/>
                <a:ext cx="39621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ε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σ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673200" y="28591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gdzi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523880" y="3352680"/>
                <a:ext cx="4572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1921680" y="3276720"/>
            <a:ext cx="58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- przewodność właściwa danego ośrodk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3720" y="4154400"/>
            <a:ext cx="78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Jeżeli interesuje nas zachowanie się pola elektrycznego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w idealnym dielektryku, czyli dl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962520" y="5334120"/>
                <a:ext cx="10666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σ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6843600" y="19447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(2.8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971800" y="1600200"/>
                <a:ext cx="274320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με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992320" y="3014640"/>
                <a:ext cx="288792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με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993960" y="427356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gdzi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996920" y="5257800"/>
                <a:ext cx="462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073240" y="4724280"/>
                <a:ext cx="3841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2441520" y="465444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- stała dielektryczn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42960" y="5187960"/>
            <a:ext cx="41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- przenikalność magnetyczn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630840" y="19875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(2.9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75400" y="3478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(2.10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72440" y="311040"/>
            <a:ext cx="66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To przez działanie rotacją na równanie </a:t>
            </a: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2.6</a:t>
            </a: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 i </a:t>
            </a: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2.7</a:t>
            </a:r>
            <a:r>
              <a:rPr b="0" i="1" lang="pl-PL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otrzymujem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28720" y="344520"/>
            <a:ext cx="695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Rozwiązaniem periodycznym równań </a:t>
            </a: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2.9</a:t>
            </a: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 i </a:t>
            </a: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2.10</a:t>
            </a: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 są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równani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362320" y="1290600"/>
                <a:ext cx="43434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[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t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900000" y="2097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ora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133720" y="2644920"/>
                <a:ext cx="45720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[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t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841680" y="381636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gdzi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89280" y="4300560"/>
            <a:ext cx="382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kierunek propagacji fal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Arial"/>
              </a:rPr>
              <a:t>– wektor falow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8040" y="14540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(2.11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88040" y="28256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cc3300"/>
                </a:solidFill>
                <a:latin typeface="Arial"/>
              </a:rPr>
              <a:t>(2.12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19:22:03Z</dcterms:created>
  <dc:creator>ps</dc:creator>
  <dc:description/>
  <dc:language>en-US</dc:language>
  <cp:lastModifiedBy>prof</cp:lastModifiedBy>
  <dcterms:modified xsi:type="dcterms:W3CDTF">2006-11-07T10:48:34Z</dcterms:modified>
  <cp:revision>216</cp:revision>
  <dc:subject/>
  <dc:title>Prof. Sławomir Kończak</dc:title>
</cp:coreProperties>
</file>