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CF8-CF29-4D49-93CF-8EF786D0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A9B-D0C0-41F8-AF0E-393D5A4A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8B2-38B4-418C-97F9-980F8BB9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7C9-4AB9-4CF3-B8B9-03A7B528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137-C846-477A-945C-3396A8F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5BA-943F-4199-B697-3441171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19F-FD6D-40E9-9D7E-45186EE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E64-E3DF-4F38-B62B-7F83B9F5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293-E9C8-403C-901B-A1E12F55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453-89F1-4A30-93C7-93A0EE0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2C2-5DD8-4BC3-8C08-B940AF0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16D-941C-4B03-B15B-C347ACA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0D2-3A4D-4F57-9522-6DD22C0C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ed-Note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28800" y="3186000"/>
          <a:ext cx="48769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186000"/>
                    <a:ext cx="48769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7:40Z</dcterms:modified>
  <cp:revision>28</cp:revision>
  <dc:subject/>
  <dc:title>PowerPoint Presentation</dc:title>
</cp:coreProperties>
</file>