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8ACE-539A-4067-B576-E044C9FA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52BB-D349-49E1-951F-53DEC8B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7341-A5FC-43E5-8D5B-DCF48061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FB0C-A761-4CA4-844B-594566F5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1ED6-476C-4EEF-9E4B-AD0752DA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F2E2-EFB7-4476-BCF7-A1EA210B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0C41-6E9A-45A8-9B2C-05B082D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FC8B-FF99-487D-8F6D-873D3CB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E57E-89DF-4E26-80B4-420B60A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4B81-1F61-4013-9377-3B58023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43DB-6ADA-408F-9740-F7952D9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4DFD-709C-4F7A-A273-DD5D00EF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DC1B-4A6D-4761-BC82-DD59F24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5C8C-4AD7-459F-8EAB-1E13402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FA5-753F-41B8-9994-6107196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D86C-DA01-40F1-A877-04C28481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77B-668F-4A30-B2FC-0FB73314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03D8-56FF-43DF-84D4-B996DC5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F963-171E-44AB-8AF7-BA4D5D39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F595-5F15-41E4-A52D-5C52E52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BAAB-3AB3-46E5-8506-7587493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06B6-2404-4788-BE19-D5EC349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328A-CF26-4C0E-88BA-94A5DD5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66EE-5BF1-4143-8141-2931C15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91B3-7D31-4D76-8900-32E8FA18D05F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5BD1-DF2D-4109-BA83-EA5AF26FF296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ris.Liang@amd.com" TargetMode="External"/><Relationship Id="rId2" Type="http://schemas.openxmlformats.org/officeDocument/2006/relationships/hyperlink" Target="mailto:Lawrence.Liu@amd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Linux SB700 Driver Test (Basic)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Exit Repor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宋体"/>
              </a:rPr>
              <a:t>- IDE, RHEL5.1 RC i38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240" y="42667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eport prepared by Lawrence Li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Information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If there are any questions, please feel free to contact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1"/>
              </a:rPr>
              <a:t>Harris.Liang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or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2"/>
              </a:rPr>
              <a:t>Lawrence.Liu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Platform Inf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Linux Distro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HEL5.1 RC i38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latform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hiner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ev. 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Northbridge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+ 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Southbridge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X780 A11 + SB700 A11 + ALC88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/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102-B27711-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W Level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BIO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MSNA01-8 (08.00.14, 09/18/07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B CIM revision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.00.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yperDrive Option ROM Versio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0001.00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Garamond"/>
              </a:rPr>
              <a:t>System Configurat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CPU speed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  <a:ea typeface="宋体"/>
              </a:rPr>
              <a:t>Athlon 64 X2 4000+, G1, 2.1 G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T frequency: 1000 M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Memory (SODIMM): Samsung 512MB 800MHz x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宋体"/>
              </a:rPr>
              <a:t>HDD: Seagate Barracuda 7200.9 80Gb (Desktop 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DD: Plextor PX-755SA DVD +/- RW Drive (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Issue Information at Test Ex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First test pass of IDE, REHL5.1 RC i386 on Shin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New issues were open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test items were block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items were skipp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Open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New Active Issu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Matr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See attached spreadsheet for test case resul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Some cases have comments that may be helpf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8120" y="2819520"/>
          <a:ext cx="914400" cy="68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914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5120" y="1600200"/>
          <a:ext cx="82123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23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  <a:ea typeface="宋体"/>
              </a:rPr>
              <a:t>Test Case Result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447920"/>
          <a:ext cx="84409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40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/ Closed Issue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320" y="1768320"/>
          <a:ext cx="874224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768320"/>
                    <a:ext cx="874224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Accumulative Issue Count Between Buil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3040" y="1744560"/>
          <a:ext cx="819612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44560"/>
                    <a:ext cx="819612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38:03Z</dcterms:created>
  <dc:creator>Wiler He</dc:creator>
  <dc:description/>
  <cp:keywords>BIOS validation report ppt</cp:keywords>
  <dc:language>en-US</dc:language>
  <cp:lastModifiedBy>laliu</cp:lastModifiedBy>
  <dcterms:modified xsi:type="dcterms:W3CDTF">2007-10-11T07:20:06Z</dcterms:modified>
  <cp:revision>350</cp:revision>
  <dc:subject/>
  <dc:title>Seahorse AMI D03 sbios release Test Exit Report</dc:title>
</cp:coreProperties>
</file>