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661-2069-4B74-9031-AFF5D56A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524-3C7E-40DF-948B-1911CE8C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7F8-7E84-41C1-A896-EE1198D2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FEC-3500-4F6E-8AFC-F2527670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957-F070-4193-BFCD-0890B02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5F0-5E96-4E44-87EA-F6D5751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1EB-E4A1-4AA2-B20A-637A0F5E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2C7-878B-4973-8580-BBCA096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2D2-32AA-4F8E-95A0-47B35D0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388-81A6-40B8-B8F7-C86FDD2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AC2-552A-40B1-B90B-D23999C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05E-FB67-4BD7-BC10-1E65781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37A-116F-44FA-AF73-C0645FD9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7720" y="2805120"/>
            <a:ext cx="1537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6920" y="200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14428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2280" y="1638360"/>
            <a:ext cx="914400" cy="9144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7680" y="379440"/>
            <a:ext cx="914400" cy="9144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5760" y="34308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3880" y="30492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0240" y="1144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47360" y="2805120"/>
            <a:ext cx="1486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47720" y="419040"/>
            <a:ext cx="1214640" cy="8524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13334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371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3320" y="11523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9040" y="100980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47360" y="2805120"/>
            <a:ext cx="1169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77040" y="138096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43040" y="1209600"/>
            <a:ext cx="60984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5560" y="1419120"/>
            <a:ext cx="609840" cy="60984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48080" y="2805120"/>
            <a:ext cx="2044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 and ba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3160" y="165744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24760" y="186696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71760" y="39996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5144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7524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53200" y="17715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67520" y="2038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7600" y="2914560"/>
            <a:ext cx="914400" cy="6098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5520" y="30290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43440" y="3181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4520" y="34290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29680" y="3429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0280" y="466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4960" y="6215040"/>
            <a:ext cx="1003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7600" y="762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2705040" y="80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67360" y="952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91200" y="114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371600" y="2762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009960" y="2857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4533840" y="29145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6153120" y="30290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1752480" y="45147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5800" y="4591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4876920" y="4819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781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3880" y="6215040"/>
            <a:ext cx="12214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43280" y="266760"/>
            <a:ext cx="1904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4400" y="32400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6720" y="6176880"/>
            <a:ext cx="7246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"/>
          <p:cNvCxnSpPr/>
          <p:nvPr/>
        </p:nvCxnSpPr>
        <p:spPr>
          <a:xfrm>
            <a:off x="1447560" y="399600"/>
            <a:ext cx="1639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>
            <a:off x="2419200" y="342720"/>
            <a:ext cx="152496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>
            <a:off x="2819520" y="2971440"/>
            <a:ext cx="1753200" cy="16772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5352840" y="2933280"/>
            <a:ext cx="144828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3180960" y="5390640"/>
            <a:ext cx="142956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5257440" y="5486040"/>
            <a:ext cx="1353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076280" y="576360"/>
            <a:ext cx="13467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5:16Z</dcterms:created>
  <dc:creator>user</dc:creator>
  <dc:description/>
  <dc:language>en-US</dc:language>
  <cp:lastModifiedBy>user</cp:lastModifiedBy>
  <dcterms:modified xsi:type="dcterms:W3CDTF">2011-07-11T11:41:18Z</dcterms:modified>
  <cp:revision>5</cp:revision>
  <dc:subject/>
  <dc:title>Slide 1</dc:title>
</cp:coreProperties>
</file>