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6C2-B9A8-4450-A11E-B3EBA715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20E-A8EB-46E4-B48C-31BC094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05D-C50C-42DF-99D0-D1843BF1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69C-AC8A-42CA-9F94-FA442C50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6D0-E8CD-445E-8834-08CEE1A0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54B-22D3-4AA5-833A-E161DD5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385-9B98-4A42-B87F-8CB04F6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0B0-9691-47E1-8F11-815C01F6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E04-D3AA-4DAF-94E6-F279435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08A-9108-4417-AA0E-769AA0A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ECE-5698-4DAE-B03F-1233A66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B17-E643-45E4-BF21-9FE2E1A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7B2D-2110-458D-A4A8-2E2FC260C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95640" y="531720"/>
          <a:ext cx="5497560" cy="1457280"/>
        </p:xfrm>
        <a:graphic>
          <a:graphicData uri="http://schemas.openxmlformats.org/drawingml/2006/table">
            <a:tbl>
              <a:tblPr/>
              <a:tblGrid>
                <a:gridCol w="866880"/>
                <a:gridCol w="463068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case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FC30EP1_PPT_OLE2180(Chart_are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FC\FFC with MS office\Interoperability Support Enhancement Phase I\OLE In-Place Editing\SD\MS Excel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st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hart_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195640" y="180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95640" y="1989000"/>
          <a:ext cx="434340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343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11:38Z</dcterms:created>
  <dc:creator>Jason Zhu</dc:creator>
  <dc:description/>
  <dc:language>en-US</dc:language>
  <cp:lastModifiedBy>Jason Zhu</cp:lastModifiedBy>
  <dcterms:modified xsi:type="dcterms:W3CDTF">2005-12-06T05:55:03Z</dcterms:modified>
  <cp:revision>21</cp:revision>
  <dc:subject/>
  <dc:title>Slide 1</dc:title>
</cp:coreProperties>
</file>