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0EC-15B7-4A62-B85C-6C3C9AF9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808-3B2A-4100-9ECC-3999B5B8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126-FF2C-4DB7-8A47-CFD5F304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591-AA75-477B-B922-0BC6227F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4FB-FA44-4BF6-B9F7-EED73BDD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634-6CBB-4EF6-8218-7580050A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795-A59B-4D3F-8C63-F7334EF9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0A8-946E-4133-B560-DD9D896B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214-5E77-4563-9B21-64121F8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08E-1A59-42D2-A0C9-25DDE31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2E3-6E7E-4484-B634-3EB3FE5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C47-659F-48FB-9A69-A98689D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0388-B58A-4EEF-B0AA-7F068D3ADB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89000"/>
          <a:ext cx="8424720" cy="7991280"/>
        </p:xfrm>
        <a:graphic>
          <a:graphicData uri="http://schemas.openxmlformats.org/drawingml/2006/table">
            <a:tbl>
              <a:tblPr/>
              <a:tblGrid>
                <a:gridCol w="2160360"/>
                <a:gridCol w="2016360"/>
                <a:gridCol w="1944720"/>
                <a:gridCol w="2303280"/>
              </a:tblGrid>
              <a:tr h="3036600">
                <a:tc>
                  <a:txBody>
                    <a:bodyPr lIns="90000" rIns="90000" tIns="90000" bIns="900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72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72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72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72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079720">
                <a:tc>
                  <a:txBody>
                    <a:bodyPr lIns="90000" rIns="90000" tIns="90000" bIns="72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90000" b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9720">
                <a:tc>
                  <a:txBody>
                    <a:bodyPr lIns="90000" rIns="90000" tIns="90000" bIns="900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90000" bIns="90000" anchor="b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72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s only for tes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1680" y="1044720"/>
          <a:ext cx="9112320" cy="5114520"/>
        </p:xfrm>
        <a:graphic>
          <a:graphicData uri="http://schemas.openxmlformats.org/drawingml/2006/table">
            <a:tbl>
              <a:tblPr/>
              <a:tblGrid>
                <a:gridCol w="5092920"/>
                <a:gridCol w="4019400"/>
              </a:tblGrid>
              <a:tr h="25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able containing group objec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5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09680" y="2387520"/>
            <a:ext cx="8151840" cy="3754440"/>
            <a:chOff x="409680" y="2387520"/>
            <a:chExt cx="8151840" cy="3754440"/>
          </a:xfrm>
        </p:grpSpPr>
        <p:sp>
          <p:nvSpPr>
            <p:cNvPr id="44" name=""/>
            <p:cNvSpPr/>
            <p:nvPr/>
          </p:nvSpPr>
          <p:spPr>
            <a:xfrm>
              <a:off x="409680" y="2414520"/>
              <a:ext cx="3321000" cy="1314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ing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45280" y="2387520"/>
              <a:ext cx="3216240" cy="1403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6280" y="4566960"/>
              <a:ext cx="3198960" cy="1575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complete Set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r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38960" y="4457520"/>
              <a:ext cx="2943360" cy="1677960"/>
            </a:xfrm>
            <a:prstGeom prst="octagon">
              <a:avLst>
                <a:gd name="adj" fmla="val 2928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mplete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t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r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16640" y="3022560"/>
              <a:ext cx="1668240" cy="239400"/>
            </a:xfrm>
            <a:prstGeom prst="rightArrow">
              <a:avLst>
                <a:gd name="adj1" fmla="val 50000"/>
                <a:gd name="adj2" fmla="val 17421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5400" y="3792240"/>
              <a:ext cx="304920" cy="720720"/>
            </a:xfrm>
            <a:prstGeom prst="downArrow">
              <a:avLst>
                <a:gd name="adj1" fmla="val 50000"/>
                <a:gd name="adj2" fmla="val 5909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10160" y="5271840"/>
              <a:ext cx="1720800" cy="263520"/>
            </a:xfrm>
            <a:prstGeom prst="leftArrow">
              <a:avLst>
                <a:gd name="adj1" fmla="val 50000"/>
                <a:gd name="adj2" fmla="val 16325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267600" y="0"/>
            <a:ext cx="2876400" cy="1847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ase: FFC252FFCSD_GroupObject_Table0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: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: One group object is inserted i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ystal</cp:lastModifiedBy>
  <dcterms:modified xsi:type="dcterms:W3CDTF">2012-05-29T03:22:17Z</dcterms:modified>
  <cp:revision>8</cp:revision>
  <dc:subject/>
  <dc:title>PowerPoint Presentation</dc:title>
</cp:coreProperties>
</file>