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D5E-5DD4-4B56-AF36-C0BECBE6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EEE-46DE-4F3B-AFAF-2F3828C1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97F-BC03-4D52-B2D3-7F0291E8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C88-D5A0-4B71-9EA5-44E68EA1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3C2-0187-4274-98AB-753CF981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3A9-26A4-4AC9-8C45-B9658BB9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E12-C9FD-49F1-8EBA-9BA3829E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CF6-54D8-4FA4-9933-A5AC401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C2E-D074-4F82-A7EF-8146BEB0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EF1-29BB-4553-8888-86115DB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681-013B-4D19-9EF2-BA8DFDE3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677-C366-4098-B8D3-9879A5E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C37-566A-41FA-A80D-A6BC0E280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2T12:04:25Z</dcterms:created>
  <dc:creator>!</dc:creator>
  <dc:description/>
  <dc:language>en-US</dc:language>
  <cp:lastModifiedBy>windows</cp:lastModifiedBy>
  <dcterms:modified xsi:type="dcterms:W3CDTF">2005-05-23T10:05:06Z</dcterms:modified>
  <cp:revision>4</cp:revision>
  <dc:subject/>
  <dc:title>No Slide Title</dc:title>
</cp:coreProperties>
</file>