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6C7-097E-497B-9166-29F6B932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67B-7029-4202-9910-3E96124E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07D-0FD6-4228-B9CC-A1EDCD6C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464-D254-4364-BE7B-EAC41055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266D-438A-4C73-BD53-750D6FB8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1597-BDD0-44B8-AE1C-46E65056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8394-9505-4C34-8D3D-9B507925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C7AF-FA07-4BFE-826A-50AE9324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993C-41D8-4267-AAC5-C0F78AC5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93FD-60F7-495F-B1B9-85146848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6995-ADAC-41CF-97E7-868F8F0B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9DD-84B9-4419-B76F-F479C8A8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4B0A-3132-4F3F-9366-DF309C5C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C0A0-CC85-40CB-A05E-1A294D9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9BC-392D-4244-B813-81CEB378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6F1D-C5BF-4EA5-A6EF-541E85E9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AE82-8911-432F-B45E-DEE73757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7FE-EBB6-439C-A07D-9412C2E3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AC3-82CC-48E9-9CF3-B29E0583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572-C83A-4728-97CE-C5FE0CAB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B20-90EC-4653-96A7-4A77F17A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9BA-5493-4182-A170-6F85AD1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B67-0E10-4116-AD4D-F011458C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FB8-BBD6-477C-9EF9-7DC4DF5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99F-FA57-49EE-A703-C1122DBC974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83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87F3-1778-4934-938C-5B03A44FF93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304920"/>
            <a:ext cx="7467480" cy="62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新細明體"/>
              </a:rPr>
              <a:t>POWER </a:t>
            </a:r>
            <a:endParaRPr b="0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新細明體"/>
              </a:rPr>
              <a:t>AND </a:t>
            </a:r>
            <a:endParaRPr b="0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新細明體"/>
              </a:rPr>
              <a:t>POLITICS</a:t>
            </a:r>
            <a:endParaRPr b="0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3:42:48Z</dcterms:created>
  <dc:creator>hhhhhhhhhhhhh</dc:creator>
  <dc:description/>
  <dc:language>en-US</dc:language>
  <cp:lastModifiedBy>user</cp:lastModifiedBy>
  <dcterms:modified xsi:type="dcterms:W3CDTF">2005-03-20T08:08:41Z</dcterms:modified>
  <cp:revision>45</cp:revision>
  <dc:subject/>
  <dc:title>hhhhhhhhhhhhh</dc:title>
</cp:coreProperties>
</file>