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477-23DF-4045-B1F8-E89DCEB9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A48-1A60-4367-91A9-E03F62F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DEF-31D6-4CFB-8424-CDBDFC52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737-1268-4654-9829-2188D6EE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721-9EBE-4200-83E6-94EEBAF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DAA-9807-4597-82DF-5346603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D34-31FA-4072-A464-0089084C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CA1-3138-476B-8229-387F0B5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CCA-495E-4DD0-BCF7-1D31D4E2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B19-CA3A-4AB1-BC92-00407C8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A85-D285-47ED-8C67-6C46E0DD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C41-413D-4ADF-BB61-C66147D6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83069-F351-4F45-89F1-71FA3CF30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2260440" indent="1505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440" indent="1505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440" indent="1505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5:06:51Z</dcterms:created>
  <dc:creator/>
  <dc:description/>
  <dc:language>en-US</dc:language>
  <cp:lastModifiedBy/>
  <cp:revision>1</cp:revision>
  <dc:subject/>
  <dc:title/>
</cp:coreProperties>
</file>