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444-526D-4967-8C5B-34B7FAFC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94D-306F-4764-ABC9-B7D9ACC8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B6D-4BE2-4303-BC21-385959D0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45C-3909-4617-8541-A3D5682E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C43-85CD-4B48-9219-9F16228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E2C-B541-4B04-B0A3-E86296F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15A-E9B4-4EEA-859D-E8032D9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570-0DE9-4740-9289-80E8D1D0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563-8640-43D3-BADE-EF37E270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A4D-3C7B-4D93-BD18-C8A287A8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65E-76D6-4CF1-BDDD-8DB9406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491-D57E-4188-835E-097163D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2AE4-4335-47E1-A66D-8855F304E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224720" y="1263240"/>
            <a:ext cx="4612320" cy="3236760"/>
            <a:chOff x="1224720" y="1263240"/>
            <a:chExt cx="4612320" cy="3236760"/>
          </a:xfrm>
        </p:grpSpPr>
        <p:sp>
          <p:nvSpPr>
            <p:cNvPr id="42" name="AutoShape 3"/>
            <p:cNvSpPr/>
            <p:nvPr/>
          </p:nvSpPr>
          <p:spPr>
            <a:xfrm>
              <a:off x="3279960" y="1263240"/>
              <a:ext cx="2557080" cy="3236760"/>
            </a:xfrm>
            <a:prstGeom prst="cube">
              <a:avLst>
                <a:gd name="adj" fmla="val 54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rv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3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ft4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c32vt6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1224720" y="2138040"/>
              <a:ext cx="1960920" cy="14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581" y="12784"/>
                  </a:moveTo>
                  <a:lnTo>
                    <a:pt x="-835" y="1674"/>
                  </a:lnTo>
                </a:path>
                <a:path w="21600" h="21600">
                  <a:moveTo>
                    <a:pt x="-835" y="0"/>
                  </a:moveTo>
                  <a:lnTo>
                    <a:pt x="-835" y="2160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yrui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iu290hfs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sfrf tr4f5fsdfet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frwe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7:42:33Z</dcterms:created>
  <dc:creator>Yolanda</dc:creator>
  <dc:description/>
  <dc:language>en-US</dc:language>
  <cp:lastModifiedBy>IBM_USER</cp:lastModifiedBy>
  <dcterms:modified xsi:type="dcterms:W3CDTF">2012-06-07T09:42:56Z</dcterms:modified>
  <cp:revision>3</cp:revision>
  <dc:subject/>
  <dc:title>Below are the test focus   FFC30FFCSD_CustomShape_Group_BetweenCustomShapes_0060.ppt Check Points:    1. Grouped/Ungrouped;2. Fit Shape To Text;3. 3D Properties;4. Handle Points.</dc:title>
</cp:coreProperties>
</file>