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4AF-0714-4DD4-82E7-58BF2864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A0F-D7E2-42DA-80E1-E721B017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6DE-49F8-408C-B858-F878530D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FED-9D29-4953-B01A-D30394D6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B13-68D4-468A-ADD2-0E217396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0A4-7632-4C34-8C84-E707C2EF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CC5-45CC-4613-8975-961E0596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113-555E-4E84-9DAA-EACC1DE9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33D-0571-4E9F-9508-C88D9ABA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752-1CB8-43B5-B9F8-5075D381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F29-5880-4CCF-B58A-6219DA4A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199-6D9D-4E33-9B7C-9FD84DEC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CF2A-70B1-48C7-B8CB-04A4229058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1052640"/>
            <a:ext cx="201600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jlkjalk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4:25:22Z</dcterms:created>
  <dc:creator>dbo</dc:creator>
  <dc:description/>
  <dc:language>en-US</dc:language>
  <cp:lastModifiedBy>dbo</cp:lastModifiedBy>
  <dcterms:modified xsi:type="dcterms:W3CDTF">2005-01-21T14:25:28Z</dcterms:modified>
  <cp:revision>1</cp:revision>
  <dc:subject/>
  <dc:title>Slide 1</dc:title>
</cp:coreProperties>
</file>