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81bd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81bd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664-0616-4143-B7B0-5B4C824AB8BC}" type="slidenum">
              <a:rPr b="0" lang="en-US" sz="1200" spc="-1" strike="noStrike">
                <a:solidFill>
                  <a:srgbClr val="4f81b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5332-EE0E-49C0-AEFD-07507F8CF4C0}" type="slidenum">
              <a:rPr b="0" lang="en-US" sz="1200" spc="-1" strike="noStrike">
                <a:solidFill>
                  <a:srgbClr val="4f81b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278-B1EC-464B-8236-24CB0D6F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9C8-D4C6-46DC-804B-F29126EE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EF1-DA66-4BB9-BBEC-2C6FB0EA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3C7-471D-4627-9F6B-41BE9383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D38B-04E7-4899-B14C-16952F1D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57B4-7482-4145-9FF0-862F71F8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3151-CCA9-4B42-B82E-4C902FB4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DEAA-D9FE-474B-999F-D815F65C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EB4F-BEA4-4A9A-9379-0CD9A7F8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1418-AF1B-4134-BBA0-B1CBEB50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E5F9-CD5A-4F4A-B08B-F8A8A6A3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277-7162-41CE-B45B-DFC29FBE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2851-E8F2-4693-B796-9D97244A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9F58-2136-4ADB-9F1E-4EF26F9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0A76-45E3-48A2-A3D7-0CA80B52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3C40-F1B9-4304-AC46-8D76E76D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2523-8258-4845-B914-8065E0F2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5B4-057B-427E-9AD8-5CB63DA2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81F-A9AE-4483-B959-285802C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492-3E78-41E9-B8FE-D9C1874B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6C6-C507-483F-A99E-44E2A668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B07-2E24-4D77-9EA2-9C751029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B97-6D03-49B1-BA18-409A6F70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106-F048-4B2C-9E41-AD64555E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8E3D-9670-4BA8-B263-87A00FFE84D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99cc99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182-8324-4A92-A5CD-2773B79B6B6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c98"/>
                </a:solidFill>
                <a:latin typeface="Arial"/>
              </a:rPr>
              <a:t>Graphs - Bad</a:t>
            </a:r>
            <a:endParaRPr b="1" lang="en-US" sz="3600" spc="-1" strike="noStrike">
              <a:solidFill>
                <a:srgbClr val="009c98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762120" y="2249640"/>
          <a:ext cx="8076960" cy="43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49640"/>
                    <a:ext cx="807696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4:50:26Z</dcterms:created>
  <dc:creator/>
  <dc:description/>
  <dc:language>en-US</dc:language>
  <cp:lastModifiedBy/>
  <dcterms:modified xsi:type="dcterms:W3CDTF">2011-04-20T14:50:30Z</dcterms:modified>
  <cp:revision>1</cp:revision>
  <dc:subject/>
  <dc:title/>
</cp:coreProperties>
</file>