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9D0-2759-4566-A1B0-0FDA0FB3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D47-573D-4CF9-8F24-6B29074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CD6-8F88-4A0A-9FFC-B1CCAC3D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B05-1245-4360-9BC7-11B37678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74E-291E-4162-B27F-0D3C9A41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325-B4F5-4B40-AC2D-D1F3764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BB0-30EF-43BA-A908-1E68D6E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4C5-A68F-4F4A-80AB-60C7A8C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F14-73B1-4048-94A1-0F22498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179-776A-4D0C-9A2D-4E63F919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F7A-B44D-4438-B125-2AB63D3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EDF-3345-42B5-84A2-E07E42C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558-FBBC-4DD0-983D-BA401FCECDB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עלויות עסק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קדמה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לויות עסקה לשאלת גודל הפירמה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לויות עסקה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קדמה ועבודתו של      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מיון עסקאות וחוזים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טיפול פורמלי בבעי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תכנון חוזים לתמריצים פיננסיים,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פתרונות נוספים לבעיית התמריצים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תחרות ליצירת אמת מידה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איום השתלטויות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גחה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קרי לימוד: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</a:t>
            </a:r>
            <a:r>
              <a:rPr b="1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נהלים בחברות בורסיות,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חברות</a:t>
            </a:r>
            <a:r>
              <a:rPr b="1" lang="he-IL" sz="28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he-IL" sz="28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ליצוא פרי-הדר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מקור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רצאת הקורס באינטרנט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עוז שי: פרק שונ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Oz Shy: “ Industrial Organization, Theory and Applications”, MIT Press, 1995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ג’ין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טירול: פרק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Jean Tirole: “The Theory of Industrial Organization”, MIT Press, 1989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1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דויד קרפס: פרק 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0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David Kreps “ A Course in Microeconomic Theory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התנהגות הפירמ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35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כאמור, תת הפרק שיידון בהרצאה הנוכחית יעסוק בקשיים של בעלי הפירמה בהבטחת קיום מטרתם--השאת רווחים.   השאלה המרכזית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אם “השאת רווחים” הוא מודל התנהגותי סביר לתיאור התנהגותן של פירמות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יקרו של הדיון נימוקים בעד ונגד הנחת “השאת הרווחים”.  כמו כן מוזכרות חלופות להנחה לעיל ונדונה שאלת התקפות של התיאוריה הכלכלית כשהנחת “השאת הרווחים אינה מתקיימת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דגש מיוחד ניתן למנגנונים כלכליים שונים ליצירת תמריצים תואמים למטרות הבעלים בקרב המנהלים והעובד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חלופות להנחת השאת רווח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1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גודל הפירמה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2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קצב הצמיחה של הפירמה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3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רווחים תחת מגבלות הנובעות משנאת סיכון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4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השאת פונקצית המטרה של בעלי החוב-קרי בנקים, מחזיקי אג”ח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5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תיאוריות אבולוציוניות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6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פירמות בבעלות העובדים 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LMF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 --השאת הרווח לעובד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7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 פירמות קואופרטיביות (תנובה) --השאת הרווח ליחידת תוצרת שמסופקת ע”י החברים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השאת רווחים ובעל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4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ע”פ החוק--בעלי המניות הם התובעים השארתים של הפירמה. 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כלומר בעלי המניות הם הזכאים לעודף שנותר מפדיון המכירות לאחר ניכוי ההוצאות השונות.  לכן מטרתם הברורה של בעלי המניות השאת הרווחים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קיימות הסתייגויות הקשורות לפיזור סיכונים ותצרוכת עצמית.  במשקים מפותחים חשיבות האפקטים הללו זניחה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מכאן אי-השאת רווחים היא תוצאה של הפרדה בין בעלות לבין הניהול והשליטה.  נושא זה מטופל בספרות שעוסקת בשולחים ושליחים:    (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Principal -Agent Theory</a:t>
            </a:r>
            <a:r>
              <a:rPr b="0" lang="he-IL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)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Times New Roman"/>
              </a:rPr>
              <a:t>עלויות עסק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92000"/>
            <a:ext cx="9144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חלק זה של ההרצאה יוקדש לבעיות הכרוכות בהתקשרות ארוכת טווח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80808"/>
                </a:solidFill>
                <a:latin typeface="Times New Roman"/>
                <a:cs typeface="Arial (Hebrew)"/>
              </a:rPr>
              <a:t>העיסוק בנושא של הוצאות עסקה ומיונן של עסקאות לקטגוריות שונות ותחזית לסוג החוזים שיווצרו נערכה ע”י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  <a:ea typeface="Arial (Hebrew)"/>
              </a:rPr>
              <a:t>Williamson: 1) 1976, Bell Journal of Economics, 2) 1985 “The Economic Institutions of Capitalism” , New York--free press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7T10:22:57Z</dcterms:created>
  <dc:creator>rulik</dc:creator>
  <dc:description/>
  <dc:language>en-US</dc:language>
  <cp:lastModifiedBy>98</cp:lastModifiedBy>
  <cp:lastPrinted>2001-01-23T09:07:28Z</cp:lastPrinted>
  <dcterms:modified xsi:type="dcterms:W3CDTF">2003-03-24T07:46:25Z</dcterms:modified>
  <cp:revision>802</cp:revision>
  <dc:subject/>
  <dc:title> הסדרת משק המים בישראל: כלי מדיניות ואילוצים פוליטיים</dc:title>
</cp:coreProperties>
</file>