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E5C4-16C4-4E90-8C8B-3F79B5D1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24AF-6E8F-4B25-A757-7C66A842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014-2746-4743-B9EB-6A21F474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9EC6-759A-4363-8BBF-28CF58F2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DA3A-B928-43BC-8D04-B08CF913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A95-1765-412F-B70B-09A9E404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039-2006-4B56-985D-1115FC9B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45B-75B8-4E37-9936-0D25AA85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AD06-A731-454C-95BA-ABD1EBEE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C35-B387-4502-A8E4-3B5FE6C7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693-7522-4941-8AE6-90E03137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C253-C8CC-4329-A3AE-57167455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E67C-8C23-4D33-8BA4-9D3A493D9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6"/>
          <p:cNvSpPr txBox="1"/>
          <p:nvPr/>
        </p:nvSpPr>
        <p:spPr>
          <a:xfrm>
            <a:off x="971640" y="765000"/>
            <a:ext cx="6629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Out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Shape of  font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       Ring  Outsi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three line text  t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  fourth   line  t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 many people to do 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WordArt 19"/>
          <p:cNvSpPr txBox="1"/>
          <p:nvPr/>
        </p:nvSpPr>
        <p:spPr>
          <a:xfrm>
            <a:off x="2484360" y="4221000"/>
            <a:ext cx="3511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Out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ing Outsi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5T02:49:03Z</dcterms:created>
  <dc:creator>jiyu</dc:creator>
  <dc:description/>
  <dc:language>en-US</dc:language>
  <cp:lastModifiedBy>IBM_USER</cp:lastModifiedBy>
  <dcterms:modified xsi:type="dcterms:W3CDTF">2012-08-14T02:17:56Z</dcterms:modified>
  <cp:revision>15</cp:revision>
  <dc:subject/>
  <dc:title>Slide 1</dc:title>
</cp:coreProperties>
</file>