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02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4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4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101581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B70DF-4926-4AB6-81E0-5489DDA601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2F24-65E0-4187-A60C-1DA2219C6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164B-1ACF-4617-95D1-3510132E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FDE9-B7CE-4350-9D10-2E9A4CFFB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ABAF-191E-4A60-96AF-E44DFBED8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929D-FF19-49E2-A696-C8865D84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32A2-5958-4116-8BDE-47DF6BEF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527B-FED9-487A-B5F4-422AAF08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9EC2-FFC4-4E36-9B2F-0EAAC99B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6105-F9AD-487A-898B-C8E4E083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A278-3348-4B23-9CC3-CAD6E236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4677-9994-478C-8E36-6286348F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11D3-FF36-4DA5-9573-03E2054A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840577-739C-48F7-B127-1F9072E7A9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qa.openoffice.org/" TargetMode="External"/><Relationship Id="rId2" Type="http://schemas.openxmlformats.org/officeDocument/2006/relationships/hyperlink" Target="http://qa.openoffice.org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2360" cy="11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tes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00360" y="4140360"/>
            <a:ext cx="41400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is a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testi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87560" y="5219640"/>
            <a:ext cx="2082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et another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</a:rPr>
              <a:t>slide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ernhard Haumacher</dc:creator>
  <dc:description/>
  <dc:language>en-US</dc:language>
  <cp:lastModifiedBy>Bernhard Haumacher</cp:lastModifiedBy>
  <cp:revision>0</cp:revision>
  <dc:subject/>
  <dc:title/>
</cp:coreProperties>
</file>