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20B-356B-4916-98E2-EDC3BCC7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259-CE8A-44B2-956D-1EBA34C2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51C-52F2-4D44-A011-EE060668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165-897C-4A7A-BBB7-D2E4FAE5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5B0-ABC5-42AE-B2FA-11643F12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597-B4D6-4547-A9A2-B61FEED6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27B-0C7B-43D7-AC34-9ECE4C7A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91F-2920-419B-A7BB-1159EFCB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6A2-1362-422E-BE87-39D3EA18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5AB-2E9B-4F4C-A3FB-7823AC73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E6E-29BD-4E75-B97A-1D82968E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0D9-F3F5-45FB-9046-E55A6881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2B14-4C4D-42CF-BF37-D2F3F0317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219320"/>
            <a:ext cx="525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3:47:43Z</dcterms:created>
  <dc:creator>Augustus Saunders</dc:creator>
  <dc:description/>
  <dc:language>en-US</dc:language>
  <cp:lastModifiedBy>Augustus Saunders</cp:lastModifiedBy>
  <dcterms:modified xsi:type="dcterms:W3CDTF">2004-01-28T03:49:12Z</dcterms:modified>
  <cp:revision>2</cp:revision>
  <dc:subject/>
  <dc:title>Slide 1</dc:title>
</cp:coreProperties>
</file>