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E3E-EE27-4E69-8051-9CFBFC12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61C-B641-4CD1-9AE1-704ABD73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654-62FF-4874-B34D-E62495B9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73C-7920-42A3-B332-D0650AB5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84D-AA5F-454D-BA89-5DACECC3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3AB-8A0A-47B0-AD47-EE6236AB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671-4B69-46DE-B017-9FD2FC48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6E3-9B75-4CC6-862D-FC803DB0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F8F-C74C-421D-94E9-8A11A298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F0C-5D25-4399-9787-0917109D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F2B-EBB1-46D1-969E-335CED0B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537-642D-4E8D-A134-A831C1B3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73E7-4F9A-40BE-8A2E-A60A0AD58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19:58:52Z</dcterms:created>
  <dc:creator>Peter Thomas Kupfer</dc:creator>
  <dc:description/>
  <dc:language>en-US</dc:language>
  <cp:lastModifiedBy>Peter Thomas Kupfer</cp:lastModifiedBy>
  <dcterms:modified xsi:type="dcterms:W3CDTF">2005-02-06T20:00:11Z</dcterms:modified>
  <cp:revision>2</cp:revision>
  <dc:subject/>
  <dc:title>Slide 1</dc:title>
</cp:coreProperties>
</file>