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FA1-19DF-4832-B2E4-58B87517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75F-5122-489C-8568-EDA663B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F2C-7B24-4A57-B6D4-64B4D741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BFB-1B67-4E4F-A5CA-BB0C91BE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B56-9400-426B-AD1F-6CBBC0A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435-7C54-4A24-92F3-51829BEB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803-2578-498D-A873-7534D1F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73A-4E20-478D-9ACB-D6E6340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948-3742-4D96-B1AB-1259326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336-E1E3-47CD-B74C-C86564AC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AF2-7977-4B7A-B0F4-392D378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336-8ABB-4916-8DAD-CCB7B71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FF077-FA66-4F01-91D4-FA161F603108}" type="slidenum">
              <a:rPr b="0" lang="sv-S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Public/Music/Sample Music/Maid with the Flaxen Hair.mp3" TargetMode="External"/><Relationship Id="rId2" Type="http://schemas.microsoft.com/office/2007/relationships/media" Target="file:///C:/Users/Public/Music/Sample Music/Maid with the Flaxen Hair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40360" y="28656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22:00:51Z</dcterms:created>
  <dc:creator/>
  <dc:description/>
  <dc:language>en-US</dc:language>
  <cp:lastModifiedBy/>
  <cp:revision>1</cp:revision>
  <dc:subject/>
  <dc:title/>
</cp:coreProperties>
</file>