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843-7DAB-4641-9B39-331E8856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C69-25B7-484D-8707-D89077A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7F5-7B3C-4C9D-8673-27A491A0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A0B-C9F6-4053-9F73-5CD3A2F5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6F0-F783-421C-A0DA-DAB6B708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45D-0F8F-45D9-A707-6AB0FCE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8C3-7CBB-4CDA-87B9-C10B280A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F96-0878-4D99-BFB3-D83598F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68A-9C7C-46EF-BCE5-A9FC75DF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757-744A-49D2-90C5-00A51D73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BDC-F318-41D4-B98F-66C46F0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8D6-D8DB-4A68-87C0-89DA709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0AD-5E6F-4AD0-8556-0398C07F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87280" y="1600200"/>
          <a:ext cx="7499160" cy="4525560"/>
        </p:xfrm>
        <a:graphic>
          <a:graphicData uri="http://schemas.openxmlformats.org/drawingml/2006/table">
            <a:tbl>
              <a:tblPr/>
              <a:tblGrid>
                <a:gridCol w="1874880"/>
                <a:gridCol w="1874520"/>
                <a:gridCol w="1874880"/>
                <a:gridCol w="187488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6:25:09Z</dcterms:created>
  <dc:creator>lthan</dc:creator>
  <dc:description/>
  <dc:language>en-US</dc:language>
  <cp:lastModifiedBy>lthan</cp:lastModifiedBy>
  <dcterms:modified xsi:type="dcterms:W3CDTF">2009-08-21T07:26:47Z</dcterms:modified>
  <cp:revision>3</cp:revision>
  <dc:subject/>
  <dc:title>URL Valid </dc:title>
</cp:coreProperties>
</file>