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FF4-E28E-455C-84A4-535D6D0F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174-299F-419F-A8B6-4D2914E5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925-8AE7-4DBD-8426-F3704857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61D-5BFE-4878-9B8F-E1D54191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809-F752-49C9-A6AC-7473C46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DE6-621E-4D1C-84B6-521BDEFF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8F3-B384-4E17-B76E-209DFE95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35F-5431-4E2C-A6D4-127C99BD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317-BCEE-415B-8F17-A09BDCB3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78E-1DAD-4184-9BDC-F37355CD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A01-E37F-49DC-8B4C-06EBB13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5EE-86DD-464B-94FF-657DC50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7009-9FF5-4B7B-B029-3E3762D2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7560" y="3871800"/>
            <a:ext cx="58723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3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284640"/>
            <a:ext cx="362160" cy="841320"/>
          </a:xfrm>
          <a:custGeom>
            <a:avLst/>
            <a:gdLst>
              <a:gd name="textAreaLeft" fmla="*/ 48240 w 362160"/>
              <a:gd name="textAreaRight" fmla="*/ 313920 w 362160"/>
              <a:gd name="textAreaTop" fmla="*/ 147240 h 841320"/>
              <a:gd name="textAreaBottom" fmla="*/ 610200 h 8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07499"/>
                <a:lnTo>
                  <a:pt x="14116" y="21132"/>
                </a:lnTo>
                <a:lnTo>
                  <a:pt x="21600" y="17280"/>
                </a:lnTo>
                <a:lnTo>
                  <a:pt x="14116" y="12492"/>
                </a:lnTo>
                <a:lnTo>
                  <a:pt x="14116" y="14652"/>
                </a:lnTo>
                <a:arcTo wR="21600" hR="7560" stAng="8192501" swAng="2250064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213000"/>
            <a:ext cx="648000" cy="2521080"/>
          </a:xfrm>
          <a:custGeom>
            <a:avLst/>
            <a:gdLst>
              <a:gd name="textAreaLeft" fmla="*/ 86760 w 648000"/>
              <a:gd name="textAreaRight" fmla="*/ 561240 w 648000"/>
              <a:gd name="textAreaTop" fmla="*/ 441000 h 2521080"/>
              <a:gd name="textAreaBottom" fmla="*/ 18277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07499"/>
                <a:lnTo>
                  <a:pt x="14116" y="21132"/>
                </a:lnTo>
                <a:lnTo>
                  <a:pt x="21600" y="17280"/>
                </a:lnTo>
                <a:lnTo>
                  <a:pt x="14116" y="12492"/>
                </a:lnTo>
                <a:lnTo>
                  <a:pt x="14116" y="14652"/>
                </a:lnTo>
                <a:arcTo wR="21600" hR="7560" stAng="8192501" swAng="2250064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3571920"/>
            <a:ext cx="1295280" cy="8413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128880 h 841320"/>
              <a:gd name="textAreaBottom" fmla="*/ 628200 h 8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24" stAng="-5400000" swAng="-5400000"/>
                <a:lnTo>
                  <a:pt x="0" y="12816"/>
                </a:lnTo>
                <a:arcTo wR="21600" hR="6624" stAng="10800000" swAng="-2773877"/>
                <a:lnTo>
                  <a:pt x="15512" y="21331"/>
                </a:lnTo>
                <a:lnTo>
                  <a:pt x="21600" y="16344"/>
                </a:lnTo>
                <a:lnTo>
                  <a:pt x="15512" y="10819"/>
                </a:lnTo>
                <a:lnTo>
                  <a:pt x="15512" y="12979"/>
                </a:lnTo>
                <a:arcTo wR="21600" hR="6624" stAng="8026123" swAng="2221314"/>
                <a:lnTo>
                  <a:pt x="2505" y="9720"/>
                </a:lnTo>
                <a:arcTo wR="21600" hR="6624" stAng="-10247438" swAng="4847438"/>
                <a:close/>
              </a:path>
              <a:path fill="darkenLess" w="21600" h="21600">
                <a:moveTo>
                  <a:pt x="21600" y="0"/>
                </a:moveTo>
                <a:arcTo wR="21600" hR="6624" stAng="-5400000" swAng="-5400000"/>
                <a:lnTo>
                  <a:pt x="0" y="6624"/>
                </a:lnTo>
                <a:arcTo wR="21600" hR="6624" stAng="10800000" swAng="-552562"/>
                <a:lnTo>
                  <a:pt x="2505" y="9720"/>
                </a:lnTo>
                <a:arcTo wR="21600" hR="6624" stAng="-10247438" swAng="484743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6920" y="4869000"/>
            <a:ext cx="1297080" cy="163332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50200 h 1633320"/>
              <a:gd name="textAreaBottom" fmla="*/ 1219680 h 163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24" stAng="-5400000" swAng="-5400000"/>
                <a:lnTo>
                  <a:pt x="0" y="12816"/>
                </a:lnTo>
                <a:arcTo wR="21600" hR="6624" stAng="10800000" swAng="-2773877"/>
                <a:lnTo>
                  <a:pt x="15512" y="21331"/>
                </a:lnTo>
                <a:lnTo>
                  <a:pt x="21600" y="16344"/>
                </a:lnTo>
                <a:lnTo>
                  <a:pt x="15512" y="10819"/>
                </a:lnTo>
                <a:lnTo>
                  <a:pt x="15512" y="12979"/>
                </a:lnTo>
                <a:arcTo wR="21600" hR="6624" stAng="8026123" swAng="2221314"/>
                <a:lnTo>
                  <a:pt x="2505" y="9720"/>
                </a:lnTo>
                <a:arcTo wR="21600" hR="6624" stAng="-10247438" swAng="4847438"/>
                <a:close/>
              </a:path>
              <a:path fill="darkenLess" w="21600" h="21600">
                <a:moveTo>
                  <a:pt x="21600" y="0"/>
                </a:moveTo>
                <a:arcTo wR="21600" hR="6624" stAng="-5400000" swAng="-5400000"/>
                <a:lnTo>
                  <a:pt x="0" y="6624"/>
                </a:lnTo>
                <a:arcTo wR="21600" hR="6624" stAng="10800000" swAng="-552562"/>
                <a:lnTo>
                  <a:pt x="2505" y="9720"/>
                </a:lnTo>
                <a:arcTo wR="21600" hR="6624" stAng="-10247438" swAng="484743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3716280"/>
            <a:ext cx="1152360" cy="237672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415800 h 2376720"/>
              <a:gd name="textAreaBottom" fmla="*/ 172332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6093000"/>
            <a:ext cx="1728720" cy="50472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4653000"/>
            <a:ext cx="1728720" cy="108108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557360"/>
            <a:ext cx="1079280" cy="115092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287640 h 1150920"/>
              <a:gd name="textAreaBottom" fmla="*/ 863280 h 115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1628640"/>
            <a:ext cx="1944720" cy="100836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252000 h 1008360"/>
              <a:gd name="textAreaBottom" fmla="*/ 756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852640"/>
            <a:ext cx="2087640" cy="1366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4941720"/>
            <a:ext cx="1944720" cy="1008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0:28:09Z</dcterms:created>
  <dc:creator>MGC</dc:creator>
  <dc:description/>
  <dc:language>en-US</dc:language>
  <cp:lastModifiedBy>MGC</cp:lastModifiedBy>
  <dcterms:modified xsi:type="dcterms:W3CDTF">2009-01-22T10:36:17Z</dcterms:modified>
  <cp:revision>5</cp:revision>
  <dc:subject/>
  <dc:title>Slide 1</dc:title>
</cp:coreProperties>
</file>