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AA0-75A8-4F27-9400-0F25FEEC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5C0-18B2-49C7-B27C-F47139BC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536-37CD-4041-96EA-C1A3EFA2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31C-53B2-4D5B-BD8F-FF1CFF4F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91D-45C9-44B1-A8FB-EBE3BFBB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486-E9C6-4706-91DF-204352D8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AA0-0B47-4F5C-8577-98AAB71E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234-C8B4-4E13-8E36-8F8AD8EA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DCC-706A-4C79-9297-5F70C528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661-0AA7-42F2-B0E1-7127A511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3AB-1ECC-4837-A23A-C0C2AFBA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B8D-1283-43FB-9CDE-78BD37E3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9D4A-5DA1-4A1E-B48F-841962BD7B52}" type="slidenum">
              <a:rPr b="1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מלבן 12"/>
          <p:cNvSpPr/>
          <p:nvPr/>
        </p:nvSpPr>
        <p:spPr>
          <a:xfrm>
            <a:off x="5743440" y="1996920"/>
            <a:ext cx="1008360" cy="93528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Calibri"/>
              </a:rPr>
              <a:t>מות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28:41Z</dcterms:created>
  <dc:creator>Lord Z</dc:creator>
  <dc:description/>
  <dc:language>en-US</dc:language>
  <cp:lastModifiedBy>me</cp:lastModifiedBy>
  <dcterms:modified xsi:type="dcterms:W3CDTF">2014-04-22T01:03:35Z</dcterms:modified>
  <cp:revision>679</cp:revision>
  <dc:subject/>
  <dc:title>כותרת ראשית</dc:title>
</cp:coreProperties>
</file>