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9D5-529F-4926-AA13-5ECB221D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333-5C0F-4908-9DD9-12E2EE43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A44-F1FA-43B6-A6E1-D7CAF623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C95-BDB6-473C-95D2-1442F8E6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6F61-C4A6-4E4D-959F-ECAE07AE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4051-41C9-45E6-B756-DB58973E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8C72-EB67-4960-96E3-C17E8FE9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11A8-BB9E-4E5D-9E9B-BF271A62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271E-D682-4D8D-8078-BAC22E83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72198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87B8-A117-4FB9-980B-B38038D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C83E-4E0A-42B7-A246-E88D4D8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3AB-6675-4EA6-BCAB-95F2DF2B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0957-4719-42AB-879A-BCBBC19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09F6-1478-4686-87AA-969BFE1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6790-FBB8-4E89-9BA5-A5602A15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65CB-4093-4965-B75B-A76CEB70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FBBB-48E8-4C4E-A091-923D86FB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831-61E6-4350-BACF-DCE72E69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681-9AC9-41E1-AFF7-93CF586F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523-350D-4D1E-80AE-43C4611C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10920" y="333000"/>
            <a:ext cx="721980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A8D-B798-49BD-A5A3-54DD55D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DDA-993F-4517-8020-2C84676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514-1224-4ACC-A7DB-F725007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C5C-98B6-471C-A592-76F5A107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59FA-FDBF-4516-9E14-2FA2B10215C4}" type="slidenum"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B10E-E25E-422A-85BB-30F5DE741DD5}" type="slidenum">
              <a:rPr b="0" lang="he-IL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2960" y="182520"/>
            <a:ext cx="689904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תחשיב רלציוני על רשומות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uple Relational Calcul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וא הצהרתי, כמו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מבטאים בו רק מה רוצים שתהיה התוצאה, ולא איך לחשב אותה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כל שאילתה ב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יא מהצורה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| P(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, כאשר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הוא פרדיקט שאומר אם רשומ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עונה על תנאי השאילתה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לעיתים מציינים את מספר השדות ב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בסוגריים עליונים, לדוגמא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P(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הערכים עבור השדות של רשומות אלה נלקחים, כאמור, מתוך התחו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לדוגמא, במסד שתייני הבירה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וא תחום המחרוזות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47A-E4FE-4FA9-977C-2E74909923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גרסאות נוספות של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98400"/>
            <a:ext cx="83772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השמטת הסוגריים החיצוניים, דוגמא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: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)(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השמטת המשתנים החופשיים, דוגמא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)(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המשתנים החופשיים אינם קשורים ע"י כמתים, ולכן אין הכרח לציין אותם במפור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EFE-3E8D-4B73-BCFC-43A63C19F0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900" spc="-1" strike="noStrike">
                <a:solidFill>
                  <a:srgbClr val="330066"/>
                </a:solidFill>
                <a:latin typeface="Arial"/>
              </a:rPr>
              <a:t>בטיחות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63044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הבעי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"חזק" מדי – ניתן לכתוב שאילתה המחזירה תוצאה לא חסומה (כל הערכים האפשריים בתחום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דוגמ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מה תחזיר השאילתה אם נשמיט את החלק הראשון שלה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a :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)(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אם פאב "השמורה" לא מגיש אף בירה, התוצאה תכיל את כל הערכים האפשריים בתחום (בלי קשר לתוכן הטבלאות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23800" y="3975120"/>
            <a:ext cx="2895840" cy="533520"/>
            <a:chOff x="523800" y="3975120"/>
            <a:chExt cx="2895840" cy="533520"/>
          </a:xfrm>
        </p:grpSpPr>
        <p:sp>
          <p:nvSpPr>
            <p:cNvPr id="171" name=""/>
            <p:cNvSpPr/>
            <p:nvPr/>
          </p:nvSpPr>
          <p:spPr>
            <a:xfrm flipV="1">
              <a:off x="523800" y="4051440"/>
              <a:ext cx="28958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0120" y="3975120"/>
              <a:ext cx="281952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BC5-5BE2-4462-98B0-F724B8C6C6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בטיחות –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מוטיבציה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גבלת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לנוסחאות "טובות" – אשר לא תלויות בתחום הערכים של המשתנים, אלא רק בתוכן המסד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independ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בעיה נוספ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קשה לדעת האם נוסחה נתונה תלויה בתחו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פתרון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הגדרת כללים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סינטקטיי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אשר יבטיחו כי הנוסחה היא בלתי תלויה בתחו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קל לבדוק האם נוסחה בטוחה (סינטקטית) או ל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כל נוסחה בטוחה (סינטקטית) היא בלתי תלויה בתחו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נוסחה בלתי תלויה בתחום לאו דווקא בטוחה, אך קיימת נוסחה אחרת שקולה לה, שהיא כן בטוחה (סינטקטית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525-ABBB-4006-BCA9-B3CA204366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בטיחות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feDR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נוסחת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היא בטוחה א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אין בה כמתי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לא מופיע בה הקשר הלוגי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שלילה של נוסחה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יכולה להופיע רק כחלק מביטוי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כאשר לפחות אחד מה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אינו שליל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cs typeface="Times New Roman"/>
              </a:rPr>
              <a:t>לכל תת-ביטוי מהצור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ל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ול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אותם משתנים חופשיי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cs typeface="Times New Roman"/>
              </a:rPr>
              <a:t>לכל תת-נוסחה מכסימלית מהצור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כל המשתנים החופשיים הם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cs typeface="Times New Roman"/>
              </a:rPr>
              <a:t>מתוחמי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(ראה הגדרה בהמשך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054-1D44-44F8-91EE-D33B0F7EE0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feDR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–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משתנ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הוא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מתוח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ב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אם הוא מקיים אחד מהתנאי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ופיע חופשי ב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שאיננה השוואה ואיננה שלילה של נוסח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ופיע ב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שהיא מהצור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=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ו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=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כאש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הוא קבו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ופיע ב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שהיא מהצור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ו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כאשר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תוח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דוגמאות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נוסח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יננה בטוחה, כי ג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וג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ינם מתוחמי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הנוסח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x=1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x=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בטוחה, כי שני המשתנים מתוחמי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זהויות לוגיות להפיכת נוסחה לבטוחה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חלפת  </a:t>
            </a:r>
            <a:r>
              <a:rPr b="0" lang="en-US" sz="22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(F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ב-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חלפת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ב-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A2B-B965-4F81-BC46-E2F4331031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feDR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– דוגמאות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דוגמא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נוסחה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(x,y,z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(x,y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(y,z)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איננה בטוחה, כי ה-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מתבצע על נוסחאות עם משתנים חופשיים שוני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הנוסחה שקולה לנוסחה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(x,y,z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(x,y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(y,z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שהיא בטוחה, ולכן הנוסחה המקורית גם בלתי תלויה בתחו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דוגמא: מי אוהב את כל הבירות שמוגשות בפאב "השמורה"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)(drinker(a,c) </a:t>
            </a:r>
            <a:r>
              <a:rPr b="0" lang="en-US" sz="19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, e)(serves(d,e) </a:t>
            </a:r>
            <a:r>
              <a:rPr b="0" lang="en-US" sz="19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 = ‘HaShmura’ </a:t>
            </a:r>
            <a:r>
              <a:rPr b="0" lang="en-US" sz="19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kes(a,e)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כלל: 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(A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(A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619-880A-4305-BA3A-F1F42FB6BC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כללים ליצירת נוסחאות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בתוך הנוסחה מתייחסים לשדות של רשומ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ע"י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[שם שדה]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או ע"י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[מס' שדה]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הנוסחה חייבת להיות בנויה לפי הכללים הבאי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נוסחאות אטומיות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שייכות של רשומ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לרלצי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: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או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יחס בין שד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לשדה או קבו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: x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כאשר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הוא אחד מסימני היחס =, </a:t>
            </a:r>
            <a:r>
              <a:rPr b="0" lang="en-US" sz="2200" spc="-1" strike="noStrike">
                <a:solidFill>
                  <a:srgbClr val="000000"/>
                </a:solidFill>
                <a:latin typeface="Math B"/>
                <a:ea typeface="Math B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&gt;, &lt;, </a:t>
            </a:r>
            <a:r>
              <a:rPr b="0" lang="en-US" sz="22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Math B"/>
                <a:ea typeface="Math B"/>
              </a:rPr>
              <a:t>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נוסחאות מורכבות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א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נוסחאות, גם הביטויים הבאים הם נוסחאות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   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Math C"/>
                <a:ea typeface="Math C"/>
              </a:rPr>
              <a:t>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)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)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C84-EE6A-48AE-9099-E95BA8F9F5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598400"/>
            <a:ext cx="87631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אלו בירות יוסי אוהב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[dname] = ‘Yossi’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כדי לבחור רק את שמות הבירות, בלי לחזור על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ss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כל פע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)(u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dname] = ‘Yossi’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bname] = t[bname]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699-5F76-41C9-B483-5BA4D0DB7B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 -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שמות השתיינים וסוגי הבירות שהם אוהבי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)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)(u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e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dname] = v[bname]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[dname] = t[dname]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[type] = v[type]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באלו ערים מגישים בירה שיוסי אוהב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)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)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)(   u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ub    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pcity] = t[pcity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v[pname] = u[pname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  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[bname] = v[bname]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[dname] = ‘Yossi’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563-5D52-4A82-9623-81C9AAB7E3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 -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91440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מי אוהב את כל הבירות שמוגשות ב"השמורה"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)(w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[dname] = t[dname])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)( (u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u[pname]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)(v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[dname]=t[dname]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v[bname]= u[bname]))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C6F-56FC-447C-8FC9-73DDB8DF38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2600" y="182160"/>
            <a:ext cx="7313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תחשיב רלציוני על תחומים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main Relational Calcul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דומה ל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עם ההבדלים הבאי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המשתנים בפרדיקט אינם מייצגים רשומות, אלא שדות בודדים מהתחו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שמתוכו נלקחים ערכי מסד הנתוני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רשומה מיוצגת ע"י רשימה של משתנים המוקפת בסוגריים זוויתיים, לדוגמא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F87-5461-40AB-9722-758A9D8F9F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אלו בירות יוסי אוהב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= ‘Yossi’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או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likes(a, b)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= ‘Yossi’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כדי לקבל רק את שמות הבירות, בלי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ss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30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(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= ‘Yossi’)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16E-9D0B-4E94-9811-575D1E2DE1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 -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שמות השתיינים וסוגי הבירה שהם אוהבי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6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, b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er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באלו ערים מגישים בירה שיוסי אוהב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30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c, d)(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ub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, c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kes </a:t>
            </a:r>
            <a:r>
              <a:rPr b="0" lang="en-US" sz="30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 = ‘Yossi’)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E29-1CE0-4D1B-9BB7-4AB7E82761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219800" cy="94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330066"/>
                </a:solidFill>
                <a:latin typeface="Arial"/>
              </a:rPr>
              <a:t>דוגמאות - המש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8400"/>
            <a:ext cx="86104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דוגמא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מי אוהב את כל הבירות שמוגשות ב"השמורה"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| 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rinker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)((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erves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 = ‘HaShmura’) </a:t>
            </a:r>
            <a:r>
              <a:rPr b="0" lang="en-US" sz="21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, e</a:t>
            </a:r>
            <a:r>
              <a:rPr b="0" lang="en-US" sz="2100" spc="-1" strike="noStrike">
                <a:solidFill>
                  <a:srgbClr val="000000"/>
                </a:solidFill>
                <a:latin typeface="Math B"/>
                <a:ea typeface="Math B"/>
              </a:rPr>
              <a:t>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ikes)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שפות שאילתא: 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F79-2795-4690-BD38-15FF6DA5BA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32:11Z</dcterms:created>
  <dc:creator>ענאן מרעי</dc:creator>
  <dc:description/>
  <dc:language>en-US</dc:language>
  <cp:lastModifiedBy>Administrator</cp:lastModifiedBy>
  <dcterms:modified xsi:type="dcterms:W3CDTF">2003-03-26T13:48:18Z</dcterms:modified>
  <cp:revision>26</cp:revision>
  <dc:subject/>
  <dc:title>מצגת של PowerPoint</dc:title>
</cp:coreProperties>
</file>