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5B1-18DD-41A5-95D2-BCBEF547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D0B-E8AD-430A-B035-5AE8B215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2C6-0C76-4FAC-8886-10353A9F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457-0414-4242-BB9C-7E410604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012-D387-4842-8896-C2D29439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13E-F8F0-41AA-B373-5D9CD141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9B6-CECA-4E86-A8AB-8C38E25D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9490-C2FF-4780-BF31-8A0684AD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41D-E11E-4E96-9D51-B53F98C8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C66-EFD4-4B62-BE4D-29380298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0F5-8783-4BB0-B1C0-B5A7D16B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435-2988-48EA-B9B6-ADDB4E32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CBE9-66FA-4BCE-AEB1-D9BEAA2A27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Rechteck 3"/>
          <p:cNvSpPr/>
          <p:nvPr/>
        </p:nvSpPr>
        <p:spPr>
          <a:xfrm>
            <a:off x="1187280" y="981000"/>
            <a:ext cx="6840720" cy="338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hteck 4" descr=""/>
          <p:cNvPicPr/>
          <p:nvPr/>
        </p:nvPicPr>
        <p:blipFill>
          <a:blip r:embed="rId1"/>
          <a:stretch/>
        </p:blipFill>
        <p:spPr>
          <a:xfrm>
            <a:off x="1530360" y="4479840"/>
            <a:ext cx="6083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Rechteck 3"/>
          <p:cNvSpPr/>
          <p:nvPr/>
        </p:nvSpPr>
        <p:spPr>
          <a:xfrm>
            <a:off x="1187280" y="981000"/>
            <a:ext cx="6840720" cy="338472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echteck 4" descr=""/>
          <p:cNvPicPr/>
          <p:nvPr/>
        </p:nvPicPr>
        <p:blipFill>
          <a:blip r:embed="rId2"/>
          <a:stretch/>
        </p:blipFill>
        <p:spPr>
          <a:xfrm>
            <a:off x="1530360" y="4479840"/>
            <a:ext cx="6083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Rechteck 3"/>
          <p:cNvSpPr/>
          <p:nvPr/>
        </p:nvSpPr>
        <p:spPr>
          <a:xfrm>
            <a:off x="1187280" y="981000"/>
            <a:ext cx="6840720" cy="338472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hteck 4" descr=""/>
          <p:cNvPicPr/>
          <p:nvPr/>
        </p:nvPicPr>
        <p:blipFill>
          <a:blip r:embed="rId2"/>
          <a:stretch/>
        </p:blipFill>
        <p:spPr>
          <a:xfrm>
            <a:off x="1504800" y="4479840"/>
            <a:ext cx="61214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6:51:21Z</dcterms:created>
  <dc:creator>Florian Reisinger</dc:creator>
  <dc:description/>
  <dc:language>en-US</dc:language>
  <cp:lastModifiedBy>Florian Reisinger</cp:lastModifiedBy>
  <dcterms:modified xsi:type="dcterms:W3CDTF">2012-03-25T06:52:45Z</dcterms:modified>
  <cp:revision>1</cp:revision>
  <dc:subject/>
  <dc:title>PowerPoint-Präsentation</dc:title>
</cp:coreProperties>
</file>