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FB2-A60A-46C7-BA91-AF1EBCBB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E12-CCE0-43DE-99BC-BCB6D64A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211-402A-4DED-BF3B-B5AD7E67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4AD-68F7-4EF8-BB68-CA8928FE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E8C-E920-4F4B-8EED-9E9B0DE4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E3F-7604-4C49-99BF-99364C0D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083-9672-4936-98B0-2AFFBDD4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FC1-59E6-4CD0-9547-F529EE45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EA7-BB93-488C-B137-90AAD836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16C-8DCD-4E3C-A0DF-1B853677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5F7-6CEA-4B39-966D-297A8295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C6C-580B-41E9-AC3E-A12FF474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ABD9-1B56-4F14-8F0F-46C5C50137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17143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714320">
                <a:tc>
                  <a:txBody>
                    <a:bodyPr lIns="720000" rIns="720000" tIns="720000" bIns="72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xtBox Margin is 2*2*2*2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00" marR="72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6:17:57Z</dcterms:created>
  <dc:creator>Sun Microsystems GmbH</dc:creator>
  <dc:description/>
  <dc:language>en-US</dc:language>
  <cp:lastModifiedBy>Sun Microsystems GmbH</cp:lastModifiedBy>
  <dcterms:modified xsi:type="dcterms:W3CDTF">2009-06-16T16:18:50Z</dcterms:modified>
  <cp:revision>1</cp:revision>
  <dc:subject/>
  <dc:title>Slide 1</dc:title>
</cp:coreProperties>
</file>