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36A-CB79-43BC-B5FC-216250E5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00A-416C-45E8-967F-079267AA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FC8-FF8F-42BC-AF78-FB12AF6C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10A-9B45-4FC4-BD5A-66510A69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F4A7-535E-4911-9672-E07D0ED2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4D3C-7F3C-4D52-8264-715C9F56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04A6-8633-4DDD-9CB9-BDD2A203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6E3F-485A-4609-9627-9DD4D35A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A8C9-8407-460A-8811-2ABF0E02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6D3C-8F03-4C76-BAAB-7D65E84F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D3AF-AA9D-4452-BD3F-DAE44F1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ECE-3806-4AD5-9215-F8CB6C94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8965-5896-4F93-B8D1-5E6CB379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67F0-F8F0-4858-8E7F-43C9314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82C2-17CF-4588-8EB0-5F51E84D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0767-5F62-4966-A5CE-4862CCC2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2C6F-8F57-4BA0-8CAB-6C1BF221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B32-4943-4E5B-87FF-FC96C498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EDF-B6FB-4D10-8AFD-39694F9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432-D64C-4E07-880B-E6DB7FD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A3C-5A8A-41F7-B271-B811F11F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B8D-CDC3-425E-9727-0F42F3AC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22A-746D-4E61-8805-AACEE9D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04E-24AB-4820-AB80-86F9D86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5B18-0C6A-4792-BE09-A649C75785C8}" type="datetime">
              <a:rPr b="0" lang="en-US" sz="1200" spc="-1" strike="noStrike">
                <a:solidFill>
                  <a:srgbClr val="f8f8f8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97B-D636-4880-A058-789A09F162A4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89A1-2FCE-4AFC-94D7-F76CDFF95E8F}" type="datetime">
              <a:rPr b="0" lang="en-US" sz="1200" spc="-1" strike="noStrike">
                <a:solidFill>
                  <a:srgbClr val="f8f8f8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CB94-AAFA-4F19-A07C-F7EE1A6F688E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heffield"/>
              </a:rPr>
              <a:t>Tit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46800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1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2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3 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4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533520" indent="-44460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This is Item 5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11640" y="3645000"/>
            <a:ext cx="256212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Item 6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Item 7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Item 8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Kidprint"/>
              </a:rPr>
              <a:t>Item 9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D52-F8A5-4F2A-81FD-16C59428DEB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4039D-D95A-4C61-AACA-23C0648D42C8}" type="datetime1">
              <a:rPr lang="en-US"/>
              <a:t>07/29/26</a:t>
            </a:fld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.</cp:lastModifiedBy>
  <dcterms:modified xsi:type="dcterms:W3CDTF">2005-05-19T20:16:28Z</dcterms:modified>
  <cp:revision>27</cp:revision>
  <dc:subject/>
  <dc:title>Carlos Santana </dc:title>
</cp:coreProperties>
</file>