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8BA-E413-4FBD-9727-EFAE6651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6C1-D8A0-41EE-86AF-D2B5D156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59C-747C-4BEA-9B0B-02FF2081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143-A301-4B48-A02D-453D53BC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B03-A6D8-4BBB-8F75-9BCDB5DE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2E5-05AB-4D29-B624-9D31F99E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FEC-3670-4911-B221-717371E3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624-F2DE-466E-ABA6-25807AFF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DA4-E5EA-43B6-8A48-131DBBC3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7CD-CF33-4E52-98DE-ABE4D211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EF8-E09C-44BC-B96A-D145CCE2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3D6-D22E-44FB-AB2A-6F4F67EF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0ECF-B4F9-443D-B460-F1DC5D67CB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,BoldItalic"/>
              </a:rPr>
              <a:t>11  Future Work</a:t>
            </a:r>
            <a:r>
              <a:rPr b="1" i="1" lang="zh-CN" sz="4400" spc="-1" strike="noStrike">
                <a:solidFill>
                  <a:srgbClr val="000000"/>
                </a:solidFill>
                <a:latin typeface="Arial,BoldItal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8108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133720"/>
            <a:ext cx="6781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eb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J2EE 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安全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eb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eb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JAXB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ebding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吞吐量的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X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另外的网格服务主机环境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7:32:04Z</dcterms:created>
  <dc:creator>weihongtao</dc:creator>
  <dc:description/>
  <dc:language>en-US</dc:language>
  <cp:lastModifiedBy>weihongtao</cp:lastModifiedBy>
  <dcterms:modified xsi:type="dcterms:W3CDTF">2004-10-19T07:29:11Z</dcterms:modified>
  <cp:revision>1</cp:revision>
  <dc:subject/>
  <dc:title>11  Future Work </dc:title>
</cp:coreProperties>
</file>