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82DA-FA7E-42D0-8194-254D339BE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CCEB-8AD8-4F74-8BE1-E8927AAE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B4DE-8B35-4B28-AC5A-865714FEC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B551-BD0A-44FE-A3DA-FA00CD597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013E-426B-4C07-81F2-E6189A4B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5CA6-A714-4E3F-BE19-7B92B6FC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C24B-543C-48F7-B0BC-6CBE3F2F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0265-BC78-470A-8015-DD4DC9AF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B576-1C2E-4366-9DED-190084BB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3F77-F4CF-42FD-B998-BACACFE3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850E-3B00-4F91-B192-6B0150DB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FF1F-F4ED-4368-8418-241E124F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1B7D-8113-4C97-BBE5-7D4A64B26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hing To This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2:42:08Z</dcterms:created>
  <dc:creator>Jeff Fuller</dc:creator>
  <dc:description/>
  <dc:language>en-US</dc:language>
  <cp:lastModifiedBy>Jeff Fuller</cp:lastModifiedBy>
  <dcterms:modified xsi:type="dcterms:W3CDTF">2008-09-11T03:05:38Z</dcterms:modified>
  <cp:revision>2</cp:revision>
  <dc:subject/>
  <dc:title>Nothing To This File</dc:title>
</cp:coreProperties>
</file>