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494-48A1-44FD-B601-46F1DDEE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111-2056-4485-ABB7-6A3D710B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6B5-7F52-497E-AE0A-A0B372F4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E75-FCF6-494C-9259-5958C1BE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F3F-B7C5-48FD-87C4-8F460863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A8A-D8AF-4CA3-8F62-5190EF59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776-7DB2-468B-82B7-0BC7083E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751-F0DF-4ED2-BD05-B4B82494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55D-EC0E-4398-B98A-5C9D6578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9C0-B6C0-4B96-A944-65146BF8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DCA-57F7-4356-91E4-09401513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C1F-96E2-420C-AD84-31951FD9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B4A0-DECA-4837-8AF6-A059ED8F4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209680"/>
            <a:ext cx="3832200" cy="1476360"/>
          </a:xfrm>
          <a:custGeom>
            <a:avLst/>
            <a:gdLst/>
            <a:ahLst/>
            <a:rect l="l" t="t" r="r" b="b"/>
            <a:pathLst>
              <a:path w="2414" h="930">
                <a:moveTo>
                  <a:pt x="2414" y="10"/>
                </a:moveTo>
                <a:cubicBezTo>
                  <a:pt x="2079" y="5"/>
                  <a:pt x="1765" y="0"/>
                  <a:pt x="1429" y="4"/>
                </a:cubicBezTo>
                <a:cubicBezTo>
                  <a:pt x="1295" y="11"/>
                  <a:pt x="1164" y="19"/>
                  <a:pt x="1031" y="33"/>
                </a:cubicBezTo>
                <a:cubicBezTo>
                  <a:pt x="929" y="60"/>
                  <a:pt x="833" y="112"/>
                  <a:pt x="738" y="154"/>
                </a:cubicBezTo>
                <a:cubicBezTo>
                  <a:pt x="704" y="169"/>
                  <a:pt x="667" y="178"/>
                  <a:pt x="634" y="194"/>
                </a:cubicBezTo>
                <a:cubicBezTo>
                  <a:pt x="577" y="221"/>
                  <a:pt x="526" y="254"/>
                  <a:pt x="467" y="275"/>
                </a:cubicBezTo>
                <a:cubicBezTo>
                  <a:pt x="425" y="306"/>
                  <a:pt x="374" y="321"/>
                  <a:pt x="323" y="332"/>
                </a:cubicBezTo>
                <a:cubicBezTo>
                  <a:pt x="290" y="349"/>
                  <a:pt x="257" y="367"/>
                  <a:pt x="225" y="384"/>
                </a:cubicBezTo>
                <a:cubicBezTo>
                  <a:pt x="219" y="387"/>
                  <a:pt x="213" y="392"/>
                  <a:pt x="208" y="396"/>
                </a:cubicBezTo>
                <a:cubicBezTo>
                  <a:pt x="202" y="401"/>
                  <a:pt x="197" y="409"/>
                  <a:pt x="190" y="413"/>
                </a:cubicBezTo>
                <a:cubicBezTo>
                  <a:pt x="176" y="421"/>
                  <a:pt x="159" y="424"/>
                  <a:pt x="144" y="430"/>
                </a:cubicBezTo>
                <a:cubicBezTo>
                  <a:pt x="110" y="442"/>
                  <a:pt x="76" y="482"/>
                  <a:pt x="52" y="505"/>
                </a:cubicBezTo>
                <a:cubicBezTo>
                  <a:pt x="38" y="518"/>
                  <a:pt x="34" y="541"/>
                  <a:pt x="23" y="557"/>
                </a:cubicBezTo>
                <a:cubicBezTo>
                  <a:pt x="16" y="588"/>
                  <a:pt x="6" y="618"/>
                  <a:pt x="0" y="649"/>
                </a:cubicBezTo>
                <a:cubicBezTo>
                  <a:pt x="2" y="691"/>
                  <a:pt x="3" y="734"/>
                  <a:pt x="6" y="776"/>
                </a:cubicBezTo>
                <a:cubicBezTo>
                  <a:pt x="12" y="854"/>
                  <a:pt x="77" y="870"/>
                  <a:pt x="139" y="891"/>
                </a:cubicBezTo>
                <a:cubicBezTo>
                  <a:pt x="171" y="913"/>
                  <a:pt x="222" y="913"/>
                  <a:pt x="260" y="920"/>
                </a:cubicBezTo>
                <a:cubicBezTo>
                  <a:pt x="310" y="918"/>
                  <a:pt x="364" y="930"/>
                  <a:pt x="409" y="908"/>
                </a:cubicBezTo>
                <a:cubicBezTo>
                  <a:pt x="431" y="897"/>
                  <a:pt x="445" y="874"/>
                  <a:pt x="473" y="87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>
            <a:stCxn id="41" idx="0"/>
            <a:endCxn id="41" idx="1"/>
          </p:cNvCxnSpPr>
          <p:nvPr/>
        </p:nvCxnSpPr>
        <p:spPr>
          <a:xfrm rot="5400000">
            <a:off x="3508920" y="1346760"/>
            <a:ext cx="1425960" cy="3183480"/>
          </a:xfrm>
          <a:prstGeom prst="curvedConnector4">
            <a:avLst>
              <a:gd name="adj1" fmla="val 100883"/>
              <a:gd name="adj2" fmla="val 0"/>
            </a:avLst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2:28:59Z</dcterms:created>
  <dc:creator>dmbr</dc:creator>
  <dc:description/>
  <dc:language>en-US</dc:language>
  <cp:lastModifiedBy>dmbr</cp:lastModifiedBy>
  <dcterms:modified xsi:type="dcterms:W3CDTF">2005-10-13T12:29:09Z</dcterms:modified>
  <cp:revision>1</cp:revision>
  <dc:subject/>
  <dc:title>PowerPoint Presentation</dc:title>
</cp:coreProperties>
</file>