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E5B-03EB-4699-BA4B-88D58922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E0B-5B4C-4668-8294-C41490C5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CDF-2EE5-4BC1-A79C-423D7653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9C7-E34A-4058-AB38-0E7BED63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513-EB58-40D0-99EB-10ADCA22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904-D0DC-4DE1-B2BB-229464A4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B0D-FE99-476C-B4B3-2923F512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14B-40E1-4EED-B253-01B6C5CF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BE0-6847-4804-9F00-893B6C9F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56F-603C-4777-8083-2D94CA4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47B-70D4-40FA-AEC4-9C263C29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788-6C12-46F7-96DD-49FF01F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136EF-57CB-4634-B120-725549C7C7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icture {Enhanced Metafi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4880" y="1774800"/>
            <a:ext cx="305424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sio Drawing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4880" y="2208240"/>
          <a:ext cx="305424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4880" y="2208240"/>
                    <a:ext cx="305424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84480" y="1789200"/>
            <a:ext cx="29764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ff Zawolkow</dc:creator>
  <dc:description/>
  <dc:language>en-US</dc:language>
  <cp:lastModifiedBy>Geoff Zawolkow</cp:lastModifiedBy>
  <cp:revision>0</cp:revision>
  <dc:subject/>
  <dc:title>Slide 1</dc:title>
</cp:coreProperties>
</file>