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97B3-36D6-482D-AEB7-678C3CDD1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E090-FC27-42CC-A609-166815120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B92A-3416-4EE2-AA61-590C85186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CA83-56E1-4942-BB3B-F8ECC2A1A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A137-9991-44C7-8B96-EA6FC2D0D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8CB3-6DC8-4A07-B769-E817E0D0A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C6C6-4069-45BA-9CAD-CF1748653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DF83-2FF3-451C-80E2-007E20F9F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5EAD-6960-476E-B7FA-6A61E6EE1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C443-394E-4CE7-8694-7DA66541B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63B0-0618-4A0B-917B-7FF2C8D31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3438-0D55-4F75-A214-0EB9C9837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9656C-A245-4C9F-9230-1A09AB587E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283536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7T10:42:49Z</dcterms:created>
  <dc:creator>Johnny Flash</dc:creator>
  <dc:description/>
  <dc:language>en-US</dc:language>
  <cp:lastModifiedBy>Johnny Flash</cp:lastModifiedBy>
  <dcterms:modified xsi:type="dcterms:W3CDTF">2008-10-27T10:43:09Z</dcterms:modified>
  <cp:revision>1</cp:revision>
  <dc:subject/>
  <dc:title>Slide 1</dc:title>
</cp:coreProperties>
</file>