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de-AT" sz="2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46017F-27D2-47B7-91F9-28F57DB7E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Num" idx="4"/>
          </p:nvPr>
        </p:nvSpPr>
        <p:spPr>
          <a:xfrm>
            <a:off x="4021200" y="9721080"/>
            <a:ext cx="3075840" cy="511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5B96D1-9B22-4D0B-93B1-1FF7DD39BB1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520" cy="383652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709920" y="4861440"/>
            <a:ext cx="5679000" cy="4605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4680" rIns="94680" tIns="47520" bIns="4752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ende Kommunikation weich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ab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ransparente Darstellung der Qualitätskontr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064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1938240"/>
            <a:ext cx="8064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19700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193824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080" y="193824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59632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197000"/>
            <a:ext cx="259632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2560" y="1197000"/>
            <a:ext cx="259632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1938240"/>
            <a:ext cx="259632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1938240"/>
            <a:ext cx="259632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2560" y="1938240"/>
            <a:ext cx="259632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064000" cy="14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064000" cy="14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3935160" cy="14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080" y="1197000"/>
            <a:ext cx="3935160" cy="14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446040"/>
            <a:ext cx="8064000" cy="16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197000"/>
            <a:ext cx="3935160" cy="14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193824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3935160" cy="14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19700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080" y="193824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420120"/>
            <a:ext cx="80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1197000"/>
            <a:ext cx="3935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1938240"/>
            <a:ext cx="8064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0" y="0"/>
            <a:ext cx="15876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Rectangle 2"/>
          <p:cNvGraphicFramePr/>
          <p:nvPr/>
        </p:nvGraphicFramePr>
        <p:xfrm>
          <a:off x="0" y="0"/>
          <a:ext cx="158400" cy="158400"/>
        </p:xfrm>
        <a:graphic>
          <a:graphicData uri="http://schemas.openxmlformats.org/presentationml/2006/ole">
            <p:oleObj r:id="rId2" spid="">
              <p:embed/>
            </p:oleObj>
          </a:graphicData>
        </a:graphic>
      </p:graphicFrame>
      <p:sp>
        <p:nvSpPr>
          <p:cNvPr id="2" name="Rectangle 9"/>
          <p:cNvSpPr/>
          <p:nvPr/>
        </p:nvSpPr>
        <p:spPr>
          <a:xfrm>
            <a:off x="3637080" y="6606360"/>
            <a:ext cx="1868040" cy="15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</a:pPr>
            <a:r>
              <a:rPr b="0" lang="de-AT" sz="1000" spc="-1" strike="noStrike">
                <a:solidFill>
                  <a:schemeClr val="accent1"/>
                </a:solidFill>
                <a:latin typeface="Trebuchet MS"/>
              </a:rPr>
              <a:t>Vertraulichkeitsklasse V2 In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446040"/>
            <a:ext cx="806400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de-DE" sz="2400" spc="-1" strike="noStrike">
                <a:solidFill>
                  <a:srgbClr val="000000"/>
                </a:solidFill>
                <a:latin typeface="Trebuchet MS"/>
              </a:rPr>
              <a:t>Titelmasterformat durch Klicken bearbeiten</a:t>
            </a: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064000" cy="1418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r>
              <a:rPr b="0" lang="de-DE" sz="1600" spc="-1" strike="noStrike">
                <a:solidFill>
                  <a:srgbClr val="000000"/>
                </a:solidFill>
                <a:latin typeface="Trebuchet MS"/>
              </a:rPr>
              <a:t>Textmasterformate durch Klicken bearbeiten</a:t>
            </a: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79280" indent="-177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de-DE" sz="1600" spc="-1" strike="noStrike">
                <a:solidFill>
                  <a:srgbClr val="000000"/>
                </a:solidFill>
                <a:latin typeface="Trebuchet MS"/>
              </a:rPr>
              <a:t>Zweite Ebene</a:t>
            </a: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358920" indent="-177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de-DE" sz="1600" spc="-1" strike="noStrike">
                <a:solidFill>
                  <a:srgbClr val="000000"/>
                </a:solidFill>
                <a:latin typeface="Trebuchet MS"/>
              </a:rPr>
              <a:t>Dritte Ebene</a:t>
            </a: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538200" indent="-177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de-DE" sz="1600" spc="-1" strike="noStrike">
                <a:solidFill>
                  <a:srgbClr val="000000"/>
                </a:solidFill>
                <a:latin typeface="Trebuchet MS"/>
              </a:rPr>
              <a:t>Vierte Ebene</a:t>
            </a: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719280" indent="-1792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de-DE" sz="1600" spc="-1" strike="noStrike">
                <a:solidFill>
                  <a:srgbClr val="000000"/>
                </a:solidFill>
                <a:latin typeface="Trebuchet MS"/>
              </a:rPr>
              <a:t>Fünfte Ebene</a:t>
            </a:r>
            <a:endParaRPr b="0" lang="de-A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"/>
          <p:cNvSpPr/>
          <p:nvPr/>
        </p:nvSpPr>
        <p:spPr>
          <a:xfrm>
            <a:off x="360" y="0"/>
            <a:ext cx="15876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43880"/>
            <a:ext cx="8064000" cy="369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XXXXXXXXXXXXXXXXXXXXXXX</a:t>
            </a:r>
            <a:endParaRPr b="0" lang="de-AT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9" name="Tabelle 16"/>
          <p:cNvGraphicFramePr/>
          <p:nvPr/>
        </p:nvGraphicFramePr>
        <p:xfrm>
          <a:off x="392040" y="1197000"/>
          <a:ext cx="8586360" cy="3776760"/>
        </p:xfrm>
        <a:graphic>
          <a:graphicData uri="http://schemas.openxmlformats.org/drawingml/2006/table">
            <a:tbl>
              <a:tblPr/>
              <a:tblGrid>
                <a:gridCol w="1454040"/>
                <a:gridCol w="984600"/>
                <a:gridCol w="1555920"/>
                <a:gridCol w="1547280"/>
                <a:gridCol w="1529640"/>
                <a:gridCol w="1514160"/>
              </a:tblGrid>
              <a:tr h="50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100" spc="-1" strike="noStrike">
                        <a:solidFill>
                          <a:schemeClr val="lt1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0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de-AT" sz="1100" spc="-1" strike="noStrike">
                          <a:solidFill>
                            <a:srgbClr val="ff4a6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35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43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40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de-AT" sz="1100" spc="-1" strike="noStrike">
                          <a:solidFill>
                            <a:srgbClr val="ff4a6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50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50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de-DE" sz="1100" spc="-1" strike="noStrike">
                          <a:solidFill>
                            <a:srgbClr val="96b314"/>
                          </a:solidFill>
                          <a:latin typeface="Wingdings"/>
                          <a:ea typeface="ＭＳ Ｐゴシック"/>
                        </a:rPr>
                        <a:t>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de-AT" sz="11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c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1-TA_PPT-Vorlage_Office2007 (2)">
  <a:themeElements>
    <a:clrScheme name="TA">
      <a:dk1>
        <a:srgbClr val="000000"/>
      </a:dk1>
      <a:lt1>
        <a:srgbClr val="ffffff"/>
      </a:lt1>
      <a:dk2>
        <a:srgbClr val="9c9e9f"/>
      </a:dk2>
      <a:lt2>
        <a:srgbClr val="f6d500"/>
      </a:lt2>
      <a:accent1>
        <a:srgbClr val="cdcecf"/>
      </a:accent1>
      <a:accent2>
        <a:srgbClr val="d10019"/>
      </a:accent2>
      <a:accent3>
        <a:srgbClr val="e08900"/>
      </a:accent3>
      <a:accent4>
        <a:srgbClr val="00606b"/>
      </a:accent4>
      <a:accent5>
        <a:srgbClr val="008633"/>
      </a:accent5>
      <a:accent6>
        <a:srgbClr val="96b314"/>
      </a:accent6>
      <a:hlink>
        <a:srgbClr val="d10019"/>
      </a:hlink>
      <a:folHlink>
        <a:srgbClr val="9c9e9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9c9e9f"/>
      </a:dk2>
      <a:lt2>
        <a:srgbClr val="f6d500"/>
      </a:lt2>
      <a:accent1>
        <a:srgbClr val="cdcecf"/>
      </a:accent1>
      <a:accent2>
        <a:srgbClr val="d10019"/>
      </a:accent2>
      <a:accent3>
        <a:srgbClr val="e08900"/>
      </a:accent3>
      <a:accent4>
        <a:srgbClr val="00606b"/>
      </a:accent4>
      <a:accent5>
        <a:srgbClr val="008633"/>
      </a:accent5>
      <a:accent6>
        <a:srgbClr val="96b314"/>
      </a:accent6>
      <a:hlink>
        <a:srgbClr val="d10019"/>
      </a:hlink>
      <a:folHlink>
        <a:srgbClr val="9c9e9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1-TA_PPT-Vorlage_Office2007 (2)</Template>
  <TotalTime>0</TotalTime>
  <Application>LibreOffice/7.4.7.2$Linux_X86_64 LibreOffice_project/40$Build-2</Application>
  <AppVersion>15.0000</AppVersion>
  <Words>59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4:34:51Z</dcterms:created>
  <dc:creator/>
  <dc:description/>
  <dc:language>en-US</dc:language>
  <cp:lastModifiedBy/>
  <dcterms:modified xsi:type="dcterms:W3CDTF">2010-08-05T09:45:48Z</dcterms:modified>
  <cp:revision>110</cp:revision>
  <dc:subject/>
  <dc:title>Titel der  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Bildschirmpräsentation (4:3)</vt:lpwstr>
  </property>
  <property fmtid="{D5CDD505-2E9C-101B-9397-08002B2CF9AE}" pid="4" name="Slides">
    <vt:r8>1</vt:r8>
  </property>
</Properties>
</file>