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3F0-9A3D-4936-9597-498711BC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F10-BFA5-4A2F-A316-2BB1C224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172-0D7B-4A84-882B-706FBCD3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AB9-5EE5-4F27-852C-2002AE4F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F34-62DC-4432-9DFA-19538891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5AC-5635-4FBC-A31D-4CD36E9B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3E3-2F07-49F9-B3A4-8145F18D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BC2-D027-4B17-9FCD-96D3FEC6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819-187E-4374-96F7-E7E4D45B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969-68C5-458C-99B3-52187394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D46-726F-4142-AB67-15C2AB9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710-8208-4295-9907-E9128FC2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6A79-ABE2-4FDF-857D-E1702A03B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3:48:31Z</dcterms:created>
  <dc:creator/>
  <dc:description/>
  <dc:language>en-US</dc:language>
  <cp:lastModifiedBy>James Reilly</cp:lastModifiedBy>
  <dcterms:modified xsi:type="dcterms:W3CDTF">2005-05-01T14:53:58Z</dcterms:modified>
  <cp:revision>2</cp:revision>
  <dc:subject/>
  <dc:title>Slide 1</dc:title>
</cp:coreProperties>
</file>