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" initials="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21T08:52:42.000000000" idx="1">
    <p:pos x="0" y="0"/>
    <p:text>This is a tes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DE216-633E-4EA8-9C38-AE7B0F992C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901CE-B35B-4BF5-90B4-B1B022575C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402-4A34-46F9-AEDB-0B359E42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CE5-0AE4-4260-B608-B5043ED8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CBE-DD5E-46A3-9704-14BCBB6E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AB8-B657-4A20-8D4D-599E419D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D78-8CE0-4170-BBD4-DB448F28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F67-2AE3-40D4-8769-D9A12FD3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2BF-9875-484B-8927-1C28ECEC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B08-3CA0-4CD5-A40B-167A1035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2D0-A3D3-45C4-94BF-B135D886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491-3C7F-4425-87E3-D039EDDA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F92-3586-4DCE-A26E-2538BDA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93B-F594-4BC5-98D8-B39C475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3A9B37-A129-40AA-B281-85E69027EF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00:52:24Z</dcterms:created>
  <dc:creator/>
  <dc:description/>
  <cp:keywords/>
  <dc:language>en-US</dc:language>
  <cp:lastModifiedBy>jay</cp:lastModifiedBy>
  <dcterms:modified xsi:type="dcterms:W3CDTF">2015-02-24T21:49:02Z</dcterms:modified>
  <cp:revision>1</cp:revision>
  <dc:subject/>
  <dc:title>Slide 1</dc:title>
</cp:coreProperties>
</file>