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D992-0645-4935-BDD3-F340CA62A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BE82-9F09-410A-80F7-FDB11DBA9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CD80-8EA4-4209-A0A6-97060E7B5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CA59-46DE-4D58-A758-934676C29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8D0DF-E18F-4415-8071-DF2D5B7EB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D5D71-29F2-4767-881D-F5B8E9753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0003A-DCB5-4395-9532-CC277CA85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D2765-6F76-468C-AF82-48E011FD0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996D6-1646-4004-99B2-C8813E83F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E852F-1D45-4972-8DF1-CBF1C2F39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3733C-50A6-474C-87D5-6D62F822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1F43-E8B6-4C1E-A08B-29101FF09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34836-11B4-4D1B-8679-A037EBF8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A9EB4-2B1B-4306-ADCB-EE721C7C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8806A-2FB8-4BC5-8589-D831C85A3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27073-D725-4B57-9CEF-136D30058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0245E-22DC-4ABE-91E8-33CF09E6C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35C3-7CA0-4169-A29B-1BB20D37E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AA34-4271-42E3-99BB-8B650E2B0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DF7E-007E-43CF-B95C-6539FDC73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33FA-26C8-48AF-A3B1-9216A0314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B457-93A2-496C-BDC5-DCB872E3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18C4-6107-4478-ADF8-C57A3155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F03C-AABB-4C8B-81F4-58F8D2A8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  <a:ea typeface="Times New Roman (Hebrew)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  <a:ea typeface="Times New Roman (Hebrew)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  <a:ea typeface="Times New Roman (Hebrew)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  <a:ea typeface="Times New Roman (Hebrew)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  <a:ea typeface="Times New Roman (Hebrew)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49E5F-026C-4967-8E74-71227B5E0E62}" type="slidenum">
              <a:rPr b="0" lang="en-US" sz="1400" spc="-1" strike="noStrike">
                <a:solidFill>
                  <a:srgbClr val="ffffcc"/>
                </a:solidFill>
                <a:latin typeface="Arial"/>
                <a:ea typeface="Times New Roman (Hebrew)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0" y="0"/>
            <a:ext cx="9144000" cy="825480"/>
            <a:chOff x="0" y="0"/>
            <a:chExt cx="9144000" cy="825480"/>
          </a:xfrm>
        </p:grpSpPr>
        <p:sp>
          <p:nvSpPr>
            <p:cNvPr id="11" name=""/>
            <p:cNvSpPr/>
            <p:nvPr/>
          </p:nvSpPr>
          <p:spPr>
            <a:xfrm>
              <a:off x="5257800" y="0"/>
              <a:ext cx="3886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5f5f5f"/>
                  </a:solidFill>
                  <a:latin typeface="Times New Roman"/>
                </a:rPr>
                <a:t>	</a:t>
              </a:r>
              <a:r>
                <a:rPr b="0" lang="he-IL" sz="2400" spc="-1" strike="noStrike">
                  <a:solidFill>
                    <a:srgbClr val="5f5f5f"/>
                  </a:solidFill>
                  <a:latin typeface="Times New Roman"/>
                </a:rPr>
                <a:t>מעבדה לרשתות מחשבים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5f5f5f"/>
                  </a:solidFill>
                  <a:latin typeface="Times New Roman"/>
                  <a:cs typeface="Times New Roman (Hebrew)"/>
                </a:rPr>
                <a:t>חורף </a:t>
              </a:r>
              <a:r>
                <a:rPr b="0" lang="he-IL" sz="2400" spc="-1" strike="noStrike">
                  <a:solidFill>
                    <a:srgbClr val="5f5f5f"/>
                  </a:solidFill>
                  <a:latin typeface="Times New Roman"/>
                  <a:ea typeface="Times New Roman (Hebrew)"/>
                </a:rPr>
                <a:t>2002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50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  <a:ea typeface="Times New Roman (Hebrew)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  <a:ea typeface="Times New Roman (Hebrew)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  <a:ea typeface="Times New Roman (Hebrew)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  <a:ea typeface="Times New Roman (Hebrew)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  <a:ea typeface="Times New Roman (Hebrew)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FAF3-9A3A-43E8-BC4A-52F2ECD70664}" type="slidenum">
              <a:rPr b="0" lang="en-US" sz="1400" spc="-1" strike="noStrike">
                <a:solidFill>
                  <a:srgbClr val="ffffcc"/>
                </a:solidFill>
                <a:latin typeface="Arial"/>
                <a:ea typeface="Times New Roman (Hebrew)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 rtl="1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 rtl="1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 rtl="1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11426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r>
              <a:rPr b="0" i="1" lang="en-US" sz="6000" spc="-1" strike="noStrike">
                <a:solidFill>
                  <a:srgbClr val="ecf6a0"/>
                </a:solidFill>
                <a:latin typeface="Times New Roman"/>
              </a:rPr>
              <a:t>      </a:t>
            </a:r>
            <a:r>
              <a:rPr b="0" i="1" lang="he-IL" sz="6000" spc="-1" strike="noStrike">
                <a:solidFill>
                  <a:srgbClr val="ecf6a0"/>
                </a:solidFill>
                <a:latin typeface="Times New Roman"/>
              </a:rPr>
              <a:t>מצגת אמצע סמסטר</a:t>
            </a:r>
            <a:br>
              <a:rPr sz="6000"/>
            </a:b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838080" y="3733920"/>
            <a:ext cx="74678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ffffcc"/>
                </a:solidFill>
                <a:uFillTx/>
                <a:latin typeface="Arial"/>
                <a:cs typeface="Arial (Hebrew)"/>
              </a:rPr>
              <a:t>פרוייקט</a:t>
            </a:r>
            <a:r>
              <a:rPr b="1" lang="he-IL" sz="3200" spc="-1" strike="noStrike">
                <a:solidFill>
                  <a:srgbClr val="ffffcc"/>
                </a:solidFill>
                <a:latin typeface="Arial"/>
                <a:ea typeface="Arial (Hebrew)"/>
              </a:rPr>
              <a:t>: 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  <a:ea typeface="Arial (Hebrew)"/>
              </a:rPr>
              <a:t>File Transfer Protoco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ffffcc"/>
                </a:solidFill>
                <a:uFillTx/>
                <a:latin typeface="Times New Roman"/>
                <a:cs typeface="Arial (Hebrew)"/>
              </a:rPr>
              <a:t>מגיש</a:t>
            </a:r>
            <a:r>
              <a:rPr b="1" lang="he-IL" sz="3200" spc="-1" strike="noStrike">
                <a:solidFill>
                  <a:srgbClr val="ffffcc"/>
                </a:solidFill>
                <a:latin typeface="Times New Roman"/>
                <a:ea typeface="Arial (Hebrew)"/>
              </a:rPr>
              <a:t>    :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cs typeface="Arial (Hebrew)"/>
              </a:rPr>
              <a:t>ד</a:t>
            </a:r>
            <a:r>
              <a:rPr b="1" lang="he-IL" sz="3200" spc="-1" strike="noStrike">
                <a:solidFill>
                  <a:srgbClr val="ffffcc"/>
                </a:solidFill>
                <a:latin typeface="Times New Roman"/>
                <a:cs typeface="Arial (Hebrew)"/>
              </a:rPr>
              <a:t>ותן בר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cc"/>
                </a:solidFill>
                <a:latin typeface="Times New Roman"/>
                <a:ea typeface="Arial (Hebrew)"/>
              </a:rPr>
              <a:t>                   </a:t>
            </a:r>
            <a:r>
              <a:rPr b="1" lang="en-US" sz="3200" spc="-1" strike="noStrike" u="sng">
                <a:solidFill>
                  <a:srgbClr val="ffffcc"/>
                </a:solidFill>
                <a:uFillTx/>
                <a:latin typeface="Times New Roman"/>
                <a:cs typeface="Arial (Hebrew)"/>
              </a:rPr>
              <a:t>מ</a:t>
            </a:r>
            <a:r>
              <a:rPr b="1" lang="he-IL" sz="3200" spc="-1" strike="noStrike" u="sng">
                <a:solidFill>
                  <a:srgbClr val="ffffcc"/>
                </a:solidFill>
                <a:uFillTx/>
                <a:latin typeface="Times New Roman"/>
                <a:cs typeface="Arial (Hebrew)"/>
              </a:rPr>
              <a:t>נחה</a:t>
            </a:r>
            <a:r>
              <a:rPr b="0" lang="he-IL" sz="3200" spc="-1" strike="noStrike">
                <a:solidFill>
                  <a:srgbClr val="ffffcc"/>
                </a:solidFill>
                <a:latin typeface="Times New Roman"/>
                <a:ea typeface="Arial (Hebrew)"/>
              </a:rPr>
              <a:t>   </a:t>
            </a:r>
            <a:r>
              <a:rPr b="1" lang="he-IL" sz="3200" spc="-1" strike="noStrike">
                <a:solidFill>
                  <a:srgbClr val="ffffcc"/>
                </a:solidFill>
                <a:latin typeface="Times New Roman"/>
                <a:ea typeface="Arial (Hebrew)"/>
              </a:rPr>
              <a:t>:ניר ארד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e-IL" sz="4400" spc="-1" strike="noStrike">
                <a:solidFill>
                  <a:srgbClr val="ffcc66"/>
                </a:solidFill>
                <a:latin typeface="Times New Roman"/>
              </a:rPr>
              <a:t>סביבת העבודה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cc"/>
                </a:solidFill>
                <a:latin typeface="Times New Roman"/>
              </a:rPr>
              <a:t>פלטפורמה: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מ</a:t>
            </a:r>
            <a:r>
              <a:rPr b="1" lang="he-IL" sz="3200" spc="-1" strike="noStrike">
                <a:solidFill>
                  <a:srgbClr val="ffffcc"/>
                </a:solidFill>
                <a:latin typeface="Times New Roman"/>
              </a:rPr>
              <a:t>חשב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PC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1" lang="he-I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מ</a:t>
            </a:r>
            <a:r>
              <a:rPr b="1" lang="he-IL" sz="3200" spc="-1" strike="noStrike">
                <a:solidFill>
                  <a:srgbClr val="ffffcc"/>
                </a:solidFill>
                <a:latin typeface="Times New Roman"/>
              </a:rPr>
              <a:t>ערכת הפעלה: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Windows 2k</a:t>
            </a:r>
            <a:r>
              <a:rPr b="1" lang="he-IL" sz="3200" spc="-1" strike="noStrike">
                <a:solidFill>
                  <a:srgbClr val="ffffcc"/>
                </a:solidFill>
                <a:latin typeface="Times New Roman"/>
              </a:rPr>
              <a:t> 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ת</a:t>
            </a:r>
            <a:r>
              <a:rPr b="1" lang="he-IL" sz="3200" spc="-1" strike="noStrike">
                <a:solidFill>
                  <a:srgbClr val="ffffcc"/>
                </a:solidFill>
                <a:latin typeface="Times New Roman"/>
              </a:rPr>
              <a:t>וכנ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ה</a:t>
            </a:r>
            <a:r>
              <a:rPr b="1" lang="he-IL" sz="3200" spc="-1" strike="noStrike">
                <a:solidFill>
                  <a:srgbClr val="ffffcc"/>
                </a:solidFill>
                <a:latin typeface="Times New Roman"/>
              </a:rPr>
              <a:t>: סימולטור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OPNET</a:t>
            </a:r>
            <a:r>
              <a:rPr b="1" lang="he-IL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ש</a:t>
            </a:r>
            <a:r>
              <a:rPr b="1" lang="he-IL" sz="3200" spc="-1" strike="noStrike">
                <a:solidFill>
                  <a:srgbClr val="ffffcc"/>
                </a:solidFill>
                <a:latin typeface="Times New Roman"/>
              </a:rPr>
              <a:t>פות תכנות: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c / c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++</a:t>
            </a:r>
            <a:r>
              <a:rPr b="1" lang="he-IL" sz="3200" spc="-1" strike="noStrike">
                <a:solidFill>
                  <a:srgbClr val="ffffcc"/>
                </a:solidFill>
                <a:latin typeface="Times New Roman"/>
              </a:rPr>
              <a:t> 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e-IL" sz="4400" spc="-1" strike="noStrike">
                <a:solidFill>
                  <a:srgbClr val="ffcc66"/>
                </a:solidFill>
                <a:latin typeface="Times New Roman"/>
              </a:rPr>
              <a:t>מטרות הפרוייקט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cc"/>
                </a:solidFill>
                <a:latin typeface="Times New Roman"/>
              </a:rPr>
              <a:t>לימוד פרוטוקול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FTP</a:t>
            </a:r>
            <a:r>
              <a:rPr b="1" lang="he-IL" sz="32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cc"/>
                </a:solidFill>
                <a:latin typeface="Times New Roman"/>
              </a:rPr>
              <a:t>לימוד סימולטור ה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OPNET</a:t>
            </a:r>
            <a:r>
              <a:rPr b="1" lang="he-IL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cc"/>
                </a:solidFill>
                <a:latin typeface="Times New Roman"/>
              </a:rPr>
              <a:t>מימוש הפרוטוקול תחת הסימולטור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OPNET</a:t>
            </a:r>
            <a:r>
              <a:rPr b="1" lang="he-IL" sz="3200" spc="-1" strike="noStrike">
                <a:solidFill>
                  <a:srgbClr val="ffffcc"/>
                </a:solidFill>
                <a:latin typeface="Times New Roman"/>
              </a:rPr>
              <a:t> (שרת ולקוח)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ב</a:t>
            </a:r>
            <a:r>
              <a:rPr b="1" lang="he-IL" sz="3200" spc="-1" strike="noStrike">
                <a:solidFill>
                  <a:srgbClr val="ffffcc"/>
                </a:solidFill>
                <a:latin typeface="Times New Roman"/>
              </a:rPr>
              <a:t>דיקות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performance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he-IL" sz="3200" spc="-1" strike="noStrike">
                <a:solidFill>
                  <a:srgbClr val="ffffcc"/>
                </a:solidFill>
                <a:latin typeface="Times New Roman"/>
              </a:rPr>
              <a:t> של שרת-לקוח אמיתי ושילובו במודל עבור הסימולטור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0" y="0"/>
            <a:ext cx="9144000" cy="457200"/>
            <a:chOff x="0" y="0"/>
            <a:chExt cx="9144000" cy="457200"/>
          </a:xfrm>
        </p:grpSpPr>
        <p:sp>
          <p:nvSpPr>
            <p:cNvPr id="102" name=""/>
            <p:cNvSpPr/>
            <p:nvPr/>
          </p:nvSpPr>
          <p:spPr>
            <a:xfrm>
              <a:off x="5257800" y="0"/>
              <a:ext cx="3886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0"/>
              <a:ext cx="3886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e-IL" sz="4400" spc="-1" strike="noStrike">
                <a:solidFill>
                  <a:srgbClr val="ffcc66"/>
                </a:solidFill>
                <a:latin typeface="Times New Roman"/>
              </a:rPr>
              <a:t>רקע – </a:t>
            </a:r>
            <a:r>
              <a:rPr b="0" i="1" lang="en-US" sz="4400" spc="-1" strike="noStrike">
                <a:solidFill>
                  <a:srgbClr val="ffcc66"/>
                </a:solidFill>
                <a:latin typeface="Times New Roman"/>
                <a:ea typeface="Guttman-Aram"/>
              </a:rPr>
              <a:t>File Transfer Protocol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cc"/>
                </a:solidFill>
                <a:latin typeface="Narkisim"/>
              </a:rPr>
              <a:t>הפרוטוקול בא לתת פתרון להעברת (שיתוף) קבצי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cc"/>
                </a:solidFill>
                <a:latin typeface="Narkisim"/>
              </a:rPr>
              <a:t> בין משתמשים ע"י שימוש במחשבים מקושרים ברשת ללא תלות במערכות הקבצים השונות השומרות את הקבצים בשיטה אופיינית להן (למשל כמה ביטים מייצגים תווי 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  <a:ea typeface="Narkisim"/>
              </a:rPr>
              <a:t>ASCII</a:t>
            </a:r>
            <a:r>
              <a:rPr b="1" lang="he-IL" sz="3200" spc="-1" strike="noStrike">
                <a:solidFill>
                  <a:srgbClr val="ffffcc"/>
                </a:solidFill>
                <a:latin typeface="Narkisim"/>
              </a:rPr>
              <a:t> 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cc"/>
                </a:solidFill>
                <a:latin typeface="Narkisim"/>
              </a:rPr>
              <a:t> ובין מערכות הפעלה שונות בצורה נוחה ואמינה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0" y="0"/>
            <a:ext cx="9144000" cy="457200"/>
            <a:chOff x="0" y="0"/>
            <a:chExt cx="9144000" cy="457200"/>
          </a:xfrm>
        </p:grpSpPr>
        <p:sp>
          <p:nvSpPr>
            <p:cNvPr id="107" name=""/>
            <p:cNvSpPr/>
            <p:nvPr/>
          </p:nvSpPr>
          <p:spPr>
            <a:xfrm>
              <a:off x="5257800" y="0"/>
              <a:ext cx="3886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0"/>
              <a:ext cx="3886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e-IL" sz="4400" spc="-1" strike="noStrike">
                <a:solidFill>
                  <a:srgbClr val="ffcc66"/>
                </a:solidFill>
                <a:latin typeface="Times New Roman"/>
              </a:rPr>
              <a:t>תקציר – </a:t>
            </a:r>
            <a:r>
              <a:rPr b="0" i="1" lang="en-US" sz="4400" spc="-1" strike="noStrike">
                <a:solidFill>
                  <a:srgbClr val="ffcc66"/>
                </a:solidFill>
                <a:latin typeface="Times New Roman"/>
                <a:ea typeface="Guttman-Aram"/>
              </a:rPr>
              <a:t>File Transfer Protocol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cc"/>
                </a:solidFill>
                <a:latin typeface="Narkisim"/>
              </a:rPr>
              <a:t>הלקוח מתחבר לשרת אל כתובת ופורט ידועים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cc"/>
                </a:solidFill>
                <a:latin typeface="Narkisim"/>
              </a:rPr>
              <a:t>בין השרת והלקוח נפתח </a:t>
            </a:r>
            <a:r>
              <a:rPr b="1" lang="en-US" sz="3200" spc="-1" strike="noStrike">
                <a:solidFill>
                  <a:srgbClr val="ffffcc"/>
                </a:solidFill>
                <a:latin typeface="Narkisim"/>
              </a:rPr>
              <a:t>control connection</a:t>
            </a:r>
            <a:r>
              <a:rPr b="1" lang="he-IL" sz="3200" spc="-1" strike="noStrike">
                <a:solidFill>
                  <a:srgbClr val="ffffcc"/>
                </a:solidFill>
                <a:latin typeface="Narkisim"/>
              </a:rPr>
              <a:t> –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cc"/>
                </a:solidFill>
                <a:latin typeface="Narkisim"/>
              </a:rPr>
              <a:t>ערוץ שדרכו מועברות הפקודות לביצוע והתשובות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cc"/>
                </a:solidFill>
                <a:latin typeface="Narkisim"/>
              </a:rPr>
              <a:t>הערוץ עובד בפרוטוקול </a:t>
            </a:r>
            <a:r>
              <a:rPr b="1" lang="en-US" sz="3200" spc="-1" strike="noStrike">
                <a:solidFill>
                  <a:srgbClr val="ffffcc"/>
                </a:solidFill>
                <a:latin typeface="Narkisim"/>
              </a:rPr>
              <a:t>Telnet</a:t>
            </a:r>
            <a:r>
              <a:rPr b="1" lang="he-IL" sz="3200" spc="-1" strike="noStrike">
                <a:solidFill>
                  <a:srgbClr val="ffffcc"/>
                </a:solidFill>
                <a:latin typeface="Narkisim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cc"/>
                </a:solidFill>
                <a:latin typeface="Narkisim"/>
              </a:rPr>
              <a:t>במידת הצורך נפתח </a:t>
            </a:r>
            <a:r>
              <a:rPr b="1" lang="en-US" sz="3200" spc="-1" strike="noStrike">
                <a:solidFill>
                  <a:srgbClr val="ffffcc"/>
                </a:solidFill>
                <a:latin typeface="Narkisim"/>
              </a:rPr>
              <a:t>data connection</a:t>
            </a:r>
            <a:r>
              <a:rPr b="1" lang="he-IL" sz="3200" spc="-1" strike="noStrike">
                <a:solidFill>
                  <a:srgbClr val="ffffcc"/>
                </a:solidFill>
                <a:latin typeface="Narkisim"/>
              </a:rPr>
              <a:t> שדרכו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cc"/>
                </a:solidFill>
                <a:latin typeface="Narkisim"/>
              </a:rPr>
              <a:t>מועברים הקבצים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0" y="0"/>
            <a:ext cx="9144000" cy="457200"/>
            <a:chOff x="0" y="0"/>
            <a:chExt cx="9144000" cy="457200"/>
          </a:xfrm>
        </p:grpSpPr>
        <p:sp>
          <p:nvSpPr>
            <p:cNvPr id="112" name=""/>
            <p:cNvSpPr/>
            <p:nvPr/>
          </p:nvSpPr>
          <p:spPr>
            <a:xfrm>
              <a:off x="5257800" y="0"/>
              <a:ext cx="3886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0"/>
              <a:ext cx="3886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cc66"/>
                </a:solidFill>
                <a:latin typeface="Impact"/>
                <a:cs typeface="Times New Roman (Hebrew)"/>
              </a:rPr>
              <a:t>התחברות: לקוח -שרת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98108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6" name="Image1" descr=""/>
          <p:cNvPicPr/>
          <p:nvPr/>
        </p:nvPicPr>
        <p:blipFill>
          <a:blip r:embed="rId1"/>
          <a:stretch/>
        </p:blipFill>
        <p:spPr>
          <a:xfrm>
            <a:off x="1143000" y="2286000"/>
            <a:ext cx="7161120" cy="3137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cc66"/>
                </a:solidFill>
                <a:latin typeface="Impact"/>
                <a:cs typeface="Times New Roman (Hebrew)"/>
              </a:rPr>
              <a:t>התחברות: שרת -שרת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98108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9" name="Image2" descr=""/>
          <p:cNvPicPr/>
          <p:nvPr/>
        </p:nvPicPr>
        <p:blipFill>
          <a:blip r:embed="rId1"/>
          <a:stretch/>
        </p:blipFill>
        <p:spPr>
          <a:xfrm>
            <a:off x="1066680" y="2133720"/>
            <a:ext cx="6869160" cy="3517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e-IL" sz="4400" spc="-1" strike="noStrike">
                <a:solidFill>
                  <a:srgbClr val="ffcc66"/>
                </a:solidFill>
                <a:latin typeface="Times New Roman"/>
              </a:rPr>
              <a:t>לוח זמנים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198108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 (Hebrew)"/>
              </a:rPr>
              <a:t>FTP</a:t>
            </a:r>
            <a:r>
              <a:rPr b="1" lang="he-IL" sz="2800" spc="-1" strike="noStrike">
                <a:solidFill>
                  <a:srgbClr val="ffffcc"/>
                </a:solidFill>
                <a:latin typeface="Times New Roman"/>
                <a:ea typeface="Times New Roman (Hebrew)"/>
              </a:rPr>
              <a:t>+ </a:t>
            </a:r>
            <a:r>
              <a:rPr b="1" lang="he-IL" sz="2800" spc="-1" strike="noStrike">
                <a:solidFill>
                  <a:srgbClr val="ffffcc"/>
                </a:solidFill>
                <a:latin typeface="Times New Roman"/>
                <a:cs typeface="Times New Roman (Hebrew)"/>
              </a:rPr>
              <a:t>לימוד פרוטוקול</a:t>
            </a:r>
            <a:r>
              <a:rPr b="1" lang="he-IL" sz="2800" spc="-1" strike="noStrike">
                <a:solidFill>
                  <a:srgbClr val="ffffcc"/>
                </a:solidFill>
                <a:latin typeface="Times New Roman"/>
                <a:ea typeface="Times New Roman (Hebrew)"/>
              </a:rPr>
              <a:t>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 (Hebrew)"/>
              </a:rPr>
              <a:t>OPNET </a:t>
            </a:r>
            <a:r>
              <a:rPr b="1" lang="he-IL" sz="2800" spc="-1" strike="noStrike">
                <a:solidFill>
                  <a:srgbClr val="ffffcc"/>
                </a:solidFill>
                <a:latin typeface="Times New Roman"/>
                <a:ea typeface="Times New Roman (Hebrew)"/>
              </a:rPr>
              <a:t>+ </a:t>
            </a:r>
            <a:r>
              <a:rPr b="1" lang="he-IL" sz="2800" spc="-1" strike="noStrike">
                <a:solidFill>
                  <a:srgbClr val="ffffcc"/>
                </a:solidFill>
                <a:latin typeface="Times New Roman"/>
                <a:cs typeface="Times New Roman (Hebrew)"/>
              </a:rPr>
              <a:t>לימוד הסימולטור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 (Hebrew)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ffcc"/>
                </a:solidFill>
                <a:latin typeface="Times New Roman"/>
                <a:ea typeface="Times New Roman (Hebrew)"/>
              </a:rPr>
              <a:t>+ לימוד פרוטוקול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 (Hebrew)"/>
              </a:rPr>
              <a:t>TELNE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r" rtl="1"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r" rtl="1"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ffcc"/>
                </a:solidFill>
                <a:latin typeface="Times New Roman"/>
              </a:rPr>
              <a:t>מימוש מודול עבור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FTP – control connection</a:t>
            </a:r>
            <a:r>
              <a:rPr b="1" lang="he-IL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r" rtl="1"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ffcc"/>
                </a:solidFill>
                <a:latin typeface="Times New Roman"/>
              </a:rPr>
              <a:t>מימוש מודול עבור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FTP – data connection</a:t>
            </a:r>
            <a:r>
              <a:rPr b="1" lang="he-IL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r" rtl="1"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ffcc"/>
                </a:solidFill>
                <a:latin typeface="Times New Roman"/>
              </a:rPr>
              <a:t>בדיקת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performance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he-IL" sz="2800" spc="-1" strike="noStrike">
                <a:solidFill>
                  <a:srgbClr val="ffffcc"/>
                </a:solidFill>
                <a:latin typeface="Times New Roman"/>
              </a:rPr>
              <a:t> של שרת-לקוח אמיתי ושילוב התוצאות במודל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1T14:13:41Z</dcterms:created>
  <dc:creator>Ari Todtfeld</dc:creator>
  <dc:description/>
  <dc:language>en-US</dc:language>
  <cp:lastModifiedBy>Dotan b.</cp:lastModifiedBy>
  <dcterms:modified xsi:type="dcterms:W3CDTF">2002-01-02T09:44:55Z</dcterms:modified>
  <cp:revision>75</cp:revision>
  <dc:subject/>
  <dc:title>דוח אמצע פרויקט</dc:title>
</cp:coreProperties>
</file>