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FA2-B0E8-46F5-A7CC-CA49E58B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EAF-0787-4C61-999B-3D94FED7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1BA-4A2A-422F-ABEC-83955C1C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996-EAD5-4CB8-9042-FFC859F8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FC9-A43D-4171-811D-6202ABFD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EDF-17D0-449F-92B5-766C3422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C39-AE64-464B-A976-CBAE939B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208-BF88-47F3-9DFC-5FBD7B8C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197-A6BE-4D4D-8C62-FFCAEB96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A97-0687-409A-8DF4-366BC69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A8B-6085-4949-9E04-C123D92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027-004B-4E3D-A477-D06B4AA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C2CE-900D-464D-82BF-4C51052A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5835" t="52668" r="22085" b="21335"/>
          <a:stretch/>
        </p:blipFill>
        <p:spPr>
          <a:xfrm>
            <a:off x="2895480" y="2819520"/>
            <a:ext cx="4419720" cy="223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2" name="Group 69"/>
          <p:cNvGrpSpPr/>
          <p:nvPr/>
        </p:nvGrpSpPr>
        <p:grpSpPr>
          <a:xfrm>
            <a:off x="885960" y="733680"/>
            <a:ext cx="4340520" cy="2304720"/>
            <a:chOff x="885960" y="733680"/>
            <a:chExt cx="4340520" cy="2304720"/>
          </a:xfrm>
        </p:grpSpPr>
        <p:sp>
          <p:nvSpPr>
            <p:cNvPr id="43" name="Right Arrow 70"/>
            <p:cNvSpPr/>
            <p:nvPr/>
          </p:nvSpPr>
          <p:spPr>
            <a:xfrm rot="20112000">
              <a:off x="762120" y="1676160"/>
              <a:ext cx="4587840" cy="419040"/>
            </a:xfrm>
            <a:prstGeom prst="rightArrow">
              <a:avLst>
                <a:gd name="adj1" fmla="val 50000"/>
                <a:gd name="adj2" fmla="val 50180"/>
              </a:avLst>
            </a:prstGeom>
            <a:solidFill>
              <a:srgbClr val="bbe0e3"/>
            </a:solidFill>
            <a:ln w="1260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75"/>
            <p:cNvSpPr/>
            <p:nvPr/>
          </p:nvSpPr>
          <p:spPr>
            <a:xfrm rot="20046000">
              <a:off x="1512360" y="1731600"/>
              <a:ext cx="300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672280" y="502920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bitmap showing what you should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1:59:52Z</dcterms:created>
  <dc:creator>Sepehr Kiani</dc:creator>
  <dc:description/>
  <dc:language>en-US</dc:language>
  <cp:lastModifiedBy>Sepehr Kiani</cp:lastModifiedBy>
  <dcterms:modified xsi:type="dcterms:W3CDTF">2012-03-07T03:43:46Z</dcterms:modified>
  <cp:revision>4</cp:revision>
  <dc:subject/>
  <dc:title>Slide 1</dc:title>
</cp:coreProperties>
</file>