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12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336680" indent="-384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"/>
          <p:cNvSpPr/>
          <p:nvPr/>
        </p:nvSpPr>
        <p:spPr>
          <a:xfrm>
            <a:off x="2874960" y="6548400"/>
            <a:ext cx="415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Nokia Sans Wide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CF4E26B-04C5-4CC9-BD0A-28D756F8ACE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*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.ppt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520" y="260280"/>
            <a:ext cx="93074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is slide crashes Presentati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(OO.org)</a:t>
            </a:r>
            <a:endParaRPr b="0" lang="en-US" sz="3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"/>
          <p:cNvSpPr/>
          <p:nvPr/>
        </p:nvSpPr>
        <p:spPr>
          <a:xfrm>
            <a:off x="272880" y="1844640"/>
            <a:ext cx="42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Nokia Sans Wide"/>
              </a:rPr>
              <a:t>Try this in slideshow mod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98800" y="1586160"/>
            <a:ext cx="4832280" cy="4599000"/>
            <a:chOff x="4798800" y="1586160"/>
            <a:chExt cx="4832280" cy="4599000"/>
          </a:xfrm>
        </p:grpSpPr>
        <p:sp>
          <p:nvSpPr>
            <p:cNvPr id="44" name=""/>
            <p:cNvSpPr/>
            <p:nvPr/>
          </p:nvSpPr>
          <p:spPr>
            <a:xfrm>
              <a:off x="5772960" y="591984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86760" y="5864400"/>
              <a:ext cx="2278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SE 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98800" y="1586160"/>
              <a:ext cx="4832280" cy="236700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63960" y="1654560"/>
              <a:ext cx="3938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92400" y="1965600"/>
              <a:ext cx="4641840" cy="1881000"/>
            </a:xfrm>
            <a:custGeom>
              <a:avLst/>
              <a:gdLst/>
              <a:ahLst/>
              <a:rect l="l" t="t" r="r" b="b"/>
              <a:pathLst>
                <a:path w="4251" h="1724">
                  <a:moveTo>
                    <a:pt x="4034" y="1724"/>
                  </a:moveTo>
                  <a:lnTo>
                    <a:pt x="4072" y="1720"/>
                  </a:lnTo>
                  <a:lnTo>
                    <a:pt x="4109" y="1711"/>
                  </a:lnTo>
                  <a:lnTo>
                    <a:pt x="4142" y="1695"/>
                  </a:lnTo>
                  <a:lnTo>
                    <a:pt x="4173" y="1673"/>
                  </a:lnTo>
                  <a:lnTo>
                    <a:pt x="4201" y="1647"/>
                  </a:lnTo>
                  <a:lnTo>
                    <a:pt x="4223" y="1616"/>
                  </a:lnTo>
                  <a:lnTo>
                    <a:pt x="4238" y="1581"/>
                  </a:lnTo>
                  <a:lnTo>
                    <a:pt x="4249" y="1544"/>
                  </a:lnTo>
                  <a:lnTo>
                    <a:pt x="4251" y="1507"/>
                  </a:lnTo>
                  <a:lnTo>
                    <a:pt x="4251" y="217"/>
                  </a:lnTo>
                  <a:lnTo>
                    <a:pt x="4249" y="180"/>
                  </a:lnTo>
                  <a:lnTo>
                    <a:pt x="4238" y="143"/>
                  </a:lnTo>
                  <a:lnTo>
                    <a:pt x="4223" y="108"/>
                  </a:lnTo>
                  <a:lnTo>
                    <a:pt x="4201" y="77"/>
                  </a:lnTo>
                  <a:lnTo>
                    <a:pt x="4173" y="51"/>
                  </a:lnTo>
                  <a:lnTo>
                    <a:pt x="4142" y="29"/>
                  </a:lnTo>
                  <a:lnTo>
                    <a:pt x="4109" y="13"/>
                  </a:lnTo>
                  <a:lnTo>
                    <a:pt x="4072" y="4"/>
                  </a:lnTo>
                  <a:lnTo>
                    <a:pt x="4034" y="0"/>
                  </a:lnTo>
                  <a:lnTo>
                    <a:pt x="218" y="0"/>
                  </a:lnTo>
                  <a:lnTo>
                    <a:pt x="180" y="4"/>
                  </a:lnTo>
                  <a:lnTo>
                    <a:pt x="143" y="13"/>
                  </a:lnTo>
                  <a:lnTo>
                    <a:pt x="110" y="29"/>
                  </a:lnTo>
                  <a:lnTo>
                    <a:pt x="79" y="51"/>
                  </a:lnTo>
                  <a:lnTo>
                    <a:pt x="51" y="77"/>
                  </a:lnTo>
                  <a:lnTo>
                    <a:pt x="29" y="108"/>
                  </a:lnTo>
                  <a:lnTo>
                    <a:pt x="15" y="143"/>
                  </a:lnTo>
                  <a:lnTo>
                    <a:pt x="4" y="180"/>
                  </a:lnTo>
                  <a:lnTo>
                    <a:pt x="0" y="217"/>
                  </a:lnTo>
                  <a:lnTo>
                    <a:pt x="0" y="1507"/>
                  </a:lnTo>
                  <a:lnTo>
                    <a:pt x="4" y="1544"/>
                  </a:lnTo>
                  <a:lnTo>
                    <a:pt x="15" y="1581"/>
                  </a:lnTo>
                  <a:lnTo>
                    <a:pt x="29" y="1616"/>
                  </a:lnTo>
                  <a:lnTo>
                    <a:pt x="51" y="1647"/>
                  </a:lnTo>
                  <a:lnTo>
                    <a:pt x="79" y="1673"/>
                  </a:lnTo>
                  <a:lnTo>
                    <a:pt x="110" y="1695"/>
                  </a:lnTo>
                  <a:lnTo>
                    <a:pt x="143" y="1711"/>
                  </a:lnTo>
                  <a:lnTo>
                    <a:pt x="180" y="1720"/>
                  </a:lnTo>
                  <a:lnTo>
                    <a:pt x="218" y="1724"/>
                  </a:lnTo>
                  <a:lnTo>
                    <a:pt x="4034" y="1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297720" y="3841560"/>
              <a:ext cx="31680" cy="4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350280" y="3832560"/>
              <a:ext cx="29880" cy="79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397800" y="3808800"/>
              <a:ext cx="28440" cy="158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9" y="3"/>
                  </a:lnTo>
                  <a:lnTo>
                    <a:pt x="14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442080" y="3775320"/>
              <a:ext cx="24120" cy="20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lnTo>
                    <a:pt x="4" y="8"/>
                  </a:lnTo>
                  <a:lnTo>
                    <a:pt x="12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480240" y="3733560"/>
              <a:ext cx="19080" cy="270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09040" y="3686400"/>
              <a:ext cx="12600" cy="30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26320" y="3635640"/>
              <a:ext cx="6480" cy="3312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0" y="16"/>
                  </a:moveTo>
                  <a:lnTo>
                    <a:pt x="3" y="7"/>
                  </a:lnTo>
                  <a:lnTo>
                    <a:pt x="3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34240" y="3583080"/>
              <a:ext cx="1800" cy="3348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534240" y="35323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534240" y="34801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534240" y="342720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9534240" y="337536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9534240" y="33246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534240" y="32720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534240" y="32198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534240" y="31672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9534240" y="31143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9534240" y="30625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534240" y="300960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534240" y="295884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534240" y="29070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9534240" y="285408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534240" y="280224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9534240" y="27514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534240" y="26989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534240" y="26467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534240" y="25941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9534240" y="25419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9534240" y="24894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9534240" y="243720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9534240" y="238572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9534240" y="23338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9534240" y="22809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534240" y="222912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532800" y="217836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1" y="16"/>
                  </a:moveTo>
                  <a:lnTo>
                    <a:pt x="1" y="12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9521640" y="2127240"/>
              <a:ext cx="936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502560" y="207972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70880" y="2038680"/>
              <a:ext cx="19080" cy="23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429480" y="2006640"/>
              <a:ext cx="27000" cy="176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9"/>
                  </a:moveTo>
                  <a:lnTo>
                    <a:pt x="10" y="7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384840" y="1981440"/>
              <a:ext cx="28440" cy="144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32640" y="1968840"/>
              <a:ext cx="30240" cy="612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8640" y="1965600"/>
              <a:ext cx="3348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1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9227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9175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91231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90709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0194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9676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91468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862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80992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7580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70516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86533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6025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85500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849780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84470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3944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3422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8289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2368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184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1320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07984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0294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976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924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8721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819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7673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71516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6224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611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5596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5067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45416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4034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3515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2986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2468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1942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420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0891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38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9865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33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817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830640" y="1965600"/>
              <a:ext cx="302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7770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7240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67152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62076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568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51600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6416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4134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3608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30864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2560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2038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1513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09912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476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958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94288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8906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8402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877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735520" y="1965600"/>
              <a:ext cx="302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6829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6307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57820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526000" y="1965600"/>
              <a:ext cx="3312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473080" y="1965600"/>
              <a:ext cx="334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4226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37048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1792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26500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213160" y="1965600"/>
              <a:ext cx="3168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60240" y="1965600"/>
              <a:ext cx="32040" cy="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8400" y="1965600"/>
              <a:ext cx="3348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57640" y="1968840"/>
              <a:ext cx="31680" cy="79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0120" y="1984680"/>
              <a:ext cx="28440" cy="14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" y="6"/>
                  </a:lnTo>
                  <a:lnTo>
                    <a:pt x="0" y="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8720" y="2009880"/>
              <a:ext cx="27000" cy="190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5" y="5"/>
                  </a:lnTo>
                  <a:lnTo>
                    <a:pt x="0" y="9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5240" y="2043360"/>
              <a:ext cx="19080" cy="252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0"/>
                  </a:move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909680" y="2084760"/>
              <a:ext cx="126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7080" y="2135520"/>
              <a:ext cx="7920" cy="298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0"/>
                  </a:move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92400" y="2186280"/>
              <a:ext cx="3240" cy="302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1" y="0"/>
                  </a:move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2400" y="223848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92400" y="228924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92400" y="23418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92400" y="239400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2400" y="24465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92400" y="249732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92400" y="25498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92400" y="26020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92400" y="26546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92400" y="27068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92400" y="275940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92400" y="281160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92400" y="286236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92400" y="291492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92400" y="2967120"/>
              <a:ext cx="1800" cy="320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2400" y="301968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92400" y="3070440"/>
              <a:ext cx="1800" cy="33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92400" y="3123000"/>
              <a:ext cx="1800" cy="331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92400" y="317520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92400" y="32277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92400" y="327996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92400" y="333252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2400" y="3384720"/>
              <a:ext cx="18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92400" y="3437280"/>
              <a:ext cx="1800" cy="298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92400" y="34880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2400" y="3540240"/>
              <a:ext cx="1800" cy="316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2400" y="3592800"/>
              <a:ext cx="3240" cy="3168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9"/>
                  </a:lnTo>
                  <a:lnTo>
                    <a:pt x="1" y="16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97080" y="3643560"/>
              <a:ext cx="7920" cy="30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0"/>
                  </a:moveTo>
                  <a:lnTo>
                    <a:pt x="0" y="3"/>
                  </a:lnTo>
                  <a:lnTo>
                    <a:pt x="4" y="15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10040" y="3694320"/>
              <a:ext cx="12600" cy="3024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3800" y="3740400"/>
              <a:ext cx="19080" cy="252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8" y="11"/>
                  </a:lnTo>
                  <a:lnTo>
                    <a:pt x="10" y="13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6920" y="3780000"/>
              <a:ext cx="25560" cy="205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6" y="5"/>
                  </a:lnTo>
                  <a:lnTo>
                    <a:pt x="13" y="10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8320" y="3813480"/>
              <a:ext cx="28440" cy="140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2" y="1"/>
                  </a:lnTo>
                  <a:lnTo>
                    <a:pt x="14" y="7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55840" y="3835440"/>
              <a:ext cx="32040" cy="648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6960" y="3845160"/>
              <a:ext cx="3312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0" y="0"/>
                  </a:moveTo>
                  <a:lnTo>
                    <a:pt x="12" y="1"/>
                  </a:lnTo>
                  <a:lnTo>
                    <a:pt x="16" y="1"/>
                  </a:lnTo>
                </a:path>
              </a:pathLst>
            </a:custGeom>
            <a:noFill/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916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117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639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1468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72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94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720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42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767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89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228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448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370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8924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18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43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65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732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988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208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5464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40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7600" y="384660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01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6236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92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6712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1968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1880" y="384660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3000" y="384660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7520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27760" y="384660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78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864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912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4340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59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4816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007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5292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404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5624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088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10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176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643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65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0520" y="3854520"/>
              <a:ext cx="302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128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38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2604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86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2936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819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341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866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88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914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436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9440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4696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991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517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0248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4680" y="3854520"/>
              <a:ext cx="334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07240" y="3854520"/>
              <a:ext cx="42840" cy="4932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9440" y="3854520"/>
              <a:ext cx="3204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120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45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167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6932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920080" y="3854520"/>
              <a:ext cx="331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97228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248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7704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296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18180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234360" y="3854520"/>
              <a:ext cx="3168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285120" y="3854520"/>
              <a:ext cx="20520" cy="1800"/>
            </a:xfrm>
            <a:prstGeom prst="line">
              <a:avLst/>
            </a:prstGeom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6920" y="2038680"/>
              <a:ext cx="3160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38640" y="2303640"/>
              <a:ext cx="1893600" cy="1420920"/>
            </a:xfrm>
            <a:custGeom>
              <a:avLst/>
              <a:gdLst/>
              <a:ahLst/>
              <a:rect l="l" t="t" r="r" b="b"/>
              <a:pathLst>
                <a:path w="1734" h="1302">
                  <a:moveTo>
                    <a:pt x="1517" y="1302"/>
                  </a:moveTo>
                  <a:lnTo>
                    <a:pt x="1556" y="1298"/>
                  </a:lnTo>
                  <a:lnTo>
                    <a:pt x="1592" y="1289"/>
                  </a:lnTo>
                  <a:lnTo>
                    <a:pt x="1625" y="1272"/>
                  </a:lnTo>
                  <a:lnTo>
                    <a:pt x="1657" y="1250"/>
                  </a:lnTo>
                  <a:lnTo>
                    <a:pt x="1684" y="1224"/>
                  </a:lnTo>
                  <a:lnTo>
                    <a:pt x="1706" y="1193"/>
                  </a:lnTo>
                  <a:lnTo>
                    <a:pt x="1721" y="1158"/>
                  </a:lnTo>
                  <a:lnTo>
                    <a:pt x="1732" y="1124"/>
                  </a:lnTo>
                  <a:lnTo>
                    <a:pt x="1734" y="1085"/>
                  </a:lnTo>
                  <a:lnTo>
                    <a:pt x="1734" y="218"/>
                  </a:lnTo>
                  <a:lnTo>
                    <a:pt x="1732" y="180"/>
                  </a:lnTo>
                  <a:lnTo>
                    <a:pt x="1721" y="143"/>
                  </a:lnTo>
                  <a:lnTo>
                    <a:pt x="1706" y="108"/>
                  </a:lnTo>
                  <a:lnTo>
                    <a:pt x="1684" y="79"/>
                  </a:lnTo>
                  <a:lnTo>
                    <a:pt x="1657" y="51"/>
                  </a:lnTo>
                  <a:lnTo>
                    <a:pt x="1625" y="29"/>
                  </a:lnTo>
                  <a:lnTo>
                    <a:pt x="1592" y="15"/>
                  </a:lnTo>
                  <a:lnTo>
                    <a:pt x="1556" y="4"/>
                  </a:lnTo>
                  <a:lnTo>
                    <a:pt x="1517" y="0"/>
                  </a:lnTo>
                  <a:lnTo>
                    <a:pt x="217" y="0"/>
                  </a:lnTo>
                  <a:lnTo>
                    <a:pt x="179" y="4"/>
                  </a:lnTo>
                  <a:lnTo>
                    <a:pt x="142" y="15"/>
                  </a:lnTo>
                  <a:lnTo>
                    <a:pt x="109" y="29"/>
                  </a:lnTo>
                  <a:lnTo>
                    <a:pt x="78" y="51"/>
                  </a:lnTo>
                  <a:lnTo>
                    <a:pt x="50" y="79"/>
                  </a:lnTo>
                  <a:lnTo>
                    <a:pt x="28" y="108"/>
                  </a:lnTo>
                  <a:lnTo>
                    <a:pt x="13" y="143"/>
                  </a:lnTo>
                  <a:lnTo>
                    <a:pt x="2" y="180"/>
                  </a:lnTo>
                  <a:lnTo>
                    <a:pt x="0" y="218"/>
                  </a:lnTo>
                  <a:lnTo>
                    <a:pt x="0" y="1085"/>
                  </a:lnTo>
                  <a:lnTo>
                    <a:pt x="2" y="1124"/>
                  </a:lnTo>
                  <a:lnTo>
                    <a:pt x="13" y="1158"/>
                  </a:lnTo>
                  <a:lnTo>
                    <a:pt x="28" y="1193"/>
                  </a:lnTo>
                  <a:lnTo>
                    <a:pt x="50" y="1224"/>
                  </a:lnTo>
                  <a:lnTo>
                    <a:pt x="78" y="1250"/>
                  </a:lnTo>
                  <a:lnTo>
                    <a:pt x="109" y="1272"/>
                  </a:lnTo>
                  <a:lnTo>
                    <a:pt x="142" y="1289"/>
                  </a:lnTo>
                  <a:lnTo>
                    <a:pt x="179" y="1298"/>
                  </a:lnTo>
                  <a:lnTo>
                    <a:pt x="217" y="1302"/>
                  </a:lnTo>
                  <a:lnTo>
                    <a:pt x="1517" y="1302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5960" y="23720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10240" y="2303640"/>
              <a:ext cx="1895400" cy="1420920"/>
            </a:xfrm>
            <a:custGeom>
              <a:avLst/>
              <a:gdLst/>
              <a:ahLst/>
              <a:rect l="l" t="t" r="r" b="b"/>
              <a:pathLst>
                <a:path w="1735" h="1302">
                  <a:moveTo>
                    <a:pt x="1518" y="1302"/>
                  </a:moveTo>
                  <a:lnTo>
                    <a:pt x="1557" y="1298"/>
                  </a:lnTo>
                  <a:lnTo>
                    <a:pt x="1593" y="1289"/>
                  </a:lnTo>
                  <a:lnTo>
                    <a:pt x="1627" y="1272"/>
                  </a:lnTo>
                  <a:lnTo>
                    <a:pt x="1658" y="1250"/>
                  </a:lnTo>
                  <a:lnTo>
                    <a:pt x="1685" y="1224"/>
                  </a:lnTo>
                  <a:lnTo>
                    <a:pt x="1705" y="1193"/>
                  </a:lnTo>
                  <a:lnTo>
                    <a:pt x="1722" y="1158"/>
                  </a:lnTo>
                  <a:lnTo>
                    <a:pt x="1733" y="1124"/>
                  </a:lnTo>
                  <a:lnTo>
                    <a:pt x="1735" y="1085"/>
                  </a:lnTo>
                  <a:lnTo>
                    <a:pt x="1735" y="218"/>
                  </a:lnTo>
                  <a:lnTo>
                    <a:pt x="1733" y="180"/>
                  </a:lnTo>
                  <a:lnTo>
                    <a:pt x="1722" y="143"/>
                  </a:lnTo>
                  <a:lnTo>
                    <a:pt x="1705" y="108"/>
                  </a:lnTo>
                  <a:lnTo>
                    <a:pt x="1685" y="79"/>
                  </a:lnTo>
                  <a:lnTo>
                    <a:pt x="1658" y="51"/>
                  </a:lnTo>
                  <a:lnTo>
                    <a:pt x="1627" y="29"/>
                  </a:lnTo>
                  <a:lnTo>
                    <a:pt x="1593" y="15"/>
                  </a:lnTo>
                  <a:lnTo>
                    <a:pt x="1557" y="4"/>
                  </a:lnTo>
                  <a:lnTo>
                    <a:pt x="1518" y="0"/>
                  </a:lnTo>
                  <a:lnTo>
                    <a:pt x="218" y="0"/>
                  </a:lnTo>
                  <a:lnTo>
                    <a:pt x="180" y="4"/>
                  </a:lnTo>
                  <a:lnTo>
                    <a:pt x="143" y="15"/>
                  </a:lnTo>
                  <a:lnTo>
                    <a:pt x="108" y="29"/>
                  </a:lnTo>
                  <a:lnTo>
                    <a:pt x="79" y="51"/>
                  </a:lnTo>
                  <a:lnTo>
                    <a:pt x="51" y="79"/>
                  </a:lnTo>
                  <a:lnTo>
                    <a:pt x="29" y="108"/>
                  </a:lnTo>
                  <a:lnTo>
                    <a:pt x="14" y="143"/>
                  </a:lnTo>
                  <a:lnTo>
                    <a:pt x="3" y="180"/>
                  </a:lnTo>
                  <a:lnTo>
                    <a:pt x="0" y="218"/>
                  </a:lnTo>
                  <a:lnTo>
                    <a:pt x="0" y="1085"/>
                  </a:lnTo>
                  <a:lnTo>
                    <a:pt x="3" y="1124"/>
                  </a:lnTo>
                  <a:lnTo>
                    <a:pt x="14" y="1158"/>
                  </a:lnTo>
                  <a:lnTo>
                    <a:pt x="29" y="1193"/>
                  </a:lnTo>
                  <a:lnTo>
                    <a:pt x="51" y="1224"/>
                  </a:lnTo>
                  <a:lnTo>
                    <a:pt x="79" y="1250"/>
                  </a:lnTo>
                  <a:lnTo>
                    <a:pt x="108" y="1272"/>
                  </a:lnTo>
                  <a:lnTo>
                    <a:pt x="143" y="1289"/>
                  </a:lnTo>
                  <a:lnTo>
                    <a:pt x="180" y="1298"/>
                  </a:lnTo>
                  <a:lnTo>
                    <a:pt x="218" y="1302"/>
                  </a:lnTo>
                  <a:lnTo>
                    <a:pt x="1518" y="1302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76120" y="23720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6720" y="5145480"/>
              <a:ext cx="2367000" cy="10396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2680" y="5240520"/>
              <a:ext cx="1657440" cy="851040"/>
            </a:xfrm>
            <a:custGeom>
              <a:avLst/>
              <a:gdLst/>
              <a:ahLst/>
              <a:rect l="l" t="t" r="r" b="b"/>
              <a:pathLst>
                <a:path w="1518" h="780">
                  <a:moveTo>
                    <a:pt x="1302" y="780"/>
                  </a:moveTo>
                  <a:lnTo>
                    <a:pt x="1338" y="776"/>
                  </a:lnTo>
                  <a:lnTo>
                    <a:pt x="1375" y="767"/>
                  </a:lnTo>
                  <a:lnTo>
                    <a:pt x="1410" y="750"/>
                  </a:lnTo>
                  <a:lnTo>
                    <a:pt x="1441" y="730"/>
                  </a:lnTo>
                  <a:lnTo>
                    <a:pt x="1467" y="703"/>
                  </a:lnTo>
                  <a:lnTo>
                    <a:pt x="1489" y="672"/>
                  </a:lnTo>
                  <a:lnTo>
                    <a:pt x="1505" y="637"/>
                  </a:lnTo>
                  <a:lnTo>
                    <a:pt x="1515" y="602"/>
                  </a:lnTo>
                  <a:lnTo>
                    <a:pt x="1518" y="563"/>
                  </a:lnTo>
                  <a:lnTo>
                    <a:pt x="1518" y="216"/>
                  </a:lnTo>
                  <a:lnTo>
                    <a:pt x="1515" y="179"/>
                  </a:lnTo>
                  <a:lnTo>
                    <a:pt x="1505" y="143"/>
                  </a:lnTo>
                  <a:lnTo>
                    <a:pt x="1489" y="108"/>
                  </a:lnTo>
                  <a:lnTo>
                    <a:pt x="1467" y="77"/>
                  </a:lnTo>
                  <a:lnTo>
                    <a:pt x="1441" y="51"/>
                  </a:lnTo>
                  <a:lnTo>
                    <a:pt x="1410" y="29"/>
                  </a:lnTo>
                  <a:lnTo>
                    <a:pt x="1375" y="12"/>
                  </a:lnTo>
                  <a:lnTo>
                    <a:pt x="1338" y="3"/>
                  </a:lnTo>
                  <a:lnTo>
                    <a:pt x="1302" y="0"/>
                  </a:lnTo>
                  <a:lnTo>
                    <a:pt x="216" y="0"/>
                  </a:lnTo>
                  <a:lnTo>
                    <a:pt x="180" y="3"/>
                  </a:lnTo>
                  <a:lnTo>
                    <a:pt x="143" y="12"/>
                  </a:lnTo>
                  <a:lnTo>
                    <a:pt x="108" y="29"/>
                  </a:lnTo>
                  <a:lnTo>
                    <a:pt x="77" y="51"/>
                  </a:lnTo>
                  <a:lnTo>
                    <a:pt x="51" y="77"/>
                  </a:lnTo>
                  <a:lnTo>
                    <a:pt x="29" y="108"/>
                  </a:lnTo>
                  <a:lnTo>
                    <a:pt x="13" y="143"/>
                  </a:lnTo>
                  <a:lnTo>
                    <a:pt x="3" y="179"/>
                  </a:lnTo>
                  <a:lnTo>
                    <a:pt x="0" y="216"/>
                  </a:lnTo>
                  <a:lnTo>
                    <a:pt x="0" y="563"/>
                  </a:lnTo>
                  <a:lnTo>
                    <a:pt x="3" y="602"/>
                  </a:lnTo>
                  <a:lnTo>
                    <a:pt x="13" y="637"/>
                  </a:lnTo>
                  <a:lnTo>
                    <a:pt x="29" y="672"/>
                  </a:lnTo>
                  <a:lnTo>
                    <a:pt x="51" y="703"/>
                  </a:lnTo>
                  <a:lnTo>
                    <a:pt x="77" y="730"/>
                  </a:lnTo>
                  <a:lnTo>
                    <a:pt x="108" y="750"/>
                  </a:lnTo>
                  <a:lnTo>
                    <a:pt x="143" y="767"/>
                  </a:lnTo>
                  <a:lnTo>
                    <a:pt x="180" y="776"/>
                  </a:lnTo>
                  <a:lnTo>
                    <a:pt x="216" y="780"/>
                  </a:lnTo>
                  <a:lnTo>
                    <a:pt x="1302" y="780"/>
                  </a:lnTo>
                  <a:close/>
                </a:path>
              </a:pathLst>
            </a:custGeom>
            <a:solidFill>
              <a:srgbClr val="ffffff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173720" y="519876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234200" y="5054400"/>
              <a:ext cx="3780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296120" y="4910040"/>
              <a:ext cx="378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357680" y="4765680"/>
              <a:ext cx="3672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418160" y="4624200"/>
              <a:ext cx="3816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478640" y="4479840"/>
              <a:ext cx="378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540560" y="4335840"/>
              <a:ext cx="37800" cy="871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600680" y="4190760"/>
              <a:ext cx="38160" cy="8748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62600" y="404640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723080" y="3902040"/>
              <a:ext cx="381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785000" y="3757320"/>
              <a:ext cx="3960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4120" y="5245200"/>
              <a:ext cx="82440" cy="82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52" y="4"/>
                  </a:moveTo>
                  <a:lnTo>
                    <a:pt x="37" y="0"/>
                  </a:lnTo>
                  <a:lnTo>
                    <a:pt x="24" y="4"/>
                  </a:lnTo>
                  <a:lnTo>
                    <a:pt x="11" y="11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4" y="51"/>
                  </a:lnTo>
                  <a:lnTo>
                    <a:pt x="11" y="64"/>
                  </a:lnTo>
                  <a:lnTo>
                    <a:pt x="22" y="72"/>
                  </a:lnTo>
                  <a:lnTo>
                    <a:pt x="37" y="75"/>
                  </a:lnTo>
                  <a:lnTo>
                    <a:pt x="52" y="72"/>
                  </a:lnTo>
                  <a:lnTo>
                    <a:pt x="65" y="64"/>
                  </a:lnTo>
                  <a:lnTo>
                    <a:pt x="72" y="53"/>
                  </a:lnTo>
                  <a:lnTo>
                    <a:pt x="76" y="39"/>
                  </a:lnTo>
                  <a:lnTo>
                    <a:pt x="72" y="24"/>
                  </a:lnTo>
                  <a:lnTo>
                    <a:pt x="65" y="11"/>
                  </a:lnTo>
                  <a:lnTo>
                    <a:pt x="5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97600" y="3684960"/>
              <a:ext cx="81000" cy="7920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22" y="71"/>
                  </a:moveTo>
                  <a:lnTo>
                    <a:pt x="37" y="73"/>
                  </a:lnTo>
                  <a:lnTo>
                    <a:pt x="52" y="71"/>
                  </a:lnTo>
                  <a:lnTo>
                    <a:pt x="63" y="64"/>
                  </a:lnTo>
                  <a:lnTo>
                    <a:pt x="72" y="51"/>
                  </a:lnTo>
                  <a:lnTo>
                    <a:pt x="74" y="37"/>
                  </a:lnTo>
                  <a:lnTo>
                    <a:pt x="72" y="24"/>
                  </a:lnTo>
                  <a:lnTo>
                    <a:pt x="63" y="11"/>
                  </a:lnTo>
                  <a:lnTo>
                    <a:pt x="52" y="2"/>
                  </a:lnTo>
                  <a:lnTo>
                    <a:pt x="37" y="0"/>
                  </a:lnTo>
                  <a:lnTo>
                    <a:pt x="22" y="2"/>
                  </a:lnTo>
                  <a:lnTo>
                    <a:pt x="11" y="11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2"/>
                  </a:lnTo>
                  <a:lnTo>
                    <a:pt x="2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57760" y="372456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16440" y="3870360"/>
              <a:ext cx="34920" cy="907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71880" y="4016520"/>
              <a:ext cx="36720" cy="907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0920" y="416412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89600" y="431028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8280" y="4456440"/>
              <a:ext cx="3348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03720" y="4602240"/>
              <a:ext cx="3492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0960" y="474840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19640" y="4894560"/>
              <a:ext cx="34920" cy="903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75440" y="5040360"/>
              <a:ext cx="36360" cy="8892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34120" y="5185080"/>
              <a:ext cx="34920" cy="90360"/>
            </a:xfrm>
            <a:prstGeom prst="line">
              <a:avLst/>
            </a:prstGeom>
            <a:ln w="6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18160" y="3684960"/>
              <a:ext cx="81000" cy="792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1" y="71"/>
                  </a:moveTo>
                  <a:lnTo>
                    <a:pt x="62" y="64"/>
                  </a:lnTo>
                  <a:lnTo>
                    <a:pt x="71" y="51"/>
                  </a:lnTo>
                  <a:lnTo>
                    <a:pt x="73" y="37"/>
                  </a:lnTo>
                  <a:lnTo>
                    <a:pt x="71" y="24"/>
                  </a:lnTo>
                  <a:lnTo>
                    <a:pt x="64" y="11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2"/>
                  </a:lnTo>
                  <a:lnTo>
                    <a:pt x="22" y="71"/>
                  </a:lnTo>
                  <a:lnTo>
                    <a:pt x="36" y="73"/>
                  </a:lnTo>
                  <a:lnTo>
                    <a:pt x="5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34120" y="5245200"/>
              <a:ext cx="82440" cy="82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24" y="4"/>
                  </a:moveTo>
                  <a:lnTo>
                    <a:pt x="11" y="11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2" y="51"/>
                  </a:lnTo>
                  <a:lnTo>
                    <a:pt x="11" y="64"/>
                  </a:lnTo>
                  <a:lnTo>
                    <a:pt x="22" y="72"/>
                  </a:lnTo>
                  <a:lnTo>
                    <a:pt x="37" y="75"/>
                  </a:lnTo>
                  <a:lnTo>
                    <a:pt x="52" y="72"/>
                  </a:lnTo>
                  <a:lnTo>
                    <a:pt x="63" y="64"/>
                  </a:lnTo>
                  <a:lnTo>
                    <a:pt x="72" y="53"/>
                  </a:lnTo>
                  <a:lnTo>
                    <a:pt x="76" y="39"/>
                  </a:lnTo>
                  <a:lnTo>
                    <a:pt x="72" y="24"/>
                  </a:lnTo>
                  <a:lnTo>
                    <a:pt x="65" y="13"/>
                  </a:lnTo>
                  <a:lnTo>
                    <a:pt x="52" y="4"/>
                  </a:lnTo>
                  <a:lnTo>
                    <a:pt x="39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7400" y="3518280"/>
              <a:ext cx="1958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1600" y="3518280"/>
              <a:ext cx="1958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94280" y="2976840"/>
              <a:ext cx="1192320" cy="2641680"/>
            </a:xfrm>
            <a:custGeom>
              <a:avLst/>
              <a:gdLst/>
              <a:ahLst/>
              <a:rect l="l" t="t" r="r" b="b"/>
              <a:pathLst>
                <a:path w="1091" h="2420">
                  <a:moveTo>
                    <a:pt x="0" y="35"/>
                  </a:moveTo>
                  <a:lnTo>
                    <a:pt x="75" y="24"/>
                  </a:lnTo>
                  <a:lnTo>
                    <a:pt x="147" y="14"/>
                  </a:lnTo>
                  <a:lnTo>
                    <a:pt x="217" y="7"/>
                  </a:lnTo>
                  <a:lnTo>
                    <a:pt x="285" y="2"/>
                  </a:lnTo>
                  <a:lnTo>
                    <a:pt x="349" y="0"/>
                  </a:lnTo>
                  <a:lnTo>
                    <a:pt x="410" y="0"/>
                  </a:lnTo>
                  <a:lnTo>
                    <a:pt x="468" y="2"/>
                  </a:lnTo>
                  <a:lnTo>
                    <a:pt x="525" y="5"/>
                  </a:lnTo>
                  <a:lnTo>
                    <a:pt x="578" y="11"/>
                  </a:lnTo>
                  <a:lnTo>
                    <a:pt x="630" y="20"/>
                  </a:lnTo>
                  <a:lnTo>
                    <a:pt x="678" y="29"/>
                  </a:lnTo>
                  <a:lnTo>
                    <a:pt x="723" y="42"/>
                  </a:lnTo>
                  <a:lnTo>
                    <a:pt x="766" y="57"/>
                  </a:lnTo>
                  <a:lnTo>
                    <a:pt x="806" y="75"/>
                  </a:lnTo>
                  <a:lnTo>
                    <a:pt x="843" y="93"/>
                  </a:lnTo>
                  <a:lnTo>
                    <a:pt x="878" y="115"/>
                  </a:lnTo>
                  <a:lnTo>
                    <a:pt x="911" y="137"/>
                  </a:lnTo>
                  <a:lnTo>
                    <a:pt x="940" y="163"/>
                  </a:lnTo>
                  <a:lnTo>
                    <a:pt x="968" y="191"/>
                  </a:lnTo>
                  <a:lnTo>
                    <a:pt x="992" y="222"/>
                  </a:lnTo>
                  <a:lnTo>
                    <a:pt x="1014" y="253"/>
                  </a:lnTo>
                  <a:lnTo>
                    <a:pt x="1032" y="288"/>
                  </a:lnTo>
                  <a:lnTo>
                    <a:pt x="1048" y="323"/>
                  </a:lnTo>
                  <a:lnTo>
                    <a:pt x="1063" y="361"/>
                  </a:lnTo>
                  <a:lnTo>
                    <a:pt x="1074" y="404"/>
                  </a:lnTo>
                  <a:lnTo>
                    <a:pt x="1082" y="446"/>
                  </a:lnTo>
                  <a:lnTo>
                    <a:pt x="1087" y="490"/>
                  </a:lnTo>
                  <a:lnTo>
                    <a:pt x="1091" y="538"/>
                  </a:lnTo>
                  <a:lnTo>
                    <a:pt x="1091" y="587"/>
                  </a:lnTo>
                  <a:lnTo>
                    <a:pt x="1089" y="639"/>
                  </a:lnTo>
                  <a:lnTo>
                    <a:pt x="1083" y="692"/>
                  </a:lnTo>
                  <a:lnTo>
                    <a:pt x="1076" y="749"/>
                  </a:lnTo>
                  <a:lnTo>
                    <a:pt x="1067" y="806"/>
                  </a:lnTo>
                  <a:lnTo>
                    <a:pt x="1054" y="866"/>
                  </a:lnTo>
                  <a:lnTo>
                    <a:pt x="1037" y="929"/>
                  </a:lnTo>
                  <a:lnTo>
                    <a:pt x="1019" y="993"/>
                  </a:lnTo>
                  <a:lnTo>
                    <a:pt x="999" y="1059"/>
                  </a:lnTo>
                  <a:lnTo>
                    <a:pt x="975" y="1129"/>
                  </a:lnTo>
                  <a:lnTo>
                    <a:pt x="949" y="1199"/>
                  </a:lnTo>
                  <a:lnTo>
                    <a:pt x="920" y="1272"/>
                  </a:lnTo>
                  <a:lnTo>
                    <a:pt x="889" y="1347"/>
                  </a:lnTo>
                  <a:lnTo>
                    <a:pt x="856" y="1424"/>
                  </a:lnTo>
                  <a:lnTo>
                    <a:pt x="817" y="1505"/>
                  </a:lnTo>
                  <a:lnTo>
                    <a:pt x="779" y="1586"/>
                  </a:lnTo>
                  <a:lnTo>
                    <a:pt x="736" y="1670"/>
                  </a:lnTo>
                  <a:lnTo>
                    <a:pt x="692" y="1757"/>
                  </a:lnTo>
                  <a:lnTo>
                    <a:pt x="645" y="1845"/>
                  </a:lnTo>
                  <a:lnTo>
                    <a:pt x="595" y="1935"/>
                  </a:lnTo>
                  <a:lnTo>
                    <a:pt x="542" y="2028"/>
                  </a:lnTo>
                  <a:lnTo>
                    <a:pt x="487" y="2122"/>
                  </a:lnTo>
                  <a:lnTo>
                    <a:pt x="428" y="2219"/>
                  </a:lnTo>
                  <a:lnTo>
                    <a:pt x="367" y="2319"/>
                  </a:lnTo>
                  <a:lnTo>
                    <a:pt x="305" y="2420"/>
                  </a:lnTo>
                </a:path>
              </a:pathLst>
            </a:custGeom>
            <a:noFill/>
            <a:ln w="6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4280" y="2934000"/>
              <a:ext cx="171360" cy="108000"/>
            </a:xfrm>
            <a:custGeom>
              <a:avLst/>
              <a:gdLst/>
              <a:ahLst/>
              <a:rect l="l" t="t" r="r" b="b"/>
              <a:pathLst>
                <a:path w="156" h="99">
                  <a:moveTo>
                    <a:pt x="156" y="99"/>
                  </a:moveTo>
                  <a:lnTo>
                    <a:pt x="0" y="74"/>
                  </a:lnTo>
                  <a:lnTo>
                    <a:pt x="140" y="0"/>
                  </a:lnTo>
                  <a:lnTo>
                    <a:pt x="156" y="9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75720" y="4473720"/>
              <a:ext cx="150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1320" y="3015000"/>
              <a:ext cx="552240" cy="2230200"/>
            </a:xfrm>
            <a:custGeom>
              <a:avLst/>
              <a:gdLst/>
              <a:ahLst/>
              <a:rect l="l" t="t" r="r" b="b"/>
              <a:pathLst>
                <a:path w="506" h="2043">
                  <a:moveTo>
                    <a:pt x="213" y="0"/>
                  </a:moveTo>
                  <a:lnTo>
                    <a:pt x="185" y="3"/>
                  </a:lnTo>
                  <a:lnTo>
                    <a:pt x="159" y="11"/>
                  </a:lnTo>
                  <a:lnTo>
                    <a:pt x="136" y="22"/>
                  </a:lnTo>
                  <a:lnTo>
                    <a:pt x="114" y="35"/>
                  </a:lnTo>
                  <a:lnTo>
                    <a:pt x="93" y="49"/>
                  </a:lnTo>
                  <a:lnTo>
                    <a:pt x="77" y="68"/>
                  </a:lnTo>
                  <a:lnTo>
                    <a:pt x="60" y="88"/>
                  </a:lnTo>
                  <a:lnTo>
                    <a:pt x="46" y="112"/>
                  </a:lnTo>
                  <a:lnTo>
                    <a:pt x="33" y="137"/>
                  </a:lnTo>
                  <a:lnTo>
                    <a:pt x="22" y="165"/>
                  </a:lnTo>
                  <a:lnTo>
                    <a:pt x="14" y="196"/>
                  </a:lnTo>
                  <a:lnTo>
                    <a:pt x="7" y="231"/>
                  </a:lnTo>
                  <a:lnTo>
                    <a:pt x="3" y="268"/>
                  </a:lnTo>
                  <a:lnTo>
                    <a:pt x="0" y="306"/>
                  </a:lnTo>
                  <a:lnTo>
                    <a:pt x="0" y="348"/>
                  </a:lnTo>
                  <a:lnTo>
                    <a:pt x="0" y="393"/>
                  </a:lnTo>
                  <a:lnTo>
                    <a:pt x="3" y="440"/>
                  </a:lnTo>
                  <a:lnTo>
                    <a:pt x="7" y="490"/>
                  </a:lnTo>
                  <a:lnTo>
                    <a:pt x="14" y="541"/>
                  </a:lnTo>
                  <a:lnTo>
                    <a:pt x="24" y="596"/>
                  </a:lnTo>
                  <a:lnTo>
                    <a:pt x="35" y="655"/>
                  </a:lnTo>
                  <a:lnTo>
                    <a:pt x="46" y="716"/>
                  </a:lnTo>
                  <a:lnTo>
                    <a:pt x="60" y="778"/>
                  </a:lnTo>
                  <a:lnTo>
                    <a:pt x="77" y="844"/>
                  </a:lnTo>
                  <a:lnTo>
                    <a:pt x="95" y="912"/>
                  </a:lnTo>
                  <a:lnTo>
                    <a:pt x="115" y="984"/>
                  </a:lnTo>
                  <a:lnTo>
                    <a:pt x="137" y="1057"/>
                  </a:lnTo>
                  <a:lnTo>
                    <a:pt x="161" y="1132"/>
                  </a:lnTo>
                  <a:lnTo>
                    <a:pt x="187" y="1211"/>
                  </a:lnTo>
                  <a:lnTo>
                    <a:pt x="215" y="1294"/>
                  </a:lnTo>
                  <a:lnTo>
                    <a:pt x="246" y="1378"/>
                  </a:lnTo>
                  <a:lnTo>
                    <a:pt x="277" y="1465"/>
                  </a:lnTo>
                  <a:lnTo>
                    <a:pt x="310" y="1555"/>
                  </a:lnTo>
                  <a:lnTo>
                    <a:pt x="347" y="1647"/>
                  </a:lnTo>
                  <a:lnTo>
                    <a:pt x="383" y="1742"/>
                  </a:lnTo>
                  <a:lnTo>
                    <a:pt x="422" y="1839"/>
                  </a:lnTo>
                  <a:lnTo>
                    <a:pt x="464" y="1940"/>
                  </a:lnTo>
                  <a:lnTo>
                    <a:pt x="506" y="2043"/>
                  </a:lnTo>
                </a:path>
              </a:pathLst>
            </a:custGeom>
            <a:noFill/>
            <a:ln w="6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19560" y="5212080"/>
              <a:ext cx="112680" cy="16992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90" y="0"/>
                  </a:moveTo>
                  <a:lnTo>
                    <a:pt x="103" y="156"/>
                  </a:lnTo>
                  <a:lnTo>
                    <a:pt x="0" y="3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00280" y="2808360"/>
              <a:ext cx="865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3480" y="3303720"/>
              <a:ext cx="788760" cy="2314800"/>
            </a:xfrm>
            <a:custGeom>
              <a:avLst/>
              <a:gdLst/>
              <a:ahLst/>
              <a:rect l="l" t="t" r="r" b="b"/>
              <a:pathLst>
                <a:path w="722" h="2121">
                  <a:moveTo>
                    <a:pt x="722" y="2121"/>
                  </a:moveTo>
                  <a:lnTo>
                    <a:pt x="657" y="2003"/>
                  </a:lnTo>
                  <a:lnTo>
                    <a:pt x="597" y="1886"/>
                  </a:lnTo>
                  <a:lnTo>
                    <a:pt x="538" y="1766"/>
                  </a:lnTo>
                  <a:lnTo>
                    <a:pt x="483" y="1649"/>
                  </a:lnTo>
                  <a:lnTo>
                    <a:pt x="430" y="1531"/>
                  </a:lnTo>
                  <a:lnTo>
                    <a:pt x="378" y="1414"/>
                  </a:lnTo>
                  <a:lnTo>
                    <a:pt x="332" y="1296"/>
                  </a:lnTo>
                  <a:lnTo>
                    <a:pt x="287" y="1177"/>
                  </a:lnTo>
                  <a:lnTo>
                    <a:pt x="246" y="1059"/>
                  </a:lnTo>
                  <a:lnTo>
                    <a:pt x="208" y="942"/>
                  </a:lnTo>
                  <a:lnTo>
                    <a:pt x="171" y="824"/>
                  </a:lnTo>
                  <a:lnTo>
                    <a:pt x="138" y="707"/>
                  </a:lnTo>
                  <a:lnTo>
                    <a:pt x="108" y="589"/>
                  </a:lnTo>
                  <a:lnTo>
                    <a:pt x="81" y="472"/>
                  </a:lnTo>
                  <a:lnTo>
                    <a:pt x="57" y="354"/>
                  </a:lnTo>
                  <a:lnTo>
                    <a:pt x="35" y="237"/>
                  </a:lnTo>
                  <a:lnTo>
                    <a:pt x="17" y="119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90920" y="3157920"/>
              <a:ext cx="109800" cy="16488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52"/>
                  </a:moveTo>
                  <a:lnTo>
                    <a:pt x="33" y="0"/>
                  </a:lnTo>
                  <a:lnTo>
                    <a:pt x="100" y="141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29000" y="4392720"/>
              <a:ext cx="1236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Arial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4:32:59Z</dcterms:created>
  <dc:creator>Antti Pikkusaari</dc:creator>
  <dc:description/>
  <dc:language>en-US</dc:language>
  <cp:lastModifiedBy>nosp_admin</cp:lastModifiedBy>
  <cp:lastPrinted>2000-06-18T06:31:36Z</cp:lastPrinted>
  <dcterms:modified xsi:type="dcterms:W3CDTF">2006-06-09T11:40:15Z</dcterms:modified>
  <cp:revision>171</cp:revision>
  <dc:subject/>
  <dc:title>Nokia SGSN The Stuff that goes the distance...</dc:title>
</cp:coreProperties>
</file>