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B33-A550-4F98-A05F-8ADB5EA1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409536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E92-0DD8-4940-9CE4-27FE5A8F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EFD-E2E3-4B4D-8A55-2272FCE8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FA5-76BE-4331-BF6C-A559690F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AE6E-98BB-468F-AC21-FA4732FE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CA47-CD34-4CB7-98A4-A90372E7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644D-58AB-4F13-9C6D-2BADCDD4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92C6-7272-49C8-9509-8F4D6320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A73C-D510-43B5-A525-8DB7510D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360" y="304920"/>
            <a:ext cx="70992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E5A3-4461-4AB2-953D-F2407904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7B90-39E0-4D5A-B4D8-E48DF13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187-62AB-4B0A-91A6-65DA6C23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564D-60B6-42D8-9F06-A9036E1D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100A-6ACE-44CC-92DC-F133FED6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409536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5329-E1C2-43DC-BBF8-69909A55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640E-3D88-497F-AAC9-1F7888D3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4095360"/>
            <a:ext cx="257616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214E-80DC-4152-9ABC-D33E5B74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64C-A81A-4CAC-80F6-26245551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3AE-8E80-44D1-B045-796845F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108-4FAB-43DB-9312-CC08A3CF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304920"/>
            <a:ext cx="709920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96D-7663-41B5-81F4-21341117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516-2C9E-49F2-A56E-2040B4B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409536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606-57A3-4795-8C25-D9A81F3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4095360"/>
            <a:ext cx="800100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C5D-A2AD-4110-A9EA-D827DE4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3748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817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453000"/>
            <a:ext cx="19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53000"/>
            <a:ext cx="1981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CCC7-1CE7-4332-BAEC-481E5C839D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989A-9CBF-4BB6-B3B2-61C4DCB2D3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360" y="304920"/>
            <a:ext cx="70992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x-y coordinate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718080" y="1692360"/>
          <a:ext cx="516096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8080" y="1692360"/>
                    <a:ext cx="516096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718080" y="2700360"/>
          <a:ext cx="2871720" cy="15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8080" y="2700360"/>
                    <a:ext cx="287172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07000" y="4581360"/>
          <a:ext cx="1293480" cy="7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7000" y="4581360"/>
                    <a:ext cx="12934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773680" y="4581360"/>
          <a:ext cx="1316160" cy="75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3680" y="4581360"/>
                    <a:ext cx="131616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2760" y="5516640"/>
            <a:ext cx="293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Earth system/traj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(X horizontal, y verti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7000" y="5440320"/>
          <a:ext cx="1101600" cy="75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7000" y="5440320"/>
                    <a:ext cx="1101600" cy="752400"/>
                  </a:xfrm>
                  <a:prstGeom prst="rect">
                    <a:avLst/>
                  </a:prstGeom>
                  <a:ln w="158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773680" y="5440320"/>
          <a:ext cx="1532160" cy="75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3680" y="5440320"/>
                    <a:ext cx="1532160" cy="752400"/>
                  </a:xfrm>
                  <a:prstGeom prst="rect">
                    <a:avLst/>
                  </a:prstGeom>
                  <a:ln w="158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92400" y="5594400"/>
            <a:ext cx="360360" cy="431640"/>
          </a:xfrm>
          <a:prstGeom prst="rightArrow">
            <a:avLst>
              <a:gd name="adj1" fmla="val 38972"/>
              <a:gd name="adj2" fmla="val 418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F03-C64E-4F88-87D8-FCCBE2CF07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22:20:31Z</dcterms:created>
  <dc:creator>Dr. Waluyo Adi Siswanto</dc:creator>
  <dc:description/>
  <dc:language>en-US</dc:language>
  <cp:lastModifiedBy>user</cp:lastModifiedBy>
  <dcterms:modified xsi:type="dcterms:W3CDTF">2009-02-09T14:45:26Z</dcterms:modified>
  <cp:revision>182</cp:revision>
  <dc:subject>Lecture Presentation</dc:subject>
  <dc:title>Dynamics</dc:title>
</cp:coreProperties>
</file>