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08208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082080"/>
              <a:gd name="textAreaBottom" fmla="*/ 9081720 h 9082080"/>
            </a:gdLst>
            <a:ahLst/>
            <a:rect l="textAreaLeft" t="textAreaTop" r="textAreaRight" b="textAreaBottom"/>
            <a:pathLst>
              <a:path w="21600" h="28605">
                <a:moveTo>
                  <a:pt x="5" y="0"/>
                </a:moveTo>
                <a:arcTo wR="5" hR="5" stAng="16200000" swAng="-5400000"/>
                <a:lnTo>
                  <a:pt x="0" y="28600"/>
                </a:lnTo>
                <a:arcTo wR="5" hR="5" stAng="10800000" swAng="-5400000"/>
                <a:lnTo>
                  <a:pt x="21595" y="2860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08208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082080"/>
              <a:gd name="textAreaBottom" fmla="*/ 9081720 h 9082080"/>
            </a:gdLst>
            <a:ahLst/>
            <a:rect l="textAreaLeft" t="textAreaTop" r="textAreaRight" b="textAreaBottom"/>
            <a:pathLst>
              <a:path w="21600" h="28605">
                <a:moveTo>
                  <a:pt x="5" y="0"/>
                </a:moveTo>
                <a:arcTo wR="5" hR="5" stAng="16200000" swAng="-5400000"/>
                <a:lnTo>
                  <a:pt x="0" y="28600"/>
                </a:lnTo>
                <a:arcTo wR="5" hR="5" stAng="10800000" swAng="-5400000"/>
                <a:lnTo>
                  <a:pt x="21595" y="2860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08208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082080"/>
              <a:gd name="textAreaBottom" fmla="*/ 9081720 h 9082080"/>
            </a:gdLst>
            <a:ahLst/>
            <a:rect l="textAreaLeft" t="textAreaTop" r="textAreaRight" b="textAreaBottom"/>
            <a:pathLst>
              <a:path w="21600" h="28605">
                <a:moveTo>
                  <a:pt x="5" y="0"/>
                </a:moveTo>
                <a:arcTo wR="5" hR="5" stAng="16200000" swAng="-5400000"/>
                <a:lnTo>
                  <a:pt x="0" y="28600"/>
                </a:lnTo>
                <a:arcTo wR="5" hR="5" stAng="10800000" swAng="-5400000"/>
                <a:lnTo>
                  <a:pt x="21595" y="2860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388476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60640" y="682560"/>
            <a:ext cx="4535280" cy="340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move the slide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440" y="4314600"/>
            <a:ext cx="5481720" cy="40813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1"/>
          </p:nvPr>
        </p:nvSpPr>
        <p:spPr>
          <a:xfrm>
            <a:off x="3884400" y="8628120"/>
            <a:ext cx="2966760" cy="4492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C11CB7-1107-4F5F-8405-F6203D818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14960"/>
            <a:ext cx="5486400" cy="40860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lvl="1" marL="235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Drive and validate Integration, performance and scalability goals for Cloud Solution develop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35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Deliver certified CSP solution sta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35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Establish structured Integration, Migration &amp; Performance strategy partnership with key clients i,e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AT&amp;T, Ford, 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35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Develop best practices, tooling, and utilities that facilitate cloud deploymen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35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Leverage material produced during services engag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35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Maintain representative customer cloud stacks to support migration testing, client acceptance testing, and performance assess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35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Drive Cloud PMRs and APARs 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22492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685440"/>
            <a:ext cx="822492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524760"/>
            <a:ext cx="822492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22492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685440"/>
            <a:ext cx="401364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685440"/>
            <a:ext cx="401364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524760"/>
            <a:ext cx="401364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524760"/>
            <a:ext cx="401364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22492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685440"/>
            <a:ext cx="264816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685440"/>
            <a:ext cx="264816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685440"/>
            <a:ext cx="264816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524760"/>
            <a:ext cx="264816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524760"/>
            <a:ext cx="264816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524760"/>
            <a:ext cx="264816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22492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685440"/>
            <a:ext cx="8224920" cy="54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22492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685440"/>
            <a:ext cx="8224920" cy="54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22492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685440"/>
            <a:ext cx="4013640" cy="54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685440"/>
            <a:ext cx="4013640" cy="54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22492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51920"/>
            <a:ext cx="8224920" cy="22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22492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685440"/>
            <a:ext cx="401364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685440"/>
            <a:ext cx="4013640" cy="54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524760"/>
            <a:ext cx="401364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22492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685440"/>
            <a:ext cx="4013640" cy="54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685440"/>
            <a:ext cx="401364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524760"/>
            <a:ext cx="401364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22492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685440"/>
            <a:ext cx="401364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685440"/>
            <a:ext cx="401364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524760"/>
            <a:ext cx="822492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22492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685440"/>
            <a:ext cx="8224920" cy="54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3"/>
          <p:cNvSpPr/>
          <p:nvPr/>
        </p:nvSpPr>
        <p:spPr>
          <a:xfrm>
            <a:off x="457200" y="609480"/>
            <a:ext cx="8305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Line 5"/>
          <p:cNvSpPr/>
          <p:nvPr/>
        </p:nvSpPr>
        <p:spPr>
          <a:xfrm>
            <a:off x="762120" y="6489720"/>
            <a:ext cx="1440" cy="2919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660240" y="6591240"/>
            <a:ext cx="45720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80F95F-BEDF-4D43-B67A-836E50019842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86"/>
          <p:cNvSpPr/>
          <p:nvPr/>
        </p:nvSpPr>
        <p:spPr>
          <a:xfrm>
            <a:off x="1442880" y="6753240"/>
            <a:ext cx="160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111240" y="606600"/>
            <a:ext cx="891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XXXXXXXXX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35"/>
          <p:cNvSpPr/>
          <p:nvPr/>
        </p:nvSpPr>
        <p:spPr>
          <a:xfrm>
            <a:off x="160200" y="3147840"/>
            <a:ext cx="8839440" cy="334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XXX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XXXX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XXXX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628560" indent="-285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XXXX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628560" indent="-285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XXXX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628560" indent="-285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XXXX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XXXX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XXXX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XXXX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XXXX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XXXX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628560" indent="-285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127080" y="104760"/>
            <a:ext cx="8766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XXXX: XXXX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179280" y="1413000"/>
            <a:ext cx="8616960" cy="15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1360" indent="-1713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XXXX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628560" indent="-1713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XXXX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628560" indent="-1713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XXXX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628560" indent="-1713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XXXX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628560" indent="-1713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XXXX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628560" indent="-1713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XXXX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4T13:42:20Z</dcterms:created>
  <dc:creator>abdula</dc:creator>
  <dc:description/>
  <dc:language>en-US</dc:language>
  <cp:lastModifiedBy>yinbing</cp:lastModifiedBy>
  <dcterms:modified xsi:type="dcterms:W3CDTF">2012-11-26T07:19:04Z</dcterms:modified>
  <cp:revision>564</cp:revision>
  <dc:subject/>
  <dc:title>Private Cloud</dc:title>
</cp:coreProperties>
</file>