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728-9C79-4C10-AE51-F9440671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C8D-3959-4F2F-AB22-B54E7EB3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615D-90B7-4B61-B21B-AA82C6B0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1940-60D8-4F53-A0D4-482CC908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8DD2-CDC7-4E33-A183-F5C054B6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63BB-7251-4770-9474-14F2122A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8778-3769-492C-A2E8-915C63BA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B5B4-77ED-478D-97EA-FE1C88EC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2C92-0255-492C-BFE2-EE5DCC4F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025D-9DEC-4923-B370-A36FB0F1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55FD-B737-4A8A-89BE-40F48B09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737E-4AC3-4B58-8F8D-B276CB2C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8E43-ED34-47E6-B08D-8FE1043BF0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2057400"/>
            <a:ext cx="1523880" cy="144792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09:34:58Z</dcterms:created>
  <dc:creator>robin</dc:creator>
  <dc:description/>
  <dc:language>en-US</dc:language>
  <cp:lastModifiedBy>robin</cp:lastModifiedBy>
  <dcterms:modified xsi:type="dcterms:W3CDTF">2012-06-05T09:35:18Z</dcterms:modified>
  <cp:revision>1</cp:revision>
  <dc:subject/>
  <dc:title>Slide 1</dc:title>
</cp:coreProperties>
</file>