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13575" cy="9299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C87-C4D3-4F02-A2A9-3D0FFBBE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103-1523-49BB-AB50-5853379F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FA5-2CAC-4646-B1C2-282297F9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2B6-45CC-4D1F-A803-2EDB665C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1AD-41F0-438D-960E-33E66D5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1FD-703B-4CC3-8379-44132823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1DF-469C-4B15-BCC9-30A72284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56C-4CCD-4E3A-8DD8-EB30490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279-588B-4382-BDDF-900FE2D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CB6-4951-4A24-8084-C2485793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D87-749E-469B-B19E-F66168F8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A8D-1AC3-472B-AF42-1593293D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07DF-5522-4668-9957-C3B4B2F15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2209680"/>
            <a:ext cx="1295280" cy="1371240"/>
            <a:chOff x="1523880" y="2209680"/>
            <a:chExt cx="1295280" cy="1371240"/>
          </a:xfrm>
        </p:grpSpPr>
        <p:sp>
          <p:nvSpPr>
            <p:cNvPr id="79" name=""/>
            <p:cNvSpPr/>
            <p:nvPr/>
          </p:nvSpPr>
          <p:spPr>
            <a:xfrm>
              <a:off x="2163240" y="2209680"/>
              <a:ext cx="655560" cy="684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2216160"/>
              <a:ext cx="1295280" cy="1364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23880" y="2209680"/>
              <a:ext cx="655560" cy="68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63240" y="2896560"/>
              <a:ext cx="655560" cy="68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3880" y="2896560"/>
              <a:ext cx="655560" cy="6843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23880" y="2286000"/>
          <a:ext cx="1274760" cy="1447560"/>
        </p:xfrm>
        <a:graphic>
          <a:graphicData uri="http://schemas.openxmlformats.org/drawingml/2006/table">
            <a:tbl>
              <a:tblPr/>
              <a:tblGrid>
                <a:gridCol w="638280"/>
                <a:gridCol w="6364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"/>
          <p:cNvGrpSpPr/>
          <p:nvPr/>
        </p:nvGrpSpPr>
        <p:grpSpPr>
          <a:xfrm>
            <a:off x="5027760" y="1911240"/>
            <a:ext cx="3379320" cy="3371760"/>
            <a:chOff x="5027760" y="1911240"/>
            <a:chExt cx="3379320" cy="3371760"/>
          </a:xfrm>
        </p:grpSpPr>
        <p:sp>
          <p:nvSpPr>
            <p:cNvPr id="86" name=""/>
            <p:cNvSpPr/>
            <p:nvPr/>
          </p:nvSpPr>
          <p:spPr>
            <a:xfrm>
              <a:off x="5027760" y="1911240"/>
              <a:ext cx="1690200" cy="1690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16880" y="1911240"/>
              <a:ext cx="1690200" cy="1690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16880" y="3592080"/>
              <a:ext cx="1690200" cy="1690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7760" y="3592080"/>
              <a:ext cx="1690200" cy="1690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09480" y="41148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60292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35000" y="6019920"/>
            <a:ext cx="848880" cy="0"/>
            <a:chOff x="1035000" y="6019920"/>
            <a:chExt cx="848880" cy="0"/>
          </a:xfrm>
        </p:grpSpPr>
        <p:sp>
          <p:nvSpPr>
            <p:cNvPr id="93" name=""/>
            <p:cNvSpPr/>
            <p:nvPr/>
          </p:nvSpPr>
          <p:spPr>
            <a:xfrm flipH="1">
              <a:off x="1035000" y="6019920"/>
              <a:ext cx="424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458720" y="6019920"/>
              <a:ext cx="425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742760" y="6019920"/>
            <a:ext cx="1557720" cy="0"/>
            <a:chOff x="1742760" y="6019920"/>
            <a:chExt cx="1557720" cy="0"/>
          </a:xfrm>
        </p:grpSpPr>
        <p:sp>
          <p:nvSpPr>
            <p:cNvPr id="96" name=""/>
            <p:cNvSpPr/>
            <p:nvPr/>
          </p:nvSpPr>
          <p:spPr>
            <a:xfrm flipH="1">
              <a:off x="1742760" y="6019920"/>
              <a:ext cx="423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166840" y="6019920"/>
              <a:ext cx="425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592000" y="6019920"/>
              <a:ext cx="423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74960" y="6019920"/>
              <a:ext cx="425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00120" y="5452920"/>
            <a:ext cx="565200" cy="566640"/>
            <a:chOff x="3300120" y="5452920"/>
            <a:chExt cx="565200" cy="566640"/>
          </a:xfrm>
        </p:grpSpPr>
        <p:sp>
          <p:nvSpPr>
            <p:cNvPr id="101" name=""/>
            <p:cNvSpPr/>
            <p:nvPr/>
          </p:nvSpPr>
          <p:spPr>
            <a:xfrm flipH="1">
              <a:off x="3300120" y="6019560"/>
              <a:ext cx="423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723840" y="5452920"/>
              <a:ext cx="141480" cy="566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3865320" y="4888080"/>
            <a:ext cx="142920" cy="564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410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523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905120"/>
            <a:ext cx="3352680" cy="33526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146480" y="5454720"/>
            <a:ext cx="1815840" cy="565200"/>
            <a:chOff x="4146480" y="5454720"/>
            <a:chExt cx="1815840" cy="565200"/>
          </a:xfrm>
        </p:grpSpPr>
        <p:sp>
          <p:nvSpPr>
            <p:cNvPr id="108" name=""/>
            <p:cNvSpPr/>
            <p:nvPr/>
          </p:nvSpPr>
          <p:spPr>
            <a:xfrm flipH="1">
              <a:off x="4285800" y="601992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46480" y="5454720"/>
              <a:ext cx="141480" cy="565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008600" y="4888080"/>
            <a:ext cx="141120" cy="566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029200" y="1905120"/>
            <a:ext cx="914400" cy="914400"/>
            <a:chOff x="5029200" y="1905120"/>
            <a:chExt cx="914400" cy="914400"/>
          </a:xfrm>
        </p:grpSpPr>
        <p:sp>
          <p:nvSpPr>
            <p:cNvPr id="112" name=""/>
            <p:cNvSpPr/>
            <p:nvPr/>
          </p:nvSpPr>
          <p:spPr>
            <a:xfrm>
              <a:off x="5486400" y="190512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8000" y="190980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58000" y="190512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34648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58000" y="234648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9200" y="1905120"/>
              <a:ext cx="9144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680" y="2514600"/>
            <a:ext cx="914400" cy="914400"/>
            <a:chOff x="5638680" y="2514600"/>
            <a:chExt cx="914400" cy="914400"/>
          </a:xfrm>
        </p:grpSpPr>
        <p:sp>
          <p:nvSpPr>
            <p:cNvPr id="119" name=""/>
            <p:cNvSpPr/>
            <p:nvPr/>
          </p:nvSpPr>
          <p:spPr>
            <a:xfrm>
              <a:off x="6095880" y="251460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67480" y="251928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67480" y="251460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5880" y="295596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67480" y="295596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2514600"/>
              <a:ext cx="9144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934320" y="3809880"/>
            <a:ext cx="914400" cy="914400"/>
            <a:chOff x="6934320" y="380988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7391520" y="380988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63120" y="381456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63120" y="380988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425124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3120" y="425124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34320" y="3809880"/>
              <a:ext cx="9144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467480" y="4419720"/>
            <a:ext cx="914400" cy="914400"/>
            <a:chOff x="7467480" y="4419720"/>
            <a:chExt cx="914400" cy="914400"/>
          </a:xfrm>
        </p:grpSpPr>
        <p:sp>
          <p:nvSpPr>
            <p:cNvPr id="133" name=""/>
            <p:cNvSpPr/>
            <p:nvPr/>
          </p:nvSpPr>
          <p:spPr>
            <a:xfrm>
              <a:off x="7924680" y="441972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6280" y="442440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96280" y="441972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4680" y="486108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96280" y="486108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7480" y="4419720"/>
              <a:ext cx="9144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23880" y="2209680"/>
            <a:ext cx="1295640" cy="13716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48520" y="3124080"/>
            <a:ext cx="914400" cy="914400"/>
            <a:chOff x="6248520" y="3124080"/>
            <a:chExt cx="914400" cy="914400"/>
          </a:xfrm>
        </p:grpSpPr>
        <p:sp>
          <p:nvSpPr>
            <p:cNvPr id="141" name=""/>
            <p:cNvSpPr/>
            <p:nvPr/>
          </p:nvSpPr>
          <p:spPr>
            <a:xfrm>
              <a:off x="6705720" y="3124080"/>
              <a:ext cx="43956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6960" y="3128760"/>
              <a:ext cx="868320" cy="87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76960" y="3124080"/>
              <a:ext cx="43992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05720" y="3565440"/>
              <a:ext cx="439560" cy="439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6960" y="3565440"/>
              <a:ext cx="439920" cy="4395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48520" y="3124080"/>
              <a:ext cx="914400" cy="914400"/>
            </a:xfrm>
            <a:prstGeom prst="rect">
              <a:avLst/>
            </a:prstGeom>
            <a:noFill/>
            <a:ln w="63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7T22:33:12Z</dcterms:created>
  <dc:creator>Lynn Wilcox</dc:creator>
  <dc:description/>
  <dc:language>en-US</dc:language>
  <cp:lastModifiedBy>Andreas Girgensohn</cp:lastModifiedBy>
  <cp:lastPrinted>1998-12-03T23:59:50Z</cp:lastPrinted>
  <dcterms:modified xsi:type="dcterms:W3CDTF">2008-12-18T02:21:12Z</dcterms:modified>
  <cp:revision>273</cp:revision>
  <dc:subject/>
  <dc:title>No Slide Title</dc:title>
</cp:coreProperties>
</file>