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5EB-A10A-4ACE-BB40-A3CE1FD6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5DB-6770-418B-9C8C-67C3DCAC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942-8476-4648-898D-9E993A5F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A8B-C749-4EE0-82B7-5D9D5698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452-C446-48F6-8D4A-7891EA1B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398-A98E-4C64-BA70-9DAA6325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E25-3379-407A-A348-34DE05E8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3B3-B044-4692-BBC6-800CB7CB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E61-F423-4F6A-B6A3-C0B81878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939-8456-4BFA-A13E-01B0C06E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8DF-60FD-4739-B8B8-AC8CAEB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356-9D35-48CE-9940-E45E1CE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3BCD-5681-4586-81D1-D4CBAED2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are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Chart Placeholder 4"/>
          <p:cNvGraphicFramePr/>
          <p:nvPr/>
        </p:nvGraphicFramePr>
        <p:xfrm>
          <a:off x="1523880" y="1600200"/>
          <a:ext cx="6324840" cy="43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Char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32484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yovai</cp:lastModifiedBy>
  <dcterms:modified xsi:type="dcterms:W3CDTF">2010-06-18T12:14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