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F525-76BC-4EFC-9D82-874EB1C5C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s wor d we have around 30 “font work gallery” ty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penoffice we have only 15 “font work gallery”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BA4-184E-4162-8D47-DD86FB74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A0B-B8C0-48FB-8FEE-FE4970D0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315-12FA-4C8F-B4BC-310525F1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5FA-509A-4C42-B05D-9511C813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AF8-B3A3-4532-A7EB-3FCCA281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555-2B5F-46EA-A6D3-1CD59A13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C32-AF88-4C03-BE26-3E9A91BC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154-1A67-4484-A9AD-E64FDE48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775-2B52-4D3F-A1F0-BADD2A22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A23-21CC-4D3C-9DF2-C5CC240A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55F-81B7-4846-A04E-69DE739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CA5-2E42-4E29-9D9F-20F2FC65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775F-0CD2-40F5-99A7-1E3548B5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nt Work 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3:55:50Z</dcterms:created>
  <dc:creator>virtusa</dc:creator>
  <dc:description/>
  <dc:language>en-US</dc:language>
  <cp:lastModifiedBy>virtusa</cp:lastModifiedBy>
  <dcterms:modified xsi:type="dcterms:W3CDTF">2004-12-15T04:04:06Z</dcterms:modified>
  <cp:revision>7</cp:revision>
  <dc:subject/>
  <dc:title>Work Flow</dc:title>
</cp:coreProperties>
</file>