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367E6-7449-492F-9FAF-488C9C17B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1857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80" y="1652760"/>
            <a:ext cx="90709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3108240"/>
            <a:ext cx="5578560" cy="3292560"/>
          </a:xfrm>
          <a:prstGeom prst="diamond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marL="214200" indent="-2142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trg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th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tjy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7F5-1E4D-4A01-8D41-35C58CD3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07A-4D0B-45B0-8F8A-2968FBE5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FCB-92D3-4106-9A8A-22ED9657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62B-4708-48EA-8113-CF02CE1D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1B3-DA0C-427E-A522-070D1EA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128-3919-4F63-8D93-2C14432F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38E-A751-4DB0-895C-59C114F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FC1-8EDD-456C-9E1A-55B4789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8F3-353C-4DBD-900A-0A710DBA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86B-4AB3-4E84-A071-AF2F935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0C6-065F-4F13-8A7B-DAC9DCA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BE7-AA4D-4E3D-ABD5-A95EAE1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10F24-762B-46AF-9E88-2FD130E9B4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06560" y="1189080"/>
          <a:ext cx="7588080" cy="3566160"/>
        </p:xfrm>
        <a:graphic>
          <a:graphicData uri="http://schemas.openxmlformats.org/drawingml/2006/table">
            <a:tbl>
              <a:tblPr/>
              <a:tblGrid>
                <a:gridCol w="1501560"/>
                <a:gridCol w="1014480"/>
                <a:gridCol w="1014480"/>
                <a:gridCol w="1014480"/>
                <a:gridCol w="1014480"/>
                <a:gridCol w="2028600"/>
              </a:tblGrid>
              <a:tr h="2411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rhrtg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944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06960" y="2685960"/>
          <a:ext cx="7588080" cy="3529800"/>
        </p:xfrm>
        <a:graphic>
          <a:graphicData uri="http://schemas.openxmlformats.org/drawingml/2006/table">
            <a:tbl>
              <a:tblPr/>
              <a:tblGrid>
                <a:gridCol w="1501560"/>
                <a:gridCol w="1014480"/>
                <a:gridCol w="1014480"/>
                <a:gridCol w="1014480"/>
                <a:gridCol w="1014480"/>
                <a:gridCol w="2028600"/>
              </a:tblGrid>
              <a:tr h="23720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rhrtg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944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1:00:00Z</dcterms:created>
  <dc:creator/>
  <dc:description/>
  <dc:language>en-US</dc:language>
  <cp:lastModifiedBy/>
  <dcterms:modified xsi:type="dcterms:W3CDTF">2014-03-31T01:05:07Z</dcterms:modified>
  <cp:revision>2</cp:revision>
  <dc:subject/>
  <dc:title/>
</cp:coreProperties>
</file>