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754-F199-4BBC-AA70-13019F8F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319-C3DC-46FF-9080-5038FE61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178-DBBE-49E4-AFC4-3061BA19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005-734D-4189-A64D-E95D9133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EC4-D373-4878-B1D7-3085589F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68D-E845-4EA1-AA43-7261D927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62D-C41D-4768-9801-1236FEBA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981-E09C-4C1F-B730-E29AB262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3F6-EA61-4C4C-AE01-A7895679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632-CD00-47D5-887E-87B0680B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356-F14D-4898-8770-88062435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878-8E4D-4C31-96B9-E2DE52E0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44E6-8AED-40B1-8937-0A3999B942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143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20574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7200" y="6858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3"/>
            <a:endCxn id="41" idx="0"/>
          </p:cNvCxnSpPr>
          <p:nvPr/>
        </p:nvCxnSpPr>
        <p:spPr>
          <a:xfrm>
            <a:off x="3192480" y="914400"/>
            <a:ext cx="808200" cy="2289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45" name=""/>
          <p:cNvCxnSpPr>
            <a:stCxn id="42" idx="3"/>
            <a:endCxn id="41" idx="2"/>
          </p:cNvCxnSpPr>
          <p:nvPr/>
        </p:nvCxnSpPr>
        <p:spPr>
          <a:xfrm flipV="1">
            <a:off x="3192480" y="2057400"/>
            <a:ext cx="808200" cy="2289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46" name=""/>
          <p:cNvSpPr/>
          <p:nvPr/>
        </p:nvSpPr>
        <p:spPr>
          <a:xfrm>
            <a:off x="4572000" y="13716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19760" y="127944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818320" y="137160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15080" y="261792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813280" y="270972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33680" y="33498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5640" y="428004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55640" y="290844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3"/>
            <a:endCxn id="51" idx="0"/>
          </p:cNvCxnSpPr>
          <p:nvPr/>
        </p:nvCxnSpPr>
        <p:spPr>
          <a:xfrm>
            <a:off x="3220920" y="3137040"/>
            <a:ext cx="784440" cy="21312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5" name=""/>
          <p:cNvCxnSpPr>
            <a:stCxn id="52" idx="3"/>
            <a:endCxn id="51" idx="2"/>
          </p:cNvCxnSpPr>
          <p:nvPr/>
        </p:nvCxnSpPr>
        <p:spPr>
          <a:xfrm flipV="1">
            <a:off x="3220920" y="4264200"/>
            <a:ext cx="784440" cy="24480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56" name=""/>
          <p:cNvSpPr/>
          <p:nvPr/>
        </p:nvSpPr>
        <p:spPr>
          <a:xfrm>
            <a:off x="4579920" y="1811160"/>
            <a:ext cx="40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557520"/>
            <a:ext cx="40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87800" y="181116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87800" y="2709720"/>
            <a:ext cx="965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403236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19760" y="394020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8320" y="4032360"/>
            <a:ext cx="13968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89680" y="128916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987520" y="137952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85000" y="262728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985000" y="271764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89680" y="394812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87520" y="404028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4880" y="13716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9" idx="3"/>
            <a:endCxn id="41" idx="1"/>
          </p:cNvCxnSpPr>
          <p:nvPr/>
        </p:nvCxnSpPr>
        <p:spPr>
          <a:xfrm>
            <a:off x="3170160" y="1600200"/>
            <a:ext cx="259200" cy="3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71" name=""/>
          <p:cNvSpPr/>
          <p:nvPr/>
        </p:nvSpPr>
        <p:spPr>
          <a:xfrm>
            <a:off x="1662120" y="35830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1" idx="3"/>
            <a:endCxn id="51" idx="1"/>
          </p:cNvCxnSpPr>
          <p:nvPr/>
        </p:nvCxnSpPr>
        <p:spPr>
          <a:xfrm flipV="1">
            <a:off x="3227400" y="3807000"/>
            <a:ext cx="206640" cy="5040"/>
          </a:xfrm>
          <a:prstGeom prst="bentConnector3">
            <a:avLst>
              <a:gd name="adj1" fmla="val 50087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73" name=""/>
          <p:cNvSpPr/>
          <p:nvPr/>
        </p:nvSpPr>
        <p:spPr>
          <a:xfrm>
            <a:off x="2895480" y="4327560"/>
            <a:ext cx="2336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1280" y="452916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60640" y="453708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42840" y="4394160"/>
            <a:ext cx="136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742840" y="461160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51000" y="4603680"/>
            <a:ext cx="82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9120" y="44020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99840" y="428616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86200" y="449424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5880" y="451332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62360" y="728640"/>
            <a:ext cx="23328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7800" y="9288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17880" y="9367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09720" y="79380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07920" y="10112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17880" y="10033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4200" y="8031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68880" y="68580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3440" y="89388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92400" y="9144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86120" y="2951280"/>
            <a:ext cx="23328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43360" y="3151080"/>
            <a:ext cx="107640" cy="14940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3080" y="3159000"/>
            <a:ext cx="1800" cy="1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734920" y="301788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733840" y="323532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3080" y="3225960"/>
            <a:ext cx="82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19400" y="30258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94440" y="290988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79000" y="311796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960" y="313704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2640" y="2100240"/>
            <a:ext cx="2336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9880" y="23004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7800" y="23083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701800" y="2165400"/>
            <a:ext cx="13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700360" y="238284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09960" y="23749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86280" y="21747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58440" y="205740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3360" y="226548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84480" y="22860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7080" y="363528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90080" y="142416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44640" y="362592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30240" y="143208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12320" y="327816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59120" y="373536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5040" y="106668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152388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26120" y="137952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8200" y="2717640"/>
            <a:ext cx="473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8200" y="404028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89240" y="290520"/>
            <a:ext cx="502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79800" y="390600"/>
            <a:ext cx="805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92960" y="2717640"/>
            <a:ext cx="191880" cy="304920"/>
          </a:xfrm>
          <a:custGeom>
            <a:avLst/>
            <a:gdLst/>
            <a:ahLst/>
            <a:rect l="l" t="t" r="r" b="b"/>
            <a:pathLst>
              <a:path w="532" h="845">
                <a:moveTo>
                  <a:pt x="277" y="0"/>
                </a:moveTo>
                <a:cubicBezTo>
                  <a:pt x="277" y="192"/>
                  <a:pt x="277" y="384"/>
                  <a:pt x="277" y="578"/>
                </a:cubicBezTo>
                <a:lnTo>
                  <a:pt x="277" y="0"/>
                </a:lnTo>
                <a:close/>
                <a:moveTo>
                  <a:pt x="0" y="578"/>
                </a:moveTo>
                <a:cubicBezTo>
                  <a:pt x="177" y="578"/>
                  <a:pt x="354" y="578"/>
                  <a:pt x="531" y="578"/>
                </a:cubicBezTo>
                <a:lnTo>
                  <a:pt x="0" y="578"/>
                </a:lnTo>
                <a:close/>
                <a:moveTo>
                  <a:pt x="138" y="716"/>
                </a:moveTo>
                <a:cubicBezTo>
                  <a:pt x="230" y="716"/>
                  <a:pt x="322" y="716"/>
                  <a:pt x="415" y="716"/>
                </a:cubicBezTo>
                <a:lnTo>
                  <a:pt x="138" y="716"/>
                </a:lnTo>
                <a:close/>
                <a:moveTo>
                  <a:pt x="209" y="844"/>
                </a:moveTo>
                <a:cubicBezTo>
                  <a:pt x="255" y="844"/>
                  <a:pt x="301" y="844"/>
                  <a:pt x="348" y="844"/>
                </a:cubicBezTo>
                <a:lnTo>
                  <a:pt x="209" y="84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61680" y="3857760"/>
            <a:ext cx="471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±7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1960" y="1255680"/>
            <a:ext cx="471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±7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04680" y="5353200"/>
            <a:ext cx="3152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VI adjustabl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29000" y="1143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27200" y="20574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7200" y="6858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3"/>
            <a:endCxn id="130" idx="0"/>
          </p:cNvCxnSpPr>
          <p:nvPr/>
        </p:nvCxnSpPr>
        <p:spPr>
          <a:xfrm>
            <a:off x="3192120" y="914040"/>
            <a:ext cx="8089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34" name=""/>
          <p:cNvCxnSpPr>
            <a:stCxn id="131" idx="3"/>
            <a:endCxn id="130" idx="2"/>
          </p:cNvCxnSpPr>
          <p:nvPr/>
        </p:nvCxnSpPr>
        <p:spPr>
          <a:xfrm flipV="1">
            <a:off x="3192120" y="2056680"/>
            <a:ext cx="8089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35" name=""/>
          <p:cNvSpPr/>
          <p:nvPr/>
        </p:nvSpPr>
        <p:spPr>
          <a:xfrm>
            <a:off x="4572000" y="13716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19760" y="128124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818320" y="137160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15080" y="261936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813280" y="270972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33680" y="33498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55640" y="42814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55640" y="29098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2" idx="3"/>
            <a:endCxn id="140" idx="0"/>
          </p:cNvCxnSpPr>
          <p:nvPr/>
        </p:nvCxnSpPr>
        <p:spPr>
          <a:xfrm>
            <a:off x="3220560" y="3138120"/>
            <a:ext cx="785160" cy="213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44" name=""/>
          <p:cNvCxnSpPr>
            <a:stCxn id="141" idx="3"/>
            <a:endCxn id="140" idx="2"/>
          </p:cNvCxnSpPr>
          <p:nvPr/>
        </p:nvCxnSpPr>
        <p:spPr>
          <a:xfrm flipV="1">
            <a:off x="3220560" y="4263840"/>
            <a:ext cx="785160" cy="24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45" name=""/>
          <p:cNvSpPr/>
          <p:nvPr/>
        </p:nvSpPr>
        <p:spPr>
          <a:xfrm>
            <a:off x="4579920" y="1812960"/>
            <a:ext cx="40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9640" y="3557520"/>
            <a:ext cx="40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87800" y="181296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2709720"/>
            <a:ext cx="965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03236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19760" y="394020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818320" y="4032360"/>
            <a:ext cx="13968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9680" y="128916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987520" y="137952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85000" y="262728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985000" y="271764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89680" y="394812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87520" y="404028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4880" y="13716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3"/>
            <a:endCxn id="130" idx="1"/>
          </p:cNvCxnSpPr>
          <p:nvPr/>
        </p:nvCxnSpPr>
        <p:spPr>
          <a:xfrm>
            <a:off x="3169800" y="1600200"/>
            <a:ext cx="261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60" name=""/>
          <p:cNvSpPr/>
          <p:nvPr/>
        </p:nvSpPr>
        <p:spPr>
          <a:xfrm>
            <a:off x="1662120" y="35830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3"/>
            <a:endCxn id="140" idx="1"/>
          </p:cNvCxnSpPr>
          <p:nvPr/>
        </p:nvCxnSpPr>
        <p:spPr>
          <a:xfrm flipV="1">
            <a:off x="3227040" y="3806640"/>
            <a:ext cx="20700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62" name=""/>
          <p:cNvSpPr/>
          <p:nvPr/>
        </p:nvSpPr>
        <p:spPr>
          <a:xfrm>
            <a:off x="2768760" y="4397400"/>
            <a:ext cx="360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51280" y="452916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60640" y="453708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742840" y="461160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51000" y="4603680"/>
            <a:ext cx="82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9120" y="44020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99840" y="428616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86200" y="449424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5880" y="451332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17640" y="801720"/>
            <a:ext cx="3765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17800" y="9288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17880" y="9367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07920" y="10112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7880" y="10033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94200" y="8031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8880" y="68580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3440" y="89532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92400" y="9144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51120" y="3025800"/>
            <a:ext cx="36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43360" y="3152880"/>
            <a:ext cx="10764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3080" y="316080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733840" y="323532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3080" y="3227400"/>
            <a:ext cx="82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19400" y="30258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94440" y="290988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79000" y="311796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17960" y="313704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25560" y="2170080"/>
            <a:ext cx="360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23004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17800" y="23083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700360" y="238284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09960" y="23749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86280" y="21747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58440" y="205740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360" y="226692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84480" y="22860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17080" y="363528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90080" y="142416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44640" y="362736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30240" y="143208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12320" y="327816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59120" y="373536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95040" y="106668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3280" y="152388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6120" y="137952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18200" y="2717640"/>
            <a:ext cx="473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8200" y="404028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9240" y="290520"/>
            <a:ext cx="502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79800" y="390600"/>
            <a:ext cx="805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92960" y="2717640"/>
            <a:ext cx="191880" cy="304920"/>
          </a:xfrm>
          <a:custGeom>
            <a:avLst/>
            <a:gdLst/>
            <a:ahLst/>
            <a:rect l="l" t="t" r="r" b="b"/>
            <a:pathLst>
              <a:path w="532" h="845">
                <a:moveTo>
                  <a:pt x="277" y="0"/>
                </a:moveTo>
                <a:cubicBezTo>
                  <a:pt x="277" y="192"/>
                  <a:pt x="277" y="384"/>
                  <a:pt x="277" y="578"/>
                </a:cubicBezTo>
                <a:lnTo>
                  <a:pt x="277" y="0"/>
                </a:lnTo>
                <a:close/>
                <a:moveTo>
                  <a:pt x="0" y="578"/>
                </a:moveTo>
                <a:cubicBezTo>
                  <a:pt x="177" y="578"/>
                  <a:pt x="354" y="578"/>
                  <a:pt x="531" y="578"/>
                </a:cubicBezTo>
                <a:lnTo>
                  <a:pt x="0" y="578"/>
                </a:lnTo>
                <a:close/>
                <a:moveTo>
                  <a:pt x="138" y="716"/>
                </a:moveTo>
                <a:cubicBezTo>
                  <a:pt x="230" y="716"/>
                  <a:pt x="322" y="716"/>
                  <a:pt x="415" y="716"/>
                </a:cubicBezTo>
                <a:lnTo>
                  <a:pt x="138" y="716"/>
                </a:lnTo>
                <a:close/>
                <a:moveTo>
                  <a:pt x="209" y="844"/>
                </a:moveTo>
                <a:cubicBezTo>
                  <a:pt x="255" y="844"/>
                  <a:pt x="301" y="844"/>
                  <a:pt x="348" y="844"/>
                </a:cubicBezTo>
                <a:lnTo>
                  <a:pt x="209" y="84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61320" y="3857760"/>
            <a:ext cx="563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±25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51600" y="1255680"/>
            <a:ext cx="563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±25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03480" y="5370480"/>
            <a:ext cx="45057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nded Basic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VI adjustabl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il voltages set to +30V and -3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429000" y="1143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27200" y="20574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27200" y="6858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7" idx="3"/>
            <a:endCxn id="215" idx="0"/>
          </p:cNvCxnSpPr>
          <p:nvPr/>
        </p:nvCxnSpPr>
        <p:spPr>
          <a:xfrm>
            <a:off x="3192120" y="914040"/>
            <a:ext cx="8089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19" name=""/>
          <p:cNvCxnSpPr>
            <a:stCxn id="216" idx="3"/>
            <a:endCxn id="215" idx="2"/>
          </p:cNvCxnSpPr>
          <p:nvPr/>
        </p:nvCxnSpPr>
        <p:spPr>
          <a:xfrm flipV="1">
            <a:off x="3192120" y="2056680"/>
            <a:ext cx="8089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20" name=""/>
          <p:cNvSpPr/>
          <p:nvPr/>
        </p:nvSpPr>
        <p:spPr>
          <a:xfrm>
            <a:off x="4572000" y="13716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19760" y="128124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818320" y="137160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5080" y="261936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813280" y="270972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3680" y="33498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55640" y="42814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5640" y="29098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7" idx="3"/>
            <a:endCxn id="225" idx="0"/>
          </p:cNvCxnSpPr>
          <p:nvPr/>
        </p:nvCxnSpPr>
        <p:spPr>
          <a:xfrm>
            <a:off x="3220560" y="3138120"/>
            <a:ext cx="785160" cy="213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29" name=""/>
          <p:cNvCxnSpPr>
            <a:stCxn id="226" idx="3"/>
            <a:endCxn id="225" idx="2"/>
          </p:cNvCxnSpPr>
          <p:nvPr/>
        </p:nvCxnSpPr>
        <p:spPr>
          <a:xfrm flipV="1">
            <a:off x="3220560" y="4263840"/>
            <a:ext cx="785160" cy="24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30" name=""/>
          <p:cNvSpPr/>
          <p:nvPr/>
        </p:nvSpPr>
        <p:spPr>
          <a:xfrm>
            <a:off x="4579920" y="1812960"/>
            <a:ext cx="40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89640" y="3557520"/>
            <a:ext cx="40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87800" y="181296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7800" y="2709720"/>
            <a:ext cx="965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403236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19760" y="394020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818320" y="4032360"/>
            <a:ext cx="13968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89680" y="1289160"/>
            <a:ext cx="1364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987520" y="137952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85000" y="262728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985000" y="2717640"/>
            <a:ext cx="1396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89680" y="3948120"/>
            <a:ext cx="136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87520" y="4040280"/>
            <a:ext cx="1400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4880" y="137160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15" idx="1"/>
          </p:cNvCxnSpPr>
          <p:nvPr/>
        </p:nvCxnSpPr>
        <p:spPr>
          <a:xfrm>
            <a:off x="3169800" y="1600200"/>
            <a:ext cx="261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45" name=""/>
          <p:cNvSpPr/>
          <p:nvPr/>
        </p:nvSpPr>
        <p:spPr>
          <a:xfrm>
            <a:off x="1662120" y="3583080"/>
            <a:ext cx="15652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3"/>
            <a:endCxn id="225" idx="1"/>
          </p:cNvCxnSpPr>
          <p:nvPr/>
        </p:nvCxnSpPr>
        <p:spPr>
          <a:xfrm flipV="1">
            <a:off x="3227040" y="3806640"/>
            <a:ext cx="20700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47" name=""/>
          <p:cNvSpPr/>
          <p:nvPr/>
        </p:nvSpPr>
        <p:spPr>
          <a:xfrm>
            <a:off x="2751120" y="4397400"/>
            <a:ext cx="3762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1280" y="452916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60640" y="453708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42840" y="461160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51000" y="4603680"/>
            <a:ext cx="82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9120" y="44020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9840" y="428616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86200" y="449424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451332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701800" y="801720"/>
            <a:ext cx="3938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17800" y="9288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17880" y="9367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707920" y="10112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17880" y="10033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94200" y="8031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68880" y="68580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3440" y="89532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2400" y="9144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43360" y="3152880"/>
            <a:ext cx="10764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300" y="207"/>
                </a:moveTo>
                <a:cubicBezTo>
                  <a:pt x="208" y="276"/>
                  <a:pt x="116" y="345"/>
                  <a:pt x="23" y="414"/>
                </a:cubicBezTo>
                <a:lnTo>
                  <a:pt x="300" y="207"/>
                </a:lnTo>
                <a:close/>
                <a:moveTo>
                  <a:pt x="277" y="207"/>
                </a:moveTo>
                <a:cubicBezTo>
                  <a:pt x="185" y="138"/>
                  <a:pt x="93" y="69"/>
                  <a:pt x="0" y="0"/>
                </a:cubicBezTo>
                <a:lnTo>
                  <a:pt x="277" y="207"/>
                </a:lnTo>
                <a:close/>
                <a:moveTo>
                  <a:pt x="23" y="22"/>
                </a:moveTo>
                <a:cubicBezTo>
                  <a:pt x="23" y="152"/>
                  <a:pt x="23" y="282"/>
                  <a:pt x="23" y="414"/>
                </a:cubicBezTo>
                <a:lnTo>
                  <a:pt x="23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3080" y="3160800"/>
            <a:ext cx="180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733840" y="323532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3080" y="3227400"/>
            <a:ext cx="82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19400" y="30258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94440" y="2909880"/>
            <a:ext cx="10706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28V to +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79000" y="3117960"/>
            <a:ext cx="5281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7960" y="313704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52640" y="2100240"/>
            <a:ext cx="2336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09880" y="2300400"/>
            <a:ext cx="108000" cy="149040"/>
          </a:xfrm>
          <a:custGeom>
            <a:avLst/>
            <a:gdLst/>
            <a:ahLst/>
            <a:rect l="l" t="t" r="r" b="b"/>
            <a:pathLst>
              <a:path w="301" h="415">
                <a:moveTo>
                  <a:pt x="0" y="207"/>
                </a:moveTo>
                <a:cubicBezTo>
                  <a:pt x="92" y="276"/>
                  <a:pt x="184" y="345"/>
                  <a:pt x="277" y="414"/>
                </a:cubicBezTo>
                <a:lnTo>
                  <a:pt x="0" y="207"/>
                </a:lnTo>
                <a:close/>
                <a:moveTo>
                  <a:pt x="23" y="207"/>
                </a:moveTo>
                <a:cubicBezTo>
                  <a:pt x="115" y="138"/>
                  <a:pt x="207" y="69"/>
                  <a:pt x="300" y="0"/>
                </a:cubicBezTo>
                <a:lnTo>
                  <a:pt x="23" y="207"/>
                </a:lnTo>
                <a:close/>
                <a:moveTo>
                  <a:pt x="277" y="22"/>
                </a:moveTo>
                <a:cubicBezTo>
                  <a:pt x="277" y="152"/>
                  <a:pt x="277" y="282"/>
                  <a:pt x="277" y="414"/>
                </a:cubicBezTo>
                <a:lnTo>
                  <a:pt x="277" y="2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17800" y="230832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701800" y="2166840"/>
            <a:ext cx="13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700360" y="238284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09960" y="237492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86280" y="217476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58440" y="2057400"/>
            <a:ext cx="10008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8V to -5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3360" y="2266920"/>
            <a:ext cx="4932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84480" y="2286000"/>
            <a:ext cx="1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7080" y="363528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90080" y="1424160"/>
            <a:ext cx="822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4640" y="362736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30240" y="1432080"/>
            <a:ext cx="807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12320" y="327816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59120" y="373536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95040" y="1066680"/>
            <a:ext cx="352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1523880"/>
            <a:ext cx="282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26120" y="137952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18200" y="2717640"/>
            <a:ext cx="473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8200" y="404028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9240" y="290520"/>
            <a:ext cx="502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79800" y="390600"/>
            <a:ext cx="805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92960" y="2717640"/>
            <a:ext cx="191880" cy="304920"/>
          </a:xfrm>
          <a:custGeom>
            <a:avLst/>
            <a:gdLst/>
            <a:ahLst/>
            <a:rect l="l" t="t" r="r" b="b"/>
            <a:pathLst>
              <a:path w="532" h="845">
                <a:moveTo>
                  <a:pt x="277" y="0"/>
                </a:moveTo>
                <a:cubicBezTo>
                  <a:pt x="277" y="192"/>
                  <a:pt x="277" y="384"/>
                  <a:pt x="277" y="578"/>
                </a:cubicBezTo>
                <a:lnTo>
                  <a:pt x="277" y="0"/>
                </a:lnTo>
                <a:close/>
                <a:moveTo>
                  <a:pt x="0" y="578"/>
                </a:moveTo>
                <a:cubicBezTo>
                  <a:pt x="177" y="578"/>
                  <a:pt x="354" y="578"/>
                  <a:pt x="531" y="578"/>
                </a:cubicBezTo>
                <a:lnTo>
                  <a:pt x="0" y="578"/>
                </a:lnTo>
                <a:close/>
                <a:moveTo>
                  <a:pt x="138" y="716"/>
                </a:moveTo>
                <a:cubicBezTo>
                  <a:pt x="230" y="716"/>
                  <a:pt x="322" y="716"/>
                  <a:pt x="415" y="716"/>
                </a:cubicBezTo>
                <a:lnTo>
                  <a:pt x="138" y="716"/>
                </a:lnTo>
                <a:close/>
                <a:moveTo>
                  <a:pt x="209" y="844"/>
                </a:moveTo>
                <a:cubicBezTo>
                  <a:pt x="255" y="844"/>
                  <a:pt x="301" y="844"/>
                  <a:pt x="348" y="844"/>
                </a:cubicBezTo>
                <a:lnTo>
                  <a:pt x="209" y="844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62400" y="3857760"/>
            <a:ext cx="1145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-50V TO +7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66080" y="1247760"/>
            <a:ext cx="105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+50V to -7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78560" y="5361120"/>
            <a:ext cx="51048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 Voltag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1 adjustable +50V to -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_2 adjustable -50V to +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Rail voltage adjusted to +28V to +5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Rail voltage adjusted to -28V to -5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09880" y="2951280"/>
            <a:ext cx="23328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757240" y="3017880"/>
            <a:ext cx="13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_fore</cp:lastModifiedBy>
  <dcterms:modified xsi:type="dcterms:W3CDTF">2005-08-30T20:57:16Z</dcterms:modified>
  <cp:revision>1</cp:revision>
  <dc:subject/>
  <dc:title>PowerPoint Presentation</dc:title>
</cp:coreProperties>
</file>