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278-AE68-4952-B350-68F3FC8A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F6C-CDB9-476F-9AD1-7EFEE549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760-F5B1-43C2-8931-8B79E50B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930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862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60020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930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862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9E2-C160-4D2F-A666-A41CC8CA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4E562-1E4C-4DB5-B13F-933EB769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ECED8-844C-4ABD-8134-0D52DC11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0F5EE-504D-44FE-AC8C-10016D7C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6B99E-B179-42CE-955D-2AD2927B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3BCE2-B283-47DE-987D-5894CB98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60564-6E2B-4ED5-89E6-DAFD159A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A544D-571E-41E3-82A9-9109C994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690-3F86-437C-83BC-7931D2B5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806BD-3319-4D16-BED0-7052F5C2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27EA6-998F-4651-974D-E9B30B77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5A865-4F1E-439B-A188-333F343B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1A14D-F67F-4330-A0D8-EE73B28C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930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862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60020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930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862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16636-0C4F-45F7-88CC-0BA2300D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4E4-56AD-49F3-BF0A-31DE6D58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393-C3DC-4ABC-9E1E-AB018327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501-CF09-4E37-8102-127DAA8B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33F-9558-4625-B008-F38D3FCA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038-6E21-4B6E-AF88-F6A807FF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10D-26F6-4700-A723-D06299C0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064-75B0-446A-99CA-BD42F06A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5E87-1BA6-41F4-9273-E0B03716BE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2DC1-2B25-4BBF-B178-112A259593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Welco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[Company Nam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7:42:38Z</dcterms:created>
  <dc:creator>wangxiul</dc:creator>
  <dc:description/>
  <dc:language>en-US</dc:language>
  <cp:lastModifiedBy>wangxiul</cp:lastModifiedBy>
  <dcterms:modified xsi:type="dcterms:W3CDTF">2009-08-06T07:42:59Z</dcterms:modified>
  <cp:revision>1</cp:revision>
  <dc:subject/>
  <dc:title>Welcom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