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A21-CD5E-4442-AED3-8A04E20C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CF0-1046-4977-B3CC-E13AC661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D0A-FE2F-42E4-8DA5-88BF7216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20D-7BB4-4E35-AE3C-0D19FF95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AF4-DB05-401A-AF18-F5DF8628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8BE-C192-418B-847D-C09F372C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E69-70DB-41A5-814F-779915C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6B8-711C-46EA-8598-73883B4C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ADD-7253-4C4A-ACCF-A61B2BBD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4FC-60E2-401A-8644-1AB867E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841-43C2-45E1-BF52-300B935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41F-A92E-4221-871E-1AC715F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4A22-C821-45A6-AE86-968D4A5638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0d          12/19 ~1/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1/3     ~1/9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1/10   ~1/1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aaaaaaaa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3d            1/17   ~1/2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1/22   ~1/28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3d            1/29   ~1/3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d            2/1     ~2/14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2/13  ~2/19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5d          1/29   ~2/18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2/1    ~2/2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d            2/19   ~2/19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2/22  ~2/22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d            2/20  ~2/21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 4/10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09:03:56Z</dcterms:created>
  <dc:creator>jerman_hsu</dc:creator>
  <dc:description/>
  <dc:language>en-US</dc:language>
  <cp:lastModifiedBy>Zhong Qiyao</cp:lastModifiedBy>
  <dcterms:modified xsi:type="dcterms:W3CDTF">2008-01-04T03:16:17Z</dcterms:modified>
  <cp:revision>1253</cp:revision>
  <dc:subject/>
  <dc:title>PowerPoint 簡報</dc:title>
</cp:coreProperties>
</file>