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1EBF-665A-490A-ADAB-80CED8288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C535-0E50-4FD5-92E9-13460CE4D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B91C-EFA5-4655-B0EF-4F18EA55F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7D23-BF4B-4C3B-AD32-4D064D940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D2BF-288E-40F8-9BC4-6C92337CDD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1C63-C437-409E-A7F7-B5DAEB72D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0B61-20E0-4E13-B1A1-DB264EC5E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AF22-98B1-4FFE-8817-488DBEA0B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3E02-A4AC-4B1D-900A-4BBE7980E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51F1-C98B-49F0-BC1D-295170341D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6D49-3CE6-435E-AA0E-218552AD0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8175-D68C-48B6-BE0F-F49A5C503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2BAD-66E1-429D-A39C-409DF2FCB4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C2C5-D747-492D-81C8-DD5B098C9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200D-CE1B-43FF-83FA-20AABEA263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B90F-BD45-47CE-8079-0A0A7BF275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48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1600"/>
            <a:ext cx="2575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3E3F-27E7-48CA-A67D-76D006A15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9BA6-5054-468D-9DCB-6410A621B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0242-14ED-47CF-9237-3427DF759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20C6-C6CB-45A8-9009-0E0F7AD2F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9966-1183-4C15-AFC7-3B1D751F3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A449-F24E-4655-9323-1B37FDA4E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160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4F05-6DA7-417B-A99F-842862C94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480"/>
            <a:ext cx="39034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79995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B9CF-0999-4D27-8F87-EF67CC0FB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5423A9-EF1E-4D74-AA77-100484DACF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799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101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101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D23EE2-99FD-4EC1-8594-683058FCA6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2692440"/>
            <a:ext cx="76579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93560" indent="-4935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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新細明體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新細明體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5519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man_hsu</dc:creator>
  <dc:description/>
  <dc:language>en-US</dc:language>
  <cp:lastModifiedBy>user</cp:lastModifiedBy>
  <cp:revision>0</cp:revision>
  <dc:subject/>
  <dc:title>PowerPoint 簡報</dc:title>
</cp:coreProperties>
</file>