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F54-AA67-4BD8-8F23-3F3B8703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452-B193-4141-92BB-7492B36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D23-29FD-470C-BBFF-0AE4C234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19F-1AC2-42CD-BFE5-533E8B6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7DF-6E17-42B0-8F7F-4C5A2927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541-9C6D-468D-A3B9-3EC5973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4FB-9076-4152-B82E-9A5DCCF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357-634F-4C78-921F-197E4D90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9A72-D30C-4AD7-82FD-86EBC08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54000"/>
            <a:ext cx="90518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CFE-9E21-4385-B3A4-D4459E1B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5A3D-CDA7-4CCB-8CD9-2D2A334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025-193D-4013-86E8-1D215ED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1B58-F26A-49BB-856E-DD94B2F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CC2-F854-463A-93F0-2418D82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9DD-EE28-4AC3-81E9-7DA9453E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E49-B7B7-41EC-B78C-28592EDC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A31-BCB5-4446-92B0-4CEDD91E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847-8B52-4A07-9C7F-49C05FF3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2BC-E738-49D1-8414-88701753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390-4E58-43EA-91BD-14C8643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4000"/>
            <a:ext cx="90518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643-4AE7-4BB5-82AC-B8A57F8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CAC-9468-4FC9-842F-2D674E0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5D2-45A6-4EA5-901D-89A7A44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EEC-BF53-4E7F-805D-A28FB90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4860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806480"/>
            <a:ext cx="9048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3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59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AB2DF-7033-48D1-A966-93DC5F75E90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54000"/>
            <a:ext cx="90518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B90EA-8F97-4754-8B85-BF5CF3C3C6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4360" y="1440000"/>
            <a:ext cx="2646360" cy="344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00680" y="3060720"/>
            <a:ext cx="1939680" cy="161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98280"/>
            <a:ext cx="9059760" cy="10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головок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85" name=""/>
          <p:cNvCxnSpPr>
            <a:stCxn id="82" idx="2"/>
            <a:endCxn id="83" idx="0"/>
          </p:cNvCxnSpPr>
          <p:nvPr/>
        </p:nvCxnSpPr>
        <p:spPr>
          <a:xfrm rot="5400000">
            <a:off x="4335480" y="2419200"/>
            <a:ext cx="1276560" cy="7200"/>
          </a:xfrm>
          <a:prstGeom prst="bentConnector3">
            <a:avLst>
              <a:gd name="adj1" fmla="val 5001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3:08:59Z</dcterms:created>
  <dc:creator>Алексей Колесников</dc:creator>
  <dc:description/>
  <dc:language>en-US</dc:language>
  <cp:lastModifiedBy/>
  <cp:revision>1</cp:revision>
  <dc:subject/>
  <dc:title/>
</cp:coreProperties>
</file>