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8AE7-84C7-4116-A505-BF55ED29B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063B-C405-4F0D-B885-9CD2F39F8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E83D-BC94-4C37-9C41-E04DF55CB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1F9D-495D-478A-8FBA-4544BD4E5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EB6A-F7B3-4499-89DA-4B7CFB949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2BEA-DAE5-44A0-A19F-AE88C22F2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29AE-6439-4C41-AEF5-DAE29BE0F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9989-B4AF-4EB9-B589-EB28E63B9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CB16-B83F-4BAD-BB7E-5D7401B7D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6E58-B33E-41AF-A938-32FA6973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118D-A7CA-49AD-820C-3DED8F30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F220-0D98-45E5-8DF2-412FB775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232D6B-5B78-4227-A1AE-BF10BE6CAD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26520" y="3244680"/>
            <a:ext cx="80704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me text that should have a strikethrough starting here and going on to 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an Mitchell</dc:creator>
  <dc:description/>
  <dc:language>en-US</dc:language>
  <cp:lastModifiedBy>Ian Mitchell</cp:lastModifiedBy>
  <cp:revision>0</cp:revision>
  <dc:subject/>
  <dc:title/>
</cp:coreProperties>
</file>