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1909D6-D8C6-4B9E-93B7-A35D0E75E7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 PL KaitiM GB"/>
              </a:rPr>
              <a:t>Gamow Energy je konstanta (v těžišťovém systé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AF5-F088-4259-86A9-45C4ADF3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D07-801D-43FC-A9CF-7B5BDDE1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651-6BD0-4B9F-9286-F1A679EF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061-DCDC-4137-A0ED-A06A6DE9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B34-EE97-4567-8B89-6A7945B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CCE-2E3C-4ED5-8A5C-1104F4B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5A7-3723-4124-9C57-71C28FD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184-D8C0-40DD-B34E-27F88578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360" y="259920"/>
            <a:ext cx="65613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C58-7F7A-4B67-B171-5FB848AD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00F-9CB7-4273-B852-589E081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C09-B54A-4506-95B3-930578B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FC9-B583-4673-8E32-9A2A23B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31305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Úvod do termojaderné fú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858920" y="6381720"/>
            <a:ext cx="28940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1: 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úzní jaderné re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32720" y="638136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0D8E1B-3809-42B4-99E0-1A171CB284F0}" type="slidenum"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61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073160" cy="97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4705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unnel effec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989000"/>
            <a:ext cx="741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...  pravděpodobnost reakce bez bari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barrier transparenc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341360"/>
          <a:ext cx="2232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41360"/>
                    <a:ext cx="2232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042920" y="2852640"/>
          <a:ext cx="316872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852640"/>
                    <a:ext cx="31687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116000" y="3933720"/>
          <a:ext cx="2808360" cy="10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933720"/>
                    <a:ext cx="28083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03640" y="3933720"/>
          <a:ext cx="3024360" cy="10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933720"/>
                    <a:ext cx="302436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56000" y="5157720"/>
          <a:ext cx="3384360" cy="103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5157720"/>
                    <a:ext cx="3384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47640" y="5661000"/>
            <a:ext cx="649440" cy="1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57480" y="486900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ow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1800" y="42321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BC6-2974-4F49-80E5-CA9F73FD5FF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52:55Z</dcterms:created>
  <dc:creator>jmlynar</dc:creator>
  <dc:description/>
  <dc:language>en-US</dc:language>
  <cp:lastModifiedBy>Mlynar</cp:lastModifiedBy>
  <dcterms:modified xsi:type="dcterms:W3CDTF">2009-03-11T22:13:49Z</dcterms:modified>
  <cp:revision>30</cp:revision>
  <dc:subject/>
  <dc:title>Slide 1</dc:title>
</cp:coreProperties>
</file>