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865-242B-46ED-9262-81F2A649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0B7-25B0-4E3C-9589-3615DEC3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CC8-F409-4FFC-8F68-5308B626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96-390F-4BFE-8002-C697195B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BFC-C6C3-45D1-A45B-83429A1C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992-40A4-427F-B9D5-E5D62D2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B00-0B65-494B-8B9C-57780095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739-0202-4284-840B-7FE19A57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A4B-DD7D-4430-8693-C748026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43C-30C8-45BA-BC10-2F19A918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CDF-48AC-4D60-9BAD-0C88354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FA1-DE09-4942-8DFD-CA2677B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259-762B-44D1-B12B-25F7CBDCB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color is blac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ylink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te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ylink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ylink3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more two color(blue+gree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Green text hylink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hylink5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ylink6 </a:t>
            </a: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buletext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hylink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default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text, use defaul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“Hylink2” is hyperlin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other text color is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color is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link2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fault color is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put text,set text color is b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t “Hylink3” is hyperlin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dify other text color is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ylink3 </a:t>
            </a: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more two color(blue+gree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6-11T03:13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