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557E-5E53-4E4F-92A1-8D6F3ECB4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6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8866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B6A1-18AE-44D8-A6CD-20A3DA70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4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2894-E4D2-430F-92A3-159447D5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796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080" y="176796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684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080" y="405684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81A6-EF29-4D59-9A99-B2D9F414F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6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1359-0669-430D-A0DE-0221C672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6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FD8A-13DE-422A-866A-2BFE8A86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7465-91B7-4D2F-B793-39EBDA52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C0E5-DB5D-4112-8C00-686776A5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F62C-4B59-430F-B216-A7442451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CB46-3657-4972-9915-6BA5A436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4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C9B5-EBE1-407A-A20F-DCB8F41F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8866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B1EF-FF3C-453F-B192-9EAB3A2F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6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d-ID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d-ID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d-ID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B1E2E-0253-459B-A749-143321A25759}" type="slidenum">
              <a:rPr b="0" lang="id-ID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080720" cy="82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lnSpc>
                <a:spcPct val="95000"/>
              </a:lnSpc>
              <a:spcBef>
                <a:spcPts val="814"/>
              </a:spcBef>
              <a:spcAft>
                <a:spcPts val="488"/>
              </a:spcAft>
              <a:tabLst>
                <a:tab algn="l" pos="0"/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95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alibri"/>
              </a:rPr>
              <a:t>YESUS ADALAH  JURUSELAMAT  berar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5000"/>
              </a:lnSpc>
              <a:spcBef>
                <a:spcPts val="876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Calibri"/>
              <a:buChar char="•"/>
              <a:tabLst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Membebaskan, melindungi dari bahaya ma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5000"/>
              </a:lnSpc>
              <a:spcBef>
                <a:spcPts val="876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Calibri"/>
              <a:buChar char="•"/>
              <a:tabLst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Menjaga supaya aman, sehat, sejaht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5000"/>
              </a:lnSpc>
              <a:spcBef>
                <a:spcPts val="876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Calibri"/>
              <a:buChar char="•"/>
              <a:tabLst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Menyelamatkan dari dosa, kejahatan</a:t>
            </a:r>
            <a:r>
              <a:rPr b="1" lang="en-US" sz="2800" spc="-1" strike="noStrike">
                <a:solidFill>
                  <a:srgbClr val="003300"/>
                </a:solidFill>
                <a:latin typeface="Calibri"/>
                <a:ea typeface="Microsoft YaHei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Calibri"/>
                <a:ea typeface="Microsoft YaHei"/>
              </a:rPr>
              <a:t>(Mat 1:2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5000"/>
              </a:lnSpc>
              <a:spcBef>
                <a:spcPts val="876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Calibri"/>
              <a:buChar char="•"/>
              <a:tabLst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Menebus dari hukuman dosa</a:t>
            </a:r>
            <a:r>
              <a:rPr b="1" lang="en-US" sz="2800" spc="-1" strike="noStrike">
                <a:solidFill>
                  <a:srgbClr val="003300"/>
                </a:solidFill>
                <a:latin typeface="Calibri"/>
                <a:ea typeface="Microsoft YaHei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Calibri"/>
                <a:ea typeface="Microsoft YaHei"/>
              </a:rPr>
              <a:t>( Kej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5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alibri"/>
                <a:ea typeface="Microsoft YaHei"/>
              </a:rPr>
              <a:t>BERTOBAT  BERAR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5000"/>
              </a:lnSpc>
              <a:spcBef>
                <a:spcPts val="876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Calibri"/>
              <a:buChar char="•"/>
              <a:tabLst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Mengenali dan mengakui dosa2</a:t>
            </a:r>
            <a:r>
              <a:rPr b="1" lang="en-US" sz="2800" spc="-1" strike="noStrike">
                <a:solidFill>
                  <a:srgbClr val="003300"/>
                </a:solidFill>
                <a:latin typeface="Calibri"/>
                <a:ea typeface="Microsoft YaHei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Calibri"/>
                <a:ea typeface="Microsoft YaHei"/>
              </a:rPr>
              <a:t>(Yoh 16:8-11,1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5000"/>
              </a:lnSpc>
              <a:spcBef>
                <a:spcPts val="876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Calibri"/>
              <a:buChar char="•"/>
              <a:tabLst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Tinggalkan kehidupan dosa</a:t>
            </a:r>
            <a:r>
              <a:rPr b="1" lang="en-US" sz="2800" spc="-1" strike="noStrike">
                <a:solidFill>
                  <a:srgbClr val="003300"/>
                </a:solidFill>
                <a:latin typeface="Calibri"/>
                <a:ea typeface="Microsoft YaHei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Calibri"/>
                <a:ea typeface="Microsoft YaHei"/>
              </a:rPr>
              <a:t>(Yoh1:8-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5000"/>
              </a:lnSpc>
              <a:spcBef>
                <a:spcPts val="876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Calibri"/>
              <a:buChar char="•"/>
              <a:tabLst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Menerima Yesus sebagai Jurusela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5000"/>
              </a:lnSpc>
              <a:spcBef>
                <a:spcPts val="876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Calibri"/>
              <a:buChar char="•"/>
              <a:tabLst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Iman dengan hati yang percaya, bukan iman intelektual  atau iman sement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95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475400" y="0"/>
            <a:ext cx="1638360" cy="191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 fill="hold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 fill="hold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03280" y="168120"/>
            <a:ext cx="8988480" cy="16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  <a:ea typeface="Arial"/>
              </a:rPr>
              <a:t>Manusia dikaruniai: </a:t>
            </a:r>
            <a:br>
              <a:rPr sz="3600"/>
            </a:br>
            <a:r>
              <a:rPr b="1" lang="en-US" sz="3600" spc="-1" strike="noStrike">
                <a:solidFill>
                  <a:srgbClr val="0070c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0070c0"/>
                </a:solidFill>
                <a:latin typeface="Arial"/>
                <a:ea typeface="Arial"/>
              </a:rPr>
              <a:t>- Roh Allah, Roh cinta kasih</a:t>
            </a:r>
            <a:br>
              <a:rPr sz="3600"/>
            </a:br>
            <a:r>
              <a:rPr b="0" lang="en-US" sz="2200" spc="-1" strike="noStrike">
                <a:solidFill>
                  <a:srgbClr val="666633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3280" y="1427040"/>
            <a:ext cx="9155160" cy="58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tapi manusia terikat oleh dosa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(Rm 3:2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nusia tidak bisa membebaskan diri sendiri dari dosa dan kecenderungan untu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rdosa.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(Rm 3:11,23 ; Rm 5: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nusia perlu penyelamat, pembebas dari ikatan dosa, memulihkan kembali gamb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n citra Allah dalam di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( Rm 5:17-19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lah adil, membenci dosa.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(Rm2:1-16; Ef 2:4-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lah maharahim,mengasihi orang berdosa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(Rm 5:8; Ef 2:4-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92240" y="755640"/>
            <a:ext cx="1427040" cy="71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0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withEffect" fill="hold" presetClass="entr" presetID="37" repeatCount="100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dur="indefinite" fill="hold">
                            <p:stCondLst>
                              <p:cond delay="1200"/>
                            </p:stCondLst>
                            <p:childTnLst>
                              <p:par>
                                <p:cTn id="7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3T03:32:51Z</dcterms:created>
  <dc:creator/>
  <dc:description/>
  <dc:language>en-US</dc:language>
  <cp:lastModifiedBy/>
  <cp:revision>0</cp:revision>
  <dc:subject/>
  <dc:title/>
</cp:coreProperties>
</file>