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C117-1525-4223-83EC-07BA2CA8A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C4C2-30DD-451F-8F09-367D49767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858C-EC90-41F6-BC37-6DC466CA7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B636-BC33-4187-B7AE-72B148B29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17E6-C95C-411D-8181-180C89DE6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0C50-D656-4F4C-8058-9A5DC680B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317D-0C00-4944-A4E2-593F3D616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D87A-E91D-4A64-80E0-03DC56C4F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ADA1-28E0-4E0E-9D08-633750CB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D6C2-3590-4AD9-B93B-66E3DB88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8FAA-465A-46A5-918A-4040C7C2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91E0-D681-47B1-979A-057041D3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/07/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hgkhj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0T07:30:05Z</dcterms:created>
  <dc:creator>Wipro Ltd</dc:creator>
  <dc:description/>
  <dc:language>en-US</dc:language>
  <cp:lastModifiedBy>Wipro Ltd</cp:lastModifiedBy>
  <dcterms:modified xsi:type="dcterms:W3CDTF">2011-06-10T07:30:18Z</dcterms:modified>
  <cp:revision>1</cp:revision>
  <dc:subject/>
  <dc:title>Slide 1</dc:title>
</cp:coreProperties>
</file>