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DEB20-6723-4074-98B4-3351F75D6B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369684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0206F-7AF7-4427-97AE-E270368EE0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36968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6040" y="36968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3D54E-9454-4363-88F7-190309FA57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5160" y="9903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9440" y="9903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36968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5160" y="36968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9440" y="36968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1E66E-3D3F-4D17-BE5F-281597640E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72388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6968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383B1-EE9C-4A70-BE83-3DABE38E1D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6040" y="36968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69684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0880" y="369684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80880" y="36968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6040" y="36968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15160" y="9903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49440" y="9903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80880" y="36968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15160" y="36968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49440" y="36968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C55CE-F083-4236-99DA-6017D46B7A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D5147-88C8-480D-A3B4-8A873D6A75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14DD4-886A-4FF5-A4E1-59585780B0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72388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916A8-A667-4523-AF76-659B8B6D14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36968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4FB42-D3D4-4C0E-B3B2-4572DEEE95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6040" y="36968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ED3F4-CA58-4138-A7F9-31400613A3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369684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F75D6-2244-4B3A-B3A4-EB9ACBBD24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7f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a7d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0b7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66ce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0" y="65527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10D9-7B7B-4CE6-8D33-DAF0432B0D48}" type="slidenum"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920" y="6552720"/>
            <a:ext cx="167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Responsys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762120"/>
            <a:ext cx="6934320" cy="7596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86600" y="762120"/>
            <a:ext cx="2057400" cy="75960"/>
          </a:xfrm>
          <a:prstGeom prst="rect">
            <a:avLst/>
          </a:prstGeom>
          <a:solidFill>
            <a:srgbClr val="e0b7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371600" cy="258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914400"/>
            <a:ext cx="9144000" cy="259092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505320"/>
            <a:ext cx="9144000" cy="2895480"/>
          </a:xfrm>
          <a:prstGeom prst="rect">
            <a:avLst/>
          </a:prstGeom>
          <a:gradFill rotWithShape="0">
            <a:gsLst>
              <a:gs pos="0">
                <a:srgbClr val="007fa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762120"/>
            <a:ext cx="7086600" cy="7596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762120"/>
            <a:ext cx="1981080" cy="75960"/>
          </a:xfrm>
          <a:prstGeom prst="rect">
            <a:avLst/>
          </a:prstGeom>
          <a:solidFill>
            <a:srgbClr val="e0b7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324480"/>
            <a:ext cx="9144000" cy="7632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0880" y="307800"/>
            <a:ext cx="1600200" cy="3016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e0b752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66cee5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Gate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09480" y="2437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 just purchased the “Data Gateway” and I want to get started.  What do I do next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981080"/>
            <a:ext cx="9144000" cy="76212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743200"/>
            <a:ext cx="9144000" cy="2895480"/>
          </a:xfrm>
          <a:prstGeom prst="rect">
            <a:avLst/>
          </a:prstGeom>
          <a:gradFill rotWithShape="0">
            <a:gsLst>
              <a:gs pos="0">
                <a:srgbClr val="007fa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1760" y="1904760"/>
            <a:ext cx="7086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up step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– Public / Private SSH2 Key Pai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– Generate your data fil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– Package &amp; transfer your data fil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 – Create your datasource &amp; coordinate with Respons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828800"/>
            <a:ext cx="7086600" cy="7632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62920" y="1828800"/>
            <a:ext cx="1981080" cy="76320"/>
          </a:xfrm>
          <a:prstGeom prst="rect">
            <a:avLst/>
          </a:prstGeom>
          <a:solidFill>
            <a:srgbClr val="e0b7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315200" y="1371600"/>
            <a:ext cx="1600200" cy="301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4724280"/>
            <a:ext cx="9144000" cy="76320"/>
          </a:xfrm>
          <a:prstGeom prst="rect">
            <a:avLst/>
          </a:prstGeom>
          <a:solidFill>
            <a:srgbClr val="007f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sponsys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9F8C3-937F-47A3-B944-83AD589BFD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p 1 – Public / Private SSH2 Key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7f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need to generate a public/private SSH2 key pair for secure access to our fil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f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r Data Gateway account server is files.responsys.net (12.130.140.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f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ublic/private SSH2 key pair must be RSA or DSK compat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f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ublic/private SSH2 key pair must be at least 1024 bits str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f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purposes of automation, the public/private SSH2 key pair must be created without a passph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f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ivate SSH2 key must be on the Customer's machine initiating the SFTP/SCP connection to files.responsys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f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e with Responsys Support to get the public key installed on the files.responsys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sponsys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1C15E-FE5C-4A0E-846A-FF7C509A09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p 2 – Generate your dat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7f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the data you want to send (only the data you really ne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f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your delimiter and field enclosure if des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f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if you want a header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f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ct the data into a flat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a7d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file, no header, pipe delimited, enclosed in qu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1000"|"CustomerTest"|""|"editor2@customer.com"|"23-JUN-2007"|"0"|""|"0"|"0"|"0"|"0"|""|""|""|""|""|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|"0"|""|""|""|""|""|""|""|""|""|"1"|"1"|"1"|"1"|"0"|"g8"|"d65f35f78b96fdf86e6234a7d8e41192"|"85b8de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7b637848c2a588115db5bb3b"|"6ebdd4b1374bf32dae82528aed41599c"|"016c4590d80b64d554cd428eadb2e129"|"b8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f44af1bc6143be2fd355ce166c99"|"74678284e8576b4510184b4ebcb0ebdb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1001"|"CustomerTest"|""|"editor1@customer.com"|"23-JUN-2007"|"0"|""|"0"|"0"|"0"|"0"|""|""|""|""|""|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|"0"|""|""|""|""|""|""|""|""|""|"1"|"1"|"1"|"1"|"0"|"g9"|"9eed38c13fc14374be78547a3d166858"|"4b654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4e36f9a4e91c36835a5cabd6"|"f9c73e32875c29d1b0b3fbf78e3072b4"|"6a553306049158c012c6ebe21501c562"|"3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7ab9582d54a784ee07873879dd2d"|"7382e9c46732b826de10ef9f35a3bc95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sponsys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B7454-ABEA-4CF5-ACFA-825DEE1C90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p 3 – Package and transfer your dat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7f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your data file with an intuitiv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f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 the Year, Month, and Day in the file name in this for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a7d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Customer_20080527.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f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 a count file that has the number of records in the data file named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a7d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Customer_20080527.C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f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age the count and data file in a zip file named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a7d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Customer_20080527.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f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n empty “ready” file named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a7d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Customer_20080527.R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f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 the ZIP file to our server (files.responsys.c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f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the ZIP file has been transferred, push the RDY file to ou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sponsys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533FF-5B2F-4B3D-9DBB-C4C366D096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ep 4 – Create your datasource and coordinate with Respons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7f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datasource for your file in Responsys Inte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a7d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often this goes in a MasterData 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a7d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datasource with an intuitiv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a7d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source structure should match the file structure as closely a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a7d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types for each column should meet or exceed sizes of the columns in th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a7d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the datasource is created, add indexes on columns used in filters, or in joins in SQL data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f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e with Responsys with the following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a7d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naming con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a7d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ource folder and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a7d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intend us to replace, append or merge new data into the exist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sponsys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A0306-E91F-4017-AA0E-A4E1AF4B5B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22:46:38Z</dcterms:created>
  <dc:creator>Matthew Pham</dc:creator>
  <dc:description/>
  <dc:language>en-US</dc:language>
  <cp:lastModifiedBy>IT</cp:lastModifiedBy>
  <dcterms:modified xsi:type="dcterms:W3CDTF">2008-08-12T18:34:07Z</dcterms:modified>
  <cp:revision>9</cp:revision>
  <dc:subject/>
  <dc:title>PowerPoint Presentation</dc:title>
</cp:coreProperties>
</file>