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5939-3B99-4091-A6BD-B869C9907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B37D-6B29-4306-A6FB-E252FDEA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ED2C-D3AC-49A9-AF7E-AEC9AD0AB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6E52-4A4A-4775-9B29-97DE6B2F4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EC32-4077-424F-84D3-9364AF87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FFA6-62E6-4E3A-98C4-9BC86DC8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070E-378C-4E03-B342-FE67D763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68C1-3268-46A2-B5B0-572FB344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7194-6B6E-4EC5-94DE-DFD15992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4C37-FE2F-422C-8CDF-0AB7F11F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FA1C-72D9-4B92-8086-4A636282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6E8B-162D-4A7F-B0D7-229657E7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4097-E03E-4C9F-9C4B-8C7C25AB34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15:00:49Z</dcterms:created>
  <dc:creator>wangxiul</dc:creator>
  <dc:description/>
  <dc:language>en-US</dc:language>
  <cp:lastModifiedBy>wangxiul</cp:lastModifiedBy>
  <dcterms:modified xsi:type="dcterms:W3CDTF">2005-11-22T15:00:54Z</dcterms:modified>
  <cp:revision>1</cp:revision>
  <dc:subject/>
  <dc:title>Slide 1</dc:title>
</cp:coreProperties>
</file>