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3C5-86CD-4B84-A48D-27EEE6CF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B44-E0BD-4792-9781-C903D661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DC5-EF55-42E6-ADAB-D55B135E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744-1C91-4C60-A7FE-6A02989A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AAF-F1A4-48AE-B4A0-B20DDDD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744-C019-4C97-9416-7244B20B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D2B-522D-4278-BC34-856FB58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91F-AA41-4DBB-B8A0-516F42B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ECE-F7C4-4B65-8BF6-59AFADAF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B33-E7A5-4846-A0B2-F7143D0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46A-9120-4086-ABA7-6BBC3F9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887-074E-472F-8B6F-D5990157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5A2-F1C3-4257-88A2-75CBD71224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914400"/>
          <a:ext cx="8534160" cy="5025960"/>
        </p:xfrm>
        <a:graphic>
          <a:graphicData uri="http://schemas.openxmlformats.org/drawingml/2006/table">
            <a:tbl>
              <a:tblPr/>
              <a:tblGrid>
                <a:gridCol w="1757160"/>
                <a:gridCol w="4719600"/>
                <a:gridCol w="205740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宋体"/>
                        </a:rPr>
                        <a:t>Shadow &amp; Under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Bul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9999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65% of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3300"/>
                        </a:buClr>
                        <a:buSzPct val="150000"/>
                        <a:buFont typeface="Wingdings" charset="2"/>
                        <a:buChar char="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50% of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SzPct val="10287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00% of tex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a custom pictu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tical 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mboss tex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^C</a:t>
                      </a: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*o</a:t>
                      </a:r>
                      <a:r>
                        <a:rPr b="0" lang="en-US" sz="2800" spc="-1" strike="noStrike">
                          <a:solidFill>
                            <a:srgbClr val="808000"/>
                          </a:solidFill>
                          <a:latin typeface="Arial"/>
                          <a:ea typeface="宋体"/>
                        </a:rPr>
                        <a:t>(l</a:t>
                      </a: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  <a:ea typeface="宋体"/>
                        </a:rPr>
                        <a:t>#o</a:t>
                      </a:r>
                      <a:r>
                        <a:rPr b="0" lang="en-US" sz="2800" spc="-1" strike="noStrike">
                          <a:solidFill>
                            <a:srgbClr val="cc00ff"/>
                          </a:solidFill>
                          <a:latin typeface="Arial"/>
                          <a:ea typeface="宋体"/>
                        </a:rPr>
                        <a:t>$r</a:t>
                      </a:r>
                      <a:r>
                        <a:rPr b="0" lang="en-US" sz="2800" spc="-1" strike="noStrike">
                          <a:solidFill>
                            <a:srgbClr val="ccff33"/>
                          </a:solidFill>
                          <a:latin typeface="Arial"/>
                          <a:ea typeface="宋体"/>
                        </a:rPr>
                        <a:t>7f</a:t>
                      </a:r>
                      <a:r>
                        <a:rPr b="0" lang="en-US" sz="2800" spc="-1" strike="noStrike">
                          <a:solidFill>
                            <a:srgbClr val="00cc00"/>
                          </a:solidFill>
                          <a:latin typeface="Arial"/>
                          <a:ea typeface="宋体"/>
                        </a:rPr>
                        <a:t>4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7800" indent="-5778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Number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400"/>
                        </a:spcBef>
                        <a:buClr>
                          <a:srgbClr val="cc00ff"/>
                        </a:buClr>
                        <a:buSzPct val="20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200% of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1001"/>
                        </a:spcBef>
                        <a:buClr>
                          <a:srgbClr val="cc3300"/>
                        </a:buClr>
                        <a:buSzPct val="50000"/>
                        <a:buFont typeface="Arial"/>
                        <a:buAutoNum type="romanL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50% of tex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7800" indent="-577800">
                        <a:spcBef>
                          <a:spcPts val="1001"/>
                        </a:spcBef>
                        <a:buClr>
                          <a:srgbClr val="99cc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ze 100% of tex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T</a:t>
                      </a:r>
                      <a:r>
                        <a:rPr b="0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  <a:ea typeface="宋体"/>
                        </a:rPr>
                        <a:t>superscri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T</a:t>
                      </a:r>
                      <a:r>
                        <a:rPr b="0" lang="en-US" sz="2800" spc="-1" strike="noStrike" baseline="-25000">
                          <a:solidFill>
                            <a:srgbClr val="006666"/>
                          </a:solidFill>
                          <a:latin typeface="Arial"/>
                          <a:ea typeface="宋体"/>
                        </a:rPr>
                        <a:t>subscri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907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Table with texts, please focus on the properties of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5:52:24Z</dcterms:created>
  <dc:creator>Yolanda</dc:creator>
  <dc:description/>
  <dc:language>en-US</dc:language>
  <cp:lastModifiedBy>apple</cp:lastModifiedBy>
  <dcterms:modified xsi:type="dcterms:W3CDTF">2007-10-11T01:41:07Z</dcterms:modified>
  <cp:revision>3</cp:revision>
  <dc:subject/>
  <dc:title>Slide 1</dc:title>
</cp:coreProperties>
</file>