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0E9-CD78-45D7-A773-52B86127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549-19CD-4D66-84D4-B2A36A60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1B2-104A-4257-AE2C-D1D91D48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C0B-9D30-4293-9C7B-B8F62A42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46D-19C4-4A09-BF10-758E9464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E20-1C25-400F-A652-32440AE2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062-EA31-4E13-80A0-85CA375D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030-5A41-4058-8165-61A9CC31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EAA-64C5-48BD-85EB-5F255F4F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F8C-9F76-4475-9C05-E3642402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C48-E328-402C-9A14-A1DDF72F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924-477F-43DE-8F5A-05E8CB9E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72F2-2F79-4193-8E25-F9492A049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1500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dfasdfasd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3:06:35Z</dcterms:created>
  <dc:creator>Ученик</dc:creator>
  <dc:description/>
  <dc:language>en-US</dc:language>
  <cp:lastModifiedBy>Ученик</cp:lastModifiedBy>
  <dcterms:modified xsi:type="dcterms:W3CDTF">2012-03-28T13:06:45Z</dcterms:modified>
  <cp:revision>1</cp:revision>
  <dc:subject/>
  <dc:title>Слайд 1</dc:title>
</cp:coreProperties>
</file>