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260-A59F-4DEA-8853-BEBC0528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1EB-59C0-4F7D-8383-5FED06C4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7F2-F9A1-47D2-A991-A6B97FDE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B7E-8FEB-4638-A028-5BCFB9EC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8C1-5867-4E2E-A500-877F4F61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232-2215-49DE-B3C4-F1F8EDE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4F5-A334-43B4-A4AA-1BFDE1BC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258-08B0-49E9-829F-CFCA7E84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EDC-1F35-47E4-92D4-7E0F5B53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E4B-7EB4-4C81-98AD-64D41D1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9DC-B4E0-44E8-9B78-FCA4F36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3D6-0496-4388-816E-B33F751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33AF3-4B3A-4415-A653-77B6F48771F8}" type="slidenum">
              <a:rPr b="0" lang="en-GB" sz="1400" spc="-1" strike="noStrike">
                <a:solidFill>
                  <a:srgbClr val="000000"/>
                </a:solidFill>
                <a:latin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Condensed"/>
              </a:rPr>
              <a:t>This is an Item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Condensed"/>
              </a:rPr>
              <a:t>This is another item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</dc:creator>
  <dc:description/>
  <dc:language>en-US</dc:language>
  <cp:lastModifiedBy/>
  <cp:revision>0</cp:revision>
  <dc:subject/>
  <dc:title/>
</cp:coreProperties>
</file>