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3AD-060E-486F-B902-BE0273A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3CD-E680-41CF-9FEF-2459488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419-20BE-4F73-B83C-F30A458B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7E2-5349-4ACA-A905-7AB353EB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DAB-FC48-4ADA-AD64-77FE3F9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FCE-1C2E-4BBC-964B-542773D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9E2-01C6-493B-A688-33ADA59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662-B5C0-4603-9A43-6DE29A4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473-893D-4C9B-9940-D24A97D4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D01-3A63-47BE-AC8C-496B32A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4A5-08F5-41E8-A04A-1646583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3B2-2038-44D6-983A-E1EC74F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8CF-1530-4323-AEFE-AD5F676DF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5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560" y="1392120"/>
          <a:ext cx="7680600" cy="4959360"/>
        </p:xfrm>
        <a:graphic>
          <a:graphicData uri="http://schemas.openxmlformats.org/drawingml/2006/table">
            <a:tbl>
              <a:tblPr/>
              <a:tblGrid>
                <a:gridCol w="768060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end that the partial and the conditional rank correlations are eq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 the entire procedure many tim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63760" indent="855720">
                        <a:spcBef>
                          <a:spcPts val="700"/>
                        </a:spcBef>
                        <a:tabLst>
                          <a:tab algn="l" pos="0"/>
                          <a:tab algn="l" pos="48038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 the correlation matrix from the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es and compare with the original correlation matrix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0880" y="1670040"/>
            <a:ext cx="2822400" cy="395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16640" y="0"/>
            <a:ext cx="2995560" cy="1592280"/>
          </a:xfrm>
          <a:prstGeom prst="wedgeRoundRectCallout">
            <a:avLst>
              <a:gd name="adj1" fmla="val -64361"/>
              <a:gd name="adj2" fmla="val 38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ase: FFC252FFCSD_Paragraph_Indent_Table0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: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:  Paragraph with certain indent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Pretend that the partial and the conditional rank correlations are equal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Repeat the entire procedure many times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1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Calculate the correlation matrix from these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0" lang="pl-PL" sz="3200" spc="-1" strike="noStrike">
                <a:solidFill>
                  <a:srgbClr val="000000"/>
                </a:solidFill>
                <a:latin typeface="宋体"/>
              </a:rPr>
              <a:t>amples and compare with the original correlation matrix </a:t>
            </a:r>
            <a:r>
              <a:rPr b="1" i="1" lang="pl-PL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9840" y="1809720"/>
            <a:ext cx="56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peat the entire procedure many 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lculate the correlation matrix from 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ples and compare with the original correlation matrix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0320" y="1641600"/>
            <a:ext cx="4373280" cy="26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peat the ent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e many 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lculate the correlation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rom 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 comp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4240" indent="-18842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th the original correlation matrix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7000"/>
          </a:bodyPr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tend that the partial and the conditional rank correlations are eq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peat the ent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dure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alculate the correlation matr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rom the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d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1840" indent="-501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th the original correlation matrix 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3:29:02Z</dcterms:created>
  <dc:creator>renyuxia</dc:creator>
  <dc:description/>
  <dc:language>en-US</dc:language>
  <cp:lastModifiedBy>sunying</cp:lastModifiedBy>
  <dcterms:modified xsi:type="dcterms:W3CDTF">2012-08-07T03:12:21Z</dcterms:modified>
  <cp:revision>8</cp:revision>
  <dc:subject/>
  <dc:title>Slide 1</dc:title>
</cp:coreProperties>
</file>