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E8E-56D3-44F6-ACCD-B3DACC55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6E3-3A32-4A21-BDB1-34966ED0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F5E-4DBB-4EAF-8BAB-C4AEB145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CB8-F3D5-4269-A4F2-33B1459C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B33-5B49-4F38-95F5-C14AC479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11E-941B-4A0D-BB3F-2EEF88EF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48E-0A19-4549-901B-365002E8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1A9-6937-493D-B02E-93E1C10D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723-3A3F-466F-95E4-354D9ABE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33D-A9C7-4188-A47A-640A52FB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2D5-AE9F-462C-B94F-507C3CA8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49E-9C21-439C-BD9C-6A9479F6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027B-60EC-40F8-A679-7DC1AC1F1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360" y="160020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39625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1" idx="0"/>
            <a:endCxn id="42" idx="1"/>
          </p:cNvCxnSpPr>
          <p:nvPr/>
        </p:nvCxnSpPr>
        <p:spPr>
          <a:xfrm>
            <a:off x="2286360" y="1600200"/>
            <a:ext cx="990720" cy="281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" name=""/>
          <p:cNvCxnSpPr>
            <a:stCxn id="41" idx="1"/>
            <a:endCxn id="42" idx="3"/>
          </p:cNvCxnSpPr>
          <p:nvPr/>
        </p:nvCxnSpPr>
        <p:spPr>
          <a:xfrm>
            <a:off x="4114440" y="3428640"/>
            <a:ext cx="770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6:50:35Z</dcterms:created>
  <dc:creator/>
  <dc:description/>
  <dc:language>en-US</dc:language>
  <cp:lastModifiedBy>.</cp:lastModifiedBy>
  <dcterms:modified xsi:type="dcterms:W3CDTF">2007-02-21T06:59:42Z</dcterms:modified>
  <cp:revision>3</cp:revision>
  <dc:subject/>
  <dc:title>No Slide Title</dc:title>
</cp:coreProperties>
</file>