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27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2A89-DF04-4859-84CF-0DE2CBE1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74B69-6A20-4ACC-AD06-978C7D6D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618C-46AA-4939-AFC5-514CAAF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C2306-286F-427C-91FF-3D64D453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7B9A5-7B44-49A2-9A94-E40ACE26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49A96-3266-4405-85D3-6F17CCB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70964-4B7B-40A8-A811-189BEFC0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6976A-FD60-49FC-9E01-AF91578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6E39C-96F4-47F6-8B14-1CC5A5A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E6CC8-5E98-4DBE-824F-1597A6B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03190-F011-4AF0-B638-B639935F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9F903-16E0-4BDF-A53D-339010EE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>
                  <a:alpha val="50196"/>
                </a:srgbClr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505320" y="6095520"/>
            <a:ext cx="39081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6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99"/>
                </a:solidFill>
                <a:latin typeface="Arial"/>
              </a:rPr>
              <a:t>מח’ </a:t>
            </a:r>
            <a:r>
              <a:rPr b="1" lang="he-IL" sz="1600" spc="-1" strike="noStrike">
                <a:solidFill>
                  <a:srgbClr val="ffccff"/>
                </a:solidFill>
                <a:latin typeface="Arial"/>
              </a:rPr>
              <a:t>לחינוך וקידום בריאות- משרד הבריאו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>
                  <a:alpha val="50196"/>
                </a:srgbClr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2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2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831-3A00-4FB0-B0A6-BA69F7FAA10D}" type="datetime">
              <a:rPr b="0" lang="he-IL" sz="1200" spc="-1" strike="noStrike">
                <a:solidFill>
                  <a:srgbClr val="ffff9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3"/>
          </p:nvPr>
        </p:nvSpPr>
        <p:spPr>
          <a:xfrm>
            <a:off x="3733920" y="6095520"/>
            <a:ext cx="39081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99"/>
                </a:solidFill>
                <a:latin typeface="Arial"/>
              </a:rPr>
              <a:t>&lt;footer&gt;</a:t>
            </a:r>
            <a:r>
              <a:rPr b="1" lang="en-US" sz="1600" spc="-1" strike="noStrike">
                <a:solidFill>
                  <a:srgbClr val="ffccff"/>
                </a:solidFill>
                <a:latin typeface="Arial"/>
              </a:rPr>
              <a:t>מ</a:t>
            </a:r>
            <a:r>
              <a:rPr b="1" lang="he-IL" sz="1600" spc="-1" strike="noStrike">
                <a:solidFill>
                  <a:srgbClr val="ffccff"/>
                </a:solidFill>
                <a:latin typeface="Arial"/>
              </a:rPr>
              <a:t>ח' לחינוך וקידום בריאות , משרד הבריאות</a:t>
            </a:r>
            <a:r>
              <a:rPr b="1" lang="he-IL" sz="1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4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Arial"/>
                <a:ea typeface="Times New Roman (Hebrew)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2367-A4C6-4C5E-A2D8-69778CC4C713}" type="slidenum">
              <a:rPr b="0" lang="en-US" sz="1400" spc="-1" strike="noStrike">
                <a:solidFill>
                  <a:srgbClr val="ffff99"/>
                </a:solidFill>
                <a:latin typeface="Arial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905120" y="1003320"/>
          <a:ext cx="57909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03320"/>
                    <a:ext cx="57909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819520" y="6095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ccff"/>
                </a:solidFill>
                <a:latin typeface="Arial"/>
              </a:rPr>
              <a:t>מח' לחינוך וקידום בריאות, משרד הבריאות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 Narrow"/>
              </a:rPr>
              <a:t>שיעורי העישון בישראל</a:t>
            </a:r>
            <a:endParaRPr b="0" lang="en-US" sz="54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676520"/>
          <a:ext cx="702144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02144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 txBox="1"/>
          <p:nvPr/>
        </p:nvSpPr>
        <p:spPr>
          <a:xfrm>
            <a:off x="1219320" y="60958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שנה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981080"/>
            <a:ext cx="524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אחוז</a:t>
            </a:r>
            <a:endParaRPr b="0" lang="en-US" sz="1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1960" y="6248520"/>
            <a:ext cx="38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ff"/>
                </a:solidFill>
                <a:latin typeface="Arial"/>
              </a:rPr>
              <a:t>מח' לחינוך וקידום בריאות, משרד הבריאות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99"/>
                </a:solidFill>
                <a:latin typeface="Arial Narrow"/>
              </a:rPr>
              <a:t>שיעור התלמידים היהודים בכיתה י' המעשנים סיגריות או מוצרי טבק לפחות פעם אחת בשבוע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ע</a:t>
            </a:r>
            <a:r>
              <a:rPr b="1" lang="he-IL" sz="3600" spc="-1" strike="noStrike">
                <a:solidFill>
                  <a:srgbClr val="ffff99"/>
                </a:solidFill>
                <a:latin typeface="Arial Narrow"/>
              </a:rPr>
              <a:t>ל פי שנת סק</a:t>
            </a: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ר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2286000"/>
          <a:ext cx="746460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46460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28600" y="624852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9933"/>
                </a:solidFill>
                <a:latin typeface="Arial Narrow"/>
              </a:rPr>
              <a:t>הראל ואחרים, </a:t>
            </a:r>
            <a:r>
              <a:rPr b="1" lang="he-IL" sz="1800" spc="-1" strike="noStrike">
                <a:solidFill>
                  <a:srgbClr val="ff9933"/>
                </a:solidFill>
                <a:latin typeface="Arial Narrow"/>
              </a:rPr>
              <a:t>2002</a:t>
            </a:r>
            <a:r>
              <a:rPr b="1" lang="he-IL" sz="1800" spc="-1" strike="noStrike">
                <a:solidFill>
                  <a:srgbClr val="ff9933"/>
                </a:solidFill>
                <a:latin typeface="Arial Narrow"/>
              </a:rPr>
              <a:t>)(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6400800"/>
            <a:ext cx="37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ccff"/>
                </a:solidFill>
                <a:latin typeface="Arial"/>
              </a:rPr>
              <a:t>מח' לחינוך וקידום בריאות, משרד הבריאות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אחוז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86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ff00"/>
                </a:solidFill>
                <a:latin typeface="Arial"/>
              </a:rPr>
              <a:t>שנה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8:51:43Z</dcterms:created>
  <dc:creator>ענת שבתאי</dc:creator>
  <dc:description/>
  <dc:language>en-US</dc:language>
  <cp:lastModifiedBy>ooo</cp:lastModifiedBy>
  <cp:lastPrinted>2001-12-02T10:06:35Z</cp:lastPrinted>
  <dcterms:modified xsi:type="dcterms:W3CDTF">2007-08-16T06:40:28Z</dcterms:modified>
  <cp:revision>99</cp:revision>
  <dc:subject/>
  <dc:title>Recommending a Strategy</dc:title>
</cp:coreProperties>
</file>