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F04-41E8-46A6-9B2F-8DD39700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008-AE3F-4540-9517-73B43333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12B-54E9-4736-BCC0-8BCA49CF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839-6AF7-4971-86E7-48BD9B6F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824-8CD0-4C11-A0EA-C28BFA18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0AB-8CB0-46AB-A764-075F1401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438-92BA-4B7D-94EB-17656D8D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338-F282-46CD-A74D-69B760CF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FC1-10C9-4840-97DA-19DE84DA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791-E21A-4211-AB86-0EDEBD26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337-1EA5-4655-BBE6-B64684E5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88B-9203-45E0-8D4E-4681F56F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777E-F87C-47E1-A2C3-AC1F3138C2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on – “O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veloper takes “Open” action to start working on this de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ts val="0"/>
              </a:lnSpc>
              <a:spcBef>
                <a:spcPts val="1225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normally done by checking out code in 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1225"/>
              </a:spcBef>
              <a:spcAft>
                <a:spcPts val="524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d Working Effort” is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2040" y="0"/>
            <a:ext cx="2901960" cy="1787400"/>
          </a:xfrm>
          <a:prstGeom prst="wedgeRectCallout">
            <a:avLst>
              <a:gd name="adj1" fmla="val -34078"/>
              <a:gd name="adj2" fmla="val 749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ase: FFC252FFCSD_Paragraph_Bullet0050(Line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: Bullet style interaction with Para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 Numbering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20:35:52Z</dcterms:created>
  <dc:creator>renyuxia</dc:creator>
  <dc:description/>
  <dc:language>en-US</dc:language>
  <cp:lastModifiedBy>renyuxia</cp:lastModifiedBy>
  <dcterms:modified xsi:type="dcterms:W3CDTF">2005-04-29T16:30:46Z</dcterms:modified>
  <cp:revision>18</cp:revision>
  <dc:subject/>
  <dc:title>Slide 1</dc:title>
</cp:coreProperties>
</file>