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875-9EEB-400C-B24C-F2C52ED2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8556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803-1C3C-49BC-B029-2AF32794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0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F00-9800-4CE1-9237-D84355E2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800" y="159840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8160" y="159840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8556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800" y="398556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8160" y="3985560"/>
            <a:ext cx="26485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2C4-47FE-41FB-ACB9-414F5DFC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AAB-FFFE-4E50-8C8A-5280757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4DE-996B-49E8-8255-5A72EB1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05E-05F2-4622-A01E-2F841D36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862-2979-4168-8B43-0EE66410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600" y="182520"/>
            <a:ext cx="7313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072-2126-433B-B3BA-1172DBF9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264-E69D-43A5-9277-802A9EA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040" y="398556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19C-3953-4632-A859-3575F07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040" y="1598400"/>
            <a:ext cx="4014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85560"/>
            <a:ext cx="82263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DAC-B4D9-449D-B337-011583AE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F135-377E-4953-864E-E6BF1886E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ימור תלוי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כאשר מפרקים סכמה רלציונית, רצוי (אם כי לא הכרחי) לדאוג גם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לשימור תלוי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בטיח שכל תלות פונקציונלית שהתקיימה בסכמה המקורית מתקיימת גם בסכמה המפורקת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ם הפרוק אכן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שמר תלויו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אז מובטח שכאשר מעדכנים את אחת מתת-הרלציות באופן חוקי, גם העדכון על מסד הנתונים כולו (ה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ין תת-הרלציות) הוא חוק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ם אין שימור תלויות, תכונה זו אינה מובטחת, לכן, כאשר נעדכן טבלה אחת, נצטרך לעתים לבדוק מול הטבלאות האחרות כדי לוודא שהעדכון חוק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A53-0B7C-4DFC-ADD4-F4F7F5F475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דוגמה - המש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תלויות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, BC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שמרות, כי לכל אחת מהן קיימת תת-סכמה שמכילה את כל התכונות שמופיעות בתלות. נותר לבדוק אם התלו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שמר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לפי האלגורית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תחיל מהקבוצ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חתוך ע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, 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ונקב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סגור 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חתוך שוב ע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Math C"/>
                <a:ea typeface="Math C"/>
              </a:rPr>
              <a:t>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 B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אחד ע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חתוך ע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, C, D)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Math C"/>
                <a:ea typeface="Math C"/>
              </a:rPr>
              <a:t>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 C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סגור 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C,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חתוך ע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ונישאר ע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C,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, נאחד ע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ונקב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326-7F52-42C8-BAF4-BA9365AB5D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נתונה הסכמה (עיר, קידומת, טלפון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התלויות הפונקציונליות {עיר </a:t>
            </a:r>
            <a:r>
              <a:rPr b="0" lang="he-I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טלפון, קידומת), קידומת </a:t>
            </a:r>
            <a:r>
              <a:rPr b="0" lang="he-I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יר}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ותה קידומת יכולה להיות משותפת לכמה ערים, אך לכל עיר יש קידומת אחת בלבד, אותו מספר טלפון יכול להופיע בערים שונות, אך לא בערים עם אותה קידומ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פרוק {(עיר, קידומת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(עיר, טלפון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שמר מידע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=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עי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R2 \ R1 =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קידומ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קידומ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עי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בל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1B7-2B85-4D9C-B616-438C123958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ה - המש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פרוק אינו משמר תלויות, כ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כל אחת מהרלציות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קיימת א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בל ה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ינו מקיים א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514600"/>
          <a:ext cx="2438640" cy="1552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לפ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עי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חיפ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בע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952880" y="2514600"/>
          <a:ext cx="2438640" cy="1552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קידומ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עי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חיפ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בע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17040" y="1981080"/>
            <a:ext cx="5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03240" y="1981080"/>
            <a:ext cx="5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4952880"/>
          <a:ext cx="3962520" cy="155268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לפ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קידומ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עי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חיפ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טבעו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4AE-C18E-41E8-A5B2-9D63F14068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ער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כאשר נרצה להוסיף או לשנות מספר טלפון ב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נצטרך לבדוק גם ב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כדי לוודא שהשינוי הוא חוק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לא די שבאותה עיר לא יהיו שני טלפונים זהים - אסור שיהיו טלפונים זהים גם בערים  שונות באותו אזור חיוג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600-B02C-4FE9-B365-F040FEF250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ימור תלויות - המש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תלות פונקציונלית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נשמר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פרוק אם קיימת תת-סכמה שמכילה את כל האטיביוטים המופיעים ב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ו אם ניתן להסיק א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מתוך תלויות אחרות שנשמרות בפרו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נגדיר תחילה את ה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היטל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של קבוצת תלויות על תת-סכמה - התלויות שהן רלבנטיות לתת-הסכמה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C6D-C3B5-4A5F-8786-1C43E62933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ההיטל ש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הגדרה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: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סכמה רלציונית,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קבוצת תלויות פונקציונליות מע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ותהי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. ההיטל ש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ל תת-הסכמ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סימון: </a:t>
            </a:r>
            <a:r>
              <a:rPr b="0" lang="en-US" sz="3200" spc="-1" strike="noStrike">
                <a:solidFill>
                  <a:srgbClr val="000000"/>
                </a:solidFill>
                <a:latin typeface="Math A"/>
                <a:ea typeface="Math A"/>
              </a:rPr>
              <a:t>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) הוא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Math A"/>
                <a:ea typeface="Math A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יש לשים לב לכך שהתלויות בהיטל נלקחות מתוך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D29-AB9F-42AA-A96D-B4E63DF654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הגדר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גדרה: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סכמה רלציונית, תה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קבוצת תלויות פונקציונליות מע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ויהי 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וא משמר תלויו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y 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הינת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אם לכל קבוצת רלציות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מעל הסכמו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.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התאמה) כך ש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ath B"/>
                <a:ea typeface="Math B"/>
              </a:rPr>
              <a:t>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th A"/>
                <a:ea typeface="Math A"/>
              </a:rPr>
              <a:t>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לכ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1, …, n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מתק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Math B"/>
                <a:ea typeface="Math B"/>
              </a:rPr>
              <a:t>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ath B"/>
                <a:ea typeface="Math B"/>
              </a:rPr>
              <a:t>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7EE-9F79-4A91-9563-B387CE5B63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אלגוריתם לבדיקת שימור תלויו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853128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הינתן סכמ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קבוצת תלויות פונקציונליו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פרו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אלגוריתם הבא בודק אם 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משמר תלויו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f = ( X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) in F do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 C"/>
                <a:ea typeface="Math C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 = 1 to 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C"/>
                <a:ea typeface="Math C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B"/>
                <a:ea typeface="Math B"/>
              </a:rPr>
              <a:t>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(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B"/>
                <a:ea typeface="Math B"/>
              </a:rPr>
              <a:t>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 B"/>
                <a:ea typeface="Math B"/>
              </a:rPr>
              <a:t>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no more changes to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th A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pendency-preserving iff Y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f in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40F-805B-446B-9BEE-9258D4287E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600" y="182520"/>
            <a:ext cx="7313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דוגמ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22636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פרוק {(עיר, קידומת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, (עיר, קידומת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, התל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עי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(טלפון, קידומת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אינה נשמרת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{טלפון, קידומת}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דוגמא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(A, B, C, D),   F = {A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AC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, BC </a:t>
            </a:r>
            <a:r>
              <a:rPr b="0" lang="en-US" sz="2800" spc="-1" strike="noStrike">
                <a:solidFill>
                  <a:srgbClr val="000000"/>
                </a:solidFill>
                <a:latin typeface="Math C"/>
                <a:ea typeface="Math C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Math A"/>
                <a:ea typeface="Math A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, B)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, C, D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אם הפרוק  משמר תלויו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6363- DBMS,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659-C175-4FB9-A630-267677C030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חורף-תשס"ג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20:51:12Z</dcterms:created>
  <dc:creator>ענאן מרעי</dc:creator>
  <dc:description/>
  <dc:language>en-US</dc:language>
  <cp:lastModifiedBy>sananm</cp:lastModifiedBy>
  <dcterms:modified xsi:type="dcterms:W3CDTF">2003-01-02T12:14:23Z</dcterms:modified>
  <cp:revision>9</cp:revision>
  <dc:subject/>
  <dc:title>מצגת של PowerPoint</dc:title>
</cp:coreProperties>
</file>