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7A5-8633-4E00-8798-958A601A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7751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716040" y="4105800"/>
            <a:ext cx="7751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EB84-78E0-444A-A2A6-4E43D6B6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87920" y="200448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16040" y="410580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87920" y="410580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9427-A509-4383-96D1-01B19E79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249588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37200" y="2004480"/>
            <a:ext cx="249588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58000" y="2004480"/>
            <a:ext cx="249588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716040" y="4105800"/>
            <a:ext cx="249588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37200" y="4105800"/>
            <a:ext cx="249588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58000" y="4105800"/>
            <a:ext cx="249588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120-73BD-496D-91B2-EE447C11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6751-9F47-46A5-B780-2F165EA5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16040" y="2004480"/>
            <a:ext cx="775152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B780-BA39-4FC1-9B14-5FF50B46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7751520" cy="40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E537-52A5-4854-86CB-F7990D5D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3782520" cy="40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7920" y="2004480"/>
            <a:ext cx="3782520" cy="40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9254-2607-4B1E-9E1B-22973E03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B0C2-B70B-476B-A45D-FC926314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17480" y="285480"/>
            <a:ext cx="775008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8318-043E-449E-8F47-DBA4DE79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7920" y="2004480"/>
            <a:ext cx="3782520" cy="40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6040" y="410580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7186-0030-4567-935D-B8A3DC2D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716040" y="2004480"/>
            <a:ext cx="775152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A5AE-E13E-43B2-B016-50DAA4BB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3782520" cy="40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7920" y="200448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7920" y="410580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D505-992A-42C1-B5B3-517DFAFF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7920" y="200448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16040" y="4105800"/>
            <a:ext cx="7751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1764-7342-44EA-A236-7BBF7C29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7751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16040" y="4105800"/>
            <a:ext cx="7751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C36C-7C9E-495F-86F4-711085EE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7920" y="200448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16040" y="410580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87920" y="410580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02DF-5016-448F-B82D-AC85326D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249588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37200" y="2004480"/>
            <a:ext cx="249588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58000" y="2004480"/>
            <a:ext cx="249588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16040" y="4105800"/>
            <a:ext cx="249588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37200" y="4105800"/>
            <a:ext cx="249588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958000" y="4105800"/>
            <a:ext cx="249588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A802-15D0-4210-BE3A-E5B389F1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7751520" cy="40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0BE5-4B23-451E-BBDA-167C72A7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3782520" cy="40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7920" y="2004480"/>
            <a:ext cx="3782520" cy="40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3AFB-7E67-401D-AEE7-C5109036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B30-C657-42D8-9890-0D005F98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717480" y="285480"/>
            <a:ext cx="775008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923A-543B-4A4C-AF62-762B800F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7920" y="2004480"/>
            <a:ext cx="3782520" cy="40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16040" y="410580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FFA-B3C9-454A-A336-FB53BA31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3782520" cy="40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920" y="200448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7920" y="410580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D24A-7D19-4168-B0A3-0A086D40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16040" y="200448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7920" y="2004480"/>
            <a:ext cx="3782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16040" y="4105800"/>
            <a:ext cx="77515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3B6-12F4-47CD-B1DA-185EBC25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1"/>
          <p:cNvGrpSpPr/>
          <p:nvPr/>
        </p:nvGrpSpPr>
        <p:grpSpPr>
          <a:xfrm>
            <a:off x="3200400" y="1523520"/>
            <a:ext cx="5714640" cy="381960"/>
            <a:chOff x="3200400" y="1523520"/>
            <a:chExt cx="5714640" cy="381960"/>
          </a:xfrm>
        </p:grpSpPr>
        <p:cxnSp>
          <p:nvCxnSpPr>
            <p:cNvPr id="1" name="Connector3"/>
            <p:cNvCxnSpPr/>
            <p:nvPr/>
          </p:nvCxnSpPr>
          <p:spPr>
            <a:xfrm flipH="1">
              <a:off x="4343040" y="1523520"/>
              <a:ext cx="1143720" cy="1080"/>
            </a:xfrm>
            <a:prstGeom prst="straightConnector1">
              <a:avLst/>
            </a:prstGeom>
            <a:ln w="48240">
              <a:solidFill>
                <a:srgbClr val="000080"/>
              </a:solidFill>
              <a:miter/>
              <a:headEnd len="med" type="diamond" w="med"/>
              <a:tailEnd len="med" type="diamond" w="med"/>
            </a:ln>
          </p:spPr>
        </p:cxnSp>
        <p:cxnSp>
          <p:nvCxnSpPr>
            <p:cNvPr id="2" name="Connector1"/>
            <p:cNvCxnSpPr/>
            <p:nvPr/>
          </p:nvCxnSpPr>
          <p:spPr>
            <a:xfrm flipH="1">
              <a:off x="4343040" y="1777680"/>
              <a:ext cx="1143720" cy="1080"/>
            </a:xfrm>
            <a:prstGeom prst="straightConnector1">
              <a:avLst/>
            </a:prstGeom>
            <a:ln w="48240">
              <a:solidFill>
                <a:srgbClr val="000080"/>
              </a:solidFill>
              <a:miter/>
              <a:headEnd len="med" type="diamond" w="med"/>
              <a:tailEnd len="med" type="diamond" w="med"/>
            </a:ln>
          </p:spPr>
        </p:cxnSp>
        <p:cxnSp>
          <p:nvCxnSpPr>
            <p:cNvPr id="3" name="Connector2"/>
            <p:cNvCxnSpPr/>
            <p:nvPr/>
          </p:nvCxnSpPr>
          <p:spPr>
            <a:xfrm flipH="1">
              <a:off x="5486400" y="1904760"/>
              <a:ext cx="1143000" cy="1080"/>
            </a:xfrm>
            <a:prstGeom prst="straightConnector1">
              <a:avLst/>
            </a:prstGeom>
            <a:ln w="48240">
              <a:solidFill>
                <a:srgbClr val="000080"/>
              </a:solidFill>
              <a:miter/>
              <a:headEnd len="med" type="diamond" w="med"/>
              <a:tailEnd len="med" type="diamond" w="med"/>
            </a:ln>
          </p:spPr>
        </p:cxnSp>
        <p:cxnSp>
          <p:nvCxnSpPr>
            <p:cNvPr id="4" name="Connector4"/>
            <p:cNvCxnSpPr/>
            <p:nvPr/>
          </p:nvCxnSpPr>
          <p:spPr>
            <a:xfrm flipH="1">
              <a:off x="6629400" y="1777680"/>
              <a:ext cx="1143720" cy="1080"/>
            </a:xfrm>
            <a:prstGeom prst="straightConnector1">
              <a:avLst/>
            </a:prstGeom>
            <a:ln w="48240">
              <a:solidFill>
                <a:srgbClr val="000080"/>
              </a:solidFill>
              <a:miter/>
              <a:headEnd len="med" type="diamond" w="med"/>
              <a:tailEnd len="med" type="diamond" w="med"/>
            </a:ln>
          </p:spPr>
        </p:cxnSp>
        <p:cxnSp>
          <p:nvCxnSpPr>
            <p:cNvPr id="5" name="Connector7"/>
            <p:cNvCxnSpPr/>
            <p:nvPr/>
          </p:nvCxnSpPr>
          <p:spPr>
            <a:xfrm flipH="1">
              <a:off x="6629400" y="1523520"/>
              <a:ext cx="1143720" cy="1080"/>
            </a:xfrm>
            <a:prstGeom prst="straightConnector1">
              <a:avLst/>
            </a:prstGeom>
            <a:ln w="48240">
              <a:solidFill>
                <a:srgbClr val="000080"/>
              </a:solidFill>
              <a:miter/>
              <a:headEnd len="med" type="diamond" w="med"/>
              <a:tailEnd len="med" type="diamond" w="med"/>
            </a:ln>
          </p:spPr>
        </p:cxnSp>
        <p:cxnSp>
          <p:nvCxnSpPr>
            <p:cNvPr id="6" name="Connector8"/>
            <p:cNvCxnSpPr/>
            <p:nvPr/>
          </p:nvCxnSpPr>
          <p:spPr>
            <a:xfrm flipH="1">
              <a:off x="7772400" y="1650600"/>
              <a:ext cx="1143000" cy="1080"/>
            </a:xfrm>
            <a:prstGeom prst="straightConnector1">
              <a:avLst/>
            </a:prstGeom>
            <a:ln w="48240">
              <a:solidFill>
                <a:srgbClr val="000080"/>
              </a:solidFill>
              <a:miter/>
              <a:headEnd len="med" type="diamond" w="med"/>
              <a:tailEnd len="med" type="diamond" w="med"/>
            </a:ln>
          </p:spPr>
        </p:cxnSp>
        <p:cxnSp>
          <p:nvCxnSpPr>
            <p:cNvPr id="7" name="Connector5"/>
            <p:cNvCxnSpPr/>
            <p:nvPr/>
          </p:nvCxnSpPr>
          <p:spPr>
            <a:xfrm flipH="1">
              <a:off x="5486400" y="1650600"/>
              <a:ext cx="1143000" cy="1080"/>
            </a:xfrm>
            <a:prstGeom prst="straightConnector1">
              <a:avLst/>
            </a:prstGeom>
            <a:ln w="48240">
              <a:solidFill>
                <a:srgbClr val="000080"/>
              </a:solidFill>
              <a:miter/>
              <a:headEnd len="med" type="diamond" w="med"/>
              <a:tailEnd len="med" type="diamond" w="med"/>
            </a:ln>
          </p:spPr>
        </p:cxnSp>
        <p:cxnSp>
          <p:nvCxnSpPr>
            <p:cNvPr id="8" name="Connector6"/>
            <p:cNvCxnSpPr/>
            <p:nvPr/>
          </p:nvCxnSpPr>
          <p:spPr>
            <a:xfrm flipH="1">
              <a:off x="3200400" y="1650600"/>
              <a:ext cx="1143000" cy="1080"/>
            </a:xfrm>
            <a:prstGeom prst="straightConnector1">
              <a:avLst/>
            </a:prstGeom>
            <a:ln w="48240">
              <a:solidFill>
                <a:srgbClr val="000080"/>
              </a:solidFill>
              <a:miter/>
              <a:headEnd len="med" type="diamond" w="med"/>
              <a:tailEnd len="med" type="diamond" w="med"/>
            </a:ln>
          </p:spPr>
        </p:cxnSp>
      </p:grpSp>
      <p:grpSp>
        <p:nvGrpSpPr>
          <p:cNvPr id="9" name="Group2"/>
          <p:cNvGrpSpPr/>
          <p:nvPr/>
        </p:nvGrpSpPr>
        <p:grpSpPr>
          <a:xfrm>
            <a:off x="180720" y="5943240"/>
            <a:ext cx="2577960" cy="305640"/>
            <a:chOff x="180720" y="5943240"/>
            <a:chExt cx="2577960" cy="305640"/>
          </a:xfrm>
        </p:grpSpPr>
        <p:cxnSp>
          <p:nvCxnSpPr>
            <p:cNvPr id="10" name="Connector12"/>
            <p:cNvCxnSpPr/>
            <p:nvPr/>
          </p:nvCxnSpPr>
          <p:spPr>
            <a:xfrm>
              <a:off x="2041200" y="6096240"/>
              <a:ext cx="717840" cy="216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" name="Connector10"/>
            <p:cNvCxnSpPr/>
            <p:nvPr/>
          </p:nvCxnSpPr>
          <p:spPr>
            <a:xfrm>
              <a:off x="180720" y="6096240"/>
              <a:ext cx="717840" cy="216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" name="Connector11"/>
            <p:cNvCxnSpPr/>
            <p:nvPr/>
          </p:nvCxnSpPr>
          <p:spPr>
            <a:xfrm>
              <a:off x="914040" y="6248160"/>
              <a:ext cx="1114920" cy="108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" name="Connector9"/>
            <p:cNvCxnSpPr/>
            <p:nvPr/>
          </p:nvCxnSpPr>
          <p:spPr>
            <a:xfrm>
              <a:off x="914040" y="5943240"/>
              <a:ext cx="1114920" cy="108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7480" y="285480"/>
            <a:ext cx="775008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Calibri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716040" y="2004480"/>
            <a:ext cx="7751520" cy="402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t">
            <a:normAutofit/>
          </a:bodyPr>
          <a:p>
            <a:pPr marL="343080" indent="-343080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1" marL="343080" indent="-343080"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2" marL="343080" indent="-343080"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3" marL="343080" indent="-343080">
              <a:buClr>
                <a:srgbClr val="0100d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4" marL="2057400" indent="-228600">
              <a:buClr>
                <a:srgbClr val="010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5" marL="2057400" indent="-228600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6" marL="2057400" indent="-228600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716040" y="6314760"/>
            <a:ext cx="186696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013200" y="6314760"/>
            <a:ext cx="330192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745320" y="6314760"/>
            <a:ext cx="172224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fld id="{FA6D62A2-DCD1-48F8-B057-69C94E4E5BA6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2"/>
          <p:cNvGrpSpPr/>
          <p:nvPr/>
        </p:nvGrpSpPr>
        <p:grpSpPr>
          <a:xfrm>
            <a:off x="6200280" y="5790960"/>
            <a:ext cx="2578320" cy="305280"/>
            <a:chOff x="6200280" y="5790960"/>
            <a:chExt cx="2578320" cy="305280"/>
          </a:xfrm>
        </p:grpSpPr>
        <p:cxnSp>
          <p:nvCxnSpPr>
            <p:cNvPr id="56" name="Connector8"/>
            <p:cNvCxnSpPr/>
            <p:nvPr/>
          </p:nvCxnSpPr>
          <p:spPr>
            <a:xfrm>
              <a:off x="8061120" y="5943600"/>
              <a:ext cx="717840" cy="216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7" name="Connector4"/>
            <p:cNvCxnSpPr/>
            <p:nvPr/>
          </p:nvCxnSpPr>
          <p:spPr>
            <a:xfrm>
              <a:off x="6200280" y="5943600"/>
              <a:ext cx="717840" cy="216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8" name="Connector5"/>
            <p:cNvCxnSpPr/>
            <p:nvPr/>
          </p:nvCxnSpPr>
          <p:spPr>
            <a:xfrm>
              <a:off x="6933600" y="6095520"/>
              <a:ext cx="1114920" cy="108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9" name="Connector6"/>
            <p:cNvCxnSpPr/>
            <p:nvPr/>
          </p:nvCxnSpPr>
          <p:spPr>
            <a:xfrm>
              <a:off x="6933600" y="5790960"/>
              <a:ext cx="1114920" cy="108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60" name="Group1"/>
          <p:cNvGrpSpPr/>
          <p:nvPr/>
        </p:nvGrpSpPr>
        <p:grpSpPr>
          <a:xfrm>
            <a:off x="378000" y="3276360"/>
            <a:ext cx="7883280" cy="457920"/>
            <a:chOff x="378000" y="3276360"/>
            <a:chExt cx="7883280" cy="457920"/>
          </a:xfrm>
        </p:grpSpPr>
        <p:cxnSp>
          <p:nvCxnSpPr>
            <p:cNvPr id="61" name="Connector1"/>
            <p:cNvCxnSpPr/>
            <p:nvPr/>
          </p:nvCxnSpPr>
          <p:spPr>
            <a:xfrm>
              <a:off x="2209680" y="3505320"/>
              <a:ext cx="6051960" cy="2160"/>
            </a:xfrm>
            <a:prstGeom prst="straightConnector1">
              <a:avLst/>
            </a:prstGeom>
            <a:ln w="7632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2" name="Connector2"/>
            <p:cNvCxnSpPr/>
            <p:nvPr/>
          </p:nvCxnSpPr>
          <p:spPr>
            <a:xfrm>
              <a:off x="378000" y="3505320"/>
              <a:ext cx="717840" cy="2160"/>
            </a:xfrm>
            <a:prstGeom prst="straightConnector1">
              <a:avLst/>
            </a:prstGeom>
            <a:ln w="7632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3" name="Connector3"/>
            <p:cNvCxnSpPr/>
            <p:nvPr/>
          </p:nvCxnSpPr>
          <p:spPr>
            <a:xfrm>
              <a:off x="1095120" y="3733560"/>
              <a:ext cx="1115280" cy="1080"/>
            </a:xfrm>
            <a:prstGeom prst="straightConnector1">
              <a:avLst/>
            </a:prstGeom>
            <a:ln w="7632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4" name="Connector7"/>
            <p:cNvCxnSpPr/>
            <p:nvPr/>
          </p:nvCxnSpPr>
          <p:spPr>
            <a:xfrm>
              <a:off x="1095120" y="3276360"/>
              <a:ext cx="1115280" cy="1080"/>
            </a:xfrm>
            <a:prstGeom prst="straightConnector1">
              <a:avLst/>
            </a:prstGeom>
            <a:ln w="7632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6040" y="1865160"/>
            <a:ext cx="7751520" cy="129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716040" y="6314760"/>
            <a:ext cx="186696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012840" y="6314760"/>
            <a:ext cx="344484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887880" y="6314760"/>
            <a:ext cx="157932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fld id="{130CF17E-A471-4E28-8491-E34B36AC8F66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3"/>
          <p:cNvGrpSpPr/>
          <p:nvPr/>
        </p:nvGrpSpPr>
        <p:grpSpPr>
          <a:xfrm>
            <a:off x="3200400" y="1065960"/>
            <a:ext cx="5714640" cy="686520"/>
            <a:chOff x="3200400" y="1065960"/>
            <a:chExt cx="5714640" cy="686520"/>
          </a:xfrm>
        </p:grpSpPr>
        <p:cxnSp>
          <p:nvCxnSpPr>
            <p:cNvPr id="70" name="Connector12"/>
            <p:cNvCxnSpPr/>
            <p:nvPr/>
          </p:nvCxnSpPr>
          <p:spPr>
            <a:xfrm flipV="1">
              <a:off x="6629040" y="1751760"/>
              <a:ext cx="1143720" cy="108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1" name="Connector13"/>
            <p:cNvCxnSpPr/>
            <p:nvPr/>
          </p:nvCxnSpPr>
          <p:spPr>
            <a:xfrm flipV="1">
              <a:off x="6629040" y="1294560"/>
              <a:ext cx="1143720" cy="108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2" name="Connector9"/>
            <p:cNvCxnSpPr/>
            <p:nvPr/>
          </p:nvCxnSpPr>
          <p:spPr>
            <a:xfrm flipV="1">
              <a:off x="5486400" y="1065960"/>
              <a:ext cx="1143000" cy="108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Connector10"/>
            <p:cNvCxnSpPr/>
            <p:nvPr/>
          </p:nvCxnSpPr>
          <p:spPr>
            <a:xfrm flipV="1">
              <a:off x="4342680" y="1294560"/>
              <a:ext cx="1143720" cy="108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4" name="Connector11"/>
            <p:cNvCxnSpPr/>
            <p:nvPr/>
          </p:nvCxnSpPr>
          <p:spPr>
            <a:xfrm flipV="1">
              <a:off x="4342680" y="1751760"/>
              <a:ext cx="1143720" cy="108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5" name="Connector14"/>
            <p:cNvCxnSpPr/>
            <p:nvPr/>
          </p:nvCxnSpPr>
          <p:spPr>
            <a:xfrm flipV="1">
              <a:off x="3200400" y="1523160"/>
              <a:ext cx="1143000" cy="108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6" name="Connector15"/>
            <p:cNvCxnSpPr/>
            <p:nvPr/>
          </p:nvCxnSpPr>
          <p:spPr>
            <a:xfrm flipV="1">
              <a:off x="5486400" y="1523160"/>
              <a:ext cx="1143000" cy="108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7" name="Connector16"/>
            <p:cNvCxnSpPr/>
            <p:nvPr/>
          </p:nvCxnSpPr>
          <p:spPr>
            <a:xfrm flipV="1">
              <a:off x="7772400" y="1523160"/>
              <a:ext cx="1143000" cy="1080"/>
            </a:xfrm>
            <a:prstGeom prst="straightConnector1">
              <a:avLst/>
            </a:prstGeom>
            <a:ln w="5724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Erweiterte Textanalyse: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„Preisrätsel für Fortgeschrittene“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Von Tobias Burgard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und Fabian Kosma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Calibri"/>
              </a:rPr>
              <a:t>Gliederung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Allgemeines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1" marL="343080" indent="-343080"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Etymologie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Textanalyse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1" marL="343080" indent="-343080"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Textstruktur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1" marL="343080" indent="-343080"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Kritik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Calibri"/>
              </a:rPr>
              <a:t>Etymologie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Ende 17. Jhd. : grammatische Bezeichnung für Geschlechtswandel von Substantiven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18. Jhd.: Fortschreiten, Weiterschreiten, Vermehrung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~1830: 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progrès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 → Erreichen einer höheren Entwicklungsstufe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Calibri"/>
              </a:rPr>
              <a:t>Textstruktur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sngStrike" u="sng">
                <a:solidFill>
                  <a:srgbClr val="ffffff"/>
                </a:solidFill>
                <a:uFillTx/>
                <a:latin typeface="Calibri"/>
              </a:rPr>
              <a:t>Einleitung</a:t>
            </a:r>
            <a:endParaRPr b="1" i="1" lang="en-US" sz="2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sngStrike" u="sng">
                <a:solidFill>
                  <a:srgbClr val="ffffff"/>
                </a:solidFill>
                <a:uFillTx/>
                <a:latin typeface="Calibri"/>
              </a:rPr>
              <a:t>Erklärung der positiven Konnotation</a:t>
            </a:r>
            <a:endParaRPr b="1" i="1" lang="en-US" sz="2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sngStrike" u="sng">
                <a:solidFill>
                  <a:srgbClr val="ffffff"/>
                </a:solidFill>
                <a:uFillTx/>
                <a:latin typeface="Calibri"/>
              </a:rPr>
              <a:t>Negatives</a:t>
            </a:r>
            <a:endParaRPr b="1" i="1" lang="en-US" sz="2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1" marL="343080" indent="-343080">
              <a:lnSpc>
                <a:spcPct val="80000"/>
              </a:lnSpc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Calibri"/>
              </a:rPr>
              <a:t>3 Beispiele: Folter, Korruption, Postkutsche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sngStrike" u="sng">
                <a:solidFill>
                  <a:srgbClr val="ffffff"/>
                </a:solidFill>
                <a:uFillTx/>
                <a:latin typeface="Calibri"/>
              </a:rPr>
              <a:t>Rückschläge gegen naiver Fortschrittskult</a:t>
            </a:r>
            <a:endParaRPr b="1" i="1" lang="en-US" sz="2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1" marL="343080" indent="-343080">
              <a:lnSpc>
                <a:spcPct val="80000"/>
              </a:lnSpc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Calibri"/>
              </a:rPr>
              <a:t>6 Beispiele, u.a..: 1.WK, Titanic, Ende UdSSR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sngStrike" u="sng">
                <a:solidFill>
                  <a:srgbClr val="ffffff"/>
                </a:solidFill>
                <a:uFillTx/>
                <a:latin typeface="Calibri"/>
              </a:rPr>
              <a:t>Positives</a:t>
            </a:r>
            <a:endParaRPr b="1" i="1" lang="en-US" sz="2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1" marL="343080" indent="-343080">
              <a:lnSpc>
                <a:spcPct val="80000"/>
              </a:lnSpc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Calibri"/>
              </a:rPr>
              <a:t>2 Beispiele: Kinderarbeit, Zahnarzt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sngStrike" u="sng">
                <a:solidFill>
                  <a:srgbClr val="ffffff"/>
                </a:solidFill>
                <a:uFillTx/>
                <a:latin typeface="Calibri"/>
              </a:rPr>
              <a:t>Ist Fortschritt überhaupt gut?</a:t>
            </a:r>
            <a:endParaRPr b="1" i="1" lang="en-US" sz="2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1" marL="343080" indent="-343080">
              <a:lnSpc>
                <a:spcPct val="80000"/>
              </a:lnSpc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Calibri"/>
              </a:rPr>
              <a:t>Beispiel: Naturzerstörung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sngStrike" u="sng">
                <a:solidFill>
                  <a:srgbClr val="ffffff"/>
                </a:solidFill>
                <a:uFillTx/>
                <a:latin typeface="Calibri"/>
              </a:rPr>
              <a:t>Fazit</a:t>
            </a:r>
            <a:endParaRPr b="1" i="1" lang="en-US" sz="2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1" marL="343080" indent="-343080">
              <a:lnSpc>
                <a:spcPct val="80000"/>
              </a:lnSpc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Calibri"/>
              </a:rPr>
              <a:t>Neu = Fortschritt ?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1" marL="343080" indent="-343080">
              <a:lnSpc>
                <a:spcPct val="80000"/>
              </a:lnSpc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Calibri"/>
              </a:rPr>
              <a:t>Kritik an unüberlegter Sprache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Calibri"/>
              </a:rPr>
              <a:t>Kritik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Populistisch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1" marL="343080" indent="-343080">
              <a:lnSpc>
                <a:spcPct val="90000"/>
              </a:lnSpc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Kommunisten-Hass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lvl="1" marL="343080" indent="-343080">
              <a:lnSpc>
                <a:spcPct val="90000"/>
              </a:lnSpc>
              <a:buClr>
                <a:srgbClr val="000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Sehr lange Beschreibung: Zahnarz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	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Wingdings"/>
                <a:ea typeface="Wingdings"/>
              </a:rPr>
              <a:t>→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emotiona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Geht nur auf „Fort–“ ein, nicht auf „–schritt“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Kein richtiges Ergebniss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Wo liegt das Problem?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Wingdings"/>
                <a:ea typeface="Wingdings"/>
              </a:rPr>
              <a:t>→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Calibri"/>
              </a:rPr>
              <a:t>pseudo-wissenschaftlich/-philosophisch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bi</dc:creator>
  <dc:description/>
  <dc:language>en-US</dc:language>
  <cp:lastModifiedBy/>
  <cp:revision>0</cp:revision>
  <dc:subject/>
  <dc:title>Folie 1</dc:title>
</cp:coreProperties>
</file>