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A88-18B9-47EA-84F6-1361600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5EE-F5E0-45EA-8D20-9766ABF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717-488A-4605-A6EE-0BB2520A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C42-F402-43CC-A6FC-9D568D4D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ADE-C8AA-4BCB-BC35-50CE5A76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08D-2B63-4439-A4A7-0A350591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1E5-A417-415D-B974-B90ADEA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61-51A3-44B1-81F7-31BBA347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98E-0DBD-476F-AA5E-02110F58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B08-E33F-40A3-BCB4-84989F0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507-C83F-4442-9830-6412C29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776-DA1B-4D23-9553-66B07DF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639-B56B-4099-A4AF-8294CC954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15400" y="68580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934320" y="99036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066680"/>
            <a:ext cx="21337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a hyper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4:44:06Z</dcterms:created>
  <dc:creator>virtusa</dc:creator>
  <dc:description/>
  <dc:language>en-US</dc:language>
  <cp:lastModifiedBy>virtusa</cp:lastModifiedBy>
  <dcterms:modified xsi:type="dcterms:W3CDTF">2004-12-03T04:44:15Z</dcterms:modified>
  <cp:revision>1</cp:revision>
  <dc:subject/>
  <dc:title>Slide 1</dc:title>
</cp:coreProperties>
</file>