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812-B98F-4134-B201-C36AF097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922-9180-4F16-9172-F5C1298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6A0-F3FD-4173-8BA7-326ACF95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3DB-ACBA-410D-8598-30320E28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CD8-FAEF-4135-9164-0B1A4597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32B-C585-4B97-9E41-57BF1A6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755-F84F-4EF0-9DE1-03909470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EF7-80D5-445E-9236-745BBF32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EAF-9AA5-4A3F-A2EE-866C080B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CF9-117F-4F27-9391-1A1FB090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865-3F53-45E9-A5C1-4380224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746-6DB5-48CE-9521-05F223B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0683-7CD0-492A-9CF3-38C5C60D89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8920" y="184464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ce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 ce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71640" y="2349360"/>
          <a:ext cx="6769080" cy="2709720"/>
        </p:xfrm>
        <a:graphic>
          <a:graphicData uri="http://schemas.openxmlformats.org/drawingml/2006/table">
            <a:tbl>
              <a:tblPr/>
              <a:tblGrid>
                <a:gridCol w="1763640"/>
                <a:gridCol w="2819520"/>
                <a:gridCol w="2185920"/>
              </a:tblGrid>
              <a:tr h="13539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vert="eaVer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ce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ying</cp:lastModifiedBy>
  <dcterms:modified xsi:type="dcterms:W3CDTF">2012-08-02T02:05:44Z</dcterms:modified>
  <cp:revision>9</cp:revision>
  <dc:subject/>
  <dc:title>PowerPoint Presentation</dc:title>
</cp:coreProperties>
</file>