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338-73A8-4566-BC95-C2B389BF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9358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4268160"/>
            <a:ext cx="9358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B27-9E5B-47B7-86F9-828876A6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42681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5200" y="42681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E23-8992-45AF-95F6-096F214E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4400" y="12603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8440" y="12603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42681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4400" y="42681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8440" y="4268160"/>
            <a:ext cx="3013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BF0-5E89-4C15-816D-B23C12A0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260360"/>
            <a:ext cx="93582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5C3-6FB7-47E6-AE5D-A6907A1B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93582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20E-9674-43DB-A986-A38AC93F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85A-BA69-48C5-81C0-3851BE72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E97-4D2D-4782-A5FC-F2006C1C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54000"/>
            <a:ext cx="827892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347-AC10-482D-8A4B-83457124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42681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081-6AF7-4FF3-BD7D-FB7A9E9B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5200" y="42681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8F9-CA10-48A9-936D-D86E788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5200" y="1260360"/>
            <a:ext cx="45666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4268160"/>
            <a:ext cx="93582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A43-7DF2-45EE-A530-B121EC5A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7159680"/>
            <a:ext cx="10069560" cy="399960"/>
          </a:xfrm>
          <a:prstGeom prst="rect">
            <a:avLst/>
          </a:prstGeom>
          <a:solidFill>
            <a:srgbClr val="ccc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000" y="54000"/>
            <a:ext cx="827892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260360"/>
            <a:ext cx="935820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423280" y="7257960"/>
            <a:ext cx="86184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de-DE" sz="1200" spc="-1" strike="noStrike">
                <a:solidFill>
                  <a:srgbClr val="008f48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A108745-1436-457E-B55D-CA5C6C29CAC9}" type="datetime">
              <a:rPr b="0" lang="de-DE" sz="1200" spc="-1" strike="noStrike">
                <a:solidFill>
                  <a:srgbClr val="008f48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79280" y="7257960"/>
            <a:ext cx="43182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8f48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8f4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430920" y="7257960"/>
            <a:ext cx="520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200" spc="-1" strike="noStrike">
                <a:solidFill>
                  <a:srgbClr val="008f48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8FDBF9-FF99-4257-9F72-8D8D3F8DD70C}" type="slidenum">
              <a:rPr b="0" lang="de-DE" sz="1200" spc="-1" strike="noStrike">
                <a:solidFill>
                  <a:srgbClr val="008f4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140360" y="2160720"/>
            <a:ext cx="54003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62120"/>
            <a:ext cx="899172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gend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sgabenentwicklung und Leistungsmanagement im Leistungsbereich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usgründung von Privatkliniken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ssistanceleistungen &amp; Tipps für unsere Kunden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agen zum Leistungsbe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7C0-5551-4530-B5C7-8AA5079A9883}" type="slidenum">
              <a:t>1</a:t>
            </a:fld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7:33:57Z</dcterms:created>
  <dc:creator/>
  <dc:description/>
  <dc:language>en-US</dc:language>
  <cp:lastModifiedBy>Jacqueline Rahemipour</cp:lastModifiedBy>
  <cp:lastPrinted>2009-11-25T13:32:12Z</cp:lastPrinted>
  <dcterms:modified xsi:type="dcterms:W3CDTF">2010-03-17T07:34:13Z</dcterms:modified>
  <cp:revision>147</cp:revision>
  <dc:subject/>
  <dc:title>Folie 1</dc:title>
</cp:coreProperties>
</file>