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82B-2A35-4C98-B853-7243140A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8CD-E4B0-4459-AA0C-712FE86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C6C-D41A-4060-AFB3-25FA76F0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C18-BBD0-4576-B500-35E3C31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C119-3BDF-4433-A9AC-7B2EFFACE6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AA895-42A8-46B8-86F4-84289A7915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D72A5-2FA4-4408-A56B-A3425F4EAB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9AA25-62F4-449E-92CB-F350521E8E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BC56-7D9D-4734-82F7-0B33DEF8E4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42823-222A-42DB-A750-4C7D6A77D1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702A-88D2-4EBA-9403-42A12263B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557-54EF-4279-816B-03B5B4D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E799C-655D-400E-BE57-7EF55989A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42C37-9063-4564-A4D4-523A309B34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9D3A3-6217-49B7-98B1-B9FDBDC8F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FECA6-A290-4340-A95B-E029D1905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CA62A-C6A6-4512-ABD5-867D2DD112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83F-28C0-4883-8B87-CB3BBE0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8DD-E7B5-4CD1-92ED-90DDDA0C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EAF-060F-4386-AB6B-B8AD735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2E1-5ABF-4D92-A2DD-97014D2D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752-5419-452E-8B04-05D52ED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B2B-4EFB-4999-A466-7006B11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1E4-8F4B-4C84-9C62-DECFDA9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3882-00C8-4B5F-9AB5-303A954D5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568760" y="6582960"/>
            <a:ext cx="1905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D49-39D4-45BB-80A2-5F3F7D358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4568760" y="658332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760" y="242640"/>
            <a:ext cx="8882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ern Region Hazardous No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52360" y="1380960"/>
          <a:ext cx="867564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80960"/>
                    <a:ext cx="867564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55:58Z</dcterms:created>
  <dc:creator>IBM_USER</dc:creator>
  <dc:description/>
  <dc:language>en-US</dc:language>
  <cp:lastModifiedBy>IBM_USER</cp:lastModifiedBy>
  <dcterms:modified xsi:type="dcterms:W3CDTF">2012-05-30T02:57:28Z</dcterms:modified>
  <cp:revision>1</cp:revision>
  <dc:subject/>
  <dc:title>Southern Region Hazardous No Bills</dc:title>
</cp:coreProperties>
</file>