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095D-FE62-4999-8F38-50DB7CF3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263-A28C-4E6F-86E0-B6FA862B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AC5-6DB1-4939-88EC-303DBC33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EAB-E2F6-4C90-B57F-F05D877F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A906-3657-47B2-A844-A6905172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B130-E89B-40E2-9163-EBE75E9D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406A-A541-4C59-8750-7C044022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B87F-21C3-4119-8D18-3BAFA556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7518-EB99-43F1-B430-50107E57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73CF-FD89-4A21-929F-20F96F50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5038-C0DD-4F77-8E5B-E8971186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A84-4E6A-43AA-BD28-B3D3B21C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D353-3712-4494-9AEF-9ACC23D3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8B4E-20FD-44E6-844D-FB7E1BC2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CF32-027A-4D2A-B4E4-68C0EC8A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5177-443D-4300-B289-15EE31B5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5CB6-1716-45D0-99B8-02AEAC98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8487-4111-4A18-8826-BDEFF796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73BC-26B0-47D2-A273-D7624C8A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72D-38F7-48B0-92EA-C64AE1FB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6E9-A69A-463D-91CC-BDF1D3C6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437-B96A-4FCF-A0BE-4B9EAB11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CA7A-FF3C-4016-BFBD-4B640063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E16-0350-4D88-9112-06C9ED13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36CF-6DAF-4CB7-85FF-4A5599D8621B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59A0-C207-46E0-B0D5-B249F997E164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507F-4BDF-4DB7-81DC-6E4B88E3DAC9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FD5E-1193-4E61-A882-5FF60E69C6F2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ow Power Modes: HOLD MO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Alma Sobol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0826-6ECE-4E85-B2AC-32C7D457E25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3D53842-E716-4ADC-8EA9-1474DD00ED83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velr</cp:lastModifiedBy>
  <dcterms:modified xsi:type="dcterms:W3CDTF">2004-03-16T11:12:02Z</dcterms:modified>
  <cp:revision>66</cp:revision>
  <dc:subject/>
  <dc:title>PowerPoint Presentation</dc:title>
</cp:coreProperties>
</file>