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7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3367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98840" y="0"/>
            <a:ext cx="3367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555120"/>
            <a:ext cx="336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4398840" y="9555120"/>
            <a:ext cx="336240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2FD51-5852-445F-B741-F2C88AEC48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39884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C9733-7193-4B95-BB3E-6A54665258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5ED4-A121-4C04-9AD4-AF5293124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1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20C4-3E2A-4A62-8071-A46FD2469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7400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14EBA-EDF9-46B4-84C8-A8611FD68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7400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7400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B67D7-6B17-4551-A8E5-1A4CA124EC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6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06A9-14AE-4BB1-ADFA-608802BB9C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FA65-ABC5-4435-8312-49FE7C8C4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8F6CB-DF06-4C21-BF85-D5E7AAFA1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14BF4-12B4-476E-995A-5F1DEBACA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156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6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61B3-CAF3-4F18-A050-0ACA2D41E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EB59-F849-4899-B5B2-DD8263B83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7400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D8C1E-63CA-4430-B989-F85B419A5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1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9B58A-5695-4D6B-BEF9-11C50790F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2062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14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89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080"/>
            <a:ext cx="2337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E4A64-7F9E-48B9-837B-D56E0FDAFE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28800" y="1600200"/>
            <a:ext cx="61722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3280" y="301680"/>
            <a:ext cx="90709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ello World!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3280" y="1768320"/>
            <a:ext cx="907092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follow up tes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6858000"/>
            <a:ext cx="7543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a third tr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5029200"/>
            <a:ext cx="5486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w the fourth item in ro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Hello World!! </dc:title>
</cp:coreProperties>
</file>