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652-423F-4BC3-9F9E-09D2074E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730-BFBF-4CB5-88FB-150E22D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D72-97D2-4445-9280-395C4B18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7DA7-125D-4445-8695-66D052F5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5AC-CF3F-4C88-A563-E2D6BBB0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831-DAAC-4B16-87A7-81A73A07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F87-71A5-4F0F-B64D-252A7B1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B70-BBAA-4A9E-8AC4-1B9B1E5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F41-480D-47DF-BA7D-2EBEEEFA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936-3BE5-45BC-A7DB-604C531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443-FE84-4AE9-BDAC-45B7A68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CA7-2E0A-4B15-8BB1-B93DCAE4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7143-E888-4404-B955-30AED71AD1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21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“…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2004’s hottest group..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-TIME Magazine, Ju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684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“…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it’s a change..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-Pentecostal Herald, Oct.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9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4.9"/>
                                  </p:iterate>
                                  <p:childTnLst>
                                    <p:animScale>
                                      <p:cBhvr>
                                        <p:cTn id="15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2649"/>
                            </p:stCondLst>
                            <p:childTnLst>
                              <p:par>
                                <p:cTn id="22" nodeType="afterEffect" fill="hold" presetClass="exit" presetID="13" presetSubtype="16">
                                  <p:stCondLst>
                                    <p:cond delay="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23" dur="7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684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“…</a:t>
            </a: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out of control..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-New York Times, Augus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99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4.9"/>
                                  </p:iterate>
                                  <p:childTnLst>
                                    <p:animScale>
                                      <p:cBhvr>
                                        <p:cTn id="39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2550"/>
                            </p:stCondLst>
                            <p:childTnLst>
                              <p:par>
                                <p:cTn id="46" nodeType="afterEffect" fill="hold" presetClass="exit" presetID="13" presetSubtype="16">
                                  <p:stCondLst>
                                    <p:cond delay="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7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5790960" cy="553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8880" y="5789880"/>
            <a:ext cx="8526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71158"/>
                </a:solidFill>
                <a:latin typeface="Times New Roman"/>
              </a:rPr>
              <a:t>Revolution Youth Minist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autoRev="1" nodeType="withEffect" fill="remove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3021120"/>
            <a:ext cx="866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present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99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4.9"/>
                                  </p:iterate>
                                  <p:childTnLst>
                                    <p:animScale>
                                      <p:cBhvr>
                                        <p:cTn id="71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2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" dur="149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13" presetSubtype="16">
                                  <p:stCondLst>
                                    <p:cond delay="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7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16160"/>
            <a:ext cx="9144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Arial"/>
              </a:rPr>
              <a:t>the aLtErNaTiVe</a:t>
            </a:r>
            <a:endParaRPr b="1" lang="en-US" sz="8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32100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 youth hang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T_SR</dc:creator>
  <dc:description/>
  <dc:language>en-US</dc:language>
  <cp:lastModifiedBy>ALT_SR</cp:lastModifiedBy>
  <cp:revision>0</cp:revision>
  <dc:subject/>
  <dc:title>Slide 1</dc:title>
</cp:coreProperties>
</file>