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F4F-B54F-4C7C-AE7A-19C7B4C4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FF0-7030-4D61-888A-5DA9E642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664-7601-482B-9C20-D6A388DB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370-8F83-4001-9A90-C72242F7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85CB-2876-464F-99ED-BDAF1C77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345A-827B-4D02-87B7-624F6F7C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8EB0-361E-4ACB-9E7F-08DB7A20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9103-774E-4E87-83E8-91ECF99E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1672-6605-439F-877F-6C78AFAC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1B1A-3DC6-4884-AECF-49D2F56E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7840-C5C0-494D-A6A8-ECB8E8B8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550-303E-4A19-BCD4-5FA3D303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DEAE-5B60-4A42-97CE-5EF26DE0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23DD-58A4-4017-81A6-08139EE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3C84-995D-49F5-B17A-75B2650D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6AFB-5CC9-4FFB-8078-B4A1AB83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EB41-7500-4E03-8B33-72E6ECCA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8282-B7D4-42F9-A18B-A7939322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DFDB1-CC79-48FA-B557-C28C11BB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1F97-4F1E-4209-A720-BF37DD7D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197F-916E-4C8D-BC05-78827F8F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B79A-0264-4EEA-A4C2-A176F2CC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E94-BA2C-4E25-BE56-18F8E782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6E51-1C77-4B62-B224-2CBCED5F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6BB4-8E1D-4002-BE0A-2EE1EA4A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19EB-9AAA-4E9C-B352-79D29C7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5BC5A-03F6-47B2-80D6-AD2427E7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9120-DE32-4722-80C1-3468147D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06D6-1347-4029-92C0-1C7C4599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B80E-516E-4836-ACC3-F2F367FB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82F-E5B3-43DD-B34D-8DA82E67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6D0-D5D5-4DF7-B114-9C23A1E7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CEB-186C-4E40-89FC-6FA1B101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F6D-4062-4BFB-BCA8-202E279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743-57FF-461C-A175-DDE8D4BD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C4B-B905-4F9A-83E5-995FFBF7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1676520"/>
            <a:ext cx="8558280" cy="47574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82600" y="74520"/>
            <a:ext cx="8558280" cy="1465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2B59-C301-4904-85B0-D8468ABBFF5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1BB9-3092-49A4-B967-19CC815884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8ABF-BC51-4DED-B1B4-5765CAD43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4419720"/>
            <a:ext cx="9144000" cy="206532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0" y="4137120"/>
            <a:ext cx="9144000" cy="202248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 flipH="1">
            <a:off x="0" y="5203800"/>
            <a:ext cx="9144000" cy="64764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400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400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1AE1-F137-4B31-BF3D-86F6D8978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24000" y="4437000"/>
            <a:ext cx="54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57:51Z</dcterms:created>
  <dc:creator>Administrator</dc:creator>
  <dc:description/>
  <dc:language>en-US</dc:language>
  <cp:lastModifiedBy/>
  <cp:lastPrinted>1899-12-30T00:00:00Z</cp:lastPrinted>
  <dcterms:modified xsi:type="dcterms:W3CDTF">2010-11-17T09:20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18814329991</vt:lpwstr>
  </property>
</Properties>
</file>