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B51-3F27-4327-998A-994E58ED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C5A-E717-40F4-8B8B-9FB876D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996-1CAD-4706-85C0-EFFCE907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812-18DB-4655-B13D-3702C906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15-CA61-4007-8E34-5831CF6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043-CAD4-4913-A510-00C211B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9A0-5C79-4693-87A6-E3DE0BB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BDD-3F4E-4DA4-AB92-7FA0379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0A0-9E10-4D56-AE19-21B93DF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E8C-4614-4D24-89EC-6885FEE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0E0-6351-48DE-A9E6-3E396F6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A6E-D874-418A-B030-DF164615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B396-D496-4E21-9FD5-086ECE42A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43280" y="1652760"/>
          <a:ext cx="5257800" cy="35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652760"/>
                    <a:ext cx="525780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8:56Z</dcterms:created>
  <dc:creator>semicond</dc:creator>
  <dc:description/>
  <dc:language>en-US</dc:language>
  <cp:lastModifiedBy>semicond</cp:lastModifiedBy>
  <dcterms:modified xsi:type="dcterms:W3CDTF">2010-12-24T08:39:10Z</dcterms:modified>
  <cp:revision>1</cp:revision>
  <dc:subject/>
  <dc:title>Слайд 1</dc:title>
</cp:coreProperties>
</file>