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169-F494-46D9-A675-CF120A6C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8D0-AF5E-4E94-A2FA-E704EF6C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E87-A97A-4F1E-BDB2-7FB10CD6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C3ED-9A80-45AA-BB17-43F9A116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D6E-6B3F-401A-BD61-028C78A6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AF6-1D98-41F4-A539-277E2584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592-60D4-4E87-84AD-2ECEB71C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B9D-526B-49A8-BBC1-4A11A4CD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794-B868-4B94-A28A-2B9926CA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7FD-9F39-4831-9EB6-0E81F11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8E0-03E9-4C24-9A1A-BD328D38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AFA-18EC-4A53-8331-7FE88535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3796-A9B4-4DB9-8C70-56B947F28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3744720" y="-136440"/>
            <a:ext cx="1440000" cy="266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28" y="2450"/>
                  <a:pt x="13655" y="5080"/>
                  <a:pt x="13655" y="10800"/>
                </a:cubicBezTo>
                <a:cubicBezTo>
                  <a:pt x="13655" y="16520"/>
                  <a:pt x="17628" y="1915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テストファイ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8:34:26Z</dcterms:created>
  <dc:creator>NTANABE</dc:creator>
  <dc:description/>
  <dc:language>en-US</dc:language>
  <cp:lastModifiedBy>NTANABE</cp:lastModifiedBy>
  <dcterms:modified xsi:type="dcterms:W3CDTF">2006-09-22T06:10:48Z</dcterms:modified>
  <cp:revision>7</cp:revision>
  <dc:subject/>
  <dc:title>スライド 1</dc:title>
</cp:coreProperties>
</file>