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6CD-C5AB-43EC-895B-E30C45A9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E90-F9FB-4ECE-8136-95762B64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75B-3A2D-4576-82E7-38E43259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E71-E24F-4A78-A48C-CB1919C4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F81C-3FE7-4D5E-8B4D-E295A3BC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3C94-751C-4A65-ABFB-EB3D995D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9F91-9BD9-4228-9255-0B366C2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0EBDE-BE6F-40DF-B2D3-C3EB3B9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1BC1F-8A6F-40CC-9168-98D2155A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CF2B8-9DFE-4578-AEC7-F75E4875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461DC-AE5D-4D23-8E55-CF854760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664-B94C-4116-B947-8E958DE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742F-B742-42C0-BF4E-C378375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C6DAB-DB2C-4F4A-9E65-80E3DDE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AFE9E-6AD3-4282-AFE5-01DCE929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9A40-D3CF-4D4A-B8DB-92865636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8975B-CA20-4B46-8FC4-80A3DADC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7377-34AF-47C8-A306-4E8B556A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3918-2F3B-4FD6-8CD6-18F077A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1FCC-9CBF-4EE6-986D-11B17FE9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224F-7F68-42A0-AEE0-8DAD530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9463-ED2D-4FA2-836A-DE8A54EF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262-A14F-4AB0-8E3B-A1955F47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CC4C-5B9E-48D9-B029-419E699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7364-7709-4EF0-8DFF-FD0F45C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2104-DCB5-4E4A-B86C-7C25ED8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45E5-54AC-475B-BA5F-BB4175C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0E6F-7E06-4723-9282-3FD5275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EE13-7185-4602-93CB-BA36BE91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1792-5988-4165-9FAE-EF3BA115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973-868E-4BAB-98B1-7D49E4B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B48-A01B-43BD-851D-A2A5EEB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2E1-E181-45DE-B303-B855213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5B7-377B-4CAD-BC36-7DE56A3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DDE-3296-4A4E-9F65-FDF920FD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982-EF9B-46A7-906E-F76013D6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14B8C-76EA-426F-96B7-F811AD453BE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5390-FE3C-4C56-A315-3A290569BFAD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03F1-8C94-4A7C-93C6-75EBC39FE709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4149720"/>
            <a:ext cx="392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olli K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4974"/>
                </a:solidFill>
                <a:latin typeface="Arial"/>
              </a:rPr>
              <a:t>Institute of Ecology &amp; Earth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t-EE" sz="1800" spc="-1" strike="noStrike">
                <a:solidFill>
                  <a:srgbClr val="004974"/>
                </a:solidFill>
                <a:latin typeface="Arial"/>
              </a:rPr>
              <a:t>University of Tar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12680" y="858960"/>
            <a:ext cx="782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Ice flow pattern and exten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the last Scandinavian ice she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4974"/>
                </a:solidFill>
                <a:latin typeface="Arial"/>
              </a:rPr>
              <a:t>southeast of the Baltic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sutaja</cp:lastModifiedBy>
  <dcterms:modified xsi:type="dcterms:W3CDTF">2009-09-12T18:32:47Z</dcterms:modified>
  <cp:revision>28</cp:revision>
  <dc:subject/>
  <dc:title>Pealkiri</dc:title>
</cp:coreProperties>
</file>