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EB36-5201-4E4C-BC4B-79C363A4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DEC0-7255-4C8F-B598-4A5A5916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C08B-0F80-4FE6-9931-CFEEF8A9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348B-EE7A-4E2A-B997-5CD78950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9C44-88E1-400E-A3E6-3BAC5FB7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8BAA-C476-43E0-9364-392191F3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715B-5610-426B-96EC-B080E854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449-AB59-4E07-BFA6-672C9A2D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ACD9-7EA9-496A-BB7F-60BF7490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96E9-B205-4B8A-A6D4-16D0B4DF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9734-B6DD-49B7-9A1D-907633A0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DE15-4D2E-488F-8D43-D799E4AF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BC06-6444-4982-A20E-2CE37F74A3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84360" y="836640"/>
          <a:ext cx="3264120" cy="4983120"/>
        </p:xfrm>
        <a:graphic>
          <a:graphicData uri="http://schemas.openxmlformats.org/drawingml/2006/table">
            <a:tbl>
              <a:tblPr/>
              <a:tblGrid>
                <a:gridCol w="1150920"/>
                <a:gridCol w="360360"/>
                <a:gridCol w="182520"/>
                <a:gridCol w="182880"/>
                <a:gridCol w="355320"/>
                <a:gridCol w="289080"/>
                <a:gridCol w="743040"/>
              </a:tblGrid>
              <a:tr h="4874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af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son</cp:lastModifiedBy>
  <dcterms:modified xsi:type="dcterms:W3CDTF">2005-04-14T06:54:52Z</dcterms:modified>
  <cp:revision>6</cp:revision>
  <dc:subject/>
  <dc:title>PowerPoint Presentation</dc:title>
</cp:coreProperties>
</file>