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812E-A3A1-4579-8EC9-F9FD3102A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713A-E533-4B38-ADC3-88BA53F59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C0D-5983-459A-8190-78767F00C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24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300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24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300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27F2-FEBB-47CD-B81D-BF0C145B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375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0565-5F82-4310-837F-6F3ABCA35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124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3000" y="91404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124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3000" y="3736800"/>
            <a:ext cx="25250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F20D-0FD8-479C-B9DF-C70016DE1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6B81-6252-489D-8DE7-E29EDC4F3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E2E7-B974-4B98-BA8A-53E8F340C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375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A5D5-619C-490F-82A0-E18F9977C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3E6E-7273-48C8-98D3-A57420E45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8160" y="373680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6BD6-132C-4026-AE47-145936EAB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8160" y="914040"/>
            <a:ext cx="382680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36800"/>
            <a:ext cx="7842240" cy="25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D09E-4738-43FC-8547-B3D3D62CC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3752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040"/>
            <a:ext cx="7842240" cy="54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80000"/>
            <a:ext cx="1898640" cy="5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B667-7343-4203-BF77-5BD21A0F7C82}" type="slidenum">
              <a:rPr b="0" lang="de-DE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37520" cy="15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63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343080" indent="-343080">
              <a:lnSpc>
                <a:spcPts val="2563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65680" y="1697040"/>
                <a:ext cx="248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,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 out of 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53000" y="3159000"/>
            <a:ext cx="2619360" cy="80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19640" y="2424240"/>
            <a:ext cx="3228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uld render like th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516D-D6E5-47AF-BF4F-87B6EC4AC36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8:47:06Z</dcterms:created>
  <dc:creator/>
  <dc:description/>
  <dc:language>en-US</dc:language>
  <cp:lastModifiedBy/>
  <cp:revision>1</cp:revision>
  <dc:subject/>
  <dc:title>Minimal Example</dc:title>
</cp:coreProperties>
</file>