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E27A-3C3C-43FB-8C6D-89524DBF0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6370-14DF-4AF4-AEBD-C3B32242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9D6B-3BC3-4EBF-B5F0-4295E1C1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FFCD-0377-496B-AB26-20F120EC1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1DFD-9766-46CC-A372-F54C341E8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21C0-D655-402D-AFDF-334BB46B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D352-14B6-47F7-8C03-15F39E96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A78A-45CF-42AD-B773-D3F1C04B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C097-7B00-40F9-A79E-F417F8A0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F568-8A5C-46F5-81CE-A1B44EA4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6E24-0D0D-46E5-9D42-DD258848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257B-4648-43CD-98F3-DF11D637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D9C8-9B78-4C4E-952A-81302A52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4D1C-69D8-4ED0-A377-CDC8D032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C000-503C-4058-AA56-A3599549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9D7D-9D2D-4CB5-B1E5-91B61006E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DDA7-62E2-45FB-A19C-AE4A91A33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B404-FA72-48F4-A119-72FC87B8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098B-4EA8-4517-BD00-9EE40577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7E33-A4F4-46DE-A80F-D6B0E79F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DC39-CCC2-4280-A9EB-73B33711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C92F-3B79-44D3-9EF6-4F0E4A67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ACAA-13DE-419E-8AFB-38BAD2EC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AEF3-0DB7-461F-967F-31568CE3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ffffff"/>
                </a:solidFill>
                <a:latin typeface="Garamond"/>
                <a:ea typeface="Times New Roman (Hebrew)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ffffff"/>
                </a:solidFill>
                <a:latin typeface="Garamond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6A5C-593D-440F-92BA-3E3A951DF89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ffffff"/>
                </a:solidFill>
                <a:latin typeface="Garamond"/>
                <a:ea typeface="Times New Roman (Hebrew)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ffffff"/>
                </a:solidFill>
                <a:latin typeface="Garamond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9BBA-D57F-42EB-BD59-02B3DDDD256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Instrumental Intensity</a:t>
            </a: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001960" y="3270240"/>
          <a:ext cx="5140080" cy="95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01960" y="3270240"/>
                    <a:ext cx="514008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0" y="2906640"/>
          <a:ext cx="9102600" cy="1698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906640"/>
                    <a:ext cx="9102600" cy="16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23:57:18Z</dcterms:created>
  <dc:creator>schultzc</dc:creator>
  <dc:description/>
  <dc:language>en-US</dc:language>
  <cp:lastModifiedBy>ooo</cp:lastModifiedBy>
  <dcterms:modified xsi:type="dcterms:W3CDTF">2007-08-16T06:42:02Z</dcterms:modified>
  <cp:revision>49</cp:revision>
  <dc:subject/>
  <dc:title>The Hospital Response After an Earthquak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