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602-A459-4A0D-B782-45D7DBF5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34E-3A5B-4B1A-9CD1-E7292E9E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FAA-ADFC-4ABB-ADEC-191364B5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1D8-C5C7-4A60-B0F4-50D99C0C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D12-AF3B-43B0-9FDB-E19005CB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E37-3236-4E38-84BC-F44219C5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E58-1937-4D72-970B-EA760EA7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9E6-1563-4AFF-93A2-222A0D82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D79-8928-4042-AE6E-362345F3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20B-9B6B-4116-836A-BA162FA3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25E-37FA-417E-88E5-C1CB5A13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DA4-86FA-462F-86F6-B894B065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4813-D29F-41C4-9E35-01750C1E2C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122480" y="841320"/>
          <a:ext cx="6899040" cy="5175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841320"/>
                    <a:ext cx="689904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5:04:55Z</dcterms:created>
  <dc:creator>Christian Günther</dc:creator>
  <dc:description/>
  <dc:language>en-US</dc:language>
  <cp:lastModifiedBy>Christian Günther</cp:lastModifiedBy>
  <dcterms:modified xsi:type="dcterms:W3CDTF">2005-03-23T15:05:12Z</dcterms:modified>
  <cp:revision>1</cp:revision>
  <dc:subject/>
  <dc:title>Slide 1</dc:title>
</cp:coreProperties>
</file>