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74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74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74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74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74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74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74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088480" y="7077240"/>
            <a:ext cx="1904760" cy="39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93720" y="617040"/>
            <a:ext cx="8607600" cy="17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ทดสอบหัวเรื่อ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736560" y="4401720"/>
            <a:ext cx="8607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cs typeface="MS Gothic"/>
              </a:rPr>
              <a:t>ทดสอบผู้เขีย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หัวข้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74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penOff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74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ชุดโปรแกรมสำนักงาน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enOff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74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โอเพ่นซอร์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74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มีคุณสมบัติครบถ้วนตามการใช้งานทั่วไ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74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ทำงานได้บนหลายระบบปฏิบัติกา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74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ได้รับการพัฒนาอย่างต่อเนื่อ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74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ใช้งานกับไฟล์ของไมโครซอฟต์ออฟฟิศได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74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สนับสนุนมาตรฐานเปิ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