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0BC-1F79-4B25-9222-8401039A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9B4-A0E2-4A28-AE74-D44FE8E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F55-B3B6-4EE6-AE6B-EF65DA78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B9D-DFD1-4C26-8FD8-068D5B82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F74-5294-4A50-AE5B-B4A83F14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836-14F1-4653-80A5-500BD22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116-1075-4F2C-8954-D4EB0DC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631-79EA-4BFA-9FBB-21CC58D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E43-3A55-4688-9A8A-3715ABD1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EA6-21E7-4B22-9858-22B08BF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C55-CCB2-4612-A341-2B96D82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CBB-02F9-4444-A2C6-21AC1AE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EF8-46F9-49F7-868C-BED15C23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cript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124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753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6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147896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3645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4</a:t>
            </a:r>
            <a:r>
              <a:rPr b="0" lang="en-US" sz="3200" spc="-1" strike="noStrike" baseline="-40000">
                <a:solidFill>
                  <a:srgbClr val="000000"/>
                </a:solidFill>
                <a:latin typeface="Arial"/>
              </a:rPr>
              <a:t>56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ge</cp:lastModifiedBy>
  <dcterms:modified xsi:type="dcterms:W3CDTF">2010-09-06T10:31:47Z</dcterms:modified>
  <cp:revision>5</cp:revision>
  <dc:subject/>
  <dc:title>Subscript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