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4520" cy="124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CE71-0D9F-4611-A0EA-FFA8DF24B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363A-8B4E-4CBD-9A74-5CDD7EE3F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BB96-D2EF-4CB7-962F-42EC1EDE2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06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044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06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044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D393-87FE-4EDD-A328-62276D6CB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A9D9-CE46-4DB3-84C4-1AB8F44B4A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31D0-A1C7-4BE2-B40D-8450430492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145D-52E5-4F53-86CF-B507BDAFE7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6A70-3C1C-406D-BE6C-8B44351D7A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D6B3-96BD-4333-8BBD-06EF25D687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440" y="2139840"/>
            <a:ext cx="7746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B57E-1AA1-4F5D-8717-EAC88E508E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657B-B471-48E1-8FCF-E7F2F3A2BB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EFAA-8CA4-4D0E-B5D2-718F9FCA6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1740-6108-4F6A-B586-1FD5FA8802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68E1-0B32-4037-8BAE-54981CF39A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5960-4197-468D-B90C-2DA27EDF6D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9AE1-6BD2-48E5-83FF-98031AFCAD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06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4440" y="160488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06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4440" y="395604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BD84-16A1-4C96-BB25-C34D04407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CD95-A105-44F3-AA7A-F12371588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8F86-A712-44D9-A1DA-C38407E4A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ADCB-93BD-4DB4-A341-88B4515C9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440" y="2139840"/>
            <a:ext cx="7746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993D-F1C1-4185-AF00-168C50C6F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7F35-1379-4946-93B7-7F82249B5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0920" y="395604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FD00-0CC0-4859-B7FC-BD497A5AC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920" y="160488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5604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DB1F-5556-456A-9A33-BBBAF72EF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7640" cy="6856560"/>
            <a:chOff x="0" y="0"/>
            <a:chExt cx="883764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3720" cy="4875120"/>
              <a:chOff x="0" y="0"/>
              <a:chExt cx="5103720" cy="48751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3720" cy="487512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9040" y="420840"/>
                <a:ext cx="4267440" cy="4033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6640" y="841320"/>
                <a:ext cx="3429000" cy="3192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680" y="1258920"/>
                <a:ext cx="2592360" cy="2352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840" y="1596960"/>
                <a:ext cx="192240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4760" cy="3656160"/>
              <a:chOff x="3200400" y="3200400"/>
              <a:chExt cx="3884760" cy="365616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4760" cy="365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7920" y="3514680"/>
                <a:ext cx="3247920" cy="302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6880" y="3830760"/>
                <a:ext cx="2610000" cy="2394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6200" y="4146480"/>
                <a:ext cx="1973160" cy="176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08560" y="4397400"/>
                <a:ext cx="1465200" cy="12603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1960" cy="4113360"/>
              <a:chOff x="4495680" y="152280"/>
              <a:chExt cx="4341960" cy="411336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1960" cy="41133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520"/>
                <a:ext cx="3629160" cy="3403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040" y="861840"/>
                <a:ext cx="2917800" cy="2694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4160" y="1216080"/>
                <a:ext cx="2205000" cy="198432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6760" y="1500120"/>
                <a:ext cx="1636560" cy="1417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468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7520" indent="-31752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7480" indent="-26028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685800" y="6248520"/>
            <a:ext cx="1884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74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7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6AFA6-3DEA-40CE-B567-72ED3D80E91F}" type="slidenum">
              <a:rPr b="1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23760" y="-24120"/>
            <a:ext cx="9166320" cy="6878880"/>
            <a:chOff x="-23760" y="-24120"/>
            <a:chExt cx="9166320" cy="6878880"/>
          </a:xfrm>
        </p:grpSpPr>
        <p:grpSp>
          <p:nvGrpSpPr>
            <p:cNvPr id="61" name=""/>
            <p:cNvGrpSpPr/>
            <p:nvPr/>
          </p:nvGrpSpPr>
          <p:grpSpPr>
            <a:xfrm>
              <a:off x="1440" y="1440"/>
              <a:ext cx="8832960" cy="6853320"/>
              <a:chOff x="1440" y="1440"/>
              <a:chExt cx="8832960" cy="68533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440" y="1440"/>
                <a:ext cx="5102280" cy="4873680"/>
                <a:chOff x="1440" y="1440"/>
                <a:chExt cx="5102280" cy="48736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440" y="1440"/>
                  <a:ext cx="5102280" cy="4873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9040" y="422280"/>
                  <a:ext cx="4265640" cy="40323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6640" y="841320"/>
                  <a:ext cx="3427560" cy="3192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680" y="1260360"/>
                  <a:ext cx="2592360" cy="23529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840" y="1596960"/>
                  <a:ext cx="1922400" cy="16797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2960" cy="3654360"/>
                <a:chOff x="3200400" y="3200400"/>
                <a:chExt cx="3882960" cy="36543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2960" cy="36543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7920" y="3514680"/>
                  <a:ext cx="3246480" cy="302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5440" y="3830760"/>
                  <a:ext cx="2609640" cy="2394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6200" y="4146480"/>
                  <a:ext cx="1973160" cy="1763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08560" y="4397400"/>
                  <a:ext cx="1463760" cy="125892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4240" y="152280"/>
                <a:ext cx="4340160" cy="4111920"/>
                <a:chOff x="4494240" y="152280"/>
                <a:chExt cx="4340160" cy="4111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4240" y="152280"/>
                  <a:ext cx="4340160" cy="411192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49920" y="506520"/>
                  <a:ext cx="3627360" cy="3403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5240" y="861840"/>
                  <a:ext cx="2918160" cy="2694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2720" y="1216080"/>
                  <a:ext cx="2205000" cy="198432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6760" y="1500120"/>
                  <a:ext cx="1635120" cy="1416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23760" y="2438280"/>
              <a:ext cx="256392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316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-24120"/>
              <a:ext cx="380880" cy="5002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139840"/>
            <a:ext cx="7746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884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74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879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62F4F7-BDC7-4F36-91E1-36104C0A5038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17480" indent="-26028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9280" y="179280"/>
          <a:ext cx="8820360" cy="648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9280"/>
                    <a:ext cx="8820360" cy="648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paulorj</dc:creator>
  <dc:description/>
  <dc:language>en-US</dc:language>
  <cp:lastModifiedBy>Pedro Paulo</cp:lastModifiedBy>
  <cp:revision>0</cp:revision>
  <dc:subject/>
  <dc:title>Estrategias de Inovacao da Petrobras</dc:title>
</cp:coreProperties>
</file>