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81B-5387-43C8-B3AF-A9696B2F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916-FC5F-483F-98DC-FFD533F0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EC2-7B35-4C17-B903-E46644B5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45B-C8F2-4BC9-BDD9-9FEF5163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D4B-A0DC-4876-8582-4E3DF764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1E7-7F30-4A9C-9F92-7468913C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BA0-8792-44A8-9D13-0D7B8921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60E-00C1-4F8F-990E-630731C1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B1F-214F-4CBE-BD9E-E3D41011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A32-DD79-4703-BA6F-3B64EFDD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ED5-3C78-401B-B452-D58EDE27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F55-D2AA-48FC-9391-B18B6264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1A02-2601-4EFF-8E59-5ACF77942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9" descr="colombe"/>
          <p:cNvPicPr/>
          <p:nvPr/>
        </p:nvPicPr>
        <p:blipFill>
          <a:blip r:embed="rId1"/>
          <a:stretch/>
        </p:blipFill>
        <p:spPr>
          <a:xfrm flipH="1" rot="21233400">
            <a:off x="6179760" y="3246480"/>
            <a:ext cx="2035080" cy="212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9:55:14Z</dcterms:created>
  <dc:creator>Ученик</dc:creator>
  <dc:description/>
  <dc:language>en-US</dc:language>
  <cp:lastModifiedBy>Ученик</cp:lastModifiedBy>
  <dcterms:modified xsi:type="dcterms:W3CDTF">2011-05-17T11:30:29Z</dcterms:modified>
  <cp:revision>4</cp:revision>
  <dc:subject/>
  <dc:title>Слайд 1</dc:title>
</cp:coreProperties>
</file>