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7673-AE68-4A32-B8D2-CC08A88E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1D57-EFCC-4191-8E90-FE4A4BED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71D8-74D5-4495-BAD3-2BEB20C7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BA47-C2D4-4B1F-AA96-6BF5746C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1CBB-CDDF-41C4-907C-39E28A35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F122-DBFC-4AC7-92A9-13A9F4C4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6141-F193-4B25-9573-A94A5AB2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D62A-1F6E-4E35-A33C-0FE4B1FF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B78F-CCFB-45A0-83E9-9CADAF88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6FEC-1260-4FA5-B2C0-8C88862F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E934-536B-4890-8E64-67257DD4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3D31-1E0A-4A28-B77E-4C887A3F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4A90-B0D9-4D68-A049-389EB00B2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 Orig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png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  Gray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png"/>
          <p:cNvPicPr/>
          <p:nvPr/>
        </p:nvPicPr>
        <p:blipFill>
          <a:blip r:embed="rId1">
            <a:grayscl/>
          </a:blip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10:27:25Z</dcterms:created>
  <dc:creator/>
  <dc:description/>
  <dc:language>en-US</dc:language>
  <cp:lastModifiedBy>svege</cp:lastModifiedBy>
  <dcterms:modified xsi:type="dcterms:W3CDTF">2010-09-06T10:30:00Z</dcterms:modified>
  <cp:revision>2</cp:revision>
  <dc:subject/>
  <dc:title>Picture Original</dc:title>
</cp:coreProperties>
</file>