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B2C-98A6-4FD9-B67F-C4F2B443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866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7920"/>
            <a:ext cx="8866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4B8-7815-4B1C-A1FF-A793BBC4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9E3-FA69-4770-A927-BD9C56B2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83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79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7920"/>
            <a:ext cx="28548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09D-73B2-4FA9-84F2-5A2B02E5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88660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829-3F99-4BC5-97DD-F277EF8C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8660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791-B99D-46D2-BB5A-C6B4C94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CE7-1F02-4210-A32C-0F5383E2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AD1-9208-42AE-9301-7C0FC81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D88-9C10-4BF5-99FA-C8FEBB8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102-979E-443A-8BD4-E85BD7BA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79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D58-D225-4567-95FA-41469AE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8320"/>
            <a:ext cx="4326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8866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841-1CD4-4773-B392-04E30E9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88660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7685F-230F-4D9C-A7F9-3FAB0F70FE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r Field Theory in the Shrödinger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680840"/>
            <a:ext cx="88693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to develop Q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formalism in Heisenberg picture (as we did mostly this semes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ödinger picture using functional methods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ynman path integ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ind the second more intuitive, and it was actually how I first heard QFT describ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6080" y="2925720"/>
            <a:ext cx="9418680" cy="1279440"/>
          </a:xfrm>
          <a:prstGeom prst="ellips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|k,1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12880" y="2185920"/>
                <a:ext cx="90424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∏"/>
                        <m:supHide m:val="1"/>
                      </m:naryPr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)</m:t>
                            </m:r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897200" y="1393920"/>
                <a:ext cx="2033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k1,1&gt; 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φ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206960" y="1447920"/>
            <a:ext cx="36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140000">
            <a:off x="1293840" y="3993840"/>
            <a:ext cx="4479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excited st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68520" y="3106800"/>
            <a:ext cx="1800" cy="552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32280" y="4114800"/>
            <a:ext cx="36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880" y="2011320"/>
            <a:ext cx="3657600" cy="1379520"/>
          </a:xfrm>
          <a:prstGeom prst="ellips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89080" y="5049720"/>
                <a:ext cx="54086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p>
                    </m:sSup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d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turb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ynman diagrams and all the paraphernalia of self-interaction can be derived with an interaction term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λϕ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ood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1520" y="1833120"/>
            <a:ext cx="8867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0000"/>
          </a:bodyPr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n't a very popular approach.  It isn't particularly suited to scattering, and I think there are complexities with Lorentz invariance. (You may have noticed all the t's in my slid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a couple of papers using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erine Freese et al, Covariant Schrödinger Formalism and Application to the Hawking Effect (1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Schrödinger equation approach to high-energy multiparticle scat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M. Cornwall and George Tiktopoulos (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Jose has mentioned a use in Cosmology where a field must transition from a quantum field soon after the Big Bang to a classical field once things cool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e for Advanced Study, Princeton, NJ 08450, U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rodinger picture for Q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change; operators don't, unless they have explicit time-dependence.  (unlike 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re functionals.  (just like OF-- Reall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getting away from functional equations – Schrödinger's equation is a functional differential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(for me) development from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functionals arise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why do I say we have been using them all along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1650600"/>
            <a:ext cx="8869320" cy="55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ctually saw this in a homework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ate 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p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3200" spc="-1" strike="noStrike" baseline="-33000">
                <a:solidFill>
                  <a:srgbClr val="0000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0&gt;  We don't need a functional to describe it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described as a function from p to integers.  Call it 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 a (possibly infinite) superposition of states: Ψ(ϕ), the amplitude for the state represented by ϕ. That is a func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scribe a general state, we need a functional, even in the operator formal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00520" y="361008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descriptions I will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look at things in the “position” domain.  (although “momentum” is not really differe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is a waveform, in our case a scalar fie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ϕ(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It maps points in space and time to a real scalar. (Could be any value, actuall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ϕ corresponds to coordinate position in Q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ψ[ϕ(x)] is the state.  It is a complex function of ϕ.  Sometimes the the x argument is shown, sometimes it i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ition” operator φ is diag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bedspring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big, cheap, quantum 3-dimensional bedspring with evenly spaced spring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s are harmonic oscillators coupled to their neighbo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et the bed's size approach infinity as the spring density also approaches infin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the springs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ϕ; the amplitude for a particular state is ψ(ϕ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869320" cy="24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same Lagrang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zation is same as for OF.  We have canonical momentum opera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 and canonical “position” operator φ.  Both operate on functionals in our “position” re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9080" y="3932280"/>
                <a:ext cx="7128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38480" y="3787920"/>
                <a:ext cx="2270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49360" y="3840120"/>
            <a:ext cx="3565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42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ow that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4720" y="3870360"/>
            <a:ext cx="1646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92560" y="4672080"/>
                <a:ext cx="4367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57200" y="5303880"/>
            <a:ext cx="94186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4560">
              <a:lnSpc>
                <a:spcPct val="93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 and φ are canonically related.  Note how canonical momentum is related to momentum in Q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iltonian and Schrödinger'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2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non-quantized Hamiltonian from Lagrang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t and the differential operator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 in to Schrödinger's equ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200400" y="2103480"/>
                <a:ext cx="50324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12640" y="4114800"/>
                <a:ext cx="7444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φ,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φ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∇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731880" y="5578560"/>
            <a:ext cx="88693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and Annihilation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they were, in term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φ and 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062080" y="6308640"/>
                <a:ext cx="566604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†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δ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3840" y="2390760"/>
                <a:ext cx="496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†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63680" y="3200400"/>
                <a:ext cx="4776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ϕ+i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62080" y="5367240"/>
                <a:ext cx="53056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i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ϕ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δ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193840" y="3843360"/>
            <a:ext cx="4754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but they change a little when we plug in the new expression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|0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09760"/>
            <a:ext cx="88678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omputed from Schrödinger's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ψ(ϕ,t) = ψ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ϕ)exp(-iEt), for energy eigenstat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ψ(ϕ)=  “ψ applied to function whose Fourier xform is 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 state energy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7040" y="2986200"/>
                <a:ext cx="41227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297320"/>
            <a:ext cx="92361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 state wave functional is a product of ground state simple Harmonic Oscillat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727280" y="5548320"/>
                <a:ext cx="7118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φ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</m:e>
                    </m:d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)</m:t>
                            </m:r>
                          </m:e>
                        </m:d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9:09:36Z</dcterms:created>
  <dc:creator/>
  <dc:description/>
  <dc:language>en-US</dc:language>
  <cp:lastModifiedBy/>
  <cp:lastPrinted>2012-05-10T02:19:51Z</cp:lastPrinted>
  <dcterms:modified xsi:type="dcterms:W3CDTF">2012-05-10T03:04:15Z</dcterms:modified>
  <cp:revision>1</cp:revision>
  <dc:subject/>
  <dc:title/>
</cp:coreProperties>
</file>