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92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B2C6-910A-48B9-B0EA-80C342F17B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DE51-68C5-48CF-9B50-596B75D21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88584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EDD7-EEB5-4217-8879-B1046B17E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922968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6D84-52E9-4061-A46B-03FDC9A25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92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BF3-C4B1-4FF5-8C8F-37B469A5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760" y="409500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44A-4B0E-472C-BAF0-63A9D714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B379-20F6-4A27-881A-7169DE33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504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732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76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504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732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F90-8795-47EA-9DC4-38AF627A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FAB7-D685-457B-94CC-319F43DE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9644-26DF-43B5-94EC-0C65EC19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AAD0-D472-4681-8F09-E1713669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0816-3A19-4386-89B7-B8E939EA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BAA8-D6B5-4620-A5C6-8DA24806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3920" y="139680"/>
            <a:ext cx="868032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8888-1C3B-4FE6-98BA-AF765FE4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0EEC-05D5-4FAC-B343-7EC2BB0F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61D-87C8-4359-A6CC-35FA0279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68CB-7EDC-43C6-85DE-59228D8C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FA81-0CB5-4449-9A3B-82C132CF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12760" y="409500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D545-03A8-40B4-9F0A-C4339422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85B8-241C-42F2-AD83-76CFF22B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5504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7320" y="190764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1276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5504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7320" y="4095000"/>
            <a:ext cx="280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2CC8-2735-46BF-B5EF-AA7D4C4D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C1D-864C-4E55-9638-2849D321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634-C8E5-4075-B4C6-E5BDC93F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1DB-A70D-4AB3-A747-0CE7C2D1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3920" y="139680"/>
            <a:ext cx="868032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91D-755E-43B4-9B8C-74E5096C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78F-2AD4-47BA-ACB4-516FD71B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9500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601-ED01-46FF-BF1D-7B3F7DA6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76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907640"/>
            <a:ext cx="42465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760" y="4095000"/>
            <a:ext cx="870264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9AD-C03D-4036-898D-52504AEC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920" y="139680"/>
            <a:ext cx="8680320" cy="16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760" y="1907640"/>
            <a:ext cx="870264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EBAB-5073-4420-9FD2-B80193B15793}" type="datetime5">
              <a:rPr b="0" lang="en-US" sz="1200" spc="-1" strike="noStrike">
                <a:solidFill>
                  <a:srgbClr val="ff9966"/>
                </a:solidFill>
                <a:latin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43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540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3C3A-13DF-4E29-B03A-78F26C6066DB}" type="slidenum">
              <a:rPr b="0" lang="en-US" sz="12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8160" y="639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1D2B-0D9F-4CBD-A283-0572F9BD40EF}" type="datetime5">
              <a:rPr b="0" lang="en-US" sz="1400" spc="-1" strike="noStrike">
                <a:solidFill>
                  <a:srgbClr val="ff9966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14360" y="6392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0540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9DC4-475C-44F7-AA2C-9BAD3D218D9B}" type="slidenum">
              <a:rPr b="0" lang="en-US" sz="12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5800" y="1041480"/>
            <a:ext cx="848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For example, in the degenerate case when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n = 1,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(0,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b) = SKIP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, and the barrier is local, then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3920" y="163440"/>
            <a:ext cx="8680320" cy="78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00"/>
                </a:solidFill>
                <a:latin typeface="Arial Narrow"/>
              </a:rPr>
              <a:t>Barrier Resignatio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306360" y="1987560"/>
            <a:ext cx="37180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ARRIER b: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ourier New"/>
              </a:rPr>
              <a:t>PAR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10000"/>
                </a:solidFill>
                <a:latin typeface="Courier New"/>
              </a:rPr>
              <a:t>i = 0 FOR n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ARRIER 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10000"/>
                </a:solidFill>
                <a:latin typeface="Courier New"/>
              </a:rPr>
              <a:t>P (i,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34800" y="3171960"/>
            <a:ext cx="8440560" cy="368280"/>
            <a:chOff x="334800" y="3171960"/>
            <a:chExt cx="8440560" cy="368280"/>
          </a:xfrm>
        </p:grpSpPr>
        <p:sp>
          <p:nvSpPr>
            <p:cNvPr id="92" name=""/>
            <p:cNvSpPr/>
            <p:nvPr/>
          </p:nvSpPr>
          <p:spPr>
            <a:xfrm>
              <a:off x="1752840" y="3171960"/>
              <a:ext cx="702252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(|{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b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,</a:t>
              </a:r>
              <a:r>
                <a:rPr b="1" lang="en-US" sz="1000" spc="-1" strike="noStrike">
                  <a:solidFill>
                    <a:srgbClr val="ff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on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}| {P(i); S | i = 0..(n-1)}) \ {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on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,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b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4800" y="3230640"/>
              <a:ext cx="964080" cy="256680"/>
            </a:xfrm>
            <a:custGeom>
              <a:avLst/>
              <a:gdLst/>
              <a:ahLst/>
              <a:rect l="l" t="t" r="r" b="b"/>
              <a:pathLst>
                <a:path w="562" h="162">
                  <a:moveTo>
                    <a:pt x="0" y="92"/>
                  </a:moveTo>
                  <a:cubicBezTo>
                    <a:pt x="38" y="46"/>
                    <a:pt x="77" y="0"/>
                    <a:pt x="142" y="10"/>
                  </a:cubicBezTo>
                  <a:cubicBezTo>
                    <a:pt x="207" y="20"/>
                    <a:pt x="322" y="146"/>
                    <a:pt x="392" y="154"/>
                  </a:cubicBezTo>
                  <a:cubicBezTo>
                    <a:pt x="462" y="162"/>
                    <a:pt x="512" y="109"/>
                    <a:pt x="562" y="56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444680" y="3722760"/>
            <a:ext cx="4556160" cy="368280"/>
            <a:chOff x="1444680" y="3722760"/>
            <a:chExt cx="4556160" cy="368280"/>
          </a:xfrm>
        </p:grpSpPr>
        <p:sp>
          <p:nvSpPr>
            <p:cNvPr id="95" name=""/>
            <p:cNvSpPr/>
            <p:nvPr/>
          </p:nvSpPr>
          <p:spPr>
            <a:xfrm>
              <a:off x="1444680" y="3722760"/>
              <a:ext cx="291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52560" y="3722760"/>
              <a:ext cx="414828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(|{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b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,</a:t>
              </a:r>
              <a:r>
                <a:rPr b="1" lang="en-US" sz="1000" spc="-1" strike="noStrike">
                  <a:solidFill>
                    <a:srgbClr val="ff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on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}| {S}) \ {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on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,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b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444680" y="4275000"/>
            <a:ext cx="2579760" cy="368280"/>
            <a:chOff x="1444680" y="4275000"/>
            <a:chExt cx="2579760" cy="368280"/>
          </a:xfrm>
        </p:grpSpPr>
        <p:sp>
          <p:nvSpPr>
            <p:cNvPr id="98" name=""/>
            <p:cNvSpPr/>
            <p:nvPr/>
          </p:nvSpPr>
          <p:spPr>
            <a:xfrm>
              <a:off x="1444680" y="427500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52560" y="4275000"/>
              <a:ext cx="217188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S \ {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on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,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b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444680" y="4826160"/>
            <a:ext cx="6189480" cy="376200"/>
            <a:chOff x="1444680" y="4826160"/>
            <a:chExt cx="6189480" cy="376200"/>
          </a:xfrm>
        </p:grpSpPr>
        <p:sp>
          <p:nvSpPr>
            <p:cNvPr id="101" name=""/>
            <p:cNvSpPr/>
            <p:nvPr/>
          </p:nvSpPr>
          <p:spPr>
            <a:xfrm>
              <a:off x="1852560" y="4826160"/>
              <a:ext cx="57816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((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b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 -&gt; S) [] (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on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 -&gt; SKIP)) \ {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on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,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b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44680" y="483552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444680" y="5378400"/>
            <a:ext cx="2465280" cy="376560"/>
            <a:chOff x="1444680" y="5378400"/>
            <a:chExt cx="2465280" cy="376560"/>
          </a:xfrm>
        </p:grpSpPr>
        <p:sp>
          <p:nvSpPr>
            <p:cNvPr id="104" name=""/>
            <p:cNvSpPr/>
            <p:nvPr/>
          </p:nvSpPr>
          <p:spPr>
            <a:xfrm>
              <a:off x="1852560" y="5378400"/>
              <a:ext cx="205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SPIN |-| SKI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4680" y="538812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024440" y="5378400"/>
            <a:ext cx="4467240" cy="642600"/>
            <a:chOff x="4024440" y="5378400"/>
            <a:chExt cx="4467240" cy="642600"/>
          </a:xfrm>
        </p:grpSpPr>
        <p:sp>
          <p:nvSpPr>
            <p:cNvPr id="107" name=""/>
            <p:cNvSpPr/>
            <p:nvPr/>
          </p:nvSpPr>
          <p:spPr>
            <a:xfrm>
              <a:off x="4024440" y="5378400"/>
              <a:ext cx="97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where: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9840" y="5378400"/>
              <a:ext cx="3471840" cy="64260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SPIN = (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 -&gt; SPIN) \ {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e</a:t>
              </a: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15800" y="5925960"/>
            <a:ext cx="4076640" cy="458280"/>
            <a:chOff x="415800" y="5925960"/>
            <a:chExt cx="4076640" cy="458280"/>
          </a:xfrm>
        </p:grpSpPr>
        <p:sp>
          <p:nvSpPr>
            <p:cNvPr id="110" name=""/>
            <p:cNvSpPr/>
            <p:nvPr/>
          </p:nvSpPr>
          <p:spPr>
            <a:xfrm>
              <a:off x="415800" y="5925960"/>
              <a:ext cx="33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00"/>
                  </a:solidFill>
                  <a:latin typeface="Arial"/>
                </a:rPr>
                <a:t>But we want this to be: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9040" y="5986080"/>
              <a:ext cx="833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SKI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52320" y="5303880"/>
            <a:ext cx="898560" cy="522360"/>
            <a:chOff x="652320" y="5303880"/>
            <a:chExt cx="898560" cy="522360"/>
          </a:xfrm>
        </p:grpSpPr>
        <p:sp>
          <p:nvSpPr>
            <p:cNvPr id="113" name=""/>
            <p:cNvSpPr/>
            <p:nvPr/>
          </p:nvSpPr>
          <p:spPr>
            <a:xfrm>
              <a:off x="839520" y="5303880"/>
              <a:ext cx="522360" cy="522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1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2320" y="5395680"/>
              <a:ext cx="89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10000"/>
                  </a:solidFill>
                  <a:latin typeface="Arial"/>
                </a:rPr>
                <a:t>???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P.H.Wel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3FE-25B0-4D0D-AE4E-18AB558D158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E43DA-C86A-44E5-8028-8267F6DBE58D}" type="datetime5">
              <a:rPr lang="en-US"/>
              <a:t>Jul 29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12:36:37Z</dcterms:created>
  <dc:creator>Peter Welch</dc:creator>
  <dc:description/>
  <dc:language>en-US</dc:language>
  <cp:lastModifiedBy>Christian Günther</cp:lastModifiedBy>
  <cp:lastPrinted>2000-05-05T18:16:33Z</cp:lastPrinted>
  <dcterms:modified xsi:type="dcterms:W3CDTF">2005-11-01T18:55:12Z</dcterms:modified>
  <cp:revision>1318</cp:revision>
  <dc:subject/>
  <dc:title>Mobile Data Types for Communicating Processes</dc:title>
</cp:coreProperties>
</file>