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FE02-A622-44BF-A3B0-EBF2CFFF4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52DE-0DF5-4A95-91E3-12CAACDA8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0E29-7CB8-473D-B95D-8FD0F5771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B762-F232-49B0-B5AD-68E56B042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5A7A-3FC4-4A3C-A212-B7452025F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02D3-9C7C-479D-A5AA-61595D055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DDF1-392F-4A42-B306-36E1D96D5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0B25-21EE-4A6B-B028-26099CE7C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B33A-5DB3-4D56-BCA8-F87F5AC8E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3E37-4123-464B-94C5-07E58ED33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3AFB-25B2-410E-AFCA-DD9180F79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492D-EC7D-40A9-8491-92E4031E2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77177-2F45-403E-84A8-ACEC41D744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rt-As Waterma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3880" y="1395360"/>
          <a:ext cx="609624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95360"/>
                    <a:ext cx="609624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ss</cp:lastModifiedBy>
  <dcterms:modified xsi:type="dcterms:W3CDTF">2010-05-26T06:17:35Z</dcterms:modified>
  <cp:revision>25</cp:revision>
  <dc:subject/>
  <dc:title>PowerPoint Presentation</dc:title>
</cp:coreProperties>
</file>