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69A-4C99-446E-AB55-5911E8F5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712-1E7E-4BF9-8921-5263EE9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77E-59C5-4706-9AF5-E13DACC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DD2-A29D-47F8-B28D-DA9DF703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D51-B2AF-4A59-AE69-DCD4A914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F99-4834-4B1C-A4D8-A6C7B5C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F13-73E8-41CD-9C52-03ED372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0F0-592A-4490-AC9A-3BF7503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AD8-00A3-48F7-B42F-C4E0CD53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86E-E73C-4C24-A350-C86AEDA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B9C-EEA0-4A96-8B07-DE72066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BDD-E4D7-4CE2-9958-4D5C6FC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DD9A-3922-4A36-BF13-B2DCF1E8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4:57Z</dcterms:created>
  <dc:creator>Theo Muys</dc:creator>
  <dc:description/>
  <dc:language>en-US</dc:language>
  <cp:lastModifiedBy>Theo Muys</cp:lastModifiedBy>
  <dcterms:modified xsi:type="dcterms:W3CDTF">2012-04-04T14:05:00Z</dcterms:modified>
  <cp:revision>1</cp:revision>
  <dc:subject/>
  <dc:title>Test</dc:title>
</cp:coreProperties>
</file>