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06A-C820-4BF2-BD17-B70E1BFE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FF4-55CC-4261-ACE0-AFBD535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9C3-8AA5-4975-AFB1-EC2E4923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B81-E41E-4375-9D3A-3B9FFE6F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247-CDFF-4164-A65B-C4993FB5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6A3-2DE2-42CC-BE2A-4880F06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FD-268F-4039-9601-F6A44FB5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1DC-13C2-4D98-8284-3EF893BB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09B-1474-4D88-AE33-0D1386E6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D16-5E6C-4162-83B9-3C0345F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539-6C96-4D12-A090-D78759A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452-0CEE-4278-A779-A4BB94F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875-27B1-4D87-8284-B5E251E25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325440"/>
          <a:ext cx="6318360" cy="6181560"/>
        </p:xfrm>
        <a:graphic>
          <a:graphicData uri="http://schemas.openxmlformats.org/drawingml/2006/table">
            <a:tbl>
              <a:tblPr/>
              <a:tblGrid>
                <a:gridCol w="3270240"/>
                <a:gridCol w="3048120"/>
              </a:tblGrid>
              <a:tr h="618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m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el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a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spcBef>
                          <a:spcPts val="1100"/>
                        </a:spcBef>
                        <a:spcAft>
                          <a:spcPts val="1650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ildr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ie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m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s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hot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50000"/>
                        </a:lnSpc>
                        <a:spcBef>
                          <a:spcPts val="1100"/>
                        </a:spcBef>
                        <a:spcAft>
                          <a:spcPts val="1100"/>
                        </a:spcAft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c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c5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34240" y="0"/>
            <a:ext cx="2309760" cy="2044800"/>
          </a:xfrm>
          <a:prstGeom prst="wedgeRoundRectCallout">
            <a:avLst>
              <a:gd name="adj1" fmla="val -43060"/>
              <a:gd name="adj2" fmla="val 73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ase: FFC252FFCSD_Paragraph_LineSpacing_Table0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: Table &amp; Lin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: Paragraph’s line space setting in two colum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0:41:55Z</dcterms:created>
  <dc:creator>renyuxia</dc:creator>
  <dc:description/>
  <dc:language>en-US</dc:language>
  <cp:lastModifiedBy>renyuxia</cp:lastModifiedBy>
  <dcterms:modified xsi:type="dcterms:W3CDTF">2005-04-30T00:47:36Z</dcterms:modified>
  <cp:revision>3</cp:revision>
  <dc:subject/>
  <dc:title>Slide 1</dc:title>
</cp:coreProperties>
</file>