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29B2-5FEA-4E23-B260-3D30959C2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5A45-9D84-474E-A94A-74CBB6B3D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32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32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88480" y="304560"/>
            <a:ext cx="758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388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82320" y="159984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388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82320" y="3868560"/>
            <a:ext cx="2426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8480" y="304560"/>
            <a:ext cx="758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7880" y="386856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7880" y="1599840"/>
            <a:ext cx="3678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537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3004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22860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1722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0" descr="Oracle WHITE"/>
          <p:cNvPicPr/>
          <p:nvPr/>
        </p:nvPicPr>
        <p:blipFill>
          <a:blip r:embed="rId2"/>
          <a:stretch/>
        </p:blipFill>
        <p:spPr>
          <a:xfrm>
            <a:off x="7620120" y="6226200"/>
            <a:ext cx="947520" cy="1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52280" y="6553080"/>
            <a:ext cx="88394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440" y="1599840"/>
            <a:ext cx="753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2860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3004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228600">
              <a:spcBef>
                <a:spcPts val="601"/>
              </a:spcBef>
              <a:buClr>
                <a:srgbClr val="fd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88480" y="304560"/>
            <a:ext cx="758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37:07Z</dcterms:created>
  <dc:creator/>
  <dc:description/>
  <dc:language>en-US</dc:language>
  <cp:lastModifiedBy/>
  <dcterms:modified xsi:type="dcterms:W3CDTF">2009-08-28T08:53:07Z</dcterms:modified>
  <cp:revision>1</cp:revision>
  <dc:subject/>
  <dc:title/>
</cp:coreProperties>
</file>