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893C-4612-44CB-B6D1-92EE59BD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1E92-7F86-4984-AA80-C6BF5F6B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874F-3D32-4881-A705-4EDA68C6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ED12-3E24-43AD-8A53-A3E8783D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DC41-74A1-4CE4-AACF-1F43C45C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A779-17D5-45CD-85A8-BA803A4F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424F-355B-4E7D-A045-1FD757BE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6E6E-03DD-4B01-AB66-E7146A67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EB73-ED3E-46A7-8844-BEC07D78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6645-4769-40B4-981B-5A43AEA0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851C-7E9D-449D-81CF-D8F9B898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C512-1579-4E9F-AB00-F373BE6F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522C-81A9-4F40-85F4-71CD21B00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1280" y="1600200"/>
            <a:ext cx="521028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57600" y="2362320"/>
            <a:ext cx="990720" cy="2960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0" y="2514600"/>
            <a:ext cx="9907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Garamond"/>
              </a:rPr>
              <a:t>Services and suppor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Garamond"/>
              </a:rPr>
              <a:t>for persons with an intellectual disability  and their famil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Garamond"/>
              </a:rPr>
              <a:t>Community Living Suppo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Garamond"/>
              </a:rPr>
              <a:t>Supported Employ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Garamond"/>
              </a:rPr>
              <a:t>Community Op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Garamond"/>
              </a:rPr>
              <a:t>W.J. Griffis Children’s Cen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Garamond"/>
              </a:rPr>
              <a:t>Monty Parks Cen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24280" y="160020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187956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5228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Unicode MS"/>
              </a:rPr>
              <a:t>Please run this ad on Saturday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65640" y="804960"/>
            <a:ext cx="260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84760" y="380880"/>
            <a:ext cx="268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51240" y="563400"/>
            <a:ext cx="260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657600" y="1676520"/>
            <a:ext cx="990720" cy="519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0" y="5272200"/>
            <a:ext cx="434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800" spc="-1" strike="noStrike">
                <a:solidFill>
                  <a:srgbClr val="000000"/>
                </a:solidFill>
                <a:latin typeface="Arial"/>
              </a:rPr>
              <a:t>We thank all candidates, however, only those selected for an interview will be contact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6304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Job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1T17:49:42Z</dcterms:created>
  <dc:creator>Computer User3</dc:creator>
  <dc:description/>
  <dc:language>en-US</dc:language>
  <cp:lastModifiedBy>smirowski</cp:lastModifiedBy>
  <dcterms:modified xsi:type="dcterms:W3CDTF">2005-10-13T13:16:40Z</dcterms:modified>
  <cp:revision>95</cp:revision>
  <dc:subject/>
  <dc:title>PowerPoint Presentation</dc:title>
</cp:coreProperties>
</file>