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696160" y="0"/>
            <a:ext cx="44784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400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ECAA-4D5D-45A5-885E-A19B03FEF93D}" type="slidenum">
              <a:rPr b="0" lang="zh-TW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152280"/>
            <a:ext cx="57913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  <a:ea typeface="新細明體"/>
              </a:rPr>
              <a:t>Functional Gram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  <a:ea typeface="新細明體"/>
              </a:rPr>
              <a:t>Project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3520" y="2057400"/>
            <a:ext cx="7010280" cy="34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omparing texts from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a functional perspectiv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04:17:37Z</dcterms:created>
  <dc:creator>ddd</dc:creator>
  <dc:description/>
  <dc:language>en-US</dc:language>
  <cp:lastModifiedBy>USER</cp:lastModifiedBy>
  <dcterms:modified xsi:type="dcterms:W3CDTF">2005-04-05T11:33:32Z</dcterms:modified>
  <cp:revision>32</cp:revision>
  <dc:subject/>
  <dc:title>ddd</dc:title>
</cp:coreProperties>
</file>