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939960" y="76176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5"/>
          </p:nvPr>
        </p:nvSpPr>
        <p:spPr>
          <a:xfrm>
            <a:off x="-360" y="937260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6"/>
          </p:nvPr>
        </p:nvSpPr>
        <p:spPr>
          <a:xfrm>
            <a:off x="3885840" y="937260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6BC3-17F9-48DC-A884-105B50605A2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39960" y="762120"/>
            <a:ext cx="4978080" cy="37335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’architettura dell’EPSS JUMP prevede la creazione di un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Sistema di Raccomandazione Centralizzato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che sia in grado di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comunicare con sistemi informativi tradizionali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(ERP, HRMS, DMS, LMS, …) e generici gestori di informazioni strutturate e/o destrutturate, sulla base di una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ontologia condivisa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che rappresenti semanticamente le informazioni accessibili e le renda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utilizzabili in modo personalizzato e contestualizzato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9960" y="762120"/>
            <a:ext cx="4978080" cy="37335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Al fine di rendere possibile la comunicazione tra il Sistema di Raccomandazione Centralizzato e i sistemi informativi periferici è necessario che tutte le parti possano scambiarsi informazioni, senza limiti dovuti a differenze nei modelli utilizzati dai singoli sistemi per descrivere la conoscenza di cui essi sono in possess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Per questo motivo verranno studiati, progettati e realizzati dei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moduli software in grado di esprimere e pubblicare la conoscenza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custodita da ciascun sistema informativo attraverso </a:t>
            </a:r>
            <a:r>
              <a:rPr b="1" i="1" lang="it-IT" sz="1000" spc="-1" strike="noStrike">
                <a:solidFill>
                  <a:srgbClr val="000000"/>
                </a:solidFill>
                <a:latin typeface="Times New Roman"/>
              </a:rPr>
              <a:t>frammenti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it-IT" sz="1000" spc="-1" strike="noStrike">
                <a:solidFill>
                  <a:srgbClr val="000000"/>
                </a:solidFill>
                <a:latin typeface="Times New Roman"/>
              </a:rPr>
              <a:t>ontologici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specifici. Tale descrizione verrà realizzata attraverso l’uso di specifici linguaggi di formalizzazione come lo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RDF (Resource Description Framework) e l'OWL (Web Ontology Language)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, in linea con le raccomandazioni del consorzio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W3C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All'interno di ognuno dei sistemi informativi periferici, l'ontologia utilizzata deve essere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sufficiente ad esprimere il comportamento del sistema e a descrivere le entità da esso trattate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. L’uso di una formalizzazione ontologica standard consente di superare eventuali ostacoli allo scambio di informazioni, dovuti al fatto che nei sistemi informativi tradizionali la conoscenza è presente in forma poco strutturata o addirittura codificata nelle procedure del sistem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L’EPSS JUMP disporrà di vari frammenti ontologici relativi ai diversi contesti applicativi, a partire dai quali sarà possibile, attraverso una specifica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attività di ricerca nell’ambito dell’integrazione di ontologie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, costruire una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ontologia condivisa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che costituirà la </a:t>
            </a: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lingua franca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per la descrizione dei domini applicativi coperti dal complesso dei sistemi informativi (OR4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Tale obiettivo rappresenta l’obiettivo OR4 di cui UNIBA è teamLeader all’interno di JUMP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39960" y="762120"/>
            <a:ext cx="4978080" cy="37335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Il processo di distribuzione della conoscenza mediante l’approccio just-in-time ipotizzato all’interno di JUMP ha inizio con il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riconoscimento dell’utente destinatario delle raccomandazioni e del contesto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in cui si colloca il suo bisogno informativ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L’EPSS JUMP, il cui intervento può essere richiesto in modo volontario o innescato automaticamente,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raccoglie tali informazioni e seleziona tra queste le caratteristiche cui applicare le regole di inferenza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e generare così l’insieme di raccomandazioni idonee per quello specifico soggetto nel contesto in cui sta operand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Le raccomandazioni generate dal SRC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comprendono concetti appartenenti all’ontologia condivisa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, e potrebbero identificare entità informative generiche, in quanto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la descrizione ontologica potrebbe non raggiungere un livello di dettaglio sufficiente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a causa della notevole variabilità delle entità informative stesse e della loro elevata molteplicità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Tale obiettivo rappresenta l’obiettivo OR5 di cui UNIBA è teamLeader all’interno di JUM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Inoltre, ciascun sistema informativo potrà dunque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raffinare e personalizzare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ulteriormente la richiesta pervenutagli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utilizzando le logiche associative che gli sono proprie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e/o “navigando” il frammento ontologico di propria pertinenza. Ad esempio, un ERP utilizzerà connessioni di tipo relazionale, essendo le informazioni da esso gestite legate da relazioni logiche rigorose; un sistema di Document Management potrà invece utilizzare logiche basate su keywords o su nessi di tipo semantico individuati in opportune ontologie di dominio; un sistema di Learning Management potrà utilizzare le informazioni relative alla frequenza dei corsi da parte del soggetto richiedente e/o all’efficacia di questi registrata da altri utenti (OR6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73520"/>
            <a:ext cx="8229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73520"/>
            <a:ext cx="40158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73520"/>
            <a:ext cx="40158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2649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483920"/>
            <a:ext cx="2649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483920"/>
            <a:ext cx="2649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73520"/>
            <a:ext cx="2649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73520"/>
            <a:ext cx="2649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73520"/>
            <a:ext cx="2649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5E16-CF74-46B3-91E5-B18992C25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F96C-0C5B-4678-AC93-C893DCE7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701A-E23F-479E-96CF-DC6AB43A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85BA-C823-4A73-9E93-035A9833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8523-177A-49E1-AF8C-EF834490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347400"/>
            <a:ext cx="8229600" cy="42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C763-13C5-4FCB-B0EF-CCE3AD14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3520"/>
            <a:ext cx="40158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3FA4-4702-4819-A883-58279BC6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773520"/>
            <a:ext cx="40158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D58F-7020-468D-BDD1-A6B9D673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773520"/>
            <a:ext cx="8229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BFE0-B914-48D0-B78B-26074212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773520"/>
            <a:ext cx="8229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D4B8-B6CF-4B97-9FF5-DDD8FB4F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773520"/>
            <a:ext cx="40158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773520"/>
            <a:ext cx="40158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71A2-51EC-4838-998B-3658B0457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2649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483920"/>
            <a:ext cx="2649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483920"/>
            <a:ext cx="2649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773520"/>
            <a:ext cx="2649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773520"/>
            <a:ext cx="2649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773520"/>
            <a:ext cx="2649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0833-3390-477E-A6B6-2C6891D97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347400"/>
            <a:ext cx="8229600" cy="42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73520"/>
            <a:ext cx="40158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73520"/>
            <a:ext cx="40158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158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83920"/>
            <a:ext cx="40158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73520"/>
            <a:ext cx="82296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395280" y="6308640"/>
            <a:ext cx="856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539640" y="6381720"/>
            <a:ext cx="820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MP – UNIBA: kickoff meeting – 5 maggio 2006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fld id="{5D6C7231-995B-433D-8359-7E2E1B194593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FD52-A59C-4C00-AAEE-3D688B9ED1F7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600" y="1828800"/>
            <a:ext cx="64771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800" spc="-1" strike="noStrike">
                <a:solidFill>
                  <a:srgbClr val="ffffff"/>
                </a:solidFill>
                <a:latin typeface="Arial"/>
              </a:rPr>
              <a:t>JUMP</a:t>
            </a:r>
            <a:br>
              <a:rPr sz="3800"/>
            </a:br>
            <a:r>
              <a:rPr b="1" i="1" lang="it-IT" sz="2800" spc="-1" strike="noStrike">
                <a:solidFill>
                  <a:srgbClr val="ffffff"/>
                </a:solidFill>
                <a:latin typeface="Arial"/>
              </a:rPr>
              <a:t>Just-in-Time Performance Support System per organizzazioni dinami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042560" y="4266720"/>
            <a:ext cx="810108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ipartimento di Informa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Università degli Studi di B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5 Maggio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920" y="347400"/>
            <a:ext cx="86868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istema di Raccomandazione Centralizz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640908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Ontologia condivisa (OR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34876" t="22112" r="8133" b="22091"/>
          <a:stretch/>
        </p:blipFill>
        <p:spPr>
          <a:xfrm>
            <a:off x="1619280" y="1022400"/>
            <a:ext cx="56894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accomandazioni personalizzate (OR5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63480" y="1104840"/>
            <a:ext cx="76536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riana</cp:lastModifiedBy>
  <dcterms:modified xsi:type="dcterms:W3CDTF">2006-04-27T15:33:17Z</dcterms:modified>
  <cp:revision>63</cp:revision>
  <dc:subject/>
  <dc:title>PowerPoint Presentation</dc:title>
</cp:coreProperties>
</file>