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2C69-AF17-42D3-8326-9500A988B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E71C-1AE3-4770-9EAB-8A002B80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A23A-B875-4E45-B864-7FA1B8944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1B7F-D237-4DC8-A7EC-515205047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5571-ED62-41B3-99C4-A9B4A8C14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B840-1CC2-4CD2-861E-BBBCCD12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A2CC-52F8-46DD-96A6-962A75CA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7634-D1B0-472A-B278-8BA41787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57BD-0F61-47A7-AA71-E6678159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8CC5-E35E-4965-B2D5-CD164125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D128-B416-470B-AE3A-68F6B22C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AEF0-663F-4506-8366-5BC30BBA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770A-0E41-4F0F-BF09-A5336075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652D-86D1-439F-B620-AFED2FFA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ACF3-5E45-45B6-8ADB-7656564F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BC85-5788-463E-9A60-F6FFAFA65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4F9F-CF23-462C-AA14-4910AE064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0CBA-64D4-40F5-AA00-EA05637C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85C0-486E-4AA3-9DC9-14E58C85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43EF-73CA-499D-A6E6-09A89D9E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4C9A-EE26-4924-8E4A-D4915BDE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A661-7DD3-40C7-AAB4-18C3EA56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3B7C-1E06-47E6-A877-6AD4240C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F81C-4E33-46E0-938D-CA883677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BE0C-D780-4C55-B939-29794005D3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FBAE-A024-4700-9D94-27F73628E2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Handling of IE Favorite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ony Tova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ynopsis from Mozilla bug 56765, 7/29/02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umma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ternet Explorer (IE) uses a different system than Mozilla for filing bookmarks, aka “Favorites”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t is confusing for users, even technically proficient ones, to understand how Mozilla interacts with IE’s “Favorites”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8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urrent situation (1 of 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verting from IE to Mozilla is “simple”, i.e., there are no decisions asked of user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verting from IE to Mozilla is not “easy”, i.e., users must manually export from IE (to HTML) then import in Mozill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1028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urrent situation (2 of 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xisting Favorites are accessible from Mozilla but are not updated if IE is still being used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“Imported IE Favorites” bookmark folder is confusing because it is a one-time import but is not labeled as such.  It is also confusing because they are not ‘normal’ bookmarks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oals (1 of 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ke conversion and co-existence as simple and easy as possibl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version is one-time transfer where all Favorites become usable Bookmark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-existence allows Mozilla and IE, and Favorites and Bookmarks, to be used interchangeabl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oals (2 of 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mple” implies that the end-user is not presented with any questions that can’t be automatically answered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asy” implies that the steps required of the end-user are clear and consisten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uggestions (1 of 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uring installation, present the end-user with a clear and simple choice between Conversion and Co-existence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r co-existence, implement IE’s .LNK system in Mozilla.  This would allow Mozilla (on Windows) to share IE’s Favorites directly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uggestions (2 of 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lternatively, for co-existence, provide an automatic method of accessing up-to-date copies of the IE Favorites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18:10:31Z</dcterms:created>
  <dc:creator>Antony R. Tovar</dc:creator>
  <dc:description/>
  <dc:language>en-US</dc:language>
  <cp:lastModifiedBy>Antony R. Tovar</cp:lastModifiedBy>
  <dcterms:modified xsi:type="dcterms:W3CDTF">2002-07-29T18:31:56Z</dcterms:modified>
  <cp:revision>3</cp:revision>
  <dc:subject/>
  <dc:title>Handling of IE Favorites</dc:title>
</cp:coreProperties>
</file>