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AC8-4666-4AEE-9C25-D7405AB6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CFB-C40D-4B3C-98A3-ABC0EFA8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A16-A275-4061-A59F-388CB5CD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14E-4E58-4435-A393-EE0E3A5E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0F6-F96A-4390-9876-4C04B55C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A48-50A4-4CC6-83B4-010C99E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748-4CE2-4D8E-B004-C2D78E55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6B5-E6D5-4109-BB5C-C9B8CA3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1B2-1C3C-4FC2-A06E-43F200E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C87-A51A-49C9-A672-71E5C889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EB3-7CE7-4FAE-ACAD-FE61630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C18-5C93-4965-ABC3-ABABDF08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F97-ED40-4EEA-8CF9-D26EBC14E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9907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3505320"/>
            <a:ext cx="2057400" cy="14475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2590920"/>
            <a:ext cx="1523880" cy="2057400"/>
          </a:xfrm>
          <a:custGeom>
            <a:avLst/>
            <a:gdLst>
              <a:gd name="textAreaLeft" fmla="*/ 380880 w 1523880"/>
              <a:gd name="textAreaRight" fmla="*/ 1143000 w 1523880"/>
              <a:gd name="textAreaTop" fmla="*/ 0 h 2057400"/>
              <a:gd name="textAreaBottom" fmla="*/ 1800360 h 2057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@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9-18T04:54:11Z</dcterms:modified>
  <cp:revision>3</cp:revision>
  <dc:subject/>
  <dc:title>PowerPoint Presentation</dc:title>
</cp:coreProperties>
</file>