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077-DAFC-4E6F-A3CC-6E0EBEC5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8B8-828D-46F4-A032-DC4DE190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FB2-CFD4-4E69-A8F1-64342180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61F-BBD4-4149-B331-718045EA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68F-9550-49BF-ABC0-BB175D1A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423-61F1-4F2C-8F14-0A6AF8BC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9C8-61FB-40D1-B90E-7DB8D56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617-FFD4-48C6-A4C5-714F4E32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686-85B0-4424-894F-38CFD4CD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C4D-0AF1-43E5-8734-D1A69245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C9A-2A2A-4A30-9C36-EAB39F88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025-0AAD-4FA3-B0AE-C610D748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476760"/>
            <a:ext cx="365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ECF8-288F-47B6-B3B7-170E94BBA8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python-3000@python.or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ython 3000</a:t>
            </a:r>
            <a:br>
              <a:rPr sz="3600"/>
            </a:b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CCU Conference / Oxford, UK / April 19, 2006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o van Rossu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ido@python.or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ido@google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7080" y="5105520"/>
            <a:ext cx="1954440" cy="80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36760" y="5105520"/>
            <a:ext cx="267804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asic Cleanup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classic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ptions must derive from BaseEx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/int will return a fl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e last differences between int and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olute import by defa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sys.exc_type and friends (exc_info() stay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dict.has_key(), file.xreadlines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apply(), input(), buffer(), coerce(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ancient library mod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5D4-4036-4E52-A5C0-14275BEFB1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inor Syntactic Chang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c becomes a function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`x` in favor of repr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except clause syntax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pt E1, E2, E3 as er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avoids the bug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pt E1, E2: # meant except (E1, E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f(x) for x in S] becomes syntactic sugar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(f(x) for x in S) # a generator 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tle changes in need for parenthe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no longer leaks into surrounding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 raise E, arg in favor of raise E(a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C92-FB92-495B-B44E-A938C67887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ange() Becomes xrange(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ge() will no longer return a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4_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 won’t return an iterator ei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return an “iterator well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t’s just what xrange() is, any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range() doesn’t support long values y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’ll fix that :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 of this as similar to dict views (see lat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464-C9DB-4B8A-9666-A89CFCB770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zip() Becomes izip(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’s what it should’ve been all a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zip() was introduced in Python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didn’t have it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’s no need for zip() to be a “view”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9% use case is parallel it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ilar to enumera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71A-4014-4FA3-99E7-42EE3D1A15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ambda Lives!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 year, I said I wanted lambda to d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I was open to a bett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still don’t have a better ver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pite a year of try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lambda liv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’s stop wasting time looking for altern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’s as good as it gets; trust m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D85-4F8C-408B-AC98-AB11893C62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tring Types Refor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tes and str instead of str and uni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tes is a mutable array of int (in range(256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de/decode API? bytes(s, "Latin-1"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tes have some str-ish methods (e.g. b1.find(b2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not others (e.g. not b.upper(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data is either binary or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text data is represented as Uni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sions happen at I/O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APIs for binary and text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establish file encoding? (Platform decid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589-6106-4B41-AA5C-9946CEE2DE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ew Standard I/O Stack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stdio has too many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know how many bytes are buff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fter read unsafe (libc doesn’t promise safe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ws “text” mode nightm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newlines hacked in (for input on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tes/str gives an opportunity to fix all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 from Java streams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ckable components: buffering, encoding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sandbox/sio/sio.py for an early proto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87B-A08F-4DBC-A889-CB31F9BE18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int Becomes a Func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 x, y, x becomes print(x, y,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 &gt;&gt;f, x, y, z becomes print(x, y, z, file=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(s?) to skip the space/new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f(format, x, y, z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raw(x, y, z)? or print(x, y, z, raw=True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not f.print(x, y, z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that requires support in every fil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change at al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-as-statement is a barrier to evolution of your program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the language (see link in PEP 31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D1F-6F3F-42FC-BCAE-64695BA3B1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ct Views Instead of Lis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ct.keys() currently returns a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t’s expensive if dict is l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 we introduced dict.iterkeys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07960" indent="-2008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t now the API becomes too lar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al (affects dicts only!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ct.keys() and dict.items() will return a set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ct.values() will return a bag (multiset)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view is a wrapper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delete from but not add to a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ifies the dict according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ing over a view creates a new iterator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F88-26A5-4A7C-B33C-CDFBA4A30E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rop Default Inequaliti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fault implementations of &lt;, &lt;=, &gt;, &gt;= aren’t very useful (compare by address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se raise TypeError inst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B: the default implementations of ==, != should remain (comparing identity is useful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6EA-90D5-4757-BEDE-333BE478A6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alk Overview</a:t>
            </a:r>
            <a:r>
              <a:rPr b="1" lang="en-US" sz="36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3000 Philoso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3000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3000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5B2-9E73-4D96-9C98-400417303C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ic/Overloaded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ngle callable with multiple implemen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a registry indexed by call sig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e. tuple(type(X) for X in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maps to an implementation for thos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atches on type of all arguments at onc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olvable) complications: inheri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decorator for registration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n replace adaptation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the protocol object an overloaded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ll adapt(X, P) / P.adapt(X) as P(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7A2-4043-4378-9166-9F6CD8DBC3E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ot Question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ython 3000 Philosoph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design a whole new languag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 early design bugs (many from 1990-1991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incompatible changes; within rea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rid of deprecated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8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ally when that creates incompat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int divi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what’s the best feature going for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B: Python 3000 = Python 3.0 = Py3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1BF-B0FE-4AB9-B739-DA8ADE8CAF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ython 3000 Proces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out some amount of process we’re los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 many proposals competing fo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want to become the next Perl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process/meta-ques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hould we aim to release Python 3000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long will we maintain 2.x and 3.x side by si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ctly how incompatible is Py3k allowed to b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ill we migrate 2.x code to 3.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nything competely off the ta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merge 3.0 features back into 2.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049-B298-419A-9064-9A255AC734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lease Schedu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alpha: not before next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release: probably a year after t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release 3.1, 3.2 relatively soon af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2.x and 3.x to be developed in parall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want users holding breath waiting for 3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good support while 3.0 m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6: certainly (expected before 3.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7: likely; may contain some 3.0 back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9 is as far as we’ll go (running out of digits :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9F5-9300-4E90-B2CC-014966E110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Incompatible Can It Be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keywords allow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ct.keys(), range(), zip() won’t return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lling dict.iterkeys(), xrange(), itertools.izi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trings Unicode; mutable ‘bytes’ data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nary file I/O re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op &lt;&gt; as alias for !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not (for example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ct.keys instead of dict.key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meaning of else-clause on for/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operator prior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692-B812-4F43-9EF9-B166895AD4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to Migrate Code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do perfect mechanical trans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proposed changes are semantic, not syntac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xample, in “f(x.keys())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x a dic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es f() expect its argument to be a lis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swers may be guessed by e.g. pychec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t can’t always be decided with certain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likely approac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pychecker-like tool to do an 80+% j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n instrumented version of Python 2.x that warns about doomed code (e.g. d.keys().sort(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041-3FA6-41AC-AB3E-36738EB2F1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ve Is Right Out”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PEP 3099 (and from “The Holy Grail” :-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ython 3000 will no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programmable syntax / macros /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syntax for parallel iteration (use zip(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hash, keys etc. to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iterating over a dict to yield key-value pai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 we shouldn’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look and feel of the language too mu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gratuitous or confusing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radical new features (can always do that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5AA-16FE-4C02-8D5C-7B359A1394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ython 3000 Featu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atching just the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 things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8_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been decided for cert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 PEP 3100 for a much larger laundry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python.org/dev/peps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lis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ython-3000@python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 up at python.org/mailman/list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 my blog: artima.com/weblog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6 Python Software Found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DE1-2A17-492A-9029-4F4A29840D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21:48:00Z</dcterms:created>
  <dc:creator>mac admin</dc:creator>
  <dc:description/>
  <dc:language>en-US</dc:language>
  <cp:lastModifiedBy>Guido van Rossum</cp:lastModifiedBy>
  <dcterms:modified xsi:type="dcterms:W3CDTF">2006-04-19T09:39:17Z</dcterms:modified>
  <cp:revision>199</cp:revision>
  <dc:subject/>
  <dc:title>State of the Python Union</dc:title>
</cp:coreProperties>
</file>