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E3A-344C-480B-8203-FB9169C1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827-6AD8-4556-A524-18C37315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0B0-EA10-43A1-ADD1-0C630D79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9A1-E059-46DA-98B4-449D1FD3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D55-7442-4819-9449-09E46530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74B-233A-4771-A2C9-6E41D1C9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C23-215D-4825-9AA7-EEEBC1A3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105-0804-463B-837C-2BD12188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774-6BBD-45C7-90A9-3790F002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34C-3A81-452A-AA00-8483F5B8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942-7951-4B65-9851-17C1DF3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A3D-7C0D-46CC-8BE7-D718A229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702BB-D138-40C5-91A2-5ACA86D6D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79560" y="809640"/>
            <a:ext cx="6819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 mushroom cloud – nuclear expl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1800" y="430200"/>
            <a:ext cx="201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8:56:04Z</dcterms:created>
  <dc:creator>Dave Neary</dc:creator>
  <dc:description/>
  <dc:language>en-US</dc:language>
  <cp:lastModifiedBy>Dave Neary</cp:lastModifiedBy>
  <dcterms:modified xsi:type="dcterms:W3CDTF">2011-10-28T08:58:24Z</dcterms:modified>
  <cp:revision>1</cp:revision>
  <dc:subject/>
  <dc:title/>
</cp:coreProperties>
</file>