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484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EAE2-CA5A-4E54-BCC9-01F0ADF0B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6313-14C6-4F3D-897D-6593A5841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7C07-AC36-441A-BCFF-8150D5BD0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332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332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B9B2-1644-4B50-96FA-F98FBBFA2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6551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0454-0E9D-4671-8242-2C8E97A4D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420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3320" y="1398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420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3320" y="37620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0ADA-2AEB-44FD-80DC-BE0FBD430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8EE9-EEAD-4EA7-8D8E-803BFF5E6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8C34-0D0D-404E-B531-CA5CC27B7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655164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6983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E4AD-C835-4BE5-B7A3-58E7B54F7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24E3-A4F8-4210-9456-A95ACDDC2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5520" y="37620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9EBB-E219-4A64-9E5B-131E8C500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5520" y="1398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7620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B159-FDA6-4737-A4B4-C339F7F48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986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64753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302240" y="6248160"/>
            <a:ext cx="22842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lie </a:t>
            </a:r>
            <a:fld id="{07C258DE-25B3-4BFF-8A0E-BADA03C9CCE5}" type="slidenum"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1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8316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10480" y="252360"/>
            <a:ext cx="107964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aab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6095880"/>
          <a:ext cx="16570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95880"/>
                    <a:ext cx="16570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2120" y="1687680"/>
            <a:ext cx="183960" cy="396720"/>
          </a:xfrm>
          <a:prstGeom prst="rect">
            <a:avLst/>
          </a:prstGeom>
          <a:solidFill>
            <a:srgbClr val="698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918800"/>
            <a:ext cx="4341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8316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20840" y="1620720"/>
            <a:ext cx="4938480" cy="21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ug einer Rente wegen Incapacidad permanen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ra la profesión habitual ab 1.9.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43 Abs. 4 Ziffer 1 SGB V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ängerung des 5-Jahreszeitraums vom 15.5.2000 bis 14.5.2010 um den Rentenbezugszeitrau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r Zeitrau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15.8.1999 – 14.5.2010: 0 KM mit By-Ze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52280"/>
            <a:ext cx="6553080" cy="914400"/>
          </a:xfrm>
          <a:prstGeom prst="rect">
            <a:avLst/>
          </a:prstGeom>
          <a:solidFill>
            <a:srgbClr val="aab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83163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83163"/>
                </a:solidFill>
                <a:latin typeface="Arial"/>
              </a:rPr>
              <a:t>Verlängerungstatbeständ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160" y="262584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83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787B-E37F-4704-A0B9-8C9145A398B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8316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398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ug von Arbeitslosengeld / -hilfe in Span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9.7.1997 – 28.1.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9.6.2001 – 6.9.2004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43 Abs. 4 Nr. 1 i.V.m. Artikel 5 Buchstabe b) VO E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3163"/>
              </a:buClr>
              <a:buFont typeface="Wingdings" charset="2"/>
              <a:buChar char="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ängerung um insgesamt 70 Monate 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15.10.1993 – 14.5.2010: 40 KM By-Z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6553080" cy="914400"/>
          </a:xfrm>
          <a:prstGeom prst="rect">
            <a:avLst/>
          </a:prstGeom>
          <a:solidFill>
            <a:srgbClr val="aab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83163"/>
                </a:solidFill>
                <a:latin typeface="Arial"/>
              </a:rPr>
              <a:t>Verlängerungstatbest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8CDA-C801-4CCE-8A33-E4B66980EABF}" type="slidenum">
              <a:t>2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1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30:32Z</dcterms:created>
  <dc:creator/>
  <dc:description/>
  <dc:language>en-US</dc:language>
  <cp:lastModifiedBy/>
  <dcterms:modified xsi:type="dcterms:W3CDTF">2011-03-22T14:57:11Z</dcterms:modified>
  <cp:revision>48</cp:revision>
  <dc:subject/>
  <dc:title>Besonderheiten im Auslandsrentenrecht</dc:title>
</cp:coreProperties>
</file>