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A16C-4C26-489F-A97A-8734568C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017-DCA8-4DC3-9421-E51CEEAC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332E-0A5C-4F88-9167-6EF369B8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76FA-BB59-42D4-8684-B0BC7BBF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A0C6-0A60-4D87-8860-3802B528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53AE-63D9-491D-B4FB-2AD66322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7714-0623-4AE9-B218-CB0B68CE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3E2A-D5FF-43BC-BE88-2E2391E4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5BA0-42D0-4753-81BE-A345ED57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B2BB-290C-4C04-BC7E-36E9C0C7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6C47-0A4E-4AB9-BCCA-9C6ACD49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4AE1-3AB3-44A0-9B39-2C258182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8A2D-A559-454D-87E7-6B483BE6E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tage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et Primaire Proces</a:t>
            </a:r>
            <a:br>
              <a:rPr sz="5400"/>
            </a:br>
            <a:br>
              <a:rPr sz="5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al medische sec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erasmusmc_rgb_NL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9051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plaats BMG aanb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MG aanbod voornamelijk regio Rotterd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geven op SSC na hoorcollege 27 sept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G-pakketjes ophalen en verder contact instell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 1 ok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erasmusmc_rgb_NL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9051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e en vrag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Informatie over stag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Hoorcollege: dinsdag 27 september 15.00 u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Vrag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Praktisch/ organisatoris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tudie Service Centrum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w vdr Schee van Driel (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4-074, tel 010-408854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ani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ë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  Opbroek (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4-074, tel 010-408857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Inhoudelij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Dr. J.A.M.Harmsen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L4-012, tel 010 – 4088721/ ma &amp; w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erasmusmc_rgb_NL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9051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t primaire proces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latie tuss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ulp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verlene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en hulp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vr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erasmusmc_rgb_NL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9051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elstelling st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ennismak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 de praktij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doen van eni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aktijkerv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flecti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 eigen rol in toekom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ennismaken met profession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 hun we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de z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erasmusmc_rgb_NL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9051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elang en wanneer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stage duurt </a:t>
            </a: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8 dag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(64 uur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n maandag t/m vrijdag overda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i.o.m. instell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eek 47 en 4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21 november tm 2 december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rie ECTS: (3 X 28 uur aan studiepun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erasmusmc_rgb_NL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9051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or wi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Verplich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voor iedere 1e jaarsstuden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ònder ‘</a:t>
            </a: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all round’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praktijkerv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erasmusmc_rgb_NL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9051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rijstell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 iedereen 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mèt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afgaande ‘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all round’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praktijkerv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Times New Roman"/>
              </a:rPr>
              <a:t>Aanvraag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hiervoor </a:t>
            </a:r>
            <a:r>
              <a:rPr b="1" i="1" lang="nl-NL" sz="2800" spc="-1" strike="noStrike">
                <a:solidFill>
                  <a:srgbClr val="000000"/>
                </a:solidFill>
                <a:latin typeface="Times New Roman"/>
              </a:rPr>
              <a:t>schriftelijk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ij Bureau Studiezake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ij de studieadvis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leveren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vóór 30 september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a.s.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erasmusmc_rgb_NL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9051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ar stage lop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ezondheidszorginstelling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algemeen ziekenhu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verpleeghu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revalidatie-cen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psychiatrisch ziekenhu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poliklini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erasmusmc_rgb_NL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9051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elen stagepla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ee mogelijkhed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MG-aanb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elf 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rasmusmc_rgb_NL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9051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plaats Zelfzo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Zelf zoeken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(b.v. in je eigen regio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lijst met instellingen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die binnen BMG aanbod vallen.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Hierin niet zelf zoeken. Check dit bij SS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èlf het contact met de instelling leggen, vanaf week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(11 tm 17 september), informeren naar mogelijkhe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zoek om goedkeuring zelfzoek stageplaats week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(25 september- 1 okto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oestemming over zelfzoek stageplaats week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(9-15 okto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elfzoekpakketje ophalen en verder contact inst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erasmusmc_rgb_NL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9051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4T19:28:47Z</dcterms:created>
  <dc:creator>L. Hennink</dc:creator>
  <dc:description/>
  <dc:language>en-US</dc:language>
  <cp:lastModifiedBy>j.harmsen</cp:lastModifiedBy>
  <cp:lastPrinted>2002-09-18T10:09:50Z</cp:lastPrinted>
  <dcterms:modified xsi:type="dcterms:W3CDTF">2005-09-06T09:12:09Z</dcterms:modified>
  <cp:revision>25</cp:revision>
  <dc:subject/>
  <dc:title>Stage  Het Primaire Proces  Sociaal medische sectie</dc:title>
</cp:coreProperties>
</file>