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85D5AE-2FF0-4512-B978-3AFE6071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251000" y="7645320"/>
            <a:ext cx="9283680" cy="88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251000" y="1460520"/>
            <a:ext cx="9283680" cy="699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-641520" y="3137040"/>
            <a:ext cx="7277040" cy="38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JCI 20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JCI Structure INF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ctr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412920" y="17654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JCI 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525600" y="2849400"/>
            <a:ext cx="769320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JCI worldw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2004 President Fernando Sanchez-Arias, 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2005 President Kevin Cullinane,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200.000 members, 110 countries, 6.000 local chapters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Secretary General Edson Kodam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Headquarter in St. Lo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Area A - Africa &amp; The Middle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Area B - Asia &amp; Pa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Area C - The Ame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ea D -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2004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Executive Vice President Henry Loo Chin M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2005 Executive Vice President Dominique Döttlin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17 Vice Presidents, 5 assigned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41292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www.jci.cc - </a:t>
            </a: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565200" y="2832120"/>
            <a:ext cx="76802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  <a:ea typeface="Arial"/>
              </a:rPr>
              <a:t>Area D - Europe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 37 Na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Growth &amp; Development Director </a:t>
            </a:r>
            <a:r>
              <a:rPr b="1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Zsolt Feher</a:t>
            </a:r>
            <a:r>
              <a:rPr b="0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, Budapest: </a:t>
            </a:r>
            <a:r>
              <a:rPr b="1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zfeher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8ae"/>
                </a:solidFill>
                <a:latin typeface="Arial"/>
                <a:ea typeface="Arial"/>
              </a:rPr>
              <a:t>2004 EVP Henry LOO, Mauritius: hloo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EVP Dominique Döttling, Germany: ddoettling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2004 VP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Petra Gregorits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, Austria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pgregorits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Yiannis Lagos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, Greece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ylagos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  <a:ea typeface="Arial"/>
              </a:rPr>
              <a:t>assigned to JCI Germany, Hungary, Luxembourg, Andorra, Catalonia, France, Mona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Henry BERTEL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, Austria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hbertel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  <a:ea typeface="Arial"/>
              </a:rPr>
              <a:t>assigned to JCI Iceland, Norway, Sweden, Finland, Latvia,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Kjersti Bergsaker-Aspoy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, Norway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kbergsaker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  <a:ea typeface="Arial"/>
              </a:rPr>
              <a:t>assigned to JCI Austria (amongst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Peta Clark, Australia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pclark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2005 VP Ilse Augstkalne, Latvia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augstkalne@jci.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41292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JCI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“One year to lead”-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647640" y="2825640"/>
            <a:ext cx="711036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Chapter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Local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St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National Board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National Presi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Vic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Executive Vic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Executive Committe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JCI World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71748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876240" y="2901960"/>
            <a:ext cx="7655040" cy="58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Area President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Development Counci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4 Area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World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General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2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60th JCI World Congress Vienna 2005, 24.-29.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78ae"/>
                </a:solidFill>
                <a:uFillTx/>
                <a:latin typeface="Arial"/>
                <a:ea typeface="Arial"/>
              </a:rPr>
              <a:t>www.jci-vienna2005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717480" y="1765440"/>
            <a:ext cx="7086600" cy="17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</a:t>
            </a: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AUSTRIA = JWÖ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876240" y="2901960"/>
            <a:ext cx="765504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Junge Wirtschaft Österreich: 26.000 Mitgli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JCI Austria: 1.800 Mitglieder</a:t>
            </a: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mit internationalem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ezirksvorsitzender = Chapter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Landesvorsitzender = St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undesvorsitzender/Nationalpräsident = National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National President 2005 </a:t>
            </a: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Peter Lehner</a:t>
            </a: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Stellvertreter = Executive Vice P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75000"/>
              </a:lnSpc>
            </a:pPr>
            <a:r>
              <a:rPr b="0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IEO = International Executive Officer, Mitglied des L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184320" y="1765440"/>
            <a:ext cx="6858000" cy="10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0078ae"/>
                </a:solidFill>
                <a:latin typeface="Arial"/>
                <a:ea typeface="Arial"/>
              </a:rPr>
              <a:t>GOALS 20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749160" y="3029040"/>
            <a:ext cx="77058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BR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184320" y="1765440"/>
            <a:ext cx="6858000" cy="108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0078ae"/>
                </a:solidFill>
                <a:latin typeface="Arial"/>
                <a:ea typeface="Arial"/>
              </a:rPr>
              <a:t>GOALS 20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749160" y="3029040"/>
            <a:ext cx="77058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MEMB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78ae"/>
                </a:solidFill>
                <a:latin typeface="Arial"/>
                <a:ea typeface="Arial"/>
              </a:rPr>
              <a:t>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36600" y="176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Vision, Mission,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79440" y="2941560"/>
            <a:ext cx="77058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VALUES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: Faith, Brotherhood, Justice, Free Entreprise, Human Talent,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MISSION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: To contribute to the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advancement of the global community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 by providing the opportunity for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young people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 to develop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leadership skills, social responsibility, entrepreneurship and fellowship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necessary to create positive change</a:t>
            </a:r>
            <a:r>
              <a:rPr b="0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36600" y="176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What is J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525600" y="2975040"/>
            <a:ext cx="7693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JCI is a worldwide federation of young leaders and entrepren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We create better societies by creating intercultural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For this, we provide the environment for young people to meet, learn and g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200.000 active members, 1 million alum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6.000 communities, 100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36600" y="176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What is J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25600" y="2975040"/>
            <a:ext cx="76932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8ae"/>
                </a:solidFill>
                <a:latin typeface="Arial"/>
                <a:ea typeface="Arial"/>
              </a:rPr>
              <a:t>JCI gives the confidence to reach inside yourself and achieve more than you would have thought you were capable of as a busines, social and political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The best and biggest NETWORK of young Leaders and Entrepren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78ae"/>
                </a:solidFill>
                <a:latin typeface="Arial"/>
                <a:ea typeface="Arial"/>
              </a:rPr>
              <a:t>www.jci.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412920" y="176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Slo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525600" y="3127320"/>
            <a:ext cx="76932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„</a:t>
            </a: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Entrepreneurs in ACTION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I am a leader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PASSION for ACTI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412920" y="176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Areas of opport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525600" y="3127320"/>
            <a:ext cx="769320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78ae"/>
                </a:solidFill>
                <a:latin typeface="Arial"/>
                <a:ea typeface="Arial"/>
              </a:rPr>
              <a:t>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All projects done in these 4 ar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565200" y="7709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73080" y="7709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412920" y="26035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412920" y="176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000" spc="-1" strike="noStrike">
                <a:solidFill>
                  <a:srgbClr val="0000ff"/>
                </a:solidFill>
                <a:latin typeface="MS Mincho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78ae"/>
                </a:solidFill>
                <a:latin typeface="Arial"/>
                <a:ea typeface="Arial"/>
              </a:rPr>
              <a:t>JCI Flagship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525600" y="3127320"/>
            <a:ext cx="7693200" cy="28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Best Business Pla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78ae"/>
                </a:solidFill>
                <a:latin typeface="Arial"/>
                <a:ea typeface="Arial"/>
              </a:rPr>
              <a:t>TOYP - The outstanding young persons of the yea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