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47A-325D-45C7-B8DA-C9E3EC36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BDD-1C72-4969-8B5F-BD0CD4A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F02-4FCF-457C-9804-7D1AFD1D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B52-D2E2-44A5-9E74-E919AB5F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E3C-086E-4895-970F-FEC8DEBB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8AD-4F96-4A27-AEF5-2E7E040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8E5-9234-4491-BEBF-FED99C7A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9F0-93E4-4F4C-9659-3FBB8CC5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B24-0CF9-4670-B4F4-D5A210C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D38-EC2E-426B-A1D7-EF4C79C5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CEB-D2C9-4363-A9BB-162BC47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65D-EE23-483B-BBA9-F9B14AA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CCE-EE86-49E8-AE57-85CF2396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o to the 1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Go to the 2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d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Go to the 3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rd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Go to the 4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th</a:t>
            </a:r>
            <a:r>
              <a:rPr b="0" lang="en-GB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82640" y="244008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to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77280" y="40971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to the Titl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urn to the titl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 to the las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0" y="2781360"/>
            <a:ext cx="15811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4th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urn to the titl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0:42:32Z</dcterms:created>
  <dc:creator>Viesis</dc:creator>
  <dc:description/>
  <dc:language>en-US</dc:language>
  <cp:lastModifiedBy>Viesis</cp:lastModifiedBy>
  <dcterms:modified xsi:type="dcterms:W3CDTF">2013-06-13T11:04:00Z</dcterms:modified>
  <cp:revision>3</cp:revision>
  <dc:subject/>
  <dc:title>Title page</dc:title>
</cp:coreProperties>
</file>