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ADB-B6E2-4825-9DA9-EC631D35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61C-A1FE-4BE3-8B52-C4EBFAF3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077-4597-4F18-AF0E-991FA3C4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5A8-CFA3-417A-9D14-C866939B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9B2-7D00-45D8-AC0B-B3E69EEB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503-CC73-4FC7-8A67-86CC797B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F67-E48E-4C19-9C6E-B3AC6970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A2E-9CA0-4237-83EC-1601A6E1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4C2-B55A-49EB-BF78-DEEABB8B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E07-5FD1-4140-BDB1-25745857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45F-73C6-44A9-AF6A-AECD0CE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542-F3C2-488F-8936-F4D95AFA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A30E-0976-4026-A040-102644AAC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7924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                                                    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אתג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אוטונומי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מיומנות                        קידו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עמיתים                      הדרכה                הכר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ממונה                                                  </a:t>
            </a:r>
            <a:r>
              <a:rPr b="0" lang="he-IL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שכ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תנאים-פיזי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הטבו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ביטחו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זמן                   מקו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14479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6765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4267080"/>
            <a:ext cx="30492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3124080"/>
            <a:ext cx="30456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3623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666880"/>
            <a:ext cx="30456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133720"/>
            <a:ext cx="30456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53341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5943600"/>
            <a:ext cx="30456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5627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4038480"/>
            <a:ext cx="30456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4495680"/>
            <a:ext cx="304920" cy="304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30481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2590920"/>
            <a:ext cx="304920" cy="3045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447920"/>
            <a:ext cx="594360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76520" y="1219320"/>
            <a:ext cx="594360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83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80880"/>
            <a:ext cx="373392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values: Ronen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523880"/>
            <a:ext cx="5715000" cy="411480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86000" y="1523880"/>
            <a:ext cx="4952880" cy="388620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685800"/>
            <a:ext cx="12952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הומניז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5334120"/>
            <a:ext cx="12952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מטריאליז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762120"/>
            <a:ext cx="167652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אינדיבידואליז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5410080"/>
            <a:ext cx="1447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קולקטיביז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53360" y="9907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(הגשמה עצמי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38098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(שייכו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63200" y="609588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(ביטחון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429000"/>
            <a:ext cx="8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(כוח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ביטחו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כוח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מסור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היש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ttman Yad-Brush"/>
              </a:rPr>
              <a:t>                                             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קונפורמי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הדוניז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נדיבו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גריי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הכוונה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  <a:ea typeface="Guttman Yad-Brush"/>
              </a:rPr>
              <a:t>-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עצמי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he-IL" sz="2800" spc="-1" strike="noStrike">
                <a:solidFill>
                  <a:srgbClr val="cc3300"/>
                </a:solidFill>
                <a:latin typeface="Times New Roman"/>
              </a:rPr>
              <a:t>אוניברסליז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371600"/>
            <a:ext cx="563904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294920" y="1600200"/>
            <a:ext cx="63248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38080" y="3276720"/>
            <a:ext cx="3657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3276720"/>
            <a:ext cx="4572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1142640"/>
            <a:ext cx="4572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648320" y="3200400"/>
            <a:ext cx="3809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276720"/>
            <a:ext cx="3809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12193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6765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25909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44197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4382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0574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15238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5053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42670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37339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25909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4956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8769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36576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33526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2767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0574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4100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44197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24382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2096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7432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16002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0481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581280"/>
            <a:ext cx="228600" cy="152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37339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2860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9625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41972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1828800"/>
            <a:ext cx="228600" cy="15228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457200"/>
            <a:ext cx="3733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Map: Schwartz,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371600"/>
            <a:ext cx="5181480" cy="403848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371600" y="1600200"/>
            <a:ext cx="6324480" cy="342900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762120"/>
            <a:ext cx="1524240" cy="990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האדר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העצמ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029200"/>
            <a:ext cx="160020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התעלות מע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העצמ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33520"/>
            <a:ext cx="129564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שמרנו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34120"/>
            <a:ext cx="152388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פתיחו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cc"/>
                </a:solidFill>
                <a:latin typeface="Times New Roman"/>
              </a:rPr>
              <a:t>לשינויי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2T09:26:41Z</dcterms:created>
  <dc:creator>aa</dc:creator>
  <dc:description/>
  <dc:language>en-US</dc:language>
  <cp:lastModifiedBy>Dina Van-Dijk</cp:lastModifiedBy>
  <cp:lastPrinted>2000-07-22T12:14:40Z</cp:lastPrinted>
  <dcterms:modified xsi:type="dcterms:W3CDTF">2003-11-27T17:11:27Z</dcterms:modified>
  <cp:revision>64</cp:revision>
  <dc:subject/>
  <dc:title>ללא כותרת שקופית</dc:title>
</cp:coreProperties>
</file>