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27320" y="46044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40960" y="6345360"/>
            <a:ext cx="7902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309B-4218-49E3-AEEF-3AEEFDC8ECBF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8172360" y="6264000"/>
            <a:ext cx="78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1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Lucida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Lucida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4991040"/>
            <a:ext cx="74865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Verdana"/>
              </a:rPr>
              <a:t>Test slide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7920" y="1952640"/>
            <a:ext cx="428760" cy="476280"/>
          </a:xfrm>
          <a:custGeom>
            <a:avLst/>
            <a:gdLst>
              <a:gd name="textAreaLeft" fmla="*/ 100800 w 428760"/>
              <a:gd name="textAreaRight" fmla="*/ 327960 w 428760"/>
              <a:gd name="textAreaTop" fmla="*/ 55800 h 476280"/>
              <a:gd name="textAreaBottom" fmla="*/ 298800 h 476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14880" y="1895400"/>
            <a:ext cx="75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67000" y="2009880"/>
            <a:ext cx="781200" cy="304560"/>
          </a:xfrm>
          <a:custGeom>
            <a:avLst/>
            <a:gdLst>
              <a:gd name="textAreaLeft" fmla="*/ 183600 w 781200"/>
              <a:gd name="textAreaRight" fmla="*/ 597240 w 781200"/>
              <a:gd name="textAreaTop" fmla="*/ 35640 h 304560"/>
              <a:gd name="textAreaBottom" fmla="*/ 191160 h 304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2512800" y="507024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6394320" y="507960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169920" y="2883960"/>
            <a:ext cx="2127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39680" y="156672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3680" y="430848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60400" y="958680"/>
            <a:ext cx="692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0400" y="912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60400" y="958680"/>
            <a:ext cx="2465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0400" y="958680"/>
            <a:ext cx="2465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0400" y="958680"/>
            <a:ext cx="2465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60400" y="958680"/>
            <a:ext cx="2465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60400" y="958680"/>
            <a:ext cx="562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09640" y="885960"/>
          <a:ext cx="7689960" cy="4721040"/>
        </p:xfrm>
        <a:graphic>
          <a:graphicData uri="http://schemas.openxmlformats.org/drawingml/2006/table">
            <a:tbl>
              <a:tblPr/>
              <a:tblGrid>
                <a:gridCol w="822600"/>
                <a:gridCol w="3247920"/>
                <a:gridCol w="3619440"/>
              </a:tblGrid>
              <a:tr h="1769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 IMP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V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iness decision: 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GH IMPACT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GH V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siness Decision: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 IMPACT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 V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      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siness Decision: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 IMPACT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GH V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siness Decision: 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7432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7432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                                   Viability                        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15:58:52Z</dcterms:created>
  <dc:creator>Paul Klein</dc:creator>
  <dc:description/>
  <dc:language>en-US</dc:language>
  <cp:lastModifiedBy>Office 2004 Test Drive User</cp:lastModifiedBy>
  <cp:lastPrinted>2006-11-23T19:56:11Z</cp:lastPrinted>
  <dcterms:modified xsi:type="dcterms:W3CDTF">2008-01-11T04:24:05Z</dcterms:modified>
  <cp:revision>1787</cp:revision>
  <dc:subject/>
  <dc:title>No Slide Title</dc:title>
</cp:coreProperties>
</file>