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F029-F2F7-4D61-9C64-E78AFA4C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2350-C5BC-4069-BC88-26AB19D4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9B85-FB30-4C97-9731-264D5F585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8390-272D-499C-90BC-09578595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F526-C754-4B1E-B0D6-17604F28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40A1-7FDC-4D8B-A160-C7CEC276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25B4-2742-4CB0-8794-D1D02A1E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F252-B35F-4DFA-80EB-46E64800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A0A2-D541-4C6E-8220-29F4FD06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092F-8DE1-4885-82C6-C222B772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C3D2-8964-4E2D-9336-0C32B088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FA57-C9AC-4E7C-97A8-2A1A7B4E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D138-23BB-44E6-BD73-6A2963509D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0000"/>
              </a:solidFill>
              <a:latin typeface="Arial"/>
              <a:ea typeface="宋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99cc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99cc00"/>
              </a:solidFill>
              <a:latin typeface="Arial"/>
              <a:ea typeface="宋体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 u="sng">
              <a:solidFill>
                <a:srgbClr val="000000"/>
              </a:solidFill>
              <a:uFillTx/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 baseline="30000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 baseline="-25000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3200" spc="-1" strike="noStrike">
              <a:solidFill>
                <a:srgbClr val="99cc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 u="sng">
              <a:solidFill>
                <a:srgbClr val="00ff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5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unying</cp:lastModifiedBy>
  <dcterms:modified xsi:type="dcterms:W3CDTF">2012-08-02T02:47:34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