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491-B5DA-4268-BE3D-8D7737B8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D20-3FEF-4654-B813-77A36969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528-37EE-4C63-8B3E-AC604BF2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416-8862-49A7-8B9E-6EE70442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283-D70C-46AA-B073-9D34947F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A9B-7BA1-480F-80F7-5D8C720E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EAC-8236-4A6A-8C1A-AA0A1B86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393-0A4A-4FEE-B074-E843C81D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529-7CD6-4475-950E-979792D5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CEC-9303-4CE0-9C26-37B00FF1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D1D-0595-4257-B165-5C1B30E9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AFB-58B7-4171-86B6-17472579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97FE-7690-4774-A243-92C303474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Times New Roman"/>
              </a:rPr>
              <a:t>מבנים מקוננ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בשיעור ספורט רצו הבנים והבנות של הכיתה למרחק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מטר. בן אשר רץ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מטר בזמן של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שניות או פחות נחשב לרץ מהיר. בת אשר רצה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מטר בזמן של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שניות או פחות נחשבת לרצה מהיר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פתח וישם אלגוריתם אשר הקלט שלו הוא מספר המציין אורך רשימה, ואחריו רשימה של זוגות נתונים,כך שהנתון הראשון בכל זוג מציין מין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מציין בן ‘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’ מציין בת)והנתון השני מציין זמן ריצ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פלט האלגוריתם הוא מספר הבנים המהירים,מספר הבנים הלא מהירים,מספר הבנות המהירות ומספר הבנות הלא מהירו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ose" descr=""/>
          <p:cNvPicPr/>
          <p:nvPr/>
        </p:nvPicPr>
        <p:blipFill>
          <a:blip r:embed="rId1"/>
          <a:stretch/>
        </p:blipFill>
        <p:spPr>
          <a:xfrm>
            <a:off x="7772400" y="0"/>
            <a:ext cx="1143000" cy="892080"/>
          </a:xfrm>
          <a:prstGeom prst="rect">
            <a:avLst/>
          </a:prstGeom>
          <a:ln w="0">
            <a:noFill/>
          </a:ln>
        </p:spPr>
      </p:pic>
      <p:pic>
        <p:nvPicPr>
          <p:cNvPr id="44" name="rose" descr=""/>
          <p:cNvPicPr/>
          <p:nvPr/>
        </p:nvPicPr>
        <p:blipFill>
          <a:blip r:embed="rId2"/>
          <a:stretch/>
        </p:blipFill>
        <p:spPr>
          <a:xfrm>
            <a:off x="8001000" y="17524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45" name="rose" descr=""/>
          <p:cNvPicPr/>
          <p:nvPr/>
        </p:nvPicPr>
        <p:blipFill>
          <a:blip r:embed="rId3"/>
          <a:stretch/>
        </p:blipFill>
        <p:spPr>
          <a:xfrm>
            <a:off x="8001000" y="3048120"/>
            <a:ext cx="1143000" cy="892080"/>
          </a:xfrm>
          <a:prstGeom prst="rect">
            <a:avLst/>
          </a:prstGeom>
          <a:ln w="0">
            <a:noFill/>
          </a:ln>
        </p:spPr>
      </p:pic>
      <p:pic>
        <p:nvPicPr>
          <p:cNvPr id="46" name="rose" descr=""/>
          <p:cNvPicPr/>
          <p:nvPr/>
        </p:nvPicPr>
        <p:blipFill>
          <a:blip r:embed="rId4"/>
          <a:stretch/>
        </p:blipFill>
        <p:spPr>
          <a:xfrm>
            <a:off x="380880" y="0"/>
            <a:ext cx="1143000" cy="892080"/>
          </a:xfrm>
          <a:prstGeom prst="rect">
            <a:avLst/>
          </a:prstGeom>
          <a:ln w="0">
            <a:noFill/>
          </a:ln>
        </p:spPr>
      </p:pic>
      <p:pic>
        <p:nvPicPr>
          <p:cNvPr id="47" name="rose" descr=""/>
          <p:cNvPicPr/>
          <p:nvPr/>
        </p:nvPicPr>
        <p:blipFill>
          <a:blip r:embed="rId5"/>
          <a:stretch/>
        </p:blipFill>
        <p:spPr>
          <a:xfrm>
            <a:off x="7924680" y="5051520"/>
            <a:ext cx="11430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808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Times New Roman"/>
              </a:rPr>
              <a:t>אלגוריתם לפתרון הבעי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457200"/>
            <a:ext cx="6400800" cy="73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אתחל ל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ת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FASTBOYS,OTHERBOYS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FASTGIRLS, OTHERGIR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קלוט את מספר התלמידים הרצים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בצע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פעמי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קלוט את מינו של הרץ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sex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וזמן ריצה ב 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אם ‘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B’=sex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זי {בן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   אם 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time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קטן או שווה לזמן בן מהיר אז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       הגדל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ת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FASTBO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  אחרת {בן לא מהיר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      הגדל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ת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OTHERBO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חרת {בת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אם 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time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קטן או שווה לזמן בת מהירה אז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הגדל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ת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FASTGIRL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אחרת {בת לא מהירה}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       הגדל ב-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את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OTHERGIRLS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הצג כפלט את ערכיהם של </a:t>
            </a:r>
            <a:r>
              <a:rPr b="0" lang="he-IL" sz="2000" spc="-1" strike="noStrike">
                <a:solidFill>
                  <a:srgbClr val="ffff00"/>
                </a:solidFill>
                <a:latin typeface="Times New Roman"/>
              </a:rPr>
              <a:t>FASTBOYS,OTHERBOYS,FASTGIRLS,OTHERGIR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ose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1143000" cy="892080"/>
          </a:xfrm>
          <a:prstGeom prst="rect">
            <a:avLst/>
          </a:prstGeom>
          <a:ln w="0">
            <a:noFill/>
          </a:ln>
        </p:spPr>
      </p:pic>
      <p:pic>
        <p:nvPicPr>
          <p:cNvPr id="51" name="rose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52" name="rose" descr=""/>
          <p:cNvPicPr/>
          <p:nvPr/>
        </p:nvPicPr>
        <p:blipFill>
          <a:blip r:embed="rId3"/>
          <a:stretch/>
        </p:blipFill>
        <p:spPr>
          <a:xfrm>
            <a:off x="1981080" y="19810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53" name="rose" descr=""/>
          <p:cNvPicPr/>
          <p:nvPr/>
        </p:nvPicPr>
        <p:blipFill>
          <a:blip r:embed="rId4"/>
          <a:stretch/>
        </p:blipFill>
        <p:spPr>
          <a:xfrm>
            <a:off x="1066680" y="2590920"/>
            <a:ext cx="11430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06:12:59Z</dcterms:created>
  <dc:creator>*</dc:creator>
  <dc:description/>
  <dc:language>en-US</dc:language>
  <cp:lastModifiedBy>*</cp:lastModifiedBy>
  <dcterms:modified xsi:type="dcterms:W3CDTF">2003-01-16T16:43:41Z</dcterms:modified>
  <cp:revision>3</cp:revision>
  <dc:subject/>
  <dc:title>מבנים מקוננים</dc:title>
</cp:coreProperties>
</file>