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B8F9-EA76-41AC-837D-D410FFEB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D5C-5EE3-4C72-A42E-1394CBE7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2EE2-68B9-4678-8041-DF08F1FB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D12-4C51-45C4-ABD3-2FB805DB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94B0-9059-4D86-9E06-2638C277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04CB-5E6E-41B5-A820-45B812BB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EFFA-A7A4-4EED-A591-C04004B9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3B3-5515-44FD-9F7A-8E3B66A8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E33-22F7-4FD3-9E79-2100022C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32AE-1D0A-462D-8611-383D645A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448-3CC9-4AB3-9ADA-BA0FBECF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9400-2EE5-4FF8-A96D-589F1BC2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Futura Bk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Futura Bk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B9AE-658B-482D-AAD6-1A46F802AF1C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229600" y="228600"/>
            <a:ext cx="739800" cy="62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"/>
          <p:cNvSpPr/>
          <p:nvPr/>
        </p:nvSpPr>
        <p:spPr>
          <a:xfrm>
            <a:off x="465120" y="639936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4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65800" y="4816440"/>
            <a:ext cx="1792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flipH="1">
            <a:off x="1089000" y="4367160"/>
            <a:ext cx="2727360" cy="1619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60480" y="1771560"/>
            <a:ext cx="208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Futura Hv"/>
              </a:rPr>
              <a:t>Inquiry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12920" y="2384280"/>
            <a:ext cx="290808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Futura Bk"/>
              </a:rPr>
              <a:t>is about asking 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Futura Bk"/>
              </a:rPr>
              <a:t>understanding </a:t>
            </a:r>
            <a:r>
              <a:rPr b="0" i="1" lang="en-US" sz="2200" spc="-1" strike="noStrike">
                <a:solidFill>
                  <a:srgbClr val="0000ff"/>
                </a:solidFill>
                <a:latin typeface="Futura Bk"/>
              </a:rPr>
              <a:t>w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Futura Bk"/>
              </a:rPr>
              <a:t>other people h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Futura Bk"/>
              </a:rPr>
              <a:t>the views they do</a:t>
            </a:r>
            <a:r>
              <a:rPr b="0" lang="en-US" sz="2200" spc="-1" strike="noStrike">
                <a:solidFill>
                  <a:srgbClr val="0000ff"/>
                </a:solidFill>
                <a:latin typeface="Futura B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24560" y="3857760"/>
            <a:ext cx="23684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Futura Hv"/>
              </a:rPr>
              <a:t>Advocacy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97520" y="4506840"/>
            <a:ext cx="220356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Futura Bk"/>
              </a:rPr>
              <a:t>is about trying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Futura Bk"/>
              </a:rPr>
              <a:t>convince peo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Futura Bk"/>
              </a:rPr>
              <a:t>into </a:t>
            </a:r>
            <a:r>
              <a:rPr b="0" i="1" lang="en-US" sz="2200" spc="-1" strike="noStrike">
                <a:solidFill>
                  <a:srgbClr val="0000ff"/>
                </a:solidFill>
                <a:latin typeface="Futura Bk"/>
              </a:rPr>
              <a:t>your way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682560"/>
                <a:tab algn="l" pos="1023840"/>
                <a:tab algn="l" pos="1365120"/>
                <a:tab algn="l" pos="1706400"/>
                <a:tab algn="l" pos="2048040"/>
                <a:tab algn="l" pos="2389320"/>
                <a:tab algn="l" pos="2730600"/>
                <a:tab algn="l" pos="3071880"/>
                <a:tab algn="l" pos="3413160"/>
                <a:tab algn="l" pos="3754440"/>
                <a:tab algn="l" pos="4095720"/>
                <a:tab algn="l" pos="4437000"/>
                <a:tab algn="l" pos="4778280"/>
                <a:tab algn="l" pos="5119560"/>
                <a:tab algn="l" pos="5460840"/>
                <a:tab algn="l" pos="5802480"/>
                <a:tab algn="l" pos="6143760"/>
                <a:tab algn="l" pos="6485040"/>
                <a:tab algn="l" pos="682632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Futura Bk"/>
              </a:rPr>
              <a:t>thinking</a:t>
            </a:r>
            <a:r>
              <a:rPr b="0" lang="en-US" sz="2200" spc="-1" strike="noStrike">
                <a:solidFill>
                  <a:srgbClr val="0000ff"/>
                </a:solidFill>
                <a:latin typeface="Futura B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Inquiry vs. Advocacy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 flipH="1">
            <a:off x="5800320" y="1585080"/>
            <a:ext cx="3127320" cy="197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4T16:31:05Z</dcterms:created>
  <dc:creator>Brett Conrad</dc:creator>
  <dc:description/>
  <dc:language>en-US</dc:language>
  <cp:lastModifiedBy>Dave Formanek</cp:lastModifiedBy>
  <dcterms:modified xsi:type="dcterms:W3CDTF">2005-07-15T00:29:16Z</dcterms:modified>
  <cp:revision>57</cp:revision>
  <dc:subject/>
  <dc:title>PowerPoint Presentation</dc:title>
</cp:coreProperties>
</file>