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6285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897732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55360" y="4186080"/>
            <a:ext cx="897732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5360" y="418608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55800" y="418608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0880" y="195372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6040" y="195372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55360" y="418608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0880" y="418608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6040" y="4186080"/>
            <a:ext cx="2890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55360" y="1953720"/>
            <a:ext cx="89773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89773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55360" y="630360"/>
            <a:ext cx="89773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55360" y="418608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55800" y="418608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536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5800" y="1953720"/>
            <a:ext cx="43808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55360" y="4186080"/>
            <a:ext cx="897732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5360" y="630360"/>
            <a:ext cx="897732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6a0d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360" y="1953720"/>
            <a:ext cx="89773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499"/>
              </a:spcBef>
              <a:buClr>
                <a:srgbClr val="002e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e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1120" y="6865560"/>
            <a:ext cx="2759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2e64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2e64"/>
                </a:solidFill>
                <a:latin typeface="Arial"/>
              </a:rPr>
              <a:t>&lt;date/time&gt;</a:t>
            </a:r>
            <a:r>
              <a:rPr b="0" lang="en-GB" sz="1200" spc="-1" strike="noStrike">
                <a:solidFill>
                  <a:srgbClr val="002e64"/>
                </a:solidFill>
                <a:latin typeface="Arial"/>
              </a:rPr>
              <a:t> - slide #</a:t>
            </a:r>
            <a:fld id="{43A245D9-F25C-4D57-A7E8-795FF202FABA}" type="slidenum">
              <a:rPr b="0" lang="en-GB" sz="1200" spc="-1" strike="noStrike">
                <a:solidFill>
                  <a:srgbClr val="002e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3960" y="6845040"/>
            <a:ext cx="39434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2e64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2e6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2e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0" name=""/>
          <p:cNvCxnSpPr>
            <a:stCxn id="41" idx="1"/>
          </p:cNvCxnSpPr>
          <p:nvPr/>
        </p:nvCxnSpPr>
        <p:spPr>
          <a:xfrm flipH="1" flipV="1" rot="5400000">
            <a:off x="4608000" y="5284440"/>
            <a:ext cx="721440" cy="784800"/>
          </a:xfrm>
          <a:prstGeom prst="bentConnector3">
            <a:avLst>
              <a:gd name="adj1" fmla="val 666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2" name=""/>
          <p:cNvCxnSpPr>
            <a:stCxn id="43" idx="1"/>
          </p:cNvCxnSpPr>
          <p:nvPr/>
        </p:nvCxnSpPr>
        <p:spPr>
          <a:xfrm flipV="1" rot="16200000">
            <a:off x="4999320" y="5675040"/>
            <a:ext cx="721440" cy="2880"/>
          </a:xfrm>
          <a:prstGeom prst="bentConnector3">
            <a:avLst>
              <a:gd name="adj1" fmla="val 666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</p:cNvCxnSpPr>
          <p:nvPr/>
        </p:nvCxnSpPr>
        <p:spPr>
          <a:xfrm flipV="1" rot="16200000">
            <a:off x="5392440" y="5282280"/>
            <a:ext cx="721440" cy="788760"/>
          </a:xfrm>
          <a:prstGeom prst="bentConnector3">
            <a:avLst>
              <a:gd name="adj1" fmla="val 666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1" name=""/>
          <p:cNvSpPr/>
          <p:nvPr/>
        </p:nvSpPr>
        <p:spPr>
          <a:xfrm>
            <a:off x="426240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RP1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4684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System 2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32360" y="6037200"/>
            <a:ext cx="62892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System 3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RP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8440" y="6037200"/>
            <a:ext cx="1179720" cy="39060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Spreadsheet or 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Manual Input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4741920"/>
            <a:ext cx="1729080" cy="576360"/>
          </a:xfrm>
          <a:prstGeom prst="flowChartProcess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Third Party</a:t>
            </a:r>
            <a:endParaRPr b="0" lang="en-US" sz="1200" spc="-1" strike="noStrike">
              <a:solidFill>
                <a:srgbClr val="002e64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1200" spc="-1" strike="noStrike">
              <a:solidFill>
                <a:srgbClr val="002e64"/>
              </a:solidFill>
              <a:latin typeface="Arial"/>
            </a:endParaRPr>
          </a:p>
        </p:txBody>
      </p:sp>
      <p:cxnSp>
        <p:nvCxnSpPr>
          <p:cNvPr id="49" name=""/>
          <p:cNvCxnSpPr>
            <a:stCxn id="50" idx="1"/>
            <a:endCxn id="48" idx="2"/>
          </p:cNvCxnSpPr>
          <p:nvPr/>
        </p:nvCxnSpPr>
        <p:spPr>
          <a:xfrm flipH="1" flipV="1" rot="5400000">
            <a:off x="7123320" y="5285880"/>
            <a:ext cx="719280" cy="784080"/>
          </a:xfrm>
          <a:prstGeom prst="bentConnector3">
            <a:avLst>
              <a:gd name="adj1" fmla="val 49974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1" name=""/>
          <p:cNvCxnSpPr>
            <a:stCxn id="52" idx="1"/>
            <a:endCxn id="48" idx="2"/>
          </p:cNvCxnSpPr>
          <p:nvPr/>
        </p:nvCxnSpPr>
        <p:spPr>
          <a:xfrm flipV="1" rot="16200000">
            <a:off x="7516080" y="5677200"/>
            <a:ext cx="719280" cy="1080"/>
          </a:xfrm>
          <a:prstGeom prst="bentConnector3">
            <a:avLst>
              <a:gd name="adj1" fmla="val 49974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77700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RP1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61440" y="6037200"/>
            <a:ext cx="628560" cy="574560"/>
          </a:xfrm>
          <a:prstGeom prst="flowChartMagneticDisk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System 2</a:t>
            </a:r>
            <a:endParaRPr b="0" lang="en-US" sz="1000" spc="-1" strike="noStrike">
              <a:solidFill>
                <a:srgbClr val="002e64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5360" y="630000"/>
            <a:ext cx="897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56a0d5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56a0d5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 flipV="1">
            <a:off x="1949040" y="5209560"/>
            <a:ext cx="785160" cy="7894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5" name=""/>
          <p:cNvCxnSpPr/>
          <p:nvPr/>
        </p:nvCxnSpPr>
        <p:spPr>
          <a:xfrm rot="10800000">
            <a:off x="2731320" y="5209560"/>
            <a:ext cx="788040" cy="7894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åvard Bjåstad</dc:creator>
  <dc:description>Håvard Bjåstad</dc:description>
  <dc:language>en-US</dc:language>
  <cp:lastModifiedBy>Håvard Bjåstad</cp:lastModifiedBy>
  <cp:revision>0</cp:revision>
  <dc:subject/>
  <dc:title>Tech discussion 2006-11-03</dc:title>
</cp:coreProperties>
</file>