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B9D-BE5C-40E0-BD2D-8A3E6830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E50-A153-420A-81A9-B3DF509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53E-92AC-430E-9062-60147D36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DE8-1712-46F6-AA1A-C8223DC8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59B-B474-44D2-AAED-92439897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025-6D3C-45ED-A5BE-CF30302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F52-A4F0-4D6A-9B1C-1556D02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BC3-047C-4825-AFE3-0C884F5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5EE-D2CC-4ED5-B2F2-00D7F8A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587-849F-4085-9446-5304C2C0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1CC-8F51-4AC8-93DE-0D50542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234-E7F8-4553-B91A-FA795C4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F36C9-A071-4AF4-AEFB-7BC22735F9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54320" y="3141720"/>
            <a:ext cx="1621080" cy="1439640"/>
          </a:xfrm>
          <a:prstGeom prst="noSmoking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23:35Z</dcterms:created>
  <dc:creator>Chris Forbes</dc:creator>
  <dc:description/>
  <dc:language>en-US</dc:language>
  <cp:lastModifiedBy>Chris Forbes</cp:lastModifiedBy>
  <dcterms:modified xsi:type="dcterms:W3CDTF">2011-03-29T05:24:07Z</dcterms:modified>
  <cp:revision>2</cp:revision>
  <dc:subject/>
  <dc:title/>
</cp:coreProperties>
</file>