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CD0-59F6-426F-80E8-101EBB85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442-8C86-4F30-8957-7C80F644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BF2-5D79-47B0-BEE8-D1513ACB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E8D-A6D6-44F8-A2E0-3DA4F5A5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F32-807E-4362-AA3A-B2038102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37E-6940-41C9-BC7A-AF23566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E5F-AB5E-4E2A-9016-D03832D6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0B0-810F-4F07-A3BC-90242624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C16-1CF8-4828-91BC-6A44681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4D1-AC7E-4AC5-A363-38908B6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D40-30D5-4DC5-9BC4-E290C8C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C02-3851-4D15-B8E1-CA04163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149E-39E8-448D-B4C9-3FEAD6F8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2920" y="2792520"/>
            <a:ext cx="1836720" cy="127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33:47Z</dcterms:created>
  <dc:creator>Moi</dc:creator>
  <dc:description/>
  <dc:language>en-US</dc:language>
  <cp:lastModifiedBy>Moi</cp:lastModifiedBy>
  <dcterms:modified xsi:type="dcterms:W3CDTF">2005-05-21T09:35:17Z</dcterms:modified>
  <cp:revision>1</cp:revision>
  <dc:subject/>
  <dc:title>cool</dc:title>
</cp:coreProperties>
</file>