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B518-9ADF-4D5A-8F71-4B833BEC6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8F4E-D05B-4395-86B5-F3702EDCD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F5A6-9962-4517-B783-9E35B3922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D479-900F-44A0-B30D-9B963C6E5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181B-868D-4F1B-8281-501628D4A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E0EB-7A04-4252-B4BA-0BF8E221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DC5C-522D-4566-B081-6FFC989F1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0C98-2490-4CF8-9B96-47DF9FEA6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9125-C88B-4088-BEF6-9811D3DC4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120C-6948-4E37-AC22-A9CF985B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2055-9846-4183-B8C2-75EF3952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B7CE-6590-4397-9974-31E4E627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3D3B6C-57F1-4288-B8E1-BC70A255C8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30440" y="3757680"/>
          <a:ext cx="5078520" cy="1038240"/>
        </p:xfrm>
        <a:graphic>
          <a:graphicData uri="http://schemas.openxmlformats.org/drawingml/2006/table">
            <a:tbl>
              <a:tblPr/>
              <a:tblGrid>
                <a:gridCol w="2540160"/>
                <a:gridCol w="2538360"/>
              </a:tblGrid>
              <a:tr h="338400"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table created in O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3d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n opened as p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3d699"/>
                    </a:solidFill>
                  </a:tcPr>
                </a:tc>
              </a:tr>
              <a:tr h="34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8f5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8f5e6"/>
                    </a:solidFill>
                  </a:tcPr>
                </a:tc>
              </a:tr>
              <a:tr h="34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3d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3d699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1T00:43:04Z</dcterms:created>
  <dc:creator>Stuart Davis</dc:creator>
  <dc:description/>
  <dc:language>en-US</dc:language>
  <cp:lastModifiedBy>Stuart Davis</cp:lastModifiedBy>
  <dcterms:modified xsi:type="dcterms:W3CDTF">2009-02-21T00:47:33Z</dcterms:modified>
  <cp:revision>2</cp:revision>
  <dc:subject/>
  <dc:title>Slide 1</dc:title>
</cp:coreProperties>
</file>