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77436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77436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3216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5538960" y="-360"/>
            <a:ext cx="423216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3171960" y="514440"/>
            <a:ext cx="342576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08f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1302840" y="3257280"/>
            <a:ext cx="7164360" cy="3082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6514920"/>
            <a:ext cx="4232160" cy="339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5538960" y="6514920"/>
            <a:ext cx="4232160" cy="339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D9711-5D0E-45DD-BF93-449C9FDECD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71960" y="514440"/>
            <a:ext cx="34290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61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171960" y="514440"/>
            <a:ext cx="34290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61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FB9B-A264-4AE7-B69D-7AB6F29CA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007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19320" y="3685320"/>
            <a:ext cx="7007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85ED-57DE-4DC4-96AE-BFD763215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3685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9960" y="3685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29BA-A9A6-4BD1-943B-8CF5563AD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480" y="1219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8000" y="1219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19320" y="3685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480" y="3685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8000" y="3685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9FC3-5C6F-441C-AF5D-BC10001A9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D7A78-089A-44A5-84A7-63D4A84B6D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19320" y="1219320"/>
            <a:ext cx="700704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Aft>
                <a:spcPts val="7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F54D7-5D98-46BF-B8BA-57B42716A4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00704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6AE6A-A19C-44CB-9EE2-761EC49FD1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76621-3FC5-4620-BB34-0B7640F209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9FC4F-3700-4AAD-8400-DAABB86525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52120" y="-260640"/>
            <a:ext cx="70074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2B4F0-4263-4683-BFA9-844313F0A0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685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18EDA-1F45-46C2-9CF0-7C5E374DE5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19320" y="1219320"/>
            <a:ext cx="700704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Aft>
                <a:spcPts val="7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EB5A-7354-445F-A3F7-00E2861EB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09960" y="3685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75D01-B671-451F-BAF5-BCEB0EF781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9320" y="3685320"/>
            <a:ext cx="7007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207C8-96B9-43C5-8571-9094F2D3D9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007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19320" y="3685320"/>
            <a:ext cx="7007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C1447-A4B0-44DC-9BA0-51951398B1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19320" y="3685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09960" y="3685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D41CE-16A0-4E00-9285-4C876D676B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88480" y="1219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58000" y="1219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19320" y="3685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88480" y="3685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58000" y="3685320"/>
            <a:ext cx="225612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7E7C4-60F3-4124-81D2-AE7C993C0D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00704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363F-DB70-4FBE-8334-D714F0F3D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9144-EE26-4C5B-980F-56EA2F5FE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85DD-C46A-4228-B8B0-9B51F2229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52120" y="-260640"/>
            <a:ext cx="70074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93E8-264B-4496-8F26-DE3DB7C8C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9320" y="3685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E368-2846-4136-B9CE-0AC0FB1B6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9960" y="3685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50DA-2EC1-4B6E-A732-C93849E08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9960" y="1219320"/>
            <a:ext cx="341928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85320"/>
            <a:ext cx="700704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Aft>
                <a:spcPts val="7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07C5-E8B5-490B-8EC0-B297C3880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-260640"/>
            <a:ext cx="7007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08f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pic>
          <p:nvPicPr>
            <p:cNvPr id="2" name="" descr=""/>
            <p:cNvPicPr/>
            <p:nvPr/>
          </p:nvPicPr>
          <p:blipFill>
            <a:blip r:embed="rId2"/>
            <a:srcRect l="0" t="0" r="4230" b="24833"/>
            <a:stretch/>
          </p:blipFill>
          <p:spPr>
            <a:xfrm>
              <a:off x="1523880" y="6122880"/>
              <a:ext cx="63248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3"/>
            <a:srcRect l="6869" t="0" r="0" b="6918"/>
            <a:stretch/>
          </p:blipFill>
          <p:spPr>
            <a:xfrm>
              <a:off x="1066680" y="838080"/>
              <a:ext cx="7404120" cy="106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" name=""/>
            <p:cNvGraphicFramePr/>
            <p:nvPr/>
          </p:nvGraphicFramePr>
          <p:xfrm>
            <a:off x="7540560" y="6049800"/>
            <a:ext cx="1298520" cy="339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540560" y="6049800"/>
                      <a:ext cx="129852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574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9320" y="1219320"/>
            <a:ext cx="700704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1" marL="739800" indent="-28260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2" marL="1143000" indent="-22860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3" marL="1600200" indent="-22860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4" marL="2057400" indent="-22860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5" marL="2057400" indent="-228600">
              <a:lnSpc>
                <a:spcPct val="87000"/>
              </a:lnSpc>
              <a:spcAft>
                <a:spcPts val="700"/>
              </a:spcAft>
              <a:buClr>
                <a:srgbClr val="000000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6" marL="2057400" indent="-228600">
              <a:lnSpc>
                <a:spcPct val="87000"/>
              </a:lnSpc>
              <a:spcAft>
                <a:spcPts val="700"/>
              </a:spcAft>
              <a:buClr>
                <a:srgbClr val="000000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6372360"/>
            <a:ext cx="15778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540400" y="6370560"/>
            <a:ext cx="1432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3254040" y="637200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287b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287b"/>
                </a:solidFill>
                <a:latin typeface="Gill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pic>
          <p:nvPicPr>
            <p:cNvPr id="48" name="" descr=""/>
            <p:cNvPicPr/>
            <p:nvPr/>
          </p:nvPicPr>
          <p:blipFill>
            <a:blip r:embed="rId2"/>
            <a:srcRect l="0" t="0" r="4230" b="24833"/>
            <a:stretch/>
          </p:blipFill>
          <p:spPr>
            <a:xfrm>
              <a:off x="1523880" y="6122880"/>
              <a:ext cx="632484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rcRect l="6869" t="0" r="0" b="6918"/>
            <a:stretch/>
          </p:blipFill>
          <p:spPr>
            <a:xfrm>
              <a:off x="1066680" y="838080"/>
              <a:ext cx="7404120" cy="106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0" name=""/>
            <p:cNvGraphicFramePr/>
            <p:nvPr/>
          </p:nvGraphicFramePr>
          <p:xfrm>
            <a:off x="7540560" y="6049800"/>
            <a:ext cx="1298520" cy="339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540560" y="6049800"/>
                      <a:ext cx="129852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574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1698480" y="6372360"/>
            <a:ext cx="1578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6370560"/>
            <a:ext cx="1431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Num" idx="2"/>
          </p:nvPr>
        </p:nvSpPr>
        <p:spPr>
          <a:xfrm>
            <a:off x="3733560" y="637200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308f"/>
                </a:solidFill>
                <a:latin typeface="Gill San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308f"/>
                </a:solidFill>
                <a:latin typeface="Gill Sans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218960" y="2139840"/>
            <a:ext cx="677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08f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1" marL="739800" indent="-28260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2" marL="1143000" indent="-22860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3" marL="1600200" indent="-22860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4" marL="2057400" indent="-228600">
              <a:lnSpc>
                <a:spcPct val="87000"/>
              </a:lnSpc>
              <a:spcAft>
                <a:spcPts val="700"/>
              </a:spcAft>
              <a:buClr>
                <a:srgbClr val="00308f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5" marL="2057400" indent="-228600">
              <a:lnSpc>
                <a:spcPct val="87000"/>
              </a:lnSpc>
              <a:spcAft>
                <a:spcPts val="700"/>
              </a:spcAft>
              <a:buClr>
                <a:srgbClr val="000000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  <a:p>
            <a:pPr lvl="6" marL="2057400" indent="-228600">
              <a:lnSpc>
                <a:spcPct val="87000"/>
              </a:lnSpc>
              <a:spcAft>
                <a:spcPts val="700"/>
              </a:spcAft>
              <a:buClr>
                <a:srgbClr val="000000"/>
              </a:buClr>
              <a:buFont typeface="Gill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08f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308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27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308f"/>
                </a:solidFill>
                <a:latin typeface="Gill Sans"/>
              </a:rPr>
              <a:t>Human Performance</a:t>
            </a:r>
            <a:endParaRPr b="0" lang="en-US" sz="4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Aft>
                <a:spcPts val="7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08f"/>
                </a:solidFill>
                <a:latin typeface="Gill Sans"/>
              </a:rPr>
              <a:t>May 2007</a:t>
            </a:r>
            <a:endParaRPr b="0" lang="en-US" sz="32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8337600" y="571968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0"/>
                </a:moveTo>
                <a:lnTo>
                  <a:pt x="1" y="6"/>
                </a:lnTo>
                <a:lnTo>
                  <a:pt x="0" y="6"/>
                </a:lnTo>
                <a:lnTo>
                  <a:pt x="5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23280" y="5742000"/>
            <a:ext cx="12600" cy="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69360" y="571968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0"/>
                </a:moveTo>
                <a:lnTo>
                  <a:pt x="1" y="6"/>
                </a:lnTo>
                <a:lnTo>
                  <a:pt x="0" y="6"/>
                </a:lnTo>
                <a:lnTo>
                  <a:pt x="5" y="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1D70C-B0F0-41EB-A775-50881A282D8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08f"/>
                </a:solidFill>
                <a:latin typeface="Gill Sans"/>
              </a:rPr>
              <a:t>Enhanced Knowledge Management Research</a:t>
            </a:r>
            <a:endParaRPr b="0" lang="en-US" sz="24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Aft>
                <a:spcPts val="451"/>
              </a:spcAft>
              <a:buClr>
                <a:srgbClr val="00308f"/>
              </a:buClr>
              <a:buFont typeface="Gill San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08f"/>
                </a:solidFill>
                <a:latin typeface="Gill Sans"/>
              </a:rPr>
              <a:t>Some notes</a:t>
            </a:r>
            <a:endParaRPr b="0" lang="en-US" sz="1800" spc="-1" strike="noStrike">
              <a:solidFill>
                <a:srgbClr val="00308f"/>
              </a:solidFill>
              <a:latin typeface="Gill Sans"/>
            </a:endParaRPr>
          </a:p>
          <a:p>
            <a:pPr marL="339840" indent="-339840">
              <a:lnSpc>
                <a:spcPct val="100000"/>
              </a:lnSpc>
              <a:spcAft>
                <a:spcPts val="451"/>
              </a:spcAft>
              <a:buClr>
                <a:srgbClr val="00308f"/>
              </a:buClr>
              <a:buFont typeface="Gill San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08f"/>
                </a:solidFill>
                <a:latin typeface="Gill Sans"/>
              </a:rPr>
              <a:t>Project Total Budget: </a:t>
            </a:r>
            <a:endParaRPr b="0" lang="en-US" sz="1800" spc="-1" strike="noStrike">
              <a:solidFill>
                <a:srgbClr val="00308f"/>
              </a:solidFill>
              <a:latin typeface="Gill Sans"/>
            </a:endParaRPr>
          </a:p>
          <a:p>
            <a:pPr marL="339840" indent="-339840">
              <a:lnSpc>
                <a:spcPct val="100000"/>
              </a:lnSpc>
              <a:spcAft>
                <a:spcPts val="451"/>
              </a:spcAft>
              <a:buClr>
                <a:srgbClr val="00308f"/>
              </a:buClr>
              <a:buFont typeface="Gill San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08f"/>
                </a:solidFill>
                <a:latin typeface="Gill Sans"/>
              </a:rPr>
              <a:t>Project timelines: 01/04/2007 – 31/03/2008</a:t>
            </a:r>
            <a:endParaRPr b="0" lang="en-US" sz="1800" spc="-1" strike="noStrike">
              <a:solidFill>
                <a:srgbClr val="00308f"/>
              </a:solidFill>
              <a:latin typeface="Gill Sans"/>
            </a:endParaRPr>
          </a:p>
          <a:p>
            <a:pPr marL="339840" indent="-339840">
              <a:lnSpc>
                <a:spcPct val="100000"/>
              </a:lnSpc>
              <a:spcAft>
                <a:spcPts val="451"/>
              </a:spcAft>
              <a:buClr>
                <a:srgbClr val="00308f"/>
              </a:buClr>
              <a:buFont typeface="Gill San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08f"/>
                </a:solidFill>
                <a:latin typeface="Gill Sans"/>
              </a:rPr>
              <a:t>Notes:</a:t>
            </a:r>
            <a:endParaRPr b="0" lang="en-US" sz="1800" spc="-1" strike="noStrike">
              <a:solidFill>
                <a:srgbClr val="00308f"/>
              </a:solidFill>
              <a:latin typeface="Gill Sans"/>
            </a:endParaRPr>
          </a:p>
          <a:p>
            <a:pPr lvl="1" marL="739800" indent="-282600">
              <a:lnSpc>
                <a:spcPct val="100000"/>
              </a:lnSpc>
              <a:spcAft>
                <a:spcPts val="451"/>
              </a:spcAft>
              <a:buClr>
                <a:srgbClr val="00308f"/>
              </a:buClr>
              <a:buFont typeface="Gill San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08f"/>
                </a:solidFill>
                <a:latin typeface="Gill Sans"/>
              </a:rPr>
              <a:t>Any subsequent research for 2008/2009 will be proposed for the new budget cycle.</a:t>
            </a:r>
            <a:endParaRPr b="0" lang="en-US" sz="1800" spc="-1" strike="noStrike">
              <a:solidFill>
                <a:srgbClr val="00308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680D-710B-4C42-98CA-9E769D118DE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