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62D-8A72-4473-B742-90C66489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36C-EB7C-4B1C-80AB-E28DD77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93F-7F49-4C99-B522-C79E5DB7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7F2-7DFB-426F-8A31-484CF122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42F-57DF-45FD-8082-EC2BEF3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C0A-D34D-45A9-8119-091C2C0C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1AE-725D-4985-9FC2-84A3A57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444-C44D-4CCA-AA41-FA5A37F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F8D-F861-4832-B18A-5FCD7855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1BA-1939-46CC-B25E-FB2492C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496-7F43-481C-B110-6AA1016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B0E-6EAA-4E5A-8284-FA4ABD3F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4399-3E81-4093-BF88-1CA4B9311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utline          It works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1197000"/>
          <a:ext cx="183996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183996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492360" y="1125360"/>
            <a:ext cx="45356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1. It does not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abb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ccccccc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ddddddd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1197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01:35:08Z</dcterms:created>
  <dc:creator>mafajun</dc:creator>
  <dc:description/>
  <dc:language>en-US</dc:language>
  <cp:lastModifiedBy>mafajun</cp:lastModifiedBy>
  <dcterms:modified xsi:type="dcterms:W3CDTF">2005-01-21T01:40:41Z</dcterms:modified>
  <cp:revision>3</cp:revision>
  <dc:subject/>
  <dc:title>幻灯片 1</dc:title>
</cp:coreProperties>
</file>