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197-3A05-4298-9B53-59228586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2FE-DBA2-4359-9C88-E34C26C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501-BBDC-434B-99FA-D6803F86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D78-0E83-4B04-9F77-1B21EC91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C56-1D8B-49C9-8EA5-273B9971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816-E15F-4485-9D3D-2B57891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B40-053C-4D12-B26C-53D5F9B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A76-0A7E-4489-8931-FD49E9D5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307-546E-4AA1-8352-9090489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0C-B026-47A8-8931-AC2665A6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5CD-92D5-4C6F-8381-76C0350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9EB-0CA3-496B-BD51-938DE95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ECD-B2A3-45F7-9BE8-E4B40875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627280" y="1268280"/>
          <a:ext cx="3606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6068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9280" y="6021360"/>
            <a:ext cx="4392720" cy="8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6600" y="4221000"/>
            <a:ext cx="320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808080"/>
                </a:solidFill>
                <a:latin typeface="Futura"/>
              </a:rPr>
              <a:t>I N N O V A T I V E   P R O D U C T 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670720"/>
            <a:ext cx="9144000" cy="118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03720" y="349092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Tahoma"/>
              </a:rPr>
              <a:t>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23:13:24Z</dcterms:created>
  <dc:creator>arik</dc:creator>
  <dc:description/>
  <dc:language>en-US</dc:language>
  <cp:lastModifiedBy>ooo</cp:lastModifiedBy>
  <dcterms:modified xsi:type="dcterms:W3CDTF">2007-08-27T08:29:11Z</dcterms:modified>
  <cp:revision>59</cp:revision>
  <dc:subject/>
  <dc:title>Slide 1</dc:title>
</cp:coreProperties>
</file>