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6A8-5225-4B87-B6D6-8FDAFDAC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82E-8D65-42BC-AC9B-09459292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68E-FF19-4959-B620-05EA8DD8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108-D13E-43C1-A543-5D6B5F92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29D-3EDC-4C25-BF62-36587BF0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18E-81FB-4FE1-88CD-C744419E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131-811E-43AB-8590-C728A0DA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FE9-10B9-4F11-98A4-8EEC296D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57C-D398-4A60-88C5-7E6F9EFE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07E-5AAE-4219-92A9-C4D9397A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6C3B-417C-4845-BAAF-6D5C1A4C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AAC-C410-4ED6-97FD-E6C0569B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4B18-68C8-45A6-85DB-441A2EA84F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6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0"/>
            <a:ext cx="8534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Tiffany Lt BT"/>
              </a:rPr>
              <a:t>Una produzione dicembre 2003 del solito Gig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Tiffany Lt BT"/>
              </a:rPr>
              <a:t>Poggiamorella Culodifuori Eva Henger Carducci, Terranova, Gladiatore, Tremalnaik, Dr. Gì, In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Tiffany Lt BT"/>
              </a:rPr>
              <a:t>Cart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Sei disperato e stai cercando di scattare le foto più impressionant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Intorno a te il fango distrugge case, fa sparire pers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La furia della natura si abbatte con una violenza inaudita e terrific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Improvvisamente vedi un uomo che sta guidando una jee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Sta lottando disperatamente per non essere spazzato via dalla corrente di fango, acqua e piet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Ti avvicini, ti sembra un viso conosciu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Lo riconosci: è Silvio Berlusconi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Ormai ti rendi conto che la furia del fiume sta per portarselo v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Tu hai davanti a te due opportunità: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salvarlo o scattare una foto storic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Salvare una vita o essere autore di una foto da premio Pulitzer che mostrerà al mondo la morte di uno degli uomini più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importanti d'Ital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Ora ti verrà sottoposto un breve test composto da un solo quesito, di una importanza determin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E ora la doman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31237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ricordati di rispondere con sincerità!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LA SVILUPPI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A COLORI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OPPURE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IN BIANCO E NER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P.S.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Tutte le persone che ricevono la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presente comunicazione, hanno l'obbligo morale, come cittadini, di trasmetterla a dieci amic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NON E' UNA CATENA,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E' UN OBBLIGO MORALE…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Non rispondere precipitosamente, rifletti bene prima di formulare una risposta, perché questa ti permetterà di valutare la tua caratura mora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Si tratta di una situazione immaginaria, in cui devi decidere cosa fa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e ricordati di dare una risposta istintiva, ma assolutamente ver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Sei in Nord Italia, precisamente in Valtelli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Sei nel mezzo del caos dovuto ad un'inondazione per le incredibili piogg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Sei un fotoreporter per la CNN e sei nel bel mezzo del disast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La situazione è al limi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10:33:36Z</dcterms:created>
  <dc:creator>Giggi Cartoni</dc:creator>
  <dc:description/>
  <dc:language>en-US</dc:language>
  <cp:lastModifiedBy>ylenia</cp:lastModifiedBy>
  <dcterms:modified xsi:type="dcterms:W3CDTF">2005-07-25T08:50:08Z</dcterms:modified>
  <cp:revision>3</cp:revision>
  <dc:subject/>
  <dc:title>ORA TI VERRA' SOTTOPOSTO UN TEST! E' BREVE! &gt;E' COMPOSTO DA UN SOLO QUESITO! &gt;MA MOLTO, MOLTO IMPORTANTE! &gt; &gt;Non rispondere precipitosamente, rifletti prima. &gt; &gt;Rispondi con sincerità e potrai valutare la tua &gt;caratura morale. &gt; &gt;Si tratta di una situazione immaginaria, in cui &gt;devi decidere cosa fare. &gt; &gt;E ricordati di dare una risposta istintiva, ma &gt;assolutamente vera! &gt; &gt; &gt; &gt; &gt;Sei in Nord Italia, in Valtellina con precisione. &gt; &gt; &gt; &gt; &gt; &gt;Sei nel mezzo del caos dovuto ad un'inondazione &gt;per le incredibili piogge. &gt; &gt; &gt; &gt; &gt; &gt; &gt; &gt;Sei un fotoreporter per la CNN e sei nel bel &gt;mezzo del disastro. &gt; &gt; &gt; &gt; &gt; &gt; &gt; &gt;La situazione è al limite. &gt; &gt; &gt; &gt; &gt; &gt; &gt; &gt;Sei disperato e stai cercando di scattare &gt;le foto più impressionanti. &gt; &gt; &gt; &gt; &gt; &gt; &gt; &gt;Intorno a te il fango distrugge case, fa &gt;sparire persone. &gt; &gt; &gt; &gt; &gt; &gt; &gt; &gt;La furia della natura si abbatte con una &gt;violenza inaudita e terrificante. &gt; &gt; &gt; &gt; &gt; &gt; &gt; &gt;Improvvisamente vedi un uomo che sta &gt;guidando una jeep. &gt; &gt; &gt; &gt;Sta lottando disperatamente per non &gt;essere spazzato via dalla corrente di &gt;fango, acqua e pietre. &gt; &gt; &gt; &gt; &gt; &gt; &gt; &gt;Ti avvicini, ti sembra un viso conosciuto. &gt; &gt; &gt; &gt; &gt; &gt; &gt; &gt; &gt;Lo riconosci: è Berlusconi! &gt; &gt; &gt; &gt; &gt; &gt; &gt; &gt;Ormai ti rendi conto che la furia del &gt;fiume sta per portarselo via. &gt; &gt; &gt; &gt; &gt; &gt; &gt; &gt;Tu hai davanti a te due opportunità: &gt;salvarlo o scattare una foto! &gt; &gt; &gt; &gt; &gt; &gt; &gt; &gt;Salvare una vita o essere autore di una &gt;foto da premio Pulitzer che mostrerà al &gt;mondo la morte di uno degli uomini più &gt;importanti d'Italia. &gt; &gt; &gt; &gt; &gt; &gt; &gt; &gt;E ora la domanda &gt; &gt; &gt; &gt; &gt; &gt; &gt; &gt; &gt; &gt;(ricordati di rispondere con sincerità! ): &gt; &gt; &gt; &gt; &gt; &gt; &gt; &gt; &gt; &gt; &gt; &gt; &gt; &gt; &gt;LA SVILUPPI A COLORI O BIANCO E NERO? &gt; &gt; &gt; &gt; &gt; &gt; &gt;P.S. Tutte le persone che ricevono la &gt;presente comunicazione, hanno l'obbligo &gt;morale, come cittadini, di trasmetterla &gt;a dieci amici. &gt; &gt;NON E' UNA CATENA, E' UN OBBLIGO MORALE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2638690</vt:r8>
  </property>
  <property fmtid="{D5CDD505-2E9C-101B-9397-08002B2CF9AE}" pid="3" name="_AuthorEmail">
    <vt:lpwstr>andrea.betto@imqprimacontrol.it</vt:lpwstr>
  </property>
  <property fmtid="{D5CDD505-2E9C-101B-9397-08002B2CF9AE}" pid="4" name="_AuthorEmailDisplayName">
    <vt:lpwstr>Andrea Betto</vt:lpwstr>
  </property>
  <property fmtid="{D5CDD505-2E9C-101B-9397-08002B2CF9AE}" pid="5" name="_EmailSubject">
    <vt:lpwstr>Silvio forever</vt:lpwstr>
  </property>
  <property fmtid="{D5CDD505-2E9C-101B-9397-08002B2CF9AE}" pid="6" name="_PreviousAdHocReviewCycleID">
    <vt:r8>959659758</vt:r8>
  </property>
</Properties>
</file>