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1520" y="101520"/>
            <a:ext cx="8940960" cy="6654960"/>
            <a:chOff x="101520" y="101520"/>
            <a:chExt cx="8940960" cy="6654960"/>
          </a:xfrm>
        </p:grpSpPr>
        <p:sp>
          <p:nvSpPr>
            <p:cNvPr id="1" name=""/>
            <p:cNvSpPr/>
            <p:nvPr/>
          </p:nvSpPr>
          <p:spPr>
            <a:xfrm>
              <a:off x="101520" y="101520"/>
              <a:ext cx="8940960" cy="665496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3280" y="216000"/>
              <a:ext cx="8694720" cy="64198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b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7000" y="291960"/>
              <a:ext cx="8548560" cy="6273720"/>
            </a:xfrm>
            <a:prstGeom prst="rect">
              <a:avLst/>
            </a:prstGeom>
            <a:gradFill rotWithShape="0">
              <a:gsLst>
                <a:gs pos="0">
                  <a:srgbClr val="4c67bb"/>
                </a:gs>
                <a:gs pos="50000">
                  <a:srgbClr val="00279f"/>
                </a:gs>
                <a:gs pos="100000">
                  <a:srgbClr val="4c67bb"/>
                </a:gs>
              </a:gsLst>
              <a:lin ang="5400000"/>
            </a:gra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5520" y="425520"/>
              <a:ext cx="8292960" cy="600696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75248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ernet Attack Methodologie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&amp;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efensive Strategi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ris Gog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elGroup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ENIAL OF SERVICE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rrupt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YN Fl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DP Fl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C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ng of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gus P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MASKING THE INTR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77724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g 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T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T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st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cess Ac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tor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ified System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ched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DEFENSIVE STRATE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FIREWALLING TECHN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lter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uter Fil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n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tion 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al or Multi-Ho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lication Prox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rewall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PPLICATION PROXY FIREW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aunt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p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dew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rewall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rder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lackh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ybergu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RUSION DET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lker / NetStal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al 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R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CLOSING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trict External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duct Regular Technical Au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ack Vendor Pa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nitor Informational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il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s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-line Pub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2895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ERNET ATTACK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TERNET ATTACK PROFI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formational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g Explo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sking the Intr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NETWORK MAP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NIC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NS Zone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ing S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rt S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PC Service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porte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INFORMATIONAL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N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BUG EXPLO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F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M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x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lo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x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BUG EXPLO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BUG EXPLO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N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ction SV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PC.Sta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l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ADVANCED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nif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rce Routed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ssion Hij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P Spoof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 Goggans</dc:creator>
  <dc:description/>
  <dc:language>en-US</dc:language>
  <cp:lastModifiedBy>WheelGroup Corporation</cp:lastModifiedBy>
  <cp:revision>0</cp:revision>
  <dc:subject/>
  <dc:title>Internet Attack Methodologies</dc:title>
</cp:coreProperties>
</file>