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634-B7BF-43E3-89A2-570B901C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A89-3074-4065-A0B8-15CDD2A5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7ED-8E49-484B-9279-D1725507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8C7-457F-4065-8B6D-7ED8A541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072-C502-4584-849E-5DB145A4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96E-CB78-49A1-A311-FA2E6DC6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FE3-153A-4672-8DDB-4402EA66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66E-69F8-477A-9B66-A5EAB16F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A39-D868-4CF6-AA2D-96A57528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B7B-1588-4D4A-BF2F-EBA60BCE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3CE-235F-4631-8DFD-906DDC02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1CE-8CC9-41F5-BC5D-A5CC4D79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EF8F-8AFA-4125-98C1-8D28B6988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28640"/>
          <a:ext cx="8229600" cy="4772160"/>
        </p:xfrm>
        <a:graphic>
          <a:graphicData uri="http://schemas.openxmlformats.org/drawingml/2006/table">
            <a:tbl>
              <a:tblPr/>
              <a:tblGrid>
                <a:gridCol w="2746440"/>
                <a:gridCol w="2739960"/>
                <a:gridCol w="2743200"/>
              </a:tblGrid>
              <a:tr h="359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25:09Z</dcterms:created>
  <dc:creator/>
  <dc:description/>
  <dc:language>en-US</dc:language>
  <cp:lastModifiedBy>svege</cp:lastModifiedBy>
  <dcterms:modified xsi:type="dcterms:W3CDTF">2010-06-17T08:42:27Z</dcterms:modified>
  <cp:revision>6</cp:revision>
  <dc:subject/>
  <dc:title>table</dc:title>
</cp:coreProperties>
</file>