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9FF-A1E2-4835-95BE-16052BB7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AB9-AC29-47AB-A907-DD5F54F4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531-B379-48F6-834C-512B74DE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327-75E0-4D4D-BF22-343A276A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8286-0936-4258-A601-13334694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56ED-78FB-4CAA-81B5-140DB7B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AFBE-7DDE-493D-8AF9-803DC9F7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5BBC-1A06-43CC-A62D-943C3AC8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8384-93A0-4725-A3BC-BF1C2936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691A-464B-4F2B-8347-B33DE05C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A882-F7F7-4FB2-BE58-97C2DA2F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BB0-8683-4354-BCAF-DC636E5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CEC8-D4E9-4C5B-9666-714CC92D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159D-B930-44AA-9BE7-796D484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6FFF-007D-4E9D-8383-9750A153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FEF5-EE4F-47F1-942E-31642CD1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0B06-A5A7-4A66-97D0-8437BF0C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22B-BC27-4412-8674-DDF8FE1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913-D61B-4FDA-9A19-A8D67D83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A70-E8A1-4080-B826-337ECCA6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D1B-079A-4959-A269-36283276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B01-25C9-466D-89FE-9D88A5F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651-92ED-46CF-814F-182F233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676-1FD1-48D3-A6D1-65CFBBE2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E1E0-A4BF-4852-AF06-6B597B29783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3C98-30E9-4012-B3C7-DFCC46558A2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996633"/>
                </a:solidFill>
                <a:latin typeface="Times New Roman"/>
              </a:rPr>
              <a:t>עבודה בניתוח אלגורתמים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402000"/>
                </a:solidFill>
                <a:latin typeface="Times New Roman"/>
              </a:rPr>
              <a:t>אני מצטער מראש על איכות השקפים. </a:t>
            </a:r>
            <a:br>
              <a:rPr sz="3200"/>
            </a:br>
            <a:r>
              <a:rPr b="0" lang="he-IL" sz="3200" spc="-1" strike="noStrike">
                <a:solidFill>
                  <a:srgbClr val="402000"/>
                </a:solidFill>
                <a:latin typeface="Times New Roman"/>
              </a:rPr>
              <a:t>אני מקווה שאתם מבנים שבמצב של היום לא היה לי מספיק זמן לעבוד עליהם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קראו את השקפים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השקפים מכילים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שאלות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ענו על השאלות והגישו לתא 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Ely Por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402000"/>
                </a:solidFill>
                <a:latin typeface="Times New Roman"/>
              </a:rPr>
              <a:t>הבעיה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נתון מערך של 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 ביטים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אנו צריכים לעשות עיבוד מקדי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כך שלאחר מכן בהינתן אינדק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נחזיר את סכום המערך עד האינדקס ב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O(1</a:t>
            </a: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.  </a:t>
            </a:r>
            <a:br>
              <a:rPr sz="2800"/>
            </a:br>
            <a:r>
              <a:rPr b="0" lang="he-I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304920"/>
            <a:ext cx="7315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Bit Compression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40080" y="3048120"/>
            <a:ext cx="2248920" cy="459720"/>
            <a:chOff x="2440080" y="3048120"/>
            <a:chExt cx="2248920" cy="459720"/>
          </a:xfrm>
        </p:grpSpPr>
        <p:sp>
          <p:nvSpPr>
            <p:cNvPr id="93" name=""/>
            <p:cNvSpPr/>
            <p:nvPr/>
          </p:nvSpPr>
          <p:spPr>
            <a:xfrm>
              <a:off x="2895480" y="3048120"/>
              <a:ext cx="1793520" cy="4597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01010001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40080" y="3048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821320" y="1905120"/>
            <a:ext cx="3655080" cy="459720"/>
            <a:chOff x="2821320" y="1905120"/>
            <a:chExt cx="3655080" cy="459720"/>
          </a:xfrm>
        </p:grpSpPr>
        <p:sp>
          <p:nvSpPr>
            <p:cNvPr id="97" name=""/>
            <p:cNvSpPr/>
            <p:nvPr/>
          </p:nvSpPr>
          <p:spPr>
            <a:xfrm>
              <a:off x="3598920" y="1905120"/>
              <a:ext cx="2877480" cy="4597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0101000110010010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2132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820960" y="2590920"/>
            <a:ext cx="3655440" cy="459720"/>
            <a:chOff x="2820960" y="2590920"/>
            <a:chExt cx="3655440" cy="459720"/>
          </a:xfrm>
        </p:grpSpPr>
        <p:sp>
          <p:nvSpPr>
            <p:cNvPr id="100" name=""/>
            <p:cNvSpPr/>
            <p:nvPr/>
          </p:nvSpPr>
          <p:spPr>
            <a:xfrm>
              <a:off x="3598920" y="2590920"/>
              <a:ext cx="2877480" cy="4597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0112222344455566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20960" y="25909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B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419840" y="3581280"/>
            <a:ext cx="63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בנה מערך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שיכל את התשובות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O(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 זמן, שומרים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O(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2400" spc="-1" strike="noStrike" u="sng">
                <a:solidFill>
                  <a:srgbClr val="402000"/>
                </a:solidFill>
                <a:uFillTx/>
                <a:latin typeface="Times New Roman"/>
                <a:cs typeface="Times New Roman (Hebrew)"/>
              </a:rPr>
              <a:t>מספרי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  <a:cs typeface="Times New Roman (Hebrew)"/>
              </a:rPr>
              <a:t>אך מספר לוקח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O(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 מקום =&gt;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(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O(n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  <a:ea typeface="Times New Roman (Hebrew)"/>
              </a:rPr>
              <a:t> מקו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שאלה: האם אפשר לעשות יותר טוב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49360" y="1752480"/>
            <a:ext cx="4722840" cy="1602720"/>
            <a:chOff x="1449360" y="1752480"/>
            <a:chExt cx="4722840" cy="1602720"/>
          </a:xfrm>
        </p:grpSpPr>
        <p:sp>
          <p:nvSpPr>
            <p:cNvPr id="105" name=""/>
            <p:cNvSpPr/>
            <p:nvPr/>
          </p:nvSpPr>
          <p:spPr>
            <a:xfrm>
              <a:off x="144936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2057400"/>
              <a:ext cx="41148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9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2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162800">
              <a:off x="4456080" y="2474640"/>
              <a:ext cx="380880" cy="612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5840 h 612720"/>
                <a:gd name="textAreaBottom" fmla="*/ 5968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4480" y="28954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402000"/>
                  </a:solidFill>
                  <a:latin typeface="Times New Roman"/>
                </a:rPr>
                <a:t>log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580440" y="19810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חלקים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n/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7640" y="3276720"/>
            <a:ext cx="830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חלק את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ל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n/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חלקים שווים ונכתוב לכל חלק את הסכום עד אלי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עכשיו בהינתן שאילתה כל שצריך לעשות זה ללכת למקום הקרוב הידוע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ולחבר משם את שער האברים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מקום: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n) bi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אך זמן שאילתה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logn) 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המשך 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981080"/>
            <a:ext cx="7239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כדי שזמן השאילתה יהיה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פשר במקום לספור בתוך ה-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block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לעשות בתוך ה-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lock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ת השיטה הראשונה ואז ב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 אפשר לחבר את שני המס’ וזאת התוצאה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זמן שאילתה: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מקום: (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n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כי כל מספר בתוך ה-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lock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תופס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ביטים כי הוא מוגבל ב-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פשר אולי לחשוב לעשות את פתרון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ברקורסיה אך אז זמן השאילתה לא יהיה קבוע (</a:t>
            </a:r>
            <a:r>
              <a:rPr b="0" lang="he-IL" sz="2400" spc="-1" strike="noStrike" u="sng">
                <a:solidFill>
                  <a:srgbClr val="402000"/>
                </a:solidFill>
                <a:uFillTx/>
                <a:latin typeface="Times New Roman"/>
              </a:rPr>
              <a:t>תרגיל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חשב את זמן השאילתה ואת המקום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המשך 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49360" y="1752480"/>
            <a:ext cx="4722840" cy="1602720"/>
            <a:chOff x="1449360" y="1752480"/>
            <a:chExt cx="4722840" cy="1602720"/>
          </a:xfrm>
        </p:grpSpPr>
        <p:sp>
          <p:nvSpPr>
            <p:cNvPr id="121" name=""/>
            <p:cNvSpPr/>
            <p:nvPr/>
          </p:nvSpPr>
          <p:spPr>
            <a:xfrm>
              <a:off x="144936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7400" y="2057400"/>
              <a:ext cx="41148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52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2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162800">
              <a:off x="4456080" y="2474640"/>
              <a:ext cx="380880" cy="612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5840 h 612720"/>
                <a:gd name="textAreaBottom" fmla="*/ 5968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4480" y="28954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402000"/>
                  </a:solidFill>
                  <a:latin typeface="Times New Roman"/>
                </a:rPr>
                <a:t>log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514600" y="2590920"/>
            <a:ext cx="2209680" cy="1143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3733920"/>
            <a:ext cx="2209680" cy="53316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581280"/>
            <a:ext cx="0" cy="9144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82800">
            <a:off x="2095560" y="43812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560" y="45720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73880" y="3013200"/>
            <a:ext cx="653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חלק כל חלק שוב כמו מקוד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לחלקים של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עכשיו נסכום את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העברים מהמקום הידוע מחלוקה שעברה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עד למקום של החלק עכשי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(הסכום של כל הקטע הוא לכל היותר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לכן לייצג כל מספר כזה דרוש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(loglogn) bits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סה”כ מקום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(n) bits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ך זמן שאילתה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(loglogn)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כי צריך לסכום בתוך ה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lock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עד האינדקס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המשך 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49360" y="1752480"/>
            <a:ext cx="4722840" cy="1602720"/>
            <a:chOff x="1449360" y="1752480"/>
            <a:chExt cx="4722840" cy="1602720"/>
          </a:xfrm>
        </p:grpSpPr>
        <p:sp>
          <p:nvSpPr>
            <p:cNvPr id="143" name=""/>
            <p:cNvSpPr/>
            <p:nvPr/>
          </p:nvSpPr>
          <p:spPr>
            <a:xfrm>
              <a:off x="144936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7400" y="2057400"/>
              <a:ext cx="41148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340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162800">
              <a:off x="4456080" y="2474640"/>
              <a:ext cx="380880" cy="612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5840 h 612720"/>
                <a:gd name="textAreaBottom" fmla="*/ 5968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44480" y="28954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402000"/>
                  </a:solidFill>
                  <a:latin typeface="Times New Roman"/>
                </a:rPr>
                <a:t>log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800600" y="2514600"/>
            <a:ext cx="121932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6840" y="4191120"/>
            <a:ext cx="584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יש לשם לב שיש כאן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ביטים כלומר יש רק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n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אפשרויות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לכן המקרים חייבים לחזור על עצמם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אז בוא ננסה לחסוך ע”י איחוד המקרים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3276720"/>
            <a:ext cx="12189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19560" y="3962520"/>
            <a:ext cx="53316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המשך פתרון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9360" y="1752480"/>
            <a:ext cx="4722840" cy="1602720"/>
            <a:chOff x="1449360" y="1752480"/>
            <a:chExt cx="4722840" cy="1602720"/>
          </a:xfrm>
        </p:grpSpPr>
        <p:sp>
          <p:nvSpPr>
            <p:cNvPr id="164" name=""/>
            <p:cNvSpPr/>
            <p:nvPr/>
          </p:nvSpPr>
          <p:spPr>
            <a:xfrm>
              <a:off x="1449360" y="1981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057400"/>
              <a:ext cx="411480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6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340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1752480"/>
              <a:ext cx="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162800">
              <a:off x="4456080" y="2474640"/>
              <a:ext cx="380880" cy="612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5840 h 612720"/>
                <a:gd name="textAreaBottom" fmla="*/ 5968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44480" y="28954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402000"/>
                  </a:solidFill>
                  <a:latin typeface="Times New Roman"/>
                </a:rPr>
                <a:t>log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800600" y="2514600"/>
            <a:ext cx="121932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276720"/>
            <a:ext cx="12189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320040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352680" y="3276360"/>
            <a:ext cx="289584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124080"/>
            <a:ext cx="1295640" cy="1600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30481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9160" y="3733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189800">
            <a:off x="2403360" y="444456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760" y="5410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4038480"/>
            <a:ext cx="144756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6920" y="4419720"/>
            <a:ext cx="512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כתוב תבלה שבה לכל מקרה יהיה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המספר שצריכים לחבר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גודל הטבלה 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logn*loglogn*log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סה”כ מקום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n) bits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וזמן לשאילתה קבוע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01880" y="5105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4840" y="317340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402000"/>
                </a:solidFill>
                <a:latin typeface="Times New Roman"/>
              </a:rPr>
              <a:t>מקרי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402000"/>
                </a:solidFill>
                <a:latin typeface="Times New Roman"/>
              </a:rPr>
              <a:t>דומי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97240" y="5791320"/>
            <a:ext cx="21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402000"/>
                </a:solidFill>
                <a:latin typeface="Times New Roman"/>
              </a:rPr>
              <a:t>אינדקס בתוך ה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bloc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402000"/>
                </a:solidFill>
                <a:latin typeface="Times New Roman"/>
              </a:rPr>
              <a:t>של המקרא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6920" y="4419720"/>
            <a:ext cx="512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נכתוב תבלה שבה לכל מקרה יהיה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המספר שצריכים לחבר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גודל הטבלה 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logn*loglogn*logloglog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סה”כ מקום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O(n) bits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וזמן לשאילתה קבוע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6633"/>
                </a:solidFill>
                <a:latin typeface="Times New Roman"/>
              </a:rPr>
              <a:t>תרגילים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נתון מערך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של ביטים מראש</a:t>
            </a:r>
            <a:br>
              <a:rPr sz="2800"/>
            </a:b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השאילתה היא בהינתן מקום מצא את המקום הכי קרוב </a:t>
            </a:r>
            <a:br>
              <a:rPr sz="2800"/>
            </a:b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שמסומן ב-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במערך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נתון מערך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של ביטים מראש</a:t>
            </a:r>
            <a:br>
              <a:rPr sz="2800"/>
            </a:br>
            <a:r>
              <a:rPr b="0" lang="hi-IN" sz="2800" spc="-1" strike="noStrike">
                <a:solidFill>
                  <a:srgbClr val="402000"/>
                </a:solidFill>
                <a:latin typeface="Times New Roman"/>
              </a:rPr>
              <a:t>השאילתה היא בהינתן מס’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מצא את האינדקס במערך שסכום האברים עד אליו שווה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4T18:48:34Z</dcterms:created>
  <dc:creator>‰ „‡…ƒ</dc:creator>
  <dc:description/>
  <dc:language>en-US</dc:language>
  <cp:lastModifiedBy>milgaim</cp:lastModifiedBy>
  <cp:lastPrinted>2001-03-27T18:58:12Z</cp:lastPrinted>
  <dcterms:modified xsi:type="dcterms:W3CDTF">2001-03-27T18:58:12Z</dcterms:modified>
  <cp:revision>5</cp:revision>
  <dc:subject/>
  <dc:title>ללא כותרת שקופית</dc:title>
</cp:coreProperties>
</file>