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177-DD86-46E0-B3DE-C29FFAE2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7FA-0868-49D1-BFDE-B4BD8B0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B39-B156-4395-8556-C9C6537E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778-005C-437B-9372-FC64915C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42A-9043-446B-8AA6-ACAEF383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EDE-134D-459A-83F0-937A4BF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1A5-1F78-4569-A9EC-631A7BB4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CD2-4468-4030-9820-CE2A658C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B34-4B71-4F89-AEF8-39E73FB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E15-2FFF-4B08-8108-3DDEC782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CAB-C5DA-4BD3-B2DF-96D512C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9E9-E08B-4349-B9CF-07709FD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728FD-2C8F-4EDD-AE62-3F7360E24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page will take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other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835360" y="2011320"/>
            <a:ext cx="4572000" cy="18288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to pag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835360" y="4297320"/>
            <a:ext cx="4572000" cy="182880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to pag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3017880" y="3017880"/>
            <a:ext cx="4022640" cy="21938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back to p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3017880" y="3017880"/>
            <a:ext cx="4022640" cy="219384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me to go back to p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5:28:13Z</dcterms:created>
  <dc:creator>Oralia Rueda</dc:creator>
  <dc:description/>
  <dc:language>en-US</dc:language>
  <cp:lastModifiedBy>Oralia Rueda</cp:lastModifiedBy>
  <dcterms:modified xsi:type="dcterms:W3CDTF">2013-04-12T15:31:38Z</dcterms:modified>
  <cp:revision>1</cp:revision>
  <dc:subject/>
  <dc:title/>
</cp:coreProperties>
</file>