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4FB-7057-4013-9796-7F570917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7E8-E77F-44DB-A0C3-B2EC7E69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90A-B583-45D1-9CDD-43740361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093-5DCE-4860-9257-BD4F6910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FEC-5DDE-4B0A-AD99-4768B96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5F7-0890-4199-9DDA-4707F679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499-1355-4B64-BA7D-E7B0E05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2ED-091F-449E-BCCD-2E09110C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8E8-0581-47E9-85BD-8344AE14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294-B55D-4C19-B031-9D9FFF9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CCE-9DD4-4218-B851-AD565EC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443-32E2-4E83-9C6D-A97BF12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58AB92-1E08-4E47-81FD-BEEB7E7C85D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000" y="2016000"/>
            <a:ext cx="1728000" cy="172800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28:41Z</dcterms:created>
  <dc:creator>Pierre Martineau</dc:creator>
  <dc:description/>
  <dc:language>en-US</dc:language>
  <cp:lastModifiedBy>Pierre Martineau</cp:lastModifiedBy>
  <dcterms:modified xsi:type="dcterms:W3CDTF">2012-10-13T19:54:33Z</dcterms:modified>
  <cp:revision>6</cp:revision>
  <dc:subject/>
  <dc:title/>
</cp:coreProperties>
</file>