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CE85-B3E4-49F5-9B56-6FE7BD338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57EE-41EB-4DA2-99B1-5BE1405C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44A5-8F5E-449A-B689-2EA4995EA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2D63-FBAC-4634-A3D7-266CDF106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9A19-F152-4842-AFA9-1AF2AEC2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EC51-1539-40C3-993B-DA3CD31D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2FDA-5DFE-4AA1-B573-DCCFAE0B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E48A-C802-4714-ABDF-3139A345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6236-5A0E-4516-A6A5-D47C15F2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3546-3EF1-4F36-AA1A-745AF35E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1534-F963-49BB-8274-95F58E2E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8A7E-B427-40B3-88D8-14738896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B9F4-E789-4B57-AFF9-E48E6BABD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5400000">
            <a:off x="3816360" y="1520280"/>
            <a:ext cx="1295280" cy="266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2T05:27:14Z</dcterms:created>
  <dc:creator>NTANABE</dc:creator>
  <dc:description/>
  <dc:language>en-US</dc:language>
  <cp:lastModifiedBy>NTANABE</cp:lastModifiedBy>
  <dcterms:modified xsi:type="dcterms:W3CDTF">2006-10-02T05:28:34Z</dcterms:modified>
  <cp:revision>1</cp:revision>
  <dc:subject/>
  <dc:title>スライド 1</dc:title>
</cp:coreProperties>
</file>