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C63-4FB8-4433-AF17-2C7BBC15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C3B-0540-49C4-A1DE-613A750F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12A-A10D-4803-AE29-566B79B7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4E1-9383-42E2-A828-0140C56E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B2D-4F03-43E2-BFC9-898B348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2CA-D1CB-4BD6-8335-35F14DC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C52-0EFA-46CE-B364-0ADBE422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678-4910-44B8-9E5A-6571AF6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0B0-0571-4B7D-8232-1AF10CFA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C7D-4454-4872-BAE6-1CFCF71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B1B-7136-4552-9D7D-3F5A295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968-DB4D-419D-9DB6-5255D57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8DFF-3138-4071-9375-F817320D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436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6095880"/>
            <a:ext cx="72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 load – little boxes to left of ASUCI Menu subheadings (such as Homepage, Entertainment, Government, etc.)  are miss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436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6095880"/>
            <a:ext cx="624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oks good and seems to function properly after pressing Shift + Reload Butt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01:50:38Z</dcterms:created>
  <dc:creator>Terri Incollingo</dc:creator>
  <dc:description/>
  <dc:language>en-US</dc:language>
  <cp:lastModifiedBy>Terri Incollingo</cp:lastModifiedBy>
  <dcterms:modified xsi:type="dcterms:W3CDTF">2002-01-12T01:54:31Z</dcterms:modified>
  <cp:revision>2</cp:revision>
  <dc:subject/>
  <dc:title>PowerPoint Presentation</dc:title>
</cp:coreProperties>
</file>