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06280" y="812520"/>
            <a:ext cx="533844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10156320"/>
            <a:ext cx="3274920" cy="5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320"/>
            <a:ext cx="3274920" cy="5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53913-1712-4A00-AFB9-79C075D8FB7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BB34-7156-4B60-829D-EBA7F60DB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120"/>
            <a:ext cx="9066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1EC1-9C52-40E8-9451-7AF1D5C2E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120"/>
            <a:ext cx="44240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120"/>
            <a:ext cx="44240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33C4-B605-4B17-8105-533E79E4F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120"/>
            <a:ext cx="2919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120"/>
            <a:ext cx="2919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120"/>
            <a:ext cx="2919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4BBA-41F5-434E-8178-242305F5A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4116-9263-4D9D-A0D3-26FEAED78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36BA-D2EA-4C1B-8DDB-264EEEDDC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9B89-07E5-4C95-976C-5EA9711DE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98A1-EE21-490F-B101-C71CA2C7D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EE50-2CF7-4F50-9483-2C5499C71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120"/>
            <a:ext cx="44240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0ACC-EA9C-4B1C-A257-0DCFF2A37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120"/>
            <a:ext cx="44240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C0FA-72F3-410F-BE0E-99876A41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120"/>
            <a:ext cx="9066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F1E7-CD03-4D5F-A672-B827F2F9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060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2600" indent="-21132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424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424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440"/>
            <a:ext cx="23414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89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180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A427D-1945-4E7C-8EC6-267404C1172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434520"/>
            <a:ext cx="9072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urkish Alphab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61800" y="1619280"/>
            <a:ext cx="935856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abcçdefgğhıijklmnoöprsştuüvyz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ABCÇDEFGĞHIİJKLMNOÖPRSŞTUÜVYZ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cmb</cp:lastModifiedBy>
  <dcterms:modified xsi:type="dcterms:W3CDTF">2005-03-07T10:59:45Z</dcterms:modified>
  <cp:revision>1</cp:revision>
  <dc:subject/>
  <dc:title>Turkish Alphabet</dc:title>
</cp:coreProperties>
</file>