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69B8-FA3F-46E5-A02B-762C00C7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7D11-64F2-45AC-9A35-739D4777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9BA3-5D50-42DB-8942-82263A35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366E-6B71-4A2C-8850-0FD5D5EB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CB3A-6B2C-489E-84B0-5C649FA8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A68A-A9D2-4F03-BC06-05A1B6AD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87AA-8443-4E37-B129-FCE6DB50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EDD3-2E64-4410-BA87-08AE97A4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F85F-DB5C-4BC8-8E9F-BC41479F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1B18-B294-4FB3-8ADC-2182D549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C3AA-2604-42D4-8BED-A8667AD3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3F6C-3596-4BDF-9754-01B9DA0D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96BD-3388-4E03-9510-203484E4CA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752480" y="1143000"/>
            <a:ext cx="26672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t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8:06:34Z</dcterms:created>
  <dc:creator>apple</dc:creator>
  <dc:description/>
  <dc:language>en-US</dc:language>
  <cp:lastModifiedBy>apple</cp:lastModifiedBy>
  <dcterms:modified xsi:type="dcterms:W3CDTF">2010-03-03T18:08:47Z</dcterms:modified>
  <cp:revision>1</cp:revision>
  <dc:subject/>
  <dc:title>Slide 1</dc:title>
</cp:coreProperties>
</file>