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881-99A3-4996-B559-4B214AFCF5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493-F165-49B3-B272-915F97C2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60E-D745-483C-B9CA-5782C68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E4B-8747-4C17-A0DC-E42F289D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A28-C4FA-4FD9-8E48-72B2224D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C51-E464-4600-9035-0C5F5B8B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45E-12EA-483E-B7E0-776EFF17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C6F-ACE7-43A0-8DA3-072BDB3F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55B-C9A2-4F14-A749-6DE2F846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DBE-3802-4FD7-9FD7-0FEAD548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708-F784-40DE-9ADE-61920D9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C46-6B21-410C-936F-A5C8C9D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1E2-07FB-4879-9D0A-D8CE9F6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9ADC-BF36-44C6-BD98-1B0392D4B1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434520"/>
            <a:ext cx="9072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urkish Alpha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1800" y="1619280"/>
            <a:ext cx="93585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cçdefgğhıijklmnoöprsştuüvy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BCÇDEFGĞHIİJKLMNOÖPRSŞTUÜVY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