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3880" cy="98931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93160"/>
              <a:gd name="textAreaBottom" fmla="*/ 9892800 h 9893160"/>
            </a:gdLst>
            <a:ahLst/>
            <a:rect l="textAreaLeft" t="textAreaTop" r="textAreaRight" b="textAreaBottom"/>
            <a:pathLst>
              <a:path w="21600" h="31686">
                <a:moveTo>
                  <a:pt x="5" y="0"/>
                </a:moveTo>
                <a:arcTo wR="5" hR="5" stAng="16200000" swAng="-5400000"/>
                <a:lnTo>
                  <a:pt x="0" y="31681"/>
                </a:lnTo>
                <a:arcTo wR="5" hR="5" stAng="10800000" swAng="-5400000"/>
                <a:lnTo>
                  <a:pt x="21595" y="3168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3880" cy="9893160"/>
          </a:xfrm>
          <a:custGeom>
            <a:avLst/>
            <a:gdLst>
              <a:gd name="textAreaLeft" fmla="*/ 360 w 6743880"/>
              <a:gd name="textAreaRight" fmla="*/ 6743520 w 6743880"/>
              <a:gd name="textAreaTop" fmla="*/ 360 h 9893160"/>
              <a:gd name="textAreaBottom" fmla="*/ 9892800 h 9893160"/>
            </a:gdLst>
            <a:ahLst/>
            <a:rect l="textAreaLeft" t="textAreaTop" r="textAreaRight" b="textAreaBottom"/>
            <a:pathLst>
              <a:path w="21600" h="31686">
                <a:moveTo>
                  <a:pt x="5" y="0"/>
                </a:moveTo>
                <a:arcTo wR="5" hR="5" stAng="16200000" swAng="-5400000"/>
                <a:lnTo>
                  <a:pt x="0" y="31681"/>
                </a:lnTo>
                <a:arcTo wR="5" hR="5" stAng="10800000" swAng="-5400000"/>
                <a:lnTo>
                  <a:pt x="21595" y="3168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21040" y="-360"/>
            <a:ext cx="291960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352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9640" y="4699080"/>
            <a:ext cx="4940280" cy="4449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397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21040" y="9397800"/>
            <a:ext cx="291960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D2087-B650-4FCF-A07F-D8337B681A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21040" y="9398160"/>
            <a:ext cx="29228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B801D-0FAB-45CE-A1E4-452F6EC174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398160"/>
            <a:ext cx="292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1040" y="0"/>
            <a:ext cx="2922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7920" y="74916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00000" y="4698720"/>
            <a:ext cx="49420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3432-B62E-4FC4-B10B-E03AB3A85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7739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0480" y="3738240"/>
            <a:ext cx="7739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2915-FEC4-43C8-8A6C-CDC79605B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048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60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0963-C87D-4060-A219-64B4B5E6A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320" y="108540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4160" y="108540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0480" y="373824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320" y="373824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4160" y="3738240"/>
            <a:ext cx="24919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2B37-34F4-46E8-BA95-3233F2BF1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0480" y="1085400"/>
            <a:ext cx="773928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6F02-E602-42C8-84BC-23F6A767C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77392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D8DC-8B76-478F-9030-1158143F3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283C-31E4-48D4-895A-50166AF8C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ED96-4720-4CFB-B539-3B50221F6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70920"/>
            <a:ext cx="75927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C39A-06C8-4233-938D-4658F0F77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048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D060-8C61-4301-8B00-34BBDB951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600" y="373824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97BE-D949-400D-BCD1-EF5422772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048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600" y="1085400"/>
            <a:ext cx="377676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0480" y="3738240"/>
            <a:ext cx="7739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3179-8A10-480D-A3AB-8D074A855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0480" y="1085400"/>
            <a:ext cx="77392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901"/>
              </a:spcBef>
              <a:buClr>
                <a:srgbClr val="80808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42680" y="70920"/>
            <a:ext cx="7592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0120" y="819000"/>
            <a:ext cx="7867440" cy="1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289260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13200" y="6381360"/>
            <a:ext cx="1581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70B0E-21A2-4457-AC92-47A42E7DD8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917280"/>
            <a:ext cx="8050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..............................................................................................................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........................................................................................................................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nhancement: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ECCF-5B1F-4799-87EA-A285CEDE502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簡報</dc:title>
</cp:coreProperties>
</file>