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915-4ADA-4D6F-AB1A-B148171B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DAB-164F-49DE-BD6C-42A21E5C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C0F9-6B36-4251-92C3-641456E1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7912-65C9-42F3-A532-FF5534FE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6D4-9A93-431A-83B5-BA113D8E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CBF-31FB-4EEF-9AAC-1E1DE5B6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107-4211-429D-86A9-64F41BF7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C04-9187-42E3-A425-8FC41F01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83D-7118-4707-8C02-4E1C44CB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874F-6670-47F1-BCA4-645C089F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E952-9774-4261-A280-139F27CC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CE7-4E60-4987-A74E-D6DB8838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57CF-CFB0-47AF-BBB3-35BCD6B423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5920" y="762120"/>
            <a:ext cx="3810240" cy="253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ase Name: Line_Curve_0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unction Name: SD\Line\Curve\Line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erify Point: Line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roperty Value: Dash 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ile Name: FFC30FFCSD_Line_Curve_0180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8800" y="4221000"/>
            <a:ext cx="3971880" cy="1800360"/>
          </a:xfrm>
          <a:custGeom>
            <a:avLst/>
            <a:gdLst/>
            <a:ahLst/>
            <a:rect l="l" t="t" r="r" b="b"/>
            <a:pathLst>
              <a:path w="2502" h="1134">
                <a:moveTo>
                  <a:pt x="787" y="0"/>
                </a:moveTo>
                <a:cubicBezTo>
                  <a:pt x="930" y="522"/>
                  <a:pt x="1074" y="1044"/>
                  <a:pt x="1195" y="1089"/>
                </a:cubicBezTo>
                <a:cubicBezTo>
                  <a:pt x="1316" y="1134"/>
                  <a:pt x="1693" y="385"/>
                  <a:pt x="1512" y="272"/>
                </a:cubicBezTo>
                <a:cubicBezTo>
                  <a:pt x="1331" y="159"/>
                  <a:pt x="0" y="295"/>
                  <a:pt x="106" y="408"/>
                </a:cubicBezTo>
                <a:cubicBezTo>
                  <a:pt x="212" y="521"/>
                  <a:pt x="1792" y="1013"/>
                  <a:pt x="2147" y="953"/>
                </a:cubicBezTo>
                <a:cubicBezTo>
                  <a:pt x="2502" y="893"/>
                  <a:pt x="2283" y="30"/>
                  <a:pt x="2238" y="45"/>
                </a:cubicBezTo>
                <a:cubicBezTo>
                  <a:pt x="2193" y="60"/>
                  <a:pt x="1837" y="1020"/>
                  <a:pt x="1875" y="1043"/>
                </a:cubicBezTo>
                <a:cubicBezTo>
                  <a:pt x="1913" y="1066"/>
                  <a:pt x="2367" y="325"/>
                  <a:pt x="2465" y="181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06:54:08Z</dcterms:created>
  <dc:creator>aaa</dc:creator>
  <dc:description/>
  <dc:language>en-US</dc:language>
  <cp:lastModifiedBy>crystal</cp:lastModifiedBy>
  <dcterms:modified xsi:type="dcterms:W3CDTF">2012-06-05T02:21:09Z</dcterms:modified>
  <cp:revision>3</cp:revision>
  <dc:subject/>
  <dc:title>Slide 1</dc:title>
</cp:coreProperties>
</file>