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E1F-2ED5-4890-A774-86DAAA1A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5F1-88AF-43AF-8A0E-35BAE0DC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7DF-E7ED-4A0E-95D2-C03A2892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9C6-6DE3-42E0-92FD-83A8F234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112-5F5F-4E68-B05B-6E25365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D30-15E2-4CAF-9301-B176C0C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BF0-78D3-462F-96C3-D35CE55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82B-D5E8-4DB4-921F-1CCF2FC7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77E-5705-4B5F-A44B-AD8E242C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648-5881-49FC-873B-1A5153C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7A9-B92B-4FDD-BCD3-EC29E07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F31-6EBA-4150-8698-C660323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3F00-634C-4B8A-92A5-FA836D679C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81952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I wish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he str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of all ele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Presentation goes off also fully automatically.  As you like.  Please switch on loudspeak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2400" y="6416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For  you 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December 2004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/>
  <dc:language>en-US</dc:language>
  <cp:lastModifiedBy>caolan</cp:lastModifiedBy>
  <dcterms:modified xsi:type="dcterms:W3CDTF">2008-04-09T14:28:26Z</dcterms:modified>
  <cp:revision>48</cp:revision>
  <dc:subject/>
  <dc:title>I's not from me!!!</dc:title>
</cp:coreProperties>
</file>