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ACE-11AD-406A-B3DB-2944F167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C4A-A773-4F95-9430-55DD1AA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0C3-E50B-44E4-8751-153890C6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C3D-7FF9-45AE-963E-F94BEA39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4B3-8CAC-4D8B-B34D-5680DB61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635-D5B4-48CD-BA90-5B814297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712-95AB-4542-9B65-CFEB3C7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D61-D67C-48B8-90B4-C338C0A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0DA-FBEF-4538-B06E-4A50166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DEC-B8DB-4D45-BD2E-57413BDE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134-EC5F-41ED-A292-0C84850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935-5007-4592-8333-080C3EC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E98-21C0-4409-B6C7-484EB301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ori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ics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Black and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ics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03440" y="3886200"/>
            <a:ext cx="233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9:30:27Z</dcterms:created>
  <dc:creator/>
  <dc:description/>
  <dc:language>en-US</dc:language>
  <cp:lastModifiedBy>svege</cp:lastModifiedBy>
  <dcterms:modified xsi:type="dcterms:W3CDTF">2010-09-06T10:25:51Z</dcterms:modified>
  <cp:revision>6</cp:revision>
  <dc:subject/>
  <dc:title>Picture original</dc:title>
</cp:coreProperties>
</file>