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B940-0964-4AC0-A3C6-9E2261E81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28D7-FABD-45A1-A7EB-77E74995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CDD4-823F-44BD-B736-2CF10602A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55A5-C2F5-4F54-B146-04EA45637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9CAF-B95A-4152-A59D-187A2588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9560-E0AB-448F-B448-8F8CA34A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E2CD-5623-4CF7-A67E-15E88A47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053A-47DA-4AEC-B7B3-391B104C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B84B-5E14-46C5-8D44-C8490967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42B5-9F66-48C0-BC75-3C206CDC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7BF5-1FCA-4DA0-9D48-9FC74699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6780-9C4F-4F4C-8414-C9B11EEB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8DAD-DEEB-4E40-8BE3-6E80C090C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edded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3520" y="1295280"/>
          <a:ext cx="8229600" cy="5175360"/>
        </p:xfrm>
        <a:graphic>
          <a:graphicData uri="http://schemas.openxmlformats.org/drawingml/2006/table">
            <a:tbl>
              <a:tblPr/>
              <a:tblGrid>
                <a:gridCol w="822240"/>
                <a:gridCol w="824040"/>
                <a:gridCol w="822240"/>
                <a:gridCol w="823680"/>
                <a:gridCol w="822600"/>
                <a:gridCol w="822240"/>
                <a:gridCol w="824040"/>
                <a:gridCol w="822240"/>
                <a:gridCol w="823680"/>
                <a:gridCol w="82260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reg Gorman</cp:lastModifiedBy>
  <dcterms:modified xsi:type="dcterms:W3CDTF">2011-11-01T17:47:3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