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43FE-30E5-4085-836D-03FF77902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210E-A033-4001-B3CA-76BAF7BB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E9EF-B7BF-40B2-9364-272977596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DE97-6DC1-4477-AB88-3292E7497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5960-D4D3-4474-89B4-8D8CF4A0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7A4B-F76F-47AD-AC5E-367822B6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A1AC-0CA0-4F5D-B316-0326B23B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A4E1-B36E-40EC-813A-9882C3F7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6E52-DA93-4371-94AC-886614E3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4CC8-F4DB-45FA-A932-0B406335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8C4D-FA11-4853-83C9-60E17FDF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EE21-4CDD-43CC-BC81-981A5B75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2C99-EAC7-4B0C-95E9-2C13F7963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5400000">
            <a:off x="5036040" y="1380240"/>
            <a:ext cx="1551240" cy="257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ＭＳ Ｐ明朝"/>
              </a:rPr>
              <a:t>コンピューター</a:t>
            </a:r>
            <a:endParaRPr b="0" lang="en-US" sz="20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ＭＳ Ｐ明朝"/>
              <a:ea typeface="ＭＳ Ｐ明朝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82960" y="476280"/>
            <a:ext cx="15526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ＭＳ Ｐ明朝"/>
              </a:rPr>
              <a:t>コンピューター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ＭＳ Ｐ明朝"/>
              <a:ea typeface="ＭＳ Ｐ明朝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564000" y="3068640"/>
            <a:ext cx="28083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ＭＳ Ｐ明朝"/>
              </a:rPr>
              <a:t>「今日は、いい天気です。」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ＭＳ Ｐ明朝"/>
              <a:ea typeface="ＭＳ Ｐ明朝"/>
            </a:endParaRPr>
          </a:p>
        </p:txBody>
      </p:sp>
      <p:sp>
        <p:nvSpPr>
          <p:cNvPr id="44" name=""/>
          <p:cNvSpPr txBox="1"/>
          <p:nvPr/>
        </p:nvSpPr>
        <p:spPr>
          <a:xfrm rot="5400000">
            <a:off x="1567440" y="4704480"/>
            <a:ext cx="2808360" cy="257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ＭＳ Ｐ明朝"/>
              </a:rPr>
              <a:t>「今日は、いい天気です。」</a:t>
            </a:r>
            <a:endParaRPr b="0" lang="en-US" sz="20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ＭＳ Ｐ明朝"/>
              <a:ea typeface="ＭＳ Ｐ明朝"/>
            </a:endParaRPr>
          </a:p>
        </p:txBody>
      </p:sp>
      <p:sp>
        <p:nvSpPr>
          <p:cNvPr id="45" name=""/>
          <p:cNvSpPr/>
          <p:nvPr/>
        </p:nvSpPr>
        <p:spPr>
          <a:xfrm>
            <a:off x="4890960" y="733320"/>
            <a:ext cx="760680" cy="82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5200" y="981000"/>
            <a:ext cx="484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These glyphs differ each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The vertical one is not rendered by rot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It is rendered with a vertical substitution glyp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276360" y="3357720"/>
            <a:ext cx="115092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53440" y="378936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No ro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3203640" y="3429000"/>
            <a:ext cx="3024000" cy="266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34520" y="4653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No ro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659640" y="333360"/>
            <a:ext cx="1584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ＭＳ Ｐ明朝"/>
              </a:rPr>
              <a:t>ー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ＭＳ Ｐ明朝"/>
              <a:ea typeface="ＭＳ Ｐ明朝"/>
            </a:endParaRPr>
          </a:p>
        </p:txBody>
      </p:sp>
      <p:sp>
        <p:nvSpPr>
          <p:cNvPr id="52" name=""/>
          <p:cNvSpPr txBox="1"/>
          <p:nvPr/>
        </p:nvSpPr>
        <p:spPr>
          <a:xfrm rot="5400000">
            <a:off x="6445800" y="1772280"/>
            <a:ext cx="1551240" cy="257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ＭＳ Ｐ明朝"/>
              </a:rPr>
              <a:t>ー</a:t>
            </a:r>
            <a:endParaRPr b="0" lang="en-US" sz="20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ＭＳ Ｐ明朝"/>
              <a:ea typeface="ＭＳ Ｐ明朝"/>
            </a:endParaRPr>
          </a:p>
        </p:txBody>
      </p:sp>
      <p:sp>
        <p:nvSpPr>
          <p:cNvPr id="53" name=""/>
          <p:cNvSpPr/>
          <p:nvPr/>
        </p:nvSpPr>
        <p:spPr>
          <a:xfrm>
            <a:off x="5940360" y="1700280"/>
            <a:ext cx="1152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0000" y="549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6:06:16Z</dcterms:created>
  <dc:creator>　</dc:creator>
  <dc:description/>
  <dc:language>en-US</dc:language>
  <cp:lastModifiedBy>　</cp:lastModifiedBy>
  <dcterms:modified xsi:type="dcterms:W3CDTF">2009-01-09T16:40:50Z</dcterms:modified>
  <cp:revision>2</cp:revision>
  <dc:subject/>
  <dc:title>スライド 1</dc:title>
</cp:coreProperties>
</file>