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28F-D453-4BCB-B20D-E993CC59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963-C5C9-4BAC-92EA-C00E0F20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240-1F6F-4293-BA98-FB52E6DE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D10-F36C-4F7C-A382-7ECDB7EF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91F-C12E-4330-ABAA-016C993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D65-037A-431C-B882-FD5BCD43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F4C-F488-400F-BD5E-569529B4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0C4-6EA5-4D00-BD13-EE4ECA8B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873-9E09-4468-9CBC-BCC366AA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541-5409-40DC-A8F0-7DDCDF1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A84-7B02-47FF-9628-020868E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C73-506F-4228-AF86-CF0E2B2D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79A02F-4DDE-4D0E-A48C-3A7F5E5F8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620640"/>
            <a:ext cx="8642160" cy="4608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324000" y="90792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’ll disappear for a mom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63160" y="515772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"/>
          <p:cNvSpPr/>
          <p:nvPr/>
        </p:nvSpPr>
        <p:spPr>
          <a:xfrm>
            <a:off x="1055160" y="486900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1919520" y="458136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2783160" y="429264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3647520" y="393372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4511880" y="357336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-0.14832 C 0.00972 -0.1578 0.03056 -0.25683 0.08301 -0.25012 C 0.16273 -0.24063 0.19399 -0.17053 0.26762 -0.24063 C 0.31347 -0.28205 0.368 -0.38709 0.40812 -0.38385 C 0.49808 -0.38062 0.51701 -0.2728 0.51701 -0.17377 C 0.51927 -0.03379 0.40152 0.08398 0.25929 0.09648 C 0.11427 0.10666 -0.00504 -0.04327 0.00538 -0.14832 Z">
                                      <p:cBhvr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6:05:05Z</dcterms:created>
  <dc:creator>xxt</dc:creator>
  <dc:description/>
  <dc:language>en-US</dc:language>
  <cp:lastModifiedBy>Del Dewar</cp:lastModifiedBy>
  <dcterms:modified xsi:type="dcterms:W3CDTF">2014-06-13T23:57:27Z</dcterms:modified>
  <cp:revision>41</cp:revision>
  <dc:subject/>
  <dc:title>Slide 1</dc:title>
</cp:coreProperties>
</file>