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DFA-875F-4FBD-8D87-5BD038E5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D95-3695-47E2-AFC2-F8F409FA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80B-FBA6-4DDB-A424-BE2B1EC9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AE1-C300-4ED5-85D8-BFE0D219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0E6-46C8-4B6F-B054-B08AA7BA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F3F-734F-4B2D-A698-716B66C2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211-B673-4769-A5DF-9B3FF1D2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799-074F-4466-948C-F2B54B0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6D0-6472-4E36-BC3E-297C422B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345-4A9B-4939-96E5-5BFB9DB9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3C8-842C-428C-A5A6-3E94780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FE7-F91B-42C2-8F80-1060C3FB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192A-630B-4098-9C2C-DB7F0EAE4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1TODAY_2"/>
          <p:cNvSpPr/>
          <p:nvPr/>
        </p:nvSpPr>
        <p:spPr>
          <a:xfrm>
            <a:off x="2627280" y="112536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TIME_2"/>
          <p:cNvSpPr/>
          <p:nvPr/>
        </p:nvSpPr>
        <p:spPr>
          <a:xfrm>
            <a:off x="4859280" y="12682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:51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LLERSINQ_2"/>
          <p:cNvSpPr/>
          <p:nvPr/>
        </p:nvSpPr>
        <p:spPr>
          <a:xfrm>
            <a:off x="5003640" y="191628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IRSTCLI_2"/>
          <p:cNvSpPr/>
          <p:nvPr/>
        </p:nvSpPr>
        <p:spPr>
          <a:xfrm>
            <a:off x="3276720" y="328464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LI in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MAP 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6:26:26Z</dcterms:created>
  <dc:creator>Mike Weston</dc:creator>
  <dc:description/>
  <dc:language>en-US</dc:language>
  <cp:lastModifiedBy>Mike Weston</cp:lastModifiedBy>
  <dcterms:modified xsi:type="dcterms:W3CDTF">2005-05-09T08:55:23Z</dcterms:modified>
  <cp:revision>10</cp:revision>
  <dc:subject/>
  <dc:title>Slide 1</dc:title>
</cp:coreProperties>
</file>