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DC9-D188-40E3-B654-BAE6C5C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AEC-1023-4C65-8185-3DCA441D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334-3358-47E9-83A8-6BECC4E6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836-1D20-491F-8F6C-0DD0C774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B5E-61E1-486E-8234-3249E493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1F1-DC5F-439B-BEDC-1BD21EC0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9E4-D190-43F7-9100-D685BC6B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E9F-F219-4BA7-8AF4-9DF5A5DE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EB8-E4D7-4560-9A04-1E1D3FD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AC3-A126-4F7F-B1E6-37F4A55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C2D-CE66-422A-BA5A-324F553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8FE-A38D-4045-9CD8-805DC5B0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D49-AB43-4687-A65B-80E544F01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area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10-08T13:53:41Z</dcterms:modified>
  <cp:revision>3</cp:revision>
  <dc:subject/>
  <dc:title>PowerPoint Presentation</dc:title>
</cp:coreProperties>
</file>