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923-5FF2-4EA9-82D0-8F66BAF9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5CF-68A2-4CFE-8217-8FFEE970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1FB-8B3A-477C-93B3-272093CB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BA9-63B1-423D-8E07-EC6D8EC6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2DCD-840E-4DE1-97DA-AD40E12A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34AE-AEAB-4809-A606-CCE6B3A6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F573-A2ED-4FC1-8ADB-923E0700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F76A-A2F5-4D0D-86D2-33333413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B2F0-6DC9-4ED2-8A07-FA2AA8B2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B9FC-29B4-4725-A251-DD9AFC04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B528-C1DF-48D5-B3B7-0D76771C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845-26D0-4DEC-8F4A-415B6529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9B9F-7113-4326-999D-BD11BC13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3F70-BA1E-4A70-818D-93D45A1C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5D10-204B-4EF7-9A84-8287DA04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B95F-DA74-4A9F-853A-1248FA0A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77A8-A4F1-417D-BFA6-15E88DF1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638-F95E-422A-94A8-DF1FA86F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B13-BBEB-451F-B23B-8A3026C6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3E0-7409-4610-94D1-26E60A00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5D0-A08F-4698-A9F8-B7E137CF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902-7413-494F-8E99-262C0207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D46-F7C6-4419-BDB6-5B6DE78D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4C3-61DE-497A-93D8-149C0CA9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B53A3D-12A9-49C7-AC62-6CD0161C6994}" type="slidenum">
              <a:rPr b="0" lang="en-GB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09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B6B0729-F10F-48DE-9034-F04870892758}" type="slidenum">
              <a:rPr b="0" lang="en-GB" sz="10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200" spc="-1" strike="noStrike">
                <a:solidFill>
                  <a:srgbClr val="000000"/>
                </a:solidFill>
                <a:latin typeface="Garamond"/>
              </a:rPr>
              <a:t>Friedrich-Schiller-Universität</a:t>
            </a:r>
            <a:r>
              <a:rPr b="0" lang="en-GB" sz="5200" spc="-1" strike="noStrike">
                <a:solidFill>
                  <a:srgbClr val="666699"/>
                </a:solidFill>
                <a:latin typeface="Garamond"/>
              </a:rPr>
              <a:t> </a:t>
            </a:r>
            <a:r>
              <a:rPr b="0" lang="en-GB" sz="5200" spc="-1" strike="noStrike">
                <a:solidFill>
                  <a:srgbClr val="000000"/>
                </a:solidFill>
                <a:latin typeface="Garamond"/>
              </a:rPr>
              <a:t>Jena</a:t>
            </a:r>
            <a:br>
              <a:rPr sz="5200"/>
            </a:br>
            <a:r>
              <a:rPr b="0" lang="en-GB" sz="5200" spc="-1" strike="noStrike">
                <a:solidFill>
                  <a:srgbClr val="000000"/>
                </a:solidFill>
                <a:latin typeface="Garamond"/>
              </a:rPr>
              <a:t>WS 2007/08</a:t>
            </a:r>
            <a:endParaRPr b="0" lang="en-US" sz="5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irtschaftsvölkerrec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f. Dr. Christoph Ohler. LL.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II. Geschichte des Welthan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TO (Fortsetzung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986 Uruguay Run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Ziele: Regelorientierung und Institutionalisie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ingle undertaking approa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inbeziehung des Dienstleistungshandels (GATS) und des Schutzes der handelsbezogenen Aspekte des geistigen Eigentums (TRIPS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andwirtschaft und Subventionswes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ärkung der institutionellen Struktur des GAT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erbesserung des Streitbeilegungsmechanism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990 Vorschlag zur Gründung einer W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5. April 1994 Schlussakte von Marrakes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ündung der WTO mit Wirkung zum 1. Januar 199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itdem weitere Verhandlungsrunden (derzeit Doha-Runde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dur="indefinite" fill="hold">
                      <p:stCondLst>
                        <p:cond delay="indefinite"/>
                      </p:stCondLst>
                      <p:childTnLst>
                        <p:par>
                          <p:cTn id="5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dur="indefinite" fill="hold">
                      <p:stCondLst>
                        <p:cond delay="indefinite"/>
                      </p:stCondLst>
                      <p:childTnLst>
                        <p:par>
                          <p:cTn id="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dur="indefinite" fill="hold">
                      <p:stCondLst>
                        <p:cond delay="indefinite"/>
                      </p:stCondLst>
                      <p:childTnLst>
                        <p:par>
                          <p:cTn id="6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dur="indefinite" fill="hold">
                      <p:stCondLst>
                        <p:cond delay="indefinite"/>
                      </p:stCondLst>
                      <p:childTnLst>
                        <p:par>
                          <p:cTn id="6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dur="indefinite" fill="hold">
                      <p:stCondLst>
                        <p:cond delay="indefinite"/>
                      </p:stCondLst>
                      <p:childTnLst>
                        <p:par>
                          <p:cTn id="6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dur="indefinite" fill="hold">
                      <p:stCondLst>
                        <p:cond delay="indefinite"/>
                      </p:stCondLst>
                      <p:childTnLst>
                        <p:par>
                          <p:cTn id="6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dur="indefinite" fill="hold">
                      <p:stCondLst>
                        <p:cond delay="indefinite"/>
                      </p:stCondLst>
                      <p:childTnLst>
                        <p:par>
                          <p:cTn id="6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dur="indefinite" fill="hold">
                      <p:stCondLst>
                        <p:cond delay="indefinite"/>
                      </p:stCondLst>
                      <p:childTnLst>
                        <p:par>
                          <p:cTn id="6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dur="indefinite" fill="hold">
                      <p:stCondLst>
                        <p:cond delay="indefinite"/>
                      </p:stCondLst>
                      <p:childTnLst>
                        <p:par>
                          <p:cTn id="6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dur="indefinite" fill="hold">
                      <p:stCondLst>
                        <p:cond delay="indefinite"/>
                      </p:stCondLst>
                      <p:childTnLst>
                        <p:par>
                          <p:cTn id="6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dur="indefinite" fill="hold">
                      <p:stCondLst>
                        <p:cond delay="indefinite"/>
                      </p:stCondLst>
                      <p:childTnLst>
                        <p:par>
                          <p:cTn id="6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dur="indefinite" fill="hold">
                      <p:stCondLst>
                        <p:cond delay="indefinite"/>
                      </p:stCondLst>
                      <p:childTnLst>
                        <p:par>
                          <p:cTn id="6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. Ökonomie des Welthan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ichwort Globalisie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ominanz wirtschaftlicher Prozes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erflechtung und wechselseitige Abhängigkeit ursprünglich nationaler Volkswirtschaf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flösung rein nationaler Märk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erlust staatlicher Steuerungsfähigkeit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deutung der Informations- und Telekommunikationstechnolog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iedrige Kommunikationskos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eltweite Kommunikation in Echtze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deutung von Transporttechnolog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chneller Transport zu niedrigen Kos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ber: starke Abhängigkeit von Rohstoffpreis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deutung internationaler Finanzmärk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eltweite Aufbringung von K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rfordernis raschen, sicheren und weltweiten Zahlungsverkeh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bsicherung gegen wirtschaftliche, rechtliche und politische Risik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. Ökonomie des Welthan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r Welthandel nach Sekt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a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andwirtschaftliche Produk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ergbauprodukte (einschließlich Erdöl u. Erdgas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erarbeitete Produkte (Beispiele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lekommunik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schinenba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enstleistungen (Beispiele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ransport und Verkeh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ourism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ndere (Banken, Versicherungen, Rechtsberatung, Bau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rektinvestitio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rtfolioinvestitio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 fill="hold"/>
                                        <p:tgtEl>
                                          <p:spTgt spid="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. Ökonomie des Welthan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inige Zah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achstum des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Welthandel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Export) in Waren (jährlicher Anstieg, wertbezogen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2005 um 13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andwirtschaftliche Produkte: 8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eibstoffe und Bergbauprodukte: 36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Verarbeitungserzeugnisse: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achstum der weltweiten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Warenproduk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jährl. Anstieg, mengenbezogen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2005 um 2,6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andwirtschaftliche Produkte: 0,5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eibstoffe und Bergbauprodukte: 1,2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Verarbeitungserzeugnisse: 3,3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achstum des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Welthandel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Export) in Dienstleistungen (jährlicher Anstieg, wertbezogen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2005 um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nsport: 12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ourismus: 8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8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ndere: 11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. Ökonomie des Welthan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inige Zah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ltgrößte Exporteure (Waren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4: Deutschland, USA, China, Jap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5: Deutschland, USA, China, Jap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ltgrößte Importeure (Waren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4: USA, Deutschland, China, Frankrei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5: USA, Deutschland, China, Jap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ltgrößte Exporteure (Dienstleistungen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4: USA, Großbritannien, Deutschland, Frankrei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5: USA, Großbritannien, Deutschland, Frankrei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ltgrößte Importeure (Dienstleistungen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4: USA, Deutschland, China, Großbritannien, Jap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005: USA, Deutschland, Großbritannien, Jap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. Ökonomie des Welthande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ußenwirtschaftstheor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rkantilism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orie der komparativen Vorteile (D. Ricardo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undgedanke: Spezialisierung und Arbeitsteil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trachtung nur des Produktionsfaktors Arbe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Jedes Land spezialisiert sich auf die Herstellung der Güter, bei denen es über einen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komparative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Vorteil verfüg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ßgeblich: Arbeitsproduktivität u. Lohn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ohlstandsgewinne für A und B selbst dann möglich, wenn Land A  über die höhere Arbeitsproduktivität, B aber über die niedrigeren Lohnstückkosten verfüg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fill="hold">
                      <p:stCondLst>
                        <p:cond delay="indefinite"/>
                      </p:stCondLst>
                      <p:childTnLst>
                        <p:par>
                          <p:cTn id="3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. Ökonomie des Welthan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ßenwirtschaftstheor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blem der inländischen Einkommensverteil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eckscher-Ohlin-Theor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edeutung der relativen Faktor- bzw. Ressourcenausstatt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esitzer reichlich vorhandener Faktoren profitieren vom Außenhandel, Besitzer knapper Faktoren erleiden Nachte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ue Handelstheor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conomies of Sc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oduktdifferenzieru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erstärkung des Wettbewerb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rgumente für Handelsbeschränk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rziehungszöl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ositive Effekte für inländisches Beschäftigungsniveau durch Handelsüberschüs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ärkung eines Wirtschaftszweiges durch Exportförderung, um künftig Skaleneffekte zu erziele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dur="indefinite" fill="hold">
                      <p:stCondLst>
                        <p:cond delay="indefinite"/>
                      </p:stCondLst>
                      <p:childTnLst>
                        <p:par>
                          <p:cTn id="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dur="indefinite" fill="hold">
                      <p:stCondLst>
                        <p:cond delay="indefinite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I. Politik  des Welthan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ßenpolitische Bedeutung des Welthan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r miteinander handelt, führt keinen Krieg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chaffung von Interdependen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chaffung von Stabilitä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riedensfördernde Wirkung von Wohlstandsgewin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litikwissenschaftliche Beschreibungsversu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Konstitutionalisie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lobal Governance Konzep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ritik des Welthandels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euerungsverluste nationaler Regierun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ace to the bott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inseitige Durchsetzung der Interessen großer Sta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dur="indefinite" fill="hold">
                      <p:stCondLst>
                        <p:cond delay="indefinite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dur="indefinite" fill="hold">
                      <p:stCondLst>
                        <p:cond delay="indefinite"/>
                      </p:stCondLst>
                      <p:childTnLst>
                        <p:par>
                          <p:cTn id="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dur="indefinite" fill="hold">
                      <p:stCondLst>
                        <p:cond delay="indefinite"/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dur="indefinite" fill="hold">
                      <p:stCondLst>
                        <p:cond delay="indefinite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§ 1 Einführung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II. Geschichte des Welthan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lgeme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it dem Zweiten Weltkrieg Zunahme internationaler Freundschafts- und Schifffahrtsverträ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it Ende der 1980er Jahre Zunahme bilateraler Investitionsschutzabkomm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leichzeitig steigende Bedeutung regionaler Übereinkommen zur Wirtschaftsintegration (EU, NAFTA, Mercosur, ASEAN etc.)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945: Pläne zur Schaffung v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GAT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ITO (Havanna Charta)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.1.1948: Vorläufiges Inkrafttreten des GAT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oblem: grandfather rights (Teil II GATT)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950: ITO scheitert im US-Kongr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eitere Verhandlungsrunden (Annecy, Torquay, Genf, Dillon, Kennedy, Tokyo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ilaterale Zugeständnisse führen zur Entstehung eines „GATT à la carte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dur="indefinite" fill="hold">
                      <p:stCondLst>
                        <p:cond delay="indefinite"/>
                      </p:stCondLst>
                      <p:childTnLst>
                        <p:par>
                          <p:cTn id="5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dur="indefinite" fill="hold">
                      <p:stCondLst>
                        <p:cond delay="indefinite"/>
                      </p:stCondLst>
                      <p:childTnLst>
                        <p:par>
                          <p:cTn id="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dur="indefinite" fill="hold">
                      <p:stCondLst>
                        <p:cond delay="indefinite"/>
                      </p:stCondLst>
                      <p:childTnLst>
                        <p:par>
                          <p:cTn id="5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dur="indefinite" fill="hold">
                      <p:stCondLst>
                        <p:cond delay="indefinite"/>
                      </p:stCondLst>
                      <p:childTnLst>
                        <p:par>
                          <p:cTn id="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dur="indefinite" fill="hold">
                      <p:stCondLst>
                        <p:cond delay="indefinite"/>
                      </p:stCondLst>
                      <p:childTnLst>
                        <p:par>
                          <p:cTn id="5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dur="indefinite" fill="hold">
                      <p:stCondLst>
                        <p:cond delay="indefinite"/>
                      </p:stCondLst>
                      <p:childTnLst>
                        <p:par>
                          <p:cTn id="5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dur="indefinite" fill="hold">
                      <p:stCondLst>
                        <p:cond delay="indefinite"/>
                      </p:stCondLst>
                      <p:childTnLst>
                        <p:par>
                          <p:cTn id="5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dur="indefinite" fill="hold">
                      <p:stCondLst>
                        <p:cond delay="indefinite"/>
                      </p:stCondLst>
                      <p:childTnLst>
                        <p:par>
                          <p:cTn id="5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dur="indefinite" fill="hold">
                      <p:stCondLst>
                        <p:cond delay="indefinite"/>
                      </p:stCondLst>
                      <p:childTnLst>
                        <p:par>
                          <p:cTn id="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dur="indefinite" fill="hold">
                      <p:stCondLst>
                        <p:cond delay="indefinite"/>
                      </p:stCondLst>
                      <p:childTnLst>
                        <p:par>
                          <p:cTn id="5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dur="indefinite" fill="hold">
                      <p:stCondLst>
                        <p:cond delay="indefinite"/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dur="indefinite" fill="hold">
                      <p:stCondLst>
                        <p:cond delay="indefinite"/>
                      </p:stCondLst>
                      <p:childTnLst>
                        <p:par>
                          <p:cTn id="5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ristische Fakultät</dc:creator>
  <dc:description/>
  <dc:language>en-US</dc:language>
  <cp:lastModifiedBy>icajun</cp:lastModifiedBy>
  <cp:revision>0</cp:revision>
  <dc:subject/>
  <dc:title>Friedrich-Schiller-Universität Jena WS 2005/06</dc:title>
</cp:coreProperties>
</file>