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E3E9-6E45-4844-92B6-2EFA9AA0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867-5B05-43F5-8BBF-491DD875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E9E-422E-40A9-995E-AACB66E3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BCF-7FEB-484A-BF25-3B5BFE7D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4716-9086-4145-90B5-D3ABC41C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2ED-10DA-4E82-832C-05569BE7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0F2-1117-4A97-AFC9-0BD8D4B6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AECF-F833-4789-9FD1-E176BF0C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378-DB24-441C-98E4-8B2139F3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B9C4-6D07-411C-A68F-BA55067F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5270-9692-4899-8D59-0939965C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060-93DB-44DD-BBF7-E2FB1B67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23F94C-304F-44F1-B67D-B38D1187B6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0800000">
            <a:off x="1830240" y="3125880"/>
            <a:ext cx="1097280" cy="977760"/>
          </a:xfrm>
          <a:custGeom>
            <a:avLst/>
            <a:gdLst>
              <a:gd name="textAreaLeft" fmla="*/ 393480 w 1097280"/>
              <a:gd name="textAreaRight" fmla="*/ 703800 w 1097280"/>
              <a:gd name="textAreaTop" fmla="*/ 350640 h 977760"/>
              <a:gd name="textAreaBottom" fmla="*/ 62712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10800000">
            <a:off x="7957800" y="3125880"/>
            <a:ext cx="1096920" cy="977760"/>
          </a:xfrm>
          <a:custGeom>
            <a:avLst/>
            <a:gdLst>
              <a:gd name="textAreaLeft" fmla="*/ 393480 w 1096920"/>
              <a:gd name="textAreaRight" fmla="*/ 703440 w 1096920"/>
              <a:gd name="textAreaTop" fmla="*/ 350640 h 977760"/>
              <a:gd name="textAreaBottom" fmla="*/ 62712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878000" y="3125880"/>
            <a:ext cx="1096920" cy="977760"/>
          </a:xfrm>
          <a:custGeom>
            <a:avLst/>
            <a:gdLst>
              <a:gd name="textAreaLeft" fmla="*/ 393480 w 1096920"/>
              <a:gd name="textAreaRight" fmla="*/ 703440 w 1096920"/>
              <a:gd name="textAreaTop" fmla="*/ 350640 h 977760"/>
              <a:gd name="textAreaBottom" fmla="*/ 62712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1905120"/>
            <a:ext cx="1096920" cy="977760"/>
          </a:xfrm>
          <a:custGeom>
            <a:avLst/>
            <a:gdLst>
              <a:gd name="textAreaLeft" fmla="*/ 393480 w 1096920"/>
              <a:gd name="textAreaRight" fmla="*/ 703440 w 1096920"/>
              <a:gd name="textAreaTop" fmla="*/ 350640 h 977760"/>
              <a:gd name="textAreaBottom" fmla="*/ 62712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948440" y="1905120"/>
            <a:ext cx="1097280" cy="977760"/>
          </a:xfrm>
          <a:custGeom>
            <a:avLst/>
            <a:gdLst>
              <a:gd name="textAreaLeft" fmla="*/ 393480 w 1097280"/>
              <a:gd name="textAreaRight" fmla="*/ 703800 w 1097280"/>
              <a:gd name="textAreaTop" fmla="*/ 350640 h 977760"/>
              <a:gd name="textAreaBottom" fmla="*/ 62712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905120"/>
            <a:ext cx="1096920" cy="977760"/>
          </a:xfrm>
          <a:custGeom>
            <a:avLst/>
            <a:gdLst>
              <a:gd name="textAreaLeft" fmla="*/ 393480 w 1096920"/>
              <a:gd name="textAreaRight" fmla="*/ 703440 w 1096920"/>
              <a:gd name="textAreaTop" fmla="*/ 350640 h 977760"/>
              <a:gd name="textAreaBottom" fmla="*/ 62712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302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75040" y="1916280"/>
            <a:ext cx="64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81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6320" y="2446200"/>
            <a:ext cx="465120" cy="18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92240" y="2162160"/>
            <a:ext cx="776520" cy="1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79720" y="3460680"/>
            <a:ext cx="64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81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43080" y="3544920"/>
            <a:ext cx="469800" cy="1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98720" y="3821040"/>
            <a:ext cx="758880" cy="18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97000" y="2747880"/>
            <a:ext cx="576360" cy="533520"/>
          </a:xfrm>
          <a:prstGeom prst="ellipse">
            <a:avLst/>
          </a:prstGeom>
          <a:solidFill>
            <a:srgbClr val="e1e1e1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38640" y="1916280"/>
            <a:ext cx="64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81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10280" y="2446200"/>
            <a:ext cx="465120" cy="18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56200" y="2162160"/>
            <a:ext cx="776160" cy="1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43680" y="3460680"/>
            <a:ext cx="64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81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07040" y="3544920"/>
            <a:ext cx="469800" cy="1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62680" y="3821040"/>
            <a:ext cx="758520" cy="18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60960" y="2747880"/>
            <a:ext cx="576360" cy="533520"/>
          </a:xfrm>
          <a:prstGeom prst="ellipse">
            <a:avLst/>
          </a:prstGeom>
          <a:solidFill>
            <a:srgbClr val="e1e1e1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99360" y="1905120"/>
            <a:ext cx="64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81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71000" y="2435400"/>
            <a:ext cx="465120" cy="1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16920" y="2151000"/>
            <a:ext cx="776160" cy="18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04040" y="3449520"/>
            <a:ext cx="64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81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67760" y="3533760"/>
            <a:ext cx="469800" cy="14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123400" y="3809880"/>
            <a:ext cx="758520" cy="18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21680" y="2736720"/>
            <a:ext cx="576360" cy="533520"/>
          </a:xfrm>
          <a:prstGeom prst="ellipse">
            <a:avLst/>
          </a:prstGeom>
          <a:solidFill>
            <a:srgbClr val="e1e1e1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han Egge</dc:creator>
  <dc:description/>
  <dc:language>en-US</dc:language>
  <cp:lastModifiedBy>Nathan Egge</cp:lastModifiedBy>
  <cp:revision>0</cp:revision>
  <dc:subject/>
  <dc:title>PowerPoint Presentation</dc:title>
</cp:coreProperties>
</file>