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D0D3-811A-4ABC-B989-54D7C8C62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F8C4-C9DC-4711-BE5E-AD95EFFAF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9527-DBF7-4123-984B-578A84F4A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15EB-580F-4249-B60B-04203B027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AFCDB-A42C-49A0-8C8E-F3490908D5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0DE05-5988-4C98-985D-8665DCEF1D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3D49B-003D-4B0D-899D-B57EB16101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F3A70-FB1B-4BAB-A98C-75A2480FA2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83EC1-1A9A-4CF5-A83D-4B51EDE8D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529DF-A6E6-4F46-83C1-68AF01BF8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B0179-F3C8-486F-A07D-E20842E5D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3442-746A-4663-BF95-00958145B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423CF-29A9-4966-844E-E138E7D408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7D3AF-BA25-45B7-B070-C92AEEC9B0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95E81-3A73-47CB-81B1-1470ED7DCC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6DB46-93E1-439C-B02A-57F04A7ECA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206C4-CEA0-4167-A22A-E16DB7DDA3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9F0C6-B870-4D79-94E6-5205EA0E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A9F0C-C7BD-4E58-BEA8-43098BB4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64AD2-8C69-4ADC-895C-0C7D2249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5C432-2F6B-49C4-9F1F-1457675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F6BAF-625D-4EB6-97C2-7E802F3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E6CD-6D04-435D-B15E-C3348020B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22051-765D-40AC-B173-24F156AC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F3ACA-0BB1-4ABD-B715-2C48F45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68096-58B5-4BBD-89B5-67AD1CC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DBF44-059C-46FB-A78D-C63545A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6D0EA-CD3D-4A0F-8332-C6EF04F7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F92BC-54D6-4530-8650-56B4C61F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4AA2A-9E19-4B89-8E82-42D5D21D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71D4-3D50-43DE-91A5-647BC001B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2FF4-A252-4960-BC46-B395B04DB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350B-6951-4052-8655-D18124F6C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AF33-5A26-46D8-924A-4A0E7301D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2AE1-0BE8-4328-8AAA-41E53A478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89BC-7EB4-432F-84BF-F3B9C1864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CD2E-92A5-448C-8B8F-1965C62C274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EB1-4DA3-4649-826B-BEACB62F1E1E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087-0CCA-4771-BC11-E39FA4DD6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360" y="1600200"/>
            <a:ext cx="4386240" cy="219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22360" y="1600200"/>
            <a:ext cx="4388040" cy="2193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3932280"/>
            <a:ext cx="8915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5:01:40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09-12-30T15:23:34Z</dcterms:modified>
  <cp:revision>2</cp:revision>
  <dc:subject/>
  <dc:title>Slide 1</dc:title>
</cp:coreProperties>
</file>