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58118-5EBC-4F1F-851B-C220EE1C65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E5C-0D48-43FD-9A6F-AAA4D8EC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B9A-D8EA-4BF0-B4FC-E346AA89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638-82D4-4C24-A9C7-4D919576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7F1-6CA3-4352-8DF1-CF1CAA68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EDB1-BEB3-49C5-A240-6CAB052B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6D78-114D-4F19-9940-806B5EC5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DC5C-E720-4AD1-9788-C9A03AD4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6F23-91F2-4FF0-9DC4-41FE1DA6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5A8B-D9CB-41AD-A68D-0CF9A05A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277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B32D-9998-402F-A6B6-6629A36D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00D8-0A5B-4D1B-8067-B77115BF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F39-6D7E-44CB-B725-47425D00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99BD-D4CA-4D73-A434-FBBD76CF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7F3B-8485-42EB-A139-F0A663BA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BA76-0D49-4CFB-B2D8-0C786BAA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6242-CC09-4FF6-A382-8DA22956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6C9F-7ABC-4C30-93F6-F61230FB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B63-12D1-4F50-945E-AE0DC29C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B75-121C-40E9-8B24-CDC96BB3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CBE-F165-4E46-BF33-ACE95238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277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9BB-AB97-4176-8206-2C1DAA3F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7C7-96E4-4772-B2FF-BF436639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7B6-0F0F-44C5-8CB5-ADBB6367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10B-9354-423F-8431-2B349CB3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144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8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8170920" y="0"/>
            <a:ext cx="969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D8B2D-26C4-4FF5-BA22-5BC015D7587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144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144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616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960" y="6251400"/>
            <a:ext cx="19015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48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959093-C9AD-4C33-996B-B0D5B2229BB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Modyfikato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dyfikatory dostę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, protected, (domyślny dostęp pakietowy), 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słowo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ma inne zastosowan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yfikatory ograniczają dostęp na poziomie kodu. To nie jest mechanizm kontroli uprawnień na poziomie obiekt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yfikatory dostępu używamy z klasami, interfejsami, atrybutami, metodami, konstruktorami i klasami wewnętrzny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e wszystkie modyfikatory stosują się do każdego zagadnienia, np. klas dotyczą jedynie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(domyślny dostęp pakietow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zostałe modyfikat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tract, final, native, static, synchronized, volatile, transient, strict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ek Sro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31F-A137-4802-BB0C-34D11EEF758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