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5173-4D25-4618-B238-6497F0A1A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written some text in a new openoffice text document and selected that text as shown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 have choosen “Outline” option from the above pop up menu “style\Outline”.by right clicking the mouse on the selected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 didn’t notice any change in the selected text (Outline Outlines the selected text, or if the cursor is in word, the entire word). So please check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DDF-4F7F-4092-BDB9-7B3F8536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DE4-C622-4131-8D6A-712EE2A0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A0B-2AFE-4102-8A91-216BDE5C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743-F46A-4932-BA46-E4D14222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D7A-5C1D-4F30-905E-935E0F2E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8F7-3C51-4751-B5D6-C2D9475D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E0B-56AF-4B7D-9ECD-9B698E09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AE0-BE25-4222-9142-387A331B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1B8-35B3-4A08-A91D-0644A979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8F3-1257-45EF-8FAD-85F85E2D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196-5E8A-4217-BFFB-6552F7BB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6AD-CA6B-49B2-8FF0-6C752C5A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1211-C32B-4A17-9D73-F09E2AE9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4:04:26Z</dcterms:created>
  <dc:creator>virtusa</dc:creator>
  <dc:description/>
  <dc:language>en-US</dc:language>
  <cp:lastModifiedBy>virtusa</cp:lastModifiedBy>
  <dcterms:modified xsi:type="dcterms:W3CDTF">2004-12-08T14:08:50Z</dcterms:modified>
  <cp:revision>4</cp:revision>
  <dc:subject/>
  <dc:title>Work Flow</dc:title>
</cp:coreProperties>
</file>