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620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2640" cy="341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6208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59F3C-266C-4C7A-8738-9D407BB140C4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8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C95F7-EFD3-44E1-9400-83F9CBF2A4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8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3FDCD-769F-4B75-849D-C25D07BAF5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80FA2-80F3-4110-BC00-17371DE5A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618080"/>
            <a:ext cx="822024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77811-674D-4725-8272-E4320B59F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618080"/>
            <a:ext cx="40111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4618080"/>
            <a:ext cx="40111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AD69E-CB0E-47C1-9BC8-9348C1764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618080"/>
            <a:ext cx="26467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4618080"/>
            <a:ext cx="26467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4618080"/>
            <a:ext cx="26467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99168-0CAC-4ED4-B5F9-CB3772B24D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AD346-2639-40EC-9D4C-B4473FE272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6025C-FEB8-461A-B81D-3970F89AEB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F8AAC-05FD-49FA-92B4-1C72A979B2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C29D2-1330-4355-B7E5-07196B429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FA8FB-159C-4B76-9BCC-162921E5E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618080"/>
            <a:ext cx="40111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926A-F3A2-47B3-8672-2DBE3BBBC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4618080"/>
            <a:ext cx="40111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02F3A-BB76-4469-9AAB-0E4524DEE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618080"/>
            <a:ext cx="822024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47C90-F0D4-4D93-90A3-EF5BCC5C3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7E50A-30AA-47ED-AC55-179B6B1C31A1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293760"/>
            <a:ext cx="8610480" cy="468360"/>
          </a:xfrm>
          <a:custGeom>
            <a:avLst/>
            <a:gdLst>
              <a:gd name="textAreaLeft" fmla="*/ 0 w 8610480"/>
              <a:gd name="textAreaRight" fmla="*/ 8610480 w 861048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13" y="0"/>
                </a:lnTo>
                <a:lnTo>
                  <a:pt x="21600" y="10800"/>
                </a:lnTo>
                <a:lnTo>
                  <a:pt x="21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mpétences des ressources huma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0360" y="1440000"/>
            <a:ext cx="4059360" cy="1219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OBJECTIFS</a:t>
            </a:r>
            <a:r>
              <a:rPr b="1" i="1" lang="fr-FR" sz="1400" spc="-1" strike="noStrike">
                <a:solidFill>
                  <a:srgbClr val="00b0f0"/>
                </a:solidFill>
                <a:latin typeface="Calibri"/>
                <a:ea typeface="Calibri"/>
              </a:rPr>
              <a:t> </a:t>
            </a:r>
            <a:r>
              <a:rPr b="0" i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: adapter et maintenir durant sa carrière la qualification du personnel  par rapport aux différentes prestations ( celles , entre autres, situées dans le champ de la certification)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10160" y="1619280"/>
            <a:ext cx="4305240" cy="672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DONNÉES D’ENTRÉE </a:t>
            </a: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ersonnel en poste et nouvellement recru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atalogue des prestations et demandes particulières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31640" y="2519280"/>
          <a:ext cx="8594640" cy="4248000"/>
        </p:xfrm>
        <a:graphic>
          <a:graphicData uri="http://schemas.openxmlformats.org/drawingml/2006/table">
            <a:tbl>
              <a:tblPr/>
              <a:tblGrid>
                <a:gridCol w="2864880"/>
                <a:gridCol w="2865240"/>
                <a:gridCol w="2864520"/>
              </a:tblGrid>
              <a:tr h="31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EURS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VIT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OCUMENTS – ENREGISTR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524520">
                <a:tc>
                  <a:txBody>
                    <a:bodyPr lIns="90000" rIns="90000" tIns="13356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D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12132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Constituer et maintenir à jour les dossiers des agent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13356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Dossiers des agents (détailler contenu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019960">
                <a:tc>
                  <a:txBody>
                    <a:bodyPr lIns="90000" rIns="90000" tIns="18792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1 )DRH                                                                                                                                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2 )Chefs de servic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DRH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3 )Chefs de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18792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Assurer la formation des agents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 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1 ) Parcours d'adaptation à l'emplo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2 )  Maintien et développement du champ des compétences par la formation continu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3 ) Faire le bilan de la form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13356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 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1) Dossier de l'ag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 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2) Lettre de mission (dossier de l'ag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  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Attestation de formation(dossier de             formation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3) Entretien annue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721080">
                <a:tc>
                  <a:txBody>
                    <a:bodyPr lIns="90000" rIns="90000" tIns="18792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Directeur et chefs de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18792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Faire le bilan des activités des conseillers l'année  n et réviser les missions  pour  l'année n+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18792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Entretiens annuels de fin d'a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Lettres de 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744840">
                <a:tc>
                  <a:txBody>
                    <a:bodyPr lIns="90000" rIns="90000" tIns="18792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Chefs de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18792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Accompagner les personnes nouvellement embauchées jusqu'à l'obtention de leur certificat (certiphyt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3330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304920" y="887400"/>
            <a:ext cx="8610480" cy="489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PERIMETRE </a:t>
            </a:r>
            <a:r>
              <a:rPr b="0" i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: Chefs de services, conseillers et les assistantes impliqués dans les différentes prest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/>
          <p:nvPr/>
        </p:nvCxnSpPr>
        <p:spPr>
          <a:xfrm>
            <a:off x="9026640" y="4686480"/>
            <a:ext cx="2160" cy="216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cxnSp>
        <p:nvCxnSpPr>
          <p:cNvPr id="60" name=""/>
          <p:cNvCxnSpPr/>
          <p:nvPr/>
        </p:nvCxnSpPr>
        <p:spPr>
          <a:xfrm>
            <a:off x="9026640" y="4686480"/>
            <a:ext cx="2160" cy="216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95280"/>
            <a:ext cx="8610480" cy="1616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DONNÉES DE SORTIE </a:t>
            </a: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Dossiers actualisés des agent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Organigramme du personnel avec rôle et responsabili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Tableau de bord des formations pour Certiphy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Fiches d'entretien annue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Lettres de 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10160" y="3408480"/>
            <a:ext cx="4305240" cy="1616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INDICATEURS </a:t>
            </a: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Nombre de formations par an ( voir si on scinde en activités??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%  consommation du fond de formation/masse salariale par 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0840" y="3017880"/>
            <a:ext cx="4114800" cy="3534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INTERACTIONS AVEC PROCESSUS </a:t>
            </a: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Processus de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buClr>
                <a:srgbClr val="000000"/>
              </a:buClr>
              <a:buFont typeface="Wingdings 3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Politique qualité, orientations stratégiques concernant les prestations, positionnement par rapport à la concurr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buClr>
                <a:srgbClr val="000000"/>
              </a:buClr>
              <a:buFont typeface="Wingdings 3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Bud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buClr>
                <a:srgbClr val="000000"/>
              </a:buClr>
              <a:buFont typeface="Wingdings 3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Écoute cli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Pilot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Processus Sup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Processus de communication exter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Information et doc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Recouv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Processus de Réali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buClr>
                <a:srgbClr val="000000"/>
              </a:buClr>
              <a:buFont typeface="Wingdings 3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Besoins en personnel qualifié et régulièrement formé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0000" y="5400720"/>
            <a:ext cx="4235400" cy="1189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MODALITES DE PILOTAGE </a:t>
            </a: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Commissions de 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Revue de process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Revue de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293760"/>
            <a:ext cx="8610480" cy="468360"/>
          </a:xfrm>
          <a:custGeom>
            <a:avLst/>
            <a:gdLst>
              <a:gd name="textAreaLeft" fmla="*/ 0 w 8610480"/>
              <a:gd name="textAreaRight" fmla="*/ 8610480 w 861048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13" y="0"/>
                </a:lnTo>
                <a:lnTo>
                  <a:pt x="21600" y="10800"/>
                </a:lnTo>
                <a:lnTo>
                  <a:pt x="21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REALISER DES ACTIVITES DE CONSE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1280" y="286920"/>
            <a:ext cx="82472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estion des dossiers du personn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01680" y="792000"/>
          <a:ext cx="8257680" cy="5878800"/>
        </p:xfrm>
        <a:graphic>
          <a:graphicData uri="http://schemas.openxmlformats.org/drawingml/2006/table">
            <a:tbl>
              <a:tblPr/>
              <a:tblGrid>
                <a:gridCol w="2068920"/>
                <a:gridCol w="2068920"/>
                <a:gridCol w="2068560"/>
                <a:gridCol w="2051280"/>
              </a:tblGrid>
              <a:tr h="502200"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f de ser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 et modes de preuv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53766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40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mento d'accuei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sier  papier des salarié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pertoire informatique des formations des salariés par an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pertoire  informatique des lettres de missions et des entretiens annue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gramme de la chambre d'Agricultu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mes des entretiens et des lettres de mission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360360" y="1343160"/>
            <a:ext cx="5904000" cy="360360"/>
          </a:xfrm>
          <a:prstGeom prst="flowChartTerminator">
            <a:avLst/>
          </a:pr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ccueil du nouveau perso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48000" y="2160720"/>
            <a:ext cx="1728720" cy="720720"/>
          </a:xfrm>
          <a:prstGeom prst="rect">
            <a:avLst/>
          </a:pr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ossier du salarié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08360" y="4464000"/>
            <a:ext cx="1656000" cy="647640"/>
          </a:xfrm>
          <a:prstGeom prst="rect">
            <a:avLst/>
          </a:pr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Entretien annu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Lettre de 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rogramme de 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1640" y="4967280"/>
            <a:ext cx="1584360" cy="1152360"/>
          </a:xfrm>
          <a:prstGeom prst="diamond">
            <a:avLst/>
          </a:pr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Validation lettre de mission e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u programme de 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48000" y="3600360"/>
            <a:ext cx="1728720" cy="576360"/>
          </a:xfrm>
          <a:prstGeom prst="rect">
            <a:avLst/>
          </a:pr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ctualisation 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l'organigramm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2"/>
            <a:endCxn id="72" idx="0"/>
          </p:cNvCxnSpPr>
          <p:nvPr/>
        </p:nvCxnSpPr>
        <p:spPr>
          <a:xfrm>
            <a:off x="3311640" y="2879640"/>
            <a:ext cx="2160" cy="72144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74" name=""/>
          <p:cNvCxnSpPr>
            <a:stCxn id="70" idx="2"/>
            <a:endCxn id="71" idx="3"/>
          </p:cNvCxnSpPr>
          <p:nvPr/>
        </p:nvCxnSpPr>
        <p:spPr>
          <a:xfrm flipV="1" rot="10800000">
            <a:off x="2015280" y="5111280"/>
            <a:ext cx="3420360" cy="432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1222200" y="4254480"/>
            <a:ext cx="316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49440" y="4762440"/>
            <a:ext cx="1471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Révision lettre de 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ou programme de 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>
            <a:stCxn id="71" idx="0"/>
            <a:endCxn id="69" idx="1"/>
          </p:cNvCxnSpPr>
          <p:nvPr/>
        </p:nvCxnSpPr>
        <p:spPr>
          <a:xfrm flipV="1">
            <a:off x="1224000" y="2518920"/>
            <a:ext cx="1224720" cy="24487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78" name=""/>
          <p:cNvCxnSpPr>
            <a:stCxn id="71" idx="0"/>
            <a:endCxn id="70" idx="1"/>
          </p:cNvCxnSpPr>
          <p:nvPr/>
        </p:nvCxnSpPr>
        <p:spPr>
          <a:xfrm flipV="1">
            <a:off x="1223640" y="4787640"/>
            <a:ext cx="3385080" cy="180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79" name=""/>
          <p:cNvCxnSpPr>
            <a:stCxn id="68" idx="2"/>
            <a:endCxn id="69" idx="0"/>
          </p:cNvCxnSpPr>
          <p:nvPr/>
        </p:nvCxnSpPr>
        <p:spPr>
          <a:xfrm>
            <a:off x="3311640" y="1703520"/>
            <a:ext cx="2160" cy="4579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>
            <a:off x="4432320" y="791640"/>
            <a:ext cx="2160" cy="25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>
            <a:off x="4432320" y="791640"/>
            <a:ext cx="2160" cy="25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elien Bories</cp:lastModifiedBy>
  <dcterms:modified xsi:type="dcterms:W3CDTF">2012-05-15T13:46:21Z</dcterms:modified>
  <cp:revision>1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AdHocReviewCycleID">
    <vt:r8>2127905510</vt:r8>
  </property>
  <property fmtid="{D5CDD505-2E9C-101B-9397-08002B2CF9AE}" pid="4" name="_AuthorEmail">
    <vt:lpwstr>Aurelien.BORIES@socotec.com</vt:lpwstr>
  </property>
  <property fmtid="{D5CDD505-2E9C-101B-9397-08002B2CF9AE}" pid="5" name="_AuthorEmailDisplayName">
    <vt:lpwstr>BORIES Aurelien</vt:lpwstr>
  </property>
  <property fmtid="{D5CDD505-2E9C-101B-9397-08002B2CF9AE}" pid="6" name="_EmailSubject">
    <vt:lpwstr>PROJET ISO 9001 - Documents de travail</vt:lpwstr>
  </property>
</Properties>
</file>