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685360"/>
            <a:ext cx="296712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055B1-9218-41EA-8A79-FF4DA1257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Insert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From file: 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BBE7-E29F-4148-8389-EE5BAF93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1545-3907-4284-B8D9-51C54416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5DE7-CA3C-4DD4-BE6B-FA6E4EF0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5478-3230-4DE2-B8BF-48AB68D8E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D038-50FA-460E-8343-E89F6B3A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727B-6F3A-4376-A22C-8C1D9CEE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B767-C53A-4DDB-9999-0AEF8BC6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3987-84A2-4C7E-8BC9-37E7EC09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8758-DE18-4B4A-A0F1-1D966FEA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C0A3-1912-4980-AF3E-F61AC184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6113-C706-42C2-97A9-B218C51C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A06D-D9C8-407F-87E1-2FF5CF85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1DEBB-EBC6-4154-8EB3-0D7B65DA3A3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36640" y="1660680"/>
            <a:ext cx="5275440" cy="3368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10:24:26Z</dcterms:created>
  <dc:creator>Lynn</dc:creator>
  <dc:description/>
  <dc:language>en-US</dc:language>
  <cp:lastModifiedBy>Lynn</cp:lastModifiedBy>
  <dcterms:modified xsi:type="dcterms:W3CDTF">2012-09-27T10:28:23Z</dcterms:modified>
  <cp:revision>5</cp:revision>
  <dc:subject/>
  <dc:title>Slide 1</dc:title>
</cp:coreProperties>
</file>