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F39-6A18-4CE1-96D2-BBCE9C76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ABA-90FA-4B92-95E2-6BA3B0D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536-AA44-4E32-9B8A-380893B1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C08-2042-4306-958F-371DDD93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29E-39E5-4CDD-AFEF-EEFF839E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57D-BE9C-4E74-879C-937D35CF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E76-A26A-4869-98CD-50793C16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703-E0AA-4692-B5E7-B3303AF8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7DD-664B-41C3-8395-7F0EB6A3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E10-2689-4473-919C-4E6EEBA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9F1-9738-4458-9E60-7F8C20A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5E9-631E-419A-816A-7E6A7BF3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9200-462F-4A5B-9663-634775F70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857680" y="2803680"/>
            <a:ext cx="2498400" cy="2447640"/>
            <a:chOff x="2857680" y="2803680"/>
            <a:chExt cx="2498400" cy="2447640"/>
          </a:xfrm>
        </p:grpSpPr>
        <p:sp>
          <p:nvSpPr>
            <p:cNvPr id="42" name="Oval 3"/>
            <p:cNvSpPr/>
            <p:nvPr/>
          </p:nvSpPr>
          <p:spPr>
            <a:xfrm>
              <a:off x="3078000" y="2998800"/>
              <a:ext cx="2049480" cy="2047680"/>
            </a:xfrm>
            <a:prstGeom prst="ellipse">
              <a:avLst/>
            </a:prstGeom>
            <a:solidFill>
              <a:srgbClr val="ff0000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3625560" y="3546000"/>
              <a:ext cx="979920" cy="9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2857680" y="4027320"/>
              <a:ext cx="2498400" cy="36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4106880" y="2803680"/>
              <a:ext cx="720" cy="2447640"/>
            </a:xfrm>
            <a:prstGeom prst="line">
              <a:avLst/>
            </a:prstGeom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283200" y="3210840"/>
              <a:ext cx="1625040" cy="16239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4607280" y="3935160"/>
              <a:ext cx="538920" cy="141120"/>
              <a:chOff x="4607280" y="3935160"/>
              <a:chExt cx="538920" cy="141120"/>
            </a:xfrm>
          </p:grpSpPr>
          <p:sp>
            <p:nvSpPr>
              <p:cNvPr id="48" name="Rectangle 9"/>
              <p:cNvSpPr/>
              <p:nvPr/>
            </p:nvSpPr>
            <p:spPr>
              <a:xfrm rot="16200000">
                <a:off x="4842360" y="377244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 rot="16200000">
                <a:off x="4842000" y="370008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Group 11"/>
            <p:cNvGrpSpPr/>
            <p:nvPr/>
          </p:nvGrpSpPr>
          <p:grpSpPr>
            <a:xfrm>
              <a:off x="4298040" y="4416120"/>
              <a:ext cx="390240" cy="537120"/>
              <a:chOff x="4298040" y="4416120"/>
              <a:chExt cx="390240" cy="537120"/>
            </a:xfrm>
          </p:grpSpPr>
          <p:sp>
            <p:nvSpPr>
              <p:cNvPr id="51" name="Rectangle 12"/>
              <p:cNvSpPr/>
              <p:nvPr/>
            </p:nvSpPr>
            <p:spPr>
              <a:xfrm rot="19807800">
                <a:off x="4427280" y="443340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 rot="19807800">
                <a:off x="4489920" y="439740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Group 14"/>
            <p:cNvGrpSpPr/>
            <p:nvPr/>
          </p:nvGrpSpPr>
          <p:grpSpPr>
            <a:xfrm>
              <a:off x="4454280" y="4272120"/>
              <a:ext cx="509760" cy="444600"/>
              <a:chOff x="4454280" y="4272120"/>
              <a:chExt cx="509760" cy="444600"/>
            </a:xfrm>
          </p:grpSpPr>
          <p:sp>
            <p:nvSpPr>
              <p:cNvPr id="54" name="Rectangle 15"/>
              <p:cNvSpPr/>
              <p:nvPr/>
            </p:nvSpPr>
            <p:spPr>
              <a:xfrm rot="18495600">
                <a:off x="4652280" y="4253760"/>
                <a:ext cx="6876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Rectangle 16"/>
              <p:cNvSpPr/>
              <p:nvPr/>
            </p:nvSpPr>
            <p:spPr>
              <a:xfrm rot="18495600">
                <a:off x="4696560" y="419652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3492000" y="4408920"/>
              <a:ext cx="414720" cy="526320"/>
              <a:chOff x="3492000" y="4408920"/>
              <a:chExt cx="414720" cy="526320"/>
            </a:xfrm>
          </p:grpSpPr>
          <p:sp>
            <p:nvSpPr>
              <p:cNvPr id="57" name="Rectangle 18"/>
              <p:cNvSpPr/>
              <p:nvPr/>
            </p:nvSpPr>
            <p:spPr>
              <a:xfrm rot="2011200">
                <a:off x="3634560" y="438300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 rot="2011200">
                <a:off x="3695040" y="442260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Group 20"/>
            <p:cNvGrpSpPr/>
            <p:nvPr/>
          </p:nvGrpSpPr>
          <p:grpSpPr>
            <a:xfrm>
              <a:off x="4558320" y="4108680"/>
              <a:ext cx="555840" cy="276840"/>
              <a:chOff x="4558320" y="4108680"/>
              <a:chExt cx="555840" cy="276840"/>
            </a:xfrm>
          </p:grpSpPr>
          <p:sp>
            <p:nvSpPr>
              <p:cNvPr id="60" name="Rectangle 21"/>
              <p:cNvSpPr/>
              <p:nvPr/>
            </p:nvSpPr>
            <p:spPr>
              <a:xfrm rot="17106600">
                <a:off x="4792680" y="4012920"/>
                <a:ext cx="6876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 rot="17106600">
                <a:off x="4810680" y="394236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234240" y="4258080"/>
              <a:ext cx="523440" cy="422280"/>
              <a:chOff x="3234240" y="4258080"/>
              <a:chExt cx="523440" cy="422280"/>
            </a:xfrm>
          </p:grpSpPr>
          <p:sp>
            <p:nvSpPr>
              <p:cNvPr id="63" name="Rectangle 24"/>
              <p:cNvSpPr/>
              <p:nvPr/>
            </p:nvSpPr>
            <p:spPr>
              <a:xfrm rot="3316800">
                <a:off x="3440520" y="417060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3316800">
                <a:off x="3482280" y="422928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26"/>
            <p:cNvGrpSpPr/>
            <p:nvPr/>
          </p:nvGrpSpPr>
          <p:grpSpPr>
            <a:xfrm>
              <a:off x="3096360" y="4083120"/>
              <a:ext cx="556920" cy="276480"/>
              <a:chOff x="3096360" y="4083120"/>
              <a:chExt cx="556920" cy="276480"/>
            </a:xfrm>
          </p:grpSpPr>
          <p:sp>
            <p:nvSpPr>
              <p:cNvPr id="66" name="Rectangle 27"/>
              <p:cNvSpPr/>
              <p:nvPr/>
            </p:nvSpPr>
            <p:spPr>
              <a:xfrm rot="4494000">
                <a:off x="3330360" y="391716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 rot="4494000">
                <a:off x="3349800" y="398700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29"/>
            <p:cNvGrpSpPr/>
            <p:nvPr/>
          </p:nvGrpSpPr>
          <p:grpSpPr>
            <a:xfrm>
              <a:off x="3079080" y="3830040"/>
              <a:ext cx="552960" cy="223560"/>
              <a:chOff x="3079080" y="3830040"/>
              <a:chExt cx="552960" cy="223560"/>
            </a:xfrm>
          </p:grpSpPr>
          <p:sp>
            <p:nvSpPr>
              <p:cNvPr id="69" name="Rectangle 30"/>
              <p:cNvSpPr/>
              <p:nvPr/>
            </p:nvSpPr>
            <p:spPr>
              <a:xfrm rot="5937000">
                <a:off x="3326040" y="363708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 rot="5937000">
                <a:off x="3315600" y="370800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32"/>
            <p:cNvGrpSpPr/>
            <p:nvPr/>
          </p:nvGrpSpPr>
          <p:grpSpPr>
            <a:xfrm>
              <a:off x="3174480" y="3463200"/>
              <a:ext cx="533160" cy="399240"/>
              <a:chOff x="3174480" y="3463200"/>
              <a:chExt cx="533160" cy="399240"/>
            </a:xfrm>
          </p:grpSpPr>
          <p:sp>
            <p:nvSpPr>
              <p:cNvPr id="72" name="Rectangle 33"/>
              <p:cNvSpPr/>
              <p:nvPr/>
            </p:nvSpPr>
            <p:spPr>
              <a:xfrm rot="7268400">
                <a:off x="3425040" y="3362400"/>
                <a:ext cx="6876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7268400">
                <a:off x="3387960" y="342432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3727800" y="3030120"/>
              <a:ext cx="298080" cy="555480"/>
              <a:chOff x="3727800" y="3030120"/>
              <a:chExt cx="298080" cy="555480"/>
            </a:xfrm>
          </p:grpSpPr>
          <p:sp>
            <p:nvSpPr>
              <p:cNvPr id="75" name="Rectangle 36"/>
              <p:cNvSpPr/>
              <p:nvPr/>
            </p:nvSpPr>
            <p:spPr>
              <a:xfrm rot="9737400">
                <a:off x="3876480" y="302760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 rot="9737400">
                <a:off x="3808080" y="304956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38"/>
            <p:cNvGrpSpPr/>
            <p:nvPr/>
          </p:nvGrpSpPr>
          <p:grpSpPr>
            <a:xfrm>
              <a:off x="3393360" y="3199320"/>
              <a:ext cx="446040" cy="508320"/>
              <a:chOff x="3393360" y="3199320"/>
              <a:chExt cx="446040" cy="508320"/>
            </a:xfrm>
          </p:grpSpPr>
          <p:sp>
            <p:nvSpPr>
              <p:cNvPr id="78" name="Rectangle 39"/>
              <p:cNvSpPr/>
              <p:nvPr/>
            </p:nvSpPr>
            <p:spPr>
              <a:xfrm rot="8482200">
                <a:off x="3609720" y="316188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 rot="8482200">
                <a:off x="3553920" y="320688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Group 41"/>
            <p:cNvGrpSpPr/>
            <p:nvPr/>
          </p:nvGrpSpPr>
          <p:grpSpPr>
            <a:xfrm>
              <a:off x="4426920" y="3272400"/>
              <a:ext cx="487800" cy="473040"/>
              <a:chOff x="4426920" y="3272400"/>
              <a:chExt cx="487800" cy="473040"/>
            </a:xfrm>
          </p:grpSpPr>
          <p:sp>
            <p:nvSpPr>
              <p:cNvPr id="81" name="Rectangle 42"/>
              <p:cNvSpPr/>
              <p:nvPr/>
            </p:nvSpPr>
            <p:spPr>
              <a:xfrm rot="13584000">
                <a:off x="4661280" y="3265560"/>
                <a:ext cx="6876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 rot="13584000">
                <a:off x="4611240" y="321372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4257000" y="3057120"/>
              <a:ext cx="344520" cy="549360"/>
              <a:chOff x="4257000" y="3057120"/>
              <a:chExt cx="344520" cy="549360"/>
            </a:xfrm>
          </p:grpSpPr>
          <p:sp>
            <p:nvSpPr>
              <p:cNvPr id="84" name="Rectangle 45"/>
              <p:cNvSpPr/>
              <p:nvPr/>
            </p:nvSpPr>
            <p:spPr>
              <a:xfrm rot="12213600">
                <a:off x="4427640" y="307692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 rot="12213600">
                <a:off x="4361400" y="304848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Group 47"/>
            <p:cNvGrpSpPr/>
            <p:nvPr/>
          </p:nvGrpSpPr>
          <p:grpSpPr>
            <a:xfrm>
              <a:off x="4066920" y="3001320"/>
              <a:ext cx="178920" cy="546480"/>
              <a:chOff x="4066920" y="3001320"/>
              <a:chExt cx="178920" cy="546480"/>
            </a:xfrm>
          </p:grpSpPr>
          <p:sp>
            <p:nvSpPr>
              <p:cNvPr id="87" name="Rectangle 48"/>
              <p:cNvSpPr/>
              <p:nvPr/>
            </p:nvSpPr>
            <p:spPr>
              <a:xfrm rot="11042400">
                <a:off x="4157640" y="300816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 rot="11042400">
                <a:off x="4085640" y="300312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Oval 50"/>
            <p:cNvSpPr/>
            <p:nvPr/>
          </p:nvSpPr>
          <p:spPr>
            <a:xfrm>
              <a:off x="3830400" y="4548600"/>
              <a:ext cx="538200" cy="538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Group 51"/>
            <p:cNvGrpSpPr/>
            <p:nvPr/>
          </p:nvGrpSpPr>
          <p:grpSpPr>
            <a:xfrm>
              <a:off x="4540680" y="3577320"/>
              <a:ext cx="552600" cy="333360"/>
              <a:chOff x="4540680" y="3577320"/>
              <a:chExt cx="552600" cy="333360"/>
            </a:xfrm>
          </p:grpSpPr>
          <p:sp>
            <p:nvSpPr>
              <p:cNvPr id="91" name="Rectangle 52"/>
              <p:cNvSpPr/>
              <p:nvPr/>
            </p:nvSpPr>
            <p:spPr>
              <a:xfrm rot="14870400">
                <a:off x="4796280" y="3507840"/>
                <a:ext cx="69120" cy="53820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 rot="14870400">
                <a:off x="4768560" y="3441240"/>
                <a:ext cx="68760" cy="53856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3828240" y="4496040"/>
              <a:ext cx="241920" cy="555120"/>
              <a:chOff x="3828240" y="4496040"/>
              <a:chExt cx="241920" cy="555120"/>
            </a:xfrm>
          </p:grpSpPr>
          <p:sp>
            <p:nvSpPr>
              <p:cNvPr id="94" name="Rectangle 55"/>
              <p:cNvSpPr/>
              <p:nvPr/>
            </p:nvSpPr>
            <p:spPr>
              <a:xfrm rot="666600">
                <a:off x="3879360" y="449748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 rot="666600">
                <a:off x="3950280" y="451116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Group 57"/>
            <p:cNvGrpSpPr/>
            <p:nvPr/>
          </p:nvGrpSpPr>
          <p:grpSpPr>
            <a:xfrm>
              <a:off x="4116240" y="4496040"/>
              <a:ext cx="238320" cy="554760"/>
              <a:chOff x="4116240" y="4496040"/>
              <a:chExt cx="238320" cy="554760"/>
            </a:xfrm>
          </p:grpSpPr>
          <p:sp>
            <p:nvSpPr>
              <p:cNvPr id="97" name="Rectangle 58"/>
              <p:cNvSpPr/>
              <p:nvPr/>
            </p:nvSpPr>
            <p:spPr>
              <a:xfrm rot="20958000">
                <a:off x="4165560" y="4511160"/>
                <a:ext cx="69120" cy="537840"/>
              </a:xfrm>
              <a:prstGeom prst="rect">
                <a:avLst/>
              </a:prstGeom>
              <a:solidFill>
                <a:srgbClr val="ff0000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 rot="20958000">
                <a:off x="4236480" y="4497480"/>
                <a:ext cx="68760" cy="538200"/>
              </a:xfrm>
              <a:prstGeom prst="rect">
                <a:avLst/>
              </a:prstGeom>
              <a:solidFill>
                <a:srgbClr val="3366ff">
                  <a:alpha val="77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04:52Z</dcterms:created>
  <dc:creator>Information Technology</dc:creator>
  <dc:description/>
  <dc:language>en-US</dc:language>
  <cp:lastModifiedBy>Information Technology</cp:lastModifiedBy>
  <dcterms:modified xsi:type="dcterms:W3CDTF">2012-01-16T08:05:55Z</dcterms:modified>
  <cp:revision>1</cp:revision>
  <dc:subject/>
  <dc:title>Slide 1</dc:title>
</cp:coreProperties>
</file>