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05200" y="812520"/>
            <a:ext cx="5345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8880" y="372960"/>
            <a:ext cx="902340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1000" indent="-3510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on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5000"/>
              </a:lnSpc>
              <a:tabLst>
                <a:tab algn="l" pos="0"/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numbere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numbered 1st again in PowerPoint, but 4th in O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nd in PPoint, 5th in O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rd in PPoint, 7th in O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51000"/>
                <a:tab algn="l" pos="1265400"/>
                <a:tab algn="l" pos="2179800"/>
                <a:tab algn="l" pos="3094200"/>
                <a:tab algn="l" pos="4008600"/>
                <a:tab algn="l" pos="4923000"/>
                <a:tab algn="l" pos="5837400"/>
                <a:tab algn="l" pos="6751800"/>
                <a:tab algn="l" pos="7666200"/>
                <a:tab algn="l" pos="8580600"/>
                <a:tab algn="l" pos="9495000"/>
                <a:tab algn="l" pos="104094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th in PPoint, 8th in O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rnando Alvarruiz Bermejo</cp:lastModifiedBy>
  <dcterms:modified xsi:type="dcterms:W3CDTF">2005-05-12T14:04:57Z</dcterms:modified>
  <cp:revision>1</cp:revision>
  <dc:subject/>
  <dc:title>Diapositiva 1</dc:title>
</cp:coreProperties>
</file>