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E1E-DF6B-4A65-B42E-CA6C9142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374-2BB0-4761-9051-51A44541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749-043F-4AF9-A2F8-91856DBB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E53-8890-4668-AD36-8D04D1F1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23B-CC33-4C93-8A41-175A13E1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045-30C6-4169-B94A-FD6B1F3D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60F-71DB-40CC-A001-21BA4030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90F-9D26-410F-B775-10D87057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414-B43D-46FD-853D-3252F345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6CC-6512-4143-B05F-C7DCDD13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E7A-69FC-4087-8C39-B210AD9F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57E-14AC-480F-8E53-596EDD76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A65B4C-665F-4B9C-AE17-7D227F314E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120000">
            <a:off x="3200400" y="3123720"/>
            <a:ext cx="3429000" cy="1828800"/>
          </a:xfrm>
          <a:custGeom>
            <a:avLst/>
            <a:gdLst>
              <a:gd name="textAreaLeft" fmla="*/ 1285200 w 3429000"/>
              <a:gd name="textAreaRight" fmla="*/ 2143800 w 3429000"/>
              <a:gd name="textAreaTop" fmla="*/ 44640 h 1828800"/>
              <a:gd name="textAreaBottom" fmla="*/ 10666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67177" stAng="-6031001" swAng="491605"/>
                <a:lnTo>
                  <a:pt x="8096" y="528"/>
                </a:lnTo>
                <a:arcTo wR="21600" hR="67177" stAng="-5539396" swAng="278793"/>
                <a:lnTo>
                  <a:pt x="13504" y="528"/>
                </a:lnTo>
                <a:arcTo wR="21600" hR="67177" stAng="-5260604" swAng="491605"/>
                <a:lnTo>
                  <a:pt x="18900" y="11202"/>
                </a:lnTo>
                <a:lnTo>
                  <a:pt x="21600" y="21600"/>
                </a:lnTo>
                <a:lnTo>
                  <a:pt x="21600" y="21600"/>
                </a:lnTo>
                <a:arcTo wR="21600" hR="67177" stAng="-4768999" swAng="-630797"/>
                <a:lnTo>
                  <a:pt x="10804" y="12600"/>
                </a:lnTo>
                <a:arcTo wR="21600" hR="67177" stAng="-5399795" swAng="-409"/>
                <a:lnTo>
                  <a:pt x="10796" y="12600"/>
                </a:lnTo>
                <a:arcTo wR="21600" hR="67177" stAng="-5400205" swAng="-630797"/>
                <a:lnTo>
                  <a:pt x="2700" y="11202"/>
                </a:lnTo>
                <a:close/>
              </a:path>
              <a:path fill="none" w="21600" h="21600">
                <a:moveTo>
                  <a:pt x="10796" y="12600"/>
                </a:moveTo>
                <a:arcTo wR="21600" hR="67177" stAng="-5400205" swAng="-139192"/>
                <a:lnTo>
                  <a:pt x="10796" y="12600"/>
                </a:lnTo>
              </a:path>
              <a:path fill="none" w="21600" h="21600">
                <a:moveTo>
                  <a:pt x="10804" y="12600"/>
                </a:moveTo>
                <a:arcTo wR="21600" hR="67177" stAng="-5399795" swAng="139192"/>
                <a:lnTo>
                  <a:pt x="10804" y="12600"/>
                </a:lnTo>
              </a:path>
              <a:path fill="none" w="21600" h="21600">
                <a:moveTo>
                  <a:pt x="8096" y="528"/>
                </a:moveTo>
                <a:lnTo>
                  <a:pt x="8096" y="13128"/>
                </a:lnTo>
              </a:path>
              <a:path fill="none" w="21600" h="21600">
                <a:moveTo>
                  <a:pt x="13504" y="528"/>
                </a:moveTo>
                <a:lnTo>
                  <a:pt x="13504" y="13128"/>
                </a:lnTo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8:07:35Z</dcterms:created>
  <dc:creator>tester</dc:creator>
  <dc:description/>
  <dc:language>en-US</dc:language>
  <cp:lastModifiedBy>tester</cp:lastModifiedBy>
  <dcterms:modified xsi:type="dcterms:W3CDTF">2006-07-07T05:21:09Z</dcterms:modified>
  <cp:revision>2</cp:revision>
  <dc:subject/>
  <dc:title>Slide 1</dc:title>
</cp:coreProperties>
</file>