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394F-7F35-4361-AD28-4E636DE0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757E-607D-4D01-8177-3B1A08D3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C6E9-C6BE-4357-BC14-1E891E1B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884C-7F61-4D5E-8EE8-98364775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B7C3-B629-4C4C-BCF7-9B9B3E3C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3B9B-CC3F-43E8-9B23-62994358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4673-6254-4F85-B827-DA1A4601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A284-CDB6-454B-A55C-4352E2FE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89A-26C4-4AD3-8C86-D6BBB53C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4CF9-EEE9-4067-8E79-D34756F4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F671-57BE-43FB-A47F-9431F8BA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2D8D-0F6B-41B1-91CE-FD2A368A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B209-8CEE-4B69-BC35-6897131D7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3880" y="2209680"/>
            <a:ext cx="3124440" cy="1981440"/>
            <a:chOff x="1523880" y="2209680"/>
            <a:chExt cx="3124440" cy="1981440"/>
          </a:xfrm>
        </p:grpSpPr>
        <p:sp>
          <p:nvSpPr>
            <p:cNvPr id="42" name=""/>
            <p:cNvSpPr/>
            <p:nvPr/>
          </p:nvSpPr>
          <p:spPr>
            <a:xfrm>
              <a:off x="1523880" y="2209680"/>
              <a:ext cx="1524240" cy="15242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00" y="0"/>
                  </a:lnTo>
                  <a:lnTo>
                    <a:pt x="21600" y="10800"/>
                  </a:lnTo>
                  <a:lnTo>
                    <a:pt x="19800" y="21600"/>
                  </a:lnTo>
                  <a:lnTo>
                    <a:pt x="0" y="21600"/>
                  </a:lnTo>
                  <a:lnTo>
                    <a:pt x="1800" y="10800"/>
                  </a:lnTo>
                  <a:close/>
                </a:path>
              </a:pathLst>
            </a:custGeom>
            <a:solidFill>
              <a:srgbClr val="bbe0e3"/>
            </a:solidFill>
            <a:ln w="120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657600" y="2514600"/>
              <a:ext cx="990720" cy="167652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  <a:headEnd len="lg" type="oval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0T07:42:56Z</dcterms:created>
  <dc:creator>Yolanda</dc:creator>
  <dc:description/>
  <dc:language>en-US</dc:language>
  <cp:lastModifiedBy>dujing</cp:lastModifiedBy>
  <dcterms:modified xsi:type="dcterms:W3CDTF">2012-05-29T06:20:45Z</dcterms:modified>
  <cp:revision>3</cp:revision>
  <dc:subject/>
  <dc:title>Below are the test focus   FFC30FFCSD_CustomShape_Group_WithDrawingObjects_0015.ppt Check Points:    1. Grouped/Ungrouped;2. Line Properties;3. Handle Points.</dc:title>
</cp:coreProperties>
</file>