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38CA-148F-4CB1-A8AC-B6064E07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574A-AED2-45D8-981F-6D75C7D7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1775-2CB3-4CAC-9B1F-CB67EE664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B3B8-849E-4FD0-8038-27063C89A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EB33-1040-45AA-A090-E4C18159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1D89-1D9A-4EF9-8E9A-E3C061EE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6657-6CC9-4134-8FFC-C33361E7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2721-70AD-42D9-8CEA-5452B3F1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D46C-EB6F-445A-9AED-6CBA1CDE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76C4-843B-49BB-8D11-ADD5E245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20D8-8E34-4423-A302-C9F3223E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5C7B-8F40-4745-9ED6-DA3A19F5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DD592-40E5-41CA-96EC-A5FB595F52BE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640" y="1295280"/>
            <a:ext cx="4535640" cy="1800360"/>
          </a:xfrm>
          <a:prstGeom prst="leftRightArrow">
            <a:avLst>
              <a:gd name="adj1" fmla="val 50000"/>
              <a:gd name="adj2" fmla="val 50152"/>
            </a:avLst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rot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5400000">
            <a:off x="4682520" y="3887640"/>
            <a:ext cx="4751280" cy="1871640"/>
          </a:xfrm>
          <a:prstGeom prst="leftRightArrow">
            <a:avLst>
              <a:gd name="adj1" fmla="val 50000"/>
              <a:gd name="adj2" fmla="val 50536"/>
            </a:avLst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ot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10:04:34Z</dcterms:created>
  <dc:creator/>
  <dc:description/>
  <dc:language>en-US</dc:language>
  <cp:lastModifiedBy/>
  <cp:revision>1</cp:revision>
  <dc:subject/>
  <dc:title/>
</cp:coreProperties>
</file>