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0AD-55D8-405A-AB99-2E9BF81B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BCF-2740-4216-BE6E-9747BC0A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031-8E9A-4442-9206-42B5036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FDC-48F6-436C-82BA-0484FD24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4BC-8426-451F-A008-B89ACB6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424-8589-4155-A231-D88E752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C6F-0736-48E6-ACE2-63664CF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8CC-75FF-404F-BBCC-A0A6116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C65-5C67-470E-8B83-2B95E06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A4D-394F-4F16-8CA7-620484E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306-1B47-4FA7-91E2-044C9D9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169-1F90-41C6-9740-B135180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F19E9-19A1-4646-97A7-2701C9C54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02920" y="1768320"/>
          <a:ext cx="9070920" cy="4989600"/>
        </p:xfrm>
        <a:graphic>
          <a:graphicData uri="http://schemas.openxmlformats.org/drawingml/2006/table"/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22:06Z</dcterms:created>
  <dc:creator>yifan </dc:creator>
  <dc:description/>
  <dc:language>en-US</dc:language>
  <cp:lastModifiedBy/>
  <cp:revision>1</cp:revision>
  <dc:subject/>
  <dc:title/>
</cp:coreProperties>
</file>