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never1113%20Layer-3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8AE-DD80-4747-A9CD-9CD68B06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8F1-4AD3-49E7-A8C9-27AA1083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C78-9DBA-4910-B039-36BE6E4A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3CB-4E49-4555-AF0D-028FEAEA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389-FC4E-4954-9078-C3FD510E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6F8-D1D9-4CD4-8EBB-09AF65D6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56F-9324-4A51-A21C-8CB8ADA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7B6-EC96-4837-BBC2-2FB4C75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62C-D366-4269-B9C8-7C56A153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1AA-AE37-464C-87C6-BA316AE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A6C-F353-4F8F-8147-AEBF1AC5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2E7-0836-4780-8781-92BCDC7C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278F-EA69-43E4-84C3-2F1D34DA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ever1113%20Layer-3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341360"/>
            <a:ext cx="676908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7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mudger LET"/>
              </a:rPr>
              <a:t>Dicono di noi genoves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mudger LET"/>
              <a:ea typeface="Smudger LET"/>
            </a:endParaRPr>
          </a:p>
        </p:txBody>
      </p:sp>
    </p:spTree>
  </p:cSld>
  <p:transition spd="slow">
    <p:randomBar dir="horz"/>
    <p:sndAc>
      <p:stSnd>
        <p:snd r:embed="rId2" name="never1113%20Layer-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4581360"/>
            <a:ext cx="617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 tipo di olio usa la tipica massaia genovese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llo della vicin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3284640"/>
            <a:ext cx="712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Un genovese che ha appena perso la moglie, si reca al secolo  XIX per far pubblicare un necrolog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Buongiorno, dovrei pubblicare un necrologio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Prego, mi detti il testo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MORTA MARTA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Come??? Noo, non è possibile! Ha idea di quante Marta ci siano a Genova? E poi sappia che fino a cinque parole la tariffa è la stessa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"Ah, ma davvero?. B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llora scriva: MORTA MARTA VENDO PANDA AZZURR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47640" y="4437000"/>
            <a:ext cx="59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e si fa a far impazzire un genov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Lo si mette in una stanza rotonda e gli si dice che ci sono dieci euro in un ango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58920" y="3429000"/>
            <a:ext cx="71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Un genovese entra in una pasticc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Mi scusi, quanto costano quelle scatole di cioccolati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Beh... quelle due scatole insieme posso dargliele per quindici eu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Ed una s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Dieci eu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- Allora prendo quell'altr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4437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e si fa a far guarire un genovese dalla balbuz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Gli si fa fare una telefonata intercontinenta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7280" y="422100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 genovese torna a casa dopo aver comprato una costosa bottiglia di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lle scale di casa scivola e cade a terra. Poco dopo sente del liquido colare sulla schiena..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Dio, speriamo che sia sangue..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400536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 genovese ordina un doppio whisky. Sta per bere, quando si accorge di una mosca che nuota all'interno. Con aria furente la tira fuori dal bicchiere e l'appoggia sul tavolo, premendola tra le d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Sputa, bastarda, sputa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393372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i genovesi rimangono bloccati da una tormenta di neve in una ba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cuni giorni dopo arrivano i soccorsi e bussano alla p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Chi è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E' la Croce Rossa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Grazie, ma abbiamo già dat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4292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 genovese torna a casa presto dal lav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l giardino di casa vede parcheggiato il furgoncino di un idrau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zando lo sguardo al cielo esc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Ti prego, Signore, fa che sia il suo amante.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4941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ita di calcio Genova-Sampd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arbitro lancia la monetina, duemila i feriti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33:44Z</dcterms:created>
  <dc:creator>Daniela</dc:creator>
  <dc:description/>
  <dc:language>en-US</dc:language>
  <cp:lastModifiedBy>Template</cp:lastModifiedBy>
  <dcterms:modified xsi:type="dcterms:W3CDTF">2005-09-27T08:19:37Z</dcterms:modified>
  <cp:revision>5</cp:revision>
  <dc:subject/>
  <dc:title>Dicono di noi genovesi…</dc:title>
</cp:coreProperties>
</file>