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047-63E5-4F20-8D35-945B893C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16C-51F7-4195-88A5-A016952E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FC4-5E17-4E5F-88F1-42BBCDD5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2FD-4AC3-4DDC-B124-EF5D80BE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6C4-1C1D-47D3-821B-36F2198F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B47-8B2E-42E0-B09F-27CC95A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815-6827-47C8-8A0F-F38243FD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2F7-C291-40D6-BFCC-8094F66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6AD-2D6E-4737-8C47-1A9E530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B5-E00D-448C-836F-7F905B0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D2A-F5DE-4D9B-B9C4-675827A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E10-4E38-4FF5-AA02-9B1C5B02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B63-3160-4D78-B45A-EC6AB218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C900431565[1]"/>
          <p:cNvPicPr/>
          <p:nvPr/>
        </p:nvPicPr>
        <p:blipFill>
          <a:blip r:embed="rId1"/>
          <a:stretch/>
        </p:blipFill>
        <p:spPr>
          <a:xfrm>
            <a:off x="380880" y="1447920"/>
            <a:ext cx="4619880" cy="464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resentation and video. Store both files in the same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914400" y="304812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38080" y="365760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895480" y="342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Move the presentation file to a new fol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Presentation can no longer find the video file, displays a ? on the slide and video cannot be play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907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Move the presentation back to the original fol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Presentation now displays the video properly and video can be played from th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457200" y="281952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Test P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resentation in a folder that is different than the folder the video is contained in. Both folders should be under the root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PresentationFolder &amp; C:\Video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9907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Pass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Move the presentation to a new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PresentationNew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Pass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Video is displayed correctly and is still acce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MC900431565[1]"/>
          <p:cNvPicPr/>
          <p:nvPr/>
        </p:nvPicPr>
        <p:blipFill>
          <a:blip r:embed="rId1"/>
          <a:stretch/>
        </p:blipFill>
        <p:spPr>
          <a:xfrm>
            <a:off x="1066680" y="327672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Test F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resentation in a folder that is different than the folder the video is contained in. Both folders should be under the root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PresentationFolder &amp; C:\Video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9907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2860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718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Fail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Move the presentation to a new folder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 C:\Temp\PresentationNewFold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MC900431565[1]"/>
          <p:cNvPicPr/>
          <p:nvPr/>
        </p:nvPicPr>
        <p:blipFill>
          <a:blip r:embed="rId1"/>
          <a:stretch/>
        </p:blipFill>
        <p:spPr>
          <a:xfrm>
            <a:off x="380880" y="3429000"/>
            <a:ext cx="3559320" cy="358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MC900431565[1]"/>
          <p:cNvPicPr/>
          <p:nvPr/>
        </p:nvPicPr>
        <p:blipFill>
          <a:blip r:embed="rId2"/>
          <a:stretch/>
        </p:blipFill>
        <p:spPr>
          <a:xfrm>
            <a:off x="380880" y="68580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4 – Fail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A ? is displayed on the slide and the video is not acce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380880" y="22096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.avi</a:t>
            </a:r>
            <a:endParaRPr b="0" lang="en-US" sz="1000" spc="1" strike="noStrike">
              <a:ln w="936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286000" y="2057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Video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362320" y="4572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MC900431565[1]"/>
          <p:cNvPicPr/>
          <p:nvPr/>
        </p:nvPicPr>
        <p:blipFill>
          <a:blip r:embed="rId3"/>
          <a:stretch/>
        </p:blipFill>
        <p:spPr>
          <a:xfrm>
            <a:off x="3809880" y="3276720"/>
            <a:ext cx="3559320" cy="3581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es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3809880" y="472428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tion.ood</a:t>
            </a:r>
            <a:endParaRPr b="0" lang="en-US" sz="10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20:28:32Z</dcterms:created>
  <dc:creator>Nancy Kelln</dc:creator>
  <dc:description/>
  <dc:language>en-US</dc:language>
  <cp:lastModifiedBy>Nancy Kelln</cp:lastModifiedBy>
  <dcterms:modified xsi:type="dcterms:W3CDTF">2011-09-25T04:08:18Z</dcterms:modified>
  <cp:revision>10</cp:revision>
  <dc:subject/>
  <dc:title>Test 1 </dc:title>
</cp:coreProperties>
</file>