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E21B-C090-4C17-9004-A8C1B4EFC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BED6-0E62-44BE-8044-DFF825F19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1F31-735F-407F-9F38-4C1B7D8C3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79E4-F231-4884-91ED-EC20F2C9C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342A-D0A4-4BAF-A7D7-AE247D2D2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C73A-5B0A-449C-B88E-4F6EA433C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0334D-B828-4AAF-9BB7-41268B884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8FC3-1826-4792-AFD7-99916BB8E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85667-BF4F-4556-BF45-9085803CD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9EF60-123B-416E-AC9A-FEE345982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4406C-9AAF-4B98-B371-B3FCA49EF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889E-F6A5-4954-8048-B1A5DFAC7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B148F-BE12-40ED-9297-373139A668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B2A96-934F-4884-8597-64A769034C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6057D-8653-42E9-9068-6CC6E8FC3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7BB49-14FD-4FBD-B0FF-318AD7FE1D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4B756-2FFD-4269-8982-6C686C4CDC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843DE-5DE4-483C-9832-8BAD213F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6E1E4-29FE-4FD9-BD0E-9C37B19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5766C-0F09-4CB9-93A7-35CDF8C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3926C-C50B-4170-A215-AFDD5EF8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2FB4E-0D2E-4117-828B-A3CBDF2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756F-86C4-49E5-9189-B8CF0C7D82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5AF5E-08EE-4ED6-87E3-280C1FF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72C98-E6A9-4845-A67E-FD79580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4C6CA-4009-4067-B23C-C39603C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9E233-7404-49B7-9AF2-68A0AD2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2E4D02-49AE-4BB4-A4AD-68E1ED4A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C08C7-61BA-4D3C-B07C-F49B7F33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FC2CD-AB00-4D62-9A04-C65210C8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4446-2FAC-445F-A462-B0A34B424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3A22-12C0-407B-87EC-1B8FDF20A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7E9C-4A59-46CA-84BA-CAE774DBE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6A7B-D3F8-4AC5-835F-C32D6A7E9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CCE6-641A-41A3-8392-36AF4BF2D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771D-694B-442A-BC47-519F18FA8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95E8-C11C-4562-9985-936FA8C347F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B16D-09A9-41DE-BDA6-C05DB6E1DFE6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99E9-B049-4C8B-B232-E74AAB86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23920" y="3003480"/>
            <a:ext cx="3011400" cy="1014480"/>
          </a:xfrm>
          <a:prstGeom prst="wedgeRectCallout">
            <a:avLst>
              <a:gd name="adj1" fmla="val -47787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xt in this callout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8040" y="3062160"/>
            <a:ext cx="302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xt in text box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F2811-6537-408E-B95B-A96705413F29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2D6AC-E7D5-4BB0-9FBB-750DAFF618C5}" type="slidenum">
              <a:t>2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2:21:37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12:39:46Z</dcterms:modified>
  <cp:revision>2</cp:revision>
  <dc:subject/>
  <dc:title>Slide 1</dc:title>
</cp:coreProperties>
</file>