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B07E-4C6F-4B19-B01D-1260EAAE1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7539-916E-4A67-8024-E1DD0DF16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31E4-1A2D-40A0-A729-243FE0448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170A-261C-4A91-B11D-73D38A0CC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D24C1-200A-4EF0-BABE-5241630309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97F59-C9AD-41FF-BD5A-DEC02D31B5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AC719-930C-4ED2-9AD0-682229EE91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F6B57-0860-4169-A2EE-7D74089A90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BC9C5-645B-436C-A42C-9DB2D09E6E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052CC-8794-4A70-AF8C-A79E1AEF2A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7980F-81FE-4F28-BA54-9FE38BE932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8C84-0F74-4318-8AFB-659D175EB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9ABBA-AA99-4461-98D6-38265273B0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9EA2D-18B3-4302-8126-97CD897D51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03E17-2142-4E10-BEC4-BFCD2B3176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4C692-1191-4F4A-A50C-F8D763DCE7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24F8F-1509-4EC2-9099-EB9C0B90C5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6EEF-ADCE-4419-B7D2-BFCABC6C27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D92C-73F4-4F1B-BF79-800FE27EB7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5CED-8A25-425F-AE41-4A61191138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23A9-6335-4C3C-990E-EEC1C71F79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83EA-54E8-418C-A588-721E7733EB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D929-EF6B-44FA-88C2-343F13DF33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796E-31AE-486B-9810-C4DFFF6496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CAFB-6AB8-49B1-A668-29D703181D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925A-104D-422B-B0CE-642674F7C1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D948-306D-47F8-B05E-0021A5D5C1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339B-3C70-4808-BD00-E1EB0B45F7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2AAC-E990-4A10-AB2B-D6CFBD69FD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04A6-8ADA-4D8E-807D-01D82F528B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86D64-C659-4C50-B5F8-B5D36CF219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78F42-FA67-4EC8-8C6D-30B0FD93E1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F8DD1-F62A-4051-A8B1-A755A02F2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BDA8-26A3-4DBA-A861-564D583A07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01CC5-885F-476A-A12A-F9503E8A39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ED77F-7E26-4D8A-8915-A38042DDBC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06AFE-A845-4688-BFDB-5AAB171C73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45B80-5AEA-49C1-8CE2-E76C82159B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754D9-9288-4D43-8429-AE0AC47F26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78D15-3DEA-4766-A753-8F00FC2475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79253-8577-4E98-83C8-A0541E4C40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A42FE-843F-402C-BD43-8C2DB77A45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40D41-BFDE-4F22-B53B-C1B1BB42B3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2A8AD4-AF07-4D1F-88A0-0F8C7625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68B5-0C3A-40D2-AD4F-3816BA6F47F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BFD38-F3EC-407C-99B1-0E2A98A3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FEE46-5F81-4602-9149-302A8C9B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4F7FE-54DD-4416-AD06-E9053B77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17803E-0FA6-4F3B-900F-1A52F1A6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6452A-AEFD-408F-8B64-CD27A214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9F257-D836-4CDD-8CBC-C16F8B05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5BA5B-C9A8-4A25-85EF-E92BC3A3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D93E4-001E-4E1A-8CED-2FCB5B40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33839-3EEC-4E1B-8651-E4B58DB5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CD92B-12D4-4D6C-BA5B-CFAE71E8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37A7-3EA4-47BC-9740-FFF85637F9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85A53-D9E2-4D9D-BD7C-4D387C77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43CA-9B12-48C2-9B6D-2DF5F6032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029E-31C0-43BD-B6A3-7185DDAF6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36E6-9F66-49D7-897D-234597E62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D49E-AEE2-4809-AC2F-EE7D24397370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3D00-0D45-4CBC-A86F-DD6E215BFBBA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9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010360" y="6111720"/>
            <a:ext cx="1895400" cy="746280"/>
            <a:chOff x="8010360" y="6111720"/>
            <a:chExt cx="1895400" cy="74628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8312760" y="6389640"/>
              <a:ext cx="1288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010360" y="6111720"/>
              <a:ext cx="18954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593640" y="6524640"/>
            <a:ext cx="458784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192240" y="6518160"/>
            <a:ext cx="40464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788F-C8B7-4481-9E2E-11664EC6C504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132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001000" y="2962440"/>
            <a:ext cx="1895040" cy="745920"/>
            <a:chOff x="8001000" y="2962440"/>
            <a:chExt cx="1895040" cy="745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8305560" y="3240000"/>
              <a:ext cx="1288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001000" y="2962440"/>
              <a:ext cx="189504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 type="ftr" idx="7"/>
          </p:nvPr>
        </p:nvSpPr>
        <p:spPr>
          <a:xfrm>
            <a:off x="635040" y="6524640"/>
            <a:ext cx="458784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8"/>
          </p:nvPr>
        </p:nvSpPr>
        <p:spPr>
          <a:xfrm>
            <a:off x="232920" y="6518160"/>
            <a:ext cx="40500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5344-9C59-48A4-A8A6-C094F9324A26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C368-70AA-473A-9CF0-08754CBD3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 bul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24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24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24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24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9:15:55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7T09:25:34Z</dcterms:modified>
  <cp:revision>1</cp:revision>
  <dc:subject/>
  <dc:title>Color bullets</dc:title>
</cp:coreProperties>
</file>