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E82-1B6C-4356-A342-DFB3D435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A6C-440D-4EDE-A3F7-3840146B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915-B187-4F8C-8A10-7DCB4590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C9B-D52E-449B-A1B3-028C838D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3CF-E999-4E6B-B0ED-A554717E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5FA-B6A5-416C-9EB8-2839B5B5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6D9-372C-4539-9A94-C0B173E1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D7A-04B2-4E86-B245-0BF871B5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405-4841-4159-A885-31B84C6C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A73-EB44-4BE6-934E-1CBD64C7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3F1-C571-4179-93D1-E90FBC0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241-5854-4F90-AEA9-21CC1887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06717-4398-416F-B791-3E983A7FC6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ngle Slide Footer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erg Sievers</dc:creator>
  <dc:description/>
  <dc:language>en-US</dc:language>
  <cp:lastModifiedBy/>
  <cp:revision>0</cp:revision>
  <dc:subject/>
  <dc:title/>
</cp:coreProperties>
</file>