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55005-B6BD-4268-86FC-D852880C2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89ECD-552D-4C6D-851D-99D7A9C29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E0EB4-867F-4110-AB18-99928194C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EB04C-53AC-43F7-967D-250AAD595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2F9C7-63EB-4A99-A280-E6204C991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F5A83-51D8-4F3A-AD2E-0E8C20C1F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C820F-83E7-4097-B75B-65E0A9B67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0345A-6945-46BF-ABA6-69224309A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10442-6E3A-40CB-924B-DD9030030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55429-179F-4759-9452-D3246EDFC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EEA02-6D5F-4668-9F2E-B543A4126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EC4C6-E664-4F7F-8247-515864561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B0F2F-9F53-4EE4-A9B8-DD483AC65CC9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422F2-60DC-4940-A49A-791FF5F3142D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9"/>
          <p:cNvSpPr/>
          <p:nvPr/>
        </p:nvSpPr>
        <p:spPr>
          <a:xfrm>
            <a:off x="0" y="645480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Box 7"/>
          <p:cNvSpPr/>
          <p:nvPr/>
        </p:nvSpPr>
        <p:spPr>
          <a:xfrm>
            <a:off x="457200" y="6515280"/>
            <a:ext cx="2687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FZ 黑体简体"/>
              </a:rPr>
              <a:t>创新思考</a:t>
            </a:r>
            <a:r>
              <a:rPr b="0" lang="en-US" sz="1000" spc="-1" strike="noStrike">
                <a:solidFill>
                  <a:srgbClr val="ffffff"/>
                </a:solidFill>
                <a:latin typeface="FZ 黑体简体"/>
                <a:ea typeface="FZ 黑体简体"/>
              </a:rPr>
              <a:t> </a:t>
            </a:r>
            <a:r>
              <a:rPr b="0" lang="zh-CN" sz="1000" spc="-1" strike="noStrike">
                <a:solidFill>
                  <a:srgbClr val="ffffff"/>
                </a:solidFill>
                <a:latin typeface="FZ 黑体简体"/>
              </a:rPr>
              <a:t>只为更好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3"/>
          <p:cNvSpPr/>
          <p:nvPr/>
        </p:nvSpPr>
        <p:spPr>
          <a:xfrm>
            <a:off x="613800" y="2700360"/>
            <a:ext cx="2084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微软雅黑"/>
                <a:ea typeface="微软雅黑"/>
              </a:rPr>
              <a:t>test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415080" y="6539040"/>
            <a:ext cx="1358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Calibri"/>
              </a:rPr>
              <a:t>WWW.EISOO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文本占位符 2"/>
          <p:cNvSpPr/>
          <p:nvPr/>
        </p:nvSpPr>
        <p:spPr>
          <a:xfrm>
            <a:off x="3276720" y="3645000"/>
            <a:ext cx="518472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——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test p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30T07:01:00Z</dcterms:created>
  <dc:creator>郭慧</dc:creator>
  <dc:description/>
  <dc:language>en-US</dc:language>
  <cp:lastModifiedBy>leecky</cp:lastModifiedBy>
  <dcterms:modified xsi:type="dcterms:W3CDTF">2014-03-18T07:54:48Z</dcterms:modified>
  <cp:revision>271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29</vt:lpwstr>
  </property>
</Properties>
</file>