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AABD-8553-4FA2-AE82-D9B0D556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 have selected the tex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have clicked the “Strikethrough” option from “Style\Strikethrough” from the pop up menu as shown 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 didn’t notice any change. (Strikethrough Draws a line through the selected text, or if the cursor is in a word, the entire word). So please check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opened openoffice text document and wrote some text in i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EA1-71EA-477E-B34E-F6AB52C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DB9-F4C0-4625-86E0-9521E3A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F04-E1C4-4C7B-971A-149BDEA5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A9F-1FAA-4F27-BAA8-EFC9F428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7A0-4AE4-4AF8-932F-F313CCB9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B12-9CEE-4AAB-944D-2915469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B68-5609-41F5-8656-16D9F06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3B-3CBD-4DB4-A4DC-CF6B7865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021-1DBF-46C0-B112-6665EBD8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2C1-7E25-49E9-9268-FEFC7AE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08A-44AE-403F-B1E2-C266469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530-8174-4AEB-B2AE-7139BC6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06B-C36D-4AC9-9ED2-A3DD3F9A7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throug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07:27Z</dcterms:created>
  <dc:creator>virtusa</dc:creator>
  <dc:description/>
  <dc:language>en-US</dc:language>
  <cp:lastModifiedBy>virtusa</cp:lastModifiedBy>
  <dcterms:modified xsi:type="dcterms:W3CDTF">2004-12-08T10:12:31Z</dcterms:modified>
  <cp:revision>5</cp:revision>
  <dc:subject/>
  <dc:title>Work Flow</dc:title>
</cp:coreProperties>
</file>