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C02A-53F3-483D-84AE-5129F93D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63C-6367-4CF2-B175-A9CF2393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FFAF-3461-4852-92F7-94C97F39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9CF5-6AB0-4D96-B7BD-3D5F0626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20FA-90F8-46C3-947F-1E795D86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ED3-A56E-4CB5-AA4A-C57AB21F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91C1-95ED-412B-ADF5-8D32BA8B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56F-227F-4680-AC6C-E49244FE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6D8-DF0D-4D1F-A0E2-F8CCB40A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8B0-1D87-4937-B06C-8804EA14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BF7-7E0E-499E-A5C3-AD7FC9F6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37A-EF11-41E8-8356-EFA4D781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6AE2-D78D-49B2-A59D-56DAD8691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שקף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אין ללחוץ ע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NE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יותר מ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שניות רצוף, אחרת יש חשש לשריפת המעגלים החשמליים של מערכת כיוון התדר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8:03:59Z</dcterms:created>
  <dc:creator>ooo</dc:creator>
  <dc:description/>
  <dc:language>en-US</dc:language>
  <cp:lastModifiedBy>ooo</cp:lastModifiedBy>
  <dcterms:modified xsi:type="dcterms:W3CDTF">2004-09-22T08:04:02Z</dcterms:modified>
  <cp:revision>1</cp:revision>
  <dc:subject/>
  <dc:title>שקף 7</dc:title>
</cp:coreProperties>
</file>