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DAD-20F9-4AD7-B153-7C80A02E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7DE-2AB7-4C39-A4C5-B1FF30A6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05D-E6DE-448B-BCCE-E9B10820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FCF-A014-41DC-8C35-22182D1F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38F-1067-479B-AE3F-2F070614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65D-4BBB-417E-ABAC-0B244201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FA5-01E1-46D4-8B98-1CDC9C65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D32-E2B8-4840-9F28-ECA4F8F5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301680"/>
            <a:ext cx="79707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BE2-21EB-4047-AD49-8E0A9C29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E07-C0D8-412E-A5FB-C909A7A6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F12-76CD-4684-B32C-C3054AB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F07-72FA-47A7-A11D-9BDDB757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301680"/>
            <a:ext cx="7970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27280" indent="-216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58920" indent="-215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32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320"/>
            <a:ext cx="3192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32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8B808-2D11-4014-B237-CB8BBA3769AC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95360" y="533520"/>
            <a:ext cx="110484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600200"/>
            <a:ext cx="10077480" cy="92160"/>
          </a:xfrm>
          <a:prstGeom prst="roundRect">
            <a:avLst>
              <a:gd name="adj" fmla="val 1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ndards.freedesktop.org/menu-spec/" TargetMode="External"/><Relationship Id="rId2" Type="http://schemas.openxmlformats.org/officeDocument/2006/relationships/hyperlink" Target="http://standards.freedesktop.org/desktop-entry-spec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301680"/>
            <a:ext cx="79725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"/>
              </a:rPr>
              <a:t>Application Menu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9760"/>
            <a:ext cx="9069480" cy="58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Gnome &amp; KDE use the same FreeDesktop.org standar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e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standards.freedesktop.org/menu-spec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All entries are represented by a .desktop fil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ee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http://standards.freedesktop.org/desktop-entry-spec/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nstall under /usr/share/application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Location in Application menu determined by Category as listed in .desktop fil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OSV includes applications.menu file that determines layout of Application menu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ldo Bastian</dc:creator>
  <dc:description/>
  <dc:language>en-US</dc:language>
  <cp:lastModifiedBy/>
  <cp:revision>0</cp:revision>
  <dc:subject/>
  <dc:title/>
</cp:coreProperties>
</file>