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8CAC-6E60-422F-8DC3-6D5B3290A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F58F-2C6F-4A06-A0AF-5663E475D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10DD-4B16-46F8-8043-D5362CB11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74EA-E22A-40F1-9184-EC1750EFA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1B04A-51C8-42A3-98AA-EEA272EC1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BBC55-1FDB-4DA6-BFBC-A48FD08DC6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E8349-43B0-414A-B49D-316DD776B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81F9F-A407-4A17-A4CC-6B484D2CA6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250E6-F67C-4A18-9292-043632AD2B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FAFE4-5796-489F-98FF-CF5A02610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61E30-6FE4-4D69-B65C-2AE1F78CB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2396-D9A2-4D59-918C-5384F77D8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31DAE-E417-4E5D-A938-3A55397DD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00F8-10AC-4E36-830A-86437E9284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26750-A75C-4059-BEA4-E2794DE83C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FD8CA-65B6-4537-B061-B89EB8AA8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68B78-B951-48AB-92F9-8FDACAC7DA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878FB-DAFC-46B7-B6E8-E34BC7CF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1BBA4-1367-440D-B452-3E40BFD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327F0-AC4E-4E90-8CEC-06645BA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4A95B-877E-45DA-832A-EBFA9D4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0483C-574E-4F6F-ACE7-40E19FC0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F664-6AD1-4F3C-86D4-8C4BD22298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5764B-FBCF-4A32-BE69-FF26F07F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73AD3-DA3D-41BC-BC9D-2D9FCF2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30540-B008-47D5-B901-C5DC49D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2AF00-9365-4751-881D-BA18013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573D7-61CB-4197-A397-EA4EAC3F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C83F9-60F3-4E2E-9403-90350BF6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0059C-8A2A-43BF-8415-67DBF85B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01CA-FC6A-4ADC-AC21-61D9D23F6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89D4-77A0-49C7-BB8A-818F004C3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E5BC-D192-4C1F-8FBF-DA9C1826A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0264-F9C8-44BA-946E-46C60E0B2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B387-F9A6-4551-9F3A-27C4E98D3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49C5-90B0-4007-990E-BB714248B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FC4-0B85-4C84-8C58-438319464F1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F4D-87FF-461D-B13F-C75425F717C8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0697-8EBF-4FED-AA39-7A61A72DD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1160" y="2911320"/>
            <a:ext cx="83016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89160" y="4521240"/>
            <a:ext cx="579600" cy="58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75040" y="2835360"/>
            <a:ext cx="638280" cy="67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02120" y="4303800"/>
            <a:ext cx="519120" cy="81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7160" y="2852640"/>
            <a:ext cx="812880" cy="64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19880" y="4421160"/>
            <a:ext cx="796680" cy="83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03:30Z</dcterms:created>
  <dc:creator>nandita</dc:creator>
  <dc:description/>
  <cp:keywords/>
  <dc:language>en-US</dc:language>
  <cp:lastModifiedBy>nandita</cp:lastModifiedBy>
  <cp:lastPrinted>1998-09-04T08:04:32Z</cp:lastPrinted>
  <dcterms:modified xsi:type="dcterms:W3CDTF">2010-05-28T08:06:49Z</dcterms:modified>
  <cp:revision>2</cp:revision>
  <dc:subject/>
  <dc:title>Slide 1</dc:title>
</cp:coreProperties>
</file>