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5F5EE-F7B8-4E75-8396-FF129B2290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1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9920" y="39682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7120" y="396828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680" y="396828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2971800"/>
            <a:ext cx="7764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00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9920" y="39682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1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971800"/>
            <a:ext cx="7764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7621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rlututu chapo poi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057400"/>
            <a:ext cx="838224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4800" indent="-334800">
              <a:lnSpc>
                <a:spcPct val="76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Dfgdf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6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Dfhdfhd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6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fhdrhd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66"/>
                </a:solidFill>
                <a:latin typeface="Arial"/>
                <a:ea typeface="Arial"/>
              </a:rPr>
              <a:t>Dfghdfghdf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4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6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Gdfgdfgd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fgdfgdfgd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6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Dfgfhdfhd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6000"/>
              </a:lnSpc>
              <a:spcBef>
                <a:spcPts val="4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4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Diapositive 1</dc:title>
</cp:coreProperties>
</file>