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9396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65E314-4A58-4805-AB13-B3778C00F9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1120" cy="340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9480" y="692280"/>
            <a:ext cx="455904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83743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35560"/>
            <a:ext cx="83743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080" y="15228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3556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080" y="353556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26964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2640" y="152280"/>
            <a:ext cx="26964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4040" y="152280"/>
            <a:ext cx="26964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35560"/>
            <a:ext cx="26964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2640" y="3535560"/>
            <a:ext cx="26964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4040" y="3535560"/>
            <a:ext cx="269640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7432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837432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636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080" y="152280"/>
            <a:ext cx="408636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16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52280"/>
            <a:ext cx="408636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3556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636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5228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080" y="353556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52280"/>
            <a:ext cx="408636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35560"/>
            <a:ext cx="8374320" cy="30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280"/>
            <a:ext cx="837432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7920" indent="-277920">
              <a:lnSpc>
                <a:spcPct val="6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6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163440">
              <a:lnSpc>
                <a:spcPct val="6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2240" indent="-163440">
              <a:lnSpc>
                <a:spcPct val="6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2240" indent="-163440">
              <a:lnSpc>
                <a:spcPct val="6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2240" indent="-163440">
              <a:lnSpc>
                <a:spcPct val="6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382240" cy="648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04920"/>
            <a:ext cx="838188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59440" y="374760"/>
            <a:ext cx="3751200" cy="351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1523880" y="4038480"/>
          <a:ext cx="6324840" cy="25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4038480"/>
                    <a:ext cx="632484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900000" y="1440000"/>
          <a:ext cx="4697640" cy="218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0000" y="1440000"/>
                    <a:ext cx="469764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343320" y="600120"/>
            <a:ext cx="1990800" cy="542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561960" y="2747880"/>
            <a:ext cx="657360" cy="1747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66720" y="371520"/>
            <a:ext cx="1390680" cy="923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204840" y="5519880"/>
            <a:ext cx="1395360" cy="880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7819920" y="5295960"/>
            <a:ext cx="1095480" cy="12571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382240" cy="648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08000" y="681120"/>
          <a:ext cx="8929800" cy="55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681120"/>
                    <a:ext cx="892980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382240" cy="648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2680" y="539640"/>
          <a:ext cx="8370720" cy="577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539640"/>
                    <a:ext cx="8370720" cy="57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381880" cy="648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6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52280"/>
            <a:ext cx="838224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304920"/>
            <a:ext cx="838188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87400" y="3867120"/>
          <a:ext cx="3275280" cy="23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7400" y="3867120"/>
                    <a:ext cx="327528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532480" y="334800"/>
            <a:ext cx="3260520" cy="344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878040" y="847800"/>
          <a:ext cx="4484520" cy="135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040" y="847800"/>
                    <a:ext cx="44845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887400" y="2782800"/>
          <a:ext cx="4465800" cy="684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87400" y="2782800"/>
                    <a:ext cx="44658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952880" y="3429000"/>
          <a:ext cx="3505320" cy="3276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3429000"/>
                    <a:ext cx="35053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lin Machin</dc:creator>
  <dc:description/>
  <dc:language>en-US</dc:language>
  <cp:lastModifiedBy>Colin Machin</cp:lastModifiedBy>
  <cp:revision>0</cp:revision>
  <dc:subject/>
  <dc:title>No Slide Title</dc:title>
</cp:coreProperties>
</file>