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5C2-1958-47B5-809A-65F7BB69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F08-40A3-4929-903E-FB7C6474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1ED-304B-4E48-9E47-646EFBD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022-8483-4585-AE63-794BE3CE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068-9AA0-48E8-8251-26638A80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EAD-AA6D-494F-B6A4-003723AC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7A9-4A61-4ABA-8739-A7B7580A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83D-D60F-4379-87A7-724BE30C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CF6-D11F-4643-8DA1-9C0FC3F2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161-D03C-4E3D-B5A6-A74B97C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7FD-9546-4B35-A8D0-5124BED3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E97-C862-46AF-9EA0-EAB81D8E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1ECA-EF35-421A-BC4C-221F95C66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28T11:37:43Z</dcterms:modified>
  <cp:revision>3</cp:revision>
  <dc:subject/>
  <dc:title>PowerPoint Presentation</dc:title>
</cp:coreProperties>
</file>