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1B412-1CB0-4606-B9E0-90ACB50C0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85573-DDDC-43F5-92B1-87E935B08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99221-27DA-47C8-B8DB-E759EDFD5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03C10-A530-4571-9C16-A5A052AD5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863CB-91CD-4019-933E-671076FA41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0F21E-6548-4EA3-839D-355B0546C1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ED33F-9623-491B-8ED4-160563B076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42676-AD1A-4F46-B0B4-20ACB09073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53373-3A1F-40A0-90C3-7E5647F3F4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96C2E-D08D-4899-B724-BA4B05459C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90D14-D5D3-476F-85C5-2205021FE2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28BE-2951-42EA-A982-D4935FE4F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4C06C-5051-4E38-8B1B-21050E3DE1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99D27-EBA9-4042-9C50-8D3AF989FB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F0AC4-9897-4577-8A2D-3A0B8C56AC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E7828-08E4-4DE1-8238-8201FB80EC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A065F-55CF-47D0-8CA4-F0663C3124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98CA1E-80EF-4808-B21D-67799B80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7A7422-0D05-4A80-B05C-E8BD363F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4EBB6E-77A5-4848-9E00-727848B0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0214B5-1351-48B2-81DE-90F5823C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D17DF5-1B3F-4AA7-818A-65F20A8A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613C5-2ECC-46E2-BD09-4DDB7C1074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ECB9A9-A799-431F-914C-6F050049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710DB5-6BA9-4468-A97A-C5615117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1B8F37-B7FD-4CEF-8A2A-D6468667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743466-CCC6-456A-803F-C256D44A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495577-F365-4BBB-8AAE-A8742F07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B2FB0F-C851-4DB0-887C-BC8635F7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129534-8EC0-4DAC-B4B4-E9F4BE5D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482E2-6B4E-4C6C-9079-C04C0306F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5D2A-F7D5-456C-99B9-EA7AD3C26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0CBD-7FA9-48FE-A313-3939CB112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B75D6-30C1-49CE-A11B-4E69C7A4F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1FD0-FD2A-498F-9C62-233DEB8A5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40FF0-A7C4-4060-8B04-C3C2CF147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2B1F-2C82-414B-AE06-48F88D7C065F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7440" y="6518160"/>
            <a:ext cx="37152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9A63-EB1F-443F-8F46-BA89C87C56A6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8528-0F3A-4229-AC54-FF56C92F2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% Stack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ar Chart 3-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01880" y="2060640"/>
          <a:ext cx="662796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1880" y="2060640"/>
                    <a:ext cx="662796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 % Stack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ar Cha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01880" y="2060640"/>
          <a:ext cx="662796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1880" y="2060640"/>
                    <a:ext cx="662796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ck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ar Cha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01880" y="2060640"/>
          <a:ext cx="662796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1880" y="2060640"/>
                    <a:ext cx="662796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70040" y="1662120"/>
          <a:ext cx="656424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0040" y="1662120"/>
                    <a:ext cx="656424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B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70040" y="1662120"/>
          <a:ext cx="656424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0040" y="1662120"/>
                    <a:ext cx="656424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ck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ar Grap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3d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801880" y="2060640"/>
          <a:ext cx="662796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1880" y="2060640"/>
                    <a:ext cx="662796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1:52:52Z</dcterms:created>
  <dc:creator>Gujjari Achala</dc:creator>
  <dc:description/>
  <cp:keywords/>
  <dc:language>en-US</dc:language>
  <cp:lastModifiedBy>Gujjari Achala</cp:lastModifiedBy>
  <cp:lastPrinted>1998-09-04T08:04:32Z</cp:lastPrinted>
  <dcterms:modified xsi:type="dcterms:W3CDTF">2010-10-05T11:58:41Z</dcterms:modified>
  <cp:revision>1</cp:revision>
  <dc:subject/>
  <dc:title>100% Stacked  Bar Chart 3-d   </dc:title>
</cp:coreProperties>
</file>