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BE0-18F6-4564-A28A-47CACB3C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6F3-CF48-4289-9CF4-71FEC4DC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EE6-D999-4AD8-9C4F-D12BEBCD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30B-B35A-4BD3-98E7-590FDD49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350-EC08-4C04-9D6E-10EDA1BE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611-EF91-4545-BAD6-2D3AF285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1EC-6E47-458E-A3BD-A82BFABD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2AC-BC4A-4620-ABCB-09A39616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A03-3555-401A-BF2D-ED2FA5B2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2D6-BF3C-4E22-982F-CBC88439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EA0-C056-4C95-BC38-3FE60963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7D5-5F81-4A5D-B7C9-9949D774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C6FD-6CA3-4786-AEB4-632B35D6A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133720" y="2590920"/>
                <a:ext cx="42796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λ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21:44Z</dcterms:created>
  <dc:creator>Robert S. Conker</dc:creator>
  <dc:description/>
  <dc:language>en-US</dc:language>
  <cp:lastModifiedBy>Robert S. Conker</cp:lastModifiedBy>
  <dcterms:modified xsi:type="dcterms:W3CDTF">2002-09-18T18:28:56Z</dcterms:modified>
  <cp:revision>1</cp:revision>
  <dc:subject/>
  <dc:title>No Slide Title</dc:title>
</cp:coreProperties>
</file>