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2E3-6C2D-4E12-B3DB-3C3D8F29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9320"/>
            <a:ext cx="77724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0F7-D67A-4969-B4D4-01DB80ED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932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932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67C-9620-4F81-A2B2-1848A39B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250236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16280"/>
            <a:ext cx="250236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16280"/>
            <a:ext cx="250236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9320"/>
            <a:ext cx="250236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9320"/>
            <a:ext cx="250236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9320"/>
            <a:ext cx="250236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E71-E866-477C-9C54-527F133A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074-A2CF-415D-9A84-744D02C9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D2B-0BBB-47E8-8024-F3BD857F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D7C-15BC-4DED-A818-49D7F553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A8A-1E10-4884-96F5-445499FA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34800"/>
            <a:ext cx="7773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412-6D67-4E74-B858-C276E868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932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BDF-A073-4D7A-8FD6-1B26C2C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932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719-06EA-41B8-A438-7B2AD368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9320"/>
            <a:ext cx="777240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013-09AE-434D-830C-E464205A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3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90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77560" indent="-277560">
              <a:spcBef>
                <a:spcPts val="901"/>
              </a:spcBef>
              <a:spcAft>
                <a:spcPts val="675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277560" indent="-277560">
              <a:spcBef>
                <a:spcPts val="901"/>
              </a:spcBef>
              <a:spcAft>
                <a:spcPts val="675"/>
              </a:spcAft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277560" indent="-277560">
              <a:spcBef>
                <a:spcPts val="901"/>
              </a:spcBef>
              <a:spcAft>
                <a:spcPts val="675"/>
              </a:spcAft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77560" indent="-277560">
              <a:spcBef>
                <a:spcPts val="901"/>
              </a:spcBef>
              <a:spcAft>
                <a:spcPts val="675"/>
              </a:spcAft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77560" indent="-277560"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77560" indent="-277560"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2035-C2B4-458D-B7BE-D599CC25DF3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8320-8611-4485-ABD1-E9D34A6891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485800"/>
            <a:ext cx="7772400" cy="36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Tw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o three four five si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ven eight n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20:46:41Z</dcterms:created>
  <dc:creator>Howell</dc:creator>
  <dc:description/>
  <dc:language>en-US</dc:language>
  <cp:lastModifiedBy>ro</cp:lastModifiedBy>
  <dcterms:modified xsi:type="dcterms:W3CDTF">2008-09-20T09:50:26Z</dcterms:modified>
  <cp:revision>493</cp:revision>
  <dc:subject/>
  <dc:title>PowerPoint Presentation</dc:title>
</cp:coreProperties>
</file>