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lick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57E-0847-4487-86D8-199F0E6D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FAC-E51F-4333-AD5D-52112045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2BEC-986F-410D-B062-0CCEAFF6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0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0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E81-A51D-4C3C-A3E7-87BFD5D9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513C-8658-4ADA-A711-04453C62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788-F5C9-4C90-87FB-8D851835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82A-580A-43BA-BE78-DA9D85E2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AA7-199C-4843-838C-0F20E9C3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EAE-A5F5-4DC1-A4B0-3E972DBD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374C-6552-4F68-AE84-67D4726E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A6A-FFEF-4143-9345-E26E74B7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8595-BD52-4EA4-9768-50E0288C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d-ID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d-ID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d-ID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21CAC-ECC0-4F86-8F5B-348BF5CA7330}" type="slidenum">
              <a:rPr b="0" lang="id-ID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0" y="839880"/>
            <a:ext cx="8064720" cy="100800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  <a:ea typeface="Arial"/>
              </a:rPr>
              <a:t>KISAH  KRISTU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08240" y="2351160"/>
            <a:ext cx="6048360" cy="42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914400" indent="-909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Arial"/>
              </a:rPr>
              <a:t>Tujua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09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gar pewartaan Kabar Gembira dapat diterima dan dimengerti dengan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jelas dan efek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23760" y="3366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8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b  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08000" y="2268360"/>
            <a:ext cx="2100240" cy="369576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2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03:32:51Z</dcterms:created>
  <dc:creator/>
  <dc:description/>
  <dc:language>en-US</dc:language>
  <cp:lastModifiedBy/>
  <cp:revision>0</cp:revision>
  <dc:subject/>
  <dc:title/>
</cp:coreProperties>
</file>