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D30C-DDE5-4306-AF91-834521EC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F074-9EC7-4E8A-A3EE-D5F8704F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8ECE1-E830-415E-8541-F698611E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0801-CC72-4E36-A596-EF66C53A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97BA-B302-4D69-965C-916AD2B9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24A9-1D36-4D9C-B08A-99EE19AD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D029-50D2-40E6-9BFE-FB6FF6A7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BF00-F390-449B-B167-CD6534BE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2D2E-E140-41C1-86CC-B5208484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7354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6E34-3627-4698-B760-146AB88C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BC2C-6793-43E7-B234-00070507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637C-2180-46A4-9F60-CBF03479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1847-C433-4760-948D-2C4DFA91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4922-1342-4E7F-BDBD-98F14958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C213-87CC-4CFF-AD64-1614BFCD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C86D-4AD3-4054-B258-A63FF9F5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8ACD-6B04-4E2F-9A39-F0AB51FD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D8D0-E3F3-4F87-A5F3-A01622F4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3C3B-061E-41B4-88CF-2590B83D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FB30-6484-4A7A-9C1A-F82793E2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7354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4779-5214-4CA9-9DDE-9A4D8EA1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A12D-865A-47D2-AF48-3C70731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DAE8-4D6C-4959-BC60-5C4E86AA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D3A5-377F-4A31-8182-78C5109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ductline E-Mail &amp; Director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CDA0-10C9-4C1E-BE03-6F4B00215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12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12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ductline E-Mail &amp; Director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39DF-2EB4-4B1F-880C-4ED4B2067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rgave modul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400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2854440"/>
            <a:ext cx="1008360" cy="647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400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4006800"/>
            <a:ext cx="1008360" cy="64764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400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7080" y="400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5080" y="544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9080" y="544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544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5446800"/>
            <a:ext cx="1008000" cy="6476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1"/>
            <a:endCxn id="109" idx="3"/>
          </p:cNvCxnSpPr>
          <p:nvPr/>
        </p:nvCxnSpPr>
        <p:spPr>
          <a:xfrm flipV="1">
            <a:off x="1323000" y="3502080"/>
            <a:ext cx="2232720" cy="66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0" idx="1"/>
            <a:endCxn id="109" idx="3"/>
          </p:cNvCxnSpPr>
          <p:nvPr/>
        </p:nvCxnSpPr>
        <p:spPr>
          <a:xfrm flipV="1">
            <a:off x="2402640" y="3502080"/>
            <a:ext cx="1153080" cy="66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1" idx="1"/>
            <a:endCxn id="109" idx="3"/>
          </p:cNvCxnSpPr>
          <p:nvPr/>
        </p:nvCxnSpPr>
        <p:spPr>
          <a:xfrm flipV="1">
            <a:off x="3555360" y="3502080"/>
            <a:ext cx="360" cy="66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2" idx="1"/>
            <a:endCxn id="109" idx="3"/>
          </p:cNvCxnSpPr>
          <p:nvPr/>
        </p:nvCxnSpPr>
        <p:spPr>
          <a:xfrm flipH="1" flipV="1">
            <a:off x="3555360" y="3502080"/>
            <a:ext cx="1152720" cy="66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3" idx="1"/>
            <a:endCxn id="109" idx="3"/>
          </p:cNvCxnSpPr>
          <p:nvPr/>
        </p:nvCxnSpPr>
        <p:spPr>
          <a:xfrm flipH="1" flipV="1">
            <a:off x="3555360" y="3502080"/>
            <a:ext cx="2305080" cy="66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1"/>
            <a:endCxn id="111" idx="3"/>
          </p:cNvCxnSpPr>
          <p:nvPr/>
        </p:nvCxnSpPr>
        <p:spPr>
          <a:xfrm flipV="1">
            <a:off x="1828080" y="4654440"/>
            <a:ext cx="1727640" cy="95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5" idx="1"/>
            <a:endCxn id="111" idx="3"/>
          </p:cNvCxnSpPr>
          <p:nvPr/>
        </p:nvCxnSpPr>
        <p:spPr>
          <a:xfrm flipV="1">
            <a:off x="3052080" y="4654440"/>
            <a:ext cx="50364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1"/>
            <a:endCxn id="111" idx="3"/>
          </p:cNvCxnSpPr>
          <p:nvPr/>
        </p:nvCxnSpPr>
        <p:spPr>
          <a:xfrm flipH="1" flipV="1">
            <a:off x="3555360" y="4654440"/>
            <a:ext cx="64800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1"/>
            <a:endCxn id="111" idx="3"/>
          </p:cNvCxnSpPr>
          <p:nvPr/>
        </p:nvCxnSpPr>
        <p:spPr>
          <a:xfrm flipH="1" flipV="1">
            <a:off x="3555360" y="4654440"/>
            <a:ext cx="187344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12720" y="371808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720" y="52308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573408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Cos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479736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32860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5080" y="566244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9080" y="566244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566244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5440" y="566244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ahoma"/>
              </a:rPr>
              <a:t>elev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4294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294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7080" y="4294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4294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4294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9988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tw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0560" y="1701720"/>
            <a:ext cx="1008000" cy="647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565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2133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0560" y="18464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1" idx="0"/>
            <a:endCxn id="142" idx="3"/>
          </p:cNvCxnSpPr>
          <p:nvPr/>
        </p:nvCxnSpPr>
        <p:spPr>
          <a:xfrm flipH="1" flipV="1">
            <a:off x="3553560" y="2349360"/>
            <a:ext cx="104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5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rgave flexibi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1916280"/>
            <a:ext cx="1008360" cy="647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3068640"/>
            <a:ext cx="1008360" cy="64764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4508640"/>
            <a:ext cx="1008000" cy="6476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4508640"/>
            <a:ext cx="1008360" cy="6476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508640"/>
            <a:ext cx="1008000" cy="647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4508640"/>
            <a:ext cx="1008000" cy="6476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9" idx="1"/>
            <a:endCxn id="148" idx="3"/>
          </p:cNvCxnSpPr>
          <p:nvPr/>
        </p:nvCxnSpPr>
        <p:spPr>
          <a:xfrm flipV="1">
            <a:off x="3555720" y="2563560"/>
            <a:ext cx="1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1"/>
            <a:endCxn id="149" idx="3"/>
          </p:cNvCxnSpPr>
          <p:nvPr/>
        </p:nvCxnSpPr>
        <p:spPr>
          <a:xfrm flipH="1" flipV="1">
            <a:off x="3555720" y="3715920"/>
            <a:ext cx="216720" cy="954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1" idx="1"/>
            <a:endCxn id="149" idx="3"/>
          </p:cNvCxnSpPr>
          <p:nvPr/>
        </p:nvCxnSpPr>
        <p:spPr>
          <a:xfrm flipV="1">
            <a:off x="2332080" y="3715920"/>
            <a:ext cx="122472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2" idx="1"/>
            <a:endCxn id="149" idx="3"/>
          </p:cNvCxnSpPr>
          <p:nvPr/>
        </p:nvCxnSpPr>
        <p:spPr>
          <a:xfrm flipV="1">
            <a:off x="892080" y="3715920"/>
            <a:ext cx="266472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3" idx="1"/>
            <a:endCxn id="149" idx="3"/>
          </p:cNvCxnSpPr>
          <p:nvPr/>
        </p:nvCxnSpPr>
        <p:spPr>
          <a:xfrm flipH="1" flipV="1">
            <a:off x="3555720" y="3715920"/>
            <a:ext cx="180072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611280" y="285264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2720" y="429264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7959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Cos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38592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Infrastructura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3479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duc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4724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4724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724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472428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ahoma"/>
              </a:rPr>
              <a:t>si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355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060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5950080"/>
            <a:ext cx="1008000" cy="6476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61657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5950080"/>
            <a:ext cx="1008000" cy="6476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6165720"/>
            <a:ext cx="8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Tahoma"/>
              </a:rPr>
              <a:t>n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5950080"/>
            <a:ext cx="1008000" cy="647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6093000"/>
            <a:ext cx="129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sev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0" idx="1"/>
            <a:endCxn id="153" idx="3"/>
          </p:cNvCxnSpPr>
          <p:nvPr/>
        </p:nvCxnSpPr>
        <p:spPr>
          <a:xfrm flipV="1">
            <a:off x="4708080" y="5155920"/>
            <a:ext cx="648360" cy="9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2" idx="1"/>
            <a:endCxn id="153" idx="3"/>
          </p:cNvCxnSpPr>
          <p:nvPr/>
        </p:nvCxnSpPr>
        <p:spPr>
          <a:xfrm flipH="1" flipV="1">
            <a:off x="5355360" y="5155920"/>
            <a:ext cx="577080" cy="9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4" idx="1"/>
            <a:endCxn id="152" idx="3"/>
          </p:cNvCxnSpPr>
          <p:nvPr/>
        </p:nvCxnSpPr>
        <p:spPr>
          <a:xfrm flipV="1">
            <a:off x="891720" y="5155920"/>
            <a:ext cx="1080" cy="9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3635280" y="256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1:27:51Z</dcterms:created>
  <dc:creator>Dhr A.J. Boer</dc:creator>
  <dc:description/>
  <dc:language>en-US</dc:language>
  <cp:lastModifiedBy>Frans van Cappellen</cp:lastModifiedBy>
  <dcterms:modified xsi:type="dcterms:W3CDTF">2005-02-01T11:36:14Z</dcterms:modified>
  <cp:revision>8</cp:revision>
  <dc:subject/>
  <dc:title>FKP Model PLEMDS</dc:title>
</cp:coreProperties>
</file>