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DDE-F816-4254-9528-AD2BCD89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264-6DB9-476E-AAD3-FC118B0D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7DB-63EA-45DE-AD0D-05713099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B92-E342-40F4-BB4C-6F4984D7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928-406E-4E7E-9255-0897632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DDF-C81A-44A5-9F26-5F650179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659-08BD-4C8D-B90B-51C3A097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340-B350-4693-877E-230EBE80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477-EBA1-4382-9F40-647A03AF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EAD-E7B9-4D88-834A-3F1C9FC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38C-564A-4316-ACEE-8ED6C728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72F-DE60-4DFA-BEB7-4E3F3AF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196B-72E9-4094-A413-C6823210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3611520"/>
            <a:ext cx="1584000" cy="161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4149720"/>
            <a:ext cx="9907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60280"/>
            <a:ext cx="747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werPoint 2003 on WinXP S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Engli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mat -&gt; AutoShape -&gt;  Color and Lines tab -&gt; click arrow beside Fill Collor box -&gt;  Fill Effects -&gt; Pattern tab -&gt; Light vertical  -&gt; select  Foreground:Black and Background: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 Japane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ートシェイプの書式設定→色と効果　タブ→塗りつぶし→塗りつぶし効果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ターン　タブ→「縦線」→前景：黒、背景：白　を選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4:28:49Z</dcterms:created>
  <dc:creator>B1004-05-01</dc:creator>
  <dc:description/>
  <dc:language>en-US</dc:language>
  <cp:lastModifiedBy>B1004-05-01</cp:lastModifiedBy>
  <dcterms:modified xsi:type="dcterms:W3CDTF">2012-05-23T07:15:58Z</dcterms:modified>
  <cp:revision>5</cp:revision>
  <dc:subject/>
  <dc:title>スライド 1</dc:title>
</cp:coreProperties>
</file>