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5ED-CBE5-4CAA-B5A6-C372B8F9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A02F-536E-4D76-A7BE-967A35EF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38B-65E4-4713-8B3A-C16A818A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EE1F-D0D0-4487-A3D8-18A626D7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066-E1ED-4B9B-84C8-031E3D6E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4E2-E91E-4401-8BC0-D101B861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8E2-C0B9-4A3E-A6BA-4EFF90E2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33F-45DF-48C6-B44F-CD41BAD0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FB4-667C-4447-97E5-D9E297DA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612-F561-4021-9246-409D6650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580-93A4-4818-B671-471ECF66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F1A-B8AA-4CF7-81AA-126C5DE1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882C-D23D-485E-82EC-FBCB24874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8360" y="1384200"/>
          <a:ext cx="8229600" cy="4178520"/>
        </p:xfrm>
        <a:graphic>
          <a:graphicData uri="http://schemas.openxmlformats.org/drawingml/2006/table">
            <a:tbl>
              <a:tblPr/>
              <a:tblGrid>
                <a:gridCol w="1855800"/>
                <a:gridCol w="1295280"/>
                <a:gridCol w="1270080"/>
                <a:gridCol w="1266840"/>
                <a:gridCol w="1274760"/>
                <a:gridCol w="1266840"/>
              </a:tblGrid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8:10:09Z</dcterms:created>
  <dc:creator>Automation</dc:creator>
  <dc:description/>
  <dc:language>en-US</dc:language>
  <cp:lastModifiedBy>Automation</cp:lastModifiedBy>
  <dcterms:modified xsi:type="dcterms:W3CDTF">2010-04-14T08:10:16Z</dcterms:modified>
  <cp:revision>1</cp:revision>
  <dc:subject/>
  <dc:title>Slide 1</dc:title>
</cp:coreProperties>
</file>