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526-9D00-4491-84F6-0F9CEC50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DC5-7BF8-494B-AC5D-E5D258A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972-FE34-4D6B-86E2-CE5C1EAC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6E0-CA33-4DE2-8AB4-C043A8F7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9C4-D1C9-4CA4-B5FB-63F00C3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9FE-569C-40E0-9E8E-89D1B7F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2F1-D622-4BBD-BB0A-A24C1A7E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3A3-38B9-4A79-9B5D-A47154CD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24-32A2-42EC-9C22-EF8492D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618-96DC-4A3A-9991-01512E16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319-F135-444E-8682-F24CD87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11A-DA11-4780-84A9-CE3FEA4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C51D-8E0E-4E0B-BE4D-25C8C34138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7920" y="2565360"/>
            <a:ext cx="297972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bc3f4"/>
                </a:solidFill>
                <a:latin typeface="Arial Black"/>
              </a:rPr>
              <a:t>Bla b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bc3f4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