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5957-66B9-4C3F-8714-0C46C48E2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3B91-C078-462B-96C9-16746FDE5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6383-6D52-441D-8379-41F79CF34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85E6-49E4-4C47-B8F0-C597A01EC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167E-AB7A-46A1-9846-8E6F558B0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D34A-EE29-427A-927F-563B6E491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7AE2-50F4-47A3-82E5-37C83ABB6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48AE-D3D2-495E-9DF6-4E6638049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5386-32CF-4D3C-B312-9EB0A3CE2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8F50-8C4A-44C0-A927-526C4A23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A240-0EC6-49B1-A8CA-E9317860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2F43-AFEC-4751-9CF5-565E6C41D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8A7D819-7EDA-426B-AA0B-68E41C363EA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330280"/>
            <a:ext cx="777240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93012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828800" y="1905120"/>
            <a:ext cx="1101600" cy="2214360"/>
            <a:chOff x="1828800" y="1905120"/>
            <a:chExt cx="1101600" cy="2214360"/>
          </a:xfrm>
        </p:grpSpPr>
        <p:sp>
          <p:nvSpPr>
            <p:cNvPr id="44" name=""/>
            <p:cNvSpPr/>
            <p:nvPr/>
          </p:nvSpPr>
          <p:spPr>
            <a:xfrm>
              <a:off x="1828800" y="1905120"/>
              <a:ext cx="1093680" cy="976320"/>
            </a:xfrm>
            <a:solidFill>
              <a:srgbClr val="e1e1e1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075040" y="1916280"/>
              <a:ext cx="6476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81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46320" y="2446200"/>
              <a:ext cx="465120" cy="180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992240" y="2162160"/>
              <a:ext cx="776520" cy="144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833480" y="3141720"/>
              <a:ext cx="1096920" cy="977760"/>
            </a:xfrm>
            <a:solidFill>
              <a:srgbClr val="e1e1e1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079720" y="3460680"/>
              <a:ext cx="64908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81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143080" y="3544920"/>
              <a:ext cx="469800" cy="144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998720" y="3821040"/>
              <a:ext cx="758880" cy="180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097000" y="2747880"/>
              <a:ext cx="576360" cy="533520"/>
            </a:xfrm>
            <a:prstGeom prst="ellipse">
              <a:avLst/>
            </a:prstGeom>
            <a:solidFill>
              <a:srgbClr val="e1e1e1"/>
            </a:solidFill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892760" y="1905120"/>
            <a:ext cx="1101600" cy="2214360"/>
            <a:chOff x="4892760" y="1905120"/>
            <a:chExt cx="1101600" cy="2214360"/>
          </a:xfrm>
        </p:grpSpPr>
        <p:sp>
          <p:nvSpPr>
            <p:cNvPr id="54" name=""/>
            <p:cNvSpPr/>
            <p:nvPr/>
          </p:nvSpPr>
          <p:spPr>
            <a:xfrm>
              <a:off x="4892760" y="1905120"/>
              <a:ext cx="1093680" cy="976320"/>
            </a:xfrm>
            <a:solidFill>
              <a:srgbClr val="e1e1e1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138640" y="1916280"/>
              <a:ext cx="6476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81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210280" y="2446200"/>
              <a:ext cx="465120" cy="180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056200" y="2162160"/>
              <a:ext cx="776160" cy="144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97440" y="3141720"/>
              <a:ext cx="1096920" cy="977760"/>
            </a:xfrm>
            <a:solidFill>
              <a:srgbClr val="e1e1e1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143680" y="3460680"/>
              <a:ext cx="64908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81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207040" y="3544920"/>
              <a:ext cx="469800" cy="144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062680" y="3821040"/>
              <a:ext cx="758520" cy="180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160960" y="2747880"/>
              <a:ext cx="576360" cy="533520"/>
            </a:xfrm>
            <a:prstGeom prst="ellipse">
              <a:avLst/>
            </a:prstGeom>
            <a:solidFill>
              <a:srgbClr val="e1e1e1"/>
            </a:solidFill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7953480" y="1893960"/>
            <a:ext cx="1101600" cy="2214360"/>
            <a:chOff x="7953480" y="1893960"/>
            <a:chExt cx="1101600" cy="2214360"/>
          </a:xfrm>
        </p:grpSpPr>
        <p:sp>
          <p:nvSpPr>
            <p:cNvPr id="64" name=""/>
            <p:cNvSpPr/>
            <p:nvPr/>
          </p:nvSpPr>
          <p:spPr>
            <a:xfrm>
              <a:off x="7953480" y="1893960"/>
              <a:ext cx="1093680" cy="976320"/>
            </a:xfrm>
            <a:solidFill>
              <a:srgbClr val="e1e1e1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199360" y="1905120"/>
              <a:ext cx="6476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81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271000" y="2435400"/>
              <a:ext cx="465120" cy="144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116920" y="2151000"/>
              <a:ext cx="776160" cy="180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58160" y="3130560"/>
              <a:ext cx="1096920" cy="977760"/>
            </a:xfrm>
            <a:solidFill>
              <a:srgbClr val="e1e1e1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204040" y="3449520"/>
              <a:ext cx="6494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600" spc="-1" strike="noStrike">
                  <a:solidFill>
                    <a:srgbClr val="81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267760" y="3533760"/>
              <a:ext cx="469800" cy="144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3400" y="3809880"/>
              <a:ext cx="758520" cy="180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221680" y="2736720"/>
              <a:ext cx="576360" cy="533520"/>
            </a:xfrm>
            <a:prstGeom prst="ellipse">
              <a:avLst/>
            </a:prstGeom>
            <a:solidFill>
              <a:srgbClr val="e1e1e1"/>
            </a:solidFill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athan Egge</dc:creator>
  <dc:description/>
  <dc:language>en-US</dc:language>
  <cp:lastModifiedBy>Nathan Egge</cp:lastModifiedBy>
  <cp:revision>0</cp:revision>
  <dc:subject/>
  <dc:title>PowerPoint Presentation</dc:title>
</cp:coreProperties>
</file>