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96A1-4583-4062-9258-954833DA1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69343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1828800" y="5248800"/>
            <a:ext cx="69343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50EE-8116-4464-9743-A2A650642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382000" y="45720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828800" y="52488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382000" y="52488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AD7A-0FAD-40D0-83A9-E7956DEEF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2232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173480" y="4572000"/>
            <a:ext cx="2232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518160" y="4572000"/>
            <a:ext cx="2232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1828800" y="5248800"/>
            <a:ext cx="2232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4173480" y="5248800"/>
            <a:ext cx="2232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518160" y="5248800"/>
            <a:ext cx="2232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EDD9-25A1-4D84-958C-34590997F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6BE6A-EC22-4EE8-BDAA-2D06EA436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1828800" y="45720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B14C4-E450-426D-A0AD-725A226A4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0666A-E306-41B3-A3E2-AD1EC698C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338364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382000" y="4572000"/>
            <a:ext cx="338364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C4F34-911A-4CFF-BEE1-866F40821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F6E61-F8F4-472D-9A70-B3D0CF783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1828800" y="1828800"/>
            <a:ext cx="6934320" cy="1095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9ABBA-F8E8-4031-8E94-3A72F95D4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382000" y="4572000"/>
            <a:ext cx="338364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1828800" y="52488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E2D06-12D6-46F9-995F-636291151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828800" y="45720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C883-0B70-41A7-8086-177579CE6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338364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382000" y="45720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5382000" y="52488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9AAB1-9541-4DD9-A682-C3F5902AF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382000" y="45720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828800" y="5248800"/>
            <a:ext cx="69343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C9F26-D24F-4A86-A2F4-4A796C050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69343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1828800" y="5248800"/>
            <a:ext cx="69343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B4634-63AF-43FD-9E5B-00DF1C72B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382000" y="45720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828800" y="52488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5382000" y="52488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86DE5-92D4-4DAD-98C1-E5803D2D0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2232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173480" y="4572000"/>
            <a:ext cx="2232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518160" y="4572000"/>
            <a:ext cx="2232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1828800" y="5248800"/>
            <a:ext cx="2232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4173480" y="5248800"/>
            <a:ext cx="2232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518160" y="5248800"/>
            <a:ext cx="2232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BFC2A-368D-42B1-A0D1-6A4889203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2BB7-3D5A-4836-8A03-DE43DA1C0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338364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382000" y="4572000"/>
            <a:ext cx="338364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903B-EA24-42C5-B44F-D7D07A103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AEA1-95AC-4456-BBB4-E1E9CABFF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828800" y="1828800"/>
            <a:ext cx="6934320" cy="1095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79C9-7C1D-4F80-899F-9D99BE040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382000" y="4572000"/>
            <a:ext cx="338364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828800" y="52488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AD1F-F3D9-4521-BA56-FBEDB0165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338364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382000" y="45720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382000" y="52488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2E99-0D00-46AF-A4F1-319DCA4CE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382000" y="45720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828800" y="5248800"/>
            <a:ext cx="69343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A1A1-9CF1-489A-9DC7-11DE5F424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F599F-1D79-4A26-9D4E-96A601954AD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" name="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9" name="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57" name="earth" descr="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283" name="earth" descr="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BC505-3BC6-45F0-BDB6-FCDA1039DEC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26" name="SYM102" descr=""/>
          <p:cNvPicPr/>
          <p:nvPr/>
        </p:nvPicPr>
        <p:blipFill>
          <a:blip r:embed="rId1"/>
          <a:stretch/>
        </p:blipFill>
        <p:spPr>
          <a:xfrm>
            <a:off x="3886200" y="914400"/>
            <a:ext cx="4802040" cy="548640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685800" y="1447920"/>
            <a:ext cx="2666880" cy="17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99"/>
                </a:solidFill>
                <a:latin typeface="Garamond"/>
              </a:rPr>
              <a:t>Paduan Suara</a:t>
            </a:r>
            <a:endParaRPr b="1" i="1" lang="en-US" sz="4000" spc="1" strike="noStrike">
              <a:ln w="9360">
                <a:solidFill>
                  <a:srgbClr val="ff0000"/>
                </a:solidFill>
                <a:miter/>
              </a:ln>
              <a:solidFill>
                <a:srgbClr val="000099"/>
              </a:solidFill>
              <a:latin typeface="Garamond"/>
              <a:ea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99"/>
                </a:solidFill>
                <a:latin typeface="Garamond"/>
              </a:rPr>
              <a:t>"Serafim"</a:t>
            </a:r>
            <a:endParaRPr b="1" i="1" lang="en-US" sz="4000" spc="1" strike="noStrike">
              <a:ln w="9360">
                <a:solidFill>
                  <a:srgbClr val="ff0000"/>
                </a:solidFill>
                <a:miter/>
              </a:ln>
              <a:solidFill>
                <a:srgbClr val="000099"/>
              </a:solidFill>
              <a:latin typeface="Garamond"/>
              <a:ea typeface="Garamond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99"/>
                </a:solidFill>
                <a:latin typeface="Times New Roman"/>
              </a:rPr>
              <a:t>Karya ALLAH dalam KasihNYA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1981080" y="213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Times New Roman"/>
              </a:rPr>
              <a:t>Efesus 2 : 1-10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66"/>
                </a:solidFill>
                <a:latin typeface="Bookman Old Style"/>
              </a:rPr>
              <a:t>Pdt. Gunawan Krista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Pendahuluan</a:t>
            </a:r>
            <a:endParaRPr b="0" i="1" lang="en-US" sz="28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981080" y="2133360"/>
            <a:ext cx="6400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SzPct val="80000"/>
              <a:buFont typeface="Bookman Old Style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Bookman Old Style"/>
              </a:rPr>
              <a:t>ALLAH mengasihi kita, itulah pernyataan seluruh isi Alkita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"/>
          <p:cNvSpPr/>
          <p:nvPr/>
        </p:nvSpPr>
        <p:spPr>
          <a:xfrm>
            <a:off x="1981080" y="3124080"/>
            <a:ext cx="64008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SzPct val="80000"/>
              <a:buFont typeface="Bookman Old Style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Bookman Old Style"/>
              </a:rPr>
              <a:t>Sejak Adam &amp; Hawa, ALLAH terus berkarya menyatakan KasihNYA pada k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981080" y="4495680"/>
            <a:ext cx="64008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SzPct val="80000"/>
              <a:buFont typeface="Bookman Old Style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Bookman Old Style"/>
              </a:rPr>
              <a:t>Puncak kasihNYA adalah : YESUS mati di kayu salib dan bangkit pada hari ket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Efesus 2 : 1-3           Kehidupan Kita sebelum Bertobat</a:t>
            </a:r>
            <a:endParaRPr b="0" i="1" lang="en-US" sz="28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1980720" y="2133720"/>
            <a:ext cx="71629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Bookman Old Style"/>
              </a:rPr>
              <a:t>Kita hidup di dalam </a:t>
            </a:r>
            <a:r>
              <a:rPr b="1" i="1" lang="en-US" sz="2800" spc="-1" strike="noStrike" u="sng">
                <a:solidFill>
                  <a:srgbClr val="990000"/>
                </a:solidFill>
                <a:uFillTx/>
                <a:latin typeface="Bookman Old Style"/>
              </a:rPr>
              <a:t>Do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Bookman Old Style"/>
              </a:rPr>
              <a:t>Kita hidup menurut </a:t>
            </a:r>
            <a:r>
              <a:rPr b="1" i="1" lang="en-US" sz="2800" spc="-1" strike="noStrike" u="sng">
                <a:solidFill>
                  <a:srgbClr val="990000"/>
                </a:solidFill>
                <a:uFillTx/>
                <a:latin typeface="Bookman Old Style"/>
              </a:rPr>
              <a:t>Jalan Dun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Bookman Old Style"/>
              </a:rPr>
              <a:t>Kita hidup mentaati </a:t>
            </a:r>
            <a:r>
              <a:rPr b="1" i="1" lang="en-US" sz="2800" spc="-1" strike="noStrike" u="sng">
                <a:solidFill>
                  <a:srgbClr val="990000"/>
                </a:solidFill>
                <a:uFillTx/>
                <a:latin typeface="Bookman Old Style"/>
              </a:rPr>
              <a:t>Ibl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Bookman Old Style"/>
              </a:rPr>
              <a:t>Kita hidup menuruti </a:t>
            </a:r>
            <a:r>
              <a:rPr b="1" i="1" lang="en-US" sz="2800" spc="-1" strike="noStrike" u="sng">
                <a:solidFill>
                  <a:srgbClr val="990000"/>
                </a:solidFill>
                <a:uFillTx/>
                <a:latin typeface="Bookman Old Style"/>
              </a:rPr>
              <a:t>Kehendak Dag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Bookman Old Style"/>
              </a:rPr>
              <a:t>Kita hidup menuruti </a:t>
            </a:r>
            <a:r>
              <a:rPr b="1" i="1" lang="en-US" sz="2800" spc="-1" strike="noStrike" u="sng">
                <a:solidFill>
                  <a:srgbClr val="990000"/>
                </a:solidFill>
                <a:uFillTx/>
                <a:latin typeface="Bookman Old Style"/>
              </a:rPr>
              <a:t>Pikiran kita yang Jah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Efesus 2 : 4-5                               ALLAH mengasihi kita</a:t>
            </a:r>
            <a:endParaRPr b="0" i="1" lang="en-US" sz="28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1981080" y="213372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SzPct val="80000"/>
              <a:buFont typeface="Bookman Old Style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Bookman Old Style"/>
              </a:rPr>
              <a:t>Walau kita jahat di hadapan Tuhan, tetapi </a:t>
            </a:r>
            <a:r>
              <a:rPr b="1" i="1" lang="en-US" sz="2800" spc="-1" strike="noStrike" u="sng">
                <a:solidFill>
                  <a:srgbClr val="990000"/>
                </a:solidFill>
                <a:uFillTx/>
                <a:latin typeface="Bookman Old Style"/>
              </a:rPr>
              <a:t>Tuhan tetap mengasihi ki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"/>
          <p:cNvSpPr/>
          <p:nvPr/>
        </p:nvSpPr>
        <p:spPr>
          <a:xfrm>
            <a:off x="1981080" y="3581280"/>
            <a:ext cx="69343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SzPct val="80000"/>
              <a:buFont typeface="Bookman Old Style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Bookman Old Style"/>
              </a:rPr>
              <a:t>Allah kaya dengan rahmatNYA, sehingga </a:t>
            </a:r>
            <a:r>
              <a:rPr b="1" i="1" lang="en-US" sz="2800" spc="-1" strike="noStrike" u="sng">
                <a:solidFill>
                  <a:srgbClr val="990000"/>
                </a:solidFill>
                <a:uFillTx/>
                <a:latin typeface="Bookman Old Style"/>
              </a:rPr>
              <a:t>melalui kematian Tuhan Yesus, roh kita yang mati telah dihidupkanNYA kemb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91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fesus 2 : 6-10</a:t>
            </a:r>
            <a:r>
              <a:rPr b="1" i="1" lang="en-US" sz="2600" spc="-1" strike="noStrike">
                <a:solidFill>
                  <a:srgbClr val="000099"/>
                </a:solidFill>
                <a:latin typeface="Times New Roman"/>
              </a:rPr>
              <a:t>       Hasil dari Karya ALLAH di dalam KasihNYA</a:t>
            </a:r>
            <a:endParaRPr b="0" i="1" lang="en-US" sz="2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981080" y="1828440"/>
            <a:ext cx="69343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0000"/>
              <a:buFont typeface="Bookman Old Style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Bookman Old Style"/>
              </a:rPr>
              <a:t>Karena kasih Allah, kita yang percaya kepadaNYA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5800" indent="-228600">
              <a:lnSpc>
                <a:spcPct val="100000"/>
              </a:lnSpc>
              <a:spcBef>
                <a:spcPts val="550"/>
              </a:spcBef>
              <a:buClr>
                <a:srgbClr val="000099"/>
              </a:buClr>
              <a:buSzPct val="65000"/>
              <a:buFont typeface="MS Outlook" charset="2"/>
              <a:buChar char="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00"/>
                </a:solidFill>
                <a:latin typeface="Bookman Old Style"/>
              </a:rPr>
              <a:t>telah dibangkitkan secara rohani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85800" indent="-228600">
              <a:lnSpc>
                <a:spcPct val="100000"/>
              </a:lnSpc>
              <a:spcBef>
                <a:spcPts val="550"/>
              </a:spcBef>
              <a:buClr>
                <a:srgbClr val="000099"/>
              </a:buClr>
              <a:buSzPct val="65000"/>
              <a:buFont typeface="MS Outlook" charset="2"/>
              <a:buChar char="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00"/>
                </a:solidFill>
                <a:latin typeface="Bookman Old Style"/>
              </a:rPr>
              <a:t>bahkan diberi tempat bersama-sama Allah di Surg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"/>
          <p:cNvSpPr/>
          <p:nvPr/>
        </p:nvSpPr>
        <p:spPr>
          <a:xfrm>
            <a:off x="1981080" y="3809880"/>
            <a:ext cx="693432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0000"/>
              <a:buFont typeface="Bookman Old Style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Bookman Old Style"/>
              </a:rPr>
              <a:t>Jika akhirnya, kita diselamatka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550"/>
              </a:spcBef>
              <a:buClr>
                <a:srgbClr val="000099"/>
              </a:buClr>
              <a:buSzPct val="65000"/>
              <a:buFont typeface="MS Outlook" charset="2"/>
              <a:buChar char="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00"/>
                </a:solidFill>
                <a:latin typeface="Bookman Old Style"/>
              </a:rPr>
              <a:t>itu bukan karena kebaikan ki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550"/>
              </a:spcBef>
              <a:buClr>
                <a:srgbClr val="000099"/>
              </a:buClr>
              <a:buSzPct val="65000"/>
              <a:buFont typeface="MS Outlook" charset="2"/>
              <a:buChar char="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00"/>
                </a:solidFill>
                <a:latin typeface="Bookman Old Style"/>
              </a:rPr>
              <a:t>Itu bukan hasil usaha ki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550"/>
              </a:spcBef>
              <a:buClr>
                <a:srgbClr val="000099"/>
              </a:buClr>
              <a:buSzPct val="65000"/>
              <a:buFont typeface="MS Outlook" charset="2"/>
              <a:buChar char="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00"/>
                </a:solidFill>
                <a:latin typeface="Bookman Old Style"/>
              </a:rPr>
              <a:t>Itu adalah Rahmat Alla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550"/>
              </a:spcBef>
              <a:buClr>
                <a:srgbClr val="000099"/>
              </a:buClr>
              <a:buSzPct val="65000"/>
              <a:buFont typeface="MS Outlook" charset="2"/>
              <a:buChar char="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00"/>
                </a:solidFill>
                <a:latin typeface="Bookman Old Style"/>
              </a:rPr>
              <a:t>Itu adalah hasil karya Allah di dalam kasihNYA kepada ki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9T01:53:18Z</dcterms:created>
  <dc:creator>Bambang Kushandoko</dc:creator>
  <dc:description/>
  <dc:language>en-US</dc:language>
  <cp:lastModifiedBy>Windows 98</cp:lastModifiedBy>
  <dcterms:modified xsi:type="dcterms:W3CDTF">2001-04-01T03:49:25Z</dcterms:modified>
  <cp:revision>101</cp:revision>
  <dc:subject/>
  <dc:title>IBM Storage Distributor Business Plan </dc:title>
</cp:coreProperties>
</file>