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079-D72A-40AB-94DC-7E9EABB3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A72-B998-4F05-B40B-62E92F6D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9A1-BF06-4F6D-B827-235BE3FA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285-B482-4850-8F74-73CD3F94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CC8-B879-4C10-AABF-8F4A0998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586-5925-461A-8673-D000DEB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618-BEF2-4474-9FC8-3B9033D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429-84DD-46BA-AC32-A5FB3AE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A18-986E-4DC1-8BF5-DA74780E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5AB-93C7-4755-A81A-53547AD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DAB-2744-447B-B80B-9227A3B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8DE-45C7-46CD-94F8-9E7A119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A9B-63A8-4DCC-85E1-E60FF9B29C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!  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b81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!  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-&gt;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Plus-&gt;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20:46Z</dcterms:created>
  <dc:creator>FtpDown</dc:creator>
  <dc:description/>
  <dc:language>en-US</dc:language>
  <cp:lastModifiedBy>tester</cp:lastModifiedBy>
  <dcterms:modified xsi:type="dcterms:W3CDTF">2006-04-06T06:10:33Z</dcterms:modified>
  <cp:revision>3</cp:revision>
  <dc:subject/>
  <dc:title>Hi!  Page </dc:title>
</cp:coreProperties>
</file>