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601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48BA-33E8-46F4-8535-48B4DB33B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AE6B-9F3E-43B3-BDDF-63724420BC2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557360"/>
            <a:ext cx="81532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2120" y="4001760"/>
            <a:ext cx="81532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557360"/>
            <a:ext cx="3978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0280" y="1557360"/>
            <a:ext cx="3978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01760"/>
            <a:ext cx="3978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40280" y="4001760"/>
            <a:ext cx="3978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557360"/>
            <a:ext cx="262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9000" y="1557360"/>
            <a:ext cx="262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75520" y="1557360"/>
            <a:ext cx="262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2120" y="4001760"/>
            <a:ext cx="262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9000" y="4001760"/>
            <a:ext cx="262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75520" y="4001760"/>
            <a:ext cx="2625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2120" y="1557360"/>
            <a:ext cx="815328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2120" y="1557360"/>
            <a:ext cx="8153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1557360"/>
            <a:ext cx="3978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40280" y="1557360"/>
            <a:ext cx="3978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153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557360"/>
            <a:ext cx="3978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40280" y="1557360"/>
            <a:ext cx="3978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2120" y="4001760"/>
            <a:ext cx="3978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557360"/>
            <a:ext cx="3978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557360"/>
            <a:ext cx="3978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40280" y="4001760"/>
            <a:ext cx="3978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557360"/>
            <a:ext cx="3978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557360"/>
            <a:ext cx="3978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2120" y="4001760"/>
            <a:ext cx="81532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601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57360"/>
            <a:ext cx="8153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183960">
              <a:spcBef>
                <a:spcPts val="601"/>
              </a:spcBef>
              <a:buClr>
                <a:srgbClr val="b895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2960" y="542520"/>
            <a:ext cx="8153640" cy="2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a601b"/>
                </a:solidFill>
                <a:latin typeface="Arial"/>
              </a:rPr>
              <a:t>1</a:t>
            </a:r>
            <a:br>
              <a:rPr sz="3600"/>
            </a:br>
            <a:r>
              <a:rPr b="1" lang="fr-CA" sz="3600" spc="-1" strike="noStrike">
                <a:solidFill>
                  <a:srgbClr val="3a601b"/>
                </a:solidFill>
                <a:latin typeface="Arial"/>
              </a:rPr>
              <a:t>2</a:t>
            </a:r>
            <a:br>
              <a:rPr sz="3600"/>
            </a:br>
            <a:r>
              <a:rPr b="1" lang="fr-CA" sz="3600" spc="-1" strike="noStrike">
                <a:solidFill>
                  <a:srgbClr val="3a601b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1557360"/>
            <a:ext cx="8153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2T22:22:15Z</dcterms:created>
  <dc:creator/>
  <dc:description/>
  <dc:language>en-US</dc:language>
  <cp:lastModifiedBy/>
  <dcterms:modified xsi:type="dcterms:W3CDTF">2014-08-12T23:17:57Z</dcterms:modified>
  <cp:revision>1</cp:revision>
  <dc:subject/>
  <dc:title/>
</cp:coreProperties>
</file>