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941B-03EB-4F9B-94FE-73CFE853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2275-D2A2-493F-8E1E-5C25F796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3C87-FDFA-4FB2-A869-C0F9072F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EEDA-2466-409A-9907-3510B8F2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319B-F845-48C2-9B4A-B4F805EA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3E90-CEF4-4D3C-B58F-ACA3523A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BDC7-601A-4479-B498-46521C87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6D37-5C4E-442E-A82D-75749A44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F30E-FB78-4510-8CF6-8904F845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CFD5-6C15-4710-A0CC-D5D1D521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E2D4-AD6C-45A9-B7D0-A76910B3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A695-9DA2-4986-BA17-0F76F6DF2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0AFD-8B78-4E86-B2C9-80C4D5601A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1978200"/>
            <a:ext cx="2133000" cy="1984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17" y="5010"/>
                </a:moveTo>
                <a:arcTo wR="10800" hR="10800" stAng="-1945310" swAng="1945310"/>
                <a:lnTo>
                  <a:pt x="10800" y="10800"/>
                </a:lnTo>
                <a:close/>
              </a:path>
              <a:path fill="none" w="21600" h="21600">
                <a:moveTo>
                  <a:pt x="19917" y="5010"/>
                </a:moveTo>
                <a:arcTo wR="10800" hR="10800" stAng="-1945310" swAng="194531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198108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artAngle=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11040" y="1828800"/>
            <a:ext cx="258912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4" y="6664"/>
                </a:moveTo>
                <a:arcTo wR="10800" hR="10800" stAng="-9448826" swAng="9448826"/>
                <a:lnTo>
                  <a:pt x="10800" y="10800"/>
                </a:lnTo>
                <a:close/>
              </a:path>
              <a:path fill="none" w="21600" h="21600">
                <a:moveTo>
                  <a:pt x="824" y="6664"/>
                </a:moveTo>
                <a:arcTo wR="10800" hR="10800" stAng="-9448826" swAng="944882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1752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artAngle=1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00200" y="2209680"/>
            <a:ext cx="3504960" cy="304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379" y="18647"/>
                </a:moveTo>
                <a:arcTo wR="10800" hR="10800" stAng="8004130" swAng="13595870"/>
                <a:lnTo>
                  <a:pt x="10800" y="10800"/>
                </a:lnTo>
                <a:close/>
              </a:path>
              <a:path fill="none" w="21600" h="21600">
                <a:moveTo>
                  <a:pt x="3379" y="18647"/>
                </a:moveTo>
                <a:arcTo wR="10800" hR="10800" stAng="8004130" swAng="135958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1752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artAngle=2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00200" y="2211480"/>
            <a:ext cx="3504960" cy="304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73" y="16500"/>
                </a:moveTo>
                <a:arcTo wR="10800" hR="10800" stAng="1911264" swAng="19688736"/>
                <a:lnTo>
                  <a:pt x="10800" y="10800"/>
                </a:lnTo>
                <a:close/>
              </a:path>
              <a:path fill="none" w="21600" h="21600">
                <a:moveTo>
                  <a:pt x="19973" y="16500"/>
                </a:moveTo>
                <a:arcTo wR="10800" hR="10800" stAng="1911264" swAng="1968873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57800" y="1752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artAngle=3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23089680" y="990720"/>
            <a:ext cx="49684320" cy="39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"/>
              </a:path>
            </a:pathLst>
          </a:custGeom>
          <a:noFill/>
          <a:ln cap="sq"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2286000" y="1752480"/>
            <a:ext cx="1371240" cy="4419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18069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18069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 flipV="1">
            <a:off x="3962880" y="2133000"/>
            <a:ext cx="7610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1:40:16Z</dcterms:created>
  <dc:creator>sunying</dc:creator>
  <dc:description/>
  <dc:language>en-US</dc:language>
  <cp:lastModifiedBy>sunying</cp:lastModifiedBy>
  <dcterms:modified xsi:type="dcterms:W3CDTF">2012-07-03T01:20:28Z</dcterms:modified>
  <cp:revision>19</cp:revision>
  <dc:subject/>
  <dc:title>Slide 1</dc:title>
</cp:coreProperties>
</file>