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7274-8CB6-4961-AEAA-6E499FE24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DDBB-650B-4AEC-8A01-ABB2BB6D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872E-1EA7-447D-8EFF-3E74931B2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A825-A88E-4621-87F2-E05ED5B14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472F-DC6F-4D8A-BF1E-26BE0340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745A-8C1F-4DF1-893F-97DC5EAA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CE84-EDDD-47A7-857E-230DB001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54EC-0565-45BC-B75A-43E1D8CF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8380-FBD2-4BF5-9730-D407042F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89EB-9C17-4B79-A56E-E77E3EF8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0EEE-0029-409D-BE2B-645D2AD1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0637-4375-4782-B66A-64921403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846C-EBC9-48B1-9D30-217E32C3A52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51240" y="765000"/>
            <a:ext cx="1403280" cy="3070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Ger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1828800"/>
            <a:ext cx="1371600" cy="5202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Administ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667560" y="1773360"/>
            <a:ext cx="1562040" cy="3070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Jefe Produ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3413160"/>
            <a:ext cx="1170000" cy="3070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Jefe Ta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10040" y="3413160"/>
            <a:ext cx="1406520" cy="3070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Jefe Comp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39680" y="3429000"/>
            <a:ext cx="1094040" cy="3070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87640" y="4205160"/>
            <a:ext cx="1560600" cy="5202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Responsable Se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85840" y="5140440"/>
            <a:ext cx="1560600" cy="5202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Operario Máqu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85840" y="6087960"/>
            <a:ext cx="1560600" cy="5202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Personal Prác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8" idx="2"/>
            <a:endCxn id="49" idx="0"/>
          </p:cNvCxnSpPr>
          <p:nvPr/>
        </p:nvCxnSpPr>
        <p:spPr>
          <a:xfrm rot="16200000">
            <a:off x="2652480" y="5874120"/>
            <a:ext cx="4276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1" idx="2"/>
            <a:endCxn id="42" idx="0"/>
          </p:cNvCxnSpPr>
          <p:nvPr/>
        </p:nvCxnSpPr>
        <p:spPr>
          <a:xfrm rot="5400000">
            <a:off x="2478960" y="-644760"/>
            <a:ext cx="757080" cy="4191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1" idx="2"/>
            <a:endCxn id="43" idx="0"/>
          </p:cNvCxnSpPr>
          <p:nvPr/>
        </p:nvCxnSpPr>
        <p:spPr>
          <a:xfrm flipH="1" rot="16200000">
            <a:off x="5850000" y="174960"/>
            <a:ext cx="701640" cy="2495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3162240" y="1841400"/>
            <a:ext cx="1562040" cy="5202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Responsable Calidad y M.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13280" y="4200480"/>
            <a:ext cx="1404720" cy="3070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Jefe Almacé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45" idx="2"/>
            <a:endCxn id="54" idx="0"/>
          </p:cNvCxnSpPr>
          <p:nvPr/>
        </p:nvCxnSpPr>
        <p:spPr>
          <a:xfrm flipH="1" rot="16200000">
            <a:off x="4474080" y="3958920"/>
            <a:ext cx="480600" cy="2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4010040" y="5146560"/>
            <a:ext cx="1406520" cy="5202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Personal Almacé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4" idx="2"/>
            <a:endCxn id="56" idx="0"/>
          </p:cNvCxnSpPr>
          <p:nvPr/>
        </p:nvCxnSpPr>
        <p:spPr>
          <a:xfrm rot="5400000">
            <a:off x="4394520" y="4825800"/>
            <a:ext cx="639360" cy="2880"/>
          </a:xfrm>
          <a:prstGeom prst="bentConnector3">
            <a:avLst>
              <a:gd name="adj1" fmla="val 499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5638680" y="4191120"/>
            <a:ext cx="1103400" cy="3070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Delinea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3" idx="2"/>
            <a:endCxn id="46" idx="0"/>
          </p:cNvCxnSpPr>
          <p:nvPr/>
        </p:nvCxnSpPr>
        <p:spPr>
          <a:xfrm rot="5400000">
            <a:off x="2230920" y="1716840"/>
            <a:ext cx="1067760" cy="235692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6981840" y="4191120"/>
            <a:ext cx="1463760" cy="3070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Program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logo" descr=""/>
          <p:cNvPicPr/>
          <p:nvPr/>
        </p:nvPicPr>
        <p:blipFill>
          <a:blip r:embed="rId1"/>
          <a:stretch/>
        </p:blipFill>
        <p:spPr>
          <a:xfrm>
            <a:off x="7594560" y="5334120"/>
            <a:ext cx="1365120" cy="720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7240" y="5105520"/>
            <a:ext cx="1404720" cy="5202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Personal Admi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42" idx="2"/>
            <a:endCxn id="62" idx="0"/>
          </p:cNvCxnSpPr>
          <p:nvPr/>
        </p:nvCxnSpPr>
        <p:spPr>
          <a:xfrm flipH="1">
            <a:off x="759600" y="2349000"/>
            <a:ext cx="2880" cy="275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8686800" y="4191120"/>
            <a:ext cx="914400" cy="3070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Ofer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41" idx="2"/>
            <a:endCxn id="53" idx="0"/>
          </p:cNvCxnSpPr>
          <p:nvPr/>
        </p:nvCxnSpPr>
        <p:spPr>
          <a:xfrm rot="5400000">
            <a:off x="4062960" y="951840"/>
            <a:ext cx="769680" cy="10101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7" idx="2"/>
            <a:endCxn id="48" idx="0"/>
          </p:cNvCxnSpPr>
          <p:nvPr/>
        </p:nvCxnSpPr>
        <p:spPr>
          <a:xfrm flipH="1">
            <a:off x="2865960" y="4725360"/>
            <a:ext cx="2160" cy="41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44" idx="2"/>
            <a:endCxn id="47" idx="0"/>
          </p:cNvCxnSpPr>
          <p:nvPr/>
        </p:nvCxnSpPr>
        <p:spPr>
          <a:xfrm flipH="1">
            <a:off x="2867760" y="3720240"/>
            <a:ext cx="3600" cy="48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44" idx="2"/>
            <a:endCxn id="54" idx="0"/>
          </p:cNvCxnSpPr>
          <p:nvPr/>
        </p:nvCxnSpPr>
        <p:spPr>
          <a:xfrm flipH="1" rot="16200000">
            <a:off x="3553200" y="3038040"/>
            <a:ext cx="480600" cy="1845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7010280" y="3429000"/>
            <a:ext cx="1406520" cy="3070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6699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Oficina Técn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43" idx="2"/>
            <a:endCxn id="69" idx="0"/>
          </p:cNvCxnSpPr>
          <p:nvPr/>
        </p:nvCxnSpPr>
        <p:spPr>
          <a:xfrm flipH="1" rot="16200000">
            <a:off x="6906600" y="2622240"/>
            <a:ext cx="1348920" cy="265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9" idx="2"/>
            <a:endCxn id="58" idx="0"/>
          </p:cNvCxnSpPr>
          <p:nvPr/>
        </p:nvCxnSpPr>
        <p:spPr>
          <a:xfrm rot="5400000">
            <a:off x="6724080" y="3202200"/>
            <a:ext cx="455400" cy="1523520"/>
          </a:xfrm>
          <a:prstGeom prst="bentConnector5">
            <a:avLst>
              <a:gd name="adj1" fmla="val 217721"/>
              <a:gd name="adj2" fmla="val 151240"/>
              <a:gd name="adj3" fmla="val 496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9" idx="2"/>
            <a:endCxn id="60" idx="0"/>
          </p:cNvCxnSpPr>
          <p:nvPr/>
        </p:nvCxnSpPr>
        <p:spPr>
          <a:xfrm flipH="1" rot="16200000">
            <a:off x="7485840" y="3963240"/>
            <a:ext cx="455400" cy="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9" idx="2"/>
            <a:endCxn id="64" idx="0"/>
          </p:cNvCxnSpPr>
          <p:nvPr/>
        </p:nvCxnSpPr>
        <p:spPr>
          <a:xfrm flipH="1" rot="16200000">
            <a:off x="8201160" y="3248280"/>
            <a:ext cx="455400" cy="1431000"/>
          </a:xfrm>
          <a:prstGeom prst="bentConnector5">
            <a:avLst>
              <a:gd name="adj1" fmla="val 217721"/>
              <a:gd name="adj2" fmla="val 147961"/>
              <a:gd name="adj3" fmla="val 496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43" idx="2"/>
            <a:endCxn id="45" idx="0"/>
          </p:cNvCxnSpPr>
          <p:nvPr/>
        </p:nvCxnSpPr>
        <p:spPr>
          <a:xfrm rot="5400000">
            <a:off x="5414400" y="1379160"/>
            <a:ext cx="1333080" cy="2735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43" idx="2"/>
            <a:endCxn id="44" idx="0"/>
          </p:cNvCxnSpPr>
          <p:nvPr/>
        </p:nvCxnSpPr>
        <p:spPr>
          <a:xfrm rot="5400000">
            <a:off x="4493160" y="458280"/>
            <a:ext cx="1333080" cy="4577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s</cp:lastModifiedBy>
  <dcterms:modified xsi:type="dcterms:W3CDTF">2005-07-07T10:02:01Z</dcterms:modified>
  <cp:revision>16</cp:revision>
  <dc:subject/>
  <dc:title>PowerPoint Presentation</dc:title>
</cp:coreProperties>
</file>