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DC7-B59F-4E39-B486-4261A9A9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99D-AEC9-4253-8C10-CCD3A2AA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C23-DBC1-4DFA-99D5-9CEA24D9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55E-837A-413B-8C45-83F4C4B4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257-031F-4B56-81B1-F3B23FEE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CCC-A682-4D40-8E10-89CBDEBD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031-10BB-4011-B352-3640CECB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3BD-45D5-46A7-97AA-DD2D4BF2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B4D-5207-4B51-908C-08A394AF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1ED-2303-4253-BE22-8174D20B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690-D66C-428E-A6F9-59873A2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80E-5664-4920-AF76-83AD1BD9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D3FFE-8F4B-43B0-AB3B-4C4A0DB47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94080" y="932040"/>
          <a:ext cx="5073480" cy="1029600"/>
        </p:xfrm>
        <a:graphic>
          <a:graphicData uri="http://schemas.openxmlformats.org/drawingml/2006/table">
            <a:tbl>
              <a:tblPr/>
              <a:tblGrid>
                <a:gridCol w="2536920"/>
                <a:gridCol w="2536560"/>
              </a:tblGrid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1-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1-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1-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1-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1-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1-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3394080" y="2876400"/>
          <a:ext cx="5073480" cy="1029960"/>
        </p:xfrm>
        <a:graphic>
          <a:graphicData uri="http://schemas.openxmlformats.org/drawingml/2006/table">
            <a:tbl>
              <a:tblPr/>
              <a:tblGrid>
                <a:gridCol w="2536920"/>
                <a:gridCol w="2536560"/>
              </a:tblGrid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2-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8640">
                      <a:solidFill>
                        <a:srgbClr val="000080"/>
                      </a:solidFill>
                    </a:lnL>
                    <a:lnR w="8640">
                      <a:solidFill>
                        <a:srgbClr val="000080"/>
                      </a:solidFill>
                    </a:lnR>
                    <a:lnT w="8640">
                      <a:solidFill>
                        <a:srgbClr val="000080"/>
                      </a:solidFill>
                    </a:lnT>
                    <a:lnB w="86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2-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8640">
                      <a:solidFill>
                        <a:srgbClr val="000080"/>
                      </a:solidFill>
                    </a:lnL>
                    <a:lnR w="8640">
                      <a:solidFill>
                        <a:srgbClr val="000080"/>
                      </a:solidFill>
                    </a:lnR>
                    <a:lnT w="8640">
                      <a:solidFill>
                        <a:srgbClr val="000080"/>
                      </a:solidFill>
                    </a:lnT>
                    <a:lnB w="864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2-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8640">
                      <a:solidFill>
                        <a:srgbClr val="000080"/>
                      </a:solidFill>
                    </a:lnL>
                    <a:lnR w="8640">
                      <a:solidFill>
                        <a:srgbClr val="000080"/>
                      </a:solidFill>
                    </a:lnR>
                    <a:lnT w="8640">
                      <a:solidFill>
                        <a:srgbClr val="000080"/>
                      </a:solidFill>
                    </a:lnT>
                    <a:lnB w="86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2-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8640">
                      <a:solidFill>
                        <a:srgbClr val="000080"/>
                      </a:solidFill>
                    </a:lnL>
                    <a:lnR w="8640">
                      <a:solidFill>
                        <a:srgbClr val="000080"/>
                      </a:solidFill>
                    </a:lnR>
                    <a:lnT w="8640">
                      <a:solidFill>
                        <a:srgbClr val="000080"/>
                      </a:solidFill>
                    </a:lnT>
                    <a:lnB w="864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2-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8640">
                      <a:solidFill>
                        <a:srgbClr val="000080"/>
                      </a:solidFill>
                    </a:lnL>
                    <a:lnR w="8640">
                      <a:solidFill>
                        <a:srgbClr val="000080"/>
                      </a:solidFill>
                    </a:lnR>
                    <a:lnT w="8640">
                      <a:solidFill>
                        <a:srgbClr val="000080"/>
                      </a:solidFill>
                    </a:lnT>
                    <a:lnB w="86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2-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8640">
                      <a:solidFill>
                        <a:srgbClr val="000080"/>
                      </a:solidFill>
                    </a:lnL>
                    <a:lnR w="8640">
                      <a:solidFill>
                        <a:srgbClr val="000080"/>
                      </a:solidFill>
                    </a:lnR>
                    <a:lnT w="8640">
                      <a:solidFill>
                        <a:srgbClr val="000080"/>
                      </a:solidFill>
                    </a:lnT>
                    <a:lnB w="864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394080" y="4964040"/>
          <a:ext cx="5073480" cy="1029960"/>
        </p:xfrm>
        <a:graphic>
          <a:graphicData uri="http://schemas.openxmlformats.org/drawingml/2006/table">
            <a:tbl>
              <a:tblPr/>
              <a:tblGrid>
                <a:gridCol w="2536920"/>
                <a:gridCol w="2536560"/>
              </a:tblGrid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3-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6699ff"/>
                      </a:solidFill>
                    </a:lnT>
                    <a:lnB w="864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3-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6699ff"/>
                      </a:solidFill>
                    </a:lnT>
                    <a:lnB w="864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3-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6699ff"/>
                      </a:solidFill>
                    </a:lnT>
                    <a:lnB w="864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3-2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6699ff"/>
                      </a:solidFill>
                    </a:lnT>
                    <a:lnB w="8640">
                      <a:solidFill>
                        <a:srgbClr val="6699ff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3-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6699ff"/>
                      </a:solidFill>
                    </a:lnT>
                    <a:lnB w="8640">
                      <a:solidFill>
                        <a:srgbClr val="6699ff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3-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6699ff"/>
                      </a:solidFill>
                    </a:lnT>
                    <a:lnB w="8640">
                      <a:solidFill>
                        <a:srgbClr val="66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265400" y="903240"/>
            <a:ext cx="15001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ord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33680" y="2884320"/>
            <a:ext cx="12096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2.5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d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720" y="4971960"/>
            <a:ext cx="18828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nge 2.5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izontal-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d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7:57:27Z</dcterms:created>
  <dc:creator/>
  <dc:description/>
  <dc:language>en-US</dc:language>
  <cp:lastModifiedBy/>
  <dcterms:modified xsi:type="dcterms:W3CDTF">2008-08-06T18:25:57Z</dcterms:modified>
  <cp:revision>7</cp:revision>
  <dc:subject/>
  <dc:title/>
</cp:coreProperties>
</file>