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B78-DCCB-4E25-BC05-993F15FD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DB3-F308-40FC-B05D-54A4617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9AF-7ADC-436B-8D9A-509287B8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90C-1E4E-4BAF-A3D1-5BACDD7E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0BA9-3E58-452E-84DB-F10ABF37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3516-CCC3-48F2-8EA6-39260C3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B197-D1E9-4586-946C-CFD2EF7B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4D6E-6C9C-481C-B169-9BAD5056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E9C1-8140-4F75-9EB6-FDCE37A4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7707-26C5-474D-9132-33DB5034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574D-8335-422C-891E-1FD3D79B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A17-DE6A-49A1-8CF6-37830E6C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FCE8-4D3E-43B3-95CE-1E94EB2C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CF2-C48B-4343-BF79-FB2F691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07C9-F754-42B3-91B5-F4AEE2CF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65B-566F-4CFE-BA59-6BBBAE01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8B1-0F1C-4937-AA50-DA20D5A4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96F-E11E-4E7B-82BE-670F08B3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734-3166-4A13-B67F-FF10687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00F-E59F-42F4-813D-02B6CA25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B41-ECE1-476A-92F3-8F639FDA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709-FB8C-430A-8C51-3D378235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D79-7E3B-4366-A581-DE707A4C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F73-43F6-4EA6-8FAD-104B7B0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00CC-7E31-47AF-9CF7-1719AAAAC81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54C-FEDD-4D82-BC0B-18315E32135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etworking &amp; Speaking Engagem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Intereste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Interesti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now Your Goal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now Your Method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now Your Messag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Be Interested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Keep It Light-hearte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Use Happy Prob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Naturally Curiou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Be Interesting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Play Your Personality Strength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Select Content with car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Use Anecdotes/Stories/Analogi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Be Easy To Enjoy!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Goal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Influence Outcom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Influence People’s Attitud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Influence People’s Behavio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Methods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Getting Speaking Engagement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Prepared Bio &amp; Overview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How to Powerfully Introduce Yourself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Getting Attendees to Meet With You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Message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FUDR Principl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Fee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Understand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Do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Rememb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Know Your Message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Content of Talk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Framing Statemen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 Black"/>
              </a:rPr>
              <a:t>Capability Statement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Let The Questions Begin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.S. Brown</cp:lastModifiedBy>
  <dcterms:modified xsi:type="dcterms:W3CDTF">2001-07-26T02:15:00Z</dcterms:modified>
  <cp:revision>6</cp:revision>
  <dc:subject/>
  <dc:title>Networking &amp; Speaking Engagements</dc:title>
</cp:coreProperties>
</file>