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9396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45AC1F-A283-4315-81D0-325623D299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9120" y="692280"/>
            <a:ext cx="4554360" cy="341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3772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35560"/>
            <a:ext cx="83772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53556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3360" y="15228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5480" y="15228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3556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3360" y="353556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5480" y="3535560"/>
            <a:ext cx="26971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7720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3772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78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52280"/>
            <a:ext cx="40878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3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2280"/>
            <a:ext cx="40878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78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53556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52280"/>
            <a:ext cx="40878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83772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280"/>
            <a:ext cx="83772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6668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16668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16668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166680">
              <a:lnSpc>
                <a:spcPct val="7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382240" cy="64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04920"/>
            <a:ext cx="838188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59440" y="374760"/>
            <a:ext cx="3751200" cy="351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1523880" y="4038480"/>
          <a:ext cx="6324840" cy="25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038480"/>
                    <a:ext cx="632484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14320" y="1455840"/>
          <a:ext cx="4697640" cy="21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4320" y="1455840"/>
                    <a:ext cx="46976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343320" y="600120"/>
            <a:ext cx="199080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561960" y="2747880"/>
            <a:ext cx="657360" cy="1747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66720" y="371520"/>
            <a:ext cx="1390680" cy="92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204840" y="5519880"/>
            <a:ext cx="1395360" cy="88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7819920" y="5295960"/>
            <a:ext cx="1095480" cy="12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382240" cy="64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8000" y="681120"/>
          <a:ext cx="8929800" cy="55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81120"/>
                    <a:ext cx="892980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382240" cy="64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2680" y="539640"/>
          <a:ext cx="8370720" cy="577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539640"/>
                    <a:ext cx="8370720" cy="57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381880" cy="64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52280"/>
            <a:ext cx="838224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838188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87400" y="3867120"/>
          <a:ext cx="327528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7400" y="3867120"/>
                    <a:ext cx="327528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32480" y="334800"/>
            <a:ext cx="3260520" cy="344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878040" y="847800"/>
          <a:ext cx="4484520" cy="135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040" y="847800"/>
                    <a:ext cx="44845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887400" y="2782800"/>
          <a:ext cx="4465800" cy="68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87400" y="2782800"/>
                    <a:ext cx="44658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952880" y="3429000"/>
          <a:ext cx="3505320" cy="3276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3429000"/>
                    <a:ext cx="35053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lin Machin</dc:creator>
  <dc:description/>
  <dc:language>en-US</dc:language>
  <cp:lastModifiedBy>Colin Machin</cp:lastModifiedBy>
  <cp:revision>0</cp:revision>
  <dc:subject/>
  <dc:title>No Slide Title</dc:title>
</cp:coreProperties>
</file>