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60CB-401D-4A85-9A3E-D59C6AB2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772D-6563-4B2F-86C6-8C3E8C44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EFF1-69CB-4AE0-B567-87345860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6B08-4E06-4091-81C4-6EFE11E4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879-D600-4F99-9091-35CC9BBB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A75-513A-4B15-9A9F-BFFA0BB2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7521-EEBD-4B3F-B27B-611361B5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7D4-FB0B-4B77-89D9-3E6F2933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7D1-3473-4438-AF15-16B50950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A10A-A78A-4FC3-8FF4-F7CEBF61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4960-D605-4664-8C9F-C5DED050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35A0-2FBC-4E01-86CD-7A8BE8F9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2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4A85F-FB80-479F-A08A-76D86FB105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23760" y="260280"/>
            <a:ext cx="7299360" cy="6334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01:11:45Z</dcterms:created>
  <dc:creator>.</dc:creator>
  <dc:description/>
  <dc:language>en-US</dc:language>
  <cp:lastModifiedBy>tak</cp:lastModifiedBy>
  <dcterms:modified xsi:type="dcterms:W3CDTF">2010-09-23T19:44:30Z</dcterms:modified>
  <cp:revision>247</cp:revision>
  <dc:subject/>
  <dc:title>Biophysical and Structural Studies of  Rhodopsin Complexes</dc:title>
</cp:coreProperties>
</file>