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FE0B-C9BD-49CA-AD49-92DCD7D2C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5A79-4C71-4F61-A831-46EB91E1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17D9-67FE-4FBD-8BF6-5E88DCD83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C1D6-B1C7-4C55-9C03-62DF551A4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2222-CD11-4B57-B9FE-E51EE8BDE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9D06-A280-463C-BA3C-D559C35A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C9FA-CD73-4363-8AA7-773F6C31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F88E-34B8-49A1-895A-7CDC8F93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D067-C824-491D-AD62-88946851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7BFF-B838-4F1E-BB22-AFA888E9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B6FC-6EFF-4FCB-9DB4-132055D8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E9B6-5996-46C5-A4BB-05B1B0B7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8D2C-3D48-4276-A6C9-68E2C727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AE82-A9B0-43BC-9962-72278710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C7C7-52CB-459A-8D02-A9675F2F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6670-1914-45A4-B587-CBD8634A6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CC88-6718-4E79-92E6-B1A46F20D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E492-18EC-4F60-BEF5-36A87A2E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0A16-F7EE-4493-916E-9D66EE0C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601E-CA6E-41CA-A972-977E04AC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F0AB-540C-460A-BFE7-A0D9648F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A363-050B-4BE1-BAB8-16F6A7FE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10B6-69AD-46C3-9C89-DC6B3AE1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25B1-F1EA-4F4C-9078-8AFF4641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F5AB-79EB-4184-9B8D-90B1FD1EA3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6AC5-082B-46C8-9D24-9F513A6437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077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he-IL" sz="3200" spc="-1" strike="noStrike">
                <a:solidFill>
                  <a:srgbClr val="333399"/>
                </a:solidFill>
                <a:latin typeface="Tahoma"/>
                <a:cs typeface="Times New Roman (Hebrew)"/>
              </a:rPr>
              <a:t>הטכניון – הפקולטה להנדסת מכונות</a:t>
            </a:r>
            <a:r>
              <a:rPr b="0" lang="he-IL" sz="4400" spc="-1" strike="noStrike">
                <a:solidFill>
                  <a:srgbClr val="333399"/>
                </a:solidFill>
                <a:latin typeface="Tahoma"/>
                <a:ea typeface="Times New Roman (Hebrew)"/>
              </a:rPr>
              <a:t> </a:t>
            </a:r>
            <a:br>
              <a:rPr sz="4400"/>
            </a:br>
            <a:r>
              <a:rPr b="0" lang="he-IL" sz="4400" spc="-1" strike="noStrike">
                <a:solidFill>
                  <a:srgbClr val="333399"/>
                </a:solidFill>
                <a:latin typeface="Tahoma"/>
                <a:cs typeface="Times New Roman (Hebrew)"/>
              </a:rPr>
              <a:t>פרויקט במערכות עתירות ידע</a:t>
            </a:r>
            <a:br>
              <a:rPr sz="4400"/>
            </a:br>
            <a:r>
              <a:rPr b="0" i="1" lang="he-IL" sz="2400" spc="-1" strike="noStrike">
                <a:solidFill>
                  <a:srgbClr val="333399"/>
                </a:solidFill>
                <a:latin typeface="Tahoma"/>
                <a:cs typeface="Times New Roman (Hebrew)"/>
              </a:rPr>
              <a:t>לשנת לימודים תשס"ב </a:t>
            </a:r>
            <a:r>
              <a:rPr b="0" i="1" lang="he-IL" sz="2400" spc="-1" strike="noStrike">
                <a:solidFill>
                  <a:srgbClr val="333399"/>
                </a:solidFill>
                <a:latin typeface="Tahoma"/>
                <a:ea typeface="Times New Roman (Hebrew)"/>
              </a:rPr>
              <a:t>2001</a:t>
            </a:r>
            <a:r>
              <a:rPr b="0" i="1" lang="he-IL" sz="2400" spc="-1" strike="noStrike">
                <a:solidFill>
                  <a:srgbClr val="333399"/>
                </a:solidFill>
                <a:latin typeface="Tahoma"/>
                <a:ea typeface="Times New Roman (Hebrew)"/>
              </a:rPr>
              <a:t>\</a:t>
            </a:r>
            <a:r>
              <a:rPr b="0" i="1" lang="he-IL" sz="2400" spc="-1" strike="noStrike">
                <a:solidFill>
                  <a:srgbClr val="333399"/>
                </a:solidFill>
                <a:latin typeface="Tahoma"/>
                <a:ea typeface="Times New Roman (Hebrew)"/>
              </a:rPr>
              <a:t>2002</a:t>
            </a:r>
            <a:br>
              <a:rPr sz="18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19320" y="33526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0000"/>
                </a:solidFill>
                <a:latin typeface="Tahoma"/>
                <a:cs typeface="Times New Roman (Hebrew)"/>
              </a:rPr>
              <a:t>רקטת ספורט לא סימטרית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  <a:cs typeface="Times New Roman (Hebrew)"/>
              </a:rPr>
              <a:t>מנחה : שמר של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הטכניון – הפקולטה להנדסת מכונות</a:t>
            </a:r>
            <a:br>
              <a:rPr sz="3200"/>
            </a:br>
            <a:r>
              <a:rPr b="0" lang="he-IL" sz="3200" spc="-1" strike="noStrike">
                <a:solidFill>
                  <a:srgbClr val="333399"/>
                </a:solidFill>
                <a:latin typeface="Tahoma"/>
              </a:rPr>
              <a:t>פרויקט במערכות עתירות ידע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0000"/>
                </a:solidFill>
                <a:latin typeface="Tahoma"/>
              </a:rPr>
              <a:t>שלבי עבודה עיקריים (המשך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e4a8"/>
                </a:solidFill>
                <a:latin typeface="Tahoma"/>
              </a:rPr>
              <a:t>חזרה על השלבים בקבוצות השונו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e4a8"/>
                </a:solidFill>
                <a:latin typeface="Tahoma"/>
              </a:rPr>
              <a:t>בנית אב טיפוס והוכח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הטכניון – הפקולטה להנדסת מכונות</a:t>
            </a:r>
            <a:br>
              <a:rPr sz="3200"/>
            </a:br>
            <a:r>
              <a:rPr b="0" lang="he-IL" sz="3200" spc="-1" strike="noStrike">
                <a:solidFill>
                  <a:srgbClr val="333399"/>
                </a:solidFill>
                <a:latin typeface="Tahoma"/>
              </a:rPr>
              <a:t>פרויקט במערכות עתירות ידע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מה יהיה הפרויקט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0000"/>
                </a:solidFill>
                <a:latin typeface="Tahoma"/>
              </a:rPr>
              <a:t>רקטת ספורט (סקווש או טניס ) בעלת תכונות אלסטיות דינמיות בלתי סימטריו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0000"/>
                </a:solidFill>
                <a:latin typeface="Tahoma"/>
              </a:rPr>
              <a:t>הסבר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33cc"/>
                </a:solidFill>
                <a:latin typeface="Tahoma"/>
              </a:rPr>
              <a:t>לרקטה רגילה יש תכונות זהות לכל צד (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orehand or Back h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0000"/>
                </a:solidFill>
                <a:latin typeface="Tahoma"/>
              </a:rPr>
              <a:t>במידה ונעצב לה תכונות שונות האם נוכל לשפר את ביצועיה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0000"/>
                </a:solidFill>
                <a:latin typeface="Tahoma"/>
              </a:rPr>
              <a:t>מה בעצם התכונות הרצויות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0000"/>
                </a:solidFill>
                <a:latin typeface="Tahoma"/>
              </a:rPr>
              <a:t>העם ניתן לעשות זאת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הטכניון – הפקולטה להנדסת מכונות</a:t>
            </a:r>
            <a:br>
              <a:rPr sz="3200"/>
            </a:br>
            <a:r>
              <a:rPr b="0" lang="he-IL" sz="3200" spc="-1" strike="noStrike">
                <a:solidFill>
                  <a:srgbClr val="333399"/>
                </a:solidFill>
                <a:latin typeface="Tahoma"/>
              </a:rPr>
              <a:t>פרויקט במערכות עתירות ידע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0000"/>
                </a:solidFill>
                <a:latin typeface="Tahoma"/>
              </a:rPr>
              <a:t>מה זה מערכות עתירות ידע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e4a8"/>
                </a:solidFill>
                <a:latin typeface="Tahoma"/>
              </a:rPr>
              <a:t>מערכות רב דסציפלינריות</a:t>
            </a:r>
            <a:r>
              <a:rPr b="0" lang="he-IL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חומרים מרוכבי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אלסטיות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ארגונומטרי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טלמטרי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הנדסת אנו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סימולציות (מודל דינמי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הטכניון – הפקולטה להנדסת מכונות</a:t>
            </a:r>
            <a:br>
              <a:rPr sz="3200"/>
            </a:br>
            <a:r>
              <a:rPr b="0" lang="he-IL" sz="3200" spc="-1" strike="noStrike">
                <a:solidFill>
                  <a:srgbClr val="333399"/>
                </a:solidFill>
                <a:latin typeface="Tahoma"/>
              </a:rPr>
              <a:t>פרויקט במערכות עתירות ידע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0000"/>
                </a:solidFill>
                <a:latin typeface="Tahoma"/>
              </a:rPr>
              <a:t>מה זה מערכות עתירות ידע (המשך)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e4a8"/>
                </a:solidFill>
                <a:latin typeface="Tahoma"/>
              </a:rPr>
              <a:t>חלק מן הדסציפלינות נמצא בחזית היד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מודל מתמט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מדידה וטלמטרי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רובוטיק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e4a8"/>
                </a:solidFill>
                <a:latin typeface="Tahoma"/>
              </a:rPr>
              <a:t>לוח זמנים קצר </a:t>
            </a:r>
            <a:r>
              <a:rPr b="1" i="1" lang="en-US" sz="2800" spc="-1" strike="noStrike">
                <a:solidFill>
                  <a:srgbClr val="00e4a8"/>
                </a:solidFill>
                <a:latin typeface="Tahoma"/>
              </a:rPr>
              <a:t>(</a:t>
            </a:r>
            <a:r>
              <a:rPr b="1" i="1" lang="en-US" sz="2800" spc="-1" strike="noStrike">
                <a:solidFill>
                  <a:srgbClr val="00e4a8"/>
                </a:solidFill>
                <a:latin typeface="Tahoma"/>
              </a:rPr>
              <a:t>Time to Market</a:t>
            </a:r>
            <a:r>
              <a:rPr b="1" i="1" lang="en-US" sz="2800" spc="-1" strike="noStrike">
                <a:solidFill>
                  <a:srgbClr val="00e4a8"/>
                </a:solidFill>
                <a:latin typeface="Tahoma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קצב התפתחות הטכנולוגיה מחייב "תפיסת מקום"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כולם יודעים מה נעשה ואי אפשר להפתי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הטכניון – הפקולטה להנדסת מכונות</a:t>
            </a:r>
            <a:br>
              <a:rPr sz="3200"/>
            </a:br>
            <a:r>
              <a:rPr b="0" lang="he-IL" sz="3200" spc="-1" strike="noStrike">
                <a:solidFill>
                  <a:srgbClr val="333399"/>
                </a:solidFill>
                <a:latin typeface="Tahoma"/>
              </a:rPr>
              <a:t>פרויקט במערכות עתירות ידע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0000"/>
                </a:solidFill>
                <a:latin typeface="Tahoma"/>
              </a:rPr>
              <a:t>איך עובדים בסביבת "מערכות עתירות ידע"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e4a8"/>
                </a:solidFill>
                <a:latin typeface="Tahoma"/>
              </a:rPr>
              <a:t>מתודת עבוד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גם אם נרצה לעודד יצירתיות, יש לעבוד מסודר ובאופן מתודי (אבל לא "לסרס"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קובעים אבני דרך ומתכנסים אליה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מחלקים את העבודה לחלקים ומקפידים לסדר את הממשקים שלהן ("מניעת מנהרה טורקית"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בחירה מושכלת של הקונספט והטכנולוגי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הטכניון – הפקולטה להנדסת מכונות</a:t>
            </a:r>
            <a:br>
              <a:rPr sz="3200"/>
            </a:br>
            <a:r>
              <a:rPr b="0" lang="he-IL" sz="3200" spc="-1" strike="noStrike">
                <a:solidFill>
                  <a:srgbClr val="333399"/>
                </a:solidFill>
                <a:latin typeface="Tahoma"/>
              </a:rPr>
              <a:t>פרויקט במערכות עתירות ידע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0000"/>
                </a:solidFill>
                <a:latin typeface="Tahoma"/>
              </a:rPr>
              <a:t>שלבי עבודה עיקריי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e4a8"/>
                </a:solidFill>
                <a:latin typeface="Tahoma"/>
              </a:rPr>
              <a:t>ניתוח צרכי השו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מה יש? מה קיים בשוק והאם יש מתחרי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מה צריך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מי בעד? מי נגד? (תמיכות והתנגדויות – ראה תרגיל ראשון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מה גודל השוק הפוטנציאלי ואיך נמקם את המוצ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מה החידוש שהמוצר מבי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אפיון המוצ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מי הלקוח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Tahoma"/>
              </a:rPr>
              <a:t>סקר תיכון – מפרט דרישות ( מסמך מבוקר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הטכניון – הפקולטה להנדסת מכונות</a:t>
            </a:r>
            <a:br>
              <a:rPr sz="3200"/>
            </a:br>
            <a:r>
              <a:rPr b="0" lang="he-IL" sz="3200" spc="-1" strike="noStrike">
                <a:solidFill>
                  <a:srgbClr val="333399"/>
                </a:solidFill>
                <a:latin typeface="Tahoma"/>
              </a:rPr>
              <a:t>פרויקט במערכות עתירות ידע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0000"/>
                </a:solidFill>
                <a:latin typeface="Tahoma"/>
              </a:rPr>
              <a:t>שלבי עבודה עיקריים(המשך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e4a8"/>
                </a:solidFill>
                <a:latin typeface="Tahoma"/>
              </a:rPr>
              <a:t>בחירת הקונספ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סקירת האפשרויות לענות על הצרכים כפי שהוגדרו קוד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ניתוח האפשרויות (קשיי מימוש, סיכונים, יתרונות, פערי ידע וכו'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בחירת הקונספט העיקרי עם "דרך מילוט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33cc"/>
                </a:solidFill>
                <a:latin typeface="Tahoma"/>
              </a:rPr>
              <a:t>סקר תיכון "מבוקר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Tahoma"/>
              </a:rPr>
              <a:t>חשוב לזכור – הקונספט הוא לב ליבו של הפרויק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הטכניון – הפקולטה להנדסת מכונות</a:t>
            </a:r>
            <a:br>
              <a:rPr sz="3200"/>
            </a:br>
            <a:r>
              <a:rPr b="0" lang="he-IL" sz="3200" spc="-1" strike="noStrike">
                <a:solidFill>
                  <a:srgbClr val="333399"/>
                </a:solidFill>
                <a:latin typeface="Tahoma"/>
              </a:rPr>
              <a:t>פרויקט במערכות עתירות ידע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0000"/>
                </a:solidFill>
                <a:latin typeface="Tahoma"/>
              </a:rPr>
              <a:t>שלבי עבודה עיקריים (המשך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e4a8"/>
                </a:solidFill>
                <a:latin typeface="Tahoma"/>
              </a:rPr>
              <a:t>בחירת הטכנולוגי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3333cc"/>
                </a:solidFill>
                <a:latin typeface="Tahoma"/>
              </a:rPr>
              <a:t>סקר הטכנולוגיות הקיימות והצפויות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3333cc"/>
                </a:solidFill>
                <a:latin typeface="Tahoma"/>
              </a:rPr>
              <a:t>בחינת הטכנולוגיות לפרויקט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8000"/>
                </a:solidFill>
                <a:latin typeface="Tahoma"/>
              </a:rPr>
              <a:t>תאימות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8000"/>
                </a:solidFill>
                <a:latin typeface="Tahoma"/>
              </a:rPr>
              <a:t>סיכוני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8000"/>
                </a:solidFill>
                <a:latin typeface="Tahoma"/>
              </a:rPr>
              <a:t>שליטה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8000"/>
                </a:solidFill>
                <a:latin typeface="Tahoma"/>
              </a:rPr>
              <a:t>יתרונות\חסרונות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3333cc"/>
                </a:solidFill>
                <a:latin typeface="Tahoma"/>
              </a:rPr>
              <a:t>החלטה בסקר תיכון מבוקר (יכל להיות ביחד עם הקונספט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Tahoma"/>
              </a:rPr>
              <a:t>יש לזכור שאת הטכנולוגיה בוחרים בהתחלת הפרויקט ולא משנים אותה. מאחר שפרויקט יכל לקחת כמה שנים, חשוב לבחור בטכנולוגיה שתהיה ממשית וברת קיימה לשנים הבאות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ahoma"/>
              </a:rPr>
              <a:t>הטכניון – הפקולטה להנדסת מכונות</a:t>
            </a:r>
            <a:br>
              <a:rPr sz="3200"/>
            </a:br>
            <a:r>
              <a:rPr b="0" lang="he-IL" sz="3200" spc="-1" strike="noStrike">
                <a:solidFill>
                  <a:srgbClr val="333399"/>
                </a:solidFill>
                <a:latin typeface="Tahoma"/>
              </a:rPr>
              <a:t>פרויקט במערכות עתירות ידע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0000"/>
                </a:solidFill>
                <a:latin typeface="Tahoma"/>
              </a:rPr>
              <a:t>שלבי עבודה עיקריים (המשך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e4a8"/>
                </a:solidFill>
                <a:latin typeface="Tahoma"/>
              </a:rPr>
              <a:t>מפרט טכנ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3333cc"/>
                </a:solidFill>
                <a:latin typeface="Tahoma"/>
              </a:rPr>
              <a:t>מבוסס על מפרט הדרישות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he-IL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3333cc"/>
                </a:solidFill>
                <a:latin typeface="Tahoma"/>
              </a:rPr>
              <a:t>כיצד נממש את המוצר באופן שיענה על הדרישות (או לא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3333cc"/>
                </a:solidFill>
                <a:latin typeface="Tahoma"/>
              </a:rPr>
              <a:t>הוכחת עמידה בדרישות ע"י חישובים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Validation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3333cc"/>
                </a:solidFill>
                <a:latin typeface="Tahoma"/>
              </a:rPr>
              <a:t>חלוקה למטלות משנה (חייבים לעבוד במקביל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3333cc"/>
                </a:solidFill>
                <a:latin typeface="Tahoma"/>
              </a:rPr>
              <a:t>מפרט ממשקים מבוקר (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ICD</a:t>
            </a:r>
            <a:r>
              <a:rPr b="1" lang="he-IL" sz="20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3333cc"/>
                </a:solidFill>
                <a:latin typeface="Tahoma"/>
              </a:rPr>
              <a:t>מסמך מבוקר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2T05:25:06Z</dcterms:created>
  <dc:creator>sslaav</dc:creator>
  <dc:description/>
  <dc:language>en-US</dc:language>
  <cp:lastModifiedBy>sslaav</cp:lastModifiedBy>
  <dcterms:modified xsi:type="dcterms:W3CDTF">2001-10-23T04:58:21Z</dcterms:modified>
  <cp:revision>4</cp:revision>
  <dc:subject/>
  <dc:title> הטכניון – הפקולטה להנדסת מכונות  פרויקט במערכות עתירות ידע לשנת לימודים תשס"ב 2001\2002 </dc:title>
</cp:coreProperties>
</file>