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F768-4E07-4E6C-B6E6-E3C0F47D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3C2E-A720-4486-A831-A756C689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9488-CF85-4A9D-874D-351525E8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EFE6-F511-40EA-A7F9-235E783E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8F81-E7CD-44F2-9E63-44ED481C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F6F6-9046-4C4C-8F19-166336FF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987F-8AC9-4359-A508-CF6CC46C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7212-3051-48FD-B1E0-1A40FFAF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7A43-B463-43BB-BB64-0A9D8CFD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A08D-A964-40BC-95E8-71B957FE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1BBE-7EA5-472B-AD7D-DDE43949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3DD4-E8D4-4787-8DAA-84C0EB7F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AEC2-EFD2-491B-96B8-CF45C13BB7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Grid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发展现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Wingdings"/>
                <a:ea typeface="Wingdings"/>
              </a:rPr>
              <a:t>开放的、层次结构的体系结构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法。这种方法以阿岗实验室的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Globus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为代表。它不构造一个完整的系统，而只是一套底层的开发工具。这种方法借鉴了因特网和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Unix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的开发路线，应用面和影响最广。</a:t>
            </a:r>
            <a:r>
              <a:rPr b="0" lang="zh-CN" sz="3200" spc="-1" strike="noStrike">
                <a:solidFill>
                  <a:srgbClr val="0000cc"/>
                </a:solidFill>
                <a:latin typeface="Wingdings"/>
                <a:ea typeface="Wingdings"/>
              </a:rPr>
              <a:t>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以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Web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为界面的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WebFlow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的三层结构，提倡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Object_Web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，后台使用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Globus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Corba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Dcom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Grid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发展现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各种应用的开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以数据处理为中心的应用和工具越来越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计算需要全世界的参与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lobe Grid Foru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组织，以及欧洲和亚太地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论坛等起了很大的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07:25:02Z</dcterms:created>
  <dc:creator>weihongtao</dc:creator>
  <dc:description/>
  <dc:language>en-US</dc:language>
  <cp:lastModifiedBy>weihongtao</cp:lastModifiedBy>
  <dcterms:modified xsi:type="dcterms:W3CDTF">2004-08-26T06:35:09Z</dcterms:modified>
  <cp:revision>2</cp:revision>
  <dc:subject/>
  <dc:title>Grid 的发展现状</dc:title>
</cp:coreProperties>
</file>