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784F7-F69C-4D7E-97FA-C54F85DCE2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87624-EE53-43B7-944A-F97FF80DA7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F943E-BC9D-48E7-A226-FDA13BE581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24FF8-BA08-497F-A89F-65B55EDF23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A67FB-1FED-4635-8E2B-56CB2C8308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D9DC3-EE62-49B7-84C5-ABAED97118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E2DAD-3C2D-43DD-9EBF-46B438C019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1A78A-369D-4050-A82C-DB47960F98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9A758E-DAB5-489F-8C1C-F9B300F05A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04751-39EE-4F04-83CF-B6616678C5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1B87B-39B5-445F-BFF8-861E28DF5F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4E567-F4CF-499B-9455-9150A68614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555E0-B4C2-495B-8245-161878D986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E81B1-554B-4C72-86C0-92731A11BE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78AEAE-5976-4558-B35D-7FAADB43F5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D9C4C-6CCF-43EF-8578-98E09398FB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A471B-08A0-4E17-A5D8-FCD5883E764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36A62F-9919-41D2-87C1-B3CCBD7A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7DE0AA-BC35-4367-9348-2FD878ED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1190EF-63BB-4D27-88C0-B78265A5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7EA998-5C94-451B-8B98-AC7F47A7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C304EC-760B-40B4-A65A-60081E12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FAD37-CB48-47ED-9146-33B63358923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185C74-D6FD-4219-9934-F1948E27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FE5FBC-6493-4EB6-9868-30A3EB79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A15259-106E-409A-8B2E-15EA7A5D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25D46B-9C5B-4FBE-8966-CC4A0FB3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376398-774A-4C5D-A143-6A8A45FE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22B93F-94B4-482B-8AE5-229A541F5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1F0A8C-2F64-4E28-A2C6-0BE649D19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43809-CD76-441F-9FD9-C0F10F7098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E6967-27BA-465B-A232-47AEE282B6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1B784-C5B7-4760-9C11-A95498240A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7F2AD-AA99-4367-8247-569191280E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C8FF1-6F32-461C-81BE-74F210DFE1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D5BCC-1578-4DDE-815B-7B883EAC3C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DCD8-59F4-4F0B-B5A6-3FDAC3A88237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574640"/>
            <a:ext cx="70992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5853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156520" y="2962440"/>
            <a:ext cx="1749600" cy="745920"/>
            <a:chOff x="8156520" y="2962440"/>
            <a:chExt cx="1749600" cy="74592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8437680" y="324000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8156520" y="2962440"/>
              <a:ext cx="1749600" cy="7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21600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09A8-DDCD-4104-BC4F-7DB308F5E046}" type="slidenum">
              <a:rPr b="0" lang="en-GB" sz="8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13D8-77F4-464E-9E5C-A38053166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one of the documen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0 of the document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two of the document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 of the document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4 of the document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5 of the document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6 of the document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7 of the document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8 of the document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9 of the document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6:13:03Z</dcterms:created>
  <dc:creator>nandita</dc:creator>
  <dc:description/>
  <cp:keywords/>
  <dc:language>en-US</dc:language>
  <cp:lastModifiedBy>nandita</cp:lastModifiedBy>
  <cp:lastPrinted>1998-09-04T08:04:32Z</cp:lastPrinted>
  <dcterms:modified xsi:type="dcterms:W3CDTF">2010-01-04T16:16:39Z</dcterms:modified>
  <cp:revision>1</cp:revision>
  <dc:subject/>
  <dc:title>SLIDE one of the document!</dc:title>
</cp:coreProperties>
</file>