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6DD1-B471-4553-AA49-1AA206AD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F16B-7B13-4674-A41B-17518699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58C-7438-4631-B5BB-D37B0736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517-75D4-4AEE-9629-5741C7A1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779D-1113-4D63-9E39-0A50CFC4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C658-D95C-4B87-9C27-89DB0CDB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E1BA-EDC3-4FF7-8F0F-114F1D3B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7C0A-0561-4CFA-8121-D473BEC2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BDD0-2D39-4FF0-A612-B42D67BB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3195-A964-43F1-A302-3D5C14C4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D231-06C5-4D97-969B-9B13D03E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392-F893-40AC-9DA9-B915A44B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C008-DF89-4BED-AA29-10D9E8EB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C47F-031F-4FD2-9A8A-744A5F0B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3DC1-81AD-48F3-9CC3-2F45F22C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0F25-A042-4AE6-8813-B5C2D698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167A-CA09-400A-A59F-F440D10B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A64-E833-45F1-9FF7-E6A20D6E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6F8F-12DF-4742-96D2-A5DFAE63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F3AF-7577-4817-BD3B-A714BFC2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329-5A20-4A4E-BB5A-10605DC0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E543-F533-42A6-8B30-FC8C3C15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611-3A5D-43C4-A1D6-8CD75C55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FB1-9ECF-4873-98A1-5D5BC375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2687-0D56-4A84-98C9-4ABEE82097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A755-08B8-4BD9-8933-0C06F72165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 rtl="1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-1380960"/>
            <a:ext cx="7772400" cy="40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he-IL" sz="4800" spc="-1" strike="noStrike">
                <a:solidFill>
                  <a:srgbClr val="ccffff"/>
                </a:solidFill>
                <a:latin typeface="Arial"/>
                <a:cs typeface="Arial"/>
              </a:rPr>
              <a:t>הצלחת תלמידי הכוון</a:t>
            </a:r>
            <a:r>
              <a:rPr b="1" lang="en-US" sz="4800" spc="-1" strike="noStrike">
                <a:solidFill>
                  <a:srgbClr val="ccffff"/>
                </a:solidFill>
                <a:latin typeface="Arial"/>
                <a:ea typeface="Arial"/>
              </a:rPr>
              <a:t> </a:t>
            </a:r>
            <a:r>
              <a:rPr b="1" lang="he-IL" sz="4800" spc="-1" strike="noStrike">
                <a:solidFill>
                  <a:srgbClr val="ccffff"/>
                </a:solidFill>
                <a:latin typeface="Arial"/>
                <a:cs typeface="Arial"/>
              </a:rPr>
              <a:t>בלימודי המתמטיקה</a:t>
            </a:r>
            <a:r>
              <a:rPr b="1" lang="en-US" sz="4800" spc="-1" strike="noStrike">
                <a:solidFill>
                  <a:srgbClr val="ccffff"/>
                </a:solidFill>
                <a:latin typeface="Arial"/>
                <a:ea typeface="Arial"/>
              </a:rPr>
              <a:t> </a:t>
            </a:r>
            <a:r>
              <a:rPr b="1" lang="he-IL" sz="4800" spc="-1" strike="noStrike">
                <a:solidFill>
                  <a:srgbClr val="ccffff"/>
                </a:solidFill>
                <a:latin typeface="Arial"/>
                <a:ea typeface="Arial"/>
              </a:rPr>
              <a:t>( </a:t>
            </a:r>
            <a:r>
              <a:rPr b="1" lang="he-IL" sz="4800" spc="-1" strike="noStrike">
                <a:solidFill>
                  <a:srgbClr val="ccffff"/>
                </a:solidFill>
                <a:latin typeface="Arial"/>
                <a:ea typeface="Arial"/>
              </a:rPr>
              <a:t>1</a:t>
            </a:r>
            <a:r>
              <a:rPr b="1" lang="he-IL" sz="4800" spc="-1" strike="noStrike">
                <a:solidFill>
                  <a:srgbClr val="ccffff"/>
                </a:solidFill>
                <a:latin typeface="Arial"/>
                <a:ea typeface="Arial"/>
              </a:rPr>
              <a:t> יח"ל)</a:t>
            </a:r>
            <a:br>
              <a:rPr sz="4800"/>
            </a:b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  <a:p>
            <a:pPr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  <a:cs typeface="Arial"/>
              </a:rPr>
              <a:t>תיכון בית ירח, עמק הירדן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78A0-85B9-4F1F-BACC-4A88B8CAE2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"/>
                <a:cs typeface="Arial"/>
              </a:rPr>
              <a:t>פעילויות חיוניות להצלחה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ffffff"/>
                </a:solidFill>
                <a:uFillTx/>
                <a:latin typeface="Arial"/>
                <a:cs typeface="Arial"/>
              </a:rPr>
              <a:t>דרכי הוראה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ניתנו משובים תכופים, חיוביים ככל האפשר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בפני התלמידים הוצגו שאלות ברמה שמאפשרת להם להצליח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כל נושא פורק לסעיפים קטנים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Arial"/>
              </a:rPr>
              <a:t> כל סעיף הוסבר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כל נושא לא ידוע מהעבר מטופל במסגרת העשייה הרלוונטית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E7C-CCE7-4E5F-BE2F-9D3D7B9B82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 Black"/>
                <a:cs typeface="Arial"/>
              </a:rPr>
              <a:t>פעילויות חיוניות (המשך)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ffffff"/>
                </a:solidFill>
                <a:uFillTx/>
                <a:latin typeface="Arial"/>
                <a:cs typeface="Arial"/>
              </a:rPr>
              <a:t>מבחנים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במבחנים אין שאלות מפתיעות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לתלמידים ניתנו תמיד שאלות מתוך מבחני הבגרות - מותאמות לשלב הלמידה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כל בחינה מודפסת ברור ללא עומס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בחינה מותאמת לרמת הידיעות של התלמיד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בכל בחינה שולבה שאלת בונוס - מהנושא הקודם שנלמד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FCF-4F27-4152-87F3-5EDF6F726C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"/>
                <a:cs typeface="Arial"/>
              </a:rPr>
              <a:t>פעילויות חיוניות (המשך)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ffffff"/>
                </a:solidFill>
                <a:uFillTx/>
                <a:latin typeface="Arial"/>
                <a:cs typeface="Arial"/>
              </a:rPr>
              <a:t>יחסי מורה/תלמיד/מחנכת/הורה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מורה מקיימת קשר יומיומי עם מחנכת הכיתה (יש דיווח אחרי כל שיעור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מורה מקיימת קשר רצוף עם ההורים – כל בעיה שעלתה בשיעור דווחה להורה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מורה זמינה בטלפון לתלמיד ולהורה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מורה מקיימת קשר של שיחות עם כל תלמיד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A97-417D-4CEA-8FB7-91B5108F89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"/>
                <a:cs typeface="Arial"/>
              </a:rPr>
              <a:t>פעילויות חיוניות (המשך)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ffffff"/>
                </a:solidFill>
                <a:uFillTx/>
                <a:latin typeface="Arial"/>
                <a:cs typeface="Arial"/>
              </a:rPr>
              <a:t>פיתוח אחריות אישית/כיתתית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מורה אינה מוציאה ילדים מהכיתה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תלמידים שוחררו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Arial"/>
              </a:rPr>
              <a:t> דקות לפני סוף השיעור במידה שהשיעור התקיים ללא הפרעות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תלמידים בעלי יכולת אימצו תלמידים חלשים יותר עד לבחינות הבגרות, כולל עבודה בזוגות גם בבית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749-DAF0-4756-A63B-12A3B8BFFF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"/>
                <a:cs typeface="Arial"/>
              </a:rPr>
              <a:t>פעילויות חיוניות (המשך)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ffffff"/>
                </a:solidFill>
                <a:uFillTx/>
                <a:latin typeface="Arial"/>
                <a:cs typeface="Arial"/>
              </a:rPr>
              <a:t>הוראה מותאמת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תלמידים עובדים עם כרטיסי ניוו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מורה מגמישה את תכנית הלימודים בהתאם ליכולת תלמידיה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מורה מלמדת באופן מגוון לאורך כל השנה – פרטני, זוגות וקבוצות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מורה עבדה על פיתוח תפיסה ויזואלית לפתרון שאלות מילוליות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831-9A29-4BEF-A2F2-A44EC616FD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 Black"/>
              </a:rPr>
              <a:t>תוצאות לוואי בלתי צפויות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Arial"/>
              </a:rPr>
              <a:t>חיוביו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rial"/>
              </a:rPr>
              <a:t>התקיימה עבודה בזוגות בין התלמידים החלשים לחלשים פחות, גם בבית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rial"/>
              </a:rPr>
              <a:t>נוצר קשר רציף אישי של המורה עם ההורים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Arial"/>
              </a:rPr>
              <a:t>שלילית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 Black"/>
                <a:cs typeface="Arial"/>
              </a:rPr>
              <a:t>נוצרה אווירה תחרותית בכיתה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06B-F686-4EFC-9A56-70BAB38648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 Black"/>
                <a:cs typeface="Arial"/>
              </a:rPr>
              <a:t>עקרונות פעולה נגזרים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  <a:cs typeface="Arial"/>
              </a:rPr>
              <a:t>על מנת להצליח בהוראת מתמטיקה בכיתת הכוון, נדרש ממורה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  <a:cs typeface="Arial"/>
              </a:rPr>
              <a:t>להכיר היטב את מאפייני קבוצת התלמידים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  <a:cs typeface="Arial"/>
              </a:rPr>
              <a:t>לזהות את נקודות החולשה והחוזק של כל תלמיד ותלמיד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  <a:cs typeface="Arial"/>
              </a:rPr>
              <a:t>לתת תשובות עוקפות לנקודות חולשה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  <a:cs typeface="Arial"/>
              </a:rPr>
              <a:t>להתחבר לנקודות חוזק ולבנות עליהן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  <a:cs typeface="Arial"/>
              </a:rPr>
              <a:t>ליזום קשר ישיר ומתמשך עם המחנך,ההורים, והתלמיד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  <a:cs typeface="Arial"/>
              </a:rPr>
              <a:t>לתת לתלמידים משובים חיוביים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636-5C33-42B5-ACEA-65044FF73F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 Black"/>
                <a:cs typeface="Arial"/>
              </a:rPr>
              <a:t>סוגיות בלתי פתורות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  <a:cs typeface="Arial"/>
              </a:rPr>
              <a:t>תלמידים רבים מבקשים ללמוד בקבוצה זו, דבר שיוצר קבוצה גדולה מדי המקשה על עבודה בגישה זו.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4D5-ABDA-418D-9165-AFCE04B48A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 Black"/>
                <a:cs typeface="Arial"/>
              </a:rPr>
              <a:t>כתובת למידע נוסף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ff"/>
                </a:solidFill>
                <a:latin typeface="Arial Black"/>
                <a:cs typeface="Arial"/>
              </a:rPr>
              <a:t>סיגלית דדון – בית-הספר – בית ירח.</a:t>
            </a:r>
            <a:r>
              <a:rPr b="0" lang="he-IL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1526-44DB-46FD-9CAA-4E185B8B9E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7509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 u="sng">
                <a:solidFill>
                  <a:srgbClr val="ffffff"/>
                </a:solidFill>
                <a:uFillTx/>
                <a:latin typeface="Arial"/>
                <a:cs typeface="Arial"/>
              </a:rPr>
              <a:t>מאפייני בית ספר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590920"/>
            <a:ext cx="8381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בית-ספר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Arial"/>
              </a:rPr>
              <a:t> שנתי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תלמידי בית-הספר: מקיבוץ כנרת ומהיישובים מסבי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בית-הספר פותח את שעריו לאוכלוסייה מגוונ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בית-הספר מפעיל כיתות של חינוך מיוחד, כיתות הכוון  ומב"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בבית-הספר יש דגש על הישגיות בצד פעילות חברתית/ערכי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408-81A9-494D-A36A-E06FAB723C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ffff"/>
                </a:solidFill>
                <a:latin typeface="Arial Black"/>
                <a:cs typeface="Arial"/>
              </a:rPr>
              <a:t>מאפייני המעורבים בהצלחה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rial"/>
              </a:rPr>
              <a:t>התלמידים - תלמידי כיתת הכוון - תלמידים תת- משיגים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rial"/>
              </a:rPr>
              <a:t>המורה למתמטיקה – בעלת מומחיות בהוראת מתמטיקה לתלמידים בעלי מאפיינים אלה.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CEED-216D-466F-995E-50D133B830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ffff"/>
                </a:solidFill>
                <a:latin typeface="Arial Black"/>
                <a:cs typeface="Arial"/>
              </a:rPr>
              <a:t>הקשרים ארגוניים והיסטוריים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 Black"/>
                <a:ea typeface="Arial"/>
              </a:rPr>
              <a:t> של ההצלחה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rial"/>
              </a:rPr>
              <a:t>זו שנה ראשונה בה מתקיימת כיתת הכוון המכוונת להצלחת התלמידים במקצועות הגרעין, לצד מקצועות המגמה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rial"/>
              </a:rPr>
              <a:t>המורה למתמטיקה בתוקף ניסיונה כמורה בבית-הספר היסודי מודעת ליסודות המתמטיים שהונחו בעבר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E2E-B3A6-42A5-A145-50E753B4D6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952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ccffff"/>
                </a:solidFill>
                <a:latin typeface="Arial Black"/>
                <a:cs typeface="Arial"/>
              </a:rPr>
              <a:t>תוצרים חיוביים</a:t>
            </a:r>
            <a:r>
              <a:rPr b="1" lang="en-US" sz="4800" spc="-1" strike="noStrike">
                <a:solidFill>
                  <a:srgbClr val="ccffff"/>
                </a:solidFill>
                <a:latin typeface="Arial Black"/>
                <a:ea typeface="Arial"/>
              </a:rPr>
              <a:t> </a:t>
            </a:r>
            <a:r>
              <a:rPr b="1" lang="he-IL" sz="4800" spc="-1" strike="noStrike">
                <a:solidFill>
                  <a:srgbClr val="ccffff"/>
                </a:solidFill>
                <a:latin typeface="Arial Black"/>
                <a:ea typeface="Arial"/>
              </a:rPr>
              <a:t>- אובייקטיביים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כל התלמידים עברו בהצלחה את המבחנים לאורך השנה ואת בחינות הבגרות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תלמידים גילו רמה גבוהה של עשייה לימודית - נוכחות מלאה, הכנת שיעורי בית, נוכחות בשיעורי עזר ובימים מרוכזים, היעדר בעיות משמעת, תלמידים חזקים מסייעים למתקשים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E0A6-8D39-41F8-BF75-1A628AEC2D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 Black"/>
                <a:cs typeface="Arial"/>
              </a:rPr>
              <a:t>תוצרים חיוביים - סובייקטיביים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  <a:cs typeface="Arial"/>
              </a:rPr>
              <a:t>נוצר קשר חיובי הבנוי על מחויבות רגשית בין התלמיד והוריו למורה המקצועית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 algn="r" rtl="1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  <a:cs typeface="Arial"/>
              </a:rPr>
              <a:t>התלמידים מבטאים רמה גבוהה של מוטיבציה לימודית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-318960" algn="r" rtl="1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  <a:cs typeface="Arial"/>
              </a:rPr>
              <a:t>התלמידים מבטאים רצון להמשיך הלאה  לקראת השגת </a:t>
            </a:r>
            <a:r>
              <a:rPr b="0" lang="he-IL" sz="3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he-IL" sz="3600" spc="-1" strike="noStrike">
                <a:solidFill>
                  <a:srgbClr val="ffffff"/>
                </a:solidFill>
                <a:latin typeface="Arial"/>
                <a:ea typeface="Arial"/>
              </a:rPr>
              <a:t> יחידות לימוד נוספות. 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1AA-D5F2-4C45-B362-6BFB7FE21C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73044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 Black"/>
                <a:cs typeface="Arial"/>
              </a:rPr>
              <a:t>מחירים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התלמידים השקיעו שעות רבות בלמידה על חשבון זמנם הפנוי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חלק מהתלמידים טענו כי במקום לבצע מטלות של שעות פנאי שהם אוהבים לעשות, הם  נאלצו להשקיע בלימודים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996-2336-4157-8824-DE567EEBA1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Book Antiqua"/>
                <a:cs typeface="Arial"/>
              </a:rPr>
              <a:t>תיאור המצב בנקודת ההתחלה</a:t>
            </a:r>
            <a:r>
              <a:rPr b="1" lang="en-US" sz="44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תלמידי הכיתה הרגישו שהם אינם בעלי יכולת להצליח במתמטיקה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תלמידי הכיתה היו חסרי מוטיבציה ללמוד מתמטיקה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ריבוי בעיות משמעת בכיתה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cs typeface="Arial"/>
              </a:rPr>
              <a:t>לתלמידי הכיתה היה פער לימודי גדול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77C0-F4CA-4E3E-AF12-07AACFAC66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19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ffff"/>
                </a:solidFill>
                <a:latin typeface="Arial Black"/>
                <a:cs typeface="Arial"/>
              </a:rPr>
              <a:t>נקודות מפנה בדרך להצלחה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 Black"/>
                <a:cs typeface="Arial"/>
              </a:rPr>
              <a:t>הפעם הראשונה בה מרבית תלמידי הכיתה קיבלו ציון חיובי במבחן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 Black"/>
                <a:cs typeface="Arial"/>
              </a:rPr>
              <a:t>התלמידים ביטאו צורך בעזרה פרטנית מעבר לנלמד בכיתה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 Black"/>
                <a:cs typeface="Arial"/>
              </a:rPr>
              <a:t>המורה התחילה לתת עזרה פרטנית לתלמידיה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ADD-3C50-4790-870A-6C11D07AD3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8:13:00Z</dcterms:created>
  <dc:creator>***</dc:creator>
  <dc:description/>
  <dc:language>en-US</dc:language>
  <cp:lastModifiedBy>user</cp:lastModifiedBy>
  <dcterms:modified xsi:type="dcterms:W3CDTF">2003-06-09T21:14:15Z</dcterms:modified>
  <cp:revision>15</cp:revision>
  <dc:subject/>
  <dc:title>שם ותיאור תמציתי של ההצלחה </dc:title>
</cp:coreProperties>
</file>