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3236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072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49840" y="9426600"/>
            <a:ext cx="291456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36F25-F0A1-41C8-AF31-DB01185A55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7640" y="744480"/>
            <a:ext cx="495288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086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D545-EB8B-449F-8789-FC3994124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072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6120"/>
            <a:ext cx="82072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3F84-0059-4A33-8994-35B213A8D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1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2720" y="39661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DA89-90C2-45C4-B28C-272CBE496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2080" y="16045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045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61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2080" y="39661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39661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7EFA-AC3C-4A21-8803-B6D007E32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072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072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072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3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1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072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7FE7-D3DF-43C2-B341-EC7C08B08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2720" y="39661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120"/>
            <a:ext cx="82072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072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120"/>
            <a:ext cx="82072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1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2720" y="39661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2080" y="16045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06960" y="16045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1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2080" y="39661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06960" y="3966120"/>
            <a:ext cx="26424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072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A232-3425-4C52-9609-85278220C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ABEF-AA00-4608-A520-2401094EF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8E71-BDA6-4F4D-BDDE-146F58706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072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3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6174-55DD-4EB4-A637-E19F41A7B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61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D61B-F383-45DB-B1BA-78E8B1B79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2720" y="39661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38112-36A5-4CCD-BB97-D9C9E9254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2720" y="1604520"/>
            <a:ext cx="400500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120"/>
            <a:ext cx="82072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8883-5284-41DC-8C18-E369DE63F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00600" y="6413040"/>
            <a:ext cx="460440" cy="3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GB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5f5f5f"/>
                </a:solidFill>
                <a:latin typeface="Times New Roman"/>
              </a:rPr>
              <a:t>Page </a:t>
            </a:r>
            <a:fld id="{43A85A77-E4FA-42CC-B5FE-38C97FBB0BC3}" type="slidenum">
              <a:rPr b="1" lang="en-GB" sz="10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-17640" y="-1584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072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28600" y="2889360"/>
            <a:ext cx="2870280" cy="20304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98880" y="2889360"/>
            <a:ext cx="2870280" cy="203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69160" y="2889360"/>
            <a:ext cx="2869920" cy="20304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72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072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3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3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44520" y="5040360"/>
            <a:ext cx="6675480" cy="585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94200" y="3857760"/>
            <a:ext cx="182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814480" y="1305000"/>
            <a:ext cx="3205440" cy="3203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36840" y="5940360"/>
            <a:ext cx="66769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b3b300"/>
                </a:solidFill>
                <a:latin typeface="Arial"/>
              </a:rPr>
              <a:t>любовь               забота              прикосновение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фдфд </cp:lastModifiedBy>
  <dcterms:modified xsi:type="dcterms:W3CDTF">2009-10-30T15:36:07Z</dcterms:modified>
  <cp:revision>0</cp:revision>
  <dc:subject/>
  <dc:title>投影片 1</dc:title>
</cp:coreProperties>
</file>