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BEA-8F09-4B00-AB6C-957EFDBE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B76-597F-4B62-995F-A9D4EECB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A73-C23B-438D-A37C-9768B626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9AC-8B19-4156-B343-807BAC88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C68-95A5-4232-BE48-450880F8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6A1-AEFD-46B5-A0F4-A5ABF63B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F5C-5224-4792-8A6B-C8184D4D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135-E1DD-475F-AE0A-2F19FB1F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4CA-EEC0-46FD-948E-3623F442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262-2697-4D6F-9608-E2FB5AF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607-7FEF-4AF4-A71D-44CB093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EC6-D86D-4F10-AA67-F1BED7A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91DAD-938C-4130-B2E1-15D63175884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3280" y="2016000"/>
            <a:ext cx="1728720" cy="1729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729080"/>
              <a:gd name="textAreaBottom" fmla="*/ 1729440 h 172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3966" y="10934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5:28:41Z</dcterms:created>
  <dc:creator>Pierre Martineau</dc:creator>
  <dc:description/>
  <dc:language>en-US</dc:language>
  <cp:lastModifiedBy>Pierre Martineau</cp:lastModifiedBy>
  <dcterms:modified xsi:type="dcterms:W3CDTF">2012-10-13T17:54:33Z</dcterms:modified>
  <cp:revision>6</cp:revision>
  <dc:subject/>
  <dc:title/>
</cp:coreProperties>
</file>