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7C2-5D57-4B4D-A1AB-103F601E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82D-BA64-4A8A-9845-52E91B33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181-A7EF-4D71-99C3-4D6AE329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619-CEAC-4F9E-9BB3-0468E2F3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21D-4FDC-41FD-864C-E147D516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806-F9FC-457D-9E9E-90A10A2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1F1-09A8-4D8B-B10A-A7C0C47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081-7310-44A9-9FAB-536681D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37A-E7C7-4421-BA78-19641EE3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2F8-F158-4598-9E67-D49F891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E39-8FD0-408E-8840-6EBF3E9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DE3-2BFD-454F-BE61-072018A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0182-0602-4E38-ADD4-52EDCAF35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Saudi Arabi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56386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 middle income developing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latino Linotype"/>
              </a:rPr>
              <a:t>Location, Location, Lo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Middle Easter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Borders the Persian gulf and the Red Se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Founded in 1932 when Arabian Kingdoms were unifie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Covers an area of 1,960,582 sq. km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Climate is very dry and hars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No inland waterway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Palatino Linotype"/>
              </a:rPr>
              <a:t>Extreme changes in temperatur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sa-map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untry developing soci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2040" y="44953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udi Arabia is highly developed in terms of its G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 is $310.2 b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ly due to the large oil rese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, however, a developing count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itic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feat6_oil" descr=""/>
          <p:cNvPicPr/>
          <p:nvPr/>
        </p:nvPicPr>
        <p:blipFill>
          <a:blip r:embed="rId1"/>
          <a:srcRect l="0" t="6050" r="0" b="6050"/>
          <a:stretch/>
        </p:blipFill>
        <p:spPr>
          <a:xfrm>
            <a:off x="2357280" y="1752480"/>
            <a:ext cx="442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 Development Inde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measurement of human progress in a country, introduced in 1990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udi Arabia is not the most developed country in the Middle Ea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audi is in the upper half of the ranking tables, indicating it is moving towards being more develope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lowest ranked country in the region is Djibouti, 77 places below Saudi Arab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19920" y="1981080"/>
          <a:ext cx="2895480" cy="39132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DI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w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h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at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di Arab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jibou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 Poverty Inde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UN measurement of human deprivation in a cou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udi Arabia uses the HPI-1 index, indicating that it is impoveri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Arab states using the HPI-1 index, Saudi Arabia has the highest ranking, showing it has the lowest levels of poverty for these countries in the reg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owest ranked country on the HPI (of the Arab states) is, again, Djibou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971800" y="1828800"/>
          <a:ext cx="3200400" cy="160020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PI-1 RA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udi Arab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jibou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unfair political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equality in the Sex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0.8% of the female population over 15 can read, compared to 84.7% of 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males are allowed to vote in ele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men are not allowed to ride bicyc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sawomeye" descr=""/>
          <p:cNvPicPr/>
          <p:nvPr/>
        </p:nvPicPr>
        <p:blipFill>
          <a:blip r:embed="rId1"/>
          <a:srcRect l="23363" t="8724" r="9893" b="0"/>
          <a:stretch/>
        </p:blipFill>
        <p:spPr>
          <a:xfrm>
            <a:off x="4970520" y="1981080"/>
            <a:ext cx="386856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n arid landsca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 reliance on o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70-4" descr=""/>
          <p:cNvPicPr/>
          <p:nvPr/>
        </p:nvPicPr>
        <p:blipFill>
          <a:blip r:embed="rId1"/>
          <a:stretch/>
        </p:blipFill>
        <p:spPr>
          <a:xfrm>
            <a:off x="464832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9:56:56Z</dcterms:created>
  <dc:creator>Administrator</dc:creator>
  <dc:description/>
  <dc:language>en-US</dc:language>
  <cp:lastModifiedBy>Administrator</cp:lastModifiedBy>
  <dcterms:modified xsi:type="dcterms:W3CDTF">2005-07-07T09:13:03Z</dcterms:modified>
  <cp:revision>5</cp:revision>
  <dc:subject/>
  <dc:title>SAUDI ARABIA</dc:title>
</cp:coreProperties>
</file>