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060F-9D99-4D83-A0FD-B653952A86DC}" type="datetime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26.07.29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9720" y="7408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3240" y="4703400"/>
            <a:ext cx="4965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5FAB-F074-418E-AEC5-AAC42187C57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217520" y="457200"/>
            <a:ext cx="4194360" cy="314496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380880" y="380988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Az ESZAK és ezzel együtt az európai integráció szülőatyjának Jean Monnet tekinthető aki felismerte, hogy egy újabb háború csak úgy kerülhető el, ha kibékítik az évszázados francia-német ellenségeskedést és a katonai gazdasági téren végbemenő versengésüket.Ezt úgy látta megvalósíthatónak, ha a háborús készülődés két kulcságazatát a szén és acéltermelést közös ellenőrzés alá vonják. Monnet ötletére alapozva a francia külügyminiszter Robert Schumann terve a német szén és a francia vasérc közös piacának megteremtését tűzte ki célul (amely gyakorlatilag vámuniót jelentett), kinyilvánítva azt is, hogy a német-francia tengelyhez más európai államok is csatlakozhatnak, ugyanis tervében már távoli célként egy egységes (föderális) Európa létrehozását is megjelölte. A Schumann terv alapján megkezdődtek a tárgyalások és 1951. április 18-án aláírták Párizsban az ESZAK-ról (Montánunió) szóló szerződést. ( A szerződést 50 évre kötötték, amelynek hatálya 2002. júl. 25-én lejárt.) A németek és franciák mellett az olaszok és a Benelux államok csatlakoztak a közösséghez, a britek azonban nem kívánták túl lépni a hagyományos kormányközi együttműködés kereteit. A Közösség nemzetek feletti szupranacionális jelleget öltött, amit leginkább a 9 főből álló legfőbb döntéshozó testület a Főhatóság biztosított, melynek legfőbb feladata a Közösség érdekeinek képviselete, adott esetben a tagállami érdekekkel szemben, első elnöke Jean Monnet lett. Az eredeti tervektől eltérően azonban a Főhatóság túlhatalmától félve, annak ellensúlyozására sor került a Miniszterek Tanácsának létrehozására is akik a tagállamok szakminisztereiből álltak és saját nemzeti érdekeiket törekedtek érvényre juttatni. A tagállamok parlamenti képviselőiből kiválasztott 78 főből álló Közgyűlés véleményező-tanácsadó szerv volt, míg a Bíróság panaszfórumként a tagállamok kérelme alapján a Főhatóság cselekedeteinek jogszerűségét vizsgált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Az ESZAK működése sikeres volt, 1958-ra a szén- és acéltermelés területén megvalósult a részleges vámunió (kereskedelmi és egyéb korlátozások megszűntek), az acélforgalom 157%-al, az acéltermelés 65%-al nőtt a tagállamok között. Történelmi jelentősége mégis az, hogy az ESZAK bebizonyította a gazdaság egy részének nemzetek feletti irányíthatóságát és annak gazdasági hatékonyságát. Az ESZAK sikerén felbuzdulva kísérletet tettek az európai politikai integráció létrehozására is (Európai Védelmi Közösség ( közös európai hadsereg), Európai Politikai Közösség) de nem sok sikerrel, így nyilvánvalóvá vált, hogy az integrációnak a gazdaság területén kell folytatódni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A gazdasági integráció elmélyítésének lehetőségeit a belga Paul-Henri Spaak vezette bizottság dolgozta ki, amely javaslatot tett a vámunióra épülő, a tagállamok gazdaságának egészére kiterjedő közös piac létrehozására, valamint az atomenergiai együttműködés megvalósítására. A bizottságnak sikerült olyan koncepciót kidolgoznia amely elfogadható volt valamennyi ESZAK tagállam számára így 1957. március 25-én Rómában aláírták az EGK-t és az Euratomot létrehozó szerződéseket. A két új nemzetközi szervezet intézményi modelljéül az ESZAK intézményrendszere szolgált, azzal, hogy külön Bizottság és Miniszterek Tanácsa működött mindhárom szervezetben, a Közgyűlés és a Bíróság azonban közös volt. A döntéshozatali hatáskörök tekintetében azonban jelentős elmozdulás történt, a Bizottság helyett a Miniszterek Tanácsa lett a fő döntéshozó, így a szupranacionális jelleg helyett a kormányközi domborodott ki. (Ez részben az EVK kudarca miatt, részben azért volt, mert a franciák és a németek sokat bírálták a Főhatóság öntörvényű, tagállamoktól független működését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Az előadó ismertesse a Római szerződések célkitűzéseit. Az Euratom célja: együttműködés az atomenergia kutatásban, békés célú felhasználásában és a nukleáris közös piac létrehozás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1965. Egyesülési Szerződés: a három közösség addig közös Közgyűlése és Bírósága mellett ezután a Bizottság és a Tanács is egyetlen szervként szolgálja a három közösséget. A három közösség azonban továbbra is jogilag önálló maradt csak az intézményeik váltak közössé. Ezen szerződés hatályba lépésétől 1967. júl. 1-től használatos az Európai Közösségek elnevezé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4000-DFD4-4054-91BA-A8DC849D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B5DA-CEB1-4BF9-90CF-0B9D6745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165-23D2-4CCF-B8EF-E4C30DEA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39E7-E1D4-40B7-A1C0-400393E6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D82-59BB-4B85-9915-25FC1B0E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838E-0CE9-4210-8E76-F993123A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569-8596-4F74-9439-8EF403B8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EC7-5A67-49A0-B25E-7F63080B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0C63-5D97-4C54-A94E-EAEDF238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B1D7-4506-4C78-9D8D-D56DF25B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415-74BB-4B01-B0A5-7B414AB7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E43-6025-405D-B8AC-34939550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D552-972D-481F-86D3-05F2E25F776C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431360"/>
            <a:ext cx="7924680" cy="40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1951. Európai Szén és Acél Közösség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ESZAK  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(1952.07.25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szupranacionális szervezet a szén- és acéltermelés összehangolásá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1957. Európai Gazdasági Közösség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EG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Európai Atomenergia Közösség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hu-HU" sz="1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EURATOM    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(1958.01.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A gazdasági integráció főbb célkitűzése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közös pi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közös politikák kialakítá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közösségi jogrendszer, jogharmonizáci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Times New Roman"/>
              </a:rPr>
              <a:t>1965. Egyesülési szerződés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: a három integrációs szervezet intézményeinek egyesítése </a:t>
            </a:r>
            <a:r>
              <a:rPr b="0" lang="hu-HU" sz="1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 Európai Közösségek  (1967.07.01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cc"/>
                </a:solidFill>
                <a:uFillTx/>
                <a:latin typeface="Times New Roman"/>
              </a:rPr>
              <a:t>Intézményi model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-120240"/>
            <a:ext cx="9144000" cy="132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1. Az európai integráció fejlőd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1905120" cy="6098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niszterek Tanác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5410080"/>
            <a:ext cx="1981080" cy="6098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őhatósá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izott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029200"/>
            <a:ext cx="1905120" cy="457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író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5715000"/>
            <a:ext cx="1905120" cy="457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özgyűlé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220968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228600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D94-F1D9-4635-9907-6C2218492F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5:06:48Z</dcterms:created>
  <dc:creator>aura</dc:creator>
  <dc:description/>
  <dc:language>en-US</dc:language>
  <cp:lastModifiedBy>Frank Meies</cp:lastModifiedBy>
  <cp:lastPrinted>2002-08-25T07:19:39Z</cp:lastPrinted>
  <dcterms:modified xsi:type="dcterms:W3CDTF">2004-11-04T15:39:33Z</dcterms:modified>
  <cp:revision>106</cp:revision>
  <dc:subject/>
  <dc:title>Az Európai Unió szervezete és jogrendszere</dc:title>
</cp:coreProperties>
</file>