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FAA-0AC4-48C4-8650-F2AB6A64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195-FE12-4F11-8CE2-6F34055C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4FA-2D8E-46AA-BE69-19491784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ADB-BB34-4B0C-A3A9-54E0708B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B9B-40F4-4535-B516-D938232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989-3A03-47BD-AE92-E760928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560-4831-40D0-AE61-F5E29250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C0B-FB41-4DC0-91D7-C644FAFD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F20-6D74-4411-AB7E-F2249547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50E-274B-4F61-A081-27C7130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C14-9CC8-4D24-A27F-89AAFE2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3C2-6A70-4CDE-8827-2413BA7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C0B1-40CD-4D13-BD9B-2B1EA3F0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7560" y="5416560"/>
            <a:ext cx="6964200" cy="459720"/>
          </a:xfrm>
          <a:prstGeom prst="rect">
            <a:avLst/>
          </a:prstGeom>
          <a:solidFill>
            <a:srgbClr val="d6d8ea"/>
          </a:solidFill>
          <a:ln w="22320">
            <a:solidFill>
              <a:srgbClr val="00008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h bl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985080" y="1676520"/>
            <a:ext cx="1587600" cy="1066680"/>
            <a:chOff x="6985080" y="1676520"/>
            <a:chExt cx="1587600" cy="1066680"/>
          </a:xfrm>
        </p:grpSpPr>
        <p:sp>
          <p:nvSpPr>
            <p:cNvPr id="43" name=""/>
            <p:cNvSpPr/>
            <p:nvPr/>
          </p:nvSpPr>
          <p:spPr>
            <a:xfrm>
              <a:off x="6985080" y="1676520"/>
              <a:ext cx="1587600" cy="1066680"/>
            </a:xfrm>
            <a:prstGeom prst="wedgeEllipseCallout">
              <a:avLst>
                <a:gd name="adj1" fmla="val -82500"/>
                <a:gd name="adj2" fmla="val 730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62800" y="1857240"/>
              <a:ext cx="63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r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723960" y="1968480"/>
            <a:ext cx="1587600" cy="1066680"/>
            <a:chOff x="723960" y="1968480"/>
            <a:chExt cx="1587600" cy="1066680"/>
          </a:xfrm>
        </p:grpSpPr>
        <p:sp>
          <p:nvSpPr>
            <p:cNvPr id="46" name=""/>
            <p:cNvSpPr/>
            <p:nvPr/>
          </p:nvSpPr>
          <p:spPr>
            <a:xfrm>
              <a:off x="723960" y="1968480"/>
              <a:ext cx="1587600" cy="1066680"/>
            </a:xfrm>
            <a:prstGeom prst="wedgeEllipseCallout">
              <a:avLst>
                <a:gd name="adj1" fmla="val 150300"/>
                <a:gd name="adj2" fmla="val 421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048040"/>
              <a:ext cx="686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r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03:16Z</dcterms:created>
  <dc:creator>SJ</dc:creator>
  <dc:description/>
  <dc:language>en-US</dc:language>
  <cp:lastModifiedBy>SJ</cp:lastModifiedBy>
  <dcterms:modified xsi:type="dcterms:W3CDTF">2005-04-14T13:03:24Z</dcterms:modified>
  <cp:revision>1</cp:revision>
  <dc:subject/>
  <dc:title>Kein Folientitel</dc:title>
</cp:coreProperties>
</file>