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0E03-97B2-4F30-B12E-6AF2CCA55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6E20-98A3-42D2-8D1D-7CCD934F8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5C31-CC3C-40BF-8EC5-F7ED33963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BE95-4A8D-4C16-BD84-6A5B7E6FD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AEA9A-42D4-4DDA-A69B-0BD9A562B7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50D2F-ADCB-4997-BB12-A7763D5AAF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4075A-899C-4D47-AF93-913577907C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224F9-7CA8-4C51-BE08-B895D3FBFF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1B078-CC99-423A-BEE3-69DC17FD6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9A6D3-F56E-4CD2-BE87-3C614F2076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2E210-5DA2-4727-82EA-C2D735709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BAE1-BFE3-4F02-939C-26B46B0CA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433A2-9456-40D5-8890-9AF52F31FF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4D847-D8BB-4F4C-9032-DE2F7C1E5D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A3A3D-8DF0-4B5D-B7B8-2C589A4746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757B8-C9C7-418F-B6D7-5347FB5F6E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F948D-7A5C-4191-9600-445ABE3CDA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1489D-92A9-4F03-B3E5-794CD0D5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0E6EF-35B8-44FE-9A70-CBAEDB53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E89FE-3B14-4C09-ACF4-BB01A995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31956-E6C9-4266-8FFF-743F2EA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BEB66-32DA-4962-B658-FD85600A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F098-C9B7-4986-BE9B-CA59B7B687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6F521-0743-4D96-999E-56544D48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83BE4-18E1-4F47-8811-C0ED1CE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3A69F-5359-4FAF-B945-3D5D29B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A7ACDA-F1D2-4480-BFDE-AA18C240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9141C-47A5-400A-9CC9-29BB2968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1A79B-8CB7-409C-9FA4-365E663C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A09E9-DE65-40B1-A069-EDB3545D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9447-440A-4BDE-AD73-CBF421F37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7940-B110-46A2-95C7-D176D9C01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B091-FB8E-4C22-A3F6-D7CB441A0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E24F-9E05-4D0E-985E-30C0FCC9D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A55D-CE18-4579-B73D-2200C9133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0D6B-5B74-4450-99AE-21B5F0911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033C-5811-4F31-B746-2DA52A763CF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0285-3081-4E51-B026-F02F78BB0508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A65-4CEC-41A3-B5E3-ED765051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header to slide one of the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second header to the second slide of the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Slid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third slide header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0:18:34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09-12-31T10:20:16Z</dcterms:modified>
  <cp:revision>1</cp:revision>
  <dc:subject/>
  <dc:title>Adding header to slide one of the document</dc:title>
</cp:coreProperties>
</file>