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682-17A7-48AA-8144-9213BA42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AA9-8D12-436A-91F7-425E36D9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579-4ECA-4481-A8BB-8E7B7930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595-93BE-4ED1-9811-D87CEAEB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60A-4711-4C84-A353-76AE81C1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7A4-402A-4ECD-BFF7-5F35E4CF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3A24-79DF-427A-82A2-2AD66074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1DC-04A8-49C3-8B2E-F705A5AE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E9E-7E6B-41DE-90D0-5DD47AC1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3E6-F56D-41FD-BBD2-8E32C649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192-2167-43BD-842D-8DE264B3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C58-66F9-4CA4-982C-7A211C96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590A-9CE1-477D-AAC2-3AFDD3F417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8:39:34Z</dcterms:created>
  <dc:creator>Wolfram Garten</dc:creator>
  <dc:description/>
  <dc:language>en-US</dc:language>
  <cp:lastModifiedBy>Wolfram Garten</cp:lastModifiedBy>
  <dcterms:modified xsi:type="dcterms:W3CDTF">2005-01-13T08:39:49Z</dcterms:modified>
  <cp:revision>1</cp:revision>
  <dc:subject/>
  <dc:title>Slide 1</dc:title>
</cp:coreProperties>
</file>