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340-8B92-48D9-8724-89799160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9840" y="4554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70C-BCF5-460F-9F5F-E013CFA7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5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0B7-130D-4149-9D67-EC3F64B5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072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196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984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072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196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CC8-8997-4B14-913A-86576C31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6D39-17DC-4B00-9053-F069E558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39840" y="2160360"/>
            <a:ext cx="93787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2625-A197-4C4A-B85A-4AEB21C0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93787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0793-685A-495C-AA6C-D67BBED2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2686-BD08-4D62-80CF-9A1CCAA0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0461-BB30-41A3-811B-2BE47597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301320"/>
            <a:ext cx="9378720" cy="73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A990-62D6-435C-9AC6-E1996740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FE93-308D-4E2C-BC25-6C0CAEE7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39840" y="2160360"/>
            <a:ext cx="93787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D9A-785C-43C1-82E0-9C7BE6BB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5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476D-0D51-4DFE-A980-23268354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73EE-D1FB-4959-AB84-7D0119D4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9840" y="4554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DC2F-95D9-4B54-B066-85EA2B2E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5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11B2-C857-41D0-8868-27D3977D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1072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8196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3984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1072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8196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DA58-AB8D-484C-898F-E1D8E250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EFA47-72BF-4857-8191-B39D64FF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39840" y="2160360"/>
            <a:ext cx="93787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39F7-7BDC-416E-A1AA-5E5D4303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93787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24802-AFC5-4044-9920-D91B50A2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36719-0084-471E-B2FF-FFCAC3F5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79445-F7BF-4B07-95EC-5E0752AD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93787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FBE-46CE-44C4-B7B0-E78727FF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24000" y="301320"/>
            <a:ext cx="9378720" cy="73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38FDB-CF73-4BAD-A970-E19551D2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750A3-53D5-4B5A-B56A-43257924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45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72570-9BAE-4FAF-833C-1C420EAB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787E2-65AA-4145-9DBC-C1ADED52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9840" y="4554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3BC6A-8FCD-41EE-9D55-72B7846E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45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42818-922E-4C9C-8364-104C11D3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1072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81960" y="2160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3984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1072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81960" y="4554360"/>
            <a:ext cx="3019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7B3EC-4BB4-4B16-8811-D879F186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1D9-CE9F-471A-9891-5C1D3CA2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771-D850-4727-BF2B-E40DB544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301320"/>
            <a:ext cx="9378720" cy="73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01A-8B1A-42F2-B479-CFD65A18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C11-5A5D-4F90-B23F-BFCD7423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5840" y="4554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9CA-C7EE-4440-AD02-816CF2D3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9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5840" y="2160360"/>
            <a:ext cx="457668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9840" y="4554360"/>
            <a:ext cx="937872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782-8261-4C62-9F1A-76E190ED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301320"/>
            <a:ext cx="937872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9840" y="2160360"/>
            <a:ext cx="93787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49720" y="6921360"/>
            <a:ext cx="18687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7120" y="6921360"/>
            <a:ext cx="35323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04840" y="6921360"/>
            <a:ext cx="714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B13AF-6A64-4692-9F32-18A023FA3BC7}" type="slidenum">
              <a:rPr b="0" lang="en-US" sz="18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15080" y="301680"/>
            <a:ext cx="2097360" cy="174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6280" y="6886440"/>
            <a:ext cx="3184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A228F-4F90-4854-95AB-FE3A704FDCAD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10072800" cy="7553160"/>
          </a:xfrm>
          <a:custGeom>
            <a:avLst/>
            <a:gdLst>
              <a:gd name="textAreaLeft" fmla="*/ 0 w 10072800"/>
              <a:gd name="textAreaRight" fmla="*/ 10073160 w 10072800"/>
              <a:gd name="textAreaTop" fmla="*/ 0 h 7553160"/>
              <a:gd name="textAreaBottom" fmla="*/ 7553520 h 7553160"/>
            </a:gdLst>
            <a:ahLst/>
            <a:rect l="textAreaLeft" t="textAreaTop" r="textAreaRight" b="textAreaBottom"/>
            <a:pathLst>
              <a:path w="25384" h="19034">
                <a:moveTo>
                  <a:pt x="0" y="0"/>
                </a:moveTo>
                <a:lnTo>
                  <a:pt x="25384" y="0"/>
                </a:lnTo>
                <a:lnTo>
                  <a:pt x="25384" y="19034"/>
                </a:lnTo>
                <a:lnTo>
                  <a:pt x="0" y="1903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840" y="77760"/>
            <a:ext cx="9929880" cy="7372440"/>
          </a:xfrm>
          <a:custGeom>
            <a:avLst/>
            <a:gdLst/>
            <a:ahLst/>
            <a:rect l="l" t="t" r="r" b="b"/>
            <a:pathLst>
              <a:path w="25021" h="18577">
                <a:moveTo>
                  <a:pt x="0" y="19526"/>
                </a:moveTo>
                <a:lnTo>
                  <a:pt x="19526" y="19526"/>
                </a:lnTo>
                <a:lnTo>
                  <a:pt x="180" y="90"/>
                </a:lnTo>
                <a:lnTo>
                  <a:pt x="5495" y="0"/>
                </a:lnTo>
                <a:lnTo>
                  <a:pt x="19526" y="19526"/>
                </a:lnTo>
                <a:lnTo>
                  <a:pt x="270" y="90"/>
                </a:lnTo>
                <a:lnTo>
                  <a:pt x="25021" y="-949"/>
                </a:lnTo>
                <a:lnTo>
                  <a:pt x="19526" y="19526"/>
                </a:lnTo>
                <a:lnTo>
                  <a:pt x="0" y="195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550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36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5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446280" y="6886440"/>
            <a:ext cx="3184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5C344-E943-4614-8FD6-AC33EE9A4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301320"/>
            <a:ext cx="9380520" cy="15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First slide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9480" y="2160360"/>
            <a:ext cx="938052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514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Now is the time for all good men to come to the aid of their country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The quick brown fox jumps over the lazy dog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ny Confidential © Orion Financial Group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388-F0B5-46B3-8B96-5EF2F9CA05D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00:13:20Z</dcterms:created>
  <dc:creator/>
  <dc:description>Company Confidential © 2014 Orion Financial Group Inc.</dc:description>
  <dc:language>en-US</dc:language>
  <cp:lastModifiedBy/>
  <dcterms:modified xsi:type="dcterms:W3CDTF">2014-11-22T05:27:05Z</dcterms:modified>
  <cp:revision>89</cp:revision>
  <dc:subject/>
  <dc:title>Presentation</dc:title>
</cp:coreProperties>
</file>