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6AF0-C965-49F3-8444-5C0396A1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50D-9831-4FDE-9D2C-4A866B9E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4FC-EF31-4CEC-AEF9-24D7B75A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6F1-5C49-4B75-A516-9FD3CEEE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E53-39EF-4D48-BCD3-B2BCB2A7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FB0-764D-4CCC-8938-97BEC717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226-1380-404B-BE2A-D9C65308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620-881D-4BC0-9FAC-214B9877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D21-7ED2-41D7-B1BF-836BDF4A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CFA-7BA5-4ACD-B0FE-E6D1EF70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191-F7D9-4D01-876B-5994343B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848-6A58-4B6D-ACF0-50385967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85F4-7ADE-4693-B053-E8EC0144B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 flipH="1">
            <a:off x="2629800" y="2225520"/>
            <a:ext cx="3183480" cy="1426320"/>
          </a:xfrm>
          <a:prstGeom prst="curvedConnector5">
            <a:avLst>
              <a:gd name="adj1" fmla="val -7170"/>
              <a:gd name="adj2" fmla="val 59227"/>
              <a:gd name="adj3" fmla="val -7170"/>
            </a:avLst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2:26:47Z</dcterms:created>
  <dc:creator>dmbr</dc:creator>
  <dc:description/>
  <dc:language>en-US</dc:language>
  <cp:lastModifiedBy>dmbr</cp:lastModifiedBy>
  <dcterms:modified xsi:type="dcterms:W3CDTF">2005-10-13T12:26:55Z</dcterms:modified>
  <cp:revision>1</cp:revision>
  <dc:subject/>
  <dc:title>PowerPoint Presentation</dc:title>
</cp:coreProperties>
</file>