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5C42-8FAD-4736-AD50-3867A9780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5E61-E93A-4C6C-A55E-0B58796F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0536-CC23-4CE7-901F-F8E5F2DF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C7A6-3769-4917-8D28-CC952BF60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A9D1-C917-4AF4-9FCF-9ED80F75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B793-EFE9-40B5-AEA5-2FA54565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C392-BF10-4CC4-8895-6C79FADE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D713-902B-4EFD-871C-A4EE6779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DE33-37A1-4065-806D-77FE784F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F271-7703-40E6-A1FD-B81EDD45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CAFF-B4FB-4220-8C52-5842535F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C453-4555-4083-92FF-CDA30F86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A2785-EBD3-4176-AF51-44715F415A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4240" y="420840"/>
            <a:ext cx="605160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n-autobiographical “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” in Pau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4240" y="1116000"/>
            <a:ext cx="892332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3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om. 3:5, 7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ut if through my falsehood God’s truthfulness abounds to his glory, why am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still being condemned as a sinner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14240" y="2413080"/>
            <a:ext cx="892332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3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Cor. 6:12, 6:15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“‘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ll things are lawful for me,’ but not all things are beneficial. ‘All things are lawful for me,’ but I will not be dominated by anything … Do you not know that your bodies are members of Christ? Should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therefore take the members of Christ and make them members of a prostitute? Nev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14240" y="4716360"/>
            <a:ext cx="892332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3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Cor. 10:29ff.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or why should my liberty be subject to the judgment of someone else's conscience? If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partake with thankfulness, why should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be denounced because of that for which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give thanks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14240" y="420840"/>
            <a:ext cx="605160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n-autobiographical “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” in Pau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4240" y="2521080"/>
            <a:ext cx="8923320" cy="31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3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Cor. 14:11, 14, 15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f I do not know the meaning of a sound, I will be a foreigner to the speaker and the speaker a foreigner to me. So with yourselves; since you are eager for spiritual gifts, strive to excel in them for building up the church. Therefore, one who speaks in a tongue should pray for the power to interpret. For if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pray in a tongue, my spirit prays but my mind is unproductive. What should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do then?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will pray with the spirit, but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will pray with the mind also;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will sing praise with the spirit, but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will sing praise with the mind als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14240" y="5724360"/>
            <a:ext cx="89233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3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Gal. 2:18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ut if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build up again the very things that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once tore down, then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demonstrate that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am a transgressor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4240" y="973080"/>
            <a:ext cx="892332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3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Cor. 13:1-3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f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speak with the tongues of men and angels, but have not love …   if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have prophetic powers … if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have all faith… if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give away my possessions, and hand over my body…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gain noth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0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4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00200" y="363600"/>
            <a:ext cx="9245520" cy="74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e ourselves are Jews by birth and not Gentile sinner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yet we know that a person is justified not by the work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he law but through faith in Jesus Christ. And we ha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e to believe in Christ Jesus, so that we might b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justified by faith in Christ, and not by doing the wor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of the law, because no one will be justified by the wor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of the law. But if, in our effort to be justified in Chris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e ourselves have been found to be sinners, is Christ th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 servant of sin? Certainly not! But i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build up aga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very things that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once tore down, then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demonstrate t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am a transgressor. For through the law I died to the law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o that I might live to God. I have been crucified with Chris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nd it is no longer I who live, but it is Christ who lives in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nd the life I now live in the flesh I live by faith 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on of God, who loved me and gave himself for 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 do not nullify the grace of God; for if justification co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hrough the law, then Christ died for no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14240" y="714240"/>
            <a:ext cx="9007560" cy="41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QH 1.21-2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hese things I know by the wisdom which comes from Thee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for Thou hast unstopped my ears to marvelous mysteri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nd yet I, a shape of clay kneaded in water, a ground of sh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nd a source of pollution, a melting-pot of wickednes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nd an edifice of sin, a straying and perverted spiri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of no understanding, fearful of righteous judgements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what can I say that is not foreknown?”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(Vermes,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DS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, 3</a:t>
            </a:r>
            <a:r>
              <a:rPr b="0" lang="en-GB" sz="2600" spc="-1" strike="noStrike" baseline="33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GB" sz="2600" spc="-1" strike="noStrike" baseline="41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ed., p. 167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 Forbes</dc:creator>
  <dc:description/>
  <dc:language>en-US</dc:language>
  <cp:lastModifiedBy>Chris Forbes</cp:lastModifiedBy>
  <cp:revision>0</cp:revision>
  <dc:subject/>
  <dc:title/>
</cp:coreProperties>
</file>