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8352-1D20-4FE3-8B8C-7CBC0E1FA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F82F-58E5-4837-95E6-E762F4652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CB57-4C3E-499F-9FDA-37AC8D86B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D794-5241-496E-AF23-5F3D7798A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9A9D-1655-4E54-9FD9-CE2714A3F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E66C-2F0A-4E76-A18F-B755CF825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D760-C820-40A9-A1DF-90FE7538F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F561-B2A7-496F-B8DD-4DBC783C8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BD5B-9A71-4948-9654-51A486743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323D-FAEA-4B89-92CC-8B2935EC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DBFA-9507-46A4-9F0F-28C16E01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7712-D1CD-4611-822B-2390FB0E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1E858-0700-4065-9FCA-B894B5C0192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Placeholder 4"/>
          <p:cNvSpPr/>
          <p:nvPr/>
        </p:nvSpPr>
        <p:spPr>
          <a:xfrm>
            <a:off x="785880" y="1643040"/>
            <a:ext cx="5786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760" bIns="50760" anchor="t">
            <a:noAutofit/>
          </a:bodyPr>
          <a:p>
            <a:pPr>
              <a:lnSpc>
                <a:spcPct val="105000"/>
              </a:lnSpc>
              <a:spcAft>
                <a:spcPts val="751"/>
              </a:spcAft>
              <a:tabLst>
                <a:tab algn="l" pos="0"/>
                <a:tab algn="l" pos="185724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articipation in current operator’s provision of rewards to encourage </a:t>
            </a:r>
            <a:r>
              <a:rPr b="1" i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increased spend</a:t>
            </a:r>
            <a:r>
              <a:rPr b="1" i="1" lang="en-GB" sz="12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rcRect l="25" t="0" r="25" b="0"/>
          <a:stretch/>
        </p:blipFill>
        <p:spPr>
          <a:xfrm>
            <a:off x="736560" y="2235240"/>
            <a:ext cx="5956200" cy="2908440"/>
          </a:xfrm>
          <a:prstGeom prst="rect">
            <a:avLst/>
          </a:prstGeom>
          <a:ln w="0">
            <a:noFill/>
          </a:ln>
        </p:spPr>
      </p:pic>
      <p:sp>
        <p:nvSpPr>
          <p:cNvPr id="43" name="TextBox 9"/>
          <p:cNvSpPr/>
          <p:nvPr/>
        </p:nvSpPr>
        <p:spPr>
          <a:xfrm>
            <a:off x="0" y="214200"/>
            <a:ext cx="7500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ection: There is a clear opportunity for reward programmes to gain greater traction and impact subscriber behaviour as most mobile subscribers are not yet part of an operator led reward program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2571840" y="1357200"/>
            <a:ext cx="380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Which types of mobile loyalty schemes are most appealing to subscribers</a:t>
            </a:r>
            <a:r>
              <a:rPr b="1" lang="en-GB" sz="12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(rank from 1 to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Chart 2" descr=""/>
          <p:cNvPicPr/>
          <p:nvPr/>
        </p:nvPicPr>
        <p:blipFill>
          <a:blip r:embed="rId1"/>
          <a:stretch/>
        </p:blipFill>
        <p:spPr>
          <a:xfrm>
            <a:off x="2584440" y="1736640"/>
            <a:ext cx="4187880" cy="4492800"/>
          </a:xfrm>
          <a:prstGeom prst="rect">
            <a:avLst/>
          </a:prstGeom>
          <a:ln w="0">
            <a:noFill/>
          </a:ln>
        </p:spPr>
      </p:pic>
      <p:sp>
        <p:nvSpPr>
          <p:cNvPr id="46" name="TextBox 3"/>
          <p:cNvSpPr/>
          <p:nvPr/>
        </p:nvSpPr>
        <p:spPr>
          <a:xfrm>
            <a:off x="0" y="21420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ection: Don’t assume that the same incentives and scheme structures will work equally well across all markets and subscriber segment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3"/>
          <p:cNvSpPr/>
          <p:nvPr/>
        </p:nvSpPr>
        <p:spPr>
          <a:xfrm>
            <a:off x="0" y="214200"/>
            <a:ext cx="7500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ection: Reward schemes, when done right, have the desired impact on subscriber behaviour – reducing churn in developed markets, increasing spend in emerging on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Placeholder 8"/>
          <p:cNvSpPr/>
          <p:nvPr/>
        </p:nvSpPr>
        <p:spPr>
          <a:xfrm>
            <a:off x="1920960" y="1274760"/>
            <a:ext cx="42480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760" bIns="50760" anchor="b">
            <a:noAutofit/>
          </a:bodyPr>
          <a:p>
            <a:pPr algn="ctr">
              <a:lnSpc>
                <a:spcPct val="105000"/>
              </a:lnSpc>
              <a:spcAft>
                <a:spcPts val="751"/>
              </a:spcAft>
              <a:tabLst>
                <a:tab algn="l" pos="0"/>
                <a:tab algn="l" pos="185724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umber of SIM cards used</a:t>
            </a:r>
            <a:r>
              <a:rPr b="1" lang="en-GB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rcRect l="0" t="329" r="0" b="329"/>
          <a:stretch/>
        </p:blipFill>
        <p:spPr>
          <a:xfrm>
            <a:off x="1928880" y="1714680"/>
            <a:ext cx="423072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0T12:26:17Z</dcterms:created>
  <dc:creator>hye-joo.kim</dc:creator>
  <dc:description/>
  <dc:language>en-US</dc:language>
  <cp:lastModifiedBy>Italo Vignoli</cp:lastModifiedBy>
  <dcterms:modified xsi:type="dcterms:W3CDTF">2011-06-21T14:41:10Z</dcterms:modified>
  <cp:revision>1</cp:revision>
  <dc:subject/>
  <dc:title>Slide 1</dc:title>
</cp:coreProperties>
</file>