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446-5DB6-4F2E-98C0-088D9A3F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A34-1D60-4E47-86A5-46738652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C7A-9FA0-42DE-BD34-2095B9BA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60C-DB10-4D9B-A188-7AB620FA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B61-5EC9-42FF-AE99-5DF91977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BEC-A38C-4264-9A51-B259E677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EF5-88F4-4499-ABE3-2E82A156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7C2-E9E0-4875-94E7-770B0490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DD2-82F2-4CD5-9E49-00DF73DA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7DF-58A1-4D5C-A6DC-92D4591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158-69C7-4815-8202-69EA12F2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2C4-2CDA-4DBC-882B-9E7666F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1ECE-DEAF-430F-BE13-490E4AD82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Ch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995640" y="2924280"/>
            <a:ext cx="10159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3:11:22Z</dcterms:created>
  <dc:creator>gely</dc:creator>
  <dc:description/>
  <dc:language>en-US</dc:language>
  <cp:lastModifiedBy>gely</cp:lastModifiedBy>
  <dcterms:modified xsi:type="dcterms:W3CDTF">2011-03-05T13:39:38Z</dcterms:modified>
  <cp:revision>2</cp:revision>
  <dc:subject/>
  <dc:title>Slide 1</dc:title>
</cp:coreProperties>
</file>