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697B3-3670-403A-AABB-771583ED28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81000" y="801720"/>
            <a:ext cx="559908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1007640" y="5076720"/>
            <a:ext cx="5542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AEFE-A062-4535-9A6B-6E7854EB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6625-C42C-414A-B62D-B24E30C1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EC62-D201-4DF4-953E-514F90C06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B81F-0A33-4B00-B1EF-78D73A2C3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28D0-965B-4A39-9D34-9F6B8AB7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219E-53F3-4C95-992A-6D41CEBB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D8BC-5663-462D-84B5-7C4CD433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DBE8-3D74-4FC1-AC1D-97D0337E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898B-03D8-4598-A32C-5D5EF34B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96AE-3F5F-4028-8F1C-3C191630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E271-802D-4689-B52C-0958FE56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FCB6-EE04-4D2A-A806-5F575989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75AD5-2348-4EA1-AF2D-91BC6FD4AA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543640" y="3948120"/>
            <a:ext cx="403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60320" indent="-207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Integrierte interaktive Üb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07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Tu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07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Keine Leistungskontrollen (diese erfolgen in der Umsetzung in die  tägliche Arbe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73120" y="1757520"/>
            <a:ext cx="8567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Beispiel 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Arbeitsprozessorientiert (wie kann der Beruf besser ausgeübt werden, für Einsteiger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6520" y="0"/>
            <a:ext cx="733896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ctr" anchorCtr="1">
            <a:noAutofit/>
          </a:bodyPr>
          <a:p>
            <a:pPr indent="0" algn="ctr">
              <a:lnSpc>
                <a:spcPct val="100000"/>
              </a:lnSpc>
              <a:spcAft>
                <a:spcPts val="400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rman experiences in e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83880" y="1469520"/>
            <a:ext cx="729000" cy="3613320"/>
          </a:xfrm>
          <a:prstGeom prst="rect">
            <a:avLst/>
          </a:prstGeom>
          <a:solidFill>
            <a:srgbClr val="9ed2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Deutsche Erfahrungen im e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as Mantke</dc:creator>
  <dc:description/>
  <dc:language>en-US</dc:language>
  <cp:lastModifiedBy/>
  <cp:revision>0</cp:revision>
  <dc:subject/>
  <dc:title/>
</cp:coreProperties>
</file>