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6457-5EE6-4643-BC58-1CC226F8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348-793B-436B-9715-7718272E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F27-1325-4A09-9B7B-519A3C79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550-34C8-4075-89EE-2F8B4A57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28C-90F2-4967-9E9E-9FC952CE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E35-F566-4F4A-897A-7F5AC7CD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620E-8E76-4E13-8083-A2D51062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ABB-2727-41A2-9FE6-35F36FC1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ABAB-6953-4857-8597-382A5C15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290E-EC87-44D2-AB44-D7B6A0C9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E65-6C83-4736-AD26-12D2E052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804-6621-4592-8499-FB5AACCC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FC6E-75BF-42EA-B2A0-D7CCAB84F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ture-Orig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s" descr=""/>
          <p:cNvPicPr/>
          <p:nvPr/>
        </p:nvPicPr>
        <p:blipFill>
          <a:blip r:embed="rId1"/>
          <a:stretch/>
        </p:blipFill>
        <p:spPr>
          <a:xfrm>
            <a:off x="1646280" y="2819520"/>
            <a:ext cx="585144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ture-cropp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s" descr=""/>
          <p:cNvPicPr/>
          <p:nvPr/>
        </p:nvPicPr>
        <p:blipFill>
          <a:blip r:embed="rId1"/>
          <a:srcRect l="9116" t="39016" r="67447" b="23898"/>
          <a:stretch/>
        </p:blipFill>
        <p:spPr>
          <a:xfrm>
            <a:off x="2209680" y="4141800"/>
            <a:ext cx="13716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ss</cp:lastModifiedBy>
  <dcterms:modified xsi:type="dcterms:W3CDTF">2010-05-26T06:20:18Z</dcterms:modified>
  <cp:revision>25</cp:revision>
  <dc:subject/>
  <dc:title>PowerPoint Presentation</dc:title>
</cp:coreProperties>
</file>