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0554-F2E6-4355-BC8C-C2EBD8EC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B0F6-A0C8-4ADB-ACE9-63579B38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5712-1803-43CE-9DEB-275C1B6E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E249-C0F2-4437-B050-45B72265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1E07-14E4-4B80-9CEF-A3B041E1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0380-E1D3-4205-A071-2D3BCFCB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0678-2434-4239-86CA-D40C95B5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EBCA-010C-48BD-B5BC-78E1A982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E57-2199-4E96-896F-AEB8D11E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A60F-AA00-41CC-B770-AF0AA80A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A77E-9232-4FF5-909B-45004471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4A80-D08C-4BB2-9980-DB7FE247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4549-4906-43EC-9512-3445E6E2A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fin des blagues sur les hommes ... Sans rancune Messieurs .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33040" y="2284560"/>
            <a:ext cx="72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'est-ce qui fait que les hommes courent toujours après les femm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cune intention de se marier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5920" y="2284560"/>
            <a:ext cx="70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ême raison qui fait que les chiens poursuivent les voitures sa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ant avoir l'intention de conduir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88840" y="2697120"/>
            <a:ext cx="54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nt les hommes font de l'exercice à la plage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90640" y="2697120"/>
            <a:ext cx="697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rentrant leur ventre à chaque fois qu'ils voient une gonzesse qu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84360" y="2971800"/>
            <a:ext cx="59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lle est la meilleure façon de garder un homme au lit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82200" y="2971800"/>
            <a:ext cx="43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tre la télé dans la chambre à coucher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62160" y="2971800"/>
            <a:ext cx="66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quoi les hommes épousent-ils plus volontiers des vierges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58560" y="2971800"/>
            <a:ext cx="43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ce qu'ils ne supportent pas la critiqu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99480" y="2833560"/>
            <a:ext cx="64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lle est le point commun entre un ex-mari et l'appendicite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97680" y="2833560"/>
            <a:ext cx="696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deux vous ont fait très mal, et après qu'on les ait enlevés, vou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u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dez compte qu'ils ne vous servaient à r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05440" y="2697120"/>
            <a:ext cx="633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elle est la différence entre un homme et une boîte de pâ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chie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08080" y="2971800"/>
            <a:ext cx="69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en d'hommes faut-il pour changer un rouleau de papier cul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03040" y="297180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 ne sait : ça n'est jamais arrivé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00160" y="297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37160" y="2558880"/>
            <a:ext cx="675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un homme ouvre la portière de sa voiture à sa femme, on pe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être sû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'une chose : ou bien c'est la voiture qui est neuve, ou bien c'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m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724280"/>
            <a:ext cx="1944720" cy="172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!!!!!!!!!!!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00160" y="297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8840" y="2971800"/>
            <a:ext cx="41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'aurait fait la femme sans l'homme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00160" y="297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1720" y="2971800"/>
            <a:ext cx="34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e aurait élevé un autre anim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00160" y="297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10840" y="2833560"/>
            <a:ext cx="632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un homme, quelle est la différence entre : l'anniversai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a femme et la cuvette des toilettes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00160" y="297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08680" y="2833560"/>
            <a:ext cx="458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cune, il passe systématiquement à côté 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00160" y="297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30120" y="269712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nt reconnaître un homme quand il va dire quelque cho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'intelligent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00160" y="297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24720" y="2697120"/>
            <a:ext cx="55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 phrase commence par " Ma femme m'a dit que 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04000" y="2697120"/>
            <a:ext cx="45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s la boîte, il y a du cerveau et du coeu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94680" y="2833560"/>
            <a:ext cx="71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lle idée se fait l'homme de "donner un coup de main à la maison"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3960" y="2833560"/>
            <a:ext cx="65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lever ses jambes pour qu'on passe l'aspirateur par-dess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12440" y="2971800"/>
            <a:ext cx="42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quoi les mecs n'ont pas de règles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14960" y="2971800"/>
            <a:ext cx="73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quoi ça leur servirait ? Ils sont en permanence de mauvaise humeur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48200" y="2971800"/>
            <a:ext cx="644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quoi la ménopause n'existe-t-elle pas chez les hommes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345680" y="2971800"/>
            <a:ext cx="46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ce qu'ils restent coincés à l'adolescenc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4797360"/>
            <a:ext cx="2087640" cy="1656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1:21:07Z</dcterms:created>
  <dc:creator>SoulieP</dc:creator>
  <dc:description/>
  <dc:language>en-US</dc:language>
  <cp:lastModifiedBy>SoulieP</cp:lastModifiedBy>
  <dcterms:modified xsi:type="dcterms:W3CDTF">2004-07-01T11:31:09Z</dcterms:modified>
  <cp:revision>3</cp:revision>
  <dc:subject/>
  <dc:title>Enfin des blagues sur les hommes ... Sans rancune Messieurs .... </dc:title>
</cp:coreProperties>
</file>