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A9B4C90-199A-4ED0-B396-A11B542F69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67C-95F8-46CA-9CC2-6599B8E6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9A6-D0CB-49F1-8382-E23E797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B6C-45FA-43B4-B5FD-93C8D4D1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B14-7558-4B4D-8311-AABBE683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92B-7278-4643-9228-CC8DB51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B18-A500-468B-A031-1A0B120D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74F-7B9E-4AE8-A2D4-9525FDE5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96F-AABD-4D26-9C13-B517A6E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780-BA68-40A9-A799-BC79AA0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F9E-9746-4C37-A027-1D8B33E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515-EA37-4ACB-A370-D7A8365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6E7-37A1-4801-8634-04D64DF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6517A87-90F4-4184-AC92-8447F31B9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782640"/>
            <a:ext cx="4861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Office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ark Robles</dc:creator>
  <dc:description/>
  <dc:language>en-US</dc:language>
  <cp:lastModifiedBy>Ian Mark Robles</cp:lastModifiedBy>
  <cp:revision>0</cp:revision>
  <dc:subject/>
  <dc:title/>
</cp:coreProperties>
</file>