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0CEF-B0BF-49BF-90CF-130794D0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25A2-5CFD-4039-AD87-12773F62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692F-2E42-44FD-91F6-4856433F6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880E-7DEF-46AC-9D24-F742E07E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5986-D2C7-4A5B-AF42-FDA9A15F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2BB-54C6-4BCA-9D20-A63B3464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EC67-94B9-4FD3-9697-C16561B9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E48D-4CCA-4484-B586-DFD334FC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0CBA-71F1-4F54-AF21-C37A197E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9A4E-088A-49AA-9AB9-0DD4E02D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BC6D-6660-4BCE-8155-433A15BB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00EC-B396-4CA1-9206-404F80B3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9693-965C-49E3-AFD9-60175E598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low are the test focus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osen Effect:      Exit_Fly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ffect Property:    Properties\Exit\Settings\Direction 4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perty Value:     To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05120" y="1905120"/>
            <a:ext cx="1269720" cy="126972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y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270080" y="635040"/>
            <a:ext cx="1666800" cy="623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Arial Black"/>
              </a:rPr>
              <a:t>word ar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unset" descr=""/>
          <p:cNvPicPr/>
          <p:nvPr/>
        </p:nvPicPr>
        <p:blipFill>
          <a:blip r:embed="rId1"/>
          <a:stretch/>
        </p:blipFill>
        <p:spPr>
          <a:xfrm>
            <a:off x="635040" y="63504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352520" y="1368360"/>
            <a:ext cx="2374920" cy="2343240"/>
            <a:chOff x="1352520" y="1368360"/>
            <a:chExt cx="2374920" cy="2343240"/>
          </a:xfrm>
        </p:grpSpPr>
        <p:sp>
          <p:nvSpPr>
            <p:cNvPr id="47" name="_s7172"/>
            <p:cNvSpPr/>
            <p:nvPr/>
          </p:nvSpPr>
          <p:spPr>
            <a:xfrm>
              <a:off x="2063880" y="1701720"/>
              <a:ext cx="952200" cy="95256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7173"/>
            <p:cNvSpPr/>
            <p:nvPr/>
          </p:nvSpPr>
          <p:spPr>
            <a:xfrm>
              <a:off x="2413080" y="1368360"/>
              <a:ext cx="25380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7178"/>
            <p:cNvSpPr/>
            <p:nvPr/>
          </p:nvSpPr>
          <p:spPr>
            <a:xfrm>
              <a:off x="2425680" y="2063880"/>
              <a:ext cx="952560" cy="95220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7179"/>
            <p:cNvSpPr/>
            <p:nvPr/>
          </p:nvSpPr>
          <p:spPr>
            <a:xfrm>
              <a:off x="3473280" y="2421000"/>
              <a:ext cx="25416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7176"/>
            <p:cNvSpPr/>
            <p:nvPr/>
          </p:nvSpPr>
          <p:spPr>
            <a:xfrm>
              <a:off x="2063880" y="2425680"/>
              <a:ext cx="952200" cy="95256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7177"/>
            <p:cNvSpPr/>
            <p:nvPr/>
          </p:nvSpPr>
          <p:spPr>
            <a:xfrm>
              <a:off x="2413080" y="3473280"/>
              <a:ext cx="25380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7174"/>
            <p:cNvSpPr/>
            <p:nvPr/>
          </p:nvSpPr>
          <p:spPr>
            <a:xfrm>
              <a:off x="1701720" y="2063880"/>
              <a:ext cx="952560" cy="95220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7175"/>
            <p:cNvSpPr/>
            <p:nvPr/>
          </p:nvSpPr>
          <p:spPr>
            <a:xfrm>
              <a:off x="1352520" y="2421000"/>
              <a:ext cx="25416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114800" y="3071880"/>
          <a:ext cx="914400" cy="71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07188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05:38:47Z</dcterms:created>
  <dc:creator>Yolanda</dc:creator>
  <dc:description/>
  <dc:language>en-US</dc:language>
  <cp:lastModifiedBy>Yolanda</cp:lastModifiedBy>
  <dcterms:modified xsi:type="dcterms:W3CDTF">2006-04-29T08:30:04Z</dcterms:modified>
  <cp:revision>2</cp:revision>
  <dc:subject/>
  <dc:title>Below are the test focus   Chosen Effect:      Entrance_Fly Effect Property:    Properties\Exit\Settings\Direction 4 Property Value:     From Top</dc:title>
</cp:coreProperties>
</file>