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5601-F77B-4BF3-9278-472C3D301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4D16-6463-4467-8908-72FB28108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F5D6-88CA-4966-A501-955E0BC73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CCDF-98DF-4F8B-A727-80ABE82C9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204C-5D8D-45A7-847B-DD30B5A82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899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852720"/>
            <a:ext cx="250236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5EA3-A949-42E8-9ACA-0DC8DFAF5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33F4-09F9-40B0-92ED-A423512C9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7FB8-CD25-4504-BAB1-EDDC8136E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6BDD-A4CC-4A55-81C8-4243CFDAF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CCBE-9AD3-4486-9F58-66D614342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52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B0D6-2D94-48DC-A246-4FE16F3D0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99720"/>
            <a:ext cx="37926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52720"/>
            <a:ext cx="7772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2353-B3D3-43BF-8DBD-6FECEE9F1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997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DC7-18AF-487E-8A52-D2D62826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80880" y="5410080"/>
            <a:ext cx="8534520" cy="1238400"/>
            <a:chOff x="380880" y="5410080"/>
            <a:chExt cx="8534520" cy="1238400"/>
          </a:xfrm>
        </p:grpSpPr>
        <p:sp>
          <p:nvSpPr>
            <p:cNvPr id="5" name=""/>
            <p:cNvSpPr/>
            <p:nvPr/>
          </p:nvSpPr>
          <p:spPr>
            <a:xfrm>
              <a:off x="380880" y="5933880"/>
              <a:ext cx="670572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6933960" y="5410080"/>
              <a:ext cx="1981440" cy="1238400"/>
              <a:chOff x="6933960" y="5410080"/>
              <a:chExt cx="1981440" cy="1238400"/>
            </a:xfrm>
          </p:grpSpPr>
          <p:sp>
            <p:nvSpPr>
              <p:cNvPr id="7" name=""/>
              <p:cNvSpPr txBox="1"/>
              <p:nvPr/>
            </p:nvSpPr>
            <p:spPr>
              <a:xfrm>
                <a:off x="7391160" y="5715000"/>
                <a:ext cx="152424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6933960" y="5410080"/>
                <a:ext cx="89532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9" name=""/>
          <p:cNvSpPr/>
          <p:nvPr/>
        </p:nvSpPr>
        <p:spPr>
          <a:xfrm>
            <a:off x="3999960" y="63244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http://www.cs.wisc.edu/con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80880" y="617220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5410080"/>
            <a:ext cx="8534520" cy="1238400"/>
            <a:chOff x="380880" y="5410080"/>
            <a:chExt cx="8534520" cy="1238400"/>
          </a:xfrm>
        </p:grpSpPr>
        <p:sp>
          <p:nvSpPr>
            <p:cNvPr id="49" name=""/>
            <p:cNvSpPr/>
            <p:nvPr/>
          </p:nvSpPr>
          <p:spPr>
            <a:xfrm>
              <a:off x="380880" y="5933880"/>
              <a:ext cx="670572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933960" y="5410080"/>
              <a:ext cx="1981440" cy="1238400"/>
              <a:chOff x="6933960" y="5410080"/>
              <a:chExt cx="1981440" cy="1238400"/>
            </a:xfrm>
          </p:grpSpPr>
          <p:sp>
            <p:nvSpPr>
              <p:cNvPr id="51" name=""/>
              <p:cNvSpPr txBox="1"/>
              <p:nvPr/>
            </p:nvSpPr>
            <p:spPr>
              <a:xfrm>
                <a:off x="7391160" y="5715000"/>
                <a:ext cx="152424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6933960" y="5410080"/>
                <a:ext cx="89532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40989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59280" y="3733920"/>
            <a:ext cx="483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o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mputer Sciences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iversity of Wisconsin-Mad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or-admin@cs.wisc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ttp://www.cs.wisc.edu/co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Java Univers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14440" y="1523520"/>
            <a:ext cx="4724280" cy="3886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verse = 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cutable = Main.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r_files = MyLibrary.j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put = in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tput = out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guments = Main 1 2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302040" y="3581280"/>
            <a:ext cx="26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or_sub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9843-DA52-4669-AB00-15A5DC8F60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2:01:50Z</dcterms:created>
  <dc:creator>Miron Livny</dc:creator>
  <dc:description/>
  <dc:language>en-US</dc:language>
  <cp:lastModifiedBy>Christian Günther</cp:lastModifiedBy>
  <cp:lastPrinted>2000-02-29T01:23:00Z</cp:lastPrinted>
  <dcterms:modified xsi:type="dcterms:W3CDTF">2004-04-20T09:32:16Z</dcterms:modified>
  <cp:revision>243</cp:revision>
  <dc:subject/>
  <dc:title>Condor - A Project and a System</dc:title>
</cp:coreProperties>
</file>