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487520" y="56844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plines for functions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706840" y="1819440"/>
            <a:ext cx="5181480" cy="400356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2706840" y="1819440"/>
            <a:ext cx="5181480" cy="400356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706840" y="1819440"/>
            <a:ext cx="5181480" cy="400356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2108160" y="6073920"/>
            <a:ext cx="2414520" cy="960120"/>
            <a:chOff x="2108160" y="6073920"/>
            <a:chExt cx="2414520" cy="960120"/>
          </a:xfrm>
        </p:grpSpPr>
        <p:sp>
          <p:nvSpPr>
            <p:cNvPr id="43" name=""/>
            <p:cNvSpPr/>
            <p:nvPr/>
          </p:nvSpPr>
          <p:spPr>
            <a:xfrm>
              <a:off x="2108160" y="6073920"/>
              <a:ext cx="2414520" cy="960120"/>
            </a:xfrm>
            <a:prstGeom prst="roundRect">
              <a:avLst>
                <a:gd name="adj" fmla="val 162"/>
              </a:avLst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2108160" y="6073920"/>
                  <a:ext cx="2414520" cy="96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</m:sub>
                        <m:sup/>
                        <m:e>
                          <m:sSubSup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</m:sSubSup>
                        </m:e>
                      </m:nary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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i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5" name=""/>
            <p:cNvSpPr/>
            <p:nvPr/>
          </p:nvSpPr>
          <p:spPr>
            <a:xfrm>
              <a:off x="2108160" y="6073920"/>
              <a:ext cx="2414520" cy="960120"/>
            </a:xfrm>
            <a:prstGeom prst="roundRect">
              <a:avLst>
                <a:gd name="adj" fmla="val 16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857920" y="6086520"/>
            <a:ext cx="2992320" cy="909720"/>
            <a:chOff x="5857920" y="6086520"/>
            <a:chExt cx="2992320" cy="909720"/>
          </a:xfrm>
        </p:grpSpPr>
        <p:sp>
          <p:nvSpPr>
            <p:cNvPr id="47" name=""/>
            <p:cNvSpPr/>
            <p:nvPr/>
          </p:nvSpPr>
          <p:spPr>
            <a:xfrm>
              <a:off x="5857920" y="6086520"/>
              <a:ext cx="2992320" cy="909720"/>
            </a:xfrm>
            <a:prstGeom prst="roundRect">
              <a:avLst>
                <a:gd name="adj" fmla="val 171"/>
              </a:avLst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5857920" y="6086520"/>
                  <a:ext cx="2992320" cy="90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O</m:t>
                              </m:r>
                            </m:e>
                          </m:acc>
                        </m:e>
                        <m:sub>
                          <m:r>
                            <m:t xml:space="preserve">α</m:t>
                          </m:r>
                        </m:sub>
                        <m:sup>
                          <m:r>
                            <m:t xml:space="preserve">β</m:t>
                          </m:r>
                        </m:sup>
                      </m:sSubSup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  <m:sup/>
                        <m:e>
                          <m:sSub>
                            <m:e>
                              <m:acc>
                                <m:accPr>
                                  <m:chr m:val="~"/>
                                </m:accPr>
                                <m:e>
                                  <m:r>
                                    <m:t xml:space="preserve">B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αj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k</m:t>
                              </m:r>
                            </m:sup>
                          </m:sSup>
                          <m:r>
                            <m:t xml:space="preserve"></m:t>
                          </m:r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sub>
                          </m:sSub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B</m:t>
                              </m:r>
                            </m:e>
                          </m:acc>
                        </m:e>
                      </m:nary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</m:t>
                          </m:r>
                        </m:e>
                        <m:sup>
                          <m:r>
                            <m:t xml:space="preserve">iβ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9" name=""/>
            <p:cNvSpPr/>
            <p:nvPr/>
          </p:nvSpPr>
          <p:spPr>
            <a:xfrm>
              <a:off x="5857920" y="6086520"/>
              <a:ext cx="2992320" cy="909720"/>
            </a:xfrm>
            <a:prstGeom prst="roundRect">
              <a:avLst>
                <a:gd name="adj" fmla="val 17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9320" y="2048040"/>
            <a:ext cx="1754280" cy="874080"/>
            <a:chOff x="4459320" y="2048040"/>
            <a:chExt cx="1754280" cy="874080"/>
          </a:xfrm>
        </p:grpSpPr>
        <p:sp>
          <p:nvSpPr>
            <p:cNvPr id="51" name=""/>
            <p:cNvSpPr/>
            <p:nvPr/>
          </p:nvSpPr>
          <p:spPr>
            <a:xfrm>
              <a:off x="4599000" y="2498760"/>
              <a:ext cx="154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459320" y="2315880"/>
              <a:ext cx="144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6211800" y="2314080"/>
              <a:ext cx="1800" cy="60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867200" y="2048040"/>
              <a:ext cx="995400" cy="46044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Lin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