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6A9-B0D1-419E-8C3A-D304FD79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ED1-F73F-4FC5-9DDB-7E2B6836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ED9-4088-40F4-8F80-93900D24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F2C-12DE-418D-AC13-06813A1E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0E8-C66E-4B85-BFC2-CB7D511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20C-DE34-4038-A254-EDB5D30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7BE-8383-4CCA-A15D-88F34B79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028-D025-449C-9287-9B7A4386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1BC-144A-496D-9D05-99FCF4B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191-1599-4B3B-8378-B3BD6C3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CB8-9DD4-447C-8F18-F21E9707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97E-978B-42A7-AD1B-7B75C0F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417CB-AE6B-4C05-90B9-FB9E926D7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to bottom-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ottom-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op-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78040" y="2408400"/>
            <a:ext cx="1828800" cy="16761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y 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op-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3:03Z</dcterms:created>
  <dc:creator/>
  <dc:description/>
  <dc:language>en-US</dc:language>
  <cp:lastModifiedBy>sunying</cp:lastModifiedBy>
  <dcterms:modified xsi:type="dcterms:W3CDTF">2012-09-07T02:41:56Z</dcterms:modified>
  <cp:revision>3</cp:revision>
  <dc:subject/>
  <dc:title>Slide 1</dc:title>
</cp:coreProperties>
</file>