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2F5-CE34-42D2-A592-D3214FC1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287-4668-4AAC-907B-19979920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13F-A15B-46DA-9A23-47F00052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8E0-AFF9-486D-B209-38AC8BE3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82A-D656-4B64-A29C-3236715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1B6-1E86-4E03-8080-10EB73DA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372-07B8-44AD-ACD9-45A9EBE2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FC9-1CD4-4399-B7C2-67DC994B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488-E897-40CD-894E-786425B1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73C-32D1-4AF3-852B-0FC3B87D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399-123C-46B4-8328-FAC0CB3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7C5-B2CD-4857-8F34-F5A86CC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EB90-7FCA-426D-AF83-7FC0F9849B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1:31:57Z</dcterms:created>
  <dc:creator>mako</dc:creator>
  <dc:description/>
  <dc:language>en-US</dc:language>
  <cp:lastModifiedBy>mako</cp:lastModifiedBy>
  <dcterms:modified xsi:type="dcterms:W3CDTF">2009-12-21T13:15:55Z</dcterms:modified>
  <cp:revision>12</cp:revision>
  <dc:subject/>
  <dc:title>スライド 1</dc:title>
</cp:coreProperties>
</file>