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04B-17EB-4FF8-A1F6-D4B2B34D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4E0-EEBA-47D9-B6BD-D4A07111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BFD-8AFA-4391-BA05-3F052BCF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824-C715-42BD-80CB-D5EE3CBE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ABD-A448-4E09-AA41-17E61A9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F0C-4C43-423C-AD95-B405C096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593-F199-442C-8734-E269A6BC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C28-D179-4DC3-8591-8935A86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964-3D43-4C1D-B133-2CDE77A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183-A52E-46AC-AF97-9FCD0FE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5F5-1029-4BA4-9FBA-3662686F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D1E-1369-46B3-A4E8-E15E5D06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B41EE0EC-1F37-4115-B0B0-C9366511C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A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ng-term Go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intended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tomer Wish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customer needs and wi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ulfilling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tomer Nee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main attributes of the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the product attributes to custome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st Analys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 the financial advantages for the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quality and price with those of the 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rengths and Advantag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special features and advantages of the product being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xt Steps of A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steps that now need to be t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3:07:13Z</dcterms:created>
  <dc:creator>Thomas Ng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