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717C-BB5A-4F9C-A3B9-377EF47A3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35F7-49B4-4D27-AB46-EC930B93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431D-802B-4B42-9912-3652AED5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15EA-FBFF-4A39-9749-66B6D3713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DDB5-6328-4527-80EC-B905B447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FF54-B55F-4C02-9219-7C4934A7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C3D7-E312-4906-BEE9-DC6B450B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6B05-3F8B-4AEF-AFBA-D62CAA3D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61D6-70DF-43F9-ACE8-2E97DDB8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90CD-1426-420F-871A-2244F580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0E36-9F11-4C4C-A33D-2D6ED5F7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CC70-5D08-428E-BF38-5CE02299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1B1F-E0B6-4AD3-B339-6CCF45DDD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400000">
            <a:off x="3181320" y="3200400"/>
            <a:ext cx="27813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ＭＳ Ｐ明朝"/>
              </a:rPr>
              <a:t>コンピューター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ＭＳ Ｐ明朝"/>
              <a:ea typeface="ＭＳ Ｐ明朝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16:56:25Z</dcterms:created>
  <dc:creator>　 </dc:creator>
  <dc:description/>
  <dc:language>en-US</dc:language>
  <cp:lastModifiedBy>　 </cp:lastModifiedBy>
  <dcterms:modified xsi:type="dcterms:W3CDTF">2008-05-22T16:57:32Z</dcterms:modified>
  <cp:revision>1</cp:revision>
  <dc:subject/>
  <dc:title>スライド 1</dc:title>
</cp:coreProperties>
</file>