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FC8F-83BF-40BA-952B-F28D91F98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3520" y="-72000"/>
            <a:ext cx="5668920" cy="398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0280" y="253800"/>
            <a:ext cx="6216480" cy="2617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88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0280" y="540720"/>
            <a:ext cx="6216480" cy="2617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88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F583-450E-4A92-817D-80BB790CA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-72000"/>
            <a:ext cx="5668920" cy="398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30280" y="253800"/>
            <a:ext cx="3033360" cy="2617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88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15560" y="253800"/>
            <a:ext cx="3033360" cy="2617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88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30280" y="540720"/>
            <a:ext cx="3033360" cy="2617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88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715560" y="540720"/>
            <a:ext cx="3033360" cy="2617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88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F2B4-B846-474D-B739-AF8E4AD69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3520" y="-72000"/>
            <a:ext cx="5668920" cy="398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0280" y="253800"/>
            <a:ext cx="2001600" cy="2617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88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632320" y="253800"/>
            <a:ext cx="2001600" cy="2617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88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734360" y="253800"/>
            <a:ext cx="2001600" cy="2617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88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30280" y="540720"/>
            <a:ext cx="2001600" cy="2617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88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2632320" y="540720"/>
            <a:ext cx="2001600" cy="2617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88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4734360" y="540720"/>
            <a:ext cx="2001600" cy="2617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88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418C-A3C4-4F11-A711-7FBA69B17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C54F0-F675-4463-92A2-8700B86B5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3520" y="-72000"/>
            <a:ext cx="5668920" cy="398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FB3D9-AD9F-4C7C-85B8-F5B84901D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-72000"/>
            <a:ext cx="5668920" cy="398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9A12D-8E9B-4D9F-9CA5-EF71E530A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3520" y="-72000"/>
            <a:ext cx="5668920" cy="398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0280" y="253800"/>
            <a:ext cx="303336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715560" y="253800"/>
            <a:ext cx="303336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65AA9-5C7C-4D12-8DD6-A91B665F1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3520" y="-72000"/>
            <a:ext cx="5668920" cy="398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E949D-D697-459A-861C-9E78223C0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B52BF-0446-4169-B400-04F6469D9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520" y="-72000"/>
            <a:ext cx="5668920" cy="398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0280" y="253800"/>
            <a:ext cx="3033360" cy="2617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88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715560" y="253800"/>
            <a:ext cx="303336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0280" y="540720"/>
            <a:ext cx="3033360" cy="2617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88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A3E0B-BCC6-491F-96A5-6BC3DEED5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520" y="-72000"/>
            <a:ext cx="5668920" cy="398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9E95-8597-4DD1-A59F-68EEDDF52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520" y="-72000"/>
            <a:ext cx="5668920" cy="398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0280" y="253800"/>
            <a:ext cx="303336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5560" y="253800"/>
            <a:ext cx="3033360" cy="2617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88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715560" y="540720"/>
            <a:ext cx="3033360" cy="2617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88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2B4EE-2CA6-4ED8-A7A6-1C831428F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520" y="-72000"/>
            <a:ext cx="5668920" cy="398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0280" y="253800"/>
            <a:ext cx="3033360" cy="2617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88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715560" y="253800"/>
            <a:ext cx="3033360" cy="2617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88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0280" y="540720"/>
            <a:ext cx="6216480" cy="2617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88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28342-5A7F-4C52-8471-66C0459F1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3520" y="-72000"/>
            <a:ext cx="5668920" cy="398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0280" y="253800"/>
            <a:ext cx="6216480" cy="2617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88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30280" y="540720"/>
            <a:ext cx="6216480" cy="2617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88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6FF79-2785-45EE-B562-908BB66D0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3520" y="-72000"/>
            <a:ext cx="5668920" cy="398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0280" y="253800"/>
            <a:ext cx="3033360" cy="2617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88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715560" y="253800"/>
            <a:ext cx="3033360" cy="2617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88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30280" y="540720"/>
            <a:ext cx="3033360" cy="2617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88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3715560" y="540720"/>
            <a:ext cx="3033360" cy="2617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88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75B6E-1410-4C14-B886-88AB45938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520" y="-72000"/>
            <a:ext cx="5668920" cy="398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0280" y="253800"/>
            <a:ext cx="2001600" cy="2617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88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2632320" y="253800"/>
            <a:ext cx="2001600" cy="2617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88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734360" y="253800"/>
            <a:ext cx="2001600" cy="2617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88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30280" y="540720"/>
            <a:ext cx="2001600" cy="2617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88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2632320" y="540720"/>
            <a:ext cx="2001600" cy="2617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88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4734360" y="540720"/>
            <a:ext cx="2001600" cy="2617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88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B544A-8B6F-4A2A-B020-5FA65CD01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3520" y="-72000"/>
            <a:ext cx="5668920" cy="398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7ECE-2461-4AE3-95D5-7CE4F21C2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3520" y="-72000"/>
            <a:ext cx="5668920" cy="398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0280" y="253800"/>
            <a:ext cx="303336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715560" y="253800"/>
            <a:ext cx="303336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9A7E-5052-4536-AB2C-1B785AF30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520" y="-72000"/>
            <a:ext cx="5668920" cy="398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85F0-CD2B-40D3-A957-17E654E44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1F2A-725F-436E-B687-0EB002435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3520" y="-72000"/>
            <a:ext cx="5668920" cy="398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0280" y="253800"/>
            <a:ext cx="3033360" cy="2617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88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715560" y="253800"/>
            <a:ext cx="303336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0280" y="540720"/>
            <a:ext cx="3033360" cy="2617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88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8C70-B2E9-4876-8493-11A8D6D9F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3520" y="-72000"/>
            <a:ext cx="5668920" cy="398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0280" y="253800"/>
            <a:ext cx="303336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715560" y="253800"/>
            <a:ext cx="3033360" cy="2617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88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715560" y="540720"/>
            <a:ext cx="3033360" cy="2617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88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5243-2874-4689-A013-2D4B3DBEB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-72000"/>
            <a:ext cx="5668920" cy="398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0280" y="253800"/>
            <a:ext cx="3033360" cy="2617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88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715560" y="253800"/>
            <a:ext cx="3033360" cy="2617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88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0280" y="540720"/>
            <a:ext cx="6216480" cy="2617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88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D700-24FA-49E7-BB64-152FF0383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122400" y="49320"/>
            <a:ext cx="1220400" cy="164880"/>
            <a:chOff x="122400" y="49320"/>
            <a:chExt cx="1220400" cy="16488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193320" y="49320"/>
              <a:ext cx="1045080" cy="164880"/>
              <a:chOff x="193320" y="49320"/>
              <a:chExt cx="1045080" cy="16488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193320" y="49320"/>
                <a:ext cx="1044000" cy="1648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93320" y="49320"/>
                <a:ext cx="523080" cy="164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193320" y="49320"/>
                <a:ext cx="1045080" cy="162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5320" y="49320"/>
                <a:ext cx="522720" cy="164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122400" y="149040"/>
              <a:ext cx="1217880" cy="23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52416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fld id="{2AE45BE6-3D4D-4FA3-A975-9CE66CC678BE}" type="slidenum"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316240" y="0"/>
            <a:ext cx="268272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706400" y="63360"/>
            <a:ext cx="3903480" cy="465120"/>
            <a:chOff x="1706400" y="63360"/>
            <a:chExt cx="3903480" cy="465120"/>
          </a:xfrm>
        </p:grpSpPr>
        <p:sp>
          <p:nvSpPr>
            <p:cNvPr id="53" name=""/>
            <p:cNvSpPr/>
            <p:nvPr/>
          </p:nvSpPr>
          <p:spPr>
            <a:xfrm>
              <a:off x="1706400" y="219240"/>
              <a:ext cx="1294200" cy="19188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15320" y="219240"/>
              <a:ext cx="1294560" cy="19188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1994040" y="63360"/>
              <a:ext cx="3344040" cy="465120"/>
              <a:chOff x="1994040" y="63360"/>
              <a:chExt cx="3344040" cy="465120"/>
            </a:xfrm>
          </p:grpSpPr>
          <p:sp>
            <p:nvSpPr>
              <p:cNvPr id="56" name=""/>
              <p:cNvSpPr/>
              <p:nvPr/>
            </p:nvSpPr>
            <p:spPr>
              <a:xfrm flipH="1" rot="10800000">
                <a:off x="1993680" y="63360"/>
                <a:ext cx="3341880" cy="46512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994760" y="63360"/>
                <a:ext cx="1671480" cy="4651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94760" y="63360"/>
                <a:ext cx="3343320" cy="457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664800" y="63360"/>
                <a:ext cx="1672920" cy="4651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1706400" y="345240"/>
              <a:ext cx="3898440" cy="65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49360" y="517320"/>
            <a:ext cx="6216480" cy="1522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549000" y="0"/>
            <a:ext cx="1523880" cy="604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2498760" y="0"/>
            <a:ext cx="2317680" cy="604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5241600" y="0"/>
            <a:ext cx="1523880" cy="604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fld id="{2AB71EB0-C5E5-41B8-9704-42ADEAC9B1EA}" type="slidenum"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bb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Key 3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47520" rIns="47520" tIns="23760" bIns="23760" anchor="t">
            <a:normAutofit fontScale="31000"/>
          </a:bodyPr>
          <a:p>
            <a:pPr marL="54360" indent="-5436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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Near term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118440" indent="-45720">
              <a:spcBef>
                <a:spcPts val="349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Isolate key decisions and issues that need immediate or near-term resolution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54360" indent="-5436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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Long term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118440" indent="-45720">
              <a:spcBef>
                <a:spcPts val="349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Isolate issues needing long-term resolution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lvl="1" marL="118440" indent="-45720">
              <a:spcBef>
                <a:spcPts val="349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State consequences of decision postponement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54360" indent="-5436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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If you are seeking funding, state specific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003560" y="54000"/>
            <a:ext cx="2995560" cy="500040"/>
          </a:xfrm>
          <a:prstGeom prst="wedgeRoundRectCallout">
            <a:avLst>
              <a:gd name="adj1" fmla="val -73273"/>
              <a:gd name="adj2" fmla="val 9898"/>
              <a:gd name="adj3" fmla="val 16667"/>
            </a:avLst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 algn="ctr"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age Setup: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lide size for: Banner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(FFC252FFCSD_PageSetup0010)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9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algn="ctr"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Key 5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31000"/>
          </a:bodyPr>
          <a:p>
            <a:pPr marL="54360" indent="-54360">
              <a:spcBef>
                <a:spcPts val="400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ar term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118440" indent="-4572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olate key decisions and issues that need immediate or near-term resolution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54360" indent="-54360">
              <a:spcBef>
                <a:spcPts val="400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ng term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118440" indent="-4572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olate issues needing long-term resolution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lvl="1" marL="118440" indent="-4572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ate consequences of decision postponement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54360" indent="-54360">
              <a:spcBef>
                <a:spcPts val="400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you are seeking funding, state specific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