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77738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13480"/>
            <a:ext cx="77738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7758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134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38134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25030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520" y="1775880"/>
            <a:ext cx="25030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880" y="1775880"/>
            <a:ext cx="25030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13480"/>
            <a:ext cx="25030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520" y="3813480"/>
            <a:ext cx="25030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880" y="3813480"/>
            <a:ext cx="25030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75880"/>
            <a:ext cx="777384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d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77738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37933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775880"/>
            <a:ext cx="37933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3720" y="871560"/>
            <a:ext cx="824364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d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775880"/>
            <a:ext cx="37933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134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37933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7758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38134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758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775880"/>
            <a:ext cx="37933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3480"/>
            <a:ext cx="77738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123840"/>
            <a:ext cx="144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3720" y="871560"/>
            <a:ext cx="8243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5880"/>
            <a:ext cx="77738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223920">
              <a:spcBef>
                <a:spcPts val="1049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11160" indent="-228600">
              <a:spcBef>
                <a:spcPts val="1049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dfff66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xxxxxx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228600" y="1066680"/>
          <a:ext cx="4876920" cy="558648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914400"/>
              </a:tblGrid>
              <a:tr h="182880"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684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/5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cc99"/>
                        </a:gs>
                      </a:gsLst>
                      <a:lin ang="5400000"/>
                    </a:gra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xxxxxxxxxxxx</a:t>
                      </a:r>
                      <a:endParaRPr b="0" lang="en-US" sz="12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3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82440" rIns="82440" tIns="914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440" rIns="8244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82080" rIns="82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9080"/>
                          <a:tab algn="l" pos="1838160"/>
                          <a:tab algn="l" pos="2757600"/>
                          <a:tab algn="l" pos="3676680"/>
                          <a:tab algn="l" pos="4595760"/>
                          <a:tab algn="l" pos="5514840"/>
                          <a:tab algn="l" pos="6434280"/>
                          <a:tab algn="l" pos="7353360"/>
                          <a:tab algn="l" pos="8272440"/>
                          <a:tab algn="l" pos="9191520"/>
                          <a:tab algn="l" pos="10110960"/>
                        </a:tabLst>
                      </a:pPr>
                      <a:endParaRPr b="0" lang="en-US" sz="2800" spc="-1" strike="noStrike">
                        <a:solidFill>
                          <a:srgbClr val="ccccff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jing</cp:lastModifiedBy>
  <dcterms:modified xsi:type="dcterms:W3CDTF">2012-05-29T05:36:18Z</dcterms:modified>
  <cp:revision>15</cp:revision>
  <dc:subject/>
  <dc:title>Hannover  Management Kickoff  </dc:title>
</cp:coreProperties>
</file>