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D6A-D50A-4FF7-8512-FC2B3C84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A43-DEE2-482A-8F81-2EF62DD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0C2-C2F5-4A4A-ADAA-4AE6BB63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424-C01C-4D3B-9C67-E153B60C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F451-1F2B-46B5-9E9E-A7413B2B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74B6-98FE-41F9-B57B-12079D08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CBBB-41FA-495A-9587-2911F042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4F13-5226-45F7-B026-6A8236C0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D4D-2E99-4CD2-809B-77B51535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EE8-DA48-4007-96B3-032A391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1098-B157-400B-897D-C83EC7DE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ED4-53E5-4754-9C43-CBBB9D4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4317-C549-4772-B8F1-92BD592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8562-7365-48E0-8DD8-1D831D8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01E-95F5-4C41-983B-D7034293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0360-35F9-4655-847D-F93AD7B7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D64F-5069-41A5-8533-537DE7B1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460-0D33-41B5-804A-CEC23147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F8D-5272-46DE-AE89-BD35BF1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983-82AD-4C42-853B-410F130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145-FD19-4B2A-B2D9-331C59CA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6D7-263F-4474-970D-AB5CDF2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AF5-E352-4D60-B0A5-E6D0FC2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95D-95FF-4A87-ACF1-4EEA655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A3C-BDE7-48F1-B0B3-B478D1714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048-D0BE-4619-8247-1A431E9DDA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038480"/>
                <a:ext cx="2441520" cy="248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9:52:48Z</dcterms:created>
  <dc:creator>Conrad</dc:creator>
  <dc:description/>
  <dc:language>en-US</dc:language>
  <cp:lastModifiedBy>Farzad Ghanei</cp:lastModifiedBy>
  <dcterms:modified xsi:type="dcterms:W3CDTF">2006-07-27T11:19:42Z</dcterms:modified>
  <cp:revision>41</cp:revision>
  <dc:subject/>
  <dc:title>مدیریت شبکه‌های رایانه‌ای بهم‌پیوست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