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AEA-5330-4AE9-8FF3-2D8FCA53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51E-5783-433A-82A3-B1A77D84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0AA-AF3A-4560-B45B-882C583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FD3-75C9-47EC-AAC6-68039915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525-80C5-4EDB-BBC5-57448DE2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C5C-AA1F-45DF-8EA0-4EA7442F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97C-4E0E-4926-A6C5-D9F1E6C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8F9-B467-4F69-91C8-CE0BA8D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F26-7DC8-46C3-A005-69FB742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C5E-9547-47E3-A696-9FCC821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45E-60D5-465D-929B-CDAC8A2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03D-8ED0-4CBA-852A-096DA1D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F11-D037-4DDE-8CD1-0596E0F65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lg"/>
            <a:tailEnd len="sm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9907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9810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7432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sm"/>
            <a:tail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5053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med"/>
            <a:tailEnd len="sm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91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47242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med"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diamond" w="lg"/>
            <a:tailEnd len="sm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7150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62485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diamond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jiany</cp:lastModifiedBy>
  <dcterms:modified xsi:type="dcterms:W3CDTF">2012-07-11T01:52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