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9EFFC-906F-4712-B378-F049C36CC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1AFE2-B8AB-4136-8C2E-CE317DED81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E0638-41BD-4C59-80A3-68C4AE6980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178CB-5379-4F5B-97C3-62C08CB7DF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F3552-DFA2-4511-8B44-C37DED5451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5D42F-8BBE-4033-AE15-3D3EE57C38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3C1CE-726B-4E65-AAC7-D32AACB870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D5BAB-5705-43DC-9175-44B158F699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91A74-D3C1-4022-9A1F-EAC0C63708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801FA-0C13-4264-B240-7221447858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CA49E-32E0-45F3-9A21-B8D40AA697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2DA98-2DD9-4F7C-9ED3-2A5048F04D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1014A-DC67-45BF-9728-217E3A54E8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07A17-566A-4F1B-BDBC-1397D27438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33B3F-2481-425D-B786-D0A93ACE45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6A2DE-AF6D-4A92-9CC1-C822794E15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CB570-1A15-40E4-879C-E3166EB15B6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E95C58-83F7-4BD6-99F5-A3893D54D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C5139D-C3D9-4B0F-8526-9070C49C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662250-6AED-4E35-A9D3-44FD52E7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4F8CE8-676E-45F8-B869-26D1A032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8F9133-81BF-4324-96CD-63D14DA3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1F6D4-2154-415F-9C8C-4AEF7CDDD1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54F0A8-E64C-4CDC-B7AB-203C8C94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F14621-7F92-4CA5-A852-F728CFC9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771E29-5AB2-4F5A-A94A-92D74E35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05C5DF-1684-4AB8-93A3-98413037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72DF02-7E6C-4345-9D62-6AC0FBA9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CD2117-3623-4D60-8DB7-084952D9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0763BB-9B20-4BBE-8BCE-F645A7F6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074F3-84A7-482F-B17A-2776BB1445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F32D9-D979-4AF0-93F5-11C7A534B4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243B3-7B84-478B-A840-88DBE40492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99B67-1D26-4B6E-A430-8594810927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757D8-53B3-499B-81ED-2E02FB0DAE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DDA89-B20F-47DD-9103-93D25680C8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0D7F-3E46-4B1F-883A-FF6A3B4B43EA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574640"/>
            <a:ext cx="70992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5853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156520" y="2962440"/>
            <a:ext cx="1749600" cy="745920"/>
            <a:chOff x="8156520" y="2962440"/>
            <a:chExt cx="1749600" cy="7459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8437680" y="324000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156520" y="2962440"/>
              <a:ext cx="174960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21600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6B7F-64FC-4BBA-AE4D-C89116C84390}" type="slidenum">
              <a:rPr b="0" lang="en-GB" sz="8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8BFE-37AF-4AA3-AA86-17FB5B969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552760" y="1468440"/>
            <a:ext cx="4371840" cy="1303200"/>
          </a:xfrm>
          <a:prstGeom prst="rect">
            <a:avLst/>
          </a:prstGeom>
        </p:spPr>
        <p:txBody>
          <a:bodyPr wrap="none" lIns="90360" rIns="90360" tIns="44280" bIns="4428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ord Art inserte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421080" y="4181400"/>
            <a:ext cx="2867040" cy="779400"/>
          </a:xfrm>
          <a:prstGeom prst="rect">
            <a:avLst/>
          </a:prstGeom>
        </p:spPr>
        <p:txBody>
          <a:bodyPr wrap="none" fromWordArt="1" lIns="90360" rIns="90360" tIns="44280" bIns="4428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 slide o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31T08:47:52Z</dcterms:created>
  <dc:creator>nandita</dc:creator>
  <dc:description/>
  <cp:keywords/>
  <dc:language>en-US</dc:language>
  <cp:lastModifiedBy>nandita</cp:lastModifiedBy>
  <cp:lastPrinted>1998-09-04T08:04:32Z</cp:lastPrinted>
  <dcterms:modified xsi:type="dcterms:W3CDTF">2009-12-31T09:56:24Z</dcterms:modified>
  <cp:revision>3</cp:revision>
  <dc:subject/>
  <dc:title>Slide 1</dc:title>
</cp:coreProperties>
</file>