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75948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115920"/>
            <a:ext cx="777240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480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2120" y="375948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480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9012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7760" y="141264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212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9012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7760" y="3759480"/>
            <a:ext cx="2502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115920"/>
            <a:ext cx="777240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375948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412640"/>
            <a:ext cx="3792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759480"/>
            <a:ext cx="7772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5985000"/>
            <a:ext cx="108108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112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6720" y="5985000"/>
            <a:ext cx="1081080" cy="777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72040" cy="59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412640"/>
            <a:ext cx="77724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law of armed conflic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tatus of individual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rules of comb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e of weapons and ammuni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ounded, sick, medical personnel and Chaplai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isoners of Wa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amples / discuss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8:13:56Z</dcterms:created>
  <dc:creator>Matthew Trump</dc:creator>
  <dc:description/>
  <dc:language>en-US</dc:language>
  <cp:lastModifiedBy>Matthew Trump</cp:lastModifiedBy>
  <dcterms:modified xsi:type="dcterms:W3CDTF">2005-03-30T18:33:57Z</dcterms:modified>
  <cp:revision>84</cp:revision>
  <dc:subject/>
  <dc:title>42 Signal Sqn (V) recruiting campaign</dc:title>
</cp:coreProperties>
</file>