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BA4-DB6B-44B9-9A2E-5605F9D5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64B-F6FD-4433-A2E8-ECB9EAAE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1A4-8C1F-4C02-8310-173424CE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A33-ACFC-4BED-BEAD-4F06F707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515-61F2-4DAB-9E13-BEA586CB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BA4-639A-401E-B41D-17827AD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0C4-E389-4E5A-B873-F4C3DC7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7A3-4D11-4286-8402-A11F541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203-63E4-4E05-9C87-10C4FCCB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5E7-1923-4989-B192-0BA2F93A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F9A-6FD8-496D-B44A-EB59CD4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704-996C-420B-90B0-A838ADA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546BE2D-143D-488B-8D99-B0A821DE0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63920" y="3403440"/>
          <a:ext cx="325116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3920" y="340344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Mark Robles</dc:creator>
  <dc:description/>
  <dc:language>en-US</dc:language>
  <cp:lastModifiedBy>Ian Mark Robles</cp:lastModifiedBy>
  <cp:revision>0</cp:revision>
  <dc:subject/>
  <dc:title/>
</cp:coreProperties>
</file>