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2960" y="744120"/>
            <a:ext cx="4960800" cy="37213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rebuchet MS"/>
              </a:rPr>
              <a:t>Click to move the slide</a:t>
            </a:r>
            <a:endParaRPr b="1" lang="en-US" sz="20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942660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4480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6C94-1A90-4F6A-8372-A8F145F4D8E3}" type="slidenum">
              <a:rPr b="0" lang="de-DE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4480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E5D1-A127-4FFC-A656-D778FCF6A4F2}" type="slidenum"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4480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F53F-BD9B-475A-8646-1799508C66AB}" type="slidenum"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4480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47E3-A720-4C69-A8FE-525F71F9C4A6}" type="slidenum"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1a1a1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71294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5761800"/>
            <a:ext cx="71294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576180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32560" y="576180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89840" y="508428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00400" y="508428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576180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589840" y="576180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000400" y="576180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9280" y="5084280"/>
            <a:ext cx="7129440" cy="1297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71294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9280" y="4149720"/>
            <a:ext cx="7129440" cy="367272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9280" y="576180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5084280"/>
            <a:ext cx="7129440" cy="1297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32560" y="576180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5761800"/>
            <a:ext cx="71294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71294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9280" y="5761800"/>
            <a:ext cx="71294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576180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32560" y="576180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89840" y="508428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00400" y="508428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9280" y="576180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589840" y="576180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000400" y="5761800"/>
            <a:ext cx="229536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71294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9280" y="4149720"/>
            <a:ext cx="7129440" cy="367272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576180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32560" y="576180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32560" y="5084280"/>
            <a:ext cx="34790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5761800"/>
            <a:ext cx="7129440" cy="6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rebuchet MS"/>
              </a:rPr>
              <a:t>Click to edit the title text format</a:t>
            </a:r>
            <a:endParaRPr b="1" lang="en-US" sz="20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844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Bef>
                <a:spcPts val="451"/>
              </a:spcBef>
              <a:buClr>
                <a:srgbClr val="cc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28560" indent="-171360">
              <a:spcBef>
                <a:spcPts val="451"/>
              </a:spcBef>
              <a:buClr>
                <a:srgbClr val="cc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987480" indent="-158760">
              <a:spcBef>
                <a:spcPts val="451"/>
              </a:spcBef>
              <a:buClr>
                <a:srgbClr val="cc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339920" indent="-155520">
              <a:spcBef>
                <a:spcPts val="451"/>
              </a:spcBef>
              <a:buClr>
                <a:srgbClr val="cc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706400" indent="-177480">
              <a:spcBef>
                <a:spcPts val="451"/>
              </a:spcBef>
              <a:buClr>
                <a:srgbClr val="cc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706400" indent="-17748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706400" indent="-17748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9280" y="659736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a7a7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95CD-CB4F-4C37-A944-5996C5609E48}" type="slidenum">
              <a:rPr b="0" lang="en-US" sz="800" spc="-1" strike="noStrike">
                <a:solidFill>
                  <a:srgbClr val="7a7a7a"/>
                </a:solidFill>
                <a:latin typeface="Trebuchet MS"/>
              </a:rPr>
              <a:t>&lt;number&gt;</a:t>
            </a:fld>
            <a:r>
              <a:rPr b="0" lang="en-US" sz="800" spc="-1" strike="noStrike">
                <a:solidFill>
                  <a:srgbClr val="7a7a7a"/>
                </a:solidFill>
                <a:latin typeface="Trebuchet MS"/>
              </a:rPr>
              <a:t> | BVW 14.Juli 2006 | TDS intern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"/>
          <p:cNvSpPr/>
          <p:nvPr/>
        </p:nvSpPr>
        <p:spPr>
          <a:xfrm>
            <a:off x="6804000" y="189000"/>
            <a:ext cx="1584360" cy="647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"/>
          <p:cNvSpPr/>
          <p:nvPr/>
        </p:nvSpPr>
        <p:spPr>
          <a:xfrm>
            <a:off x="8388360" y="189000"/>
            <a:ext cx="576360" cy="647640"/>
          </a:xfrm>
          <a:prstGeom prst="rect">
            <a:avLst/>
          </a:prstGeom>
          <a:solidFill>
            <a:srgbClr val="005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16800" y="6532560"/>
            <a:ext cx="619200" cy="244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187200"/>
            <a:ext cx="6626160" cy="64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994520" y="120600"/>
            <a:ext cx="1101960" cy="434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08720" y="4149720"/>
            <a:ext cx="1656000" cy="792000"/>
          </a:xfrm>
          <a:prstGeom prst="rect">
            <a:avLst/>
          </a:prstGeom>
          <a:solidFill>
            <a:srgbClr val="005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4149720"/>
            <a:ext cx="7129440" cy="792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783640" cy="3313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  <a:p>
            <a:pPr lvl="1" marL="144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505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505050"/>
              </a:solidFill>
              <a:latin typeface="Trebuchet MS"/>
            </a:endParaRPr>
          </a:p>
          <a:p>
            <a:pPr lvl="2" marL="3240">
              <a:spcBef>
                <a:spcPts val="400"/>
              </a:spcBef>
              <a:buClr>
                <a:srgbClr val="cc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505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505050"/>
              </a:solidFill>
              <a:latin typeface="Trebuchet MS"/>
            </a:endParaRPr>
          </a:p>
          <a:p>
            <a:pPr lvl="3" marL="4680">
              <a:spcBef>
                <a:spcPts val="400"/>
              </a:spcBef>
              <a:buClr>
                <a:srgbClr val="cc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505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505050"/>
              </a:solidFill>
              <a:latin typeface="Trebuchet MS"/>
            </a:endParaRPr>
          </a:p>
          <a:p>
            <a:pPr lvl="4" marL="6480">
              <a:spcBef>
                <a:spcPts val="400"/>
              </a:spcBef>
              <a:buClr>
                <a:srgbClr val="cc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505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505050"/>
              </a:solidFill>
              <a:latin typeface="Trebuchet MS"/>
            </a:endParaRPr>
          </a:p>
          <a:p>
            <a:pPr lvl="5" marL="648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505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505050"/>
              </a:solidFill>
              <a:latin typeface="Trebuchet MS"/>
            </a:endParaRPr>
          </a:p>
          <a:p>
            <a:pPr lvl="6" marL="648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505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50505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e.wikipedia.org/wiki/Name#_note-Das_Wesen_des_Namens" TargetMode="External"/><Relationship Id="rId2" Type="http://schemas.openxmlformats.org/officeDocument/2006/relationships/hyperlink" Target="http://de.wikipedia.org/wiki/Information" TargetMode="External"/><Relationship Id="rId3" Type="http://schemas.openxmlformats.org/officeDocument/2006/relationships/hyperlink" Target="http://de.wikipedia.org/wiki/Identifikation" TargetMode="External"/><Relationship Id="rId4" Type="http://schemas.openxmlformats.org/officeDocument/2006/relationships/hyperlink" Target="http://de.wikipedia.org/wiki/Name#_note-Das_Wesen_des_Namens" TargetMode="External"/><Relationship Id="rId5" Type="http://schemas.openxmlformats.org/officeDocument/2006/relationships/hyperlink" Target="http://de.wikipedia.org/wiki/Information" TargetMode="External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Trebuchet MS"/>
              </a:rPr>
              <a:t>Operationen</a:t>
            </a:r>
            <a:endParaRPr b="1" lang="en-US" sz="20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1844640"/>
            <a:ext cx="878544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Name1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(&lt;name&gt;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884160" indent="-3427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Name2 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(&lt;name&gt;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Name3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(&lt;name&gt;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Name4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(&lt;name&gt;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Name5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(&lt;name&gt;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Name6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Name7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(&lt;name&gt;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Name8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(&lt;name&gt;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61800" indent="-3618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[TDS Klassifizierung oder sonstige Angaben]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rebuchet MS"/>
              </a:rPr>
              <a:t>Namen</a:t>
            </a:r>
            <a:endParaRPr b="1" lang="en-US" sz="20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844640"/>
            <a:ext cx="878544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Name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sind, nach der aktuellen wissenschaftlichen Forschung, ein Zugriffsindex auf eine Informationsmenge über ein Individuum.</a:t>
            </a:r>
            <a:r>
              <a:rPr b="0" lang="en-US" sz="1800" spc="-1" strike="noStrike" u="sng">
                <a:solidFill>
                  <a:srgbClr val="505050"/>
                </a:solidFill>
                <a:uFillTx/>
                <a:latin typeface="Trebuchet MS"/>
                <a:hlinkClick r:id="rId1"/>
              </a:rPr>
              <a:t>[1]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 Sie sind somit einer Person, einem Gegenstand, einer organisatorischen Einheit (z.B. einem Betrieb) oder Begriff zugeordnete </a:t>
            </a:r>
            <a:r>
              <a:rPr b="0" lang="en-US" sz="1800" spc="-1" strike="noStrike" u="sng">
                <a:solidFill>
                  <a:srgbClr val="505050"/>
                </a:solidFill>
                <a:uFillTx/>
                <a:latin typeface="Trebuchet MS"/>
                <a:hlinkClick r:id="rId2"/>
              </a:rPr>
              <a:t>Information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, die etwas von etwas anderem unterscheiden sollen (Funktion der </a:t>
            </a:r>
            <a:r>
              <a:rPr b="0" lang="en-US" sz="1800" spc="-1" strike="noStrike" u="sng">
                <a:solidFill>
                  <a:srgbClr val="505050"/>
                </a:solidFill>
                <a:uFillTx/>
                <a:latin typeface="Trebuchet MS"/>
                <a:hlinkClick r:id="rId3"/>
              </a:rPr>
              <a:t>Identifik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, Namensklarheit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61800" indent="-3618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Name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sind, nach der aktuellen wissenschaftlichen Forschung, ein Zugriffsindex auf eine Informationsmenge über ein Individuum.</a:t>
            </a:r>
            <a:r>
              <a:rPr b="0" lang="en-US" sz="1800" spc="-1" strike="noStrike" u="sng">
                <a:solidFill>
                  <a:srgbClr val="505050"/>
                </a:solidFill>
                <a:uFillTx/>
                <a:latin typeface="Trebuchet MS"/>
                <a:hlinkClick r:id="rId4"/>
              </a:rPr>
              <a:t>[1]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 Sie sind somit einer Person, einem Gegenstand, einer organisatorischen Einheit (z.B. einem Betrieb) oder Begriff zugeordnete </a:t>
            </a:r>
            <a:r>
              <a:rPr b="0" lang="en-US" sz="1800" spc="-1" strike="noStrike" u="sng">
                <a:solidFill>
                  <a:srgbClr val="505050"/>
                </a:solidFill>
                <a:uFillTx/>
                <a:latin typeface="Trebuchet MS"/>
                <a:hlinkClick r:id="rId5"/>
              </a:rPr>
              <a:t>Information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, die etwas von etwas anderem unterscheiden sollen (Funktion der Identifikation, Namensklarheit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61800" indent="-3618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Name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sind, nach der aktuellen wissenschaftlichen Forschung, ein Zugriffsindex auf eine Informationsmenge über ein Individuum.[1] Sie sind somit einer Person, einem Gegenstand, einer organisatorischen Einheit (z.B. einem Betrieb) oder Begriff zugeordnete Informationen, die etwas von etwas anderem unterscheiden sollen (Funktion der Identifikation, Namensklarheit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[TDS Klassifizierung oder sonstige Angaben]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18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rebuchet MS"/>
              </a:rPr>
              <a:t>Beispiel</a:t>
            </a:r>
            <a:endParaRPr b="1" lang="en-US" sz="2000" spc="-1" strike="noStrike">
              <a:solidFill>
                <a:srgbClr val="cc0000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415800" y="198900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Theater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1928880" y="1989000"/>
            <a:ext cx="86364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Beispiel1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Beispiel2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"/>
          <p:cNvSpPr/>
          <p:nvPr/>
        </p:nvSpPr>
        <p:spPr>
          <a:xfrm>
            <a:off x="3327480" y="1989000"/>
            <a:ext cx="1079280" cy="40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7094880" y="1989000"/>
            <a:ext cx="35460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5137200" y="1989000"/>
            <a:ext cx="1225440" cy="40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133720"/>
            <a:ext cx="79236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2133720"/>
            <a:ext cx="720720" cy="57456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2133720"/>
            <a:ext cx="79200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2133720"/>
            <a:ext cx="792000" cy="21564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2133720"/>
            <a:ext cx="792000" cy="43164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"/>
          <p:cNvSpPr/>
          <p:nvPr/>
        </p:nvSpPr>
        <p:spPr>
          <a:xfrm>
            <a:off x="2556000" y="2781360"/>
            <a:ext cx="79200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2781360"/>
            <a:ext cx="792000" cy="43164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2781360"/>
            <a:ext cx="792000" cy="86364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781360"/>
            <a:ext cx="792000" cy="129528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/>
          <p:nvPr/>
        </p:nvSpPr>
        <p:spPr>
          <a:xfrm>
            <a:off x="2556000" y="2781360"/>
            <a:ext cx="792000" cy="172728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2781360"/>
            <a:ext cx="792000" cy="216036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2781360"/>
            <a:ext cx="792000" cy="266364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"/>
          <p:cNvSpPr/>
          <p:nvPr/>
        </p:nvSpPr>
        <p:spPr>
          <a:xfrm>
            <a:off x="2556000" y="2781360"/>
            <a:ext cx="792000" cy="302400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"/>
          <p:cNvSpPr/>
          <p:nvPr/>
        </p:nvSpPr>
        <p:spPr>
          <a:xfrm>
            <a:off x="3995640" y="2133720"/>
            <a:ext cx="309744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2349360"/>
            <a:ext cx="309744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2565360"/>
            <a:ext cx="309744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2781360"/>
            <a:ext cx="93672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3213000"/>
            <a:ext cx="108108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3645000"/>
            <a:ext cx="93672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4076640"/>
            <a:ext cx="122400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4508640"/>
            <a:ext cx="93672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5013360"/>
            <a:ext cx="86364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5373720"/>
            <a:ext cx="122400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5877000"/>
            <a:ext cx="107928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781360"/>
            <a:ext cx="129708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2781360"/>
            <a:ext cx="1297080" cy="21600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213000"/>
            <a:ext cx="122580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3213000"/>
            <a:ext cx="1225800" cy="21600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645000"/>
            <a:ext cx="122580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3645000"/>
            <a:ext cx="1225800" cy="21564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4076640"/>
            <a:ext cx="129708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4076640"/>
            <a:ext cx="1297080" cy="21600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4508640"/>
            <a:ext cx="108108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508640"/>
            <a:ext cx="1081080" cy="21564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"/>
          <p:cNvSpPr/>
          <p:nvPr/>
        </p:nvSpPr>
        <p:spPr>
          <a:xfrm>
            <a:off x="6084720" y="4941720"/>
            <a:ext cx="107964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941720"/>
            <a:ext cx="1008360" cy="21600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796000" y="5373720"/>
            <a:ext cx="1297080" cy="7128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5445000"/>
            <a:ext cx="1297080" cy="14472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5805360"/>
            <a:ext cx="1152720" cy="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"/>
          <p:cNvSpPr/>
          <p:nvPr/>
        </p:nvSpPr>
        <p:spPr>
          <a:xfrm>
            <a:off x="5940360" y="5805360"/>
            <a:ext cx="1152720" cy="21600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5805360"/>
            <a:ext cx="1152720" cy="503280"/>
          </a:xfrm>
          <a:prstGeom prst="line">
            <a:avLst/>
          </a:prstGeom>
          <a:ln w="6480">
            <a:solidFill>
              <a:srgbClr val="7a7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[TDS Klassifizierung oder sonstige Angaben]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4149720"/>
            <a:ext cx="7129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Vielen Dank.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79280" y="5084280"/>
            <a:ext cx="7129440" cy="1297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f5f5f"/>
                </a:solidFill>
                <a:latin typeface="Trebuchet MS"/>
              </a:rPr>
              <a:t>Copyright by</a:t>
            </a:r>
            <a:endParaRPr b="0" lang="en-US" sz="1800" spc="-1" strike="noStrike">
              <a:solidFill>
                <a:srgbClr val="5f5f5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3:03:58Z</dcterms:created>
  <dc:creator/>
  <dc:description>Optimiert für PowerPoint 2003</dc:description>
  <dc:language>en-US</dc:language>
  <cp:lastModifiedBy>MFranz</cp:lastModifiedBy>
  <dcterms:modified xsi:type="dcterms:W3CDTF">2007-09-11T08:26:27Z</dcterms:modified>
  <cp:revision>48</cp:revision>
  <dc:subject>[Thema der Präsentation]</dc:subject>
  <dc:title/>
</cp:coreProperties>
</file>