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commentAuthors.xml><?xml version="1.0" encoding="utf-8"?>
<p:cmAuthorLst xmlns:p="http://schemas.openxmlformats.org/presentationml/2006/main">
  <p:cmAuthor id="0" name="" initials="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2-21T08:52:42.000000000" idx="1">
    <p:pos x="0" y="0"/>
    <p:text>This is a tes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7592-AA37-4280-95D0-BD2B03DBB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A501-BE2C-4188-8DAA-0D4A4F3EF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5D63-C0CF-478F-86FA-EA7E6E8B7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FFAD-7263-498E-9EC6-9E93B3CE3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430F-0834-479A-8239-D41163996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CD90-21EF-47F3-ABFD-6AAB85D79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9B8B-08DE-485A-9BFF-053657946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CFB1-1701-4B5B-86A8-7003EECDE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C714-EB2D-4F12-A938-550D457C3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D79E-1CFF-47E1-8CEA-655220E7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F229-45A9-4625-AE16-B0F84A46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CABE-A129-4E60-BA67-F911C2A8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527176-E590-4FF6-A187-C5A9A170879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1T00:52:24Z</dcterms:created>
  <dc:creator/>
  <dc:description/>
  <dc:language>en-US</dc:language>
  <cp:lastModifiedBy/>
  <dcterms:modified xsi:type="dcterms:W3CDTF">2015-02-21T00:52:49Z</dcterms:modified>
  <cp:revision>1</cp:revision>
  <dc:subject/>
  <dc:title/>
</cp:coreProperties>
</file>