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4B8-55E5-4866-A3F3-908CAEA7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E713-D930-4E08-ABA8-C98BFAA2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EB3-430E-4456-BD15-493CFB6F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5BEF-38C1-4654-BD60-0971A8D1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1C8-00A4-4E28-9FD4-E3732FDC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D19-CCE3-4D41-93B3-79DA88EB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51D-D94C-47CD-9B6C-5A85EFB4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533-E624-41D6-922F-9D67727F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809-B991-4227-A0C1-6279F412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005-0518-4CDC-AEC9-22C4CFBA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6BA-53B5-4947-87DD-D773AE76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74B-C421-43F2-86DA-606A86CC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D5E2-1CA7-44FD-A891-04D9E287E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5036040" y="1380240"/>
            <a:ext cx="1551240" cy="25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ＭＳ Ｐ明朝"/>
              </a:rPr>
              <a:t>コンピューター</a:t>
            </a:r>
            <a:endParaRPr b="0" lang="en-US" sz="2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82960" y="476280"/>
            <a:ext cx="1552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ＭＳ Ｐ明朝"/>
              </a:rPr>
              <a:t>コンピューター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ＭＳ Ｐ明朝"/>
              <a:ea typeface="ＭＳ Ｐ明朝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797440" y="3068640"/>
            <a:ext cx="28083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ＭＳ Ｐ明朝"/>
              </a:rPr>
              <a:t>「今日は、いい天気です。」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ＭＳ Ｐ明朝"/>
              <a:ea typeface="ＭＳ Ｐ明朝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3800880" y="4704480"/>
            <a:ext cx="2808360" cy="257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ＭＳ Ｐ明朝"/>
              </a:rPr>
              <a:t>「今日は、いい天気です。」</a:t>
            </a:r>
            <a:endParaRPr b="0" lang="en-US" sz="2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  <p:sp>
        <p:nvSpPr>
          <p:cNvPr id="45" name=""/>
          <p:cNvSpPr/>
          <p:nvPr/>
        </p:nvSpPr>
        <p:spPr>
          <a:xfrm>
            <a:off x="4890960" y="733320"/>
            <a:ext cx="760680" cy="82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5200" y="981000"/>
            <a:ext cx="484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ese glyphs differ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e vertical one is not rendered by ro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It is rendered with a vertical substitution gly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509800" y="3357720"/>
            <a:ext cx="11509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7240" y="37893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No r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436720" y="3429000"/>
            <a:ext cx="302436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8320" y="4653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No r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659640" y="333360"/>
            <a:ext cx="158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ＭＳ Ｐ明朝"/>
              </a:rPr>
              <a:t>ー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ＭＳ Ｐ明朝"/>
              <a:ea typeface="ＭＳ Ｐ明朝"/>
            </a:endParaRPr>
          </a:p>
        </p:txBody>
      </p:sp>
      <p:sp>
        <p:nvSpPr>
          <p:cNvPr id="52" name=""/>
          <p:cNvSpPr txBox="1"/>
          <p:nvPr/>
        </p:nvSpPr>
        <p:spPr>
          <a:xfrm rot="5400000">
            <a:off x="6445800" y="1772280"/>
            <a:ext cx="1551240" cy="25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ＭＳ Ｐ明朝"/>
              </a:rPr>
              <a:t>ー</a:t>
            </a:r>
            <a:endParaRPr b="0" lang="en-US" sz="2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  <p:sp>
        <p:nvSpPr>
          <p:cNvPr id="53" name=""/>
          <p:cNvSpPr/>
          <p:nvPr/>
        </p:nvSpPr>
        <p:spPr>
          <a:xfrm>
            <a:off x="5940360" y="1700280"/>
            <a:ext cx="1152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54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7280" y="2610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コンピュータ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86840" y="2681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ｺﾝﾋﾟｭｰﾀ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59760" y="2633400"/>
            <a:ext cx="45468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コンピュータ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76120" y="2990520"/>
            <a:ext cx="45468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ｺﾝﾋﾟｭｰﾀ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85840" y="4003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25320" y="5424840"/>
            <a:ext cx="45468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「今日は、いい天気です。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57800" y="450864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「今日は、いい天気です。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276640"/>
            <a:ext cx="4392360" cy="44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5800" y="2276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Text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7080" y="1890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ord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89000"/>
            <a:ext cx="8640720" cy="6553080"/>
          </a:xfrm>
          <a:custGeom>
            <a:avLst/>
            <a:gdLst/>
            <a:ahLst/>
            <a:rect l="l" t="t" r="r" b="b"/>
            <a:pathLst>
              <a:path w="5443" h="4128">
                <a:moveTo>
                  <a:pt x="0" y="0"/>
                </a:moveTo>
                <a:lnTo>
                  <a:pt x="0" y="1270"/>
                </a:lnTo>
                <a:lnTo>
                  <a:pt x="2857" y="1270"/>
                </a:lnTo>
                <a:lnTo>
                  <a:pt x="2857" y="4128"/>
                </a:lnTo>
                <a:lnTo>
                  <a:pt x="5443" y="4128"/>
                </a:lnTo>
                <a:lnTo>
                  <a:pt x="5443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31417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Half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8520" y="31417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Full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6:06:16Z</dcterms:created>
  <dc:creator>　</dc:creator>
  <dc:description/>
  <dc:language>en-US</dc:language>
  <cp:lastModifiedBy>　</cp:lastModifiedBy>
  <dcterms:modified xsi:type="dcterms:W3CDTF">2009-01-09T19:09:08Z</dcterms:modified>
  <cp:revision>3</cp:revision>
  <dc:subject/>
  <dc:title>スライド 1</dc:title>
</cp:coreProperties>
</file>