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F6B-C49F-4C04-929F-51F7A0B8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0A2-DD7E-4C4C-8EDA-00DDA2E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305-6F35-48A7-8DCB-D7F62FEB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406-8A42-409C-9EB6-1BF88C46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098-AABF-4BFC-9D5C-2E2CD2E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8EE-A312-44D6-9CA6-625AD09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DCF-0789-4C74-8946-9B9FBCF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4BD-4A05-434F-952D-B56CFA7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B3F-0D75-4C31-91C7-330B11CA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8C6-C1E3-4BB3-82E4-6829723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0CB-A62B-4EF6-8D50-4570BF5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B30-94AA-4CE8-8F1C-DF2ADE0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E303-1107-4DA0-AD1E-B0CD29DA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1332000" y="270828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IBM_USER</cp:lastModifiedBy>
  <dcterms:modified xsi:type="dcterms:W3CDTF">2012-06-07T09:29:52Z</dcterms:modified>
  <cp:revision>18</cp:revision>
  <dc:subject/>
  <dc:title>Slide 1</dc:title>
</cp:coreProperties>
</file>