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9C6-4EA8-4DDA-9D1D-4D62BA49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607-61F1-40C4-ADEA-D8D7C4FB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FB2-642B-47B1-B337-55BC936C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22A-95E5-4297-97E0-D62E2E05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6E4-7BB8-42F9-ABF4-AA27945C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8A1-996B-46B6-AECB-3DC7B374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589-D33F-45FF-8B04-E0E35A49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B1C-1539-4096-9BE7-3C7362E3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940-4E71-4D7C-A7BA-1E370914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B1C-6C35-4BE4-B0FE-0A7C6D84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964-313C-4D02-AE92-476D60BF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4E3-79E5-45F8-9C32-31D6E291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D30E-24AA-4BF9-A2D7-93059C1DF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luzhistrad.doc" TargetMode="External"/><Relationship Id="rId2" Type="http://schemas.openxmlformats.org/officeDocument/2006/relationships/hyperlink" Target="file:///luzhistrad.doc" TargetMode="External"/><Relationship Id="rId3" Type="http://schemas.openxmlformats.org/officeDocument/2006/relationships/hyperlink" Target="file:///luzhistrad.doc" TargetMode="External"/><Relationship Id="rId4" Type="http://schemas.openxmlformats.org/officeDocument/2006/relationships/hyperlink" Target="file:///kruzim.doc" TargetMode="External"/><Relationship Id="rId5" Type="http://schemas.openxmlformats.org/officeDocument/2006/relationships/hyperlink" Target="file:///kruzim.doc" TargetMode="External"/><Relationship Id="rId6" Type="http://schemas.openxmlformats.org/officeDocument/2006/relationships/hyperlink" Target="file:///kruzim.doc" TargetMode="External"/><Relationship Id="rId7" Type="http://schemas.openxmlformats.org/officeDocument/2006/relationships/hyperlink" Target="file:///proagainjapan.doc" TargetMode="External"/><Relationship Id="rId8" Type="http://schemas.openxmlformats.org/officeDocument/2006/relationships/hyperlink" Target="file:///proagainjapan.doc" TargetMode="External"/><Relationship Id="rId9" Type="http://schemas.openxmlformats.org/officeDocument/2006/relationships/hyperlink" Target="file:///missradam.doc" TargetMode="External"/><Relationship Id="rId10" Type="http://schemas.openxmlformats.org/officeDocument/2006/relationships/hyperlink" Target="file:///missradam.doc" TargetMode="External"/><Relationship Id="rId11" Type="http://schemas.openxmlformats.org/officeDocument/2006/relationships/hyperlink" Target="file:///atombomb.doc" TargetMode="External"/><Relationship Id="rId12" Type="http://schemas.openxmlformats.org/officeDocument/2006/relationships/hyperlink" Target="file:///atombomb.doc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990000"/>
                </a:solidFill>
                <a:latin typeface="Arial"/>
              </a:rPr>
              <a:t>רדיואקטיביות: נושאים והנחיות לעבוד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47640" y="1200240"/>
            <a:ext cx="7905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היכנס לנספחים הבאים בנושא של פצצת האטום ואסונות גרעיניים. באפשרותך להשתמש בהם כנקודת מוצא לחיפושים באינטרנט לצורך הכנת העבודה.  פירוט הנושאים ושלבי העבודה מופיעים בעמודים הבאי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62080" y="3392640"/>
            <a:ext cx="6953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 (Hebrew)"/>
                <a:hlinkClick r:id="rId1"/>
              </a:rPr>
              <a:t> 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cs typeface="Times New Roman (Hebrew)"/>
                <a:hlinkClick r:id="rId2"/>
              </a:rPr>
              <a:t>לוח זמנים בהיסטוריה הגרעינית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 (Hebrew)"/>
                <a:hlinkClick r:id="rId3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 (Hebrew)"/>
                <a:hlinkClick r:id="rId4"/>
              </a:rPr>
              <a:t> 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cs typeface="Times New Roman (Hebrew)"/>
                <a:hlinkClick r:id="rId5"/>
              </a:rPr>
              <a:t>כרוזים שהוטלו על יפן במלחמת העולם השניה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 (Hebrew)"/>
                <a:hlinkClick r:id="rId6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cs typeface="Times New Roman (Hebrew)"/>
                <a:hlinkClick r:id="rId7"/>
              </a:rPr>
              <a:t>טעונים בעד ונגד הטלת פצצות אטום על יפן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 (Hebrew)"/>
                <a:hlinkClick r:id="rId8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cs typeface="Times New Roman (Hebrew)"/>
                <a:hlinkClick r:id="rId9"/>
              </a:rPr>
              <a:t>תאונות רדיואקטיביות בארה”ב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 (Hebrew)"/>
                <a:hlinkClick r:id="rId10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cs typeface="Times New Roman (Hebrew)"/>
                <a:hlinkClick r:id="rId11"/>
              </a:rPr>
              <a:t>פצצת אטום</a:t>
            </a:r>
            <a:r>
              <a:rPr b="0" lang="he-IL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 (Hebrew)"/>
                <a:hlinkClick r:id="rId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פעילות מסכמ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נושאים אפשריים לעבודה קבוצתי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89080" y="1294920"/>
            <a:ext cx="8169120" cy="46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Arial"/>
              </a:rPr>
              <a:t> אסונות גרעיניי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Arial"/>
              </a:rPr>
              <a:t> מבנה פצצת אטום-התייחסות למסה קריטי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Arial"/>
              </a:rPr>
              <a:t> מבנה פצצת אורניו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Arial"/>
              </a:rPr>
              <a:t> מבנה פצצת פלוטוניו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Arial"/>
              </a:rPr>
              <a:t> פיצוץ באווי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</a:rPr>
              <a:t>תאור שלבי ההרס: גל הדף, גל חום, ענן קרינ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Arial"/>
              </a:rPr>
              <a:t> פיצוץ תת ימ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Arial"/>
              </a:rPr>
              <a:t>תאור שלבי ההרס: גל הדף, עמוד מים, תחום קרינה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הנחייות לביצוע העבודה</a:t>
            </a:r>
            <a:br>
              <a:rPr sz="4400"/>
            </a:b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עבודה קבוצתית</a:t>
            </a: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44880" y="1600200"/>
            <a:ext cx="64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916280"/>
            <a:ext cx="831996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 בחר אירוע, אסון, מתקן, תהליך או כל נושא אחר  </a:t>
            </a:r>
            <a:br>
              <a:rPr sz="2800"/>
            </a:b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  הקשורים לרדיואקטיביו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 כתוב (כ-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עמודים כתובים), הכן מצגת קצרה, פוסטר  </a:t>
            </a:r>
            <a:br>
              <a:rPr sz="2800"/>
            </a:b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  או דגם המציגים את הנושא וכוללים התייחסות אישית  </a:t>
            </a:r>
            <a:br>
              <a:rPr sz="2800"/>
            </a:b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  לאור המידע והכלים שרכשת במהלך לימוד היחידה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4:48:49Z</dcterms:created>
  <dc:creator>Roman &amp; Dorota  Czarkie</dc:creator>
  <dc:description/>
  <dc:language>en-US</dc:language>
  <cp:lastModifiedBy>חווה</cp:lastModifiedBy>
  <dcterms:modified xsi:type="dcterms:W3CDTF">2002-04-23T18:07:00Z</dcterms:modified>
  <cp:revision>11</cp:revision>
  <dc:subject/>
  <dc:title>רדיואקטיביות: נושאים והנחיות לעבודה</dc:title>
</cp:coreProperties>
</file>