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701-6D58-4028-960D-53FDBA4B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3F8-951A-4BDA-9B4C-85EB19FF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5F8-F215-4CE8-AD69-C4E19A33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B0A-F1D5-4DDE-9789-F9624783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9830-E8B8-49DE-B23B-87E03C60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4129-3CC7-48C0-8CFE-E5076ADA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3EAE-E019-4F2B-A1B6-399BAB64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B4F2-CA4E-46C6-9EEC-4410CDE2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0EE8-6979-4FFB-8CDB-4498E9ED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871A-5687-4D09-8F14-DA7393A8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A26C-1108-49A1-8FAF-855326E5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182-E133-4528-8623-D81E80C3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8E73-1EB5-45E9-AE0D-695C0D1D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0CB7-678D-49E9-B0CB-CED3127F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C84F-0FF3-487E-9092-20C5308D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99DE-D532-4F9B-9B6F-921E901F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0552-A486-45AF-8EB8-CBAA86ED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D5B4-4687-4BE0-9C49-3014127A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1868-8E44-4C51-979E-EFA71C95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BF3A-1E88-4DFD-8D66-EDEE2663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E805-C906-412A-BF4D-CD52A501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9101-4CA6-48A2-BA4A-A30AF754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80B-1B99-45BD-BAAD-AE6383D4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A3A1-9330-4A2F-954A-D63368E9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14470-D1DF-414D-A5D3-B2C0AD19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8DC08-830A-4DEF-8E9C-6EF37E93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7E40-1353-4FAA-A827-2E7AC0FD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17C9D-25CF-444D-BCA7-85C7423E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FB7EC-0FBE-410F-A5F6-DCC23B42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EEC72-E8B9-4655-9591-4A6CB4FC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B483-FB45-4E98-8C71-A6EEFA7B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A0273-A125-4D92-996D-A4599EF0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D300A-8E91-4476-9EA9-8D995B8D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3B3-F2C6-4ACF-AEBF-798DC55C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64362-A117-43BE-8E69-0C3F3F2C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2C844-5429-4978-B0F8-56C7980A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27F1-F186-41BA-80ED-88336AC8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3FC5B-E390-4514-ADDF-3D40D779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DBC36-E352-4D1B-A5D4-FF5B62E9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A09CD-A06D-40A4-8744-0A11FC11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B43CE-F80E-4948-BF35-4F2801B2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DD537-954A-4856-A5B1-D3625DB3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B67A2-4544-4FF9-9F39-1886AA75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93D67-E5C1-4FE2-952E-E0CB7B49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98C-016F-4267-8E3C-39A2D3C9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48572-F1F5-4FDA-BCA0-4996F048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AF5C4-E87B-4D29-AA50-1EB73569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406EB-24ED-49C7-B0FD-7410C902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D73CE-EA49-4F2D-936D-2E32AF5E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AC025-F31E-4647-B86A-9093BCA0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917E3-4325-404C-BAE1-CB1FB442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49DB2-8CBF-4F86-9842-54BE7ACA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0D1F1-59C1-4519-AA26-93F4158C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46DE9-3DCA-4A33-8981-566F724C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0D838-39E4-4202-A13C-F8299E2F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DDE-1390-4A54-9139-6394F87B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CD55B-108D-4274-A652-952C19BA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1ED6B-C385-494C-8020-BF321931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0A908-72CB-47FB-B144-3121E39B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BD8A4-A2C1-4FFF-9ABA-AE3D23A3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60F5D-3F32-4361-9912-8008CD8D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F4518-A132-4AA3-983F-67DD7395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A79D5-EEA1-4A71-874F-3DB5FA5C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20B78-A3F8-4163-8584-792F2858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B0C9D-7363-43F8-853B-AC0C9C20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A9EAE-C67C-4674-989C-9132D274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0CE-4696-44A5-B71E-7BDE816A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0FD08-0B60-4028-B259-304D5E48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145C9-0784-40BB-BF2E-E04EB620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E93FA-3A46-42B3-87C3-72C7BF2D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C9E32-FBF2-4F29-A36D-E8390311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94953-F51F-4022-9B0F-3FE34B36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D7790-BF43-4FD0-93EF-BC5130F7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CA5A4-6257-4992-9F3C-731913FD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B9C80-4AFD-4736-847C-FD648754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D8785-41A0-462E-9238-14103633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654FD-C890-4961-B808-1C01269F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535-940A-4260-8050-D14C283F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BD052-DD61-4954-A20D-2E839AD6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C8278-9833-427E-88EC-E508776D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3AEE0-4381-4E8A-9B7C-7BF8B8D4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0520" y="456228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56EC-A762-49BC-B872-2DB023DC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520" y="216072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520" y="4562280"/>
            <a:ext cx="291996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B4EC7-F3E8-40E3-ABFE-CCB6CC95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60720"/>
            <a:ext cx="442584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562280"/>
            <a:ext cx="906948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F4F-B40E-489F-9449-604F3F17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7EF2E-6AD2-4145-8595-B3106AFFB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DA0BC-030F-478E-B0A8-DF61B9977BD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5080D-0FB8-4283-91BC-369ADC9EA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8AB2A-CE31-44E8-A2FB-3E01AEB35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BC111-2F99-43A2-8013-23C262BC599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3BF8C-6A71-471D-9361-4F8F23E0FA7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F6CFE-5B7A-427F-948C-BA03202B094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Header Title tex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02920" y="2160360"/>
            <a:ext cx="90709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lide content tex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22:56:02Z</dcterms:created>
  <dc:creator/>
  <dc:description/>
  <dc:language>en-US</dc:language>
  <cp:lastModifiedBy/>
  <dcterms:modified xsi:type="dcterms:W3CDTF">2012-06-14T23:13:37Z</dcterms:modified>
  <cp:revision>2</cp:revision>
  <dc:subject/>
  <dc:title/>
</cp:coreProperties>
</file>