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D92-5AC3-417A-9A1B-E8E9C013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4C7-D10E-4E11-9737-4BB3C3B3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F4D-F352-41A9-A904-971F5AD5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2EF-8288-4991-8903-AB0593B3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676-7ECC-4E24-8CAC-CC2F6CC8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996-9374-49B1-B017-9C19AB7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C49-F1D0-4EC6-82BD-DD700C12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865-D910-48CC-9E57-1FFD237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D3F-E2E3-45BB-973A-27C695C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270-4DC7-4152-9BF2-35C3DDB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333-C588-4E88-B25A-5583537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5C4-4DAD-41FD-BC9E-A264EE11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D16E5-A8B5-445D-9DA9-A6D0441A4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31840" y="2138400"/>
            <a:ext cx="2235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object 1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5320" y="3397320"/>
            <a:ext cx="3092760" cy="122220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er Brendel</dc:creator>
  <dc:description/>
  <dc:language>en-US</dc:language>
  <cp:lastModifiedBy>User</cp:lastModifiedBy>
  <dcterms:modified xsi:type="dcterms:W3CDTF">2008-01-23T07:24:23Z</dcterms:modified>
  <cp:revision>1</cp:revision>
  <dc:subject/>
  <dc:title>This is a title</dc:title>
</cp:coreProperties>
</file>