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53EEB-6933-4C2E-9807-41F9E7D74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83ABA-D1F9-43BD-87BE-480EEA0F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4F3D1-C0F2-4992-9ADD-F03ABBA43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53086-FD4E-414C-91E8-1A2CCBABF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76DA5-A12C-4777-B7A4-846B233D3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F4D26-0A74-4774-B30B-2E2165A65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7C2AB-E173-4D8F-B0EA-D41A7C365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2CE86-3F33-42BD-95C2-CF11E7B8B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C81A4-955E-4C24-8E64-060275E00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93C20-D39F-4F96-86A3-E04141267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EA8B2-97D9-48CB-8D3E-3B48FB141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34AD-8295-4640-808F-453A198F7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60745-E647-4025-8D37-5E386DED1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42E99-4BEE-40B6-9E62-745EB26D2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52C76-6E2E-4D21-B23A-7B2F5DDC0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B9015-75DE-41A2-8027-2DBDC690C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ACB08-5E32-4A4B-84D3-F07C23D41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CDF3-F381-4D3B-B9A6-BAD6F9D39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0BC30-D2BF-43A3-8818-AD08DC70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B3CF5-D130-4389-8B66-D6C43415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DB7D-47F7-4958-8880-2B804632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EE52-A7E3-43EB-AF32-16B892189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85A36-8A0C-4408-8362-1CFA20C86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B554-5D0B-43CE-823D-72F183099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0D4C-AEFF-4279-B6AE-DDA81D757566}" type="datetime">
              <a:rPr b="0" lang="en-US" sz="1200" spc="-1" strike="noStrike">
                <a:solidFill>
                  <a:srgbClr val="b2b2b2"/>
                </a:solidFill>
                <a:latin typeface="Tahoma"/>
              </a:rPr>
              <a:t>07/29/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7E50-03FB-4893-B1D5-08DF222A4A30}"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4CCC-4CD5-4E63-BB90-A466F4494A24}" type="datetime">
              <a:rPr b="0" lang="en-US" sz="1200" spc="-1" strike="noStrike">
                <a:solidFill>
                  <a:srgbClr val="b2b2b2"/>
                </a:solidFill>
                <a:latin typeface="Tahoma"/>
              </a:rPr>
              <a:t>07/29/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4074-2938-4BAE-BCFB-5EB1AA1E4A06}"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w Power Modes: HOLD MODE</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Alma Sobol</a:t>
            </a:r>
            <a:endParaRPr b="0" lang="en-US" sz="2400" spc="-1" strike="noStrike">
              <a:solidFill>
                <a:srgbClr val="339966"/>
              </a:solidFill>
              <a:latin typeface="Tahoma"/>
            </a:endParaRPr>
          </a:p>
        </p:txBody>
      </p:sp>
      <p:sp>
        <p:nvSpPr>
          <p:cNvPr id="4" name="PlaceHolder 3"/>
          <p:cNvSpPr>
            <a:spLocks noGrp="1"/>
          </p:cNvSpPr>
          <p:nvPr>
            <p:ph type="sldNum" idx="6"/>
          </p:nvPr>
        </p:nvSpPr>
        <p:spPr/>
        <p:txBody>
          <a:bodyPr/>
          <a:p>
            <a:fld id="{3EDF449B-3238-49CA-AEC8-BC6C2EA21204}" type="slidenum">
              <a:t>1</a:t>
            </a:fld>
          </a:p>
        </p:txBody>
      </p:sp>
      <p:sp>
        <p:nvSpPr>
          <p:cNvPr id="5" name="PlaceHolder 4"/>
          <p:cNvSpPr>
            <a:spLocks noGrp="1"/>
          </p:cNvSpPr>
          <p:nvPr>
            <p:ph type="dt" idx="4"/>
          </p:nvPr>
        </p:nvSpPr>
        <p:spPr/>
        <p:txBody>
          <a:bodyPr/>
          <a:p>
            <a:fld id="{CB26653D-E976-49BE-9A81-A026AF3C509D}" type="datetime1">
              <a:rPr lang="en-US"/>
              <a:t>07/29/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ld Mode Overview</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ld mode defines a period of time in which the slave and master do not communicate. During this time, the master and slave units are free to do other activities, either get into Low Power mode, or page, inquire, perform scans, or attending another picone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hold, the slave unit keeps it’s AM_ADDR which means it is still considered an active member of the piconet.</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5B58D93-BE51-4C01-904C-15B08F8546F9}" type="slidenum">
              <a:t>2</a:t>
            </a:fld>
          </a:p>
        </p:txBody>
      </p:sp>
      <p:sp>
        <p:nvSpPr>
          <p:cNvPr id="5" name="PlaceHolder 4"/>
          <p:cNvSpPr>
            <a:spLocks noGrp="1"/>
          </p:cNvSpPr>
          <p:nvPr>
            <p:ph type="dt" idx="1"/>
          </p:nvPr>
        </p:nvSpPr>
        <p:spPr/>
        <p:txBody>
          <a:bodyPr/>
          <a:p>
            <a:fld id="{D74B7B12-AD85-41FA-BAA6-63A8B5EC913D}" type="datetime1">
              <a:rPr lang="en-US"/>
              <a:t>07/29/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velr</cp:lastModifiedBy>
  <dcterms:modified xsi:type="dcterms:W3CDTF">2004-01-14T15:07:35Z</dcterms:modified>
  <cp:revision>66</cp:revision>
  <dc:subject/>
  <dc:title>PowerPoint Presentation</dc:title>
</cp:coreProperties>
</file>