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9A7-1105-4889-A256-842C4CC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ED9-F9D2-4EFB-BBDE-712D2AB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9AE-02A3-42A9-9F2F-1CB38CFD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EFC-A5FB-4622-A110-7543BA46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26E-D59B-42A2-B572-92FCA1C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382-2EBE-4CEF-8242-9363468C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438-3F94-4DFB-9F90-3643E532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759-EBB5-408A-B2B7-BBE3225C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F60-0A32-4D2D-95E6-58FD2D92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46C-ECA8-4117-9405-8C3ADE8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1D2-55A8-4943-98D3-5A22F7B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621-4BA7-496F-8788-6F51BDD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FE0B-92F9-4AE9-BE42-60764522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295280"/>
            <a:ext cx="457200" cy="91440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6:06:28Z</dcterms:created>
  <dc:creator>cg103521</dc:creator>
  <dc:description/>
  <dc:language>en-US</dc:language>
  <cp:lastModifiedBy>cg103521</cp:lastModifiedBy>
  <dcterms:modified xsi:type="dcterms:W3CDTF">2004-03-31T16:06:33Z</dcterms:modified>
  <cp:revision>1</cp:revision>
  <dc:subject/>
  <dc:title>PowerPoint Presentation</dc:title>
</cp:coreProperties>
</file>