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E13-9C97-411E-AD19-F226C15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BA4-2553-4740-A1FB-7EA63F8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E7A-6C70-45D3-BAFD-D87794C2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783-1339-4888-B816-840F658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911-C74D-40F8-AE49-9DF860D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51A-17E9-4240-BB12-AA0526F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0DD-3FB4-4B02-80E3-3D39582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0ED-72B8-45C1-9062-1BC862DB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21A-D008-4CDB-838A-0F5FBA5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B96-27E4-4270-9768-A5EA383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59D-9FEE-4754-A864-87E11BD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861-AC13-473D-BA33-92850EB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99E-D477-488D-8D71-A8A7CE624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2574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2720" y="1495440"/>
            <a:ext cx="1057320" cy="91440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33920" y="1461960"/>
            <a:ext cx="1057320" cy="914400"/>
          </a:xfrm>
          <a:prstGeom prst="triangle">
            <a:avLst>
              <a:gd name="adj" fmla="val 82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781200" y="2324160"/>
            <a:ext cx="1328760" cy="2100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62440" y="2590200"/>
            <a:ext cx="985680" cy="104292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442600" y="2585880"/>
            <a:ext cx="1014120" cy="104328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90040" y="1476360"/>
            <a:ext cx="1214280" cy="914400"/>
          </a:xfrm>
          <a:prstGeom prst="triangle">
            <a:avLst>
              <a:gd name="adj" fmla="val 148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5320" y="1457280"/>
            <a:ext cx="1056960" cy="914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996240" y="2509200"/>
            <a:ext cx="1057320" cy="124308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224200" y="1481040"/>
            <a:ext cx="919080" cy="914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8224200" y="2532960"/>
            <a:ext cx="919080" cy="11574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600000">
            <a:off x="3243240" y="52862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4564400">
            <a:off x="4066560" y="48524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11:44Z</dcterms:created>
  <dc:creator>user</dc:creator>
  <dc:description/>
  <dc:language>en-US</dc:language>
  <cp:lastModifiedBy>user</cp:lastModifiedBy>
  <dcterms:modified xsi:type="dcterms:W3CDTF">2011-05-04T15:29:11Z</dcterms:modified>
  <cp:revision>1</cp:revision>
  <dc:subject/>
  <dc:title>Slide 1</dc:title>
</cp:coreProperties>
</file>