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BCC6-8B0C-4A8F-83B8-9C8975FFB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7605-8B33-4DD8-A46D-0606341B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A109-AF1D-4C51-A2D3-BA7A13A14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5B5A-BC9E-492E-A432-0E5418DA7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3519-DF8E-4FE2-B698-0A9581E0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5B21-411B-4D3F-8F0E-4B6AF8DF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349F-ABF7-4C02-B053-247FD646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2DBF-A626-4B8C-83DD-E80F6396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E3B6-DADC-4CF2-B968-555D8CEB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7DC2-693C-484B-9071-9696D394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AC73-DC6C-474B-A9F3-789D3F07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3770-27C2-496F-A031-B5BCB0E7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45D9-6E1D-4358-B334-F2163CFE1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23840" y="333360"/>
            <a:ext cx="7216920" cy="6284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704160" y="333360"/>
            <a:ext cx="335160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6193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61937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108000" y="1197000"/>
            <a:ext cx="335196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48" y="21597"/>
                </a:moveTo>
                <a:arcTo wR="10800" hR="10800" stAng="5321076" swAng="15740861"/>
                <a:lnTo>
                  <a:pt x="10800" y="10800"/>
                </a:lnTo>
                <a:close/>
              </a:path>
              <a:path fill="none" w="21600" h="21600">
                <a:moveTo>
                  <a:pt x="11048" y="21597"/>
                </a:moveTo>
                <a:arcTo wR="10800" hR="10800" stAng="5321076" swAng="15740861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8000" y="189720"/>
            <a:ext cx="3352320" cy="7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66" y="12495"/>
                </a:moveTo>
                <a:arcTo wR="10800" hR="10800" stAng="541782" swAng="2068358"/>
                <a:lnTo>
                  <a:pt x="10800" y="10800"/>
                </a:lnTo>
                <a:close/>
              </a:path>
              <a:path fill="none" w="21600" h="21600">
                <a:moveTo>
                  <a:pt x="21466" y="12495"/>
                </a:moveTo>
                <a:arcTo wR="10800" hR="10800" stAng="541782" swAng="2068358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66760" y="1125000"/>
            <a:ext cx="3352680" cy="72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58" y="6867"/>
                </a:moveTo>
                <a:arcTo wR="10800" hR="10800" stAng="-1281379" swAng="5965329"/>
                <a:lnTo>
                  <a:pt x="10800" y="10800"/>
                </a:lnTo>
                <a:close/>
              </a:path>
              <a:path fill="none" w="21600" h="21600">
                <a:moveTo>
                  <a:pt x="20858" y="6867"/>
                </a:moveTo>
                <a:arcTo wR="10800" hR="10800" stAng="-1281379" swAng="5965329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095840" y="3573360"/>
            <a:ext cx="335160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6193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61937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950760" y="4221000"/>
            <a:ext cx="335196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48" y="21597"/>
                </a:moveTo>
                <a:arcTo wR="10800" hR="10800" stAng="5321076" swAng="15740861"/>
                <a:lnTo>
                  <a:pt x="10800" y="10800"/>
                </a:lnTo>
                <a:close/>
              </a:path>
              <a:path fill="none" w="21600" h="21600">
                <a:moveTo>
                  <a:pt x="11048" y="21597"/>
                </a:moveTo>
                <a:arcTo wR="10800" hR="10800" stAng="5321076" swAng="15740861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415120" y="4221720"/>
            <a:ext cx="3352320" cy="7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66" y="12495"/>
                </a:moveTo>
                <a:arcTo wR="10800" hR="10800" stAng="541782" swAng="2068358"/>
                <a:lnTo>
                  <a:pt x="10800" y="10800"/>
                </a:lnTo>
                <a:close/>
              </a:path>
              <a:path fill="none" w="21600" h="21600">
                <a:moveTo>
                  <a:pt x="21466" y="12495"/>
                </a:moveTo>
                <a:arcTo wR="10800" hR="10800" stAng="541782" swAng="2068358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292000" y="3487320"/>
            <a:ext cx="3352680" cy="72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58" y="6867"/>
                </a:moveTo>
                <a:arcTo wR="10800" hR="10800" stAng="-1281379" swAng="5965329"/>
                <a:lnTo>
                  <a:pt x="10800" y="10800"/>
                </a:lnTo>
                <a:close/>
              </a:path>
              <a:path fill="none" w="21600" h="21600">
                <a:moveTo>
                  <a:pt x="20858" y="6867"/>
                </a:moveTo>
                <a:arcTo wR="10800" hR="10800" stAng="-1281379" swAng="5965329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-200520" y="4654800"/>
            <a:ext cx="335160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6193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61937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95280" y="5877000"/>
            <a:ext cx="335196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48" y="21597"/>
                </a:moveTo>
                <a:arcTo wR="10800" hR="10800" stAng="5321076" swAng="15740861"/>
                <a:lnTo>
                  <a:pt x="10800" y="10800"/>
                </a:lnTo>
                <a:close/>
              </a:path>
              <a:path fill="none" w="21600" h="21600">
                <a:moveTo>
                  <a:pt x="11048" y="21597"/>
                </a:moveTo>
                <a:arcTo wR="10800" hR="10800" stAng="5321076" swAng="15740861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491280" y="5116680"/>
            <a:ext cx="3352320" cy="7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66" y="12495"/>
                </a:moveTo>
                <a:arcTo wR="10800" hR="10800" stAng="541782" swAng="2068358"/>
                <a:lnTo>
                  <a:pt x="10800" y="10800"/>
                </a:lnTo>
                <a:close/>
              </a:path>
              <a:path fill="none" w="21600" h="21600">
                <a:moveTo>
                  <a:pt x="21466" y="12495"/>
                </a:moveTo>
                <a:arcTo wR="10800" hR="10800" stAng="541782" swAng="2068358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470040" y="6026400"/>
            <a:ext cx="3352680" cy="72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58" y="6867"/>
                </a:moveTo>
                <a:arcTo wR="10800" hR="10800" stAng="-1281379" swAng="5965329"/>
                <a:lnTo>
                  <a:pt x="10800" y="10800"/>
                </a:lnTo>
                <a:close/>
              </a:path>
              <a:path fill="none" w="21600" h="21600">
                <a:moveTo>
                  <a:pt x="20858" y="6867"/>
                </a:moveTo>
                <a:arcTo wR="10800" hR="10800" stAng="-1281379" swAng="5965329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flipH="1">
            <a:off x="1167120" y="333360"/>
            <a:ext cx="335232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6193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61937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-128880" y="1197000"/>
            <a:ext cx="335196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48" y="21597"/>
                </a:moveTo>
                <a:arcTo wR="10800" hR="10800" stAng="5321076" swAng="15740861"/>
                <a:lnTo>
                  <a:pt x="10800" y="10800"/>
                </a:lnTo>
                <a:close/>
              </a:path>
              <a:path fill="none" w="21600" h="21600">
                <a:moveTo>
                  <a:pt x="11048" y="21597"/>
                </a:moveTo>
                <a:arcTo wR="10800" hR="10800" stAng="5321076" swAng="15740861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643640" y="189720"/>
            <a:ext cx="3352320" cy="7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66" y="12495"/>
                </a:moveTo>
                <a:arcTo wR="10800" hR="10800" stAng="541782" swAng="2068358"/>
                <a:lnTo>
                  <a:pt x="10800" y="10800"/>
                </a:lnTo>
                <a:close/>
              </a:path>
              <a:path fill="none" w="21600" h="21600">
                <a:moveTo>
                  <a:pt x="21466" y="12495"/>
                </a:moveTo>
                <a:arcTo wR="10800" hR="10800" stAng="541782" swAng="2068358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642560" y="1125000"/>
            <a:ext cx="3352680" cy="72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58" y="6867"/>
                </a:moveTo>
                <a:arcTo wR="10800" hR="10800" stAng="-1281379" swAng="5965329"/>
                <a:lnTo>
                  <a:pt x="10800" y="10800"/>
                </a:lnTo>
                <a:close/>
              </a:path>
              <a:path fill="none" w="21600" h="21600">
                <a:moveTo>
                  <a:pt x="20858" y="6867"/>
                </a:moveTo>
                <a:arcTo wR="10800" hR="10800" stAng="-1281379" swAng="5965329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559800" y="3573360"/>
            <a:ext cx="335160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6193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61937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4221000"/>
            <a:ext cx="335196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48" y="21597"/>
                </a:moveTo>
                <a:arcTo wR="10800" hR="10800" stAng="5321076" swAng="15740861"/>
                <a:lnTo>
                  <a:pt x="10800" y="10800"/>
                </a:lnTo>
                <a:close/>
              </a:path>
              <a:path fill="none" w="21600" h="21600">
                <a:moveTo>
                  <a:pt x="11048" y="21597"/>
                </a:moveTo>
                <a:arcTo wR="10800" hR="10800" stAng="5321076" swAng="15740861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59480" y="4221720"/>
            <a:ext cx="3352320" cy="7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66" y="12495"/>
                </a:moveTo>
                <a:arcTo wR="10800" hR="10800" stAng="541782" swAng="2068358"/>
                <a:lnTo>
                  <a:pt x="10800" y="10800"/>
                </a:lnTo>
                <a:close/>
              </a:path>
              <a:path fill="none" w="21600" h="21600">
                <a:moveTo>
                  <a:pt x="21466" y="12495"/>
                </a:moveTo>
                <a:arcTo wR="10800" hR="10800" stAng="541782" swAng="2068358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16200" y="3487320"/>
            <a:ext cx="3352680" cy="72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58" y="6867"/>
                </a:moveTo>
                <a:arcTo wR="10800" hR="10800" stAng="-1281379" swAng="5965329"/>
                <a:lnTo>
                  <a:pt x="10800" y="10800"/>
                </a:lnTo>
                <a:close/>
              </a:path>
              <a:path fill="none" w="21600" h="21600">
                <a:moveTo>
                  <a:pt x="20858" y="6867"/>
                </a:moveTo>
                <a:arcTo wR="10800" hR="10800" stAng="-1281379" swAng="5965329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1454760" y="4654800"/>
            <a:ext cx="335160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6193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61937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74040" y="5877000"/>
            <a:ext cx="335196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48" y="21597"/>
                </a:moveTo>
                <a:arcTo wR="10800" hR="10800" stAng="5321076" swAng="15740861"/>
                <a:lnTo>
                  <a:pt x="10800" y="10800"/>
                </a:lnTo>
                <a:close/>
              </a:path>
              <a:path fill="none" w="21600" h="21600">
                <a:moveTo>
                  <a:pt x="11048" y="21597"/>
                </a:moveTo>
                <a:arcTo wR="10800" hR="10800" stAng="5321076" swAng="15740861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5146920" y="5116680"/>
            <a:ext cx="3352320" cy="7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66" y="12495"/>
                </a:moveTo>
                <a:arcTo wR="10800" hR="10800" stAng="541782" swAng="2068358"/>
                <a:lnTo>
                  <a:pt x="10800" y="10800"/>
                </a:lnTo>
                <a:close/>
              </a:path>
              <a:path fill="none" w="21600" h="21600">
                <a:moveTo>
                  <a:pt x="21466" y="12495"/>
                </a:moveTo>
                <a:arcTo wR="10800" hR="10800" stAng="541782" swAng="2068358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45840" y="6026400"/>
            <a:ext cx="3352680" cy="72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58" y="6867"/>
                </a:moveTo>
                <a:arcTo wR="10800" hR="10800" stAng="-1281379" swAng="5965329"/>
                <a:lnTo>
                  <a:pt x="10800" y="10800"/>
                </a:lnTo>
                <a:close/>
              </a:path>
              <a:path fill="none" w="21600" h="21600">
                <a:moveTo>
                  <a:pt x="20858" y="6867"/>
                </a:moveTo>
                <a:arcTo wR="10800" hR="10800" stAng="-1281379" swAng="5965329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flipV="1">
            <a:off x="-272520" y="-25200"/>
            <a:ext cx="335232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6193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61937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-107640" y="1196640"/>
            <a:ext cx="335196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48" y="21597"/>
                </a:moveTo>
                <a:arcTo wR="10800" hR="10800" stAng="5321076" swAng="15740861"/>
                <a:lnTo>
                  <a:pt x="10800" y="10800"/>
                </a:lnTo>
                <a:close/>
              </a:path>
              <a:path fill="none" w="21600" h="21600">
                <a:moveTo>
                  <a:pt x="11048" y="21597"/>
                </a:moveTo>
                <a:arcTo wR="10800" hR="10800" stAng="5321076" swAng="15740861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988000" y="436320"/>
            <a:ext cx="3352320" cy="7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66" y="12495"/>
                </a:moveTo>
                <a:arcTo wR="10800" hR="10800" stAng="541782" swAng="2068358"/>
                <a:lnTo>
                  <a:pt x="10800" y="10800"/>
                </a:lnTo>
                <a:close/>
              </a:path>
              <a:path fill="none" w="21600" h="21600">
                <a:moveTo>
                  <a:pt x="21466" y="12495"/>
                </a:moveTo>
                <a:arcTo wR="10800" hR="10800" stAng="541782" swAng="2068358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966760" y="1346040"/>
            <a:ext cx="3352680" cy="72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58" y="6867"/>
                </a:moveTo>
                <a:arcTo wR="10800" hR="10800" stAng="-1281379" swAng="5965329"/>
                <a:lnTo>
                  <a:pt x="10800" y="10800"/>
                </a:lnTo>
                <a:close/>
              </a:path>
              <a:path fill="none" w="21600" h="21600">
                <a:moveTo>
                  <a:pt x="20858" y="6867"/>
                </a:moveTo>
                <a:arcTo wR="10800" hR="10800" stAng="-1281379" swAng="5965329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1095840" y="3214800"/>
            <a:ext cx="335160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6193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61937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950760" y="4221000"/>
            <a:ext cx="335196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48" y="21597"/>
                </a:moveTo>
                <a:arcTo wR="10800" hR="10800" stAng="5321076" swAng="15740861"/>
                <a:lnTo>
                  <a:pt x="10800" y="10800"/>
                </a:lnTo>
                <a:close/>
              </a:path>
              <a:path fill="none" w="21600" h="21600">
                <a:moveTo>
                  <a:pt x="11048" y="21597"/>
                </a:moveTo>
                <a:arcTo wR="10800" hR="10800" stAng="5321076" swAng="15740861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415120" y="4468680"/>
            <a:ext cx="3352320" cy="7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66" y="12495"/>
                </a:moveTo>
                <a:arcTo wR="10800" hR="10800" stAng="541782" swAng="2068358"/>
                <a:lnTo>
                  <a:pt x="10800" y="10800"/>
                </a:lnTo>
                <a:close/>
              </a:path>
              <a:path fill="none" w="21600" h="21600">
                <a:moveTo>
                  <a:pt x="21466" y="12495"/>
                </a:moveTo>
                <a:arcTo wR="10800" hR="10800" stAng="541782" swAng="2068358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5292000" y="3708720"/>
            <a:ext cx="3352680" cy="72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58" y="6867"/>
                </a:moveTo>
                <a:arcTo wR="10800" hR="10800" stAng="-1281379" swAng="5965329"/>
                <a:lnTo>
                  <a:pt x="10800" y="10800"/>
                </a:lnTo>
                <a:close/>
              </a:path>
              <a:path fill="none" w="21600" h="21600">
                <a:moveTo>
                  <a:pt x="20858" y="6867"/>
                </a:moveTo>
                <a:arcTo wR="10800" hR="10800" stAng="-1281379" swAng="5965329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200880" y="5013360"/>
            <a:ext cx="335160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6193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61937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5877000"/>
            <a:ext cx="335196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48" y="21597"/>
                </a:moveTo>
                <a:arcTo wR="10800" hR="10800" stAng="5321076" swAng="15740861"/>
                <a:lnTo>
                  <a:pt x="10800" y="10800"/>
                </a:lnTo>
                <a:close/>
              </a:path>
              <a:path fill="none" w="21600" h="21600">
                <a:moveTo>
                  <a:pt x="11048" y="21597"/>
                </a:moveTo>
                <a:arcTo wR="10800" hR="10800" stAng="5321076" swAng="15740861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91280" y="4869720"/>
            <a:ext cx="3352320" cy="7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66" y="12495"/>
                </a:moveTo>
                <a:arcTo wR="10800" hR="10800" stAng="541782" swAng="2068358"/>
                <a:lnTo>
                  <a:pt x="10800" y="10800"/>
                </a:lnTo>
                <a:close/>
              </a:path>
              <a:path fill="none" w="21600" h="21600">
                <a:moveTo>
                  <a:pt x="21466" y="12495"/>
                </a:moveTo>
                <a:arcTo wR="10800" hR="10800" stAng="541782" swAng="2068358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70040" y="5805000"/>
            <a:ext cx="3352680" cy="72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58" y="6867"/>
                </a:moveTo>
                <a:arcTo wR="10800" hR="10800" stAng="-1281379" swAng="5965329"/>
                <a:lnTo>
                  <a:pt x="10800" y="10800"/>
                </a:lnTo>
                <a:close/>
              </a:path>
              <a:path fill="none" w="21600" h="21600">
                <a:moveTo>
                  <a:pt x="20858" y="6867"/>
                </a:moveTo>
                <a:arcTo wR="10800" hR="10800" stAng="-1281379" swAng="5965329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 flipV="1" rot="1864200">
            <a:off x="-61200" y="-426600"/>
            <a:ext cx="335232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6193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61937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 rot="1858800">
            <a:off x="-109440" y="1200960"/>
            <a:ext cx="335196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48" y="21597"/>
                </a:moveTo>
                <a:arcTo wR="10800" hR="10800" stAng="5321076" swAng="15740861"/>
                <a:lnTo>
                  <a:pt x="10800" y="10800"/>
                </a:lnTo>
                <a:close/>
              </a:path>
              <a:path fill="none" w="21600" h="21600">
                <a:moveTo>
                  <a:pt x="11048" y="21597"/>
                </a:moveTo>
                <a:arcTo wR="10800" hR="10800" stAng="5321076" swAng="15740861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 rot="1867200">
            <a:off x="3043080" y="-8280"/>
            <a:ext cx="3352320" cy="7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66" y="12495"/>
                </a:moveTo>
                <a:arcTo wR="10800" hR="10800" stAng="541782" swAng="2068358"/>
                <a:lnTo>
                  <a:pt x="10800" y="10800"/>
                </a:lnTo>
                <a:close/>
              </a:path>
              <a:path fill="none" w="21600" h="21600">
                <a:moveTo>
                  <a:pt x="21466" y="12495"/>
                </a:moveTo>
                <a:arcTo wR="10800" hR="10800" stAng="541782" swAng="2068358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 rot="1877400">
            <a:off x="3030840" y="894600"/>
            <a:ext cx="3352680" cy="72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58" y="6867"/>
                </a:moveTo>
                <a:arcTo wR="10800" hR="10800" stAng="-1281379" swAng="5965329"/>
                <a:lnTo>
                  <a:pt x="10800" y="10800"/>
                </a:lnTo>
                <a:close/>
              </a:path>
              <a:path fill="none" w="21600" h="21600">
                <a:moveTo>
                  <a:pt x="20858" y="6867"/>
                </a:moveTo>
                <a:arcTo wR="10800" hR="10800" stAng="-1281379" swAng="5965329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 rot="1863600">
            <a:off x="1068840" y="3666600"/>
            <a:ext cx="3351600" cy="71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6193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61937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 rot="1858200">
            <a:off x="952200" y="4215240"/>
            <a:ext cx="335196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48" y="21597"/>
                </a:moveTo>
                <a:arcTo wR="10800" hR="10800" stAng="5321076" swAng="15740861"/>
                <a:lnTo>
                  <a:pt x="10800" y="10800"/>
                </a:lnTo>
                <a:close/>
              </a:path>
              <a:path fill="none" w="21600" h="21600">
                <a:moveTo>
                  <a:pt x="11048" y="21597"/>
                </a:moveTo>
                <a:arcTo wR="10800" hR="10800" stAng="5321076" swAng="15740861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 rot="1866600">
            <a:off x="5231160" y="4879440"/>
            <a:ext cx="3352320" cy="71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66" y="12495"/>
                </a:moveTo>
                <a:arcTo wR="10800" hR="10800" stAng="541782" swAng="2068358"/>
                <a:lnTo>
                  <a:pt x="10800" y="10800"/>
                </a:lnTo>
                <a:close/>
              </a:path>
              <a:path fill="none" w="21600" h="21600">
                <a:moveTo>
                  <a:pt x="21466" y="12495"/>
                </a:moveTo>
                <a:arcTo wR="10800" hR="10800" stAng="541782" swAng="2068358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 rot="1876800">
            <a:off x="5113080" y="4127760"/>
            <a:ext cx="3352680" cy="72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58" y="6867"/>
                </a:moveTo>
                <a:arcTo wR="10800" hR="10800" stAng="-1281379" swAng="5965329"/>
                <a:lnTo>
                  <a:pt x="10800" y="10800"/>
                </a:lnTo>
                <a:close/>
              </a:path>
              <a:path fill="none" w="21600" h="21600">
                <a:moveTo>
                  <a:pt x="20858" y="6867"/>
                </a:moveTo>
                <a:arcTo wR="10800" hR="10800" stAng="-1281379" swAng="5965329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863600">
            <a:off x="-174600" y="4560120"/>
            <a:ext cx="335160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6193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61937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858200">
            <a:off x="393480" y="5881680"/>
            <a:ext cx="335196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48" y="21597"/>
                </a:moveTo>
                <a:arcTo wR="10800" hR="10800" stAng="5321076" swAng="15740861"/>
                <a:lnTo>
                  <a:pt x="10800" y="10800"/>
                </a:lnTo>
                <a:close/>
              </a:path>
              <a:path fill="none" w="21600" h="21600">
                <a:moveTo>
                  <a:pt x="11048" y="21597"/>
                </a:moveTo>
                <a:arcTo wR="10800" hR="10800" stAng="5321076" swAng="15740861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866600">
            <a:off x="3674160" y="4460040"/>
            <a:ext cx="3352320" cy="7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66" y="12495"/>
                </a:moveTo>
                <a:arcTo wR="10800" hR="10800" stAng="541782" swAng="2068358"/>
                <a:lnTo>
                  <a:pt x="10800" y="10800"/>
                </a:lnTo>
                <a:close/>
              </a:path>
              <a:path fill="none" w="21600" h="21600">
                <a:moveTo>
                  <a:pt x="21466" y="12495"/>
                </a:moveTo>
                <a:arcTo wR="10800" hR="10800" stAng="541782" swAng="2068358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876800">
            <a:off x="3649320" y="5385600"/>
            <a:ext cx="3352680" cy="72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58" y="6867"/>
                </a:moveTo>
                <a:arcTo wR="10800" hR="10800" stAng="-1281379" swAng="5965329"/>
                <a:lnTo>
                  <a:pt x="10800" y="10800"/>
                </a:lnTo>
                <a:close/>
              </a:path>
              <a:path fill="none" w="21600" h="21600">
                <a:moveTo>
                  <a:pt x="20858" y="6867"/>
                </a:moveTo>
                <a:arcTo wR="10800" hR="10800" stAng="-1281379" swAng="5965329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 flipV="1" rot="20625600">
            <a:off x="-289800" y="212760"/>
            <a:ext cx="335232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6193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61937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 rot="20635200">
            <a:off x="-108360" y="1193760"/>
            <a:ext cx="335196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48" y="21597"/>
                </a:moveTo>
                <a:arcTo wR="10800" hR="10800" stAng="5321076" swAng="15740861"/>
                <a:lnTo>
                  <a:pt x="10800" y="10800"/>
                </a:lnTo>
                <a:close/>
              </a:path>
              <a:path fill="none" w="21600" h="21600">
                <a:moveTo>
                  <a:pt x="11048" y="21597"/>
                </a:moveTo>
                <a:arcTo wR="10800" hR="10800" stAng="5321076" swAng="15740861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 rot="20628600">
            <a:off x="3054960" y="663120"/>
            <a:ext cx="3352320" cy="7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66" y="12495"/>
                </a:moveTo>
                <a:arcTo wR="10800" hR="10800" stAng="541782" swAng="2068358"/>
                <a:lnTo>
                  <a:pt x="10800" y="10800"/>
                </a:lnTo>
                <a:close/>
              </a:path>
              <a:path fill="none" w="21600" h="21600">
                <a:moveTo>
                  <a:pt x="21466" y="12495"/>
                </a:moveTo>
                <a:arcTo wR="10800" hR="10800" stAng="541782" swAng="2068358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 rot="20649000">
            <a:off x="3028680" y="1569960"/>
            <a:ext cx="335268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58" y="6867"/>
                </a:moveTo>
                <a:arcTo wR="10800" hR="10800" stAng="-1281379" swAng="5965329"/>
                <a:lnTo>
                  <a:pt x="10800" y="10800"/>
                </a:lnTo>
                <a:close/>
              </a:path>
              <a:path fill="none" w="21600" h="21600">
                <a:moveTo>
                  <a:pt x="20858" y="6867"/>
                </a:moveTo>
                <a:arcTo wR="10800" hR="10800" stAng="-1281379" swAng="5965329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 rot="20625000">
            <a:off x="1011240" y="2989080"/>
            <a:ext cx="3351600" cy="71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6193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61937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 rot="20634600">
            <a:off x="951480" y="4223520"/>
            <a:ext cx="3351960" cy="71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48" y="21597"/>
                </a:moveTo>
                <a:arcTo wR="10800" hR="10800" stAng="5321076" swAng="15740861"/>
                <a:lnTo>
                  <a:pt x="10800" y="10800"/>
                </a:lnTo>
                <a:close/>
              </a:path>
              <a:path fill="none" w="21600" h="21600">
                <a:moveTo>
                  <a:pt x="11048" y="21597"/>
                </a:moveTo>
                <a:arcTo wR="10800" hR="10800" stAng="5321076" swAng="15740861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 rot="20628000">
            <a:off x="5415480" y="4233600"/>
            <a:ext cx="3352320" cy="7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66" y="12495"/>
                </a:moveTo>
                <a:arcTo wR="10800" hR="10800" stAng="541782" swAng="2068358"/>
                <a:lnTo>
                  <a:pt x="10800" y="10800"/>
                </a:lnTo>
                <a:close/>
              </a:path>
              <a:path fill="none" w="21600" h="21600">
                <a:moveTo>
                  <a:pt x="21466" y="12495"/>
                </a:moveTo>
                <a:arcTo wR="10800" hR="10800" stAng="541782" swAng="2068358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 rot="20648400">
            <a:off x="5291280" y="3474720"/>
            <a:ext cx="3352680" cy="72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58" y="6867"/>
                </a:moveTo>
                <a:arcTo wR="10800" hR="10800" stAng="-1281379" swAng="5965329"/>
                <a:lnTo>
                  <a:pt x="10800" y="10800"/>
                </a:lnTo>
                <a:close/>
              </a:path>
              <a:path fill="none" w="21600" h="21600">
                <a:moveTo>
                  <a:pt x="20858" y="6867"/>
                </a:moveTo>
                <a:arcTo wR="10800" hR="10800" stAng="-1281379" swAng="5965329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0625000">
            <a:off x="-117720" y="5237280"/>
            <a:ext cx="335160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6193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61937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20634600">
            <a:off x="394560" y="5874120"/>
            <a:ext cx="335196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48" y="21597"/>
                </a:moveTo>
                <a:arcTo wR="10800" hR="10800" stAng="5321076" swAng="15740861"/>
                <a:lnTo>
                  <a:pt x="10800" y="10800"/>
                </a:lnTo>
                <a:close/>
              </a:path>
              <a:path fill="none" w="21600" h="21600">
                <a:moveTo>
                  <a:pt x="11048" y="21597"/>
                </a:moveTo>
                <a:arcTo wR="10800" hR="10800" stAng="5321076" swAng="15740861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20628000">
            <a:off x="3489120" y="5105520"/>
            <a:ext cx="3352320" cy="7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66" y="12495"/>
                </a:moveTo>
                <a:arcTo wR="10800" hR="10800" stAng="541782" swAng="2068358"/>
                <a:lnTo>
                  <a:pt x="10800" y="10800"/>
                </a:lnTo>
                <a:close/>
              </a:path>
              <a:path fill="none" w="21600" h="21600">
                <a:moveTo>
                  <a:pt x="21466" y="12495"/>
                </a:moveTo>
                <a:arcTo wR="10800" hR="10800" stAng="541782" swAng="2068358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648400">
            <a:off x="3471840" y="6038280"/>
            <a:ext cx="3352680" cy="72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58" y="6867"/>
                </a:moveTo>
                <a:arcTo wR="10800" hR="10800" stAng="-1281379" swAng="5965329"/>
                <a:lnTo>
                  <a:pt x="10800" y="10800"/>
                </a:lnTo>
                <a:close/>
              </a:path>
              <a:path fill="none" w="21600" h="21600">
                <a:moveTo>
                  <a:pt x="20858" y="6867"/>
                </a:moveTo>
                <a:arcTo wR="10800" hR="10800" stAng="-1281379" swAng="5965329"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4:06:45Z</dcterms:created>
  <dc:creator>33</dc:creator>
  <dc:description/>
  <dc:language>en-US</dc:language>
  <cp:lastModifiedBy>33</cp:lastModifiedBy>
  <dcterms:modified xsi:type="dcterms:W3CDTF">2005-02-02T10:50:30Z</dcterms:modified>
  <cp:revision>4</cp:revision>
  <dc:subject/>
  <dc:title>Folie 1</dc:title>
</cp:coreProperties>
</file>