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AD736-F05C-4863-86E5-2D5EE05AD92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50174-A97A-4F75-BFB5-C72F3CDB3C8D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28.03.2007 (Fixed handout dat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Handout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Header Placeholder 7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Handout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9D3D7-AB46-4E0A-B1D5-F64BC1CA69DD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28.03.2007 (Fixed handout dat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Handout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Header Placeholder 7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Handout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70C0C-7DC7-4FD5-809F-D7A2B131708D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Date Placeholder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28.03.2007 (Fixed handout dat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ooter Placeholder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Handout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Header Placeholder 7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Handout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23DEC-509C-4BD9-AB46-A09C36329B11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Date Placeholder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28.03.2007 (Fixed handout dat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Footer Placeholder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Handout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Header Placeholder 7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Handout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F949-8CAA-4E89-897F-AB5DC3B90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A744-35B8-4A96-9EF7-A62570809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1DA9-D163-4F12-A7F2-95D365C1F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FD63-E914-4214-ACBB-FF8EF78E0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6B90-E79C-4AB9-875C-A06E5F1A1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FDFF-F66A-412A-A1E6-B505AC9B7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4D0E-ABF2-4A99-A2B6-A9B8222CB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6090-B1DE-47D3-B921-D85AE3336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2793-DEE0-46C8-982D-A09A9884B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9584-75CE-46F7-BC7A-3590B8577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1B28-E8A8-49F3-89A4-6D88919BA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D8BE-640E-4C87-BB1B-68BFDC915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F2682-9C27-47B8-9F38-8F285113947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0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mbria"/>
                <a:ea typeface="Tahoma"/>
              </a:rPr>
              <a:t>Insert&gt;Text&gt;Header&amp;Footer&gt;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ambria"/>
                <a:ea typeface="Tahoma"/>
              </a:rPr>
              <a:t>Date time (automatically updated)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ambria"/>
                <a:ea typeface="Tahoma"/>
              </a:rPr>
              <a:t>Footer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ambria"/>
                <a:ea typeface="Tahoma"/>
              </a:rPr>
              <a:t>Slide Numb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1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80005-71EA-426A-8D62-549801E0719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EF39FE5-7C62-436E-A02A-73FA7894139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1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Slide Number Placeholder 1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54F27-A47B-47E0-A3E5-A523239D14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Footer Placeholder 2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is is a foote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0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mbria"/>
                <a:ea typeface="Tahoma"/>
              </a:rPr>
              <a:t>Insert&gt;Text&gt;Header&amp;Footer&gt;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ambria"/>
                <a:ea typeface="Tahoma"/>
              </a:rPr>
              <a:t>Date time (fixed)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ambria"/>
                <a:ea typeface="Tahoma"/>
              </a:rPr>
              <a:t>Footer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ambria"/>
                <a:ea typeface="Tahoma"/>
              </a:rPr>
              <a:t>Slide Numb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1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/28/2007 2:59:28 PM &lt;- FIX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1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BA409-6F23-41EB-8335-6DC3152EF1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ooter Placeholder 2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nother footer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Title 44 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Content 31p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Calibri"/>
              </a:rPr>
              <a:t>SECTION TITLE 4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898989"/>
                </a:solidFill>
                <a:latin typeface="Calibri"/>
              </a:rPr>
              <a:t>Section text: 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TextBox 3" descr=""/>
          <p:cNvPicPr/>
          <p:nvPr/>
        </p:nvPicPr>
        <p:blipFill>
          <a:blip r:embed="rId1"/>
          <a:stretch/>
        </p:blipFill>
        <p:spPr>
          <a:xfrm>
            <a:off x="-6480" y="133200"/>
            <a:ext cx="9156960" cy="641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0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mbria"/>
                <a:ea typeface="Tahoma"/>
              </a:rPr>
              <a:t>Insert&gt;Text&gt;Header&amp;Footer&gt;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ambria"/>
                <a:ea typeface="Tahoma"/>
              </a:rPr>
              <a:t>Date time (automatically updated)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ambria"/>
                <a:ea typeface="Tahoma"/>
              </a:rPr>
              <a:t>Footer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ambria"/>
                <a:ea typeface="Tahoma"/>
              </a:rPr>
              <a:t>Slide Numb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Date Placeholder 1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3E11A-321A-4509-B006-86F85F30EF9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F238E27-ED1B-44BA-9774-A04079D3313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1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1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A13FC-4598-4228-9815-C19EC55A49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Footer Placeholder 2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is is a footer!This is a footer!This is a footer!This is a footer!This is a footer!This is a footer!This is a footer!This is a footer!This is a footer!This is a footer!This is a footer!This is a footer!This is a footer!This is a footer!This is a foote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0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mbria"/>
                <a:ea typeface="Tahoma"/>
              </a:rPr>
              <a:t>Insert&gt;Text&gt;Header&amp;Footer&gt;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ambria"/>
                <a:ea typeface="Tahoma"/>
              </a:rPr>
              <a:t>Date time (fixed)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ambria"/>
                <a:ea typeface="Tahoma"/>
              </a:rPr>
              <a:t>Footer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ambria"/>
                <a:ea typeface="Tahoma"/>
              </a:rPr>
              <a:t>Slide Numb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1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3/28/2007 2:59:28 PM &lt;- FIXED3/28/2007 2:59:28 PM &lt;- FIXED3/28/2007 2:59:28 PM &lt;- FIXED3/28/2007 2:59:28 PM &lt;- FIXED3/28/2007 2:59:28 PM &lt;- FIXED3/28/2007 2:59:28 PM &lt;- FIXED3/28/2007 2:59:28 PM &lt;- FIXED3/28/2007 2:59:28 PM &lt;- FIXED3/28/2007 2:59:28 PM &lt;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1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1A043-AE54-450B-A47F-7BFDCEA526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Footer Placeholder 2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nother footer...Another footer...Another footer...Another footer...Another footer...Another footer...Another footer...Another footer...Another footer...Another footer...Another footer...Another footer...Another footer...Another footer...Another footer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ime</cp:lastModifiedBy>
  <dcterms:modified xsi:type="dcterms:W3CDTF">2010-03-30T22:10:30Z</dcterms:modified>
  <cp:revision>2</cp:revision>
  <dc:subject/>
  <dc:title>Insert&gt;Text&gt;Header&amp;Footer&gt; Date time (automatically updated) Footer Slide Number</dc:title>
</cp:coreProperties>
</file>