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3AD-973B-4257-92B6-A1A54E84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0FF-6913-4473-A0B1-B66F3968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87F-BF25-4477-9D7E-5695337E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CFB-11B2-48EC-B7BE-0EA4CABC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D27-3D05-42BC-A1F0-29E1FE56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EC9-5A61-4455-A55B-F64C8801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26C-61C7-47F7-A1BF-FD73CC47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C25-6D33-4011-A824-28F93A41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EC0-2584-4870-A523-52CFF93D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837-2610-44C8-9686-BB547062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BD2-FF1D-4BC1-84A6-4F120942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C40-07B4-4AE0-A72F-D6B2C629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FF66-DC83-48FA-918B-7577C5B0F45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7:07:37Z</dcterms:created>
  <dc:creator/>
  <dc:description/>
  <dc:language>en-US</dc:language>
  <cp:lastModifiedBy/>
  <dcterms:modified xsi:type="dcterms:W3CDTF">2011-02-02T21:50:05Z</dcterms:modified>
  <cp:revision>2</cp:revision>
  <dc:subject/>
  <dc:title/>
</cp:coreProperties>
</file>