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968-46E5-41FF-AED8-C08747DB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7D7C-19D7-4EE5-9CA2-FF4238ED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EC1-1342-4DDF-A342-11A55B0A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9C0-80BD-4F76-A400-E92DDB43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12BF-3486-4C90-B831-9EA31306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3D59-90BA-4822-969F-2A651BBD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7936-6B37-4F57-B778-27DAABDA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A25D-0FDA-4986-B6A2-52C3A530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6F74-95BC-441C-B9E6-D52AAE0B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266E-AE4E-4F19-894D-023678E1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49D1-12F0-4DF5-8EF2-C4BDE8A1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80B8-988E-4A7F-856F-786C8F83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0AE2-048E-48E1-87F5-E0BD0D7A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88F6-DA7E-4C67-82FE-0028258D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07D6-14B4-4B7F-943F-C697F170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9109-4712-41C3-8137-E54FAF60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83A4-0BFA-48CA-ACE7-FBFDA123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9BC-3371-411D-928B-5ACC5803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705-684E-4B37-B517-8D5C6D1E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664C-8DBE-41CA-8064-AB797781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A65-31C8-49F5-B673-1BB659B2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405-C7D8-4A58-A48D-4FCE05E5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805-0BEE-47DA-9355-5B1BD1C8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4CDC-A9BE-4A5E-AB6A-829222C9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59" name="Oval 5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60" name="Oval 6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61" name="Oval 7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62" name="Oval 8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63" name="Oval 9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65" name="Oval 11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grpSp>
          <p:nvGrpSpPr>
            <p:cNvPr id="68" name="Group 14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5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70" name="Oval 16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71" name="Oval 17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72" name="Oval 18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75" name="Oval 21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76" name="Oval 22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</p:grpSp>
        <p:sp>
          <p:nvSpPr>
            <p:cNvPr id="77" name="Oval 23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Comic Sans MS"/>
              </a:endParaRPr>
            </a:p>
          </p:txBody>
        </p:sp>
        <p:grpSp>
          <p:nvGrpSpPr>
            <p:cNvPr id="78" name="Group 24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5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1639800"/>
                  <a:gd name="textAreaBottom" fmla="*/ 1640160 h 1639800"/>
                </a:gdLst>
                <a:ahLst/>
                <a:rect l="textAreaLeft" t="textAreaTop" r="textAreaRight" b="textAreaBottom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80" name="Freeform 26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>
                  <a:gd name="textAreaLeft" fmla="*/ 0 w 1308240"/>
                  <a:gd name="textAreaRight" fmla="*/ 1308600 w 1308240"/>
                  <a:gd name="textAreaTop" fmla="*/ 0 h 1909800"/>
                  <a:gd name="textAreaBottom" fmla="*/ 1910160 h 1909800"/>
                </a:gdLst>
                <a:ahLst/>
                <a:rect l="textAreaLeft" t="textAreaTop" r="textAreaRight" b="textAreaBottom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  <p:sp>
            <p:nvSpPr>
              <p:cNvPr id="81" name="Freeform 27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9933"/>
                  </a:solidFill>
                  <a:latin typeface="Comic Sans MS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49B9-893E-4091-83CA-7161674D6CDF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Comic Sans MS"/>
              </a:rPr>
              <a:t>Is “Higher Level” Better?</a:t>
            </a: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rogramming language can be viewed as an </a:t>
            </a:r>
            <a:r>
              <a:rPr b="0" i="1" lang="en-US" sz="3200" spc="-1" strike="noStrike">
                <a:solidFill>
                  <a:srgbClr val="330099"/>
                </a:solidFill>
                <a:latin typeface="Comic Sans MS"/>
              </a:rPr>
              <a:t>interfa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an abstract </a:t>
            </a:r>
            <a:r>
              <a:rPr b="0" i="1" lang="en-US" sz="3200" spc="-1" strike="noStrike">
                <a:solidFill>
                  <a:srgbClr val="330099"/>
                </a:solidFill>
                <a:latin typeface="Comic Sans MS"/>
              </a:rPr>
              <a:t>mach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is one general-purpose language </a:t>
            </a:r>
            <a:r>
              <a:rPr b="0" i="1" lang="en-US" sz="3200" spc="-1" strike="noStrike">
                <a:solidFill>
                  <a:srgbClr val="330099"/>
                </a:solidFill>
                <a:latin typeface="Comic Sans MS"/>
              </a:rPr>
              <a:t>higher-leve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n another?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embly language is just the </a:t>
            </a:r>
            <a:r>
              <a:rPr b="0" i="1" lang="en-US" sz="3200" spc="-1" strike="noStrike">
                <a:solidFill>
                  <a:srgbClr val="330099"/>
                </a:solidFill>
                <a:latin typeface="Comic Sans MS"/>
              </a:rPr>
              <a:t>righ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bstraction for a CPU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do some languages </a:t>
            </a:r>
            <a:r>
              <a:rPr b="0" i="1" lang="en-US" sz="3200" spc="-1" strike="noStrike">
                <a:solidFill>
                  <a:srgbClr val="330099"/>
                </a:solidFill>
                <a:latin typeface="Comic Sans MS"/>
              </a:rPr>
              <a:t>better matc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applications than other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Comic Sans MS"/>
              </a:rPr>
              <a:t>We Need Domain Specificity</a:t>
            </a:r>
            <a:endParaRPr b="0" lang="en-US" sz="44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3200" spc="-1" strike="noStrike">
                <a:solidFill>
                  <a:srgbClr val="330099"/>
                </a:solidFill>
                <a:latin typeface="Comic Sans MS"/>
              </a:rPr>
              <a:t>domain-specific langu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or DSL) is a language that precisely captures a domain semantics; no more, and no les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lso need domain specific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Comic Sans MS"/>
              </a:rPr>
              <a:t>specificat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tarting point!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99"/>
                </a:solidFill>
                <a:latin typeface="Comic Sans MS"/>
              </a:rPr>
              <a:t>optimizat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0099"/>
                </a:solidFill>
                <a:latin typeface="Comic Sans MS"/>
              </a:rPr>
              <a:t>transforma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ftware </a:t>
            </a:r>
            <a:r>
              <a:rPr b="0" lang="en-US" sz="2800" spc="-1" strike="noStrike">
                <a:solidFill>
                  <a:srgbClr val="330099"/>
                </a:solidFill>
                <a:latin typeface="Comic Sans MS"/>
              </a:rPr>
              <a:t>too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systems, aspects, constraints, etc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6T22:24:24Z</dcterms:created>
  <dc:creator>Paul Hudak</dc:creator>
  <dc:description/>
  <cp:keywords/>
  <dc:language>en-US</dc:language>
  <cp:lastModifiedBy>svegesna</cp:lastModifiedBy>
  <dcterms:modified xsi:type="dcterms:W3CDTF">2011-04-14T13:05:59Z</dcterms:modified>
  <cp:revision>286</cp:revision>
  <dc:subject/>
  <dc:title>Domain-Specific Embedded-Language Desig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yale.edu/~users/hudak.html</vt:lpwstr>
  </property>
  <property fmtid="{D5CDD505-2E9C-101B-9397-08002B2CF9AE}" pid="9" name="LinkColor">
    <vt:r8>16711782</vt:r8>
  </property>
  <property fmtid="{D5CDD505-2E9C-101B-9397-08002B2CF9AE}" pid="10" name="MailAddress">
    <vt:lpwstr>paul.hudak@yale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/talks/ds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