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D02D-3C03-4EB9-A8AB-BBF68C82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7640" y="2053080"/>
            <a:ext cx="67111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27640" y="4244400"/>
            <a:ext cx="67111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2B60-777C-4672-AE64-D44924FD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27640" y="2053080"/>
            <a:ext cx="32749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66720" y="2053080"/>
            <a:ext cx="32749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27640" y="4244400"/>
            <a:ext cx="32749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66720" y="4244400"/>
            <a:ext cx="32749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1015-356A-4A06-A5BB-27E86977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7640" y="2053080"/>
            <a:ext cx="2160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96720" y="2053080"/>
            <a:ext cx="2160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65800" y="2053080"/>
            <a:ext cx="2160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27640" y="4244400"/>
            <a:ext cx="2160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96720" y="4244400"/>
            <a:ext cx="2160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365800" y="4244400"/>
            <a:ext cx="2160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BBD9-211E-4A4D-A29B-758EEFD8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27640" y="2053080"/>
            <a:ext cx="67111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EF2A-7A8A-4F28-B3C8-95694579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7640" y="2053080"/>
            <a:ext cx="67111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9188-57A7-4CFE-803F-E906F66B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7640" y="2053080"/>
            <a:ext cx="32749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66720" y="2053080"/>
            <a:ext cx="32749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1A5B-BAE4-4ADC-8B84-D1FBB4FB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FC5E-7F63-4057-A371-00621431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84560" y="452880"/>
            <a:ext cx="705492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A009-4C6E-4751-BFC5-62CDD40E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7640" y="2053080"/>
            <a:ext cx="32749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66720" y="2053080"/>
            <a:ext cx="32749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7640" y="4244400"/>
            <a:ext cx="32749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1DE0-5DA8-44B5-919C-F4925152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7640" y="2053080"/>
            <a:ext cx="32749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66720" y="2053080"/>
            <a:ext cx="32749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66720" y="4244400"/>
            <a:ext cx="32749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0F2E-8A66-4B63-9AF4-8E233F42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7640" y="2053080"/>
            <a:ext cx="32749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66720" y="2053080"/>
            <a:ext cx="32749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7640" y="4244400"/>
            <a:ext cx="67111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40D7-6E48-4FB3-B686-DEEAB5D5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21"/>
          <p:cNvSpPr/>
          <p:nvPr/>
        </p:nvSpPr>
        <p:spPr>
          <a:xfrm>
            <a:off x="629928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50b9c1">
                  <a:alpha val="7058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22"/>
          <p:cNvSpPr/>
          <p:nvPr/>
        </p:nvSpPr>
        <p:spPr>
          <a:xfrm>
            <a:off x="5689800" y="-457200"/>
            <a:ext cx="1599840" cy="1599840"/>
          </a:xfrm>
          <a:prstGeom prst="ellipse">
            <a:avLst/>
          </a:prstGeom>
          <a:gradFill rotWithShape="0">
            <a:gsLst>
              <a:gs pos="0">
                <a:srgbClr val="50b9c1">
                  <a:alpha val="14117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val 23"/>
          <p:cNvSpPr/>
          <p:nvPr/>
        </p:nvSpPr>
        <p:spPr>
          <a:xfrm>
            <a:off x="6299280" y="6095880"/>
            <a:ext cx="990360" cy="990360"/>
          </a:xfrm>
          <a:prstGeom prst="ellipse">
            <a:avLst/>
          </a:prstGeom>
          <a:gradFill rotWithShape="0">
            <a:gsLst>
              <a:gs pos="0">
                <a:srgbClr val="50b9c1">
                  <a:alpha val="9019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val 19"/>
          <p:cNvSpPr/>
          <p:nvPr/>
        </p:nvSpPr>
        <p:spPr>
          <a:xfrm>
            <a:off x="-154080" y="2666880"/>
            <a:ext cx="4190760" cy="4190760"/>
          </a:xfrm>
          <a:prstGeom prst="ellipse">
            <a:avLst/>
          </a:prstGeom>
          <a:gradFill rotWithShape="0">
            <a:gsLst>
              <a:gs pos="0">
                <a:srgbClr val="50b9c1">
                  <a:alpha val="11372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val 20"/>
          <p:cNvSpPr/>
          <p:nvPr/>
        </p:nvSpPr>
        <p:spPr>
          <a:xfrm>
            <a:off x="-839880" y="2895480"/>
            <a:ext cx="2361960" cy="2361960"/>
          </a:xfrm>
          <a:prstGeom prst="ellipse">
            <a:avLst/>
          </a:prstGeom>
          <a:gradFill rotWithShape="0">
            <a:gsLst>
              <a:gs pos="0">
                <a:srgbClr val="50b9c1">
                  <a:alpha val="8235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8"/>
          <p:cNvSpPr/>
          <p:nvPr/>
        </p:nvSpPr>
        <p:spPr>
          <a:xfrm>
            <a:off x="7745760" y="0"/>
            <a:ext cx="685440" cy="109908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Образец заголовка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27640" y="2053080"/>
            <a:ext cx="6711120" cy="41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 rot="5400000">
            <a:off x="7495200" y="1828800"/>
            <a:ext cx="990360" cy="22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400" y="3263400"/>
            <a:ext cx="3859560" cy="22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66280" y="295560"/>
            <a:ext cx="62856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5638E1A-9742-4660-AE37-323E25665597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300" spc="-1" strike="noStrike">
                <a:solidFill>
                  <a:srgbClr val="ebebeb"/>
                </a:solidFill>
                <a:latin typeface="Century Gothic"/>
              </a:rPr>
              <a:t>Анализируйте сетевые данные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1640" y="1556640"/>
            <a:ext cx="8496720" cy="439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Исследуйте сетевые лог-файлы на наличие любых событий, которые могут представлять для вас интерес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Исследуйте систему сетевой защиты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Рассмотрите лог-файлы сетевого монитора для определения событий, произошедших в сети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С помощью сниффера рассмотрите сетевые пакеты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Определите, зашифрованы ли исследуемые сетевые подключения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79BE-F38D-4AA6-BF19-937D2D4D7C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Ион">
  <a:themeElements>
    <a:clrScheme name="Ион">
      <a:dk1>
        <a:srgbClr val="000000"/>
      </a:dk1>
      <a:lt1>
        <a:srgbClr val="ffffff"/>
      </a:lt1>
      <a:dk2>
        <a:srgbClr val="1e5155"/>
      </a:dk2>
      <a:lt2>
        <a:srgbClr val="ebebeb"/>
      </a:lt2>
      <a:accent1>
        <a:srgbClr val="b01513"/>
      </a:accent1>
      <a:accent2>
        <a:srgbClr val="ea6312"/>
      </a:accent2>
      <a:accent3>
        <a:srgbClr val="e6b729"/>
      </a:accent3>
      <a:accent4>
        <a:srgbClr val="6aac90"/>
      </a:accent4>
      <a:accent5>
        <a:srgbClr val="5f9c9d"/>
      </a:accent5>
      <a:accent6>
        <a:srgbClr val="9e5e9b"/>
      </a:accent6>
      <a:hlink>
        <a:srgbClr val="58c1ba"/>
      </a:hlink>
      <a:folHlink>
        <a:srgbClr val="9dd0c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Ion</Template>
  <TotalTime>0</TotalTime>
  <Application>LibreOffice/7.4.7.2$Linux_X86_64 LibreOffice_project/40$Build-2</Application>
  <AppVersion>15.0000</AppVersion>
  <Words>3256</Words>
  <Paragraphs>39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2T06:16:57Z</dcterms:created>
  <dc:creator/>
  <dc:description/>
  <dc:language>en-US</dc:language>
  <cp:lastModifiedBy/>
  <dcterms:modified xsi:type="dcterms:W3CDTF">2013-09-29T17:12:2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65</vt:r8>
  </property>
</Properties>
</file>