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8BA05-C6EC-4E37-B5CD-F8DD97ADF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69560" y="960120"/>
            <a:ext cx="908676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27240" y="1957320"/>
            <a:ext cx="8097840" cy="205056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0" anchor="t">
            <a:normAutofit/>
          </a:bodyPr>
          <a:p>
            <a:pPr indent="0">
              <a:lnSpc>
                <a:spcPct val="96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27240" y="4203000"/>
            <a:ext cx="8097840" cy="205056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0" anchor="t">
            <a:normAutofit/>
          </a:bodyPr>
          <a:p>
            <a:pPr indent="0">
              <a:lnSpc>
                <a:spcPct val="96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A4F38-AE8A-4018-849A-1D3D02D52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9560" y="960120"/>
            <a:ext cx="908676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27240" y="1957320"/>
            <a:ext cx="3951720" cy="205056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0" anchor="t">
            <a:normAutofit/>
          </a:bodyPr>
          <a:p>
            <a:pPr indent="0">
              <a:lnSpc>
                <a:spcPct val="96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376960" y="1957320"/>
            <a:ext cx="3951720" cy="205056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0" anchor="t">
            <a:normAutofit/>
          </a:bodyPr>
          <a:p>
            <a:pPr indent="0">
              <a:lnSpc>
                <a:spcPct val="96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27240" y="4203000"/>
            <a:ext cx="3951720" cy="205056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0" anchor="t">
            <a:normAutofit/>
          </a:bodyPr>
          <a:p>
            <a:pPr indent="0">
              <a:lnSpc>
                <a:spcPct val="96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76960" y="4203000"/>
            <a:ext cx="3951720" cy="205056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0" anchor="t">
            <a:normAutofit/>
          </a:bodyPr>
          <a:p>
            <a:pPr indent="0">
              <a:lnSpc>
                <a:spcPct val="96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FC175-A75B-49C2-8EF1-96E4B16FF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9560" y="960120"/>
            <a:ext cx="908676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27240" y="1957320"/>
            <a:ext cx="2607120" cy="205056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0" anchor="t">
            <a:normAutofit/>
          </a:bodyPr>
          <a:p>
            <a:pPr indent="0">
              <a:lnSpc>
                <a:spcPct val="96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965040" y="1957320"/>
            <a:ext cx="2607120" cy="205056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0" anchor="t">
            <a:normAutofit/>
          </a:bodyPr>
          <a:p>
            <a:pPr indent="0">
              <a:lnSpc>
                <a:spcPct val="96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702840" y="1957320"/>
            <a:ext cx="2607120" cy="205056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0" anchor="t">
            <a:normAutofit/>
          </a:bodyPr>
          <a:p>
            <a:pPr indent="0">
              <a:lnSpc>
                <a:spcPct val="96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27240" y="4203000"/>
            <a:ext cx="2607120" cy="205056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0" anchor="t">
            <a:normAutofit/>
          </a:bodyPr>
          <a:p>
            <a:pPr indent="0">
              <a:lnSpc>
                <a:spcPct val="96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965040" y="4203000"/>
            <a:ext cx="2607120" cy="205056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0" anchor="t">
            <a:normAutofit/>
          </a:bodyPr>
          <a:p>
            <a:pPr indent="0">
              <a:lnSpc>
                <a:spcPct val="96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702840" y="4203000"/>
            <a:ext cx="2607120" cy="205056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0" anchor="t">
            <a:normAutofit/>
          </a:bodyPr>
          <a:p>
            <a:pPr indent="0">
              <a:lnSpc>
                <a:spcPct val="96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32308-2E09-45B8-A45C-49948FE1A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9560" y="960120"/>
            <a:ext cx="908676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27240" y="1957320"/>
            <a:ext cx="8097840" cy="429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665B9-0F1D-452E-BCC0-3E6AF936C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9560" y="960120"/>
            <a:ext cx="908676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27240" y="1957320"/>
            <a:ext cx="8097840" cy="429912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0" anchor="t">
            <a:normAutofit/>
          </a:bodyPr>
          <a:p>
            <a:pPr indent="0">
              <a:lnSpc>
                <a:spcPct val="96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32886-1C7D-4CC6-A4BA-7350C3566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9560" y="960120"/>
            <a:ext cx="908676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27240" y="1957320"/>
            <a:ext cx="3951720" cy="429912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0" anchor="t">
            <a:normAutofit/>
          </a:bodyPr>
          <a:p>
            <a:pPr indent="0">
              <a:lnSpc>
                <a:spcPct val="96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76960" y="1957320"/>
            <a:ext cx="3951720" cy="429912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0" anchor="t">
            <a:normAutofit/>
          </a:bodyPr>
          <a:p>
            <a:pPr indent="0">
              <a:lnSpc>
                <a:spcPct val="96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98C3A-7790-4A84-AE48-A383BDC77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9560" y="960120"/>
            <a:ext cx="908676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F02E7-BD46-42D5-9D25-8EEFE4CAA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69560" y="960120"/>
            <a:ext cx="9086760" cy="253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E1EB5-9569-4576-9333-5F1AFADED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9560" y="960120"/>
            <a:ext cx="908676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27240" y="1957320"/>
            <a:ext cx="3951720" cy="205056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0" anchor="t">
            <a:normAutofit/>
          </a:bodyPr>
          <a:p>
            <a:pPr indent="0">
              <a:lnSpc>
                <a:spcPct val="96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376960" y="1957320"/>
            <a:ext cx="3951720" cy="429912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0" anchor="t">
            <a:normAutofit/>
          </a:bodyPr>
          <a:p>
            <a:pPr indent="0">
              <a:lnSpc>
                <a:spcPct val="96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27240" y="4203000"/>
            <a:ext cx="3951720" cy="205056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0" anchor="t">
            <a:normAutofit/>
          </a:bodyPr>
          <a:p>
            <a:pPr indent="0">
              <a:lnSpc>
                <a:spcPct val="96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94E85-9083-4ECE-828C-39B7FEED9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9560" y="960120"/>
            <a:ext cx="908676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27240" y="1957320"/>
            <a:ext cx="3951720" cy="429912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0" anchor="t">
            <a:normAutofit/>
          </a:bodyPr>
          <a:p>
            <a:pPr indent="0">
              <a:lnSpc>
                <a:spcPct val="96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76960" y="1957320"/>
            <a:ext cx="3951720" cy="205056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0" anchor="t">
            <a:normAutofit/>
          </a:bodyPr>
          <a:p>
            <a:pPr indent="0">
              <a:lnSpc>
                <a:spcPct val="96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76960" y="4203000"/>
            <a:ext cx="3951720" cy="205056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0" anchor="t">
            <a:normAutofit/>
          </a:bodyPr>
          <a:p>
            <a:pPr indent="0">
              <a:lnSpc>
                <a:spcPct val="96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14AFE-22F1-4C51-8F72-1F86F91A8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9560" y="960120"/>
            <a:ext cx="908676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27240" y="1957320"/>
            <a:ext cx="3951720" cy="205056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0" anchor="t">
            <a:normAutofit/>
          </a:bodyPr>
          <a:p>
            <a:pPr indent="0">
              <a:lnSpc>
                <a:spcPct val="96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76960" y="1957320"/>
            <a:ext cx="3951720" cy="205056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0" anchor="t">
            <a:normAutofit/>
          </a:bodyPr>
          <a:p>
            <a:pPr indent="0">
              <a:lnSpc>
                <a:spcPct val="96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27240" y="4203000"/>
            <a:ext cx="8097840" cy="205056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0" anchor="t">
            <a:normAutofit/>
          </a:bodyPr>
          <a:p>
            <a:pPr indent="0">
              <a:lnSpc>
                <a:spcPct val="96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C78A9-3371-46DF-8D06-55CA401E6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7137360"/>
            <a:ext cx="10080720" cy="4222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1655640" y="108000"/>
            <a:ext cx="10080360" cy="4222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595520" y="57240"/>
            <a:ext cx="2333520" cy="336600"/>
          </a:xfrm>
          <a:prstGeom prst="roundRect">
            <a:avLst>
              <a:gd name="adj" fmla="val 46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sldNum" idx="1"/>
          </p:nvPr>
        </p:nvSpPr>
        <p:spPr>
          <a:xfrm>
            <a:off x="169920" y="7167240"/>
            <a:ext cx="110808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C36774-B65F-49F9-B4E5-8FEB795E56AB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596960" y="163440"/>
            <a:ext cx="1800" cy="258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96960" y="7137360"/>
            <a:ext cx="1800" cy="211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2"/>
          </p:nvPr>
        </p:nvSpPr>
        <p:spPr>
          <a:xfrm>
            <a:off x="741240" y="7038720"/>
            <a:ext cx="302256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7889fb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7889fb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3"/>
          </p:nvPr>
        </p:nvSpPr>
        <p:spPr>
          <a:xfrm>
            <a:off x="6324480" y="7038720"/>
            <a:ext cx="302256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7889fb"/>
                </a:solidFill>
                <a:latin typeface="Arial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7889fb"/>
                </a:solidFill>
                <a:latin typeface="Arial"/>
                <a:ea typeface="MS P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title"/>
          </p:nvPr>
        </p:nvSpPr>
        <p:spPr>
          <a:xfrm>
            <a:off x="169560" y="960120"/>
            <a:ext cx="908676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1227240" y="1957320"/>
            <a:ext cx="8097840" cy="429912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0" anchor="t">
            <a:normAutofit/>
          </a:bodyPr>
          <a:p>
            <a:pPr marL="228600" indent="-228600">
              <a:lnSpc>
                <a:spcPct val="96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2600">
              <a:lnSpc>
                <a:spcPct val="96000"/>
              </a:lnSpc>
              <a:buClr>
                <a:srgbClr val="2db6b3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6000"/>
              </a:lnSpc>
              <a:buClr>
                <a:srgbClr val="2db6b3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6000"/>
              </a:lnSpc>
              <a:buClr>
                <a:srgbClr val="2db6b3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6000"/>
              </a:lnSpc>
              <a:buClr>
                <a:srgbClr val="2db6b3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6000"/>
              </a:lnSpc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6000"/>
              </a:lnSpc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47640" y="1116000"/>
            <a:ext cx="7574040" cy="245592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Breakthrough Solution Wi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9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; the service will be signed soon at around.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9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the service will be signed soon at ar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9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the service will be signed soon at ar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9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the service will be signed soon at ar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9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The was sig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9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Solution Asse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9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Assessment Tool, harvested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9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solution service assets have been rolled in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9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Smarter Industry Solutions industry solutions and asset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9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23880" y="3624120"/>
            <a:ext cx="7583400" cy="126396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SW LB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宋体"/>
              </a:rPr>
              <a:t>the service will be signed soon at around.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宋体"/>
              </a:rPr>
              <a:t>the service will be signed soon at ar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宋体"/>
              </a:rPr>
              <a:t>the service will be signed soon at ar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宋体"/>
              </a:rPr>
              <a:t>the service will be signed soon at ar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宋体"/>
              </a:rPr>
              <a:t>The was sig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9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9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6000" y="539280"/>
            <a:ext cx="937584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23880" y="4956120"/>
            <a:ext cx="7583400" cy="1100160"/>
          </a:xfrm>
          <a:prstGeom prst="rect">
            <a:avLst/>
          </a:prstGeom>
          <a:solidFill>
            <a:srgbClr val="cc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WW WAB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9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Gill Sans"/>
                <a:ea typeface="宋体"/>
              </a:rPr>
              <a:t>Design Wins:  Directly impact (Customer 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9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Gill Sans"/>
                <a:ea typeface="宋体"/>
              </a:rPr>
              <a:t>published customer reference Manag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9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Gill Sans"/>
                <a:ea typeface="宋体"/>
              </a:rPr>
              <a:t>Successfully run IAAA Partner Day. IDSAFDAFNew Technology and Industry Solution Workshop, with 1000 opportunities identified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9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Gill Sans"/>
                <a:ea typeface="宋体"/>
              </a:rPr>
              <a:t>Education: 5Q 1rewre02 resources from 322349 BPs trained, certifi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9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23880" y="6108840"/>
            <a:ext cx="7583400" cy="946080"/>
          </a:xfrm>
          <a:prstGeom prst="rect">
            <a:avLst/>
          </a:prstGeom>
          <a:solidFill>
            <a:srgbClr val="ffcc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1360" indent="-169920">
              <a:lnSpc>
                <a:spcPct val="7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BASSFDPS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69920"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69920">
              <a:lnSpc>
                <a:spcPct val="79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宋体"/>
              </a:rPr>
              <a:t>Supported demo on 2111 IMPT in Las, V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69920">
              <a:lnSpc>
                <a:spcPct val="79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宋体"/>
              </a:rPr>
              <a:t>Successfully supported the Wsdfadade PoC on d the KdsfaPI monitoring solution asset and incorporate it with the latest IIFsdfa 1.sdfasd4 code. KdfaPI monitoring code will be merged to next release of produc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69920">
              <a:lnSpc>
                <a:spcPct val="79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69920">
              <a:lnSpc>
                <a:spcPct val="79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4B186-8B28-47EA-BFBC-574719D67046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9T11:17:30Z</dcterms:created>
  <dc:creator/>
  <dc:description/>
  <dc:language>en-US</dc:language>
  <cp:lastModifiedBy>crystal</cp:lastModifiedBy>
  <cp:lastPrinted>2010-01-29T11:17:30Z</cp:lastPrinted>
  <dcterms:modified xsi:type="dcterms:W3CDTF">2012-07-10T05:48:56Z</dcterms:modified>
  <cp:revision>104</cp:revision>
  <dc:subject/>
  <dc:title>CDL UT All Hands and Celebration 2009</dc:title>
</cp:coreProperties>
</file>