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A22C-8E2B-4947-8978-8B99A7700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B86C-BD81-40E6-9A07-4A50426A4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3C7B-F7ED-4FFD-B4BD-550CA8614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8038-E331-49C7-9BA0-FE3E2E683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F971F-5C92-4665-B27E-04A4D2B30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1749A-1FCA-4CA4-AAF8-FFC2DD0094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FFD96-B88E-4895-A8A1-62D581D8A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D0F5-7EA2-4CC5-B4E1-F660866F0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B7C4-585C-4570-BD80-F18686D5D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83AD0-F045-41BB-B11F-36F7E07680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03B4-85BD-4AEF-87C9-7B83266DE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E4F6-208E-447A-A1F0-5E6A7D5EE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A3524-3DE4-4B31-805B-093F48158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3EE3C-C391-4E35-B512-9F53CCA6C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0C61B-F066-4EE6-86BB-2B073071F3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6F7E-B8C7-4500-B41A-EEAFDE59A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6BA9-4107-4BF4-BC6F-7D604E8BCA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43BCC-87A2-4BB1-9398-9F02FDB8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3CD0D-170F-4283-904F-2B373DE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9E640-900D-4FFE-BD80-5F9F8A6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14511-1128-4E5A-A578-EFF313E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CA1B46-9073-4F90-9955-35B1E03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FDF5-FDEA-43FE-8FF2-647760C40D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A1CE4-93B7-4EC8-92BF-8645A78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CD2BE-5537-4AB2-988E-5C934906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9327C-42ED-4B5B-ADC7-E720A969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414BF-2F41-4818-B8E9-2AF6D10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97BA8-8325-4D8E-9CBA-13731AE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5A1A8-3711-4DA5-8283-547B2B28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97532-7D90-4B72-B669-E8105427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31A8-9644-425B-9BED-8D5440CA4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8011-4829-4796-8685-6EAAF4239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6D4F-F0F9-4078-B0AE-5AC6A4EC7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18A2-A253-4FBA-9C0D-7EBC1771C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79D8-D3AC-41F3-B53D-4B2985C4F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CA9A-13F0-47ED-9767-4CFB64E2B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E77-B2B9-4B3D-837A-78704E6167E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9C8-0366-42BF-B7A5-18F698A110F9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53E-06CB-4727-A202-DE1F3D87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rediff.com/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links!!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ediff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59:49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3-16T17:02:06Z</dcterms:modified>
  <cp:revision>1</cp:revision>
  <dc:subject/>
  <dc:title>Hyperlinks!! color</dc:title>
</cp:coreProperties>
</file>