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558FB-094B-4FB8-AA65-8794970243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73179-3B62-45A3-A98B-023119FA73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EA6AD-52EF-461E-BB69-DA77BA6039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38850-B7D8-4503-B47A-D16FBE159A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D65878-CC5B-47A3-B4B1-4C20D55163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2E0FD1-AF20-455F-9FF3-F8D957D86A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253D1E-CD56-4B6A-92FD-6FE0DB3B10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BE1EF7-F05B-4D55-84B4-429E4781C4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655DB1-1B7F-4061-8756-3BC06377FD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613251-68E0-4271-A24B-23C25FC757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540F9F-4F0E-415B-9B7C-3729093D48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A3D98-16DC-48B9-B01C-93E8A55E44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66800F-AC6E-4302-A764-7C17050E47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FA7DC9-5E78-4BFB-9B2D-91F3FCF14B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1EBBB6-7884-485B-B881-FE2B77FB5B5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FD1552-3B05-4A90-985F-92E69BFB6E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4165C3-CB1F-4677-B722-0AEF0656C60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32FADD-A293-401A-9964-C763DA8E0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900670-C8A8-477C-88BA-1DB296F2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0094C2-C1CD-4D84-AA9B-A2C2D60D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5196C7-FC38-4310-BB8C-8DE2C5A5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DD922E-C782-4CD8-B4F8-7CC41339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0ADEF-27C7-4B24-A0F4-FA3A1495A83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BC7781-13F7-4B4D-AD67-A142F32D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011092-F3AE-426A-949F-C47DEAB1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5508B6-6CD8-4FB7-B0CE-DFFCC3C7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DF071C-131A-458D-8166-4F815A45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E47BD9-73A4-4125-84E6-31A162FA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2E1517-79AB-4C8E-BAC5-D3A62649D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F990AE-A93A-4DB5-B4B2-E6023F207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4D0F7-E5D6-4FA3-B143-15AC3DDA35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E87B8-6DB7-42B6-952D-F86BC31826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D23F3-9669-414A-B68A-FDE8A28145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BA2A5-ED5A-46B2-A1C1-7B29424698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6E693-C675-44E6-A842-546CD3636E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B4FCA-EDF2-46B8-8097-57DC1DFB79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40477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4720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156520" y="6111720"/>
            <a:ext cx="1749600" cy="746280"/>
            <a:chOff x="8156520" y="6111720"/>
            <a:chExt cx="1749600" cy="74628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8435880" y="638964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8156520" y="6111720"/>
              <a:ext cx="17496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6C71-0F88-4FD8-A499-00AB64FCBFB9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574640"/>
            <a:ext cx="70992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60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3"/>
          </p:nvPr>
        </p:nvSpPr>
        <p:spPr>
          <a:xfrm>
            <a:off x="5853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8156520" y="2962440"/>
            <a:ext cx="1749600" cy="745920"/>
            <a:chOff x="8156520" y="2962440"/>
            <a:chExt cx="1749600" cy="74592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8437680" y="324000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8156520" y="2962440"/>
              <a:ext cx="1749600" cy="74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3"/>
          <p:cNvSpPr>
            <a:spLocks noGrp="1"/>
          </p:cNvSpPr>
          <p:nvPr>
            <p:ph type="sldNum" idx="4"/>
          </p:nvPr>
        </p:nvSpPr>
        <p:spPr>
          <a:xfrm>
            <a:off x="21600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3025-AA7F-4974-90C0-5DBDB835195D}" type="slidenum">
              <a:rPr b="0" lang="en-GB" sz="8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7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1000-F1BD-4A20-A0C2-8BEEEAF95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Scope &amp; implementatio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All suppl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Implementation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second Phase 2 creat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first Phase 2 further deploy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Rest of the fa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Division of work between this project in the are as 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굴림"/>
              </a:rPr>
              <a:t>1st wa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:  can be anything related to home rest which is very use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굴림"/>
              </a:rPr>
              <a:t>2nd wa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:  cannot be anything which can be done at 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AA4C4A-2AB1-4F9A-8518-3DB1C150E06A}" type="slidenum">
              <a:t>1</a:t>
            </a:fld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14:54:16Z</dcterms:created>
  <dc:creator>nandita</dc:creator>
  <dc:description/>
  <cp:keywords/>
  <dc:language>en-US</dc:language>
  <cp:lastModifiedBy>nandita</cp:lastModifiedBy>
  <cp:lastPrinted>1998-09-04T08:04:32Z</cp:lastPrinted>
  <dcterms:modified xsi:type="dcterms:W3CDTF">2010-06-02T14:56:36Z</dcterms:modified>
  <cp:revision>1</cp:revision>
  <dc:subject/>
  <dc:title>Scope &amp; implementation plan</dc:title>
</cp:coreProperties>
</file>