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5172120"/>
            <a:ext cx="360" cy="11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296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296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33B3-BD9B-4AF6-AE82-F8FDACB4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6FC9-13D0-43C1-91BE-60AF8B70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1F896-3BFB-4766-89C1-4C40D39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2F0B-B466-476D-992E-56B445E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96C8-179C-47F7-BC23-1A197F99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D608-8881-4BCA-A0A1-4870BAC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03F6-EA25-4BF3-A56A-047B689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CC4F4-25D7-46D6-BE10-43891C9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107EF-7FA2-4471-AC2D-0C06B89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1BD46-A583-40ED-81AC-8889D71C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C5A8-F6DB-4613-994A-60E58D96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044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62960" y="160020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792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0044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62960" y="3947040"/>
            <a:ext cx="2059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C22A9-8AD7-4210-AA77-679FC81D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720" y="394704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720" y="1600200"/>
            <a:ext cx="31212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3947040"/>
            <a:ext cx="63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3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80360" y="6461280"/>
            <a:ext cx="1439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98A92B0-8F16-42A1-B45B-0CEEA7357A02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4658AC-EF91-46D1-A47F-BA531FAC448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61544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Uvvvvvvvvvvvvvvvv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vvvvvvvvvvvvvvv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vvvvvvvvvvvvvvvvv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vvvvvvvvvvvvvv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vvvvvvvvvvv vvvvvvv vvvv vvvv vvvvvvvv vvvvvvvvvv vvvvv vvvvvvv vvvvvvvvvvv vvvvvvvv vvvvvv vvvv vvvvv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</dc:creator>
  <dc:description/>
  <dc:language>en-US</dc:language>
  <cp:lastModifiedBy/>
  <cp:revision>0</cp:revision>
  <dc:subject/>
  <dc:title>投影片 1</dc:title>
</cp:coreProperties>
</file>