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857-2B8A-4F9A-80E7-66E14CF0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701-B4E1-42D3-B5C8-793385BB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423-28FA-461A-B41B-DA4BFEEF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5A7-1698-48C0-AB1D-C31BC0CB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9B2-7831-43C7-9AF9-AFD547F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853-8D66-4CE7-89DE-CB455097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4A8-F998-41BF-B097-3298CF8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F98-9EE3-47C5-9684-AA93454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95C-D7B0-40A7-B7EC-C9056195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7DA-8E3F-4519-8E7A-7B2235E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9B9-8B81-415B-A31F-B963C48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600-8F0F-427E-9573-A059BCD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7E2C2-358F-46D9-9FCC-3289D89C9F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ll 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p, 2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7:48:23Z</dcterms:created>
  <dc:creator/>
  <dc:description/>
  <dc:language>en-US</dc:language>
  <cp:lastModifiedBy/>
  <cp:revision>0</cp:revision>
  <dc:subject/>
  <dc:title/>
</cp:coreProperties>
</file>