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0547-D601-4908-A250-741CE3961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BAAE-3FFF-42DC-AF96-71C61B03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FF46-6488-474B-A281-4DF198F21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04AA-CDAB-43DA-88E0-96A88F087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FAF9-21BC-4273-9BF7-8930C5E0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1C8E-7ED2-42E3-BA99-8861354C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2E5B-9AE3-47BF-A838-4E52D0F1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48EE-D444-4B5E-A34E-E577C268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C141-2B53-418F-A325-6A6118CB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3DEE-B1C6-4791-AE1C-D36BB19B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94E6-3DCC-4EF4-9801-A41DEF58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183F-86DB-4975-8D11-DCBC015D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7E28-4A59-495C-8A6B-CFCFA593C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0" y="304920"/>
            <a:ext cx="4809960" cy="84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Script MT Bold"/>
              </a:rPr>
              <a:t>Mengenal MS Office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Script MT Bold"/>
              <a:ea typeface="Script MT Bold"/>
            </a:endParaRPr>
          </a:p>
        </p:txBody>
      </p:sp>
      <p:sp>
        <p:nvSpPr>
          <p:cNvPr id="42" name=""/>
          <p:cNvSpPr/>
          <p:nvPr/>
        </p:nvSpPr>
        <p:spPr>
          <a:xfrm>
            <a:off x="2514600" y="1219320"/>
            <a:ext cx="4724280" cy="1169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5880" y="25909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AB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indefinite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7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70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9:09:00Z</dcterms:created>
  <dc:creator>win</dc:creator>
  <dc:description/>
  <dc:language>en-US</dc:language>
  <cp:lastModifiedBy>windows</cp:lastModifiedBy>
  <dcterms:modified xsi:type="dcterms:W3CDTF">2005-05-23T07:56:23Z</dcterms:modified>
  <cp:revision>6</cp:revision>
  <dc:subject/>
  <dc:title>Slide 1</dc:title>
</cp:coreProperties>
</file>