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37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37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204840"/>
            <a:ext cx="8379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37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6920" y="106632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5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37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6920" y="3771360"/>
            <a:ext cx="26978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204840"/>
            <a:ext cx="83790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7136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88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771360"/>
            <a:ext cx="8379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238880" y="6400800"/>
            <a:ext cx="1600200" cy="31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05320" y="6477120"/>
            <a:ext cx="2133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1179E381-6F5A-4E82-9FA2-0AAB3A5DEA03}" type="slidenum">
              <a:rPr b="0" lang="en-GB" sz="8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76320"/>
          </a:xfrm>
          <a:prstGeom prst="roundRect">
            <a:avLst>
              <a:gd name="adj" fmla="val 2083"/>
            </a:avLst>
          </a:prstGeom>
          <a:solidFill>
            <a:srgbClr val="006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6477120"/>
            <a:ext cx="1038240" cy="245520"/>
            <a:chOff x="380880" y="6477120"/>
            <a:chExt cx="1038240" cy="245520"/>
          </a:xfrm>
        </p:grpSpPr>
        <p:sp>
          <p:nvSpPr>
            <p:cNvPr id="4" name=""/>
            <p:cNvSpPr/>
            <p:nvPr/>
          </p:nvSpPr>
          <p:spPr>
            <a:xfrm>
              <a:off x="380880" y="6477120"/>
              <a:ext cx="1038240" cy="21420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1600" y="6477120"/>
              <a:ext cx="1036440" cy="245520"/>
            </a:xfrm>
            <a:prstGeom prst="roundRect">
              <a:avLst>
                <a:gd name="adj" fmla="val 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© 2007 Convio, In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380880" y="942840"/>
            <a:ext cx="841068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04840"/>
            <a:ext cx="8379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9006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83790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ts val="2812"/>
              </a:lnSpc>
              <a:buClr>
                <a:srgbClr val="006f82"/>
              </a:buClr>
              <a:buSzPct val="85000"/>
              <a:buFont typeface="Arial"/>
              <a:buChar char="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68400" indent="-398520">
              <a:lnSpc>
                <a:spcPts val="2812"/>
              </a:lnSpc>
              <a:buClr>
                <a:srgbClr val="29006a"/>
              </a:buClr>
              <a:buFont typeface="Lucida Sans Unicode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425600" indent="-339840">
              <a:lnSpc>
                <a:spcPts val="2812"/>
              </a:lnSpc>
              <a:buClr>
                <a:srgbClr val="b7d31b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882800" indent="-339840">
              <a:lnSpc>
                <a:spcPts val="2812"/>
              </a:lnSpc>
              <a:buClr>
                <a:srgbClr val="bdbdb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340000" indent="-339840">
              <a:lnSpc>
                <a:spcPts val="2812"/>
              </a:lnSpc>
              <a:buClr>
                <a:srgbClr val="bdbdb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680000"/>
            <a:ext cx="5840280" cy="172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03200"/>
            <a:ext cx="2970360" cy="587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76320"/>
          </a:xfrm>
          <a:prstGeom prst="roundRect">
            <a:avLst>
              <a:gd name="adj" fmla="val 2083"/>
            </a:avLst>
          </a:prstGeom>
          <a:solidFill>
            <a:srgbClr val="006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6160" y="64771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r"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  <a:ea typeface="Arial"/>
              </a:rPr>
              <a:t>© 2007 Convio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676520"/>
            <a:ext cx="738828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9006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ts val="2812"/>
              </a:lnSpc>
              <a:buClr>
                <a:srgbClr val="006f82"/>
              </a:buClr>
              <a:buSzPct val="85000"/>
              <a:buFont typeface="Arial"/>
              <a:buChar char="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68400" indent="-398520">
              <a:lnSpc>
                <a:spcPts val="2812"/>
              </a:lnSpc>
              <a:buClr>
                <a:srgbClr val="29006a"/>
              </a:buClr>
              <a:buFont typeface="Lucida Sans Unicode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425600" indent="-339840">
              <a:lnSpc>
                <a:spcPts val="2812"/>
              </a:lnSpc>
              <a:buClr>
                <a:srgbClr val="b7d31b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882800" indent="-339840">
              <a:lnSpc>
                <a:spcPts val="2812"/>
              </a:lnSpc>
              <a:buClr>
                <a:srgbClr val="bdbdb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340000" indent="-339840">
              <a:lnSpc>
                <a:spcPts val="2812"/>
              </a:lnSpc>
              <a:buClr>
                <a:srgbClr val="bdbdb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340000" indent="-339840">
              <a:lnSpc>
                <a:spcPts val="2812"/>
              </a:lnSpc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3432240"/>
            <a:ext cx="739116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83822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212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2900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