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C122-26AD-4693-B3B8-9CF1F0D3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BADA-CF2B-45DB-AF97-C98417A8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1D63-46E2-416D-8130-C871605F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7BD-0D39-49F9-9168-836F2933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E699-7DCF-4305-810E-82B67721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6ABE-7DA7-46DD-9579-A257C412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2CE1-3F62-4319-AEDD-E064FA9C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D0F-4186-43F7-8A13-A417B50C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B5E3-DA79-42D4-B766-58DF6545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FCE5-A43B-475D-8611-695E01A8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8C0-B7DF-495A-B0DE-39DEF115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B8D-F135-4AFB-ADEA-A75F9846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6C4C-E90B-416F-AA5D-E1DB37D73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calc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hyperlink" Target="file:///tmp/home/.config/libreoffice/4/user/gallery/tada.wav" TargetMode="Externa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over -&gt; Hyperlink to Sli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24680" y="228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click -&gt; Run program -&gt; cal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Environment (system) variable PATH includes needed 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>
            <a:off x="2286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24680" y="1219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S00580_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09480"/>
            <a:ext cx="190656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click -&gt; Hyperlink to U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2286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24680" y="2666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E01832_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67616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click -&gt; Show Objec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click -&gt; Play 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 cl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2286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41911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914400"/>
          <a:ext cx="2362320" cy="1370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2362320" cy="13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934320" y="12193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EN00349_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914400"/>
            <a:ext cx="22986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click -&gt; Run Macro -&gt; message 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2286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705720" y="5715000"/>
            <a:ext cx="1866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End Sh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08:47:38Z</dcterms:created>
  <dc:creator>a</dc:creator>
  <dc:description/>
  <dc:language>en-US</dc:language>
  <cp:lastModifiedBy>a</cp:lastModifiedBy>
  <dcterms:modified xsi:type="dcterms:W3CDTF">2011-09-17T16:05:02Z</dcterms:modified>
  <cp:revision>8</cp:revision>
  <dc:subject/>
  <dc:title>1</dc:title>
</cp:coreProperties>
</file>