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226-0A40-4283-956A-170979EE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50C-DEBE-4E37-B051-E03D7C96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37D-4738-4DBC-8690-4ABDDD89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9CF-8E0C-4D85-BA4B-B5889241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153-BDC1-486F-B455-3E7127AA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B94-86FB-4730-8D89-2CD9E1B8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2F3-1368-41C1-9D38-50832E55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8F1-BBE6-449C-B879-DABFCA74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81F-ED16-44F0-9E47-BF1B895F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AC0-BFEE-4F5A-9151-4169C9BF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6AE-CF59-445C-9327-481E8C3F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FD3-A052-4E7B-A848-9B8F3FF1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957D-EB2C-4A8B-A83A-6080BB8D2B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24000" y="765000"/>
          <a:ext cx="5977080" cy="5197680"/>
        </p:xfrm>
        <a:graphic>
          <a:graphicData uri="http://schemas.openxmlformats.org/drawingml/2006/table">
            <a:tbl>
              <a:tblPr/>
              <a:tblGrid>
                <a:gridCol w="1224000"/>
                <a:gridCol w="2087640"/>
                <a:gridCol w="720720"/>
                <a:gridCol w="720720"/>
                <a:gridCol w="647640"/>
                <a:gridCol w="5763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son</cp:lastModifiedBy>
  <dcterms:modified xsi:type="dcterms:W3CDTF">2005-04-15T08:29:04Z</dcterms:modified>
  <cp:revision>9</cp:revision>
  <dc:subject/>
  <dc:title>PowerPoint Presentation</dc:title>
</cp:coreProperties>
</file>