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A30-7144-4833-984C-13E455C0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962-DEF6-45F9-9C15-7C8DB8F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062-D436-45A6-9120-F2B734F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7A6-ED26-48D6-87E4-0FE32D7F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B4C-3E6D-49DB-B8B2-28280A8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449-B9F6-4C92-8416-9CF6CDB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59D-6E3E-4CD0-87EB-3929C7A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8D8-F03B-4584-B0AB-DFE136E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F88-991D-45A4-B446-057B50B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08C-5355-4AD6-9096-494F3E0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27E-B564-45FC-A95D-49DBBB9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8BF-E616-4112-AD3D-A04816F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84B-1006-412D-AAAD-BC2A444CB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ouche%5B1%5D.wav" TargetMode="External"/><Relationship Id="rId3" Type="http://schemas.microsoft.com/office/2007/relationships/media" Target="file:///tmp/home/.config/libreoffice/4/user/gallery/mouche%5B1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%20vache" descr=""/>
          <p:cNvPicPr/>
          <p:nvPr/>
        </p:nvPicPr>
        <p:blipFill>
          <a:blip r:embed="rId1"/>
          <a:stretch/>
        </p:blipFill>
        <p:spPr>
          <a:xfrm>
            <a:off x="304920" y="398520"/>
            <a:ext cx="8610480" cy="645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c un nez pareil, je suis sur de ne pas me tromper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486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 étais encore en train de glander…!!  Hein..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248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z bosse mainte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22:07:19Z</dcterms:created>
  <dc:creator>Emeline</dc:creator>
  <dc:description/>
  <dc:language>en-US</dc:language>
  <cp:lastModifiedBy>Emeline</cp:lastModifiedBy>
  <dcterms:modified xsi:type="dcterms:W3CDTF">2003-09-14T23:19:38Z</dcterms:modified>
  <cp:revision>2</cp:revision>
  <dc:subject/>
  <dc:title>Présentation PowerPoint</dc:title>
</cp:coreProperties>
</file>