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4163D-D27D-4EA3-A586-5E6EF628AAD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A976-AFCB-4917-9570-EAC3DA31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806E-14C6-46B2-8B01-C44C8CF6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A852-D628-4A60-ADE9-E53A8227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1AFB-F8B6-452D-A57C-927BA4C7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7D2C-C43D-46F4-BD71-C56E87B1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0CBF-3203-490F-88B9-0FE4A31D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054E-F769-4CF2-B826-8125CF88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B76F-3974-451F-9E0D-F8E7DC9C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1519-1E50-4D71-AD7A-A4A41BA8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3D26-6EEE-45D2-ABBF-830C5E8B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FA8C-49B7-49BE-893A-9B311437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CAEE-A1D9-4A82-A35B-72C18648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5DC32-1EB1-48E7-8C60-18BF064A9F7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qa.openoffice.org/issues/show_bug.cgi?id=97349" TargetMode="External"/><Relationship Id="rId2" Type="http://schemas.openxmlformats.org/officeDocument/2006/relationships/slide" Target="slide3.xm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qa.openoffice.org/issues/show_bug.cgi?id=97349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6000" spc="-1" strike="noStrike">
                <a:solidFill>
                  <a:srgbClr val="0000ff"/>
                </a:solidFill>
                <a:latin typeface="Arial"/>
              </a:rPr>
              <a:t>Issue 9734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36280"/>
            <a:ext cx="907092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98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For explanation please read the „Additional comments“ to Issue 97349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qa.openoffice.org/issues/show_bug.cgi?id=973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8748720" y="6383160"/>
            <a:ext cx="720720" cy="72108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1080"/>
              <a:gd name="textAreaBottom" fmla="*/ 674640 h 7210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b5b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-4680"/>
            <a:ext cx="10080720" cy="7559640"/>
          </a:xfrm>
          <a:prstGeom prst="rect">
            <a:avLst/>
          </a:prstGeom>
          <a:solidFill>
            <a:srgbClr val="83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7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tructuring Page“: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Beginning of Content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4720" y="1736640"/>
            <a:ext cx="907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For explanation please read the „Additional comments“ to Issue 97349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qa.openoffice.org/issues/show_bug.cgi?id=973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7777080" y="6383160"/>
            <a:ext cx="720720" cy="72108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1080"/>
              <a:gd name="textAreaBottom" fmla="*/ 674640 h 7210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10805"/>
                </a:moveTo>
                <a:lnTo>
                  <a:pt x="17806" y="3799"/>
                </a:lnTo>
                <a:lnTo>
                  <a:pt x="17806" y="17812"/>
                </a:lnTo>
                <a:close/>
              </a:path>
            </a:pathLst>
          </a:custGeom>
          <a:solidFill>
            <a:srgbClr val="b5b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748720" y="6383160"/>
            <a:ext cx="720720" cy="72108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1080"/>
              <a:gd name="textAreaBottom" fmla="*/ 674640 h 7210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b5b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ntent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4680"/>
            <a:ext cx="10080720" cy="7559640"/>
          </a:xfrm>
          <a:prstGeom prst="rect">
            <a:avLst/>
          </a:prstGeom>
          <a:solidFill>
            <a:srgbClr val="83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7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tructuring Page“: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Beginning of Content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4720" y="1736640"/>
            <a:ext cx="907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For explanation please read the „Additional comments“ to Issue 97349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http://qa.openoffice.org/issues/show_bug.cgi?id=973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777080" y="6383160"/>
            <a:ext cx="720720" cy="72108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1080"/>
              <a:gd name="textAreaBottom" fmla="*/ 674640 h 7210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10805"/>
                </a:moveTo>
                <a:lnTo>
                  <a:pt x="17806" y="3799"/>
                </a:lnTo>
                <a:lnTo>
                  <a:pt x="17806" y="17812"/>
                </a:lnTo>
                <a:close/>
              </a:path>
            </a:pathLst>
          </a:custGeom>
          <a:solidFill>
            <a:srgbClr val="b5b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748720" y="6383160"/>
            <a:ext cx="720720" cy="72108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1080"/>
              <a:gd name="textAreaBottom" fmla="*/ 674640 h 7210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b5b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ntent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-4680"/>
            <a:ext cx="10080720" cy="7559640"/>
          </a:xfrm>
          <a:prstGeom prst="rect">
            <a:avLst/>
          </a:prstGeom>
          <a:solidFill>
            <a:srgbClr val="83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tructuring Page“: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La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4720" y="1736640"/>
            <a:ext cx="907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For explanation please read the „Additional comments“ to Issue 97349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http://qa.openoffice.org/issues/show_bug.cgi?id=973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777080" y="6383160"/>
            <a:ext cx="720720" cy="72108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1080"/>
              <a:gd name="textAreaBottom" fmla="*/ 674640 h 7210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10805"/>
                </a:moveTo>
                <a:lnTo>
                  <a:pt x="17806" y="3799"/>
                </a:lnTo>
                <a:lnTo>
                  <a:pt x="17806" y="17812"/>
                </a:lnTo>
                <a:close/>
              </a:path>
            </a:pathLst>
          </a:custGeom>
          <a:solidFill>
            <a:srgbClr val="b5b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 Felix Schmitz-Justen</cp:lastModifiedBy>
  <dcterms:modified xsi:type="dcterms:W3CDTF">2009-01-06T13:54:47Z</dcterms:modified>
  <cp:revision>24</cp:revision>
  <dc:subject/>
  <dc:title>Issue 97349</dc:title>
</cp:coreProperties>
</file>