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76E39F6-D888-4254-8E44-2A02C181D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16E320E-CD01-4CDE-84AD-BB86C39AC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9F68E63-2203-46E0-B109-3543B7147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8B832C-FAEA-4D2D-906A-654445A27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1A55-E98D-4AD8-915F-88C76A146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4F16-7155-4432-B3B2-1782F15B9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C980-086D-45F3-88EA-50EF4624F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6B423-810A-48A0-B11A-15155F7EEE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EA330-5927-4E33-BF64-9E3896390F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4A38A-2BFA-4D17-A73D-03352E998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57CC-908E-49CE-95F8-AA76D729F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C50C-D598-46B2-A07A-2ABCAE235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2AD9-6861-4E50-B6C6-EF0170204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0C54A-09D3-42C4-9025-2B0A1AE66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4732-CC86-407D-811F-2BAF308B8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859E-3785-4A5B-9C05-46A0F5A4B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9480"/>
            <a:ext cx="9144000" cy="5867640"/>
          </a:xfrm>
          <a:prstGeom prst="rect">
            <a:avLst/>
          </a:prstGeom>
          <a:gradFill rotWithShape="0">
            <a:gsLst>
              <a:gs pos="0">
                <a:srgbClr val="ccccff">
                  <a:alpha val="44313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51"/>
              </a:spcBef>
              <a:buClr>
                <a:srgbClr val="486a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7440">
              <a:spcBef>
                <a:spcPts val="751"/>
              </a:spcBef>
              <a:buClr>
                <a:srgbClr val="486a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176040">
              <a:spcBef>
                <a:spcPts val="751"/>
              </a:spcBef>
              <a:buClr>
                <a:srgbClr val="486a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spcBef>
                <a:spcPts val="751"/>
              </a:spcBef>
              <a:buClr>
                <a:srgbClr val="486a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4840" indent="-176040">
              <a:spcBef>
                <a:spcPts val="751"/>
              </a:spcBef>
              <a:buClr>
                <a:srgbClr val="486a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4840" indent="-17604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4840" indent="-17604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3720" y="6498720"/>
            <a:ext cx="100476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84C0-C831-4E24-8D8D-E96C5BF2613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672160" y="6499080"/>
            <a:ext cx="3359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8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7920" y="647532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955320" y="653400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rm iWidget – Edit U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57440" y="971640"/>
            <a:ext cx="5454720" cy="5108400"/>
          </a:xfrm>
          <a:prstGeom prst="roundRect">
            <a:avLst>
              <a:gd name="adj" fmla="val 4134"/>
            </a:avLst>
          </a:pr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3c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11520" y="1316160"/>
            <a:ext cx="5224680" cy="4684680"/>
          </a:xfrm>
          <a:prstGeom prst="roundRect">
            <a:avLst>
              <a:gd name="adj" fmla="val 3667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  <a:effectLst>
            <a:outerShdw dist="17819" dir="135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10200" y="1047600"/>
            <a:ext cx="2354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Edit / Configuration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17960" y="1700280"/>
            <a:ext cx="203544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65600" y="1623960"/>
            <a:ext cx="2112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orm URL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05680" y="1662120"/>
            <a:ext cx="612720" cy="29700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Brows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26040" y="2430360"/>
            <a:ext cx="191880" cy="192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26040" y="2738520"/>
            <a:ext cx="191880" cy="19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3760" y="2046240"/>
            <a:ext cx="25351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isplay Choic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conic re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xim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917880" y="3159000"/>
            <a:ext cx="231840" cy="154080"/>
          </a:xfrm>
          <a:prstGeom prst="triangle">
            <a:avLst>
              <a:gd name="adj" fmla="val 50000"/>
            </a:avLst>
          </a:prstGeom>
          <a:solidFill>
            <a:srgbClr val="5f5f5f"/>
          </a:solidFill>
          <a:ln w="9360">
            <a:solidFill>
              <a:srgbClr val="d182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26040" y="3006720"/>
            <a:ext cx="2112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orm Ev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917880" y="4887360"/>
            <a:ext cx="231840" cy="153720"/>
          </a:xfrm>
          <a:prstGeom prst="triangle">
            <a:avLst>
              <a:gd name="adj" fmla="val 50000"/>
            </a:avLst>
          </a:prstGeom>
          <a:solidFill>
            <a:srgbClr val="5f5f5f"/>
          </a:solidFill>
          <a:ln w="9360">
            <a:solidFill>
              <a:srgbClr val="d182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26040" y="4735440"/>
            <a:ext cx="2112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dvanced op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7480" y="3579840"/>
            <a:ext cx="4186440" cy="3312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Name         Model        XPath                       Type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7480" y="3929040"/>
            <a:ext cx="4186440" cy="331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eldx         XForms     page1/section/leaf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91200" y="3967200"/>
            <a:ext cx="844560" cy="2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J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835760" y="3966840"/>
            <a:ext cx="269640" cy="238320"/>
            <a:chOff x="7835760" y="3966840"/>
            <a:chExt cx="269640" cy="238320"/>
          </a:xfrm>
        </p:grpSpPr>
        <p:sp>
          <p:nvSpPr>
            <p:cNvPr id="69" name=""/>
            <p:cNvSpPr/>
            <p:nvPr/>
          </p:nvSpPr>
          <p:spPr>
            <a:xfrm>
              <a:off x="7835760" y="3967200"/>
              <a:ext cx="26964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074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7835760" y="3966480"/>
              <a:ext cx="269640" cy="185400"/>
            </a:xfrm>
            <a:prstGeom prst="triangle">
              <a:avLst>
                <a:gd name="adj" fmla="val 50000"/>
              </a:avLst>
            </a:prstGeom>
            <a:solidFill>
              <a:srgbClr val="5f5f5f"/>
            </a:solidFill>
            <a:ln w="9360">
              <a:solidFill>
                <a:srgbClr val="d182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 flipV="1">
            <a:off x="8221680" y="3929040"/>
            <a:ext cx="500040" cy="27792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+ /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7480" y="4273560"/>
            <a:ext cx="4186440" cy="331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eldy         XForms     page1/section/leaf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91200" y="4311720"/>
            <a:ext cx="844560" cy="2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J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835760" y="4311360"/>
            <a:ext cx="269640" cy="238320"/>
            <a:chOff x="7835760" y="4311360"/>
            <a:chExt cx="269640" cy="238320"/>
          </a:xfrm>
        </p:grpSpPr>
        <p:sp>
          <p:nvSpPr>
            <p:cNvPr id="75" name=""/>
            <p:cNvSpPr/>
            <p:nvPr/>
          </p:nvSpPr>
          <p:spPr>
            <a:xfrm>
              <a:off x="7835760" y="4311720"/>
              <a:ext cx="26964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074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835760" y="4311000"/>
              <a:ext cx="269640" cy="185400"/>
            </a:xfrm>
            <a:prstGeom prst="triangle">
              <a:avLst>
                <a:gd name="adj" fmla="val 50000"/>
              </a:avLst>
            </a:prstGeom>
            <a:solidFill>
              <a:srgbClr val="5f5f5f"/>
            </a:solidFill>
            <a:ln w="9360">
              <a:solidFill>
                <a:srgbClr val="d182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V="1">
            <a:off x="8221680" y="4273560"/>
            <a:ext cx="500040" cy="27792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+ /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51600" y="5310360"/>
            <a:ext cx="20350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7480" y="5234040"/>
            <a:ext cx="3111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rver URL:           Defau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38960" y="5272200"/>
            <a:ext cx="612720" cy="29664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Brows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13520" y="1662120"/>
            <a:ext cx="729000" cy="29700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mpos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urbo Feed iWidget – Edit U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971640"/>
            <a:ext cx="5492520" cy="5108400"/>
          </a:xfrm>
          <a:prstGeom prst="roundRect">
            <a:avLst>
              <a:gd name="adj" fmla="val 4134"/>
            </a:avLst>
          </a:pr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3c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7400" y="1355760"/>
            <a:ext cx="5337000" cy="4684680"/>
          </a:xfrm>
          <a:prstGeom prst="roundRect">
            <a:avLst>
              <a:gd name="adj" fmla="val 3667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  <a:effectLst>
            <a:outerShdw dist="17819" dir="135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40240" y="1009800"/>
            <a:ext cx="2354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Edit / Configuration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49680" y="1469880"/>
            <a:ext cx="25351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eed Typ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ceived/S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ubmitted 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ubmitted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33800" y="3851280"/>
            <a:ext cx="4148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3800" y="4465800"/>
            <a:ext cx="457056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ilter Properties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y Form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y Dat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rt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    End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y Sequen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rt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    End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22960" y="4811760"/>
            <a:ext cx="12286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3800" y="1854360"/>
            <a:ext cx="192240" cy="19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33800" y="2122560"/>
            <a:ext cx="192240" cy="19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3800" y="2390760"/>
            <a:ext cx="192240" cy="192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3800" y="2658960"/>
            <a:ext cx="192240" cy="192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87840" y="2930400"/>
            <a:ext cx="4647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fres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Inter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4320" y="2998800"/>
            <a:ext cx="126684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46640" y="5118120"/>
            <a:ext cx="804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05720" y="4773600"/>
            <a:ext cx="612720" cy="29700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ick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07080" y="2968560"/>
            <a:ext cx="612720" cy="29700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ick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951600" y="5079960"/>
          <a:ext cx="258840" cy="3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0" y="5079960"/>
                    <a:ext cx="2588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7682040" y="5118120"/>
            <a:ext cx="8046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497800" y="5079960"/>
          <a:ext cx="258840" cy="3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97800" y="5079960"/>
                    <a:ext cx="2588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145200" y="5425920"/>
            <a:ext cx="103824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82040" y="5425920"/>
            <a:ext cx="103824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64240" y="4197240"/>
            <a:ext cx="107460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646600" y="4197240"/>
            <a:ext cx="268200" cy="238320"/>
            <a:chOff x="5646600" y="4197240"/>
            <a:chExt cx="268200" cy="238320"/>
          </a:xfrm>
        </p:grpSpPr>
        <p:sp>
          <p:nvSpPr>
            <p:cNvPr id="108" name=""/>
            <p:cNvSpPr/>
            <p:nvPr/>
          </p:nvSpPr>
          <p:spPr>
            <a:xfrm>
              <a:off x="5646600" y="4197240"/>
              <a:ext cx="268200" cy="23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074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646600" y="4197240"/>
              <a:ext cx="268200" cy="230400"/>
            </a:xfrm>
            <a:prstGeom prst="triangle">
              <a:avLst>
                <a:gd name="adj" fmla="val 50000"/>
              </a:avLst>
            </a:prstGeom>
            <a:solidFill>
              <a:srgbClr val="5f5f5f"/>
            </a:solidFill>
            <a:ln w="9360">
              <a:solidFill>
                <a:srgbClr val="d182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 flipV="1">
            <a:off x="3687840" y="3581280"/>
            <a:ext cx="231840" cy="154080"/>
          </a:xfrm>
          <a:prstGeom prst="triangle">
            <a:avLst>
              <a:gd name="adj" fmla="val 50000"/>
            </a:avLst>
          </a:prstGeom>
          <a:solidFill>
            <a:srgbClr val="5f5f5f"/>
          </a:solidFill>
          <a:ln w="9360">
            <a:solidFill>
              <a:srgbClr val="d182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3429000"/>
            <a:ext cx="211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orting &amp; Filte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112400" y="1776240"/>
            <a:ext cx="7348680" cy="39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urbo Feed iWidget – Edit UI Continu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9640" y="971640"/>
            <a:ext cx="5492520" cy="5108400"/>
          </a:xfrm>
          <a:prstGeom prst="roundRect">
            <a:avLst>
              <a:gd name="adj" fmla="val 4134"/>
            </a:avLst>
          </a:pr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3c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7400" y="1355760"/>
            <a:ext cx="5337000" cy="4684680"/>
          </a:xfrm>
          <a:prstGeom prst="roundRect">
            <a:avLst>
              <a:gd name="adj" fmla="val 3667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  <a:effectLst>
            <a:outerShdw dist="17819" dir="135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40240" y="1009800"/>
            <a:ext cx="2354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Edit / Configuration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48400" y="4811760"/>
            <a:ext cx="180324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4735440"/>
            <a:ext cx="2841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urbo Server URL:      defau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49680" y="1469880"/>
            <a:ext cx="25351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eed Typ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ceived/S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ubmitted 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ubmitted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3800" y="1854360"/>
            <a:ext cx="192240" cy="19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33800" y="2122560"/>
            <a:ext cx="192240" cy="19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3800" y="2390760"/>
            <a:ext cx="192240" cy="192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3800" y="2658960"/>
            <a:ext cx="192240" cy="192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87840" y="2930400"/>
            <a:ext cx="4647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fres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Inter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24320" y="2998800"/>
            <a:ext cx="126684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07080" y="2968560"/>
            <a:ext cx="612720" cy="29700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ick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727440" y="4042800"/>
            <a:ext cx="231840" cy="153720"/>
          </a:xfrm>
          <a:prstGeom prst="triangle">
            <a:avLst>
              <a:gd name="adj" fmla="val 50000"/>
            </a:avLst>
          </a:prstGeom>
          <a:solidFill>
            <a:srgbClr val="5f5f5f"/>
          </a:solidFill>
          <a:ln w="9360">
            <a:solidFill>
              <a:srgbClr val="d182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95640" y="3429000"/>
            <a:ext cx="211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orting &amp; Filte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16200000">
            <a:off x="3764520" y="3543480"/>
            <a:ext cx="231480" cy="153720"/>
          </a:xfrm>
          <a:prstGeom prst="triangle">
            <a:avLst>
              <a:gd name="adj" fmla="val 50000"/>
            </a:avLst>
          </a:prstGeom>
          <a:solidFill>
            <a:srgbClr val="5f5f5f"/>
          </a:solidFill>
          <a:ln w="9360">
            <a:solidFill>
              <a:srgbClr val="d182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3929040"/>
            <a:ext cx="211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dvanc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4311720"/>
            <a:ext cx="211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165240"/>
                <a:tab algn="l" pos="622440"/>
                <a:tab algn="l" pos="125748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ata Typ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83480" y="4773600"/>
            <a:ext cx="612720" cy="29700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Brows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40240" y="4427640"/>
            <a:ext cx="844560" cy="2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J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184800" y="4427280"/>
            <a:ext cx="269640" cy="238320"/>
            <a:chOff x="6184800" y="4427280"/>
            <a:chExt cx="269640" cy="238320"/>
          </a:xfrm>
        </p:grpSpPr>
        <p:sp>
          <p:nvSpPr>
            <p:cNvPr id="135" name=""/>
            <p:cNvSpPr/>
            <p:nvPr/>
          </p:nvSpPr>
          <p:spPr>
            <a:xfrm>
              <a:off x="6184800" y="4427640"/>
              <a:ext cx="26964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074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184800" y="4426920"/>
              <a:ext cx="269640" cy="185400"/>
            </a:xfrm>
            <a:prstGeom prst="triangle">
              <a:avLst>
                <a:gd name="adj" fmla="val 50000"/>
              </a:avLst>
            </a:prstGeom>
            <a:solidFill>
              <a:srgbClr val="5f5f5f"/>
            </a:solidFill>
            <a:ln w="9360">
              <a:solidFill>
                <a:srgbClr val="d182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8:19:18Z</dcterms:created>
  <dc:creator>chng1me</dc:creator>
  <dc:description/>
  <dc:language>en-US</dc:language>
  <cp:lastModifiedBy>dujing</cp:lastModifiedBy>
  <dcterms:modified xsi:type="dcterms:W3CDTF">2012-05-29T09:00:46Z</dcterms:modified>
  <cp:revision>1230</cp:revision>
  <dc:subject/>
  <dc:title>Workplace Forms</dc:title>
</cp:coreProperties>
</file>