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C70A-5BC3-4241-82F1-7EB00BD1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21A4-04A0-4AFF-840D-EE3C07C3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1153-F56E-42D0-AA1E-1D5FA94A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93D-3535-4B37-8E0C-966E2557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B338-0521-4807-8A96-9B0967AB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E55F-17F1-4847-8E86-0EF698DD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8CA6-0B1B-4BCC-9A0B-E7255EA1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A071-70C4-482F-B248-E0C9F77A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E49B-3A08-4691-88F8-3E359829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00C-CBC2-4DC6-9FC0-E7F02D03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E05-DDB0-4D64-AF5A-3461B4B8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0BC8-A4F7-4327-96DE-EEBBF569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3F0A-982E-4F9E-946A-0143BB5C39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Times New Roman"/>
              </a:rPr>
              <a:t>קונפורמיות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מבוא לפסיכולוגיה חברתית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Times New Roman"/>
              </a:rPr>
              <a:t>ניסויי קונפורמיות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 u="sng">
                <a:solidFill>
                  <a:srgbClr val="ffffff"/>
                </a:solidFill>
                <a:uFillTx/>
                <a:latin typeface="Times New Roman"/>
              </a:rPr>
              <a:t>ניסוי של א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המציאות ברור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קבוצת משתפי פעולה, נבדק אמיתי אח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 u="sng">
                <a:solidFill>
                  <a:srgbClr val="ffffff"/>
                </a:solidFill>
                <a:uFillTx/>
                <a:latin typeface="Times New Roman"/>
              </a:rPr>
              <a:t>ניסוי של שרי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המציאות לא ברור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כולם נבדקים אמיתיי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Times New Roman"/>
              </a:rPr>
              <a:t>סוגי קונפורמיות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</a:rPr>
              <a:t>קונפורמיות אינפורמטיבית (הניסוי של שריף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</a:rPr>
              <a:t>אנשים האמינו בנכונות התשובות הקונפורמיות שנתנו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</a:rPr>
              <a:t>התוצאה: השפעה "עמוקה", שתתבטא גם בהתבטאות לא-פומבית, ותעבור הכללה למצב אח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ff"/>
                </a:solidFill>
                <a:latin typeface="Times New Roman"/>
              </a:rPr>
              <a:t>קונפורמיות מוטיבציונית </a:t>
            </a:r>
            <a:r>
              <a:rPr b="1" lang="he-IL" sz="3200" spc="-1" strike="noStrike">
                <a:solidFill>
                  <a:srgbClr val="ffffff"/>
                </a:solidFill>
                <a:latin typeface="Times New Roman"/>
              </a:rPr>
              <a:t>(מרבית נבדקי אש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אנשים לא האמינו בתשובות הקונפורמיות שנתנו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</a:rPr>
              <a:t>התוצאה: השפעה "שטחית" שנעלמת בהתבטאות לא-פומבית ולא עוברת הכללה למצבים חדשים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Times New Roman"/>
              </a:rPr>
              <a:t>קונפורמיות בהיבט התרבותי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בתרבויות </a:t>
            </a:r>
            <a:r>
              <a:rPr b="1" lang="he-IL" sz="3200" spc="-1" strike="noStrike">
                <a:solidFill>
                  <a:srgbClr val="ffffff"/>
                </a:solidFill>
                <a:latin typeface="Times New Roman"/>
              </a:rPr>
              <a:t>קולקטיוויסטיות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יש יותר קונפורמיות מאשר בתרבויות </a:t>
            </a:r>
            <a:r>
              <a:rPr b="1" lang="he-IL" sz="3200" spc="-1" strike="noStrike">
                <a:solidFill>
                  <a:srgbClr val="ffffff"/>
                </a:solidFill>
                <a:latin typeface="Times New Roman"/>
              </a:rPr>
              <a:t>אינדיוידואליסטיות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אמפירית, הדבר הודגם הן בניסויים תפיסתיים מהסוג של אש, והן בניסויים שבדקו קונפורמיות בעמדות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בתרבויות קולקטיויסטיות יש לקונפורמיות קונוטציה ערכית חיובית יותר מאשר בתרבויות אינדיוידואליסטיות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Times New Roman"/>
              </a:rPr>
              <a:t>תנאים שמגבירים אפקטיביות של השפעת מיעוט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חברי המיעוט החריג הם חברים לגיטימיים ובעלי סטטוס גבוה בקבוצה. אינם חריגים בקבוצה במימדים אחרים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חברי המיעוט מגובשים (אין ביניהם "בוגדים ועריקים"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חברי המיעוט מביעים את עמדתם החריגה בצורה עקבית, ברורה, בפשטות ובשכנוע פנימי, כך שלא ניתן יהיה להתעלם מעמדתם או לבטלה כלא חשובה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Times New Roman"/>
              </a:rPr>
              <a:t>תוצאות של השפעת מיעוט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השפעה "עמוקה" על עמדות: יוצרים שכנוע ולא ציות מתוך פחד מסנקציות (להבדיל מהשפעות רוב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תהליך התפשטות עמדת המיעו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עמדת המיעוט הופכת לפופולרית יותר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קטן הלחץ החברתי נגד עמדת המיעו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קטנה גם הלכידות הקבוצתית של מחזיקי עמדת המיעו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Times New Roman"/>
              </a:rPr>
              <a:t>ציות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פסיכולוגיה חברתית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Times New Roman"/>
              </a:rPr>
              <a:t>התפלגות השוק המקסימלי שנתנו הנבדקים בניסוי המקורי של מילגרם (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963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.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28680" y="1941480"/>
          <a:ext cx="8208720" cy="414036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אחו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מספר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רמת השוק (וולט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גורמים </a:t>
            </a:r>
            <a:r>
              <a:rPr b="1" lang="he-IL" sz="4400" spc="-1" strike="noStrike">
                <a:solidFill>
                  <a:srgbClr val="ffff00"/>
                </a:solidFill>
                <a:latin typeface="Times New Roman"/>
              </a:rPr>
              <a:t>שאינם</a:t>
            </a: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 משפיעים על רמת הציות בניסוי של מילגרם (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lgram, 197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מין הנבד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גיל (ילדים, צעירים, מבוגרי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נתונים דומים התקבלו בארצות שונו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גורמים שמשפיעים על רמת הציות בניסוי של מילגרם (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lgram, 197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8680" y="1828440"/>
            <a:ext cx="8208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 u="sng">
                <a:solidFill>
                  <a:srgbClr val="ffffff"/>
                </a:solidFill>
                <a:uFillTx/>
                <a:latin typeface="Times New Roman"/>
              </a:rPr>
              <a:t>סמכות נתפסת של הנסיי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נבדק אחר (למעשה, משתף פעולה) בתפקיד הנסיין  -  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ציות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הניסוי מועבר בבנין משרדים מוזנח במקום באוניברסיטת ייל – 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48%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ציו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 u="sng">
                <a:solidFill>
                  <a:srgbClr val="ffffff"/>
                </a:solidFill>
                <a:uFillTx/>
                <a:latin typeface="Times New Roman"/>
              </a:rPr>
              <a:t>קרבה פיזית של הנסיי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הנסיין אינו נוכח פיזית אלא נותן הוראות בטלפון  - 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21%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ציו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גורמים שמשפיעים על רמת הציות בניסוי של מילגרם (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lgram, 197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ffff"/>
                </a:solidFill>
                <a:uFillTx/>
                <a:latin typeface="Times New Roman"/>
              </a:rPr>
              <a:t>קרבה אל הקורב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הקורבן נמצא באותו חדר כמו הנבדק ("המורה")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ציו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הנבדק ("המורה") נדרש לגעת בקרבן על מנת לתת את השוק החשמלי 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ציות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ffff"/>
                </a:solidFill>
                <a:uFillTx/>
                <a:latin typeface="Times New Roman"/>
              </a:rPr>
              <a:t>לחץ חברת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שניים מבין שלושה נבדקים בו זמניים (למעשה, משתפי פעולה) מסרבים לתת שוק  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ציות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האפקט האוטו-קינטי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herif, 1936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נבדקים ישבו בחדר חשוך, וצפו בנקודת אור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בפועל, נקודת האור לא זזה, אך אנשים נוטים לדווח על תנועה של נקודת האור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ישנם הבדלים בין-אישיים ניכרים בטווח התנועה הנתפס של נקודת האור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נבדקים התבקשו להעריך את טווח התנועה של נקודת האור לבד, או בקבוצה (כאשר כל נבדק אומר בתורו את ההערכה שלו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גורמים שמשפיעים על רמת הציות בניסוי של מילגרם (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lgram, 197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הדרגתיות של הפעולות (בכל צעד עליה של 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וולט בלבד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מאפיינים אישיותיים של הנבדק (אוטוריטריזם מגביר  נכונות לציית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"כוחה של הסיטואציה"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do not want to be rude or something, but this person might be dying there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האם תוצאות דומות היו מתקבלות היום?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us &amp; Raaijmakers, 1995</a:t>
            </a: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נבדקים התבקשו להפריע למועמד למשרה שעשה מבחן קבלה על ידי כך שקראו באזניו קריאות מלחיצות (כגון "אם תמשיך ככה בטוח תכשל")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הנבדקים ידעו שהמבחן יקבע אם המועמד יקבל את המשרה או לא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הנבדקים ידעו שהמשרה חשובה למועמד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המועמד (למעשה, משתף פעולה) התחנן שיפסיקו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92%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מהנבדקים צייתו לדרישת הנסיין להמשיך ולהלחיץ את המועמד. בהעדר נסיין שדרש שימשיכו אף נבדק לא השלים את הניסו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(כלומר – לא ציית עד הסוף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Times New Roman"/>
              </a:rPr>
              <a:t>ציות לדמויות סמכות אחרות.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אחיות בבית חולים קיבלו הוראה בטלפון מאדם לא ידוע שהזדהה כרופא לא ידוע לתת לאחד החולים במחלקה תרופה לא שגרתית במינון גבוה באופן מיוחד. 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מהאחיות צייתו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fling wt al., 1966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ציות בצבא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Times New Roman"/>
              </a:rPr>
              <a:t>ציות בצבא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לגיטימיות של הסמכות (המדינה, הצבא, המפקדים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יוקרה של הסמכו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הסמכות “לוקחת אחריות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הסמכות בעלת כוח תגמול ועניש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קרבה של הקורבנות (פיזית, פסיכולוגית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לחץ חברת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האפקט האוטו-קינטי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herif, 1936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5800" y="2057400"/>
          <a:ext cx="769608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6960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האפקט האוטו-קונטי: קונפורמיות אינפורמטיבית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המציאות לא ברור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ההערכות של האחרים נתפסות כמידע לגבי המציאו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קונפורמיות היא תוצאה של אמונה בערכן האינפורמטיבי של ההערכות של האנשים האחרים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קונפורמיות נורמטיבית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ch, 1955</a:t>
            </a: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נבדקים היו צריכים להגיד איזה מבין שלושה קווים הכי דומה באורכו ל"קו המבחן"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הקבוצה כללה שישה משתפי פעולה ונבדק אחד, שישב במקום הלפני-אחרון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בחלק מן הפעמים, כל משתפי הפעולה אמרו תשובה שהייתה בברור לא נכונה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</a:rPr>
              <a:t>המשתנה התלוי: </a:t>
            </a:r>
            <a:r>
              <a:rPr b="1" lang="hi-IN" sz="2800" spc="-1" strike="noStrike">
                <a:solidFill>
                  <a:srgbClr val="ffffff"/>
                </a:solidFill>
                <a:latin typeface="Times New Roman"/>
              </a:rPr>
              <a:t>קונפורמיות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האם הנבדק האמיתי יגיד את התשובה הלא-נכונה שהציעו יתר חברי הקבוצה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קונפורמיות נורמטיבית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ch, 1955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שיעור הקונפורמיות הממוצע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7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שיעור הנבדקים שאמרו תשובה קונפורמית לפחות במחצית מן המקרים הרלוונטיים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שיעור הנבדקים שלא היו קונפורמיים באף אחד מן המקרים הרלוונטיים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קונפורמיות נורמטיבית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ch, 1955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 u="sng">
                <a:solidFill>
                  <a:srgbClr val="ffffff"/>
                </a:solidFill>
                <a:uFillTx/>
                <a:latin typeface="Times New Roman"/>
              </a:rPr>
              <a:t>למה נכנעת ללחץ? סוגי הסברים שהציעו הנבדקי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Times New Roman"/>
              </a:rPr>
              <a:t>השפעה נורמטיבית (סוג ההשפעה השכיח ביותר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"ידעתי שאני אומר תשובה לא נכונה, אבל לא רציתי להיות שונה"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Times New Roman"/>
              </a:rPr>
              <a:t>הטלת ספק בשיפוט האיש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"חשבתי שאולי אני טועה, לא ישנתי טוב, והראיה שלי נחלשה לאחרונה, קורה לי שאני לא רואה דברים"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Times New Roman"/>
              </a:rPr>
              <a:t>סוגסטיה תפיסתית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"השתכנעתי שזוהי התשובה הנכונה. קו ג' באמת נראה לי הכי דומה לקו המבחן"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קונפורמיות כפונקציה של מספר משתפי הפעולה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ch, 1955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8080" y="2286000"/>
          <a:ext cx="739620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7396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קונפורמיות מתמתנת כשהקבוצה </a:t>
            </a:r>
            <a:r>
              <a:rPr b="1" lang="he-IL" sz="4400" spc="-1" strike="noStrike">
                <a:solidFill>
                  <a:srgbClr val="ffff00"/>
                </a:solidFill>
                <a:latin typeface="Times New Roman"/>
              </a:rPr>
              <a:t>אינה</a:t>
            </a: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 מאוחדת בדעתה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len &amp; Levine, 1969, 197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חזרו על הניסוי המקורי של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ch, 1955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אולם, אחד מארבעת משתפי הפעולה הביע שיפוט שונה מיתר חברי הקבוצה (להלן "השותף"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בניסויים שונים השותפים התנהגו באופן שונה. בכל מקרה, שיעור הקונפורמיות ירד באופן דרמטי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</a:rPr>
              <a:t>שותף שחרג מעמדת יתר משתפי הפעולה אך אמר תשובה לא נכונה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</a:rPr>
              <a:t>שותף שאמר את התשובה הנכונה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</a:rPr>
              <a:t>שותף שאמר את התשובה הנכונה אבל הרכיב משקפיים עבים והתלונן על כך שאינו רואה את מצגת הקווים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7T08:46:48Z</dcterms:created>
  <dc:creator>ד"ר נירה ליברמן </dc:creator>
  <dc:description/>
  <dc:language>en-US</dc:language>
  <cp:lastModifiedBy>maord</cp:lastModifiedBy>
  <dcterms:modified xsi:type="dcterms:W3CDTF">2002-12-30T09:08:20Z</dcterms:modified>
  <cp:revision>11</cp:revision>
  <dc:subject/>
  <dc:title>קונפורמיות </dc:title>
</cp:coreProperties>
</file>