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32C12-AC07-4A3A-B410-001C48F00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851E4-2907-44E5-9634-3BD734579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8D960-E218-4D88-98C4-8AF9BFE8F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0C2CB-8CE4-4125-90BD-8F742C4A4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BDBEB-D265-4F8C-80A2-60358D0519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18B63-7B53-4123-8FFC-2335FA2AC9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181D9-071B-4FCC-8102-100C2CC6B4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37BFB-5072-4B4A-94E3-EDE23333C0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F9EBD-7E30-460D-9581-B599040EB7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CF981-1199-4555-831E-CFA8C6C6B9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9535E-AE90-4932-B075-638A0A027B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0C0E3-6954-473B-8289-50E44E114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567F7-A7DC-416D-8E7F-7E4B48CB1A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40AB1-98EC-40D7-B0E5-A68B28BBF7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D70F9-AD6F-4F47-8022-2002C755AA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DA1D7-6A92-4886-99C0-2EC22DDBF4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D53A6-C0B8-4C90-AD0C-2ED49C0C61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82BECC-D301-4D4C-A8AB-19EC8F7E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CC6EAB-17BC-435A-B003-C0424A0D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778170-1AAB-4025-9FA2-59D08F2C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2E6E6C-B819-48FA-81AC-6ADD5852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BE8335-44F2-498D-9ED5-3797B7A2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227ED-595F-46A1-84CB-EE5513EA2E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50E97A-BD4F-47DA-BAD0-5D820712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51FB05-BE6E-4092-A992-97238D01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D68725-D915-45EC-A7F6-E0D091F8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35C631-5898-4F35-A0B1-6F082E8B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43E408-89D8-4810-9C61-A5058DE3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B252C2-3E3F-4D93-8505-92FD6478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BB6663-B4C2-49C2-B4BF-BFEBE4D3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BDDD5-182A-4DA0-B3ED-5EB57B895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C2FC0-3A90-4F35-B97E-89860DDCC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2B0DD-7123-4CF4-923F-969D31CEB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742F9-11EF-4180-9B88-BA45E84A6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271F4-5993-4860-9FAA-DCD714DCA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CE92F-B2E8-45E8-8EED-6E610C8A1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98FD-C7B1-4622-8241-4BAF7981CF92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3E18-BE3D-49B8-BD32-03FDAED43AB3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EAFF-82F4-486C-9CA3-CE410B6066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4212-3BAA-433B-9478-537D442C8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21DA4F10-8653-439A-91EC-5CBA1C40DDAF}" type="datetime1">
              <a:rPr lang="en-US"/>
              <a:t>07/29/26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08:06:51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6-17T08:09:13Z</dcterms:modified>
  <cp:revision>1</cp:revision>
  <dc:subject/>
  <dc:title>Slide 1</dc:title>
</cp:coreProperties>
</file>