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4D9-A7DB-4051-B226-BF8753A6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FAD-4E44-4BF4-B1B3-343CBBEA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C63-FD41-451B-AB35-AF4EAD12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662-F032-4B96-9955-58833758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E90-C26E-491F-93EC-5E7C7EF1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107-DF17-4157-BA84-A06CED91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2DA-5630-4636-B269-731EFEDF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98A-6648-45EC-A314-5722316A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687-51D7-4964-85C2-CB0CB84C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0BC-604C-4D1F-AEB4-3F561EF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942-D092-4E15-A2C3-48C4E3B5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724-9FED-4DA7-A629-417ED598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9DE6-109F-47A8-AB4D-B71A5C6DED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lide Transition X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o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b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728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Lef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Lef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Lef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Lef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Righ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Righ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ver Righ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96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ver Righ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ut Through Bl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079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29600" y="501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o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linds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296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ut Through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s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44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29600" y="4076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s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de Smoo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81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3141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ade Smooth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de Through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716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29600" y="2205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ade Through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ws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53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1268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wsf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sh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589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29600" y="33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ush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sh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5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ush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sh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ush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ush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ush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ndom Bars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andom Bars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ndom Bars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linds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linds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079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9600" y="501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andom Bars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hape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hape 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hape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hape Diam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hape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hape 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lit Horizontal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96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lit Horizontal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lit Horizonta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lit Horizontal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lit Vertical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079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9600" y="501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lit Vertical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lit Vertica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844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29600" y="4076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lit Vertical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ips Lef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781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3141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ips Lef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ips Lef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716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29600" y="2205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ips lef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ips Righ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653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29600" y="1268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linds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ox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44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4076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ips Righ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ips Righ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589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29600" y="33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ips Righ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5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Lef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Lef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Lef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3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Lef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Righ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40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4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Rig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cover Righ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ncover Righ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ox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ox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781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29600" y="3141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1 Sp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1 Sp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2 Sp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9079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29600" y="501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2 Sp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3 Sp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844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29600" y="407664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3 Sp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4 Sp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781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29600" y="3141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4 Sp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el Clockwise, 8 Sp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716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29600" y="2205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heel Clockwise, 8 Sp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pe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653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0" y="1268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pe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pe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589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29600" y="33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pe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p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pe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p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892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2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p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ndom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ox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eckerboard A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716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29600" y="2205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andom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4036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000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heckerboard Ac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eckerboard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653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126828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heckerboard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b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8972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29600" y="33336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b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b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9436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10:29:22Z</dcterms:created>
  <dc:creator>Christian Günther</dc:creator>
  <dc:description/>
  <dc:language>en-US</dc:language>
  <cp:lastModifiedBy>Christian Günther</cp:lastModifiedBy>
  <dcterms:modified xsi:type="dcterms:W3CDTF">2001-12-07T12:01:40Z</dcterms:modified>
  <cp:revision>11</cp:revision>
  <dc:subject/>
  <dc:title>No Transition</dc:title>
</cp:coreProperties>
</file>