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80123706435114"/>
          <c:y val="0.0199036918138042"/>
          <c:w val="0.951825859402879"/>
          <c:h val="0.961583734617443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marker>
            <c:symbol val="square"/>
            <c:size val="8"/>
            <c:spPr>
              <a:solidFill>
                <a:srgbClr val="004586"/>
              </a:solidFill>
            </c:spPr>
          </c:marker>
          <c:dPt>
            <c:idx val="0"/>
            <c:marker>
              <c:symbol val="square"/>
              <c:size val="8"/>
              <c:spPr>
                <a:solidFill>
                  <a:srgbClr val="000000"/>
                </a:solidFill>
              </c:spPr>
            </c:marker>
          </c:dPt>
          <c:dPt>
            <c:idx val="14"/>
            <c:marker>
              <c:symbol val="square"/>
              <c:size val="8"/>
              <c:spPr>
                <a:solidFill>
                  <a:srgbClr val="ff0000"/>
                </a:solidFill>
              </c:spPr>
            </c:marker>
          </c:dPt>
          <c:dPt>
            <c:idx val="15"/>
            <c:marker>
              <c:symbol val="square"/>
              <c:size val="8"/>
              <c:spPr>
                <a:solidFill>
                  <a:srgbClr val="ff0000"/>
                </a:solidFill>
              </c:spPr>
            </c:marker>
          </c:dPt>
          <c:dPt>
            <c:idx val="16"/>
            <c:marker>
              <c:symbol val="square"/>
              <c:size val="8"/>
              <c:spPr>
                <a:solidFill>
                  <a:srgbClr val="ff0000"/>
                </a:solidFill>
              </c:spPr>
            </c:marker>
          </c:dPt>
          <c:dPt>
            <c:idx val="19"/>
            <c:marker>
              <c:symbol val="square"/>
              <c:size val="8"/>
              <c:spPr>
                <a:solidFill>
                  <a:srgbClr val="ff0000"/>
                </a:solidFill>
              </c:spPr>
            </c:marker>
          </c:dPt>
          <c:dPt>
            <c:idx val="20"/>
            <c:marker>
              <c:symbol val="square"/>
              <c:size val="8"/>
              <c:spPr>
                <a:solidFill>
                  <a:srgbClr val="000080"/>
                </a:solidFill>
              </c:spPr>
            </c:marker>
          </c:dPt>
          <c:dPt>
            <c:idx val="21"/>
            <c:marker>
              <c:symbol val="square"/>
              <c:size val="8"/>
              <c:spPr>
                <a:solidFill>
                  <a:srgbClr val="ffff00"/>
                </a:solidFill>
              </c:spPr>
            </c:marker>
          </c:dPt>
          <c:dPt>
            <c:idx val="25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27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29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30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31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Pt>
            <c:idx val="32"/>
            <c:marker>
              <c:symbol val="square"/>
              <c:size val="8"/>
              <c:spPr>
                <a:solidFill>
                  <a:srgbClr val="00ff00"/>
                </a:solidFill>
              </c:spPr>
            </c:marke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1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1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16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19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7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29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3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3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dLbl>
              <c:idx val="3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t"/>
              <c:showLegendKey val="0"/>
              <c:showVal val="0"/>
              <c:showCatName val="1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t"/>
            <c:showLegendKey val="0"/>
            <c:showVal val="0"/>
            <c:showCatName val="1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34"/>
                <c:pt idx="0">
                  <c:v>2083.2</c:v>
                </c:pt>
                <c:pt idx="1">
                  <c:v>2064.1</c:v>
                </c:pt>
                <c:pt idx="2">
                  <c:v>2061.7</c:v>
                </c:pt>
                <c:pt idx="3">
                  <c:v>2059.2</c:v>
                </c:pt>
                <c:pt idx="4">
                  <c:v>2056.1</c:v>
                </c:pt>
                <c:pt idx="5">
                  <c:v>2068.9</c:v>
                </c:pt>
                <c:pt idx="6">
                  <c:v>2066.4</c:v>
                </c:pt>
                <c:pt idx="7">
                  <c:v>2056.4</c:v>
                </c:pt>
                <c:pt idx="8">
                  <c:v>2066.6</c:v>
                </c:pt>
                <c:pt idx="9">
                  <c:v>2061.9</c:v>
                </c:pt>
                <c:pt idx="10">
                  <c:v>2065.3</c:v>
                </c:pt>
                <c:pt idx="11">
                  <c:v>2067</c:v>
                </c:pt>
                <c:pt idx="12">
                  <c:v>2063.7</c:v>
                </c:pt>
                <c:pt idx="13">
                  <c:v>2066.7</c:v>
                </c:pt>
                <c:pt idx="14">
                  <c:v>2079.5</c:v>
                </c:pt>
                <c:pt idx="15">
                  <c:v>2076.3</c:v>
                </c:pt>
                <c:pt idx="16">
                  <c:v>2085.3</c:v>
                </c:pt>
                <c:pt idx="17">
                  <c:v>2072</c:v>
                </c:pt>
                <c:pt idx="18">
                  <c:v>2071.6</c:v>
                </c:pt>
                <c:pt idx="19">
                  <c:v>2074.2</c:v>
                </c:pt>
                <c:pt idx="20">
                  <c:v>2072.8</c:v>
                </c:pt>
                <c:pt idx="21">
                  <c:v>2110.8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34"/>
                <c:pt idx="0">
                  <c:v>87</c:v>
                </c:pt>
                <c:pt idx="1">
                  <c:v>118</c:v>
                </c:pt>
                <c:pt idx="2">
                  <c:v>132</c:v>
                </c:pt>
                <c:pt idx="3">
                  <c:v>160</c:v>
                </c:pt>
                <c:pt idx="4">
                  <c:v>182</c:v>
                </c:pt>
                <c:pt idx="5">
                  <c:v>145</c:v>
                </c:pt>
                <c:pt idx="6">
                  <c:v>165</c:v>
                </c:pt>
                <c:pt idx="7">
                  <c:v>170</c:v>
                </c:pt>
                <c:pt idx="8">
                  <c:v>194</c:v>
                </c:pt>
                <c:pt idx="9">
                  <c:v>166</c:v>
                </c:pt>
                <c:pt idx="10">
                  <c:v>122</c:v>
                </c:pt>
                <c:pt idx="11">
                  <c:v>136</c:v>
                </c:pt>
                <c:pt idx="12">
                  <c:v>136</c:v>
                </c:pt>
                <c:pt idx="13">
                  <c:v>140</c:v>
                </c:pt>
                <c:pt idx="14">
                  <c:v>107</c:v>
                </c:pt>
                <c:pt idx="15">
                  <c:v>109</c:v>
                </c:pt>
                <c:pt idx="16">
                  <c:v>128</c:v>
                </c:pt>
                <c:pt idx="17">
                  <c:v>132</c:v>
                </c:pt>
                <c:pt idx="18">
                  <c:v>133</c:v>
                </c:pt>
                <c:pt idx="19">
                  <c:v>116</c:v>
                </c:pt>
                <c:pt idx="20">
                  <c:v>145</c:v>
                </c:pt>
                <c:pt idx="21">
                  <c:v>104</c:v>
                </c:pt>
              </c:numCache>
            </c:numRef>
          </c:yVal>
          <c:smooth val="0"/>
        </c:ser>
        <c:axId val="70794157"/>
        <c:axId val="50177342"/>
      </c:scatterChart>
      <c:valAx>
        <c:axId val="70794157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v(CO) Ni(CO)3L</a:t>
                </a:r>
              </a:p>
            </c:rich>
          </c:tx>
          <c:layout>
            <c:manualLayout>
              <c:xMode val="edge"/>
              <c:yMode val="edge"/>
              <c:x val="0.454145355061258"/>
              <c:y val="0.941787051899412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77342"/>
        <c:crosses val="autoZero"/>
        <c:crossBetween val="midCat"/>
      </c:valAx>
      <c:valAx>
        <c:axId val="50177342"/>
        <c:scaling>
          <c:orientation val="minMax"/>
          <c:max val="200"/>
          <c:min val="80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</a:rPr>
                  <a:t>Tolman Cone Angle</a:t>
                </a:r>
              </a:p>
            </c:rich>
          </c:tx>
          <c:layout>
            <c:manualLayout>
              <c:xMode val="edge"/>
              <c:yMode val="edge"/>
              <c:x val="0.0208159866777685"/>
              <c:y val="0.30304975922953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94157"/>
        <c:crosses val="autoZero"/>
        <c:crossBetween val="midCat"/>
      </c:valAx>
      <c:spPr>
        <a:noFill/>
        <a:ln w="0">
          <a:solidFill>
            <a:srgbClr val="b3b3b3"/>
          </a:solidFill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714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6000480" y="0"/>
            <a:ext cx="83484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4968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262404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0" y="8856720"/>
            <a:ext cx="62856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6495840" y="8856720"/>
            <a:ext cx="339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6B1FC-301E-4742-8203-E98757A9C871}" type="slidenum">
              <a:rPr b="0" lang="en-GB" sz="1200" spc="-1" strike="noStrike">
                <a:solidFill>
                  <a:srgbClr val="000000"/>
                </a:solidFill>
                <a:latin typeface="DejaVu Sans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60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26258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8440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3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3620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292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3620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292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11280" y="7560"/>
            <a:ext cx="691200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ts val="4088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3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88440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3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620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2920" y="152352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620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2920" y="3884400"/>
            <a:ext cx="26917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7560"/>
            <a:ext cx="691200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ts val="4088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3480" y="388440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3480" y="1523520"/>
            <a:ext cx="40795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84400"/>
            <a:ext cx="83599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00000"/>
            <a:ext cx="9144000" cy="59580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7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1280" y="7560"/>
            <a:ext cx="69120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3599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909720"/>
            <a:ext cx="914400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43720"/>
            <a:ext cx="9144000" cy="14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2590920"/>
          </a:xfrm>
          <a:prstGeom prst="rect">
            <a:avLst/>
          </a:prstGeom>
          <a:solidFill>
            <a:srgbClr val="7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65360"/>
            <a:ext cx="914400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5008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144000" cy="315360"/>
          </a:xfrm>
          <a:prstGeom prst="rect">
            <a:avLst/>
          </a:prstGeom>
          <a:solidFill>
            <a:srgbClr val="7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             </a:t>
            </a:r>
            <a:r>
              <a:rPr b="0" lang="en-GB" sz="1400" spc="-1" strike="noStrike">
                <a:solidFill>
                  <a:srgbClr val="cc6600"/>
                </a:solidFill>
                <a:latin typeface="Verdana"/>
              </a:rPr>
              <a:t>fluorine.ch.manchester.ac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4365720"/>
            <a:ext cx="594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4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chool of Chem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4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University of Manche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2273400" cy="194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543720"/>
            <a:ext cx="9144000" cy="144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360" y="6521400"/>
            <a:ext cx="20462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76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heSans B5 Plain"/>
              </a:rPr>
              <a:t>Combining the strengths of UMIST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heSans B5 Plain"/>
              </a:rPr>
              <a:t>The Victoria University of Manche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11120" y="1979640"/>
            <a:ext cx="82072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4088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ts val="408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7920"/>
            <a:ext cx="692316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ereo-Electronic Ma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71760" y="1755720"/>
          <a:ext cx="6053040" cy="3363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1" name=""/>
          <p:cNvSpPr/>
          <p:nvPr/>
        </p:nvSpPr>
        <p:spPr>
          <a:xfrm>
            <a:off x="1584360" y="5102280"/>
            <a:ext cx="5940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52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lman cone angle vs v(CO) of [Ni(CO)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= phosphines (blue), phosphites (r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9-09-20T22:54:03Z</dcterms:modified>
  <cp:revision>0</cp:revision>
  <dc:subject/>
  <dc:title>The Chemistry Of Unsaturated Fluorocarbon Organometallics</dc:title>
</cp:coreProperties>
</file>