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E422-3DF3-444F-B005-D263D57E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9711-5A54-462F-A93C-25F7BA8B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AA7B-082C-4A2E-B534-D5285591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EC2F-6DCF-4D4C-80BF-14A5BD6D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9194-0385-406A-B1F8-AB3BAA79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56B3-2BC1-4539-AD78-3117C51F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0895-0698-4E0C-9818-AA903024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1C41-2E06-40C3-881D-9461B0C6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CD94-E0B2-408D-A137-7D5D8E9A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4D40-8EA6-401D-8DFE-8954ACBD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6E54-4B53-4C04-9327-92B30683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F23E-18F8-4D36-BB7E-7A3FC609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CB47-46B0-40AA-9185-B2E49CB25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Hs4/es_public/1st%20Grade%20Activities/alphabetbook.ppt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4:13:38Z</dcterms:created>
  <dc:creator>Chad Frerichs</dc:creator>
  <dc:description/>
  <dc:language>en-US</dc:language>
  <cp:lastModifiedBy>Chad Frerichs</cp:lastModifiedBy>
  <dcterms:modified xsi:type="dcterms:W3CDTF">2008-01-24T14:14:15Z</dcterms:modified>
  <cp:revision>1</cp:revision>
  <dc:subject/>
  <dc:title>Test slide</dc:title>
</cp:coreProperties>
</file>