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C977-6BBD-4E61-BBC7-718F7C268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4979-D184-4CDE-9D71-6E8107248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2AEE-DB6F-4F77-98DF-7F392F104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A0A8-F0D6-4FBA-9E59-2C99EDD9F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32CD-76D0-40E7-BE24-E15784B4B1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DA7D4-41C2-4189-A82F-097334B0AE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F5AAF-339A-4A3F-BB45-B239E67BB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D72FF-7F0B-4829-B28E-EDEB857C9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233A-C993-44B3-82A0-F047576CCA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05F81-4682-4F91-9EAF-6678E15E5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D6BEA-EC7C-42D4-AD3A-BC4E94C20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DC61-1E48-4D62-9125-BF3389DF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22EC-2360-4E06-A6FB-F754B2EDD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8985E-5B20-4CF2-BE60-730823B11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A314E-4484-4C1C-B878-F0FCD173D7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78F5-6778-4E24-9898-2998D19C3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8A7C-539C-4326-B6AB-23080E9F3E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67A16-FCBA-40B1-A5EC-57BEFEB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CC2E5-853A-466C-BDCE-33A692E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0A128-5C1E-4E8F-902A-41777A7B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FFA2D-3E84-4486-AD13-1D047E9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5931E-653A-4A2E-A965-A80622C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19A2-AFB4-496E-ACA8-D014D531D0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5847B-A413-4BF5-9DA4-2C94DD8A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6E4EF-E6ED-4399-8D9D-E8356FC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E3E95-A2D3-46CC-B21C-AF279A9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22921-F285-464A-9E65-6B722C3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6102D-945B-4EB6-BCD0-6AD68E8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077D5-94BA-4930-9D6B-9A0545D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E8608-25D2-4119-A329-236CD719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FBD5-A2DC-4B37-A4E9-739DF9911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4C2A-E05B-48A2-B904-C7C7B26B6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7EF3-34FE-4555-9D6D-D2D5BD631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0E78-AC00-4D61-A554-2DACB72F2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7512-3254-49D3-B5B8-C799C2C2F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DAED-0859-4D90-B567-AFBFF404D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43DC-91D1-4C96-AE11-01572960845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680-72F3-4AC2-B134-3897ACBDE33E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6A9-D847-4051-9B70-84E29B90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bulle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main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5:24:38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25T06:27:47Z</dcterms:modified>
  <cp:revision>4</cp:revision>
  <dc:subject/>
  <dc:title>Slide 1</dc:title>
</cp:coreProperties>
</file>