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EDE-0CEF-4794-B16A-582B8177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50B-E5F9-408E-908A-2D10596C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82F-FC62-4391-BCC2-F1B6E2C9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E5A-0BA8-498A-B88B-10121F26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1C5A-E738-4E87-8688-5EEB04C1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35C7-1311-44B6-9787-9E5356EF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0617-1911-42CC-8B26-69C41AD0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DB6B-993A-4F4C-9525-00396FFF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82B7-FAAA-4D1A-A16B-4136B7F5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0C39-8645-4CEC-B61B-8A1B732C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D12E-238C-4076-B44C-8BB9D638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195-4803-4F2F-9488-B1946CA6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911C-A999-4A49-935A-3F551AB1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C91A-8540-4054-A12F-2BA1C96D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FEAE-E3BF-424C-9A0C-3C58ACDA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3911-9D32-49B0-8BB1-4854D2BF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FD57-E969-4872-AAB9-FD3A1F35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063-CCF4-489F-852A-78A7F8A5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594-D3C9-4EDE-8639-777035CD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9BA-954C-46C3-B781-4E38C929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63C-862C-43E6-835C-8BD2CD35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A612-867E-46AD-A4F3-C501381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3E2-940A-4C7A-A28B-33307222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BAB-EC11-4C86-AAD5-C650560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E158-1C48-4910-87B6-088A5018296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5754-962E-444E-A599-47442D3383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6EB2-D4B4-4218-9644-C68D590D5BA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96C1-1027-4B34-BE1C-5353D21C20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hyperlink" Target="http://www.googl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ffice Too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jjari Acha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0586-EA95-4B5B-BC91-B223150100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C487B2-5C69-4DA2-8B73-BCBCF0216B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 a test file for Office To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pared with MS PowerPoint 200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492360" y="3176640"/>
            <a:ext cx="2144880" cy="21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E7E-8075-4922-96DA-1E4C1FB391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478C9-2EE7-4ECB-B9BD-08B99280DCA6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stomer Requir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rm the audience’s needs if you are not 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e the needs of the audi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048120"/>
            <a:ext cx="1676160" cy="10666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905120"/>
            <a:ext cx="1128960" cy="765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1"/>
            <a:endCxn id="93" idx="5"/>
          </p:cNvCxnSpPr>
          <p:nvPr/>
        </p:nvCxnSpPr>
        <p:spPr>
          <a:xfrm flipH="1" flipV="1">
            <a:off x="1343880" y="2556720"/>
            <a:ext cx="57852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3505320" y="1905120"/>
            <a:ext cx="1052280" cy="7729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7"/>
            <a:endCxn id="95" idx="3"/>
          </p:cNvCxnSpPr>
          <p:nvPr/>
        </p:nvCxnSpPr>
        <p:spPr>
          <a:xfrm flipV="1">
            <a:off x="3106800" y="2564640"/>
            <a:ext cx="552960" cy="63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1905120" y="4800600"/>
            <a:ext cx="1218960" cy="8222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0"/>
            <a:endCxn id="92" idx="4"/>
          </p:cNvCxnSpPr>
          <p:nvPr/>
        </p:nvCxnSpPr>
        <p:spPr>
          <a:xfrm flipV="1">
            <a:off x="2514240" y="411408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1F4-7687-44F5-8636-BF5577FA2A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9475B-33EC-49B2-B6F2-1B1C018F3754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eting the Nee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 the products and features, and how each addresses a specific need or solves a specific prob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section may require multiple sl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715000" y="3537000"/>
            <a:ext cx="3429000" cy="3072960"/>
            <a:chOff x="5715000" y="3537000"/>
            <a:chExt cx="3429000" cy="3072960"/>
          </a:xfrm>
        </p:grpSpPr>
        <p:sp>
          <p:nvSpPr>
            <p:cNvPr id="102" name="PyramidChart 1;Item 5"/>
            <p:cNvSpPr/>
            <p:nvPr/>
          </p:nvSpPr>
          <p:spPr>
            <a:xfrm flipV="1">
              <a:off x="5715000" y="5995080"/>
              <a:ext cx="3429000" cy="614880"/>
            </a:xfrm>
            <a:custGeom>
              <a:avLst/>
              <a:gdLst>
                <a:gd name="textAreaLeft" fmla="*/ 468360 w 3429000"/>
                <a:gd name="textAreaRight" fmla="*/ 2960640 w 3429000"/>
                <a:gd name="textAreaTop" fmla="*/ 83880 h 614880"/>
                <a:gd name="textAreaBottom" fmla="*/ 531000 h 61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PyramidChart 1;Item 4"/>
            <p:cNvSpPr/>
            <p:nvPr/>
          </p:nvSpPr>
          <p:spPr>
            <a:xfrm flipV="1">
              <a:off x="6057720" y="5380200"/>
              <a:ext cx="2742840" cy="613800"/>
            </a:xfrm>
            <a:custGeom>
              <a:avLst/>
              <a:gdLst>
                <a:gd name="textAreaLeft" fmla="*/ 412560 w 2742840"/>
                <a:gd name="textAreaRight" fmla="*/ 2330280 w 2742840"/>
                <a:gd name="textAreaTop" fmla="*/ 92160 h 613800"/>
                <a:gd name="textAreaBottom" fmla="*/ 521640 h 61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PyramidChart 1;Item 3"/>
            <p:cNvSpPr/>
            <p:nvPr/>
          </p:nvSpPr>
          <p:spPr>
            <a:xfrm flipV="1">
              <a:off x="6401160" y="4766040"/>
              <a:ext cx="2055960" cy="614880"/>
            </a:xfrm>
            <a:custGeom>
              <a:avLst/>
              <a:gdLst>
                <a:gd name="textAreaLeft" fmla="*/ 356760 w 2055960"/>
                <a:gd name="textAreaRight" fmla="*/ 1699200 w 2055960"/>
                <a:gd name="textAreaTop" fmla="*/ 106560 h 614880"/>
                <a:gd name="textAreaBottom" fmla="*/ 508320 h 61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PyramidChart 1;Item 2"/>
            <p:cNvSpPr/>
            <p:nvPr/>
          </p:nvSpPr>
          <p:spPr>
            <a:xfrm flipV="1">
              <a:off x="6743160" y="4151880"/>
              <a:ext cx="1369440" cy="612000"/>
            </a:xfrm>
            <a:custGeom>
              <a:avLst/>
              <a:gdLst>
                <a:gd name="textAreaLeft" fmla="*/ 300960 w 1369440"/>
                <a:gd name="textAreaRight" fmla="*/ 1068480 w 1369440"/>
                <a:gd name="textAreaTop" fmla="*/ 134640 h 612000"/>
                <a:gd name="textAreaBottom" fmla="*/ 477360 h 61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PyramidChart 1;Item 1"/>
            <p:cNvSpPr/>
            <p:nvPr/>
          </p:nvSpPr>
          <p:spPr>
            <a:xfrm flipV="1">
              <a:off x="7086240" y="3537000"/>
              <a:ext cx="686160" cy="614880"/>
            </a:xfrm>
            <a:custGeom>
              <a:avLst/>
              <a:gdLst>
                <a:gd name="textAreaLeft" fmla="*/ 246240 w 686160"/>
                <a:gd name="textAreaRight" fmla="*/ 439920 w 686160"/>
                <a:gd name="textAreaTop" fmla="*/ 220680 h 614880"/>
                <a:gd name="textAreaBottom" fmla="*/ 394200 h 61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108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custGeom>
              <a:avLst/>
              <a:gdLst>
                <a:gd name="textAreaLeft" fmla="*/ 467640 w 3108600"/>
                <a:gd name="textAreaRight" fmla="*/ 2640960 w 3108600"/>
                <a:gd name="textAreaTop" fmla="*/ 105120 h 699840"/>
                <a:gd name="textAreaBottom" fmla="*/ 594720 h 6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custGeom>
              <a:avLst/>
              <a:gdLst>
                <a:gd name="textAreaLeft" fmla="*/ 404280 w 2330280"/>
                <a:gd name="textAreaRight" fmla="*/ 1926000 w 2330280"/>
                <a:gd name="textAreaTop" fmla="*/ 121680 h 702000"/>
                <a:gd name="textAreaBottom" fmla="*/ 58032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custGeom>
              <a:avLst/>
              <a:gdLst>
                <a:gd name="textAreaLeft" fmla="*/ 341280 w 1552320"/>
                <a:gd name="textAreaRight" fmla="*/ 1211040 w 155232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custGeom>
              <a:avLst/>
              <a:gdLst>
                <a:gd name="textAreaLeft" fmla="*/ 279000 w 777960"/>
                <a:gd name="textAreaRight" fmla="*/ 498960 w 77796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508800" y="761760"/>
            <a:ext cx="2330280" cy="2103840"/>
            <a:chOff x="6508800" y="761760"/>
            <a:chExt cx="2330280" cy="2103840"/>
          </a:xfrm>
        </p:grpSpPr>
        <p:sp>
          <p:nvSpPr>
            <p:cNvPr id="113" name="PyramidChart 1;Item 3"/>
            <p:cNvSpPr/>
            <p:nvPr/>
          </p:nvSpPr>
          <p:spPr>
            <a:xfrm flipV="1">
              <a:off x="6508800" y="2163600"/>
              <a:ext cx="2330280" cy="702000"/>
            </a:xfrm>
            <a:custGeom>
              <a:avLst/>
              <a:gdLst>
                <a:gd name="textAreaLeft" fmla="*/ 404280 w 2330280"/>
                <a:gd name="textAreaRight" fmla="*/ 1926000 w 2330280"/>
                <a:gd name="textAreaTop" fmla="*/ 121680 h 702000"/>
                <a:gd name="textAreaBottom" fmla="*/ 58032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PyramidChart 1;Item 2"/>
            <p:cNvSpPr/>
            <p:nvPr/>
          </p:nvSpPr>
          <p:spPr>
            <a:xfrm flipV="1">
              <a:off x="6896160" y="1463400"/>
              <a:ext cx="1552680" cy="698400"/>
            </a:xfrm>
            <a:custGeom>
              <a:avLst/>
              <a:gdLst>
                <a:gd name="textAreaLeft" fmla="*/ 341280 w 1552680"/>
                <a:gd name="textAreaRight" fmla="*/ 1211400 w 1552680"/>
                <a:gd name="textAreaTop" fmla="*/ 153360 h 698400"/>
                <a:gd name="textAreaBottom" fmla="*/ 54504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PyramidChart 1;Item 1"/>
            <p:cNvSpPr/>
            <p:nvPr/>
          </p:nvSpPr>
          <p:spPr>
            <a:xfrm flipV="1">
              <a:off x="7284960" y="761400"/>
              <a:ext cx="777960" cy="701640"/>
            </a:xfrm>
            <a:custGeom>
              <a:avLst/>
              <a:gdLst>
                <a:gd name="textAreaLeft" fmla="*/ 279000 w 777960"/>
                <a:gd name="textAreaRight" fmla="*/ 498960 w 77796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402-5BE4-4569-A7A1-A131AC1C25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8310E-2CA7-4378-96E8-F0D2599D0815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st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int out financial benefits to the custom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are cost-benefits between you and your competi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3280" y="1754280"/>
          <a:ext cx="3924360" cy="42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1754280"/>
                    <a:ext cx="392436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FE1-AEF2-4B63-8A68-BAA5449227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4A678-1D97-4727-9C2D-BE4207025FE0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ur Strength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326400" y="2410200"/>
            <a:ext cx="2439000" cy="2441160"/>
            <a:chOff x="3326400" y="2410200"/>
            <a:chExt cx="2439000" cy="2441160"/>
          </a:xfrm>
        </p:grpSpPr>
        <p:sp>
          <p:nvSpPr>
            <p:cNvPr id="123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arcTo wR="-8100" hR="-8100" stAng="5400000" swAng="-3240000"/>
                  <a:lnTo>
                    <a:pt x="2063" y="4452"/>
                  </a:lnTo>
                  <a:arcTo wR="10800" hR="10800" stAng="-8640000" swAng="3240000"/>
                  <a:lnTo>
                    <a:pt x="10800" y="-2700"/>
                  </a:lnTo>
                  <a:lnTo>
                    <a:pt x="14850" y="1350"/>
                  </a:lnTo>
                  <a:lnTo>
                    <a:pt x="10800" y="5400"/>
                  </a:lnTo>
                  <a:close/>
                </a:path>
              </a:pathLst>
            </a:cu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900" y="10800"/>
                  </a:moveTo>
                  <a:arcTo wR="-8100" hR="-8100" stAng="0" swAng="-3240000"/>
                  <a:lnTo>
                    <a:pt x="4452" y="19537"/>
                  </a:lnTo>
                  <a:arcTo wR="10800" hR="10800" stAng="7560000" swAng="3240000"/>
                  <a:lnTo>
                    <a:pt x="-2700" y="10800"/>
                  </a:lnTo>
                  <a:lnTo>
                    <a:pt x="1350" y="675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2700"/>
                  </a:moveTo>
                  <a:arcTo wR="-8100" hR="-8100" stAng="-5400000" swAng="-3240000"/>
                  <a:lnTo>
                    <a:pt x="19537" y="17148"/>
                  </a:lnTo>
                  <a:arcTo wR="10800" hR="10800" stAng="2160000" swAng="3240000"/>
                  <a:lnTo>
                    <a:pt x="10800" y="24300"/>
                  </a:lnTo>
                  <a:lnTo>
                    <a:pt x="6750" y="20250"/>
                  </a:lnTo>
                  <a:lnTo>
                    <a:pt x="10800" y="162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428280" y="2514600"/>
              <a:ext cx="2336760" cy="2336760"/>
            </a:xfrm>
            <a:custGeom>
              <a:avLst/>
              <a:gdLst>
                <a:gd name="textAreaLeft" fmla="*/ -360 w 2336760"/>
                <a:gd name="textAreaRight" fmla="*/ 2336760 w 23367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00" y="10800"/>
                  </a:moveTo>
                  <a:arcTo wR="-8100" hR="-8100" stAng="-10800000" swAng="-3240000"/>
                  <a:lnTo>
                    <a:pt x="17148" y="2063"/>
                  </a:lnTo>
                  <a:arcTo wR="10800" hR="10800" stAng="-3240000" swAng="3240000"/>
                  <a:lnTo>
                    <a:pt x="24300" y="10800"/>
                  </a:lnTo>
                  <a:lnTo>
                    <a:pt x="20250" y="1485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43400">
              <a:off x="4710240" y="24991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7802600">
              <a:off x="3353400" y="304668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755600">
              <a:off x="3886200" y="43279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7838600">
              <a:off x="5181840" y="394668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280920" y="2388600"/>
            <a:ext cx="2411280" cy="2487960"/>
            <a:chOff x="6280920" y="2388600"/>
            <a:chExt cx="2411280" cy="2487960"/>
          </a:xfrm>
        </p:grpSpPr>
        <p:sp>
          <p:nvSpPr>
            <p:cNvPr id="132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arcTo wR="-8100" hR="-8100" stAng="5400000" swAng="-2592000"/>
                  <a:lnTo>
                    <a:pt x="3407" y="2927"/>
                  </a:lnTo>
                  <a:arcTo wR="10800" hR="10800" stAng="-7992000" swAng="2592000"/>
                  <a:lnTo>
                    <a:pt x="10800" y="-2700"/>
                  </a:lnTo>
                  <a:lnTo>
                    <a:pt x="14850" y="1350"/>
                  </a:lnTo>
                  <a:lnTo>
                    <a:pt x="10800" y="54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504" y="13303"/>
                  </a:moveTo>
                  <a:arcTo wR="-8100" hR="-8100" stAng="1080000" swAng="-2592000"/>
                  <a:lnTo>
                    <a:pt x="1028" y="15398"/>
                  </a:lnTo>
                  <a:arcTo wR="10800" hR="10800" stAng="9288000" swAng="2592000"/>
                  <a:lnTo>
                    <a:pt x="-2039" y="6628"/>
                  </a:lnTo>
                  <a:lnTo>
                    <a:pt x="3064" y="4028"/>
                  </a:lnTo>
                  <a:lnTo>
                    <a:pt x="5664" y="9131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561" y="4247"/>
                  </a:moveTo>
                  <a:arcTo wR="-8100" hR="-8100" stAng="-3240000" swAng="-2592001"/>
                  <a:lnTo>
                    <a:pt x="12154" y="21515"/>
                  </a:lnTo>
                  <a:arcTo wR="10800" hR="10800" stAng="4967999" swAng="2592001"/>
                  <a:lnTo>
                    <a:pt x="2865" y="21722"/>
                  </a:lnTo>
                  <a:lnTo>
                    <a:pt x="1969" y="16065"/>
                  </a:lnTo>
                  <a:lnTo>
                    <a:pt x="7626" y="15169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039" y="4247"/>
                  </a:moveTo>
                  <a:arcTo wR="-8100" hR="-8100" stAng="-7560000" swAng="-2592001"/>
                  <a:lnTo>
                    <a:pt x="21409" y="12824"/>
                  </a:lnTo>
                  <a:arcTo wR="10800" hR="10800" stAng="647999" swAng="2592001"/>
                  <a:lnTo>
                    <a:pt x="18735" y="21722"/>
                  </a:lnTo>
                  <a:lnTo>
                    <a:pt x="13078" y="20826"/>
                  </a:lnTo>
                  <a:lnTo>
                    <a:pt x="13974" y="15169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324480" y="2514600"/>
              <a:ext cx="2362320" cy="236196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096" y="13303"/>
                  </a:moveTo>
                  <a:arcTo wR="-8100" hR="-8100" stAng="9720000" swAng="-2592001"/>
                  <a:lnTo>
                    <a:pt x="16003" y="1336"/>
                  </a:lnTo>
                  <a:arcTo wR="10800" hR="10800" stAng="-3672001" swAng="2592001"/>
                  <a:lnTo>
                    <a:pt x="23639" y="6628"/>
                  </a:lnTo>
                  <a:lnTo>
                    <a:pt x="21039" y="11732"/>
                  </a:lnTo>
                  <a:lnTo>
                    <a:pt x="15936" y="9131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8243000">
              <a:off x="6325200" y="28796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60600">
              <a:off x="7530120" y="24368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146000">
              <a:off x="8215920" y="342756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1122400">
              <a:off x="7468200" y="441828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3606600">
              <a:off x="6401160" y="39463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1640" y="2476800"/>
            <a:ext cx="2463840" cy="2400120"/>
            <a:chOff x="431640" y="2476800"/>
            <a:chExt cx="2463840" cy="2400120"/>
          </a:xfrm>
        </p:grpSpPr>
        <p:sp>
          <p:nvSpPr>
            <p:cNvPr id="143" name=""/>
            <p:cNvSpPr/>
            <p:nvPr/>
          </p:nvSpPr>
          <p:spPr>
            <a:xfrm flipH="1">
              <a:off x="533160" y="2514600"/>
              <a:ext cx="2362320" cy="236232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arcTo wR="-8100" hR="-8100" stAng="5400000" swAng="-4320000"/>
                  <a:lnTo>
                    <a:pt x="529" y="7463"/>
                  </a:lnTo>
                  <a:arcTo wR="10800" hR="10800" stAng="-9720000" swAng="4320000"/>
                  <a:lnTo>
                    <a:pt x="10800" y="-2700"/>
                  </a:lnTo>
                  <a:lnTo>
                    <a:pt x="14850" y="1350"/>
                  </a:lnTo>
                  <a:lnTo>
                    <a:pt x="10800" y="5400"/>
                  </a:lnTo>
                  <a:close/>
                </a:path>
              </a:pathLst>
            </a:cu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33160" y="2514600"/>
              <a:ext cx="2362320" cy="236232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15" y="6750"/>
                  </a:moveTo>
                  <a:arcTo wR="-8100" hR="-8100" stAng="-1800000" swAng="-4320000"/>
                  <a:lnTo>
                    <a:pt x="13045" y="21364"/>
                  </a:lnTo>
                  <a:arcTo wR="10800" hR="10800" stAng="4680000" swAng="4320000"/>
                  <a:lnTo>
                    <a:pt x="-891" y="17550"/>
                  </a:lnTo>
                  <a:lnTo>
                    <a:pt x="591" y="12018"/>
                  </a:lnTo>
                  <a:lnTo>
                    <a:pt x="6123" y="13500"/>
                  </a:lnTo>
                  <a:close/>
                </a:path>
              </a:pathLst>
            </a:cu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33160" y="2514600"/>
              <a:ext cx="2362320" cy="2362320"/>
            </a:xfrm>
            <a:custGeom>
              <a:avLst/>
              <a:gdLst>
                <a:gd name="textAreaLeft" fmla="*/ 360 w 2362320"/>
                <a:gd name="textAreaRight" fmla="*/ 2363040 w 236232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85" y="6750"/>
                  </a:moveTo>
                  <a:arcTo wR="-8100" hR="-8100" stAng="-9000000" swAng="-4320000"/>
                  <a:lnTo>
                    <a:pt x="18826" y="3573"/>
                  </a:lnTo>
                  <a:arcTo wR="10800" hR="10800" stAng="-2520000" swAng="4320000"/>
                  <a:lnTo>
                    <a:pt x="22491" y="17550"/>
                  </a:lnTo>
                  <a:lnTo>
                    <a:pt x="16959" y="19032"/>
                  </a:lnTo>
                  <a:lnTo>
                    <a:pt x="15477" y="13500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881600">
              <a:off x="1981080" y="258984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520400">
              <a:off x="381600" y="34279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658400">
              <a:off x="1967040" y="4342320"/>
              <a:ext cx="546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EFB-9542-4FD9-8ADF-CEAAAF58E4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A9F56-B200-4BE4-8DDC-0138D32ED034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y Benefi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mmarize the key benefits provided by the product, service, or idea being promo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a3b2c1"/>
              </a:gs>
              <a:gs pos="100000">
                <a:srgbClr val="616a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a3b2c1"/>
              </a:gs>
              <a:gs pos="100000">
                <a:srgbClr val="616a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88000" y="20606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FC1-0EFC-4BA7-8091-EDB345562C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9A6F4-BA09-4582-830F-768B70B54A1A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Cost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oogle.com/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S powerpoint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E33-3F64-4914-8235-C164FE473B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DE0F3-E34B-4DAD-B24C-CDD44C1C8DA5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jjari Achala</cp:lastModifiedBy>
  <dcterms:modified xsi:type="dcterms:W3CDTF">2010-04-29T07:35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