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17D3-1CE5-42DE-A745-A495F98E1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2934-514C-41E6-A9D3-9400926D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AA91-4F09-42D1-83E9-CB2B4C272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DC2B-CD95-4877-9C94-0EA4C5F13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3B5F-4527-47AD-AA18-2E59CD07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6D28-F1DE-4555-B256-A00CD9EB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F52A-5989-46B7-A082-A4FC8E03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FA35-C4E8-4117-A4D1-E787FD10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63C8-6130-409F-A7B5-90D22538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1363-1988-473B-8DF1-C1507E9A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BE55-EC83-490B-859A-6B0B2F7A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7F7B-6DC7-464C-BAFF-CDCE7788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FDD8-809D-4222-85CF-5EC921A8F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d -Co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261160" y="1959120"/>
            <a:ext cx="4665240" cy="4040280"/>
            <a:chOff x="2261160" y="1959120"/>
            <a:chExt cx="4665240" cy="4040280"/>
          </a:xfrm>
        </p:grpSpPr>
        <p:sp>
          <p:nvSpPr>
            <p:cNvPr id="43" name="_s6149"/>
            <p:cNvSpPr/>
            <p:nvPr/>
          </p:nvSpPr>
          <p:spPr>
            <a:xfrm flipV="1">
              <a:off x="2261160" y="5421960"/>
              <a:ext cx="4665240" cy="577080"/>
            </a:xfrm>
            <a:custGeom>
              <a:avLst/>
              <a:gdLst>
                <a:gd name="textAreaLeft" fmla="*/ 563040 w 4665240"/>
                <a:gd name="textAreaRight" fmla="*/ 4102200 w 4665240"/>
                <a:gd name="textAreaTop" fmla="*/ 69480 h 577080"/>
                <a:gd name="textAreaBottom" fmla="*/ 507600 h 57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7" y="21600"/>
                  </a:lnTo>
                  <a:lnTo>
                    <a:pt x="1543" y="216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nn!@#123asf@w42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6150"/>
            <p:cNvSpPr/>
            <p:nvPr/>
          </p:nvSpPr>
          <p:spPr>
            <a:xfrm flipV="1">
              <a:off x="2593800" y="4844520"/>
              <a:ext cx="4000320" cy="577080"/>
            </a:xfrm>
            <a:custGeom>
              <a:avLst/>
              <a:gdLst>
                <a:gd name="textAreaLeft" fmla="*/ 509040 w 4000320"/>
                <a:gd name="textAreaRight" fmla="*/ 3491280 w 4000320"/>
                <a:gd name="textAreaTop" fmla="*/ 73440 h 577080"/>
                <a:gd name="textAreaBottom" fmla="*/ 503640 h 57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3456789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6151"/>
            <p:cNvSpPr/>
            <p:nvPr/>
          </p:nvSpPr>
          <p:spPr>
            <a:xfrm flipV="1">
              <a:off x="2928240" y="4267440"/>
              <a:ext cx="3331800" cy="577440"/>
            </a:xfrm>
            <a:custGeom>
              <a:avLst/>
              <a:gdLst>
                <a:gd name="textAreaLeft" fmla="*/ 455040 w 3331800"/>
                <a:gd name="textAreaRight" fmla="*/ 2876760 w 3331800"/>
                <a:gd name="textAreaTop" fmla="*/ 78840 h 577440"/>
                <a:gd name="textAreaBottom" fmla="*/ 498600 h 57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d@1asf#@5</a:t>
              </a:r>
              <a:r>
                <a:rPr b="1" lang="en-US" sz="1400" spc="-1" strike="noStrike">
                  <a:solidFill>
                    <a:srgbClr val="000000"/>
                  </a:solidFill>
                  <a:latin typeface="Baskerville Old Face"/>
                </a:rPr>
                <a:t>#@%,./&lt;?&gt;{]-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-=/*-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6152"/>
            <p:cNvSpPr/>
            <p:nvPr/>
          </p:nvSpPr>
          <p:spPr>
            <a:xfrm flipV="1">
              <a:off x="3260520" y="3689280"/>
              <a:ext cx="2666880" cy="577080"/>
            </a:xfrm>
            <a:custGeom>
              <a:avLst/>
              <a:gdLst>
                <a:gd name="textAreaLeft" fmla="*/ 401040 w 2666880"/>
                <a:gd name="textAreaRight" fmla="*/ 2265840 w 2666880"/>
                <a:gd name="textAreaTop" fmla="*/ 86760 h 577080"/>
                <a:gd name="textAreaBottom" fmla="*/ 490320 h 57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!@##123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@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6153"/>
            <p:cNvSpPr/>
            <p:nvPr/>
          </p:nvSpPr>
          <p:spPr>
            <a:xfrm flipV="1">
              <a:off x="3594960" y="3113640"/>
              <a:ext cx="1998360" cy="575640"/>
            </a:xfrm>
            <a:custGeom>
              <a:avLst/>
              <a:gdLst>
                <a:gd name="textAreaLeft" fmla="*/ 346680 w 1998360"/>
                <a:gd name="textAreaRight" fmla="*/ 1651680 w 1998360"/>
                <a:gd name="textAreaTop" fmla="*/ 99720 h 575640"/>
                <a:gd name="textAreaBottom" fmla="*/ 475920 h 57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skhghodhg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6154"/>
            <p:cNvSpPr/>
            <p:nvPr/>
          </p:nvSpPr>
          <p:spPr>
            <a:xfrm flipV="1">
              <a:off x="3927240" y="2536200"/>
              <a:ext cx="1333440" cy="577080"/>
            </a:xfrm>
            <a:custGeom>
              <a:avLst/>
              <a:gdLst>
                <a:gd name="textAreaLeft" fmla="*/ 293040 w 1333440"/>
                <a:gd name="textAreaRight" fmla="*/ 1040400 w 1333440"/>
                <a:gd name="textAreaTop" fmla="*/ 126720 h 577080"/>
                <a:gd name="textAreaBottom" fmla="*/ 450360 h 57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12s2ge2t1e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6155"/>
            <p:cNvSpPr/>
            <p:nvPr/>
          </p:nvSpPr>
          <p:spPr>
            <a:xfrm flipV="1">
              <a:off x="4261680" y="1958760"/>
              <a:ext cx="664920" cy="577080"/>
            </a:xfrm>
            <a:custGeom>
              <a:avLst/>
              <a:gdLst>
                <a:gd name="textAreaLeft" fmla="*/ 238680 w 664920"/>
                <a:gd name="textAreaRight" fmla="*/ 426240 w 664920"/>
                <a:gd name="textAreaTop" fmla="*/ 207000 h 577080"/>
                <a:gd name="textAreaBottom" fmla="*/ 370080 h 57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!@$#@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khkoth</cp:lastModifiedBy>
  <dcterms:modified xsi:type="dcterms:W3CDTF">2009-08-17T09:43:0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