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3F8C-80D9-4854-9B33-AA701751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874E-FF14-40BF-984F-39E94651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473-9C43-4171-A2FC-31360724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6C31-F01E-4BA5-A8B3-9114BD53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113E-58D7-41E3-B049-34196CDE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F0BF-7985-4A44-8781-4E892B39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096-25ED-4C12-AD77-65E34AB2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6E31-7B01-4E8F-A314-6D4BBE68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38E9-0E3F-4248-8B54-D6278967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818-5500-4334-9CA1-6728AD90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05B7-31C6-42B9-BFAC-6BB23BE8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536D-A677-4127-B23F-47F47187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F049-6D16-48B5-BF97-45F721E26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00040" y="2401920"/>
            <a:ext cx="3017880" cy="2849040"/>
            <a:chOff x="500040" y="2401920"/>
            <a:chExt cx="3017880" cy="2849040"/>
          </a:xfrm>
        </p:grpSpPr>
        <p:grpSp>
          <p:nvGrpSpPr>
            <p:cNvPr id="42" name=""/>
            <p:cNvGrpSpPr/>
            <p:nvPr/>
          </p:nvGrpSpPr>
          <p:grpSpPr>
            <a:xfrm>
              <a:off x="597960" y="4831560"/>
              <a:ext cx="2919240" cy="419400"/>
              <a:chOff x="597960" y="4831560"/>
              <a:chExt cx="2919240" cy="419400"/>
            </a:xfrm>
          </p:grpSpPr>
          <p:sp>
            <p:nvSpPr>
              <p:cNvPr id="43" name=""/>
              <p:cNvSpPr/>
              <p:nvPr/>
            </p:nvSpPr>
            <p:spPr>
              <a:xfrm>
                <a:off x="3053160" y="4831560"/>
                <a:ext cx="464040" cy="410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20000" y="10000"/>
                    </a:lnTo>
                    <a:lnTo>
                      <a:pt x="20000" y="20000"/>
                    </a:lnTo>
                    <a:lnTo>
                      <a:pt x="10000" y="2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2294280" y="4840200"/>
                <a:ext cx="464040" cy="4107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20000" y="10000"/>
                    </a:lnTo>
                    <a:lnTo>
                      <a:pt x="20000" y="20000"/>
                    </a:lnTo>
                    <a:lnTo>
                      <a:pt x="10000" y="2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508400" y="4840200"/>
                <a:ext cx="464400" cy="4107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20000" y="10000"/>
                    </a:lnTo>
                    <a:lnTo>
                      <a:pt x="20000" y="20000"/>
                    </a:lnTo>
                    <a:lnTo>
                      <a:pt x="10000" y="2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97960" y="4920480"/>
                <a:ext cx="696240" cy="232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"/>
            <p:cNvGrpSpPr/>
            <p:nvPr/>
          </p:nvGrpSpPr>
          <p:grpSpPr>
            <a:xfrm>
              <a:off x="597960" y="3893400"/>
              <a:ext cx="2919240" cy="785520"/>
              <a:chOff x="597960" y="3893400"/>
              <a:chExt cx="2919240" cy="785520"/>
            </a:xfrm>
          </p:grpSpPr>
          <p:sp>
            <p:nvSpPr>
              <p:cNvPr id="48" name=""/>
              <p:cNvSpPr/>
              <p:nvPr/>
            </p:nvSpPr>
            <p:spPr>
              <a:xfrm>
                <a:off x="2294280" y="3893400"/>
                <a:ext cx="464040" cy="776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20000" y="10000"/>
                    </a:lnTo>
                    <a:lnTo>
                      <a:pt x="20000" y="20000"/>
                    </a:lnTo>
                    <a:lnTo>
                      <a:pt x="10000" y="2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053160" y="3893400"/>
                <a:ext cx="464040" cy="7768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20000" y="10000"/>
                    </a:lnTo>
                    <a:lnTo>
                      <a:pt x="20000" y="20000"/>
                    </a:lnTo>
                    <a:lnTo>
                      <a:pt x="10000" y="2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508400" y="3902400"/>
                <a:ext cx="464400" cy="776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20000" y="10000"/>
                    </a:lnTo>
                    <a:lnTo>
                      <a:pt x="20000" y="20000"/>
                    </a:lnTo>
                    <a:lnTo>
                      <a:pt x="10000" y="2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97960" y="4080960"/>
                <a:ext cx="696240" cy="401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500040" y="2401920"/>
              <a:ext cx="3017880" cy="1330920"/>
              <a:chOff x="500040" y="2401920"/>
              <a:chExt cx="3017880" cy="1330920"/>
            </a:xfrm>
          </p:grpSpPr>
          <p:sp>
            <p:nvSpPr>
              <p:cNvPr id="53" name=""/>
              <p:cNvSpPr/>
              <p:nvPr/>
            </p:nvSpPr>
            <p:spPr>
              <a:xfrm>
                <a:off x="3053520" y="2401920"/>
                <a:ext cx="464400" cy="13309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20000" y="10000"/>
                    </a:lnTo>
                    <a:lnTo>
                      <a:pt x="20000" y="20000"/>
                    </a:lnTo>
                    <a:lnTo>
                      <a:pt x="10000" y="2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94280" y="2401920"/>
                <a:ext cx="464400" cy="13309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20000" y="10000"/>
                    </a:lnTo>
                    <a:lnTo>
                      <a:pt x="20000" y="20000"/>
                    </a:lnTo>
                    <a:lnTo>
                      <a:pt x="10000" y="2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08760" y="2401920"/>
                <a:ext cx="464040" cy="13309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20000" y="10000"/>
                    </a:lnTo>
                    <a:lnTo>
                      <a:pt x="20000" y="20000"/>
                    </a:lnTo>
                    <a:lnTo>
                      <a:pt x="10000" y="2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0040" y="2955600"/>
                <a:ext cx="624600" cy="18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098000" y="2741040"/>
                <a:ext cx="249840" cy="625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" name=""/>
          <p:cNvSpPr/>
          <p:nvPr/>
        </p:nvSpPr>
        <p:spPr>
          <a:xfrm>
            <a:off x="812880" y="554040"/>
            <a:ext cx="7143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57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da0000"/>
                </a:solidFill>
                <a:latin typeface="Arial"/>
              </a:rPr>
              <a:t>Write the title he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68280" y="1584360"/>
            <a:ext cx="4929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7f3f"/>
                </a:solidFill>
                <a:latin typeface="Arial"/>
              </a:rPr>
              <a:t>More on the model he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598760" y="2473200"/>
            <a:ext cx="1857240" cy="250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581120" y="3402000"/>
            <a:ext cx="1892160" cy="250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1581120" y="2928960"/>
            <a:ext cx="1884240" cy="250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1589040" y="4916520"/>
            <a:ext cx="1876320" cy="23796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1562040" y="3938760"/>
            <a:ext cx="1928880" cy="694800"/>
            <a:chOff x="1562040" y="3938760"/>
            <a:chExt cx="1928880" cy="694800"/>
          </a:xfrm>
        </p:grpSpPr>
        <p:pic>
          <p:nvPicPr>
            <p:cNvPr id="65" name="" descr=""/>
            <p:cNvPicPr/>
            <p:nvPr/>
          </p:nvPicPr>
          <p:blipFill>
            <a:blip r:embed="rId9"/>
            <a:stretch/>
          </p:blipFill>
          <p:spPr>
            <a:xfrm>
              <a:off x="1633320" y="4384440"/>
              <a:ext cx="1776960" cy="2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0"/>
            <a:stretch/>
          </p:blipFill>
          <p:spPr>
            <a:xfrm>
              <a:off x="1562040" y="3938760"/>
              <a:ext cx="1928880" cy="24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3884760" y="2679840"/>
            <a:ext cx="4749480" cy="338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7912080" y="3114720"/>
            <a:ext cx="411120" cy="743040"/>
            <a:chOff x="7912080" y="3114720"/>
            <a:chExt cx="411120" cy="743040"/>
          </a:xfrm>
        </p:grpSpPr>
        <p:sp>
          <p:nvSpPr>
            <p:cNvPr id="69" name=""/>
            <p:cNvSpPr/>
            <p:nvPr/>
          </p:nvSpPr>
          <p:spPr>
            <a:xfrm rot="5399400">
              <a:off x="7916400" y="3173040"/>
              <a:ext cx="397440" cy="2804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3330"/>
                  </a:moveTo>
                  <a:lnTo>
                    <a:pt x="10000" y="16670"/>
                  </a:lnTo>
                  <a:lnTo>
                    <a:pt x="16000" y="16670"/>
                  </a:lnTo>
                  <a:lnTo>
                    <a:pt x="16000" y="20000"/>
                  </a:lnTo>
                  <a:lnTo>
                    <a:pt x="20000" y="15000"/>
                  </a:lnTo>
                  <a:lnTo>
                    <a:pt x="16000" y="10000"/>
                  </a:lnTo>
                  <a:lnTo>
                    <a:pt x="16000" y="13330"/>
                  </a:lnTo>
                  <a:close/>
                  <a:moveTo>
                    <a:pt x="10000" y="13330"/>
                  </a:moveTo>
                </a:path>
              </a:pathLst>
            </a:cu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2"/>
            <a:stretch/>
          </p:blipFill>
          <p:spPr>
            <a:xfrm>
              <a:off x="7912080" y="3598560"/>
              <a:ext cx="411120" cy="25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 rot="5399400">
            <a:off x="4871160" y="3174120"/>
            <a:ext cx="398520" cy="279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3330"/>
                </a:moveTo>
                <a:lnTo>
                  <a:pt x="10000" y="16670"/>
                </a:lnTo>
                <a:lnTo>
                  <a:pt x="16000" y="16670"/>
                </a:lnTo>
                <a:lnTo>
                  <a:pt x="16000" y="20000"/>
                </a:lnTo>
                <a:lnTo>
                  <a:pt x="20000" y="15000"/>
                </a:lnTo>
                <a:lnTo>
                  <a:pt x="16000" y="10000"/>
                </a:lnTo>
                <a:lnTo>
                  <a:pt x="16000" y="13330"/>
                </a:lnTo>
                <a:close/>
                <a:moveTo>
                  <a:pt x="10000" y="13330"/>
                </a:moveTo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3"/>
          <a:stretch/>
        </p:blipFill>
        <p:spPr>
          <a:xfrm>
            <a:off x="4616280" y="3633840"/>
            <a:ext cx="901800" cy="196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88360" y="3968640"/>
            <a:ext cx="56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400" spc="-1" strike="noStrike">
                <a:solidFill>
                  <a:srgbClr val="258438"/>
                </a:solidFill>
                <a:latin typeface="Arial"/>
              </a:rPr>
              <a:t>vert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16760" y="3114720"/>
            <a:ext cx="982440" cy="1068480"/>
            <a:chOff x="6116760" y="3114720"/>
            <a:chExt cx="982440" cy="1068480"/>
          </a:xfrm>
        </p:grpSpPr>
        <p:sp>
          <p:nvSpPr>
            <p:cNvPr id="75" name=""/>
            <p:cNvSpPr/>
            <p:nvPr/>
          </p:nvSpPr>
          <p:spPr>
            <a:xfrm rot="5399400">
              <a:off x="6406920" y="3173400"/>
              <a:ext cx="397800" cy="2800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3330"/>
                  </a:moveTo>
                  <a:lnTo>
                    <a:pt x="10000" y="16670"/>
                  </a:lnTo>
                  <a:lnTo>
                    <a:pt x="16000" y="16670"/>
                  </a:lnTo>
                  <a:lnTo>
                    <a:pt x="16000" y="20000"/>
                  </a:lnTo>
                  <a:lnTo>
                    <a:pt x="20000" y="15000"/>
                  </a:lnTo>
                  <a:lnTo>
                    <a:pt x="16000" y="10000"/>
                  </a:lnTo>
                  <a:lnTo>
                    <a:pt x="16000" y="13330"/>
                  </a:lnTo>
                  <a:close/>
                  <a:moveTo>
                    <a:pt x="10000" y="13330"/>
                  </a:moveTo>
                </a:path>
              </a:pathLst>
            </a:cu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14"/>
            <a:stretch/>
          </p:blipFill>
          <p:spPr>
            <a:xfrm>
              <a:off x="6116760" y="3598560"/>
              <a:ext cx="982440" cy="2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220440" y="3969720"/>
              <a:ext cx="77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249120"/>
                  <a:tab algn="l" pos="500040"/>
                  <a:tab algn="l" pos="749160"/>
                  <a:tab algn="l" pos="1000080"/>
                  <a:tab algn="l" pos="1249200"/>
                  <a:tab algn="l" pos="1500120"/>
                  <a:tab algn="l" pos="1749600"/>
                  <a:tab algn="l" pos="2000160"/>
                  <a:tab algn="l" pos="2249640"/>
                  <a:tab algn="l" pos="2500200"/>
                  <a:tab algn="l" pos="2749680"/>
                  <a:tab algn="l" pos="30002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400" spc="-1" strike="noStrike">
                  <a:solidFill>
                    <a:srgbClr val="258438"/>
                  </a:solidFill>
                  <a:latin typeface="Arial"/>
                </a:rPr>
                <a:t>horizo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010040" y="4894200"/>
            <a:ext cx="2741400" cy="292320"/>
            <a:chOff x="4010040" y="4894200"/>
            <a:chExt cx="2741400" cy="292320"/>
          </a:xfrm>
        </p:grpSpPr>
        <p:pic>
          <p:nvPicPr>
            <p:cNvPr id="79" name="" descr=""/>
            <p:cNvPicPr/>
            <p:nvPr/>
          </p:nvPicPr>
          <p:blipFill>
            <a:blip r:embed="rId15"/>
            <a:stretch/>
          </p:blipFill>
          <p:spPr>
            <a:xfrm>
              <a:off x="4010040" y="4894200"/>
              <a:ext cx="1375200" cy="2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676480" y="4907520"/>
              <a:ext cx="397440" cy="279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3330"/>
                  </a:moveTo>
                  <a:lnTo>
                    <a:pt x="10000" y="16670"/>
                  </a:lnTo>
                  <a:lnTo>
                    <a:pt x="16000" y="16670"/>
                  </a:lnTo>
                  <a:lnTo>
                    <a:pt x="16000" y="20000"/>
                  </a:lnTo>
                  <a:lnTo>
                    <a:pt x="20000" y="15000"/>
                  </a:lnTo>
                  <a:lnTo>
                    <a:pt x="16000" y="10000"/>
                  </a:lnTo>
                  <a:lnTo>
                    <a:pt x="16000" y="13330"/>
                  </a:lnTo>
                  <a:close/>
                  <a:moveTo>
                    <a:pt x="10000" y="13330"/>
                  </a:moveTo>
                </a:path>
              </a:pathLst>
            </a:cu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16"/>
            <a:stretch/>
          </p:blipFill>
          <p:spPr>
            <a:xfrm>
              <a:off x="6314040" y="4902840"/>
              <a:ext cx="437400" cy="25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5315400" y="5656320"/>
            <a:ext cx="190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400" spc="-1" strike="noStrike">
                <a:solidFill>
                  <a:srgbClr val="258438"/>
                </a:solidFill>
                <a:latin typeface="Arial"/>
              </a:rPr>
              <a:t>A short comment  here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1D8-9A98-4C4A-B813-3FD62DF30335}" type="slidenum">
              <a:t>1</a:t>
            </a:fld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5:57:56Z</dcterms:created>
  <dc:creator>Stefano Bertolini</dc:creator>
  <dc:description/>
  <dc:language>en-US</dc:language>
  <cp:lastModifiedBy>Giuliano Lotta</cp:lastModifiedBy>
  <dcterms:modified xsi:type="dcterms:W3CDTF">2005-10-07T12:39:44Z</dcterms:modified>
  <cp:revision>3</cp:revision>
  <dc:subject/>
  <dc:title>Diapositiva 1</dc:title>
</cp:coreProperties>
</file>