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C2DE-D287-422F-A712-DECE4DFB1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7592-9798-40B1-A03E-5B685878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4EA5-52E0-4C31-8927-E9CFFC9B5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BC1C-4E38-4589-9C11-A2ACF9F4F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F383-1631-42AD-9786-B62795A8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5BC5-8DAA-4AB3-9EE6-B3CDC1F0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73C4-E6EE-4ADC-B7A2-7269547B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13D8-278F-4EEE-96EE-B0336CF8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6F06-15F8-46FF-B834-F2AAAC7B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789B-40AA-48F9-B270-2DAE0E3E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D07F-55BA-4142-98C0-0BBAEDD2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917C-D997-48A4-BFD3-9F545038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B873-06E3-48AF-8A3F-EF5BF2711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09480" y="1219320"/>
            <a:ext cx="4976640" cy="69840"/>
            <a:chOff x="609480" y="1219320"/>
            <a:chExt cx="4976640" cy="69840"/>
          </a:xfrm>
        </p:grpSpPr>
        <p:sp>
          <p:nvSpPr>
            <p:cNvPr id="6" name=""/>
            <p:cNvSpPr/>
            <p:nvPr/>
          </p:nvSpPr>
          <p:spPr>
            <a:xfrm>
              <a:off x="609480" y="1219320"/>
              <a:ext cx="3525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991880" y="128916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 looks different with OOo 1.1.1RC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open this slide with OOo 1.1.1RC1 you see that the formerly continuous blue to light blue background, with a gradient from the upper left corner to the lower right corner, will change to a gradient from the upper left corner to the middle of the p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2T10:47:33Z</dcterms:created>
  <dc:creator>Volker Quetschke</dc:creator>
  <dc:description/>
  <dc:language>en-US</dc:language>
  <cp:lastModifiedBy>User</cp:lastModifiedBy>
  <dcterms:modified xsi:type="dcterms:W3CDTF">2004-03-18T21:05:57Z</dcterms:modified>
  <cp:revision>119</cp:revision>
  <dc:subject/>
  <dc:title>Length vs. phase</dc:title>
</cp:coreProperties>
</file>