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AA47-CCF1-4B77-BC7D-96B51B0FA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83041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725280"/>
            <a:ext cx="83041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9BA1-1958-4541-B778-2C2161B4F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2528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0640" y="372528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1439-13DA-4100-B995-49803A6A1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13976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1080" y="113976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72528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2528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1080" y="372528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E187-E383-4823-AE11-1606EB5DE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440" y="1139760"/>
            <a:ext cx="830412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3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830412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3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440" y="372528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139760"/>
            <a:ext cx="830412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3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74E2-8CDF-451E-B09B-269C01586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40640" y="372528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3725280"/>
            <a:ext cx="83041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83041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440" y="3725280"/>
            <a:ext cx="83041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72528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40640" y="372528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93080" y="113976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01080" y="113976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440" y="372528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93080" y="372528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01080" y="3725280"/>
            <a:ext cx="26737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830412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8940-95EF-46D0-8656-6DBE2CE8C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B95F-75D0-4319-90BE-E204D4454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D029-71FE-44EE-ABA3-EAC715EA7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3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88AE-EEA3-46F7-89D4-12F5DE674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72528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A40E-F45F-4A20-9662-F52F53E0D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0640" y="372528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AC84-6321-4F6A-8967-65D5E9079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0640" y="1139760"/>
            <a:ext cx="405216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725280"/>
            <a:ext cx="830412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A7E9-8906-4DE6-87EB-182C34F0C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91200"/>
            <a:ext cx="9145440" cy="76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139760"/>
            <a:ext cx="830412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5000"/>
              </a:lnSpc>
              <a:spcBef>
                <a:spcPts val="1137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5000"/>
              </a:lnSpc>
              <a:spcBef>
                <a:spcPts val="1137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828440" y="6400800"/>
            <a:ext cx="34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ntor Graphics 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2003-2005, Mentor Grap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2640" y="15228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tor’s Custom/Mixed-Signal Design Flow</a:t>
            </a: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A Unified Environment for SoC Desig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1520" y="4363920"/>
            <a:ext cx="1258920" cy="125424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rd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&amp;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497800" y="4575240"/>
            <a:ext cx="671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95560" y="4459320"/>
            <a:ext cx="60948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D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59720" y="2146320"/>
            <a:ext cx="1706400" cy="13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do, Eldo 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S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3480" y="4276800"/>
            <a:ext cx="167616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bre DRC/L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bre xRC, x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511960" y="2779200"/>
            <a:ext cx="118404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11960" y="5100480"/>
            <a:ext cx="1222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44800" y="4214880"/>
            <a:ext cx="2286000" cy="167616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97080" y="4367160"/>
            <a:ext cx="198144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oorplan &amp;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as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7080" y="5052960"/>
            <a:ext cx="198144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1560" y="3529080"/>
            <a:ext cx="0" cy="495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54160" y="2128680"/>
            <a:ext cx="2286000" cy="136692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86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ign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mulation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 Architect-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08160" y="5033880"/>
            <a:ext cx="544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75040" y="2816280"/>
            <a:ext cx="5936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71720" y="3489480"/>
            <a:ext cx="0" cy="495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4480" y="3581280"/>
            <a:ext cx="123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hematic-driv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46560" y="2840400"/>
            <a:ext cx="1916280" cy="1854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StarBats"/>
                <a:ea typeface="StarBats"/>
              </a:rPr>
              <a:t>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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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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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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90160" y="248904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oss-pro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75400" y="485136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ror view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547120" y="4981680"/>
            <a:ext cx="444600" cy="228600"/>
          </a:xfrm>
          <a:custGeom>
            <a:avLst/>
            <a:gdLst>
              <a:gd name="textAreaLeft" fmla="*/ 69480 w 444600"/>
              <a:gd name="textAreaRight" fmla="*/ 389160 w 444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2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55040" y="3524400"/>
            <a:ext cx="0" cy="495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43960" y="3627360"/>
            <a:ext cx="87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-lay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360" y="1957320"/>
            <a:ext cx="147312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log-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HDL-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2120" y="2244600"/>
            <a:ext cx="1263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ilog-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HDL-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5FA4-0D66-4ACA-BC16-92583287BD36}" type="slidenum">
              <a:t>1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tor’s           Custom/Mixed-Signal Design Flow</a:t>
            </a:r>
            <a:br>
              <a:rPr sz="28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20033"/>
                </a:solidFill>
                <a:latin typeface="Arial"/>
              </a:rPr>
              <a:t>New ICstudio Design Management Platform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1520" y="4363920"/>
            <a:ext cx="1258920" cy="125424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rd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&amp;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97800" y="4575240"/>
            <a:ext cx="671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728800" y="1295280"/>
            <a:ext cx="2805120" cy="4770720"/>
            <a:chOff x="2728800" y="1295280"/>
            <a:chExt cx="2805120" cy="4770720"/>
          </a:xfrm>
        </p:grpSpPr>
        <p:sp>
          <p:nvSpPr>
            <p:cNvPr id="108" name=""/>
            <p:cNvSpPr/>
            <p:nvPr/>
          </p:nvSpPr>
          <p:spPr>
            <a:xfrm>
              <a:off x="2728800" y="1295280"/>
              <a:ext cx="2805120" cy="4770720"/>
            </a:xfrm>
            <a:custGeom>
              <a:avLst/>
              <a:gdLst>
                <a:gd name="textAreaLeft" fmla="*/ 136800 w 2805120"/>
                <a:gd name="textAreaRight" fmla="*/ 2668320 w 2805120"/>
                <a:gd name="textAreaTop" fmla="*/ 136800 h 4770720"/>
                <a:gd name="textAreaBottom" fmla="*/ 4633920 h 4770720"/>
              </a:gdLst>
              <a:ahLst/>
              <a:rect l="textAreaLeft" t="textAreaTop" r="textAreaRight" b="textAreaBottom"/>
              <a:pathLst>
                <a:path w="21600" h="36734">
                  <a:moveTo>
                    <a:pt x="3600" y="0"/>
                  </a:moveTo>
                  <a:arcTo wR="3600" hR="3600" stAng="16200000" swAng="-5400000"/>
                  <a:lnTo>
                    <a:pt x="0" y="33134"/>
                  </a:lnTo>
                  <a:arcTo wR="3600" hR="3600" stAng="10800000" swAng="-5400000"/>
                  <a:lnTo>
                    <a:pt x="18000" y="367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2b83db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22440" y="1315080"/>
              <a:ext cx="1623960" cy="6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sign Platfor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Cst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095560" y="4459320"/>
            <a:ext cx="60948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D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59720" y="2146320"/>
            <a:ext cx="1706400" cy="13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do, Eldo 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S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3480" y="4276800"/>
            <a:ext cx="167616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bre DRC/L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bre xRC, x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11960" y="2779200"/>
            <a:ext cx="118404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11960" y="5100480"/>
            <a:ext cx="1222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44800" y="4214880"/>
            <a:ext cx="2286000" cy="167616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97080" y="4367160"/>
            <a:ext cx="198144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oorplan &amp;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asse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97080" y="5052960"/>
            <a:ext cx="198144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1560" y="3529080"/>
            <a:ext cx="0" cy="495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4160" y="2128680"/>
            <a:ext cx="2286000" cy="136692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8600" bIns="4680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ign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mulation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 Architect-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08160" y="5033880"/>
            <a:ext cx="544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75040" y="2816280"/>
            <a:ext cx="5936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71720" y="3489480"/>
            <a:ext cx="0" cy="495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4480" y="3581280"/>
            <a:ext cx="123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hematic-driv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46560" y="2840400"/>
            <a:ext cx="1916280" cy="1854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StarBats"/>
                <a:ea typeface="StarBats"/>
              </a:rPr>
              <a:t>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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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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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tarBats"/>
                <a:ea typeface="StarBats"/>
              </a:rPr>
              <a:t>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90160" y="248904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oss-pro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75400" y="485136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ror view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47120" y="4981680"/>
            <a:ext cx="444600" cy="228600"/>
          </a:xfrm>
          <a:custGeom>
            <a:avLst/>
            <a:gdLst>
              <a:gd name="textAreaLeft" fmla="*/ 69480 w 444600"/>
              <a:gd name="textAreaRight" fmla="*/ 389160 w 444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2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55040" y="3524400"/>
            <a:ext cx="0" cy="495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43960" y="3627360"/>
            <a:ext cx="87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-lay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957320"/>
            <a:ext cx="147312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log-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HDL-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2120" y="2244600"/>
            <a:ext cx="1263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ilog-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HDL-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028960" y="106200"/>
            <a:ext cx="900000" cy="617760"/>
            <a:chOff x="2028960" y="106200"/>
            <a:chExt cx="900000" cy="617760"/>
          </a:xfrm>
        </p:grpSpPr>
        <p:sp>
          <p:nvSpPr>
            <p:cNvPr id="133" name=""/>
            <p:cNvSpPr/>
            <p:nvPr/>
          </p:nvSpPr>
          <p:spPr>
            <a:xfrm>
              <a:off x="2028960" y="106200"/>
              <a:ext cx="900000" cy="617760"/>
            </a:xfrm>
            <a:prstGeom prst="irregularSeal1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16160" y="257040"/>
              <a:ext cx="54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45D9-A177-4D8D-AED8-3626F7C9E099}" type="slidenum">
              <a:t>2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013200" y="1587600"/>
            <a:ext cx="2173320" cy="3763800"/>
            <a:chOff x="3013200" y="1587600"/>
            <a:chExt cx="2173320" cy="3763800"/>
          </a:xfrm>
        </p:grpSpPr>
        <p:sp>
          <p:nvSpPr>
            <p:cNvPr id="136" name=""/>
            <p:cNvSpPr/>
            <p:nvPr/>
          </p:nvSpPr>
          <p:spPr>
            <a:xfrm>
              <a:off x="3013200" y="1587600"/>
              <a:ext cx="2173320" cy="3763800"/>
            </a:xfrm>
            <a:custGeom>
              <a:avLst/>
              <a:gdLst>
                <a:gd name="textAreaLeft" fmla="*/ 105840 w 2173320"/>
                <a:gd name="textAreaRight" fmla="*/ 2067480 w 2173320"/>
                <a:gd name="textAreaTop" fmla="*/ 105840 h 3763800"/>
                <a:gd name="textAreaBottom" fmla="*/ 3657960 h 3763800"/>
              </a:gdLst>
              <a:ahLst/>
              <a:rect l="textAreaLeft" t="textAreaTop" r="textAreaRight" b="textAreaBottom"/>
              <a:pathLst>
                <a:path w="21600" h="37405">
                  <a:moveTo>
                    <a:pt x="3600" y="0"/>
                  </a:moveTo>
                  <a:arcTo wR="3600" hR="3600" stAng="16200000" swAng="-5400000"/>
                  <a:lnTo>
                    <a:pt x="0" y="33805"/>
                  </a:lnTo>
                  <a:arcTo wR="3600" hR="3600" stAng="10800000" swAng="-5400000"/>
                  <a:lnTo>
                    <a:pt x="18000" y="374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2b83db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2920" y="1603440"/>
              <a:ext cx="1258200" cy="4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esign Platfor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C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157560" y="3916440"/>
            <a:ext cx="1793880" cy="1315800"/>
            <a:chOff x="3157560" y="3916440"/>
            <a:chExt cx="1793880" cy="1315800"/>
          </a:xfrm>
        </p:grpSpPr>
        <p:sp>
          <p:nvSpPr>
            <p:cNvPr id="139" name=""/>
            <p:cNvSpPr/>
            <p:nvPr/>
          </p:nvSpPr>
          <p:spPr>
            <a:xfrm>
              <a:off x="3157560" y="3916440"/>
              <a:ext cx="1793880" cy="131580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7080" y="4035960"/>
              <a:ext cx="1554480" cy="53820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Lay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C S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77080" y="4574160"/>
              <a:ext cx="1554480" cy="53820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ssembl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Cassem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dvantages of the Mentor ICstudio Flow</a:t>
            </a:r>
            <a:br>
              <a:rPr sz="2800"/>
            </a:b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52680" y="4125960"/>
            <a:ext cx="4730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FDE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36800" y="3903840"/>
            <a:ext cx="1304640" cy="1299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3rd Par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&amp;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37280" y="2313000"/>
            <a:ext cx="1322280" cy="106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unctio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ldo, Eldo R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del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4560" y="3963960"/>
            <a:ext cx="1300320" cy="13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xtra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libre DRC/LV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libre xR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68880" y="2805120"/>
            <a:ext cx="9190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68880" y="4603680"/>
            <a:ext cx="947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84560" y="3384720"/>
            <a:ext cx="0" cy="384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87800" y="2300400"/>
            <a:ext cx="1771560" cy="105876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Design Cap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ign Architect-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32240" y="4551480"/>
            <a:ext cx="420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98680" y="2833560"/>
            <a:ext cx="4986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2568600"/>
            <a:ext cx="13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erilog-A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HDL-A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28720" y="3354480"/>
            <a:ext cx="0" cy="384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17240" y="350352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chematic-driv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88080" y="3048840"/>
            <a:ext cx="1482480" cy="1036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T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Symbol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Device Generato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Spice mode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Rule f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Tech. 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15400" y="261792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ross-prob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05320" y="4448160"/>
            <a:ext cx="744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rror view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81880" y="4451400"/>
            <a:ext cx="344520" cy="177840"/>
          </a:xfrm>
          <a:custGeom>
            <a:avLst/>
            <a:gdLst>
              <a:gd name="textAreaLeft" fmla="*/ 53640 w 344520"/>
              <a:gd name="textAreaRight" fmla="*/ 301680 w 344520"/>
              <a:gd name="textAreaTop" fmla="*/ 44280 h 177840"/>
              <a:gd name="textAreaBottom" fmla="*/ 133560 h 177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2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83320" y="4216320"/>
            <a:ext cx="520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31000" y="3381480"/>
            <a:ext cx="0" cy="384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03000" y="349884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st-layou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65000" y="5475240"/>
            <a:ext cx="278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Calibre DRC/LVS error vie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Inside IC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92080" y="5492880"/>
            <a:ext cx="314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Unified platform for custom layou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Routing, and chip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440" y="928800"/>
            <a:ext cx="25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Integrated, intuitive, flex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design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0840" y="170820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Single front-end for schema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and simulation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00480" y="1536840"/>
            <a:ext cx="21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ADMS full-chip pre/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Layout 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13480" y="3189240"/>
            <a:ext cx="17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DSPF/SPICE based post-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13880" y="5281560"/>
            <a:ext cx="172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Device gener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SDL/LDL, E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Rule-dri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20033"/>
                </a:solidFill>
                <a:latin typeface="Arial"/>
              </a:rPr>
              <a:t>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72000" y="4056120"/>
            <a:ext cx="782640" cy="485640"/>
          </a:xfrm>
          <a:prstGeom prst="ellipse">
            <a:avLst/>
          </a:prstGeom>
          <a:noFill/>
          <a:ln w="936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46400" y="3987720"/>
            <a:ext cx="1992240" cy="1224000"/>
          </a:xfrm>
          <a:prstGeom prst="ellipse">
            <a:avLst/>
          </a:prstGeom>
          <a:noFill/>
          <a:ln w="936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32520" y="4290840"/>
            <a:ext cx="1120680" cy="605160"/>
          </a:xfrm>
          <a:prstGeom prst="ellipse">
            <a:avLst/>
          </a:prstGeom>
          <a:noFill/>
          <a:ln w="936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06680" y="2948040"/>
            <a:ext cx="1401840" cy="164880"/>
          </a:xfrm>
          <a:prstGeom prst="ellipse">
            <a:avLst/>
          </a:prstGeom>
          <a:noFill/>
          <a:ln w="936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10000" y="1533600"/>
            <a:ext cx="1165320" cy="515880"/>
          </a:xfrm>
          <a:prstGeom prst="ellipse">
            <a:avLst/>
          </a:prstGeom>
          <a:noFill/>
          <a:ln w="936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0" y="3451320"/>
            <a:ext cx="736560" cy="426960"/>
          </a:xfrm>
          <a:prstGeom prst="ellipse">
            <a:avLst/>
          </a:prstGeom>
          <a:noFill/>
          <a:ln w="936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15200" y="2787480"/>
            <a:ext cx="766800" cy="220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C0E5-A036-442C-884E-DE55D7FF2929}" type="slidenum">
              <a:t>3</a:t>
            </a:fld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00:05:07Z</dcterms:created>
  <dc:creator>Avi Gupta</dc:creator>
  <dc:description/>
  <dc:language>en-US</dc:language>
  <cp:lastModifiedBy>cparg</cp:lastModifiedBy>
  <cp:lastPrinted>2005-06-02T04:40:40Z</cp:lastPrinted>
  <dcterms:modified xsi:type="dcterms:W3CDTF">2005-12-19T21:31:41Z</dcterms:modified>
  <cp:revision>2439</cp:revision>
  <dc:subject>Mentor Graphics CONFIDENTIAL</dc:subject>
  <dc:title>Mentor IC Flow Presentation June05</dc:title>
</cp:coreProperties>
</file>