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0490-9F7D-4A5B-8ECC-48E06CC85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67C5-463E-4CF1-84BD-B6471F868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F90F-C5D2-4220-8A4D-25C08D139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C31F-0D52-45AA-B2EB-4F8454521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93DC-8B8F-4321-A0FB-064EED9DF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B8C-1947-4771-B57F-21455B07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02D-316F-4D07-833B-118B69EF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AA8B-66E1-4803-B627-CE90CE03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060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736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348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060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736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55B-5AE2-4D2D-99F3-05D2296E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962E-B58D-4237-8A8A-FC138C57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7782-67F1-41FD-8B7A-19A2A942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A350-22DB-40AB-9DCB-4BF433F0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D5E1-5599-44C4-86F5-35956CDB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E47D-FC64-4379-815D-A75DDE2F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55680" y="-360"/>
            <a:ext cx="829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3372-C289-4243-A7D5-7862B909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3858-FC26-441B-B320-CDC7B3F9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115C-19F8-47BA-9A63-FC9FA223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9317-4C94-4629-8925-3FC6D911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F43A-2924-41B9-B58E-3BF2AF64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29A4-B990-47CE-87AB-CD8A02BF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1EDE-7F9D-41B0-8A53-9A621FA3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8060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736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348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8060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736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0BDD-6D79-42AA-97CE-8FD94A7B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8A1A-E842-4B61-B23A-2DC2E6CF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BCF-F8FE-4EA8-9A6A-C6200085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4A6-AC99-4F84-92DD-58903F6B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-360"/>
            <a:ext cx="829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A454-C883-457A-B564-EEB20007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133-7544-422A-B3CC-84989D9F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52D-5A77-44F3-9871-28437D29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00E-92BA-4F8A-A8DE-46307450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1749"/>
              </a:spcBef>
              <a:spcAft>
                <a:spcPts val="1749"/>
              </a:spcAft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90320" indent="-1886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75420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05588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bilingualcolourlogo"/>
          <p:cNvPicPr/>
          <p:nvPr/>
        </p:nvPicPr>
        <p:blipFill>
          <a:blip r:embed="rId2"/>
          <a:stretch/>
        </p:blipFill>
        <p:spPr>
          <a:xfrm>
            <a:off x="7129440" y="6369120"/>
            <a:ext cx="1824120" cy="336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7861320" y="6375240"/>
            <a:ext cx="533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1F7E-3EF8-41F8-BA99-0AD7190174E9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190440" y="2003400"/>
            <a:ext cx="615960" cy="2851200"/>
          </a:xfrm>
          <a:custGeom>
            <a:avLst/>
            <a:gdLst>
              <a:gd name="textAreaLeft" fmla="*/ 0 w 615960"/>
              <a:gd name="textAreaRight" fmla="*/ 616320 w 615960"/>
              <a:gd name="textAreaTop" fmla="*/ 0 h 2851200"/>
              <a:gd name="textAreaBottom" fmla="*/ 2851560 h 2851200"/>
            </a:gdLst>
            <a:ahLst/>
            <a:rect l="textAreaLeft" t="textAreaTop" r="textAreaRight" b="textAreaBottom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990720" y="2003400"/>
            <a:ext cx="615960" cy="2851200"/>
          </a:xfrm>
          <a:custGeom>
            <a:avLst/>
            <a:gdLst>
              <a:gd name="textAreaLeft" fmla="*/ 0 w 615960"/>
              <a:gd name="textAreaRight" fmla="*/ 616320 w 615960"/>
              <a:gd name="textAreaTop" fmla="*/ 0 h 2851200"/>
              <a:gd name="textAreaBottom" fmla="*/ 2851560 h 2851200"/>
            </a:gdLst>
            <a:ahLst/>
            <a:rect l="textAreaLeft" t="textAreaTop" r="textAreaRight" b="textAreaBottom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190440" y="2003400"/>
            <a:ext cx="615960" cy="2851200"/>
          </a:xfrm>
          <a:custGeom>
            <a:avLst/>
            <a:gdLst>
              <a:gd name="textAreaLeft" fmla="*/ 0 w 615960"/>
              <a:gd name="textAreaRight" fmla="*/ 616320 w 615960"/>
              <a:gd name="textAreaTop" fmla="*/ 0 h 2851200"/>
              <a:gd name="textAreaBottom" fmla="*/ 2851560 h 2851200"/>
            </a:gdLst>
            <a:ahLst/>
            <a:rect l="textAreaLeft" t="textAreaTop" r="textAreaRight" b="textAreaBottom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8"/>
          <p:cNvSpPr/>
          <p:nvPr/>
        </p:nvSpPr>
        <p:spPr>
          <a:xfrm>
            <a:off x="990720" y="2003400"/>
            <a:ext cx="615960" cy="2851200"/>
          </a:xfrm>
          <a:custGeom>
            <a:avLst/>
            <a:gdLst>
              <a:gd name="textAreaLeft" fmla="*/ 0 w 615960"/>
              <a:gd name="textAreaRight" fmla="*/ 616320 w 615960"/>
              <a:gd name="textAreaTop" fmla="*/ 0 h 2851200"/>
              <a:gd name="textAreaBottom" fmla="*/ 2851560 h 2851200"/>
            </a:gdLst>
            <a:ahLst/>
            <a:rect l="textAreaLeft" t="textAreaTop" r="textAreaRight" b="textAreaBottom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1749"/>
              </a:spcBef>
              <a:spcAft>
                <a:spcPts val="1749"/>
              </a:spcAft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90320" indent="-1886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75420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05588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8864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... Reorienting Trade Away from OECD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 rot="16200000">
            <a:off x="6903000" y="-277200"/>
            <a:ext cx="366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422160" y="6452640"/>
            <a:ext cx="22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ource: IMF Direction of Trade (D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1835280" y="12859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tinations of African Exports in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2" descr=""/>
          <p:cNvPicPr/>
          <p:nvPr/>
        </p:nvPicPr>
        <p:blipFill>
          <a:blip r:embed="rId1"/>
          <a:stretch/>
        </p:blipFill>
        <p:spPr>
          <a:xfrm>
            <a:off x="214200" y="2143080"/>
            <a:ext cx="8280360" cy="401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 rot="16200000">
            <a:off x="6903000" y="-277200"/>
            <a:ext cx="366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495240" y="6452640"/>
            <a:ext cx="22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ource: IMF Direction of Trade (DO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1908000" y="170028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tinations of African Exports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353440" cy="4321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8864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... Reorienting Trade Away from OECD Countr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2843280" y="30686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35.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1979640" y="3645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66.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1187280" y="3500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9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... While not Chang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African Export M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 rot="16200000">
            <a:off x="6903000" y="-277200"/>
            <a:ext cx="366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24000" y="558972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hare of China in Angola’s Exports: 23.2% (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2273760" y="6452640"/>
            <a:ext cx="458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ource: OECD Development Centre calculations based on ITC Trademap (UNCTA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3"/>
          <p:cNvGrpSpPr/>
          <p:nvPr/>
        </p:nvGrpSpPr>
        <p:grpSpPr>
          <a:xfrm>
            <a:off x="3492000" y="1341360"/>
            <a:ext cx="933840" cy="1224000"/>
            <a:chOff x="3492000" y="1341360"/>
            <a:chExt cx="933840" cy="1224000"/>
          </a:xfrm>
        </p:grpSpPr>
        <p:sp>
          <p:nvSpPr>
            <p:cNvPr id="116" name="Text Box 40"/>
            <p:cNvSpPr/>
            <p:nvPr/>
          </p:nvSpPr>
          <p:spPr>
            <a:xfrm>
              <a:off x="3635280" y="1341360"/>
              <a:ext cx="79056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China’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shar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2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1"/>
            <p:cNvSpPr/>
            <p:nvPr/>
          </p:nvSpPr>
          <p:spPr>
            <a:xfrm flipH="1">
              <a:off x="3492000" y="2133720"/>
              <a:ext cx="35892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44"/>
          <p:cNvGrpSpPr/>
          <p:nvPr/>
        </p:nvGrpSpPr>
        <p:grpSpPr>
          <a:xfrm>
            <a:off x="7740360" y="1341360"/>
            <a:ext cx="933840" cy="1224000"/>
            <a:chOff x="7740360" y="1341360"/>
            <a:chExt cx="933840" cy="1224000"/>
          </a:xfrm>
        </p:grpSpPr>
        <p:sp>
          <p:nvSpPr>
            <p:cNvPr id="119" name="Text Box 45"/>
            <p:cNvSpPr/>
            <p:nvPr/>
          </p:nvSpPr>
          <p:spPr>
            <a:xfrm>
              <a:off x="7883640" y="1341360"/>
              <a:ext cx="79056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China’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shar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8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6"/>
            <p:cNvSpPr/>
            <p:nvPr/>
          </p:nvSpPr>
          <p:spPr>
            <a:xfrm flipH="1">
              <a:off x="7740360" y="2133720"/>
              <a:ext cx="35892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47"/>
          <p:cNvSpPr/>
          <p:nvPr/>
        </p:nvSpPr>
        <p:spPr>
          <a:xfrm>
            <a:off x="4500720" y="558972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hare of China in Sudan’s Exports: 41% (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52"/>
          <p:cNvGrpSpPr/>
          <p:nvPr/>
        </p:nvGrpSpPr>
        <p:grpSpPr>
          <a:xfrm>
            <a:off x="250920" y="1484280"/>
            <a:ext cx="3959280" cy="3959280"/>
            <a:chOff x="250920" y="1484280"/>
            <a:chExt cx="3959280" cy="3959280"/>
          </a:xfrm>
        </p:grpSpPr>
        <p:graphicFrame>
          <p:nvGraphicFramePr>
            <p:cNvPr id="123" name="Object 33"/>
            <p:cNvGraphicFramePr/>
            <p:nvPr/>
          </p:nvGraphicFramePr>
          <p:xfrm>
            <a:off x="250920" y="1484280"/>
            <a:ext cx="3959280" cy="3959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484280"/>
                      <a:ext cx="3959280" cy="395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Text Box 48"/>
            <p:cNvSpPr/>
            <p:nvPr/>
          </p:nvSpPr>
          <p:spPr>
            <a:xfrm>
              <a:off x="1258920" y="414972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9"/>
            <p:cNvSpPr/>
            <p:nvPr/>
          </p:nvSpPr>
          <p:spPr>
            <a:xfrm>
              <a:off x="3132000" y="35733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3"/>
          <p:cNvGrpSpPr/>
          <p:nvPr/>
        </p:nvGrpSpPr>
        <p:grpSpPr>
          <a:xfrm>
            <a:off x="4427640" y="1484280"/>
            <a:ext cx="3959280" cy="3959280"/>
            <a:chOff x="4427640" y="1484280"/>
            <a:chExt cx="3959280" cy="3959280"/>
          </a:xfrm>
        </p:grpSpPr>
        <p:graphicFrame>
          <p:nvGraphicFramePr>
            <p:cNvPr id="128" name="Object 38"/>
            <p:cNvGraphicFramePr/>
            <p:nvPr/>
          </p:nvGraphicFramePr>
          <p:xfrm>
            <a:off x="4427640" y="1484280"/>
            <a:ext cx="3959280" cy="39592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29" name="Object 3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27640" y="1484280"/>
                      <a:ext cx="3959280" cy="395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Text Box 50"/>
            <p:cNvSpPr/>
            <p:nvPr/>
          </p:nvSpPr>
          <p:spPr>
            <a:xfrm>
              <a:off x="5435640" y="371628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51"/>
            <p:cNvSpPr/>
            <p:nvPr/>
          </p:nvSpPr>
          <p:spPr>
            <a:xfrm>
              <a:off x="7236000" y="34290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54"/>
          <p:cNvSpPr/>
          <p:nvPr/>
        </p:nvSpPr>
        <p:spPr>
          <a:xfrm>
            <a:off x="971640" y="3068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anks in 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1403280" y="342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6"/>
          <p:cNvSpPr/>
          <p:nvPr/>
        </p:nvSpPr>
        <p:spPr>
          <a:xfrm>
            <a:off x="1403280" y="3429000"/>
            <a:ext cx="1728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92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6981840" cy="4284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5"/>
          <p:cNvSpPr/>
          <p:nvPr/>
        </p:nvSpPr>
        <p:spPr>
          <a:xfrm>
            <a:off x="355680" y="0"/>
            <a:ext cx="8292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Tahoma"/>
              </a:rPr>
              <a:t>Foreign Direct Investment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hinese and Indian FDI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0"/>
          <p:cNvSpPr/>
          <p:nvPr/>
        </p:nvSpPr>
        <p:spPr>
          <a:xfrm>
            <a:off x="2845080" y="6452640"/>
            <a:ext cx="33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ource: UNCTAD, Ministry of Commerce of India and Ch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1"/>
          <p:cNvSpPr/>
          <p:nvPr/>
        </p:nvSpPr>
        <p:spPr>
          <a:xfrm>
            <a:off x="826920" y="1268280"/>
            <a:ext cx="73454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iod 1995-2004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hina’s OFDI : USD11.2bn / China’s FDI in Africa: USD1.1b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dia’s OFDI : USD14.3bn / India’s FDI in Africa: USD2.3b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8:11:20Z</dcterms:created>
  <dc:creator/>
  <dc:description/>
  <dc:language>en-US</dc:language>
  <cp:lastModifiedBy/>
  <dcterms:modified xsi:type="dcterms:W3CDTF">2011-04-15T08:12:30Z</dcterms:modified>
  <cp:revision>1</cp:revision>
  <dc:subject/>
  <dc:title/>
</cp:coreProperties>
</file>