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0C0-77B4-4F8E-8256-B119E5D7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3990-34F1-461A-978C-6406DD87F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E6E-69DE-4152-A98E-19E1ACA82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675-A446-44CC-9E5A-81625666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3E6-698A-437B-89FE-79AF8DC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324-A90C-48F3-8433-33A77B1C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505-BBB0-4F05-A457-FEFAFF94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89F-AD0C-4F2A-8954-4059007C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36F-B89B-4EF4-B2F2-B030CB0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499-77C8-4D10-B0AB-5F6F30A9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D01-A3A6-4F06-B2A9-BA91409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9CA-1B7B-4729-8D35-8349A90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E9A-8FB8-44A9-89C2-2ECF24B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13C-FCC6-4D1C-B58A-BFBBC4D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C52-3594-4B18-8B64-ECAD0D9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540-A0AB-4C55-970E-DA61558B4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rmodynamics Parameters for Gas Mixture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ajor species begin to separate above the homopause, because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 need to consider them as dependent on the major species: in TIME-GCM: N2, O2 and O are considered. In MOZART mean mass calculation, H is also included. Some version of WACCM/MOZART also has a routine set_cp where H and O3 are also included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609480" y="1511280"/>
                <a:ext cx="3975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5029200" y="1511280"/>
                <a:ext cx="3352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660240" y="3111480"/>
                <a:ext cx="2768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85800" y="2273400"/>
                <a:ext cx="2666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k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30720" y="2489040"/>
                <a:ext cx="1117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</m:e>
                    </m:ba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re are they used?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ynamics modules (Finite Volume)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f53d25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Conserving mapping algorithm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t is mapped from Lagrangian to Eulerian and then used to retrieve T. Cp is assumed constant in this mapping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utation/conversion of geopotential, pressure, exner pressure, and potential temperature. Will potential temperature be the same? Adiabatic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last term is 0 and the previous definition of potential temperature should still be valid, because there is no mass exchange in the process,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905120" y="4419720"/>
                <a:ext cx="3136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T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600200" y="1384200"/>
                <a:ext cx="61992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1-06-04T12:48:31Z</dcterms:modified>
  <cp:revision>1</cp:revision>
  <dc:subject/>
  <dc:title/>
</cp:coreProperties>
</file>