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258-BA4A-4D37-B020-7AEB9330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8A2-9867-4EE1-BEC4-1F8A707C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1D8-8C95-401B-959E-D4E50F50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CC0-9F38-4EE8-ABBF-D1730B57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5DB-1BEC-44FD-96B2-FA141830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707-05C9-4190-BF4E-875AACE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1F9-860A-4B33-B1CA-6CE4623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970-29A6-4A0B-9D3D-4CAC4ED9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7B2-832A-450D-8DB4-C1AFB1E7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0F1-659B-4274-98F7-EDA7C4B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935-5A0A-49A9-82CE-736EDF99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E44-6C44-4ABB-8FAC-7FB3B639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5425-F34F-43F6-8ED4-8E71B3B5A9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4360" y="1989000"/>
          <a:ext cx="7848360" cy="1852920"/>
        </p:xfrm>
        <a:graphic>
          <a:graphicData uri="http://schemas.openxmlformats.org/drawingml/2006/table">
            <a:tbl>
              <a:tblPr/>
              <a:tblGrid>
                <a:gridCol w="2808000"/>
                <a:gridCol w="5040360"/>
              </a:tblGrid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 of test cas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C30FFCSD_FontWork_VerticalText0010.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ature name:</a:t>
                      </a:r>
                      <a:r>
                        <a:rPr b="0" lang="zh-CN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Work and Extrusion interoperability with MS Off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points (Fo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ext in the fontwork is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ertical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5400000">
            <a:off x="-326880" y="2247840"/>
            <a:ext cx="6629400" cy="259056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hape of  the font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  Arch  U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three line text  t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  fourth  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2:49:03Z</dcterms:created>
  <dc:creator>jiyu</dc:creator>
  <dc:description/>
  <dc:language>en-US</dc:language>
  <cp:lastModifiedBy>wangwenhuan</cp:lastModifiedBy>
  <dcterms:modified xsi:type="dcterms:W3CDTF">2006-07-06T07:10:32Z</dcterms:modified>
  <cp:revision>25</cp:revision>
  <dc:subject/>
  <dc:title>Slide 1</dc:title>
</cp:coreProperties>
</file>