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12C9-0449-47BA-B5E8-BF6E49AD5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ACED-9577-4B75-AF1A-8CC08FD4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8455-F52C-42B8-9CE7-C1E50A355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00E3-5DC8-459D-BE41-74AE7A03C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0C03-0FF6-4093-9672-E299EB75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36A9-94E4-4253-9760-FE7600AF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AACD-48FB-4683-B013-F9C60F1D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900D-4BE6-4AEA-BF8A-6D131DDC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D427-C984-453E-82EE-B47D2A00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2CF4-ABA0-4DAF-A96D-0BE6C513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4938-5E42-46F6-AE3B-7E7719C0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0F5F-D509-4FD5-B430-5F092C74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6ECD5-8263-4192-B93A-D67733A6E4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52520" y="4579920"/>
            <a:ext cx="2014560" cy="12272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29240" y="3679920"/>
            <a:ext cx="2014560" cy="1226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573960" y="2311560"/>
            <a:ext cx="2014560" cy="1226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1" idx="6"/>
            <a:endCxn id="43" idx="4"/>
          </p:cNvCxnSpPr>
          <p:nvPr/>
        </p:nvCxnSpPr>
        <p:spPr>
          <a:xfrm flipV="1">
            <a:off x="4267080" y="3538440"/>
            <a:ext cx="3314520" cy="1655640"/>
          </a:xfrm>
          <a:prstGeom prst="curvedConnector2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45" name=""/>
          <p:cNvCxnSpPr>
            <a:stCxn id="41" idx="2"/>
            <a:endCxn id="43" idx="2"/>
          </p:cNvCxnSpPr>
          <p:nvPr/>
        </p:nvCxnSpPr>
        <p:spPr>
          <a:xfrm flipH="1" rot="10800000">
            <a:off x="2252520" y="2925000"/>
            <a:ext cx="4321800" cy="2269080"/>
          </a:xfrm>
          <a:prstGeom prst="bentConnector3">
            <a:avLst>
              <a:gd name="adj1" fmla="val -5356"/>
            </a:avLst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</p:cxnSp>
      <p:cxnSp>
        <p:nvCxnSpPr>
          <p:cNvPr id="46" name=""/>
          <p:cNvCxnSpPr>
            <a:stCxn id="41" idx="6"/>
            <a:endCxn id="41" idx="6"/>
          </p:cNvCxnSpPr>
          <p:nvPr/>
        </p:nvCxnSpPr>
        <p:spPr>
          <a:xfrm rot="16200000">
            <a:off x="4267080" y="5193720"/>
            <a:ext cx="360" cy="360"/>
          </a:xfrm>
          <a:prstGeom prst="curvedConnector2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47" name=""/>
          <p:cNvCxnSpPr>
            <a:stCxn id="41" idx="0"/>
            <a:endCxn id="42" idx="2"/>
          </p:cNvCxnSpPr>
          <p:nvPr/>
        </p:nvCxnSpPr>
        <p:spPr>
          <a:xfrm flipV="1">
            <a:off x="3259800" y="4293360"/>
            <a:ext cx="1369800" cy="2869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yosti Anttonen</dc:creator>
  <dc:description/>
  <dc:language>en-US</dc:language>
  <cp:lastModifiedBy>Kyosti Anttonen</cp:lastModifiedBy>
  <cp:revision>0</cp:revision>
  <dc:subject/>
  <dc:title/>
</cp:coreProperties>
</file>