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851-57CE-4171-B4F4-FDCCF3E8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047-BC05-4314-A7C5-0984C25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BB6-9900-4586-8452-0039377B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D5C-2D40-4219-8C7F-4AC02051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A07-ED5B-4AEC-AC0F-F8E252B2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9CD-AE8D-432D-B804-2B3D7558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B07-65B3-4532-8BF2-8976F6C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E47-0FD5-4EDF-84CA-82BE9F7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1EA-1A41-4A9C-B8ED-204DDBDF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EDE-8940-45FB-AF00-2C334EC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4B7-3042-40DE-9177-C0AB676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E74-F93B-48D8-8CF8-EF0BBEF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99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B15-9B6D-453D-9F34-C177BEA240C7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wisa.org/wwisamain/index.htm" TargetMode="External"/><Relationship Id="rId2" Type="http://schemas.openxmlformats.org/officeDocument/2006/relationships/hyperlink" Target="http://www.sei.cmu.edu/architecture/definitions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הנדסת תוכנה מנקודות מבט שונו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בעיות נבחרות במדעי המחשב </a:t>
            </a: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סמסטר ב' תשס"ב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at Software Enginee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וכניות מחשב הן עצם מתמטי פורמלי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וכחת נכונות של תוכניות מבוססת על הוכחות מתמטיות.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at Software Enginee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וכניות מחשב הן כלים או סביבות עבודה עבור אנ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וכניות מחשב מתוכננות בתהליך של למידה ותקשורת על-מנת שתתאמנה לצורכי המשתמ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בתהליך התאמתה של תוכנית מחשב לצרכים שעבורם היא מפותחת נבחן אופן השימוש בה ובעקבות בחינה זו נערכים שינויים ונכתבות גרסאות חדשו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איכות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שוייכת למאפייני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features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המוצר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קריטריונים הקובעים את איכות התוכנה מתייחסים למהימנותה, יעילותה, וכו'. ניתן לשפר מדדים אלו ע"י שינוי התוכני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וגדרת ע"י התבוננות מהתוכנה למשתמשים (למשל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user friendliness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איכות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תייחסת לתהליכים של השימוש בתוכנ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קריטריונים הקובעים את איכות התוכנה מתייחסים למהימנות </a:t>
            </a:r>
            <a:r>
              <a:rPr b="1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שימוש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בתוכנה וביעילותו. ניתן לשפר מדדים אלו ע"י שינוי סביבת העבוד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יכות מוגדרת ע"י התבוננות מהמשתמשים לתוכנה (למשל,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relevance, suitability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תהליך הפיתוח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ftware development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מטרת תהליך הפיתוח היא יצירת מערכת תוכנה </a:t>
            </a:r>
            <a:r>
              <a:rPr b="1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אחת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, מוגדרת וקבוע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לאחר תהליך הפיתוח של התוכנה מתחיל שלב התחזוקה שלה, שמורכב מהסרת "בגים“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והוספה של צרכים חד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98400" indent="-268560" algn="r" rtl="1">
              <a:lnSpc>
                <a:spcPct val="125000"/>
              </a:lnSpc>
              <a:spcBef>
                <a:spcPts val="700"/>
              </a:spcBef>
              <a:spcAft>
                <a:spcPts val="524"/>
              </a:spcAft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הליך הפיתוח נתפס כתהליך לינארי. סיום שלב מוביל לתחילת השלב הבא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תהליך הפיתוח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ftware development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מטרתו של תהליך הפיתוח היא יצירת סדרת גרסאות הקשורות זו לזו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חזוקת תוכנה היא חסרת משמעות. משימות שבאופן מסורתי מיוחסות לשלב התחזוקה מצורפות לפיתוח הגרסאות השונו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תהליך הפיתוח הוא ציקלי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re-design, re-implementation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,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וכו'. כל מחזור מוביל לגרסה חדשה של מערכת התוכנה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הבנת תוכניות ותפקיד המסמכים הנלווים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ש להבין תוכניות מחשב מהמסמכים בלבד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מסמכים צריכים להיות מושלמים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על חלק מהמסמכים להיות כתוב בשפה פורמלי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סברים המשתמשים בשפה טבעית אינם נחשבים עקבי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05600" indent="-2714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דע נרכש ע"י הבנת חוקים פורמליים (המנוסחים בצורה פורמלית)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הבנת תוכניות ותפקיד המסמכים הנלווים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על המסמכים להסביר בלשון המובנת לקוראים מה עושה תוכנית המחשב וכיצד היא מבצעת זאת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חוות דעת אישיות ותיאור ניסיונות שימוש הם חלק חיוני בהבנת מערכות תוכנה; על מסמכים לעודד שילוב של רשמים מפעילויות מסוג זה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החלק המשמעותי של התיעוד כתוב בשפה טבעית ומכיל הצגת מושגים, הגדרות, והסברים על המודל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 algn="r" rtl="1">
              <a:lnSpc>
                <a:spcPct val="125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ש להשתמש בשפה פורמלית רק אם יש צורך בכך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הבנת תוכניות ותפקיד המסמכים הנלווים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-Oriented view (cont)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על המסמכים לתאר גם כיצד התקבלו החלטות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ניסיונות שונים, בחינת אלטרנטיבות, וכו'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התיעוד הוא המסמך עליו מתבסס המשך פיתוח (תחזוקת) המערכ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דרך מתאימה לתיעוד מסוג זה היא עריכת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dairy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)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יומן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ידע נרכש על-בסיס ידע קודם ע"י דוגמאות ואנלוגיו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שיטות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ethods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duct-Oriented view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מוש נכון בשיטות פיתוח מוביל לתוצאות אחידו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הן קבועות, מוגדרות היטב ובלתי תלויות בתוכן, במפתחים ובמשתמ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פיתוח מסייעות למפתחי תוכנה להיות פחות תלויים באנ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שאלות מסגר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99"/>
                </a:solidFill>
                <a:latin typeface="Arial Black"/>
                <a:ea typeface="Narkisim"/>
              </a:rPr>
              <a:t> למה כותבים תוכנה?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99"/>
                </a:solidFill>
                <a:latin typeface="Arial Black"/>
                <a:cs typeface="Narkisim"/>
              </a:rPr>
              <a:t>מהן המטרות של כתיבת קוד?</a:t>
            </a:r>
            <a:r>
              <a:rPr b="0" lang="en-US" sz="3600" spc="-1" strike="noStrike">
                <a:solidFill>
                  <a:srgbClr val="000099"/>
                </a:solidFill>
                <a:latin typeface="Arial Black"/>
                <a:ea typeface="Narkisim"/>
              </a:rPr>
              <a:t> </a:t>
            </a:r>
            <a:r>
              <a:rPr b="0" lang="he-IL" sz="3600" spc="-1" strike="noStrike">
                <a:solidFill>
                  <a:srgbClr val="000099"/>
                </a:solidFill>
                <a:latin typeface="Arial Black"/>
                <a:cs typeface="Narkisim"/>
              </a:rPr>
              <a:t>של פיתוח מערכת תוכנה?</a:t>
            </a:r>
            <a:r>
              <a:rPr b="0" lang="en-US" sz="3600" spc="-1" strike="noStrike">
                <a:solidFill>
                  <a:srgbClr val="000099"/>
                </a:solidFill>
                <a:latin typeface="Arial Black"/>
                <a:ea typeface="Narkisim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3366"/>
                </a:solidFill>
                <a:latin typeface="Times New Roman"/>
              </a:rPr>
              <a:t>שיטות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ethods</a:t>
            </a: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cess-Oriented view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תומכות בתקשורת בין אנשים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הן חסרות משמעות אלא אם כן הן בשימוש ע"י אנש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  <a:cs typeface="Times New Roman (Hebrew)"/>
              </a:rPr>
              <a:t>שיטות מתפתחות עם הניסיון, ועליהן להיות יכולות להיות מותאמות לצרכים ולמצבים מסויימים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תרגיל </a:t>
            </a: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he-I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003366"/>
                </a:solidFill>
                <a:latin typeface="Times New Roman"/>
              </a:rPr>
              <a:t>(להגשה בזוגות בתאריך </a:t>
            </a:r>
            <a:r>
              <a:rPr b="1" lang="he-IL" sz="3200" spc="-1" strike="noStrike">
                <a:solidFill>
                  <a:srgbClr val="003366"/>
                </a:solidFill>
                <a:latin typeface="Times New Roman"/>
              </a:rPr>
              <a:t>9.4.02</a:t>
            </a:r>
            <a:r>
              <a:rPr b="1" lang="he-I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6600"/>
                </a:solidFill>
                <a:latin typeface="Times New Roman"/>
              </a:rPr>
              <a:t>תיאור מערכת מבוססת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eb</a:t>
            </a:r>
            <a:r>
              <a:rPr b="0" lang="he-IL" sz="2400" spc="-1" strike="noStrike">
                <a:solidFill>
                  <a:srgbClr val="006600"/>
                </a:solidFill>
                <a:latin typeface="Times New Roman"/>
              </a:rPr>
              <a:t> לעריכת סקרים (מנקודת מבט של לקוח)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6600"/>
                </a:solidFill>
                <a:latin typeface="Times New Roman"/>
              </a:rPr>
              <a:t>התיאור הראשוני של לקוח שאינו איש/אשת תוכנה: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006600"/>
                </a:solidFill>
                <a:latin typeface="Times New Roman"/>
              </a:rPr>
              <a:t>אתר לעריכת סקרים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עליכם לפתח תיאור זה למסמך המתאר את מערכת התוכנה </a:t>
            </a:r>
            <a:r>
              <a:rPr b="0" lang="he-IL" sz="2400" spc="-1" strike="noStrike">
                <a:solidFill>
                  <a:srgbClr val="000099"/>
                </a:solidFill>
                <a:latin typeface="Times New Roman"/>
              </a:rPr>
              <a:t>(לא לגלוש לדרישות וניתוחן)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ניתן לבחור עבור מי מפותחת מערכת התוכנה ובהתאם לכך לפתח את תיאור המערכת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cc3300"/>
                </a:solidFill>
                <a:latin typeface="Times New Roman"/>
              </a:rPr>
              <a:t>הנחה: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כרגע אין מערכת כזו בארגון שעבורו מפותחת המערכת </a:t>
            </a:r>
            <a:r>
              <a:rPr b="0" lang="he-IL" sz="2400" spc="-1" strike="noStrike">
                <a:solidFill>
                  <a:srgbClr val="cc3300"/>
                </a:solidFill>
                <a:latin typeface="Times New Roman"/>
              </a:rPr>
              <a:t>(אין נהלי עבודה, אין בסיסי מידע, וכו')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0" algn="r" rtl="1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מסגרת לשאלות מסגרת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25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99"/>
                </a:solidFill>
                <a:latin typeface="Times New Roman"/>
              </a:rPr>
              <a:t>בשיעור הזה נסתכל על תוכנה הנכתבת ללקוחות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ולא על תוכנות שכותבים להנאה או למילוי דרישות קורס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 algn="r" rtl="1">
              <a:lnSpc>
                <a:spcPct val="125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00000"/>
                </a:solidFill>
                <a:latin typeface="Times New Roman"/>
              </a:rPr>
              <a:t>המטרה בפיתוח תוכנה: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800000"/>
                </a:solidFill>
                <a:latin typeface="Times New Roman"/>
              </a:rPr>
              <a:t>לספק ללקוחות את התוכנה שהם צריכים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 algn="r" rtl="1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800000"/>
                </a:solidFill>
                <a:latin typeface="Times New Roman"/>
              </a:rPr>
              <a:t>לענות לדרישות הלקוחות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מידע נוסף על הגיש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Miriam"/>
                <a:hlinkClick r:id="rId1"/>
              </a:rPr>
              <a:t>Worldwide Institute of Software Architects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Miriam"/>
                <a:hlinkClick r:id="rId2"/>
              </a:rPr>
              <a:t>How Do You Define Software Architecture?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הנדסת תוכנה  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Software Engineering</a:t>
            </a:r>
            <a:r>
              <a:rPr b="0" lang="he-IL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 </a:t>
            </a: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12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מונח הוזכר לראשונה בכינוס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O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ב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, בעקבות ההכרה בקיום משבר התוכנה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risi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99"/>
              </a:spcBef>
              <a:spcAft>
                <a:spcPts val="1001"/>
              </a:spcAft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Times New Roman"/>
              </a:rPr>
              <a:t>תחילתה של הנדסת תוכנה היתה עם ההכרה כי פיתוח תוכנה הוא תהליך ארוך, בעל סיבוכיות גדולה מאוד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5800" indent="-325800" algn="r" rtl="1">
              <a:lnSpc>
                <a:spcPct val="12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וכרו בעיות שהן ביסודו של תהליך פיתוח תוכנה וחיפשו עבורן פתרונות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הנדסת תוכנה  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Software Engineering</a:t>
            </a:r>
            <a:r>
              <a:rPr b="0" lang="he-IL" sz="4000" spc="-1" strike="noStrike">
                <a:solidFill>
                  <a:srgbClr val="000099"/>
                </a:solidFill>
                <a:latin typeface="Times New Roman"/>
                <a:ea typeface="Miriam"/>
              </a:rPr>
              <a:t> </a:t>
            </a:r>
            <a:r>
              <a:rPr b="0" lang="he-I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88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5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תחילת הדרך (סוף שנות ה-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תחילת שנות ה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) סברו כי הבעיה המרכזית היא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יצירת קוד התוכנית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25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סוף שנות ה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ותחילת שנות ה-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הוחל לשים דגש על נושאים כמו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תיכון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) מערכות תוכנה 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וניהול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פרוייקטי תוכנה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5000"/>
              </a:lnSpc>
              <a:spcBef>
                <a:spcPts val="700"/>
              </a:spcBef>
              <a:spcAft>
                <a:spcPts val="1049"/>
              </a:spcAft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תהליך הנדסת תוכנה מתחיל </a:t>
            </a:r>
            <a:r>
              <a:rPr b="0" lang="he-IL" sz="2800" spc="-1" strike="noStrike" u="sng">
                <a:solidFill>
                  <a:srgbClr val="000099"/>
                </a:solidFill>
                <a:uFillTx/>
                <a:latin typeface="Times New Roman"/>
              </a:rPr>
              <a:t>הרבה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לפני הקידוד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din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ומסתיים אחרי שהקידוד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מסתיים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שתיים ממטרות הקור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בחינת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נקודות מבט שונות על הנדסת תוכנה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duct vs. Process Perspectives at Software Engineer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99"/>
                </a:solidFill>
                <a:latin typeface="Times New Roman"/>
              </a:rPr>
              <a:t>שקילת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 נקודות מבט שונות בפיתוח מערכת תוכנה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6600"/>
                </a:solidFill>
                <a:latin typeface="Times New Roman"/>
                <a:cs typeface="Times New Roman (Hebrew)"/>
              </a:rPr>
              <a:t>לקוחות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6600"/>
                </a:solidFill>
                <a:latin typeface="Times New Roman"/>
              </a:rPr>
              <a:t>חלקים שונים של חברה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firm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he-IL" sz="2400" spc="-1" strike="noStrike">
                <a:solidFill>
                  <a:srgbClr val="006600"/>
                </a:solidFill>
                <a:latin typeface="Times New Roman"/>
              </a:rPr>
              <a:t> בכלל ובין חברי צוות בפרט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3366"/>
                </a:solidFill>
                <a:latin typeface="Times New Roman"/>
              </a:rPr>
              <a:t>תרגיל כת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99"/>
                </a:solidFill>
                <a:latin typeface="Times New Roman"/>
              </a:rPr>
              <a:t>תיאור נאיבי של מערכת תוכנה כרצונכם כלקוחות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oriented vs. Process oriented perspectives at Software Enginee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he-IL" sz="2800" spc="-1" strike="noStrike">
                <a:solidFill>
                  <a:srgbClr val="000099"/>
                </a:solidFill>
                <a:latin typeface="Times New Roman"/>
              </a:rPr>
              <a:t>נקודות מבט המדגימות דגשים שונים של קהיליות שונות העוסקות בהנדסת תוכנה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r" rtl="1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    מקורות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loyd, C. (1987). Outline of a Paradigm Change in Software Engineering. In: G. Bjerknes, P. Ehn, M. Kyng (Eds.),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mputers and democracy - a Scandinavian challeng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Aldershot, UK: Avebury, 191-212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non, L. (2001). Developing software as a human, social &amp; organizational activity.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13th Annual Workshop of the Psychology of Programming Interest Group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Bournemouth, England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06:47:42Z</dcterms:created>
  <dc:creator>Hazzan</dc:creator>
  <dc:description/>
  <dc:language>en-US</dc:language>
  <cp:lastModifiedBy>Hazzan</cp:lastModifiedBy>
  <dcterms:modified xsi:type="dcterms:W3CDTF">2002-03-23T15:52:51Z</dcterms:modified>
  <cp:revision>1444</cp:revision>
  <dc:subject/>
  <dc:title>Product vs. Process perspective </dc:title>
</cp:coreProperties>
</file>