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3B7-42E2-4B3D-AEE5-091456BC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5EF-60AF-4796-B739-52BC695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1A9-5074-4DC8-8F75-C02DCC8D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87A-49C1-4389-8817-3F20BF94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FFC-9BD9-4499-9051-1774AB40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5F8-9D0B-48A8-8C25-13709D98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476-7371-4FCD-92CE-010B353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D05-60FD-4917-BC92-8700B822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23E-A70B-4502-8FA3-9D3BE667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284-DCE3-4D01-B6BF-77FB497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E6C-1230-49AA-80C9-2EC5EDAB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118-0D1F-4197-864B-779D7FA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A7B-C78D-46F0-8D50-4E28454A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80200" cy="49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685800"/>
            <a:ext cx="5943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4:18:57Z</dcterms:created>
  <dc:creator>Bob Miller</dc:creator>
  <dc:description/>
  <dc:language>en-US</dc:language>
  <cp:lastModifiedBy>Bob Miller</cp:lastModifiedBy>
  <dcterms:modified xsi:type="dcterms:W3CDTF">2005-05-26T14:21:27Z</dcterms:modified>
  <cp:revision>1</cp:revision>
  <dc:subject/>
  <dc:title>PowerPoint Presentation</dc:title>
</cp:coreProperties>
</file>