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581-F727-4C56-A2B6-7EDA1D47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F23-081C-41FB-887E-205FF8B2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A62-5398-49A2-AFF6-36A431CC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8F1-5AD9-4C29-8A31-829F3806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D4E-57B5-498A-9D0C-5963EA2F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415-CD64-447A-AA4B-DF5D28D9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FD1-35AD-4DF1-8753-B4249477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FBF-B9FD-4909-ABE1-A871263F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D63-4833-4FAD-ACE9-FE03926E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4E3-A4EF-4EA2-B3F0-5B2CFC19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E83-0FF2-45A6-867F-13C85056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703-F632-4B28-9B05-DED9EBEA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163E-6DE1-4381-AAD5-AA086A3F7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hart with combinations possi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11360" y="1932120"/>
            <a:ext cx="4121280" cy="4035240"/>
            <a:chOff x="2511360" y="1932120"/>
            <a:chExt cx="4121280" cy="4035240"/>
          </a:xfrm>
        </p:grpSpPr>
        <p:sp>
          <p:nvSpPr>
            <p:cNvPr id="43" name="_s4101"/>
            <p:cNvSpPr/>
            <p:nvPr/>
          </p:nvSpPr>
          <p:spPr>
            <a:xfrm>
              <a:off x="3730680" y="1951200"/>
              <a:ext cx="1682640" cy="16826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4102"/>
            <p:cNvSpPr/>
            <p:nvPr/>
          </p:nvSpPr>
          <p:spPr>
            <a:xfrm rot="3060000">
              <a:off x="4566960" y="2354040"/>
              <a:ext cx="1682640" cy="16826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504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4103"/>
            <p:cNvSpPr/>
            <p:nvPr/>
          </p:nvSpPr>
          <p:spPr>
            <a:xfrm rot="6180000">
              <a:off x="4773600" y="3259080"/>
              <a:ext cx="1682640" cy="16826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192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4104"/>
            <p:cNvSpPr/>
            <p:nvPr/>
          </p:nvSpPr>
          <p:spPr>
            <a:xfrm rot="9240000">
              <a:off x="4193280" y="3984120"/>
              <a:ext cx="1683000" cy="168300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1683000"/>
                <a:gd name="textAreaBottom" fmla="*/ 1683360 h 16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2046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4105"/>
            <p:cNvSpPr/>
            <p:nvPr/>
          </p:nvSpPr>
          <p:spPr>
            <a:xfrm rot="12360000">
              <a:off x="3265560" y="3984120"/>
              <a:ext cx="1682640" cy="16830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3000"/>
                <a:gd name="textAreaBottom" fmla="*/ 1683360 h 16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734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4106"/>
            <p:cNvSpPr/>
            <p:nvPr/>
          </p:nvSpPr>
          <p:spPr>
            <a:xfrm rot="15420000">
              <a:off x="2685960" y="3258720"/>
              <a:ext cx="1682640" cy="16830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3000"/>
                <a:gd name="textAreaBottom" fmla="*/ 1683360 h 16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428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7"/>
            <p:cNvSpPr/>
            <p:nvPr/>
          </p:nvSpPr>
          <p:spPr>
            <a:xfrm rot="18540000">
              <a:off x="2892240" y="2352240"/>
              <a:ext cx="1683000" cy="168264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1116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08"/>
            <p:cNvSpPr/>
            <p:nvPr/>
          </p:nvSpPr>
          <p:spPr>
            <a:xfrm>
              <a:off x="5011560" y="193212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 Black"/>
                </a:rPr>
                <a:t>Akhileshw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9"/>
            <p:cNvSpPr/>
            <p:nvPr/>
          </p:nvSpPr>
          <p:spPr>
            <a:xfrm>
              <a:off x="2511360" y="313704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!2F%h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.(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110"/>
            <p:cNvSpPr/>
            <p:nvPr/>
          </p:nvSpPr>
          <p:spPr>
            <a:xfrm>
              <a:off x="3471840" y="193212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6633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11"/>
            <p:cNvSpPr/>
            <p:nvPr/>
          </p:nvSpPr>
          <p:spPr>
            <a:xfrm>
              <a:off x="2854440" y="4638600"/>
              <a:ext cx="660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@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1^3*5&amp;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112"/>
            <p:cNvSpPr/>
            <p:nvPr/>
          </p:nvSpPr>
          <p:spPr>
            <a:xfrm>
              <a:off x="4243320" y="530712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66"/>
                  </a:solidFill>
                  <a:latin typeface="Baskerville Old Face"/>
                </a:rPr>
                <a:t>a1d2g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13"/>
            <p:cNvSpPr/>
            <p:nvPr/>
          </p:nvSpPr>
          <p:spPr>
            <a:xfrm>
              <a:off x="5630760" y="463716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!@$#$^&lt;&gt;?}{+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14"/>
            <p:cNvSpPr/>
            <p:nvPr/>
          </p:nvSpPr>
          <p:spPr>
            <a:xfrm>
              <a:off x="5972040" y="3135240"/>
              <a:ext cx="6606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 Narrow"/>
                </a:rPr>
                <a:t>10.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 Narrow"/>
                </a:rPr>
                <a:t>-21.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 Narrow"/>
                </a:rPr>
                <a:t>3045789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11:05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