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BE65-A92B-43BD-9DFF-BDD5F5E06A3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skills offer immediate, practical benefits to any group process.  As facilitator, your role is to set the agenda, encourage participation, and guide the pace of the meeting.  Use these Dale Carnegie Training® strategies to help make your meeting a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vide handouts to focus the discussion and give attendees a place to record their ideas.  If you print handouts with three slides per page, PowerPoint will automatically include blank lines for your meeting participants to take no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with a strong opening, relevant to the topic and your audience.  Appeal to your audience’s interests.  Your energy and attitude set the tone and provide momentum for the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ion is a process that helps people communicate and work together.  Establish an open environment conducive to problem solving and chan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EA9EF-858C-46F8-9664-06923916E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9A22F-1162-4DDF-ADDF-01A800F9A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9B12D-C839-4B83-8172-7CFAA7172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A0F6D-B430-48CD-906C-0AD3AFDAE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2DDD7-B3E6-4834-A2B9-488F7A986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E1D1C-AC2B-431F-98A5-E242C6521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63E02-7C92-4D8D-9FDA-5C9DD6C7A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316C9-F245-4B79-BD4E-16BE5DBE7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960D7-C4BB-4B79-83C9-1A3356FDA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7565C-416F-41A2-BF31-A9BA2DEA5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183F2-935F-4B2D-B6FC-1E89A672F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64BD4-AC18-4FA6-8337-41A4D8996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96277-D1D1-4B39-A93E-1F7CC213C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872A3-E4D9-4827-8301-D62FF86C3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5742E-26D5-4D52-8FC3-C3C1F32BA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5BFDC-BFE1-447B-8409-138389550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7AE7E-BD03-4233-A6BB-C9626F10C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38CAC-FD53-4889-B36A-DD1EE084A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AF2F8-E09B-4E4C-ABBD-6D8D18EA5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A1282-0B94-4911-B87C-1C002CA58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39041-0FEB-4E90-B952-03CD6652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A575C-737B-438E-90B1-C0E7D76A4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46C98-A6F3-4B5E-BC4C-82811F11F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4B5B0-9A2A-4B36-A83C-F36A6531E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6F5B-5509-47A2-9130-2A678FD65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3DF5-55E1-4036-B161-97D05F154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a Meeting</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3276720"/>
            <a:ext cx="64008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Opening</a:t>
            </a:r>
            <a:endParaRPr b="0" lang="en-US" sz="4200" spc="-1" strike="noStrike">
              <a:solidFill>
                <a:srgbClr val="f1b60f"/>
              </a:solidFill>
              <a:latin typeface="Arial"/>
            </a:endParaRPr>
          </a:p>
        </p:txBody>
      </p:sp>
      <p:sp>
        <p:nvSpPr>
          <p:cNvPr id="9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th:</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9T07:12:35Z</dcterms:created>
  <dc:creator>crystal</dc:creator>
  <dc:description/>
  <dc:language>en-US</dc:language>
  <cp:lastModifiedBy>crystal</cp:lastModifiedBy>
  <dcterms:modified xsi:type="dcterms:W3CDTF">2012-05-29T07:13:15Z</dcterms:modified>
  <cp:revision>1</cp:revision>
  <dc:subject/>
  <dc:title>a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3</vt:r8>
  </property>
</Properties>
</file>