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7E1-077D-43AC-90B5-7EE80BB3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42240"/>
            <a:ext cx="90676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1E6-EB52-4EC7-8063-262E604F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4224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24224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307-189A-4937-8FC8-B48CB948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42240"/>
            <a:ext cx="2919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242240"/>
            <a:ext cx="2919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242240"/>
            <a:ext cx="2919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738-4970-4A7E-8F4B-C2BFC27F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D91-12BE-416E-9E7A-9FAFB69F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00F-25E8-4B48-8356-10E8C3B6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11D-35C1-465B-9FD4-D3862FEB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1E0-3E8F-4570-B06C-291937A0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009-0FBC-451A-96E6-8DD7EFB9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4224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C31-9F61-49F1-90EA-6909FCFC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24224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42E-FBD2-41F3-A994-90CE084A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42240"/>
            <a:ext cx="90676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B50-22CA-4FDA-B236-089B4903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EDEBF-1B17-43ED-951C-839D1CD1DF94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X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00:09:11Z</dcterms:created>
  <dc:creator/>
  <dc:description/>
  <dc:language>en-US</dc:language>
  <cp:lastModifiedBy/>
  <cp:revision>0</cp:revision>
  <dc:subject/>
  <dc:title/>
</cp:coreProperties>
</file>