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FDAB9EE-2AB7-4754-BDFB-45D9D6FF71C4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53880" y="719280"/>
            <a:ext cx="4794120" cy="35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0CE5EDB-9C8F-4959-9D9A-660EA849F4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32FE19E-3B3E-4DFE-8281-8E6E525C79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D5149CD-4A55-440B-92C5-66A1309756DD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CE31077-A2E7-4542-9E81-AB0925834D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D77F5FB-3D22-4BAC-A005-E5B4FFAAA875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857E081-7181-4B18-BB54-2625DE267D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CD41876-0208-4264-A5DB-D0A771E4B491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327C3F5-E532-4C01-9B79-85BAF2FF6A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4427A98-7492-44BE-90C4-5AFD5FD6660C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908FF11-8AFA-4173-9B25-2972DF5279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6D16CE6-B9DC-433A-89F7-5420BDDFA501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932FD6E-FAC1-4049-8E89-EF095C0D3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A188845-04E1-4C81-86BF-2693120F670D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19C2E34-4D9F-4124-82E0-C1837AEE82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2410852-5B13-49F3-ACD8-82CDBDE954CC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261B41B-C52E-44D0-870A-EA0016E8FB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B95FB58-739E-409B-A615-88E2A2E86CF1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C73CFEF-4BA3-4C37-8732-695F6F0E65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8445ED3-596D-47F1-A30B-AC15EDC5DEE5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282D3A0-5ABA-4C62-BCC1-023AB99D9C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2114FA2-FD18-4737-9A51-6313DF0AEB18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74A6F5A-5911-4976-BC7B-18AEC8910C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14CC86C-D43A-4D56-9532-6D4CB14B42F3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77A3F9D-A761-43A9-8B57-65206CD659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28926E5-3039-4F25-9B12-97DCE0C845B0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56966C2-192E-4F49-B493-5F700ADF8E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0FB83CA-820B-42B2-A7B1-DFDCE7C3AEA7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766F6BE-5617-4F60-ADF7-7F5F0FE9B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0775183-D7A2-4EFE-AFDA-456E068160B0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C709241-75E2-454D-BE20-C77F8BC73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2235201-1361-419E-9E3A-A80CB9884B3B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E9FC137-DE45-4FF8-999F-CDE43DC9E9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FD40C79-5C03-4BC5-B5FB-76C769D0FD90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0DE6285-28B7-4D0D-85A8-95B51B186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196542F-3F41-4897-B0B8-E090432D5AD9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CB07254-3C6A-4EDA-83BB-74C2C8115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CE92DAC-7222-42FC-BD88-4358AAC20267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CAD04A9-FA7B-4188-96C6-A564CCCBA9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A28752E-7D66-4F61-BEEF-95F859B59BE1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7ACFFEE-7941-4B88-B5EC-311CDAD47E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07B25A2-4312-467F-B1B6-17D96EA3A9AB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1DD6D39-330B-4821-83BC-F166F145F4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FC6267D-F791-43AD-81BA-39B6DFE3A07A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7AA61E1-B701-4F99-B54A-837E0A24D4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8FA853E-A223-4D2C-8500-987372C4E2E9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67EBBAB-82AA-4303-A964-434847693F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B87AC03-63FB-4294-A5DC-A09CA421C20C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6058B8A-4E8B-4CD2-8D90-6D57BDBDC2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DB9E389-CB81-4D4F-958F-A4F6C41C56EA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515951E-9CDC-4D36-A120-8A6593FE42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AD02A99-7E1A-4FA4-B414-74AEED2BBDEC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14D5BD6-4E42-4C08-B4DB-2F8FE27185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ADCFC83-F496-4A5A-BC43-7B64C976CE0C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7F360B4-2474-42E7-81F6-932C42491F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D474AD1-559D-49F7-A9CE-93B45575EE4A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512BB3F-EB96-41D2-918B-33E4500D2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89B9E53-A79D-4187-B9EB-72135AC0BB4C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C221999-32BB-4C94-A5AC-80E468E861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69E443F-D817-42C4-8D6B-4A288A6E2DB1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-25992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25992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-2599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603840"/>
            <a:ext cx="2438280" cy="246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7d"/>
                </a:solidFill>
                <a:latin typeface="Arial"/>
              </a:rPr>
              <a:t>              </a:t>
            </a:r>
            <a:r>
              <a:rPr b="1" lang="en-US" sz="1000" spc="-1" strike="noStrike">
                <a:solidFill>
                  <a:srgbClr val="00007d"/>
                </a:solidFill>
                <a:latin typeface="Arial"/>
              </a:rPr>
              <a:t>A Small Dose of Toxicology</a:t>
            </a:r>
            <a:endParaRPr b="0" lang="en-US" sz="1000" spc="-1" strike="noStrike">
              <a:solidFill>
                <a:srgbClr val="00007d"/>
              </a:solidFill>
              <a:latin typeface="Times New Roman"/>
            </a:endParaRPr>
          </a:p>
        </p:txBody>
      </p:sp>
      <p:pic>
        <p:nvPicPr>
          <p:cNvPr id="5" name="spoon01" descr=""/>
          <p:cNvPicPr/>
          <p:nvPr/>
        </p:nvPicPr>
        <p:blipFill>
          <a:blip r:embed="rId2"/>
          <a:stretch/>
        </p:blipFill>
        <p:spPr>
          <a:xfrm>
            <a:off x="0" y="6608880"/>
            <a:ext cx="533520" cy="249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781680" y="6603840"/>
            <a:ext cx="2362320" cy="246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7d"/>
                </a:solidFill>
                <a:latin typeface="Arial"/>
              </a:rPr>
              <a:t>A Small Dose of Caffeine – 2/16/04</a:t>
            </a:r>
            <a:endParaRPr b="0" lang="en-US" sz="1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7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7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6603840"/>
            <a:ext cx="2362320" cy="246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7d"/>
                </a:solidFill>
                <a:latin typeface="Arial"/>
              </a:rPr>
              <a:t>A Small Dose of Caffeine – 2/16/04</a:t>
            </a:r>
            <a:endParaRPr b="0" lang="en-US" sz="1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7d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7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7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114560" y="1676520"/>
            <a:ext cx="6913440" cy="3504960"/>
            <a:chOff x="1114560" y="1676520"/>
            <a:chExt cx="6913440" cy="3504960"/>
          </a:xfrm>
        </p:grpSpPr>
        <p:sp>
          <p:nvSpPr>
            <p:cNvPr id="93" name=""/>
            <p:cNvSpPr/>
            <p:nvPr/>
          </p:nvSpPr>
          <p:spPr>
            <a:xfrm>
              <a:off x="1114560" y="1676520"/>
              <a:ext cx="6913440" cy="3504960"/>
            </a:xfrm>
            <a:custGeom>
              <a:avLst/>
              <a:gdLst/>
              <a:ahLst/>
              <a:rect l="l" t="t" r="r" b="b"/>
              <a:pathLst>
                <a:path w="3910" h="1817">
                  <a:moveTo>
                    <a:pt x="3808" y="1171"/>
                  </a:moveTo>
                  <a:lnTo>
                    <a:pt x="3808" y="1171"/>
                  </a:lnTo>
                  <a:lnTo>
                    <a:pt x="3680" y="1081"/>
                  </a:lnTo>
                  <a:lnTo>
                    <a:pt x="3680" y="1081"/>
                  </a:lnTo>
                  <a:lnTo>
                    <a:pt x="3731" y="1184"/>
                  </a:lnTo>
                  <a:lnTo>
                    <a:pt x="3731" y="1184"/>
                  </a:lnTo>
                  <a:lnTo>
                    <a:pt x="3763" y="1209"/>
                  </a:lnTo>
                  <a:lnTo>
                    <a:pt x="3789" y="1235"/>
                  </a:lnTo>
                  <a:lnTo>
                    <a:pt x="3808" y="1267"/>
                  </a:lnTo>
                  <a:lnTo>
                    <a:pt x="3821" y="1292"/>
                  </a:lnTo>
                  <a:lnTo>
                    <a:pt x="3827" y="1331"/>
                  </a:lnTo>
                  <a:lnTo>
                    <a:pt x="3821" y="1363"/>
                  </a:lnTo>
                  <a:lnTo>
                    <a:pt x="3808" y="1408"/>
                  </a:lnTo>
                  <a:lnTo>
                    <a:pt x="3782" y="1446"/>
                  </a:lnTo>
                  <a:lnTo>
                    <a:pt x="3782" y="1446"/>
                  </a:lnTo>
                  <a:lnTo>
                    <a:pt x="3757" y="1484"/>
                  </a:lnTo>
                  <a:lnTo>
                    <a:pt x="3725" y="1510"/>
                  </a:lnTo>
                  <a:lnTo>
                    <a:pt x="3680" y="1542"/>
                  </a:lnTo>
                  <a:lnTo>
                    <a:pt x="3641" y="1568"/>
                  </a:lnTo>
                  <a:lnTo>
                    <a:pt x="3590" y="1587"/>
                  </a:lnTo>
                  <a:lnTo>
                    <a:pt x="3539" y="1606"/>
                  </a:lnTo>
                  <a:lnTo>
                    <a:pt x="3430" y="1632"/>
                  </a:lnTo>
                  <a:lnTo>
                    <a:pt x="3309" y="1651"/>
                  </a:lnTo>
                  <a:lnTo>
                    <a:pt x="3193" y="1657"/>
                  </a:lnTo>
                  <a:lnTo>
                    <a:pt x="3072" y="1657"/>
                  </a:lnTo>
                  <a:lnTo>
                    <a:pt x="2963" y="1644"/>
                  </a:lnTo>
                  <a:lnTo>
                    <a:pt x="2963" y="1644"/>
                  </a:lnTo>
                  <a:lnTo>
                    <a:pt x="2912" y="1632"/>
                  </a:lnTo>
                  <a:lnTo>
                    <a:pt x="2861" y="1619"/>
                  </a:lnTo>
                  <a:lnTo>
                    <a:pt x="2758" y="1574"/>
                  </a:lnTo>
                  <a:lnTo>
                    <a:pt x="2662" y="1529"/>
                  </a:lnTo>
                  <a:lnTo>
                    <a:pt x="2579" y="1472"/>
                  </a:lnTo>
                  <a:lnTo>
                    <a:pt x="2502" y="1414"/>
                  </a:lnTo>
                  <a:lnTo>
                    <a:pt x="2432" y="1356"/>
                  </a:lnTo>
                  <a:lnTo>
                    <a:pt x="2381" y="1305"/>
                  </a:lnTo>
                  <a:lnTo>
                    <a:pt x="2349" y="1267"/>
                  </a:lnTo>
                  <a:lnTo>
                    <a:pt x="2349" y="1267"/>
                  </a:lnTo>
                  <a:lnTo>
                    <a:pt x="2310" y="1203"/>
                  </a:lnTo>
                  <a:lnTo>
                    <a:pt x="2297" y="1177"/>
                  </a:lnTo>
                  <a:lnTo>
                    <a:pt x="2291" y="1152"/>
                  </a:lnTo>
                  <a:lnTo>
                    <a:pt x="2291" y="1126"/>
                  </a:lnTo>
                  <a:lnTo>
                    <a:pt x="2291" y="1107"/>
                  </a:lnTo>
                  <a:lnTo>
                    <a:pt x="2297" y="1081"/>
                  </a:lnTo>
                  <a:lnTo>
                    <a:pt x="2310" y="1062"/>
                  </a:lnTo>
                  <a:lnTo>
                    <a:pt x="2310" y="1062"/>
                  </a:lnTo>
                  <a:lnTo>
                    <a:pt x="2329" y="1036"/>
                  </a:lnTo>
                  <a:lnTo>
                    <a:pt x="2355" y="1024"/>
                  </a:lnTo>
                  <a:lnTo>
                    <a:pt x="2381" y="1011"/>
                  </a:lnTo>
                  <a:lnTo>
                    <a:pt x="2413" y="998"/>
                  </a:lnTo>
                  <a:lnTo>
                    <a:pt x="2477" y="992"/>
                  </a:lnTo>
                  <a:lnTo>
                    <a:pt x="2528" y="992"/>
                  </a:lnTo>
                  <a:lnTo>
                    <a:pt x="2528" y="992"/>
                  </a:lnTo>
                  <a:lnTo>
                    <a:pt x="2547" y="998"/>
                  </a:lnTo>
                  <a:lnTo>
                    <a:pt x="2547" y="998"/>
                  </a:lnTo>
                  <a:lnTo>
                    <a:pt x="2681" y="870"/>
                  </a:lnTo>
                  <a:lnTo>
                    <a:pt x="2681" y="870"/>
                  </a:lnTo>
                  <a:lnTo>
                    <a:pt x="2521" y="870"/>
                  </a:lnTo>
                  <a:lnTo>
                    <a:pt x="2374" y="857"/>
                  </a:lnTo>
                  <a:lnTo>
                    <a:pt x="2304" y="851"/>
                  </a:lnTo>
                  <a:lnTo>
                    <a:pt x="2240" y="838"/>
                  </a:lnTo>
                  <a:lnTo>
                    <a:pt x="2182" y="825"/>
                  </a:lnTo>
                  <a:lnTo>
                    <a:pt x="2137" y="800"/>
                  </a:lnTo>
                  <a:lnTo>
                    <a:pt x="2137" y="800"/>
                  </a:lnTo>
                  <a:lnTo>
                    <a:pt x="1734" y="582"/>
                  </a:lnTo>
                  <a:lnTo>
                    <a:pt x="1280" y="333"/>
                  </a:lnTo>
                  <a:lnTo>
                    <a:pt x="1056" y="217"/>
                  </a:lnTo>
                  <a:lnTo>
                    <a:pt x="851" y="121"/>
                  </a:lnTo>
                  <a:lnTo>
                    <a:pt x="685" y="51"/>
                  </a:lnTo>
                  <a:lnTo>
                    <a:pt x="614" y="25"/>
                  </a:lnTo>
                  <a:lnTo>
                    <a:pt x="557" y="13"/>
                  </a:lnTo>
                  <a:lnTo>
                    <a:pt x="557" y="13"/>
                  </a:lnTo>
                  <a:lnTo>
                    <a:pt x="429" y="0"/>
                  </a:lnTo>
                  <a:lnTo>
                    <a:pt x="320" y="0"/>
                  </a:lnTo>
                  <a:lnTo>
                    <a:pt x="224" y="13"/>
                  </a:lnTo>
                  <a:lnTo>
                    <a:pt x="141" y="32"/>
                  </a:lnTo>
                  <a:lnTo>
                    <a:pt x="83" y="64"/>
                  </a:lnTo>
                  <a:lnTo>
                    <a:pt x="57" y="83"/>
                  </a:lnTo>
                  <a:lnTo>
                    <a:pt x="38" y="109"/>
                  </a:lnTo>
                  <a:lnTo>
                    <a:pt x="19" y="128"/>
                  </a:lnTo>
                  <a:lnTo>
                    <a:pt x="6" y="153"/>
                  </a:lnTo>
                  <a:lnTo>
                    <a:pt x="0" y="17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224"/>
                  </a:lnTo>
                  <a:lnTo>
                    <a:pt x="6" y="249"/>
                  </a:lnTo>
                  <a:lnTo>
                    <a:pt x="19" y="269"/>
                  </a:lnTo>
                  <a:lnTo>
                    <a:pt x="32" y="288"/>
                  </a:lnTo>
                  <a:lnTo>
                    <a:pt x="70" y="326"/>
                  </a:lnTo>
                  <a:lnTo>
                    <a:pt x="121" y="358"/>
                  </a:lnTo>
                  <a:lnTo>
                    <a:pt x="192" y="390"/>
                  </a:lnTo>
                  <a:lnTo>
                    <a:pt x="275" y="409"/>
                  </a:lnTo>
                  <a:lnTo>
                    <a:pt x="371" y="435"/>
                  </a:lnTo>
                  <a:lnTo>
                    <a:pt x="480" y="454"/>
                  </a:lnTo>
                  <a:lnTo>
                    <a:pt x="480" y="454"/>
                  </a:lnTo>
                  <a:lnTo>
                    <a:pt x="633" y="486"/>
                  </a:lnTo>
                  <a:lnTo>
                    <a:pt x="832" y="544"/>
                  </a:lnTo>
                  <a:lnTo>
                    <a:pt x="1069" y="614"/>
                  </a:lnTo>
                  <a:lnTo>
                    <a:pt x="1331" y="710"/>
                  </a:lnTo>
                  <a:lnTo>
                    <a:pt x="1459" y="768"/>
                  </a:lnTo>
                  <a:lnTo>
                    <a:pt x="1587" y="825"/>
                  </a:lnTo>
                  <a:lnTo>
                    <a:pt x="1715" y="889"/>
                  </a:lnTo>
                  <a:lnTo>
                    <a:pt x="1837" y="960"/>
                  </a:lnTo>
                  <a:lnTo>
                    <a:pt x="1945" y="1030"/>
                  </a:lnTo>
                  <a:lnTo>
                    <a:pt x="2048" y="1107"/>
                  </a:lnTo>
                  <a:lnTo>
                    <a:pt x="2137" y="1184"/>
                  </a:lnTo>
                  <a:lnTo>
                    <a:pt x="2214" y="1267"/>
                  </a:lnTo>
                  <a:lnTo>
                    <a:pt x="2214" y="1267"/>
                  </a:lnTo>
                  <a:lnTo>
                    <a:pt x="2297" y="1369"/>
                  </a:lnTo>
                  <a:lnTo>
                    <a:pt x="2374" y="1452"/>
                  </a:lnTo>
                  <a:lnTo>
                    <a:pt x="2451" y="1529"/>
                  </a:lnTo>
                  <a:lnTo>
                    <a:pt x="2528" y="1593"/>
                  </a:lnTo>
                  <a:lnTo>
                    <a:pt x="2605" y="1651"/>
                  </a:lnTo>
                  <a:lnTo>
                    <a:pt x="2688" y="1702"/>
                  </a:lnTo>
                  <a:lnTo>
                    <a:pt x="2777" y="1747"/>
                  </a:lnTo>
                  <a:lnTo>
                    <a:pt x="2873" y="1779"/>
                  </a:lnTo>
                  <a:lnTo>
                    <a:pt x="2873" y="1779"/>
                  </a:lnTo>
                  <a:lnTo>
                    <a:pt x="2982" y="1804"/>
                  </a:lnTo>
                  <a:lnTo>
                    <a:pt x="3091" y="1817"/>
                  </a:lnTo>
                  <a:lnTo>
                    <a:pt x="3206" y="1817"/>
                  </a:lnTo>
                  <a:lnTo>
                    <a:pt x="3315" y="1804"/>
                  </a:lnTo>
                  <a:lnTo>
                    <a:pt x="3424" y="1785"/>
                  </a:lnTo>
                  <a:lnTo>
                    <a:pt x="3533" y="1753"/>
                  </a:lnTo>
                  <a:lnTo>
                    <a:pt x="3629" y="1708"/>
                  </a:lnTo>
                  <a:lnTo>
                    <a:pt x="3712" y="1657"/>
                  </a:lnTo>
                  <a:lnTo>
                    <a:pt x="3712" y="1657"/>
                  </a:lnTo>
                  <a:lnTo>
                    <a:pt x="3782" y="1600"/>
                  </a:lnTo>
                  <a:lnTo>
                    <a:pt x="3840" y="1536"/>
                  </a:lnTo>
                  <a:lnTo>
                    <a:pt x="3878" y="1472"/>
                  </a:lnTo>
                  <a:lnTo>
                    <a:pt x="3891" y="1433"/>
                  </a:lnTo>
                  <a:lnTo>
                    <a:pt x="3904" y="1401"/>
                  </a:lnTo>
                  <a:lnTo>
                    <a:pt x="3910" y="1369"/>
                  </a:lnTo>
                  <a:lnTo>
                    <a:pt x="3910" y="1337"/>
                  </a:lnTo>
                  <a:lnTo>
                    <a:pt x="3904" y="1305"/>
                  </a:lnTo>
                  <a:lnTo>
                    <a:pt x="3891" y="1273"/>
                  </a:lnTo>
                  <a:lnTo>
                    <a:pt x="3878" y="1248"/>
                  </a:lnTo>
                  <a:lnTo>
                    <a:pt x="3859" y="1222"/>
                  </a:lnTo>
                  <a:lnTo>
                    <a:pt x="3833" y="1196"/>
                  </a:lnTo>
                  <a:lnTo>
                    <a:pt x="3808" y="1171"/>
                  </a:lnTo>
                  <a:lnTo>
                    <a:pt x="3808" y="11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59400" y="3030480"/>
              <a:ext cx="2228760" cy="1727280"/>
            </a:xfrm>
            <a:custGeom>
              <a:avLst/>
              <a:gdLst/>
              <a:ahLst/>
              <a:rect l="l" t="t" r="r" b="b"/>
              <a:pathLst>
                <a:path w="1261" h="895">
                  <a:moveTo>
                    <a:pt x="627" y="895"/>
                  </a:moveTo>
                  <a:lnTo>
                    <a:pt x="627" y="895"/>
                  </a:lnTo>
                  <a:lnTo>
                    <a:pt x="704" y="895"/>
                  </a:lnTo>
                  <a:lnTo>
                    <a:pt x="781" y="895"/>
                  </a:lnTo>
                  <a:lnTo>
                    <a:pt x="909" y="883"/>
                  </a:lnTo>
                  <a:lnTo>
                    <a:pt x="1018" y="857"/>
                  </a:lnTo>
                  <a:lnTo>
                    <a:pt x="1107" y="825"/>
                  </a:lnTo>
                  <a:lnTo>
                    <a:pt x="1178" y="787"/>
                  </a:lnTo>
                  <a:lnTo>
                    <a:pt x="1229" y="742"/>
                  </a:lnTo>
                  <a:lnTo>
                    <a:pt x="1242" y="723"/>
                  </a:lnTo>
                  <a:lnTo>
                    <a:pt x="1255" y="697"/>
                  </a:lnTo>
                  <a:lnTo>
                    <a:pt x="1261" y="678"/>
                  </a:lnTo>
                  <a:lnTo>
                    <a:pt x="1261" y="659"/>
                  </a:lnTo>
                  <a:lnTo>
                    <a:pt x="1261" y="659"/>
                  </a:lnTo>
                  <a:lnTo>
                    <a:pt x="1255" y="614"/>
                  </a:lnTo>
                  <a:lnTo>
                    <a:pt x="1242" y="569"/>
                  </a:lnTo>
                  <a:lnTo>
                    <a:pt x="1223" y="518"/>
                  </a:lnTo>
                  <a:lnTo>
                    <a:pt x="1191" y="467"/>
                  </a:lnTo>
                  <a:lnTo>
                    <a:pt x="1127" y="358"/>
                  </a:lnTo>
                  <a:lnTo>
                    <a:pt x="1037" y="255"/>
                  </a:lnTo>
                  <a:lnTo>
                    <a:pt x="947" y="160"/>
                  </a:lnTo>
                  <a:lnTo>
                    <a:pt x="896" y="115"/>
                  </a:lnTo>
                  <a:lnTo>
                    <a:pt x="845" y="76"/>
                  </a:lnTo>
                  <a:lnTo>
                    <a:pt x="800" y="44"/>
                  </a:lnTo>
                  <a:lnTo>
                    <a:pt x="755" y="25"/>
                  </a:lnTo>
                  <a:lnTo>
                    <a:pt x="711" y="6"/>
                  </a:lnTo>
                  <a:lnTo>
                    <a:pt x="666" y="0"/>
                  </a:lnTo>
                  <a:lnTo>
                    <a:pt x="666" y="0"/>
                  </a:lnTo>
                  <a:lnTo>
                    <a:pt x="627" y="0"/>
                  </a:lnTo>
                  <a:lnTo>
                    <a:pt x="583" y="12"/>
                  </a:lnTo>
                  <a:lnTo>
                    <a:pt x="531" y="32"/>
                  </a:lnTo>
                  <a:lnTo>
                    <a:pt x="480" y="51"/>
                  </a:lnTo>
                  <a:lnTo>
                    <a:pt x="384" y="115"/>
                  </a:lnTo>
                  <a:lnTo>
                    <a:pt x="282" y="192"/>
                  </a:lnTo>
                  <a:lnTo>
                    <a:pt x="192" y="275"/>
                  </a:lnTo>
                  <a:lnTo>
                    <a:pt x="109" y="351"/>
                  </a:lnTo>
                  <a:lnTo>
                    <a:pt x="51" y="415"/>
                  </a:lnTo>
                  <a:lnTo>
                    <a:pt x="13" y="460"/>
                  </a:lnTo>
                  <a:lnTo>
                    <a:pt x="13" y="460"/>
                  </a:lnTo>
                  <a:lnTo>
                    <a:pt x="0" y="492"/>
                  </a:lnTo>
                  <a:lnTo>
                    <a:pt x="0" y="524"/>
                  </a:lnTo>
                  <a:lnTo>
                    <a:pt x="0" y="556"/>
                  </a:lnTo>
                  <a:lnTo>
                    <a:pt x="13" y="588"/>
                  </a:lnTo>
                  <a:lnTo>
                    <a:pt x="32" y="627"/>
                  </a:lnTo>
                  <a:lnTo>
                    <a:pt x="64" y="659"/>
                  </a:lnTo>
                  <a:lnTo>
                    <a:pt x="96" y="691"/>
                  </a:lnTo>
                  <a:lnTo>
                    <a:pt x="135" y="729"/>
                  </a:lnTo>
                  <a:lnTo>
                    <a:pt x="186" y="761"/>
                  </a:lnTo>
                  <a:lnTo>
                    <a:pt x="237" y="787"/>
                  </a:lnTo>
                  <a:lnTo>
                    <a:pt x="288" y="819"/>
                  </a:lnTo>
                  <a:lnTo>
                    <a:pt x="352" y="838"/>
                  </a:lnTo>
                  <a:lnTo>
                    <a:pt x="416" y="863"/>
                  </a:lnTo>
                  <a:lnTo>
                    <a:pt x="487" y="876"/>
                  </a:lnTo>
                  <a:lnTo>
                    <a:pt x="557" y="889"/>
                  </a:lnTo>
                  <a:lnTo>
                    <a:pt x="627" y="895"/>
                  </a:lnTo>
                  <a:lnTo>
                    <a:pt x="627" y="895"/>
                  </a:ln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743200"/>
            <a:ext cx="7010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An Introduction To The Health Effects of Caffein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76920" y="77760"/>
            <a:ext cx="70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Times New Roman"/>
              </a:rPr>
              <a:t>A Small Dose of </a:t>
            </a:r>
            <a:r>
              <a:rPr b="1" lang="en-US" sz="4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™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Caffeine</a:t>
            </a:r>
            <a:endParaRPr b="0" lang="en-US" sz="4400" spc="-1" strike="noStrike">
              <a:solidFill>
                <a:srgbClr val="00007d"/>
              </a:solidFill>
              <a:latin typeface="Times New Roman"/>
            </a:endParaRPr>
          </a:p>
        </p:txBody>
      </p:sp>
      <p:pic>
        <p:nvPicPr>
          <p:cNvPr id="97" name="FD00449_" descr=""/>
          <p:cNvPicPr/>
          <p:nvPr/>
        </p:nvPicPr>
        <p:blipFill>
          <a:blip r:embed="rId1"/>
          <a:stretch/>
        </p:blipFill>
        <p:spPr>
          <a:xfrm>
            <a:off x="0" y="4343400"/>
            <a:ext cx="22366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Quote – Love of Tea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51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Tea, though ridiculed by those who are naturally coarse in their nervous sensibilities … will always be the favorite beverage of the intellectual.”</a:t>
            </a: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Thomas De Quincey (1785–1859), English author. Confessions of an English Opium-Eater,“The Pleasures of Opium” (1822).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Quote – Religion and Drug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320" y="1866960"/>
            <a:ext cx="7848360" cy="316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If Christianity is wine, and Islam coffee, Buddhism is most certainly tea.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Alan Watts, The Way of Zen, 1957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1752480"/>
            <a:ext cx="815328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Tea trade and opium </a:t>
            </a:r>
            <a:endParaRPr b="0" lang="en-US" sz="44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Opium War of 1839-42</a:t>
            </a:r>
            <a:endParaRPr b="0" lang="en-US" sz="32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Great Britain has a monopoly on the sale of opium which it forces on China; eventually gaining control of Hong Kong.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Consider our societies ongoing “war on drugs”.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75240"/>
            <a:ext cx="8839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Historical Even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affeine and Society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1806480"/>
            <a:ext cx="7848360" cy="360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Most widely consumed stimulant drug in the world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Many people start consuming caffeine at an early age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A great deal of money is made from caffeine – why?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Exposur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47640" y="1752120"/>
            <a:ext cx="7848720" cy="15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d"/>
                </a:solidFill>
                <a:latin typeface="Arial"/>
              </a:rPr>
              <a:t>Most widely consumed neuroactive compound</a:t>
            </a:r>
            <a:endParaRPr b="0" lang="en-US" sz="4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640" y="3581280"/>
            <a:ext cx="784872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offee</a:t>
            </a:r>
            <a:endParaRPr b="0" lang="en-US" sz="44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Soda Products</a:t>
            </a:r>
            <a:endParaRPr b="0" lang="en-US" sz="44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Tea</a:t>
            </a:r>
            <a:endParaRPr b="0" lang="en-US" sz="44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hocolate</a:t>
            </a:r>
            <a:endParaRPr b="0" lang="en-US" sz="44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affeine Conten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44080" cy="290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1 Cup of coffee – 65-175 mg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1 Cup of tea – 50 mg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Can of soda (12 oz) – 40-50 mg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Bar of chocolate (30 g) – 1-35 mg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Exposure and Effec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47640" y="1752120"/>
            <a:ext cx="7848720" cy="372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7d"/>
                </a:solidFill>
                <a:latin typeface="Arial"/>
              </a:rPr>
              <a:t>Have you every drank too much caffeine?</a:t>
            </a:r>
            <a:endParaRPr b="0" lang="en-US" sz="54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7d"/>
                </a:solidFill>
                <a:latin typeface="Arial"/>
              </a:rPr>
              <a:t>What are the effects?</a:t>
            </a:r>
            <a:endParaRPr b="0" lang="en-US" sz="54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Aspects of Caffein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7640" y="1219320"/>
            <a:ext cx="7848720" cy="529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Desirable effects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imulant, increased alertness, concentrate,  energy, bronchial dilator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Toxicity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estlessness, jitters, anxiety, insomnia, elevated or irregular heart rat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No toleranc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ost develop little or no tolerance to the nervous system effects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Withdrawal effects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Transient but persistent, headache, low energy, in ability to concentrat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51080" y="1828800"/>
            <a:ext cx="6878520" cy="31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Rapidly absorbed following oral consumption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Peak blood (plasma) levels usually with 30 minutes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75240"/>
            <a:ext cx="6972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Absorp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14400" y="2006640"/>
            <a:ext cx="73357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Distributes into all body compartments – 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Pass easily into brain, breast milk and crosses placenta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04800" y="5105520"/>
            <a:ext cx="58039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Does not accumulate</a:t>
            </a:r>
            <a:endParaRPr b="0" lang="en-US" sz="4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Distribu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987800" y="4494240"/>
            <a:ext cx="1285920" cy="35568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33160" y="278748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768760" y="2233440"/>
            <a:ext cx="965160" cy="711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59120" y="2259000"/>
            <a:ext cx="1228680" cy="74628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86360" y="3030480"/>
            <a:ext cx="0" cy="1449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76440" y="3308400"/>
            <a:ext cx="0" cy="115560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89040" y="4489560"/>
            <a:ext cx="1068480" cy="63180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948120" y="4494240"/>
            <a:ext cx="1011240" cy="66672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3160" y="484344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987440" y="2716200"/>
            <a:ext cx="1209960" cy="2541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0400" y="453852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0400" y="240516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54960" y="2716200"/>
            <a:ext cx="812520" cy="9651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654960" y="3681360"/>
            <a:ext cx="812520" cy="10922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578640" y="3681000"/>
            <a:ext cx="660240" cy="8636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413400" y="2080800"/>
            <a:ext cx="0" cy="4064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8040" y="1571760"/>
            <a:ext cx="9907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00007d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746520" y="5357520"/>
            <a:ext cx="0" cy="4064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07480" y="5686560"/>
            <a:ext cx="9907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00007d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6040" y="1952640"/>
            <a:ext cx="9907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00007d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1828800" y="2461680"/>
            <a:ext cx="635040" cy="55908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905120" y="4468680"/>
            <a:ext cx="558720" cy="279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980720" y="4545000"/>
            <a:ext cx="559080" cy="279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440" y="4614840"/>
            <a:ext cx="536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22840" y="1801800"/>
            <a:ext cx="0" cy="5079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670200" y="1775880"/>
            <a:ext cx="0" cy="55908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02080" y="1255680"/>
            <a:ext cx="549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13200" y="3097080"/>
            <a:ext cx="0" cy="127008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35280" y="317016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49680" y="438948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0600" y="295920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71600" y="2085840"/>
            <a:ext cx="6248520" cy="25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Metabolized in the liver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hanged to di- and mon- methylxanthines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Excreted in the urine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9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Metabolism/Elimin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11640" y="1219320"/>
            <a:ext cx="7796880" cy="50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Arial"/>
              </a:rPr>
              <a:t>How long it takes to leave the body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Average adult – 3-5 hrs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hild less that 6 months – 24 hrs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Pregnant – 7-8 hrs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Smoker – 2-3 hrs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Varies between individuals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3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Half-lif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9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Theophylline – 1,3 Dimethylxanthine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608360" y="4527360"/>
            <a:ext cx="1285920" cy="35532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53720" y="282096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389320" y="2266920"/>
            <a:ext cx="965160" cy="711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79680" y="2292480"/>
            <a:ext cx="1228680" cy="74592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06920" y="3063960"/>
            <a:ext cx="0" cy="1449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97000" y="3341520"/>
            <a:ext cx="0" cy="11559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09960" y="4522680"/>
            <a:ext cx="1068120" cy="63180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568680" y="4527720"/>
            <a:ext cx="1011240" cy="66672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3720" y="487692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608000" y="2749680"/>
            <a:ext cx="1209960" cy="25380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90960" y="457200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0960" y="243828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75520" y="2749680"/>
            <a:ext cx="812520" cy="9651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275520" y="3714840"/>
            <a:ext cx="812520" cy="10922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199200" y="3714480"/>
            <a:ext cx="660240" cy="8636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033960" y="2114280"/>
            <a:ext cx="0" cy="4064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0960" y="160488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367080" y="5390640"/>
            <a:ext cx="0" cy="4064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8040" y="5638680"/>
            <a:ext cx="9907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00007d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6600" y="1986120"/>
            <a:ext cx="9907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00007d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1449360" y="2495520"/>
            <a:ext cx="635040" cy="55872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525680" y="4502160"/>
            <a:ext cx="558720" cy="279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1601280" y="4578480"/>
            <a:ext cx="559080" cy="279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4648320"/>
            <a:ext cx="536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43400" y="1835280"/>
            <a:ext cx="0" cy="5079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290760" y="1809720"/>
            <a:ext cx="0" cy="55872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1289160"/>
            <a:ext cx="549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33760" y="3130560"/>
            <a:ext cx="0" cy="127008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55840" y="320364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0240" y="442260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61160" y="299232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90720" y="2120760"/>
            <a:ext cx="693900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Blocks Adenosine receptor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Adenosine is a calming neurotransmitter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5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Mechanism Of Ac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3828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Parents Of Caffein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1640" y="914400"/>
            <a:ext cx="828072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57200" y="2349360"/>
            <a:ext cx="3108240" cy="21463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029200" y="1905120"/>
            <a:ext cx="3583080" cy="3046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52280" y="514980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Parent of compounds found in RNA &amp; DNA 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05040" y="1139760"/>
            <a:ext cx="22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PURINE</a:t>
            </a:r>
            <a:endParaRPr b="0" lang="en-US" sz="4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65720" y="1139760"/>
            <a:ext cx="30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XANTHINE</a:t>
            </a:r>
            <a:endParaRPr b="0" lang="en-US" sz="4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510552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Dioxypurine - Parent methylxanthines 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781680" y="1371600"/>
            <a:ext cx="1752840" cy="6987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denosine Receptor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96600" y="1835280"/>
            <a:ext cx="1482840" cy="393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denosin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897440" y="2876040"/>
            <a:ext cx="2062080" cy="180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920000">
            <a:off x="4857480" y="1949400"/>
            <a:ext cx="257040" cy="289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7d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984640" y="2550960"/>
            <a:ext cx="536400" cy="874440"/>
            <a:chOff x="5984640" y="2550960"/>
            <a:chExt cx="536400" cy="874440"/>
          </a:xfrm>
        </p:grpSpPr>
        <p:sp>
          <p:nvSpPr>
            <p:cNvPr id="250" name=""/>
            <p:cNvSpPr/>
            <p:nvPr/>
          </p:nvSpPr>
          <p:spPr>
            <a:xfrm>
              <a:off x="6260400" y="2671920"/>
              <a:ext cx="0" cy="352440"/>
            </a:xfrm>
            <a:prstGeom prst="line">
              <a:avLst/>
            </a:prstGeom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255720" y="2550960"/>
              <a:ext cx="265320" cy="120960"/>
            </a:xfrm>
            <a:prstGeom prst="line">
              <a:avLst/>
            </a:prstGeom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984640" y="2566800"/>
              <a:ext cx="275400" cy="104760"/>
            </a:xfrm>
            <a:prstGeom prst="line">
              <a:avLst/>
            </a:prstGeom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140160" y="3022560"/>
              <a:ext cx="212040" cy="402840"/>
              <a:chOff x="6140160" y="3022560"/>
              <a:chExt cx="212040" cy="402840"/>
            </a:xfrm>
          </p:grpSpPr>
          <p:sp>
            <p:nvSpPr>
              <p:cNvPr id="254" name=""/>
              <p:cNvSpPr/>
              <p:nvPr/>
            </p:nvSpPr>
            <p:spPr>
              <a:xfrm>
                <a:off x="6150240" y="3024360"/>
                <a:ext cx="201960" cy="39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15"/>
                    </a:moveTo>
                    <a:arcTo wR="10800" hR="10800" stAng="-10772824" swAng="53252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15"/>
                    </a:moveTo>
                    <a:arcTo wR="10800" hR="10800" stAng="-10772824" swAng="5325269"/>
                  </a:path>
                </a:pathLst>
              </a:custGeom>
              <a:noFill/>
              <a:ln cap="rnd" w="25560">
                <a:solidFill>
                  <a:srgbClr val="d93192"/>
                </a:solidFill>
                <a:miter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7d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140160" y="3022560"/>
                <a:ext cx="20268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51" y="1"/>
                    </a:moveTo>
                    <a:arcTo wR="10800" hR="10800" stAng="-5447555" swAng="54203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51" y="1"/>
                    </a:moveTo>
                    <a:arcTo wR="10800" hR="10800" stAng="-5447555" swAng="5420380"/>
                  </a:path>
                </a:pathLst>
              </a:custGeom>
              <a:noFill/>
              <a:ln cap="rnd" w="25560">
                <a:solidFill>
                  <a:srgbClr val="d93192"/>
                </a:solidFill>
                <a:miter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7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3943440" y="2590920"/>
            <a:ext cx="1771560" cy="6987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ell Membran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3180000">
            <a:off x="1302840" y="3322440"/>
            <a:ext cx="289080" cy="257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7d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3720000">
            <a:off x="1407960" y="3435120"/>
            <a:ext cx="964440" cy="61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67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673"/>
              </a:path>
            </a:pathLst>
          </a:custGeom>
          <a:noFill/>
          <a:ln cap="rnd" w="25560">
            <a:solidFill>
              <a:srgbClr val="800000"/>
            </a:solidFill>
            <a:miter/>
            <a:tailEnd len="med" type="triangle" w="med"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2760000">
            <a:off x="2177640" y="3713040"/>
            <a:ext cx="289080" cy="257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7d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11360" y="4233960"/>
            <a:ext cx="140796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136240" y="3879720"/>
            <a:ext cx="489600" cy="781200"/>
            <a:chOff x="2136240" y="3879720"/>
            <a:chExt cx="489600" cy="781200"/>
          </a:xfrm>
        </p:grpSpPr>
        <p:sp>
          <p:nvSpPr>
            <p:cNvPr id="262" name=""/>
            <p:cNvSpPr/>
            <p:nvPr/>
          </p:nvSpPr>
          <p:spPr>
            <a:xfrm flipV="1">
              <a:off x="2322720" y="3884760"/>
              <a:ext cx="191880" cy="210960"/>
            </a:xfrm>
            <a:prstGeom prst="line">
              <a:avLst/>
            </a:prstGeom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22720" y="4095720"/>
              <a:ext cx="0" cy="352440"/>
            </a:xfrm>
            <a:prstGeom prst="line">
              <a:avLst/>
            </a:prstGeom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2136240" y="3879720"/>
              <a:ext cx="186120" cy="216000"/>
            </a:xfrm>
            <a:prstGeom prst="line">
              <a:avLst/>
            </a:prstGeom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6200000">
              <a:off x="2294640" y="4313880"/>
              <a:ext cx="336600" cy="32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7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7569"/>
                </a:path>
              </a:pathLst>
            </a:custGeom>
            <a:noFill/>
            <a:ln cap="rnd" w="25560">
              <a:solidFill>
                <a:srgbClr val="d93192"/>
              </a:solidFill>
              <a:miter/>
            </a:ln>
            <a:effectLst>
              <a:outerShdw dist="0" dir="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2294640" y="4329720"/>
              <a:ext cx="336240" cy="32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8" y="0"/>
                  </a:moveTo>
                  <a:arcTo wR="10800" hR="10800" stAng="-5432585" swAng="54325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8" y="0"/>
                  </a:moveTo>
                  <a:arcTo wR="10800" hR="10800" stAng="-5432585" swAng="5432585"/>
                </a:path>
              </a:pathLst>
            </a:custGeom>
            <a:noFill/>
            <a:ln cap="rnd" w="25560">
              <a:solidFill>
                <a:srgbClr val="d93192"/>
              </a:solidFill>
              <a:miter/>
            </a:ln>
            <a:effectLst>
              <a:outerShdw dist="0" dir="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752560" y="4383000"/>
            <a:ext cx="257400" cy="273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808080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91240" y="4349880"/>
            <a:ext cx="1890000" cy="393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ignal Protein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64200" y="4967280"/>
            <a:ext cx="140796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689080" y="4630680"/>
            <a:ext cx="489600" cy="802440"/>
            <a:chOff x="5689080" y="4630680"/>
            <a:chExt cx="489600" cy="802440"/>
          </a:xfrm>
        </p:grpSpPr>
        <p:sp>
          <p:nvSpPr>
            <p:cNvPr id="271" name=""/>
            <p:cNvSpPr/>
            <p:nvPr/>
          </p:nvSpPr>
          <p:spPr>
            <a:xfrm flipV="1">
              <a:off x="5875560" y="4637160"/>
              <a:ext cx="191880" cy="210960"/>
            </a:xfrm>
            <a:prstGeom prst="line">
              <a:avLst/>
            </a:prstGeom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75560" y="4848120"/>
              <a:ext cx="0" cy="352440"/>
            </a:xfrm>
            <a:prstGeom prst="line">
              <a:avLst/>
            </a:prstGeom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5689080" y="4630680"/>
              <a:ext cx="186120" cy="217440"/>
            </a:xfrm>
            <a:prstGeom prst="line">
              <a:avLst/>
            </a:prstGeom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5847840" y="5086800"/>
              <a:ext cx="335880" cy="32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7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7569"/>
                </a:path>
              </a:pathLst>
            </a:custGeom>
            <a:noFill/>
            <a:ln cap="rnd" w="25560">
              <a:solidFill>
                <a:srgbClr val="d93192"/>
              </a:solidFill>
              <a:miter/>
            </a:ln>
            <a:effectLst>
              <a:outerShdw dist="0" dir="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5847840" y="5102280"/>
              <a:ext cx="335520" cy="32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8" y="0"/>
                  </a:moveTo>
                  <a:arcTo wR="10800" hR="10800" stAng="-5432585" swAng="54325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8" y="0"/>
                  </a:moveTo>
                  <a:arcTo wR="10800" hR="10800" stAng="-5432585" swAng="5432585"/>
                </a:path>
              </a:pathLst>
            </a:custGeom>
            <a:noFill/>
            <a:ln cap="rnd" w="25560">
              <a:solidFill>
                <a:srgbClr val="d93192"/>
              </a:solidFill>
              <a:miter/>
            </a:ln>
            <a:effectLst>
              <a:outerShdw dist="0" dir="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5902200" y="5121360"/>
            <a:ext cx="257400" cy="2714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808080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3720000">
            <a:off x="6079320" y="5328720"/>
            <a:ext cx="964440" cy="61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67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673"/>
              </a:path>
            </a:pathLst>
          </a:custGeom>
          <a:noFill/>
          <a:ln cap="rnd" w="25560">
            <a:solidFill>
              <a:srgbClr val="800000"/>
            </a:solidFill>
            <a:miter/>
            <a:tailEnd len="med" type="triangle" w="med"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24440" y="5473800"/>
            <a:ext cx="2557440" cy="6987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ve Respons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ming effect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2760000">
            <a:off x="5730480" y="4446720"/>
            <a:ext cx="288720" cy="257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7d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42280" y="2303640"/>
            <a:ext cx="1961640" cy="454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Outside Cell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57040" y="2970360"/>
            <a:ext cx="1707120" cy="454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ide Cell</a:t>
            </a:r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85520" y="3740040"/>
            <a:ext cx="3631680" cy="393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enosine binds to receptor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31800" y="1612800"/>
            <a:ext cx="435960" cy="63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13160" y="4146480"/>
            <a:ext cx="435960" cy="63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63360" y="2660760"/>
            <a:ext cx="435960" cy="63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ormal Action of Adenosine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400800" y="2057400"/>
            <a:ext cx="457200" cy="380880"/>
          </a:xfrm>
          <a:prstGeom prst="line">
            <a:avLst/>
          </a:prstGeom>
          <a:ln w="255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697280" y="2825640"/>
            <a:ext cx="140832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52920" y="2654280"/>
            <a:ext cx="0" cy="351000"/>
          </a:xfrm>
          <a:prstGeom prst="line">
            <a:avLst/>
          </a:prstGeom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448240" y="2531880"/>
            <a:ext cx="266760" cy="122040"/>
          </a:xfrm>
          <a:prstGeom prst="line">
            <a:avLst/>
          </a:prstGeom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5178600" y="2549160"/>
            <a:ext cx="274320" cy="104760"/>
          </a:xfrm>
          <a:prstGeom prst="line">
            <a:avLst/>
          </a:prstGeom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43480" y="3005280"/>
            <a:ext cx="20268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5"/>
                </a:moveTo>
                <a:arcTo wR="10800" hR="10800" stAng="-10772824" swAng="5325269"/>
                <a:lnTo>
                  <a:pt x="10800" y="10800"/>
                </a:lnTo>
                <a:close/>
              </a:path>
              <a:path fill="none" w="21600" h="21600">
                <a:moveTo>
                  <a:pt x="0" y="10715"/>
                </a:moveTo>
                <a:arcTo wR="10800" hR="10800" stAng="-10772824" swAng="5325269"/>
              </a:path>
            </a:pathLst>
          </a:custGeom>
          <a:noFill/>
          <a:ln cap="rnd" w="25560">
            <a:solidFill>
              <a:srgbClr val="d93192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3400" y="3003480"/>
            <a:ext cx="203400" cy="40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1" y="1"/>
                </a:moveTo>
                <a:arcTo wR="10800" hR="10800" stAng="-5447555" swAng="5420380"/>
                <a:lnTo>
                  <a:pt x="10800" y="10800"/>
                </a:lnTo>
                <a:close/>
              </a:path>
              <a:path fill="none" w="21600" h="21600">
                <a:moveTo>
                  <a:pt x="10651" y="1"/>
                </a:moveTo>
                <a:arcTo wR="10800" hR="10800" stAng="-5447555" swAng="5420380"/>
              </a:path>
            </a:pathLst>
          </a:custGeom>
          <a:noFill/>
          <a:ln cap="rnd" w="25560">
            <a:solidFill>
              <a:srgbClr val="d93192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24440" y="1935000"/>
            <a:ext cx="271440" cy="1047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808080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1440" y="1600200"/>
            <a:ext cx="1187280" cy="393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affein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0200" y="1650960"/>
            <a:ext cx="435960" cy="63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31960" y="4460760"/>
            <a:ext cx="140796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70240" y="4287960"/>
            <a:ext cx="0" cy="352440"/>
          </a:xfrm>
          <a:prstGeom prst="line">
            <a:avLst/>
          </a:prstGeom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363760" y="4167000"/>
            <a:ext cx="265320" cy="120600"/>
          </a:xfrm>
          <a:prstGeom prst="line">
            <a:avLst/>
          </a:prstGeom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092320" y="4182840"/>
            <a:ext cx="277920" cy="104760"/>
          </a:xfrm>
          <a:prstGeom prst="line">
            <a:avLst/>
          </a:prstGeom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57560" y="4637160"/>
            <a:ext cx="205560" cy="40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5258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52586"/>
              </a:path>
            </a:pathLst>
          </a:custGeom>
          <a:noFill/>
          <a:ln cap="rnd" w="25560">
            <a:solidFill>
              <a:srgbClr val="d93192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46040" y="4637160"/>
            <a:ext cx="206280" cy="40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1" y="1"/>
                </a:moveTo>
                <a:arcTo wR="10800" hR="10800" stAng="-5447414" swAng="5447414"/>
                <a:lnTo>
                  <a:pt x="10800" y="10800"/>
                </a:lnTo>
                <a:close/>
              </a:path>
              <a:path fill="none" w="21600" h="21600">
                <a:moveTo>
                  <a:pt x="10651" y="1"/>
                </a:moveTo>
                <a:arcTo wR="10800" hR="10800" stAng="-5447414" swAng="5447414"/>
              </a:path>
            </a:pathLst>
          </a:custGeom>
          <a:noFill/>
          <a:ln cap="rnd" w="25560">
            <a:solidFill>
              <a:srgbClr val="d93192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9120000">
            <a:off x="2259000" y="3485160"/>
            <a:ext cx="85716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1"/>
                </a:moveTo>
                <a:arcTo wR="10800" hR="10800" stAng="-10784364" swAng="5373062"/>
                <a:lnTo>
                  <a:pt x="10800" y="10800"/>
                </a:lnTo>
                <a:close/>
              </a:path>
              <a:path fill="none" w="21600" h="21600">
                <a:moveTo>
                  <a:pt x="0" y="10751"/>
                </a:moveTo>
                <a:arcTo wR="10800" hR="10800" stAng="-10784364" swAng="5373062"/>
              </a:path>
            </a:pathLst>
          </a:custGeom>
          <a:noFill/>
          <a:ln cap="rnd" w="25560">
            <a:solidFill>
              <a:srgbClr val="800000"/>
            </a:solidFill>
            <a:miter/>
            <a:tailEnd len="med" type="triangle" w="med"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86160" y="4206960"/>
            <a:ext cx="272880" cy="1047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808080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5440" y="3502080"/>
            <a:ext cx="271440" cy="1047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808080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70440" y="3378240"/>
            <a:ext cx="1498320" cy="1003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ffein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activates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rot="18420000">
            <a:off x="6803640" y="4067280"/>
            <a:ext cx="289080" cy="257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7d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7880000">
            <a:off x="5955840" y="4178520"/>
            <a:ext cx="961200" cy="61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64" y="0"/>
                </a:moveTo>
                <a:arcTo wR="10800" hR="10800" stAng="-5411327" swAng="5411327"/>
                <a:lnTo>
                  <a:pt x="10800" y="10800"/>
                </a:lnTo>
                <a:close/>
              </a:path>
              <a:path fill="none" w="21600" h="21600">
                <a:moveTo>
                  <a:pt x="10764" y="0"/>
                </a:moveTo>
                <a:arcTo wR="10800" hR="10800" stAng="-5411327" swAng="5411327"/>
              </a:path>
            </a:pathLst>
          </a:custGeom>
          <a:noFill/>
          <a:ln cap="rnd" w="25560">
            <a:solidFill>
              <a:srgbClr val="800000"/>
            </a:solidFill>
            <a:miter/>
            <a:headEnd len="med" type="triangle" w="med"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70320" y="5102280"/>
            <a:ext cx="140832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89760" y="4915080"/>
            <a:ext cx="0" cy="350640"/>
          </a:xfrm>
          <a:prstGeom prst="line">
            <a:avLst/>
          </a:prstGeom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6086520" y="4792680"/>
            <a:ext cx="264960" cy="122400"/>
          </a:xfrm>
          <a:prstGeom prst="line">
            <a:avLst/>
          </a:prstGeom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814720" y="4809960"/>
            <a:ext cx="274680" cy="105120"/>
          </a:xfrm>
          <a:prstGeom prst="line">
            <a:avLst/>
          </a:prstGeom>
          <a:ln w="255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79960" y="5265720"/>
            <a:ext cx="203400" cy="39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5"/>
                </a:moveTo>
                <a:arcTo wR="10800" hR="10800" stAng="-10772824" swAng="5325269"/>
                <a:lnTo>
                  <a:pt x="10800" y="10800"/>
                </a:lnTo>
                <a:close/>
              </a:path>
              <a:path fill="none" w="21600" h="21600">
                <a:moveTo>
                  <a:pt x="0" y="10715"/>
                </a:moveTo>
                <a:arcTo wR="10800" hR="10800" stAng="-10772824" swAng="5325269"/>
              </a:path>
            </a:pathLst>
          </a:custGeom>
          <a:noFill/>
          <a:ln cap="rnd" w="25560">
            <a:solidFill>
              <a:srgbClr val="d93192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70600" y="5264280"/>
            <a:ext cx="202680" cy="40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1" y="1"/>
                </a:moveTo>
                <a:arcTo wR="10800" hR="10800" stAng="-5447555" swAng="5420380"/>
                <a:lnTo>
                  <a:pt x="10800" y="10800"/>
                </a:lnTo>
                <a:close/>
              </a:path>
              <a:path fill="none" w="21600" h="21600">
                <a:moveTo>
                  <a:pt x="10651" y="1"/>
                </a:moveTo>
                <a:arcTo wR="10800" hR="10800" stAng="-5447555" swAng="5420380"/>
              </a:path>
            </a:pathLst>
          </a:custGeom>
          <a:noFill/>
          <a:ln cap="rnd" w="25560">
            <a:solidFill>
              <a:srgbClr val="d93192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22960" y="4832280"/>
            <a:ext cx="273240" cy="1047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808080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2760000">
            <a:off x="5946120" y="4534560"/>
            <a:ext cx="289080" cy="255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7d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92800" y="5450040"/>
            <a:ext cx="255600" cy="2728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808080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81280" y="5549760"/>
            <a:ext cx="3581640" cy="6987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spons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ing in Stimulation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1520000">
            <a:off x="5068080" y="5081040"/>
            <a:ext cx="854280" cy="72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63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636"/>
              </a:path>
            </a:pathLst>
          </a:custGeom>
          <a:noFill/>
          <a:ln cap="rnd" w="25560">
            <a:solidFill>
              <a:srgbClr val="919191"/>
            </a:solidFill>
            <a:miter/>
            <a:tailEnd len="med" type="triangle" w="med"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33480" y="3651120"/>
            <a:ext cx="435960" cy="63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23600" y="3041640"/>
            <a:ext cx="435960" cy="63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Action of Caffeine</a:t>
            </a:r>
            <a:endParaRPr b="0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400800" y="2133720"/>
            <a:ext cx="1752480" cy="6987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denosine Receptor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5790960" y="2362320"/>
            <a:ext cx="609480" cy="228600"/>
          </a:xfrm>
          <a:prstGeom prst="line">
            <a:avLst/>
          </a:prstGeom>
          <a:ln w="255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28360" y="3720960"/>
            <a:ext cx="1693080" cy="6987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denosin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an not bind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11320" y="4788000"/>
            <a:ext cx="1187280" cy="393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affein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2120" y="1447920"/>
            <a:ext cx="7467480" cy="43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7800" indent="-577800">
              <a:lnSpc>
                <a:spcPct val="100000"/>
              </a:lnSpc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Pleasant stimulant effects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Short Half-life (you  need to back for more)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Can’t drink too much at any one time (toxicity)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Headache when you stop drinking it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75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Why so many $$s from caffeine?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75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Times New Roman"/>
              </a:rPr>
              <a:t>A Small Dose of </a:t>
            </a:r>
            <a:r>
              <a:rPr b="1" lang="en-US" sz="4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™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Caffein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114560" y="1676520"/>
            <a:ext cx="6913440" cy="3504960"/>
            <a:chOff x="1114560" y="1676520"/>
            <a:chExt cx="6913440" cy="3504960"/>
          </a:xfrm>
        </p:grpSpPr>
        <p:sp>
          <p:nvSpPr>
            <p:cNvPr id="332" name=""/>
            <p:cNvSpPr/>
            <p:nvPr/>
          </p:nvSpPr>
          <p:spPr>
            <a:xfrm>
              <a:off x="1114560" y="1676520"/>
              <a:ext cx="6913440" cy="3504960"/>
            </a:xfrm>
            <a:custGeom>
              <a:avLst/>
              <a:gdLst/>
              <a:ahLst/>
              <a:rect l="l" t="t" r="r" b="b"/>
              <a:pathLst>
                <a:path w="3910" h="1817">
                  <a:moveTo>
                    <a:pt x="3808" y="1171"/>
                  </a:moveTo>
                  <a:lnTo>
                    <a:pt x="3808" y="1171"/>
                  </a:lnTo>
                  <a:lnTo>
                    <a:pt x="3680" y="1081"/>
                  </a:lnTo>
                  <a:lnTo>
                    <a:pt x="3680" y="1081"/>
                  </a:lnTo>
                  <a:lnTo>
                    <a:pt x="3731" y="1184"/>
                  </a:lnTo>
                  <a:lnTo>
                    <a:pt x="3731" y="1184"/>
                  </a:lnTo>
                  <a:lnTo>
                    <a:pt x="3763" y="1209"/>
                  </a:lnTo>
                  <a:lnTo>
                    <a:pt x="3789" y="1235"/>
                  </a:lnTo>
                  <a:lnTo>
                    <a:pt x="3808" y="1267"/>
                  </a:lnTo>
                  <a:lnTo>
                    <a:pt x="3821" y="1292"/>
                  </a:lnTo>
                  <a:lnTo>
                    <a:pt x="3827" y="1331"/>
                  </a:lnTo>
                  <a:lnTo>
                    <a:pt x="3821" y="1363"/>
                  </a:lnTo>
                  <a:lnTo>
                    <a:pt x="3808" y="1408"/>
                  </a:lnTo>
                  <a:lnTo>
                    <a:pt x="3782" y="1446"/>
                  </a:lnTo>
                  <a:lnTo>
                    <a:pt x="3782" y="1446"/>
                  </a:lnTo>
                  <a:lnTo>
                    <a:pt x="3757" y="1484"/>
                  </a:lnTo>
                  <a:lnTo>
                    <a:pt x="3725" y="1510"/>
                  </a:lnTo>
                  <a:lnTo>
                    <a:pt x="3680" y="1542"/>
                  </a:lnTo>
                  <a:lnTo>
                    <a:pt x="3641" y="1568"/>
                  </a:lnTo>
                  <a:lnTo>
                    <a:pt x="3590" y="1587"/>
                  </a:lnTo>
                  <a:lnTo>
                    <a:pt x="3539" y="1606"/>
                  </a:lnTo>
                  <a:lnTo>
                    <a:pt x="3430" y="1632"/>
                  </a:lnTo>
                  <a:lnTo>
                    <a:pt x="3309" y="1651"/>
                  </a:lnTo>
                  <a:lnTo>
                    <a:pt x="3193" y="1657"/>
                  </a:lnTo>
                  <a:lnTo>
                    <a:pt x="3072" y="1657"/>
                  </a:lnTo>
                  <a:lnTo>
                    <a:pt x="2963" y="1644"/>
                  </a:lnTo>
                  <a:lnTo>
                    <a:pt x="2963" y="1644"/>
                  </a:lnTo>
                  <a:lnTo>
                    <a:pt x="2912" y="1632"/>
                  </a:lnTo>
                  <a:lnTo>
                    <a:pt x="2861" y="1619"/>
                  </a:lnTo>
                  <a:lnTo>
                    <a:pt x="2758" y="1574"/>
                  </a:lnTo>
                  <a:lnTo>
                    <a:pt x="2662" y="1529"/>
                  </a:lnTo>
                  <a:lnTo>
                    <a:pt x="2579" y="1472"/>
                  </a:lnTo>
                  <a:lnTo>
                    <a:pt x="2502" y="1414"/>
                  </a:lnTo>
                  <a:lnTo>
                    <a:pt x="2432" y="1356"/>
                  </a:lnTo>
                  <a:lnTo>
                    <a:pt x="2381" y="1305"/>
                  </a:lnTo>
                  <a:lnTo>
                    <a:pt x="2349" y="1267"/>
                  </a:lnTo>
                  <a:lnTo>
                    <a:pt x="2349" y="1267"/>
                  </a:lnTo>
                  <a:lnTo>
                    <a:pt x="2310" y="1203"/>
                  </a:lnTo>
                  <a:lnTo>
                    <a:pt x="2297" y="1177"/>
                  </a:lnTo>
                  <a:lnTo>
                    <a:pt x="2291" y="1152"/>
                  </a:lnTo>
                  <a:lnTo>
                    <a:pt x="2291" y="1126"/>
                  </a:lnTo>
                  <a:lnTo>
                    <a:pt x="2291" y="1107"/>
                  </a:lnTo>
                  <a:lnTo>
                    <a:pt x="2297" y="1081"/>
                  </a:lnTo>
                  <a:lnTo>
                    <a:pt x="2310" y="1062"/>
                  </a:lnTo>
                  <a:lnTo>
                    <a:pt x="2310" y="1062"/>
                  </a:lnTo>
                  <a:lnTo>
                    <a:pt x="2329" y="1036"/>
                  </a:lnTo>
                  <a:lnTo>
                    <a:pt x="2355" y="1024"/>
                  </a:lnTo>
                  <a:lnTo>
                    <a:pt x="2381" y="1011"/>
                  </a:lnTo>
                  <a:lnTo>
                    <a:pt x="2413" y="998"/>
                  </a:lnTo>
                  <a:lnTo>
                    <a:pt x="2477" y="992"/>
                  </a:lnTo>
                  <a:lnTo>
                    <a:pt x="2528" y="992"/>
                  </a:lnTo>
                  <a:lnTo>
                    <a:pt x="2528" y="992"/>
                  </a:lnTo>
                  <a:lnTo>
                    <a:pt x="2547" y="998"/>
                  </a:lnTo>
                  <a:lnTo>
                    <a:pt x="2547" y="998"/>
                  </a:lnTo>
                  <a:lnTo>
                    <a:pt x="2681" y="870"/>
                  </a:lnTo>
                  <a:lnTo>
                    <a:pt x="2681" y="870"/>
                  </a:lnTo>
                  <a:lnTo>
                    <a:pt x="2521" y="870"/>
                  </a:lnTo>
                  <a:lnTo>
                    <a:pt x="2374" y="857"/>
                  </a:lnTo>
                  <a:lnTo>
                    <a:pt x="2304" y="851"/>
                  </a:lnTo>
                  <a:lnTo>
                    <a:pt x="2240" y="838"/>
                  </a:lnTo>
                  <a:lnTo>
                    <a:pt x="2182" y="825"/>
                  </a:lnTo>
                  <a:lnTo>
                    <a:pt x="2137" y="800"/>
                  </a:lnTo>
                  <a:lnTo>
                    <a:pt x="2137" y="800"/>
                  </a:lnTo>
                  <a:lnTo>
                    <a:pt x="1734" y="582"/>
                  </a:lnTo>
                  <a:lnTo>
                    <a:pt x="1280" y="333"/>
                  </a:lnTo>
                  <a:lnTo>
                    <a:pt x="1056" y="217"/>
                  </a:lnTo>
                  <a:lnTo>
                    <a:pt x="851" y="121"/>
                  </a:lnTo>
                  <a:lnTo>
                    <a:pt x="685" y="51"/>
                  </a:lnTo>
                  <a:lnTo>
                    <a:pt x="614" y="25"/>
                  </a:lnTo>
                  <a:lnTo>
                    <a:pt x="557" y="13"/>
                  </a:lnTo>
                  <a:lnTo>
                    <a:pt x="557" y="13"/>
                  </a:lnTo>
                  <a:lnTo>
                    <a:pt x="429" y="0"/>
                  </a:lnTo>
                  <a:lnTo>
                    <a:pt x="320" y="0"/>
                  </a:lnTo>
                  <a:lnTo>
                    <a:pt x="224" y="13"/>
                  </a:lnTo>
                  <a:lnTo>
                    <a:pt x="141" y="32"/>
                  </a:lnTo>
                  <a:lnTo>
                    <a:pt x="83" y="64"/>
                  </a:lnTo>
                  <a:lnTo>
                    <a:pt x="57" y="83"/>
                  </a:lnTo>
                  <a:lnTo>
                    <a:pt x="38" y="109"/>
                  </a:lnTo>
                  <a:lnTo>
                    <a:pt x="19" y="128"/>
                  </a:lnTo>
                  <a:lnTo>
                    <a:pt x="6" y="153"/>
                  </a:lnTo>
                  <a:lnTo>
                    <a:pt x="0" y="17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224"/>
                  </a:lnTo>
                  <a:lnTo>
                    <a:pt x="6" y="249"/>
                  </a:lnTo>
                  <a:lnTo>
                    <a:pt x="19" y="269"/>
                  </a:lnTo>
                  <a:lnTo>
                    <a:pt x="32" y="288"/>
                  </a:lnTo>
                  <a:lnTo>
                    <a:pt x="70" y="326"/>
                  </a:lnTo>
                  <a:lnTo>
                    <a:pt x="121" y="358"/>
                  </a:lnTo>
                  <a:lnTo>
                    <a:pt x="192" y="390"/>
                  </a:lnTo>
                  <a:lnTo>
                    <a:pt x="275" y="409"/>
                  </a:lnTo>
                  <a:lnTo>
                    <a:pt x="371" y="435"/>
                  </a:lnTo>
                  <a:lnTo>
                    <a:pt x="480" y="454"/>
                  </a:lnTo>
                  <a:lnTo>
                    <a:pt x="480" y="454"/>
                  </a:lnTo>
                  <a:lnTo>
                    <a:pt x="633" y="486"/>
                  </a:lnTo>
                  <a:lnTo>
                    <a:pt x="832" y="544"/>
                  </a:lnTo>
                  <a:lnTo>
                    <a:pt x="1069" y="614"/>
                  </a:lnTo>
                  <a:lnTo>
                    <a:pt x="1331" y="710"/>
                  </a:lnTo>
                  <a:lnTo>
                    <a:pt x="1459" y="768"/>
                  </a:lnTo>
                  <a:lnTo>
                    <a:pt x="1587" y="825"/>
                  </a:lnTo>
                  <a:lnTo>
                    <a:pt x="1715" y="889"/>
                  </a:lnTo>
                  <a:lnTo>
                    <a:pt x="1837" y="960"/>
                  </a:lnTo>
                  <a:lnTo>
                    <a:pt x="1945" y="1030"/>
                  </a:lnTo>
                  <a:lnTo>
                    <a:pt x="2048" y="1107"/>
                  </a:lnTo>
                  <a:lnTo>
                    <a:pt x="2137" y="1184"/>
                  </a:lnTo>
                  <a:lnTo>
                    <a:pt x="2214" y="1267"/>
                  </a:lnTo>
                  <a:lnTo>
                    <a:pt x="2214" y="1267"/>
                  </a:lnTo>
                  <a:lnTo>
                    <a:pt x="2297" y="1369"/>
                  </a:lnTo>
                  <a:lnTo>
                    <a:pt x="2374" y="1452"/>
                  </a:lnTo>
                  <a:lnTo>
                    <a:pt x="2451" y="1529"/>
                  </a:lnTo>
                  <a:lnTo>
                    <a:pt x="2528" y="1593"/>
                  </a:lnTo>
                  <a:lnTo>
                    <a:pt x="2605" y="1651"/>
                  </a:lnTo>
                  <a:lnTo>
                    <a:pt x="2688" y="1702"/>
                  </a:lnTo>
                  <a:lnTo>
                    <a:pt x="2777" y="1747"/>
                  </a:lnTo>
                  <a:lnTo>
                    <a:pt x="2873" y="1779"/>
                  </a:lnTo>
                  <a:lnTo>
                    <a:pt x="2873" y="1779"/>
                  </a:lnTo>
                  <a:lnTo>
                    <a:pt x="2982" y="1804"/>
                  </a:lnTo>
                  <a:lnTo>
                    <a:pt x="3091" y="1817"/>
                  </a:lnTo>
                  <a:lnTo>
                    <a:pt x="3206" y="1817"/>
                  </a:lnTo>
                  <a:lnTo>
                    <a:pt x="3315" y="1804"/>
                  </a:lnTo>
                  <a:lnTo>
                    <a:pt x="3424" y="1785"/>
                  </a:lnTo>
                  <a:lnTo>
                    <a:pt x="3533" y="1753"/>
                  </a:lnTo>
                  <a:lnTo>
                    <a:pt x="3629" y="1708"/>
                  </a:lnTo>
                  <a:lnTo>
                    <a:pt x="3712" y="1657"/>
                  </a:lnTo>
                  <a:lnTo>
                    <a:pt x="3712" y="1657"/>
                  </a:lnTo>
                  <a:lnTo>
                    <a:pt x="3782" y="1600"/>
                  </a:lnTo>
                  <a:lnTo>
                    <a:pt x="3840" y="1536"/>
                  </a:lnTo>
                  <a:lnTo>
                    <a:pt x="3878" y="1472"/>
                  </a:lnTo>
                  <a:lnTo>
                    <a:pt x="3891" y="1433"/>
                  </a:lnTo>
                  <a:lnTo>
                    <a:pt x="3904" y="1401"/>
                  </a:lnTo>
                  <a:lnTo>
                    <a:pt x="3910" y="1369"/>
                  </a:lnTo>
                  <a:lnTo>
                    <a:pt x="3910" y="1337"/>
                  </a:lnTo>
                  <a:lnTo>
                    <a:pt x="3904" y="1305"/>
                  </a:lnTo>
                  <a:lnTo>
                    <a:pt x="3891" y="1273"/>
                  </a:lnTo>
                  <a:lnTo>
                    <a:pt x="3878" y="1248"/>
                  </a:lnTo>
                  <a:lnTo>
                    <a:pt x="3859" y="1222"/>
                  </a:lnTo>
                  <a:lnTo>
                    <a:pt x="3833" y="1196"/>
                  </a:lnTo>
                  <a:lnTo>
                    <a:pt x="3808" y="1171"/>
                  </a:lnTo>
                  <a:lnTo>
                    <a:pt x="3808" y="11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59400" y="3030480"/>
              <a:ext cx="2228760" cy="1727280"/>
            </a:xfrm>
            <a:custGeom>
              <a:avLst/>
              <a:gdLst/>
              <a:ahLst/>
              <a:rect l="l" t="t" r="r" b="b"/>
              <a:pathLst>
                <a:path w="1261" h="895">
                  <a:moveTo>
                    <a:pt x="627" y="895"/>
                  </a:moveTo>
                  <a:lnTo>
                    <a:pt x="627" y="895"/>
                  </a:lnTo>
                  <a:lnTo>
                    <a:pt x="704" y="895"/>
                  </a:lnTo>
                  <a:lnTo>
                    <a:pt x="781" y="895"/>
                  </a:lnTo>
                  <a:lnTo>
                    <a:pt x="909" y="883"/>
                  </a:lnTo>
                  <a:lnTo>
                    <a:pt x="1018" y="857"/>
                  </a:lnTo>
                  <a:lnTo>
                    <a:pt x="1107" y="825"/>
                  </a:lnTo>
                  <a:lnTo>
                    <a:pt x="1178" y="787"/>
                  </a:lnTo>
                  <a:lnTo>
                    <a:pt x="1229" y="742"/>
                  </a:lnTo>
                  <a:lnTo>
                    <a:pt x="1242" y="723"/>
                  </a:lnTo>
                  <a:lnTo>
                    <a:pt x="1255" y="697"/>
                  </a:lnTo>
                  <a:lnTo>
                    <a:pt x="1261" y="678"/>
                  </a:lnTo>
                  <a:lnTo>
                    <a:pt x="1261" y="659"/>
                  </a:lnTo>
                  <a:lnTo>
                    <a:pt x="1261" y="659"/>
                  </a:lnTo>
                  <a:lnTo>
                    <a:pt x="1255" y="614"/>
                  </a:lnTo>
                  <a:lnTo>
                    <a:pt x="1242" y="569"/>
                  </a:lnTo>
                  <a:lnTo>
                    <a:pt x="1223" y="518"/>
                  </a:lnTo>
                  <a:lnTo>
                    <a:pt x="1191" y="467"/>
                  </a:lnTo>
                  <a:lnTo>
                    <a:pt x="1127" y="358"/>
                  </a:lnTo>
                  <a:lnTo>
                    <a:pt x="1037" y="255"/>
                  </a:lnTo>
                  <a:lnTo>
                    <a:pt x="947" y="160"/>
                  </a:lnTo>
                  <a:lnTo>
                    <a:pt x="896" y="115"/>
                  </a:lnTo>
                  <a:lnTo>
                    <a:pt x="845" y="76"/>
                  </a:lnTo>
                  <a:lnTo>
                    <a:pt x="800" y="44"/>
                  </a:lnTo>
                  <a:lnTo>
                    <a:pt x="755" y="25"/>
                  </a:lnTo>
                  <a:lnTo>
                    <a:pt x="711" y="6"/>
                  </a:lnTo>
                  <a:lnTo>
                    <a:pt x="666" y="0"/>
                  </a:lnTo>
                  <a:lnTo>
                    <a:pt x="666" y="0"/>
                  </a:lnTo>
                  <a:lnTo>
                    <a:pt x="627" y="0"/>
                  </a:lnTo>
                  <a:lnTo>
                    <a:pt x="583" y="12"/>
                  </a:lnTo>
                  <a:lnTo>
                    <a:pt x="531" y="32"/>
                  </a:lnTo>
                  <a:lnTo>
                    <a:pt x="480" y="51"/>
                  </a:lnTo>
                  <a:lnTo>
                    <a:pt x="384" y="115"/>
                  </a:lnTo>
                  <a:lnTo>
                    <a:pt x="282" y="192"/>
                  </a:lnTo>
                  <a:lnTo>
                    <a:pt x="192" y="275"/>
                  </a:lnTo>
                  <a:lnTo>
                    <a:pt x="109" y="351"/>
                  </a:lnTo>
                  <a:lnTo>
                    <a:pt x="51" y="415"/>
                  </a:lnTo>
                  <a:lnTo>
                    <a:pt x="13" y="460"/>
                  </a:lnTo>
                  <a:lnTo>
                    <a:pt x="13" y="460"/>
                  </a:lnTo>
                  <a:lnTo>
                    <a:pt x="0" y="492"/>
                  </a:lnTo>
                  <a:lnTo>
                    <a:pt x="0" y="524"/>
                  </a:lnTo>
                  <a:lnTo>
                    <a:pt x="0" y="556"/>
                  </a:lnTo>
                  <a:lnTo>
                    <a:pt x="13" y="588"/>
                  </a:lnTo>
                  <a:lnTo>
                    <a:pt x="32" y="627"/>
                  </a:lnTo>
                  <a:lnTo>
                    <a:pt x="64" y="659"/>
                  </a:lnTo>
                  <a:lnTo>
                    <a:pt x="96" y="691"/>
                  </a:lnTo>
                  <a:lnTo>
                    <a:pt x="135" y="729"/>
                  </a:lnTo>
                  <a:lnTo>
                    <a:pt x="186" y="761"/>
                  </a:lnTo>
                  <a:lnTo>
                    <a:pt x="237" y="787"/>
                  </a:lnTo>
                  <a:lnTo>
                    <a:pt x="288" y="819"/>
                  </a:lnTo>
                  <a:lnTo>
                    <a:pt x="352" y="838"/>
                  </a:lnTo>
                  <a:lnTo>
                    <a:pt x="416" y="863"/>
                  </a:lnTo>
                  <a:lnTo>
                    <a:pt x="487" y="876"/>
                  </a:lnTo>
                  <a:lnTo>
                    <a:pt x="557" y="889"/>
                  </a:lnTo>
                  <a:lnTo>
                    <a:pt x="627" y="895"/>
                  </a:lnTo>
                  <a:lnTo>
                    <a:pt x="627" y="895"/>
                  </a:ln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</p:grpSp>
      <p:pic>
        <p:nvPicPr>
          <p:cNvPr id="334" name="bd00028_" descr=""/>
          <p:cNvPicPr/>
          <p:nvPr/>
        </p:nvPicPr>
        <p:blipFill>
          <a:blip r:embed="rId1"/>
          <a:stretch/>
        </p:blipFill>
        <p:spPr>
          <a:xfrm>
            <a:off x="2324160" y="1600200"/>
            <a:ext cx="4305240" cy="42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75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Additional Inform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114560" y="1676520"/>
            <a:ext cx="6913440" cy="3504960"/>
            <a:chOff x="1114560" y="1676520"/>
            <a:chExt cx="6913440" cy="3504960"/>
          </a:xfrm>
        </p:grpSpPr>
        <p:sp>
          <p:nvSpPr>
            <p:cNvPr id="337" name=""/>
            <p:cNvSpPr/>
            <p:nvPr/>
          </p:nvSpPr>
          <p:spPr>
            <a:xfrm>
              <a:off x="1114560" y="1676520"/>
              <a:ext cx="6913440" cy="3504960"/>
            </a:xfrm>
            <a:custGeom>
              <a:avLst/>
              <a:gdLst/>
              <a:ahLst/>
              <a:rect l="l" t="t" r="r" b="b"/>
              <a:pathLst>
                <a:path w="3910" h="1817">
                  <a:moveTo>
                    <a:pt x="3808" y="1171"/>
                  </a:moveTo>
                  <a:lnTo>
                    <a:pt x="3808" y="1171"/>
                  </a:lnTo>
                  <a:lnTo>
                    <a:pt x="3680" y="1081"/>
                  </a:lnTo>
                  <a:lnTo>
                    <a:pt x="3680" y="1081"/>
                  </a:lnTo>
                  <a:lnTo>
                    <a:pt x="3731" y="1184"/>
                  </a:lnTo>
                  <a:lnTo>
                    <a:pt x="3731" y="1184"/>
                  </a:lnTo>
                  <a:lnTo>
                    <a:pt x="3763" y="1209"/>
                  </a:lnTo>
                  <a:lnTo>
                    <a:pt x="3789" y="1235"/>
                  </a:lnTo>
                  <a:lnTo>
                    <a:pt x="3808" y="1267"/>
                  </a:lnTo>
                  <a:lnTo>
                    <a:pt x="3821" y="1292"/>
                  </a:lnTo>
                  <a:lnTo>
                    <a:pt x="3827" y="1331"/>
                  </a:lnTo>
                  <a:lnTo>
                    <a:pt x="3821" y="1363"/>
                  </a:lnTo>
                  <a:lnTo>
                    <a:pt x="3808" y="1408"/>
                  </a:lnTo>
                  <a:lnTo>
                    <a:pt x="3782" y="1446"/>
                  </a:lnTo>
                  <a:lnTo>
                    <a:pt x="3782" y="1446"/>
                  </a:lnTo>
                  <a:lnTo>
                    <a:pt x="3757" y="1484"/>
                  </a:lnTo>
                  <a:lnTo>
                    <a:pt x="3725" y="1510"/>
                  </a:lnTo>
                  <a:lnTo>
                    <a:pt x="3680" y="1542"/>
                  </a:lnTo>
                  <a:lnTo>
                    <a:pt x="3641" y="1568"/>
                  </a:lnTo>
                  <a:lnTo>
                    <a:pt x="3590" y="1587"/>
                  </a:lnTo>
                  <a:lnTo>
                    <a:pt x="3539" y="1606"/>
                  </a:lnTo>
                  <a:lnTo>
                    <a:pt x="3430" y="1632"/>
                  </a:lnTo>
                  <a:lnTo>
                    <a:pt x="3309" y="1651"/>
                  </a:lnTo>
                  <a:lnTo>
                    <a:pt x="3193" y="1657"/>
                  </a:lnTo>
                  <a:lnTo>
                    <a:pt x="3072" y="1657"/>
                  </a:lnTo>
                  <a:lnTo>
                    <a:pt x="2963" y="1644"/>
                  </a:lnTo>
                  <a:lnTo>
                    <a:pt x="2963" y="1644"/>
                  </a:lnTo>
                  <a:lnTo>
                    <a:pt x="2912" y="1632"/>
                  </a:lnTo>
                  <a:lnTo>
                    <a:pt x="2861" y="1619"/>
                  </a:lnTo>
                  <a:lnTo>
                    <a:pt x="2758" y="1574"/>
                  </a:lnTo>
                  <a:lnTo>
                    <a:pt x="2662" y="1529"/>
                  </a:lnTo>
                  <a:lnTo>
                    <a:pt x="2579" y="1472"/>
                  </a:lnTo>
                  <a:lnTo>
                    <a:pt x="2502" y="1414"/>
                  </a:lnTo>
                  <a:lnTo>
                    <a:pt x="2432" y="1356"/>
                  </a:lnTo>
                  <a:lnTo>
                    <a:pt x="2381" y="1305"/>
                  </a:lnTo>
                  <a:lnTo>
                    <a:pt x="2349" y="1267"/>
                  </a:lnTo>
                  <a:lnTo>
                    <a:pt x="2349" y="1267"/>
                  </a:lnTo>
                  <a:lnTo>
                    <a:pt x="2310" y="1203"/>
                  </a:lnTo>
                  <a:lnTo>
                    <a:pt x="2297" y="1177"/>
                  </a:lnTo>
                  <a:lnTo>
                    <a:pt x="2291" y="1152"/>
                  </a:lnTo>
                  <a:lnTo>
                    <a:pt x="2291" y="1126"/>
                  </a:lnTo>
                  <a:lnTo>
                    <a:pt x="2291" y="1107"/>
                  </a:lnTo>
                  <a:lnTo>
                    <a:pt x="2297" y="1081"/>
                  </a:lnTo>
                  <a:lnTo>
                    <a:pt x="2310" y="1062"/>
                  </a:lnTo>
                  <a:lnTo>
                    <a:pt x="2310" y="1062"/>
                  </a:lnTo>
                  <a:lnTo>
                    <a:pt x="2329" y="1036"/>
                  </a:lnTo>
                  <a:lnTo>
                    <a:pt x="2355" y="1024"/>
                  </a:lnTo>
                  <a:lnTo>
                    <a:pt x="2381" y="1011"/>
                  </a:lnTo>
                  <a:lnTo>
                    <a:pt x="2413" y="998"/>
                  </a:lnTo>
                  <a:lnTo>
                    <a:pt x="2477" y="992"/>
                  </a:lnTo>
                  <a:lnTo>
                    <a:pt x="2528" y="992"/>
                  </a:lnTo>
                  <a:lnTo>
                    <a:pt x="2528" y="992"/>
                  </a:lnTo>
                  <a:lnTo>
                    <a:pt x="2547" y="998"/>
                  </a:lnTo>
                  <a:lnTo>
                    <a:pt x="2547" y="998"/>
                  </a:lnTo>
                  <a:lnTo>
                    <a:pt x="2681" y="870"/>
                  </a:lnTo>
                  <a:lnTo>
                    <a:pt x="2681" y="870"/>
                  </a:lnTo>
                  <a:lnTo>
                    <a:pt x="2521" y="870"/>
                  </a:lnTo>
                  <a:lnTo>
                    <a:pt x="2374" y="857"/>
                  </a:lnTo>
                  <a:lnTo>
                    <a:pt x="2304" y="851"/>
                  </a:lnTo>
                  <a:lnTo>
                    <a:pt x="2240" y="838"/>
                  </a:lnTo>
                  <a:lnTo>
                    <a:pt x="2182" y="825"/>
                  </a:lnTo>
                  <a:lnTo>
                    <a:pt x="2137" y="800"/>
                  </a:lnTo>
                  <a:lnTo>
                    <a:pt x="2137" y="800"/>
                  </a:lnTo>
                  <a:lnTo>
                    <a:pt x="1734" y="582"/>
                  </a:lnTo>
                  <a:lnTo>
                    <a:pt x="1280" y="333"/>
                  </a:lnTo>
                  <a:lnTo>
                    <a:pt x="1056" y="217"/>
                  </a:lnTo>
                  <a:lnTo>
                    <a:pt x="851" y="121"/>
                  </a:lnTo>
                  <a:lnTo>
                    <a:pt x="685" y="51"/>
                  </a:lnTo>
                  <a:lnTo>
                    <a:pt x="614" y="25"/>
                  </a:lnTo>
                  <a:lnTo>
                    <a:pt x="557" y="13"/>
                  </a:lnTo>
                  <a:lnTo>
                    <a:pt x="557" y="13"/>
                  </a:lnTo>
                  <a:lnTo>
                    <a:pt x="429" y="0"/>
                  </a:lnTo>
                  <a:lnTo>
                    <a:pt x="320" y="0"/>
                  </a:lnTo>
                  <a:lnTo>
                    <a:pt x="224" y="13"/>
                  </a:lnTo>
                  <a:lnTo>
                    <a:pt x="141" y="32"/>
                  </a:lnTo>
                  <a:lnTo>
                    <a:pt x="83" y="64"/>
                  </a:lnTo>
                  <a:lnTo>
                    <a:pt x="57" y="83"/>
                  </a:lnTo>
                  <a:lnTo>
                    <a:pt x="38" y="109"/>
                  </a:lnTo>
                  <a:lnTo>
                    <a:pt x="19" y="128"/>
                  </a:lnTo>
                  <a:lnTo>
                    <a:pt x="6" y="153"/>
                  </a:lnTo>
                  <a:lnTo>
                    <a:pt x="0" y="17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224"/>
                  </a:lnTo>
                  <a:lnTo>
                    <a:pt x="6" y="249"/>
                  </a:lnTo>
                  <a:lnTo>
                    <a:pt x="19" y="269"/>
                  </a:lnTo>
                  <a:lnTo>
                    <a:pt x="32" y="288"/>
                  </a:lnTo>
                  <a:lnTo>
                    <a:pt x="70" y="326"/>
                  </a:lnTo>
                  <a:lnTo>
                    <a:pt x="121" y="358"/>
                  </a:lnTo>
                  <a:lnTo>
                    <a:pt x="192" y="390"/>
                  </a:lnTo>
                  <a:lnTo>
                    <a:pt x="275" y="409"/>
                  </a:lnTo>
                  <a:lnTo>
                    <a:pt x="371" y="435"/>
                  </a:lnTo>
                  <a:lnTo>
                    <a:pt x="480" y="454"/>
                  </a:lnTo>
                  <a:lnTo>
                    <a:pt x="480" y="454"/>
                  </a:lnTo>
                  <a:lnTo>
                    <a:pt x="633" y="486"/>
                  </a:lnTo>
                  <a:lnTo>
                    <a:pt x="832" y="544"/>
                  </a:lnTo>
                  <a:lnTo>
                    <a:pt x="1069" y="614"/>
                  </a:lnTo>
                  <a:lnTo>
                    <a:pt x="1331" y="710"/>
                  </a:lnTo>
                  <a:lnTo>
                    <a:pt x="1459" y="768"/>
                  </a:lnTo>
                  <a:lnTo>
                    <a:pt x="1587" y="825"/>
                  </a:lnTo>
                  <a:lnTo>
                    <a:pt x="1715" y="889"/>
                  </a:lnTo>
                  <a:lnTo>
                    <a:pt x="1837" y="960"/>
                  </a:lnTo>
                  <a:lnTo>
                    <a:pt x="1945" y="1030"/>
                  </a:lnTo>
                  <a:lnTo>
                    <a:pt x="2048" y="1107"/>
                  </a:lnTo>
                  <a:lnTo>
                    <a:pt x="2137" y="1184"/>
                  </a:lnTo>
                  <a:lnTo>
                    <a:pt x="2214" y="1267"/>
                  </a:lnTo>
                  <a:lnTo>
                    <a:pt x="2214" y="1267"/>
                  </a:lnTo>
                  <a:lnTo>
                    <a:pt x="2297" y="1369"/>
                  </a:lnTo>
                  <a:lnTo>
                    <a:pt x="2374" y="1452"/>
                  </a:lnTo>
                  <a:lnTo>
                    <a:pt x="2451" y="1529"/>
                  </a:lnTo>
                  <a:lnTo>
                    <a:pt x="2528" y="1593"/>
                  </a:lnTo>
                  <a:lnTo>
                    <a:pt x="2605" y="1651"/>
                  </a:lnTo>
                  <a:lnTo>
                    <a:pt x="2688" y="1702"/>
                  </a:lnTo>
                  <a:lnTo>
                    <a:pt x="2777" y="1747"/>
                  </a:lnTo>
                  <a:lnTo>
                    <a:pt x="2873" y="1779"/>
                  </a:lnTo>
                  <a:lnTo>
                    <a:pt x="2873" y="1779"/>
                  </a:lnTo>
                  <a:lnTo>
                    <a:pt x="2982" y="1804"/>
                  </a:lnTo>
                  <a:lnTo>
                    <a:pt x="3091" y="1817"/>
                  </a:lnTo>
                  <a:lnTo>
                    <a:pt x="3206" y="1817"/>
                  </a:lnTo>
                  <a:lnTo>
                    <a:pt x="3315" y="1804"/>
                  </a:lnTo>
                  <a:lnTo>
                    <a:pt x="3424" y="1785"/>
                  </a:lnTo>
                  <a:lnTo>
                    <a:pt x="3533" y="1753"/>
                  </a:lnTo>
                  <a:lnTo>
                    <a:pt x="3629" y="1708"/>
                  </a:lnTo>
                  <a:lnTo>
                    <a:pt x="3712" y="1657"/>
                  </a:lnTo>
                  <a:lnTo>
                    <a:pt x="3712" y="1657"/>
                  </a:lnTo>
                  <a:lnTo>
                    <a:pt x="3782" y="1600"/>
                  </a:lnTo>
                  <a:lnTo>
                    <a:pt x="3840" y="1536"/>
                  </a:lnTo>
                  <a:lnTo>
                    <a:pt x="3878" y="1472"/>
                  </a:lnTo>
                  <a:lnTo>
                    <a:pt x="3891" y="1433"/>
                  </a:lnTo>
                  <a:lnTo>
                    <a:pt x="3904" y="1401"/>
                  </a:lnTo>
                  <a:lnTo>
                    <a:pt x="3910" y="1369"/>
                  </a:lnTo>
                  <a:lnTo>
                    <a:pt x="3910" y="1337"/>
                  </a:lnTo>
                  <a:lnTo>
                    <a:pt x="3904" y="1305"/>
                  </a:lnTo>
                  <a:lnTo>
                    <a:pt x="3891" y="1273"/>
                  </a:lnTo>
                  <a:lnTo>
                    <a:pt x="3878" y="1248"/>
                  </a:lnTo>
                  <a:lnTo>
                    <a:pt x="3859" y="1222"/>
                  </a:lnTo>
                  <a:lnTo>
                    <a:pt x="3833" y="1196"/>
                  </a:lnTo>
                  <a:lnTo>
                    <a:pt x="3808" y="1171"/>
                  </a:lnTo>
                  <a:lnTo>
                    <a:pt x="3808" y="11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59400" y="3030480"/>
              <a:ext cx="2228760" cy="1727280"/>
            </a:xfrm>
            <a:custGeom>
              <a:avLst/>
              <a:gdLst/>
              <a:ahLst/>
              <a:rect l="l" t="t" r="r" b="b"/>
              <a:pathLst>
                <a:path w="1261" h="895">
                  <a:moveTo>
                    <a:pt x="627" y="895"/>
                  </a:moveTo>
                  <a:lnTo>
                    <a:pt x="627" y="895"/>
                  </a:lnTo>
                  <a:lnTo>
                    <a:pt x="704" y="895"/>
                  </a:lnTo>
                  <a:lnTo>
                    <a:pt x="781" y="895"/>
                  </a:lnTo>
                  <a:lnTo>
                    <a:pt x="909" y="883"/>
                  </a:lnTo>
                  <a:lnTo>
                    <a:pt x="1018" y="857"/>
                  </a:lnTo>
                  <a:lnTo>
                    <a:pt x="1107" y="825"/>
                  </a:lnTo>
                  <a:lnTo>
                    <a:pt x="1178" y="787"/>
                  </a:lnTo>
                  <a:lnTo>
                    <a:pt x="1229" y="742"/>
                  </a:lnTo>
                  <a:lnTo>
                    <a:pt x="1242" y="723"/>
                  </a:lnTo>
                  <a:lnTo>
                    <a:pt x="1255" y="697"/>
                  </a:lnTo>
                  <a:lnTo>
                    <a:pt x="1261" y="678"/>
                  </a:lnTo>
                  <a:lnTo>
                    <a:pt x="1261" y="659"/>
                  </a:lnTo>
                  <a:lnTo>
                    <a:pt x="1261" y="659"/>
                  </a:lnTo>
                  <a:lnTo>
                    <a:pt x="1255" y="614"/>
                  </a:lnTo>
                  <a:lnTo>
                    <a:pt x="1242" y="569"/>
                  </a:lnTo>
                  <a:lnTo>
                    <a:pt x="1223" y="518"/>
                  </a:lnTo>
                  <a:lnTo>
                    <a:pt x="1191" y="467"/>
                  </a:lnTo>
                  <a:lnTo>
                    <a:pt x="1127" y="358"/>
                  </a:lnTo>
                  <a:lnTo>
                    <a:pt x="1037" y="255"/>
                  </a:lnTo>
                  <a:lnTo>
                    <a:pt x="947" y="160"/>
                  </a:lnTo>
                  <a:lnTo>
                    <a:pt x="896" y="115"/>
                  </a:lnTo>
                  <a:lnTo>
                    <a:pt x="845" y="76"/>
                  </a:lnTo>
                  <a:lnTo>
                    <a:pt x="800" y="44"/>
                  </a:lnTo>
                  <a:lnTo>
                    <a:pt x="755" y="25"/>
                  </a:lnTo>
                  <a:lnTo>
                    <a:pt x="711" y="6"/>
                  </a:lnTo>
                  <a:lnTo>
                    <a:pt x="666" y="0"/>
                  </a:lnTo>
                  <a:lnTo>
                    <a:pt x="666" y="0"/>
                  </a:lnTo>
                  <a:lnTo>
                    <a:pt x="627" y="0"/>
                  </a:lnTo>
                  <a:lnTo>
                    <a:pt x="583" y="12"/>
                  </a:lnTo>
                  <a:lnTo>
                    <a:pt x="531" y="32"/>
                  </a:lnTo>
                  <a:lnTo>
                    <a:pt x="480" y="51"/>
                  </a:lnTo>
                  <a:lnTo>
                    <a:pt x="384" y="115"/>
                  </a:lnTo>
                  <a:lnTo>
                    <a:pt x="282" y="192"/>
                  </a:lnTo>
                  <a:lnTo>
                    <a:pt x="192" y="275"/>
                  </a:lnTo>
                  <a:lnTo>
                    <a:pt x="109" y="351"/>
                  </a:lnTo>
                  <a:lnTo>
                    <a:pt x="51" y="415"/>
                  </a:lnTo>
                  <a:lnTo>
                    <a:pt x="13" y="460"/>
                  </a:lnTo>
                  <a:lnTo>
                    <a:pt x="13" y="460"/>
                  </a:lnTo>
                  <a:lnTo>
                    <a:pt x="0" y="492"/>
                  </a:lnTo>
                  <a:lnTo>
                    <a:pt x="0" y="524"/>
                  </a:lnTo>
                  <a:lnTo>
                    <a:pt x="0" y="556"/>
                  </a:lnTo>
                  <a:lnTo>
                    <a:pt x="13" y="588"/>
                  </a:lnTo>
                  <a:lnTo>
                    <a:pt x="32" y="627"/>
                  </a:lnTo>
                  <a:lnTo>
                    <a:pt x="64" y="659"/>
                  </a:lnTo>
                  <a:lnTo>
                    <a:pt x="96" y="691"/>
                  </a:lnTo>
                  <a:lnTo>
                    <a:pt x="135" y="729"/>
                  </a:lnTo>
                  <a:lnTo>
                    <a:pt x="186" y="761"/>
                  </a:lnTo>
                  <a:lnTo>
                    <a:pt x="237" y="787"/>
                  </a:lnTo>
                  <a:lnTo>
                    <a:pt x="288" y="819"/>
                  </a:lnTo>
                  <a:lnTo>
                    <a:pt x="352" y="838"/>
                  </a:lnTo>
                  <a:lnTo>
                    <a:pt x="416" y="863"/>
                  </a:lnTo>
                  <a:lnTo>
                    <a:pt x="487" y="876"/>
                  </a:lnTo>
                  <a:lnTo>
                    <a:pt x="557" y="889"/>
                  </a:lnTo>
                  <a:lnTo>
                    <a:pt x="627" y="895"/>
                  </a:lnTo>
                  <a:lnTo>
                    <a:pt x="627" y="895"/>
                  </a:ln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914400" y="1676520"/>
            <a:ext cx="716292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49"/>
              </a:spcBef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Web Sites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 lvl="4" marL="1028880" indent="-457200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gland – Department of Health – Statement on the reproductive effects of caffeine. Online. &lt;http://www.doh.gov.uk/sacn/pdf/200106caffeine.pdf&gt; (accessed: 2 April 2003)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lvl="4" marL="1028880" indent="-457200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  <a:ea typeface="Times New Roman"/>
              </a:rPr>
              <a:t>U.S. Food and Drug Administration (FDA) - Perplexities Of Pregnancy. Online. &lt;http://www.cfsan.fda.gov/~dms/wh-preg2.html&gt; (accessed: 9 April 2003)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lvl="4" marL="1028880" indent="-457200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  <a:ea typeface="Times New Roman"/>
              </a:rPr>
              <a:t>Caffeine – The Vaults of Erowid. Online. &lt;http://www.erowid.org/chemicals/caffeine/caffeine.shtml&gt; (accessed: 2 April 2003)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0584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Caffeine – 1,3,7 Trimethylxanthine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4987800" y="4494240"/>
            <a:ext cx="1285920" cy="35568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33160" y="278748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768760" y="2233440"/>
            <a:ext cx="965160" cy="711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59120" y="2259000"/>
            <a:ext cx="1228680" cy="74628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86360" y="3030480"/>
            <a:ext cx="0" cy="1449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440" y="3308400"/>
            <a:ext cx="0" cy="115560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89040" y="4489560"/>
            <a:ext cx="1068480" cy="63180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948120" y="4494240"/>
            <a:ext cx="1011240" cy="66672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3160" y="484344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987440" y="2716200"/>
            <a:ext cx="1209960" cy="2541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0400" y="453852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0400" y="240516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54960" y="2716200"/>
            <a:ext cx="812520" cy="9651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654960" y="3681360"/>
            <a:ext cx="812520" cy="10922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578640" y="3681000"/>
            <a:ext cx="660240" cy="8636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413400" y="2080800"/>
            <a:ext cx="0" cy="4064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8040" y="1571760"/>
            <a:ext cx="9907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00007d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746520" y="5357520"/>
            <a:ext cx="0" cy="4064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7480" y="5686560"/>
            <a:ext cx="9907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00007d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6040" y="1952640"/>
            <a:ext cx="9907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00007d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1828800" y="2461680"/>
            <a:ext cx="635040" cy="55908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905120" y="4468680"/>
            <a:ext cx="558720" cy="279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980720" y="4545000"/>
            <a:ext cx="559080" cy="2793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440" y="4614840"/>
            <a:ext cx="536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22840" y="1801800"/>
            <a:ext cx="0" cy="5079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670200" y="1775880"/>
            <a:ext cx="0" cy="55908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2080" y="1255680"/>
            <a:ext cx="549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13200" y="3097080"/>
            <a:ext cx="0" cy="127008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35280" y="317016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49680" y="438948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0600" y="295920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75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Authorship Inform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14560" y="1676520"/>
            <a:ext cx="6913440" cy="3504960"/>
            <a:chOff x="1114560" y="1676520"/>
            <a:chExt cx="6913440" cy="3504960"/>
          </a:xfrm>
        </p:grpSpPr>
        <p:sp>
          <p:nvSpPr>
            <p:cNvPr id="342" name=""/>
            <p:cNvSpPr/>
            <p:nvPr/>
          </p:nvSpPr>
          <p:spPr>
            <a:xfrm>
              <a:off x="1114560" y="1676520"/>
              <a:ext cx="6913440" cy="3504960"/>
            </a:xfrm>
            <a:custGeom>
              <a:avLst/>
              <a:gdLst/>
              <a:ahLst/>
              <a:rect l="l" t="t" r="r" b="b"/>
              <a:pathLst>
                <a:path w="3910" h="1817">
                  <a:moveTo>
                    <a:pt x="3808" y="1171"/>
                  </a:moveTo>
                  <a:lnTo>
                    <a:pt x="3808" y="1171"/>
                  </a:lnTo>
                  <a:lnTo>
                    <a:pt x="3680" y="1081"/>
                  </a:lnTo>
                  <a:lnTo>
                    <a:pt x="3680" y="1081"/>
                  </a:lnTo>
                  <a:lnTo>
                    <a:pt x="3731" y="1184"/>
                  </a:lnTo>
                  <a:lnTo>
                    <a:pt x="3731" y="1184"/>
                  </a:lnTo>
                  <a:lnTo>
                    <a:pt x="3763" y="1209"/>
                  </a:lnTo>
                  <a:lnTo>
                    <a:pt x="3789" y="1235"/>
                  </a:lnTo>
                  <a:lnTo>
                    <a:pt x="3808" y="1267"/>
                  </a:lnTo>
                  <a:lnTo>
                    <a:pt x="3821" y="1292"/>
                  </a:lnTo>
                  <a:lnTo>
                    <a:pt x="3827" y="1331"/>
                  </a:lnTo>
                  <a:lnTo>
                    <a:pt x="3821" y="1363"/>
                  </a:lnTo>
                  <a:lnTo>
                    <a:pt x="3808" y="1408"/>
                  </a:lnTo>
                  <a:lnTo>
                    <a:pt x="3782" y="1446"/>
                  </a:lnTo>
                  <a:lnTo>
                    <a:pt x="3782" y="1446"/>
                  </a:lnTo>
                  <a:lnTo>
                    <a:pt x="3757" y="1484"/>
                  </a:lnTo>
                  <a:lnTo>
                    <a:pt x="3725" y="1510"/>
                  </a:lnTo>
                  <a:lnTo>
                    <a:pt x="3680" y="1542"/>
                  </a:lnTo>
                  <a:lnTo>
                    <a:pt x="3641" y="1568"/>
                  </a:lnTo>
                  <a:lnTo>
                    <a:pt x="3590" y="1587"/>
                  </a:lnTo>
                  <a:lnTo>
                    <a:pt x="3539" y="1606"/>
                  </a:lnTo>
                  <a:lnTo>
                    <a:pt x="3430" y="1632"/>
                  </a:lnTo>
                  <a:lnTo>
                    <a:pt x="3309" y="1651"/>
                  </a:lnTo>
                  <a:lnTo>
                    <a:pt x="3193" y="1657"/>
                  </a:lnTo>
                  <a:lnTo>
                    <a:pt x="3072" y="1657"/>
                  </a:lnTo>
                  <a:lnTo>
                    <a:pt x="2963" y="1644"/>
                  </a:lnTo>
                  <a:lnTo>
                    <a:pt x="2963" y="1644"/>
                  </a:lnTo>
                  <a:lnTo>
                    <a:pt x="2912" y="1632"/>
                  </a:lnTo>
                  <a:lnTo>
                    <a:pt x="2861" y="1619"/>
                  </a:lnTo>
                  <a:lnTo>
                    <a:pt x="2758" y="1574"/>
                  </a:lnTo>
                  <a:lnTo>
                    <a:pt x="2662" y="1529"/>
                  </a:lnTo>
                  <a:lnTo>
                    <a:pt x="2579" y="1472"/>
                  </a:lnTo>
                  <a:lnTo>
                    <a:pt x="2502" y="1414"/>
                  </a:lnTo>
                  <a:lnTo>
                    <a:pt x="2432" y="1356"/>
                  </a:lnTo>
                  <a:lnTo>
                    <a:pt x="2381" y="1305"/>
                  </a:lnTo>
                  <a:lnTo>
                    <a:pt x="2349" y="1267"/>
                  </a:lnTo>
                  <a:lnTo>
                    <a:pt x="2349" y="1267"/>
                  </a:lnTo>
                  <a:lnTo>
                    <a:pt x="2310" y="1203"/>
                  </a:lnTo>
                  <a:lnTo>
                    <a:pt x="2297" y="1177"/>
                  </a:lnTo>
                  <a:lnTo>
                    <a:pt x="2291" y="1152"/>
                  </a:lnTo>
                  <a:lnTo>
                    <a:pt x="2291" y="1126"/>
                  </a:lnTo>
                  <a:lnTo>
                    <a:pt x="2291" y="1107"/>
                  </a:lnTo>
                  <a:lnTo>
                    <a:pt x="2297" y="1081"/>
                  </a:lnTo>
                  <a:lnTo>
                    <a:pt x="2310" y="1062"/>
                  </a:lnTo>
                  <a:lnTo>
                    <a:pt x="2310" y="1062"/>
                  </a:lnTo>
                  <a:lnTo>
                    <a:pt x="2329" y="1036"/>
                  </a:lnTo>
                  <a:lnTo>
                    <a:pt x="2355" y="1024"/>
                  </a:lnTo>
                  <a:lnTo>
                    <a:pt x="2381" y="1011"/>
                  </a:lnTo>
                  <a:lnTo>
                    <a:pt x="2413" y="998"/>
                  </a:lnTo>
                  <a:lnTo>
                    <a:pt x="2477" y="992"/>
                  </a:lnTo>
                  <a:lnTo>
                    <a:pt x="2528" y="992"/>
                  </a:lnTo>
                  <a:lnTo>
                    <a:pt x="2528" y="992"/>
                  </a:lnTo>
                  <a:lnTo>
                    <a:pt x="2547" y="998"/>
                  </a:lnTo>
                  <a:lnTo>
                    <a:pt x="2547" y="998"/>
                  </a:lnTo>
                  <a:lnTo>
                    <a:pt x="2681" y="870"/>
                  </a:lnTo>
                  <a:lnTo>
                    <a:pt x="2681" y="870"/>
                  </a:lnTo>
                  <a:lnTo>
                    <a:pt x="2521" y="870"/>
                  </a:lnTo>
                  <a:lnTo>
                    <a:pt x="2374" y="857"/>
                  </a:lnTo>
                  <a:lnTo>
                    <a:pt x="2304" y="851"/>
                  </a:lnTo>
                  <a:lnTo>
                    <a:pt x="2240" y="838"/>
                  </a:lnTo>
                  <a:lnTo>
                    <a:pt x="2182" y="825"/>
                  </a:lnTo>
                  <a:lnTo>
                    <a:pt x="2137" y="800"/>
                  </a:lnTo>
                  <a:lnTo>
                    <a:pt x="2137" y="800"/>
                  </a:lnTo>
                  <a:lnTo>
                    <a:pt x="1734" y="582"/>
                  </a:lnTo>
                  <a:lnTo>
                    <a:pt x="1280" y="333"/>
                  </a:lnTo>
                  <a:lnTo>
                    <a:pt x="1056" y="217"/>
                  </a:lnTo>
                  <a:lnTo>
                    <a:pt x="851" y="121"/>
                  </a:lnTo>
                  <a:lnTo>
                    <a:pt x="685" y="51"/>
                  </a:lnTo>
                  <a:lnTo>
                    <a:pt x="614" y="25"/>
                  </a:lnTo>
                  <a:lnTo>
                    <a:pt x="557" y="13"/>
                  </a:lnTo>
                  <a:lnTo>
                    <a:pt x="557" y="13"/>
                  </a:lnTo>
                  <a:lnTo>
                    <a:pt x="429" y="0"/>
                  </a:lnTo>
                  <a:lnTo>
                    <a:pt x="320" y="0"/>
                  </a:lnTo>
                  <a:lnTo>
                    <a:pt x="224" y="13"/>
                  </a:lnTo>
                  <a:lnTo>
                    <a:pt x="141" y="32"/>
                  </a:lnTo>
                  <a:lnTo>
                    <a:pt x="83" y="64"/>
                  </a:lnTo>
                  <a:lnTo>
                    <a:pt x="57" y="83"/>
                  </a:lnTo>
                  <a:lnTo>
                    <a:pt x="38" y="109"/>
                  </a:lnTo>
                  <a:lnTo>
                    <a:pt x="19" y="128"/>
                  </a:lnTo>
                  <a:lnTo>
                    <a:pt x="6" y="153"/>
                  </a:lnTo>
                  <a:lnTo>
                    <a:pt x="0" y="17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224"/>
                  </a:lnTo>
                  <a:lnTo>
                    <a:pt x="6" y="249"/>
                  </a:lnTo>
                  <a:lnTo>
                    <a:pt x="19" y="269"/>
                  </a:lnTo>
                  <a:lnTo>
                    <a:pt x="32" y="288"/>
                  </a:lnTo>
                  <a:lnTo>
                    <a:pt x="70" y="326"/>
                  </a:lnTo>
                  <a:lnTo>
                    <a:pt x="121" y="358"/>
                  </a:lnTo>
                  <a:lnTo>
                    <a:pt x="192" y="390"/>
                  </a:lnTo>
                  <a:lnTo>
                    <a:pt x="275" y="409"/>
                  </a:lnTo>
                  <a:lnTo>
                    <a:pt x="371" y="435"/>
                  </a:lnTo>
                  <a:lnTo>
                    <a:pt x="480" y="454"/>
                  </a:lnTo>
                  <a:lnTo>
                    <a:pt x="480" y="454"/>
                  </a:lnTo>
                  <a:lnTo>
                    <a:pt x="633" y="486"/>
                  </a:lnTo>
                  <a:lnTo>
                    <a:pt x="832" y="544"/>
                  </a:lnTo>
                  <a:lnTo>
                    <a:pt x="1069" y="614"/>
                  </a:lnTo>
                  <a:lnTo>
                    <a:pt x="1331" y="710"/>
                  </a:lnTo>
                  <a:lnTo>
                    <a:pt x="1459" y="768"/>
                  </a:lnTo>
                  <a:lnTo>
                    <a:pt x="1587" y="825"/>
                  </a:lnTo>
                  <a:lnTo>
                    <a:pt x="1715" y="889"/>
                  </a:lnTo>
                  <a:lnTo>
                    <a:pt x="1837" y="960"/>
                  </a:lnTo>
                  <a:lnTo>
                    <a:pt x="1945" y="1030"/>
                  </a:lnTo>
                  <a:lnTo>
                    <a:pt x="2048" y="1107"/>
                  </a:lnTo>
                  <a:lnTo>
                    <a:pt x="2137" y="1184"/>
                  </a:lnTo>
                  <a:lnTo>
                    <a:pt x="2214" y="1267"/>
                  </a:lnTo>
                  <a:lnTo>
                    <a:pt x="2214" y="1267"/>
                  </a:lnTo>
                  <a:lnTo>
                    <a:pt x="2297" y="1369"/>
                  </a:lnTo>
                  <a:lnTo>
                    <a:pt x="2374" y="1452"/>
                  </a:lnTo>
                  <a:lnTo>
                    <a:pt x="2451" y="1529"/>
                  </a:lnTo>
                  <a:lnTo>
                    <a:pt x="2528" y="1593"/>
                  </a:lnTo>
                  <a:lnTo>
                    <a:pt x="2605" y="1651"/>
                  </a:lnTo>
                  <a:lnTo>
                    <a:pt x="2688" y="1702"/>
                  </a:lnTo>
                  <a:lnTo>
                    <a:pt x="2777" y="1747"/>
                  </a:lnTo>
                  <a:lnTo>
                    <a:pt x="2873" y="1779"/>
                  </a:lnTo>
                  <a:lnTo>
                    <a:pt x="2873" y="1779"/>
                  </a:lnTo>
                  <a:lnTo>
                    <a:pt x="2982" y="1804"/>
                  </a:lnTo>
                  <a:lnTo>
                    <a:pt x="3091" y="1817"/>
                  </a:lnTo>
                  <a:lnTo>
                    <a:pt x="3206" y="1817"/>
                  </a:lnTo>
                  <a:lnTo>
                    <a:pt x="3315" y="1804"/>
                  </a:lnTo>
                  <a:lnTo>
                    <a:pt x="3424" y="1785"/>
                  </a:lnTo>
                  <a:lnTo>
                    <a:pt x="3533" y="1753"/>
                  </a:lnTo>
                  <a:lnTo>
                    <a:pt x="3629" y="1708"/>
                  </a:lnTo>
                  <a:lnTo>
                    <a:pt x="3712" y="1657"/>
                  </a:lnTo>
                  <a:lnTo>
                    <a:pt x="3712" y="1657"/>
                  </a:lnTo>
                  <a:lnTo>
                    <a:pt x="3782" y="1600"/>
                  </a:lnTo>
                  <a:lnTo>
                    <a:pt x="3840" y="1536"/>
                  </a:lnTo>
                  <a:lnTo>
                    <a:pt x="3878" y="1472"/>
                  </a:lnTo>
                  <a:lnTo>
                    <a:pt x="3891" y="1433"/>
                  </a:lnTo>
                  <a:lnTo>
                    <a:pt x="3904" y="1401"/>
                  </a:lnTo>
                  <a:lnTo>
                    <a:pt x="3910" y="1369"/>
                  </a:lnTo>
                  <a:lnTo>
                    <a:pt x="3910" y="1337"/>
                  </a:lnTo>
                  <a:lnTo>
                    <a:pt x="3904" y="1305"/>
                  </a:lnTo>
                  <a:lnTo>
                    <a:pt x="3891" y="1273"/>
                  </a:lnTo>
                  <a:lnTo>
                    <a:pt x="3878" y="1248"/>
                  </a:lnTo>
                  <a:lnTo>
                    <a:pt x="3859" y="1222"/>
                  </a:lnTo>
                  <a:lnTo>
                    <a:pt x="3833" y="1196"/>
                  </a:lnTo>
                  <a:lnTo>
                    <a:pt x="3808" y="1171"/>
                  </a:lnTo>
                  <a:lnTo>
                    <a:pt x="3808" y="11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59400" y="3030480"/>
              <a:ext cx="2228760" cy="1727280"/>
            </a:xfrm>
            <a:custGeom>
              <a:avLst/>
              <a:gdLst/>
              <a:ahLst/>
              <a:rect l="l" t="t" r="r" b="b"/>
              <a:pathLst>
                <a:path w="1261" h="895">
                  <a:moveTo>
                    <a:pt x="627" y="895"/>
                  </a:moveTo>
                  <a:lnTo>
                    <a:pt x="627" y="895"/>
                  </a:lnTo>
                  <a:lnTo>
                    <a:pt x="704" y="895"/>
                  </a:lnTo>
                  <a:lnTo>
                    <a:pt x="781" y="895"/>
                  </a:lnTo>
                  <a:lnTo>
                    <a:pt x="909" y="883"/>
                  </a:lnTo>
                  <a:lnTo>
                    <a:pt x="1018" y="857"/>
                  </a:lnTo>
                  <a:lnTo>
                    <a:pt x="1107" y="825"/>
                  </a:lnTo>
                  <a:lnTo>
                    <a:pt x="1178" y="787"/>
                  </a:lnTo>
                  <a:lnTo>
                    <a:pt x="1229" y="742"/>
                  </a:lnTo>
                  <a:lnTo>
                    <a:pt x="1242" y="723"/>
                  </a:lnTo>
                  <a:lnTo>
                    <a:pt x="1255" y="697"/>
                  </a:lnTo>
                  <a:lnTo>
                    <a:pt x="1261" y="678"/>
                  </a:lnTo>
                  <a:lnTo>
                    <a:pt x="1261" y="659"/>
                  </a:lnTo>
                  <a:lnTo>
                    <a:pt x="1261" y="659"/>
                  </a:lnTo>
                  <a:lnTo>
                    <a:pt x="1255" y="614"/>
                  </a:lnTo>
                  <a:lnTo>
                    <a:pt x="1242" y="569"/>
                  </a:lnTo>
                  <a:lnTo>
                    <a:pt x="1223" y="518"/>
                  </a:lnTo>
                  <a:lnTo>
                    <a:pt x="1191" y="467"/>
                  </a:lnTo>
                  <a:lnTo>
                    <a:pt x="1127" y="358"/>
                  </a:lnTo>
                  <a:lnTo>
                    <a:pt x="1037" y="255"/>
                  </a:lnTo>
                  <a:lnTo>
                    <a:pt x="947" y="160"/>
                  </a:lnTo>
                  <a:lnTo>
                    <a:pt x="896" y="115"/>
                  </a:lnTo>
                  <a:lnTo>
                    <a:pt x="845" y="76"/>
                  </a:lnTo>
                  <a:lnTo>
                    <a:pt x="800" y="44"/>
                  </a:lnTo>
                  <a:lnTo>
                    <a:pt x="755" y="25"/>
                  </a:lnTo>
                  <a:lnTo>
                    <a:pt x="711" y="6"/>
                  </a:lnTo>
                  <a:lnTo>
                    <a:pt x="666" y="0"/>
                  </a:lnTo>
                  <a:lnTo>
                    <a:pt x="666" y="0"/>
                  </a:lnTo>
                  <a:lnTo>
                    <a:pt x="627" y="0"/>
                  </a:lnTo>
                  <a:lnTo>
                    <a:pt x="583" y="12"/>
                  </a:lnTo>
                  <a:lnTo>
                    <a:pt x="531" y="32"/>
                  </a:lnTo>
                  <a:lnTo>
                    <a:pt x="480" y="51"/>
                  </a:lnTo>
                  <a:lnTo>
                    <a:pt x="384" y="115"/>
                  </a:lnTo>
                  <a:lnTo>
                    <a:pt x="282" y="192"/>
                  </a:lnTo>
                  <a:lnTo>
                    <a:pt x="192" y="275"/>
                  </a:lnTo>
                  <a:lnTo>
                    <a:pt x="109" y="351"/>
                  </a:lnTo>
                  <a:lnTo>
                    <a:pt x="51" y="415"/>
                  </a:lnTo>
                  <a:lnTo>
                    <a:pt x="13" y="460"/>
                  </a:lnTo>
                  <a:lnTo>
                    <a:pt x="13" y="460"/>
                  </a:lnTo>
                  <a:lnTo>
                    <a:pt x="0" y="492"/>
                  </a:lnTo>
                  <a:lnTo>
                    <a:pt x="0" y="524"/>
                  </a:lnTo>
                  <a:lnTo>
                    <a:pt x="0" y="556"/>
                  </a:lnTo>
                  <a:lnTo>
                    <a:pt x="13" y="588"/>
                  </a:lnTo>
                  <a:lnTo>
                    <a:pt x="32" y="627"/>
                  </a:lnTo>
                  <a:lnTo>
                    <a:pt x="64" y="659"/>
                  </a:lnTo>
                  <a:lnTo>
                    <a:pt x="96" y="691"/>
                  </a:lnTo>
                  <a:lnTo>
                    <a:pt x="135" y="729"/>
                  </a:lnTo>
                  <a:lnTo>
                    <a:pt x="186" y="761"/>
                  </a:lnTo>
                  <a:lnTo>
                    <a:pt x="237" y="787"/>
                  </a:lnTo>
                  <a:lnTo>
                    <a:pt x="288" y="819"/>
                  </a:lnTo>
                  <a:lnTo>
                    <a:pt x="352" y="838"/>
                  </a:lnTo>
                  <a:lnTo>
                    <a:pt x="416" y="863"/>
                  </a:lnTo>
                  <a:lnTo>
                    <a:pt x="487" y="876"/>
                  </a:lnTo>
                  <a:lnTo>
                    <a:pt x="557" y="889"/>
                  </a:lnTo>
                  <a:lnTo>
                    <a:pt x="627" y="895"/>
                  </a:lnTo>
                  <a:lnTo>
                    <a:pt x="627" y="895"/>
                  </a:ln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7d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066680" y="3960720"/>
            <a:ext cx="701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For Additional Information Contact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Steven G. Gilbert, PhD, DABT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-mail: smdose@asmalldoseof.org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Web: www.asmalldoseof.org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2009880"/>
            <a:ext cx="78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This presentation is supplement to 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 “</a:t>
            </a: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A Small Dose of Toxicology”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2080" y="76320"/>
            <a:ext cx="841068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Xanthin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5218200" y="4494240"/>
            <a:ext cx="1285920" cy="35568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63560" y="278748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998800" y="2233440"/>
            <a:ext cx="965160" cy="71136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89520" y="2259000"/>
            <a:ext cx="1228680" cy="74628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16400" y="3030480"/>
            <a:ext cx="0" cy="144936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06840" y="3308400"/>
            <a:ext cx="0" cy="115560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19440" y="4489560"/>
            <a:ext cx="1068480" cy="63180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178160" y="4494240"/>
            <a:ext cx="1011240" cy="66672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733560" y="484344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218200" y="2716200"/>
            <a:ext cx="1209600" cy="25416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00440" y="453852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00440" y="240516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85000" y="2716200"/>
            <a:ext cx="812880" cy="96516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885000" y="3681360"/>
            <a:ext cx="812880" cy="109224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808680" y="3681000"/>
            <a:ext cx="660600" cy="86364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643800" y="2080800"/>
            <a:ext cx="0" cy="40644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0440" y="157176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976560" y="5357520"/>
            <a:ext cx="0" cy="40644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27080" y="563868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66520" y="224640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135160" y="4468680"/>
            <a:ext cx="558720" cy="27936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211480" y="4545000"/>
            <a:ext cx="558720" cy="27936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52480" y="4614840"/>
            <a:ext cx="536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52880" y="1789200"/>
            <a:ext cx="0" cy="52056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3900600" y="1775880"/>
            <a:ext cx="0" cy="55908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32120" y="1255680"/>
            <a:ext cx="549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43600" y="3097080"/>
            <a:ext cx="0" cy="127008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09880" y="316080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25720" y="447372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470640" y="295920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2224080" y="2703240"/>
            <a:ext cx="380880" cy="22860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Purin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683240" y="4305240"/>
            <a:ext cx="1285920" cy="35568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28600" y="259884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463840" y="2044440"/>
            <a:ext cx="965160" cy="71100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54560" y="2070000"/>
            <a:ext cx="1228680" cy="74628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81440" y="2841480"/>
            <a:ext cx="0" cy="144936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71880" y="3119400"/>
            <a:ext cx="0" cy="115560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146320" y="4267080"/>
            <a:ext cx="1106640" cy="66528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643200" y="4305240"/>
            <a:ext cx="1011240" cy="66672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600" y="465444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683240" y="2527200"/>
            <a:ext cx="1209600" cy="25416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65480" y="434988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65480" y="221616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50040" y="2527200"/>
            <a:ext cx="812880" cy="96516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350040" y="3492360"/>
            <a:ext cx="812880" cy="109224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6286680" y="3555720"/>
            <a:ext cx="660240" cy="86364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01840" y="175248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2603520" y="2209680"/>
            <a:ext cx="838080" cy="60984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2298600" y="4190760"/>
            <a:ext cx="914400" cy="53316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08640" y="2908440"/>
            <a:ext cx="0" cy="1269720"/>
          </a:xfrm>
          <a:prstGeom prst="line">
            <a:avLst/>
          </a:prstGeom>
          <a:ln w="316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98600" y="298116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89320" y="428472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35680" y="277020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History of Coffe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143000"/>
            <a:ext cx="853416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39760" indent="-1139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Date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  Event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139760" indent="-1139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~850    - Coffee beans discovered - The fable says that an Ethiopian goat or sheepherder noticed that the goats were more alter after eating the wild berries.  He then sampled this new delicacy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139760" indent="-1139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~1100  - First coffee trees and roasting of coffee beans.  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139760" indent="-1139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475  - Constantinople – the world’s first coffee house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139760" indent="-1139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600s - Coffee enters Europe and moves quickly to the Americas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139760" indent="-1139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700s - Coffee house open throughout Europe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139760" indent="-1139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723   - First coffee plants are introduced into the Americas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139760" indent="-1139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822   - First espresso machine is created in France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139760" indent="-1139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938   - First instant coffee invented by the Nestlé company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139760" indent="-1139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971   - Starbucks opens its first location in Seattle, Washington's Pike  Place Market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523880"/>
            <a:ext cx="75438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affeine &amp; Money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7640" y="2328840"/>
            <a:ext cx="7848720" cy="30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The coffee and cola industries owe their wealth to the physiological properties of the drug caffeine.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S.G. Gilbert (2001)</a:t>
            </a:r>
            <a:endParaRPr b="0" lang="en-US" sz="36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History of Tea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5680" y="1143000"/>
            <a:ext cx="791784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Date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  Event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3000 B.C. - Tea discovered in China or introduced form India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350 B.C. - First written description of Tea drinking in China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450 A.D. - Turkish traders bargain for Tea and the Silk road is born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800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- Tea introduced to Japan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450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- Japanese Tea ceremony created and popularized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610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- Dutch bring Tea to Europ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773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- Boston Tea party, rebellion against England’s tea tax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776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- England sends first Opium to China to help pay for tea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835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- First experimental tea plantations in Assam, India. 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908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- Tea bags invented in New York.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523880"/>
            <a:ext cx="75438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History of Chocolat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432080"/>
            <a:ext cx="79246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1600" indent="-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Date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  Event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371600" indent="-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400 B.C.  - Olmec people of Mexico made chocolate drinks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371600" indent="-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250 A.D.  - Mayans of Mexico were cultivating cocoa crops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371600" indent="-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528       - Cocoa was brought to Spain by Hernando Cortés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371600" indent="-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600s     - Chocolate drinks introduced into Europe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371600" indent="-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657       - First English chocolate houses open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371600" indent="-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828       - Screw press that extracted the cocoa butter from the beans  invented in Holland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371600" indent="-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840s     - Chocolate as solid developed</a:t>
            </a: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  <a:p>
            <a:pPr marL="1371600" indent="-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828800"/>
            <a:ext cx="75438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Quote – Lovers of Coffe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7640" y="1752120"/>
            <a:ext cx="7848720" cy="36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d"/>
                </a:solidFill>
                <a:latin typeface="Arial"/>
              </a:rPr>
              <a:t>Coffee</a:t>
            </a:r>
            <a:endParaRPr b="0" lang="en-US" sz="48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Black as hell, strong as death, sweet as love.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Turkish proverb.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Quote – Fear of Coffee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"Often coffee drinkers, finding the drug to be unpleasant, turn to other narcotics, of which opium and alcohol are most common.“</a:t>
            </a: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7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Morphinism and Narcomanias from Other Drugs (1902) by T. D. Crothers, M.D.</a:t>
            </a:r>
            <a:endParaRPr b="0" lang="en-US" sz="2800" spc="-1" strike="noStrike">
              <a:solidFill>
                <a:srgbClr val="00007d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18:37:25Z</dcterms:created>
  <dc:creator>Steven G. Gilbert</dc:creator>
  <dc:description/>
  <dc:language>en-US</dc:language>
  <cp:lastModifiedBy>Steven G. Gilbert</cp:lastModifiedBy>
  <cp:lastPrinted>2000-09-13T16:44:54Z</cp:lastPrinted>
  <dcterms:modified xsi:type="dcterms:W3CDTF">2004-02-16T20:26:35Z</dcterms:modified>
  <cp:revision>164</cp:revision>
  <dc:subject/>
  <dc:title>PowerPoint Presentation</dc:title>
</cp:coreProperties>
</file>