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00360" y="3610440"/>
            <a:ext cx="6480000" cy="340200"/>
          </a:xfrm>
          <a:prstGeom prst="roundRect">
            <a:avLst>
              <a:gd name="adj" fmla="val 4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very simple text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