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2D9-3F0A-4ACD-8C93-AE75E66E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E2C-B76B-4A3B-B85A-AF365345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2E3-10A8-4EAA-B144-910B882B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42E-7BC5-4E9F-A459-4B547284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7F3-9D77-4EF9-ADCE-8A3711A3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775-7ED4-403E-B883-ABD5E746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487-9689-4072-B001-60C77100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AAD-0A83-40AB-BE0C-F519ABD4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56B-254E-4F5F-A439-ACC3B45A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C56-D8C4-401F-8747-456C41FC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19A-B8C7-4E80-9C9F-28829B6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6DB-4088-4093-A383-48DD6B58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A597-6FC4-4EF6-A573-A7ABB209E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2571840"/>
          <a:ext cx="551196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71840"/>
                    <a:ext cx="5511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10922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Pv4 Allocations from RIRs to LIRs/IS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umulativ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1 January 1999 – 31 December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62320" y="1600200"/>
            <a:ext cx="2057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28880" y="833400"/>
          <a:ext cx="7086600" cy="60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833400"/>
                    <a:ext cx="7086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1066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Pv6 Allocations from RIRs to LIRs/IS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umulativ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1 January 1999 – 31 December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6:42:54Z</dcterms:created>
  <dc:creator>administrator</dc:creator>
  <dc:description/>
  <dc:language>en-US</dc:language>
  <cp:lastModifiedBy>administrator</cp:lastModifiedBy>
  <dcterms:modified xsi:type="dcterms:W3CDTF">2004-05-25T06:46:28Z</dcterms:modified>
  <cp:revision>2</cp:revision>
  <dc:subject/>
  <dc:title>Slide 1</dc:title>
</cp:coreProperties>
</file>