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E8A-3432-403D-B60C-29EC077B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39B-8990-4AD2-8E18-81B630C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8AE-2908-4435-A0D7-B93C441E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D2A-B571-4B17-80D3-C4AE2474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EBC-70A9-444B-8979-2BED87F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988-939D-4217-9F6B-16848B4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CA1-E52B-4B88-AEB8-9BEC9FD1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291-00DC-4A0B-97B8-E2136D24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AD9-A259-47FD-8936-5A270493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01A-340A-48C2-BB9B-5E1000D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E3E-BE28-4FE2-97E2-72627F0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EEB-09D0-44A4-99CF-ECC3E14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D4F84-A337-438B-A3DC-3C654017AA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Bug 1156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animation be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ine fli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line fli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2:35:32Z</dcterms:created>
  <dc:creator/>
  <dc:description/>
  <dc:language>en-US</dc:language>
  <cp:lastModifiedBy/>
  <cp:revision>1</cp:revision>
  <dc:subject/>
  <dc:title/>
</cp:coreProperties>
</file>