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CE56-E89D-4AF3-A485-3BFF1084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078E-466E-4B85-AB5C-B6C6E04D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D8B0-C029-48B4-A208-4865C3D9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35D9-E05B-4085-A877-DF6AA76E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EEB8-148B-4898-A01B-9B47A606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C6D3-83F5-4948-9C43-1E5DD744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4B9D-0F6E-43A1-8342-F7FFC2E0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94B2-9887-4A31-B4CA-82EAC589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C03C-BDEE-4CA3-9966-CC3564D1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728A-E23A-4453-988B-3F4F98B6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D6E3-7D03-4E83-AFDC-BEFDAC0E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3409-3BFB-4AC5-8969-85B1ABE2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0437-C2B6-47C6-A65C-691D0C224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43280" y="1652760"/>
          <a:ext cx="5257800" cy="355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1652760"/>
                    <a:ext cx="5257800" cy="35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4T08:38:56Z</dcterms:created>
  <dc:creator>semicond</dc:creator>
  <dc:description/>
  <dc:language>en-US</dc:language>
  <cp:lastModifiedBy>semicond</cp:lastModifiedBy>
  <dcterms:modified xsi:type="dcterms:W3CDTF">2010-12-24T08:39:10Z</dcterms:modified>
  <cp:revision>1</cp:revision>
  <dc:subject/>
  <dc:title>Слайд 1</dc:title>
</cp:coreProperties>
</file>