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8226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02888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26485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028880"/>
            <a:ext cx="26485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028880"/>
            <a:ext cx="26485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028880"/>
            <a:ext cx="8226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8226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4014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028880"/>
            <a:ext cx="4014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226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028880"/>
            <a:ext cx="4014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4014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02888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2888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028880"/>
            <a:ext cx="4014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680" y="6472080"/>
            <a:ext cx="961920" cy="38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11678" t="6723" r="5839" b="13446"/>
          <a:stretch/>
        </p:blipFill>
        <p:spPr>
          <a:xfrm>
            <a:off x="8548560" y="63360"/>
            <a:ext cx="586080" cy="49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22636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028880"/>
            <a:ext cx="822636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645080" y="2490840"/>
            <a:ext cx="4111560" cy="4147920"/>
          </a:xfrm>
          <a:custGeom>
            <a:avLst/>
            <a:gdLst/>
            <a:ahLst/>
            <a:rect l="l" t="t" r="r" b="b"/>
            <a:pathLst>
              <a:path w="11421" h="11523">
                <a:moveTo>
                  <a:pt x="5710" y="0"/>
                </a:moveTo>
                <a:cubicBezTo>
                  <a:pt x="8948" y="0"/>
                  <a:pt x="11420" y="2493"/>
                  <a:pt x="11420" y="5760"/>
                </a:cubicBezTo>
                <a:cubicBezTo>
                  <a:pt x="11420" y="9027"/>
                  <a:pt x="8948" y="11522"/>
                  <a:pt x="5710" y="11522"/>
                </a:cubicBezTo>
                <a:cubicBezTo>
                  <a:pt x="2472" y="11522"/>
                  <a:pt x="0" y="9027"/>
                  <a:pt x="0" y="5760"/>
                </a:cubicBezTo>
                <a:cubicBezTo>
                  <a:pt x="0" y="2493"/>
                  <a:pt x="2472" y="0"/>
                  <a:pt x="5710" y="0"/>
                </a:cubicBezTo>
                <a:close/>
                <a:moveTo>
                  <a:pt x="5709" y="703"/>
                </a:moveTo>
                <a:cubicBezTo>
                  <a:pt x="8551" y="703"/>
                  <a:pt x="10722" y="2893"/>
                  <a:pt x="10722" y="5760"/>
                </a:cubicBezTo>
                <a:cubicBezTo>
                  <a:pt x="10722" y="8627"/>
                  <a:pt x="8551" y="10817"/>
                  <a:pt x="5709" y="10817"/>
                </a:cubicBezTo>
                <a:cubicBezTo>
                  <a:pt x="2867" y="10817"/>
                  <a:pt x="697" y="8627"/>
                  <a:pt x="697" y="5760"/>
                </a:cubicBezTo>
                <a:cubicBezTo>
                  <a:pt x="697" y="2893"/>
                  <a:pt x="2867" y="703"/>
                  <a:pt x="5709" y="703"/>
                </a:cubicBezTo>
                <a:close/>
              </a:path>
            </a:pathLst>
          </a:custGeom>
          <a:noFill/>
          <a:ln w="19080">
            <a:solidFill>
              <a:srgbClr val="f0e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759200" y="2490840"/>
            <a:ext cx="3916440" cy="3878280"/>
          </a:xfrm>
          <a:prstGeom prst="ellipse">
            <a:avLst/>
          </a:prstGeom>
          <a:noFill/>
          <a:ln w="25560">
            <a:solidFill>
              <a:srgbClr val="ff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438280"/>
            <a:ext cx="1152360" cy="115920"/>
          </a:xfrm>
          <a:prstGeom prst="roundRect">
            <a:avLst>
              <a:gd name="adj" fmla="val 1389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2514600"/>
            <a:ext cx="1112760" cy="144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057400"/>
            <a:ext cx="1114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imes New Roman"/>
                <a:ea typeface="SimSun"/>
              </a:rPr>
              <a:t>In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615000" y="4025880"/>
            <a:ext cx="1754640" cy="1238400"/>
            <a:chOff x="6615000" y="4025880"/>
            <a:chExt cx="1754640" cy="1238400"/>
          </a:xfrm>
        </p:grpSpPr>
        <p:sp>
          <p:nvSpPr>
            <p:cNvPr id="46" name=""/>
            <p:cNvSpPr/>
            <p:nvPr/>
          </p:nvSpPr>
          <p:spPr>
            <a:xfrm>
              <a:off x="7635960" y="4390920"/>
              <a:ext cx="726840" cy="106560"/>
            </a:xfrm>
            <a:prstGeom prst="roundRect">
              <a:avLst>
                <a:gd name="adj" fmla="val 15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600000">
              <a:off x="7640640" y="4671720"/>
              <a:ext cx="725400" cy="106200"/>
            </a:xfrm>
            <a:prstGeom prst="roundRect">
              <a:avLst>
                <a:gd name="adj" fmla="val 151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760000">
              <a:off x="7597800" y="4111200"/>
              <a:ext cx="722160" cy="106560"/>
            </a:xfrm>
            <a:prstGeom prst="roundRect">
              <a:avLst>
                <a:gd name="adj" fmla="val 151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615000" y="4464000"/>
              <a:ext cx="1249920" cy="800280"/>
              <a:chOff x="6615000" y="4464000"/>
              <a:chExt cx="1249920" cy="800280"/>
            </a:xfrm>
          </p:grpSpPr>
          <p:sp>
            <p:nvSpPr>
              <p:cNvPr id="50" name=""/>
              <p:cNvSpPr/>
              <p:nvPr/>
            </p:nvSpPr>
            <p:spPr>
              <a:xfrm>
                <a:off x="6718320" y="4464000"/>
                <a:ext cx="1044720" cy="58896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15000" y="4464000"/>
                <a:ext cx="1249920" cy="80028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  <a:ea typeface="SimSun"/>
                  </a:rPr>
                  <a:t>Kicker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  <a:ea typeface="SimSun"/>
                  </a:rPr>
                  <a:t>Mod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6794640" y="2516040"/>
            <a:ext cx="1882800" cy="2001960"/>
            <a:chOff x="6794640" y="2516040"/>
            <a:chExt cx="1882800" cy="2001960"/>
          </a:xfrm>
        </p:grpSpPr>
        <p:sp>
          <p:nvSpPr>
            <p:cNvPr id="53" name=""/>
            <p:cNvSpPr/>
            <p:nvPr/>
          </p:nvSpPr>
          <p:spPr>
            <a:xfrm>
              <a:off x="6794640" y="2516040"/>
              <a:ext cx="1882800" cy="1992600"/>
            </a:xfrm>
            <a:custGeom>
              <a:avLst/>
              <a:gdLst>
                <a:gd name="textAreaLeft" fmla="*/ 360 w 1882800"/>
                <a:gd name="textAreaRight" fmla="*/ 1882440 w 1882800"/>
                <a:gd name="textAreaTop" fmla="*/ 360 h 1992600"/>
                <a:gd name="textAreaBottom" fmla="*/ 1992240 h 1992600"/>
              </a:gdLst>
              <a:ahLst/>
              <a:rect l="textAreaLeft" t="textAreaTop" r="textAreaRight" b="textAreaBottom"/>
              <a:pathLst>
                <a:path w="21600" h="22859">
                  <a:moveTo>
                    <a:pt x="18" y="0"/>
                  </a:moveTo>
                  <a:arcTo wR="18" hR="18" stAng="16200000" swAng="-5400000"/>
                  <a:lnTo>
                    <a:pt x="0" y="22841"/>
                  </a:lnTo>
                  <a:arcTo wR="18" hR="18" stAng="10800000" swAng="-5400000"/>
                  <a:lnTo>
                    <a:pt x="21582" y="22859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16600" y="2516040"/>
              <a:ext cx="1860840" cy="2001960"/>
            </a:xfrm>
            <a:custGeom>
              <a:avLst/>
              <a:gdLst/>
              <a:ahLst/>
              <a:rect l="l" t="t" r="r" b="b"/>
              <a:pathLst>
                <a:path w="5170" h="5562">
                  <a:moveTo>
                    <a:pt x="5168" y="5561"/>
                  </a:moveTo>
                  <a:lnTo>
                    <a:pt x="5169" y="5424"/>
                  </a:lnTo>
                  <a:lnTo>
                    <a:pt x="5167" y="5288"/>
                  </a:lnTo>
                  <a:lnTo>
                    <a:pt x="5161" y="5152"/>
                  </a:lnTo>
                  <a:lnTo>
                    <a:pt x="5153" y="5015"/>
                  </a:lnTo>
                  <a:lnTo>
                    <a:pt x="5141" y="4880"/>
                  </a:lnTo>
                  <a:lnTo>
                    <a:pt x="5126" y="4745"/>
                  </a:lnTo>
                  <a:lnTo>
                    <a:pt x="5108" y="4610"/>
                  </a:lnTo>
                  <a:lnTo>
                    <a:pt x="5086" y="4476"/>
                  </a:lnTo>
                  <a:lnTo>
                    <a:pt x="5062" y="4341"/>
                  </a:lnTo>
                  <a:lnTo>
                    <a:pt x="5034" y="4208"/>
                  </a:lnTo>
                  <a:lnTo>
                    <a:pt x="5003" y="4076"/>
                  </a:lnTo>
                  <a:lnTo>
                    <a:pt x="4969" y="3944"/>
                  </a:lnTo>
                  <a:lnTo>
                    <a:pt x="4932" y="3814"/>
                  </a:lnTo>
                  <a:lnTo>
                    <a:pt x="4892" y="3684"/>
                  </a:lnTo>
                  <a:lnTo>
                    <a:pt x="4849" y="3556"/>
                  </a:lnTo>
                  <a:lnTo>
                    <a:pt x="4803" y="3429"/>
                  </a:lnTo>
                  <a:lnTo>
                    <a:pt x="4754" y="3303"/>
                  </a:lnTo>
                  <a:lnTo>
                    <a:pt x="4702" y="3178"/>
                  </a:lnTo>
                  <a:lnTo>
                    <a:pt x="4647" y="3055"/>
                  </a:lnTo>
                  <a:lnTo>
                    <a:pt x="4590" y="2933"/>
                  </a:lnTo>
                  <a:lnTo>
                    <a:pt x="4529" y="2813"/>
                  </a:lnTo>
                  <a:lnTo>
                    <a:pt x="4467" y="2694"/>
                  </a:lnTo>
                  <a:lnTo>
                    <a:pt x="4400" y="2577"/>
                  </a:lnTo>
                  <a:lnTo>
                    <a:pt x="4331" y="2462"/>
                  </a:lnTo>
                  <a:lnTo>
                    <a:pt x="4260" y="2349"/>
                  </a:lnTo>
                  <a:lnTo>
                    <a:pt x="4186" y="2237"/>
                  </a:lnTo>
                  <a:lnTo>
                    <a:pt x="4109" y="2129"/>
                  </a:lnTo>
                  <a:lnTo>
                    <a:pt x="4030" y="2022"/>
                  </a:lnTo>
                  <a:lnTo>
                    <a:pt x="3948" y="1916"/>
                  </a:lnTo>
                  <a:lnTo>
                    <a:pt x="3863" y="1814"/>
                  </a:lnTo>
                  <a:lnTo>
                    <a:pt x="3777" y="1714"/>
                  </a:lnTo>
                  <a:lnTo>
                    <a:pt x="3688" y="1615"/>
                  </a:lnTo>
                  <a:lnTo>
                    <a:pt x="3597" y="1520"/>
                  </a:lnTo>
                  <a:lnTo>
                    <a:pt x="3503" y="1426"/>
                  </a:lnTo>
                  <a:lnTo>
                    <a:pt x="3407" y="1336"/>
                  </a:lnTo>
                  <a:lnTo>
                    <a:pt x="3310" y="1247"/>
                  </a:lnTo>
                  <a:lnTo>
                    <a:pt x="3210" y="1162"/>
                  </a:lnTo>
                  <a:lnTo>
                    <a:pt x="3109" y="1079"/>
                  </a:lnTo>
                  <a:lnTo>
                    <a:pt x="3005" y="999"/>
                  </a:lnTo>
                  <a:lnTo>
                    <a:pt x="2900" y="922"/>
                  </a:lnTo>
                  <a:lnTo>
                    <a:pt x="2793" y="848"/>
                  </a:lnTo>
                  <a:lnTo>
                    <a:pt x="2684" y="776"/>
                  </a:lnTo>
                  <a:lnTo>
                    <a:pt x="2573" y="708"/>
                  </a:lnTo>
                  <a:lnTo>
                    <a:pt x="2461" y="642"/>
                  </a:lnTo>
                  <a:lnTo>
                    <a:pt x="2347" y="579"/>
                  </a:lnTo>
                  <a:lnTo>
                    <a:pt x="2232" y="520"/>
                  </a:lnTo>
                  <a:lnTo>
                    <a:pt x="2115" y="463"/>
                  </a:lnTo>
                  <a:lnTo>
                    <a:pt x="1997" y="409"/>
                  </a:lnTo>
                  <a:lnTo>
                    <a:pt x="1879" y="359"/>
                  </a:lnTo>
                  <a:lnTo>
                    <a:pt x="1759" y="312"/>
                  </a:lnTo>
                  <a:lnTo>
                    <a:pt x="1638" y="268"/>
                  </a:lnTo>
                  <a:lnTo>
                    <a:pt x="1515" y="228"/>
                  </a:lnTo>
                  <a:lnTo>
                    <a:pt x="1392" y="190"/>
                  </a:lnTo>
                  <a:lnTo>
                    <a:pt x="1268" y="156"/>
                  </a:lnTo>
                  <a:lnTo>
                    <a:pt x="1143" y="125"/>
                  </a:lnTo>
                  <a:lnTo>
                    <a:pt x="1018" y="98"/>
                  </a:lnTo>
                  <a:lnTo>
                    <a:pt x="892" y="74"/>
                  </a:lnTo>
                  <a:lnTo>
                    <a:pt x="765" y="54"/>
                  </a:lnTo>
                  <a:lnTo>
                    <a:pt x="638" y="36"/>
                  </a:lnTo>
                  <a:lnTo>
                    <a:pt x="512" y="22"/>
                  </a:lnTo>
                  <a:lnTo>
                    <a:pt x="384" y="12"/>
                  </a:lnTo>
                  <a:lnTo>
                    <a:pt x="256" y="4"/>
                  </a:lnTo>
                  <a:lnTo>
                    <a:pt x="128" y="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66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759200" y="2604960"/>
            <a:ext cx="3917880" cy="3919680"/>
            <a:chOff x="4759200" y="2604960"/>
            <a:chExt cx="3917880" cy="3919680"/>
          </a:xfrm>
        </p:grpSpPr>
        <p:sp>
          <p:nvSpPr>
            <p:cNvPr id="56" name=""/>
            <p:cNvSpPr/>
            <p:nvPr/>
          </p:nvSpPr>
          <p:spPr>
            <a:xfrm rot="10800000">
              <a:off x="4760640" y="2611440"/>
              <a:ext cx="3916440" cy="391320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0" y="2604960"/>
              <a:ext cx="3916440" cy="3913200"/>
            </a:xfrm>
            <a:custGeom>
              <a:avLst/>
              <a:gdLst/>
              <a:ahLst/>
              <a:rect l="l" t="t" r="r" b="b"/>
              <a:pathLst>
                <a:path w="10880" h="10871">
                  <a:moveTo>
                    <a:pt x="6412" y="88"/>
                  </a:moveTo>
                  <a:lnTo>
                    <a:pt x="6280" y="65"/>
                  </a:lnTo>
                  <a:lnTo>
                    <a:pt x="6146" y="46"/>
                  </a:lnTo>
                  <a:lnTo>
                    <a:pt x="6012" y="30"/>
                  </a:lnTo>
                  <a:lnTo>
                    <a:pt x="5878" y="18"/>
                  </a:lnTo>
                  <a:lnTo>
                    <a:pt x="5744" y="9"/>
                  </a:lnTo>
                  <a:lnTo>
                    <a:pt x="5609" y="3"/>
                  </a:lnTo>
                  <a:lnTo>
                    <a:pt x="5474" y="0"/>
                  </a:lnTo>
                  <a:lnTo>
                    <a:pt x="5341" y="1"/>
                  </a:lnTo>
                  <a:lnTo>
                    <a:pt x="5206" y="5"/>
                  </a:lnTo>
                  <a:lnTo>
                    <a:pt x="5071" y="12"/>
                  </a:lnTo>
                  <a:lnTo>
                    <a:pt x="4937" y="23"/>
                  </a:lnTo>
                  <a:lnTo>
                    <a:pt x="4803" y="37"/>
                  </a:lnTo>
                  <a:lnTo>
                    <a:pt x="4669" y="55"/>
                  </a:lnTo>
                  <a:lnTo>
                    <a:pt x="4536" y="76"/>
                  </a:lnTo>
                  <a:lnTo>
                    <a:pt x="4404" y="100"/>
                  </a:lnTo>
                  <a:lnTo>
                    <a:pt x="4272" y="127"/>
                  </a:lnTo>
                  <a:lnTo>
                    <a:pt x="4140" y="157"/>
                  </a:lnTo>
                  <a:lnTo>
                    <a:pt x="4010" y="191"/>
                  </a:lnTo>
                  <a:lnTo>
                    <a:pt x="3880" y="228"/>
                  </a:lnTo>
                  <a:lnTo>
                    <a:pt x="3752" y="268"/>
                  </a:lnTo>
                  <a:lnTo>
                    <a:pt x="3624" y="312"/>
                  </a:lnTo>
                  <a:lnTo>
                    <a:pt x="3498" y="358"/>
                  </a:lnTo>
                  <a:lnTo>
                    <a:pt x="3372" y="408"/>
                  </a:lnTo>
                  <a:lnTo>
                    <a:pt x="3249" y="461"/>
                  </a:lnTo>
                  <a:lnTo>
                    <a:pt x="3127" y="516"/>
                  </a:lnTo>
                  <a:lnTo>
                    <a:pt x="3006" y="575"/>
                  </a:lnTo>
                  <a:lnTo>
                    <a:pt x="2886" y="637"/>
                  </a:lnTo>
                  <a:lnTo>
                    <a:pt x="2768" y="701"/>
                  </a:lnTo>
                  <a:lnTo>
                    <a:pt x="2651" y="768"/>
                  </a:lnTo>
                  <a:lnTo>
                    <a:pt x="2536" y="839"/>
                  </a:lnTo>
                  <a:lnTo>
                    <a:pt x="2423" y="912"/>
                  </a:lnTo>
                  <a:lnTo>
                    <a:pt x="2312" y="988"/>
                  </a:lnTo>
                  <a:lnTo>
                    <a:pt x="2203" y="1067"/>
                  </a:lnTo>
                  <a:lnTo>
                    <a:pt x="2095" y="1148"/>
                  </a:lnTo>
                  <a:lnTo>
                    <a:pt x="1990" y="1232"/>
                  </a:lnTo>
                  <a:lnTo>
                    <a:pt x="1887" y="1319"/>
                  </a:lnTo>
                  <a:lnTo>
                    <a:pt x="1786" y="1408"/>
                  </a:lnTo>
                  <a:lnTo>
                    <a:pt x="1687" y="1500"/>
                  </a:lnTo>
                  <a:lnTo>
                    <a:pt x="1591" y="1594"/>
                  </a:lnTo>
                  <a:lnTo>
                    <a:pt x="1497" y="1691"/>
                  </a:lnTo>
                  <a:lnTo>
                    <a:pt x="1405" y="1789"/>
                  </a:lnTo>
                  <a:lnTo>
                    <a:pt x="1316" y="1890"/>
                  </a:lnTo>
                  <a:lnTo>
                    <a:pt x="1229" y="1994"/>
                  </a:lnTo>
                  <a:lnTo>
                    <a:pt x="1145" y="2098"/>
                  </a:lnTo>
                  <a:lnTo>
                    <a:pt x="1065" y="2205"/>
                  </a:lnTo>
                  <a:lnTo>
                    <a:pt x="986" y="2314"/>
                  </a:lnTo>
                  <a:lnTo>
                    <a:pt x="910" y="2426"/>
                  </a:lnTo>
                  <a:lnTo>
                    <a:pt x="837" y="2539"/>
                  </a:lnTo>
                  <a:lnTo>
                    <a:pt x="767" y="2654"/>
                  </a:lnTo>
                  <a:lnTo>
                    <a:pt x="699" y="2770"/>
                  </a:lnTo>
                  <a:lnTo>
                    <a:pt x="634" y="2888"/>
                  </a:lnTo>
                  <a:lnTo>
                    <a:pt x="573" y="3008"/>
                  </a:lnTo>
                  <a:lnTo>
                    <a:pt x="514" y="3129"/>
                  </a:lnTo>
                  <a:lnTo>
                    <a:pt x="458" y="3252"/>
                  </a:lnTo>
                  <a:lnTo>
                    <a:pt x="406" y="3376"/>
                  </a:lnTo>
                  <a:lnTo>
                    <a:pt x="356" y="3500"/>
                  </a:lnTo>
                  <a:lnTo>
                    <a:pt x="310" y="3627"/>
                  </a:lnTo>
                  <a:lnTo>
                    <a:pt x="267" y="3754"/>
                  </a:lnTo>
                  <a:lnTo>
                    <a:pt x="227" y="3883"/>
                  </a:lnTo>
                  <a:lnTo>
                    <a:pt x="190" y="4012"/>
                  </a:lnTo>
                  <a:lnTo>
                    <a:pt x="156" y="4143"/>
                  </a:lnTo>
                  <a:lnTo>
                    <a:pt x="126" y="4274"/>
                  </a:lnTo>
                  <a:lnTo>
                    <a:pt x="98" y="4406"/>
                  </a:lnTo>
                  <a:lnTo>
                    <a:pt x="75" y="4539"/>
                  </a:lnTo>
                  <a:lnTo>
                    <a:pt x="54" y="4672"/>
                  </a:lnTo>
                  <a:lnTo>
                    <a:pt x="37" y="4804"/>
                  </a:lnTo>
                  <a:lnTo>
                    <a:pt x="23" y="4938"/>
                  </a:lnTo>
                  <a:lnTo>
                    <a:pt x="12" y="5072"/>
                  </a:lnTo>
                  <a:lnTo>
                    <a:pt x="5" y="5207"/>
                  </a:lnTo>
                  <a:lnTo>
                    <a:pt x="1" y="5342"/>
                  </a:lnTo>
                  <a:lnTo>
                    <a:pt x="0" y="5476"/>
                  </a:lnTo>
                  <a:lnTo>
                    <a:pt x="3" y="5611"/>
                  </a:lnTo>
                  <a:lnTo>
                    <a:pt x="9" y="5745"/>
                  </a:lnTo>
                  <a:lnTo>
                    <a:pt x="18" y="5880"/>
                  </a:lnTo>
                  <a:lnTo>
                    <a:pt x="31" y="6014"/>
                  </a:lnTo>
                  <a:lnTo>
                    <a:pt x="47" y="6147"/>
                  </a:lnTo>
                  <a:lnTo>
                    <a:pt x="66" y="6280"/>
                  </a:lnTo>
                  <a:lnTo>
                    <a:pt x="89" y="6413"/>
                  </a:lnTo>
                  <a:lnTo>
                    <a:pt x="115" y="6545"/>
                  </a:lnTo>
                  <a:lnTo>
                    <a:pt x="144" y="6676"/>
                  </a:lnTo>
                  <a:lnTo>
                    <a:pt x="176" y="6807"/>
                  </a:lnTo>
                  <a:lnTo>
                    <a:pt x="212" y="6937"/>
                  </a:lnTo>
                  <a:lnTo>
                    <a:pt x="251" y="7066"/>
                  </a:lnTo>
                  <a:lnTo>
                    <a:pt x="293" y="7194"/>
                  </a:lnTo>
                  <a:lnTo>
                    <a:pt x="338" y="7321"/>
                  </a:lnTo>
                  <a:lnTo>
                    <a:pt x="386" y="7447"/>
                  </a:lnTo>
                  <a:lnTo>
                    <a:pt x="438" y="7570"/>
                  </a:lnTo>
                  <a:lnTo>
                    <a:pt x="492" y="7693"/>
                  </a:lnTo>
                  <a:lnTo>
                    <a:pt x="550" y="7815"/>
                  </a:lnTo>
                  <a:lnTo>
                    <a:pt x="610" y="7935"/>
                  </a:lnTo>
                  <a:lnTo>
                    <a:pt x="674" y="8054"/>
                  </a:lnTo>
                  <a:lnTo>
                    <a:pt x="740" y="8171"/>
                  </a:lnTo>
                  <a:lnTo>
                    <a:pt x="809" y="8287"/>
                  </a:lnTo>
                  <a:lnTo>
                    <a:pt x="882" y="8401"/>
                  </a:lnTo>
                  <a:lnTo>
                    <a:pt x="956" y="8513"/>
                  </a:lnTo>
                  <a:lnTo>
                    <a:pt x="1034" y="8623"/>
                  </a:lnTo>
                  <a:lnTo>
                    <a:pt x="1113" y="8731"/>
                  </a:lnTo>
                  <a:lnTo>
                    <a:pt x="1197" y="8837"/>
                  </a:lnTo>
                  <a:lnTo>
                    <a:pt x="1282" y="8940"/>
                  </a:lnTo>
                  <a:lnTo>
                    <a:pt x="1370" y="9042"/>
                  </a:lnTo>
                  <a:lnTo>
                    <a:pt x="1461" y="9141"/>
                  </a:lnTo>
                  <a:lnTo>
                    <a:pt x="1554" y="9239"/>
                  </a:lnTo>
                  <a:lnTo>
                    <a:pt x="1650" y="9334"/>
                  </a:lnTo>
                  <a:lnTo>
                    <a:pt x="1747" y="9426"/>
                  </a:lnTo>
                  <a:lnTo>
                    <a:pt x="1848" y="9517"/>
                  </a:lnTo>
                  <a:lnTo>
                    <a:pt x="1950" y="9604"/>
                  </a:lnTo>
                  <a:lnTo>
                    <a:pt x="2054" y="9689"/>
                  </a:lnTo>
                  <a:lnTo>
                    <a:pt x="2161" y="9772"/>
                  </a:lnTo>
                  <a:lnTo>
                    <a:pt x="2269" y="9852"/>
                  </a:lnTo>
                  <a:lnTo>
                    <a:pt x="2380" y="9929"/>
                  </a:lnTo>
                  <a:lnTo>
                    <a:pt x="2492" y="10003"/>
                  </a:lnTo>
                  <a:lnTo>
                    <a:pt x="2606" y="10075"/>
                  </a:lnTo>
                  <a:lnTo>
                    <a:pt x="2722" y="10144"/>
                  </a:lnTo>
                  <a:lnTo>
                    <a:pt x="2840" y="10208"/>
                  </a:lnTo>
                  <a:lnTo>
                    <a:pt x="2959" y="10271"/>
                  </a:lnTo>
                  <a:lnTo>
                    <a:pt x="3080" y="10331"/>
                  </a:lnTo>
                  <a:lnTo>
                    <a:pt x="3202" y="10388"/>
                  </a:lnTo>
                  <a:lnTo>
                    <a:pt x="3324" y="10442"/>
                  </a:lnTo>
                  <a:lnTo>
                    <a:pt x="3449" y="10493"/>
                  </a:lnTo>
                  <a:lnTo>
                    <a:pt x="3575" y="10541"/>
                  </a:lnTo>
                  <a:lnTo>
                    <a:pt x="3702" y="10585"/>
                  </a:lnTo>
                  <a:lnTo>
                    <a:pt x="3830" y="10627"/>
                  </a:lnTo>
                  <a:lnTo>
                    <a:pt x="3960" y="10665"/>
                  </a:lnTo>
                  <a:lnTo>
                    <a:pt x="4090" y="10700"/>
                  </a:lnTo>
                  <a:lnTo>
                    <a:pt x="4221" y="10732"/>
                  </a:lnTo>
                  <a:lnTo>
                    <a:pt x="4352" y="10760"/>
                  </a:lnTo>
                  <a:lnTo>
                    <a:pt x="4485" y="10786"/>
                  </a:lnTo>
                  <a:lnTo>
                    <a:pt x="4618" y="10808"/>
                  </a:lnTo>
                  <a:lnTo>
                    <a:pt x="4751" y="10826"/>
                  </a:lnTo>
                  <a:lnTo>
                    <a:pt x="4885" y="10842"/>
                  </a:lnTo>
                  <a:lnTo>
                    <a:pt x="5019" y="10854"/>
                  </a:lnTo>
                  <a:lnTo>
                    <a:pt x="5154" y="10862"/>
                  </a:lnTo>
                  <a:lnTo>
                    <a:pt x="5288" y="10868"/>
                  </a:lnTo>
                  <a:lnTo>
                    <a:pt x="5423" y="10870"/>
                  </a:lnTo>
                  <a:lnTo>
                    <a:pt x="5557" y="10869"/>
                  </a:lnTo>
                  <a:lnTo>
                    <a:pt x="5692" y="10864"/>
                  </a:lnTo>
                  <a:lnTo>
                    <a:pt x="5826" y="10856"/>
                  </a:lnTo>
                  <a:lnTo>
                    <a:pt x="5960" y="10845"/>
                  </a:lnTo>
                  <a:lnTo>
                    <a:pt x="6094" y="10830"/>
                  </a:lnTo>
                  <a:lnTo>
                    <a:pt x="6228" y="10813"/>
                  </a:lnTo>
                  <a:lnTo>
                    <a:pt x="6361" y="10791"/>
                  </a:lnTo>
                  <a:lnTo>
                    <a:pt x="6494" y="10767"/>
                  </a:lnTo>
                  <a:lnTo>
                    <a:pt x="6625" y="10739"/>
                  </a:lnTo>
                  <a:lnTo>
                    <a:pt x="6757" y="10708"/>
                  </a:lnTo>
                  <a:lnTo>
                    <a:pt x="6887" y="10674"/>
                  </a:lnTo>
                  <a:lnTo>
                    <a:pt x="7016" y="10637"/>
                  </a:lnTo>
                  <a:lnTo>
                    <a:pt x="7145" y="10596"/>
                  </a:lnTo>
                  <a:lnTo>
                    <a:pt x="7272" y="10552"/>
                  </a:lnTo>
                  <a:lnTo>
                    <a:pt x="7399" y="10505"/>
                  </a:lnTo>
                  <a:lnTo>
                    <a:pt x="7524" y="10455"/>
                  </a:lnTo>
                  <a:lnTo>
                    <a:pt x="7647" y="10402"/>
                  </a:lnTo>
                  <a:lnTo>
                    <a:pt x="7769" y="10346"/>
                  </a:lnTo>
                  <a:lnTo>
                    <a:pt x="7890" y="10287"/>
                  </a:lnTo>
                  <a:lnTo>
                    <a:pt x="8010" y="10224"/>
                  </a:lnTo>
                  <a:lnTo>
                    <a:pt x="8128" y="10160"/>
                  </a:lnTo>
                  <a:lnTo>
                    <a:pt x="8244" y="10092"/>
                  </a:lnTo>
                  <a:lnTo>
                    <a:pt x="8359" y="10021"/>
                  </a:lnTo>
                  <a:lnTo>
                    <a:pt x="8471" y="9948"/>
                  </a:lnTo>
                  <a:lnTo>
                    <a:pt x="8582" y="9871"/>
                  </a:lnTo>
                  <a:lnTo>
                    <a:pt x="8691" y="9792"/>
                  </a:lnTo>
                  <a:lnTo>
                    <a:pt x="8798" y="9710"/>
                  </a:lnTo>
                  <a:lnTo>
                    <a:pt x="8903" y="9626"/>
                  </a:lnTo>
                  <a:lnTo>
                    <a:pt x="9006" y="9539"/>
                  </a:lnTo>
                  <a:lnTo>
                    <a:pt x="9107" y="9449"/>
                  </a:lnTo>
                  <a:lnTo>
                    <a:pt x="9205" y="9357"/>
                  </a:lnTo>
                  <a:lnTo>
                    <a:pt x="9301" y="9263"/>
                  </a:lnTo>
                  <a:lnTo>
                    <a:pt x="9395" y="9166"/>
                  </a:lnTo>
                  <a:lnTo>
                    <a:pt x="9486" y="9067"/>
                  </a:lnTo>
                  <a:lnTo>
                    <a:pt x="9575" y="8966"/>
                  </a:lnTo>
                  <a:lnTo>
                    <a:pt x="9661" y="8862"/>
                  </a:lnTo>
                  <a:lnTo>
                    <a:pt x="9745" y="8758"/>
                  </a:lnTo>
                  <a:lnTo>
                    <a:pt x="9825" y="8650"/>
                  </a:lnTo>
                  <a:lnTo>
                    <a:pt x="9903" y="8540"/>
                  </a:lnTo>
                  <a:lnTo>
                    <a:pt x="9979" y="8429"/>
                  </a:lnTo>
                  <a:lnTo>
                    <a:pt x="10052" y="8316"/>
                  </a:lnTo>
                  <a:lnTo>
                    <a:pt x="10122" y="8200"/>
                  </a:lnTo>
                  <a:lnTo>
                    <a:pt x="10189" y="8084"/>
                  </a:lnTo>
                  <a:lnTo>
                    <a:pt x="10253" y="7965"/>
                  </a:lnTo>
                  <a:lnTo>
                    <a:pt x="10315" y="7845"/>
                  </a:lnTo>
                  <a:lnTo>
                    <a:pt x="10373" y="7724"/>
                  </a:lnTo>
                  <a:lnTo>
                    <a:pt x="10428" y="7601"/>
                  </a:lnTo>
                  <a:lnTo>
                    <a:pt x="10480" y="7478"/>
                  </a:lnTo>
                  <a:lnTo>
                    <a:pt x="10529" y="7352"/>
                  </a:lnTo>
                  <a:lnTo>
                    <a:pt x="10575" y="7226"/>
                  </a:lnTo>
                  <a:lnTo>
                    <a:pt x="10618" y="7098"/>
                  </a:lnTo>
                  <a:lnTo>
                    <a:pt x="10658" y="6969"/>
                  </a:lnTo>
                  <a:lnTo>
                    <a:pt x="10694" y="6840"/>
                  </a:lnTo>
                  <a:lnTo>
                    <a:pt x="10727" y="6709"/>
                  </a:lnTo>
                  <a:lnTo>
                    <a:pt x="10757" y="6578"/>
                  </a:lnTo>
                  <a:lnTo>
                    <a:pt x="10784" y="6446"/>
                  </a:lnTo>
                  <a:lnTo>
                    <a:pt x="10807" y="6313"/>
                  </a:lnTo>
                  <a:lnTo>
                    <a:pt x="10828" y="6180"/>
                  </a:lnTo>
                  <a:lnTo>
                    <a:pt x="10844" y="6047"/>
                  </a:lnTo>
                  <a:lnTo>
                    <a:pt x="10858" y="5913"/>
                  </a:lnTo>
                  <a:lnTo>
                    <a:pt x="10868" y="5779"/>
                  </a:lnTo>
                  <a:lnTo>
                    <a:pt x="10875" y="5644"/>
                  </a:lnTo>
                  <a:lnTo>
                    <a:pt x="10878" y="5510"/>
                  </a:lnTo>
                  <a:lnTo>
                    <a:pt x="10879" y="5375"/>
                  </a:lnTo>
                  <a:lnTo>
                    <a:pt x="10876" y="5240"/>
                  </a:lnTo>
                  <a:lnTo>
                    <a:pt x="10869" y="510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876920" y="4419720"/>
            <a:ext cx="1036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e500"/>
                </a:solidFill>
                <a:latin typeface="Times New Roman"/>
                <a:ea typeface="SimSu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e500"/>
                </a:solidFill>
                <a:latin typeface="Times New Roman"/>
                <a:ea typeface="SimSun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065560" y="3552840"/>
            <a:ext cx="1924200" cy="472680"/>
            <a:chOff x="5065560" y="3552840"/>
            <a:chExt cx="1924200" cy="472680"/>
          </a:xfrm>
        </p:grpSpPr>
        <p:sp>
          <p:nvSpPr>
            <p:cNvPr id="60" name=""/>
            <p:cNvSpPr/>
            <p:nvPr/>
          </p:nvSpPr>
          <p:spPr>
            <a:xfrm>
              <a:off x="5065560" y="3552840"/>
              <a:ext cx="536760" cy="26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467320" y="3591000"/>
              <a:ext cx="1522440" cy="434520"/>
              <a:chOff x="5467320" y="3591000"/>
              <a:chExt cx="1522440" cy="434520"/>
            </a:xfrm>
          </p:grpSpPr>
          <p:sp>
            <p:nvSpPr>
              <p:cNvPr id="62" name=""/>
              <p:cNvSpPr/>
              <p:nvPr/>
            </p:nvSpPr>
            <p:spPr>
              <a:xfrm>
                <a:off x="5603760" y="3591000"/>
                <a:ext cx="1251000" cy="3650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67320" y="3591000"/>
                <a:ext cx="1522440" cy="43452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66"/>
                    </a:solidFill>
                    <a:latin typeface="Times New Roman"/>
                    <a:ea typeface="SimSun"/>
                  </a:rPr>
                  <a:t>Ideal  orb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 flipV="1">
            <a:off x="7201080" y="2947680"/>
            <a:ext cx="745920" cy="484200"/>
          </a:xfrm>
          <a:prstGeom prst="line">
            <a:avLst/>
          </a:prstGeom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00440" y="3276720"/>
            <a:ext cx="1921680" cy="434520"/>
            <a:chOff x="5500440" y="3276720"/>
            <a:chExt cx="1921680" cy="434520"/>
          </a:xfrm>
        </p:grpSpPr>
        <p:sp>
          <p:nvSpPr>
            <p:cNvPr id="66" name=""/>
            <p:cNvSpPr/>
            <p:nvPr/>
          </p:nvSpPr>
          <p:spPr>
            <a:xfrm>
              <a:off x="5689440" y="3276720"/>
              <a:ext cx="1543320" cy="36648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0440" y="3276720"/>
              <a:ext cx="1921680" cy="434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cc"/>
                  </a:solidFill>
                  <a:latin typeface="Times New Roman"/>
                  <a:ea typeface="SimSun"/>
                </a:rPr>
                <a:t>Injection or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729320" y="2490840"/>
            <a:ext cx="960120" cy="144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7760" y="2490840"/>
            <a:ext cx="2265480" cy="14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735440" y="1951200"/>
                <a:ext cx="7398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414680" y="2182680"/>
            <a:ext cx="230400" cy="1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1981080"/>
            <a:ext cx="1574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SimSun"/>
              </a:rPr>
              <a:t>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17720" y="2144880"/>
            <a:ext cx="422280" cy="690480"/>
          </a:xfrm>
          <a:custGeom>
            <a:avLst/>
            <a:gdLst>
              <a:gd name="textAreaLeft" fmla="*/ 360 w 422280"/>
              <a:gd name="textAreaRight" fmla="*/ 421920 w 422280"/>
              <a:gd name="textAreaTop" fmla="*/ 360 h 690480"/>
              <a:gd name="textAreaBottom" fmla="*/ 690120 h 690480"/>
            </a:gdLst>
            <a:ahLst/>
            <a:rect l="textAreaLeft" t="textAreaTop" r="textAreaRight" b="textAreaBottom"/>
            <a:pathLst>
              <a:path w="21600" h="35307">
                <a:moveTo>
                  <a:pt x="81" y="0"/>
                </a:moveTo>
                <a:arcTo wR="81" hR="81" stAng="16200000" swAng="-5400000"/>
                <a:lnTo>
                  <a:pt x="0" y="35226"/>
                </a:lnTo>
                <a:arcTo wR="81" hR="81" stAng="10800000" swAng="-5400000"/>
                <a:lnTo>
                  <a:pt x="21519" y="35307"/>
                </a:lnTo>
                <a:arcTo wR="81" hR="81" stAng="5400000" swAng="-5400000"/>
                <a:lnTo>
                  <a:pt x="21600" y="81"/>
                </a:lnTo>
                <a:arcTo wR="81" hR="81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7240" y="2490840"/>
            <a:ext cx="884160" cy="14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00200" y="2895480"/>
            <a:ext cx="960480" cy="397080"/>
            <a:chOff x="1600200" y="2895480"/>
            <a:chExt cx="960480" cy="397080"/>
          </a:xfrm>
        </p:grpSpPr>
        <p:sp>
          <p:nvSpPr>
            <p:cNvPr id="76" name=""/>
            <p:cNvSpPr/>
            <p:nvPr/>
          </p:nvSpPr>
          <p:spPr>
            <a:xfrm>
              <a:off x="1600200" y="2895480"/>
              <a:ext cx="960480" cy="39708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21440" y="2895480"/>
              <a:ext cx="917640" cy="3780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Times New Roman"/>
                  <a:ea typeface="SimSu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62120" y="1981080"/>
            <a:ext cx="1144440" cy="397080"/>
            <a:chOff x="762120" y="1981080"/>
            <a:chExt cx="1144440" cy="397080"/>
          </a:xfrm>
        </p:grpSpPr>
        <p:sp>
          <p:nvSpPr>
            <p:cNvPr id="79" name=""/>
            <p:cNvSpPr/>
            <p:nvPr/>
          </p:nvSpPr>
          <p:spPr>
            <a:xfrm>
              <a:off x="762120" y="1981080"/>
              <a:ext cx="1144440" cy="39708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8280" y="1981080"/>
              <a:ext cx="1031760" cy="3780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Times New Roman"/>
                  <a:ea typeface="SimSun"/>
                </a:rPr>
                <a:t>Prot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030560" y="1297080"/>
                <a:ext cx="505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-162000" y="2514600"/>
            <a:ext cx="1664280" cy="434520"/>
            <a:chOff x="-162000" y="2514600"/>
            <a:chExt cx="1664280" cy="434520"/>
          </a:xfrm>
        </p:grpSpPr>
        <p:sp>
          <p:nvSpPr>
            <p:cNvPr id="83" name=""/>
            <p:cNvSpPr/>
            <p:nvPr/>
          </p:nvSpPr>
          <p:spPr>
            <a:xfrm>
              <a:off x="0" y="2514600"/>
              <a:ext cx="133992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162000" y="2514600"/>
              <a:ext cx="1664280" cy="434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(from AG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600640" y="2514600"/>
            <a:ext cx="1682640" cy="434520"/>
            <a:chOff x="2600640" y="2514600"/>
            <a:chExt cx="1682640" cy="434520"/>
          </a:xfrm>
        </p:grpSpPr>
        <p:sp>
          <p:nvSpPr>
            <p:cNvPr id="86" name=""/>
            <p:cNvSpPr/>
            <p:nvPr/>
          </p:nvSpPr>
          <p:spPr>
            <a:xfrm>
              <a:off x="2743200" y="2514600"/>
              <a:ext cx="1397160" cy="3668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0640" y="2514600"/>
              <a:ext cx="1682640" cy="434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ff33"/>
                  </a:solidFill>
                  <a:latin typeface="Times New Roman"/>
                  <a:ea typeface="SimSun"/>
                </a:rPr>
                <a:t>p=3.1GeV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33520" y="0"/>
            <a:ext cx="838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Times New Roman"/>
                <a:ea typeface="SimSun"/>
              </a:rPr>
              <a:t>Experimental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90920" y="990720"/>
            <a:ext cx="4430520" cy="1135440"/>
            <a:chOff x="2590920" y="990720"/>
            <a:chExt cx="4430520" cy="113544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895560" y="1162080"/>
                  <a:ext cx="3384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819600" y="1133640"/>
              <a:ext cx="460440" cy="314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33760" y="1305000"/>
              <a:ext cx="690840" cy="14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970000" y="1305000"/>
              <a:ext cx="696600" cy="144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33760" y="1247760"/>
              <a:ext cx="422280" cy="14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5124600" y="1133640"/>
                  <a:ext cx="44748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590920" y="1133640"/>
                  <a:ext cx="42228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433760" y="990720"/>
                  <a:ext cx="3063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"/>
            <p:cNvGrpSpPr/>
            <p:nvPr/>
          </p:nvGrpSpPr>
          <p:grpSpPr>
            <a:xfrm>
              <a:off x="4995720" y="990720"/>
              <a:ext cx="2025720" cy="446040"/>
              <a:chOff x="4995720" y="990720"/>
              <a:chExt cx="2025720" cy="446040"/>
            </a:xfrm>
          </p:grpSpPr>
          <p:pic>
            <p:nvPicPr>
              <p:cNvPr id="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95720" y="990720"/>
                <a:ext cx="202572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5715000" y="993600"/>
                <a:ext cx="13032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ffff"/>
                    </a:solidFill>
                    <a:latin typeface="Times New Roman"/>
                    <a:ea typeface="SimSun"/>
                  </a:rPr>
                  <a:t>Sp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030640" y="1257480"/>
              <a:ext cx="1990800" cy="868680"/>
              <a:chOff x="5030640" y="1257480"/>
              <a:chExt cx="1990800" cy="8686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30640" y="1257480"/>
                <a:ext cx="19908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5715000" y="1446120"/>
                <a:ext cx="130320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66cc"/>
                    </a:solidFill>
                    <a:latin typeface="Times New Roman"/>
                    <a:ea typeface="SimSun"/>
                  </a:rPr>
                  <a:t>Moment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4574160" y="2450880"/>
            <a:ext cx="4225320" cy="4216320"/>
            <a:chOff x="4574160" y="2450880"/>
            <a:chExt cx="4225320" cy="4216320"/>
          </a:xfrm>
        </p:grpSpPr>
        <p:grpSp>
          <p:nvGrpSpPr>
            <p:cNvPr id="105" name=""/>
            <p:cNvGrpSpPr/>
            <p:nvPr/>
          </p:nvGrpSpPr>
          <p:grpSpPr>
            <a:xfrm>
              <a:off x="6651000" y="2450880"/>
              <a:ext cx="2031120" cy="2775960"/>
              <a:chOff x="6651000" y="2450880"/>
              <a:chExt cx="2031120" cy="27759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732720" y="2450880"/>
                <a:ext cx="1949400" cy="2577240"/>
                <a:chOff x="6732720" y="2450880"/>
                <a:chExt cx="1949400" cy="2577240"/>
              </a:xfrm>
            </p:grpSpPr>
            <p:sp>
              <p:nvSpPr>
                <p:cNvPr id="107" name=""/>
                <p:cNvSpPr/>
                <p:nvPr/>
              </p:nvSpPr>
              <p:spPr>
                <a:xfrm rot="20940000">
                  <a:off x="6946920" y="2574720"/>
                  <a:ext cx="1527120" cy="2328840"/>
                </a:xfrm>
                <a:custGeom>
                  <a:avLst/>
                  <a:gdLst>
                    <a:gd name="textAreaLeft" fmla="*/ 360 w 1527120"/>
                    <a:gd name="textAreaRight" fmla="*/ 1526760 w 1527120"/>
                    <a:gd name="textAreaTop" fmla="*/ 360 h 2328840"/>
                    <a:gd name="textAreaBottom" fmla="*/ 2328480 h 2328840"/>
                  </a:gdLst>
                  <a:ahLst/>
                  <a:rect l="textAreaLeft" t="textAreaTop" r="textAreaRight" b="textAreaBottom"/>
                  <a:pathLst>
                    <a:path w="21600" h="32937">
                      <a:moveTo>
                        <a:pt x="22" y="0"/>
                      </a:moveTo>
                      <a:arcTo wR="22" hR="22" stAng="16200000" swAng="-5400000"/>
                      <a:lnTo>
                        <a:pt x="0" y="32915"/>
                      </a:lnTo>
                      <a:arcTo wR="22" hR="22" stAng="10800000" swAng="-5400000"/>
                      <a:lnTo>
                        <a:pt x="21578" y="32937"/>
                      </a:lnTo>
                      <a:arcTo wR="22" hR="22" stAng="5400000" swAng="-5400000"/>
                      <a:lnTo>
                        <a:pt x="21600" y="22"/>
                      </a:lnTo>
                      <a:arcTo wR="22" hR="22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32720" y="2717640"/>
                  <a:ext cx="1890720" cy="2075040"/>
                </a:xfrm>
                <a:custGeom>
                  <a:avLst/>
                  <a:gdLst/>
                  <a:ahLst/>
                  <a:rect l="l" t="t" r="r" b="b"/>
                  <a:pathLst>
                    <a:path w="5253" h="5763">
                      <a:moveTo>
                        <a:pt x="5252" y="5762"/>
                      </a:moveTo>
                      <a:lnTo>
                        <a:pt x="5117" y="5475"/>
                      </a:lnTo>
                      <a:lnTo>
                        <a:pt x="4978" y="5192"/>
                      </a:lnTo>
                      <a:lnTo>
                        <a:pt x="4834" y="4914"/>
                      </a:lnTo>
                      <a:lnTo>
                        <a:pt x="4689" y="4642"/>
                      </a:lnTo>
                      <a:lnTo>
                        <a:pt x="4539" y="4375"/>
                      </a:lnTo>
                      <a:lnTo>
                        <a:pt x="4386" y="4115"/>
                      </a:lnTo>
                      <a:lnTo>
                        <a:pt x="4230" y="3860"/>
                      </a:lnTo>
                      <a:lnTo>
                        <a:pt x="4071" y="3612"/>
                      </a:lnTo>
                      <a:lnTo>
                        <a:pt x="3908" y="3370"/>
                      </a:lnTo>
                      <a:lnTo>
                        <a:pt x="3744" y="3135"/>
                      </a:lnTo>
                      <a:lnTo>
                        <a:pt x="3575" y="2905"/>
                      </a:lnTo>
                      <a:lnTo>
                        <a:pt x="3403" y="2683"/>
                      </a:lnTo>
                      <a:lnTo>
                        <a:pt x="3229" y="2467"/>
                      </a:lnTo>
                      <a:lnTo>
                        <a:pt x="3053" y="2260"/>
                      </a:lnTo>
                      <a:lnTo>
                        <a:pt x="2875" y="2060"/>
                      </a:lnTo>
                      <a:lnTo>
                        <a:pt x="2694" y="1866"/>
                      </a:lnTo>
                      <a:lnTo>
                        <a:pt x="2512" y="1681"/>
                      </a:lnTo>
                      <a:lnTo>
                        <a:pt x="2326" y="1502"/>
                      </a:lnTo>
                      <a:lnTo>
                        <a:pt x="2140" y="1332"/>
                      </a:lnTo>
                      <a:lnTo>
                        <a:pt x="1952" y="1169"/>
                      </a:lnTo>
                      <a:lnTo>
                        <a:pt x="1762" y="1014"/>
                      </a:lnTo>
                      <a:lnTo>
                        <a:pt x="1570" y="869"/>
                      </a:lnTo>
                      <a:lnTo>
                        <a:pt x="1377" y="730"/>
                      </a:lnTo>
                      <a:lnTo>
                        <a:pt x="1183" y="601"/>
                      </a:lnTo>
                      <a:lnTo>
                        <a:pt x="988" y="479"/>
                      </a:lnTo>
                      <a:lnTo>
                        <a:pt x="792" y="366"/>
                      </a:lnTo>
                      <a:lnTo>
                        <a:pt x="595" y="261"/>
                      </a:lnTo>
                      <a:lnTo>
                        <a:pt x="397" y="165"/>
                      </a:lnTo>
                      <a:lnTo>
                        <a:pt x="199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651000" y="3359880"/>
                <a:ext cx="1428840" cy="1866960"/>
                <a:chOff x="6651000" y="3359880"/>
                <a:chExt cx="1428840" cy="1866960"/>
              </a:xfrm>
            </p:grpSpPr>
            <p:sp>
              <p:nvSpPr>
                <p:cNvPr id="110" name=""/>
                <p:cNvSpPr/>
                <p:nvPr/>
              </p:nvSpPr>
              <p:spPr>
                <a:xfrm rot="21120000">
                  <a:off x="6764400" y="3435120"/>
                  <a:ext cx="1201680" cy="1716120"/>
                </a:xfrm>
                <a:custGeom>
                  <a:avLst/>
                  <a:gdLst>
                    <a:gd name="textAreaLeft" fmla="*/ 360 w 1201680"/>
                    <a:gd name="textAreaRight" fmla="*/ 1201320 w 1201680"/>
                    <a:gd name="textAreaTop" fmla="*/ 360 h 1716120"/>
                    <a:gd name="textAreaBottom" fmla="*/ 1715760 h 1716120"/>
                  </a:gdLst>
                  <a:ahLst/>
                  <a:rect l="textAreaLeft" t="textAreaTop" r="textAreaRight" b="textAreaBottom"/>
                  <a:pathLst>
                    <a:path w="21600" h="30844">
                      <a:moveTo>
                        <a:pt x="28" y="0"/>
                      </a:moveTo>
                      <a:arcTo wR="28" hR="28" stAng="16200000" swAng="-5400000"/>
                      <a:lnTo>
                        <a:pt x="0" y="30816"/>
                      </a:lnTo>
                      <a:arcTo wR="28" hR="28" stAng="10800000" swAng="-5400000"/>
                      <a:lnTo>
                        <a:pt x="21572" y="30844"/>
                      </a:lnTo>
                      <a:arcTo wR="28" hR="28" stAng="5400000" swAng="-5400000"/>
                      <a:lnTo>
                        <a:pt x="21600" y="28"/>
                      </a:lnTo>
                      <a:arcTo wR="28" hR="28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69000" y="3505320"/>
                  <a:ext cx="1400400" cy="1608120"/>
                </a:xfrm>
                <a:custGeom>
                  <a:avLst/>
                  <a:gdLst/>
                  <a:ahLst/>
                  <a:rect l="l" t="t" r="r" b="b"/>
                  <a:pathLst>
                    <a:path w="3889" h="4465">
                      <a:moveTo>
                        <a:pt x="3888" y="4464"/>
                      </a:moveTo>
                      <a:lnTo>
                        <a:pt x="3743" y="4187"/>
                      </a:lnTo>
                      <a:lnTo>
                        <a:pt x="3595" y="3915"/>
                      </a:lnTo>
                      <a:lnTo>
                        <a:pt x="3442" y="3650"/>
                      </a:lnTo>
                      <a:lnTo>
                        <a:pt x="3286" y="3392"/>
                      </a:lnTo>
                      <a:lnTo>
                        <a:pt x="3127" y="3138"/>
                      </a:lnTo>
                      <a:lnTo>
                        <a:pt x="2964" y="2894"/>
                      </a:lnTo>
                      <a:lnTo>
                        <a:pt x="2798" y="2655"/>
                      </a:lnTo>
                      <a:lnTo>
                        <a:pt x="2629" y="2422"/>
                      </a:lnTo>
                      <a:lnTo>
                        <a:pt x="2456" y="2198"/>
                      </a:lnTo>
                      <a:lnTo>
                        <a:pt x="2281" y="1981"/>
                      </a:lnTo>
                      <a:lnTo>
                        <a:pt x="2103" y="1771"/>
                      </a:lnTo>
                      <a:lnTo>
                        <a:pt x="1922" y="1570"/>
                      </a:lnTo>
                      <a:lnTo>
                        <a:pt x="1739" y="1374"/>
                      </a:lnTo>
                      <a:lnTo>
                        <a:pt x="1554" y="1189"/>
                      </a:lnTo>
                      <a:lnTo>
                        <a:pt x="1367" y="1011"/>
                      </a:lnTo>
                      <a:lnTo>
                        <a:pt x="1175" y="841"/>
                      </a:lnTo>
                      <a:lnTo>
                        <a:pt x="984" y="679"/>
                      </a:lnTo>
                      <a:lnTo>
                        <a:pt x="791" y="526"/>
                      </a:lnTo>
                      <a:lnTo>
                        <a:pt x="594" y="381"/>
                      </a:lnTo>
                      <a:lnTo>
                        <a:pt x="397" y="245"/>
                      </a:lnTo>
                      <a:lnTo>
                        <a:pt x="199" y="1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6052680" y="4489920"/>
              <a:ext cx="2746800" cy="2025720"/>
              <a:chOff x="6052680" y="4489920"/>
              <a:chExt cx="2746800" cy="2025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248520" y="4572000"/>
                <a:ext cx="2550960" cy="1943640"/>
                <a:chOff x="6248520" y="4572000"/>
                <a:chExt cx="2550960" cy="1943640"/>
              </a:xfrm>
            </p:grpSpPr>
            <p:sp>
              <p:nvSpPr>
                <p:cNvPr id="114" name=""/>
                <p:cNvSpPr/>
                <p:nvPr/>
              </p:nvSpPr>
              <p:spPr>
                <a:xfrm rot="4800000">
                  <a:off x="6746760" y="4390920"/>
                  <a:ext cx="1554120" cy="2316240"/>
                </a:xfrm>
                <a:custGeom>
                  <a:avLst/>
                  <a:gdLst>
                    <a:gd name="textAreaLeft" fmla="*/ 360 w 1554120"/>
                    <a:gd name="textAreaRight" fmla="*/ 1553760 w 1554120"/>
                    <a:gd name="textAreaTop" fmla="*/ 360 h 2316240"/>
                    <a:gd name="textAreaBottom" fmla="*/ 2315880 h 2316240"/>
                  </a:gdLst>
                  <a:ahLst/>
                  <a:rect l="textAreaLeft" t="textAreaTop" r="textAreaRight" b="textAreaBottom"/>
                  <a:pathLst>
                    <a:path w="21600" h="32190">
                      <a:moveTo>
                        <a:pt x="22" y="0"/>
                      </a:moveTo>
                      <a:arcTo wR="22" hR="22" stAng="16200000" swAng="-5400000"/>
                      <a:lnTo>
                        <a:pt x="0" y="32168"/>
                      </a:lnTo>
                      <a:arcTo wR="22" hR="22" stAng="10800000" swAng="-5400000"/>
                      <a:lnTo>
                        <a:pt x="21578" y="32190"/>
                      </a:lnTo>
                      <a:arcTo wR="22" hR="22" stAng="5400000" swAng="-5400000"/>
                      <a:lnTo>
                        <a:pt x="21600" y="22"/>
                      </a:lnTo>
                      <a:arcTo wR="22" hR="22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429240" y="4572000"/>
                  <a:ext cx="2098800" cy="1916280"/>
                </a:xfrm>
                <a:custGeom>
                  <a:avLst/>
                  <a:gdLst/>
                  <a:ahLst/>
                  <a:rect l="l" t="t" r="r" b="b"/>
                  <a:pathLst>
                    <a:path w="5829" h="5324">
                      <a:moveTo>
                        <a:pt x="0" y="5323"/>
                      </a:moveTo>
                      <a:lnTo>
                        <a:pt x="289" y="5187"/>
                      </a:lnTo>
                      <a:lnTo>
                        <a:pt x="575" y="5049"/>
                      </a:lnTo>
                      <a:lnTo>
                        <a:pt x="854" y="4906"/>
                      </a:lnTo>
                      <a:lnTo>
                        <a:pt x="1129" y="4759"/>
                      </a:lnTo>
                      <a:lnTo>
                        <a:pt x="1397" y="4609"/>
                      </a:lnTo>
                      <a:lnTo>
                        <a:pt x="1661" y="4454"/>
                      </a:lnTo>
                      <a:lnTo>
                        <a:pt x="1918" y="4298"/>
                      </a:lnTo>
                      <a:lnTo>
                        <a:pt x="2169" y="4137"/>
                      </a:lnTo>
                      <a:lnTo>
                        <a:pt x="2413" y="3974"/>
                      </a:lnTo>
                      <a:lnTo>
                        <a:pt x="2651" y="3806"/>
                      </a:lnTo>
                      <a:lnTo>
                        <a:pt x="2883" y="3637"/>
                      </a:lnTo>
                      <a:lnTo>
                        <a:pt x="3107" y="3463"/>
                      </a:lnTo>
                      <a:lnTo>
                        <a:pt x="3325" y="3288"/>
                      </a:lnTo>
                      <a:lnTo>
                        <a:pt x="3535" y="3109"/>
                      </a:lnTo>
                      <a:lnTo>
                        <a:pt x="3738" y="2928"/>
                      </a:lnTo>
                      <a:lnTo>
                        <a:pt x="3933" y="2745"/>
                      </a:lnTo>
                      <a:lnTo>
                        <a:pt x="4122" y="2560"/>
                      </a:lnTo>
                      <a:lnTo>
                        <a:pt x="4303" y="2372"/>
                      </a:lnTo>
                      <a:lnTo>
                        <a:pt x="4474" y="2183"/>
                      </a:lnTo>
                      <a:lnTo>
                        <a:pt x="4640" y="1991"/>
                      </a:lnTo>
                      <a:lnTo>
                        <a:pt x="4796" y="1796"/>
                      </a:lnTo>
                      <a:lnTo>
                        <a:pt x="4945" y="1602"/>
                      </a:lnTo>
                      <a:lnTo>
                        <a:pt x="5085" y="1406"/>
                      </a:lnTo>
                      <a:lnTo>
                        <a:pt x="5216" y="1208"/>
                      </a:lnTo>
                      <a:lnTo>
                        <a:pt x="5340" y="1008"/>
                      </a:lnTo>
                      <a:lnTo>
                        <a:pt x="5455" y="809"/>
                      </a:lnTo>
                      <a:lnTo>
                        <a:pt x="5561" y="607"/>
                      </a:lnTo>
                      <a:lnTo>
                        <a:pt x="5658" y="405"/>
                      </a:lnTo>
                      <a:lnTo>
                        <a:pt x="5747" y="202"/>
                      </a:lnTo>
                      <a:lnTo>
                        <a:pt x="5828" y="0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052680" y="4489920"/>
                <a:ext cx="1848600" cy="1439280"/>
                <a:chOff x="6052680" y="4489920"/>
                <a:chExt cx="1848600" cy="1439280"/>
              </a:xfrm>
            </p:grpSpPr>
            <p:sp>
              <p:nvSpPr>
                <p:cNvPr id="117" name=""/>
                <p:cNvSpPr/>
                <p:nvPr/>
              </p:nvSpPr>
              <p:spPr>
                <a:xfrm rot="4980000">
                  <a:off x="6361920" y="4348800"/>
                  <a:ext cx="1230120" cy="1711440"/>
                </a:xfrm>
                <a:custGeom>
                  <a:avLst/>
                  <a:gdLst>
                    <a:gd name="textAreaLeft" fmla="*/ 360 w 1230120"/>
                    <a:gd name="textAreaRight" fmla="*/ 1229760 w 1230120"/>
                    <a:gd name="textAreaTop" fmla="*/ 360 h 1711440"/>
                    <a:gd name="textAreaBottom" fmla="*/ 1711080 h 1711440"/>
                  </a:gdLst>
                  <a:ahLst/>
                  <a:rect l="textAreaLeft" t="textAreaTop" r="textAreaRight" b="textAreaBottom"/>
                  <a:pathLst>
                    <a:path w="21600" h="30049">
                      <a:moveTo>
                        <a:pt x="27" y="0"/>
                      </a:moveTo>
                      <a:arcTo wR="27" hR="27" stAng="16200000" swAng="-5400000"/>
                      <a:lnTo>
                        <a:pt x="0" y="30022"/>
                      </a:lnTo>
                      <a:arcTo wR="27" hR="27" stAng="10800000" swAng="-5400000"/>
                      <a:lnTo>
                        <a:pt x="21573" y="30049"/>
                      </a:lnTo>
                      <a:arcTo wR="27" hR="27" stAng="5400000" swAng="-5400000"/>
                      <a:lnTo>
                        <a:pt x="21600" y="27"/>
                      </a:lnTo>
                      <a:arcTo wR="27" hR="27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132600" y="4521240"/>
                  <a:ext cx="1609560" cy="1407960"/>
                </a:xfrm>
                <a:custGeom>
                  <a:avLst/>
                  <a:gdLst/>
                  <a:ahLst/>
                  <a:rect l="l" t="t" r="r" b="b"/>
                  <a:pathLst>
                    <a:path w="4473" h="3910">
                      <a:moveTo>
                        <a:pt x="0" y="3909"/>
                      </a:moveTo>
                      <a:lnTo>
                        <a:pt x="276" y="3763"/>
                      </a:lnTo>
                      <a:lnTo>
                        <a:pt x="547" y="3615"/>
                      </a:lnTo>
                      <a:lnTo>
                        <a:pt x="810" y="3462"/>
                      </a:lnTo>
                      <a:lnTo>
                        <a:pt x="1070" y="3306"/>
                      </a:lnTo>
                      <a:lnTo>
                        <a:pt x="1321" y="3147"/>
                      </a:lnTo>
                      <a:lnTo>
                        <a:pt x="1566" y="2984"/>
                      </a:lnTo>
                      <a:lnTo>
                        <a:pt x="1804" y="2817"/>
                      </a:lnTo>
                      <a:lnTo>
                        <a:pt x="2036" y="2647"/>
                      </a:lnTo>
                      <a:lnTo>
                        <a:pt x="2260" y="2474"/>
                      </a:lnTo>
                      <a:lnTo>
                        <a:pt x="2477" y="2299"/>
                      </a:lnTo>
                      <a:lnTo>
                        <a:pt x="2688" y="2120"/>
                      </a:lnTo>
                      <a:lnTo>
                        <a:pt x="2890" y="1938"/>
                      </a:lnTo>
                      <a:lnTo>
                        <a:pt x="3084" y="1754"/>
                      </a:lnTo>
                      <a:lnTo>
                        <a:pt x="3271" y="1567"/>
                      </a:lnTo>
                      <a:lnTo>
                        <a:pt x="3450" y="1379"/>
                      </a:lnTo>
                      <a:lnTo>
                        <a:pt x="3622" y="1187"/>
                      </a:lnTo>
                      <a:lnTo>
                        <a:pt x="3785" y="993"/>
                      </a:lnTo>
                      <a:lnTo>
                        <a:pt x="3939" y="798"/>
                      </a:lnTo>
                      <a:lnTo>
                        <a:pt x="4086" y="601"/>
                      </a:lnTo>
                      <a:lnTo>
                        <a:pt x="4223" y="403"/>
                      </a:lnTo>
                      <a:lnTo>
                        <a:pt x="4352" y="202"/>
                      </a:lnTo>
                      <a:lnTo>
                        <a:pt x="4472" y="0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4818960" y="3886920"/>
              <a:ext cx="2006640" cy="2780280"/>
              <a:chOff x="4818960" y="3886920"/>
              <a:chExt cx="2006640" cy="27802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4818960" y="4084200"/>
                <a:ext cx="1924920" cy="2583000"/>
                <a:chOff x="4818960" y="4084200"/>
                <a:chExt cx="1924920" cy="2583000"/>
              </a:xfrm>
            </p:grpSpPr>
            <p:sp>
              <p:nvSpPr>
                <p:cNvPr id="121" name=""/>
                <p:cNvSpPr/>
                <p:nvPr/>
              </p:nvSpPr>
              <p:spPr>
                <a:xfrm rot="10200000">
                  <a:off x="5011200" y="4200120"/>
                  <a:ext cx="1540080" cy="2351160"/>
                </a:xfrm>
                <a:custGeom>
                  <a:avLst/>
                  <a:gdLst>
                    <a:gd name="textAreaLeft" fmla="*/ 360 w 1540080"/>
                    <a:gd name="textAreaRight" fmla="*/ 1539720 w 1540080"/>
                    <a:gd name="textAreaTop" fmla="*/ 360 h 2351160"/>
                    <a:gd name="textAreaBottom" fmla="*/ 2350800 h 2351160"/>
                  </a:gdLst>
                  <a:ahLst/>
                  <a:rect l="textAreaLeft" t="textAreaTop" r="textAreaRight" b="textAreaBottom"/>
                  <a:pathLst>
                    <a:path w="21600" h="32973">
                      <a:moveTo>
                        <a:pt x="22" y="0"/>
                      </a:moveTo>
                      <a:arcTo wR="22" hR="22" stAng="16200000" swAng="-5400000"/>
                      <a:lnTo>
                        <a:pt x="0" y="32951"/>
                      </a:lnTo>
                      <a:arcTo wR="22" hR="22" stAng="10800000" swAng="-5400000"/>
                      <a:lnTo>
                        <a:pt x="21578" y="32973"/>
                      </a:lnTo>
                      <a:arcTo wR="22" hR="22" stAng="5400000" swAng="-5400000"/>
                      <a:lnTo>
                        <a:pt x="21600" y="22"/>
                      </a:lnTo>
                      <a:arcTo wR="22" hR="22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849920" y="4292640"/>
                  <a:ext cx="1888920" cy="2101680"/>
                </a:xfrm>
                <a:custGeom>
                  <a:avLst/>
                  <a:gdLst/>
                  <a:ahLst/>
                  <a:rect l="l" t="t" r="r" b="b"/>
                  <a:pathLst>
                    <a:path w="5249" h="5837">
                      <a:moveTo>
                        <a:pt x="0" y="0"/>
                      </a:moveTo>
                      <a:lnTo>
                        <a:pt x="135" y="289"/>
                      </a:lnTo>
                      <a:lnTo>
                        <a:pt x="273" y="574"/>
                      </a:lnTo>
                      <a:lnTo>
                        <a:pt x="415" y="852"/>
                      </a:lnTo>
                      <a:lnTo>
                        <a:pt x="561" y="1127"/>
                      </a:lnTo>
                      <a:lnTo>
                        <a:pt x="710" y="1394"/>
                      </a:lnTo>
                      <a:lnTo>
                        <a:pt x="863" y="1656"/>
                      </a:lnTo>
                      <a:lnTo>
                        <a:pt x="1019" y="1913"/>
                      </a:lnTo>
                      <a:lnTo>
                        <a:pt x="1178" y="2163"/>
                      </a:lnTo>
                      <a:lnTo>
                        <a:pt x="1341" y="2407"/>
                      </a:lnTo>
                      <a:lnTo>
                        <a:pt x="1506" y="2645"/>
                      </a:lnTo>
                      <a:lnTo>
                        <a:pt x="1673" y="2877"/>
                      </a:lnTo>
                      <a:lnTo>
                        <a:pt x="1844" y="3101"/>
                      </a:lnTo>
                      <a:lnTo>
                        <a:pt x="2017" y="3319"/>
                      </a:lnTo>
                      <a:lnTo>
                        <a:pt x="2193" y="3529"/>
                      </a:lnTo>
                      <a:lnTo>
                        <a:pt x="2371" y="3732"/>
                      </a:lnTo>
                      <a:lnTo>
                        <a:pt x="2552" y="3928"/>
                      </a:lnTo>
                      <a:lnTo>
                        <a:pt x="2735" y="4116"/>
                      </a:lnTo>
                      <a:lnTo>
                        <a:pt x="2920" y="4297"/>
                      </a:lnTo>
                      <a:lnTo>
                        <a:pt x="3106" y="4470"/>
                      </a:lnTo>
                      <a:lnTo>
                        <a:pt x="3295" y="4635"/>
                      </a:lnTo>
                      <a:lnTo>
                        <a:pt x="3485" y="4793"/>
                      </a:lnTo>
                      <a:lnTo>
                        <a:pt x="3676" y="4941"/>
                      </a:lnTo>
                      <a:lnTo>
                        <a:pt x="3869" y="5082"/>
                      </a:lnTo>
                      <a:lnTo>
                        <a:pt x="4064" y="5216"/>
                      </a:lnTo>
                      <a:lnTo>
                        <a:pt x="4258" y="5340"/>
                      </a:lnTo>
                      <a:lnTo>
                        <a:pt x="4454" y="5456"/>
                      </a:lnTo>
                      <a:lnTo>
                        <a:pt x="4651" y="5564"/>
                      </a:lnTo>
                      <a:lnTo>
                        <a:pt x="4849" y="5663"/>
                      </a:lnTo>
                      <a:lnTo>
                        <a:pt x="5049" y="5754"/>
                      </a:lnTo>
                      <a:lnTo>
                        <a:pt x="5248" y="5836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3960" y="3886920"/>
                <a:ext cx="1421640" cy="1869480"/>
                <a:chOff x="5403960" y="3886920"/>
                <a:chExt cx="1421640" cy="1869480"/>
              </a:xfrm>
            </p:grpSpPr>
            <p:sp>
              <p:nvSpPr>
                <p:cNvPr id="124" name=""/>
                <p:cNvSpPr/>
                <p:nvPr/>
              </p:nvSpPr>
              <p:spPr>
                <a:xfrm rot="10380000">
                  <a:off x="5512680" y="3954240"/>
                  <a:ext cx="1211400" cy="1734840"/>
                </a:xfrm>
                <a:custGeom>
                  <a:avLst/>
                  <a:gdLst>
                    <a:gd name="textAreaLeft" fmla="*/ 360 w 1211400"/>
                    <a:gd name="textAreaRight" fmla="*/ 1211040 w 1211400"/>
                    <a:gd name="textAreaTop" fmla="*/ 360 h 1734840"/>
                    <a:gd name="textAreaBottom" fmla="*/ 1734480 h 1734840"/>
                  </a:gdLst>
                  <a:ahLst/>
                  <a:rect l="textAreaLeft" t="textAreaTop" r="textAreaRight" b="textAreaBottom"/>
                  <a:pathLst>
                    <a:path w="21600" h="30930">
                      <a:moveTo>
                        <a:pt x="28" y="0"/>
                      </a:moveTo>
                      <a:arcTo wR="28" hR="28" stAng="16200000" swAng="-5400000"/>
                      <a:lnTo>
                        <a:pt x="0" y="30902"/>
                      </a:lnTo>
                      <a:arcTo wR="28" hR="28" stAng="10800000" swAng="-5400000"/>
                      <a:lnTo>
                        <a:pt x="21572" y="30930"/>
                      </a:lnTo>
                      <a:arcTo wR="28" hR="28" stAng="5400000" swAng="-5400000"/>
                      <a:lnTo>
                        <a:pt x="21600" y="28"/>
                      </a:lnTo>
                      <a:arcTo wR="28" hR="28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3960" y="3989520"/>
                  <a:ext cx="1411200" cy="1623960"/>
                </a:xfrm>
                <a:custGeom>
                  <a:avLst/>
                  <a:gdLst/>
                  <a:ahLst/>
                  <a:rect l="l" t="t" r="r" b="b"/>
                  <a:pathLst>
                    <a:path w="3919" h="4511">
                      <a:moveTo>
                        <a:pt x="0" y="0"/>
                      </a:moveTo>
                      <a:lnTo>
                        <a:pt x="146" y="280"/>
                      </a:lnTo>
                      <a:lnTo>
                        <a:pt x="295" y="554"/>
                      </a:lnTo>
                      <a:lnTo>
                        <a:pt x="449" y="822"/>
                      </a:lnTo>
                      <a:lnTo>
                        <a:pt x="606" y="1083"/>
                      </a:lnTo>
                      <a:lnTo>
                        <a:pt x="766" y="1339"/>
                      </a:lnTo>
                      <a:lnTo>
                        <a:pt x="931" y="1586"/>
                      </a:lnTo>
                      <a:lnTo>
                        <a:pt x="1099" y="1828"/>
                      </a:lnTo>
                      <a:lnTo>
                        <a:pt x="1269" y="2063"/>
                      </a:lnTo>
                      <a:lnTo>
                        <a:pt x="1443" y="2289"/>
                      </a:lnTo>
                      <a:lnTo>
                        <a:pt x="1619" y="2509"/>
                      </a:lnTo>
                      <a:lnTo>
                        <a:pt x="1799" y="2721"/>
                      </a:lnTo>
                      <a:lnTo>
                        <a:pt x="1981" y="2924"/>
                      </a:lnTo>
                      <a:lnTo>
                        <a:pt x="2165" y="3122"/>
                      </a:lnTo>
                      <a:lnTo>
                        <a:pt x="2352" y="3309"/>
                      </a:lnTo>
                      <a:lnTo>
                        <a:pt x="2541" y="3488"/>
                      </a:lnTo>
                      <a:lnTo>
                        <a:pt x="2734" y="3661"/>
                      </a:lnTo>
                      <a:lnTo>
                        <a:pt x="2927" y="3824"/>
                      </a:lnTo>
                      <a:lnTo>
                        <a:pt x="3121" y="3979"/>
                      </a:lnTo>
                      <a:lnTo>
                        <a:pt x="3320" y="4125"/>
                      </a:lnTo>
                      <a:lnTo>
                        <a:pt x="3518" y="4262"/>
                      </a:lnTo>
                      <a:lnTo>
                        <a:pt x="3718" y="4391"/>
                      </a:lnTo>
                      <a:lnTo>
                        <a:pt x="3918" y="4510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4574160" y="2540160"/>
              <a:ext cx="2845080" cy="2145240"/>
              <a:chOff x="4574160" y="2540160"/>
              <a:chExt cx="2845080" cy="21452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574160" y="2540160"/>
                <a:ext cx="2633040" cy="2118600"/>
                <a:chOff x="4574160" y="2540160"/>
                <a:chExt cx="2633040" cy="2118600"/>
              </a:xfrm>
            </p:grpSpPr>
            <p:sp>
              <p:nvSpPr>
                <p:cNvPr id="128" name=""/>
                <p:cNvSpPr/>
                <p:nvPr/>
              </p:nvSpPr>
              <p:spPr>
                <a:xfrm rot="15300000">
                  <a:off x="5102280" y="2447280"/>
                  <a:ext cx="1576080" cy="2303640"/>
                </a:xfrm>
                <a:custGeom>
                  <a:avLst/>
                  <a:gdLst>
                    <a:gd name="textAreaLeft" fmla="*/ 360 w 1576080"/>
                    <a:gd name="textAreaRight" fmla="*/ 1575720 w 1576080"/>
                    <a:gd name="textAreaTop" fmla="*/ 360 h 2303640"/>
                    <a:gd name="textAreaBottom" fmla="*/ 2303280 h 2303640"/>
                  </a:gdLst>
                  <a:ahLst/>
                  <a:rect l="textAreaLeft" t="textAreaTop" r="textAreaRight" b="textAreaBottom"/>
                  <a:pathLst>
                    <a:path w="21600" h="31569">
                      <a:moveTo>
                        <a:pt x="21" y="0"/>
                      </a:moveTo>
                      <a:arcTo wR="21" hR="21" stAng="16200000" swAng="-5400000"/>
                      <a:lnTo>
                        <a:pt x="0" y="31548"/>
                      </a:lnTo>
                      <a:arcTo wR="21" hR="21" stAng="10800000" swAng="-5400000"/>
                      <a:lnTo>
                        <a:pt x="21579" y="31569"/>
                      </a:lnTo>
                      <a:arcTo wR="21" hR="21" stAng="5400000" swAng="-5400000"/>
                      <a:lnTo>
                        <a:pt x="21600" y="21"/>
                      </a:lnTo>
                      <a:arcTo wR="21" hR="21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973760" y="2600280"/>
                  <a:ext cx="1908000" cy="2044800"/>
                </a:xfrm>
                <a:custGeom>
                  <a:avLst/>
                  <a:gdLst/>
                  <a:ahLst/>
                  <a:rect l="l" t="t" r="r" b="b"/>
                  <a:pathLst>
                    <a:path w="5302" h="5678">
                      <a:moveTo>
                        <a:pt x="5301" y="0"/>
                      </a:moveTo>
                      <a:lnTo>
                        <a:pt x="5028" y="154"/>
                      </a:lnTo>
                      <a:lnTo>
                        <a:pt x="4760" y="311"/>
                      </a:lnTo>
                      <a:lnTo>
                        <a:pt x="4498" y="472"/>
                      </a:lnTo>
                      <a:lnTo>
                        <a:pt x="4242" y="637"/>
                      </a:lnTo>
                      <a:lnTo>
                        <a:pt x="3990" y="804"/>
                      </a:lnTo>
                      <a:lnTo>
                        <a:pt x="3746" y="974"/>
                      </a:lnTo>
                      <a:lnTo>
                        <a:pt x="3506" y="1148"/>
                      </a:lnTo>
                      <a:lnTo>
                        <a:pt x="3274" y="1324"/>
                      </a:lnTo>
                      <a:lnTo>
                        <a:pt x="3047" y="1503"/>
                      </a:lnTo>
                      <a:lnTo>
                        <a:pt x="2828" y="1685"/>
                      </a:lnTo>
                      <a:lnTo>
                        <a:pt x="2616" y="1869"/>
                      </a:lnTo>
                      <a:lnTo>
                        <a:pt x="2409" y="2056"/>
                      </a:lnTo>
                      <a:lnTo>
                        <a:pt x="2210" y="2245"/>
                      </a:lnTo>
                      <a:lnTo>
                        <a:pt x="2018" y="2436"/>
                      </a:lnTo>
                      <a:lnTo>
                        <a:pt x="1833" y="2630"/>
                      </a:lnTo>
                      <a:lnTo>
                        <a:pt x="1656" y="2824"/>
                      </a:lnTo>
                      <a:lnTo>
                        <a:pt x="1485" y="3021"/>
                      </a:lnTo>
                      <a:lnTo>
                        <a:pt x="1323" y="3220"/>
                      </a:lnTo>
                      <a:lnTo>
                        <a:pt x="1169" y="3419"/>
                      </a:lnTo>
                      <a:lnTo>
                        <a:pt x="1021" y="3620"/>
                      </a:lnTo>
                      <a:lnTo>
                        <a:pt x="882" y="3822"/>
                      </a:lnTo>
                      <a:lnTo>
                        <a:pt x="751" y="4026"/>
                      </a:lnTo>
                      <a:lnTo>
                        <a:pt x="629" y="4230"/>
                      </a:lnTo>
                      <a:lnTo>
                        <a:pt x="513" y="4435"/>
                      </a:lnTo>
                      <a:lnTo>
                        <a:pt x="407" y="4641"/>
                      </a:lnTo>
                      <a:lnTo>
                        <a:pt x="309" y="4848"/>
                      </a:lnTo>
                      <a:lnTo>
                        <a:pt x="218" y="5055"/>
                      </a:lnTo>
                      <a:lnTo>
                        <a:pt x="138" y="5262"/>
                      </a:lnTo>
                      <a:lnTo>
                        <a:pt x="63" y="5469"/>
                      </a:lnTo>
                      <a:lnTo>
                        <a:pt x="0" y="5677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501520" y="3119760"/>
                <a:ext cx="1917720" cy="1565640"/>
                <a:chOff x="5501520" y="3119760"/>
                <a:chExt cx="1917720" cy="1565640"/>
              </a:xfrm>
            </p:grpSpPr>
            <p:sp>
              <p:nvSpPr>
                <p:cNvPr id="131" name=""/>
                <p:cNvSpPr/>
                <p:nvPr/>
              </p:nvSpPr>
              <p:spPr>
                <a:xfrm rot="15480000">
                  <a:off x="5840280" y="3053880"/>
                  <a:ext cx="1239840" cy="1697040"/>
                </a:xfrm>
                <a:custGeom>
                  <a:avLst/>
                  <a:gdLst>
                    <a:gd name="textAreaLeft" fmla="*/ 360 w 1239840"/>
                    <a:gd name="textAreaRight" fmla="*/ 1239480 w 1239840"/>
                    <a:gd name="textAreaTop" fmla="*/ 360 h 1697040"/>
                    <a:gd name="textAreaBottom" fmla="*/ 1696680 h 1697040"/>
                  </a:gdLst>
                  <a:ahLst/>
                  <a:rect l="textAreaLeft" t="textAreaTop" r="textAreaRight" b="textAreaBottom"/>
                  <a:pathLst>
                    <a:path w="21600" h="29563">
                      <a:moveTo>
                        <a:pt x="27" y="0"/>
                      </a:moveTo>
                      <a:arcTo wR="27" hR="27" stAng="16200000" swAng="-5400000"/>
                      <a:lnTo>
                        <a:pt x="0" y="29536"/>
                      </a:lnTo>
                      <a:arcTo wR="27" hR="27" stAng="10800000" swAng="-5400000"/>
                      <a:lnTo>
                        <a:pt x="21573" y="29563"/>
                      </a:lnTo>
                      <a:arcTo wR="27" hR="27" stAng="5400000" swAng="-5400000"/>
                      <a:lnTo>
                        <a:pt x="21600" y="27"/>
                      </a:lnTo>
                      <a:arcTo wR="27" hR="27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748480" y="3137040"/>
                  <a:ext cx="1458720" cy="1515960"/>
                </a:xfrm>
                <a:custGeom>
                  <a:avLst/>
                  <a:gdLst/>
                  <a:ahLst/>
                  <a:rect l="l" t="t" r="r" b="b"/>
                  <a:pathLst>
                    <a:path w="4053" h="4211">
                      <a:moveTo>
                        <a:pt x="4052" y="0"/>
                      </a:moveTo>
                      <a:lnTo>
                        <a:pt x="3794" y="165"/>
                      </a:lnTo>
                      <a:lnTo>
                        <a:pt x="3542" y="331"/>
                      </a:lnTo>
                      <a:lnTo>
                        <a:pt x="3296" y="502"/>
                      </a:lnTo>
                      <a:lnTo>
                        <a:pt x="3056" y="676"/>
                      </a:lnTo>
                      <a:lnTo>
                        <a:pt x="2823" y="853"/>
                      </a:lnTo>
                      <a:lnTo>
                        <a:pt x="2596" y="1033"/>
                      </a:lnTo>
                      <a:lnTo>
                        <a:pt x="2376" y="1216"/>
                      </a:lnTo>
                      <a:lnTo>
                        <a:pt x="2164" y="1402"/>
                      </a:lnTo>
                      <a:lnTo>
                        <a:pt x="1960" y="1590"/>
                      </a:lnTo>
                      <a:lnTo>
                        <a:pt x="1761" y="1781"/>
                      </a:lnTo>
                      <a:lnTo>
                        <a:pt x="1570" y="1973"/>
                      </a:lnTo>
                      <a:lnTo>
                        <a:pt x="1387" y="2169"/>
                      </a:lnTo>
                      <a:lnTo>
                        <a:pt x="1212" y="2366"/>
                      </a:lnTo>
                      <a:lnTo>
                        <a:pt x="1044" y="2565"/>
                      </a:lnTo>
                      <a:lnTo>
                        <a:pt x="885" y="2766"/>
                      </a:lnTo>
                      <a:lnTo>
                        <a:pt x="733" y="2968"/>
                      </a:lnTo>
                      <a:lnTo>
                        <a:pt x="591" y="3172"/>
                      </a:lnTo>
                      <a:lnTo>
                        <a:pt x="455" y="3378"/>
                      </a:lnTo>
                      <a:lnTo>
                        <a:pt x="329" y="3585"/>
                      </a:lnTo>
                      <a:lnTo>
                        <a:pt x="211" y="3792"/>
                      </a:lnTo>
                      <a:lnTo>
                        <a:pt x="101" y="4001"/>
                      </a:lnTo>
                      <a:lnTo>
                        <a:pt x="0" y="4210"/>
                      </a:ln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7162920" y="2590920"/>
            <a:ext cx="228600" cy="228600"/>
            <a:chOff x="7162920" y="2590920"/>
            <a:chExt cx="228600" cy="228600"/>
          </a:xfrm>
        </p:grpSpPr>
        <p:sp>
          <p:nvSpPr>
            <p:cNvPr id="134" name=""/>
            <p:cNvSpPr/>
            <p:nvPr/>
          </p:nvSpPr>
          <p:spPr>
            <a:xfrm>
              <a:off x="7162920" y="2590920"/>
              <a:ext cx="228600" cy="228600"/>
            </a:xfrm>
            <a:custGeom>
              <a:avLst/>
              <a:gdLst/>
              <a:ahLst/>
              <a:rect l="l" t="t" r="r" b="b"/>
              <a:pathLst>
                <a:path w="636" h="636">
                  <a:moveTo>
                    <a:pt x="317" y="0"/>
                  </a:moveTo>
                  <a:cubicBezTo>
                    <a:pt x="497" y="0"/>
                    <a:pt x="635" y="137"/>
                    <a:pt x="635" y="317"/>
                  </a:cubicBezTo>
                  <a:cubicBezTo>
                    <a:pt x="635" y="497"/>
                    <a:pt x="497" y="635"/>
                    <a:pt x="317" y="635"/>
                  </a:cubicBezTo>
                  <a:cubicBezTo>
                    <a:pt x="137" y="635"/>
                    <a:pt x="0" y="497"/>
                    <a:pt x="0" y="317"/>
                  </a:cubicBezTo>
                  <a:cubicBezTo>
                    <a:pt x="0" y="137"/>
                    <a:pt x="137" y="0"/>
                    <a:pt x="317" y="0"/>
                  </a:cubicBezTo>
                </a:path>
              </a:pathLst>
            </a:custGeom>
            <a:noFill/>
            <a:ln w="316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96040" y="2624040"/>
              <a:ext cx="165240" cy="16524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196040" y="2617920"/>
              <a:ext cx="165240" cy="17136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934320" y="2666880"/>
                <a:ext cx="261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117360" y="3567240"/>
            <a:ext cx="3784680" cy="1920600"/>
            <a:chOff x="117360" y="3567240"/>
            <a:chExt cx="3784680" cy="1920600"/>
          </a:xfrm>
        </p:grpSpPr>
        <p:sp>
          <p:nvSpPr>
            <p:cNvPr id="139" name=""/>
            <p:cNvSpPr/>
            <p:nvPr/>
          </p:nvSpPr>
          <p:spPr>
            <a:xfrm>
              <a:off x="117360" y="3567240"/>
              <a:ext cx="3784680" cy="1920600"/>
            </a:xfrm>
            <a:prstGeom prst="roundRect">
              <a:avLst>
                <a:gd name="adj" fmla="val 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3160" y="3567240"/>
              <a:ext cx="3493080" cy="1902600"/>
            </a:xfrm>
            <a:prstGeom prst="roundRect">
              <a:avLst>
                <a:gd name="adj" fmla="val 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GB" sz="2000" spc="-1" strike="noStrike">
                  <a:solidFill>
                    <a:srgbClr val="00ffff"/>
                  </a:solidFill>
                  <a:latin typeface="Times New Roman"/>
                  <a:ea typeface="SimSun"/>
                </a:rPr>
                <a:t>Muon polar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GB" sz="2000" spc="-1" strike="noStrike">
                  <a:solidFill>
                    <a:srgbClr val="f0e500"/>
                  </a:solidFill>
                  <a:latin typeface="Times New Roman"/>
                  <a:ea typeface="SimSun"/>
                </a:rPr>
                <a:t>Muon storage 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GB" sz="2000" spc="-1" strike="noStrike">
                  <a:solidFill>
                    <a:srgbClr val="ff0066"/>
                  </a:solidFill>
                  <a:latin typeface="Times New Roman"/>
                  <a:ea typeface="SimSun"/>
                </a:rPr>
                <a:t>injection &amp; kic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GB" sz="2000" spc="-1" strike="noStrike">
                  <a:solidFill>
                    <a:srgbClr val="99ff66"/>
                  </a:solidFill>
                  <a:latin typeface="Times New Roman"/>
                  <a:ea typeface="SimSun"/>
                </a:rPr>
                <a:t>focus by  Electric Quadrup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66ff33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ff33"/>
                  </a:solidFill>
                  <a:latin typeface="Times New Roman"/>
                  <a:ea typeface="SimSu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 electron calorimet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951080" y="4419720"/>
            <a:ext cx="2174400" cy="1348920"/>
            <a:chOff x="4951080" y="4419720"/>
            <a:chExt cx="2174400" cy="1348920"/>
          </a:xfrm>
        </p:grpSpPr>
        <p:sp>
          <p:nvSpPr>
            <p:cNvPr id="142" name=""/>
            <p:cNvSpPr/>
            <p:nvPr/>
          </p:nvSpPr>
          <p:spPr>
            <a:xfrm flipH="1">
              <a:off x="5027400" y="4419720"/>
              <a:ext cx="1603080" cy="1065240"/>
            </a:xfrm>
            <a:prstGeom prst="line">
              <a:avLst/>
            </a:prstGeom>
            <a:ln w="9360">
              <a:solidFill>
                <a:srgbClr val="f0e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5509800" y="4951440"/>
              <a:ext cx="1615680" cy="435960"/>
              <a:chOff x="5509800" y="4951440"/>
              <a:chExt cx="1615680" cy="435960"/>
            </a:xfrm>
          </p:grpSpPr>
          <p:sp>
            <p:nvSpPr>
              <p:cNvPr id="144" name=""/>
              <p:cNvSpPr/>
              <p:nvPr/>
            </p:nvSpPr>
            <p:spPr>
              <a:xfrm>
                <a:off x="5638680" y="4951440"/>
                <a:ext cx="135756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09800" y="4952880"/>
                <a:ext cx="1615680" cy="43452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0e500"/>
                    </a:solidFill>
                    <a:latin typeface="Times New Roman"/>
                    <a:ea typeface="SimSun"/>
                  </a:rPr>
                  <a:t>R=711.2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H="1">
              <a:off x="4951080" y="5560920"/>
              <a:ext cx="235080" cy="152640"/>
            </a:xfrm>
            <a:prstGeom prst="line">
              <a:avLst/>
            </a:prstGeom>
            <a:ln w="9360">
              <a:solidFill>
                <a:srgbClr val="f0e5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104800" y="5332320"/>
              <a:ext cx="1031760" cy="436320"/>
              <a:chOff x="5104800" y="5332320"/>
              <a:chExt cx="1031760" cy="436320"/>
            </a:xfrm>
          </p:grpSpPr>
          <p:sp>
            <p:nvSpPr>
              <p:cNvPr id="148" name=""/>
              <p:cNvSpPr/>
              <p:nvPr/>
            </p:nvSpPr>
            <p:spPr>
              <a:xfrm>
                <a:off x="5183280" y="5332320"/>
                <a:ext cx="8762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04800" y="5334120"/>
                <a:ext cx="1031760" cy="43452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0e500"/>
                    </a:solidFill>
                    <a:latin typeface="Times New Roman"/>
                    <a:ea typeface="SimSun"/>
                  </a:rPr>
                  <a:t>d=9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629400" y="2895480"/>
            <a:ext cx="839880" cy="336600"/>
            <a:chOff x="6629400" y="2895480"/>
            <a:chExt cx="839880" cy="336600"/>
          </a:xfrm>
        </p:grpSpPr>
        <p:sp>
          <p:nvSpPr>
            <p:cNvPr id="151" name=""/>
            <p:cNvSpPr/>
            <p:nvPr/>
          </p:nvSpPr>
          <p:spPr>
            <a:xfrm>
              <a:off x="6629400" y="2895480"/>
              <a:ext cx="83988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45240" y="2895480"/>
              <a:ext cx="807840" cy="32076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33"/>
                  </a:solidFill>
                  <a:latin typeface="Times New Roman"/>
                  <a:ea typeface="SimSun"/>
                </a:rPr>
                <a:t>(1.45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2240" y="5486400"/>
            <a:ext cx="3173760" cy="1136160"/>
            <a:chOff x="2892240" y="5486400"/>
            <a:chExt cx="3173760" cy="1136160"/>
          </a:xfrm>
        </p:grpSpPr>
        <p:sp>
          <p:nvSpPr>
            <p:cNvPr id="154" name=""/>
            <p:cNvSpPr/>
            <p:nvPr/>
          </p:nvSpPr>
          <p:spPr>
            <a:xfrm flipV="1">
              <a:off x="4710240" y="6041520"/>
              <a:ext cx="468360" cy="23508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2240" y="6186600"/>
              <a:ext cx="2767680" cy="435960"/>
              <a:chOff x="2892240" y="6186600"/>
              <a:chExt cx="2767680" cy="435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24080" y="6186600"/>
                <a:ext cx="2305080" cy="36648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2240" y="6188040"/>
                <a:ext cx="2767680" cy="43452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99ff66"/>
                    </a:solidFill>
                    <a:latin typeface="Times New Roman"/>
                    <a:ea typeface="SimSun"/>
                  </a:rPr>
                  <a:t>Electric Quadrupo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V="1">
              <a:off x="5565600" y="5990760"/>
              <a:ext cx="260640" cy="351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797440" y="5486400"/>
                  <a:ext cx="26856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152280" y="5286240"/>
            <a:ext cx="3394080" cy="908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629400" y="838080"/>
            <a:ext cx="1752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arize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