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AF6-3F24-43FE-A4F7-6CE82D4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831-5776-4BA5-B4BB-B0F6905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22A-B770-41E6-8731-5EF8656F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BA8-02E9-447A-8EB9-8CAF80D4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660-4F47-4B4F-95D0-C444A7F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685-9C4F-4160-8A84-22943176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713-48E3-43BD-A29F-63E207B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95C-602F-4511-BF58-FACAC32E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273-80A8-4768-A4E6-85DA9F1E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6E6-8344-4A7A-AD78-A1D7370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90D-4D29-48F8-B618-82491B0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398-F961-41BA-B660-8A169CC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87A5-532D-4815-9CC2-FA73DEAC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9800" y="344520"/>
          <a:ext cx="7665840" cy="61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344520"/>
                    <a:ext cx="766584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5800" y="258840"/>
          <a:ext cx="723420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258840"/>
                    <a:ext cx="7234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7680" y="19080"/>
          <a:ext cx="864864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9080"/>
                    <a:ext cx="8648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285840"/>
            <a:ext cx="8153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03:52:02Z</dcterms:created>
  <dc:creator>Charles H. Bennett</dc:creator>
  <dc:description/>
  <dc:language>en-US</dc:language>
  <cp:lastModifiedBy>Charles H. Bennett</cp:lastModifiedBy>
  <dcterms:modified xsi:type="dcterms:W3CDTF">2001-04-21T01:35:14Z</dcterms:modified>
  <cp:revision>5</cp:revision>
  <dc:subject/>
  <dc:title>PowerPoint Presentation</dc:title>
</cp:coreProperties>
</file>