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10080625" cy="7559675"/>
  <p:notesSz cx="7772400" cy="10058400"/>
  <p:custShowLst>
    <p:custShow name="A" id="0">
      <p:sldLst>
        <p:sld r:id="rId4"/>
      </p:sldLst>
    </p:custShow>
    <p:custShow name="B" id="1">
      <p:sldLst>
        <p:sld r:id="rId17"/>
      </p:sldLst>
    </p:custShow>
    <p:custShow name="A1" id="2">
      <p:sldLst>
        <p:sld r:id="rId5"/>
      </p:sldLst>
    </p:custShow>
    <p:custShow name="A2" id="3">
      <p:sldLst>
        <p:sld r:id="rId9"/>
      </p:sldLst>
    </p:custShow>
    <p:custShow name="A3" id="4">
      <p:sldLst>
        <p:sld r:id="rId13"/>
      </p:sldLst>
    </p:custShow>
    <p:custShow name="A11" id="5">
      <p:sldLst>
        <p:sld r:id="rId6"/>
      </p:sldLst>
    </p:custShow>
    <p:custShow name="A12" id="6">
      <p:sldLst>
        <p:sld r:id="rId7"/>
      </p:sldLst>
    </p:custShow>
    <p:custShow name="A13" id="7">
      <p:sldLst>
        <p:sld r:id="rId8"/>
      </p:sldLst>
    </p:custShow>
    <p:custShow name="A21" id="8">
      <p:sldLst>
        <p:sld r:id="rId10"/>
      </p:sldLst>
    </p:custShow>
    <p:custShow name="A22" id="9">
      <p:sldLst>
        <p:sld r:id="rId11"/>
      </p:sldLst>
    </p:custShow>
    <p:custShow name="A23" id="10">
      <p:sldLst>
        <p:sld r:id="rId12"/>
      </p:sldLst>
    </p:custShow>
    <p:custShow name="B1" id="11">
      <p:sldLst>
        <p:sld r:id="rId18"/>
      </p:sldLst>
    </p:custShow>
    <p:custShow name="B2" id="12">
      <p:sldLst>
        <p:sld r:id="rId22"/>
      </p:sldLst>
    </p:custShow>
    <p:custShow name="B3" id="13">
      <p:sldLst>
        <p:sld r:id="rId26"/>
      </p:sldLst>
    </p:custShow>
    <p:custShow name="B11" id="14">
      <p:sldLst>
        <p:sld r:id="rId19"/>
      </p:sldLst>
    </p:custShow>
    <p:custShow name="B12" id="15">
      <p:sldLst>
        <p:sld r:id="rId20"/>
      </p:sldLst>
    </p:custShow>
    <p:custShow name="B13" id="16">
      <p:sldLst>
        <p:sld r:id="rId21"/>
      </p:sldLst>
    </p:custShow>
    <p:custShow name="B21" id="17">
      <p:sldLst>
        <p:sld r:id="rId23"/>
      </p:sldLst>
    </p:custShow>
    <p:custShow name="B22" id="18">
      <p:sldLst>
        <p:sld r:id="rId24"/>
      </p:sldLst>
    </p:custShow>
    <p:custShow name="B23" id="19">
      <p:sldLst>
        <p:sld r:id="rId25"/>
      </p:sldLst>
    </p:custShow>
    <p:custShow name="B31" id="20">
      <p:sldLst>
        <p:sld r:id="rId27"/>
      </p:sldLst>
    </p:custShow>
    <p:custShow name="B32" id="21">
      <p:sldLst>
        <p:sld r:id="rId28"/>
      </p:sldLst>
    </p:custShow>
    <p:custShow name="B33" id="22">
      <p:sldLst>
        <p:sld r:id="rId29"/>
      </p:sldLst>
    </p:custShow>
    <p:custShow name="A31" id="23">
      <p:sldLst>
        <p:sld r:id="rId14"/>
      </p:sldLst>
    </p:custShow>
    <p:custShow name="A32" id="24">
      <p:sldLst>
        <p:sld r:id="rId15"/>
      </p:sldLst>
    </p:custShow>
    <p:custShow name="A33" id="25">
      <p:sldLst>
        <p:sld r:id="rId1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BA69-2835-4B0C-B344-0F92EC7AF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97FF-0802-4556-ACB1-5DFD23602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A7C5-6D80-4381-8B0F-30C3FC6DE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DBD8-2407-48BD-84C6-21F57F489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F090-AB1E-47A7-9811-F3AFE43B0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9DA7-FA22-48EB-B56C-92CACFFD4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8E7B-467B-4D3D-8146-228744A92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4878-104C-41C1-8ED8-0D5903555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69C2-1F12-49F4-96FC-39A2140A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E77F-6A66-4145-8C19-9407449D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9A16-74FF-42CF-AC40-632F0DCB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0254-2AFC-4BA6-B784-1AF362D5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570F2D-2197-4C16-B24B-6988482971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5.xml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20.xml"/><Relationship Id="rId3" Type="http://schemas.openxmlformats.org/officeDocument/2006/relationships/slide" Target="slide24.xml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for Nested Hyperli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2.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A3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3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3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3.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3.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B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B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B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1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1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1.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1.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A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A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A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2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2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2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2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2.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2.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3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3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3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3.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3.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A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A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A1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1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1.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1.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A2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A2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A2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2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2.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SR Simbulan</dc:creator>
  <dc:description/>
  <dc:language>en-US</dc:language>
  <cp:lastModifiedBy>MSR Simbulan</cp:lastModifiedBy>
  <dcterms:modified xsi:type="dcterms:W3CDTF">2008-04-17T06:15:46Z</dcterms:modified>
  <cp:revision>11</cp:revision>
  <dc:subject/>
  <dc:title>Test for Nested Hyperlink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DF_LAST_URL">
    <vt:lpwstr>C:\Documents and Settings\Administrator\My Documents\OO Test\Hyperlinking test.odp</vt:lpwstr>
  </property>
</Properties>
</file>