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6B7-6807-4DD4-B3BA-6C18431B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8BA-96C0-4778-9328-82AC6C5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DFD-E1F4-4E53-8AB2-F8283EEB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006-4749-48C1-A665-3CE2A697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4CD-61FC-4D35-A5CA-ACF4DC7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EAF-57B8-4B63-BF0D-EC83A088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32A-B20F-46BC-B590-91AAEC0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E29-E5D9-4FBD-AC53-16E8E9B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947-7C44-4012-A51C-8FDEB2B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427-2D5E-4680-AA3F-40099B3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C92-B740-4EA1-ACD8-5E23C7F2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C94-CBE1-4DC6-AA62-9FCEAE1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1D43-6BDE-4D9C-8289-D612AD42E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2480" y="1599840"/>
            <a:ext cx="6324480" cy="2971800"/>
            <a:chOff x="1752480" y="1599840"/>
            <a:chExt cx="6324480" cy="29718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3428640" y="-76320"/>
              <a:ext cx="297180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6200000">
              <a:off x="3364560" y="158040"/>
              <a:ext cx="2818440" cy="5903640"/>
            </a:xfrm>
            <a:custGeom>
              <a:avLst/>
              <a:gdLst>
                <a:gd name="textAreaLeft" fmla="*/ 49680 w 2818440"/>
                <a:gd name="textAreaRight" fmla="*/ 2768760 w 2818440"/>
                <a:gd name="textAreaTop" fmla="*/ 49680 h 5903640"/>
                <a:gd name="textAreaBottom" fmla="*/ 5853960 h 5903640"/>
              </a:gdLst>
              <a:ahLst/>
              <a:rect l="textAreaLeft" t="textAreaTop" r="textAreaRight" b="textAreaBottom"/>
              <a:pathLst>
                <a:path w="21600" h="45241">
                  <a:moveTo>
                    <a:pt x="1302" y="0"/>
                  </a:moveTo>
                  <a:arcTo wR="1302" hR="1302" stAng="16200000" swAng="-5400000"/>
                  <a:lnTo>
                    <a:pt x="0" y="43939"/>
                  </a:lnTo>
                  <a:arcTo wR="1302" hR="1302" stAng="10800000" swAng="-5400000"/>
                  <a:lnTo>
                    <a:pt x="20298" y="45241"/>
                  </a:lnTo>
                  <a:arcTo wR="1302" hR="1302" stAng="5400000" swAng="-5400000"/>
                  <a:lnTo>
                    <a:pt x="21600" y="1302"/>
                  </a:lnTo>
                  <a:arcTo wR="1302" hR="130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3372120" y="154080"/>
              <a:ext cx="2818440" cy="5906160"/>
            </a:xfrm>
            <a:custGeom>
              <a:avLst/>
              <a:gdLst>
                <a:gd name="textAreaLeft" fmla="*/ 49680 w 2818440"/>
                <a:gd name="textAreaRight" fmla="*/ 2768760 w 2818440"/>
                <a:gd name="textAreaTop" fmla="*/ 49680 h 5906160"/>
                <a:gd name="textAreaBottom" fmla="*/ 5856480 h 5906160"/>
              </a:gdLst>
              <a:ahLst/>
              <a:rect l="textAreaLeft" t="textAreaTop" r="textAreaRight" b="textAreaBottom"/>
              <a:pathLst>
                <a:path w="21600" h="45261">
                  <a:moveTo>
                    <a:pt x="1302" y="0"/>
                  </a:moveTo>
                  <a:arcTo wR="1302" hR="1302" stAng="16200000" swAng="-5400000"/>
                  <a:lnTo>
                    <a:pt x="0" y="43959"/>
                  </a:lnTo>
                  <a:arcTo wR="1302" hR="1302" stAng="10800000" swAng="-5400000"/>
                  <a:lnTo>
                    <a:pt x="20298" y="45261"/>
                  </a:lnTo>
                  <a:arcTo wR="1302" hR="1302" stAng="5400000" swAng="-5400000"/>
                  <a:lnTo>
                    <a:pt x="21600" y="1302"/>
                  </a:lnTo>
                  <a:arcTo wR="1302" hR="1302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3:54:03Z</dcterms:created>
  <dc:creator>Matt LaPlante</dc:creator>
  <dc:description/>
  <dc:language>en-US</dc:language>
  <cp:lastModifiedBy>Matt LaPlante</cp:lastModifiedBy>
  <dcterms:modified xsi:type="dcterms:W3CDTF">2008-05-26T14:07:06Z</dcterms:modified>
  <cp:revision>4</cp:revision>
  <dc:subject/>
  <dc:title>Slide 1</dc:title>
</cp:coreProperties>
</file>