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0200" cy="383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45720" y="4860720"/>
            <a:ext cx="5202360" cy="4600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4022280" y="9723600"/>
            <a:ext cx="3071880" cy="506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tr-TR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9899E-540A-4176-B38B-D2024EE6749E}" type="slidenum">
              <a:rPr b="0" lang="tr-T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22640" y="972504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41639-889F-424C-A7DA-BC224615B19F}" type="slidenum">
              <a:rPr b="0" lang="tr-TR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82245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5120" y="3884760"/>
            <a:ext cx="82245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9280" y="76500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5120" y="388476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9280" y="388476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26481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120" y="765000"/>
            <a:ext cx="26481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97120" y="765000"/>
            <a:ext cx="26481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5120" y="3884760"/>
            <a:ext cx="26481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120" y="3884760"/>
            <a:ext cx="26481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97120" y="3884760"/>
            <a:ext cx="26481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5120" y="765000"/>
            <a:ext cx="8224560" cy="59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822456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401328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9280" y="765000"/>
            <a:ext cx="401328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44280"/>
            <a:ext cx="791496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9280" y="765000"/>
            <a:ext cx="401328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5120" y="388476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401328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9280" y="76500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9280" y="388476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5120" y="76500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9280" y="765000"/>
            <a:ext cx="401328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5120" y="3884760"/>
            <a:ext cx="8224560" cy="28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5120" y="765000"/>
            <a:ext cx="822456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db1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4360" y="44280"/>
            <a:ext cx="79149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080" y="579132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76760" y="2146320"/>
            <a:ext cx="305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op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58920" y="620640"/>
          <a:ext cx="5445000" cy="36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620640"/>
                    <a:ext cx="544500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81200" y="596880"/>
          <a:ext cx="8016840" cy="44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596880"/>
                    <a:ext cx="801684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781200" y="596880"/>
            <a:ext cx="801684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4:28:31Z</dcterms:created>
  <dc:creator/>
  <dc:description/>
  <dc:language>en-US</dc:language>
  <cp:lastModifiedBy>Gökcen ERASLAN (gokcene@uekae)</cp:lastModifiedBy>
  <dcterms:modified xsi:type="dcterms:W3CDTF">2011-03-21T08:38:06Z</dcterms:modified>
  <cp:revision>1157</cp:revision>
  <dc:subject/>
  <dc:title>Slide 1</dc:title>
</cp:coreProperties>
</file>