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F8A-A328-42A3-906C-4D60C3D4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ADC-75BF-4921-AFFC-13DE4CF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FCC-FD12-4387-A120-32D5B1E8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EDF-2085-403A-966B-3418432A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1C96-09CA-432D-9F73-06223478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DDB6-7F5A-4D33-A565-4093AA6A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6799-4525-4E35-9367-736ADFBD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3AC2-00A6-4BAF-B652-B546314F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4398-876B-4180-9238-474741C3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B4D4-D2D5-4767-8CEB-ED4B0B20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3A9-3E56-4B73-AA6B-B16CCEE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C5B-F26F-42C8-977F-93111846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C458-89DA-4E7E-91AF-9227596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CB8E-0486-42BF-AB06-3E1E3313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1D47-BA4E-494D-8205-D4BC2F1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B93-0F4B-46F6-8F85-54805B40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AC20-26AA-4103-BA7F-ADAF33CE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FAD-DB2D-4F81-B10A-84608AB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126-638C-4E1E-9D09-AD1B7943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4EE-CEA3-43A4-8CAC-FEBF73C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5EB-9A15-4C98-9DBB-59E6D724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991-2372-44F6-9B7C-F7A5549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19B-09A0-4B7B-BF62-F06BB2C0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807-17F2-4514-BBE5-04E7F63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lnSpc>
                <a:spcPct val="10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320" y="6324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5E5E8-FC59-401B-9325-B153211353E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12B00502-35D6-4194-BE95-365296E1D0F5}" type="slidenum">
              <a:rPr b="1" lang="en-GB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2640" y="2968560"/>
                <a:ext cx="3697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5368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19CC2-8141-49F4-B813-14DF8ECCE22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324480"/>
            <a:ext cx="190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-</a:t>
            </a:r>
            <a:fld id="{7705B8E3-7205-4590-8D61-A868854983F6}" type="slidenum">
              <a:rPr b="1" lang="en-GB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49400"/>
            <a:ext cx="78483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CHAPTER 4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Financial Environment: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kets, Institutions, and Interest R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nancial mar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ypes of financial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terminants of interest 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ield cur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at is a mark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market is a venue where goods and services are exchang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financial market is a place where individuals and organizations wanting to borrow funds are brought together with those having a surplus of fu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792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is capital transferred between savers and borrowers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5120" y="2017800"/>
            <a:ext cx="361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rect trans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vestment banking 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ncial intermed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95560" y="2017800"/>
          <a:ext cx="3782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017800"/>
                    <a:ext cx="378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6122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Physical location stock exchanges vs. Electronic dealer-based marke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ction market vs. Dealer market (Exchanges vs. O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YSE vs. Nasda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ces are narrow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51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2600" y="2676600"/>
            <a:ext cx="3810240" cy="2797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47840"/>
            <a:ext cx="779292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What four factors affect the cost of money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duction opport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preferences fo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cted inf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47920" y="2819520"/>
            <a:ext cx="83808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90920" y="3124080"/>
            <a:ext cx="68580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792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actors that cause exchange rates to fluctu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nges in relative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nges in country r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Buzzard</dc:creator>
  <dc:description/>
  <dc:language>en-US</dc:language>
  <cp:lastModifiedBy>Joe W. Byers</cp:lastModifiedBy>
  <cp:revision>0</cp:revision>
  <dc:subject/>
  <dc:title>CHAPTER 4 The Financial Environment: Markets, Institutions, and</dc:title>
</cp:coreProperties>
</file>