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7005638" cy="92265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05600" cy="9226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005600" cy="9226440"/>
          </a:xfrm>
          <a:custGeom>
            <a:avLst/>
            <a:gdLst>
              <a:gd name="textAreaLeft" fmla="*/ 360 w 7005600"/>
              <a:gd name="textAreaRight" fmla="*/ 7005240 w 7005600"/>
              <a:gd name="textAreaTop" fmla="*/ 360 h 9226440"/>
              <a:gd name="textAreaBottom" fmla="*/ 9226080 h 9226440"/>
            </a:gdLst>
            <a:ahLst/>
            <a:rect l="textAreaLeft" t="textAreaTop" r="textAreaRight" b="textAreaBottom"/>
            <a:pathLst>
              <a:path w="21600" h="28447">
                <a:moveTo>
                  <a:pt x="4" y="0"/>
                </a:moveTo>
                <a:arcTo wR="4" hR="4" stAng="16200000" swAng="-5400000"/>
                <a:lnTo>
                  <a:pt x="0" y="28443"/>
                </a:lnTo>
                <a:arcTo wR="4" hR="4" stAng="10800000" swAng="-5400000"/>
                <a:lnTo>
                  <a:pt x="21596" y="284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005600" cy="9226440"/>
          </a:xfrm>
          <a:custGeom>
            <a:avLst/>
            <a:gdLst>
              <a:gd name="textAreaLeft" fmla="*/ 360 w 7005600"/>
              <a:gd name="textAreaRight" fmla="*/ 7005240 w 7005600"/>
              <a:gd name="textAreaTop" fmla="*/ 360 h 9226440"/>
              <a:gd name="textAreaBottom" fmla="*/ 9226080 h 9226440"/>
            </a:gdLst>
            <a:ahLst/>
            <a:rect l="textAreaLeft" t="textAreaTop" r="textAreaRight" b="textAreaBottom"/>
            <a:pathLst>
              <a:path w="21600" h="28447">
                <a:moveTo>
                  <a:pt x="4" y="0"/>
                </a:moveTo>
                <a:arcTo wR="4" hR="4" stAng="16200000" swAng="-5400000"/>
                <a:lnTo>
                  <a:pt x="0" y="28443"/>
                </a:lnTo>
                <a:arcTo wR="4" hR="4" stAng="10800000" swAng="-5400000"/>
                <a:lnTo>
                  <a:pt x="21596" y="284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005600" cy="9226440"/>
          </a:xfrm>
          <a:custGeom>
            <a:avLst/>
            <a:gdLst>
              <a:gd name="textAreaLeft" fmla="*/ 360 w 7005600"/>
              <a:gd name="textAreaRight" fmla="*/ 7005240 w 7005600"/>
              <a:gd name="textAreaTop" fmla="*/ 360 h 9226440"/>
              <a:gd name="textAreaBottom" fmla="*/ 9226080 h 9226440"/>
            </a:gdLst>
            <a:ahLst/>
            <a:rect l="textAreaLeft" t="textAreaTop" r="textAreaRight" b="textAreaBottom"/>
            <a:pathLst>
              <a:path w="21600" h="28447">
                <a:moveTo>
                  <a:pt x="4" y="0"/>
                </a:moveTo>
                <a:arcTo wR="4" hR="4" stAng="16200000" swAng="-5400000"/>
                <a:lnTo>
                  <a:pt x="0" y="28443"/>
                </a:lnTo>
                <a:arcTo wR="4" hR="4" stAng="10800000" swAng="-5400000"/>
                <a:lnTo>
                  <a:pt x="21596" y="284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2"/>
          </p:nvPr>
        </p:nvSpPr>
        <p:spPr>
          <a:xfrm>
            <a:off x="3970440" y="0"/>
            <a:ext cx="303048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96640" y="691920"/>
            <a:ext cx="4608360" cy="345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386ca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386ca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33120" y="4381560"/>
            <a:ext cx="5133960" cy="41464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3"/>
          </p:nvPr>
        </p:nvSpPr>
        <p:spPr>
          <a:xfrm>
            <a:off x="0" y="8763120"/>
            <a:ext cx="303048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4"/>
          </p:nvPr>
        </p:nvSpPr>
        <p:spPr>
          <a:xfrm>
            <a:off x="3970440" y="8763120"/>
            <a:ext cx="303048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B78A68-0FFD-4393-8319-4EF64612142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197000" y="692280"/>
            <a:ext cx="461340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933120" y="4381560"/>
            <a:ext cx="5135400" cy="41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197000" y="692280"/>
            <a:ext cx="461340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933120" y="4381560"/>
            <a:ext cx="5135400" cy="41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197000" y="692280"/>
            <a:ext cx="461340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3120" y="4381560"/>
            <a:ext cx="5135400" cy="41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8CEA3-3B57-4C77-9A41-B1737556A3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5280" y="-76320"/>
            <a:ext cx="7539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86ca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47920" y="1066320"/>
            <a:ext cx="731016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47920" y="3412080"/>
            <a:ext cx="731016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30DA2-29C0-4983-BD5F-9A19C049FE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5280" y="-76320"/>
            <a:ext cx="7539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86ca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47920" y="1066320"/>
            <a:ext cx="356724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94080" y="1066320"/>
            <a:ext cx="356724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47920" y="3412080"/>
            <a:ext cx="356724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94080" y="3412080"/>
            <a:ext cx="356724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4B33A-F708-4850-BE3A-3F413A711B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95280" y="-76320"/>
            <a:ext cx="7539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86ca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47920" y="1066320"/>
            <a:ext cx="23536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19680" y="1066320"/>
            <a:ext cx="23536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91440" y="1066320"/>
            <a:ext cx="23536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47920" y="3412080"/>
            <a:ext cx="23536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19680" y="3412080"/>
            <a:ext cx="23536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91440" y="3412080"/>
            <a:ext cx="235368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C01F3-BC80-480F-B0F7-D0106AF51E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5280" y="-76320"/>
            <a:ext cx="7539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86ca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47920" y="1066320"/>
            <a:ext cx="731016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9d6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0AFE7-F0F6-44D8-98B6-7ED33D02A8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5280" y="-76320"/>
            <a:ext cx="7539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86ca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47920" y="1066320"/>
            <a:ext cx="731016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0877A-88CA-4E52-96A3-C66D378D64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-76320"/>
            <a:ext cx="7539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86ca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7920" y="1066320"/>
            <a:ext cx="356724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94080" y="1066320"/>
            <a:ext cx="356724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E33B8-4CBB-486C-ACEA-7195AE9275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5280" y="-76320"/>
            <a:ext cx="7539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86ca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E1B4E-B977-4CE8-BECF-50967D2681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95280" y="-76320"/>
            <a:ext cx="75391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9d6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C3C8A-FA48-4E8C-9582-3E8C480D57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-76320"/>
            <a:ext cx="7539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86ca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47920" y="1066320"/>
            <a:ext cx="356724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94080" y="1066320"/>
            <a:ext cx="356724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47920" y="3412080"/>
            <a:ext cx="356724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6BDA3-065A-4B08-AADB-FE490E3436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-76320"/>
            <a:ext cx="7539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86ca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47920" y="1066320"/>
            <a:ext cx="356724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4080" y="1066320"/>
            <a:ext cx="356724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94080" y="3412080"/>
            <a:ext cx="356724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FD31C-4C2A-4C5F-9EE2-937286A129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5280" y="-76320"/>
            <a:ext cx="7539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386ca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47920" y="1066320"/>
            <a:ext cx="356724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4080" y="1066320"/>
            <a:ext cx="356724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47920" y="3412080"/>
            <a:ext cx="7310160" cy="21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530AF-7500-4240-B570-5EA42F2CDB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907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5280" y="-76320"/>
            <a:ext cx="7539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386ca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86ca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47920" y="1066320"/>
            <a:ext cx="731016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2860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66880" indent="-22860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66880" indent="-22860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66880" indent="-22860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-7920"/>
            <a:ext cx="990720" cy="21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0" y="228240"/>
            <a:ext cx="98568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600" spc="-1" strike="noStrike">
                <a:solidFill>
                  <a:srgbClr val="ffffff"/>
                </a:solidFill>
                <a:latin typeface="Arial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6E00D9-430A-47A8-A643-A1D6DC09AAFA}" type="slidenum">
              <a:rPr b="0" lang="en-GB" sz="16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4920" y="174600"/>
            <a:ext cx="75438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86caf"/>
                </a:solidFill>
                <a:latin typeface="Arial"/>
              </a:rPr>
              <a:t>Findings and Understanding</a:t>
            </a:r>
            <a:endParaRPr b="1" lang="en-US" sz="3600" spc="-1" strike="noStrike">
              <a:solidFill>
                <a:srgbClr val="386ca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60560" y="26370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24200" y="2637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23344" t="0" r="0" b="0"/>
          <a:stretch/>
        </p:blipFill>
        <p:spPr>
          <a:xfrm>
            <a:off x="1258920" y="907920"/>
            <a:ext cx="3024000" cy="2952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292720" y="1125360"/>
            <a:ext cx="15112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916280"/>
            <a:ext cx="331164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993366"/>
                </a:solidFill>
                <a:uFillTx/>
                <a:latin typeface="Times New Roman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N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u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7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or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993366"/>
                </a:solidFill>
                <a:uFillTx/>
                <a:latin typeface="Times New Roman"/>
              </a:rPr>
              <a:t>=sccm / =sc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epo Time:  m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03280" y="4581360"/>
            <a:ext cx="3600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PJ5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OP: 1 (0.16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TR: 29 (0.16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TM: 6 (0.16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236000" y="1125360"/>
            <a:ext cx="12236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B22FC-4326-428F-AB36-B96D219EA4E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4920" y="174600"/>
            <a:ext cx="75438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86caf"/>
                </a:solidFill>
                <a:latin typeface="Arial"/>
              </a:rPr>
              <a:t>Investigation</a:t>
            </a:r>
            <a:endParaRPr b="1" lang="en-US" sz="3600" spc="-1" strike="noStrike">
              <a:solidFill>
                <a:srgbClr val="386ca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60560" y="26370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24200" y="2637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92720" y="1125360"/>
            <a:ext cx="1511280" cy="459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64000" y="1916280"/>
            <a:ext cx="331164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993366"/>
                </a:solidFill>
                <a:uFillTx/>
                <a:latin typeface="Times New Roman"/>
              </a:rPr>
              <a:t>SSV OP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N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uto Sto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7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0. Tor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993366"/>
                </a:solidFill>
                <a:uFillTx/>
                <a:latin typeface="Times New Roman"/>
              </a:rPr>
              <a:t>=sccm / =sc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epo Time:  m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03280" y="4581360"/>
            <a:ext cx="3600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PJ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OP:  2 (0.16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TR:  2 (0.16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TM:  1 (0.16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236000" y="1125360"/>
            <a:ext cx="1223640" cy="459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04000" y="2060640"/>
            <a:ext cx="433440" cy="216000"/>
          </a:xfrm>
          <a:prstGeom prst="rightArrow">
            <a:avLst>
              <a:gd name="adj1" fmla="val 50000"/>
              <a:gd name="adj2" fmla="val 50167"/>
            </a:avLst>
          </a:prstGeom>
          <a:solidFill>
            <a:srgbClr val="4bab2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380360" y="1989000"/>
            <a:ext cx="1295280" cy="398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993366"/>
                </a:solidFill>
                <a:uFillTx/>
                <a:latin typeface="Times New Roman"/>
              </a:rPr>
              <a:t>SSV C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52257" t="0" r="0" b="0"/>
          <a:stretch/>
        </p:blipFill>
        <p:spPr>
          <a:xfrm>
            <a:off x="1258920" y="1125360"/>
            <a:ext cx="3241800" cy="316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74FAA-D7DD-4BC2-8049-566C1E96FEB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332000" y="765000"/>
            <a:ext cx="746748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80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Comparison of process Log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　</a:t>
            </a:r>
            <a:br>
              <a:rPr sz="2400"/>
            </a:b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spike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187280" y="2637000"/>
            <a:ext cx="7345440" cy="3114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30324-147B-4950-837E-E61043F9F783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