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764-E73B-4A8F-8ACA-46190087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595-8F19-4391-94F8-C0CF15B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F3F-3587-4157-9335-1EC42BD5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E13-313C-4CCF-8889-26B4F0A9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666-FFF3-4B17-A145-CCFF105C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407-6A92-4605-9CF1-AB418B11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DCC-B7D0-4210-A2C1-4E3D3438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D62-D9E3-4847-9A2A-B17FC2C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10E-3C3D-4372-B5C2-32C1B8B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574-22A9-49DA-99BD-6767A82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5C4-A958-492F-A818-675004C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2F2-5278-4372-BCD1-4E34A29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08C-AA45-40A5-84A1-9F4A80783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500040" y="785880"/>
            <a:ext cx="185724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4"/>
          <p:cNvSpPr/>
          <p:nvPr/>
        </p:nvSpPr>
        <p:spPr>
          <a:xfrm>
            <a:off x="214200" y="2000160"/>
            <a:ext cx="1214640" cy="19288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hape 6"/>
          <p:cNvCxnSpPr>
            <a:stCxn id="41" idx="1"/>
            <a:endCxn id="42" idx="5"/>
          </p:cNvCxnSpPr>
          <p:nvPr/>
        </p:nvCxnSpPr>
        <p:spPr>
          <a:xfrm flipH="1" rot="16200000">
            <a:off x="-46440" y="1792440"/>
            <a:ext cx="1990800" cy="353880"/>
          </a:xfrm>
          <a:prstGeom prst="curvedConnector4">
            <a:avLst>
              <a:gd name="adj1" fmla="val -9151"/>
              <a:gd name="adj2" fmla="val 50397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33:15Z</dcterms:created>
  <dc:creator>Sun Microsystems GmbH</dc:creator>
  <dc:description/>
  <dc:language>en-US</dc:language>
  <cp:lastModifiedBy>Sun Microsystems GmbH</cp:lastModifiedBy>
  <dcterms:modified xsi:type="dcterms:W3CDTF">2008-09-09T10:34:17Z</dcterms:modified>
  <cp:revision>1</cp:revision>
  <dc:subject/>
  <dc:title>Slide 1</dc:title>
</cp:coreProperties>
</file>