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20F-BD7D-4E34-AC3B-AD4B9E89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FEA-C4FB-4F32-9DDB-AE131423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792-A0DF-458A-B127-D3146330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1E2-DDB7-4002-AF34-F5FCB0F8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CE2-68B0-494A-A73C-BF32115A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595-526F-4B9D-921B-86F396A5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F1D-F207-48A9-9913-5DB1334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274-B0F1-41AB-B2C2-24DEC23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7BE-402A-4FA5-B367-4CC5260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E2E-EB6A-458E-B142-9EDF218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4A2-237A-44EC-9519-73AAD36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CA2-557D-4B4E-BD52-9F984215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5A5-E8F5-4A59-8421-898EA6310D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sposa di Giovanni è andata negli Stati Uniti a lavorare e a fare un corso di 6 mesi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Giovanni, invece, ha assunto una bella cameriera per i lavori domestici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giorno sua suocera lo chiama per avvisarlo che ha intenzioni di cenare a casa sua quella ser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16720" y="6237360"/>
            <a:ext cx="2438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2193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cena questa vecchia signora non ha potuto fare a meno di notare quanto era attraente e sensuale la cameriera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opo la cena comincia a pensare che potrebbe esserci “qualcosa” tra suo genero e la cameriera, e fa alcuni commenti indiretti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la dei sacrifici che fa sua figlia in una terra che non conosce per guadagnare soldi per la sua famiglia, e quel tipo di cose..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eggendo i pensieri di sua suocera, Giovanni dic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So quello che starai pensando, ma ti posso assicurare che la relazione che ho con la cameriera è solo professionale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anno deciso entrambi di chiudere il tema e dopo cena la suocera è andata vi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533520"/>
            <a:ext cx="8458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settimana dopo, la cameriera dice a Giovanni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Dopo che tua suocera è venuta a cenare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il mestolo di argento per la zuppa è sparito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Non pensi che ce l’abbia lei?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Giovanni rispond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Cara, pensavo che quella vipera poteva essere tutto tranne una ladr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In ogni modo le manderò una e-mail solo per avere la sicurezz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lora le scriv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con una copia a sua moglie negli USA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lo per cattiveria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“Cara suocerina, non sto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he hai ”preso" il mestolo della zuppa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a casa mia, e non sto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he ”non hai preso" il mestol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lla zuppa, ma il fatto è che è sparit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a quando sei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tata qui a cena.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Il giorno dopo, Giovanni riceve una e-mail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a sua suocera – pure con una copia a sua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moglie – dicend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“Caro genero, non vogli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insinuare che “vai a letto" con la camerier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e non voglio insinuare che “non vai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a letto" con la cameriera, ma il fatto è che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se lei avesse dormito nel suo proprio letto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già avreste trovato il mestolo di zuppa che h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posato là, giusto sotto il cuscino..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TI ALLEGO U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REGALINO FINCHÉ NO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TORNI MIA FIGLI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431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uasogra_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343872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372360" y="6165720"/>
            <a:ext cx="253368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7:49:27Z</dcterms:created>
  <dc:creator>Temperaço</dc:creator>
  <dc:description/>
  <dc:language>en-US</dc:language>
  <cp:lastModifiedBy>Carlo</cp:lastModifiedBy>
  <dcterms:modified xsi:type="dcterms:W3CDTF">2003-07-12T18:15:00Z</dcterms:modified>
  <cp:revision>21</cp:revision>
  <dc:subject/>
  <dc:title>Apresentação do PowerPoint</dc:title>
</cp:coreProperties>
</file>