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EBB-A39C-43A6-824F-E550DB7E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438-9272-404B-88EF-2877C85D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D2A-9D04-49B8-BABA-933BD745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E8F-5091-4B6B-88B6-0A3CA68F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319-6B9A-4EF5-A576-20E71B3A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9C2-F284-4256-9EDF-B62F5B8B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76A-4417-4543-A2AB-51EF64F3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02D-98EC-4CD6-9B5F-49ED1F2E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431-8BA3-43C5-946D-0898AB6A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5BD-C99C-4D3C-8FE4-E018B4A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32C-0A7F-433B-AAF9-63F38433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449-CCD7-4735-AC65-59BC15F7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0FD36-105C-497D-A1D7-958D9DB10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4196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4196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41960" cy="444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5:11:46Z</dcterms:created>
  <dc:creator>Robert Regan</dc:creator>
  <dc:description/>
  <dc:language>en-US</dc:language>
  <cp:lastModifiedBy/>
  <cp:revision>1</cp:revision>
  <dc:subject/>
  <dc:title/>
</cp:coreProperties>
</file>