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A68-1C3C-4425-98E4-A9F6B8D5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BFF-FE58-4015-A28B-774E346D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CDC-4BD6-46F9-A108-E6EC4902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D28-841B-417F-82B5-A0C5D0F6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BED-BF62-4276-8B10-554E4521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04B-9421-4CBE-AD9F-191851E5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0B8-88E2-45AD-AEE1-E395872D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627-E1D5-4497-A792-F1CD3A1A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6BA-8A62-4D4A-BB77-6E66B32A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188-DE44-4D55-A441-A14B4C2A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3AC-2E73-4F7F-8CB0-08D2615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B83-1884-4101-92AF-85AE68C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9722-9377-4799-80AD-052C86010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vertical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5085720" y="3066840"/>
            <a:ext cx="4191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vertical tex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26T12:50:38Z</dcterms:modified>
  <cp:revision>1</cp:revision>
  <dc:subject/>
  <dc:title>PowerPoint Presentation</dc:title>
</cp:coreProperties>
</file>