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681-F67A-4B07-8157-6CD673DA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C28-52AD-4B33-82AA-B55F380A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F01-0779-44CA-9399-DF9BFB8B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5E6-6B6C-47CC-9981-2DEA23B2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FFAC-A776-41F0-B76A-10E200EE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7785-FB00-4AD2-BF8C-0F2E70F2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6E32-F4F8-41B0-AFC0-1291BAB1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C5F4-EF91-48CA-AFFB-8C53EAE8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0625-B207-4CC6-BBDB-932D5ADF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3CA5-3D14-4B7E-AD71-11F10FFD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B1FD-64C6-4694-9F79-892981CE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B2D-7314-4F77-B51D-690A15D3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219A-1CA0-4A33-A21A-9E9D5C6C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16CD-D282-4BA2-935C-08023CF1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EE7B-8E29-46FA-A782-CDA6ECC0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C65B-A381-4924-B1C5-65775446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2FF6-532C-49CD-ADDD-15876DB4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44C-9414-4009-BF1E-10AC34BB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779-909D-4710-BA86-A6DF5E29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FDF-79D8-4A93-AB70-868ABF7F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AE3-B5F0-46C3-A12A-285F454B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37B-8BF6-4D55-AA73-B519923C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EF9-95DB-4F52-844B-8D116FC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B1B-8B22-4F1F-A567-6F013656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311E-0135-4453-B30E-9CB3FF7D265A}" type="slidenum">
              <a:rPr b="0" lang="es-E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59F7-03D7-4D95-9BD9-AEBA4E7736CA}" type="slidenum">
              <a:rPr b="0" lang="es-E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Dedica 2 minutos a esta lectura.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 muy bonita!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763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o guardaba para una ocasión especial. Bien. Creo que ésta es la ocasión adecuad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522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e acercó a la cama y apoyó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l conjunto al lado de la ropa que llevaría a la funeraria: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u mujer acababa de morir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522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e giró hacia mí y me dijo: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“nunca guardes nada para una ocasión especial,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808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ada día que vives es una ocasión especial”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763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odavía pienso cómo me han cambiado la vida estas palabra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5228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hora leo más y limpio menos, me siento en la terraza.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049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... y admiro el panorama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n prestar atención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 los hierbajos del jardín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aso más tiempo con mi familia y mis amigos, y menos trabajand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2286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He entendido que la vida es un conjunto de experiencias para gozar, no para sobrevivir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guardo nada.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Uso los mejores vaso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odos los día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ntes de empezar a leer recuerda que no es una tontería....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522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e pongo el traje nuevo para ir al supermercado si me apetec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763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Ya no guardo mi mejor colonia para fiestas especiales, la uso todas las veces que me apetec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522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as frases “Un día..” y “uno de estos días...” han desaparecido de mi vocabulari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522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 merece la pena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hacerlo ahora.....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¿por qué esperar?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763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sé lo que habría hecho la mujer de mi amigo,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 hubiese sabido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que no estaría aquí mañan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reo que habría llamado a sus familiares y sus amigos más íntimos;</a:t>
            </a: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522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 lo mejor habría llamado a viejos amigos para disculparse por viejas peleas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e gusta pensar que habría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ido a un restaurante chino...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u preferid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286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on estas pequeñas cosas no hechas las que me molestarían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si supiera que tengo las horas contada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2286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an sólo las personas que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ienen un alma noble pueden realmente apreciarl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olesto porque dejaría de ver a los amigos que vería “uno de estos días”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522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olesto por no escribir esas cartas que quería escribir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“algún día”.....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olesto y triste porque no dije a mis hermanos y a mis hijos cuánto les quiero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2286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hora intento no guardar nada que añadiría risa y alegría a nuestras vidas...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522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ada día me digo a mi mismo que éste es un día especial.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ada día, cada hora, cada minuto es especial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 has recibido este mensaje es porque alguien te quiere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 estás demasiado ocupado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ara perder un par de minutos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y enviarlo a otras personas, y piensas “uno de estos días...”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15228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cuerda que ese día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puede estar muy lejos,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o puede que no llegue nunca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522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te TANTRA llegó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desde la India....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763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... Ahora, si estás realmente seguro de ti mismo...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mpieza a leer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2286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ontiene mensajes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muy útiles para el alm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 un TOTEM TANTRA NEPALES PARA LA BUENA SUERT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049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Ya ha dado la vuelta al mundo diez vece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INSTRUCCIONE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ARA LA VIDA: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2286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ome mucho arroz y dale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 la gente lo que espera de ti,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y hazlo a gust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prende de memoria tu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poesía favorita y no crea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odo lo que oye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763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gastes todo lo que posees y duerme menos de lo que te gustarí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uando digas "te amo",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dilo de verdad 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uando digas “lo siento",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ira a la otra persona a los ojos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5228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guanta un noviazgo por lo menos 6 meses antes de casarte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uento indio: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ree en el amor a primera vista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y no te rías nunca de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os sueños de los demás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ma profunda y apasionadamente..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7632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uedes salir herido, pero es la única forma de vivir la vida completamente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Habla despacio y piensa rápid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cuerda que el amor más grande, como todos los grandes éxitos, conlleva los riesgos mayore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uando pierdas, aprende;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y recuerda las tres “R”: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speto hacia ti mismo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speto hacia los demás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sponsabilidad por tus acto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2286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permitas que un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pequeño problema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tropee una gran amistad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uando te des cuenta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de haber cometido un error, corrígelo de inmediat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onríe cuando contestas al teléfono, quien te llame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lo notará en la voz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2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i amigo abrió el cajón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de la mesita de noche de su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mujer y sacó un paquetito envuelto en un papel blanc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522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ásate con una persona con la que te guste conversar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.... cuando llegue la vejez esta habilidad será más importante que cualquier otr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763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asa algún tiempo solo, abre los brazos a los cambios pero no pierdas nunca tus valores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2286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cuerda que a veces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el silencio es la mejor respuest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049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ee más libro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y mira menos la tele. 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Vive un vida buena y honrada: cuando seas viejo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y recuerdes el pasado,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3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odrás gozar de ello una segunda vez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onfía en Dios, pero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cierra bien tu casa al salir..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Un ambiente de amor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n casa es importante: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haz todo lo que pueda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ara crear un ambiente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ranquilo y armonioso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2286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Éste, dijo, no es un simple paquete, es ropa interior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522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ee entre líneas y comparte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tus conocimientos.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 una forma de ser inmortal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e bueno con el planet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522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interrumpas a alguien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que te demuestra cariñ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Preocúpate de tus asunto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522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confíes en los que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no cierran los ojos al besart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3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Una vez al año visita un lugar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en el que nunca has estad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i ganas mucho dinero,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yuda a los que lo necesitan mientras viva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522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ta es la mayor riqueza que el dinero te podrá ofrecer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522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cuerda que no obtener lo que quieres a veces es una suert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763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Aprende todas las regla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y luego infringe algun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iró el papel y observó la preciosa seda del conjunt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7632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cuerda que la mejor relación es aquella donde el amor entre dos personas es más grande que la necesidad  del uno por el otr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763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Juzga tu éxito en relación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a lo que tienes que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renunciar para ell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522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No guardes este mensaje; el TOTEM TANTRA  tiene que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 estar lejos de tus manos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n 96 horas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nvía copias y observa lo que ocurre en los siguientes 4 días.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…</a:t>
            </a: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endrás una agradable sorpresa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763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s la verdad aunque no seas supersticioso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Envía este mensaje por lo menos a 5 personas y tu vida mejorará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0-4 personas: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u vida mejorará ligeramente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3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5-9 personas: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tu vida mejorará </a:t>
            </a:r>
            <a:br>
              <a:rPr sz="4400"/>
            </a:b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según tus expectativas!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763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9-14 personas: tendrás por lo menos 5 sorpresas en las próximas tres semanas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52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“</a:t>
            </a: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Lo compró la primera vez que fuimos a New York, hace 8 ó 9 años... Nunca lo usó.”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763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15 o más personas: tu vida mejorará radicalmente......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049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795241"/>
                </a:solidFill>
                <a:latin typeface="Times New Roman"/>
              </a:rPr>
              <a:t>..... y todo lo que siempre has soñado se cumplirá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16:53:44Z</dcterms:created>
  <dc:creator>..........da Magica</dc:creator>
  <dc:description/>
  <dc:language>en-US</dc:language>
  <cp:lastModifiedBy>45490148</cp:lastModifiedBy>
  <dcterms:modified xsi:type="dcterms:W3CDTF">2004-09-06T11:55:45Z</dcterms:modified>
  <cp:revision>25</cp:revision>
  <dc:subject>Tantra e Chakra </dc:subject>
  <dc:title> Dedica due minuti a questa lettura, è molto bella.</dc:title>
</cp:coreProperties>
</file>