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5A8-F02B-4079-A22E-AA143FFA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72B-95EE-4AB1-B5BA-EBFE70E2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463-EA1E-4A8F-BB79-7AE96B39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38A-2601-49E3-B81F-97773129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B2A3-4A78-44D9-B047-B80D9FE2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4D75-5D0A-47FA-8994-EA1E194D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8E27-36CF-4FD7-BDF4-D655FA5E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3CB3-E570-4C76-9E3D-5344A594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818B-840A-49D3-8438-E7461F4C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DCA5-784E-4DF4-BA48-9F6A5778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C601-3BAE-4E02-912B-535649CE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A4D-67C9-4DEE-89DB-FC485294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F5CC-A6E4-45B9-99CD-2AC3BEE6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B4D4-0905-43FB-B6F1-FB1FF34E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8C37-7731-4C68-9E40-7F5C9E5F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C327-7C04-4F0F-842B-C6B5754B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157B-9553-4D83-B41E-8212C61E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2558-5F33-412B-9FD3-C9EAA5FA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55F-01C7-4B16-B06D-CC3CABB6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8ABE-281D-43C3-9382-7ADBB5DA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0A6-7914-4B63-A3BB-63C76AF4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663-197F-4729-AA36-B9A2FAB3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7C4-563D-4263-BECE-4A7A2086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6A5-51C3-470B-985B-E36A0044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AD81-AB47-47FE-9ACF-E92F20FB6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0348-4F69-433A-8410-2B5413559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99"/>
                </a:solidFill>
                <a:latin typeface="Times New Roman"/>
              </a:rPr>
              <a:t>בעיות נבחרות במדעי המחשב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המחלקה להוראת הטכנולוגיה והמדעים, הטכניו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סמסטר ב’, תשס"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oding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5238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98108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מה קורה כאשר פרוייקט תוכנה נמצא בפיגור ומתווספים מתכנתים חדשים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743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733920"/>
            <a:ext cx="6781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תוספת כוח אדם זו עלולה לגרום לעיכוב גדול עוד יותר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4876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מדוע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oding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5238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743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133720"/>
            <a:ext cx="81532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* יש לאמן את ה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ff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החד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* אופייה של עבודת התכנות מחייבת תקשורת במהלך העבודה, ולכן, המתכנתים מתקשרים זה עם זה. אבל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oup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ople can mee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(n-1)/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ifferent pairs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ubling a group from 3 programmers to 6, increases the number of meetings they can hold by a factor of 5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800" spc="-1" strike="noStrike">
                <a:solidFill>
                  <a:srgbClr val="ffffff"/>
                </a:solidFill>
                <a:latin typeface="Times New Roman"/>
              </a:rPr>
              <a:t>מדוע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תוספת כוח זו עלולה להגדיל את העיכוב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066680"/>
            <a:ext cx="80769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</a:rPr>
              <a:t>מטרו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מציאת בגים בתוכנית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בחינת “קבלה”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nce testing</a:t>
            </a:r>
            <a:r>
              <a:rPr b="0" i="1" lang="he-IL" sz="28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        האם התוכנית עונה על דרישות המזמין/המשתמ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–</a:t>
            </a:r>
            <a:br>
              <a:rPr sz="44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aintenance &amp; Evolutio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2514600"/>
            <a:ext cx="838188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יחידים וארגונים מעדיפים בדרך-כלל לערוך שינויים במערכת קיימת במקום רכישה של מערכת חדשה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הפתעה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לפעמים </a:t>
            </a:r>
            <a:r>
              <a:rPr b="0" lang="he-IL" sz="2800" spc="-1" strike="noStrike" u="sng">
                <a:solidFill>
                  <a:srgbClr val="ffffff"/>
                </a:solidFill>
                <a:uFillTx/>
                <a:latin typeface="Times New Roman"/>
              </a:rPr>
              <a:t>עלות התחזוקה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של מערכת תוכנה יכולה להיות גבוהה עד פי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-4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מעלותה המקורית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תובנה של תופעה זו היוותה את אחד הגורמים בפיתוח התחום של הנדסת תוכנה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engineering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82880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cience of the developmen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200" spc="-1" strike="noStrike">
                <a:solidFill>
                  <a:srgbClr val="ffffff"/>
                </a:solidFill>
                <a:latin typeface="Times New Roman"/>
              </a:rPr>
              <a:t> פיתוח מערכות תוכנה הוא בדרך כלל תהליך ארוך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200" spc="-1" strike="noStrike">
                <a:solidFill>
                  <a:srgbClr val="ffffff"/>
                </a:solidFill>
                <a:latin typeface="Times New Roman"/>
              </a:rPr>
              <a:t> תהליך זה נקרא מחזור חיי תוכנה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life cycle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200" spc="-1" strike="noStrike">
                <a:solidFill>
                  <a:srgbClr val="ffffff"/>
                </a:solidFill>
                <a:latin typeface="Times New Roman"/>
              </a:rPr>
              <a:t>ראינו שתי גישות לבחינת המושג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ocess vs. product oriented perspective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main phases</a:t>
            </a:r>
            <a:br>
              <a:rPr sz="4400"/>
            </a:b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urce: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h! Pascal! By Cooper and Clancy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133720"/>
            <a:ext cx="8153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ecific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software’s 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Softw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or co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completed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ntena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evolution of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133720"/>
            <a:ext cx="815328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בשלב זה מנסים לענות על השאלה "מה התוכנה צריכה לעשות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?"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התשובה לשאלה צריכה להיות מנוסחת בצורה כזו שתהיה מובנת למעצב התוכנה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בשלב זה צריך להתייחס לשאלות כמו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cont.)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523880"/>
            <a:ext cx="8153280" cy="44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4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מה יהיה הקלטים של התוכנה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איזה פלט התוכנה צריכה להפיק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מהו סוג האנשים שישתמשו במערכת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באיזה מהירות על המערכת לעבוד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(מקוונת או לא, וכו'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האם כיווני התפתחותה של המערכת בעתיד ידועים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אם כן- מהם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אם לא – אילו כיווני התפתחות אפשריים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</a:t>
            </a:r>
            <a:r>
              <a:rPr b="0" lang="he-IL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–</a:t>
            </a:r>
            <a:r>
              <a:rPr b="0" lang="he-IL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Requirements specificatio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200" y="2165400"/>
            <a:ext cx="868680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יכולות התוכנה (ומגבלותיה) מנוסחים באופן פורמלי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בעוד שבשלב הראשון (הניתוח) מטרת המערכת נוסחה באופן כללי, בשלב הזה (אפיון הדרישות) מנסחים באופן מפורט מה המערכת הגמורה תבצע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מסמך זה יהווה את ה”רפרנס” במהלך כל תהליך הפיתוח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מול מסמך זה תיבדק ותבחן המערכת הסופית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676520"/>
            <a:ext cx="883908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wo stages determin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hould be do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ign phase specifi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should be do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goa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267080"/>
            <a:ext cx="746748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ambiguities located in the requirements specification should be found and clarifi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etailed guide for the next step – cod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oding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8954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Times New Roman"/>
              </a:rPr>
              <a:t>שלב הקידוד מהווה כ- </a:t>
            </a:r>
            <a:r>
              <a:rPr b="0" lang="he-IL" sz="3200" spc="-1" strike="noStrike">
                <a:solidFill>
                  <a:srgbClr val="ffff00"/>
                </a:solidFill>
                <a:latin typeface="Times New Roman"/>
              </a:rPr>
              <a:t>20%</a:t>
            </a:r>
            <a:r>
              <a:rPr b="0" lang="he-IL" sz="3200" spc="-1" strike="noStrike">
                <a:solidFill>
                  <a:srgbClr val="ffff00"/>
                </a:solidFill>
                <a:latin typeface="Times New Roman"/>
              </a:rPr>
              <a:t> בלבד מזמן הפיתוח של מערכות תוכנ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ftware life cycle –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oding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828800"/>
            <a:ext cx="80773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מה ההבדל בין פעולת התכנות לבין פעילויות כמו עריכת דוחות כספיים או בניית בתים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886200"/>
            <a:ext cx="701028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בתחומים אלו: כמות העבודה שהושלמה פרופורציונלית בדרך-כלל לכמות המאמץ שהושקע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בתכנות: לפעמים המצב הוא הפוך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8T21:39:18Z</dcterms:created>
  <dc:creator>Orith</dc:creator>
  <dc:description/>
  <dc:language>en-US</dc:language>
  <cp:lastModifiedBy>Hazzan</cp:lastModifiedBy>
  <dcterms:modified xsi:type="dcterms:W3CDTF">2002-04-01T21:03:10Z</dcterms:modified>
  <cp:revision>432</cp:revision>
  <dc:subject/>
  <dc:title>בעיות נבחרות במדעי המחשב </dc:title>
</cp:coreProperties>
</file>