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79B-D575-4672-BBD3-2F2C75C9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01B-A698-4EF9-A08E-7453400F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998-B25F-4A9C-BD4E-62872793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DFC-F78D-4554-BA62-B2A53F82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9C1-76E3-4D48-B1BC-22EAC1FB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1A0-0344-4558-BA41-8A731E5B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DDE-874E-47D5-8740-DCEEA9F6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AA4-22B1-49A9-9262-180B1FC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3DC-019B-433C-8327-1627087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1C4-15DC-4680-B2D3-F163255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B7B-39F2-40AD-B0E6-2F2C3DF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7E7-E912-4D43-9F11-F65C76E1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1D28-7891-4254-8DC9-59DD43C2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133720"/>
            <a:ext cx="845352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国移动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终端管理平台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化培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准备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6800" y="2336400"/>
            <a:ext cx="845676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6800" y="2336400"/>
            <a:ext cx="845676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后检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程访问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ES2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日程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检查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en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准备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安装后检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远程访问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准备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安装后检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远程访问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ES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LES10 SP2 X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检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e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准备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装后检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6800" y="2336760"/>
            <a:ext cx="845676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远程访问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虚拟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