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A25-31CD-4539-8494-6F016FE9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E95-5477-4D37-B7A3-FDDF74E2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2E0-EC29-44B8-B2B7-FC92EDD7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E3F-B9DA-4281-B149-DC968A8E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5F4-9110-4C5E-957F-77FB480B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674-1106-4422-AF52-9D374867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B39-46EC-4A50-81F1-9FB80535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35D-FAFA-437F-A03E-693841E4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4D9-DA59-4A9E-B1C3-B24E3312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8DC-C427-4EB8-A1C8-8E7427A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2C8-17E0-4FD4-96C4-319F336A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BFB-9139-4467-B560-F43FF523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4327-F0A7-4E62-8AB3-F1014E97DB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28840" y="2571840"/>
          <a:ext cx="6095880" cy="1112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4:29:51Z</dcterms:created>
  <dc:creator>mako</dc:creator>
  <dc:description/>
  <dc:language>en-US</dc:language>
  <cp:lastModifiedBy>mako</cp:lastModifiedBy>
  <dcterms:modified xsi:type="dcterms:W3CDTF">2010-01-06T04:33:34Z</dcterms:modified>
  <cp:revision>1</cp:revision>
  <dc:subject/>
  <dc:title>スライド 1</dc:title>
</cp:coreProperties>
</file>