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2D6-6437-4AE7-B988-16BAC54C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5A2-486F-440A-A687-F16C561F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A09-7DE2-4587-804E-DB32799D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D77-64CA-4425-B715-50D84CC6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10C-4978-4416-A257-296A1673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884-347A-4D6A-9D20-5FAEC2DB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13E-591B-4BE9-9413-DD85BBB6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CAD-1CEC-483F-98DD-F33042B3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AC0-4BD4-471E-A448-64678C36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9BE-4D11-499E-9CF5-03CF6673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4FE-8648-4C09-AE9D-E7CDAED5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FE8-815E-4158-A46B-8241C115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094E-8389-4E8E-A28C-2139D156B1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Accent SF"/>
              </a:rPr>
              <a:t>Wat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Accent SF"/>
              </a:rPr>
              <a:t>Th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Accent SF"/>
              </a:rPr>
              <a:t>Spa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xit" presetID="2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xit" presetID="2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xit" presetID="2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Accent SF"/>
              </a:rPr>
              <a:t>Presen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xit" presetID="29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Accent SF"/>
              </a:rPr>
              <a:t>How gre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Accent SF"/>
              </a:rPr>
              <a:t>is ou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4508640"/>
            <a:ext cx="70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933720"/>
            <a:ext cx="8353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99"/>
                </a:solidFill>
                <a:latin typeface="Accent SF"/>
              </a:rPr>
              <a:t>GO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8477280" cy="14083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2T19:48:15Z</dcterms:created>
  <dc:creator>Michael Brooks</dc:creator>
  <dc:description/>
  <dc:language>en-US</dc:language>
  <cp:lastModifiedBy>Michael Brooks</cp:lastModifiedBy>
  <dcterms:modified xsi:type="dcterms:W3CDTF">2006-09-21T18:06:37Z</dcterms:modified>
  <cp:revision>13</cp:revision>
  <dc:subject/>
  <dc:title>Slide 1</dc:title>
</cp:coreProperties>
</file>