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F9A-4A9E-4BEF-A003-E0702A1D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076-C28D-4867-8C15-E2879527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CBD-6D80-4A57-B4B0-973AEC75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F86-8FE1-4AB0-AAF1-B67F459A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340-A802-4614-A848-5C2A936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8B5-715C-49C8-8441-73D9CEB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74E-E0FB-4265-B9CB-4528B4D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21B-EC6B-46C3-B871-8C207A08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49E-BAAA-46E2-8CAC-C6C01C55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95B-4FC3-4834-A9EB-B540A98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622-71E2-4A66-B4FE-45CE13E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A31-500D-45F7-9355-0A1CF6CD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2780-BE27-4BB8-9F55-56F1B75914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14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2" idx="3"/>
            <a:endCxn id="41" idx="1"/>
          </p:cNvCxnSpPr>
          <p:nvPr/>
        </p:nvCxnSpPr>
        <p:spPr>
          <a:xfrm>
            <a:off x="1143000" y="1181160"/>
            <a:ext cx="609840" cy="990720"/>
          </a:xfrm>
          <a:prstGeom prst="bentConnector3">
            <a:avLst>
              <a:gd name="adj1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886200" y="990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981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3"/>
            <a:endCxn id="44" idx="1"/>
          </p:cNvCxnSpPr>
          <p:nvPr/>
        </p:nvCxnSpPr>
        <p:spPr>
          <a:xfrm flipV="1">
            <a:off x="3352680" y="1257120"/>
            <a:ext cx="53388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4382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133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838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838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9" idx="2"/>
            <a:endCxn id="48" idx="0"/>
          </p:cNvCxnSpPr>
          <p:nvPr/>
        </p:nvCxnSpPr>
        <p:spPr>
          <a:xfrm rot="5400000">
            <a:off x="5257440" y="1562040"/>
            <a:ext cx="762480" cy="3812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1" idx="2"/>
            <a:endCxn id="50" idx="0"/>
          </p:cNvCxnSpPr>
          <p:nvPr/>
        </p:nvCxnSpPr>
        <p:spPr>
          <a:xfrm flipH="1" rot="16200000">
            <a:off x="7200720" y="1371240"/>
            <a:ext cx="8384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57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1"/>
            <a:endCxn id="54" idx="3"/>
          </p:cNvCxnSpPr>
          <p:nvPr/>
        </p:nvCxnSpPr>
        <p:spPr>
          <a:xfrm flipV="1" rot="10800000">
            <a:off x="990360" y="3695760"/>
            <a:ext cx="609840" cy="12193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1"/>
            <a:endCxn id="56" idx="3"/>
          </p:cNvCxnSpPr>
          <p:nvPr/>
        </p:nvCxnSpPr>
        <p:spPr>
          <a:xfrm rot="10800000">
            <a:off x="3504960" y="3695400"/>
            <a:ext cx="609840" cy="11433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18148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0"/>
            <a:endCxn id="60" idx="2"/>
          </p:cNvCxnSpPr>
          <p:nvPr/>
        </p:nvCxnSpPr>
        <p:spPr>
          <a:xfrm flipV="1" rot="16200000">
            <a:off x="5410080" y="3847680"/>
            <a:ext cx="838800" cy="762480"/>
          </a:xfrm>
          <a:prstGeom prst="bentConnector3">
            <a:avLst>
              <a:gd name="adj1" fmla="val 500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143000" y="944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057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1371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1447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42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3736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4419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3" idx="0"/>
            <a:endCxn id="62" idx="2"/>
          </p:cNvCxnSpPr>
          <p:nvPr/>
        </p:nvCxnSpPr>
        <p:spPr>
          <a:xfrm flipH="1" flipV="1" rot="5400000">
            <a:off x="7657920" y="4114800"/>
            <a:ext cx="686160" cy="381240"/>
          </a:xfrm>
          <a:prstGeom prst="bentConnector3">
            <a:avLst>
              <a:gd name="adj1" fmla="val 500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382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H="1" rot="16200000">
            <a:off x="761040" y="2438280"/>
            <a:ext cx="1448640" cy="99108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 flipH="1" rot="16200000">
            <a:off x="1904040" y="2438280"/>
            <a:ext cx="1448640" cy="991080"/>
          </a:xfrm>
          <a:prstGeom prst="bentConnector3">
            <a:avLst>
              <a:gd name="adj1" fmla="val 208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/>
          <p:nvPr/>
        </p:nvCxnSpPr>
        <p:spPr>
          <a:xfrm flipH="1" rot="16200000">
            <a:off x="3275640" y="2438280"/>
            <a:ext cx="1448640" cy="991080"/>
          </a:xfrm>
          <a:prstGeom prst="bentConnector3">
            <a:avLst>
              <a:gd name="adj1" fmla="val -3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rot="16200000">
            <a:off x="4875840" y="2438280"/>
            <a:ext cx="1448640" cy="991080"/>
          </a:xfrm>
          <a:prstGeom prst="bentConnector3">
            <a:avLst>
              <a:gd name="adj1" fmla="val 778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6324480" y="2437920"/>
            <a:ext cx="1448640" cy="991440"/>
          </a:xfrm>
          <a:prstGeom prst="bentConnector3">
            <a:avLst>
              <a:gd name="adj1" fmla="val 892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rot="10800000">
            <a:off x="304200" y="4494960"/>
            <a:ext cx="1296000" cy="68652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837720" y="914400"/>
            <a:ext cx="114372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2133360" y="914400"/>
            <a:ext cx="1143720" cy="838800"/>
          </a:xfrm>
          <a:prstGeom prst="bentConnector3">
            <a:avLst>
              <a:gd name="adj1" fmla="val 20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>
            <a:off x="3352320" y="914400"/>
            <a:ext cx="1143720" cy="838800"/>
          </a:xfrm>
          <a:prstGeom prst="bentConnector3">
            <a:avLst>
              <a:gd name="adj1" fmla="val 17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/>
          <p:nvPr/>
        </p:nvCxnSpPr>
        <p:spPr>
          <a:xfrm>
            <a:off x="4343040" y="914400"/>
            <a:ext cx="1143720" cy="838800"/>
          </a:xfrm>
          <a:prstGeom prst="bentConnector3">
            <a:avLst>
              <a:gd name="adj1" fmla="val 758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>
            <a:off x="5790960" y="914400"/>
            <a:ext cx="1143720" cy="838800"/>
          </a:xfrm>
          <a:prstGeom prst="bentConnector3">
            <a:avLst>
              <a:gd name="adj1" fmla="val 903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rot="10800000">
            <a:off x="1370880" y="4494960"/>
            <a:ext cx="1296000" cy="686520"/>
          </a:xfrm>
          <a:prstGeom prst="bentConnector3">
            <a:avLst>
              <a:gd name="adj1" fmla="val 74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rot="10800000">
            <a:off x="2818800" y="4494960"/>
            <a:ext cx="1296000" cy="686520"/>
          </a:xfrm>
          <a:prstGeom prst="bentConnector3">
            <a:avLst>
              <a:gd name="adj1" fmla="val 932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rot="10800000">
            <a:off x="3961800" y="4494960"/>
            <a:ext cx="1296000" cy="686520"/>
          </a:xfrm>
          <a:prstGeom prst="bentConnector3">
            <a:avLst>
              <a:gd name="adj1" fmla="val 134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rot="10800000">
            <a:off x="5637960" y="4494960"/>
            <a:ext cx="1296360" cy="686520"/>
          </a:xfrm>
          <a:prstGeom prst="bentConnector3">
            <a:avLst>
              <a:gd name="adj1" fmla="val 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/>
          <p:nvPr/>
        </p:nvCxnSpPr>
        <p:spPr>
          <a:xfrm flipH="1" flipV="1" rot="5400000">
            <a:off x="380520" y="5638320"/>
            <a:ext cx="1219680" cy="6102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flipH="1" flipV="1" rot="5400000">
            <a:off x="1294920" y="5638320"/>
            <a:ext cx="1219680" cy="610200"/>
          </a:xfrm>
          <a:prstGeom prst="bentConnector3">
            <a:avLst>
              <a:gd name="adj1" fmla="val 242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flipV="1" rot="5400000">
            <a:off x="2361960" y="5638320"/>
            <a:ext cx="1219680" cy="610560"/>
          </a:xfrm>
          <a:prstGeom prst="bentConnector3">
            <a:avLst>
              <a:gd name="adj1" fmla="val 145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H="1" flipV="1" rot="5400000">
            <a:off x="3428640" y="5638320"/>
            <a:ext cx="1219680" cy="610200"/>
          </a:xfrm>
          <a:prstGeom prst="bentConnector3">
            <a:avLst>
              <a:gd name="adj1" fmla="val 798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flipV="1" rot="5400000">
            <a:off x="4571640" y="5638320"/>
            <a:ext cx="1219680" cy="610200"/>
          </a:xfrm>
          <a:prstGeom prst="bentConnector3">
            <a:avLst>
              <a:gd name="adj1" fmla="val 89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H="1" flipV="1" rot="5400000">
            <a:off x="6171840" y="5638320"/>
            <a:ext cx="1219680" cy="610200"/>
          </a:xfrm>
          <a:prstGeom prst="bentConnector3">
            <a:avLst>
              <a:gd name="adj1" fmla="val 10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 flipH="1" flipV="1">
            <a:off x="7391160" y="4494960"/>
            <a:ext cx="1296000" cy="686520"/>
          </a:xfrm>
          <a:prstGeom prst="bentConnector3">
            <a:avLst>
              <a:gd name="adj1" fmla="val -221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H="1" rot="16200000">
            <a:off x="7467480" y="2285640"/>
            <a:ext cx="1448640" cy="991440"/>
          </a:xfrm>
          <a:prstGeom prst="bentConnector3">
            <a:avLst>
              <a:gd name="adj1" fmla="val 1101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7162560" y="914400"/>
            <a:ext cx="1143720" cy="838800"/>
          </a:xfrm>
          <a:prstGeom prst="bentConnector3">
            <a:avLst>
              <a:gd name="adj1" fmla="val 1247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flipV="1" rot="5400000">
            <a:off x="7162560" y="5866920"/>
            <a:ext cx="1219680" cy="610560"/>
          </a:xfrm>
          <a:prstGeom prst="bentConnector3">
            <a:avLst>
              <a:gd name="adj1" fmla="val 141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07:07:40Z</dcterms:created>
  <dc:creator>sunying</dc:creator>
  <dc:description/>
  <dc:language>en-US</dc:language>
  <cp:lastModifiedBy>sunying</cp:lastModifiedBy>
  <dcterms:modified xsi:type="dcterms:W3CDTF">2012-09-21T08:46:06Z</dcterms:modified>
  <cp:revision>35</cp:revision>
  <dc:subject/>
  <dc:title>幻灯片 1</dc:title>
</cp:coreProperties>
</file>