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92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8DE4-0A22-448B-9C85-1F2768305C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E882-84C1-4A8A-936D-A889D4FA3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BD5D-D050-48CE-B9FE-1E91F957E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0B5E-5C4E-4CA6-80F2-B322AF2AB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92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527-C44D-443C-AF98-FC942DEA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65D-0869-466D-AD3F-79D7C662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706-4D76-4946-9F6D-114F42EC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504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732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76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504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732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A51-8A20-4EF6-AE53-54B272D1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31D9-8F76-4BEE-BACD-8E48A844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4797-190F-45D0-A9C6-79EF6F58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741E-8BC1-4085-8ECD-510FD794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570F-296A-46C8-93BC-C50A8AC8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F8F8-C270-459B-A53E-1024FF72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3920" y="139680"/>
            <a:ext cx="868032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2B85-523E-4B85-8947-BB247DC2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335D-BD43-4289-97E4-89DF43E1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5AE-0CB2-4719-8E32-CE3C96AE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8654-FDC5-457C-8CAC-43F1BC75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29FF-79A9-42FA-ADE5-F01AA2D5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FEC7-A9CE-4D13-B9E2-1C2A186E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EF92-402E-4A7C-94FF-9BF86976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5504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732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1276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5504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732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ACBF-D814-46D2-A1D1-93892E7E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85E-6ABB-4E87-BD51-64483E10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319-FB1D-4601-9566-97C5F463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696-AD9A-4BCA-81EE-8ABCF4EC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3920" y="139680"/>
            <a:ext cx="868032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06B-A303-4132-AF84-61884A6F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E15-D374-4946-A44B-64875369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66A-D984-4495-A530-84F73F44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288-C150-4A71-AC0F-5CAAAC27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3B51-C5DA-49EA-AD17-49947F613DA5}" type="datetime5">
              <a:rPr b="0" lang="en-US" sz="1200" spc="-1" strike="noStrike">
                <a:solidFill>
                  <a:srgbClr val="ff9966"/>
                </a:solidFill>
                <a:latin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43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54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F333-A144-42C7-9DF3-ED3DEA059488}" type="slidenum">
              <a:rPr b="0" lang="en-US" sz="12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16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4AC7-3F66-40A1-83E5-3C2F162AFBA6}" type="datetime5">
              <a:rPr b="0" lang="en-US" sz="1400" spc="-1" strike="noStrike">
                <a:solidFill>
                  <a:srgbClr val="ff9966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14360" y="6392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054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EBB5-C649-4E59-B3DD-DDADD849E7F0}" type="slidenum">
              <a:rPr b="0" lang="en-US" sz="12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H="1" flipV="1">
            <a:off x="561960" y="2165400"/>
            <a:ext cx="473040" cy="2712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3920" y="163440"/>
            <a:ext cx="8680320" cy="78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 Narrow"/>
              </a:rPr>
              <a:t>Platelet Model (‘busy’ CA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89040" y="2133720"/>
            <a:ext cx="8072280" cy="1525320"/>
            <a:chOff x="689040" y="2133720"/>
            <a:chExt cx="8072280" cy="1525320"/>
          </a:xfrm>
        </p:grpSpPr>
        <p:grpSp>
          <p:nvGrpSpPr>
            <p:cNvPr id="91" name=""/>
            <p:cNvGrpSpPr/>
            <p:nvPr/>
          </p:nvGrpSpPr>
          <p:grpSpPr>
            <a:xfrm>
              <a:off x="689040" y="2133720"/>
              <a:ext cx="7678800" cy="1360440"/>
              <a:chOff x="689040" y="2133720"/>
              <a:chExt cx="7678800" cy="1360440"/>
            </a:xfrm>
          </p:grpSpPr>
          <p:sp>
            <p:nvSpPr>
              <p:cNvPr id="92" name=""/>
              <p:cNvSpPr/>
              <p:nvPr/>
            </p:nvSpPr>
            <p:spPr>
              <a:xfrm flipH="1">
                <a:off x="7207200" y="2133720"/>
                <a:ext cx="1160640" cy="1360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9040" y="2133720"/>
                <a:ext cx="1195200" cy="1360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89440" y="2151000"/>
                <a:ext cx="0" cy="1343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37080" y="2151000"/>
                <a:ext cx="0" cy="1343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095880" y="2151000"/>
                <a:ext cx="0" cy="1343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219320" y="3319560"/>
              <a:ext cx="7542000" cy="339480"/>
              <a:chOff x="1219320" y="3319560"/>
              <a:chExt cx="7542000" cy="3394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219320" y="3328920"/>
                <a:ext cx="6869160" cy="330120"/>
                <a:chOff x="1219320" y="3328920"/>
                <a:chExt cx="6869160" cy="3301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19320" y="3493800"/>
                  <a:ext cx="68439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088480" y="3328920"/>
                  <a:ext cx="0" cy="330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219320" y="3328920"/>
                  <a:ext cx="0" cy="330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8101080" y="3319560"/>
                <a:ext cx="660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0000"/>
                    </a:solidFill>
                    <a:latin typeface="Arial"/>
                  </a:rPr>
                  <a:t>draw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7542360" y="1611360"/>
            <a:ext cx="1187280" cy="522360"/>
            <a:chOff x="7542360" y="1611360"/>
            <a:chExt cx="1187280" cy="522360"/>
          </a:xfrm>
        </p:grpSpPr>
        <p:grpSp>
          <p:nvGrpSpPr>
            <p:cNvPr id="104" name=""/>
            <p:cNvGrpSpPr/>
            <p:nvPr/>
          </p:nvGrpSpPr>
          <p:grpSpPr>
            <a:xfrm>
              <a:off x="7961400" y="1611360"/>
              <a:ext cx="768240" cy="522360"/>
              <a:chOff x="7961400" y="1611360"/>
              <a:chExt cx="768240" cy="522360"/>
            </a:xfrm>
          </p:grpSpPr>
          <p:sp>
            <p:nvSpPr>
              <p:cNvPr id="105" name=""/>
              <p:cNvSpPr/>
              <p:nvPr/>
            </p:nvSpPr>
            <p:spPr>
              <a:xfrm>
                <a:off x="7961400" y="1611360"/>
                <a:ext cx="76824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967880" y="1703520"/>
                <a:ext cx="75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hole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7542360" y="1797120"/>
              <a:ext cx="432720" cy="152280"/>
              <a:chOff x="7542360" y="1797120"/>
              <a:chExt cx="432720" cy="152280"/>
            </a:xfrm>
          </p:grpSpPr>
          <p:sp>
            <p:nvSpPr>
              <p:cNvPr id="108" name=""/>
              <p:cNvSpPr/>
              <p:nvPr/>
            </p:nvSpPr>
            <p:spPr>
              <a:xfrm>
                <a:off x="7550280" y="1797120"/>
                <a:ext cx="424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42360" y="1949400"/>
                <a:ext cx="409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71440" y="1628640"/>
            <a:ext cx="1204920" cy="522360"/>
            <a:chOff x="271440" y="1628640"/>
            <a:chExt cx="1204920" cy="522360"/>
          </a:xfrm>
        </p:grpSpPr>
        <p:grpSp>
          <p:nvGrpSpPr>
            <p:cNvPr id="111" name=""/>
            <p:cNvGrpSpPr/>
            <p:nvPr/>
          </p:nvGrpSpPr>
          <p:grpSpPr>
            <a:xfrm>
              <a:off x="271440" y="1628640"/>
              <a:ext cx="768240" cy="522360"/>
              <a:chOff x="271440" y="1628640"/>
              <a:chExt cx="768240" cy="522360"/>
            </a:xfrm>
          </p:grpSpPr>
          <p:sp>
            <p:nvSpPr>
              <p:cNvPr id="112" name=""/>
              <p:cNvSpPr/>
              <p:nvPr/>
            </p:nvSpPr>
            <p:spPr>
              <a:xfrm>
                <a:off x="271440" y="1628640"/>
                <a:ext cx="76824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77920" y="1720800"/>
                <a:ext cx="75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ge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042920" y="1797120"/>
              <a:ext cx="433440" cy="152280"/>
              <a:chOff x="1042920" y="1797120"/>
              <a:chExt cx="433440" cy="152280"/>
            </a:xfrm>
          </p:grpSpPr>
          <p:sp>
            <p:nvSpPr>
              <p:cNvPr id="115" name=""/>
              <p:cNvSpPr/>
              <p:nvPr/>
            </p:nvSpPr>
            <p:spPr>
              <a:xfrm>
                <a:off x="1051200" y="1797120"/>
                <a:ext cx="42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42920" y="1949400"/>
                <a:ext cx="4096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1432080" y="1447920"/>
            <a:ext cx="6181560" cy="823680"/>
            <a:chOff x="1432080" y="1447920"/>
            <a:chExt cx="6181560" cy="823680"/>
          </a:xfrm>
        </p:grpSpPr>
        <p:grpSp>
          <p:nvGrpSpPr>
            <p:cNvPr id="118" name=""/>
            <p:cNvGrpSpPr/>
            <p:nvPr/>
          </p:nvGrpSpPr>
          <p:grpSpPr>
            <a:xfrm>
              <a:off x="3368520" y="1797120"/>
              <a:ext cx="801720" cy="152280"/>
              <a:chOff x="3368520" y="1797120"/>
              <a:chExt cx="801720" cy="152280"/>
            </a:xfrm>
          </p:grpSpPr>
          <p:sp>
            <p:nvSpPr>
              <p:cNvPr id="119" name=""/>
              <p:cNvSpPr/>
              <p:nvPr/>
            </p:nvSpPr>
            <p:spPr>
              <a:xfrm>
                <a:off x="3382920" y="1797120"/>
                <a:ext cx="787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68520" y="1949400"/>
                <a:ext cx="785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6837480" y="1447920"/>
              <a:ext cx="7761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10000"/>
                  </a:solidFill>
                  <a:latin typeface="Arial"/>
                  <a:ea typeface="Arial"/>
                </a:rPr>
                <a:t>∙∙∙</a:t>
              </a:r>
              <a:endParaRPr b="0" lang="en-US" sz="4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603520" y="1611360"/>
              <a:ext cx="768240" cy="522360"/>
              <a:chOff x="2603520" y="1611360"/>
              <a:chExt cx="768240" cy="522360"/>
            </a:xfrm>
          </p:grpSpPr>
          <p:sp>
            <p:nvSpPr>
              <p:cNvPr id="123" name=""/>
              <p:cNvSpPr/>
              <p:nvPr/>
            </p:nvSpPr>
            <p:spPr>
              <a:xfrm>
                <a:off x="2603520" y="1611360"/>
                <a:ext cx="76824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10000" y="1703520"/>
                <a:ext cx="75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4156200" y="1611360"/>
              <a:ext cx="768240" cy="522360"/>
              <a:chOff x="4156200" y="1611360"/>
              <a:chExt cx="768240" cy="522360"/>
            </a:xfrm>
          </p:grpSpPr>
          <p:sp>
            <p:nvSpPr>
              <p:cNvPr id="126" name=""/>
              <p:cNvSpPr/>
              <p:nvPr/>
            </p:nvSpPr>
            <p:spPr>
              <a:xfrm>
                <a:off x="4156200" y="1611360"/>
                <a:ext cx="76824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62680" y="1703520"/>
                <a:ext cx="75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5710320" y="1611360"/>
              <a:ext cx="768240" cy="522360"/>
              <a:chOff x="5710320" y="1611360"/>
              <a:chExt cx="768240" cy="522360"/>
            </a:xfrm>
          </p:grpSpPr>
          <p:sp>
            <p:nvSpPr>
              <p:cNvPr id="129" name=""/>
              <p:cNvSpPr/>
              <p:nvPr/>
            </p:nvSpPr>
            <p:spPr>
              <a:xfrm>
                <a:off x="5710320" y="1611360"/>
                <a:ext cx="76824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16800" y="1703520"/>
                <a:ext cx="75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432080" y="1447920"/>
              <a:ext cx="7761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10000"/>
                  </a:solidFill>
                  <a:latin typeface="Arial"/>
                  <a:ea typeface="Arial"/>
                </a:rPr>
                <a:t>∙∙∙</a:t>
              </a:r>
              <a:endParaRPr b="0" lang="en-US" sz="4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924440" y="1797120"/>
              <a:ext cx="801720" cy="152280"/>
              <a:chOff x="4924440" y="1797120"/>
              <a:chExt cx="801720" cy="152280"/>
            </a:xfrm>
          </p:grpSpPr>
          <p:sp>
            <p:nvSpPr>
              <p:cNvPr id="133" name=""/>
              <p:cNvSpPr/>
              <p:nvPr/>
            </p:nvSpPr>
            <p:spPr>
              <a:xfrm>
                <a:off x="4938840" y="1797120"/>
                <a:ext cx="787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924440" y="1949400"/>
                <a:ext cx="785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184480" y="1797120"/>
              <a:ext cx="433440" cy="152280"/>
              <a:chOff x="2184480" y="1797120"/>
              <a:chExt cx="433440" cy="152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192760" y="1797120"/>
                <a:ext cx="42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84480" y="1949400"/>
                <a:ext cx="4096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499080" y="1797120"/>
              <a:ext cx="433440" cy="152280"/>
              <a:chOff x="6499080" y="1797120"/>
              <a:chExt cx="433440" cy="152280"/>
            </a:xfrm>
          </p:grpSpPr>
          <p:sp>
            <p:nvSpPr>
              <p:cNvPr id="139" name=""/>
              <p:cNvSpPr/>
              <p:nvPr/>
            </p:nvSpPr>
            <p:spPr>
              <a:xfrm>
                <a:off x="6507360" y="1797120"/>
                <a:ext cx="42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499080" y="1949400"/>
                <a:ext cx="4096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4535640" y="3494160"/>
            <a:ext cx="0" cy="1342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79560" y="5056200"/>
            <a:ext cx="1868400" cy="237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21960" bIns="-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754440" y="4818240"/>
            <a:ext cx="3405240" cy="573840"/>
            <a:chOff x="3754440" y="4818240"/>
            <a:chExt cx="3405240" cy="573840"/>
          </a:xfrm>
        </p:grpSpPr>
        <p:grpSp>
          <p:nvGrpSpPr>
            <p:cNvPr id="144" name=""/>
            <p:cNvGrpSpPr/>
            <p:nvPr/>
          </p:nvGrpSpPr>
          <p:grpSpPr>
            <a:xfrm>
              <a:off x="5284800" y="5056200"/>
              <a:ext cx="1874880" cy="335880"/>
              <a:chOff x="5284800" y="5056200"/>
              <a:chExt cx="1874880" cy="335880"/>
            </a:xfrm>
          </p:grpSpPr>
          <p:sp>
            <p:nvSpPr>
              <p:cNvPr id="145" name=""/>
              <p:cNvSpPr/>
              <p:nvPr/>
            </p:nvSpPr>
            <p:spPr>
              <a:xfrm>
                <a:off x="5284800" y="5079960"/>
                <a:ext cx="1874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37400" y="5056200"/>
                <a:ext cx="992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scree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754440" y="4818240"/>
              <a:ext cx="1574640" cy="522000"/>
              <a:chOff x="3754440" y="4818240"/>
              <a:chExt cx="1574640" cy="522000"/>
            </a:xfrm>
          </p:grpSpPr>
          <p:sp>
            <p:nvSpPr>
              <p:cNvPr id="148" name=""/>
              <p:cNvSpPr/>
              <p:nvPr/>
            </p:nvSpPr>
            <p:spPr>
              <a:xfrm>
                <a:off x="3754440" y="4818240"/>
                <a:ext cx="1574640" cy="522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68280" y="4910040"/>
                <a:ext cx="1145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display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304920" y="4786200"/>
            <a:ext cx="1958400" cy="1436760"/>
            <a:chOff x="304920" y="4786200"/>
            <a:chExt cx="1958400" cy="1436760"/>
          </a:xfrm>
        </p:grpSpPr>
        <p:sp>
          <p:nvSpPr>
            <p:cNvPr id="151" name=""/>
            <p:cNvSpPr/>
            <p:nvPr/>
          </p:nvSpPr>
          <p:spPr>
            <a:xfrm>
              <a:off x="1066680" y="5308560"/>
              <a:ext cx="0" cy="914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69840" y="5637240"/>
              <a:ext cx="129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keyboar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04920" y="4786200"/>
              <a:ext cx="1574640" cy="522360"/>
              <a:chOff x="304920" y="4786200"/>
              <a:chExt cx="1574640" cy="52236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4786200"/>
                <a:ext cx="157464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1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8760" y="4878360"/>
                <a:ext cx="1145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10000"/>
                    </a:solidFill>
                    <a:latin typeface="Arial"/>
                  </a:rPr>
                  <a:t>keywatch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P.H.Wel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036-72B3-4C84-8BC0-752B412B7A4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1757D-181C-42BB-80F9-6AB4A3218BED}" type="datetime5">
              <a:rPr lang="en-US"/>
              <a:t>Jul 29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12:36:37Z</dcterms:created>
  <dc:creator>Peter Welch</dc:creator>
  <dc:description/>
  <dc:language>en-US</dc:language>
  <cp:lastModifiedBy>Christian Günther</cp:lastModifiedBy>
  <cp:lastPrinted>2000-05-05T18:16:33Z</cp:lastPrinted>
  <dcterms:modified xsi:type="dcterms:W3CDTF">2005-11-01T18:46:20Z</dcterms:modified>
  <cp:revision>1318</cp:revision>
  <dc:subject/>
  <dc:title>Mobile Data Types for Communicating Processes</dc:title>
</cp:coreProperties>
</file>