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C87-21E1-4198-9EDE-EB71DF27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7A0-03B1-4257-9170-9B5E8F7D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67C-4455-48A3-A811-D321C54D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BBE-D540-4087-8CC4-57B28105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A07-80D1-4A4C-A954-C40784FE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28A-16B7-47DE-9A3D-73B88C57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3B5-2059-4BF1-83E8-6AD7418E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1EE-0315-45F9-AA41-EECBF4F5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FBC-CE62-4A35-91D7-1524C4DC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298-F871-4EB0-A02F-65BA024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54C-773E-4D81-A89E-F57411F8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E6E-7F91-4ADB-97CB-824A7BD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573FB-E3ED-4D41-A36D-F7A1953F2C6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863640" indent="-6462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863640" indent="-6462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863640" indent="-6462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j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863640" indent="-6462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což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3:32:32Z</dcterms:created>
  <dc:creator/>
  <dc:description/>
  <dc:language>en-US</dc:language>
  <cp:lastModifiedBy>yifan </cp:lastModifiedBy>
  <dcterms:modified xsi:type="dcterms:W3CDTF">2013-01-15T13:22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