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4920" cy="40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D5E2-849A-45D5-BCB6-083EC38197A9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EEB9-42B0-4D1B-BF9C-22D60A4AA253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46DE-7E06-4AB5-AB32-CD7A1B176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9DDC-EC96-4E65-9710-BBDB033E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8F7E-B887-4D7E-9A14-02CA7AAFF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48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D311-80B1-4626-8057-4D92C4396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3EBA-AC13-4BBE-8BDE-41D08695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F313-D7FE-4EF3-9DB9-095782F8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C2A1-FB9C-4776-B8A7-801D89E4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5DE6-2475-4A56-BF93-6DF27C1B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72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3246-D24A-413A-8473-87044989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B9D7-C62E-45A3-ADDB-60E4DFB5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45D4-4055-4A7F-B75E-C6FCADC8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D438-4872-4167-B0F9-2D83C8F9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936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7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E7B2-3245-4091-B0CC-99A0EB117842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ightTriangleTopUp"/>
          <p:cNvSpPr/>
          <p:nvPr/>
        </p:nvSpPr>
        <p:spPr>
          <a:xfrm>
            <a:off x="1461960" y="1990800"/>
            <a:ext cx="3578400" cy="1789200"/>
          </a:xfrm>
          <a:custGeom>
            <a:avLst/>
            <a:gdLst/>
            <a:ahLst/>
            <a:rect l="l" t="t" r="r" b="b"/>
            <a:pathLst>
              <a:path w="21600" h="10800">
                <a:moveTo>
                  <a:pt x="0" y="10800"/>
                </a:moveTo>
                <a:lnTo>
                  <a:pt x="2805" y="3539"/>
                </a:lnTo>
                <a:lnTo>
                  <a:pt x="21600" y="10800"/>
                </a:lnTo>
                <a:lnTo>
                  <a:pt x="0" y="10800"/>
                </a:lnTo>
                <a:close/>
              </a:path>
            </a:pathLst>
          </a:custGeom>
          <a:solidFill>
            <a:srgbClr val="e6e6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11:21:37Z</dcterms:created>
  <dc:creator>Regina Henschel</dc:creator>
  <dc:description/>
  <dc:language>en-US</dc:language>
  <cp:lastModifiedBy>Regina</cp:lastModifiedBy>
  <dcterms:modified xsi:type="dcterms:W3CDTF">2013-01-08T13:09:49Z</dcterms:modified>
  <cp:revision>4</cp:revision>
  <dc:subject/>
  <dc:title>PowerPoint Presentation</dc:title>
</cp:coreProperties>
</file>