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D144CF-BAC8-47E7-8297-6DB34E30E42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BC4B36-81A1-47C6-96AD-9A2337A5AE4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C86135-5399-4699-AB33-5AB115C8AF0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DC411-B84B-4E65-AD14-B95A93924FE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69250E-E2C8-4AF9-8083-87100DE9AE0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41C673-7FAE-426C-97D4-7F42BB8FE8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2BBD56-0D6A-46E9-AACF-A48852BB228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256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461760"/>
            <a:ext cx="914256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040" y="-3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4617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040" y="34617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372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320" y="-360"/>
            <a:ext cx="294372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2640" y="-360"/>
            <a:ext cx="294372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461760"/>
            <a:ext cx="294372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320" y="3461760"/>
            <a:ext cx="294372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2640" y="3461760"/>
            <a:ext cx="294372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256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2560" cy="66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1480" cy="66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040" y="-360"/>
            <a:ext cx="4461480" cy="66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114300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040" y="-360"/>
            <a:ext cx="4461480" cy="66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4617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1480" cy="66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-3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040" y="34617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-360"/>
            <a:ext cx="446148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461760"/>
            <a:ext cx="9142560" cy="31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-360"/>
            <a:ext cx="9142560" cy="66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329040" indent="0"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 algn="ctr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 algn="ct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 algn="ctr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 algn="ctr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 algn="ctr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 algn="ctr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1304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rever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horus b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and 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bridg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horus 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horus b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and 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verse 1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ive thanks to the Lord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ur God and King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verse 1b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He is good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 is above all things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verse 2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a mighty hand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outstretched arm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verse 2b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the life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t's been rebor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horus b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and 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verse 3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rom the rising to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etting sun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verse 3b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y the grace of God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 will carry 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horus 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22:40:15Z</dcterms:created>
  <dc:creator>Dan Shepherd</dc:creator>
  <dc:description/>
  <dc:language>en-US</dc:language>
  <cp:lastModifiedBy>Glenn Rymer</cp:lastModifiedBy>
  <dcterms:modified xsi:type="dcterms:W3CDTF">2009-01-24T01:04:54Z</dcterms:modified>
  <cp:revision>20</cp:revision>
  <dc:subject/>
  <dc:title>Freely, Freely</dc:title>
</cp:coreProperties>
</file>