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2B93-870B-46C8-9318-E82C7C029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905976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7120" y="3789360"/>
            <a:ext cx="905976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01C6-DB47-4383-ACD7-2CAD0EFBC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93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DECD-9A93-4152-9B02-F0825C1ED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0360" y="126180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3600" y="126180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7120" y="378936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0360" y="378936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3600" y="3789360"/>
            <a:ext cx="291708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593F-9AEF-4892-BCF6-6A8FF66EC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7120" y="126180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0F9A-A22F-42FD-B3EA-C312D7EC8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BB3B-7DB3-43F5-BB3A-BA4911857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09EA-DFA6-4686-B224-FAABCE046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1F1C-4E14-4E3D-B1D5-5A612EE79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195120" y="176040"/>
            <a:ext cx="990576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F5F2-A7B4-4BD8-B14A-322F50A01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71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F8EB-0BDD-4305-B01C-CCA543341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9320" y="378936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2863-BF25-44B4-BDEB-11EE9BA12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71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9320" y="1261800"/>
            <a:ext cx="442080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7120" y="3789360"/>
            <a:ext cx="9059760" cy="23079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FBF8-D176-4735-BB57-72539624F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7120" y="126180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1" marL="495360" indent="-152280">
              <a:lnSpc>
                <a:spcPct val="85000"/>
              </a:lnSpc>
              <a:spcBef>
                <a:spcPts val="1500"/>
              </a:spcBef>
              <a:buClr>
                <a:srgbClr val="3467f8"/>
              </a:buClr>
              <a:buSzPct val="120000"/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2" marL="898560" indent="-17640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SzPct val="13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3" marL="1217520" indent="-139680">
              <a:lnSpc>
                <a:spcPct val="85000"/>
              </a:lnSpc>
              <a:spcBef>
                <a:spcPts val="1500"/>
              </a:spcBef>
              <a:buClr>
                <a:srgbClr val="3467f8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Four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4" marL="1962000" indent="-228600">
              <a:lnSpc>
                <a:spcPct val="85000"/>
              </a:lnSpc>
              <a:spcBef>
                <a:spcPts val="1500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Fif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5" marL="1962000" indent="-228600">
              <a:lnSpc>
                <a:spcPct val="85000"/>
              </a:lnSpc>
              <a:spcBef>
                <a:spcPts val="1500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Six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lvl="6" marL="1962000" indent="-228600">
              <a:lnSpc>
                <a:spcPct val="85000"/>
              </a:lnSpc>
              <a:spcBef>
                <a:spcPts val="1500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w Cen MT Condensed"/>
              </a:rPr>
              <a:t>Seventh Outline Level</a:t>
            </a: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9624600" y="6719400"/>
            <a:ext cx="281160" cy="10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C880-B07B-41D5-B914-84E54D0D0EB7}" type="slidenum">
              <a:rPr b="1" lang="fr-FR" sz="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w Cen MT Condensed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3" name="Line 137"/>
          <p:cNvSpPr/>
          <p:nvPr/>
        </p:nvSpPr>
        <p:spPr>
          <a:xfrm>
            <a:off x="357120" y="811080"/>
            <a:ext cx="9549000" cy="0"/>
          </a:xfrm>
          <a:prstGeom prst="line">
            <a:avLst/>
          </a:prstGeom>
          <a:ln w="3240">
            <a:solidFill>
              <a:srgbClr val="346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42"/>
          <p:cNvSpPr/>
          <p:nvPr/>
        </p:nvSpPr>
        <p:spPr>
          <a:xfrm>
            <a:off x="7147800" y="6722280"/>
            <a:ext cx="2620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w Cen MT"/>
              </a:rPr>
              <a:t>xxxxxxxxxxxxxxxxxxxxxxxxxxxxxxxxxxxxxx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95120" y="176040"/>
            <a:ext cx="9905760" cy="555840"/>
          </a:xfrm>
          <a:prstGeom prst="rect">
            <a:avLst/>
          </a:prstGeom>
          <a:noFill/>
          <a:ln w="0">
            <a:noFill/>
          </a:ln>
        </p:spPr>
        <p:txBody>
          <a:bodyPr lIns="540000" rIns="72000" tIns="360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92929"/>
                </a:solidFill>
                <a:latin typeface="Tw Cen MT Condensed"/>
              </a:rPr>
              <a:t>xxxxxxxxxxxxxxxxxxxxxxxx</a:t>
            </a:r>
            <a:endParaRPr b="1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3680" y="1242720"/>
            <a:ext cx="9059760" cy="4838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36000" anchor="t">
            <a:normAutofit/>
          </a:bodyPr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  <a:p>
            <a:pPr marL="171360" indent="-171360">
              <a:lnSpc>
                <a:spcPct val="85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w Cen MT Condensed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9557640" y="6719760"/>
            <a:ext cx="5666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74D7-46A6-4517-96EA-3668D81EE87D}" type="slidenum">
              <a:rPr b="1" lang="fr-FR" sz="800" spc="-1" strike="noStrike">
                <a:solidFill>
                  <a:srgbClr val="292929"/>
                </a:solidFill>
                <a:latin typeface="Arial"/>
              </a:rPr>
              <a:t>1</a:t>
            </a:fld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052640" y="3317760"/>
            <a:ext cx="2328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ttttt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667480" y="3309840"/>
            <a:ext cx="2838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uuuuuu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1073160" y="6029280"/>
            <a:ext cx="2328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öööööö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5627520" y="6024600"/>
            <a:ext cx="284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292929"/>
                </a:solidFill>
                <a:latin typeface="Arial"/>
              </a:rPr>
              <a:t>uuii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cp:lastPrinted>1900-12-31T23:00:00Z</cp:lastPrinted>
  <dcterms:modified xsi:type="dcterms:W3CDTF">2010-11-02T12:44:49Z</dcterms:modified>
  <cp:revision>4</cp:revision>
  <dc:subject/>
  <dc:title>xxxxxxxxxxxxxxxxxxxxxxxx</dc:title>
</cp:coreProperties>
</file>