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EE1-C91B-4BDF-B979-2135D16C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0C3-77A5-4306-8A8C-72611014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599-3F3F-48B4-B65B-74D8FB8D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F65-3EE9-4096-89B6-D4C2B5F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A31-727B-486E-A54E-6C92F914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B3A-EAFC-4504-8E56-9064EBD8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B84-0A3E-4724-BAC1-DB20460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072-5231-4011-9CC6-53423D5B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F09-FD3A-4B88-968F-4BC654F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BE8-D26B-4654-A569-7C806391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EDB-8A56-442B-8212-200D4617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225-B6C4-46FC-A798-60608AD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B6E4-0092-4CA8-A64C-5E386F2647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438280" y="137160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27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5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419720" y="1219320"/>
            <a:ext cx="1447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54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629400" y="137160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81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35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200" y="3048120"/>
            <a:ext cx="1447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108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8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38280" y="312408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135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25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04920" y="1295280"/>
            <a:ext cx="144756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495680" y="3124080"/>
            <a:ext cx="14479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7080" dir="162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70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705720" y="3048120"/>
            <a:ext cx="1447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126770" dir="18900000" blurRad="0" rotWithShape="0">
              <a:srgbClr val="ff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15 de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2:03:18Z</dcterms:created>
  <dc:creator>apple</dc:creator>
  <dc:description/>
  <dc:language>en-US</dc:language>
  <cp:lastModifiedBy>apple</cp:lastModifiedBy>
  <dcterms:modified xsi:type="dcterms:W3CDTF">2010-06-22T02:08:51Z</dcterms:modified>
  <cp:revision>1</cp:revision>
  <dc:subject/>
  <dc:title>Slide 1</dc:title>
</cp:coreProperties>
</file>