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4099-C6CB-4200-9A0E-89CDA3E7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975-3449-422E-A347-46082185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891-A31E-448D-BEC0-654EA8EE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9F9-5567-417F-B44E-330F8948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C83-9AFA-4550-86C6-B3696011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615E-501A-4969-A1FE-505AB8E1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0E1-8A49-4D5C-8E42-50B47983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8B4-75B7-4234-A9AA-4136A4B6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12A-C988-4BA0-861C-ACE7E7FD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02E-BB01-4863-9663-30DFF77C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EAF-5AF6-456B-AB45-51FA93E7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489-ACEA-4330-B6C2-B4D8CCAC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03A4C-F22F-4446-8958-A2CC62E44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1800360"/>
            <a:ext cx="468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文鼎粗廣告體"/>
                <a:ea typeface="文鼎粗廣告體"/>
              </a:rPr>
              <a:t>我的電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</cp:lastModifiedBy>
  <dcterms:modified xsi:type="dcterms:W3CDTF">2006-03-09T06:38:55Z</dcterms:modified>
  <cp:revision>1</cp:revision>
  <dc:subject/>
  <dc:title>投影片 1</dc:title>
</cp:coreProperties>
</file>