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026-8B29-4981-BB84-3BA242E9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991-4479-49F0-B093-BA7B1E7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528-BD0F-4452-8367-FD453DEA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7B2-CF3F-47E9-A9E3-F6942E44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9DC-E0B7-4115-A880-47770BD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A7C-903D-423B-BBA4-EDB91B5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A5D-D711-46C7-A33E-0A1AF7F5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FDA-8627-4908-8633-78123F1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214-C467-4A84-9546-9EB81F76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5A5-BE09-4077-AF34-342D3F1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D05-3A7E-4E43-8E5E-C1A161E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C2C-DA56-4BD4-ABCA-B948CF16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6E5-9199-4A32-8892-2446957BDC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19640" y="2492280"/>
            <a:ext cx="1902960" cy="1886760"/>
            <a:chOff x="3419640" y="2492280"/>
            <a:chExt cx="1902960" cy="1886760"/>
          </a:xfrm>
        </p:grpSpPr>
        <p:graphicFrame>
          <p:nvGraphicFramePr>
            <p:cNvPr id="42" name=""/>
            <p:cNvGraphicFramePr/>
            <p:nvPr/>
          </p:nvGraphicFramePr>
          <p:xfrm>
            <a:off x="3419640" y="2492280"/>
            <a:ext cx="1902960" cy="176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2492280"/>
                      <a:ext cx="1902960" cy="17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3598920" y="401076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F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06:18:18Z</dcterms:created>
  <dc:creator>Hans</dc:creator>
  <dc:description/>
  <dc:language>en-US</dc:language>
  <cp:lastModifiedBy>Hans</cp:lastModifiedBy>
  <dcterms:modified xsi:type="dcterms:W3CDTF">2006-09-30T06:18:45Z</dcterms:modified>
  <cp:revision>1</cp:revision>
  <dc:subject/>
  <dc:title>Slide 1</dc:title>
</cp:coreProperties>
</file>