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DD3-A55D-4FBB-854A-433931FC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F08-211B-4CD3-A504-AF9308E1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A3E-36C2-402B-AC42-F3CC734F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473-F385-459D-BD36-9FD2D42A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645-94E6-40EE-93E2-5747F664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7B1-BC56-4E8E-8184-6D6F0141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9F8-F206-4CAC-87E2-2BC6A0EA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EF5-2F8A-46E9-A20B-E3AA7E3B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B90-C348-4B6F-B367-8DE5EC57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D8E-7E28-4FEC-9872-6603C1D6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8AC-A60F-43AE-ACFF-8AA08399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F7B-E27E-4AC7-8B77-1B26CCB5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A97C-8464-4E84-B46F-B0CDD5083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2276640"/>
          <a:ext cx="4276800" cy="334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76640"/>
                    <a:ext cx="4276800" cy="33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3:11:38Z</dcterms:created>
  <dc:creator>Jason Zhu</dc:creator>
  <dc:description/>
  <dc:language>en-US</dc:language>
  <cp:lastModifiedBy>wanglifeng</cp:lastModifiedBy>
  <dcterms:modified xsi:type="dcterms:W3CDTF">2012-09-12T02:34:21Z</dcterms:modified>
  <cp:revision>19</cp:revision>
  <dc:subject/>
  <dc:title>Slide 1</dc:title>
</cp:coreProperties>
</file>