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845-8F9B-4212-935F-5EFD4D51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348-41C3-4C9F-8F13-736D2951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D08-14C8-4429-882D-5F12DDCC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6E07-8796-44AA-800F-CC456275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E7D-84DC-40E4-911C-1E571894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4D6-EB64-4B92-B2B3-647B955E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A52-E826-459B-95E4-89DD6792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365-C971-44FD-A75E-8725414C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30E-41D0-46AE-9214-A598B975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A29-00F9-475A-BA85-531FA0C3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09D-B6AE-4F05-B8A8-856B4F09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1E7-1594-41F4-8C5F-3E9A4CDE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A8FDA-F8B3-44EF-B278-EC9B09CA7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7160" y="182556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73280" y="3741840"/>
          <a:ext cx="5074920" cy="68580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840"/>
                <a:gridCol w="1014480"/>
                <a:gridCol w="1016280"/>
              </a:tblGrid>
              <a:tr h="384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84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cxnSp>
        <p:nvCxnSpPr>
          <p:cNvPr id="44" name=""/>
          <p:cNvCxnSpPr/>
          <p:nvPr/>
        </p:nvCxnSpPr>
        <p:spPr>
          <a:xfrm>
            <a:off x="9390240" y="431964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808080"/>
            </a:solidFill>
            <a:round/>
          </a:ln>
        </p:spPr>
      </p:cxnSp>
      <p:cxnSp>
        <p:nvCxnSpPr>
          <p:cNvPr id="45" name=""/>
          <p:cNvCxnSpPr/>
          <p:nvPr/>
        </p:nvCxnSpPr>
        <p:spPr>
          <a:xfrm rot="10800000">
            <a:off x="7647840" y="4091760"/>
            <a:ext cx="1740600" cy="227880"/>
          </a:xfrm>
          <a:prstGeom prst="bentConnector3">
            <a:avLst>
              <a:gd name="adj1" fmla="val 50000"/>
            </a:avLst>
          </a:prstGeom>
          <a:ln w="9360">
            <a:solidFill>
              <a:srgbClr val="808080"/>
            </a:solidFill>
            <a:round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6:06:50Z</dcterms:created>
  <dc:creator/>
  <dc:description/>
  <dc:language>en-US</dc:language>
  <cp:lastModifiedBy/>
  <cp:revision>1</cp:revision>
  <dc:subject/>
  <dc:title/>
</cp:coreProperties>
</file>