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8600" y="632880"/>
            <a:ext cx="897228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8960" y="1960200"/>
            <a:ext cx="877392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58960" y="4031640"/>
            <a:ext cx="877392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58600" y="632880"/>
            <a:ext cx="897228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8960" y="1960200"/>
            <a:ext cx="428148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55000" y="1960200"/>
            <a:ext cx="428148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58960" y="4031640"/>
            <a:ext cx="428148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55000" y="4031640"/>
            <a:ext cx="428148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58600" y="632880"/>
            <a:ext cx="897228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58960" y="1960200"/>
            <a:ext cx="282492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25360" y="1960200"/>
            <a:ext cx="282492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92120" y="1960200"/>
            <a:ext cx="282492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58960" y="4031640"/>
            <a:ext cx="282492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25360" y="4031640"/>
            <a:ext cx="282492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792120" y="4031640"/>
            <a:ext cx="282492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58600" y="632880"/>
            <a:ext cx="897228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58960" y="1960200"/>
            <a:ext cx="8773920" cy="39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58600" y="632880"/>
            <a:ext cx="897228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58960" y="1960200"/>
            <a:ext cx="8773920" cy="396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8600" y="632880"/>
            <a:ext cx="897228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58960" y="1960200"/>
            <a:ext cx="4281480" cy="396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55000" y="1960200"/>
            <a:ext cx="4281480" cy="396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8600" y="632880"/>
            <a:ext cx="897228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58600" y="632880"/>
            <a:ext cx="89722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58600" y="632880"/>
            <a:ext cx="897228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58960" y="1960200"/>
            <a:ext cx="428148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55000" y="1960200"/>
            <a:ext cx="4281480" cy="396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58960" y="4031640"/>
            <a:ext cx="428148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8600" y="632880"/>
            <a:ext cx="897228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8960" y="1960200"/>
            <a:ext cx="4281480" cy="396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55000" y="1960200"/>
            <a:ext cx="428148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55000" y="4031640"/>
            <a:ext cx="428148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8600" y="632880"/>
            <a:ext cx="897228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8960" y="1960200"/>
            <a:ext cx="428148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5000" y="1960200"/>
            <a:ext cx="428148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58960" y="4031640"/>
            <a:ext cx="877392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8600" y="632880"/>
            <a:ext cx="897228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8960" y="1960200"/>
            <a:ext cx="8773920" cy="396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 rot="16200000">
            <a:off x="1425600" y="2248920"/>
            <a:ext cx="4857480" cy="323856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360360" y="360360"/>
            <a:ext cx="2160720" cy="68407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cccccc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 rot="16200000">
            <a:off x="-2293560" y="3052440"/>
            <a:ext cx="68403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840" bIns="45000" anchor="t" rot="-54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800" spc="-1" strike="noStrike">
                <a:solidFill>
                  <a:srgbClr val="333333"/>
                </a:solidFill>
                <a:latin typeface="Arial"/>
              </a:rPr>
              <a:t>Informática a domicil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xx" sz="4800" spc="-1" strike="noStrike">
                <a:solidFill>
                  <a:srgbClr val="666666"/>
                </a:solidFill>
                <a:latin typeface="Arial"/>
              </a:rPr>
              <a:t>desarrollo we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6840360" y="382680"/>
          <a:ext cx="3514680" cy="6841800"/>
        </p:xfrm>
        <a:graphic>
          <a:graphicData uri="http://schemas.openxmlformats.org/drawingml/2006/table">
            <a:tbl>
              <a:tblPr/>
              <a:tblGrid>
                <a:gridCol w="3514680"/>
              </a:tblGrid>
              <a:tr h="569880">
                <a:tc>
                  <a:txBody>
                    <a:bodyPr lIns="36000" rIns="36000" tIns="5040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zx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é</a:t>
                      </a:r>
                      <a:r>
                        <a:rPr b="0" lang="zx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XXXXX blabla@g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36000" rIns="36000" tIns="5040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zx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é</a:t>
                      </a:r>
                      <a:r>
                        <a:rPr b="0" lang="zx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XXXXX blabla@g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36000" rIns="36000" tIns="5040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zx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é</a:t>
                      </a:r>
                      <a:r>
                        <a:rPr b="0" lang="zx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XXXXX blabla@g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36000" rIns="36000" tIns="5040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zx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é</a:t>
                      </a:r>
                      <a:r>
                        <a:rPr b="0" lang="zx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XXXXX blabla@g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36000" rIns="36000" tIns="5040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zx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é</a:t>
                      </a:r>
                      <a:r>
                        <a:rPr b="0" lang="zx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XXXXX blabla@g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36000" rIns="36000" tIns="5040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zx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é</a:t>
                      </a:r>
                      <a:r>
                        <a:rPr b="0" lang="zx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XXXXX blabla@g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36000" rIns="36000" tIns="5040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zx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é</a:t>
                      </a:r>
                      <a:r>
                        <a:rPr b="0" lang="zx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XXXXX blabla@g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36000" rIns="36000" tIns="5040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zx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é</a:t>
                      </a:r>
                      <a:r>
                        <a:rPr b="0" lang="zx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XXXXX blabla@g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36000" rIns="36000" tIns="5040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zx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é</a:t>
                      </a:r>
                      <a:r>
                        <a:rPr b="0" lang="zx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XXXXX blabla@g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36000" rIns="36000" tIns="5040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zx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é</a:t>
                      </a:r>
                      <a:r>
                        <a:rPr b="0" lang="zx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XXXXX blabla@g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36000" rIns="36000" tIns="5040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zx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é</a:t>
                      </a:r>
                      <a:r>
                        <a:rPr b="0" lang="zx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XXXXX blabla@g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36000" rIns="36000" tIns="5040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zx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é</a:t>
                      </a:r>
                      <a:r>
                        <a:rPr b="0" lang="zx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XXXXX blabla@g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rot="16200000">
            <a:off x="2894040" y="2998440"/>
            <a:ext cx="684036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400" bIns="45000" anchor="t" rot="-54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21932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600" spc="-1" strike="noStrike">
                <a:solidFill>
                  <a:srgbClr val="000000"/>
                </a:solidFill>
                <a:latin typeface="Arial"/>
              </a:rPr>
              <a:t>Se hacen trabajos de mantenimiento y reparación, tanto de sistemas informáticos como electrón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21932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xx" sz="1600" spc="-1" strike="noStrike">
                <a:solidFill>
                  <a:srgbClr val="000000"/>
                </a:solidFill>
                <a:latin typeface="Arial"/>
              </a:rPr>
              <a:t>Además, se realiza  mantenimiento y desarrollo de páginas web,  con Joomla y Drup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21932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xx" sz="1600" spc="-1" strike="noStrike">
                <a:solidFill>
                  <a:srgbClr val="000000"/>
                </a:solidFill>
                <a:latin typeface="Arial"/>
              </a:rPr>
              <a:t>Consultar para otras tare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21932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21932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x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xx" sz="1800" spc="-1" strike="noStrike">
                <a:solidFill>
                  <a:srgbClr val="000000"/>
                </a:solidFill>
                <a:latin typeface="Arial"/>
              </a:rPr>
              <a:t>José XXXXXXX       blablabla@gmail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18Z</dcterms:created>
  <dc:creator/>
  <dc:description/>
  <dc:language>en-US</dc:language>
  <cp:lastModifiedBy/>
  <dcterms:modified xsi:type="dcterms:W3CDTF">2015-08-12T09:20:47Z</dcterms:modified>
  <cp:revision>6</cp:revision>
  <dc:subject/>
  <dc:title/>
</cp:coreProperties>
</file>