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3468-FACB-4AA3-BA91-CAACE564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5A4-3426-45B8-94E1-1AEA6329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D3D2-097E-4E06-B421-C374856D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613-F219-4254-B606-DB9B3203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E08A2-895E-4304-9BF1-C3036494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F4394-D2C9-4507-A114-87F139CB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4D94A-EE16-4FC0-AA18-64157B98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75C26-7496-41FB-A936-40065DFD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6B0B3-A5FB-4278-9A84-D0FC15F8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6E7F7-182F-4321-8FFA-8CBF6A01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BDF01-1374-42B0-A706-4F57B3FD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AD5-4EAC-4062-888D-E48E238E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B84DC-53D1-4F3C-9260-8B3450A8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E94BE-ED31-440D-9F2D-9122B218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8DA9E-41B7-4526-A506-7C0BC3B0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EB7EE-3F4B-4ACF-B636-3956465E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11677-F7CE-45C4-9B7D-838AD660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995-419E-49D0-9DAD-39E18798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113-4704-47B5-9088-A2FA80E0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3F2-918A-43C7-9D98-3BC5CA91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F10-1B82-4A5C-B768-3512CB5C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96D-FFBD-455E-BA64-F0D0EC19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3C1-9B5F-4DF4-BEA4-0A1D6A26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3C4-8DFF-479C-A580-D8D3803D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3C57-553F-40F8-977D-11FF857615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2B80-1749-4A5F-BBA5-E99531176C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69880" y="6477120"/>
            <a:ext cx="33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宋体"/>
              </a:rPr>
              <a:t>On Demand - Enabling Growth | WMC | IBM internal 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876920" y="1600200"/>
            <a:ext cx="3809880" cy="4114800"/>
          </a:xfrm>
          <a:prstGeom prst="rect">
            <a:avLst/>
          </a:prstGeom>
          <a:gradFill rotWithShape="0">
            <a:gsLst>
              <a:gs pos="0">
                <a:srgbClr val="374ef9"/>
              </a:gs>
              <a:gs pos="100000">
                <a:srgbClr val="19237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202e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06960" y="25909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600"/>
                </a:solidFill>
                <a:latin typeface="Arial"/>
                <a:ea typeface="宋体"/>
              </a:rPr>
              <a:t>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7320" y="4038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600"/>
                </a:solidFill>
                <a:latin typeface="Arial"/>
                <a:ea typeface="宋体"/>
              </a:rPr>
              <a:t>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6680" y="2479680"/>
            <a:ext cx="0" cy="300672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20" y="382680"/>
            <a:ext cx="8245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4495680" cy="4114800"/>
          </a:xfrm>
          <a:custGeom>
            <a:avLst/>
            <a:gdLst>
              <a:gd name="textAreaLeft" fmla="*/ 0 w 4495680"/>
              <a:gd name="textAreaRight" fmla="*/ 4496040 w 449568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74ef9"/>
              </a:gs>
              <a:gs pos="100000">
                <a:srgbClr val="19237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202e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3040" y="2093400"/>
            <a:ext cx="3581280" cy="330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68120" indent="0">
              <a:lnSpc>
                <a:spcPct val="95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8120" indent="0">
              <a:lnSpc>
                <a:spcPct val="95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5964120" y="25574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8440" y="25480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13760" y="4014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U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305-4F60-4FFE-AF17-F16995280A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18:23:40Z</dcterms:created>
  <dc:creator>IBM_USER</dc:creator>
  <dc:description/>
  <dc:language>en-US</dc:language>
  <cp:lastModifiedBy>crystal</cp:lastModifiedBy>
  <dcterms:modified xsi:type="dcterms:W3CDTF">2012-05-28T08:36:15Z</dcterms:modified>
  <cp:revision>340</cp:revision>
  <dc:subject/>
  <dc:title>Slide 1</dc:title>
</cp:coreProperties>
</file>