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B24-C1D3-48A8-A11F-411E180A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132-071B-4281-80F5-02F9B12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09A-8E18-4527-B541-2CE2CEDD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A95-EFDA-4572-8AD4-D0B127C4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203-E932-4A52-9B0A-610924BF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0B7-477D-457E-964F-CFBCEB8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11E-97B9-4EA7-B736-F70A9772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498-DB69-4AF9-8AA7-3D4E85C3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C3B-B601-4AB5-B1C2-A80B9A40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CA6-5B4C-4C47-8D30-0AFB138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9BE-3D49-4EC7-B14C-A3EC5AE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7C5-992B-4480-AB83-5CEBFAD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8E1E2-87CF-4715-8912-2965FDE757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lvl="1" marL="8589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s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sada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329898329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jlkdfjdsfj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lvl="1" marL="8589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sjflkdsjflkdsffDf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2076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8260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j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896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2080"/>
                <a:tab algn="l" pos="4229280"/>
                <a:tab algn="l" pos="4686480"/>
                <a:tab algn="l" pos="5143680"/>
                <a:tab algn="l" pos="5600880"/>
                <a:tab algn="l" pos="6058080"/>
                <a:tab algn="l" pos="6515280"/>
                <a:tab algn="l" pos="6972480"/>
                <a:tab algn="l" pos="7429680"/>
                <a:tab algn="l" pos="7886880"/>
                <a:tab algn="l" pos="8344080"/>
                <a:tab algn="l" pos="8801280"/>
                <a:tab algn="l" pos="9258480"/>
                <a:tab algn="l" pos="97156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2:45:03Z</dcterms:created>
  <dc:creator/>
  <dc:description/>
  <dc:language>en-US</dc:language>
  <cp:lastModifiedBy/>
  <dcterms:modified xsi:type="dcterms:W3CDTF">2014-03-07T02:49:53Z</dcterms:modified>
  <cp:revision>4</cp:revision>
  <dc:subject/>
  <dc:title/>
</cp:coreProperties>
</file>