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D24-2D2E-4534-80DE-EB35D44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5A9-EEF3-4220-9059-3FC598F7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C8C-3414-401C-A715-91BAA08A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8C5-3FB1-4310-B1ED-B4444BA6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885-4B74-4B5E-B5D8-638FE30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AEA-F399-487C-B9CF-98A92EA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5DB-D03B-4105-9685-A36D15E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F6D-FA32-45B5-8B6D-EDAE7DA4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C1B-14C4-4708-A383-1E59894F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664-DB39-4592-819F-7D9BC06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729-FA15-41F8-8CA1-F205C38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C45-5EEB-49D6-AB62-98759717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BF56-1E25-464B-8699-3252AD48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295280" cy="1295280"/>
          </a:xfrm>
          <a:prstGeom prst="plus">
            <a:avLst>
              <a:gd name="adj" fmla="val 25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 rot="534600">
            <a:off x="2056680" y="304200"/>
            <a:ext cx="1752480" cy="1600200"/>
          </a:xfrm>
          <a:prstGeom prst="plus">
            <a:avLst>
              <a:gd name="adj" fmla="val 37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609480"/>
            <a:ext cx="914400" cy="914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190512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609480"/>
            <a:ext cx="914400" cy="91440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0960" y="533520"/>
            <a:ext cx="1143000" cy="99036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857280" y="1676520"/>
            <a:ext cx="1066680" cy="83808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562720" y="1751760"/>
            <a:ext cx="1143000" cy="838440"/>
          </a:xfrm>
          <a:prstGeom prst="plus">
            <a:avLst>
              <a:gd name="adj" fmla="val 10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818800" y="2362320"/>
            <a:ext cx="99036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895480" y="4038480"/>
            <a:ext cx="990720" cy="14479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95280" y="4190400"/>
            <a:ext cx="609840" cy="1447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929200">
            <a:off x="4343040" y="2895120"/>
            <a:ext cx="1905120" cy="14479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352680"/>
            <a:ext cx="457200" cy="914400"/>
          </a:xfrm>
          <a:custGeom>
            <a:avLst/>
            <a:gdLst>
              <a:gd name="textAreaLeft" fmla="*/ 66960 w 457200"/>
              <a:gd name="textAreaRight" fmla="*/ 328680 w 457200"/>
              <a:gd name="textAreaTop" fmla="*/ 218880 h 914400"/>
              <a:gd name="textAreaBottom" fmla="*/ 695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563" y="2785"/>
                  <a:pt x="15525" y="5080"/>
                  <a:pt x="15525" y="10800"/>
                </a:cubicBezTo>
                <a:cubicBezTo>
                  <a:pt x="15525" y="16520"/>
                  <a:pt x="18563" y="1881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771680" y="3352680"/>
            <a:ext cx="7621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88" y="605"/>
                  <a:pt x="3375" y="5080"/>
                  <a:pt x="3375" y="10800"/>
                </a:cubicBezTo>
                <a:cubicBezTo>
                  <a:pt x="3375" y="16520"/>
                  <a:pt x="12488" y="2099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848000" y="4799880"/>
            <a:ext cx="60948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28" y="3239"/>
                  <a:pt x="18056" y="5080"/>
                  <a:pt x="18056" y="10800"/>
                </a:cubicBezTo>
                <a:cubicBezTo>
                  <a:pt x="18056" y="16520"/>
                  <a:pt x="19828" y="183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34320" y="4799880"/>
            <a:ext cx="533160" cy="10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28" y="3239"/>
                  <a:pt x="18056" y="5080"/>
                  <a:pt x="18056" y="10800"/>
                </a:cubicBezTo>
                <a:cubicBezTo>
                  <a:pt x="18056" y="16520"/>
                  <a:pt x="19828" y="183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769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45:19Z</dcterms:created>
  <dc:creator>user</dc:creator>
  <dc:description/>
  <dc:language>en-US</dc:language>
  <cp:lastModifiedBy>user</cp:lastModifiedBy>
  <dcterms:modified xsi:type="dcterms:W3CDTF">2011-05-04T16:33:56Z</dcterms:modified>
  <cp:revision>2</cp:revision>
  <dc:subject/>
  <dc:title>Slide 1</dc:title>
</cp:coreProperties>
</file>