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152-B435-426D-BF4D-CA9FB28B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499-B8F0-494D-8BE9-A200568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FC1-B4C6-4EFC-A0B4-91B54475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DFB-0359-42A7-8226-E5241F15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849-D8C9-4923-8181-2620AED7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8C2-5EE8-45B8-9F68-8762EF87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5D9-85D7-48BD-8406-4E08003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082-24C0-46B9-8ED1-407C14C1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3D3-EF1E-4614-8713-879EEA40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C28-9AC1-4889-91D1-69DFCCA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C71-6CB8-47AC-B578-01FBCFA6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7FC-AF47-4AEF-BF76-435C0745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CFE2-A51F-44DB-BDFC-34EF3D420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12720" y="38088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owerpoint 2002 aka “Office X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2:05:01Z</dcterms:created>
  <dc:creator>Administrator</dc:creator>
  <dc:description/>
  <dc:language>en-US</dc:language>
  <cp:lastModifiedBy>Administrator</cp:lastModifiedBy>
  <dcterms:modified xsi:type="dcterms:W3CDTF">2005-12-15T12:05:45Z</dcterms:modified>
  <cp:revision>2</cp:revision>
  <dc:subject/>
  <dc:title>Slide 1</dc:title>
</cp:coreProperties>
</file>