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2260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260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59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4"/>
          </p:nvPr>
        </p:nvSpPr>
        <p:spPr>
          <a:xfrm>
            <a:off x="4279680" y="0"/>
            <a:ext cx="3259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5"/>
          </p:nvPr>
        </p:nvSpPr>
        <p:spPr>
          <a:xfrm>
            <a:off x="-360" y="10156680"/>
            <a:ext cx="3259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59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D5622-5323-4CD1-A722-F596F076F2CF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784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2BD-FBC8-4656-AD41-74E9223B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81160"/>
            <a:ext cx="90504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0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50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684-1934-41F5-B75B-C94AD533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81160"/>
            <a:ext cx="90504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6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1768320"/>
            <a:ext cx="4416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16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374000"/>
            <a:ext cx="4416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9BC-87EE-45B4-9C20-EAE9166E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81160"/>
            <a:ext cx="90504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3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3280" y="1768320"/>
            <a:ext cx="2913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3280" y="1768320"/>
            <a:ext cx="2913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3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3280" y="4374000"/>
            <a:ext cx="2913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3280" y="4374000"/>
            <a:ext cx="2913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1F2-7161-4C1E-8CE0-5868FE77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81160"/>
            <a:ext cx="90504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50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304-6461-4BCD-A4A9-320BA1DF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81160"/>
            <a:ext cx="90504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50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CF8-A9DD-4ABC-B039-5A5571D6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81160"/>
            <a:ext cx="90504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6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1768320"/>
            <a:ext cx="4416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C52-F7B9-4B4A-AB8D-1F5CA6AD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81160"/>
            <a:ext cx="90504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C85C-C0EB-4F65-8128-3C03D8DE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81160"/>
            <a:ext cx="9050400" cy="59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6497-3087-4D8E-84E1-BDBEAFAF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81160"/>
            <a:ext cx="90504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6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1768320"/>
            <a:ext cx="4416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16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BF5-D9EF-45FC-A258-4120F7DE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81160"/>
            <a:ext cx="90504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6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1768320"/>
            <a:ext cx="4416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374000"/>
            <a:ext cx="4416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6D75-CE21-470D-9514-1BFD2D4F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81160"/>
            <a:ext cx="90504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6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1768320"/>
            <a:ext cx="4416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50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A5C-62B5-4D32-B032-E866478E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81160"/>
            <a:ext cx="90504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50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1120" indent="-3063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43120" indent="-2811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74760" indent="-212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06400" indent="-1951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38400" indent="-1969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38400" indent="-1969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38400" indent="-1969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256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34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256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A44C1-19F4-4BE8-AA8A-942C9E9057C3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00000" y="539640"/>
            <a:ext cx="1260720" cy="1440000"/>
          </a:xfrm>
          <a:custGeom>
            <a:avLst/>
            <a:gdLst>
              <a:gd name="textAreaLeft" fmla="*/ 0 w 1260720"/>
              <a:gd name="textAreaRight" fmla="*/ 1261080 w 126072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34234" y="10666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"/>
          <p:cNvSpPr/>
          <p:nvPr/>
        </p:nvSpPr>
        <p:spPr>
          <a:xfrm>
            <a:off x="3600360" y="539640"/>
            <a:ext cx="1440000" cy="14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486" y="5761"/>
                </a:moveTo>
                <a:arcTo wR="-8372" hR="-8372" stAng="-2220396" swAng="-19379604"/>
                <a:lnTo>
                  <a:pt x="0" y="10800"/>
                </a:lnTo>
                <a:arcTo wR="10800" hR="10800" stAng="10800000" swAng="19379604"/>
                <a:lnTo>
                  <a:pt x="19" y="18926"/>
                </a:lnTo>
                <a:lnTo>
                  <a:pt x="21361" y="13804"/>
                </a:lnTo>
                <a:lnTo>
                  <a:pt x="6271" y="1421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720720"/>
            <a:ext cx="1979640" cy="216072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2160720"/>
              <a:gd name="textAreaBottom" fmla="*/ 2160720 h 2160720"/>
            </a:gdLst>
            <a:ahLst/>
            <a:rect l="textAreaLeft" t="textAreaTop" r="textAreaRight" b="textAreaBottom"/>
            <a:pathLst>
              <a:path w="21600" h="21600">
                <a:moveTo>
                  <a:pt x="37" y="9902"/>
                </a:moveTo>
                <a:arcTo wR="-10800" hR="-10800" stAng="-10513911" swAng="-11086089"/>
                <a:lnTo>
                  <a:pt x="0" y="10800"/>
                </a:lnTo>
                <a:arcTo wR="10800" hR="10800" stAng="10800000" swAng="11086089"/>
                <a:lnTo>
                  <a:pt x="24253" y="11922"/>
                </a:lnTo>
                <a:lnTo>
                  <a:pt x="29285" y="11398"/>
                </a:lnTo>
                <a:lnTo>
                  <a:pt x="18872" y="11473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500720"/>
            <a:ext cx="5580000" cy="1081080"/>
          </a:xfrm>
          <a:custGeom>
            <a:avLst/>
            <a:gdLst>
              <a:gd name="textAreaLeft" fmla="*/ 0 w 5580000"/>
              <a:gd name="textAreaRight" fmla="*/ 5580360 w 558000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34234" y="10666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