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508-FA81-4BDF-B62C-FF680FF7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ECC-A1AC-4740-BA64-DEB1296A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A98-B998-42A6-B166-5B6F36C9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E8B-4589-44F2-892F-AE8EB3F3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888-3ED8-4612-9689-3FCF7DDD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43C-CE8C-463C-AB06-108D7B2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7A3-1A74-4DDB-B460-9127306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14F-3574-4243-B914-929943E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00A-D2B9-40BC-9397-83BB9CB2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5C9-F2A7-49B6-9E3A-A76504F8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213-7539-45E0-B244-FCB1FAC5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933-A286-41E0-A2DE-1F2DD43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D6C86-A672-4C9E-A2F5-482A882297CE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mpress Export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aved as a .ppt 97/2000/X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om OOo 3.4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(OOO340m0 Build:958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23:03:49Z</dcterms:created>
  <dc:creator/>
  <dc:description/>
  <dc:language>en-US</dc:language>
  <cp:lastModifiedBy/>
  <dcterms:modified xsi:type="dcterms:W3CDTF">2011-04-29T23:05:25Z</dcterms:modified>
  <cp:revision>2</cp:revision>
  <dc:subject/>
  <dc:title/>
</cp:coreProperties>
</file>