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Alexander Thurgood" initials="A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5T15:19:09.000000000" idx="1">
    <p:pos x="0" y="0"/>
    <p:text>Test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27C-3DB3-44EE-84A8-F6DA5685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6BA-5DF5-4FAB-A6CF-8D3CEEFD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BBC-BD93-46A9-A266-F982BB57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5B4-7407-4FBE-A977-2F2B0E6F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AF2-013E-4BDC-AB46-A9B22C81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5C7-EF5E-4EA8-92AB-5BA0EAB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D46-2D14-4F93-A315-BA86A75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F4A-A3A6-4EF9-9CC8-DF526D8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E7D-3910-4CED-A22D-6CDE8DD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9F3-390E-4DC1-9596-FE1831A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7F0-3AB3-424E-B7DB-8E0AA19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048-E96A-49D4-BC1D-FAA60AD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3F6CF-C0F7-4E9E-8CE1-91897E9D253F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18:42Z</dcterms:created>
  <dc:creator>Alexander Thurgood</dc:creator>
  <dc:description/>
  <dc:language>en-US</dc:language>
  <cp:lastModifiedBy>Alexander Thurgood</cp:lastModifiedBy>
  <dcterms:modified xsi:type="dcterms:W3CDTF">2015-02-25T14:20:01Z</dcterms:modified>
  <cp:revision>1</cp:revision>
  <dc:subject/>
  <dc:title/>
</cp:coreProperties>
</file>