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09E-2E51-4587-B04A-4532C98A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E66-C22C-4652-9DFA-9CA700E4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8B4-8A25-4ACC-848A-8E149A0A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55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8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55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8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E85-6EA4-42DA-B009-2F157FF0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413-3EDD-4FAC-A118-60E45DCB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51E-89FB-45C9-AEE3-59607E71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B0D-2C83-40F4-A08B-21865598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5B3-D480-4300-8516-8B04B24C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63640" y="53640"/>
            <a:ext cx="556236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215-888F-4C10-9F2E-9D9E6E6D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9DE-45D7-42AB-A43B-64E2CEDA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A2F-8D54-4B39-8E48-45A6BE73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66D-B12B-45DF-AC4F-858D1FE3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238200" y="60357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3517B6-3DBB-40D7-B5C3-4415C08464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0" y="1371600"/>
            <a:ext cx="9066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60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444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5356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53560" indent="-226080" algn="r" rtl="1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53560" indent="-226080" algn="r" rtl="1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4280" y="190440"/>
            <a:ext cx="24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מדינת ישרא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משרד התקשור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464840" y="1295280"/>
            <a:ext cx="71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415440" indent="-415440" algn="r" rtl="1">
              <a:spcBef>
                <a:spcPts val="1400"/>
              </a:spcBef>
              <a:buClr>
                <a:srgbClr val="ffff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תחרות בשירותי תקשורת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661920" y="313920"/>
            <a:ext cx="5289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ff00"/>
                </a:solidFill>
                <a:latin typeface="Times New Roman"/>
              </a:rPr>
              <a:t>תחרות - מרכיב מרכזי</a:t>
            </a:r>
            <a:br>
              <a:rPr sz="4800"/>
            </a:br>
            <a:r>
              <a:rPr b="1" lang="he-IL" sz="4800" spc="-1" strike="noStrike">
                <a:solidFill>
                  <a:srgbClr val="ffff00"/>
                </a:solidFill>
                <a:latin typeface="Times New Roman"/>
              </a:rPr>
              <a:t>במדיניות התקשורת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419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313200" indent="-313200" algn="r" rtl="1">
              <a:spcBef>
                <a:spcPts val="2001"/>
              </a:spcBef>
              <a:buClr>
                <a:srgbClr val="ffff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ea typeface="David"/>
              </a:rPr>
              <a:t>“שמיים פתוחים” - תחרות בשידורים לציבור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080" indent="-310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שידור לוויני ישי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080" indent="-310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ערוץ טלוויזיה מסחרי נוסף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080" indent="-310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ערוצי רדיו מסחריים ארצי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6080" indent="-310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ערוצי טלוויזיה ייעודיים בטלוויזיה בכבל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75248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364680" indent="-364680" algn="r" rtl="1">
              <a:spcBef>
                <a:spcPts val="1400"/>
              </a:spcBef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התנעת התחרות בתקשורת בין-לאומי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4680" indent="-364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מפעיל רט”ן שלישי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4680" indent="-364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הפרטת חברת בזק - בשלבים מבוקר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4680" indent="-364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פתיחת שוק התקשורת הפנים-ארצית לתחר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4680" indent="-364680" algn="r" rtl="1">
              <a:buClr>
                <a:srgbClr val="ffff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David"/>
              </a:rPr>
              <a:t>הרחבת התחרות  ברט”ן ותקשורת אישית נייד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305920" y="1828800"/>
            <a:ext cx="228600" cy="1295280"/>
            <a:chOff x="8305920" y="1828800"/>
            <a:chExt cx="228600" cy="1295280"/>
          </a:xfrm>
        </p:grpSpPr>
        <p:sp>
          <p:nvSpPr>
            <p:cNvPr id="48" name=""/>
            <p:cNvSpPr/>
            <p:nvPr/>
          </p:nvSpPr>
          <p:spPr>
            <a:xfrm>
              <a:off x="8305920" y="182880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96"/>
                  </a:moveTo>
                  <a:lnTo>
                    <a:pt x="48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05920" y="232416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96"/>
                  </a:moveTo>
                  <a:lnTo>
                    <a:pt x="48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05920" y="281952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96"/>
                  </a:moveTo>
                  <a:lnTo>
                    <a:pt x="48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09T17:01:58Z</dcterms:created>
  <dc:creator>Daniel Rosenne</dc:creator>
  <dc:description/>
  <dc:language>en-US</dc:language>
  <cp:lastModifiedBy>ooo</cp:lastModifiedBy>
  <cp:lastPrinted>1999-11-14T18:38:35Z</cp:lastPrinted>
  <dcterms:modified xsi:type="dcterms:W3CDTF">2007-08-19T10:48:34Z</dcterms:modified>
  <cp:revision>841</cp:revision>
  <dc:subject>ספטמבר 1998</dc:subject>
  <dc:title>התקשורת בישראל בתחילת שנות ה- 2000</dc:title>
</cp:coreProperties>
</file>