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2A0-D6FF-4AA3-A28A-326618F1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813-CBE1-4F35-877F-5479C102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B40-2F01-43AC-9C4D-83F6A1B5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ED3-4D56-48C5-A81C-8B9D4E9F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C67-66AD-4262-AF1F-DAABC2BA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D86-0A1C-4A03-A1EB-2258EA58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CA9-E519-4A96-AF77-00260F7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D53-6570-4BFC-822A-1F1BF687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DCC-3768-41B1-96D7-FEA2BB7D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C90-3399-45B9-BE29-5E169B78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184-B47C-4758-BE5B-E9D2927F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35A-3AD7-4897-86BB-81A1DA1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0E1F-59AF-44B7-B605-C11A29DFA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x XML Files with Gau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Hüb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27.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/o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/dummy/sub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523880"/>
            <a:ext cx="8686800" cy="138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b.getContent(xmlFile2).getString(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de.gauss.vip.portalmanager.converter.XmlContentConverter( "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/dummy/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ubcont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, "", ""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3124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62120" y="4038480"/>
          <a:ext cx="71514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151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420800" y="31240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614052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„subcontent"  is located at different levels in the xml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990720"/>
            <a:ext cx="6933960" cy="533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ther possibilities to handle complex xml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523880"/>
            <a:ext cx="693396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 the (org.w3c.dom.Document) DOM object converted by the XmlContentConverter and access elements with non-gauss functions for further proce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990720"/>
            <a:ext cx="6933960" cy="533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de.gauss.vip.portalmanager.converte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mlContent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523880"/>
            <a:ext cx="6933960" cy="335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mlContentConverter can be used to extract data from xml documents. Only contents with the mime type text/xml are converted. The converter requires a list of element names (which may include path specifications) and returnes only text nodes from the xml document that reside directly in an element with a name from the li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lement names may contain paths. A path consist of element names separated by slashes ("/"). The element name "test/text" matches only elements with the name "text" which have a parent element with the name "test". If the path starts with a slash, it is considered to be absolute within the document -- which means that it must start with the root element of the xml document. The path "/root/test/text" matches only elements "text" that reside in an element "test" which is a child of the root element "root" of the xml docu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XML File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320" y="1187280"/>
          <a:ext cx="89913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87280"/>
                    <a:ext cx="89913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/o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523880"/>
            <a:ext cx="838188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b.getContent(xmlFile2).getString( new de.gauss.vip.portalmanager.converter.XmlContentConverter( "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cont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, "", "" )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3537000"/>
          <a:ext cx="807732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37000"/>
                    <a:ext cx="80773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267080" y="3124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0800" y="31240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6320" y="1187280"/>
          <a:ext cx="89913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87280"/>
                    <a:ext cx="89913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80880" y="1523880"/>
            <a:ext cx="8534520" cy="38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590920"/>
            <a:ext cx="8534520" cy="53316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495680"/>
            <a:ext cx="8534520" cy="38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124080"/>
            <a:ext cx="8534520" cy="38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/o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/o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ub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523880"/>
            <a:ext cx="8686800" cy="8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b.getContent(xmlFile2).getString( new de.gauss.vip.portalmanager.converter.XmlContentConverter( "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ubcont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, "", "" )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3583080"/>
          <a:ext cx="7790040" cy="13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83080"/>
                    <a:ext cx="7790040" cy="13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09480" y="614052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„subcontent"  is located at different levels in the xml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124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20800" y="31240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6320" y="1187280"/>
          <a:ext cx="89913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87280"/>
                    <a:ext cx="89913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09480" y="1905120"/>
            <a:ext cx="8077320" cy="4572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/o pathes e.g. " 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ubcontent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657600"/>
            <a:ext cx="8077320" cy="4572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5029200"/>
            <a:ext cx="8077320" cy="53352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ith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dummy/sub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523880"/>
            <a:ext cx="8686800" cy="138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b.getContent(xmlFile2).getString(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de.gauss.vip.portalmanager.converter.XmlContentConverter( "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dummy/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ubcont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, "", ""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3581280"/>
          <a:ext cx="7269120" cy="12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726912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267080" y="3124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0800" y="31240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614052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„subcontent"  is located at different levels in the xml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6320" y="1187280"/>
          <a:ext cx="89913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87280"/>
                    <a:ext cx="89913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914400" y="3657600"/>
            <a:ext cx="8077320" cy="4572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029200"/>
            <a:ext cx="8077320" cy="53352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457200"/>
            <a:ext cx="6933960" cy="533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simple tag name with pathes e.g. "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dummy/subcontent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uebbe Wolfram</cp:lastModifiedBy>
  <dcterms:modified xsi:type="dcterms:W3CDTF">2004-01-27T18:51:14Z</dcterms:modified>
  <cp:revision>21</cp:revision>
  <dc:subject/>
  <dc:title>PowerPoint Presentation</dc:title>
</cp:coreProperties>
</file>