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AE4-BAE2-4AB3-A10F-67EDC40B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763-3BC4-4311-B408-0608AFD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64D-5609-4C83-9589-810AA77D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618-0CD4-432D-8006-356EED4D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AC6-1A50-4247-8A2A-7F94D07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D35-8266-4327-8FAB-220AEAA3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7C3-AB8F-40B9-A275-FD37315D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6D3-F366-4615-9B49-1A56004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F62-E6AD-4A4E-8F1D-755215D0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208-3860-4B55-AA7B-32D84C5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23E-6EDE-4027-A4C8-A961C130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BB2-B6F8-4F03-B4AB-E43E3D6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EE7F-F7B8-4A4A-B24B-8FC925BAB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re are they used?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ynamics modules (Finite Volume):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f53d25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Conserving mapping algorithm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3d25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t is mapped from Lagrangian to Eulerian and then used to retrieve T. Cp is assumed constant in this mapping.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mputation/conversion of geopotential, pressure, exner pressure, and potential temperature. Will potential temperature be the same? Adiabatic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last term is 0 and the previous definition of potential temperature should still be valid, because there is no mass exchange in the process,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905120" y="4419720"/>
                <a:ext cx="3136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T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5"/>
              <p:cNvSpPr txBox="1"/>
              <p:nvPr/>
            </p:nvSpPr>
            <p:spPr>
              <a:xfrm>
                <a:off x="1600200" y="1384200"/>
                <a:ext cx="61992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T</m:t>
                            </m:r>
                          </m:e>
                        </m:ba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a Marcum</dc:creator>
  <dc:description/>
  <dc:language>en-US</dc:language>
  <cp:lastModifiedBy>svegesna</cp:lastModifiedBy>
  <dcterms:modified xsi:type="dcterms:W3CDTF">2011-04-14T11:41:06Z</dcterms:modified>
  <cp:revision>7</cp:revision>
  <dc:subject/>
  <dc:title>Flow Chart of Development</dc:title>
</cp:coreProperties>
</file>