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A3B-3D9D-4EAC-BB01-2D323BB9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96E-6CDC-470A-A43D-D37206B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92F-702E-4DC2-A30C-95226E67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93B-C6DA-491A-81A2-A92BDE29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384-3856-4F00-837F-E65C80A9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DEF-A7AE-4E22-B464-FF86ADD4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1C4-F518-4325-B576-991F44BD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AD2-098D-4875-8420-8C159E1D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981-F91C-4F08-83BF-6F21091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B45-7E28-449B-8FE9-8E14E6E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A18-B599-4FE6-A987-2BAE036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A9C-5E60-4E83-B80B-E2E2AE8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9617-2675-43D0-B9A8-CDAE1846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ubFunction: Animation\Combination\Tabl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File Name: FFC261FFCSD_Animation_Combination_Table_0115.ppt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eck Point: Timing\Trigger\After Previous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Please check object: Table</a:t>
            </a:r>
            <a:br>
              <a:rPr sz="1200"/>
            </a:b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Animations on object: MPath_Left, Exit_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40160" y="2540160"/>
          <a:ext cx="3657600" cy="27432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4Z</dcterms:created>
  <dc:creator>ibm</dc:creator>
  <dc:description/>
  <dc:language>en-US</dc:language>
  <cp:lastModifiedBy>ibm</cp:lastModifiedBy>
  <dcterms:modified xsi:type="dcterms:W3CDTF">2006-04-27T23:19:35Z</dcterms:modified>
  <cp:revision>1</cp:revision>
  <dc:subject/>
  <dc:title>SubFunction: Animation\Combination\Table File Name: FFC261FFCSD_Animation_Combination_Table_0115.ppt Check Point: Timing\Trigger\After Previous Please check object: Table Animations on object: MPath_Left, Exit_Appear</dc:title>
</cp:coreProperties>
</file>